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997-7B74-4FA6-9AFE-D2F9DD72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86A-DBF3-45B7-A2FB-E1FDFCD7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F4F1-F70E-4A13-B53F-B1294625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659C-584F-43E2-9E7C-92377257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C6AF-BE69-4C74-B7C5-BEF94D64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B0B-382B-4C1B-9BCB-2F98F8A5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66D-75A8-466B-8E56-A6E7E905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DC42-415A-4AC5-B393-14783D6B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01DA-E1A1-458C-87E2-E4D81CAD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C35-D914-4B2B-B767-83B969F8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158-F415-421C-839E-85F6D3F9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254-C0CF-4233-8B69-37FC545B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C6B9D-07DC-42B9-80FB-5A964A5D535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ванов Ник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0360" y="2751120"/>
            <a:ext cx="702000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к неде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 а класс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5-30 марта 2012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тересные факты о Ники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нь рождения 1 м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Никиты есть старший бр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кита любит спор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79640" y="3060720"/>
            <a:ext cx="3359160" cy="3536280"/>
            <a:chOff x="1079640" y="3060720"/>
            <a:chExt cx="3359160" cy="3536280"/>
          </a:xfrm>
        </p:grpSpPr>
        <p:grpSp>
          <p:nvGrpSpPr>
            <p:cNvPr id="87" name=""/>
            <p:cNvGrpSpPr/>
            <p:nvPr/>
          </p:nvGrpSpPr>
          <p:grpSpPr>
            <a:xfrm>
              <a:off x="2944800" y="5662080"/>
              <a:ext cx="1494000" cy="530280"/>
              <a:chOff x="2944800" y="5662080"/>
              <a:chExt cx="1494000" cy="530280"/>
            </a:xfrm>
          </p:grpSpPr>
          <p:sp>
            <p:nvSpPr>
              <p:cNvPr id="88" name=""/>
              <p:cNvSpPr/>
              <p:nvPr/>
            </p:nvSpPr>
            <p:spPr>
              <a:xfrm>
                <a:off x="2944800" y="5720040"/>
                <a:ext cx="1121040" cy="377640"/>
              </a:xfrm>
              <a:custGeom>
                <a:avLst/>
                <a:gdLst/>
                <a:ahLst/>
                <a:rect l="l" t="t" r="r" b="b"/>
                <a:pathLst>
                  <a:path w="2934" h="1223">
                    <a:moveTo>
                      <a:pt x="2933" y="232"/>
                    </a:moveTo>
                    <a:cubicBezTo>
                      <a:pt x="1166" y="1222"/>
                      <a:pt x="0" y="0"/>
                      <a:pt x="0" y="0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3240000">
                <a:off x="3958200" y="5811480"/>
                <a:ext cx="487440" cy="2311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1079640" y="3832200"/>
              <a:ext cx="1326960" cy="581040"/>
              <a:chOff x="1079640" y="3832200"/>
              <a:chExt cx="1326960" cy="581040"/>
            </a:xfrm>
          </p:grpSpPr>
          <p:sp>
            <p:nvSpPr>
              <p:cNvPr id="91" name=""/>
              <p:cNvSpPr/>
              <p:nvPr/>
            </p:nvSpPr>
            <p:spPr>
              <a:xfrm>
                <a:off x="1123920" y="3986280"/>
                <a:ext cx="1282680" cy="426960"/>
              </a:xfrm>
              <a:custGeom>
                <a:avLst/>
                <a:gdLst/>
                <a:ahLst/>
                <a:rect l="l" t="t" r="r" b="b"/>
                <a:pathLst>
                  <a:path w="3567" h="1763">
                    <a:moveTo>
                      <a:pt x="3566" y="565"/>
                    </a:moveTo>
                    <a:cubicBezTo>
                      <a:pt x="0" y="1762"/>
                      <a:pt x="224" y="0"/>
                      <a:pt x="224" y="0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9640" y="3832200"/>
                <a:ext cx="304560" cy="2023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1627200" y="3060720"/>
              <a:ext cx="133668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rot="20280000">
              <a:off x="2469960" y="4035600"/>
              <a:ext cx="682560" cy="172548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587680" y="4052880"/>
              <a:ext cx="1503000" cy="856800"/>
              <a:chOff x="2587680" y="4052880"/>
              <a:chExt cx="1503000" cy="856800"/>
            </a:xfrm>
          </p:grpSpPr>
          <p:sp>
            <p:nvSpPr>
              <p:cNvPr id="96" name=""/>
              <p:cNvSpPr/>
              <p:nvPr/>
            </p:nvSpPr>
            <p:spPr>
              <a:xfrm>
                <a:off x="2587680" y="4052880"/>
                <a:ext cx="1335240" cy="646560"/>
              </a:xfrm>
              <a:custGeom>
                <a:avLst/>
                <a:gdLst/>
                <a:ahLst/>
                <a:rect l="l" t="t" r="r" b="b"/>
                <a:pathLst>
                  <a:path w="3716" h="2334">
                    <a:moveTo>
                      <a:pt x="0" y="936"/>
                    </a:moveTo>
                    <a:cubicBezTo>
                      <a:pt x="3203" y="0"/>
                      <a:pt x="3715" y="2236"/>
                      <a:pt x="3715" y="2333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86480" y="4642920"/>
                <a:ext cx="304200" cy="26676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1483200" y="5676840"/>
              <a:ext cx="1099440" cy="920160"/>
              <a:chOff x="1483200" y="5676840"/>
              <a:chExt cx="1099440" cy="920160"/>
            </a:xfrm>
          </p:grpSpPr>
          <p:sp>
            <p:nvSpPr>
              <p:cNvPr id="99" name=""/>
              <p:cNvSpPr/>
              <p:nvPr/>
            </p:nvSpPr>
            <p:spPr>
              <a:xfrm>
                <a:off x="1569960" y="5676840"/>
                <a:ext cx="1012680" cy="786240"/>
              </a:xfrm>
              <a:custGeom>
                <a:avLst/>
                <a:gdLst/>
                <a:ahLst/>
                <a:rect l="l" t="t" r="r" b="b"/>
                <a:pathLst>
                  <a:path w="2945" h="2044">
                    <a:moveTo>
                      <a:pt x="2944" y="63"/>
                    </a:moveTo>
                    <a:cubicBezTo>
                      <a:pt x="0" y="0"/>
                      <a:pt x="260" y="2043"/>
                      <a:pt x="260" y="2043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920000">
                <a:off x="1506240" y="6242040"/>
                <a:ext cx="515880" cy="2358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 flipV="1">
            <a:off x="5940360" y="-3780720"/>
            <a:ext cx="539640" cy="36036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0080" y="650880"/>
            <a:ext cx="860904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стижения Никиты на этой нед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1880" y="2099880"/>
            <a:ext cx="4200480" cy="5326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кита получил четыре «5» за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икита победитель Викторины по космонавт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принимал активное участие в жизни класса и предлогал много интересных иде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651040" y="3941640"/>
            <a:ext cx="1846440" cy="2355480"/>
            <a:chOff x="2651040" y="3941640"/>
            <a:chExt cx="1846440" cy="23554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2651040" y="4475880"/>
              <a:ext cx="184644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08480" y="3941640"/>
              <a:ext cx="34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480" bIns="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  <a:ea typeface="msmincho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092400" y="3976560"/>
            <a:ext cx="3206520" cy="2501640"/>
            <a:chOff x="3092400" y="3976560"/>
            <a:chExt cx="3206520" cy="2501640"/>
          </a:xfrm>
        </p:grpSpPr>
        <p:grpSp>
          <p:nvGrpSpPr>
            <p:cNvPr id="108" name=""/>
            <p:cNvGrpSpPr/>
            <p:nvPr/>
          </p:nvGrpSpPr>
          <p:grpSpPr>
            <a:xfrm>
              <a:off x="3915360" y="5421240"/>
              <a:ext cx="401040" cy="828360"/>
              <a:chOff x="3915360" y="5421240"/>
              <a:chExt cx="401040" cy="828360"/>
            </a:xfrm>
          </p:grpSpPr>
          <p:sp>
            <p:nvSpPr>
              <p:cNvPr id="109" name=""/>
              <p:cNvSpPr/>
              <p:nvPr/>
            </p:nvSpPr>
            <p:spPr>
              <a:xfrm>
                <a:off x="4040640" y="5421240"/>
                <a:ext cx="275760" cy="671760"/>
              </a:xfrm>
              <a:custGeom>
                <a:avLst/>
                <a:gdLst/>
                <a:ahLst/>
                <a:rect l="l" t="t" r="r" b="b"/>
                <a:pathLst>
                  <a:path w="782" h="1950">
                    <a:moveTo>
                      <a:pt x="257" y="201"/>
                    </a:moveTo>
                    <a:cubicBezTo>
                      <a:pt x="350" y="441"/>
                      <a:pt x="203" y="674"/>
                      <a:pt x="165" y="896"/>
                    </a:cubicBezTo>
                    <a:cubicBezTo>
                      <a:pt x="127" y="1118"/>
                      <a:pt x="0" y="1341"/>
                      <a:pt x="72" y="1549"/>
                    </a:cubicBezTo>
                    <a:cubicBezTo>
                      <a:pt x="159" y="1792"/>
                      <a:pt x="386" y="1949"/>
                      <a:pt x="506" y="1754"/>
                    </a:cubicBezTo>
                    <a:cubicBezTo>
                      <a:pt x="626" y="1559"/>
                      <a:pt x="664" y="1330"/>
                      <a:pt x="682" y="1122"/>
                    </a:cubicBezTo>
                    <a:lnTo>
                      <a:pt x="781" y="0"/>
                    </a:lnTo>
                    <a:lnTo>
                      <a:pt x="257" y="201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15360" y="5922360"/>
                <a:ext cx="286920" cy="327240"/>
              </a:xfrm>
              <a:custGeom>
                <a:avLst/>
                <a:gdLst/>
                <a:ahLst/>
                <a:rect l="l" t="t" r="r" b="b"/>
                <a:pathLst>
                  <a:path w="812" h="953">
                    <a:moveTo>
                      <a:pt x="811" y="386"/>
                    </a:moveTo>
                    <a:cubicBezTo>
                      <a:pt x="775" y="646"/>
                      <a:pt x="572" y="816"/>
                      <a:pt x="395" y="816"/>
                    </a:cubicBezTo>
                    <a:cubicBezTo>
                      <a:pt x="218" y="816"/>
                      <a:pt x="27" y="952"/>
                      <a:pt x="0" y="733"/>
                    </a:cubicBezTo>
                    <a:lnTo>
                      <a:pt x="404" y="0"/>
                    </a:lnTo>
                    <a:lnTo>
                      <a:pt x="811" y="386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315680" y="5465880"/>
              <a:ext cx="310320" cy="853560"/>
              <a:chOff x="4315680" y="5465880"/>
              <a:chExt cx="310320" cy="853560"/>
            </a:xfrm>
          </p:grpSpPr>
          <p:sp>
            <p:nvSpPr>
              <p:cNvPr id="112" name=""/>
              <p:cNvSpPr/>
              <p:nvPr/>
            </p:nvSpPr>
            <p:spPr>
              <a:xfrm>
                <a:off x="4348800" y="5465880"/>
                <a:ext cx="274320" cy="657000"/>
              </a:xfrm>
              <a:custGeom>
                <a:avLst/>
                <a:gdLst/>
                <a:ahLst/>
                <a:rect l="l" t="t" r="r" b="b"/>
                <a:pathLst>
                  <a:path w="836" h="1936">
                    <a:moveTo>
                      <a:pt x="248" y="0"/>
                    </a:moveTo>
                    <a:cubicBezTo>
                      <a:pt x="407" y="188"/>
                      <a:pt x="272" y="1084"/>
                      <a:pt x="248" y="1285"/>
                    </a:cubicBezTo>
                    <a:cubicBezTo>
                      <a:pt x="224" y="1486"/>
                      <a:pt x="75" y="1612"/>
                      <a:pt x="0" y="1775"/>
                    </a:cubicBezTo>
                    <a:cubicBezTo>
                      <a:pt x="3" y="1761"/>
                      <a:pt x="625" y="1935"/>
                      <a:pt x="631" y="1931"/>
                    </a:cubicBezTo>
                    <a:cubicBezTo>
                      <a:pt x="835" y="1719"/>
                      <a:pt x="676" y="1393"/>
                      <a:pt x="706" y="1164"/>
                    </a:cubicBezTo>
                    <a:cubicBezTo>
                      <a:pt x="730" y="962"/>
                      <a:pt x="775" y="406"/>
                      <a:pt x="775" y="205"/>
                    </a:cubicBezTo>
                    <a:lnTo>
                      <a:pt x="248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315680" y="6063120"/>
                <a:ext cx="310320" cy="256320"/>
              </a:xfrm>
              <a:custGeom>
                <a:avLst/>
                <a:gdLst/>
                <a:ahLst/>
                <a:rect l="l" t="t" r="r" b="b"/>
                <a:pathLst>
                  <a:path w="950" h="758">
                    <a:moveTo>
                      <a:pt x="0" y="590"/>
                    </a:moveTo>
                    <a:cubicBezTo>
                      <a:pt x="159" y="757"/>
                      <a:pt x="949" y="243"/>
                      <a:pt x="739" y="184"/>
                    </a:cubicBezTo>
                    <a:lnTo>
                      <a:pt x="87" y="0"/>
                    </a:lnTo>
                    <a:lnTo>
                      <a:pt x="0" y="59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5492880" y="5522760"/>
              <a:ext cx="520200" cy="955440"/>
              <a:chOff x="5492880" y="5522760"/>
              <a:chExt cx="520200" cy="955440"/>
            </a:xfrm>
          </p:grpSpPr>
          <p:sp>
            <p:nvSpPr>
              <p:cNvPr id="115" name=""/>
              <p:cNvSpPr/>
              <p:nvPr/>
            </p:nvSpPr>
            <p:spPr>
              <a:xfrm>
                <a:off x="5635080" y="5522760"/>
                <a:ext cx="378000" cy="716040"/>
              </a:xfrm>
              <a:custGeom>
                <a:avLst/>
                <a:gdLst/>
                <a:ahLst/>
                <a:rect l="l" t="t" r="r" b="b"/>
                <a:pathLst>
                  <a:path w="1141" h="2050">
                    <a:moveTo>
                      <a:pt x="0" y="625"/>
                    </a:moveTo>
                    <a:cubicBezTo>
                      <a:pt x="30" y="695"/>
                      <a:pt x="425" y="1028"/>
                      <a:pt x="461" y="1080"/>
                    </a:cubicBezTo>
                    <a:cubicBezTo>
                      <a:pt x="587" y="1282"/>
                      <a:pt x="30" y="1855"/>
                      <a:pt x="24" y="1921"/>
                    </a:cubicBezTo>
                    <a:cubicBezTo>
                      <a:pt x="18" y="1987"/>
                      <a:pt x="443" y="2049"/>
                      <a:pt x="473" y="2011"/>
                    </a:cubicBezTo>
                    <a:cubicBezTo>
                      <a:pt x="518" y="1962"/>
                      <a:pt x="613" y="1775"/>
                      <a:pt x="646" y="1719"/>
                    </a:cubicBezTo>
                    <a:cubicBezTo>
                      <a:pt x="679" y="1663"/>
                      <a:pt x="1026" y="1115"/>
                      <a:pt x="1038" y="1063"/>
                    </a:cubicBezTo>
                    <a:cubicBezTo>
                      <a:pt x="1140" y="677"/>
                      <a:pt x="392" y="0"/>
                      <a:pt x="359" y="48"/>
                    </a:cubicBezTo>
                    <a:lnTo>
                      <a:pt x="0" y="62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492880" y="6212520"/>
                <a:ext cx="306360" cy="265680"/>
              </a:xfrm>
              <a:custGeom>
                <a:avLst/>
                <a:gdLst/>
                <a:ahLst/>
                <a:rect l="l" t="t" r="r" b="b"/>
                <a:pathLst>
                  <a:path w="926" h="765">
                    <a:moveTo>
                      <a:pt x="491" y="0"/>
                    </a:moveTo>
                    <a:cubicBezTo>
                      <a:pt x="416" y="108"/>
                      <a:pt x="305" y="163"/>
                      <a:pt x="219" y="257"/>
                    </a:cubicBezTo>
                    <a:cubicBezTo>
                      <a:pt x="147" y="330"/>
                      <a:pt x="12" y="351"/>
                      <a:pt x="6" y="493"/>
                    </a:cubicBezTo>
                    <a:cubicBezTo>
                      <a:pt x="0" y="635"/>
                      <a:pt x="126" y="667"/>
                      <a:pt x="219" y="688"/>
                    </a:cubicBezTo>
                    <a:cubicBezTo>
                      <a:pt x="312" y="709"/>
                      <a:pt x="398" y="702"/>
                      <a:pt x="491" y="729"/>
                    </a:cubicBezTo>
                    <a:cubicBezTo>
                      <a:pt x="614" y="764"/>
                      <a:pt x="674" y="608"/>
                      <a:pt x="757" y="531"/>
                    </a:cubicBezTo>
                    <a:lnTo>
                      <a:pt x="925" y="49"/>
                    </a:lnTo>
                    <a:lnTo>
                      <a:pt x="491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108760" y="5329080"/>
              <a:ext cx="579960" cy="934920"/>
              <a:chOff x="5108760" y="5329080"/>
              <a:chExt cx="579960" cy="934920"/>
            </a:xfrm>
          </p:grpSpPr>
          <p:sp>
            <p:nvSpPr>
              <p:cNvPr id="118" name=""/>
              <p:cNvSpPr/>
              <p:nvPr/>
            </p:nvSpPr>
            <p:spPr>
              <a:xfrm>
                <a:off x="5229000" y="5329080"/>
                <a:ext cx="459720" cy="764280"/>
              </a:xfrm>
              <a:custGeom>
                <a:avLst/>
                <a:gdLst/>
                <a:ahLst/>
                <a:rect l="l" t="t" r="r" b="b"/>
                <a:pathLst>
                  <a:path w="1318" h="2172">
                    <a:moveTo>
                      <a:pt x="422" y="185"/>
                    </a:moveTo>
                    <a:cubicBezTo>
                      <a:pt x="533" y="396"/>
                      <a:pt x="686" y="563"/>
                      <a:pt x="719" y="844"/>
                    </a:cubicBezTo>
                    <a:cubicBezTo>
                      <a:pt x="746" y="1095"/>
                      <a:pt x="650" y="1230"/>
                      <a:pt x="617" y="1452"/>
                    </a:cubicBezTo>
                    <a:cubicBezTo>
                      <a:pt x="584" y="1674"/>
                      <a:pt x="75" y="1768"/>
                      <a:pt x="18" y="1980"/>
                    </a:cubicBezTo>
                    <a:cubicBezTo>
                      <a:pt x="0" y="2046"/>
                      <a:pt x="530" y="2157"/>
                      <a:pt x="551" y="2171"/>
                    </a:cubicBezTo>
                    <a:cubicBezTo>
                      <a:pt x="695" y="2043"/>
                      <a:pt x="1102" y="1821"/>
                      <a:pt x="1204" y="1581"/>
                    </a:cubicBezTo>
                    <a:cubicBezTo>
                      <a:pt x="1290" y="1379"/>
                      <a:pt x="1317" y="1140"/>
                      <a:pt x="1248" y="921"/>
                    </a:cubicBezTo>
                    <a:cubicBezTo>
                      <a:pt x="1179" y="702"/>
                      <a:pt x="1168" y="455"/>
                      <a:pt x="967" y="289"/>
                    </a:cubicBezTo>
                    <a:cubicBezTo>
                      <a:pt x="806" y="150"/>
                      <a:pt x="626" y="0"/>
                      <a:pt x="422" y="42"/>
                    </a:cubicBezTo>
                    <a:lnTo>
                      <a:pt x="369" y="63"/>
                    </a:lnTo>
                    <a:lnTo>
                      <a:pt x="422" y="185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108760" y="6007680"/>
                <a:ext cx="333360" cy="256320"/>
              </a:xfrm>
              <a:custGeom>
                <a:avLst/>
                <a:gdLst/>
                <a:ahLst/>
                <a:rect l="l" t="t" r="r" b="b"/>
                <a:pathLst>
                  <a:path w="959" h="730">
                    <a:moveTo>
                      <a:pt x="0" y="448"/>
                    </a:moveTo>
                    <a:cubicBezTo>
                      <a:pt x="54" y="726"/>
                      <a:pt x="347" y="695"/>
                      <a:pt x="545" y="712"/>
                    </a:cubicBezTo>
                    <a:cubicBezTo>
                      <a:pt x="743" y="729"/>
                      <a:pt x="958" y="396"/>
                      <a:pt x="937" y="177"/>
                    </a:cubicBezTo>
                    <a:lnTo>
                      <a:pt x="386" y="0"/>
                    </a:lnTo>
                    <a:lnTo>
                      <a:pt x="0" y="448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658320" y="4000680"/>
              <a:ext cx="2640600" cy="1852560"/>
            </a:xfrm>
            <a:custGeom>
              <a:avLst/>
              <a:gdLst/>
              <a:ahLst/>
              <a:rect l="l" t="t" r="r" b="b"/>
              <a:pathLst>
                <a:path w="7431" h="5149">
                  <a:moveTo>
                    <a:pt x="2816" y="399"/>
                  </a:moveTo>
                  <a:cubicBezTo>
                    <a:pt x="3190" y="788"/>
                    <a:pt x="3001" y="309"/>
                    <a:pt x="3334" y="274"/>
                  </a:cubicBezTo>
                  <a:cubicBezTo>
                    <a:pt x="3759" y="552"/>
                    <a:pt x="3666" y="205"/>
                    <a:pt x="3878" y="184"/>
                  </a:cubicBezTo>
                  <a:cubicBezTo>
                    <a:pt x="4210" y="309"/>
                    <a:pt x="4121" y="184"/>
                    <a:pt x="4447" y="111"/>
                  </a:cubicBezTo>
                  <a:cubicBezTo>
                    <a:pt x="4719" y="566"/>
                    <a:pt x="4830" y="0"/>
                    <a:pt x="4953" y="229"/>
                  </a:cubicBezTo>
                  <a:cubicBezTo>
                    <a:pt x="5150" y="604"/>
                    <a:pt x="5351" y="101"/>
                    <a:pt x="5470" y="281"/>
                  </a:cubicBezTo>
                  <a:cubicBezTo>
                    <a:pt x="5704" y="639"/>
                    <a:pt x="5835" y="392"/>
                    <a:pt x="6111" y="479"/>
                  </a:cubicBezTo>
                  <a:cubicBezTo>
                    <a:pt x="6387" y="566"/>
                    <a:pt x="6201" y="719"/>
                    <a:pt x="6299" y="875"/>
                  </a:cubicBezTo>
                  <a:cubicBezTo>
                    <a:pt x="6413" y="1045"/>
                    <a:pt x="6817" y="972"/>
                    <a:pt x="6769" y="1181"/>
                  </a:cubicBezTo>
                  <a:cubicBezTo>
                    <a:pt x="6691" y="1514"/>
                    <a:pt x="6988" y="1424"/>
                    <a:pt x="7113" y="1556"/>
                  </a:cubicBezTo>
                  <a:cubicBezTo>
                    <a:pt x="7344" y="1796"/>
                    <a:pt x="6784" y="1935"/>
                    <a:pt x="7254" y="2060"/>
                  </a:cubicBezTo>
                  <a:cubicBezTo>
                    <a:pt x="7430" y="2105"/>
                    <a:pt x="7152" y="2278"/>
                    <a:pt x="7182" y="2560"/>
                  </a:cubicBezTo>
                  <a:cubicBezTo>
                    <a:pt x="7212" y="2842"/>
                    <a:pt x="7386" y="2869"/>
                    <a:pt x="7287" y="3046"/>
                  </a:cubicBezTo>
                  <a:cubicBezTo>
                    <a:pt x="7188" y="3223"/>
                    <a:pt x="7350" y="3400"/>
                    <a:pt x="7122" y="3459"/>
                  </a:cubicBezTo>
                  <a:cubicBezTo>
                    <a:pt x="6850" y="3529"/>
                    <a:pt x="6901" y="3647"/>
                    <a:pt x="6721" y="3640"/>
                  </a:cubicBezTo>
                  <a:cubicBezTo>
                    <a:pt x="6581" y="3859"/>
                    <a:pt x="6814" y="4231"/>
                    <a:pt x="6784" y="4425"/>
                  </a:cubicBezTo>
                  <a:cubicBezTo>
                    <a:pt x="6730" y="4793"/>
                    <a:pt x="6488" y="4401"/>
                    <a:pt x="6473" y="4804"/>
                  </a:cubicBezTo>
                  <a:cubicBezTo>
                    <a:pt x="6464" y="5071"/>
                    <a:pt x="6117" y="4814"/>
                    <a:pt x="5904" y="4946"/>
                  </a:cubicBezTo>
                  <a:cubicBezTo>
                    <a:pt x="5587" y="5148"/>
                    <a:pt x="5820" y="4390"/>
                    <a:pt x="5488" y="4786"/>
                  </a:cubicBezTo>
                  <a:cubicBezTo>
                    <a:pt x="5297" y="5012"/>
                    <a:pt x="5150" y="4592"/>
                    <a:pt x="4917" y="4821"/>
                  </a:cubicBezTo>
                  <a:cubicBezTo>
                    <a:pt x="4773" y="4960"/>
                    <a:pt x="4653" y="4713"/>
                    <a:pt x="4468" y="4588"/>
                  </a:cubicBezTo>
                  <a:cubicBezTo>
                    <a:pt x="4294" y="4470"/>
                    <a:pt x="4025" y="4884"/>
                    <a:pt x="3896" y="4731"/>
                  </a:cubicBezTo>
                  <a:cubicBezTo>
                    <a:pt x="3657" y="4456"/>
                    <a:pt x="3528" y="4616"/>
                    <a:pt x="3361" y="4679"/>
                  </a:cubicBezTo>
                  <a:cubicBezTo>
                    <a:pt x="3067" y="4783"/>
                    <a:pt x="3124" y="3991"/>
                    <a:pt x="3100" y="4536"/>
                  </a:cubicBezTo>
                  <a:cubicBezTo>
                    <a:pt x="3091" y="4748"/>
                    <a:pt x="2490" y="4974"/>
                    <a:pt x="2702" y="4640"/>
                  </a:cubicBezTo>
                  <a:cubicBezTo>
                    <a:pt x="2855" y="4404"/>
                    <a:pt x="2585" y="4779"/>
                    <a:pt x="2322" y="4731"/>
                  </a:cubicBezTo>
                  <a:cubicBezTo>
                    <a:pt x="1984" y="4672"/>
                    <a:pt x="2125" y="4727"/>
                    <a:pt x="1801" y="4606"/>
                  </a:cubicBezTo>
                  <a:cubicBezTo>
                    <a:pt x="1418" y="4463"/>
                    <a:pt x="1323" y="4811"/>
                    <a:pt x="1248" y="4515"/>
                  </a:cubicBezTo>
                  <a:cubicBezTo>
                    <a:pt x="1110" y="3960"/>
                    <a:pt x="802" y="4706"/>
                    <a:pt x="886" y="4175"/>
                  </a:cubicBezTo>
                  <a:cubicBezTo>
                    <a:pt x="963" y="3657"/>
                    <a:pt x="724" y="4349"/>
                    <a:pt x="556" y="4265"/>
                  </a:cubicBezTo>
                  <a:cubicBezTo>
                    <a:pt x="338" y="4154"/>
                    <a:pt x="556" y="3852"/>
                    <a:pt x="434" y="3710"/>
                  </a:cubicBezTo>
                  <a:cubicBezTo>
                    <a:pt x="263" y="3512"/>
                    <a:pt x="542" y="3241"/>
                    <a:pt x="176" y="3154"/>
                  </a:cubicBezTo>
                  <a:cubicBezTo>
                    <a:pt x="365" y="2841"/>
                    <a:pt x="72" y="2775"/>
                    <a:pt x="36" y="2560"/>
                  </a:cubicBezTo>
                  <a:cubicBezTo>
                    <a:pt x="0" y="2345"/>
                    <a:pt x="332" y="2223"/>
                    <a:pt x="72" y="2004"/>
                  </a:cubicBezTo>
                  <a:cubicBezTo>
                    <a:pt x="296" y="1837"/>
                    <a:pt x="87" y="1580"/>
                    <a:pt x="176" y="1393"/>
                  </a:cubicBezTo>
                  <a:cubicBezTo>
                    <a:pt x="265" y="1206"/>
                    <a:pt x="377" y="1011"/>
                    <a:pt x="607" y="910"/>
                  </a:cubicBezTo>
                  <a:cubicBezTo>
                    <a:pt x="802" y="827"/>
                    <a:pt x="1430" y="524"/>
                    <a:pt x="1631" y="476"/>
                  </a:cubicBezTo>
                  <a:cubicBezTo>
                    <a:pt x="1822" y="1056"/>
                    <a:pt x="2050" y="240"/>
                    <a:pt x="2511" y="604"/>
                  </a:cubicBezTo>
                  <a:lnTo>
                    <a:pt x="2816" y="399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3092400" y="3976560"/>
              <a:ext cx="1377720" cy="989280"/>
              <a:chOff x="3092400" y="3976560"/>
              <a:chExt cx="1377720" cy="98928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3092400" y="3976560"/>
                <a:ext cx="1377720" cy="989280"/>
                <a:chOff x="3092400" y="3976560"/>
                <a:chExt cx="1377720" cy="9892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3092400" y="4045320"/>
                  <a:ext cx="436320" cy="287280"/>
                </a:xfrm>
                <a:custGeom>
                  <a:avLst/>
                  <a:gdLst/>
                  <a:ahLst/>
                  <a:rect l="l" t="t" r="r" b="b"/>
                  <a:pathLst>
                    <a:path w="1243" h="904">
                      <a:moveTo>
                        <a:pt x="527" y="837"/>
                      </a:moveTo>
                      <a:cubicBezTo>
                        <a:pt x="192" y="768"/>
                        <a:pt x="21" y="452"/>
                        <a:pt x="0" y="386"/>
                      </a:cubicBezTo>
                      <a:cubicBezTo>
                        <a:pt x="6" y="268"/>
                        <a:pt x="524" y="0"/>
                        <a:pt x="856" y="66"/>
                      </a:cubicBezTo>
                      <a:cubicBezTo>
                        <a:pt x="1188" y="132"/>
                        <a:pt x="1242" y="407"/>
                        <a:pt x="1212" y="626"/>
                      </a:cubicBezTo>
                      <a:cubicBezTo>
                        <a:pt x="1182" y="845"/>
                        <a:pt x="862" y="903"/>
                        <a:pt x="527" y="837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114000" y="3976560"/>
                  <a:ext cx="981720" cy="989280"/>
                </a:xfrm>
                <a:custGeom>
                  <a:avLst/>
                  <a:gdLst/>
                  <a:ahLst/>
                  <a:rect l="l" t="t" r="r" b="b"/>
                  <a:pathLst>
                    <a:path w="2793" h="3099">
                      <a:moveTo>
                        <a:pt x="2235" y="2147"/>
                      </a:moveTo>
                      <a:cubicBezTo>
                        <a:pt x="1679" y="2845"/>
                        <a:pt x="951" y="3098"/>
                        <a:pt x="598" y="2730"/>
                      </a:cubicBezTo>
                      <a:cubicBezTo>
                        <a:pt x="0" y="2112"/>
                        <a:pt x="1158" y="1487"/>
                        <a:pt x="975" y="789"/>
                      </a:cubicBezTo>
                      <a:cubicBezTo>
                        <a:pt x="1532" y="87"/>
                        <a:pt x="2089" y="0"/>
                        <a:pt x="2436" y="375"/>
                      </a:cubicBezTo>
                      <a:cubicBezTo>
                        <a:pt x="2783" y="750"/>
                        <a:pt x="2792" y="1448"/>
                        <a:pt x="2235" y="2147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982320" y="4107240"/>
                  <a:ext cx="487800" cy="315360"/>
                </a:xfrm>
                <a:custGeom>
                  <a:avLst/>
                  <a:gdLst/>
                  <a:ahLst/>
                  <a:rect l="l" t="t" r="r" b="b"/>
                  <a:pathLst>
                    <a:path w="1387" h="991">
                      <a:moveTo>
                        <a:pt x="575" y="924"/>
                      </a:moveTo>
                      <a:cubicBezTo>
                        <a:pt x="242" y="858"/>
                        <a:pt x="0" y="562"/>
                        <a:pt x="33" y="344"/>
                      </a:cubicBezTo>
                      <a:cubicBezTo>
                        <a:pt x="66" y="126"/>
                        <a:pt x="362" y="0"/>
                        <a:pt x="697" y="66"/>
                      </a:cubicBezTo>
                      <a:cubicBezTo>
                        <a:pt x="1032" y="132"/>
                        <a:pt x="1386" y="486"/>
                        <a:pt x="1347" y="576"/>
                      </a:cubicBezTo>
                      <a:cubicBezTo>
                        <a:pt x="1314" y="649"/>
                        <a:pt x="910" y="990"/>
                        <a:pt x="575" y="924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3403080" y="4687920"/>
                  <a:ext cx="94680" cy="124920"/>
                </a:xfrm>
                <a:custGeom>
                  <a:avLst/>
                  <a:gdLst/>
                  <a:ahLst/>
                  <a:rect l="l" t="t" r="r" b="b"/>
                  <a:pathLst>
                    <a:path w="273" h="397">
                      <a:moveTo>
                        <a:pt x="27" y="361"/>
                      </a:moveTo>
                      <a:cubicBezTo>
                        <a:pt x="0" y="327"/>
                        <a:pt x="36" y="229"/>
                        <a:pt x="114" y="146"/>
                      </a:cubicBezTo>
                      <a:cubicBezTo>
                        <a:pt x="192" y="63"/>
                        <a:pt x="188" y="0"/>
                        <a:pt x="218" y="35"/>
                      </a:cubicBezTo>
                      <a:cubicBezTo>
                        <a:pt x="248" y="70"/>
                        <a:pt x="272" y="170"/>
                        <a:pt x="197" y="254"/>
                      </a:cubicBezTo>
                      <a:cubicBezTo>
                        <a:pt x="122" y="338"/>
                        <a:pt x="54" y="396"/>
                        <a:pt x="27" y="361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292560" y="4704840"/>
                  <a:ext cx="65160" cy="92880"/>
                </a:xfrm>
                <a:custGeom>
                  <a:avLst/>
                  <a:gdLst/>
                  <a:ahLst/>
                  <a:rect l="l" t="t" r="r" b="b"/>
                  <a:pathLst>
                    <a:path w="189" h="297">
                      <a:moveTo>
                        <a:pt x="159" y="278"/>
                      </a:moveTo>
                      <a:cubicBezTo>
                        <a:pt x="124" y="296"/>
                        <a:pt x="84" y="226"/>
                        <a:pt x="60" y="138"/>
                      </a:cubicBezTo>
                      <a:cubicBezTo>
                        <a:pt x="35" y="51"/>
                        <a:pt x="0" y="23"/>
                        <a:pt x="20" y="11"/>
                      </a:cubicBezTo>
                      <a:cubicBezTo>
                        <a:pt x="40" y="0"/>
                        <a:pt x="121" y="8"/>
                        <a:pt x="144" y="98"/>
                      </a:cubicBezTo>
                      <a:cubicBezTo>
                        <a:pt x="168" y="189"/>
                        <a:pt x="188" y="263"/>
                        <a:pt x="159" y="278"/>
                      </a:cubicBez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344040" y="4726080"/>
                  <a:ext cx="305640" cy="177480"/>
                </a:xfrm>
                <a:custGeom>
                  <a:avLst/>
                  <a:gdLst/>
                  <a:ahLst/>
                  <a:rect l="l" t="t" r="r" b="b"/>
                  <a:pathLst>
                    <a:path w="872" h="560">
                      <a:moveTo>
                        <a:pt x="850" y="0"/>
                      </a:moveTo>
                      <a:cubicBezTo>
                        <a:pt x="814" y="104"/>
                        <a:pt x="527" y="354"/>
                        <a:pt x="446" y="396"/>
                      </a:cubicBezTo>
                      <a:cubicBezTo>
                        <a:pt x="377" y="427"/>
                        <a:pt x="305" y="431"/>
                        <a:pt x="233" y="452"/>
                      </a:cubicBezTo>
                      <a:cubicBezTo>
                        <a:pt x="188" y="465"/>
                        <a:pt x="0" y="452"/>
                        <a:pt x="197" y="518"/>
                      </a:cubicBezTo>
                      <a:cubicBezTo>
                        <a:pt x="269" y="542"/>
                        <a:pt x="302" y="559"/>
                        <a:pt x="374" y="559"/>
                      </a:cubicBezTo>
                      <a:cubicBezTo>
                        <a:pt x="446" y="559"/>
                        <a:pt x="772" y="406"/>
                        <a:pt x="778" y="271"/>
                      </a:cubicBezTo>
                      <a:cubicBezTo>
                        <a:pt x="781" y="177"/>
                        <a:pt x="865" y="125"/>
                        <a:pt x="871" y="24"/>
                      </a:cubicBezTo>
                      <a:lnTo>
                        <a:pt x="871" y="24"/>
                      </a:lnTo>
                      <a:lnTo>
                        <a:pt x="850" y="0"/>
                      </a:lnTo>
                    </a:path>
                  </a:pathLst>
                </a:custGeom>
                <a:solidFill>
                  <a:srgbClr val="666666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665520" y="4337280"/>
                  <a:ext cx="178560" cy="124920"/>
                </a:xfrm>
                <a:custGeom>
                  <a:avLst/>
                  <a:gdLst/>
                  <a:ahLst/>
                  <a:rect l="l" t="t" r="r" b="b"/>
                  <a:pathLst>
                    <a:path w="510" h="397">
                      <a:moveTo>
                        <a:pt x="284" y="396"/>
                      </a:moveTo>
                      <a:cubicBezTo>
                        <a:pt x="171" y="396"/>
                        <a:pt x="0" y="347"/>
                        <a:pt x="0" y="215"/>
                      </a:cubicBezTo>
                      <a:cubicBezTo>
                        <a:pt x="0" y="83"/>
                        <a:pt x="177" y="0"/>
                        <a:pt x="290" y="0"/>
                      </a:cubicBezTo>
                      <a:cubicBezTo>
                        <a:pt x="403" y="0"/>
                        <a:pt x="509" y="90"/>
                        <a:pt x="509" y="222"/>
                      </a:cubicBezTo>
                      <a:cubicBezTo>
                        <a:pt x="509" y="354"/>
                        <a:pt x="398" y="396"/>
                        <a:pt x="284" y="396"/>
                      </a:cubicBezTo>
                    </a:path>
                  </a:pathLst>
                </a:custGeom>
                <a:solidFill>
                  <a:srgbClr val="e6e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399840" y="4327200"/>
                  <a:ext cx="128880" cy="156240"/>
                </a:xfrm>
                <a:custGeom>
                  <a:avLst/>
                  <a:gdLst/>
                  <a:ahLst/>
                  <a:rect l="l" t="t" r="r" b="b"/>
                  <a:pathLst>
                    <a:path w="369" h="494">
                      <a:moveTo>
                        <a:pt x="144" y="393"/>
                      </a:moveTo>
                      <a:cubicBezTo>
                        <a:pt x="30" y="393"/>
                        <a:pt x="0" y="493"/>
                        <a:pt x="0" y="361"/>
                      </a:cubicBezTo>
                      <a:cubicBezTo>
                        <a:pt x="0" y="229"/>
                        <a:pt x="36" y="0"/>
                        <a:pt x="150" y="0"/>
                      </a:cubicBezTo>
                      <a:cubicBezTo>
                        <a:pt x="264" y="0"/>
                        <a:pt x="368" y="90"/>
                        <a:pt x="368" y="222"/>
                      </a:cubicBezTo>
                      <a:cubicBezTo>
                        <a:pt x="368" y="354"/>
                        <a:pt x="254" y="393"/>
                        <a:pt x="144" y="393"/>
                      </a:cubicBezTo>
                    </a:path>
                  </a:pathLst>
                </a:custGeom>
                <a:solidFill>
                  <a:srgbClr val="e6e6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"/>
              <p:cNvSpPr/>
              <p:nvPr/>
            </p:nvSpPr>
            <p:spPr>
              <a:xfrm>
                <a:off x="3678480" y="4211640"/>
                <a:ext cx="225720" cy="133200"/>
              </a:xfrm>
              <a:custGeom>
                <a:avLst/>
                <a:gdLst/>
                <a:ahLst/>
                <a:rect l="l" t="t" r="r" b="b"/>
                <a:pathLst>
                  <a:path w="638" h="376">
                    <a:moveTo>
                      <a:pt x="3" y="316"/>
                    </a:moveTo>
                    <a:lnTo>
                      <a:pt x="0" y="295"/>
                    </a:lnTo>
                    <a:lnTo>
                      <a:pt x="9" y="215"/>
                    </a:lnTo>
                    <a:lnTo>
                      <a:pt x="42" y="146"/>
                    </a:lnTo>
                    <a:lnTo>
                      <a:pt x="93" y="83"/>
                    </a:lnTo>
                    <a:lnTo>
                      <a:pt x="159" y="38"/>
                    </a:lnTo>
                    <a:lnTo>
                      <a:pt x="233" y="10"/>
                    </a:lnTo>
                    <a:lnTo>
                      <a:pt x="320" y="0"/>
                    </a:lnTo>
                    <a:lnTo>
                      <a:pt x="404" y="10"/>
                    </a:lnTo>
                    <a:lnTo>
                      <a:pt x="479" y="38"/>
                    </a:lnTo>
                    <a:lnTo>
                      <a:pt x="545" y="83"/>
                    </a:lnTo>
                    <a:lnTo>
                      <a:pt x="596" y="146"/>
                    </a:lnTo>
                    <a:lnTo>
                      <a:pt x="628" y="215"/>
                    </a:lnTo>
                    <a:lnTo>
                      <a:pt x="637" y="295"/>
                    </a:lnTo>
                    <a:lnTo>
                      <a:pt x="628" y="372"/>
                    </a:lnTo>
                    <a:lnTo>
                      <a:pt x="625" y="375"/>
                    </a:lnTo>
                    <a:lnTo>
                      <a:pt x="616" y="320"/>
                    </a:lnTo>
                    <a:lnTo>
                      <a:pt x="587" y="250"/>
                    </a:lnTo>
                    <a:lnTo>
                      <a:pt x="536" y="188"/>
                    </a:lnTo>
                    <a:lnTo>
                      <a:pt x="470" y="142"/>
                    </a:lnTo>
                    <a:lnTo>
                      <a:pt x="395" y="115"/>
                    </a:lnTo>
                    <a:lnTo>
                      <a:pt x="308" y="104"/>
                    </a:lnTo>
                    <a:lnTo>
                      <a:pt x="224" y="115"/>
                    </a:lnTo>
                    <a:lnTo>
                      <a:pt x="147" y="142"/>
                    </a:lnTo>
                    <a:lnTo>
                      <a:pt x="84" y="188"/>
                    </a:lnTo>
                    <a:lnTo>
                      <a:pt x="33" y="250"/>
                    </a:lnTo>
                    <a:lnTo>
                      <a:pt x="3" y="316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482640" y="4203720"/>
                <a:ext cx="98640" cy="130320"/>
              </a:xfrm>
              <a:custGeom>
                <a:avLst/>
                <a:gdLst/>
                <a:ahLst/>
                <a:rect l="l" t="t" r="r" b="b"/>
                <a:pathLst>
                  <a:path w="282" h="366">
                    <a:moveTo>
                      <a:pt x="0" y="0"/>
                    </a:moveTo>
                    <a:lnTo>
                      <a:pt x="123" y="31"/>
                    </a:lnTo>
                    <a:lnTo>
                      <a:pt x="189" y="76"/>
                    </a:lnTo>
                    <a:lnTo>
                      <a:pt x="236" y="135"/>
                    </a:lnTo>
                    <a:lnTo>
                      <a:pt x="269" y="205"/>
                    </a:lnTo>
                    <a:lnTo>
                      <a:pt x="281" y="285"/>
                    </a:lnTo>
                    <a:lnTo>
                      <a:pt x="269" y="361"/>
                    </a:lnTo>
                    <a:lnTo>
                      <a:pt x="269" y="365"/>
                    </a:lnTo>
                    <a:lnTo>
                      <a:pt x="260" y="309"/>
                    </a:lnTo>
                    <a:lnTo>
                      <a:pt x="227" y="240"/>
                    </a:lnTo>
                    <a:lnTo>
                      <a:pt x="177" y="181"/>
                    </a:lnTo>
                    <a:lnTo>
                      <a:pt x="114" y="13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042080" y="4159080"/>
                <a:ext cx="343440" cy="130320"/>
              </a:xfrm>
              <a:custGeom>
                <a:avLst/>
                <a:gdLst/>
                <a:ahLst/>
                <a:rect l="l" t="t" r="r" b="b"/>
                <a:pathLst>
                  <a:path w="968" h="366">
                    <a:moveTo>
                      <a:pt x="6" y="222"/>
                    </a:moveTo>
                    <a:lnTo>
                      <a:pt x="0" y="205"/>
                    </a:lnTo>
                    <a:lnTo>
                      <a:pt x="15" y="139"/>
                    </a:lnTo>
                    <a:lnTo>
                      <a:pt x="60" y="83"/>
                    </a:lnTo>
                    <a:lnTo>
                      <a:pt x="132" y="35"/>
                    </a:lnTo>
                    <a:lnTo>
                      <a:pt x="218" y="0"/>
                    </a:lnTo>
                    <a:lnTo>
                      <a:pt x="407" y="73"/>
                    </a:lnTo>
                    <a:lnTo>
                      <a:pt x="524" y="63"/>
                    </a:lnTo>
                    <a:lnTo>
                      <a:pt x="640" y="73"/>
                    </a:lnTo>
                    <a:lnTo>
                      <a:pt x="745" y="97"/>
                    </a:lnTo>
                    <a:lnTo>
                      <a:pt x="835" y="132"/>
                    </a:lnTo>
                    <a:lnTo>
                      <a:pt x="904" y="181"/>
                    </a:lnTo>
                    <a:lnTo>
                      <a:pt x="949" y="240"/>
                    </a:lnTo>
                    <a:lnTo>
                      <a:pt x="967" y="302"/>
                    </a:lnTo>
                    <a:lnTo>
                      <a:pt x="949" y="365"/>
                    </a:lnTo>
                    <a:lnTo>
                      <a:pt x="946" y="365"/>
                    </a:lnTo>
                    <a:lnTo>
                      <a:pt x="937" y="323"/>
                    </a:lnTo>
                    <a:lnTo>
                      <a:pt x="892" y="264"/>
                    </a:lnTo>
                    <a:lnTo>
                      <a:pt x="823" y="219"/>
                    </a:lnTo>
                    <a:lnTo>
                      <a:pt x="733" y="181"/>
                    </a:lnTo>
                    <a:lnTo>
                      <a:pt x="628" y="156"/>
                    </a:lnTo>
                    <a:lnTo>
                      <a:pt x="512" y="149"/>
                    </a:lnTo>
                    <a:lnTo>
                      <a:pt x="392" y="156"/>
                    </a:lnTo>
                    <a:lnTo>
                      <a:pt x="206" y="83"/>
                    </a:lnTo>
                    <a:lnTo>
                      <a:pt x="117" y="118"/>
                    </a:lnTo>
                    <a:lnTo>
                      <a:pt x="48" y="167"/>
                    </a:lnTo>
                    <a:lnTo>
                      <a:pt x="6" y="222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78440" y="4116240"/>
                <a:ext cx="279000" cy="52560"/>
              </a:xfrm>
              <a:custGeom>
                <a:avLst/>
                <a:gdLst/>
                <a:ahLst/>
                <a:rect l="l" t="t" r="r" b="b"/>
                <a:pathLst>
                  <a:path w="791" h="152">
                    <a:moveTo>
                      <a:pt x="7" y="130"/>
                    </a:moveTo>
                    <a:lnTo>
                      <a:pt x="3" y="123"/>
                    </a:lnTo>
                    <a:lnTo>
                      <a:pt x="0" y="88"/>
                    </a:lnTo>
                    <a:lnTo>
                      <a:pt x="40" y="54"/>
                    </a:lnTo>
                    <a:lnTo>
                      <a:pt x="88" y="26"/>
                    </a:lnTo>
                    <a:lnTo>
                      <a:pt x="159" y="0"/>
                    </a:lnTo>
                    <a:lnTo>
                      <a:pt x="312" y="27"/>
                    </a:lnTo>
                    <a:lnTo>
                      <a:pt x="407" y="15"/>
                    </a:lnTo>
                    <a:lnTo>
                      <a:pt x="503" y="12"/>
                    </a:lnTo>
                    <a:lnTo>
                      <a:pt x="594" y="19"/>
                    </a:lnTo>
                    <a:lnTo>
                      <a:pt x="672" y="34"/>
                    </a:lnTo>
                    <a:lnTo>
                      <a:pt x="724" y="58"/>
                    </a:lnTo>
                    <a:lnTo>
                      <a:pt x="773" y="82"/>
                    </a:lnTo>
                    <a:lnTo>
                      <a:pt x="790" y="119"/>
                    </a:lnTo>
                    <a:lnTo>
                      <a:pt x="786" y="150"/>
                    </a:lnTo>
                    <a:lnTo>
                      <a:pt x="783" y="151"/>
                    </a:lnTo>
                    <a:lnTo>
                      <a:pt x="770" y="128"/>
                    </a:lnTo>
                    <a:lnTo>
                      <a:pt x="730" y="99"/>
                    </a:lnTo>
                    <a:lnTo>
                      <a:pt x="667" y="79"/>
                    </a:lnTo>
                    <a:lnTo>
                      <a:pt x="586" y="65"/>
                    </a:lnTo>
                    <a:lnTo>
                      <a:pt x="506" y="60"/>
                    </a:lnTo>
                    <a:lnTo>
                      <a:pt x="413" y="60"/>
                    </a:lnTo>
                    <a:lnTo>
                      <a:pt x="307" y="75"/>
                    </a:lnTo>
                    <a:lnTo>
                      <a:pt x="157" y="45"/>
                    </a:lnTo>
                    <a:lnTo>
                      <a:pt x="89" y="71"/>
                    </a:lnTo>
                    <a:lnTo>
                      <a:pt x="32" y="100"/>
                    </a:lnTo>
                    <a:lnTo>
                      <a:pt x="7" y="130"/>
                    </a:lnTo>
                  </a:path>
                </a:pathLst>
              </a:custGeom>
              <a:solidFill>
                <a:srgbClr val="6666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0:34:44Z</dcterms:created>
  <dc:creator/>
  <dc:description/>
  <dc:language>en-US</dc:language>
  <cp:lastModifiedBy/>
  <dcterms:modified xsi:type="dcterms:W3CDTF">2012-11-29T06:57:18Z</dcterms:modified>
  <cp:revision>3</cp:revision>
  <dc:subject/>
  <dc:title/>
</cp:coreProperties>
</file>