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251-88F3-43BB-AA58-2E6EDBE6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3AF-2240-4091-B9F6-AFFCE866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FBCB-E2F0-4BF7-B4E4-35D2EB41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39B-94BC-4144-ABA7-7F4CF36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8A9C-43BB-4BDB-B99A-238881A0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E4EC-8F19-460D-A031-A06CEFB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3F94-41BE-4234-B4BE-CCB5A9992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9C00-1383-4E07-B828-F2CECA25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EA93-D275-4E17-9ABA-9A2D4DE8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ADBA-A796-4AF6-8799-300AE3F4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AA65-C2B1-4664-B866-D9ADB89C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FE69-2D1A-46C9-A1EE-7C46B573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013-0BEB-445F-8F6A-A5F20E55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05C9-D7F9-4492-947B-3CADF68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F048-847E-49B1-A90F-EEEC79E0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AEE5-0B81-4276-8DD8-600B8EA3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3F9B-8C55-4EC9-B914-E715B4AF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00BD3-8089-48E2-B7D8-B0821301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89083-79AE-43F2-B908-F60F49F4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773C4-7BC3-47A3-B405-DE632FCF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ABA97-3BFF-4757-B2B3-66BE14D8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D505B-0292-42F0-9C5B-390A5D11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433-E620-4EC4-82E0-7E5E8B4C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D120-45E2-47F3-961F-70E54956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F51F-D5B4-44E6-934A-067A6D24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D1929-B6E5-4972-A15A-FF64A077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9C31-613E-429D-BC44-38B11AE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804A-2695-4F76-AF8E-51C4153A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9686-9C1D-492A-8045-FC1AD6C8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6DCCA-A777-465D-BA4F-2D7EFF40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5E400-CC84-4ECC-9222-017EB286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2B515-133C-4090-89EF-A0B7FA80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586F-B215-4243-91A1-C8D9E24E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C97-E22B-4F57-8F4F-2F72A041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1C3D0-C3CB-4C44-B3A5-F2C9583E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EBB2E-BAAB-486E-9A49-E9DD2DD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B650D-0887-423B-90C5-B1810B6D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F434-F844-4739-85D1-530FD57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501C5-1276-43E9-8328-C12E9BCC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F7E0C-11DF-4F7F-8B74-FC8FE29F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F218-D43F-4268-958D-8F6B3FDF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9AFEC-588B-4D9F-A5A0-5E4FD1EB4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03991-D398-4E54-9ED3-BFFEF7D11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39729-C85D-48A4-9BA7-3F33C417C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67C5-411F-4BB8-AD12-D1708AEB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29506-3AEF-47E3-8E28-DB1D79E5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6A6BB-4195-427D-868D-6E5E9988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C6D1-2AFE-4A8F-A745-852B03F6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50A80-478A-4D46-A53E-BFE385BA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29CAA-2AD3-4A5A-9C09-CD5401F2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C2050-9764-47A2-AEFC-3D00E681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273D0-AFCD-4E63-BD67-A7202B4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03964-FCDC-4B18-990A-3C3476AD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4DA28-E6B1-491E-AB96-28015160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D4D4C-6CEC-4513-8F68-D708E2D38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022A-0373-467D-808D-E23F16D2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E6284-651B-4A64-8793-A636A9D5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56E1-14F3-4ECA-A54D-7D4105BE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95B-7046-4A38-89AB-E77FD6AE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A63-6F1D-4B1D-965D-274EB05C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6149-2681-4BEC-A929-6F674136524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66AA-DBE3-4D63-999E-542814E16F5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DE7B-DFEC-4CB1-AAED-664CEFBE7B85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5AB9-31FD-4CE3-BF1F-C1571105B6B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2D1C-0AF9-4EC1-BF1B-5A1F3592138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3359160" y="530280"/>
            <a:ext cx="597996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843280" y="3573000"/>
            <a:ext cx="6121440" cy="17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b050"/>
                </a:solidFill>
                <a:latin typeface="Trebuchet MS"/>
              </a:rPr>
              <a:t>Адаптация ребёнка к детскому садику.</a:t>
            </a:r>
            <a:endParaRPr b="0" lang="en-US" sz="33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МБДОУ №3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Группа №2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00"/>
                </a:solidFill>
                <a:latin typeface="Trebuchet MS"/>
              </a:rPr>
              <a:t>Воспитатели: Марёшина О.В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00"/>
                </a:solidFill>
                <a:latin typeface="Trebuchet MS"/>
              </a:rPr>
              <a:t>                            </a:t>
            </a:r>
            <a:r>
              <a:rPr b="0" lang="ru-RU" sz="1200" spc="-1" strike="noStrike">
                <a:solidFill>
                  <a:srgbClr val="ffff00"/>
                </a:solidFill>
                <a:latin typeface="Trebuchet MS"/>
              </a:rPr>
              <a:t>Вилкова С.А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3000">
    <p:wedge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ктивизация речевых процесс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произвольности поведения , умения подчиняться правила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игровых навыков , переход от игры «рядом» к игре «вместе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3000">
    <p:wedg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еодоление стрессовых состояний у детей в период адаптации к ДОУ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здание положительного эмоционального климата в детском коллектив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общей и мелкой моторики , координации движен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нятие эмоционального и мышечного напряже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азвитие навыков общения , взаимодействия со взрослыми и сверстник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advTm="0">
    <p:wedg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9350280" cy="1176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спользовать элементы телесной терапии(брать ребёнка на руки, обнимать, поглаживать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спользовать игровые методы взаимодействия с ребёнк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вать у ребёнка положительную установку на предстоящие режимные процессы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ссказывать сказки , петь колыбельные перед сн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Трудност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сутствие в семье режима , совпадающего с режимом детского са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сформированность элементарных культурно-гигиенических навыко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Решени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вести работу с родителями , чтобы дети находясь дома придерживались режима детского сад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учать к самообслуживанию , поощрять попытки самостоятельных действи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50920" y="980640"/>
            <a:ext cx="7634160" cy="55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                                </a:t>
            </a:r>
            <a:r>
              <a:rPr b="0" lang="ru-RU" sz="1800" spc="-1" strike="noStrike">
                <a:solidFill>
                  <a:srgbClr val="7030a0"/>
                </a:solidFill>
                <a:latin typeface="Trebuchet MS"/>
              </a:rPr>
              <a:t>Уважаемые родители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ля того, чтобы ваш ребёнок быстро и легко привык к новому образу жизни, который предлагает детский сад , чувствовал себя в группе уверенно и комфортно ,мы просим вас о сотрудничестве в период его адаптации к новым условиям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 детском саду ребёнку нужно привыкнуть: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 новым взрослым людям , которые будут о нём заботиться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К новой обстановке , помещениям, мебели , игрушкам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ществу своих сверстников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овой пище и условиям еды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Новой обстановке для сн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ашему ребёнку будет проще привыкать ко всему постепенно . Поэтому мы просим вас в первый раз прийти с ребёнком в то время, когда в группе не будет других детей и воспитатель сможет познакомиться с вашим малышом , а он- изучить нового для него взрослого человека . Ребёнок будет чувствовать себя уверенно , если вы будете на первых порах   рядом с ним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рвую неделю мы просим вас приходить в период с 9.00 до 11.00,накормив ребёнка дома завтраком, и оставаться с нами в группе до обед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Вторую неделю мы предложим ребёнку попробовать обедать в группе и, возможно ,к концу недели - спать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Третью и четвёртую неделю просим забирать ребёнка вскоре после дневного сна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ома в адаптационный период нужно относиться к малышу , более терпимо и внимательно. Если что-либо волнует вас в связи с детским садом , не обсуждайте это при ребёнке , но обязательно поделитесь всеми опасениями с сотрудниками нашего учреждения. Просим вас рассказать психологу и воспитателям о ребёнке как можно больше , всё , что вы считаете особенно важным. Мы готовы прислушаться ко всем вашим пожеланиям.      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мощь и поддержка методиста и коллег-воспитателей работающих в одной параллели с на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нтерне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тодическая литератур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аимопонимание со стороны родителей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собое внимание            Апробирование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Формулированию          методик работы 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просов                     парах и малых группах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Сентябрь             Ноябрь               Январь         Март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ерестроиться с                           Анализ полученног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исключительно требования          опыта и        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мотивацию и поддержку          планирование н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будущее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6:10:24Z</dcterms:created>
  <dc:creator>катя</dc:creator>
  <dc:description/>
  <dc:language>en-US</dc:language>
  <cp:lastModifiedBy>imc</cp:lastModifiedBy>
  <dcterms:modified xsi:type="dcterms:W3CDTF">2012-12-19T09:11:36Z</dcterms:modified>
  <cp:revision>21</cp:revision>
  <dc:subject/>
  <dc:title>План   действий</dc:title>
</cp:coreProperties>
</file>