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163-71EF-4024-A726-791A4762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E02-A92B-491C-8BA9-A07F3892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B04-3E68-481E-8643-85DD20EE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04D-2AF2-4725-8EBA-0BFA364D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8E3A-9EE7-4050-A306-92692710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4969-CD36-440F-9890-F54A65AA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DEF5-3E8D-465C-BD03-009B480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1600-DD1E-4B99-8BDF-1D451403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5CEC-5307-4DA1-9308-E9CC41D4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7524-88B9-43BF-901C-05460B52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4A20-E1FA-469A-878E-1EBFC3BB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43E-5134-432F-83BE-BB3D56A3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A028-297C-4F2E-A476-ED94F05E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9F29-02BD-4478-A24D-34A25F75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0F93-102C-48BF-8B56-1182DAA3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3D7-E541-46F0-8F06-A959B096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7CC7-3352-4BC2-88B1-5E7EA575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E268-3C40-4B40-AAF0-DD98F86F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82893-5CB4-48EE-9B93-9DB65E02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B1A4-7A2B-43DD-9783-D86AEAB5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2D72-805E-4C36-AADD-67473A5C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3914-E12F-493A-AE5A-4ADAB5A1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721-B461-4B0E-86F6-61846836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A7EB-8109-4B7C-9C8A-3234DDD4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10D6-C1E3-4C3E-B4D8-91CD42D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C778-2737-45A0-9C55-A74DECF7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4B20-0C34-48B8-A865-97FD1EB0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7EFD-F146-4DA3-B52F-71EDB1CE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D0F2-90AF-46B5-8FF2-E894A8C4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A970-25AB-421B-BAD9-77AF8C3C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1E187-9C15-49C5-9416-5217C619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BF08-F4A8-4E97-B803-3D0B3ED0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585E-B17C-4D11-881B-C219CE9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660-DB04-4840-83EF-3A34467A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1288-0C2A-4F9F-83D4-4FBF641B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FA31-D408-4B9E-AAFF-BBC7F4A1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D605-7EDE-472A-9098-306E5E77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87BB-7E40-4669-85AD-64F8F2F6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6B57-EBAE-4A5B-81A5-EBE72C76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38C5-244B-45F6-BC44-BAC5C9A7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A1AD-D5F5-4B0F-801C-20404BFE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3ACA-9869-480C-96B4-AEDED32A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7B10-5DD9-4188-BBCF-940BEE79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5445-A99B-4CD5-9BCC-9482597D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A75-B629-4A0B-BAB7-4AED7348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E4E3E-F519-4DC4-93C1-25D6605A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1B31D-87A6-4920-A1FE-C5020271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55C3-C3C2-45B8-94FD-F50C4F35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E4C60-5774-4379-9EEC-FC8B643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5913-87D7-49BB-84CA-2CF03CC6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8C95A-506C-4CF5-A8A2-C8908DEF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F56A1-9D71-4FBF-838E-3CB333ED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828D7-F404-468B-9720-5CCBF1E2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4C057-5539-4761-95A0-7B585CBD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A7BF-CA87-4815-A3B5-35FFB3C5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942-43C0-49BE-A2AD-5FA04C92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05FB-73C4-485E-9C20-2DB2D406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615-07B1-4F55-94EE-5D0305C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08D-2299-411A-85BE-89A5F9D1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C89-479C-4B86-AABA-517FF71A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E81D-60C3-46FD-832B-2AC0EDA536B4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8EF5-D0DC-4896-BAC1-DA728660905D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EA93-ECC1-4EDB-AC37-7B43B90F8A65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6951-7D3B-4414-A709-AC2FC7380326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CD4D-DB11-4284-A845-1A5974AD1E04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2000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Impact"/>
              </a:rPr>
              <a:t>План действий</a:t>
            </a:r>
            <a:br>
              <a:rPr sz="8000"/>
            </a:b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87280" y="2997000"/>
            <a:ext cx="6616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Развитие творческих способностей через театрализованную деятельность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Егорова Е.В  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МБДОУ-41 группа№5 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Дальние цели</a:t>
            </a:r>
            <a:br>
              <a:rPr sz="4900"/>
            </a:b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Используя театрализованную деятельность раскрыть творческий потенциал каждого ребенка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Ближние цели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Создать атмосферу творчества и довери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Формировать умение свободно чувствовать себя в рол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Вовлекать детей в различные театрализованные представлени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Предоставлять возможность выступать перед сверстниками, родителями и другими гостям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Педагогические методы и задачи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2120" y="609120"/>
            <a:ext cx="365760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Чтение художественных произведений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Использование различных видов театра(кукольный, теневой, бибабо, пальчиковый)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609120"/>
            <a:ext cx="365760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Развитие всех компонентов устной реч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Формировать умение выстраивать линию поведения в роли, используя атрибуты, детали костюмов…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Трудности и решения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2120" y="609120"/>
            <a:ext cx="365760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Преодоление чувства стеснительност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Выразительность речи(интонация, мимика, жесты)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609120"/>
            <a:ext cx="365760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Беседы с психологом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Совместные игры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Просмотр сказок, мультфильмов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Посещение театра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Информация для родителей</a:t>
            </a:r>
            <a:br>
              <a:rPr sz="4900"/>
            </a:b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В нашем детском саду начинает работу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Театральный кружок «МАЛЫШОК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Время работы: с 16.00-16.30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Вторник, четверг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Руководитель: Егорова Елена Викторовна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Ресурсы</a:t>
            </a:r>
            <a:br>
              <a:rPr sz="4900"/>
            </a:b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Подбор художественной литературы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Все виды театра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Использование ИКТ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Участие музыкального руководителя, педагога, психолога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Помощь родителей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План-график</a:t>
            </a:r>
            <a:br>
              <a:rPr sz="4900"/>
            </a:b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62120" y="685800"/>
          <a:ext cx="7543800" cy="1752480"/>
        </p:xfrm>
        <a:graphic>
          <a:graphicData uri="http://schemas.openxmlformats.org/drawingml/2006/table">
            <a:tbl>
              <a:tblPr/>
              <a:tblGrid>
                <a:gridCol w="3771720"/>
                <a:gridCol w="3772080"/>
              </a:tblGrid>
              <a:tr h="642600">
                <a:tc>
                  <a:txBody>
                    <a:bodyPr lIns="83880" rIns="83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83880" rIns="83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над реч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370800">
                <a:tc>
                  <a:txBody>
                    <a:bodyPr lIns="83880" rIns="83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83880" rIns="83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н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69000">
                <a:tc>
                  <a:txBody>
                    <a:bodyPr lIns="83880" rIns="83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83880" rIns="83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над рол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70080">
                <a:tc>
                  <a:txBody>
                    <a:bodyPr lIns="83880" rIns="83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83880" rIns="83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ценировка ска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</p:spTree>
  </p:cSld>
  <p:transition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8:28:14Z</dcterms:created>
  <dc:creator>user</dc:creator>
  <dc:description/>
  <cp:keywords>план действий</cp:keywords>
  <dc:language>en-US</dc:language>
  <cp:lastModifiedBy>imc</cp:lastModifiedBy>
  <dcterms:modified xsi:type="dcterms:W3CDTF">2013-02-13T06:27:04Z</dcterms:modified>
  <cp:revision>15</cp:revision>
  <dc:subject/>
  <dc:title>План действий</dc:title>
</cp:coreProperties>
</file>