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0CE-EC02-4339-A700-90807659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BEC-E40E-411D-9D6C-FE532210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0BF-8F3C-4B2B-80F0-F796EC8B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84B-8861-4FCF-8057-C244D8E4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5D77-8FB1-48CE-A1E0-A4D31DFC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AD63-EE00-4249-B129-1D9F5D3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09AA-9FC4-4738-B809-9344169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94CF-24BB-4BB6-A6D0-F745E604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9088-D19C-4B85-874A-C1806AB9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BCA1-7A07-4A26-8EE9-BB835711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2B6-39C4-4B28-BCB8-0AD3EE8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F8F-18DE-477E-A878-7A6C5826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02B-E719-49D4-A592-3505601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000-6E40-46B3-AED0-023A33A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52B5-5D77-43B8-B07A-7FBE1D0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C212-104E-4224-8A3B-82C5FEC1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93E6-A769-4CA4-B60C-66B4CA50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45DC-2287-456A-9D37-933A8096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B463-CB7A-4418-8EB9-67EFC63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11A8-6B9C-488B-9DAA-143B22EA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AE46-B2F1-4E41-BD5E-2276A8BF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C109-F6A3-4043-99A0-6B264C4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405-7B87-4858-BFDF-3BFA8C6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6576-6DAE-4961-A074-7EF8F142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AAD0-18A0-475A-960F-F5A9973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E2D1-1E82-4CDE-8B49-A0D1E8E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DDBD-BCB2-48E6-868C-7B923404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83FB-39D7-4DDC-81D1-9A7F507C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5EC9-F565-4F28-9DDD-FF44D675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289F-793A-43A6-AD0F-3D45229C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F5AE-F947-44FB-B9CD-E0F5E576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A618-1321-492B-BCD2-543970B9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0EB0-C1B9-48A3-BDBE-977EA13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C29-0F69-4D71-8968-259E7C1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88AA-2BB4-42AA-AF06-D9193A0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B067-BE5C-4C42-B377-4636258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A01B-521C-4221-8062-3DF3246A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955B-B019-42ED-B316-85EE4F5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D77F-BBE4-4BE2-ACBD-C49E1B3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D81D-05D7-499C-8601-79FAB39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F0D2-3B30-4A0D-A29A-6E445693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F83B-CB31-48C7-B9A3-C6FF9A1C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0457-7909-4168-9AF8-22F8B43A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2541-7851-4007-B3EE-CF9C0728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2F6-8AF6-47D1-9F9F-3072AA28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1836-B7AB-418F-8B90-CF84498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FD59-E60C-4657-BAD9-F499C495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B330F-26C7-4A62-A27E-73CEA97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89D9-5C3D-415D-B3EE-C6B883A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EA61-6A84-4B9A-8DAC-FA2B2138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3117-274C-40F9-AF9C-E9A15BA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BFD0-576E-4807-8007-FBA8C09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FBC23-5E1A-4A36-B58A-64AE1C3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FB37-C024-4AD3-93C2-2B6BF5B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D5DB-E7D5-4F7F-BD17-DD74F0C6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2BF-73AF-4357-ACD9-85A855EE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C426-00DF-4E14-8027-D3E4BC1E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B28-EDAD-441D-9CAF-F6E90C1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3B9-A321-444A-B801-26C2BC6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39D-069E-45D6-BC51-710CB68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5712-CA8C-4FA2-BFF8-677A306FD5B4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688-9FF5-4E74-B34E-A143745B0AC6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80FC-C9CF-4557-BC73-0FAAD7242040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E240-53AA-4777-99B9-820A2B1E821C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90E3-C00F-43CC-8A20-2B4F57BE9EE3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200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Impact"/>
              </a:rPr>
              <a:t>Детский сад-41</a:t>
            </a:r>
            <a:br>
              <a:rPr sz="8000"/>
            </a:br>
            <a:r>
              <a:rPr b="0" lang="en-US" sz="8000" spc="-1" strike="noStrike">
                <a:solidFill>
                  <a:srgbClr val="262626"/>
                </a:solidFill>
                <a:latin typeface="Impact"/>
              </a:rPr>
              <a:t>«Ладушки»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Лучший день недел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Встреча осени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Объект 11" descr=""/>
          <p:cNvPicPr/>
          <p:nvPr/>
        </p:nvPicPr>
        <p:blipFill>
          <a:blip r:embed="rId2"/>
          <a:stretch/>
        </p:blipFill>
        <p:spPr>
          <a:xfrm>
            <a:off x="762120" y="112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648320" y="609120"/>
            <a:ext cx="365760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030"/>
                </a:solidFill>
                <a:latin typeface="Times New Roman"/>
              </a:rPr>
              <a:t>Здравствуй осень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030"/>
                </a:solidFill>
                <a:latin typeface="Times New Roman"/>
              </a:rPr>
              <a:t>Здравствуй осень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030"/>
                </a:solidFill>
                <a:latin typeface="Times New Roman"/>
              </a:rPr>
              <a:t>Хорошо что ты пришла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030"/>
                </a:solidFill>
                <a:latin typeface="Times New Roman"/>
              </a:rPr>
              <a:t>У тебя мы осень спросим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030"/>
                </a:solidFill>
                <a:latin typeface="Times New Roman"/>
              </a:rPr>
              <a:t>Что в подарок принесла</a:t>
            </a:r>
            <a:endParaRPr b="0" lang="en-US" sz="2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Осени мы рады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4" name="Объект 7" descr=""/>
          <p:cNvPicPr/>
          <p:nvPr/>
        </p:nvPicPr>
        <p:blipFill>
          <a:blip r:embed="rId2"/>
          <a:stretch/>
        </p:blipFill>
        <p:spPr>
          <a:xfrm>
            <a:off x="762120" y="1122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8" descr=""/>
          <p:cNvPicPr/>
          <p:nvPr/>
        </p:nvPicPr>
        <p:blipFill>
          <a:blip r:embed="rId3"/>
          <a:stretch/>
        </p:blipFill>
        <p:spPr>
          <a:xfrm>
            <a:off x="4648320" y="1122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Вместе играем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7" name="Объект 7" descr=""/>
          <p:cNvPicPr/>
          <p:nvPr/>
        </p:nvPicPr>
        <p:blipFill>
          <a:blip r:embed="rId2"/>
          <a:stretch/>
        </p:blipFill>
        <p:spPr>
          <a:xfrm>
            <a:off x="762120" y="1122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8" name="Объект 8" descr=""/>
          <p:cNvPicPr/>
          <p:nvPr/>
        </p:nvPicPr>
        <p:blipFill>
          <a:blip r:embed="rId3"/>
          <a:stretch/>
        </p:blipFill>
        <p:spPr>
          <a:xfrm>
            <a:off x="4648320" y="1122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До новых встреч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0" name="Объект 6" descr=""/>
          <p:cNvPicPr/>
          <p:nvPr/>
        </p:nvPicPr>
        <p:blipFill>
          <a:blip r:embed="rId2"/>
          <a:stretch/>
        </p:blipFill>
        <p:spPr>
          <a:xfrm>
            <a:off x="1943280" y="685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21:24Z</dcterms:created>
  <dc:creator>user</dc:creator>
  <dc:description/>
  <dc:language>en-US</dc:language>
  <cp:lastModifiedBy>imc</cp:lastModifiedBy>
  <dcterms:modified xsi:type="dcterms:W3CDTF">2013-02-13T06:22:38Z</dcterms:modified>
  <cp:revision>7</cp:revision>
  <dc:subject/>
  <dc:title>Ко</dc:title>
</cp:coreProperties>
</file>