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applause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C9B-A7B2-4E98-A152-BC7F4BD3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3DC-FBBA-44EB-91B6-6C95EDA3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839-6EBF-4A6D-83F5-8078C4FB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6BB-041D-4EAD-AF94-B515148F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A1E-F0A0-4D51-B30B-6CA2EE62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476F-7D1A-44D5-B02D-74CBCDCC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51B-BD39-4836-A057-ECABC8E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168-8C01-42BF-818B-BC989B79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7CAD-AB81-4A02-A32A-F12308A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4189-3CE9-44E8-8125-AB300B8C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8323-4D37-402A-A085-2218FBE2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51F-767A-4863-8876-E66F663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55DD-F0C3-4DA2-9EE9-DEEDDAB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834-AB51-4FC4-88A1-6B4B202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676B-217F-4EC1-A80B-CABA66C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F80E-1317-4E14-A0B0-477C1F80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7CE-6CE5-46C2-BCD7-102FB733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D98E-AAFA-4675-B265-0A232F14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F924-5854-47A8-8724-2D5E705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A01E-5161-421B-89E3-8E35BE9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69F7-A901-44AA-9210-7111D8B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5928-F36A-449E-9638-B18411FC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E68-6C25-46F0-81C7-0D0295B5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68C5-7F7A-410E-995F-746839D3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3F96-E0B0-4013-BD33-F9307A6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3020-53D0-41A6-8B13-E99012BE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32D3-F7FA-48C0-B44A-596C73A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C479-C2D4-48DB-806E-87073EA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5051-E3C1-4911-A029-71EB5063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1B95-D151-409D-8B04-67435BAD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7F5F-4FE0-4DBC-971F-042C0E64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EC95-D3EC-44C8-A794-A174C35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BCF1-0E44-4D67-A904-AB43A663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03F-360F-448A-8533-9822B31A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B82F-3964-46DB-81A7-18C1A974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9D8D-34C7-4548-97EB-AEA7ED31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EB59-FF58-4651-A0E9-0A64835F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334B-7618-4C0F-B21A-92526CD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B7F3-A9DF-4D7E-8B39-5615776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4501-C3AA-40CB-8ECB-01616CA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BF05-7B18-42C8-B49B-FFE0468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CC38-2818-4B52-8B83-43ECDA06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4AE0-884A-4140-A32B-E6EE05C3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E34A-2922-4312-B670-4CBC42FF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128-84CE-44CE-B66B-D30E2D7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250E-96CD-4A21-98BB-FE562881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2593-30AC-43AE-938F-BAEEAC2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33F6B-C059-42BB-8267-0471E084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4178-ADF4-41ED-A9B5-C540A4E9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264BA-9F2F-494F-B025-72472704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4B21-1513-46B6-8387-1AAE475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58BE-8BFF-4662-9204-61529CC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E771-4C27-4F73-8D4B-164A669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8E84-9F36-40E9-AD07-0E55BB3E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D868-6B9A-48BA-A111-EBF1210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44A-5E20-437A-954A-D923DA2D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67EA-52F3-4C40-A704-953BBEC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BC10-D588-4FB5-BB44-0DE52AF9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E55F-6121-4B8F-82D8-700E2E2A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779F-3ED9-41A3-801C-465103D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E673-F985-4855-955D-615979F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8904A-3DC6-4D13-8EB6-4B21059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4F70-AD21-4DDF-8FBA-DC2D4E9A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AFE9-1D90-4A38-90BF-CEBCC25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B116-238E-48E9-A704-CA93C30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291A-79D5-4E6F-A595-BBF2E64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290-E7A6-4BEC-AEDA-FF4BE028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7D4C-E44E-46B6-A6D6-8891517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AF52-FE3F-4E9B-AB72-9CE4B3C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6575A-ADBA-4C3E-BDBC-7A0B42E9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A900-CEB2-4A36-9934-71F3BF0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726A-4C42-49F8-82D4-C21EBC2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0524-1FA8-47B5-8373-2FCAC037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72553-2891-4C6A-9DCE-B3107D25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7BAFD-984E-4302-9CF8-20A25CD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A221-110C-4290-8995-650B8931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8D28-D280-419D-9D3F-DCAA3DB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B4B-7E02-4A33-9F71-77F7F0E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B6EF-AB28-457D-86C3-2CE30C9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981B-3F71-4E14-A3C5-BC3D8B7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ED38-5FF9-422D-9367-AF378C0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5994-C11C-47CF-9942-3F7B4EED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D1B9-EFDE-42BC-B40F-186B7B15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114-BFCE-4FCF-BF5A-2ECB9CC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EE7E-CE08-4FBF-A468-6211D80C35C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862-C8A4-4409-AA90-102C2367B98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D7F-B152-4512-9D83-5CC83955084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84F-A40F-42F1-95F8-E58F0A98A79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F1B-C230-4EBE-8E83-D552C084FCB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22A7-221B-4B65-A115-0482EAAD34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953C-0D70-4E00-9AE7-9ADAE40A436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МБДОУ-4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г.Ковр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Егорова Елена Виктор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Воспитатель группы№5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2012 г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 advTm="1000">
    <p:blinds dir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Осень в детском сад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1.Свекла да морковка ,в салатах прячутся-ловко(сентябрь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2.Пряники. (октябрь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3.Картошка-матушка да хлеб-батюшка(ноябрь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Picture 6" descr="C:\Program Files\Microsoft Office\MEDIA\CAGCAT10\j0088542.wmf"/>
          <p:cNvPicPr/>
          <p:nvPr/>
        </p:nvPicPr>
        <p:blipFill>
          <a:blip r:embed="rId1"/>
          <a:stretch/>
        </p:blipFill>
        <p:spPr>
          <a:xfrm>
            <a:off x="2411280" y="5013360"/>
            <a:ext cx="4561200" cy="12794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Выбираем рецеп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Приготавливаем овощ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.Совместное приготовление сала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4.Дигустац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елаем сала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Улыбающееся лицо 5"/>
          <p:cNvSpPr/>
          <p:nvPr/>
        </p:nvSpPr>
        <p:spPr>
          <a:xfrm>
            <a:off x="-2124000" y="-1000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3" name="Picture 5" descr="C:\Program Files\Microsoft Office\MEDIA\CAGCAT10\j0149481.wmf"/>
          <p:cNvPicPr/>
          <p:nvPr/>
        </p:nvPicPr>
        <p:blipFill>
          <a:blip r:embed="rId1"/>
          <a:stretch/>
        </p:blipFill>
        <p:spPr>
          <a:xfrm>
            <a:off x="6516720" y="4549680"/>
            <a:ext cx="2143080" cy="2179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Готовим из соленого теста пряники: лепные печатные силуэт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Роспис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Выстав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Мастерск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6084720" y="414972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Откуда пришел картофел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Как хлеб раст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Танцуем и по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Развлеч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Program Files\Microsoft Office\MEDIA\CAGCAT10\j0088542.wmf"/>
          <p:cNvPicPr/>
          <p:nvPr/>
        </p:nvPicPr>
        <p:blipFill>
          <a:blip r:embed="rId1"/>
          <a:stretch/>
        </p:blipFill>
        <p:spPr>
          <a:xfrm>
            <a:off x="2292480" y="5013360"/>
            <a:ext cx="4559040" cy="57636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blinds dir="vert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 advTm="1000">
    <p:blinds dir="ver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1:08:33Z</dcterms:created>
  <dc:creator>user</dc:creator>
  <dc:description/>
  <dc:language>en-US</dc:language>
  <cp:lastModifiedBy>imc</cp:lastModifiedBy>
  <dcterms:modified xsi:type="dcterms:W3CDTF">2013-02-13T06:24:15Z</dcterms:modified>
  <cp:revision>13</cp:revision>
  <dc:subject/>
  <dc:title>Презентация PowerPoint</dc:title>
</cp:coreProperties>
</file>