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166-2042-4A9E-935C-4E0A456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707-95F0-4685-9613-6299854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265-AD10-40BF-91E1-BC7499AE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DC3-C579-4EE7-96E7-0A420484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F0E-538E-4A01-AD14-B8B82695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E7C-C99A-4B30-9F38-01957521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9EE-CD64-4DB5-98E7-701F3AE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A41-96CF-4F54-9EA3-0EA81EB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FCD-0F56-4FCD-BA0A-7E325E46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01E-8FF7-4C0D-A6A3-C3A2804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734-FF8A-423B-977E-4FC0031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4C8-0AC5-465D-A956-7CF3D21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5D810-2938-436A-AF70-36C4C46ABF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640" y="1036800"/>
            <a:ext cx="860904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 Б Д О У — 41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.КОВР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3110040"/>
            <a:ext cx="73800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 -   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С Е Н 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0360" y="4500720"/>
            <a:ext cx="676584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— первый месяц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изнаками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63720" y="2762280"/>
            <a:ext cx="3012840" cy="1195920"/>
            <a:chOff x="3663720" y="2762280"/>
            <a:chExt cx="3012840" cy="1195920"/>
          </a:xfrm>
        </p:grpSpPr>
        <p:grpSp>
          <p:nvGrpSpPr>
            <p:cNvPr id="87" name=""/>
            <p:cNvGrpSpPr/>
            <p:nvPr/>
          </p:nvGrpSpPr>
          <p:grpSpPr>
            <a:xfrm>
              <a:off x="3764160" y="2792520"/>
              <a:ext cx="295920" cy="1156320"/>
              <a:chOff x="3764160" y="2792520"/>
              <a:chExt cx="295920" cy="1156320"/>
            </a:xfrm>
          </p:grpSpPr>
          <p:sp>
            <p:nvSpPr>
              <p:cNvPr id="88" name=""/>
              <p:cNvSpPr/>
              <p:nvPr/>
            </p:nvSpPr>
            <p:spPr>
              <a:xfrm rot="20040000">
                <a:off x="392328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20040000">
                <a:off x="386460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0040000">
                <a:off x="399024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0040000">
                <a:off x="379692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143600" y="2792520"/>
              <a:ext cx="295920" cy="1156320"/>
              <a:chOff x="4143600" y="2792520"/>
              <a:chExt cx="295920" cy="1156320"/>
            </a:xfrm>
          </p:grpSpPr>
          <p:sp>
            <p:nvSpPr>
              <p:cNvPr id="93" name=""/>
              <p:cNvSpPr/>
              <p:nvPr/>
            </p:nvSpPr>
            <p:spPr>
              <a:xfrm rot="20040000">
                <a:off x="43027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040000">
                <a:off x="424404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040000">
                <a:off x="436968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040000">
                <a:off x="417636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30960" y="2762280"/>
              <a:ext cx="295920" cy="1156680"/>
              <a:chOff x="4530960" y="2762280"/>
              <a:chExt cx="295920" cy="1156680"/>
            </a:xfrm>
          </p:grpSpPr>
          <p:sp>
            <p:nvSpPr>
              <p:cNvPr id="98" name=""/>
              <p:cNvSpPr/>
              <p:nvPr/>
            </p:nvSpPr>
            <p:spPr>
              <a:xfrm rot="20040000">
                <a:off x="469008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040000">
                <a:off x="463140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040000">
                <a:off x="475740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040000">
                <a:off x="456372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910400" y="2762280"/>
              <a:ext cx="295920" cy="1156680"/>
              <a:chOff x="4910400" y="2762280"/>
              <a:chExt cx="295920" cy="1156680"/>
            </a:xfrm>
          </p:grpSpPr>
          <p:sp>
            <p:nvSpPr>
              <p:cNvPr id="103" name=""/>
              <p:cNvSpPr/>
              <p:nvPr/>
            </p:nvSpPr>
            <p:spPr>
              <a:xfrm rot="20040000">
                <a:off x="506952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040000">
                <a:off x="501084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040000">
                <a:off x="513684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040000">
                <a:off x="494316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920" y="2792520"/>
              <a:ext cx="297720" cy="1156320"/>
              <a:chOff x="5335920" y="2792520"/>
              <a:chExt cx="297720" cy="1156320"/>
            </a:xfrm>
          </p:grpSpPr>
          <p:sp>
            <p:nvSpPr>
              <p:cNvPr id="108" name=""/>
              <p:cNvSpPr/>
              <p:nvPr/>
            </p:nvSpPr>
            <p:spPr>
              <a:xfrm rot="20040000">
                <a:off x="54961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040000">
                <a:off x="543672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040000">
                <a:off x="556380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040000">
                <a:off x="536868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715360" y="2792520"/>
              <a:ext cx="295920" cy="1156320"/>
              <a:chOff x="5715360" y="2792520"/>
              <a:chExt cx="295920" cy="1156320"/>
            </a:xfrm>
          </p:grpSpPr>
          <p:sp>
            <p:nvSpPr>
              <p:cNvPr id="113" name=""/>
              <p:cNvSpPr/>
              <p:nvPr/>
            </p:nvSpPr>
            <p:spPr>
              <a:xfrm rot="20040000">
                <a:off x="5874840" y="345276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040000">
                <a:off x="5815800" y="31183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040000">
                <a:off x="5942160" y="37893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040000">
                <a:off x="5748480" y="27921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100920" y="2762280"/>
              <a:ext cx="296640" cy="1156680"/>
              <a:chOff x="6100920" y="2762280"/>
              <a:chExt cx="296640" cy="1156680"/>
            </a:xfrm>
          </p:grpSpPr>
          <p:sp>
            <p:nvSpPr>
              <p:cNvPr id="118" name=""/>
              <p:cNvSpPr/>
              <p:nvPr/>
            </p:nvSpPr>
            <p:spPr>
              <a:xfrm rot="20040000">
                <a:off x="6259320" y="342180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040000">
                <a:off x="6201000" y="30859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040000">
                <a:off x="6328440" y="3759120"/>
                <a:ext cx="35640" cy="159840"/>
              </a:xfrm>
              <a:custGeom>
                <a:avLst/>
                <a:gdLst>
                  <a:gd name="textAreaLeft" fmla="*/ 360 w 35640"/>
                  <a:gd name="textAreaRight" fmla="*/ 35280 w 3564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6120">
                    <a:moveTo>
                      <a:pt x="1080" y="0"/>
                    </a:moveTo>
                    <a:arcTo wR="1080" hR="1080" stAng="16200000" swAng="-5400000"/>
                    <a:lnTo>
                      <a:pt x="0" y="95040"/>
                    </a:lnTo>
                    <a:arcTo wR="1080" hR="1080" stAng="10800000" swAng="-5400000"/>
                    <a:lnTo>
                      <a:pt x="20520" y="96120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040000">
                <a:off x="6134040" y="276192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663720" y="2763000"/>
              <a:ext cx="3012840" cy="1195200"/>
              <a:chOff x="3663720" y="2763000"/>
              <a:chExt cx="3012840" cy="1195200"/>
            </a:xfrm>
          </p:grpSpPr>
          <p:sp>
            <p:nvSpPr>
              <p:cNvPr id="123" name=""/>
              <p:cNvSpPr/>
              <p:nvPr/>
            </p:nvSpPr>
            <p:spPr>
              <a:xfrm rot="20040000">
                <a:off x="6609600" y="342180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040000">
                <a:off x="6555240" y="30862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040000">
                <a:off x="3696840" y="37990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040000">
                <a:off x="6493320" y="2762280"/>
                <a:ext cx="33480" cy="15948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102026">
                    <a:moveTo>
                      <a:pt x="1080" y="0"/>
                    </a:moveTo>
                    <a:arcTo wR="1080" hR="1080" stAng="16200000" swAng="-5400000"/>
                    <a:lnTo>
                      <a:pt x="0" y="100946"/>
                    </a:lnTo>
                    <a:arcTo wR="1080" hR="1080" stAng="10800000" swAng="-5400000"/>
                    <a:lnTo>
                      <a:pt x="20520" y="102026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240000" y="1670040"/>
            <a:ext cx="3492360" cy="1028520"/>
            <a:chOff x="3240000" y="1670040"/>
            <a:chExt cx="3492360" cy="1028520"/>
          </a:xfrm>
        </p:grpSpPr>
        <p:sp>
          <p:nvSpPr>
            <p:cNvPr id="128" name=""/>
            <p:cNvSpPr/>
            <p:nvPr/>
          </p:nvSpPr>
          <p:spPr>
            <a:xfrm>
              <a:off x="4986360" y="1670040"/>
              <a:ext cx="1261080" cy="404280"/>
            </a:xfrm>
            <a:custGeom>
              <a:avLst/>
              <a:gdLst/>
              <a:ahLst/>
              <a:rect l="l" t="t" r="r" b="b"/>
              <a:pathLst>
                <a:path w="3507" h="1126">
                  <a:moveTo>
                    <a:pt x="0" y="388"/>
                  </a:moveTo>
                  <a:cubicBezTo>
                    <a:pt x="343" y="154"/>
                    <a:pt x="928" y="0"/>
                    <a:pt x="1593" y="0"/>
                  </a:cubicBezTo>
                  <a:cubicBezTo>
                    <a:pt x="2649" y="0"/>
                    <a:pt x="3506" y="390"/>
                    <a:pt x="3506" y="871"/>
                  </a:cubicBezTo>
                  <a:cubicBezTo>
                    <a:pt x="3506" y="959"/>
                    <a:pt x="3476" y="1044"/>
                    <a:pt x="3422" y="1125"/>
                  </a:cubicBezTo>
                  <a:lnTo>
                    <a:pt x="0" y="3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1240" y="2072520"/>
              <a:ext cx="951120" cy="621360"/>
            </a:xfrm>
            <a:custGeom>
              <a:avLst/>
              <a:gdLst/>
              <a:ahLst/>
              <a:rect l="l" t="t" r="r" b="b"/>
              <a:pathLst>
                <a:path w="2644" h="1730">
                  <a:moveTo>
                    <a:pt x="1206" y="0"/>
                  </a:moveTo>
                  <a:cubicBezTo>
                    <a:pt x="2059" y="152"/>
                    <a:pt x="2643" y="460"/>
                    <a:pt x="2643" y="815"/>
                  </a:cubicBezTo>
                  <a:cubicBezTo>
                    <a:pt x="2643" y="1319"/>
                    <a:pt x="1459" y="1729"/>
                    <a:pt x="0" y="1729"/>
                  </a:cubicBezTo>
                  <a:lnTo>
                    <a:pt x="120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0" y="2067840"/>
              <a:ext cx="853560" cy="629280"/>
            </a:xfrm>
            <a:custGeom>
              <a:avLst/>
              <a:gdLst/>
              <a:ahLst/>
              <a:rect l="l" t="t" r="r" b="b"/>
              <a:pathLst>
                <a:path w="2371" h="1751">
                  <a:moveTo>
                    <a:pt x="2370" y="1750"/>
                  </a:moveTo>
                  <a:cubicBezTo>
                    <a:pt x="2358" y="1750"/>
                    <a:pt x="2345" y="1750"/>
                    <a:pt x="2332" y="1750"/>
                  </a:cubicBezTo>
                  <a:cubicBezTo>
                    <a:pt x="1044" y="1750"/>
                    <a:pt x="0" y="1334"/>
                    <a:pt x="0" y="821"/>
                  </a:cubicBezTo>
                  <a:cubicBezTo>
                    <a:pt x="0" y="466"/>
                    <a:pt x="500" y="157"/>
                    <a:pt x="1235" y="0"/>
                  </a:cubicBezTo>
                  <a:lnTo>
                    <a:pt x="2370" y="175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9600" y="1720440"/>
              <a:ext cx="1360800" cy="348480"/>
            </a:xfrm>
            <a:custGeom>
              <a:avLst/>
              <a:gdLst/>
              <a:ahLst/>
              <a:rect l="l" t="t" r="r" b="b"/>
              <a:pathLst>
                <a:path w="3783" h="971">
                  <a:moveTo>
                    <a:pt x="125" y="970"/>
                  </a:moveTo>
                  <a:cubicBezTo>
                    <a:pt x="44" y="894"/>
                    <a:pt x="0" y="811"/>
                    <a:pt x="0" y="726"/>
                  </a:cubicBezTo>
                  <a:cubicBezTo>
                    <a:pt x="0" y="326"/>
                    <a:pt x="965" y="0"/>
                    <a:pt x="2156" y="0"/>
                  </a:cubicBezTo>
                  <a:cubicBezTo>
                    <a:pt x="2805" y="0"/>
                    <a:pt x="3386" y="97"/>
                    <a:pt x="3782" y="249"/>
                  </a:cubicBezTo>
                  <a:lnTo>
                    <a:pt x="125" y="97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74480" y="2695680"/>
              <a:ext cx="1709640" cy="1440"/>
            </a:xfrm>
            <a:custGeom>
              <a:avLst/>
              <a:gdLst/>
              <a:ahLst/>
              <a:rect l="l" t="t" r="r" b="b"/>
              <a:pathLst>
                <a:path w="4753" h="2">
                  <a:moveTo>
                    <a:pt x="4752" y="0"/>
                  </a:moveTo>
                  <a:lnTo>
                    <a:pt x="0" y="1"/>
                  </a:lnTo>
                  <a:lnTo>
                    <a:pt x="475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9200" y="1809360"/>
              <a:ext cx="2534400" cy="889200"/>
            </a:xfrm>
            <a:custGeom>
              <a:avLst/>
              <a:gdLst/>
              <a:ahLst/>
              <a:rect l="l" t="t" r="r" b="b"/>
              <a:pathLst>
                <a:path w="7045" h="2472">
                  <a:moveTo>
                    <a:pt x="1137" y="2458"/>
                  </a:moveTo>
                  <a:lnTo>
                    <a:pt x="5867" y="2458"/>
                  </a:lnTo>
                  <a:lnTo>
                    <a:pt x="7044" y="729"/>
                  </a:lnTo>
                  <a:lnTo>
                    <a:pt x="3635" y="0"/>
                  </a:lnTo>
                  <a:lnTo>
                    <a:pt x="0" y="729"/>
                  </a:lnTo>
                  <a:lnTo>
                    <a:pt x="1145" y="2471"/>
                  </a:lnTo>
                  <a:lnTo>
                    <a:pt x="1137" y="24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В О Щ 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2279160"/>
            <a:ext cx="86299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РАСТЕТ В ОГОР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ОВОЩИ МЫ ЗНА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03280" y="4140360"/>
            <a:ext cx="2553840" cy="2158560"/>
            <a:chOff x="1403280" y="4140360"/>
            <a:chExt cx="2553840" cy="2158560"/>
          </a:xfrm>
        </p:grpSpPr>
        <p:sp>
          <p:nvSpPr>
            <p:cNvPr id="137" name=""/>
            <p:cNvSpPr/>
            <p:nvPr/>
          </p:nvSpPr>
          <p:spPr>
            <a:xfrm>
              <a:off x="1403280" y="4140360"/>
              <a:ext cx="2506680" cy="2074320"/>
            </a:xfrm>
            <a:custGeom>
              <a:avLst/>
              <a:gdLst/>
              <a:ahLst/>
              <a:rect l="l" t="t" r="r" b="b"/>
              <a:pathLst>
                <a:path w="7458" h="6076">
                  <a:moveTo>
                    <a:pt x="4615" y="189"/>
                  </a:moveTo>
                  <a:cubicBezTo>
                    <a:pt x="6188" y="219"/>
                    <a:pt x="6573" y="744"/>
                    <a:pt x="7102" y="1473"/>
                  </a:cubicBezTo>
                  <a:cubicBezTo>
                    <a:pt x="7214" y="1566"/>
                    <a:pt x="7392" y="2445"/>
                    <a:pt x="7457" y="2811"/>
                  </a:cubicBezTo>
                  <a:cubicBezTo>
                    <a:pt x="7362" y="3912"/>
                    <a:pt x="6810" y="4506"/>
                    <a:pt x="6215" y="5148"/>
                  </a:cubicBezTo>
                  <a:cubicBezTo>
                    <a:pt x="5347" y="5823"/>
                    <a:pt x="4205" y="5970"/>
                    <a:pt x="3886" y="6075"/>
                  </a:cubicBezTo>
                  <a:cubicBezTo>
                    <a:pt x="2195" y="5883"/>
                    <a:pt x="1149" y="5406"/>
                    <a:pt x="953" y="4899"/>
                  </a:cubicBezTo>
                  <a:cubicBezTo>
                    <a:pt x="0" y="3552"/>
                    <a:pt x="513" y="2322"/>
                    <a:pt x="630" y="1971"/>
                  </a:cubicBezTo>
                  <a:cubicBezTo>
                    <a:pt x="857" y="1332"/>
                    <a:pt x="1253" y="1065"/>
                    <a:pt x="1704" y="831"/>
                  </a:cubicBezTo>
                  <a:cubicBezTo>
                    <a:pt x="1709" y="831"/>
                    <a:pt x="2457" y="0"/>
                    <a:pt x="3555" y="249"/>
                  </a:cubicBezTo>
                  <a:cubicBezTo>
                    <a:pt x="4322" y="45"/>
                    <a:pt x="4189" y="15"/>
                    <a:pt x="4615" y="189"/>
                  </a:cubicBezTo>
                </a:path>
              </a:pathLst>
            </a:custGeom>
            <a:solidFill>
              <a:srgbClr val="d23533"/>
            </a:solidFill>
            <a:ln w="9360">
              <a:solidFill>
                <a:srgbClr val="d235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6200" y="4275360"/>
              <a:ext cx="1202040" cy="694080"/>
            </a:xfrm>
            <a:custGeom>
              <a:avLst/>
              <a:gdLst/>
              <a:ahLst/>
              <a:rect l="l" t="t" r="r" b="b"/>
              <a:pathLst>
                <a:path w="3578" h="2032">
                  <a:moveTo>
                    <a:pt x="6" y="588"/>
                  </a:moveTo>
                  <a:lnTo>
                    <a:pt x="183" y="777"/>
                  </a:lnTo>
                  <a:lnTo>
                    <a:pt x="1103" y="705"/>
                  </a:lnTo>
                  <a:lnTo>
                    <a:pt x="986" y="915"/>
                  </a:lnTo>
                  <a:lnTo>
                    <a:pt x="1453" y="987"/>
                  </a:lnTo>
                  <a:lnTo>
                    <a:pt x="1352" y="1461"/>
                  </a:lnTo>
                  <a:lnTo>
                    <a:pt x="1478" y="2031"/>
                  </a:lnTo>
                  <a:lnTo>
                    <a:pt x="1565" y="1500"/>
                  </a:lnTo>
                  <a:lnTo>
                    <a:pt x="1882" y="1038"/>
                  </a:lnTo>
                  <a:lnTo>
                    <a:pt x="2095" y="1104"/>
                  </a:lnTo>
                  <a:lnTo>
                    <a:pt x="2491" y="1566"/>
                  </a:lnTo>
                  <a:lnTo>
                    <a:pt x="2556" y="1833"/>
                  </a:lnTo>
                  <a:lnTo>
                    <a:pt x="2581" y="1437"/>
                  </a:lnTo>
                  <a:lnTo>
                    <a:pt x="2480" y="906"/>
                  </a:lnTo>
                  <a:lnTo>
                    <a:pt x="3577" y="705"/>
                  </a:lnTo>
                  <a:lnTo>
                    <a:pt x="3132" y="462"/>
                  </a:lnTo>
                  <a:lnTo>
                    <a:pt x="2592" y="606"/>
                  </a:lnTo>
                  <a:lnTo>
                    <a:pt x="2373" y="849"/>
                  </a:lnTo>
                  <a:lnTo>
                    <a:pt x="2455" y="432"/>
                  </a:lnTo>
                  <a:lnTo>
                    <a:pt x="2354" y="39"/>
                  </a:lnTo>
                  <a:lnTo>
                    <a:pt x="2111" y="888"/>
                  </a:lnTo>
                  <a:lnTo>
                    <a:pt x="1999" y="0"/>
                  </a:lnTo>
                  <a:lnTo>
                    <a:pt x="1696" y="99"/>
                  </a:lnTo>
                  <a:lnTo>
                    <a:pt x="1958" y="921"/>
                  </a:lnTo>
                  <a:lnTo>
                    <a:pt x="1808" y="510"/>
                  </a:lnTo>
                  <a:lnTo>
                    <a:pt x="1579" y="411"/>
                  </a:lnTo>
                  <a:lnTo>
                    <a:pt x="1376" y="489"/>
                  </a:lnTo>
                  <a:lnTo>
                    <a:pt x="1221" y="483"/>
                  </a:lnTo>
                  <a:lnTo>
                    <a:pt x="535" y="489"/>
                  </a:lnTo>
                  <a:lnTo>
                    <a:pt x="0" y="384"/>
                  </a:lnTo>
                  <a:lnTo>
                    <a:pt x="6" y="588"/>
                  </a:lnTo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4200" y="4165920"/>
              <a:ext cx="2482920" cy="2133000"/>
            </a:xfrm>
            <a:custGeom>
              <a:avLst/>
              <a:gdLst/>
              <a:ahLst/>
              <a:rect l="l" t="t" r="r" b="b"/>
              <a:pathLst>
                <a:path w="7388" h="6250">
                  <a:moveTo>
                    <a:pt x="3927" y="60"/>
                  </a:moveTo>
                  <a:cubicBezTo>
                    <a:pt x="3927" y="96"/>
                    <a:pt x="3927" y="135"/>
                    <a:pt x="3927" y="171"/>
                  </a:cubicBezTo>
                  <a:cubicBezTo>
                    <a:pt x="3932" y="177"/>
                    <a:pt x="3938" y="183"/>
                    <a:pt x="3946" y="189"/>
                  </a:cubicBezTo>
                  <a:cubicBezTo>
                    <a:pt x="3954" y="195"/>
                    <a:pt x="3957" y="177"/>
                    <a:pt x="3962" y="171"/>
                  </a:cubicBezTo>
                  <a:cubicBezTo>
                    <a:pt x="3968" y="165"/>
                    <a:pt x="4022" y="0"/>
                    <a:pt x="4282" y="153"/>
                  </a:cubicBezTo>
                  <a:cubicBezTo>
                    <a:pt x="4282" y="165"/>
                    <a:pt x="4334" y="246"/>
                    <a:pt x="4132" y="396"/>
                  </a:cubicBezTo>
                  <a:cubicBezTo>
                    <a:pt x="4091" y="426"/>
                    <a:pt x="3968" y="513"/>
                    <a:pt x="3962" y="507"/>
                  </a:cubicBezTo>
                  <a:cubicBezTo>
                    <a:pt x="3957" y="501"/>
                    <a:pt x="3951" y="483"/>
                    <a:pt x="3946" y="468"/>
                  </a:cubicBezTo>
                  <a:cubicBezTo>
                    <a:pt x="3946" y="390"/>
                    <a:pt x="3946" y="309"/>
                    <a:pt x="3946" y="228"/>
                  </a:cubicBezTo>
                  <a:cubicBezTo>
                    <a:pt x="3941" y="222"/>
                    <a:pt x="3935" y="216"/>
                    <a:pt x="3927" y="210"/>
                  </a:cubicBezTo>
                  <a:cubicBezTo>
                    <a:pt x="3919" y="204"/>
                    <a:pt x="3809" y="594"/>
                    <a:pt x="3809" y="600"/>
                  </a:cubicBezTo>
                  <a:cubicBezTo>
                    <a:pt x="3809" y="606"/>
                    <a:pt x="3831" y="615"/>
                    <a:pt x="3839" y="609"/>
                  </a:cubicBezTo>
                  <a:cubicBezTo>
                    <a:pt x="3848" y="603"/>
                    <a:pt x="3889" y="456"/>
                    <a:pt x="3894" y="450"/>
                  </a:cubicBezTo>
                  <a:cubicBezTo>
                    <a:pt x="3905" y="474"/>
                    <a:pt x="3916" y="498"/>
                    <a:pt x="3927" y="525"/>
                  </a:cubicBezTo>
                  <a:cubicBezTo>
                    <a:pt x="3946" y="606"/>
                    <a:pt x="3962" y="687"/>
                    <a:pt x="3979" y="768"/>
                  </a:cubicBezTo>
                  <a:cubicBezTo>
                    <a:pt x="3979" y="804"/>
                    <a:pt x="3979" y="840"/>
                    <a:pt x="3979" y="879"/>
                  </a:cubicBezTo>
                  <a:cubicBezTo>
                    <a:pt x="3951" y="990"/>
                    <a:pt x="3924" y="1101"/>
                    <a:pt x="3894" y="1212"/>
                  </a:cubicBezTo>
                  <a:cubicBezTo>
                    <a:pt x="3837" y="1212"/>
                    <a:pt x="3782" y="1212"/>
                    <a:pt x="3725" y="1212"/>
                  </a:cubicBezTo>
                  <a:cubicBezTo>
                    <a:pt x="3725" y="1200"/>
                    <a:pt x="3771" y="984"/>
                    <a:pt x="3777" y="933"/>
                  </a:cubicBezTo>
                  <a:cubicBezTo>
                    <a:pt x="3799" y="840"/>
                    <a:pt x="3845" y="615"/>
                    <a:pt x="3839" y="609"/>
                  </a:cubicBezTo>
                  <a:cubicBezTo>
                    <a:pt x="3834" y="603"/>
                    <a:pt x="3815" y="612"/>
                    <a:pt x="3809" y="618"/>
                  </a:cubicBezTo>
                  <a:cubicBezTo>
                    <a:pt x="3771" y="774"/>
                    <a:pt x="3681" y="1095"/>
                    <a:pt x="3676" y="1101"/>
                  </a:cubicBezTo>
                  <a:cubicBezTo>
                    <a:pt x="3659" y="1083"/>
                    <a:pt x="3607" y="366"/>
                    <a:pt x="3607" y="303"/>
                  </a:cubicBezTo>
                  <a:cubicBezTo>
                    <a:pt x="3566" y="171"/>
                    <a:pt x="3433" y="276"/>
                    <a:pt x="3427" y="285"/>
                  </a:cubicBezTo>
                  <a:cubicBezTo>
                    <a:pt x="3422" y="294"/>
                    <a:pt x="3430" y="375"/>
                    <a:pt x="3424" y="375"/>
                  </a:cubicBezTo>
                  <a:cubicBezTo>
                    <a:pt x="3370" y="318"/>
                    <a:pt x="3416" y="216"/>
                    <a:pt x="3422" y="210"/>
                  </a:cubicBezTo>
                  <a:cubicBezTo>
                    <a:pt x="3454" y="186"/>
                    <a:pt x="3687" y="93"/>
                    <a:pt x="3741" y="78"/>
                  </a:cubicBezTo>
                  <a:cubicBezTo>
                    <a:pt x="3796" y="63"/>
                    <a:pt x="3867" y="66"/>
                    <a:pt x="3927" y="60"/>
                  </a:cubicBezTo>
                  <a:close/>
                  <a:moveTo>
                    <a:pt x="3288" y="711"/>
                  </a:moveTo>
                  <a:cubicBezTo>
                    <a:pt x="2542" y="819"/>
                    <a:pt x="1914" y="738"/>
                    <a:pt x="1682" y="711"/>
                  </a:cubicBezTo>
                  <a:cubicBezTo>
                    <a:pt x="1658" y="597"/>
                    <a:pt x="2054" y="375"/>
                    <a:pt x="2155" y="321"/>
                  </a:cubicBezTo>
                  <a:cubicBezTo>
                    <a:pt x="2854" y="102"/>
                    <a:pt x="3310" y="321"/>
                    <a:pt x="3288" y="711"/>
                  </a:cubicBezTo>
                  <a:close/>
                  <a:moveTo>
                    <a:pt x="5098" y="222"/>
                  </a:moveTo>
                  <a:cubicBezTo>
                    <a:pt x="5374" y="264"/>
                    <a:pt x="6786" y="444"/>
                    <a:pt x="7136" y="2292"/>
                  </a:cubicBezTo>
                  <a:cubicBezTo>
                    <a:pt x="7152" y="2445"/>
                    <a:pt x="7116" y="2961"/>
                    <a:pt x="7084" y="3351"/>
                  </a:cubicBezTo>
                  <a:cubicBezTo>
                    <a:pt x="6811" y="1914"/>
                    <a:pt x="5787" y="1107"/>
                    <a:pt x="5598" y="972"/>
                  </a:cubicBezTo>
                  <a:cubicBezTo>
                    <a:pt x="5475" y="909"/>
                    <a:pt x="4705" y="504"/>
                    <a:pt x="4012" y="990"/>
                  </a:cubicBezTo>
                  <a:cubicBezTo>
                    <a:pt x="4012" y="966"/>
                    <a:pt x="4012" y="942"/>
                    <a:pt x="4012" y="915"/>
                  </a:cubicBezTo>
                  <a:cubicBezTo>
                    <a:pt x="4017" y="855"/>
                    <a:pt x="4022" y="792"/>
                    <a:pt x="4028" y="729"/>
                  </a:cubicBezTo>
                  <a:cubicBezTo>
                    <a:pt x="4121" y="528"/>
                    <a:pt x="4320" y="288"/>
                    <a:pt x="4653" y="210"/>
                  </a:cubicBezTo>
                  <a:cubicBezTo>
                    <a:pt x="4801" y="204"/>
                    <a:pt x="4954" y="228"/>
                    <a:pt x="5098" y="222"/>
                  </a:cubicBezTo>
                  <a:close/>
                  <a:moveTo>
                    <a:pt x="3555" y="375"/>
                  </a:moveTo>
                  <a:cubicBezTo>
                    <a:pt x="3555" y="555"/>
                    <a:pt x="3580" y="1176"/>
                    <a:pt x="3575" y="1176"/>
                  </a:cubicBezTo>
                  <a:cubicBezTo>
                    <a:pt x="3558" y="1158"/>
                    <a:pt x="3539" y="1140"/>
                    <a:pt x="3523" y="1119"/>
                  </a:cubicBezTo>
                  <a:cubicBezTo>
                    <a:pt x="3506" y="1098"/>
                    <a:pt x="3512" y="1083"/>
                    <a:pt x="3506" y="1065"/>
                  </a:cubicBezTo>
                  <a:cubicBezTo>
                    <a:pt x="3495" y="1002"/>
                    <a:pt x="3452" y="555"/>
                    <a:pt x="3438" y="396"/>
                  </a:cubicBezTo>
                  <a:cubicBezTo>
                    <a:pt x="3468" y="390"/>
                    <a:pt x="3545" y="375"/>
                    <a:pt x="3555" y="375"/>
                  </a:cubicBezTo>
                  <a:close/>
                  <a:moveTo>
                    <a:pt x="3337" y="414"/>
                  </a:moveTo>
                  <a:cubicBezTo>
                    <a:pt x="3342" y="414"/>
                    <a:pt x="3383" y="456"/>
                    <a:pt x="3389" y="468"/>
                  </a:cubicBezTo>
                  <a:cubicBezTo>
                    <a:pt x="3394" y="579"/>
                    <a:pt x="3419" y="684"/>
                    <a:pt x="3411" y="795"/>
                  </a:cubicBezTo>
                  <a:cubicBezTo>
                    <a:pt x="3405" y="795"/>
                    <a:pt x="3378" y="780"/>
                    <a:pt x="3373" y="768"/>
                  </a:cubicBezTo>
                  <a:cubicBezTo>
                    <a:pt x="3269" y="567"/>
                    <a:pt x="3337" y="477"/>
                    <a:pt x="3337" y="414"/>
                  </a:cubicBezTo>
                  <a:close/>
                  <a:moveTo>
                    <a:pt x="1595" y="771"/>
                  </a:moveTo>
                  <a:cubicBezTo>
                    <a:pt x="1674" y="789"/>
                    <a:pt x="1898" y="828"/>
                    <a:pt x="1936" y="861"/>
                  </a:cubicBezTo>
                  <a:cubicBezTo>
                    <a:pt x="1914" y="990"/>
                    <a:pt x="1633" y="918"/>
                    <a:pt x="1595" y="918"/>
                  </a:cubicBezTo>
                  <a:cubicBezTo>
                    <a:pt x="1546" y="897"/>
                    <a:pt x="1584" y="756"/>
                    <a:pt x="1595" y="771"/>
                  </a:cubicBezTo>
                  <a:close/>
                  <a:moveTo>
                    <a:pt x="3102" y="768"/>
                  </a:moveTo>
                  <a:cubicBezTo>
                    <a:pt x="3146" y="780"/>
                    <a:pt x="3190" y="792"/>
                    <a:pt x="3236" y="804"/>
                  </a:cubicBezTo>
                  <a:cubicBezTo>
                    <a:pt x="3394" y="909"/>
                    <a:pt x="3517" y="1209"/>
                    <a:pt x="3490" y="1269"/>
                  </a:cubicBezTo>
                  <a:cubicBezTo>
                    <a:pt x="3427" y="1239"/>
                    <a:pt x="2960" y="891"/>
                    <a:pt x="2949" y="879"/>
                  </a:cubicBezTo>
                  <a:cubicBezTo>
                    <a:pt x="2971" y="855"/>
                    <a:pt x="3083" y="774"/>
                    <a:pt x="3102" y="768"/>
                  </a:cubicBezTo>
                  <a:close/>
                  <a:moveTo>
                    <a:pt x="2447" y="819"/>
                  </a:moveTo>
                  <a:cubicBezTo>
                    <a:pt x="2526" y="819"/>
                    <a:pt x="2807" y="879"/>
                    <a:pt x="2881" y="915"/>
                  </a:cubicBezTo>
                  <a:cubicBezTo>
                    <a:pt x="2949" y="972"/>
                    <a:pt x="3018" y="1026"/>
                    <a:pt x="3086" y="1083"/>
                  </a:cubicBezTo>
                  <a:cubicBezTo>
                    <a:pt x="3124" y="1125"/>
                    <a:pt x="3162" y="1170"/>
                    <a:pt x="3203" y="1212"/>
                  </a:cubicBezTo>
                  <a:cubicBezTo>
                    <a:pt x="3214" y="1245"/>
                    <a:pt x="3225" y="1275"/>
                    <a:pt x="3236" y="1305"/>
                  </a:cubicBezTo>
                  <a:cubicBezTo>
                    <a:pt x="3231" y="1311"/>
                    <a:pt x="3187" y="1335"/>
                    <a:pt x="3181" y="1341"/>
                  </a:cubicBezTo>
                  <a:cubicBezTo>
                    <a:pt x="3028" y="1341"/>
                    <a:pt x="3007" y="1176"/>
                    <a:pt x="2998" y="1176"/>
                  </a:cubicBezTo>
                  <a:cubicBezTo>
                    <a:pt x="2881" y="819"/>
                    <a:pt x="2054" y="1128"/>
                    <a:pt x="1819" y="1083"/>
                  </a:cubicBezTo>
                  <a:cubicBezTo>
                    <a:pt x="1431" y="897"/>
                    <a:pt x="1767" y="990"/>
                    <a:pt x="1819" y="990"/>
                  </a:cubicBezTo>
                  <a:cubicBezTo>
                    <a:pt x="2021" y="927"/>
                    <a:pt x="2245" y="882"/>
                    <a:pt x="2447" y="819"/>
                  </a:cubicBezTo>
                  <a:close/>
                  <a:moveTo>
                    <a:pt x="4569" y="840"/>
                  </a:moveTo>
                  <a:cubicBezTo>
                    <a:pt x="4653" y="867"/>
                    <a:pt x="4738" y="891"/>
                    <a:pt x="4823" y="915"/>
                  </a:cubicBezTo>
                  <a:cubicBezTo>
                    <a:pt x="4872" y="939"/>
                    <a:pt x="5014" y="966"/>
                    <a:pt x="5066" y="993"/>
                  </a:cubicBezTo>
                  <a:cubicBezTo>
                    <a:pt x="5098" y="1005"/>
                    <a:pt x="4331" y="1029"/>
                    <a:pt x="4148" y="1176"/>
                  </a:cubicBezTo>
                  <a:cubicBezTo>
                    <a:pt x="4107" y="1182"/>
                    <a:pt x="3995" y="1194"/>
                    <a:pt x="3979" y="1194"/>
                  </a:cubicBezTo>
                  <a:cubicBezTo>
                    <a:pt x="4009" y="1056"/>
                    <a:pt x="4350" y="831"/>
                    <a:pt x="4569" y="840"/>
                  </a:cubicBezTo>
                  <a:close/>
                  <a:moveTo>
                    <a:pt x="2663" y="1101"/>
                  </a:moveTo>
                  <a:cubicBezTo>
                    <a:pt x="2712" y="1101"/>
                    <a:pt x="2837" y="1125"/>
                    <a:pt x="2848" y="1140"/>
                  </a:cubicBezTo>
                  <a:cubicBezTo>
                    <a:pt x="2859" y="1155"/>
                    <a:pt x="2927" y="1188"/>
                    <a:pt x="2933" y="1194"/>
                  </a:cubicBezTo>
                  <a:cubicBezTo>
                    <a:pt x="2832" y="1194"/>
                    <a:pt x="2652" y="1209"/>
                    <a:pt x="2551" y="1209"/>
                  </a:cubicBezTo>
                  <a:cubicBezTo>
                    <a:pt x="2545" y="1215"/>
                    <a:pt x="2646" y="1119"/>
                    <a:pt x="2663" y="1101"/>
                  </a:cubicBezTo>
                  <a:close/>
                  <a:moveTo>
                    <a:pt x="3405" y="1305"/>
                  </a:moveTo>
                  <a:cubicBezTo>
                    <a:pt x="3422" y="1305"/>
                    <a:pt x="3438" y="1305"/>
                    <a:pt x="3454" y="1305"/>
                  </a:cubicBezTo>
                  <a:cubicBezTo>
                    <a:pt x="3454" y="1317"/>
                    <a:pt x="3444" y="1368"/>
                    <a:pt x="3438" y="1380"/>
                  </a:cubicBezTo>
                  <a:cubicBezTo>
                    <a:pt x="3433" y="1392"/>
                    <a:pt x="3389" y="1410"/>
                    <a:pt x="3389" y="1419"/>
                  </a:cubicBezTo>
                  <a:cubicBezTo>
                    <a:pt x="3367" y="1443"/>
                    <a:pt x="2963" y="1806"/>
                    <a:pt x="3045" y="2277"/>
                  </a:cubicBezTo>
                  <a:cubicBezTo>
                    <a:pt x="2919" y="2175"/>
                    <a:pt x="2903" y="1602"/>
                    <a:pt x="2998" y="1437"/>
                  </a:cubicBezTo>
                  <a:cubicBezTo>
                    <a:pt x="3012" y="1431"/>
                    <a:pt x="3236" y="1356"/>
                    <a:pt x="3269" y="1344"/>
                  </a:cubicBezTo>
                  <a:cubicBezTo>
                    <a:pt x="3282" y="1338"/>
                    <a:pt x="3370" y="1314"/>
                    <a:pt x="3405" y="1305"/>
                  </a:cubicBezTo>
                  <a:close/>
                  <a:moveTo>
                    <a:pt x="3591" y="1305"/>
                  </a:moveTo>
                  <a:cubicBezTo>
                    <a:pt x="3681" y="1305"/>
                    <a:pt x="3771" y="1305"/>
                    <a:pt x="3861" y="1305"/>
                  </a:cubicBezTo>
                  <a:cubicBezTo>
                    <a:pt x="3878" y="1311"/>
                    <a:pt x="4009" y="1335"/>
                    <a:pt x="4063" y="1530"/>
                  </a:cubicBezTo>
                  <a:cubicBezTo>
                    <a:pt x="4134" y="1779"/>
                    <a:pt x="4080" y="2097"/>
                    <a:pt x="4102" y="2097"/>
                  </a:cubicBezTo>
                  <a:cubicBezTo>
                    <a:pt x="4001" y="1692"/>
                    <a:pt x="3812" y="1428"/>
                    <a:pt x="3591" y="1380"/>
                  </a:cubicBezTo>
                  <a:cubicBezTo>
                    <a:pt x="3575" y="1380"/>
                    <a:pt x="3558" y="1380"/>
                    <a:pt x="3539" y="1380"/>
                  </a:cubicBezTo>
                  <a:cubicBezTo>
                    <a:pt x="3539" y="1368"/>
                    <a:pt x="3539" y="1356"/>
                    <a:pt x="3539" y="1344"/>
                  </a:cubicBezTo>
                  <a:cubicBezTo>
                    <a:pt x="3555" y="1332"/>
                    <a:pt x="3575" y="1320"/>
                    <a:pt x="3591" y="1305"/>
                  </a:cubicBezTo>
                  <a:close/>
                  <a:moveTo>
                    <a:pt x="4872" y="1848"/>
                  </a:moveTo>
                  <a:cubicBezTo>
                    <a:pt x="4896" y="1875"/>
                    <a:pt x="5969" y="3117"/>
                    <a:pt x="5385" y="4689"/>
                  </a:cubicBezTo>
                  <a:cubicBezTo>
                    <a:pt x="5396" y="4701"/>
                    <a:pt x="5328" y="4656"/>
                    <a:pt x="5322" y="4653"/>
                  </a:cubicBezTo>
                  <a:cubicBezTo>
                    <a:pt x="5863" y="3270"/>
                    <a:pt x="4823" y="1896"/>
                    <a:pt x="4820" y="1896"/>
                  </a:cubicBezTo>
                  <a:cubicBezTo>
                    <a:pt x="4817" y="1896"/>
                    <a:pt x="4874" y="1848"/>
                    <a:pt x="4872" y="1848"/>
                  </a:cubicBezTo>
                  <a:close/>
                  <a:moveTo>
                    <a:pt x="3809" y="6"/>
                  </a:moveTo>
                  <a:cubicBezTo>
                    <a:pt x="3905" y="6"/>
                    <a:pt x="4001" y="6"/>
                    <a:pt x="4096" y="6"/>
                  </a:cubicBezTo>
                  <a:cubicBezTo>
                    <a:pt x="4197" y="36"/>
                    <a:pt x="4298" y="66"/>
                    <a:pt x="4402" y="99"/>
                  </a:cubicBezTo>
                  <a:cubicBezTo>
                    <a:pt x="4722" y="135"/>
                    <a:pt x="5041" y="171"/>
                    <a:pt x="5363" y="210"/>
                  </a:cubicBezTo>
                  <a:cubicBezTo>
                    <a:pt x="7029" y="633"/>
                    <a:pt x="7136" y="1971"/>
                    <a:pt x="7187" y="2127"/>
                  </a:cubicBezTo>
                  <a:cubicBezTo>
                    <a:pt x="7387" y="2598"/>
                    <a:pt x="7097" y="3450"/>
                    <a:pt x="7018" y="3834"/>
                  </a:cubicBezTo>
                  <a:cubicBezTo>
                    <a:pt x="6933" y="4026"/>
                    <a:pt x="5896" y="6249"/>
                    <a:pt x="2903" y="5976"/>
                  </a:cubicBezTo>
                  <a:cubicBezTo>
                    <a:pt x="2889" y="5976"/>
                    <a:pt x="2906" y="5898"/>
                    <a:pt x="2903" y="5901"/>
                  </a:cubicBezTo>
                  <a:cubicBezTo>
                    <a:pt x="2966" y="5901"/>
                    <a:pt x="3039" y="5916"/>
                    <a:pt x="3102" y="5916"/>
                  </a:cubicBezTo>
                  <a:cubicBezTo>
                    <a:pt x="3108" y="5922"/>
                    <a:pt x="4713" y="5697"/>
                    <a:pt x="4719" y="5697"/>
                  </a:cubicBezTo>
                  <a:cubicBezTo>
                    <a:pt x="4760" y="5658"/>
                    <a:pt x="5287" y="4707"/>
                    <a:pt x="5328" y="4668"/>
                  </a:cubicBezTo>
                  <a:cubicBezTo>
                    <a:pt x="5328" y="4662"/>
                    <a:pt x="5385" y="4683"/>
                    <a:pt x="5371" y="4695"/>
                  </a:cubicBezTo>
                  <a:cubicBezTo>
                    <a:pt x="5358" y="4707"/>
                    <a:pt x="4877" y="5664"/>
                    <a:pt x="4872" y="5676"/>
                  </a:cubicBezTo>
                  <a:cubicBezTo>
                    <a:pt x="4866" y="5688"/>
                    <a:pt x="5382" y="5505"/>
                    <a:pt x="6060" y="4986"/>
                  </a:cubicBezTo>
                  <a:cubicBezTo>
                    <a:pt x="6677" y="4383"/>
                    <a:pt x="6909" y="3897"/>
                    <a:pt x="6914" y="3873"/>
                  </a:cubicBezTo>
                  <a:cubicBezTo>
                    <a:pt x="6920" y="3675"/>
                    <a:pt x="6925" y="3477"/>
                    <a:pt x="6933" y="3276"/>
                  </a:cubicBezTo>
                  <a:cubicBezTo>
                    <a:pt x="6898" y="2406"/>
                    <a:pt x="5937" y="1269"/>
                    <a:pt x="5920" y="1251"/>
                  </a:cubicBezTo>
                  <a:cubicBezTo>
                    <a:pt x="5920" y="1245"/>
                    <a:pt x="5920" y="1239"/>
                    <a:pt x="5920" y="1230"/>
                  </a:cubicBezTo>
                  <a:cubicBezTo>
                    <a:pt x="5920" y="1221"/>
                    <a:pt x="5565" y="1038"/>
                    <a:pt x="5396" y="954"/>
                  </a:cubicBezTo>
                  <a:cubicBezTo>
                    <a:pt x="5284" y="921"/>
                    <a:pt x="5014" y="807"/>
                    <a:pt x="4861" y="852"/>
                  </a:cubicBezTo>
                  <a:cubicBezTo>
                    <a:pt x="4864" y="858"/>
                    <a:pt x="5019" y="939"/>
                    <a:pt x="5077" y="972"/>
                  </a:cubicBezTo>
                  <a:cubicBezTo>
                    <a:pt x="5104" y="978"/>
                    <a:pt x="5290" y="1059"/>
                    <a:pt x="5295" y="1065"/>
                  </a:cubicBezTo>
                  <a:cubicBezTo>
                    <a:pt x="5300" y="1071"/>
                    <a:pt x="4296" y="1164"/>
                    <a:pt x="4216" y="1194"/>
                  </a:cubicBezTo>
                  <a:cubicBezTo>
                    <a:pt x="4186" y="1224"/>
                    <a:pt x="4132" y="1311"/>
                    <a:pt x="4132" y="1326"/>
                  </a:cubicBezTo>
                  <a:cubicBezTo>
                    <a:pt x="4154" y="1344"/>
                    <a:pt x="4798" y="1614"/>
                    <a:pt x="4872" y="1848"/>
                  </a:cubicBezTo>
                  <a:cubicBezTo>
                    <a:pt x="4874" y="1848"/>
                    <a:pt x="4820" y="1896"/>
                    <a:pt x="4823" y="1896"/>
                  </a:cubicBezTo>
                  <a:cubicBezTo>
                    <a:pt x="4806" y="1878"/>
                    <a:pt x="4164" y="1413"/>
                    <a:pt x="4148" y="1398"/>
                  </a:cubicBezTo>
                  <a:cubicBezTo>
                    <a:pt x="4132" y="1398"/>
                    <a:pt x="4115" y="1398"/>
                    <a:pt x="4096" y="1398"/>
                  </a:cubicBezTo>
                  <a:cubicBezTo>
                    <a:pt x="4096" y="1410"/>
                    <a:pt x="4244" y="1725"/>
                    <a:pt x="4107" y="2232"/>
                  </a:cubicBezTo>
                  <a:cubicBezTo>
                    <a:pt x="4001" y="1800"/>
                    <a:pt x="3646" y="1467"/>
                    <a:pt x="3591" y="1437"/>
                  </a:cubicBezTo>
                  <a:cubicBezTo>
                    <a:pt x="3523" y="1383"/>
                    <a:pt x="3444" y="1443"/>
                    <a:pt x="3422" y="1455"/>
                  </a:cubicBezTo>
                  <a:cubicBezTo>
                    <a:pt x="3383" y="1497"/>
                    <a:pt x="3009" y="1755"/>
                    <a:pt x="3119" y="2421"/>
                  </a:cubicBezTo>
                  <a:cubicBezTo>
                    <a:pt x="2897" y="2385"/>
                    <a:pt x="2807" y="1560"/>
                    <a:pt x="2933" y="1398"/>
                  </a:cubicBezTo>
                  <a:cubicBezTo>
                    <a:pt x="2845" y="1425"/>
                    <a:pt x="2865" y="1398"/>
                    <a:pt x="2832" y="1398"/>
                  </a:cubicBezTo>
                  <a:cubicBezTo>
                    <a:pt x="2660" y="1422"/>
                    <a:pt x="1961" y="2211"/>
                    <a:pt x="1950" y="2226"/>
                  </a:cubicBezTo>
                  <a:cubicBezTo>
                    <a:pt x="1944" y="2220"/>
                    <a:pt x="1922" y="2199"/>
                    <a:pt x="1917" y="2193"/>
                  </a:cubicBezTo>
                  <a:cubicBezTo>
                    <a:pt x="1912" y="2187"/>
                    <a:pt x="2379" y="1521"/>
                    <a:pt x="2815" y="1269"/>
                  </a:cubicBezTo>
                  <a:cubicBezTo>
                    <a:pt x="2179" y="1350"/>
                    <a:pt x="2594" y="1095"/>
                    <a:pt x="2594" y="1083"/>
                  </a:cubicBezTo>
                  <a:cubicBezTo>
                    <a:pt x="2515" y="1083"/>
                    <a:pt x="2439" y="1083"/>
                    <a:pt x="2359" y="1083"/>
                  </a:cubicBezTo>
                  <a:cubicBezTo>
                    <a:pt x="2264" y="1095"/>
                    <a:pt x="1914" y="1194"/>
                    <a:pt x="1701" y="1101"/>
                  </a:cubicBezTo>
                  <a:cubicBezTo>
                    <a:pt x="1690" y="1089"/>
                    <a:pt x="1518" y="873"/>
                    <a:pt x="1395" y="915"/>
                  </a:cubicBezTo>
                  <a:cubicBezTo>
                    <a:pt x="1226" y="876"/>
                    <a:pt x="565" y="1617"/>
                    <a:pt x="535" y="1710"/>
                  </a:cubicBezTo>
                  <a:cubicBezTo>
                    <a:pt x="68" y="2496"/>
                    <a:pt x="295" y="3711"/>
                    <a:pt x="333" y="3927"/>
                  </a:cubicBezTo>
                  <a:cubicBezTo>
                    <a:pt x="773" y="5196"/>
                    <a:pt x="1379" y="5382"/>
                    <a:pt x="1969" y="5601"/>
                  </a:cubicBezTo>
                  <a:cubicBezTo>
                    <a:pt x="1019" y="3228"/>
                    <a:pt x="1912" y="2199"/>
                    <a:pt x="1917" y="2193"/>
                  </a:cubicBezTo>
                  <a:cubicBezTo>
                    <a:pt x="1922" y="2187"/>
                    <a:pt x="1942" y="2220"/>
                    <a:pt x="1947" y="2226"/>
                  </a:cubicBezTo>
                  <a:cubicBezTo>
                    <a:pt x="1953" y="2232"/>
                    <a:pt x="1180" y="3372"/>
                    <a:pt x="2108" y="5613"/>
                  </a:cubicBezTo>
                  <a:cubicBezTo>
                    <a:pt x="2174" y="5688"/>
                    <a:pt x="2783" y="5865"/>
                    <a:pt x="2889" y="5895"/>
                  </a:cubicBezTo>
                  <a:cubicBezTo>
                    <a:pt x="2903" y="5901"/>
                    <a:pt x="2895" y="5976"/>
                    <a:pt x="2897" y="5982"/>
                  </a:cubicBezTo>
                  <a:cubicBezTo>
                    <a:pt x="2499" y="5877"/>
                    <a:pt x="1983" y="5724"/>
                    <a:pt x="1581" y="5619"/>
                  </a:cubicBezTo>
                  <a:cubicBezTo>
                    <a:pt x="328" y="4977"/>
                    <a:pt x="270" y="3966"/>
                    <a:pt x="216" y="3780"/>
                  </a:cubicBezTo>
                  <a:cubicBezTo>
                    <a:pt x="186" y="3561"/>
                    <a:pt x="0" y="2472"/>
                    <a:pt x="486" y="1623"/>
                  </a:cubicBezTo>
                  <a:cubicBezTo>
                    <a:pt x="1166" y="783"/>
                    <a:pt x="1480" y="735"/>
                    <a:pt x="1480" y="729"/>
                  </a:cubicBezTo>
                  <a:cubicBezTo>
                    <a:pt x="1521" y="687"/>
                    <a:pt x="1761" y="363"/>
                    <a:pt x="2021" y="303"/>
                  </a:cubicBezTo>
                  <a:cubicBezTo>
                    <a:pt x="2212" y="240"/>
                    <a:pt x="2403" y="177"/>
                    <a:pt x="2594" y="117"/>
                  </a:cubicBezTo>
                  <a:cubicBezTo>
                    <a:pt x="2736" y="117"/>
                    <a:pt x="3015" y="39"/>
                    <a:pt x="3304" y="171"/>
                  </a:cubicBezTo>
                  <a:cubicBezTo>
                    <a:pt x="3474" y="117"/>
                    <a:pt x="3512" y="72"/>
                    <a:pt x="3809" y="6"/>
                  </a:cubicBezTo>
                  <a:close/>
                </a:path>
              </a:pathLst>
            </a:custGeom>
            <a:solidFill>
              <a:srgbClr val="331813"/>
            </a:solidFill>
            <a:ln w="9360">
              <a:solidFill>
                <a:srgbClr val="3318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0720" y="4361040"/>
            <a:ext cx="2877480" cy="2117160"/>
            <a:chOff x="4500720" y="4361040"/>
            <a:chExt cx="2877480" cy="2117160"/>
          </a:xfrm>
        </p:grpSpPr>
        <p:grpSp>
          <p:nvGrpSpPr>
            <p:cNvPr id="141" name=""/>
            <p:cNvGrpSpPr/>
            <p:nvPr/>
          </p:nvGrpSpPr>
          <p:grpSpPr>
            <a:xfrm>
              <a:off x="5617440" y="4361040"/>
              <a:ext cx="1411920" cy="867960"/>
              <a:chOff x="5617440" y="4361040"/>
              <a:chExt cx="1411920" cy="867960"/>
            </a:xfrm>
          </p:grpSpPr>
          <p:sp>
            <p:nvSpPr>
              <p:cNvPr id="142" name=""/>
              <p:cNvSpPr/>
              <p:nvPr/>
            </p:nvSpPr>
            <p:spPr>
              <a:xfrm>
                <a:off x="5633280" y="4401000"/>
                <a:ext cx="1277640" cy="828000"/>
              </a:xfrm>
              <a:custGeom>
                <a:avLst/>
                <a:gdLst/>
                <a:ahLst/>
                <a:rect l="l" t="t" r="r" b="b"/>
                <a:pathLst>
                  <a:path w="3860" h="2558">
                    <a:moveTo>
                      <a:pt x="2616" y="2391"/>
                    </a:moveTo>
                    <a:cubicBezTo>
                      <a:pt x="2017" y="2391"/>
                      <a:pt x="48" y="2557"/>
                      <a:pt x="711" y="2190"/>
                    </a:cubicBezTo>
                    <a:cubicBezTo>
                      <a:pt x="763" y="2158"/>
                      <a:pt x="246" y="2079"/>
                      <a:pt x="156" y="1933"/>
                    </a:cubicBezTo>
                    <a:cubicBezTo>
                      <a:pt x="541" y="1769"/>
                      <a:pt x="393" y="1801"/>
                      <a:pt x="58" y="1461"/>
                    </a:cubicBezTo>
                    <a:cubicBezTo>
                      <a:pt x="536" y="1454"/>
                      <a:pt x="286" y="1402"/>
                      <a:pt x="245" y="1272"/>
                    </a:cubicBezTo>
                    <a:cubicBezTo>
                      <a:pt x="217" y="1176"/>
                      <a:pt x="461" y="1284"/>
                      <a:pt x="459" y="1204"/>
                    </a:cubicBezTo>
                    <a:cubicBezTo>
                      <a:pt x="475" y="932"/>
                      <a:pt x="367" y="945"/>
                      <a:pt x="365" y="883"/>
                    </a:cubicBezTo>
                    <a:cubicBezTo>
                      <a:pt x="363" y="821"/>
                      <a:pt x="73" y="747"/>
                      <a:pt x="51" y="577"/>
                    </a:cubicBezTo>
                    <a:cubicBezTo>
                      <a:pt x="0" y="352"/>
                      <a:pt x="294" y="398"/>
                      <a:pt x="343" y="87"/>
                    </a:cubicBezTo>
                    <a:cubicBezTo>
                      <a:pt x="938" y="49"/>
                      <a:pt x="790" y="351"/>
                      <a:pt x="1033" y="332"/>
                    </a:cubicBezTo>
                    <a:cubicBezTo>
                      <a:pt x="1571" y="299"/>
                      <a:pt x="1738" y="239"/>
                      <a:pt x="1782" y="224"/>
                    </a:cubicBezTo>
                    <a:cubicBezTo>
                      <a:pt x="1963" y="155"/>
                      <a:pt x="1924" y="257"/>
                      <a:pt x="2067" y="219"/>
                    </a:cubicBezTo>
                    <a:cubicBezTo>
                      <a:pt x="2148" y="201"/>
                      <a:pt x="2372" y="0"/>
                      <a:pt x="2441" y="48"/>
                    </a:cubicBezTo>
                    <a:cubicBezTo>
                      <a:pt x="2683" y="208"/>
                      <a:pt x="2246" y="185"/>
                      <a:pt x="2926" y="189"/>
                    </a:cubicBezTo>
                    <a:cubicBezTo>
                      <a:pt x="2894" y="393"/>
                      <a:pt x="2542" y="512"/>
                      <a:pt x="2287" y="643"/>
                    </a:cubicBezTo>
                    <a:cubicBezTo>
                      <a:pt x="2236" y="669"/>
                      <a:pt x="2237" y="705"/>
                      <a:pt x="2496" y="789"/>
                    </a:cubicBezTo>
                    <a:cubicBezTo>
                      <a:pt x="2537" y="800"/>
                      <a:pt x="2901" y="299"/>
                      <a:pt x="3097" y="303"/>
                    </a:cubicBezTo>
                    <a:cubicBezTo>
                      <a:pt x="3582" y="307"/>
                      <a:pt x="3660" y="136"/>
                      <a:pt x="3859" y="338"/>
                    </a:cubicBezTo>
                    <a:cubicBezTo>
                      <a:pt x="3666" y="519"/>
                      <a:pt x="3810" y="623"/>
                      <a:pt x="3786" y="622"/>
                    </a:cubicBezTo>
                    <a:cubicBezTo>
                      <a:pt x="3450" y="671"/>
                      <a:pt x="3259" y="915"/>
                      <a:pt x="3284" y="1173"/>
                    </a:cubicBezTo>
                    <a:cubicBezTo>
                      <a:pt x="3292" y="1220"/>
                      <a:pt x="2998" y="1207"/>
                      <a:pt x="3088" y="1289"/>
                    </a:cubicBezTo>
                    <a:cubicBezTo>
                      <a:pt x="3380" y="1547"/>
                      <a:pt x="3236" y="1494"/>
                      <a:pt x="3146" y="1690"/>
                    </a:cubicBezTo>
                    <a:cubicBezTo>
                      <a:pt x="3110" y="1784"/>
                      <a:pt x="3430" y="1828"/>
                      <a:pt x="3273" y="1874"/>
                    </a:cubicBezTo>
                    <a:cubicBezTo>
                      <a:pt x="2696" y="2054"/>
                      <a:pt x="2685" y="2324"/>
                      <a:pt x="2616" y="2391"/>
                    </a:cubicBezTo>
                  </a:path>
                </a:pathLst>
              </a:custGeom>
              <a:solidFill>
                <a:srgbClr val="33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17440" y="4361040"/>
                <a:ext cx="1411920" cy="851400"/>
              </a:xfrm>
              <a:custGeom>
                <a:avLst/>
                <a:gdLst/>
                <a:ahLst/>
                <a:rect l="l" t="t" r="r" b="b"/>
                <a:pathLst>
                  <a:path w="4265" h="2627">
                    <a:moveTo>
                      <a:pt x="450" y="250"/>
                    </a:moveTo>
                    <a:cubicBezTo>
                      <a:pt x="502" y="314"/>
                      <a:pt x="460" y="564"/>
                      <a:pt x="671" y="750"/>
                    </a:cubicBezTo>
                    <a:cubicBezTo>
                      <a:pt x="660" y="751"/>
                      <a:pt x="437" y="865"/>
                      <a:pt x="437" y="947"/>
                    </a:cubicBezTo>
                    <a:cubicBezTo>
                      <a:pt x="190" y="970"/>
                      <a:pt x="157" y="618"/>
                      <a:pt x="161" y="578"/>
                    </a:cubicBezTo>
                    <a:cubicBezTo>
                      <a:pt x="146" y="519"/>
                      <a:pt x="349" y="429"/>
                      <a:pt x="410" y="430"/>
                    </a:cubicBezTo>
                    <a:cubicBezTo>
                      <a:pt x="417" y="418"/>
                      <a:pt x="438" y="248"/>
                      <a:pt x="450" y="250"/>
                    </a:cubicBezTo>
                    <a:close/>
                    <a:moveTo>
                      <a:pt x="502" y="232"/>
                    </a:moveTo>
                    <a:cubicBezTo>
                      <a:pt x="506" y="228"/>
                      <a:pt x="513" y="208"/>
                      <a:pt x="512" y="222"/>
                    </a:cubicBezTo>
                    <a:cubicBezTo>
                      <a:pt x="874" y="262"/>
                      <a:pt x="969" y="463"/>
                      <a:pt x="974" y="477"/>
                    </a:cubicBezTo>
                    <a:cubicBezTo>
                      <a:pt x="941" y="508"/>
                      <a:pt x="800" y="608"/>
                      <a:pt x="833" y="726"/>
                    </a:cubicBezTo>
                    <a:cubicBezTo>
                      <a:pt x="830" y="725"/>
                      <a:pt x="777" y="698"/>
                      <a:pt x="760" y="682"/>
                    </a:cubicBezTo>
                    <a:cubicBezTo>
                      <a:pt x="585" y="605"/>
                      <a:pt x="505" y="242"/>
                      <a:pt x="502" y="232"/>
                    </a:cubicBezTo>
                    <a:close/>
                    <a:moveTo>
                      <a:pt x="680" y="850"/>
                    </a:moveTo>
                    <a:cubicBezTo>
                      <a:pt x="932" y="873"/>
                      <a:pt x="951" y="723"/>
                      <a:pt x="945" y="715"/>
                    </a:cubicBezTo>
                    <a:cubicBezTo>
                      <a:pt x="888" y="537"/>
                      <a:pt x="1105" y="488"/>
                      <a:pt x="1112" y="491"/>
                    </a:cubicBezTo>
                    <a:cubicBezTo>
                      <a:pt x="1213" y="750"/>
                      <a:pt x="1382" y="345"/>
                      <a:pt x="1604" y="433"/>
                    </a:cubicBezTo>
                    <a:cubicBezTo>
                      <a:pt x="1604" y="442"/>
                      <a:pt x="1713" y="447"/>
                      <a:pt x="1766" y="441"/>
                    </a:cubicBezTo>
                    <a:cubicBezTo>
                      <a:pt x="1841" y="316"/>
                      <a:pt x="2050" y="392"/>
                      <a:pt x="2062" y="400"/>
                    </a:cubicBezTo>
                    <a:cubicBezTo>
                      <a:pt x="2073" y="407"/>
                      <a:pt x="2214" y="340"/>
                      <a:pt x="2263" y="321"/>
                    </a:cubicBezTo>
                    <a:cubicBezTo>
                      <a:pt x="2501" y="78"/>
                      <a:pt x="2576" y="339"/>
                      <a:pt x="2595" y="335"/>
                    </a:cubicBezTo>
                    <a:cubicBezTo>
                      <a:pt x="2614" y="331"/>
                      <a:pt x="2730" y="333"/>
                      <a:pt x="2740" y="337"/>
                    </a:cubicBezTo>
                    <a:cubicBezTo>
                      <a:pt x="2727" y="349"/>
                      <a:pt x="2714" y="362"/>
                      <a:pt x="2699" y="376"/>
                    </a:cubicBezTo>
                    <a:cubicBezTo>
                      <a:pt x="2613" y="418"/>
                      <a:pt x="2560" y="450"/>
                      <a:pt x="2468" y="493"/>
                    </a:cubicBezTo>
                    <a:cubicBezTo>
                      <a:pt x="2406" y="498"/>
                      <a:pt x="1700" y="614"/>
                      <a:pt x="1649" y="623"/>
                    </a:cubicBezTo>
                    <a:cubicBezTo>
                      <a:pt x="1577" y="619"/>
                      <a:pt x="1072" y="844"/>
                      <a:pt x="1110" y="844"/>
                    </a:cubicBezTo>
                    <a:cubicBezTo>
                      <a:pt x="1141" y="883"/>
                      <a:pt x="1581" y="670"/>
                      <a:pt x="1631" y="663"/>
                    </a:cubicBezTo>
                    <a:cubicBezTo>
                      <a:pt x="1669" y="640"/>
                      <a:pt x="2536" y="520"/>
                      <a:pt x="2585" y="495"/>
                    </a:cubicBezTo>
                    <a:cubicBezTo>
                      <a:pt x="2634" y="471"/>
                      <a:pt x="2687" y="406"/>
                      <a:pt x="2741" y="387"/>
                    </a:cubicBezTo>
                    <a:cubicBezTo>
                      <a:pt x="3259" y="322"/>
                      <a:pt x="2479" y="588"/>
                      <a:pt x="2571" y="659"/>
                    </a:cubicBezTo>
                    <a:cubicBezTo>
                      <a:pt x="2552" y="664"/>
                      <a:pt x="2193" y="712"/>
                      <a:pt x="2173" y="722"/>
                    </a:cubicBezTo>
                    <a:cubicBezTo>
                      <a:pt x="2116" y="731"/>
                      <a:pt x="1990" y="752"/>
                      <a:pt x="1985" y="747"/>
                    </a:cubicBezTo>
                    <a:cubicBezTo>
                      <a:pt x="1946" y="752"/>
                      <a:pt x="1733" y="730"/>
                      <a:pt x="1827" y="858"/>
                    </a:cubicBezTo>
                    <a:cubicBezTo>
                      <a:pt x="1787" y="979"/>
                      <a:pt x="1572" y="921"/>
                      <a:pt x="1533" y="917"/>
                    </a:cubicBezTo>
                    <a:cubicBezTo>
                      <a:pt x="1414" y="867"/>
                      <a:pt x="1309" y="1013"/>
                      <a:pt x="1298" y="1024"/>
                    </a:cubicBezTo>
                    <a:cubicBezTo>
                      <a:pt x="985" y="1005"/>
                      <a:pt x="1254" y="1281"/>
                      <a:pt x="1256" y="1288"/>
                    </a:cubicBezTo>
                    <a:cubicBezTo>
                      <a:pt x="1258" y="1295"/>
                      <a:pt x="1201" y="1368"/>
                      <a:pt x="1175" y="1393"/>
                    </a:cubicBezTo>
                    <a:cubicBezTo>
                      <a:pt x="1162" y="1397"/>
                      <a:pt x="934" y="1506"/>
                      <a:pt x="956" y="1576"/>
                    </a:cubicBezTo>
                    <a:cubicBezTo>
                      <a:pt x="1265" y="1622"/>
                      <a:pt x="1169" y="1760"/>
                      <a:pt x="1065" y="1842"/>
                    </a:cubicBezTo>
                    <a:cubicBezTo>
                      <a:pt x="994" y="1978"/>
                      <a:pt x="1197" y="1961"/>
                      <a:pt x="1223" y="1954"/>
                    </a:cubicBezTo>
                    <a:cubicBezTo>
                      <a:pt x="1276" y="1940"/>
                      <a:pt x="1586" y="1761"/>
                      <a:pt x="1596" y="1920"/>
                    </a:cubicBezTo>
                    <a:cubicBezTo>
                      <a:pt x="1615" y="1956"/>
                      <a:pt x="1648" y="2341"/>
                      <a:pt x="2175" y="2505"/>
                    </a:cubicBezTo>
                    <a:cubicBezTo>
                      <a:pt x="2180" y="2510"/>
                      <a:pt x="2166" y="2528"/>
                      <a:pt x="2154" y="2526"/>
                    </a:cubicBezTo>
                    <a:cubicBezTo>
                      <a:pt x="1935" y="2489"/>
                      <a:pt x="1220" y="2336"/>
                      <a:pt x="952" y="2169"/>
                    </a:cubicBezTo>
                    <a:cubicBezTo>
                      <a:pt x="646" y="1984"/>
                      <a:pt x="720" y="1460"/>
                      <a:pt x="726" y="1368"/>
                    </a:cubicBezTo>
                    <a:cubicBezTo>
                      <a:pt x="752" y="1320"/>
                      <a:pt x="831" y="1053"/>
                      <a:pt x="836" y="1034"/>
                    </a:cubicBezTo>
                    <a:cubicBezTo>
                      <a:pt x="841" y="1034"/>
                      <a:pt x="1070" y="896"/>
                      <a:pt x="1100" y="881"/>
                    </a:cubicBezTo>
                    <a:cubicBezTo>
                      <a:pt x="1165" y="851"/>
                      <a:pt x="1115" y="817"/>
                      <a:pt x="1006" y="870"/>
                    </a:cubicBezTo>
                    <a:cubicBezTo>
                      <a:pt x="997" y="870"/>
                      <a:pt x="810" y="1018"/>
                      <a:pt x="804" y="1019"/>
                    </a:cubicBezTo>
                    <a:cubicBezTo>
                      <a:pt x="798" y="1043"/>
                      <a:pt x="698" y="1349"/>
                      <a:pt x="653" y="1483"/>
                    </a:cubicBezTo>
                    <a:cubicBezTo>
                      <a:pt x="653" y="1539"/>
                      <a:pt x="584" y="1974"/>
                      <a:pt x="911" y="2208"/>
                    </a:cubicBezTo>
                    <a:cubicBezTo>
                      <a:pt x="996" y="2245"/>
                      <a:pt x="1440" y="2467"/>
                      <a:pt x="1881" y="2518"/>
                    </a:cubicBezTo>
                    <a:cubicBezTo>
                      <a:pt x="1872" y="2523"/>
                      <a:pt x="1872" y="2523"/>
                      <a:pt x="1868" y="2530"/>
                    </a:cubicBezTo>
                    <a:cubicBezTo>
                      <a:pt x="1600" y="2533"/>
                      <a:pt x="1344" y="2531"/>
                      <a:pt x="1067" y="2533"/>
                    </a:cubicBezTo>
                    <a:cubicBezTo>
                      <a:pt x="1040" y="2523"/>
                      <a:pt x="369" y="2492"/>
                      <a:pt x="793" y="2349"/>
                    </a:cubicBezTo>
                    <a:cubicBezTo>
                      <a:pt x="785" y="2334"/>
                      <a:pt x="779" y="2317"/>
                      <a:pt x="773" y="2300"/>
                    </a:cubicBezTo>
                    <a:cubicBezTo>
                      <a:pt x="637" y="2252"/>
                      <a:pt x="507" y="2204"/>
                      <a:pt x="374" y="2158"/>
                    </a:cubicBezTo>
                    <a:cubicBezTo>
                      <a:pt x="86" y="2047"/>
                      <a:pt x="402" y="1990"/>
                      <a:pt x="453" y="2013"/>
                    </a:cubicBezTo>
                    <a:cubicBezTo>
                      <a:pt x="476" y="1996"/>
                      <a:pt x="565" y="1984"/>
                      <a:pt x="509" y="1965"/>
                    </a:cubicBezTo>
                    <a:cubicBezTo>
                      <a:pt x="501" y="1944"/>
                      <a:pt x="182" y="1672"/>
                      <a:pt x="222" y="1647"/>
                    </a:cubicBezTo>
                    <a:cubicBezTo>
                      <a:pt x="226" y="1593"/>
                      <a:pt x="340" y="1579"/>
                      <a:pt x="417" y="1578"/>
                    </a:cubicBezTo>
                    <a:cubicBezTo>
                      <a:pt x="441" y="1546"/>
                      <a:pt x="350" y="1396"/>
                      <a:pt x="356" y="1381"/>
                    </a:cubicBezTo>
                    <a:cubicBezTo>
                      <a:pt x="362" y="1366"/>
                      <a:pt x="542" y="1399"/>
                      <a:pt x="569" y="1368"/>
                    </a:cubicBezTo>
                    <a:cubicBezTo>
                      <a:pt x="594" y="1258"/>
                      <a:pt x="469" y="1095"/>
                      <a:pt x="465" y="1075"/>
                    </a:cubicBezTo>
                    <a:cubicBezTo>
                      <a:pt x="496" y="927"/>
                      <a:pt x="618" y="846"/>
                      <a:pt x="680" y="850"/>
                    </a:cubicBezTo>
                    <a:close/>
                    <a:moveTo>
                      <a:pt x="1201" y="1117"/>
                    </a:moveTo>
                    <a:cubicBezTo>
                      <a:pt x="1266" y="1046"/>
                      <a:pt x="1385" y="1105"/>
                      <a:pt x="1453" y="1099"/>
                    </a:cubicBezTo>
                    <a:cubicBezTo>
                      <a:pt x="1571" y="1131"/>
                      <a:pt x="1975" y="1232"/>
                      <a:pt x="1969" y="1306"/>
                    </a:cubicBezTo>
                    <a:cubicBezTo>
                      <a:pt x="1975" y="1323"/>
                      <a:pt x="2079" y="1387"/>
                      <a:pt x="2090" y="1386"/>
                    </a:cubicBezTo>
                    <a:cubicBezTo>
                      <a:pt x="2140" y="1379"/>
                      <a:pt x="2396" y="1307"/>
                      <a:pt x="2559" y="1611"/>
                    </a:cubicBezTo>
                    <a:cubicBezTo>
                      <a:pt x="2613" y="1633"/>
                      <a:pt x="2755" y="1715"/>
                      <a:pt x="2842" y="1869"/>
                    </a:cubicBezTo>
                    <a:cubicBezTo>
                      <a:pt x="2844" y="1926"/>
                      <a:pt x="2820" y="2159"/>
                      <a:pt x="2808" y="2216"/>
                    </a:cubicBezTo>
                    <a:cubicBezTo>
                      <a:pt x="2797" y="2241"/>
                      <a:pt x="2706" y="2425"/>
                      <a:pt x="2698" y="2436"/>
                    </a:cubicBezTo>
                    <a:cubicBezTo>
                      <a:pt x="2686" y="2384"/>
                      <a:pt x="2613" y="2116"/>
                      <a:pt x="2588" y="2077"/>
                    </a:cubicBezTo>
                    <a:cubicBezTo>
                      <a:pt x="2486" y="1764"/>
                      <a:pt x="2040" y="1603"/>
                      <a:pt x="1988" y="1580"/>
                    </a:cubicBezTo>
                    <a:cubicBezTo>
                      <a:pt x="1896" y="1540"/>
                      <a:pt x="1350" y="1366"/>
                      <a:pt x="1201" y="1117"/>
                    </a:cubicBezTo>
                    <a:close/>
                    <a:moveTo>
                      <a:pt x="1510" y="952"/>
                    </a:moveTo>
                    <a:cubicBezTo>
                      <a:pt x="1573" y="997"/>
                      <a:pt x="1734" y="1034"/>
                      <a:pt x="2041" y="986"/>
                    </a:cubicBezTo>
                    <a:cubicBezTo>
                      <a:pt x="2095" y="1007"/>
                      <a:pt x="2513" y="1272"/>
                      <a:pt x="2560" y="1322"/>
                    </a:cubicBezTo>
                    <a:cubicBezTo>
                      <a:pt x="2584" y="1364"/>
                      <a:pt x="2755" y="1619"/>
                      <a:pt x="2769" y="1647"/>
                    </a:cubicBezTo>
                    <a:cubicBezTo>
                      <a:pt x="2775" y="1650"/>
                      <a:pt x="2636" y="1583"/>
                      <a:pt x="2592" y="1584"/>
                    </a:cubicBezTo>
                    <a:cubicBezTo>
                      <a:pt x="2493" y="1314"/>
                      <a:pt x="2139" y="1352"/>
                      <a:pt x="2126" y="1356"/>
                    </a:cubicBezTo>
                    <a:cubicBezTo>
                      <a:pt x="2113" y="1360"/>
                      <a:pt x="2048" y="1308"/>
                      <a:pt x="2025" y="1298"/>
                    </a:cubicBezTo>
                    <a:cubicBezTo>
                      <a:pt x="1960" y="1150"/>
                      <a:pt x="1547" y="1104"/>
                      <a:pt x="1478" y="1080"/>
                    </a:cubicBezTo>
                    <a:cubicBezTo>
                      <a:pt x="1289" y="1023"/>
                      <a:pt x="1494" y="954"/>
                      <a:pt x="1510" y="952"/>
                    </a:cubicBezTo>
                    <a:close/>
                    <a:moveTo>
                      <a:pt x="1099" y="1521"/>
                    </a:moveTo>
                    <a:cubicBezTo>
                      <a:pt x="1108" y="1508"/>
                      <a:pt x="1334" y="1368"/>
                      <a:pt x="1342" y="1366"/>
                    </a:cubicBezTo>
                    <a:cubicBezTo>
                      <a:pt x="1349" y="1363"/>
                      <a:pt x="1928" y="1582"/>
                      <a:pt x="1947" y="1592"/>
                    </a:cubicBezTo>
                    <a:cubicBezTo>
                      <a:pt x="2313" y="1752"/>
                      <a:pt x="2501" y="2060"/>
                      <a:pt x="2513" y="2062"/>
                    </a:cubicBezTo>
                    <a:cubicBezTo>
                      <a:pt x="2521" y="2091"/>
                      <a:pt x="2626" y="2387"/>
                      <a:pt x="2561" y="2426"/>
                    </a:cubicBezTo>
                    <a:cubicBezTo>
                      <a:pt x="2537" y="2413"/>
                      <a:pt x="2459" y="2351"/>
                      <a:pt x="2448" y="2334"/>
                    </a:cubicBezTo>
                    <a:cubicBezTo>
                      <a:pt x="2404" y="2308"/>
                      <a:pt x="2249" y="2215"/>
                      <a:pt x="2212" y="2200"/>
                    </a:cubicBezTo>
                    <a:cubicBezTo>
                      <a:pt x="2175" y="2186"/>
                      <a:pt x="1892" y="2197"/>
                      <a:pt x="1839" y="2015"/>
                    </a:cubicBezTo>
                    <a:cubicBezTo>
                      <a:pt x="1790" y="1984"/>
                      <a:pt x="1747" y="1953"/>
                      <a:pt x="1696" y="1924"/>
                    </a:cubicBezTo>
                    <a:cubicBezTo>
                      <a:pt x="1623" y="1725"/>
                      <a:pt x="1416" y="1828"/>
                      <a:pt x="1387" y="1828"/>
                    </a:cubicBezTo>
                    <a:cubicBezTo>
                      <a:pt x="1119" y="2004"/>
                      <a:pt x="1145" y="1856"/>
                      <a:pt x="1139" y="1839"/>
                    </a:cubicBezTo>
                    <a:cubicBezTo>
                      <a:pt x="1396" y="1656"/>
                      <a:pt x="1041" y="1540"/>
                      <a:pt x="1099" y="1521"/>
                    </a:cubicBezTo>
                    <a:close/>
                    <a:moveTo>
                      <a:pt x="2214" y="797"/>
                    </a:moveTo>
                    <a:cubicBezTo>
                      <a:pt x="2223" y="788"/>
                      <a:pt x="2358" y="795"/>
                      <a:pt x="2371" y="870"/>
                    </a:cubicBezTo>
                    <a:cubicBezTo>
                      <a:pt x="2435" y="895"/>
                      <a:pt x="2509" y="924"/>
                      <a:pt x="2571" y="952"/>
                    </a:cubicBezTo>
                    <a:cubicBezTo>
                      <a:pt x="2584" y="948"/>
                      <a:pt x="2688" y="989"/>
                      <a:pt x="2702" y="1004"/>
                    </a:cubicBezTo>
                    <a:cubicBezTo>
                      <a:pt x="2719" y="1042"/>
                      <a:pt x="2673" y="1150"/>
                      <a:pt x="2760" y="1199"/>
                    </a:cubicBezTo>
                    <a:cubicBezTo>
                      <a:pt x="2953" y="1214"/>
                      <a:pt x="3069" y="1204"/>
                      <a:pt x="3057" y="1416"/>
                    </a:cubicBezTo>
                    <a:cubicBezTo>
                      <a:pt x="3036" y="1463"/>
                      <a:pt x="3182" y="1497"/>
                      <a:pt x="3214" y="1507"/>
                    </a:cubicBezTo>
                    <a:cubicBezTo>
                      <a:pt x="3232" y="1558"/>
                      <a:pt x="3308" y="1649"/>
                      <a:pt x="3188" y="1751"/>
                    </a:cubicBezTo>
                    <a:cubicBezTo>
                      <a:pt x="3173" y="1751"/>
                      <a:pt x="2998" y="1838"/>
                      <a:pt x="3188" y="1874"/>
                    </a:cubicBezTo>
                    <a:cubicBezTo>
                      <a:pt x="3199" y="1882"/>
                      <a:pt x="3317" y="1960"/>
                      <a:pt x="3278" y="1998"/>
                    </a:cubicBezTo>
                    <a:cubicBezTo>
                      <a:pt x="3247" y="2023"/>
                      <a:pt x="3004" y="2138"/>
                      <a:pt x="2967" y="2150"/>
                    </a:cubicBezTo>
                    <a:cubicBezTo>
                      <a:pt x="2931" y="2162"/>
                      <a:pt x="2872" y="2159"/>
                      <a:pt x="2869" y="2158"/>
                    </a:cubicBezTo>
                    <a:cubicBezTo>
                      <a:pt x="2885" y="2074"/>
                      <a:pt x="2900" y="1992"/>
                      <a:pt x="2914" y="1910"/>
                    </a:cubicBezTo>
                    <a:cubicBezTo>
                      <a:pt x="2908" y="1869"/>
                      <a:pt x="2906" y="1830"/>
                      <a:pt x="2897" y="1789"/>
                    </a:cubicBezTo>
                    <a:cubicBezTo>
                      <a:pt x="2865" y="1706"/>
                      <a:pt x="2830" y="1616"/>
                      <a:pt x="2788" y="1532"/>
                    </a:cubicBezTo>
                    <a:cubicBezTo>
                      <a:pt x="2772" y="1502"/>
                      <a:pt x="2637" y="1317"/>
                      <a:pt x="2610" y="1298"/>
                    </a:cubicBezTo>
                    <a:cubicBezTo>
                      <a:pt x="2570" y="1259"/>
                      <a:pt x="2058" y="896"/>
                      <a:pt x="1886" y="860"/>
                    </a:cubicBezTo>
                    <a:cubicBezTo>
                      <a:pt x="1855" y="804"/>
                      <a:pt x="2022" y="762"/>
                      <a:pt x="2214" y="797"/>
                    </a:cubicBezTo>
                    <a:close/>
                    <a:moveTo>
                      <a:pt x="3137" y="499"/>
                    </a:moveTo>
                    <a:cubicBezTo>
                      <a:pt x="3183" y="482"/>
                      <a:pt x="3517" y="394"/>
                      <a:pt x="3576" y="406"/>
                    </a:cubicBezTo>
                    <a:cubicBezTo>
                      <a:pt x="3677" y="396"/>
                      <a:pt x="3712" y="430"/>
                      <a:pt x="3663" y="446"/>
                    </a:cubicBezTo>
                    <a:cubicBezTo>
                      <a:pt x="3340" y="573"/>
                      <a:pt x="2964" y="802"/>
                      <a:pt x="2829" y="978"/>
                    </a:cubicBezTo>
                    <a:cubicBezTo>
                      <a:pt x="2487" y="904"/>
                      <a:pt x="2724" y="828"/>
                      <a:pt x="2752" y="778"/>
                    </a:cubicBezTo>
                    <a:cubicBezTo>
                      <a:pt x="2817" y="665"/>
                      <a:pt x="3129" y="502"/>
                      <a:pt x="3137" y="499"/>
                    </a:cubicBezTo>
                    <a:close/>
                    <a:moveTo>
                      <a:pt x="1689" y="1986"/>
                    </a:moveTo>
                    <a:cubicBezTo>
                      <a:pt x="1692" y="1978"/>
                      <a:pt x="1773" y="2033"/>
                      <a:pt x="1780" y="2045"/>
                    </a:cubicBezTo>
                    <a:cubicBezTo>
                      <a:pt x="1846" y="2173"/>
                      <a:pt x="2151" y="2250"/>
                      <a:pt x="2221" y="2260"/>
                    </a:cubicBezTo>
                    <a:cubicBezTo>
                      <a:pt x="2261" y="2281"/>
                      <a:pt x="2385" y="2345"/>
                      <a:pt x="2402" y="2360"/>
                    </a:cubicBezTo>
                    <a:cubicBezTo>
                      <a:pt x="2430" y="2398"/>
                      <a:pt x="2458" y="2444"/>
                      <a:pt x="2485" y="2481"/>
                    </a:cubicBezTo>
                    <a:cubicBezTo>
                      <a:pt x="2475" y="2486"/>
                      <a:pt x="2467" y="2494"/>
                      <a:pt x="2465" y="2505"/>
                    </a:cubicBezTo>
                    <a:cubicBezTo>
                      <a:pt x="2428" y="2508"/>
                      <a:pt x="2402" y="2515"/>
                      <a:pt x="2370" y="2523"/>
                    </a:cubicBezTo>
                    <a:cubicBezTo>
                      <a:pt x="1904" y="2378"/>
                      <a:pt x="1819" y="2253"/>
                      <a:pt x="1817" y="2247"/>
                    </a:cubicBezTo>
                    <a:cubicBezTo>
                      <a:pt x="1814" y="2240"/>
                      <a:pt x="1662" y="2030"/>
                      <a:pt x="1689" y="1986"/>
                    </a:cubicBezTo>
                    <a:close/>
                    <a:moveTo>
                      <a:pt x="2919" y="955"/>
                    </a:moveTo>
                    <a:cubicBezTo>
                      <a:pt x="2967" y="909"/>
                      <a:pt x="3144" y="757"/>
                      <a:pt x="3186" y="726"/>
                    </a:cubicBezTo>
                    <a:cubicBezTo>
                      <a:pt x="3287" y="670"/>
                      <a:pt x="3393" y="618"/>
                      <a:pt x="3495" y="561"/>
                    </a:cubicBezTo>
                    <a:cubicBezTo>
                      <a:pt x="3557" y="539"/>
                      <a:pt x="3620" y="514"/>
                      <a:pt x="3684" y="489"/>
                    </a:cubicBezTo>
                    <a:cubicBezTo>
                      <a:pt x="3719" y="424"/>
                      <a:pt x="4073" y="394"/>
                      <a:pt x="3817" y="539"/>
                    </a:cubicBezTo>
                    <a:cubicBezTo>
                      <a:pt x="3795" y="565"/>
                      <a:pt x="3628" y="634"/>
                      <a:pt x="3794" y="708"/>
                    </a:cubicBezTo>
                    <a:cubicBezTo>
                      <a:pt x="3760" y="736"/>
                      <a:pt x="3728" y="767"/>
                      <a:pt x="3693" y="800"/>
                    </a:cubicBezTo>
                    <a:cubicBezTo>
                      <a:pt x="3684" y="800"/>
                      <a:pt x="3675" y="799"/>
                      <a:pt x="3668" y="802"/>
                    </a:cubicBezTo>
                    <a:cubicBezTo>
                      <a:pt x="3660" y="805"/>
                      <a:pt x="3640" y="815"/>
                      <a:pt x="3626" y="815"/>
                    </a:cubicBezTo>
                    <a:cubicBezTo>
                      <a:pt x="3592" y="834"/>
                      <a:pt x="3192" y="1071"/>
                      <a:pt x="3296" y="1182"/>
                    </a:cubicBezTo>
                    <a:cubicBezTo>
                      <a:pt x="3301" y="1214"/>
                      <a:pt x="3306" y="1300"/>
                      <a:pt x="3300" y="1310"/>
                    </a:cubicBezTo>
                    <a:cubicBezTo>
                      <a:pt x="3295" y="1320"/>
                      <a:pt x="3189" y="1362"/>
                      <a:pt x="3180" y="1362"/>
                    </a:cubicBezTo>
                    <a:cubicBezTo>
                      <a:pt x="3163" y="1332"/>
                      <a:pt x="3108" y="1249"/>
                      <a:pt x="3102" y="1231"/>
                    </a:cubicBezTo>
                    <a:cubicBezTo>
                      <a:pt x="3032" y="1207"/>
                      <a:pt x="2967" y="1178"/>
                      <a:pt x="2903" y="1153"/>
                    </a:cubicBezTo>
                    <a:cubicBezTo>
                      <a:pt x="2757" y="1101"/>
                      <a:pt x="2904" y="978"/>
                      <a:pt x="2919" y="955"/>
                    </a:cubicBezTo>
                    <a:close/>
                    <a:moveTo>
                      <a:pt x="348" y="216"/>
                    </a:moveTo>
                    <a:cubicBezTo>
                      <a:pt x="445" y="122"/>
                      <a:pt x="848" y="269"/>
                      <a:pt x="894" y="285"/>
                    </a:cubicBezTo>
                    <a:cubicBezTo>
                      <a:pt x="952" y="334"/>
                      <a:pt x="1010" y="383"/>
                      <a:pt x="1073" y="432"/>
                    </a:cubicBezTo>
                    <a:cubicBezTo>
                      <a:pt x="1121" y="436"/>
                      <a:pt x="1166" y="439"/>
                      <a:pt x="1217" y="444"/>
                    </a:cubicBezTo>
                    <a:cubicBezTo>
                      <a:pt x="1225" y="441"/>
                      <a:pt x="1445" y="326"/>
                      <a:pt x="1467" y="323"/>
                    </a:cubicBezTo>
                    <a:cubicBezTo>
                      <a:pt x="1570" y="311"/>
                      <a:pt x="1663" y="395"/>
                      <a:pt x="1689" y="402"/>
                    </a:cubicBezTo>
                    <a:cubicBezTo>
                      <a:pt x="1853" y="244"/>
                      <a:pt x="2021" y="343"/>
                      <a:pt x="2066" y="355"/>
                    </a:cubicBezTo>
                    <a:cubicBezTo>
                      <a:pt x="2075" y="355"/>
                      <a:pt x="2165" y="324"/>
                      <a:pt x="2207" y="311"/>
                    </a:cubicBezTo>
                    <a:cubicBezTo>
                      <a:pt x="2516" y="0"/>
                      <a:pt x="2606" y="269"/>
                      <a:pt x="2603" y="286"/>
                    </a:cubicBezTo>
                    <a:cubicBezTo>
                      <a:pt x="2601" y="302"/>
                      <a:pt x="2700" y="289"/>
                      <a:pt x="2752" y="280"/>
                    </a:cubicBezTo>
                    <a:cubicBezTo>
                      <a:pt x="2784" y="281"/>
                      <a:pt x="2821" y="278"/>
                      <a:pt x="2846" y="276"/>
                    </a:cubicBezTo>
                    <a:cubicBezTo>
                      <a:pt x="2878" y="292"/>
                      <a:pt x="3064" y="286"/>
                      <a:pt x="2992" y="433"/>
                    </a:cubicBezTo>
                    <a:cubicBezTo>
                      <a:pt x="2964" y="460"/>
                      <a:pt x="2634" y="626"/>
                      <a:pt x="2617" y="707"/>
                    </a:cubicBezTo>
                    <a:cubicBezTo>
                      <a:pt x="2567" y="713"/>
                      <a:pt x="2309" y="746"/>
                      <a:pt x="2462" y="851"/>
                    </a:cubicBezTo>
                    <a:cubicBezTo>
                      <a:pt x="2480" y="861"/>
                      <a:pt x="2571" y="896"/>
                      <a:pt x="2580" y="897"/>
                    </a:cubicBezTo>
                    <a:cubicBezTo>
                      <a:pt x="2589" y="898"/>
                      <a:pt x="2657" y="746"/>
                      <a:pt x="2682" y="726"/>
                    </a:cubicBezTo>
                    <a:cubicBezTo>
                      <a:pt x="2705" y="636"/>
                      <a:pt x="3040" y="496"/>
                      <a:pt x="3070" y="426"/>
                    </a:cubicBezTo>
                    <a:cubicBezTo>
                      <a:pt x="3097" y="419"/>
                      <a:pt x="3531" y="376"/>
                      <a:pt x="3569" y="377"/>
                    </a:cubicBezTo>
                    <a:cubicBezTo>
                      <a:pt x="3697" y="381"/>
                      <a:pt x="4264" y="329"/>
                      <a:pt x="3872" y="578"/>
                    </a:cubicBezTo>
                    <a:cubicBezTo>
                      <a:pt x="3864" y="590"/>
                      <a:pt x="3719" y="611"/>
                      <a:pt x="3877" y="756"/>
                    </a:cubicBezTo>
                    <a:cubicBezTo>
                      <a:pt x="3870" y="768"/>
                      <a:pt x="3849" y="783"/>
                      <a:pt x="3834" y="797"/>
                    </a:cubicBezTo>
                    <a:cubicBezTo>
                      <a:pt x="3745" y="833"/>
                      <a:pt x="3244" y="1021"/>
                      <a:pt x="3382" y="1327"/>
                    </a:cubicBezTo>
                    <a:cubicBezTo>
                      <a:pt x="3356" y="1352"/>
                      <a:pt x="3205" y="1433"/>
                      <a:pt x="3193" y="1440"/>
                    </a:cubicBezTo>
                    <a:cubicBezTo>
                      <a:pt x="3369" y="1463"/>
                      <a:pt x="3363" y="1560"/>
                      <a:pt x="3372" y="1584"/>
                    </a:cubicBezTo>
                    <a:cubicBezTo>
                      <a:pt x="3349" y="1651"/>
                      <a:pt x="3275" y="1809"/>
                      <a:pt x="3264" y="1819"/>
                    </a:cubicBezTo>
                    <a:cubicBezTo>
                      <a:pt x="3253" y="1830"/>
                      <a:pt x="3323" y="1872"/>
                      <a:pt x="3350" y="1897"/>
                    </a:cubicBezTo>
                    <a:cubicBezTo>
                      <a:pt x="3424" y="1958"/>
                      <a:pt x="3378" y="2034"/>
                      <a:pt x="3364" y="2043"/>
                    </a:cubicBezTo>
                    <a:cubicBezTo>
                      <a:pt x="3350" y="2052"/>
                      <a:pt x="2946" y="2212"/>
                      <a:pt x="2932" y="2207"/>
                    </a:cubicBezTo>
                    <a:cubicBezTo>
                      <a:pt x="2916" y="2227"/>
                      <a:pt x="2896" y="2242"/>
                      <a:pt x="2876" y="2261"/>
                    </a:cubicBezTo>
                    <a:cubicBezTo>
                      <a:pt x="2862" y="2311"/>
                      <a:pt x="2841" y="2358"/>
                      <a:pt x="2816" y="2410"/>
                    </a:cubicBezTo>
                    <a:cubicBezTo>
                      <a:pt x="2785" y="2444"/>
                      <a:pt x="2745" y="2478"/>
                      <a:pt x="2714" y="2513"/>
                    </a:cubicBezTo>
                    <a:cubicBezTo>
                      <a:pt x="2696" y="2520"/>
                      <a:pt x="2683" y="2524"/>
                      <a:pt x="2672" y="2525"/>
                    </a:cubicBezTo>
                    <a:cubicBezTo>
                      <a:pt x="2661" y="2527"/>
                      <a:pt x="2614" y="2540"/>
                      <a:pt x="2576" y="2549"/>
                    </a:cubicBezTo>
                    <a:cubicBezTo>
                      <a:pt x="1926" y="2626"/>
                      <a:pt x="1465" y="2553"/>
                      <a:pt x="901" y="2556"/>
                    </a:cubicBezTo>
                    <a:cubicBezTo>
                      <a:pt x="517" y="2550"/>
                      <a:pt x="635" y="2360"/>
                      <a:pt x="648" y="2342"/>
                    </a:cubicBezTo>
                    <a:cubicBezTo>
                      <a:pt x="676" y="2338"/>
                      <a:pt x="715" y="2324"/>
                      <a:pt x="720" y="2323"/>
                    </a:cubicBezTo>
                    <a:cubicBezTo>
                      <a:pt x="684" y="2312"/>
                      <a:pt x="656" y="2298"/>
                      <a:pt x="625" y="2283"/>
                    </a:cubicBezTo>
                    <a:cubicBezTo>
                      <a:pt x="504" y="2253"/>
                      <a:pt x="393" y="2218"/>
                      <a:pt x="275" y="2189"/>
                    </a:cubicBezTo>
                    <a:cubicBezTo>
                      <a:pt x="0" y="2001"/>
                      <a:pt x="413" y="1956"/>
                      <a:pt x="422" y="1957"/>
                    </a:cubicBezTo>
                    <a:cubicBezTo>
                      <a:pt x="431" y="1957"/>
                      <a:pt x="462" y="1955"/>
                      <a:pt x="415" y="1913"/>
                    </a:cubicBezTo>
                    <a:cubicBezTo>
                      <a:pt x="368" y="1871"/>
                      <a:pt x="96" y="1635"/>
                      <a:pt x="130" y="1608"/>
                    </a:cubicBezTo>
                    <a:cubicBezTo>
                      <a:pt x="152" y="1564"/>
                      <a:pt x="282" y="1571"/>
                      <a:pt x="330" y="1543"/>
                    </a:cubicBezTo>
                    <a:cubicBezTo>
                      <a:pt x="331" y="1529"/>
                      <a:pt x="257" y="1353"/>
                      <a:pt x="262" y="1344"/>
                    </a:cubicBezTo>
                    <a:cubicBezTo>
                      <a:pt x="289" y="1331"/>
                      <a:pt x="466" y="1321"/>
                      <a:pt x="486" y="1329"/>
                    </a:cubicBezTo>
                    <a:cubicBezTo>
                      <a:pt x="512" y="1281"/>
                      <a:pt x="405" y="1060"/>
                      <a:pt x="395" y="1051"/>
                    </a:cubicBezTo>
                    <a:cubicBezTo>
                      <a:pt x="53" y="960"/>
                      <a:pt x="84" y="624"/>
                      <a:pt x="81" y="590"/>
                    </a:cubicBezTo>
                    <a:cubicBezTo>
                      <a:pt x="52" y="427"/>
                      <a:pt x="297" y="415"/>
                      <a:pt x="346" y="405"/>
                    </a:cubicBezTo>
                    <a:cubicBezTo>
                      <a:pt x="350" y="401"/>
                      <a:pt x="342" y="231"/>
                      <a:pt x="348" y="2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253200" y="5078520"/>
              <a:ext cx="1115280" cy="1382040"/>
            </a:xfrm>
            <a:custGeom>
              <a:avLst/>
              <a:gdLst/>
              <a:ahLst/>
              <a:rect l="l" t="t" r="r" b="b"/>
              <a:pathLst>
                <a:path w="3099" h="3844">
                  <a:moveTo>
                    <a:pt x="2009" y="376"/>
                  </a:moveTo>
                  <a:cubicBezTo>
                    <a:pt x="2344" y="1516"/>
                    <a:pt x="3078" y="3790"/>
                    <a:pt x="3088" y="3803"/>
                  </a:cubicBezTo>
                  <a:cubicBezTo>
                    <a:pt x="3098" y="3816"/>
                    <a:pt x="3070" y="3816"/>
                    <a:pt x="3063" y="3822"/>
                  </a:cubicBezTo>
                  <a:cubicBezTo>
                    <a:pt x="3057" y="3828"/>
                    <a:pt x="3041" y="3834"/>
                    <a:pt x="3028" y="3838"/>
                  </a:cubicBezTo>
                  <a:cubicBezTo>
                    <a:pt x="3015" y="3841"/>
                    <a:pt x="3012" y="3840"/>
                    <a:pt x="3000" y="3841"/>
                  </a:cubicBezTo>
                  <a:cubicBezTo>
                    <a:pt x="2989" y="3843"/>
                    <a:pt x="2977" y="3832"/>
                    <a:pt x="2967" y="3828"/>
                  </a:cubicBezTo>
                  <a:cubicBezTo>
                    <a:pt x="1975" y="2766"/>
                    <a:pt x="331" y="1661"/>
                    <a:pt x="0" y="640"/>
                  </a:cubicBezTo>
                  <a:cubicBezTo>
                    <a:pt x="841" y="0"/>
                    <a:pt x="1569" y="118"/>
                    <a:pt x="2009" y="376"/>
                  </a:cubicBezTo>
                </a:path>
              </a:pathLst>
            </a:custGeom>
            <a:solidFill>
              <a:srgbClr val="ff0100"/>
            </a:solidFill>
            <a:ln w="9360">
              <a:solidFill>
                <a:srgbClr val="ff0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5920" y="5086440"/>
              <a:ext cx="1142280" cy="1391760"/>
            </a:xfrm>
            <a:custGeom>
              <a:avLst/>
              <a:gdLst/>
              <a:ahLst/>
              <a:rect l="l" t="t" r="r" b="b"/>
              <a:pathLst>
                <a:path w="3174" h="3872">
                  <a:moveTo>
                    <a:pt x="1331" y="162"/>
                  </a:moveTo>
                  <a:cubicBezTo>
                    <a:pt x="1357" y="164"/>
                    <a:pt x="1794" y="196"/>
                    <a:pt x="2018" y="410"/>
                  </a:cubicBezTo>
                  <a:cubicBezTo>
                    <a:pt x="2385" y="1533"/>
                    <a:pt x="2748" y="2655"/>
                    <a:pt x="3115" y="3769"/>
                  </a:cubicBezTo>
                  <a:cubicBezTo>
                    <a:pt x="3104" y="3779"/>
                    <a:pt x="3095" y="3787"/>
                    <a:pt x="3094" y="3793"/>
                  </a:cubicBezTo>
                  <a:cubicBezTo>
                    <a:pt x="3093" y="3798"/>
                    <a:pt x="3064" y="3799"/>
                    <a:pt x="3057" y="3801"/>
                  </a:cubicBezTo>
                  <a:cubicBezTo>
                    <a:pt x="3049" y="3804"/>
                    <a:pt x="3033" y="3801"/>
                    <a:pt x="3029" y="3796"/>
                  </a:cubicBezTo>
                  <a:cubicBezTo>
                    <a:pt x="2043" y="2757"/>
                    <a:pt x="210" y="1459"/>
                    <a:pt x="80" y="629"/>
                  </a:cubicBezTo>
                  <a:cubicBezTo>
                    <a:pt x="118" y="588"/>
                    <a:pt x="928" y="106"/>
                    <a:pt x="1331" y="162"/>
                  </a:cubicBezTo>
                  <a:close/>
                  <a:moveTo>
                    <a:pt x="1461" y="114"/>
                  </a:moveTo>
                  <a:cubicBezTo>
                    <a:pt x="1474" y="111"/>
                    <a:pt x="1941" y="242"/>
                    <a:pt x="2097" y="380"/>
                  </a:cubicBezTo>
                  <a:cubicBezTo>
                    <a:pt x="2451" y="1501"/>
                    <a:pt x="2804" y="2624"/>
                    <a:pt x="3165" y="3748"/>
                  </a:cubicBezTo>
                  <a:cubicBezTo>
                    <a:pt x="3171" y="3756"/>
                    <a:pt x="3173" y="3771"/>
                    <a:pt x="3172" y="3782"/>
                  </a:cubicBezTo>
                  <a:cubicBezTo>
                    <a:pt x="3170" y="3793"/>
                    <a:pt x="3160" y="3816"/>
                    <a:pt x="3144" y="3827"/>
                  </a:cubicBezTo>
                  <a:cubicBezTo>
                    <a:pt x="3128" y="3838"/>
                    <a:pt x="3109" y="3851"/>
                    <a:pt x="3090" y="3861"/>
                  </a:cubicBezTo>
                  <a:cubicBezTo>
                    <a:pt x="3070" y="3871"/>
                    <a:pt x="3073" y="3863"/>
                    <a:pt x="3064" y="3863"/>
                  </a:cubicBezTo>
                  <a:cubicBezTo>
                    <a:pt x="3013" y="3848"/>
                    <a:pt x="2954" y="3822"/>
                    <a:pt x="2899" y="3798"/>
                  </a:cubicBezTo>
                  <a:cubicBezTo>
                    <a:pt x="1935" y="2738"/>
                    <a:pt x="391" y="1682"/>
                    <a:pt x="0" y="624"/>
                  </a:cubicBezTo>
                  <a:cubicBezTo>
                    <a:pt x="57" y="537"/>
                    <a:pt x="240" y="402"/>
                    <a:pt x="267" y="381"/>
                  </a:cubicBezTo>
                  <a:cubicBezTo>
                    <a:pt x="348" y="348"/>
                    <a:pt x="1076" y="0"/>
                    <a:pt x="1461" y="11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04200" y="5593680"/>
              <a:ext cx="118800" cy="61560"/>
            </a:xfrm>
            <a:custGeom>
              <a:avLst/>
              <a:gdLst/>
              <a:ahLst/>
              <a:rect l="l" t="t" r="r" b="b"/>
              <a:pathLst>
                <a:path w="331" h="173">
                  <a:moveTo>
                    <a:pt x="167" y="110"/>
                  </a:moveTo>
                  <a:lnTo>
                    <a:pt x="330" y="7"/>
                  </a:lnTo>
                  <a:lnTo>
                    <a:pt x="178" y="0"/>
                  </a:lnTo>
                  <a:lnTo>
                    <a:pt x="0" y="71"/>
                  </a:lnTo>
                  <a:lnTo>
                    <a:pt x="30" y="172"/>
                  </a:lnTo>
                  <a:lnTo>
                    <a:pt x="167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38960" y="5427360"/>
              <a:ext cx="96480" cy="69480"/>
            </a:xfrm>
            <a:custGeom>
              <a:avLst/>
              <a:gdLst/>
              <a:ahLst/>
              <a:rect l="l" t="t" r="r" b="b"/>
              <a:pathLst>
                <a:path w="271" h="194">
                  <a:moveTo>
                    <a:pt x="157" y="119"/>
                  </a:moveTo>
                  <a:lnTo>
                    <a:pt x="270" y="6"/>
                  </a:lnTo>
                  <a:lnTo>
                    <a:pt x="141" y="0"/>
                  </a:lnTo>
                  <a:lnTo>
                    <a:pt x="0" y="82"/>
                  </a:lnTo>
                  <a:lnTo>
                    <a:pt x="55" y="193"/>
                  </a:lnTo>
                  <a:lnTo>
                    <a:pt x="157" y="119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9240" y="5794920"/>
              <a:ext cx="107640" cy="63360"/>
            </a:xfrm>
            <a:custGeom>
              <a:avLst/>
              <a:gdLst/>
              <a:ahLst/>
              <a:rect l="l" t="t" r="r" b="b"/>
              <a:pathLst>
                <a:path w="301" h="176">
                  <a:moveTo>
                    <a:pt x="131" y="114"/>
                  </a:moveTo>
                  <a:lnTo>
                    <a:pt x="300" y="13"/>
                  </a:lnTo>
                  <a:lnTo>
                    <a:pt x="146" y="0"/>
                  </a:lnTo>
                  <a:lnTo>
                    <a:pt x="6" y="67"/>
                  </a:lnTo>
                  <a:lnTo>
                    <a:pt x="0" y="175"/>
                  </a:lnTo>
                  <a:lnTo>
                    <a:pt x="131" y="114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37120" y="5359320"/>
              <a:ext cx="144000" cy="40680"/>
            </a:xfrm>
            <a:custGeom>
              <a:avLst/>
              <a:gdLst/>
              <a:ahLst/>
              <a:rect l="l" t="t" r="r" b="b"/>
              <a:pathLst>
                <a:path w="403" h="116">
                  <a:moveTo>
                    <a:pt x="233" y="108"/>
                  </a:moveTo>
                  <a:lnTo>
                    <a:pt x="0" y="115"/>
                  </a:lnTo>
                  <a:lnTo>
                    <a:pt x="97" y="38"/>
                  </a:lnTo>
                  <a:lnTo>
                    <a:pt x="304" y="0"/>
                  </a:lnTo>
                  <a:lnTo>
                    <a:pt x="402" y="82"/>
                  </a:lnTo>
                  <a:lnTo>
                    <a:pt x="233" y="10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3840" y="5950440"/>
              <a:ext cx="126360" cy="82440"/>
            </a:xfrm>
            <a:custGeom>
              <a:avLst/>
              <a:gdLst/>
              <a:ahLst/>
              <a:rect l="l" t="t" r="r" b="b"/>
              <a:pathLst>
                <a:path w="354" h="229">
                  <a:moveTo>
                    <a:pt x="171" y="167"/>
                  </a:moveTo>
                  <a:lnTo>
                    <a:pt x="329" y="65"/>
                  </a:lnTo>
                  <a:lnTo>
                    <a:pt x="353" y="0"/>
                  </a:lnTo>
                  <a:lnTo>
                    <a:pt x="0" y="127"/>
                  </a:lnTo>
                  <a:lnTo>
                    <a:pt x="31" y="228"/>
                  </a:lnTo>
                  <a:lnTo>
                    <a:pt x="171" y="16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2720" y="6046920"/>
              <a:ext cx="97920" cy="56880"/>
            </a:xfrm>
            <a:custGeom>
              <a:avLst/>
              <a:gdLst/>
              <a:ahLst/>
              <a:rect l="l" t="t" r="r" b="b"/>
              <a:pathLst>
                <a:path w="274" h="160">
                  <a:moveTo>
                    <a:pt x="130" y="98"/>
                  </a:moveTo>
                  <a:lnTo>
                    <a:pt x="273" y="3"/>
                  </a:lnTo>
                  <a:lnTo>
                    <a:pt x="147" y="0"/>
                  </a:lnTo>
                  <a:lnTo>
                    <a:pt x="0" y="63"/>
                  </a:lnTo>
                  <a:lnTo>
                    <a:pt x="9" y="159"/>
                  </a:lnTo>
                  <a:lnTo>
                    <a:pt x="130" y="9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14880" y="5625360"/>
              <a:ext cx="117000" cy="61560"/>
            </a:xfrm>
            <a:custGeom>
              <a:avLst/>
              <a:gdLst/>
              <a:ahLst/>
              <a:rect l="l" t="t" r="r" b="b"/>
              <a:pathLst>
                <a:path w="328" h="174">
                  <a:moveTo>
                    <a:pt x="168" y="110"/>
                  </a:moveTo>
                  <a:lnTo>
                    <a:pt x="327" y="11"/>
                  </a:lnTo>
                  <a:lnTo>
                    <a:pt x="177" y="0"/>
                  </a:lnTo>
                  <a:lnTo>
                    <a:pt x="0" y="72"/>
                  </a:lnTo>
                  <a:lnTo>
                    <a:pt x="32" y="173"/>
                  </a:lnTo>
                  <a:lnTo>
                    <a:pt x="168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2120" y="5765400"/>
              <a:ext cx="131400" cy="64440"/>
            </a:xfrm>
            <a:custGeom>
              <a:avLst/>
              <a:gdLst/>
              <a:ahLst/>
              <a:rect l="l" t="t" r="r" b="b"/>
              <a:pathLst>
                <a:path w="368" h="181">
                  <a:moveTo>
                    <a:pt x="198" y="117"/>
                  </a:moveTo>
                  <a:lnTo>
                    <a:pt x="367" y="16"/>
                  </a:lnTo>
                  <a:lnTo>
                    <a:pt x="194" y="0"/>
                  </a:lnTo>
                  <a:lnTo>
                    <a:pt x="0" y="69"/>
                  </a:lnTo>
                  <a:lnTo>
                    <a:pt x="54" y="180"/>
                  </a:lnTo>
                  <a:lnTo>
                    <a:pt x="198" y="11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840" y="5316480"/>
              <a:ext cx="117000" cy="63000"/>
            </a:xfrm>
            <a:custGeom>
              <a:avLst/>
              <a:gdLst/>
              <a:ahLst/>
              <a:rect l="l" t="t" r="r" b="b"/>
              <a:pathLst>
                <a:path w="326" h="176">
                  <a:moveTo>
                    <a:pt x="159" y="110"/>
                  </a:moveTo>
                  <a:lnTo>
                    <a:pt x="325" y="10"/>
                  </a:lnTo>
                  <a:lnTo>
                    <a:pt x="174" y="0"/>
                  </a:lnTo>
                  <a:lnTo>
                    <a:pt x="0" y="70"/>
                  </a:lnTo>
                  <a:lnTo>
                    <a:pt x="30" y="175"/>
                  </a:lnTo>
                  <a:lnTo>
                    <a:pt x="159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5213520"/>
              <a:ext cx="9000" cy="7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7"/>
                  </a:moveTo>
                  <a:lnTo>
                    <a:pt x="18" y="0"/>
                  </a:lnTo>
                  <a:lnTo>
                    <a:pt x="27" y="18"/>
                  </a:lnTo>
                  <a:lnTo>
                    <a:pt x="1" y="2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6960" y="6264360"/>
              <a:ext cx="80640" cy="40680"/>
            </a:xfrm>
            <a:custGeom>
              <a:avLst/>
              <a:gdLst/>
              <a:ahLst/>
              <a:rect l="l" t="t" r="r" b="b"/>
              <a:pathLst>
                <a:path w="226" h="116">
                  <a:moveTo>
                    <a:pt x="118" y="75"/>
                  </a:moveTo>
                  <a:lnTo>
                    <a:pt x="225" y="7"/>
                  </a:lnTo>
                  <a:lnTo>
                    <a:pt x="120" y="0"/>
                  </a:lnTo>
                  <a:lnTo>
                    <a:pt x="0" y="49"/>
                  </a:lnTo>
                  <a:lnTo>
                    <a:pt x="25" y="115"/>
                  </a:lnTo>
                  <a:lnTo>
                    <a:pt x="118" y="75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70800" y="5460840"/>
              <a:ext cx="172800" cy="78840"/>
            </a:xfrm>
            <a:custGeom>
              <a:avLst/>
              <a:gdLst/>
              <a:ahLst/>
              <a:rect l="l" t="t" r="r" b="b"/>
              <a:pathLst>
                <a:path w="482" h="220">
                  <a:moveTo>
                    <a:pt x="160" y="157"/>
                  </a:moveTo>
                  <a:lnTo>
                    <a:pt x="481" y="0"/>
                  </a:lnTo>
                  <a:lnTo>
                    <a:pt x="178" y="43"/>
                  </a:lnTo>
                  <a:lnTo>
                    <a:pt x="0" y="114"/>
                  </a:lnTo>
                  <a:lnTo>
                    <a:pt x="29" y="219"/>
                  </a:lnTo>
                  <a:lnTo>
                    <a:pt x="160" y="15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35880" y="5286600"/>
              <a:ext cx="124920" cy="67680"/>
            </a:xfrm>
            <a:custGeom>
              <a:avLst/>
              <a:gdLst/>
              <a:ahLst/>
              <a:rect l="l" t="t" r="r" b="b"/>
              <a:pathLst>
                <a:path w="349" h="189">
                  <a:moveTo>
                    <a:pt x="348" y="137"/>
                  </a:moveTo>
                  <a:lnTo>
                    <a:pt x="151" y="107"/>
                  </a:lnTo>
                  <a:lnTo>
                    <a:pt x="143" y="0"/>
                  </a:lnTo>
                  <a:lnTo>
                    <a:pt x="0" y="81"/>
                  </a:lnTo>
                  <a:lnTo>
                    <a:pt x="52" y="188"/>
                  </a:lnTo>
                  <a:lnTo>
                    <a:pt x="348" y="13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 А Т Е М А Т И К 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1979280"/>
            <a:ext cx="88092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ЦИФ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ЕТ ДО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74840" y="4567320"/>
            <a:ext cx="1505160" cy="191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73840" y="4059360"/>
            <a:ext cx="1816200" cy="2120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2640" y="4118040"/>
            <a:ext cx="16909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1800000"/>
            <a:ext cx="8809200" cy="519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АВИЛАМИ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ИХ РИСУ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С РОДИТЕЛЯМИ НА ТЕМУ О Б 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20760" y="5376960"/>
            <a:ext cx="719280" cy="718920"/>
            <a:chOff x="1220760" y="5376960"/>
            <a:chExt cx="719280" cy="718920"/>
          </a:xfrm>
        </p:grpSpPr>
        <p:grpSp>
          <p:nvGrpSpPr>
            <p:cNvPr id="167" name=""/>
            <p:cNvGrpSpPr/>
            <p:nvPr/>
          </p:nvGrpSpPr>
          <p:grpSpPr>
            <a:xfrm>
              <a:off x="1220760" y="5376960"/>
              <a:ext cx="719280" cy="718920"/>
              <a:chOff x="1220760" y="5376960"/>
              <a:chExt cx="719280" cy="7189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20760" y="5376960"/>
                <a:ext cx="719280" cy="718920"/>
                <a:chOff x="1220760" y="5376960"/>
                <a:chExt cx="719280" cy="718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20760" y="537696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3640" y="537984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239480" y="539568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658880" y="5551560"/>
              <a:ext cx="215640" cy="480600"/>
              <a:chOff x="1658880" y="5551560"/>
              <a:chExt cx="215640" cy="480600"/>
            </a:xfrm>
          </p:grpSpPr>
          <p:sp>
            <p:nvSpPr>
              <p:cNvPr id="173" name=""/>
              <p:cNvSpPr/>
              <p:nvPr/>
            </p:nvSpPr>
            <p:spPr>
              <a:xfrm>
                <a:off x="1788480" y="555156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94880" y="5583960"/>
                <a:ext cx="17784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02800" y="569664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58880" y="581220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0360" y="5911920"/>
                <a:ext cx="164160" cy="12024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287360" y="5442120"/>
              <a:ext cx="367920" cy="591480"/>
              <a:chOff x="1287360" y="5442120"/>
              <a:chExt cx="367920" cy="591480"/>
            </a:xfrm>
          </p:grpSpPr>
          <p:sp>
            <p:nvSpPr>
              <p:cNvPr id="179" name=""/>
              <p:cNvSpPr/>
              <p:nvPr/>
            </p:nvSpPr>
            <p:spPr>
              <a:xfrm>
                <a:off x="1287360" y="5448240"/>
                <a:ext cx="333000" cy="585360"/>
              </a:xfrm>
              <a:custGeom>
                <a:avLst/>
                <a:gdLst/>
                <a:ahLst/>
                <a:rect l="l" t="t" r="r" b="b"/>
                <a:pathLst>
                  <a:path w="969" h="1641">
                    <a:moveTo>
                      <a:pt x="325" y="7"/>
                    </a:moveTo>
                    <a:cubicBezTo>
                      <a:pt x="221" y="0"/>
                      <a:pt x="115" y="35"/>
                      <a:pt x="44" y="125"/>
                    </a:cubicBezTo>
                    <a:cubicBezTo>
                      <a:pt x="0" y="620"/>
                      <a:pt x="82" y="1228"/>
                      <a:pt x="620" y="1640"/>
                    </a:cubicBezTo>
                    <a:cubicBezTo>
                      <a:pt x="752" y="1629"/>
                      <a:pt x="863" y="1582"/>
                      <a:pt x="968" y="1523"/>
                    </a:cubicBezTo>
                    <a:cubicBezTo>
                      <a:pt x="862" y="1402"/>
                      <a:pt x="755" y="1282"/>
                      <a:pt x="649" y="1161"/>
                    </a:cubicBezTo>
                    <a:cubicBezTo>
                      <a:pt x="618" y="1190"/>
                      <a:pt x="586" y="1221"/>
                      <a:pt x="555" y="1250"/>
                    </a:cubicBezTo>
                    <a:cubicBezTo>
                      <a:pt x="525" y="1222"/>
                      <a:pt x="513" y="1194"/>
                      <a:pt x="501" y="1158"/>
                    </a:cubicBezTo>
                    <a:cubicBezTo>
                      <a:pt x="424" y="936"/>
                      <a:pt x="348" y="714"/>
                      <a:pt x="286" y="491"/>
                    </a:cubicBezTo>
                    <a:cubicBezTo>
                      <a:pt x="295" y="473"/>
                      <a:pt x="312" y="464"/>
                      <a:pt x="332" y="461"/>
                    </a:cubicBezTo>
                    <a:cubicBezTo>
                      <a:pt x="359" y="471"/>
                      <a:pt x="392" y="476"/>
                      <a:pt x="422" y="477"/>
                    </a:cubicBezTo>
                    <a:cubicBezTo>
                      <a:pt x="390" y="321"/>
                      <a:pt x="358" y="164"/>
                      <a:pt x="325" y="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2080" y="583560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390" h="422">
                    <a:moveTo>
                      <a:pt x="0" y="57"/>
                    </a:moveTo>
                    <a:lnTo>
                      <a:pt x="314" y="421"/>
                    </a:lnTo>
                    <a:cubicBezTo>
                      <a:pt x="360" y="402"/>
                      <a:pt x="389" y="371"/>
                      <a:pt x="379" y="336"/>
                    </a:cubicBezTo>
                    <a:lnTo>
                      <a:pt x="94" y="1"/>
                    </a:lnTo>
                    <a:cubicBezTo>
                      <a:pt x="42" y="0"/>
                      <a:pt x="18" y="16"/>
                      <a:pt x="0" y="5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9760" y="5442120"/>
                <a:ext cx="66600" cy="182520"/>
              </a:xfrm>
              <a:custGeom>
                <a:avLst/>
                <a:gdLst/>
                <a:ahLst/>
                <a:rect l="l" t="t" r="r" b="b"/>
                <a:pathLst>
                  <a:path w="195" h="513">
                    <a:moveTo>
                      <a:pt x="0" y="22"/>
                    </a:moveTo>
                    <a:lnTo>
                      <a:pt x="91" y="486"/>
                    </a:lnTo>
                    <a:cubicBezTo>
                      <a:pt x="126" y="512"/>
                      <a:pt x="178" y="478"/>
                      <a:pt x="194" y="449"/>
                    </a:cubicBezTo>
                    <a:lnTo>
                      <a:pt x="101" y="29"/>
                    </a:lnTo>
                    <a:cubicBezTo>
                      <a:pt x="78" y="0"/>
                      <a:pt x="31" y="10"/>
                      <a:pt x="0" y="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400720" y="5219640"/>
            <a:ext cx="898560" cy="719280"/>
            <a:chOff x="5400720" y="5219640"/>
            <a:chExt cx="898560" cy="719280"/>
          </a:xfrm>
        </p:grpSpPr>
        <p:grpSp>
          <p:nvGrpSpPr>
            <p:cNvPr id="183" name=""/>
            <p:cNvGrpSpPr/>
            <p:nvPr/>
          </p:nvGrpSpPr>
          <p:grpSpPr>
            <a:xfrm>
              <a:off x="5400720" y="5219640"/>
              <a:ext cx="898560" cy="719280"/>
              <a:chOff x="5400720" y="5219640"/>
              <a:chExt cx="898560" cy="7192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400720" y="5219640"/>
                <a:ext cx="898560" cy="719280"/>
                <a:chOff x="5400720" y="5219640"/>
                <a:chExt cx="898560" cy="719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400720" y="5219640"/>
                  <a:ext cx="898560" cy="719280"/>
                </a:xfrm>
                <a:custGeom>
                  <a:avLst/>
                  <a:gdLst/>
                  <a:ahLst/>
                  <a:rect l="l" t="t" r="r" b="b"/>
                  <a:pathLst>
                    <a:path w="2501" h="2001">
                      <a:moveTo>
                        <a:pt x="126" y="2000"/>
                      </a:moveTo>
                      <a:cubicBezTo>
                        <a:pt x="56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74" y="0"/>
                      </a:lnTo>
                      <a:cubicBezTo>
                        <a:pt x="2444" y="0"/>
                        <a:pt x="2500" y="45"/>
                        <a:pt x="2500" y="101"/>
                      </a:cubicBezTo>
                      <a:lnTo>
                        <a:pt x="2500" y="1899"/>
                      </a:lnTo>
                      <a:cubicBezTo>
                        <a:pt x="2500" y="1955"/>
                        <a:pt x="2444" y="2000"/>
                        <a:pt x="2374" y="2000"/>
                      </a:cubicBezTo>
                      <a:lnTo>
                        <a:pt x="126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05040" y="5223960"/>
                  <a:ext cx="889200" cy="711360"/>
                </a:xfrm>
                <a:custGeom>
                  <a:avLst/>
                  <a:gdLst/>
                  <a:ahLst/>
                  <a:rect l="l" t="t" r="r" b="b"/>
                  <a:pathLst>
                    <a:path w="2475" h="1980">
                      <a:moveTo>
                        <a:pt x="126" y="1979"/>
                      </a:moveTo>
                      <a:cubicBezTo>
                        <a:pt x="56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47" y="0"/>
                      </a:lnTo>
                      <a:cubicBezTo>
                        <a:pt x="2417" y="0"/>
                        <a:pt x="2474" y="45"/>
                        <a:pt x="2474" y="101"/>
                      </a:cubicBezTo>
                      <a:lnTo>
                        <a:pt x="2474" y="1878"/>
                      </a:lnTo>
                      <a:cubicBezTo>
                        <a:pt x="2474" y="1934"/>
                        <a:pt x="2417" y="1979"/>
                        <a:pt x="2347" y="1979"/>
                      </a:cubicBezTo>
                      <a:lnTo>
                        <a:pt x="126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24120" y="5238360"/>
                  <a:ext cx="851040" cy="681120"/>
                </a:xfrm>
                <a:custGeom>
                  <a:avLst/>
                  <a:gdLst/>
                  <a:ahLst/>
                  <a:rect l="l" t="t" r="r" b="b"/>
                  <a:pathLst>
                    <a:path w="2370" h="1896">
                      <a:moveTo>
                        <a:pt x="75" y="1895"/>
                      </a:moveTo>
                      <a:cubicBezTo>
                        <a:pt x="34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34" y="0"/>
                        <a:pt x="75" y="0"/>
                      </a:cubicBezTo>
                      <a:lnTo>
                        <a:pt x="2294" y="0"/>
                      </a:lnTo>
                      <a:cubicBezTo>
                        <a:pt x="2335" y="0"/>
                        <a:pt x="2369" y="27"/>
                        <a:pt x="2369" y="60"/>
                      </a:cubicBezTo>
                      <a:lnTo>
                        <a:pt x="2369" y="1835"/>
                      </a:lnTo>
                      <a:cubicBezTo>
                        <a:pt x="2369" y="1868"/>
                        <a:pt x="2335" y="1895"/>
                        <a:pt x="2294" y="1895"/>
                      </a:cubicBezTo>
                      <a:lnTo>
                        <a:pt x="75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5948280" y="5394240"/>
              <a:ext cx="271440" cy="482400"/>
              <a:chOff x="5948280" y="5394240"/>
              <a:chExt cx="271440" cy="482400"/>
            </a:xfrm>
          </p:grpSpPr>
          <p:sp>
            <p:nvSpPr>
              <p:cNvPr id="189" name=""/>
              <p:cNvSpPr/>
              <p:nvPr/>
            </p:nvSpPr>
            <p:spPr>
              <a:xfrm>
                <a:off x="6110640" y="5394240"/>
                <a:ext cx="108720" cy="181800"/>
              </a:xfrm>
              <a:custGeom>
                <a:avLst/>
                <a:gdLst/>
                <a:ahLst/>
                <a:rect l="l" t="t" r="r" b="b"/>
                <a:pathLst>
                  <a:path w="305" h="510">
                    <a:moveTo>
                      <a:pt x="51" y="0"/>
                    </a:moveTo>
                    <a:cubicBezTo>
                      <a:pt x="94" y="105"/>
                      <a:pt x="146" y="246"/>
                      <a:pt x="303" y="295"/>
                    </a:cubicBezTo>
                    <a:cubicBezTo>
                      <a:pt x="303" y="366"/>
                      <a:pt x="304" y="437"/>
                      <a:pt x="303" y="509"/>
                    </a:cubicBezTo>
                    <a:cubicBezTo>
                      <a:pt x="21" y="363"/>
                      <a:pt x="0" y="198"/>
                      <a:pt x="5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94000" y="5427000"/>
                <a:ext cx="225360" cy="192600"/>
              </a:xfrm>
              <a:custGeom>
                <a:avLst/>
                <a:gdLst/>
                <a:ahLst/>
                <a:rect l="l" t="t" r="r" b="b"/>
                <a:pathLst>
                  <a:path w="630" h="541">
                    <a:moveTo>
                      <a:pt x="629" y="515"/>
                    </a:moveTo>
                    <a:cubicBezTo>
                      <a:pt x="518" y="470"/>
                      <a:pt x="382" y="338"/>
                      <a:pt x="269" y="121"/>
                    </a:cubicBezTo>
                    <a:cubicBezTo>
                      <a:pt x="205" y="18"/>
                      <a:pt x="122" y="0"/>
                      <a:pt x="0" y="8"/>
                    </a:cubicBezTo>
                    <a:cubicBezTo>
                      <a:pt x="56" y="38"/>
                      <a:pt x="88" y="59"/>
                      <a:pt x="99" y="107"/>
                    </a:cubicBezTo>
                    <a:cubicBezTo>
                      <a:pt x="147" y="303"/>
                      <a:pt x="242" y="474"/>
                      <a:pt x="480" y="526"/>
                    </a:cubicBezTo>
                    <a:cubicBezTo>
                      <a:pt x="537" y="540"/>
                      <a:pt x="578" y="525"/>
                      <a:pt x="629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03360" y="5539680"/>
                <a:ext cx="216000" cy="185040"/>
              </a:xfrm>
              <a:custGeom>
                <a:avLst/>
                <a:gdLst/>
                <a:ahLst/>
                <a:rect l="l" t="t" r="r" b="b"/>
                <a:pathLst>
                  <a:path w="605" h="521">
                    <a:moveTo>
                      <a:pt x="36" y="0"/>
                    </a:moveTo>
                    <a:cubicBezTo>
                      <a:pt x="84" y="98"/>
                      <a:pt x="419" y="308"/>
                      <a:pt x="603" y="306"/>
                    </a:cubicBezTo>
                    <a:cubicBezTo>
                      <a:pt x="603" y="377"/>
                      <a:pt x="603" y="449"/>
                      <a:pt x="604" y="520"/>
                    </a:cubicBezTo>
                    <a:cubicBezTo>
                      <a:pt x="259" y="456"/>
                      <a:pt x="0" y="234"/>
                      <a:pt x="3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48280" y="5655960"/>
                <a:ext cx="271440" cy="124920"/>
              </a:xfrm>
              <a:custGeom>
                <a:avLst/>
                <a:gdLst/>
                <a:ahLst/>
                <a:rect l="l" t="t" r="r" b="b"/>
                <a:pathLst>
                  <a:path w="758" h="352">
                    <a:moveTo>
                      <a:pt x="757" y="291"/>
                    </a:moveTo>
                    <a:cubicBezTo>
                      <a:pt x="619" y="279"/>
                      <a:pt x="482" y="192"/>
                      <a:pt x="353" y="83"/>
                    </a:cubicBezTo>
                    <a:cubicBezTo>
                      <a:pt x="255" y="0"/>
                      <a:pt x="114" y="15"/>
                      <a:pt x="0" y="75"/>
                    </a:cubicBezTo>
                    <a:cubicBezTo>
                      <a:pt x="71" y="103"/>
                      <a:pt x="129" y="98"/>
                      <a:pt x="189" y="161"/>
                    </a:cubicBezTo>
                    <a:cubicBezTo>
                      <a:pt x="339" y="322"/>
                      <a:pt x="396" y="351"/>
                      <a:pt x="600" y="349"/>
                    </a:cubicBezTo>
                    <a:cubicBezTo>
                      <a:pt x="669" y="344"/>
                      <a:pt x="705" y="323"/>
                      <a:pt x="757" y="29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2720" y="5756400"/>
                <a:ext cx="206640" cy="120240"/>
              </a:xfrm>
              <a:custGeom>
                <a:avLst/>
                <a:gdLst/>
                <a:ahLst/>
                <a:rect l="l" t="t" r="r" b="b"/>
                <a:pathLst>
                  <a:path w="577" h="340">
                    <a:moveTo>
                      <a:pt x="0" y="0"/>
                    </a:moveTo>
                    <a:cubicBezTo>
                      <a:pt x="58" y="87"/>
                      <a:pt x="388" y="178"/>
                      <a:pt x="575" y="107"/>
                    </a:cubicBezTo>
                    <a:cubicBezTo>
                      <a:pt x="575" y="178"/>
                      <a:pt x="576" y="250"/>
                      <a:pt x="575" y="322"/>
                    </a:cubicBezTo>
                    <a:cubicBezTo>
                      <a:pt x="240" y="339"/>
                      <a:pt x="23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478480" y="5416560"/>
              <a:ext cx="436680" cy="326880"/>
              <a:chOff x="5478480" y="5416560"/>
              <a:chExt cx="436680" cy="326880"/>
            </a:xfrm>
          </p:grpSpPr>
          <p:sp>
            <p:nvSpPr>
              <p:cNvPr id="195" name=""/>
              <p:cNvSpPr/>
              <p:nvPr/>
            </p:nvSpPr>
            <p:spPr>
              <a:xfrm>
                <a:off x="5758200" y="5577840"/>
                <a:ext cx="38880" cy="68760"/>
              </a:xfrm>
              <a:custGeom>
                <a:avLst/>
                <a:gdLst/>
                <a:ahLst/>
                <a:rect l="l" t="t" r="r" b="b"/>
                <a:pathLst>
                  <a:path w="119" h="206">
                    <a:moveTo>
                      <a:pt x="118" y="6"/>
                    </a:moveTo>
                    <a:cubicBezTo>
                      <a:pt x="114" y="41"/>
                      <a:pt x="103" y="74"/>
                      <a:pt x="84" y="106"/>
                    </a:cubicBezTo>
                    <a:cubicBezTo>
                      <a:pt x="70" y="131"/>
                      <a:pt x="52" y="156"/>
                      <a:pt x="32" y="181"/>
                    </a:cubicBezTo>
                    <a:cubicBezTo>
                      <a:pt x="57" y="168"/>
                      <a:pt x="80" y="152"/>
                      <a:pt x="103" y="135"/>
                    </a:cubicBezTo>
                    <a:cubicBezTo>
                      <a:pt x="108" y="134"/>
                      <a:pt x="113" y="138"/>
                      <a:pt x="112" y="142"/>
                    </a:cubicBezTo>
                    <a:cubicBezTo>
                      <a:pt x="82" y="166"/>
                      <a:pt x="48" y="186"/>
                      <a:pt x="10" y="204"/>
                    </a:cubicBezTo>
                    <a:lnTo>
                      <a:pt x="10" y="204"/>
                    </a:lnTo>
                    <a:cubicBezTo>
                      <a:pt x="9" y="205"/>
                      <a:pt x="8" y="205"/>
                      <a:pt x="7" y="205"/>
                    </a:cubicBezTo>
                    <a:cubicBezTo>
                      <a:pt x="3" y="205"/>
                      <a:pt x="0" y="203"/>
                      <a:pt x="0" y="200"/>
                    </a:cubicBezTo>
                    <a:cubicBezTo>
                      <a:pt x="0" y="199"/>
                      <a:pt x="0" y="198"/>
                      <a:pt x="2" y="197"/>
                    </a:cubicBezTo>
                    <a:lnTo>
                      <a:pt x="2" y="197"/>
                    </a:lnTo>
                    <a:cubicBezTo>
                      <a:pt x="30" y="165"/>
                      <a:pt x="54" y="134"/>
                      <a:pt x="73" y="102"/>
                    </a:cubicBezTo>
                    <a:cubicBezTo>
                      <a:pt x="90" y="71"/>
                      <a:pt x="102" y="39"/>
                      <a:pt x="104" y="5"/>
                    </a:cubicBezTo>
                    <a:cubicBezTo>
                      <a:pt x="108" y="0"/>
                      <a:pt x="117" y="0"/>
                      <a:pt x="118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15000" y="562032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10" y="83"/>
                    </a:moveTo>
                    <a:cubicBezTo>
                      <a:pt x="20" y="88"/>
                      <a:pt x="32" y="91"/>
                      <a:pt x="44" y="93"/>
                    </a:cubicBezTo>
                    <a:cubicBezTo>
                      <a:pt x="55" y="95"/>
                      <a:pt x="68" y="96"/>
                      <a:pt x="82" y="96"/>
                    </a:cubicBezTo>
                    <a:cubicBezTo>
                      <a:pt x="98" y="96"/>
                      <a:pt x="115" y="95"/>
                      <a:pt x="133" y="91"/>
                    </a:cubicBezTo>
                    <a:cubicBezTo>
                      <a:pt x="150" y="87"/>
                      <a:pt x="169" y="81"/>
                      <a:pt x="185" y="73"/>
                    </a:cubicBezTo>
                    <a:cubicBezTo>
                      <a:pt x="202" y="65"/>
                      <a:pt x="219" y="56"/>
                      <a:pt x="234" y="44"/>
                    </a:cubicBezTo>
                    <a:cubicBezTo>
                      <a:pt x="249" y="32"/>
                      <a:pt x="263" y="18"/>
                      <a:pt x="274" y="1"/>
                    </a:cubicBezTo>
                    <a:cubicBezTo>
                      <a:pt x="280" y="0"/>
                      <a:pt x="285" y="1"/>
                      <a:pt x="287" y="7"/>
                    </a:cubicBezTo>
                    <a:cubicBezTo>
                      <a:pt x="274" y="24"/>
                      <a:pt x="259" y="39"/>
                      <a:pt x="243" y="51"/>
                    </a:cubicBezTo>
                    <a:cubicBezTo>
                      <a:pt x="227" y="63"/>
                      <a:pt x="210" y="74"/>
                      <a:pt x="192" y="82"/>
                    </a:cubicBezTo>
                    <a:cubicBezTo>
                      <a:pt x="174" y="91"/>
                      <a:pt x="155" y="97"/>
                      <a:pt x="137" y="101"/>
                    </a:cubicBezTo>
                    <a:cubicBezTo>
                      <a:pt x="118" y="105"/>
                      <a:pt x="99" y="107"/>
                      <a:pt x="82" y="107"/>
                    </a:cubicBezTo>
                    <a:cubicBezTo>
                      <a:pt x="67" y="107"/>
                      <a:pt x="54" y="106"/>
                      <a:pt x="40" y="103"/>
                    </a:cubicBezTo>
                    <a:cubicBezTo>
                      <a:pt x="28" y="101"/>
                      <a:pt x="15" y="97"/>
                      <a:pt x="4" y="93"/>
                    </a:cubicBezTo>
                    <a:cubicBezTo>
                      <a:pt x="0" y="86"/>
                      <a:pt x="4" y="83"/>
                      <a:pt x="10" y="8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8480" y="5416560"/>
                <a:ext cx="436680" cy="326880"/>
              </a:xfrm>
              <a:custGeom>
                <a:avLst/>
                <a:gdLst/>
                <a:ahLst/>
                <a:rect l="l" t="t" r="r" b="b"/>
                <a:pathLst>
                  <a:path w="1328" h="983">
                    <a:moveTo>
                      <a:pt x="86" y="664"/>
                    </a:moveTo>
                    <a:cubicBezTo>
                      <a:pt x="0" y="405"/>
                      <a:pt x="114" y="177"/>
                      <a:pt x="321" y="98"/>
                    </a:cubicBezTo>
                    <a:cubicBezTo>
                      <a:pt x="601" y="0"/>
                      <a:pt x="909" y="18"/>
                      <a:pt x="1216" y="327"/>
                    </a:cubicBezTo>
                    <a:cubicBezTo>
                      <a:pt x="1327" y="339"/>
                      <a:pt x="1189" y="425"/>
                      <a:pt x="1075" y="448"/>
                    </a:cubicBezTo>
                    <a:lnTo>
                      <a:pt x="1071" y="448"/>
                    </a:lnTo>
                    <a:cubicBezTo>
                      <a:pt x="1075" y="464"/>
                      <a:pt x="1077" y="481"/>
                      <a:pt x="1077" y="497"/>
                    </a:cubicBezTo>
                    <a:cubicBezTo>
                      <a:pt x="1077" y="516"/>
                      <a:pt x="1075" y="535"/>
                      <a:pt x="1069" y="554"/>
                    </a:cubicBezTo>
                    <a:cubicBezTo>
                      <a:pt x="1064" y="570"/>
                      <a:pt x="1056" y="587"/>
                      <a:pt x="1046" y="603"/>
                    </a:cubicBezTo>
                    <a:cubicBezTo>
                      <a:pt x="1066" y="629"/>
                      <a:pt x="1086" y="653"/>
                      <a:pt x="1105" y="679"/>
                    </a:cubicBezTo>
                    <a:lnTo>
                      <a:pt x="1105" y="679"/>
                    </a:lnTo>
                    <a:cubicBezTo>
                      <a:pt x="1106" y="681"/>
                      <a:pt x="1106" y="683"/>
                      <a:pt x="1106" y="686"/>
                    </a:cubicBezTo>
                    <a:lnTo>
                      <a:pt x="1106" y="687"/>
                    </a:lnTo>
                    <a:lnTo>
                      <a:pt x="1106" y="687"/>
                    </a:lnTo>
                    <a:cubicBezTo>
                      <a:pt x="1106" y="697"/>
                      <a:pt x="1105" y="707"/>
                      <a:pt x="1105" y="717"/>
                    </a:cubicBezTo>
                    <a:cubicBezTo>
                      <a:pt x="1114" y="729"/>
                      <a:pt x="1122" y="741"/>
                      <a:pt x="1132" y="754"/>
                    </a:cubicBezTo>
                    <a:lnTo>
                      <a:pt x="1132" y="754"/>
                    </a:lnTo>
                    <a:cubicBezTo>
                      <a:pt x="1134" y="755"/>
                      <a:pt x="1134" y="757"/>
                      <a:pt x="1135" y="759"/>
                    </a:cubicBezTo>
                    <a:lnTo>
                      <a:pt x="1135" y="759"/>
                    </a:lnTo>
                    <a:cubicBezTo>
                      <a:pt x="1137" y="797"/>
                      <a:pt x="1141" y="835"/>
                      <a:pt x="1145" y="873"/>
                    </a:cubicBezTo>
                    <a:lnTo>
                      <a:pt x="1145" y="872"/>
                    </a:lnTo>
                    <a:cubicBezTo>
                      <a:pt x="1145" y="873"/>
                      <a:pt x="1145" y="873"/>
                      <a:pt x="1145" y="873"/>
                    </a:cubicBezTo>
                    <a:cubicBezTo>
                      <a:pt x="1145" y="874"/>
                      <a:pt x="1145" y="875"/>
                      <a:pt x="1145" y="876"/>
                    </a:cubicBezTo>
                    <a:lnTo>
                      <a:pt x="1145" y="876"/>
                    </a:lnTo>
                    <a:cubicBezTo>
                      <a:pt x="1141" y="890"/>
                      <a:pt x="1136" y="902"/>
                      <a:pt x="1129" y="913"/>
                    </a:cubicBezTo>
                    <a:cubicBezTo>
                      <a:pt x="1120" y="923"/>
                      <a:pt x="1110" y="932"/>
                      <a:pt x="1099" y="939"/>
                    </a:cubicBezTo>
                    <a:cubicBezTo>
                      <a:pt x="1087" y="946"/>
                      <a:pt x="1075" y="951"/>
                      <a:pt x="1061" y="954"/>
                    </a:cubicBezTo>
                    <a:cubicBezTo>
                      <a:pt x="1047" y="958"/>
                      <a:pt x="1034" y="959"/>
                      <a:pt x="1020" y="959"/>
                    </a:cubicBezTo>
                    <a:cubicBezTo>
                      <a:pt x="1017" y="959"/>
                      <a:pt x="1016" y="959"/>
                      <a:pt x="1015" y="959"/>
                    </a:cubicBezTo>
                    <a:lnTo>
                      <a:pt x="1015" y="959"/>
                    </a:lnTo>
                    <a:cubicBezTo>
                      <a:pt x="945" y="942"/>
                      <a:pt x="884" y="916"/>
                      <a:pt x="826" y="884"/>
                    </a:cubicBezTo>
                    <a:cubicBezTo>
                      <a:pt x="781" y="859"/>
                      <a:pt x="740" y="831"/>
                      <a:pt x="697" y="800"/>
                    </a:cubicBezTo>
                    <a:cubicBezTo>
                      <a:pt x="699" y="805"/>
                      <a:pt x="700" y="810"/>
                      <a:pt x="701" y="815"/>
                    </a:cubicBezTo>
                    <a:cubicBezTo>
                      <a:pt x="705" y="896"/>
                      <a:pt x="641" y="982"/>
                      <a:pt x="419" y="944"/>
                    </a:cubicBezTo>
                    <a:cubicBezTo>
                      <a:pt x="340" y="930"/>
                      <a:pt x="264" y="917"/>
                      <a:pt x="190" y="894"/>
                    </a:cubicBezTo>
                    <a:cubicBezTo>
                      <a:pt x="106" y="867"/>
                      <a:pt x="16" y="791"/>
                      <a:pt x="46" y="742"/>
                    </a:cubicBezTo>
                    <a:cubicBezTo>
                      <a:pt x="99" y="720"/>
                      <a:pt x="96" y="693"/>
                      <a:pt x="86" y="664"/>
                    </a:cubicBezTo>
                    <a:close/>
                    <a:moveTo>
                      <a:pt x="1030" y="448"/>
                    </a:moveTo>
                    <a:cubicBezTo>
                      <a:pt x="961" y="474"/>
                      <a:pt x="901" y="490"/>
                      <a:pt x="835" y="528"/>
                    </a:cubicBezTo>
                    <a:cubicBezTo>
                      <a:pt x="735" y="587"/>
                      <a:pt x="686" y="643"/>
                      <a:pt x="685" y="723"/>
                    </a:cubicBezTo>
                    <a:cubicBezTo>
                      <a:pt x="689" y="721"/>
                      <a:pt x="694" y="722"/>
                      <a:pt x="695" y="727"/>
                    </a:cubicBezTo>
                    <a:cubicBezTo>
                      <a:pt x="696" y="731"/>
                      <a:pt x="697" y="736"/>
                      <a:pt x="697" y="740"/>
                    </a:cubicBezTo>
                    <a:cubicBezTo>
                      <a:pt x="805" y="772"/>
                      <a:pt x="917" y="795"/>
                      <a:pt x="1022" y="799"/>
                    </a:cubicBezTo>
                    <a:cubicBezTo>
                      <a:pt x="1025" y="798"/>
                      <a:pt x="1027" y="797"/>
                      <a:pt x="1030" y="796"/>
                    </a:cubicBezTo>
                    <a:cubicBezTo>
                      <a:pt x="1032" y="795"/>
                      <a:pt x="1036" y="793"/>
                      <a:pt x="1039" y="791"/>
                    </a:cubicBezTo>
                    <a:cubicBezTo>
                      <a:pt x="1045" y="787"/>
                      <a:pt x="1051" y="783"/>
                      <a:pt x="1057" y="779"/>
                    </a:cubicBezTo>
                    <a:cubicBezTo>
                      <a:pt x="1060" y="771"/>
                      <a:pt x="1062" y="763"/>
                      <a:pt x="1065" y="755"/>
                    </a:cubicBezTo>
                    <a:cubicBezTo>
                      <a:pt x="1069" y="746"/>
                      <a:pt x="1071" y="736"/>
                      <a:pt x="1072" y="724"/>
                    </a:cubicBezTo>
                    <a:cubicBezTo>
                      <a:pt x="1071" y="723"/>
                      <a:pt x="1071" y="721"/>
                      <a:pt x="1071" y="720"/>
                    </a:cubicBezTo>
                    <a:lnTo>
                      <a:pt x="1071" y="719"/>
                    </a:lnTo>
                    <a:lnTo>
                      <a:pt x="1071" y="719"/>
                    </a:lnTo>
                    <a:cubicBezTo>
                      <a:pt x="1072" y="709"/>
                      <a:pt x="1072" y="699"/>
                      <a:pt x="1074" y="689"/>
                    </a:cubicBezTo>
                    <a:cubicBezTo>
                      <a:pt x="1054" y="662"/>
                      <a:pt x="1032" y="638"/>
                      <a:pt x="1014" y="610"/>
                    </a:cubicBezTo>
                    <a:lnTo>
                      <a:pt x="1014" y="610"/>
                    </a:lnTo>
                    <a:cubicBezTo>
                      <a:pt x="1012" y="608"/>
                      <a:pt x="1011" y="606"/>
                      <a:pt x="1011" y="604"/>
                    </a:cubicBezTo>
                    <a:cubicBezTo>
                      <a:pt x="1011" y="602"/>
                      <a:pt x="1012" y="600"/>
                      <a:pt x="1014" y="598"/>
                    </a:cubicBezTo>
                    <a:lnTo>
                      <a:pt x="1014" y="598"/>
                    </a:lnTo>
                    <a:cubicBezTo>
                      <a:pt x="1024" y="581"/>
                      <a:pt x="1032" y="564"/>
                      <a:pt x="1037" y="547"/>
                    </a:cubicBezTo>
                    <a:cubicBezTo>
                      <a:pt x="1042" y="531"/>
                      <a:pt x="1045" y="514"/>
                      <a:pt x="1045" y="497"/>
                    </a:cubicBezTo>
                    <a:cubicBezTo>
                      <a:pt x="1045" y="481"/>
                      <a:pt x="1042" y="464"/>
                      <a:pt x="1037" y="448"/>
                    </a:cubicBezTo>
                    <a:lnTo>
                      <a:pt x="1030" y="448"/>
                    </a:lnTo>
                    <a:close/>
                    <a:moveTo>
                      <a:pt x="687" y="757"/>
                    </a:moveTo>
                    <a:cubicBezTo>
                      <a:pt x="740" y="796"/>
                      <a:pt x="791" y="832"/>
                      <a:pt x="845" y="863"/>
                    </a:cubicBezTo>
                    <a:cubicBezTo>
                      <a:pt x="899" y="893"/>
                      <a:pt x="956" y="917"/>
                      <a:pt x="1022" y="933"/>
                    </a:cubicBezTo>
                    <a:cubicBezTo>
                      <a:pt x="1032" y="933"/>
                      <a:pt x="1042" y="932"/>
                      <a:pt x="1051" y="929"/>
                    </a:cubicBezTo>
                    <a:cubicBezTo>
                      <a:pt x="1061" y="927"/>
                      <a:pt x="1071" y="923"/>
                      <a:pt x="1079" y="918"/>
                    </a:cubicBezTo>
                    <a:cubicBezTo>
                      <a:pt x="1087" y="913"/>
                      <a:pt x="1094" y="907"/>
                      <a:pt x="1100" y="899"/>
                    </a:cubicBezTo>
                    <a:cubicBezTo>
                      <a:pt x="1105" y="892"/>
                      <a:pt x="1110" y="883"/>
                      <a:pt x="1111" y="873"/>
                    </a:cubicBezTo>
                    <a:cubicBezTo>
                      <a:pt x="1109" y="844"/>
                      <a:pt x="1106" y="816"/>
                      <a:pt x="1104" y="787"/>
                    </a:cubicBezTo>
                    <a:cubicBezTo>
                      <a:pt x="1104" y="788"/>
                      <a:pt x="1102" y="789"/>
                      <a:pt x="1101" y="789"/>
                    </a:cubicBezTo>
                    <a:lnTo>
                      <a:pt x="1099" y="791"/>
                    </a:lnTo>
                    <a:cubicBezTo>
                      <a:pt x="1099" y="796"/>
                      <a:pt x="1100" y="806"/>
                      <a:pt x="1100" y="811"/>
                    </a:cubicBezTo>
                    <a:cubicBezTo>
                      <a:pt x="1100" y="836"/>
                      <a:pt x="1097" y="862"/>
                      <a:pt x="1092" y="890"/>
                    </a:cubicBezTo>
                    <a:cubicBezTo>
                      <a:pt x="1085" y="895"/>
                      <a:pt x="1080" y="893"/>
                      <a:pt x="1074" y="888"/>
                    </a:cubicBezTo>
                    <a:cubicBezTo>
                      <a:pt x="1077" y="860"/>
                      <a:pt x="1080" y="836"/>
                      <a:pt x="1080" y="811"/>
                    </a:cubicBezTo>
                    <a:cubicBezTo>
                      <a:pt x="1080" y="807"/>
                      <a:pt x="1080" y="803"/>
                      <a:pt x="1080" y="800"/>
                    </a:cubicBezTo>
                    <a:lnTo>
                      <a:pt x="1047" y="816"/>
                    </a:lnTo>
                    <a:cubicBezTo>
                      <a:pt x="1047" y="821"/>
                      <a:pt x="1047" y="826"/>
                      <a:pt x="1047" y="832"/>
                    </a:cubicBezTo>
                    <a:cubicBezTo>
                      <a:pt x="1047" y="857"/>
                      <a:pt x="1045" y="883"/>
                      <a:pt x="1040" y="911"/>
                    </a:cubicBezTo>
                    <a:cubicBezTo>
                      <a:pt x="1034" y="918"/>
                      <a:pt x="1025" y="917"/>
                      <a:pt x="1021" y="909"/>
                    </a:cubicBezTo>
                    <a:cubicBezTo>
                      <a:pt x="1025" y="881"/>
                      <a:pt x="1027" y="857"/>
                      <a:pt x="1027" y="832"/>
                    </a:cubicBezTo>
                    <a:cubicBezTo>
                      <a:pt x="1027" y="827"/>
                      <a:pt x="1027" y="821"/>
                      <a:pt x="1027" y="816"/>
                    </a:cubicBezTo>
                    <a:lnTo>
                      <a:pt x="1019" y="809"/>
                    </a:lnTo>
                    <a:cubicBezTo>
                      <a:pt x="912" y="805"/>
                      <a:pt x="797" y="781"/>
                      <a:pt x="690" y="749"/>
                    </a:cubicBezTo>
                    <a:lnTo>
                      <a:pt x="689" y="749"/>
                    </a:lnTo>
                    <a:lnTo>
                      <a:pt x="687" y="748"/>
                    </a:lnTo>
                    <a:cubicBezTo>
                      <a:pt x="687" y="751"/>
                      <a:pt x="687" y="754"/>
                      <a:pt x="687" y="757"/>
                    </a:cubicBezTo>
                    <a:close/>
                    <a:moveTo>
                      <a:pt x="1082" y="739"/>
                    </a:moveTo>
                    <a:cubicBezTo>
                      <a:pt x="1081" y="746"/>
                      <a:pt x="1080" y="752"/>
                      <a:pt x="1077" y="757"/>
                    </a:cubicBezTo>
                    <a:cubicBezTo>
                      <a:pt x="1075" y="767"/>
                      <a:pt x="1072" y="775"/>
                      <a:pt x="1070" y="784"/>
                    </a:cubicBezTo>
                    <a:lnTo>
                      <a:pt x="1070" y="784"/>
                    </a:lnTo>
                    <a:cubicBezTo>
                      <a:pt x="1069" y="785"/>
                      <a:pt x="1067" y="786"/>
                      <a:pt x="1066" y="787"/>
                    </a:cubicBezTo>
                    <a:cubicBezTo>
                      <a:pt x="1060" y="790"/>
                      <a:pt x="1054" y="795"/>
                      <a:pt x="1047" y="799"/>
                    </a:cubicBezTo>
                    <a:cubicBezTo>
                      <a:pt x="1044" y="801"/>
                      <a:pt x="1040" y="804"/>
                      <a:pt x="1036" y="805"/>
                    </a:cubicBezTo>
                    <a:cubicBezTo>
                      <a:pt x="1035" y="806"/>
                      <a:pt x="1035" y="806"/>
                      <a:pt x="1034" y="806"/>
                    </a:cubicBezTo>
                    <a:lnTo>
                      <a:pt x="1036" y="808"/>
                    </a:lnTo>
                    <a:lnTo>
                      <a:pt x="1092" y="781"/>
                    </a:lnTo>
                    <a:lnTo>
                      <a:pt x="1099" y="760"/>
                    </a:lnTo>
                    <a:lnTo>
                      <a:pt x="1099" y="760"/>
                    </a:lnTo>
                    <a:cubicBezTo>
                      <a:pt x="1094" y="753"/>
                      <a:pt x="1089" y="746"/>
                      <a:pt x="1082" y="7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419640" y="5580000"/>
            <a:ext cx="718920" cy="719280"/>
            <a:chOff x="3419640" y="5580000"/>
            <a:chExt cx="718920" cy="719280"/>
          </a:xfrm>
        </p:grpSpPr>
        <p:grpSp>
          <p:nvGrpSpPr>
            <p:cNvPr id="199" name=""/>
            <p:cNvGrpSpPr/>
            <p:nvPr/>
          </p:nvGrpSpPr>
          <p:grpSpPr>
            <a:xfrm>
              <a:off x="3419640" y="5580000"/>
              <a:ext cx="718920" cy="719280"/>
              <a:chOff x="3419640" y="5580000"/>
              <a:chExt cx="718920" cy="719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3419640" y="5580000"/>
                <a:ext cx="718920" cy="719280"/>
                <a:chOff x="3419640" y="5580000"/>
                <a:chExt cx="718920" cy="719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419640" y="5580000"/>
                  <a:ext cx="718920" cy="71928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423960" y="5582880"/>
                  <a:ext cx="711000" cy="71136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38000" y="5598720"/>
                  <a:ext cx="681120" cy="68112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3859200" y="5754600"/>
              <a:ext cx="215640" cy="480600"/>
              <a:chOff x="3859200" y="5754600"/>
              <a:chExt cx="215640" cy="48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987360" y="5754600"/>
                <a:ext cx="8568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94840" y="5787360"/>
                <a:ext cx="178200" cy="19188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01320" y="5899680"/>
                <a:ext cx="171720" cy="18432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59200" y="6015600"/>
                <a:ext cx="214200" cy="12456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0680" y="611532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14680" y="5640480"/>
              <a:ext cx="276120" cy="59832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920000" y="5400720"/>
            <a:ext cx="719280" cy="718920"/>
            <a:chOff x="7920000" y="5400720"/>
            <a:chExt cx="719280" cy="718920"/>
          </a:xfrm>
        </p:grpSpPr>
        <p:grpSp>
          <p:nvGrpSpPr>
            <p:cNvPr id="212" name=""/>
            <p:cNvGrpSpPr/>
            <p:nvPr/>
          </p:nvGrpSpPr>
          <p:grpSpPr>
            <a:xfrm>
              <a:off x="7920000" y="5400720"/>
              <a:ext cx="719280" cy="718920"/>
              <a:chOff x="7920000" y="5400720"/>
              <a:chExt cx="719280" cy="7189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920000" y="5400720"/>
                <a:ext cx="719280" cy="718920"/>
                <a:chOff x="7920000" y="5400720"/>
                <a:chExt cx="719280" cy="718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920000" y="540072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922880" y="540360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38720" y="541944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8358120" y="5575320"/>
              <a:ext cx="215640" cy="480600"/>
              <a:chOff x="8358120" y="5575320"/>
              <a:chExt cx="215640" cy="480600"/>
            </a:xfrm>
          </p:grpSpPr>
          <p:sp>
            <p:nvSpPr>
              <p:cNvPr id="218" name=""/>
              <p:cNvSpPr/>
              <p:nvPr/>
            </p:nvSpPr>
            <p:spPr>
              <a:xfrm>
                <a:off x="8487720" y="557532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95560" y="5606280"/>
                <a:ext cx="17820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02040" y="572040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8120" y="5835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09600" y="593604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15400" y="5460840"/>
              <a:ext cx="276120" cy="59868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080" y="1800360"/>
            <a:ext cx="880920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ЧЕНЬ ИНТЕРЕСНО И ВА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38520" y="3708360"/>
            <a:ext cx="1438200" cy="1438200"/>
            <a:chOff x="3638520" y="3708360"/>
            <a:chExt cx="1438200" cy="1438200"/>
          </a:xfrm>
        </p:grpSpPr>
        <p:sp>
          <p:nvSpPr>
            <p:cNvPr id="227" name=""/>
            <p:cNvSpPr/>
            <p:nvPr/>
          </p:nvSpPr>
          <p:spPr>
            <a:xfrm>
              <a:off x="3638520" y="3708360"/>
              <a:ext cx="1438200" cy="1438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922200" y="4193280"/>
              <a:ext cx="276120" cy="276120"/>
              <a:chOff x="3922200" y="4193280"/>
              <a:chExt cx="276120" cy="276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92220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5676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9960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1832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83440" y="4193280"/>
              <a:ext cx="276120" cy="276120"/>
              <a:chOff x="4483440" y="4193280"/>
              <a:chExt cx="276120" cy="276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48344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1800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084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956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950640" y="4673880"/>
              <a:ext cx="811800" cy="271080"/>
              <a:chOff x="3950640" y="4673880"/>
              <a:chExt cx="811800" cy="271080"/>
            </a:xfrm>
          </p:grpSpPr>
          <p:sp>
            <p:nvSpPr>
              <p:cNvPr id="239" name=""/>
              <p:cNvSpPr/>
              <p:nvPr/>
            </p:nvSpPr>
            <p:spPr>
              <a:xfrm>
                <a:off x="3950640" y="4673880"/>
                <a:ext cx="811800" cy="271080"/>
              </a:xfrm>
              <a:custGeom>
                <a:avLst/>
                <a:gdLst/>
                <a:ahLst/>
                <a:rect l="l" t="t" r="r" b="b"/>
                <a:pathLst>
                  <a:path w="2264" h="763">
                    <a:moveTo>
                      <a:pt x="1107" y="493"/>
                    </a:moveTo>
                    <a:cubicBezTo>
                      <a:pt x="450" y="493"/>
                      <a:pt x="8" y="0"/>
                      <a:pt x="0" y="4"/>
                    </a:cubicBezTo>
                    <a:cubicBezTo>
                      <a:pt x="0" y="184"/>
                      <a:pt x="465" y="762"/>
                      <a:pt x="1124" y="762"/>
                    </a:cubicBezTo>
                    <a:cubicBezTo>
                      <a:pt x="1783" y="762"/>
                      <a:pt x="2263" y="195"/>
                      <a:pt x="2263" y="15"/>
                    </a:cubicBezTo>
                    <a:cubicBezTo>
                      <a:pt x="2216" y="27"/>
                      <a:pt x="1763" y="493"/>
                      <a:pt x="1107" y="493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4040" y="4706640"/>
                <a:ext cx="764280" cy="223560"/>
              </a:xfrm>
              <a:custGeom>
                <a:avLst/>
                <a:gdLst/>
                <a:ahLst/>
                <a:rect l="l" t="t" r="r" b="b"/>
                <a:pathLst>
                  <a:path w="2131" h="630">
                    <a:moveTo>
                      <a:pt x="1083" y="419"/>
                    </a:moveTo>
                    <a:cubicBezTo>
                      <a:pt x="1670" y="419"/>
                      <a:pt x="2122" y="0"/>
                      <a:pt x="2130" y="3"/>
                    </a:cubicBezTo>
                    <a:cubicBezTo>
                      <a:pt x="2130" y="145"/>
                      <a:pt x="1656" y="629"/>
                      <a:pt x="1067" y="629"/>
                    </a:cubicBezTo>
                    <a:cubicBezTo>
                      <a:pt x="478" y="629"/>
                      <a:pt x="0" y="145"/>
                      <a:pt x="0" y="3"/>
                    </a:cubicBezTo>
                    <a:cubicBezTo>
                      <a:pt x="42" y="13"/>
                      <a:pt x="494" y="419"/>
                      <a:pt x="1083" y="419"/>
                    </a:cubicBezTo>
                  </a:path>
                </a:pathLst>
              </a:custGeom>
              <a:solidFill>
                <a:srgbClr val="eb613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39:44Z</dcterms:created>
  <dc:creator>imc</dc:creator>
  <dc:description/>
  <dc:language>en-US</dc:language>
  <cp:lastModifiedBy>imc</cp:lastModifiedBy>
  <dcterms:modified xsi:type="dcterms:W3CDTF">2013-04-01T08:40:25Z</dcterms:modified>
  <cp:revision>2</cp:revision>
  <dc:subject/>
  <dc:title>М Б Д О У — 41  г.КОВРОВ    </dc:title>
</cp:coreProperties>
</file>