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chimes.wav" ContentType="audio/x-wav"/>
  <Override PartName="/ppt/media/image8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9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5B3B3-F527-4031-ACDC-EF35F8BF5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9E45B-9665-44CD-97C3-FB7A6269D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E533C-3F24-4A0C-A10F-5C0396F0E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20BB0-7BFB-45BC-9107-DCA3CA88F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89852-34A7-43E2-8914-3B55F525B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F8DCE-AE10-4C14-AF3D-D2265801B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0BA3A-2E38-4A82-AE9E-5A61DBA0A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72670-64B3-471F-82A4-8063E36E7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0DD7A-7CE2-4ADF-8451-17BF4EDEB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A3FDC-B1E5-4570-82BB-4E9FE0461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B1F5D-8A02-4F06-BCCF-39993FFC3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2ED6E-C811-46E3-A5C4-CFC82E26F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B8468-184B-4A77-8612-420817DEE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48931-9A5A-4141-96E7-819A874D2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6FDB8-4D74-4D9A-9E1A-7D512AC6E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9C2B4-106D-43FB-B76F-6DE470854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3D06E-AE32-4645-B4D6-EF3658852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076580-5C60-4AFD-A05B-4AAD58D37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18ED1B-5975-4111-843D-CA82930DB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F075D5-B2E7-4369-A974-6A33BE8EA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DDB9AD-B4B9-40C3-A48A-0A6B35221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315B17-7957-45FE-8B89-C7FFB4019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75B61-1D48-4C3B-8647-7EF84373D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3B5B4A-B2EB-4C36-901B-6CC977617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B04C5F-6E2D-45B8-8AAF-9959ED1E7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3471D9-DCD6-410E-A1D9-74C196382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8E37E2-0792-44D3-AA3D-E514B2BCE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56E20E-44A7-4E79-9342-80B46281B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B5E72D-BEFB-4F3C-8272-B3B1AEFC6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66DCE9-C12D-43C8-BF7F-D85746759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3CE461-8192-4A5B-8151-078646F0D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560116-0733-4091-A2A8-8FCC5EB4D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CD3593-4A3F-4F11-BB70-195E58653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5E760-F48D-4E4D-BA87-E5E1B2915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8B824D-1305-4A44-B607-78F5B6EC8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82BADC-66F0-4FE5-BC8B-A367BFB7B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E38ECD-E194-43B1-8C80-6C2FFFE0A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0D8681-4EF4-42C3-94FF-A7DDD290D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EC0FB1-05B0-4ACA-995C-33E9FC296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6E3299-FA58-4053-BC9B-A925E499B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B76B4F-DCF1-4B02-BD53-67E7D6966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D4CEB1-D8B8-41D4-AD69-86C24E6FA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833E1B-2BDD-4968-A9AC-3B5007A12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8EE42B-59E4-407D-B3FD-18DAAD816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5B705-74DE-4661-AB95-867F8AFFB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665095-98AE-4A56-8DCB-FBCED6A33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179544-B374-4F60-BEF1-43DE6374C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443B8F-F402-4BE4-80F7-59DC1CEE2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6BA0E9-C33B-41B0-BC6B-4865DBD0C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5F0D9C-459E-44D6-BC97-861465566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7D60BE-0ABA-4544-9A7F-29A4A899B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B25B1C-D92E-4FEF-95B3-8AC5E8680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18B19F-526D-4F46-B838-CB7D6E125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BCED1B-DB1A-47EC-8474-7F9AB07F8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1A8155-0C84-4E21-9678-9B4F8F1E2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93CC0-284C-4BE0-BB0C-586816696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B0C834-CD38-4DAB-A580-33F0B1520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A7A35-A8CF-4622-A575-BCE75DED4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461A2-8E09-4EB8-935C-7CB8A1BB8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EE26D-0C40-4C6B-AA43-1AAB44D4F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486E1-2651-401F-BAFB-E01703ED7D8D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47" name="Прямая соединительная линия 8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6FDAF-F289-421C-B57F-22EDD57F89A4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59807-5B14-48F3-9303-0FA8E5A8DC7C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4" name="Прямоугольник 8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4e7ed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C4F0D-92BC-4E82-99AE-CC0108531DB4}" type="slidenum">
              <a:rPr b="0" lang="ru-RU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7C5BF-A42F-463B-8386-18CBED88A8C4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Заголовок 1" descr=""/>
          <p:cNvPicPr/>
          <p:nvPr/>
        </p:nvPicPr>
        <p:blipFill>
          <a:blip r:embed="rId2"/>
          <a:stretch/>
        </p:blipFill>
        <p:spPr>
          <a:xfrm>
            <a:off x="3359160" y="530280"/>
            <a:ext cx="5979960" cy="287820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2843280" y="3573000"/>
            <a:ext cx="6121440" cy="1716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b050"/>
                </a:solidFill>
                <a:latin typeface="Trebuchet MS"/>
              </a:rPr>
              <a:t>Адаптация ребёнка к детскому садику.</a:t>
            </a:r>
            <a:endParaRPr b="0" lang="en-US" sz="33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00"/>
                </a:solidFill>
                <a:latin typeface="Trebuchet MS"/>
              </a:rPr>
              <a:t>МБДОУ №3 </a:t>
            </a: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00"/>
                </a:solidFill>
                <a:latin typeface="Trebuchet MS"/>
              </a:rPr>
              <a:t>Группа №2</a:t>
            </a: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00"/>
                </a:solidFill>
                <a:latin typeface="Trebuchet MS"/>
              </a:rPr>
              <a:t>Воспитатели: Марёшина О.В.</a:t>
            </a: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00"/>
                </a:solidFill>
                <a:latin typeface="Trebuchet MS"/>
              </a:rPr>
              <a:t>                            </a:t>
            </a:r>
            <a:r>
              <a:rPr b="0" lang="ru-RU" sz="1200" spc="-1" strike="noStrike">
                <a:solidFill>
                  <a:srgbClr val="ffff00"/>
                </a:solidFill>
                <a:latin typeface="Trebuchet MS"/>
              </a:rPr>
              <a:t>Вилкова С.А.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advTm="3000">
    <p:wedge/>
    <p:sndAc>
      <p:stSnd>
        <p:snd r:embed="rId3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Заголовок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115092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Активизация речевых процессов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Развитие произвольности поведения , умения подчиняться правилам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Развитие игровых навыков , переход от игры «рядом» к игре «вместе»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advTm="3000">
    <p:wedge/>
    <p:sndAc>
      <p:stSnd>
        <p:snd r:embed="rId2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Заголовок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1150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56320" indent="-2563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Преодоление стрессовых состояний у детей в период адаптации к ДОУ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56320" indent="-2563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Создание положительного эмоционального климата в детском коллективе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56320" indent="-2563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Развитие общей и мелкой моторики , координации движений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56320" indent="-2563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Снятие эмоционального и мышечного напряжения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56320" indent="-2563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Развитие навыков общения , взаимодействия со взрослыми и сверстниками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advTm="0">
    <p:wedge/>
    <p:sndAc>
      <p:stSnd>
        <p:snd r:embed="rId2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Заголовок 1" descr=""/>
          <p:cNvPicPr/>
          <p:nvPr/>
        </p:nvPicPr>
        <p:blipFill>
          <a:blip r:embed="rId1"/>
          <a:stretch/>
        </p:blipFill>
        <p:spPr>
          <a:xfrm>
            <a:off x="244440" y="291960"/>
            <a:ext cx="9350280" cy="117648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 txBox="1"/>
          <p:nvPr/>
        </p:nvSpPr>
        <p:spPr>
          <a:xfrm>
            <a:off x="456840" y="1600200"/>
            <a:ext cx="352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Использовать элементы телесной терапии(брать ребёнка на руки, обнимать, поглаживать)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Использовать игровые методы взаимодействия с ребёнком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177800" y="1600200"/>
            <a:ext cx="352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Создавать у ребёнка положительную установку на предстоящие режимные процессы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Рассказывать сказки , петь колыбельные перед сном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wedge/>
    <p:sndAc>
      <p:stSnd>
        <p:snd r:embed="rId2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Заголовок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115092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 txBox="1"/>
          <p:nvPr/>
        </p:nvSpPr>
        <p:spPr>
          <a:xfrm>
            <a:off x="456840" y="1600200"/>
            <a:ext cx="352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0000"/>
                </a:solidFill>
                <a:latin typeface="Trebuchet MS"/>
              </a:rPr>
              <a:t>Трудности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Отсутствие в семье режима , совпадающего с режимом детского сада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Несформированность элементарных культурно-гигиенических навыков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177800" y="1600200"/>
            <a:ext cx="352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61720" indent="-261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0000"/>
                </a:solidFill>
                <a:latin typeface="Trebuchet MS"/>
              </a:rPr>
              <a:t>Решения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Провести работу с родителями , чтобы дети находясь дома придерживались режима детского сада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Приучать к самообслуживанию , поощрять попытки самостоятельных действий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wedge/>
    <p:sndAc>
      <p:stSnd>
        <p:snd r:embed="rId2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Заголовок 1" descr=""/>
          <p:cNvPicPr/>
          <p:nvPr/>
        </p:nvPicPr>
        <p:blipFill>
          <a:blip r:embed="rId1"/>
          <a:stretch/>
        </p:blipFill>
        <p:spPr>
          <a:xfrm>
            <a:off x="450720" y="291960"/>
            <a:ext cx="7255080" cy="117648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 txBox="1"/>
          <p:nvPr/>
        </p:nvSpPr>
        <p:spPr>
          <a:xfrm>
            <a:off x="250920" y="980640"/>
            <a:ext cx="7634160" cy="556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64600" indent="-264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                                 </a:t>
            </a:r>
            <a:r>
              <a:rPr b="0" lang="ru-RU" sz="1800" spc="-1" strike="noStrike">
                <a:solidFill>
                  <a:srgbClr val="7030a0"/>
                </a:solidFill>
                <a:latin typeface="Trebuchet MS"/>
              </a:rPr>
              <a:t>Уважаемые родители!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rebuchet MS"/>
              </a:rPr>
              <a:t>    </a:t>
            </a:r>
            <a:r>
              <a:rPr b="0" lang="ru-RU" sz="1400" spc="-1" strike="noStrike">
                <a:solidFill>
                  <a:srgbClr val="000000"/>
                </a:solidFill>
                <a:latin typeface="Trebuchet MS"/>
              </a:rPr>
              <a:t>Для того, чтобы ваш ребёнок быстро и легко привык к новому образу жизни, который предлагает детский сад , чувствовал себя в группе уверенно и комфортно ,мы просим вас о сотрудничестве в период его адаптации к новым условиям.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rebuchet MS"/>
              </a:rPr>
              <a:t>           </a:t>
            </a:r>
            <a:r>
              <a:rPr b="0" lang="ru-RU" sz="1400" spc="-1" strike="noStrike">
                <a:solidFill>
                  <a:srgbClr val="000000"/>
                </a:solidFill>
                <a:latin typeface="Trebuchet MS"/>
              </a:rPr>
              <a:t>В детском саду ребёнку нужно привыкнуть: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rebuchet MS"/>
              </a:rPr>
              <a:t>К новым взрослым людям , которые будут о нём заботиться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rebuchet MS"/>
              </a:rPr>
              <a:t>К новой обстановке , помещениям, мебели , игрушкам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rebuchet MS"/>
              </a:rPr>
              <a:t>Обществу своих сверстников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rebuchet MS"/>
              </a:rPr>
              <a:t>Новой пище и условиям еды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rebuchet MS"/>
              </a:rPr>
              <a:t>Новой обстановке для сна.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rebuchet MS"/>
              </a:rPr>
              <a:t>       </a:t>
            </a:r>
            <a:r>
              <a:rPr b="0" lang="ru-RU" sz="1400" spc="-1" strike="noStrike">
                <a:solidFill>
                  <a:srgbClr val="000000"/>
                </a:solidFill>
                <a:latin typeface="Trebuchet MS"/>
              </a:rPr>
              <a:t>Вашему ребёнку будет проще привыкать ко всему постепенно . Поэтому мы просим вас в первый раз прийти с ребёнком в то время, когда в группе не будет других детей и воспитатель сможет познакомиться с вашим малышом , а он- изучить нового для него взрослого человека . Ребёнок будет чувствовать себя уверенно , если вы будете на первых порах   рядом с ним.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rebuchet MS"/>
              </a:rPr>
              <a:t>Первую неделю мы просим вас приходить в период с 9.00 до 11.00,накормив ребёнка дома завтраком, и оставаться с нами в группе до обеда.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rebuchet MS"/>
              </a:rPr>
              <a:t>Вторую неделю мы предложим ребёнку попробовать обедать в группе и, возможно ,к концу недели - спать. 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rebuchet MS"/>
              </a:rPr>
              <a:t>Третью и четвёртую неделю просим забирать ребёнка вскоре после дневного сна.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rebuchet MS"/>
              </a:rPr>
              <a:t>        </a:t>
            </a:r>
            <a:r>
              <a:rPr b="0" lang="ru-RU" sz="1400" spc="-1" strike="noStrike">
                <a:solidFill>
                  <a:srgbClr val="000000"/>
                </a:solidFill>
                <a:latin typeface="Trebuchet MS"/>
              </a:rPr>
              <a:t>Дома в адаптационный период нужно относиться к малышу , более терпимо и внимательно. Если что-либо волнует вас в связи с детским садом , не обсуждайте это при ребёнке , но обязательно поделитесь всеми опасениями с сотрудниками нашего учреждения. Просим вас рассказать психологу и воспитателям о ребёнке как можно больше , всё , что вы считаете особенно важным. Мы готовы прислушаться ко всем вашим пожеланиям.        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wedge/>
    <p:sndAc>
      <p:stSnd>
        <p:snd r:embed="rId2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Заголовок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115092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Помощь и поддержка методиста и коллег-воспитателей работающих в одной параллели с нами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Интернет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Методическая литература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Взаимопонимание со стороны родителей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wedge/>
    <p:sndAc>
      <p:stSnd>
        <p:snd r:embed="rId2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Заголовок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1150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56320" indent="-256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Особое внимание            Апробирование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56320" indent="-256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Формулированию          методик работы в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56320" indent="-256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вопросов                     парах и малых группах    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56320" indent="-256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56320" indent="-256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56320" indent="-256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rebuchet MS"/>
              </a:rPr>
              <a:t>Сентябрь             Ноябрь               Январь         Март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56320" indent="-256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        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56320" indent="-256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Перестроиться с                           Анализ полученного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56320" indent="-256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исключительно требования          опыта и         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56320" indent="-256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на мотивацию и поддержку          планирование на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56320" indent="-256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          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будущее  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                         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wedge/>
    <p:sndAc>
      <p:stSnd>
        <p:snd r:embed="rId2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5T16:10:24Z</dcterms:created>
  <dc:creator>катя</dc:creator>
  <dc:description/>
  <dc:language>en-US</dc:language>
  <cp:lastModifiedBy>imc</cp:lastModifiedBy>
  <dcterms:modified xsi:type="dcterms:W3CDTF">2012-12-19T09:11:23Z</dcterms:modified>
  <cp:revision>21</cp:revision>
  <dc:subject/>
  <dc:title>План   действий</dc:title>
</cp:coreProperties>
</file>