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chimes.wav" ContentType="audio/x-wav"/>
  <Override PartName="/ppt/media/image8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93CD-5AD7-436B-8D3D-A36B5766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0AD6-9D11-497C-AE40-38D10670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78DC-95F1-4363-8A11-4959EADC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C5DB-3A15-4016-B01B-BD5CC11F8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CA3B-9C5B-44C6-9134-73301D17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E7C0-0EB3-48AC-AE35-7CCADECF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55F6-C5CA-4C74-8E84-A50A2A85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0519-DA12-49DD-A94E-ADE7B62D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E00F-94EC-47BA-A498-8470B550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B11D-F81C-48DE-8066-5BA62618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6B22-9509-4D49-96B9-BE64183D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E05A-C5AF-4D96-888B-611D6C9A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C258-312E-425D-A5E9-BD7AA940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BCF8-2F88-434E-967D-45E934DF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CD9A-F7E8-44DE-8588-73DBE8A0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AD07-8336-4FB7-B468-145757EB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0E5E-2742-45EB-9BAC-A5D5C752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93A62-63F1-450B-B058-C7E506D1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06CD5-D71F-4A03-BE88-7FEAE232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9C511-A602-43B8-AEDB-3AC1DC6C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9C02C-FFAE-42FF-B194-C51629D5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B1866-72C6-427C-848D-627FC37A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F31B-C401-4BA3-8B52-BDEC82DC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D473C-114F-43A1-913F-BA8FEECE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F4479-B1D9-44FE-8FA9-40A09D38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835EB-17EB-4C37-A297-CDE88CB8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D621F-F3FE-457F-99B0-3362ADFF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CE432-5C52-4645-8FB9-92DDB409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87F70-0BCF-4688-98F1-5EF26DD2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36751-9EBE-49DB-AE74-2CFCB228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C69AC-65E0-40F9-9302-9C522C22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F1752-988C-4B8E-A017-10611379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818C4-D64F-4251-9EDB-B31C36FB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4410-F421-4CB9-A610-9E393815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15489-77A1-4710-B591-91A03467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00AFD-A8E7-4B0B-AD9A-457A4D44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4ED5D-8153-4D1D-9B3D-8FEBE279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00B82-74CE-43B6-8A2A-CE72C113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9DFDE-571B-41D8-ABF7-6563D7AA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63AE4-EA79-47F0-993E-5DB776B9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00B58-7C12-4939-8CB4-C79D3135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4BCB8-25E1-4CD4-BCDF-01B0C23F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8DD35-FCB5-4DAC-8075-E0EE440E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A96E7-951D-4137-A1E6-28535323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12EB-873E-41F2-B7CA-772C3883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F43D1-EA93-4123-AC3D-FF3EFED1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E2898-AD4D-409D-8FA4-095A28FE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84286-93B4-4502-BF25-BC2704FF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AA6B3-3D82-46FB-A2B8-9FBCDF2C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4E889-6152-441B-B7C0-BBCD7687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FD69F-9895-44EC-AAAA-47642313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9117D-3CD7-48F0-BF5C-FDFA848F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0974A-5DD3-47B0-8280-5D5E06DF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6E098-BBC3-4D89-9308-3E75CC89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DE0F8-2E5B-4886-B60F-D0C99163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C57D-3ABF-4A20-8D34-D8A0B2E9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38214-A794-410B-8492-F28B56A7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98F1-EB69-4587-8C65-A1FEA039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A98D-8644-4922-AC11-9DFFB708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5A60-1A31-4EBC-BB5F-8340321E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77B0-1F1C-44A5-A786-C81DB4F8557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80F5-485E-467A-9EA8-429CADDDF690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063B-D9B0-47B4-8911-51655663E81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643D-E76F-4157-9663-83FEE52EF99B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B075-67F9-4CC7-BAC1-1C6E7FAFD8C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97996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843280" y="3573000"/>
            <a:ext cx="6121440" cy="171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b050"/>
                </a:solidFill>
                <a:latin typeface="Trebuchet MS"/>
              </a:rPr>
              <a:t>Адаптация ребёнка к детскому садику.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Trebuchet MS"/>
              </a:rPr>
              <a:t>МБДОУ №3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Trebuchet MS"/>
              </a:rPr>
              <a:t>Группа №2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Trebuchet MS"/>
              </a:rPr>
              <a:t>Воспитатели: Марёшина О.В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rebuchet MS"/>
              </a:rPr>
              <a:t>                            </a:t>
            </a:r>
            <a:r>
              <a:rPr b="0" lang="ru-RU" sz="1200" spc="-1" strike="noStrike">
                <a:solidFill>
                  <a:srgbClr val="ffff00"/>
                </a:solidFill>
                <a:latin typeface="Trebuchet MS"/>
              </a:rPr>
              <a:t>Вилкова С.А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advTm="3000">
    <p:wedge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ктивизация речевых процесс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витие произвольности поведения , умения подчиняться правила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витие игровых навыков , переход от игры «рядом» к игре «вместе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advTm="3000">
    <p:wedge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еодоление стрессовых состояний у детей в период адаптации к ДО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оздание положительного эмоционального климата в детском коллектив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витие общей и мелкой моторики , координации движени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нятие эмоционального и мышечного напряже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витие навыков общения , взаимодействия со взрослыми и сверстник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advTm="0">
    <p:wedg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9350280" cy="11764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спользовать элементы телесной терапии(брать ребёнка на руки, обнимать, поглаживать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спользовать игровые методы взаимодействия с ребёнком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оздавать у ребёнка положительную установку на предстоящие режимные процессы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ассказывать сказки , петь колыбельные перед сном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Трудн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сутствие в семье режима , совпадающего с режимом детского сад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сформированность элементарных культурно-гигиенических навык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Реше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вести работу с родителями , чтобы дети находясь дома придерживались режима детского сад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учать к самообслуживанию , поощрять попытки самостоятельных действи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250920" y="980640"/>
            <a:ext cx="7634160" cy="55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                            </a:t>
            </a:r>
            <a:r>
              <a:rPr b="0" lang="ru-RU" sz="1800" spc="-1" strike="noStrike">
                <a:solidFill>
                  <a:srgbClr val="7030a0"/>
                </a:solidFill>
                <a:latin typeface="Trebuchet MS"/>
              </a:rPr>
              <a:t>Уважаемые родители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Для того, чтобы ваш ребёнок быстро и легко привык к новому образу жизни, который предлагает детский сад , чувствовал себя в группе уверенно и комфортно ,мы просим вас о сотрудничестве в период его адаптации к новым условиям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В детском саду ребёнку нужно привыкнуть: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К новым взрослым людям , которые будут о нём заботиться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К новой обстановке , помещениям, мебели , игрушкам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Обществу своих сверстников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Новой пище и условиям еды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Новой обстановке для сна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Вашему ребёнку будет проще привыкать ко всему постепенно . Поэтому мы просим вас в первый раз прийти с ребёнком в то время, когда в группе не будет других детей и воспитатель сможет познакомиться с вашим малышом , а он- изучить нового для него взрослого человека . Ребёнок будет чувствовать себя уверенно , если вы будете на первых порах   рядом с ним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ервую неделю мы просим вас приходить в период с 9.00 до 11.00,накормив ребёнка дома завтраком, и оставаться с нами в группе до обеда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Вторую неделю мы предложим ребёнку попробовать обедать в группе и, возможно ,к концу недели - спать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Третью и четвёртую неделю просим забирать ребёнка вскоре после дневного сна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Дома в адаптационный период нужно относиться к малышу , более терпимо и внимательно. Если что-либо волнует вас в связи с детским садом , не обсуждайте это при ребёнке , но обязательно поделитесь всеми опасениями с сотрудниками нашего учреждения. Просим вас рассказать психологу и воспитателям о ребёнке как можно больше , всё , что вы считаете особенно важным. Мы готовы прислушаться ко всем вашим пожеланиям.       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мощь и поддержка методиста и коллег-воспитателей работающих в одной параллели с н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нтернет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етодическая литератур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заимопонимание со стороны родителей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собое внимание            Апробировани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Формулированию          методик работы в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опросов                     парах и малых группах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Сентябрь             Ноябрь               Январь         Март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ерестроиться с                           Анализ полученного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сключительно требования          опыта и    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а мотивацию и поддержку          планирование н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удущее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16:10:24Z</dcterms:created>
  <dc:creator>катя</dc:creator>
  <dc:description/>
  <dc:language>en-US</dc:language>
  <cp:lastModifiedBy>imc</cp:lastModifiedBy>
  <dcterms:modified xsi:type="dcterms:W3CDTF">2012-12-19T09:11:23Z</dcterms:modified>
  <cp:revision>21</cp:revision>
  <dc:subject/>
  <dc:title>План   действий</dc:title>
</cp:coreProperties>
</file>