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621F-9B99-4CA5-AE1C-345F47CA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053-800E-4DBD-9B9C-9C51F81C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1E88-8D41-4746-8373-91E2741B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56CB-1402-4DBD-8D12-CAC7EF53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D28B-B2C4-4C1E-8656-1E7FD635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D00A-FF7C-48B5-89A7-7652FBCD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9051-B549-49D8-816D-91A83BDD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F28B-D2CE-4F85-AA42-5D4075B4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863D-AA9B-4707-AB3C-9F306F53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EB0D-5767-4BB1-B66B-9CC66908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DB29-B280-4C36-B913-A16E3C41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E0E9-5EAE-46E7-9ED0-F57A1565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83D1-2A92-418A-A46E-0C2B21C5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CFD5-72B5-4BC7-9953-904062BC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4C7A-E83C-43E0-B302-A6D06D57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A36F-E885-4235-8BB7-D00FA436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E2A5-0F13-4ABF-9C22-C9E98A02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F18F8-E2AF-415F-8251-8AB10D56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18F81-E242-4B81-8F95-3DD8E3FD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0122D-596F-4F28-B7E5-7F856627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5E16D-9FCD-4215-B406-1CCB0872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C7195-F76D-4FA0-A2EA-7BB61D11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8C13-9720-4B40-A642-ACE9BD67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BB783-F2BB-4438-8A87-C4D85E7B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A76C5-E1C4-495D-9739-CB67A3CB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934DB-D531-42A4-9B47-F1D5BAEC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A7A4B-FC4A-4B0E-87EC-31FE495B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506EF-4699-450D-9D70-4112FC74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D0CDB-C1EE-4866-9151-418DDF09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3E32C-A38A-4A38-822E-B96A4299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D83F5-2714-4D01-8F0C-416513FD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75218-09C2-4D67-8479-6F355CB5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46713-1709-42B2-A092-60401FC6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9BC2-7FD3-4CED-B234-9BE33B55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C78BD-D207-4CAC-B4C1-128227AB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25788-D709-448C-B4F5-B477D630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49324-6C8E-4C1E-9463-5129AA32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D921C-CCF2-433C-8EA5-727C8240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C5F0A-58D7-4B25-8503-F91777F9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B2301-1CDC-4ED2-88CC-A95C2AE4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64ED8-4094-4718-B478-DFC6F5C4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0B6F5-381B-4174-9CA1-589ACB72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DA18B-B71F-4BE9-9287-4ACEA26F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BAFC-3A9A-441B-8511-B3CA3891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1EFA-73F1-4DB1-A096-369B640A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CF48-C964-4A7E-A666-45EBB027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9BCD-9B37-498F-8003-3F11BE5D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1F34-682B-4CA1-8C57-FFE2F12A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6F21-DC09-4698-BC63-DA1D7D816B5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5573-5049-45A2-9ED6-5EFB4604CDC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BF7E-0CFA-407C-8838-E87FB1B4275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4754-5EC0-4DEC-A657-DBAF0FD73FB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-6480" y="1176480"/>
            <a:ext cx="9485280" cy="3608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10920" y="5084640"/>
            <a:ext cx="7854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Воспитатель Музюкина Ольга Борисовна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МБДОУ д/с №50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г.Ковров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3" descr=""/>
          <p:cNvPicPr/>
          <p:nvPr/>
        </p:nvPicPr>
        <p:blipFill>
          <a:blip r:embed="rId2"/>
          <a:stretch/>
        </p:blipFill>
        <p:spPr>
          <a:xfrm>
            <a:off x="530280" y="1341360"/>
            <a:ext cx="7864560" cy="9255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10920" y="2852640"/>
            <a:ext cx="79930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Развитие мелкой моторики у детей дошкольного возраста через разные виды деятельност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Заголовок 3" descr=""/>
          <p:cNvPicPr/>
          <p:nvPr/>
        </p:nvPicPr>
        <p:blipFill>
          <a:blip r:embed="rId2"/>
          <a:stretch/>
        </p:blipFill>
        <p:spPr>
          <a:xfrm>
            <a:off x="676440" y="974880"/>
            <a:ext cx="7858080" cy="11887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755280" y="2421000"/>
            <a:ext cx="7854840" cy="2952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Arial Black"/>
              </a:rPr>
              <a:t>Выстроить систему развития мелкой моторики в разнообразных видах деятельности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Arial Black"/>
              </a:rPr>
              <a:t>Создать условия для творческой деятельности ребёнка под руководством и при помощи взрослого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2"/>
          <a:stretch/>
        </p:blipFill>
        <p:spPr>
          <a:xfrm>
            <a:off x="463680" y="590400"/>
            <a:ext cx="8076960" cy="1311480"/>
          </a:xfrm>
          <a:prstGeom prst="rect">
            <a:avLst/>
          </a:prstGeom>
          <a:ln w="0">
            <a:noFill/>
          </a:ln>
        </p:spPr>
      </p:pic>
      <p:pic>
        <p:nvPicPr>
          <p:cNvPr id="202" name="Подзаголовок 2" descr=""/>
          <p:cNvPicPr/>
          <p:nvPr/>
        </p:nvPicPr>
        <p:blipFill>
          <a:blip r:embed="rId3"/>
          <a:stretch/>
        </p:blipFill>
        <p:spPr>
          <a:xfrm>
            <a:off x="244440" y="1809720"/>
            <a:ext cx="871056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2"/>
          <a:stretch/>
        </p:blipFill>
        <p:spPr>
          <a:xfrm>
            <a:off x="390600" y="-103320"/>
            <a:ext cx="8296200" cy="1712880"/>
          </a:xfrm>
          <a:prstGeom prst="rect">
            <a:avLst/>
          </a:prstGeom>
          <a:ln w="0">
            <a:noFill/>
          </a:ln>
        </p:spPr>
      </p:pic>
      <p:pic>
        <p:nvPicPr>
          <p:cNvPr id="204" name="Подзаголовок 2" descr=""/>
          <p:cNvPicPr/>
          <p:nvPr/>
        </p:nvPicPr>
        <p:blipFill>
          <a:blip r:embed="rId3"/>
          <a:stretch/>
        </p:blipFill>
        <p:spPr>
          <a:xfrm>
            <a:off x="822240" y="2152800"/>
            <a:ext cx="7504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2"/>
          <a:stretch/>
        </p:blipFill>
        <p:spPr>
          <a:xfrm>
            <a:off x="676440" y="542880"/>
            <a:ext cx="7864200" cy="2303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10920" y="2852280"/>
            <a:ext cx="7848360" cy="30243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Методическая литератур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Интернет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Опыт коллег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Предметно-развивающая сред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1280" y="638172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3744720" cy="4970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36720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2"/>
          <a:stretch/>
        </p:blipFill>
        <p:spPr>
          <a:xfrm>
            <a:off x="463680" y="480960"/>
            <a:ext cx="7937280" cy="8413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39640" y="1988640"/>
            <a:ext cx="7855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39640" y="1916280"/>
          <a:ext cx="7920000" cy="4392360"/>
        </p:xfrm>
        <a:graphic>
          <a:graphicData uri="http://schemas.openxmlformats.org/drawingml/2006/table">
            <a:tbl>
              <a:tblPr/>
              <a:tblGrid>
                <a:gridCol w="3961080"/>
                <a:gridCol w="395892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Месяц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Мероприят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ию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Подбор и изучение литера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авгу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Разработка сист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сентябрь-апр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Апробирование метод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Консультирование род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Семинар для колл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Анализ полученного результ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4T16:18:36Z</dcterms:created>
  <dc:creator>Admin</dc:creator>
  <dc:description/>
  <dc:language>en-US</dc:language>
  <cp:lastModifiedBy>imc</cp:lastModifiedBy>
  <dcterms:modified xsi:type="dcterms:W3CDTF">2013-02-13T06:40:13Z</dcterms:modified>
  <cp:revision>16</cp:revision>
  <dc:subject/>
  <dc:title>Развитие мелкой моторики у детей дошкольного возраста для подготовки к обучению письму.</dc:title>
</cp:coreProperties>
</file>