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5656-DF26-4B97-A543-2DC96F0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DAEE-0C38-4D7B-8D1D-45F0882D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5DCA-233E-425F-B40A-201FA829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E3F-10B1-4F2B-B92F-0CF2980C0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304-B934-4A65-B376-5D543F1D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DF74-1FB0-40AD-A80A-00976AC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C464-3078-4A5A-9238-835F8DF9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119F-6204-4701-9948-81E363EB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0206-C8C9-4572-B568-94918C5E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D02B-50F6-443D-9374-541FA8EE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457F-8771-491A-B5E6-D8BD5634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87B3-F0C8-46F7-8420-FB75C886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ED53-0A2A-4CB8-92F6-C418ABA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1748-048D-4D16-84AC-2D010A92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309A-9B01-4329-B563-C341B619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DE70-3300-49E8-9220-CD4243498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02D1-B316-4152-A99A-257D254F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FE433-0580-4EC8-AE14-D8638C13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AFC86-6AD0-442E-9530-A930325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D57E8-098B-4D6B-8CB9-AA80AA26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CE46-60F4-4D1A-B906-58086C84E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6271-49A6-4A0B-9F90-7831459D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1221-A589-4EFA-A235-C98AA9B5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30D0A-CAD5-4A0A-880B-6DA865DA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D15D-90EA-4207-B3CE-AB644CE7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F34B0-9328-476B-B52B-DA980A4B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FC05-9390-4741-AC76-23D87CD0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3BD04-FC10-4450-9DD1-19B3A681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13F53-01E6-429C-81EF-3CF0525B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38EBB-7877-4BEE-904C-1B0230E3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AE138-0928-421F-A57A-7B4EDD3D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3EF3E-7EFC-4B11-9B88-32686FDD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8C0D0-6B5E-4D9F-9888-60B0233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8909-0BFE-4F51-861B-87D62807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854DE-38C1-44D3-84BF-82591F55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18AA8-5950-4A77-AFB0-4BD91B66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9AB8-2109-4F65-9569-59EC36C0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2B442-450B-47F3-AB17-093F1BF6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16C2A-606E-49B7-8E9F-861CAD9A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6D3C9-D35B-4EFA-AC82-58D4847E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37DF-2EA5-429F-8004-F0CF45CC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287D-8705-4854-B221-EC668021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DEB0F-BE58-4AC0-AC45-B61F84D5C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97BC-29C5-45A6-BC3C-CD25C68F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1F3F-B204-4879-A1A5-A7ACB4FC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3303-91A7-47D0-BE19-00379A8B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891F-B916-4B21-A325-4B02ABA4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858-B193-4498-9D2C-F3513CAE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D1470-ED6D-4EB0-B5F5-FE6DD1773B3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3824-0ECA-4D53-8CD8-F385F8D8D98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8DF-E88A-4817-BE6E-C17B9C3722D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43E48-B266-4965-A279-F13BD81DC34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-6480" y="1176480"/>
            <a:ext cx="9485280" cy="3608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5084640"/>
            <a:ext cx="7854840" cy="14400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Воспитатель Музюкина Ольга Борисовна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МБДОУ д/с №50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 Black"/>
              </a:rPr>
              <a:t>г.Ковро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Заголовок 3" descr=""/>
          <p:cNvPicPr/>
          <p:nvPr/>
        </p:nvPicPr>
        <p:blipFill>
          <a:blip r:embed="rId2"/>
          <a:stretch/>
        </p:blipFill>
        <p:spPr>
          <a:xfrm>
            <a:off x="530280" y="1341360"/>
            <a:ext cx="7864560" cy="925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10920" y="2852640"/>
            <a:ext cx="7993080" cy="23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Развитие мелкой моторики у детей дошкольного возраста через разные виды деятельност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3" descr=""/>
          <p:cNvPicPr/>
          <p:nvPr/>
        </p:nvPicPr>
        <p:blipFill>
          <a:blip r:embed="rId2"/>
          <a:stretch/>
        </p:blipFill>
        <p:spPr>
          <a:xfrm>
            <a:off x="676440" y="974880"/>
            <a:ext cx="7858080" cy="1188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755280" y="2421000"/>
            <a:ext cx="7854840" cy="2952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 Black"/>
              </a:rPr>
              <a:t>Выстроить систему развития мелкой моторики в разнообразных видах деятельности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80000"/>
              </a:lnSpc>
              <a:spcBef>
                <a:spcPts val="675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Arial Black"/>
              </a:rPr>
              <a:t>Создать условия для творческой деятельности ребёнка под руководством и при помощи взрослого</a:t>
            </a:r>
            <a:endParaRPr b="0" lang="en-US" sz="27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2"/>
          <a:stretch/>
        </p:blipFill>
        <p:spPr>
          <a:xfrm>
            <a:off x="463680" y="590400"/>
            <a:ext cx="8076960" cy="1311480"/>
          </a:xfrm>
          <a:prstGeom prst="rect">
            <a:avLst/>
          </a:prstGeom>
          <a:ln w="0">
            <a:noFill/>
          </a:ln>
        </p:spPr>
      </p:pic>
      <p:pic>
        <p:nvPicPr>
          <p:cNvPr id="202" name="Подзаголовок 2" descr=""/>
          <p:cNvPicPr/>
          <p:nvPr/>
        </p:nvPicPr>
        <p:blipFill>
          <a:blip r:embed="rId3"/>
          <a:stretch/>
        </p:blipFill>
        <p:spPr>
          <a:xfrm>
            <a:off x="244440" y="1809720"/>
            <a:ext cx="871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390600" y="-103320"/>
            <a:ext cx="8296200" cy="1712880"/>
          </a:xfrm>
          <a:prstGeom prst="rect">
            <a:avLst/>
          </a:prstGeom>
          <a:ln w="0">
            <a:noFill/>
          </a:ln>
        </p:spPr>
      </p:pic>
      <p:pic>
        <p:nvPicPr>
          <p:cNvPr id="204" name="Подзаголовок 2" descr=""/>
          <p:cNvPicPr/>
          <p:nvPr/>
        </p:nvPicPr>
        <p:blipFill>
          <a:blip r:embed="rId3"/>
          <a:stretch/>
        </p:blipFill>
        <p:spPr>
          <a:xfrm>
            <a:off x="822240" y="2152800"/>
            <a:ext cx="750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2"/>
          <a:stretch/>
        </p:blipFill>
        <p:spPr>
          <a:xfrm>
            <a:off x="676440" y="542880"/>
            <a:ext cx="7864200" cy="2303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10920" y="2852280"/>
            <a:ext cx="7848360" cy="30243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Методическая литератур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нтернет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Опыт коллег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Предметно-развивающая среда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1280" y="638172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4ce4a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2"/>
          <a:stretch/>
        </p:blipFill>
        <p:spPr>
          <a:xfrm>
            <a:off x="611280" y="1341360"/>
            <a:ext cx="3744720" cy="4970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6720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63680" y="480960"/>
            <a:ext cx="7937280" cy="8413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539640" y="1988640"/>
            <a:ext cx="78552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916280"/>
          <a:ext cx="7920000" cy="4392360"/>
        </p:xfrm>
        <a:graphic>
          <a:graphicData uri="http://schemas.openxmlformats.org/drawingml/2006/table">
            <a:tbl>
              <a:tblPr/>
              <a:tblGrid>
                <a:gridCol w="3961080"/>
                <a:gridCol w="395892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есяц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Мероприя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ию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Подбор и изучение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вгу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Разработка сист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ентябрь-апр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пробирование метод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нояб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Консультирование род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янва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Семинар для колл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м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70c0"/>
                          </a:solidFill>
                          <a:latin typeface="Arial Black"/>
                        </a:rPr>
                        <a:t>Анализ полученного результ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6:18:36Z</dcterms:created>
  <dc:creator>Admin</dc:creator>
  <dc:description/>
  <dc:language>en-US</dc:language>
  <cp:lastModifiedBy>imc</cp:lastModifiedBy>
  <dcterms:modified xsi:type="dcterms:W3CDTF">2013-02-13T06:40:13Z</dcterms:modified>
  <cp:revision>16</cp:revision>
  <dc:subject/>
  <dc:title>Развитие мелкой моторики у детей дошкольного возраста для подготовки к обучению письму.</dc:title>
</cp:coreProperties>
</file>