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FE3-0432-4934-AD5D-498F1BD9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977-BD19-4B49-97B1-B024A803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DE3-059C-40BB-80D0-D4FEAD67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494-3D8C-4F95-9771-A4E5571A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4BA7-EE86-4BF5-9AC8-2B098194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2CA1-3E24-43CC-946F-4C2A343E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5977-EDAE-4A53-B907-E31B01EA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6FFF-6FB2-44EA-9204-8D4E63B5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0E1E-B782-4BC5-9727-CF6EF35E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6A76-FF29-4113-B9B3-8B95498F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BEAA-B77D-4B10-8F76-37C58D2A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038-73B0-47AE-9831-9155E050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FF79-6234-4300-86AD-F286DAFC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1C7F-F828-436C-904F-AC1DBF9F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2092-70D1-4A26-95C9-FA7FC3F5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7611-FAAC-46E0-AA31-140675E9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C81B-165C-4F56-8C9D-E19CF998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91B-C3D1-44EC-B445-981CE2DF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86A-6B23-402D-AF07-A843D28D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7F3-2C6B-4187-AB56-DE1192C1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EA4-EE04-497B-86F5-AB0FEF33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3C1-070F-4EF4-9735-32D22014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4E4-4377-4B73-831F-53CE66F0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A79-A048-45FD-B0AF-BAE51083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A670-6AD0-4875-9EC2-281AC73B86E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FFF6-3C9F-4DD4-8017-6DC18573269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201600" y="1365120"/>
            <a:ext cx="8497800" cy="1920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Никитина Ольга Вячеслав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МБДОУ №5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Группа «Колокольчики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5ef0f7"/>
                </a:solidFill>
                <a:latin typeface="Calibri"/>
              </a:rPr>
              <a:t>Дальние цели</a:t>
            </a:r>
            <a:endParaRPr b="0" lang="en-US" sz="8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Формирование добрых отношений среди дошкольников через совместную деятельност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9" name="Picture 2" descr="http://www.maaam.ru/upload/blogs/11f0975b6428159a151e456d270507d7.jpg.jpg"/>
          <p:cNvPicPr/>
          <p:nvPr/>
        </p:nvPicPr>
        <p:blipFill>
          <a:blip r:embed="rId2"/>
          <a:stretch/>
        </p:blipFill>
        <p:spPr>
          <a:xfrm>
            <a:off x="1908000" y="3716280"/>
            <a:ext cx="5286600" cy="2811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5" descr=""/>
          <p:cNvPicPr/>
          <p:nvPr/>
        </p:nvPicPr>
        <p:blipFill>
          <a:blip r:embed="rId2"/>
          <a:stretch/>
        </p:blipFill>
        <p:spPr>
          <a:xfrm>
            <a:off x="244440" y="-396720"/>
            <a:ext cx="8339040" cy="1749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spcBef>
                <a:spcPts val="799"/>
              </a:spcBef>
              <a:buClr>
                <a:srgbClr val="0bd0d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Создать мотивацию для совместной деятельност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Поощрять желание ребят активно участвовать в совместной деятельност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Разнообразить формы и методы организации совместной деятельност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ef0f7"/>
                </a:solidFill>
                <a:latin typeface="Calibri"/>
              </a:rPr>
              <a:t>Педагогические методы и задачи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28640"/>
            <a:ext cx="4038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Включать в работу психологические этюды, имитации, игры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Дать возможность ребятам работать в парах или сменных подгруппах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Этические беседы о культуре поведения, нравственных качествах и поступках(на основе произведений худ. литературы, из личного опыта, и т.д.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Участие в совместных проектах, в проблемно – игровых и практических ситуациях, выполнение поручени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2920" y="1628640"/>
            <a:ext cx="40388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Раскрывать особенности характера детей с целью преодоления стеснительности и агресси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Развивать умение договариваться, совместно планировать деятельность и оказывать помощь друг друг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Формировать нравственные и духовные ориентиры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Обогащать опыт сотрудничества и дружеских взаимоотношений со сверстникам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ef0f7"/>
                </a:solidFill>
                <a:latin typeface="Calibri"/>
              </a:rPr>
              <a:t>Трудности и решения</a:t>
            </a:r>
            <a:endParaRPr b="0" lang="en-US" sz="6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17808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bf5f9"/>
                </a:solidFill>
                <a:latin typeface="Constantia"/>
              </a:rPr>
              <a:t>Трудност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780000" y="1484280"/>
            <a:ext cx="4906800" cy="64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bf5f9"/>
                </a:solidFill>
                <a:latin typeface="Constantia"/>
              </a:rPr>
              <a:t>Реш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76640"/>
            <a:ext cx="31068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4000"/>
          </a:bodyPr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Не хватает материальной базы для проведения иг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Родителям не хватает знаний по воспитанию дете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Некоторые дети не хотят работать в образовавшейся паре(подгруппе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80000" y="2276640"/>
            <a:ext cx="49068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Предложить родителям изготовить или приобрести игры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Подготовить для родителей консультацию и наглядную информацию по данной тем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Использование в работе считалок цветных браслетов или карточек помогут безболезненно сформировать подгрупп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6" descr=""/>
          <p:cNvPicPr/>
          <p:nvPr/>
        </p:nvPicPr>
        <p:blipFill>
          <a:blip r:embed="rId2"/>
          <a:stretch/>
        </p:blipFill>
        <p:spPr>
          <a:xfrm>
            <a:off x="-30240" y="73080"/>
            <a:ext cx="8802720" cy="1262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C:\Users\Best\AppData\Local\Microsoft\Windows\Temporary Internet Files\Content.Word\IMG_0024.jpg"/>
          <p:cNvPicPr/>
          <p:nvPr/>
        </p:nvPicPr>
        <p:blipFill>
          <a:blip r:embed="rId3"/>
          <a:stretch/>
        </p:blipFill>
        <p:spPr>
          <a:xfrm>
            <a:off x="250920" y="119700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C:\Users\Best\AppData\Local\Microsoft\Windows\Temporary Internet Files\Content.Word\IMG_0023.jpg"/>
          <p:cNvPicPr/>
          <p:nvPr/>
        </p:nvPicPr>
        <p:blipFill>
          <a:blip r:embed="rId4"/>
          <a:stretch/>
        </p:blipFill>
        <p:spPr>
          <a:xfrm>
            <a:off x="2987640" y="1197000"/>
            <a:ext cx="287964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C:\Users\Best\AppData\Local\Microsoft\Windows\Temporary Internet Files\Content.Word\IMG_0001.jpg"/>
          <p:cNvPicPr/>
          <p:nvPr/>
        </p:nvPicPr>
        <p:blipFill>
          <a:blip r:embed="rId5"/>
          <a:stretch/>
        </p:blipFill>
        <p:spPr>
          <a:xfrm>
            <a:off x="6012000" y="1197000"/>
            <a:ext cx="2808000" cy="1817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C:\Users\Best\AppData\Local\Microsoft\Windows\Temporary Internet Files\Content.Word\IMG_0004.jpg"/>
          <p:cNvPicPr/>
          <p:nvPr/>
        </p:nvPicPr>
        <p:blipFill>
          <a:blip r:embed="rId6"/>
          <a:stretch/>
        </p:blipFill>
        <p:spPr>
          <a:xfrm>
            <a:off x="250920" y="3284640"/>
            <a:ext cx="2520720" cy="2995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1" descr="C:\Users\Best\AppData\Local\Microsoft\Windows\Temporary Internet Files\Content.Word\IMG_0008.jpg"/>
          <p:cNvPicPr/>
          <p:nvPr/>
        </p:nvPicPr>
        <p:blipFill>
          <a:blip r:embed="rId7"/>
          <a:stretch/>
        </p:blipFill>
        <p:spPr>
          <a:xfrm>
            <a:off x="2843280" y="3500280"/>
            <a:ext cx="3313080" cy="2305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2" descr="C:\Users\Best\AppData\Local\Microsoft\Windows\Temporary Internet Files\Content.Word\IMG_0021.jpg"/>
          <p:cNvPicPr/>
          <p:nvPr/>
        </p:nvPicPr>
        <p:blipFill>
          <a:blip r:embed="rId8"/>
          <a:stretch/>
        </p:blipFill>
        <p:spPr>
          <a:xfrm>
            <a:off x="6443640" y="3213000"/>
            <a:ext cx="2300400" cy="29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5ef0f7"/>
                </a:solidFill>
                <a:latin typeface="Calibri"/>
              </a:rPr>
              <a:t>План - график</a:t>
            </a:r>
            <a:endParaRPr b="0" lang="en-US" sz="8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20960"/>
            <a:ext cx="238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Сентябр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Октябр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Декабр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Мар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71280" y="1699920"/>
            <a:ext cx="59151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блюдение за поведением                    детей в деятельност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Консультация для родителей на тему: «Семейные традиции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звлечение «Дружба крепкая не сломается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аздник «Нет милее дружка, чем родная матушка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5ef0f7"/>
                </a:solidFill>
                <a:latin typeface="Calibri"/>
              </a:rPr>
              <a:t>Ресурсы</a:t>
            </a:r>
            <a:endParaRPr b="0" lang="en-US" sz="8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Азбука общения/Шипицына Л.М. и д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Давай познакомимся!/Пазухина И.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Детство. Примерная основная общеобразовательная программа дошкольного образова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бщаться с ребенком как?/ Ю.Б. Гиппенрейте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Интерн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3" descr=""/>
          <p:cNvPicPr/>
          <p:nvPr/>
        </p:nvPicPr>
        <p:blipFill>
          <a:blip r:embed="rId2"/>
          <a:stretch/>
        </p:blipFill>
        <p:spPr>
          <a:xfrm>
            <a:off x="390600" y="1365120"/>
            <a:ext cx="8692920" cy="2578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7:23:56Z</dcterms:created>
  <dc:creator>Best</dc:creator>
  <dc:description/>
  <dc:language>en-US</dc:language>
  <cp:lastModifiedBy>imc</cp:lastModifiedBy>
  <dcterms:modified xsi:type="dcterms:W3CDTF">2012-11-29T05:13:23Z</dcterms:modified>
  <cp:revision>13</cp:revision>
  <dc:subject/>
  <dc:title>План действий</dc:title>
</cp:coreProperties>
</file>