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7388-EFF4-42B0-B346-68D5B212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8F53-DBC4-4F91-BDBE-9DABC12D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AAF1-9816-4EDB-BE78-ABBB05A9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3BEF-41C4-44CB-BDD1-C488AEBE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D9E0-A99F-4B0B-AE25-08AAA132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2CBB-35BA-4EB8-8D29-65A104AC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C390-D7EF-4A9F-AAC4-6030D544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EC0C-F523-40EB-A2CC-ED6B9122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A844-95B0-4BE8-9F00-59E3C95C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AF7B-E516-4BF0-9603-8851CD15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1E25-494C-4471-9EF6-A776229E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444B-A9C1-4C26-800D-C8C0B0DF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4809-4B98-4736-91C2-AF2F0EDC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C1A3-0B9E-47B3-AE6F-5DFB79DF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DDBC-55A2-4C5B-8619-B90F08F9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BAF0-09C8-4891-8DE8-C413913F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0C64-7980-49FC-A4BD-4A559732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D38A-E141-4B4D-9033-F674C0B7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80C7-E6A8-424C-A120-71092341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A3B1-055C-4189-B3AE-A699D0DB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DB44-A93D-4A54-BD1D-40BCE4B6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C036-97DE-4657-A6AD-9E444853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7A03-5BD1-4091-AD58-BC2F3470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B947-E6A1-42E2-8A70-5D810775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850C-A0EA-4F36-BAAC-B7B20E4F3E3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D4AF-8641-46E3-B63C-A8985F2807E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201600" y="1365120"/>
            <a:ext cx="8497800" cy="1920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Никитина Ольга Вячеславов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МБДОУ №5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Группа «Колокольчики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5ef0f7"/>
                </a:solidFill>
                <a:latin typeface="Calibri"/>
              </a:rPr>
              <a:t>Дальние цели</a:t>
            </a:r>
            <a:endParaRPr b="0" lang="en-US" sz="8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Формирование добрых отношений среди дошкольников через совместную деятельность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9" name="Picture 2" descr="http://www.maaam.ru/upload/blogs/11f0975b6428159a151e456d270507d7.jpg.jpg"/>
          <p:cNvPicPr/>
          <p:nvPr/>
        </p:nvPicPr>
        <p:blipFill>
          <a:blip r:embed="rId2"/>
          <a:stretch/>
        </p:blipFill>
        <p:spPr>
          <a:xfrm>
            <a:off x="1908000" y="3716280"/>
            <a:ext cx="5286600" cy="2811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5" descr=""/>
          <p:cNvPicPr/>
          <p:nvPr/>
        </p:nvPicPr>
        <p:blipFill>
          <a:blip r:embed="rId2"/>
          <a:stretch/>
        </p:blipFill>
        <p:spPr>
          <a:xfrm>
            <a:off x="244440" y="-396720"/>
            <a:ext cx="8339040" cy="17492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>
              <a:spcBef>
                <a:spcPts val="799"/>
              </a:spcBef>
              <a:buClr>
                <a:srgbClr val="0bd0d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Создать мотивацию для совместной деятельност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buClr>
                <a:srgbClr val="0bd0d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Поощрять желание ребят активно участвовать в совместной деятельност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buClr>
                <a:srgbClr val="0bd0d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Разнообразить формы и методы организации совместной деятельност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ef0f7"/>
                </a:solidFill>
                <a:latin typeface="Calibri"/>
              </a:rPr>
              <a:t>Педагогические методы и задачи</a:t>
            </a:r>
            <a:endParaRPr b="0" lang="en-US" sz="5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28640"/>
            <a:ext cx="40384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onstantia"/>
              </a:rPr>
              <a:t>Включать в работу психологические этюды, имитации, игры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onstantia"/>
              </a:rPr>
              <a:t>Дать возможность ребятам работать в парах или сменных подгруппах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onstantia"/>
              </a:rPr>
              <a:t>Этические беседы о культуре поведения, нравственных качествах и поступках(на основе произведений худ. литературы, из личного опыта, и т.д.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onstantia"/>
              </a:rPr>
              <a:t>Участие в совместных проектах, в проблемно – игровых и практических ситуациях, выполнение поручений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2920" y="1628640"/>
            <a:ext cx="40388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onstantia"/>
              </a:rPr>
              <a:t>Раскрывать особенности характера детей с целью преодоления стеснительности и агресси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onstantia"/>
              </a:rPr>
              <a:t>Развивать умение договариваться, совместно планировать деятельность и оказывать помощь друг другу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onstantia"/>
              </a:rPr>
              <a:t>Формировать нравственные и духовные ориентиры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onstantia"/>
              </a:rPr>
              <a:t>Обогащать опыт сотрудничества и дружеских взаимоотношений со сверстникам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ef0f7"/>
                </a:solidFill>
                <a:latin typeface="Calibri"/>
              </a:rPr>
              <a:t>Трудности и решения</a:t>
            </a:r>
            <a:endParaRPr b="0" lang="en-US" sz="6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178080" cy="72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bf5f9"/>
                </a:solidFill>
                <a:latin typeface="Constantia"/>
              </a:rPr>
              <a:t>Трудност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780000" y="1484280"/>
            <a:ext cx="4906800" cy="649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bf5f9"/>
                </a:solidFill>
                <a:latin typeface="Constantia"/>
              </a:rPr>
              <a:t>Решен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276640"/>
            <a:ext cx="31068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4000"/>
          </a:bodyPr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Не хватает материальной базы для проведения игр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Родителям не хватает знаний по воспитанию детей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Некоторые дети не хотят работать в образовавшейся паре(подгруппе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80000" y="2276640"/>
            <a:ext cx="49068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5000"/>
          </a:bodyPr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Предложить родителям изготовить или приобрести игры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Подготовить для родителей консультацию и наглядную информацию по данной тем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Использование в работе считалок цветных браслетов или карточек помогут безболезненно сформировать подгруппы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6" descr=""/>
          <p:cNvPicPr/>
          <p:nvPr/>
        </p:nvPicPr>
        <p:blipFill>
          <a:blip r:embed="rId2"/>
          <a:stretch/>
        </p:blipFill>
        <p:spPr>
          <a:xfrm>
            <a:off x="-30240" y="73080"/>
            <a:ext cx="8802720" cy="12621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C:\Users\Best\AppData\Local\Microsoft\Windows\Temporary Internet Files\Content.Word\IMG_0024.jpg"/>
          <p:cNvPicPr/>
          <p:nvPr/>
        </p:nvPicPr>
        <p:blipFill>
          <a:blip r:embed="rId3"/>
          <a:stretch/>
        </p:blipFill>
        <p:spPr>
          <a:xfrm>
            <a:off x="250920" y="1197000"/>
            <a:ext cx="259236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8" descr="C:\Users\Best\AppData\Local\Microsoft\Windows\Temporary Internet Files\Content.Word\IMG_0023.jpg"/>
          <p:cNvPicPr/>
          <p:nvPr/>
        </p:nvPicPr>
        <p:blipFill>
          <a:blip r:embed="rId4"/>
          <a:stretch/>
        </p:blipFill>
        <p:spPr>
          <a:xfrm>
            <a:off x="2987640" y="1197000"/>
            <a:ext cx="2879640" cy="18716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9" descr="C:\Users\Best\AppData\Local\Microsoft\Windows\Temporary Internet Files\Content.Word\IMG_0001.jpg"/>
          <p:cNvPicPr/>
          <p:nvPr/>
        </p:nvPicPr>
        <p:blipFill>
          <a:blip r:embed="rId5"/>
          <a:stretch/>
        </p:blipFill>
        <p:spPr>
          <a:xfrm>
            <a:off x="6012000" y="1197000"/>
            <a:ext cx="2808000" cy="18176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0" descr="C:\Users\Best\AppData\Local\Microsoft\Windows\Temporary Internet Files\Content.Word\IMG_0004.jpg"/>
          <p:cNvPicPr/>
          <p:nvPr/>
        </p:nvPicPr>
        <p:blipFill>
          <a:blip r:embed="rId6"/>
          <a:stretch/>
        </p:blipFill>
        <p:spPr>
          <a:xfrm>
            <a:off x="250920" y="3284640"/>
            <a:ext cx="2520720" cy="29955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1" descr="C:\Users\Best\AppData\Local\Microsoft\Windows\Temporary Internet Files\Content.Word\IMG_0008.jpg"/>
          <p:cNvPicPr/>
          <p:nvPr/>
        </p:nvPicPr>
        <p:blipFill>
          <a:blip r:embed="rId7"/>
          <a:stretch/>
        </p:blipFill>
        <p:spPr>
          <a:xfrm>
            <a:off x="2843280" y="3500280"/>
            <a:ext cx="3313080" cy="23050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2" descr="C:\Users\Best\AppData\Local\Microsoft\Windows\Temporary Internet Files\Content.Word\IMG_0021.jpg"/>
          <p:cNvPicPr/>
          <p:nvPr/>
        </p:nvPicPr>
        <p:blipFill>
          <a:blip r:embed="rId8"/>
          <a:stretch/>
        </p:blipFill>
        <p:spPr>
          <a:xfrm>
            <a:off x="6443640" y="3213000"/>
            <a:ext cx="2300400" cy="2952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5ef0f7"/>
                </a:solidFill>
                <a:latin typeface="Calibri"/>
              </a:rPr>
              <a:t>План - график</a:t>
            </a:r>
            <a:endParaRPr b="0" lang="en-US" sz="8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20960"/>
            <a:ext cx="23860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Сентябрь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Октябрь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Декабрь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Март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771280" y="1699920"/>
            <a:ext cx="591516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блюдение за поведением                    детей в деятельност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онсультация для родителей на тему: «Семейные традиции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азвлечение «Дружба крепкая не сломается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аздник «Нет милее дружка, чем родная матушка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5ef0f7"/>
                </a:solidFill>
                <a:latin typeface="Calibri"/>
              </a:rPr>
              <a:t>Ресурсы</a:t>
            </a:r>
            <a:endParaRPr b="0" lang="en-US" sz="8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Азбука общения/Шипицына Л.М. и др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Давай познакомимся!/Пазухина И.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Детство. Примерная основная общеобразовательная программа дошкольного образова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бщаться с ребенком как?/ Ю.Б. Гиппенрейте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Интерне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3" descr=""/>
          <p:cNvPicPr/>
          <p:nvPr/>
        </p:nvPicPr>
        <p:blipFill>
          <a:blip r:embed="rId2"/>
          <a:stretch/>
        </p:blipFill>
        <p:spPr>
          <a:xfrm>
            <a:off x="390600" y="1365120"/>
            <a:ext cx="8692920" cy="2578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7:23:56Z</dcterms:created>
  <dc:creator>Best</dc:creator>
  <dc:description/>
  <dc:language>en-US</dc:language>
  <cp:lastModifiedBy>imc</cp:lastModifiedBy>
  <dcterms:modified xsi:type="dcterms:W3CDTF">2012-11-29T05:13:23Z</dcterms:modified>
  <cp:revision>13</cp:revision>
  <dc:subject/>
  <dc:title>План действий</dc:title>
</cp:coreProperties>
</file>