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023-6E13-4537-81F4-96577AFE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EB3-7634-4B42-A670-C14B7E9C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985-2395-4546-8912-62AC294C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53F-56E6-4F1E-953C-54C78D60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AC5-4393-47FA-9A06-B8572A8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EE8-398F-4145-94F0-41088A57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363-E5EA-4FF4-B36D-33AA0D9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957-B6AF-403A-930A-7D96E2B6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FFB-B1A0-43EC-9A1E-9F5BA7C5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DA7-4DC7-40EC-9A16-08D6F598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892-E96C-4A93-8C6E-533C3598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1EC-CAA0-4A18-A3AB-093FAAD4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CA160-B754-497F-B77A-56433F270E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Сидоров Иван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Ученик недели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7а класс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23-28октября 2012года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977080" y="1547640"/>
            <a:ext cx="3229920" cy="2989080"/>
            <a:chOff x="5977080" y="1547640"/>
            <a:chExt cx="3229920" cy="2989080"/>
          </a:xfrm>
        </p:grpSpPr>
        <p:sp>
          <p:nvSpPr>
            <p:cNvPr id="83" name=""/>
            <p:cNvSpPr/>
            <p:nvPr/>
          </p:nvSpPr>
          <p:spPr>
            <a:xfrm>
              <a:off x="8407440" y="4240440"/>
              <a:ext cx="259920" cy="296280"/>
            </a:xfrm>
            <a:custGeom>
              <a:avLst/>
              <a:gdLst/>
              <a:ahLst/>
              <a:rect l="l" t="t" r="r" b="b"/>
              <a:pathLst>
                <a:path w="721" h="826">
                  <a:moveTo>
                    <a:pt x="60" y="0"/>
                  </a:moveTo>
                  <a:lnTo>
                    <a:pt x="45" y="30"/>
                  </a:lnTo>
                  <a:lnTo>
                    <a:pt x="30" y="60"/>
                  </a:lnTo>
                  <a:lnTo>
                    <a:pt x="30" y="90"/>
                  </a:lnTo>
                  <a:lnTo>
                    <a:pt x="15" y="120"/>
                  </a:lnTo>
                  <a:lnTo>
                    <a:pt x="0" y="150"/>
                  </a:lnTo>
                  <a:lnTo>
                    <a:pt x="15" y="180"/>
                  </a:lnTo>
                  <a:lnTo>
                    <a:pt x="30" y="210"/>
                  </a:lnTo>
                  <a:lnTo>
                    <a:pt x="60" y="225"/>
                  </a:lnTo>
                  <a:lnTo>
                    <a:pt x="60" y="255"/>
                  </a:lnTo>
                  <a:lnTo>
                    <a:pt x="75" y="285"/>
                  </a:lnTo>
                  <a:lnTo>
                    <a:pt x="75" y="315"/>
                  </a:lnTo>
                  <a:lnTo>
                    <a:pt x="90" y="345"/>
                  </a:lnTo>
                  <a:lnTo>
                    <a:pt x="90" y="375"/>
                  </a:lnTo>
                  <a:lnTo>
                    <a:pt x="105" y="405"/>
                  </a:lnTo>
                  <a:lnTo>
                    <a:pt x="105" y="435"/>
                  </a:lnTo>
                  <a:lnTo>
                    <a:pt x="120" y="465"/>
                  </a:lnTo>
                  <a:lnTo>
                    <a:pt x="135" y="495"/>
                  </a:lnTo>
                  <a:lnTo>
                    <a:pt x="150" y="525"/>
                  </a:lnTo>
                  <a:lnTo>
                    <a:pt x="150" y="555"/>
                  </a:lnTo>
                  <a:lnTo>
                    <a:pt x="150" y="585"/>
                  </a:lnTo>
                  <a:lnTo>
                    <a:pt x="150" y="615"/>
                  </a:lnTo>
                  <a:lnTo>
                    <a:pt x="150" y="645"/>
                  </a:lnTo>
                  <a:lnTo>
                    <a:pt x="150" y="675"/>
                  </a:lnTo>
                  <a:lnTo>
                    <a:pt x="165" y="705"/>
                  </a:lnTo>
                  <a:lnTo>
                    <a:pt x="180" y="735"/>
                  </a:lnTo>
                  <a:lnTo>
                    <a:pt x="210" y="750"/>
                  </a:lnTo>
                  <a:lnTo>
                    <a:pt x="210" y="780"/>
                  </a:lnTo>
                  <a:lnTo>
                    <a:pt x="240" y="795"/>
                  </a:lnTo>
                  <a:lnTo>
                    <a:pt x="270" y="810"/>
                  </a:lnTo>
                  <a:lnTo>
                    <a:pt x="300" y="825"/>
                  </a:lnTo>
                  <a:lnTo>
                    <a:pt x="330" y="825"/>
                  </a:lnTo>
                  <a:lnTo>
                    <a:pt x="360" y="825"/>
                  </a:lnTo>
                  <a:lnTo>
                    <a:pt x="390" y="825"/>
                  </a:lnTo>
                  <a:lnTo>
                    <a:pt x="405" y="795"/>
                  </a:lnTo>
                  <a:lnTo>
                    <a:pt x="435" y="780"/>
                  </a:lnTo>
                  <a:lnTo>
                    <a:pt x="450" y="810"/>
                  </a:lnTo>
                  <a:lnTo>
                    <a:pt x="480" y="795"/>
                  </a:lnTo>
                  <a:lnTo>
                    <a:pt x="480" y="765"/>
                  </a:lnTo>
                  <a:lnTo>
                    <a:pt x="510" y="735"/>
                  </a:lnTo>
                  <a:lnTo>
                    <a:pt x="510" y="705"/>
                  </a:lnTo>
                  <a:lnTo>
                    <a:pt x="540" y="705"/>
                  </a:lnTo>
                  <a:lnTo>
                    <a:pt x="570" y="720"/>
                  </a:lnTo>
                  <a:lnTo>
                    <a:pt x="600" y="705"/>
                  </a:lnTo>
                  <a:lnTo>
                    <a:pt x="600" y="675"/>
                  </a:lnTo>
                  <a:lnTo>
                    <a:pt x="600" y="645"/>
                  </a:lnTo>
                  <a:lnTo>
                    <a:pt x="615" y="615"/>
                  </a:lnTo>
                  <a:lnTo>
                    <a:pt x="645" y="600"/>
                  </a:lnTo>
                  <a:lnTo>
                    <a:pt x="660" y="570"/>
                  </a:lnTo>
                  <a:lnTo>
                    <a:pt x="630" y="555"/>
                  </a:lnTo>
                  <a:lnTo>
                    <a:pt x="615" y="525"/>
                  </a:lnTo>
                  <a:lnTo>
                    <a:pt x="645" y="510"/>
                  </a:lnTo>
                  <a:lnTo>
                    <a:pt x="675" y="510"/>
                  </a:lnTo>
                  <a:lnTo>
                    <a:pt x="705" y="510"/>
                  </a:lnTo>
                  <a:lnTo>
                    <a:pt x="705" y="480"/>
                  </a:lnTo>
                  <a:lnTo>
                    <a:pt x="705" y="450"/>
                  </a:lnTo>
                  <a:lnTo>
                    <a:pt x="705" y="420"/>
                  </a:lnTo>
                  <a:lnTo>
                    <a:pt x="690" y="390"/>
                  </a:lnTo>
                  <a:lnTo>
                    <a:pt x="690" y="360"/>
                  </a:lnTo>
                  <a:lnTo>
                    <a:pt x="690" y="330"/>
                  </a:lnTo>
                  <a:lnTo>
                    <a:pt x="705" y="300"/>
                  </a:lnTo>
                  <a:lnTo>
                    <a:pt x="705" y="270"/>
                  </a:lnTo>
                  <a:lnTo>
                    <a:pt x="720" y="240"/>
                  </a:lnTo>
                  <a:lnTo>
                    <a:pt x="720" y="210"/>
                  </a:lnTo>
                  <a:lnTo>
                    <a:pt x="705" y="180"/>
                  </a:lnTo>
                  <a:lnTo>
                    <a:pt x="690" y="150"/>
                  </a:lnTo>
                  <a:lnTo>
                    <a:pt x="675" y="120"/>
                  </a:lnTo>
                  <a:lnTo>
                    <a:pt x="645" y="105"/>
                  </a:lnTo>
                  <a:lnTo>
                    <a:pt x="615" y="105"/>
                  </a:lnTo>
                  <a:lnTo>
                    <a:pt x="585" y="120"/>
                  </a:lnTo>
                  <a:lnTo>
                    <a:pt x="555" y="135"/>
                  </a:lnTo>
                  <a:lnTo>
                    <a:pt x="510" y="135"/>
                  </a:lnTo>
                  <a:lnTo>
                    <a:pt x="480" y="135"/>
                  </a:lnTo>
                  <a:lnTo>
                    <a:pt x="450" y="135"/>
                  </a:lnTo>
                  <a:lnTo>
                    <a:pt x="420" y="165"/>
                  </a:lnTo>
                  <a:lnTo>
                    <a:pt x="390" y="165"/>
                  </a:lnTo>
                  <a:lnTo>
                    <a:pt x="360" y="165"/>
                  </a:lnTo>
                  <a:lnTo>
                    <a:pt x="330" y="150"/>
                  </a:lnTo>
                  <a:lnTo>
                    <a:pt x="300" y="150"/>
                  </a:lnTo>
                  <a:lnTo>
                    <a:pt x="270" y="120"/>
                  </a:lnTo>
                  <a:lnTo>
                    <a:pt x="240" y="105"/>
                  </a:lnTo>
                  <a:lnTo>
                    <a:pt x="210" y="90"/>
                  </a:lnTo>
                  <a:lnTo>
                    <a:pt x="180" y="75"/>
                  </a:lnTo>
                  <a:lnTo>
                    <a:pt x="150" y="90"/>
                  </a:lnTo>
                  <a:lnTo>
                    <a:pt x="120" y="90"/>
                  </a:lnTo>
                  <a:lnTo>
                    <a:pt x="90" y="90"/>
                  </a:lnTo>
                  <a:lnTo>
                    <a:pt x="75" y="60"/>
                  </a:lnTo>
                  <a:lnTo>
                    <a:pt x="60" y="3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79200" y="1594800"/>
              <a:ext cx="134640" cy="64800"/>
            </a:xfrm>
            <a:custGeom>
              <a:avLst/>
              <a:gdLst/>
              <a:ahLst/>
              <a:rect l="l" t="t" r="r" b="b"/>
              <a:pathLst>
                <a:path w="376" h="181">
                  <a:moveTo>
                    <a:pt x="345" y="0"/>
                  </a:moveTo>
                  <a:lnTo>
                    <a:pt x="315" y="15"/>
                  </a:lnTo>
                  <a:lnTo>
                    <a:pt x="285" y="15"/>
                  </a:lnTo>
                  <a:lnTo>
                    <a:pt x="255" y="15"/>
                  </a:lnTo>
                  <a:lnTo>
                    <a:pt x="225" y="15"/>
                  </a:lnTo>
                  <a:lnTo>
                    <a:pt x="195" y="15"/>
                  </a:lnTo>
                  <a:lnTo>
                    <a:pt x="165" y="30"/>
                  </a:lnTo>
                  <a:lnTo>
                    <a:pt x="135" y="15"/>
                  </a:lnTo>
                  <a:lnTo>
                    <a:pt x="105" y="15"/>
                  </a:lnTo>
                  <a:lnTo>
                    <a:pt x="75" y="30"/>
                  </a:lnTo>
                  <a:lnTo>
                    <a:pt x="60" y="60"/>
                  </a:lnTo>
                  <a:lnTo>
                    <a:pt x="45" y="90"/>
                  </a:lnTo>
                  <a:lnTo>
                    <a:pt x="30" y="120"/>
                  </a:lnTo>
                  <a:lnTo>
                    <a:pt x="0" y="135"/>
                  </a:lnTo>
                  <a:lnTo>
                    <a:pt x="0" y="165"/>
                  </a:lnTo>
                  <a:lnTo>
                    <a:pt x="30" y="165"/>
                  </a:lnTo>
                  <a:lnTo>
                    <a:pt x="60" y="150"/>
                  </a:lnTo>
                  <a:lnTo>
                    <a:pt x="90" y="150"/>
                  </a:lnTo>
                  <a:lnTo>
                    <a:pt x="120" y="135"/>
                  </a:lnTo>
                  <a:lnTo>
                    <a:pt x="150" y="150"/>
                  </a:lnTo>
                  <a:lnTo>
                    <a:pt x="180" y="180"/>
                  </a:lnTo>
                  <a:lnTo>
                    <a:pt x="210" y="180"/>
                  </a:lnTo>
                  <a:lnTo>
                    <a:pt x="240" y="180"/>
                  </a:lnTo>
                  <a:lnTo>
                    <a:pt x="270" y="150"/>
                  </a:lnTo>
                  <a:lnTo>
                    <a:pt x="300" y="150"/>
                  </a:lnTo>
                  <a:lnTo>
                    <a:pt x="330" y="135"/>
                  </a:lnTo>
                  <a:lnTo>
                    <a:pt x="345" y="105"/>
                  </a:lnTo>
                  <a:lnTo>
                    <a:pt x="375" y="75"/>
                  </a:lnTo>
                  <a:lnTo>
                    <a:pt x="375" y="45"/>
                  </a:lnTo>
                  <a:lnTo>
                    <a:pt x="3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11000" y="3283560"/>
              <a:ext cx="56880" cy="136080"/>
            </a:xfrm>
            <a:custGeom>
              <a:avLst/>
              <a:gdLst/>
              <a:ahLst/>
              <a:rect l="l" t="t" r="r" b="b"/>
              <a:pathLst>
                <a:path w="160" h="381">
                  <a:moveTo>
                    <a:pt x="7" y="0"/>
                  </a:moveTo>
                  <a:lnTo>
                    <a:pt x="31" y="5"/>
                  </a:lnTo>
                  <a:lnTo>
                    <a:pt x="61" y="28"/>
                  </a:lnTo>
                  <a:lnTo>
                    <a:pt x="84" y="58"/>
                  </a:lnTo>
                  <a:lnTo>
                    <a:pt x="99" y="88"/>
                  </a:lnTo>
                  <a:lnTo>
                    <a:pt x="114" y="118"/>
                  </a:lnTo>
                  <a:lnTo>
                    <a:pt x="129" y="148"/>
                  </a:lnTo>
                  <a:lnTo>
                    <a:pt x="144" y="178"/>
                  </a:lnTo>
                  <a:lnTo>
                    <a:pt x="151" y="207"/>
                  </a:lnTo>
                  <a:lnTo>
                    <a:pt x="159" y="237"/>
                  </a:lnTo>
                  <a:lnTo>
                    <a:pt x="159" y="267"/>
                  </a:lnTo>
                  <a:lnTo>
                    <a:pt x="136" y="297"/>
                  </a:lnTo>
                  <a:lnTo>
                    <a:pt x="106" y="320"/>
                  </a:lnTo>
                  <a:lnTo>
                    <a:pt x="91" y="350"/>
                  </a:lnTo>
                  <a:lnTo>
                    <a:pt x="91" y="380"/>
                  </a:lnTo>
                  <a:lnTo>
                    <a:pt x="61" y="350"/>
                  </a:lnTo>
                  <a:lnTo>
                    <a:pt x="61" y="320"/>
                  </a:lnTo>
                  <a:lnTo>
                    <a:pt x="76" y="290"/>
                  </a:lnTo>
                  <a:lnTo>
                    <a:pt x="84" y="260"/>
                  </a:lnTo>
                  <a:lnTo>
                    <a:pt x="84" y="230"/>
                  </a:lnTo>
                  <a:lnTo>
                    <a:pt x="54" y="200"/>
                  </a:lnTo>
                  <a:lnTo>
                    <a:pt x="39" y="170"/>
                  </a:lnTo>
                  <a:lnTo>
                    <a:pt x="46" y="140"/>
                  </a:lnTo>
                  <a:lnTo>
                    <a:pt x="46" y="110"/>
                  </a:lnTo>
                  <a:lnTo>
                    <a:pt x="31" y="80"/>
                  </a:lnTo>
                  <a:lnTo>
                    <a:pt x="9" y="50"/>
                  </a:lnTo>
                  <a:lnTo>
                    <a:pt x="0" y="19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71400" y="3080160"/>
              <a:ext cx="83520" cy="110880"/>
            </a:xfrm>
            <a:custGeom>
              <a:avLst/>
              <a:gdLst/>
              <a:ahLst/>
              <a:rect l="l" t="t" r="r" b="b"/>
              <a:pathLst>
                <a:path w="233" h="309">
                  <a:moveTo>
                    <a:pt x="67" y="0"/>
                  </a:moveTo>
                  <a:lnTo>
                    <a:pt x="37" y="0"/>
                  </a:lnTo>
                  <a:lnTo>
                    <a:pt x="7" y="15"/>
                  </a:lnTo>
                  <a:lnTo>
                    <a:pt x="0" y="45"/>
                  </a:lnTo>
                  <a:lnTo>
                    <a:pt x="30" y="75"/>
                  </a:lnTo>
                  <a:lnTo>
                    <a:pt x="45" y="105"/>
                  </a:lnTo>
                  <a:lnTo>
                    <a:pt x="45" y="135"/>
                  </a:lnTo>
                  <a:lnTo>
                    <a:pt x="30" y="165"/>
                  </a:lnTo>
                  <a:lnTo>
                    <a:pt x="37" y="195"/>
                  </a:lnTo>
                  <a:lnTo>
                    <a:pt x="45" y="225"/>
                  </a:lnTo>
                  <a:lnTo>
                    <a:pt x="67" y="255"/>
                  </a:lnTo>
                  <a:lnTo>
                    <a:pt x="97" y="270"/>
                  </a:lnTo>
                  <a:lnTo>
                    <a:pt x="120" y="240"/>
                  </a:lnTo>
                  <a:lnTo>
                    <a:pt x="120" y="210"/>
                  </a:lnTo>
                  <a:lnTo>
                    <a:pt x="150" y="225"/>
                  </a:lnTo>
                  <a:lnTo>
                    <a:pt x="165" y="255"/>
                  </a:lnTo>
                  <a:lnTo>
                    <a:pt x="187" y="285"/>
                  </a:lnTo>
                  <a:lnTo>
                    <a:pt x="217" y="308"/>
                  </a:lnTo>
                  <a:lnTo>
                    <a:pt x="232" y="278"/>
                  </a:lnTo>
                  <a:lnTo>
                    <a:pt x="210" y="248"/>
                  </a:lnTo>
                  <a:lnTo>
                    <a:pt x="180" y="218"/>
                  </a:lnTo>
                  <a:lnTo>
                    <a:pt x="187" y="188"/>
                  </a:lnTo>
                  <a:lnTo>
                    <a:pt x="217" y="158"/>
                  </a:lnTo>
                  <a:lnTo>
                    <a:pt x="210" y="128"/>
                  </a:lnTo>
                  <a:lnTo>
                    <a:pt x="202" y="98"/>
                  </a:lnTo>
                  <a:lnTo>
                    <a:pt x="187" y="68"/>
                  </a:lnTo>
                  <a:lnTo>
                    <a:pt x="150" y="75"/>
                  </a:lnTo>
                  <a:lnTo>
                    <a:pt x="131" y="49"/>
                  </a:lnTo>
                  <a:lnTo>
                    <a:pt x="104" y="24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93160" y="3308760"/>
              <a:ext cx="41040" cy="5364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82" y="0"/>
                  </a:moveTo>
                  <a:lnTo>
                    <a:pt x="82" y="30"/>
                  </a:lnTo>
                  <a:lnTo>
                    <a:pt x="90" y="60"/>
                  </a:lnTo>
                  <a:lnTo>
                    <a:pt x="105" y="90"/>
                  </a:lnTo>
                  <a:lnTo>
                    <a:pt x="112" y="120"/>
                  </a:lnTo>
                  <a:lnTo>
                    <a:pt x="97" y="150"/>
                  </a:lnTo>
                  <a:lnTo>
                    <a:pt x="75" y="120"/>
                  </a:lnTo>
                  <a:lnTo>
                    <a:pt x="45" y="112"/>
                  </a:lnTo>
                  <a:lnTo>
                    <a:pt x="15" y="105"/>
                  </a:lnTo>
                  <a:lnTo>
                    <a:pt x="0" y="75"/>
                  </a:lnTo>
                  <a:lnTo>
                    <a:pt x="15" y="45"/>
                  </a:lnTo>
                  <a:lnTo>
                    <a:pt x="45" y="22"/>
                  </a:lnTo>
                  <a:lnTo>
                    <a:pt x="75" y="0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06480" y="2572200"/>
              <a:ext cx="60120" cy="52200"/>
            </a:xfrm>
            <a:custGeom>
              <a:avLst/>
              <a:gdLst/>
              <a:ahLst/>
              <a:rect l="l" t="t" r="r" b="b"/>
              <a:pathLst>
                <a:path w="166" h="144">
                  <a:moveTo>
                    <a:pt x="128" y="15"/>
                  </a:moveTo>
                  <a:lnTo>
                    <a:pt x="98" y="38"/>
                  </a:lnTo>
                  <a:lnTo>
                    <a:pt x="68" y="60"/>
                  </a:lnTo>
                  <a:lnTo>
                    <a:pt x="38" y="68"/>
                  </a:lnTo>
                  <a:lnTo>
                    <a:pt x="15" y="98"/>
                  </a:lnTo>
                  <a:lnTo>
                    <a:pt x="0" y="128"/>
                  </a:lnTo>
                  <a:lnTo>
                    <a:pt x="30" y="143"/>
                  </a:lnTo>
                  <a:lnTo>
                    <a:pt x="60" y="135"/>
                  </a:lnTo>
                  <a:lnTo>
                    <a:pt x="90" y="113"/>
                  </a:lnTo>
                  <a:lnTo>
                    <a:pt x="120" y="113"/>
                  </a:lnTo>
                  <a:lnTo>
                    <a:pt x="150" y="98"/>
                  </a:lnTo>
                  <a:lnTo>
                    <a:pt x="165" y="68"/>
                  </a:lnTo>
                  <a:lnTo>
                    <a:pt x="165" y="38"/>
                  </a:lnTo>
                  <a:lnTo>
                    <a:pt x="158" y="0"/>
                  </a:lnTo>
                  <a:lnTo>
                    <a:pt x="128" y="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82480" y="3366000"/>
              <a:ext cx="56880" cy="83880"/>
            </a:xfrm>
            <a:custGeom>
              <a:avLst/>
              <a:gdLst/>
              <a:ahLst/>
              <a:rect l="l" t="t" r="r" b="b"/>
              <a:pathLst>
                <a:path w="159" h="234">
                  <a:moveTo>
                    <a:pt x="23" y="8"/>
                  </a:moveTo>
                  <a:lnTo>
                    <a:pt x="53" y="23"/>
                  </a:lnTo>
                  <a:lnTo>
                    <a:pt x="83" y="53"/>
                  </a:lnTo>
                  <a:lnTo>
                    <a:pt x="105" y="83"/>
                  </a:lnTo>
                  <a:lnTo>
                    <a:pt x="135" y="128"/>
                  </a:lnTo>
                  <a:lnTo>
                    <a:pt x="143" y="158"/>
                  </a:lnTo>
                  <a:lnTo>
                    <a:pt x="158" y="188"/>
                  </a:lnTo>
                  <a:lnTo>
                    <a:pt x="158" y="218"/>
                  </a:lnTo>
                  <a:lnTo>
                    <a:pt x="128" y="233"/>
                  </a:lnTo>
                  <a:lnTo>
                    <a:pt x="98" y="210"/>
                  </a:lnTo>
                  <a:lnTo>
                    <a:pt x="98" y="180"/>
                  </a:lnTo>
                  <a:lnTo>
                    <a:pt x="98" y="150"/>
                  </a:lnTo>
                  <a:lnTo>
                    <a:pt x="98" y="113"/>
                  </a:lnTo>
                  <a:lnTo>
                    <a:pt x="83" y="83"/>
                  </a:lnTo>
                  <a:lnTo>
                    <a:pt x="53" y="90"/>
                  </a:lnTo>
                  <a:lnTo>
                    <a:pt x="23" y="83"/>
                  </a:lnTo>
                  <a:lnTo>
                    <a:pt x="8" y="53"/>
                  </a:lnTo>
                  <a:lnTo>
                    <a:pt x="0" y="23"/>
                  </a:lnTo>
                  <a:lnTo>
                    <a:pt x="30" y="0"/>
                  </a:lnTo>
                  <a:lnTo>
                    <a:pt x="23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33240" y="1805760"/>
              <a:ext cx="69480" cy="61560"/>
            </a:xfrm>
            <a:custGeom>
              <a:avLst/>
              <a:gdLst/>
              <a:ahLst/>
              <a:rect l="l" t="t" r="r" b="b"/>
              <a:pathLst>
                <a:path w="196" h="173">
                  <a:moveTo>
                    <a:pt x="150" y="30"/>
                  </a:moveTo>
                  <a:lnTo>
                    <a:pt x="120" y="30"/>
                  </a:lnTo>
                  <a:lnTo>
                    <a:pt x="90" y="22"/>
                  </a:lnTo>
                  <a:lnTo>
                    <a:pt x="60" y="0"/>
                  </a:lnTo>
                  <a:lnTo>
                    <a:pt x="45" y="30"/>
                  </a:lnTo>
                  <a:lnTo>
                    <a:pt x="15" y="37"/>
                  </a:lnTo>
                  <a:lnTo>
                    <a:pt x="15" y="67"/>
                  </a:lnTo>
                  <a:lnTo>
                    <a:pt x="15" y="97"/>
                  </a:lnTo>
                  <a:lnTo>
                    <a:pt x="0" y="127"/>
                  </a:lnTo>
                  <a:lnTo>
                    <a:pt x="15" y="157"/>
                  </a:lnTo>
                  <a:lnTo>
                    <a:pt x="45" y="150"/>
                  </a:lnTo>
                  <a:lnTo>
                    <a:pt x="75" y="150"/>
                  </a:lnTo>
                  <a:lnTo>
                    <a:pt x="105" y="165"/>
                  </a:lnTo>
                  <a:lnTo>
                    <a:pt x="135" y="172"/>
                  </a:lnTo>
                  <a:lnTo>
                    <a:pt x="165" y="172"/>
                  </a:lnTo>
                  <a:lnTo>
                    <a:pt x="195" y="165"/>
                  </a:lnTo>
                  <a:lnTo>
                    <a:pt x="195" y="135"/>
                  </a:lnTo>
                  <a:lnTo>
                    <a:pt x="165" y="120"/>
                  </a:lnTo>
                  <a:lnTo>
                    <a:pt x="135" y="105"/>
                  </a:lnTo>
                  <a:lnTo>
                    <a:pt x="157" y="75"/>
                  </a:lnTo>
                  <a:lnTo>
                    <a:pt x="172" y="45"/>
                  </a:lnTo>
                  <a:lnTo>
                    <a:pt x="15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2000" y="2056680"/>
              <a:ext cx="60120" cy="42480"/>
            </a:xfrm>
            <a:custGeom>
              <a:avLst/>
              <a:gdLst/>
              <a:ahLst/>
              <a:rect l="l" t="t" r="r" b="b"/>
              <a:pathLst>
                <a:path w="166" h="121">
                  <a:moveTo>
                    <a:pt x="97" y="0"/>
                  </a:moveTo>
                  <a:lnTo>
                    <a:pt x="67" y="0"/>
                  </a:lnTo>
                  <a:lnTo>
                    <a:pt x="37" y="30"/>
                  </a:lnTo>
                  <a:lnTo>
                    <a:pt x="15" y="60"/>
                  </a:lnTo>
                  <a:lnTo>
                    <a:pt x="0" y="90"/>
                  </a:lnTo>
                  <a:lnTo>
                    <a:pt x="7" y="120"/>
                  </a:lnTo>
                  <a:lnTo>
                    <a:pt x="37" y="113"/>
                  </a:lnTo>
                  <a:lnTo>
                    <a:pt x="67" y="98"/>
                  </a:lnTo>
                  <a:lnTo>
                    <a:pt x="97" y="75"/>
                  </a:lnTo>
                  <a:lnTo>
                    <a:pt x="127" y="60"/>
                  </a:lnTo>
                  <a:lnTo>
                    <a:pt x="157" y="38"/>
                  </a:lnTo>
                  <a:lnTo>
                    <a:pt x="165" y="8"/>
                  </a:lnTo>
                  <a:lnTo>
                    <a:pt x="135" y="0"/>
                  </a:lnTo>
                  <a:lnTo>
                    <a:pt x="9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4400" y="1559880"/>
              <a:ext cx="34560" cy="42480"/>
            </a:xfrm>
            <a:custGeom>
              <a:avLst/>
              <a:gdLst/>
              <a:ahLst/>
              <a:rect l="l" t="t" r="r" b="b"/>
              <a:pathLst>
                <a:path w="98" h="121">
                  <a:moveTo>
                    <a:pt x="67" y="0"/>
                  </a:moveTo>
                  <a:lnTo>
                    <a:pt x="37" y="30"/>
                  </a:lnTo>
                  <a:lnTo>
                    <a:pt x="15" y="60"/>
                  </a:lnTo>
                  <a:lnTo>
                    <a:pt x="0" y="90"/>
                  </a:lnTo>
                  <a:lnTo>
                    <a:pt x="7" y="120"/>
                  </a:lnTo>
                  <a:lnTo>
                    <a:pt x="37" y="113"/>
                  </a:lnTo>
                  <a:lnTo>
                    <a:pt x="60" y="75"/>
                  </a:lnTo>
                  <a:lnTo>
                    <a:pt x="90" y="60"/>
                  </a:lnTo>
                  <a:lnTo>
                    <a:pt x="97" y="3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85720" y="1610640"/>
              <a:ext cx="34560" cy="28080"/>
            </a:xfrm>
            <a:custGeom>
              <a:avLst/>
              <a:gdLst/>
              <a:ahLst/>
              <a:rect l="l" t="t" r="r" b="b"/>
              <a:pathLst>
                <a:path w="96" h="81">
                  <a:moveTo>
                    <a:pt x="95" y="5"/>
                  </a:moveTo>
                  <a:lnTo>
                    <a:pt x="70" y="10"/>
                  </a:lnTo>
                  <a:lnTo>
                    <a:pt x="45" y="20"/>
                  </a:lnTo>
                  <a:lnTo>
                    <a:pt x="20" y="40"/>
                  </a:lnTo>
                  <a:lnTo>
                    <a:pt x="0" y="65"/>
                  </a:lnTo>
                  <a:lnTo>
                    <a:pt x="25" y="80"/>
                  </a:lnTo>
                  <a:lnTo>
                    <a:pt x="50" y="70"/>
                  </a:lnTo>
                  <a:lnTo>
                    <a:pt x="70" y="45"/>
                  </a:lnTo>
                  <a:lnTo>
                    <a:pt x="95" y="25"/>
                  </a:lnTo>
                  <a:lnTo>
                    <a:pt x="95" y="0"/>
                  </a:lnTo>
                  <a:lnTo>
                    <a:pt x="95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59920" y="4140360"/>
              <a:ext cx="26640" cy="68040"/>
            </a:xfrm>
            <a:custGeom>
              <a:avLst/>
              <a:gdLst/>
              <a:ahLst/>
              <a:rect l="l" t="t" r="r" b="b"/>
              <a:pathLst>
                <a:path w="76" h="188">
                  <a:moveTo>
                    <a:pt x="53" y="0"/>
                  </a:moveTo>
                  <a:lnTo>
                    <a:pt x="23" y="30"/>
                  </a:lnTo>
                  <a:lnTo>
                    <a:pt x="8" y="60"/>
                  </a:lnTo>
                  <a:lnTo>
                    <a:pt x="0" y="90"/>
                  </a:lnTo>
                  <a:lnTo>
                    <a:pt x="15" y="120"/>
                  </a:lnTo>
                  <a:lnTo>
                    <a:pt x="15" y="150"/>
                  </a:lnTo>
                  <a:lnTo>
                    <a:pt x="15" y="180"/>
                  </a:lnTo>
                  <a:lnTo>
                    <a:pt x="45" y="187"/>
                  </a:lnTo>
                  <a:lnTo>
                    <a:pt x="75" y="172"/>
                  </a:lnTo>
                  <a:lnTo>
                    <a:pt x="75" y="142"/>
                  </a:lnTo>
                  <a:lnTo>
                    <a:pt x="68" y="112"/>
                  </a:lnTo>
                  <a:lnTo>
                    <a:pt x="68" y="82"/>
                  </a:lnTo>
                  <a:lnTo>
                    <a:pt x="75" y="52"/>
                  </a:lnTo>
                  <a:lnTo>
                    <a:pt x="75" y="22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34240" y="4186440"/>
              <a:ext cx="34560" cy="48960"/>
            </a:xfrm>
            <a:custGeom>
              <a:avLst/>
              <a:gdLst/>
              <a:ahLst/>
              <a:rect l="l" t="t" r="r" b="b"/>
              <a:pathLst>
                <a:path w="99" h="136">
                  <a:moveTo>
                    <a:pt x="45" y="0"/>
                  </a:moveTo>
                  <a:lnTo>
                    <a:pt x="23" y="30"/>
                  </a:lnTo>
                  <a:lnTo>
                    <a:pt x="8" y="60"/>
                  </a:lnTo>
                  <a:lnTo>
                    <a:pt x="0" y="90"/>
                  </a:lnTo>
                  <a:lnTo>
                    <a:pt x="23" y="120"/>
                  </a:lnTo>
                  <a:lnTo>
                    <a:pt x="53" y="135"/>
                  </a:lnTo>
                  <a:lnTo>
                    <a:pt x="83" y="135"/>
                  </a:lnTo>
                  <a:lnTo>
                    <a:pt x="98" y="105"/>
                  </a:lnTo>
                  <a:lnTo>
                    <a:pt x="83" y="75"/>
                  </a:lnTo>
                  <a:lnTo>
                    <a:pt x="75" y="45"/>
                  </a:lnTo>
                  <a:lnTo>
                    <a:pt x="60" y="15"/>
                  </a:lnTo>
                  <a:lnTo>
                    <a:pt x="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48640" y="4245120"/>
              <a:ext cx="29520" cy="2196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45" y="0"/>
                  </a:moveTo>
                  <a:lnTo>
                    <a:pt x="15" y="8"/>
                  </a:lnTo>
                  <a:lnTo>
                    <a:pt x="0" y="38"/>
                  </a:lnTo>
                  <a:lnTo>
                    <a:pt x="30" y="60"/>
                  </a:lnTo>
                  <a:lnTo>
                    <a:pt x="60" y="45"/>
                  </a:lnTo>
                  <a:lnTo>
                    <a:pt x="82" y="15"/>
                  </a:lnTo>
                  <a:lnTo>
                    <a:pt x="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5440" y="1547640"/>
              <a:ext cx="3211560" cy="2580120"/>
            </a:xfrm>
            <a:custGeom>
              <a:avLst/>
              <a:gdLst/>
              <a:ahLst/>
              <a:rect l="l" t="t" r="r" b="b"/>
              <a:pathLst>
                <a:path w="8926" h="7171">
                  <a:moveTo>
                    <a:pt x="37" y="4267"/>
                  </a:moveTo>
                  <a:lnTo>
                    <a:pt x="45" y="4297"/>
                  </a:lnTo>
                  <a:lnTo>
                    <a:pt x="60" y="4327"/>
                  </a:lnTo>
                  <a:lnTo>
                    <a:pt x="90" y="4357"/>
                  </a:lnTo>
                  <a:lnTo>
                    <a:pt x="120" y="4372"/>
                  </a:lnTo>
                  <a:lnTo>
                    <a:pt x="142" y="4402"/>
                  </a:lnTo>
                  <a:lnTo>
                    <a:pt x="172" y="4432"/>
                  </a:lnTo>
                  <a:lnTo>
                    <a:pt x="203" y="4454"/>
                  </a:lnTo>
                  <a:lnTo>
                    <a:pt x="210" y="4484"/>
                  </a:lnTo>
                  <a:lnTo>
                    <a:pt x="233" y="4514"/>
                  </a:lnTo>
                  <a:lnTo>
                    <a:pt x="263" y="4537"/>
                  </a:lnTo>
                  <a:lnTo>
                    <a:pt x="292" y="4559"/>
                  </a:lnTo>
                  <a:lnTo>
                    <a:pt x="300" y="4589"/>
                  </a:lnTo>
                  <a:lnTo>
                    <a:pt x="307" y="4619"/>
                  </a:lnTo>
                  <a:lnTo>
                    <a:pt x="315" y="4649"/>
                  </a:lnTo>
                  <a:lnTo>
                    <a:pt x="330" y="4679"/>
                  </a:lnTo>
                  <a:lnTo>
                    <a:pt x="337" y="4709"/>
                  </a:lnTo>
                  <a:lnTo>
                    <a:pt x="345" y="4739"/>
                  </a:lnTo>
                  <a:lnTo>
                    <a:pt x="367" y="4769"/>
                  </a:lnTo>
                  <a:lnTo>
                    <a:pt x="390" y="4799"/>
                  </a:lnTo>
                  <a:lnTo>
                    <a:pt x="420" y="4829"/>
                  </a:lnTo>
                  <a:lnTo>
                    <a:pt x="450" y="4859"/>
                  </a:lnTo>
                  <a:lnTo>
                    <a:pt x="465" y="4889"/>
                  </a:lnTo>
                  <a:lnTo>
                    <a:pt x="480" y="4919"/>
                  </a:lnTo>
                  <a:lnTo>
                    <a:pt x="502" y="4949"/>
                  </a:lnTo>
                  <a:lnTo>
                    <a:pt x="525" y="4979"/>
                  </a:lnTo>
                  <a:lnTo>
                    <a:pt x="547" y="5009"/>
                  </a:lnTo>
                  <a:lnTo>
                    <a:pt x="562" y="5039"/>
                  </a:lnTo>
                  <a:lnTo>
                    <a:pt x="562" y="5069"/>
                  </a:lnTo>
                  <a:lnTo>
                    <a:pt x="562" y="5099"/>
                  </a:lnTo>
                  <a:lnTo>
                    <a:pt x="562" y="5129"/>
                  </a:lnTo>
                  <a:lnTo>
                    <a:pt x="570" y="5159"/>
                  </a:lnTo>
                  <a:lnTo>
                    <a:pt x="577" y="5189"/>
                  </a:lnTo>
                  <a:lnTo>
                    <a:pt x="585" y="5219"/>
                  </a:lnTo>
                  <a:lnTo>
                    <a:pt x="600" y="5249"/>
                  </a:lnTo>
                  <a:lnTo>
                    <a:pt x="615" y="5279"/>
                  </a:lnTo>
                  <a:lnTo>
                    <a:pt x="630" y="5309"/>
                  </a:lnTo>
                  <a:lnTo>
                    <a:pt x="645" y="5339"/>
                  </a:lnTo>
                  <a:lnTo>
                    <a:pt x="652" y="5369"/>
                  </a:lnTo>
                  <a:lnTo>
                    <a:pt x="675" y="5399"/>
                  </a:lnTo>
                  <a:lnTo>
                    <a:pt x="697" y="5429"/>
                  </a:lnTo>
                  <a:lnTo>
                    <a:pt x="720" y="5459"/>
                  </a:lnTo>
                  <a:lnTo>
                    <a:pt x="735" y="5489"/>
                  </a:lnTo>
                  <a:lnTo>
                    <a:pt x="765" y="5519"/>
                  </a:lnTo>
                  <a:lnTo>
                    <a:pt x="780" y="5549"/>
                  </a:lnTo>
                  <a:lnTo>
                    <a:pt x="795" y="5579"/>
                  </a:lnTo>
                  <a:lnTo>
                    <a:pt x="818" y="5609"/>
                  </a:lnTo>
                  <a:lnTo>
                    <a:pt x="825" y="5639"/>
                  </a:lnTo>
                  <a:lnTo>
                    <a:pt x="818" y="5669"/>
                  </a:lnTo>
                  <a:lnTo>
                    <a:pt x="810" y="5699"/>
                  </a:lnTo>
                  <a:lnTo>
                    <a:pt x="810" y="5729"/>
                  </a:lnTo>
                  <a:lnTo>
                    <a:pt x="795" y="5759"/>
                  </a:lnTo>
                  <a:lnTo>
                    <a:pt x="795" y="5789"/>
                  </a:lnTo>
                  <a:lnTo>
                    <a:pt x="810" y="5819"/>
                  </a:lnTo>
                  <a:lnTo>
                    <a:pt x="810" y="5849"/>
                  </a:lnTo>
                  <a:lnTo>
                    <a:pt x="810" y="5879"/>
                  </a:lnTo>
                  <a:lnTo>
                    <a:pt x="818" y="5909"/>
                  </a:lnTo>
                  <a:lnTo>
                    <a:pt x="825" y="5939"/>
                  </a:lnTo>
                  <a:lnTo>
                    <a:pt x="818" y="5969"/>
                  </a:lnTo>
                  <a:lnTo>
                    <a:pt x="810" y="5999"/>
                  </a:lnTo>
                  <a:lnTo>
                    <a:pt x="795" y="6029"/>
                  </a:lnTo>
                  <a:lnTo>
                    <a:pt x="765" y="6044"/>
                  </a:lnTo>
                  <a:lnTo>
                    <a:pt x="735" y="6029"/>
                  </a:lnTo>
                  <a:lnTo>
                    <a:pt x="705" y="6044"/>
                  </a:lnTo>
                  <a:lnTo>
                    <a:pt x="713" y="6074"/>
                  </a:lnTo>
                  <a:lnTo>
                    <a:pt x="720" y="6104"/>
                  </a:lnTo>
                  <a:lnTo>
                    <a:pt x="728" y="6134"/>
                  </a:lnTo>
                  <a:lnTo>
                    <a:pt x="743" y="6164"/>
                  </a:lnTo>
                  <a:lnTo>
                    <a:pt x="750" y="6194"/>
                  </a:lnTo>
                  <a:lnTo>
                    <a:pt x="765" y="6224"/>
                  </a:lnTo>
                  <a:lnTo>
                    <a:pt x="780" y="6254"/>
                  </a:lnTo>
                  <a:lnTo>
                    <a:pt x="833" y="6239"/>
                  </a:lnTo>
                  <a:lnTo>
                    <a:pt x="862" y="6269"/>
                  </a:lnTo>
                  <a:lnTo>
                    <a:pt x="907" y="6284"/>
                  </a:lnTo>
                  <a:lnTo>
                    <a:pt x="937" y="6307"/>
                  </a:lnTo>
                  <a:lnTo>
                    <a:pt x="960" y="6337"/>
                  </a:lnTo>
                  <a:lnTo>
                    <a:pt x="990" y="6344"/>
                  </a:lnTo>
                  <a:lnTo>
                    <a:pt x="1020" y="6352"/>
                  </a:lnTo>
                  <a:lnTo>
                    <a:pt x="1050" y="6367"/>
                  </a:lnTo>
                  <a:lnTo>
                    <a:pt x="1080" y="6382"/>
                  </a:lnTo>
                  <a:lnTo>
                    <a:pt x="1110" y="6397"/>
                  </a:lnTo>
                  <a:lnTo>
                    <a:pt x="1140" y="6382"/>
                  </a:lnTo>
                  <a:lnTo>
                    <a:pt x="1170" y="6367"/>
                  </a:lnTo>
                  <a:lnTo>
                    <a:pt x="1200" y="6367"/>
                  </a:lnTo>
                  <a:lnTo>
                    <a:pt x="1230" y="6359"/>
                  </a:lnTo>
                  <a:lnTo>
                    <a:pt x="1260" y="6352"/>
                  </a:lnTo>
                  <a:lnTo>
                    <a:pt x="1290" y="6352"/>
                  </a:lnTo>
                  <a:lnTo>
                    <a:pt x="1320" y="6367"/>
                  </a:lnTo>
                  <a:lnTo>
                    <a:pt x="1350" y="6367"/>
                  </a:lnTo>
                  <a:lnTo>
                    <a:pt x="1387" y="6337"/>
                  </a:lnTo>
                  <a:lnTo>
                    <a:pt x="1417" y="6307"/>
                  </a:lnTo>
                  <a:lnTo>
                    <a:pt x="1447" y="6284"/>
                  </a:lnTo>
                  <a:lnTo>
                    <a:pt x="1470" y="6254"/>
                  </a:lnTo>
                  <a:lnTo>
                    <a:pt x="1485" y="6224"/>
                  </a:lnTo>
                  <a:lnTo>
                    <a:pt x="1507" y="6194"/>
                  </a:lnTo>
                  <a:lnTo>
                    <a:pt x="1537" y="6172"/>
                  </a:lnTo>
                  <a:lnTo>
                    <a:pt x="1567" y="6157"/>
                  </a:lnTo>
                  <a:lnTo>
                    <a:pt x="1597" y="6172"/>
                  </a:lnTo>
                  <a:lnTo>
                    <a:pt x="1627" y="6194"/>
                  </a:lnTo>
                  <a:lnTo>
                    <a:pt x="1642" y="6164"/>
                  </a:lnTo>
                  <a:lnTo>
                    <a:pt x="1657" y="6134"/>
                  </a:lnTo>
                  <a:lnTo>
                    <a:pt x="1687" y="6134"/>
                  </a:lnTo>
                  <a:lnTo>
                    <a:pt x="1695" y="6104"/>
                  </a:lnTo>
                  <a:lnTo>
                    <a:pt x="1702" y="6074"/>
                  </a:lnTo>
                  <a:lnTo>
                    <a:pt x="1717" y="6044"/>
                  </a:lnTo>
                  <a:lnTo>
                    <a:pt x="1748" y="6022"/>
                  </a:lnTo>
                  <a:lnTo>
                    <a:pt x="1778" y="6014"/>
                  </a:lnTo>
                  <a:lnTo>
                    <a:pt x="1808" y="6014"/>
                  </a:lnTo>
                  <a:lnTo>
                    <a:pt x="1845" y="6007"/>
                  </a:lnTo>
                  <a:lnTo>
                    <a:pt x="1883" y="5992"/>
                  </a:lnTo>
                  <a:lnTo>
                    <a:pt x="1913" y="5984"/>
                  </a:lnTo>
                  <a:lnTo>
                    <a:pt x="1943" y="5969"/>
                  </a:lnTo>
                  <a:lnTo>
                    <a:pt x="1973" y="5969"/>
                  </a:lnTo>
                  <a:lnTo>
                    <a:pt x="2003" y="5962"/>
                  </a:lnTo>
                  <a:lnTo>
                    <a:pt x="2032" y="5947"/>
                  </a:lnTo>
                  <a:lnTo>
                    <a:pt x="2062" y="5939"/>
                  </a:lnTo>
                  <a:lnTo>
                    <a:pt x="2092" y="5939"/>
                  </a:lnTo>
                  <a:lnTo>
                    <a:pt x="2130" y="5939"/>
                  </a:lnTo>
                  <a:lnTo>
                    <a:pt x="2160" y="5947"/>
                  </a:lnTo>
                  <a:lnTo>
                    <a:pt x="2190" y="5954"/>
                  </a:lnTo>
                  <a:lnTo>
                    <a:pt x="2220" y="5954"/>
                  </a:lnTo>
                  <a:lnTo>
                    <a:pt x="2250" y="5954"/>
                  </a:lnTo>
                  <a:lnTo>
                    <a:pt x="2280" y="5947"/>
                  </a:lnTo>
                  <a:lnTo>
                    <a:pt x="2310" y="5939"/>
                  </a:lnTo>
                  <a:lnTo>
                    <a:pt x="2340" y="5939"/>
                  </a:lnTo>
                  <a:lnTo>
                    <a:pt x="2370" y="5939"/>
                  </a:lnTo>
                  <a:lnTo>
                    <a:pt x="2422" y="5962"/>
                  </a:lnTo>
                  <a:lnTo>
                    <a:pt x="2445" y="5932"/>
                  </a:lnTo>
                  <a:lnTo>
                    <a:pt x="2475" y="5909"/>
                  </a:lnTo>
                  <a:lnTo>
                    <a:pt x="2505" y="5894"/>
                  </a:lnTo>
                  <a:lnTo>
                    <a:pt x="2527" y="5864"/>
                  </a:lnTo>
                  <a:lnTo>
                    <a:pt x="2535" y="5834"/>
                  </a:lnTo>
                  <a:lnTo>
                    <a:pt x="2557" y="5804"/>
                  </a:lnTo>
                  <a:lnTo>
                    <a:pt x="2565" y="5774"/>
                  </a:lnTo>
                  <a:lnTo>
                    <a:pt x="2587" y="5744"/>
                  </a:lnTo>
                  <a:lnTo>
                    <a:pt x="2595" y="5714"/>
                  </a:lnTo>
                  <a:lnTo>
                    <a:pt x="2595" y="5684"/>
                  </a:lnTo>
                  <a:lnTo>
                    <a:pt x="2602" y="5654"/>
                  </a:lnTo>
                  <a:lnTo>
                    <a:pt x="2632" y="5639"/>
                  </a:lnTo>
                  <a:lnTo>
                    <a:pt x="2662" y="5632"/>
                  </a:lnTo>
                  <a:lnTo>
                    <a:pt x="2692" y="5624"/>
                  </a:lnTo>
                  <a:lnTo>
                    <a:pt x="2722" y="5609"/>
                  </a:lnTo>
                  <a:lnTo>
                    <a:pt x="2752" y="5594"/>
                  </a:lnTo>
                  <a:lnTo>
                    <a:pt x="2775" y="5564"/>
                  </a:lnTo>
                  <a:lnTo>
                    <a:pt x="2805" y="5542"/>
                  </a:lnTo>
                  <a:lnTo>
                    <a:pt x="2835" y="5534"/>
                  </a:lnTo>
                  <a:lnTo>
                    <a:pt x="2865" y="5512"/>
                  </a:lnTo>
                  <a:lnTo>
                    <a:pt x="2887" y="5482"/>
                  </a:lnTo>
                  <a:lnTo>
                    <a:pt x="2917" y="5459"/>
                  </a:lnTo>
                  <a:lnTo>
                    <a:pt x="2947" y="5452"/>
                  </a:lnTo>
                  <a:lnTo>
                    <a:pt x="2977" y="5459"/>
                  </a:lnTo>
                  <a:lnTo>
                    <a:pt x="3015" y="5459"/>
                  </a:lnTo>
                  <a:lnTo>
                    <a:pt x="3045" y="5459"/>
                  </a:lnTo>
                  <a:lnTo>
                    <a:pt x="3082" y="5459"/>
                  </a:lnTo>
                  <a:lnTo>
                    <a:pt x="3112" y="5452"/>
                  </a:lnTo>
                  <a:lnTo>
                    <a:pt x="3142" y="5444"/>
                  </a:lnTo>
                  <a:lnTo>
                    <a:pt x="3172" y="5437"/>
                  </a:lnTo>
                  <a:lnTo>
                    <a:pt x="3210" y="5429"/>
                  </a:lnTo>
                  <a:lnTo>
                    <a:pt x="3240" y="5422"/>
                  </a:lnTo>
                  <a:lnTo>
                    <a:pt x="3270" y="5414"/>
                  </a:lnTo>
                  <a:lnTo>
                    <a:pt x="3300" y="5407"/>
                  </a:lnTo>
                  <a:lnTo>
                    <a:pt x="3330" y="5392"/>
                  </a:lnTo>
                  <a:lnTo>
                    <a:pt x="3360" y="5377"/>
                  </a:lnTo>
                  <a:lnTo>
                    <a:pt x="3390" y="5369"/>
                  </a:lnTo>
                  <a:lnTo>
                    <a:pt x="3420" y="5354"/>
                  </a:lnTo>
                  <a:lnTo>
                    <a:pt x="3450" y="5347"/>
                  </a:lnTo>
                  <a:lnTo>
                    <a:pt x="3487" y="5317"/>
                  </a:lnTo>
                  <a:lnTo>
                    <a:pt x="3517" y="5302"/>
                  </a:lnTo>
                  <a:lnTo>
                    <a:pt x="3547" y="5287"/>
                  </a:lnTo>
                  <a:lnTo>
                    <a:pt x="3577" y="5272"/>
                  </a:lnTo>
                  <a:lnTo>
                    <a:pt x="3607" y="5264"/>
                  </a:lnTo>
                  <a:lnTo>
                    <a:pt x="3637" y="5249"/>
                  </a:lnTo>
                  <a:lnTo>
                    <a:pt x="3667" y="5242"/>
                  </a:lnTo>
                  <a:lnTo>
                    <a:pt x="3705" y="5242"/>
                  </a:lnTo>
                  <a:lnTo>
                    <a:pt x="3735" y="5249"/>
                  </a:lnTo>
                  <a:lnTo>
                    <a:pt x="3772" y="5242"/>
                  </a:lnTo>
                  <a:lnTo>
                    <a:pt x="3803" y="5234"/>
                  </a:lnTo>
                  <a:lnTo>
                    <a:pt x="3833" y="5234"/>
                  </a:lnTo>
                  <a:lnTo>
                    <a:pt x="3863" y="5227"/>
                  </a:lnTo>
                  <a:lnTo>
                    <a:pt x="3893" y="5227"/>
                  </a:lnTo>
                  <a:lnTo>
                    <a:pt x="3923" y="5227"/>
                  </a:lnTo>
                  <a:lnTo>
                    <a:pt x="3998" y="5227"/>
                  </a:lnTo>
                  <a:lnTo>
                    <a:pt x="4028" y="5204"/>
                  </a:lnTo>
                  <a:lnTo>
                    <a:pt x="4058" y="5204"/>
                  </a:lnTo>
                  <a:lnTo>
                    <a:pt x="4088" y="5204"/>
                  </a:lnTo>
                  <a:lnTo>
                    <a:pt x="4118" y="5227"/>
                  </a:lnTo>
                  <a:lnTo>
                    <a:pt x="4148" y="5242"/>
                  </a:lnTo>
                  <a:lnTo>
                    <a:pt x="4178" y="5264"/>
                  </a:lnTo>
                  <a:lnTo>
                    <a:pt x="4208" y="5294"/>
                  </a:lnTo>
                  <a:lnTo>
                    <a:pt x="4238" y="5309"/>
                  </a:lnTo>
                  <a:lnTo>
                    <a:pt x="4268" y="5317"/>
                  </a:lnTo>
                  <a:lnTo>
                    <a:pt x="4305" y="5317"/>
                  </a:lnTo>
                  <a:lnTo>
                    <a:pt x="4335" y="5317"/>
                  </a:lnTo>
                  <a:lnTo>
                    <a:pt x="4365" y="5309"/>
                  </a:lnTo>
                  <a:lnTo>
                    <a:pt x="4395" y="5324"/>
                  </a:lnTo>
                  <a:lnTo>
                    <a:pt x="4425" y="5339"/>
                  </a:lnTo>
                  <a:lnTo>
                    <a:pt x="4455" y="5347"/>
                  </a:lnTo>
                  <a:lnTo>
                    <a:pt x="4485" y="5347"/>
                  </a:lnTo>
                  <a:lnTo>
                    <a:pt x="4523" y="5354"/>
                  </a:lnTo>
                  <a:lnTo>
                    <a:pt x="4553" y="5362"/>
                  </a:lnTo>
                  <a:lnTo>
                    <a:pt x="4575" y="5392"/>
                  </a:lnTo>
                  <a:lnTo>
                    <a:pt x="4605" y="5414"/>
                  </a:lnTo>
                  <a:lnTo>
                    <a:pt x="4635" y="5444"/>
                  </a:lnTo>
                  <a:lnTo>
                    <a:pt x="4643" y="5474"/>
                  </a:lnTo>
                  <a:lnTo>
                    <a:pt x="4613" y="5489"/>
                  </a:lnTo>
                  <a:lnTo>
                    <a:pt x="4613" y="5519"/>
                  </a:lnTo>
                  <a:lnTo>
                    <a:pt x="4643" y="5542"/>
                  </a:lnTo>
                  <a:lnTo>
                    <a:pt x="4673" y="5564"/>
                  </a:lnTo>
                  <a:lnTo>
                    <a:pt x="4688" y="5594"/>
                  </a:lnTo>
                  <a:lnTo>
                    <a:pt x="4718" y="5609"/>
                  </a:lnTo>
                  <a:lnTo>
                    <a:pt x="4748" y="5624"/>
                  </a:lnTo>
                  <a:lnTo>
                    <a:pt x="4755" y="5654"/>
                  </a:lnTo>
                  <a:lnTo>
                    <a:pt x="4778" y="5684"/>
                  </a:lnTo>
                  <a:lnTo>
                    <a:pt x="4800" y="5714"/>
                  </a:lnTo>
                  <a:lnTo>
                    <a:pt x="4830" y="5737"/>
                  </a:lnTo>
                  <a:lnTo>
                    <a:pt x="4860" y="5759"/>
                  </a:lnTo>
                  <a:lnTo>
                    <a:pt x="4883" y="5789"/>
                  </a:lnTo>
                  <a:lnTo>
                    <a:pt x="4890" y="5819"/>
                  </a:lnTo>
                  <a:lnTo>
                    <a:pt x="4898" y="5857"/>
                  </a:lnTo>
                  <a:lnTo>
                    <a:pt x="4890" y="5887"/>
                  </a:lnTo>
                  <a:lnTo>
                    <a:pt x="4860" y="5902"/>
                  </a:lnTo>
                  <a:lnTo>
                    <a:pt x="4853" y="5932"/>
                  </a:lnTo>
                  <a:lnTo>
                    <a:pt x="4883" y="5962"/>
                  </a:lnTo>
                  <a:lnTo>
                    <a:pt x="4905" y="5992"/>
                  </a:lnTo>
                  <a:lnTo>
                    <a:pt x="4928" y="6022"/>
                  </a:lnTo>
                  <a:lnTo>
                    <a:pt x="4958" y="6044"/>
                  </a:lnTo>
                  <a:lnTo>
                    <a:pt x="4988" y="6044"/>
                  </a:lnTo>
                  <a:lnTo>
                    <a:pt x="5018" y="6037"/>
                  </a:lnTo>
                  <a:lnTo>
                    <a:pt x="5033" y="6007"/>
                  </a:lnTo>
                  <a:lnTo>
                    <a:pt x="5040" y="5977"/>
                  </a:lnTo>
                  <a:lnTo>
                    <a:pt x="5055" y="5947"/>
                  </a:lnTo>
                  <a:lnTo>
                    <a:pt x="5063" y="5917"/>
                  </a:lnTo>
                  <a:lnTo>
                    <a:pt x="5078" y="5887"/>
                  </a:lnTo>
                  <a:lnTo>
                    <a:pt x="5100" y="5857"/>
                  </a:lnTo>
                  <a:lnTo>
                    <a:pt x="5123" y="5827"/>
                  </a:lnTo>
                  <a:lnTo>
                    <a:pt x="5153" y="5812"/>
                  </a:lnTo>
                  <a:lnTo>
                    <a:pt x="5190" y="5774"/>
                  </a:lnTo>
                  <a:lnTo>
                    <a:pt x="5220" y="5744"/>
                  </a:lnTo>
                  <a:lnTo>
                    <a:pt x="5250" y="5729"/>
                  </a:lnTo>
                  <a:lnTo>
                    <a:pt x="5280" y="5714"/>
                  </a:lnTo>
                  <a:lnTo>
                    <a:pt x="5303" y="5684"/>
                  </a:lnTo>
                  <a:lnTo>
                    <a:pt x="5318" y="5654"/>
                  </a:lnTo>
                  <a:lnTo>
                    <a:pt x="5333" y="5624"/>
                  </a:lnTo>
                  <a:lnTo>
                    <a:pt x="5340" y="5594"/>
                  </a:lnTo>
                  <a:lnTo>
                    <a:pt x="5363" y="5564"/>
                  </a:lnTo>
                  <a:lnTo>
                    <a:pt x="5393" y="5542"/>
                  </a:lnTo>
                  <a:lnTo>
                    <a:pt x="5423" y="5534"/>
                  </a:lnTo>
                  <a:lnTo>
                    <a:pt x="5453" y="5549"/>
                  </a:lnTo>
                  <a:lnTo>
                    <a:pt x="5453" y="5579"/>
                  </a:lnTo>
                  <a:lnTo>
                    <a:pt x="5438" y="5609"/>
                  </a:lnTo>
                  <a:lnTo>
                    <a:pt x="5415" y="5639"/>
                  </a:lnTo>
                  <a:lnTo>
                    <a:pt x="5408" y="5669"/>
                  </a:lnTo>
                  <a:lnTo>
                    <a:pt x="5393" y="5699"/>
                  </a:lnTo>
                  <a:lnTo>
                    <a:pt x="5378" y="5729"/>
                  </a:lnTo>
                  <a:lnTo>
                    <a:pt x="5355" y="5759"/>
                  </a:lnTo>
                  <a:lnTo>
                    <a:pt x="5348" y="5789"/>
                  </a:lnTo>
                  <a:lnTo>
                    <a:pt x="5340" y="5819"/>
                  </a:lnTo>
                  <a:lnTo>
                    <a:pt x="5333" y="5849"/>
                  </a:lnTo>
                  <a:lnTo>
                    <a:pt x="5333" y="5879"/>
                  </a:lnTo>
                  <a:lnTo>
                    <a:pt x="5333" y="5909"/>
                  </a:lnTo>
                  <a:lnTo>
                    <a:pt x="5333" y="5939"/>
                  </a:lnTo>
                  <a:lnTo>
                    <a:pt x="5333" y="5969"/>
                  </a:lnTo>
                  <a:lnTo>
                    <a:pt x="5310" y="5999"/>
                  </a:lnTo>
                  <a:lnTo>
                    <a:pt x="5280" y="5992"/>
                  </a:lnTo>
                  <a:lnTo>
                    <a:pt x="5250" y="6014"/>
                  </a:lnTo>
                  <a:lnTo>
                    <a:pt x="5220" y="6029"/>
                  </a:lnTo>
                  <a:lnTo>
                    <a:pt x="5198" y="6059"/>
                  </a:lnTo>
                  <a:lnTo>
                    <a:pt x="5198" y="6089"/>
                  </a:lnTo>
                  <a:lnTo>
                    <a:pt x="5205" y="6119"/>
                  </a:lnTo>
                  <a:lnTo>
                    <a:pt x="5235" y="6134"/>
                  </a:lnTo>
                  <a:lnTo>
                    <a:pt x="5265" y="6119"/>
                  </a:lnTo>
                  <a:lnTo>
                    <a:pt x="5295" y="6097"/>
                  </a:lnTo>
                  <a:lnTo>
                    <a:pt x="5333" y="6082"/>
                  </a:lnTo>
                  <a:lnTo>
                    <a:pt x="5363" y="6097"/>
                  </a:lnTo>
                  <a:lnTo>
                    <a:pt x="5393" y="6089"/>
                  </a:lnTo>
                  <a:lnTo>
                    <a:pt x="5423" y="6067"/>
                  </a:lnTo>
                  <a:lnTo>
                    <a:pt x="5415" y="6037"/>
                  </a:lnTo>
                  <a:lnTo>
                    <a:pt x="5408" y="6007"/>
                  </a:lnTo>
                  <a:lnTo>
                    <a:pt x="5430" y="5977"/>
                  </a:lnTo>
                  <a:lnTo>
                    <a:pt x="5453" y="5947"/>
                  </a:lnTo>
                  <a:lnTo>
                    <a:pt x="5453" y="5917"/>
                  </a:lnTo>
                  <a:lnTo>
                    <a:pt x="5460" y="5887"/>
                  </a:lnTo>
                  <a:lnTo>
                    <a:pt x="5490" y="5887"/>
                  </a:lnTo>
                  <a:lnTo>
                    <a:pt x="5513" y="5917"/>
                  </a:lnTo>
                  <a:lnTo>
                    <a:pt x="5520" y="5954"/>
                  </a:lnTo>
                  <a:lnTo>
                    <a:pt x="5535" y="5984"/>
                  </a:lnTo>
                  <a:lnTo>
                    <a:pt x="5535" y="6014"/>
                  </a:lnTo>
                  <a:lnTo>
                    <a:pt x="5528" y="6044"/>
                  </a:lnTo>
                  <a:lnTo>
                    <a:pt x="5535" y="6074"/>
                  </a:lnTo>
                  <a:lnTo>
                    <a:pt x="5535" y="6104"/>
                  </a:lnTo>
                  <a:lnTo>
                    <a:pt x="5513" y="6134"/>
                  </a:lnTo>
                  <a:lnTo>
                    <a:pt x="5490" y="6164"/>
                  </a:lnTo>
                  <a:lnTo>
                    <a:pt x="5468" y="6194"/>
                  </a:lnTo>
                  <a:lnTo>
                    <a:pt x="5438" y="6217"/>
                  </a:lnTo>
                  <a:lnTo>
                    <a:pt x="5408" y="6217"/>
                  </a:lnTo>
                  <a:lnTo>
                    <a:pt x="5378" y="6194"/>
                  </a:lnTo>
                  <a:lnTo>
                    <a:pt x="5348" y="6194"/>
                  </a:lnTo>
                  <a:lnTo>
                    <a:pt x="5310" y="6194"/>
                  </a:lnTo>
                  <a:lnTo>
                    <a:pt x="5280" y="6194"/>
                  </a:lnTo>
                  <a:lnTo>
                    <a:pt x="5250" y="6194"/>
                  </a:lnTo>
                  <a:lnTo>
                    <a:pt x="5213" y="6217"/>
                  </a:lnTo>
                  <a:lnTo>
                    <a:pt x="5183" y="6232"/>
                  </a:lnTo>
                  <a:lnTo>
                    <a:pt x="5153" y="6247"/>
                  </a:lnTo>
                  <a:lnTo>
                    <a:pt x="5123" y="6277"/>
                  </a:lnTo>
                  <a:lnTo>
                    <a:pt x="5130" y="6307"/>
                  </a:lnTo>
                  <a:lnTo>
                    <a:pt x="5160" y="6314"/>
                  </a:lnTo>
                  <a:lnTo>
                    <a:pt x="5250" y="6322"/>
                  </a:lnTo>
                  <a:lnTo>
                    <a:pt x="5280" y="6314"/>
                  </a:lnTo>
                  <a:lnTo>
                    <a:pt x="5310" y="6314"/>
                  </a:lnTo>
                  <a:lnTo>
                    <a:pt x="5340" y="6314"/>
                  </a:lnTo>
                  <a:lnTo>
                    <a:pt x="5370" y="6307"/>
                  </a:lnTo>
                  <a:lnTo>
                    <a:pt x="5400" y="6292"/>
                  </a:lnTo>
                  <a:lnTo>
                    <a:pt x="5430" y="6284"/>
                  </a:lnTo>
                  <a:lnTo>
                    <a:pt x="5460" y="6262"/>
                  </a:lnTo>
                  <a:lnTo>
                    <a:pt x="5490" y="6232"/>
                  </a:lnTo>
                  <a:lnTo>
                    <a:pt x="5520" y="6217"/>
                  </a:lnTo>
                  <a:lnTo>
                    <a:pt x="5558" y="6209"/>
                  </a:lnTo>
                  <a:lnTo>
                    <a:pt x="5588" y="6217"/>
                  </a:lnTo>
                  <a:lnTo>
                    <a:pt x="5618" y="6217"/>
                  </a:lnTo>
                  <a:lnTo>
                    <a:pt x="5648" y="6217"/>
                  </a:lnTo>
                  <a:lnTo>
                    <a:pt x="5670" y="6247"/>
                  </a:lnTo>
                  <a:lnTo>
                    <a:pt x="5685" y="6277"/>
                  </a:lnTo>
                  <a:lnTo>
                    <a:pt x="5715" y="6299"/>
                  </a:lnTo>
                  <a:lnTo>
                    <a:pt x="5745" y="6329"/>
                  </a:lnTo>
                  <a:lnTo>
                    <a:pt x="5753" y="6359"/>
                  </a:lnTo>
                  <a:lnTo>
                    <a:pt x="5768" y="6389"/>
                  </a:lnTo>
                  <a:lnTo>
                    <a:pt x="5790" y="6419"/>
                  </a:lnTo>
                  <a:lnTo>
                    <a:pt x="5798" y="6449"/>
                  </a:lnTo>
                  <a:lnTo>
                    <a:pt x="5805" y="6479"/>
                  </a:lnTo>
                  <a:lnTo>
                    <a:pt x="5783" y="6509"/>
                  </a:lnTo>
                  <a:lnTo>
                    <a:pt x="5783" y="6539"/>
                  </a:lnTo>
                  <a:lnTo>
                    <a:pt x="5798" y="6622"/>
                  </a:lnTo>
                  <a:lnTo>
                    <a:pt x="5828" y="6644"/>
                  </a:lnTo>
                  <a:lnTo>
                    <a:pt x="5835" y="6674"/>
                  </a:lnTo>
                  <a:lnTo>
                    <a:pt x="5850" y="6704"/>
                  </a:lnTo>
                  <a:lnTo>
                    <a:pt x="5865" y="6734"/>
                  </a:lnTo>
                  <a:lnTo>
                    <a:pt x="5880" y="6764"/>
                  </a:lnTo>
                  <a:lnTo>
                    <a:pt x="5903" y="6794"/>
                  </a:lnTo>
                  <a:lnTo>
                    <a:pt x="5918" y="6824"/>
                  </a:lnTo>
                  <a:lnTo>
                    <a:pt x="5948" y="6847"/>
                  </a:lnTo>
                  <a:lnTo>
                    <a:pt x="5978" y="6862"/>
                  </a:lnTo>
                  <a:lnTo>
                    <a:pt x="6045" y="6869"/>
                  </a:lnTo>
                  <a:lnTo>
                    <a:pt x="6075" y="6884"/>
                  </a:lnTo>
                  <a:lnTo>
                    <a:pt x="6083" y="6914"/>
                  </a:lnTo>
                  <a:lnTo>
                    <a:pt x="6090" y="6944"/>
                  </a:lnTo>
                  <a:lnTo>
                    <a:pt x="6120" y="6944"/>
                  </a:lnTo>
                  <a:lnTo>
                    <a:pt x="6150" y="6929"/>
                  </a:lnTo>
                  <a:lnTo>
                    <a:pt x="6180" y="6922"/>
                  </a:lnTo>
                  <a:lnTo>
                    <a:pt x="6210" y="6922"/>
                  </a:lnTo>
                  <a:lnTo>
                    <a:pt x="6233" y="6952"/>
                  </a:lnTo>
                  <a:lnTo>
                    <a:pt x="6263" y="6960"/>
                  </a:lnTo>
                  <a:lnTo>
                    <a:pt x="6293" y="6967"/>
                  </a:lnTo>
                  <a:lnTo>
                    <a:pt x="6331" y="6975"/>
                  </a:lnTo>
                  <a:lnTo>
                    <a:pt x="6361" y="6990"/>
                  </a:lnTo>
                  <a:lnTo>
                    <a:pt x="6391" y="7005"/>
                  </a:lnTo>
                  <a:lnTo>
                    <a:pt x="6421" y="7020"/>
                  </a:lnTo>
                  <a:lnTo>
                    <a:pt x="6451" y="7035"/>
                  </a:lnTo>
                  <a:lnTo>
                    <a:pt x="6481" y="7042"/>
                  </a:lnTo>
                  <a:lnTo>
                    <a:pt x="6511" y="7042"/>
                  </a:lnTo>
                  <a:lnTo>
                    <a:pt x="6541" y="7050"/>
                  </a:lnTo>
                  <a:lnTo>
                    <a:pt x="6571" y="7050"/>
                  </a:lnTo>
                  <a:lnTo>
                    <a:pt x="6601" y="7035"/>
                  </a:lnTo>
                  <a:lnTo>
                    <a:pt x="6631" y="7020"/>
                  </a:lnTo>
                  <a:lnTo>
                    <a:pt x="6661" y="6990"/>
                  </a:lnTo>
                  <a:lnTo>
                    <a:pt x="6691" y="6967"/>
                  </a:lnTo>
                  <a:lnTo>
                    <a:pt x="6721" y="6967"/>
                  </a:lnTo>
                  <a:lnTo>
                    <a:pt x="6751" y="6952"/>
                  </a:lnTo>
                  <a:lnTo>
                    <a:pt x="6781" y="6937"/>
                  </a:lnTo>
                  <a:lnTo>
                    <a:pt x="6796" y="6967"/>
                  </a:lnTo>
                  <a:lnTo>
                    <a:pt x="6826" y="6997"/>
                  </a:lnTo>
                  <a:lnTo>
                    <a:pt x="6856" y="7005"/>
                  </a:lnTo>
                  <a:lnTo>
                    <a:pt x="6856" y="6975"/>
                  </a:lnTo>
                  <a:lnTo>
                    <a:pt x="6886" y="6967"/>
                  </a:lnTo>
                  <a:lnTo>
                    <a:pt x="6916" y="6975"/>
                  </a:lnTo>
                  <a:lnTo>
                    <a:pt x="6908" y="7005"/>
                  </a:lnTo>
                  <a:lnTo>
                    <a:pt x="6916" y="7035"/>
                  </a:lnTo>
                  <a:lnTo>
                    <a:pt x="6946" y="7065"/>
                  </a:lnTo>
                  <a:lnTo>
                    <a:pt x="6961" y="7095"/>
                  </a:lnTo>
                  <a:lnTo>
                    <a:pt x="6991" y="7117"/>
                  </a:lnTo>
                  <a:lnTo>
                    <a:pt x="7021" y="7125"/>
                  </a:lnTo>
                  <a:lnTo>
                    <a:pt x="7051" y="7125"/>
                  </a:lnTo>
                  <a:lnTo>
                    <a:pt x="7066" y="7155"/>
                  </a:lnTo>
                  <a:lnTo>
                    <a:pt x="7096" y="7170"/>
                  </a:lnTo>
                  <a:lnTo>
                    <a:pt x="7118" y="7140"/>
                  </a:lnTo>
                  <a:lnTo>
                    <a:pt x="7133" y="7110"/>
                  </a:lnTo>
                  <a:lnTo>
                    <a:pt x="7163" y="7095"/>
                  </a:lnTo>
                  <a:lnTo>
                    <a:pt x="7193" y="7065"/>
                  </a:lnTo>
                  <a:lnTo>
                    <a:pt x="7223" y="7050"/>
                  </a:lnTo>
                  <a:lnTo>
                    <a:pt x="7238" y="7020"/>
                  </a:lnTo>
                  <a:lnTo>
                    <a:pt x="7261" y="6990"/>
                  </a:lnTo>
                  <a:lnTo>
                    <a:pt x="7291" y="6967"/>
                  </a:lnTo>
                  <a:lnTo>
                    <a:pt x="7321" y="6960"/>
                  </a:lnTo>
                  <a:lnTo>
                    <a:pt x="7351" y="6952"/>
                  </a:lnTo>
                  <a:lnTo>
                    <a:pt x="7381" y="6945"/>
                  </a:lnTo>
                  <a:lnTo>
                    <a:pt x="7403" y="6915"/>
                  </a:lnTo>
                  <a:lnTo>
                    <a:pt x="7433" y="6892"/>
                  </a:lnTo>
                  <a:lnTo>
                    <a:pt x="7463" y="6877"/>
                  </a:lnTo>
                  <a:lnTo>
                    <a:pt x="7493" y="6877"/>
                  </a:lnTo>
                  <a:lnTo>
                    <a:pt x="7523" y="6877"/>
                  </a:lnTo>
                  <a:lnTo>
                    <a:pt x="7553" y="6885"/>
                  </a:lnTo>
                  <a:lnTo>
                    <a:pt x="7583" y="6900"/>
                  </a:lnTo>
                  <a:lnTo>
                    <a:pt x="7613" y="6900"/>
                  </a:lnTo>
                  <a:lnTo>
                    <a:pt x="7643" y="6907"/>
                  </a:lnTo>
                  <a:lnTo>
                    <a:pt x="7673" y="6907"/>
                  </a:lnTo>
                  <a:lnTo>
                    <a:pt x="7703" y="6907"/>
                  </a:lnTo>
                  <a:lnTo>
                    <a:pt x="7741" y="6907"/>
                  </a:lnTo>
                  <a:lnTo>
                    <a:pt x="7771" y="6892"/>
                  </a:lnTo>
                  <a:lnTo>
                    <a:pt x="7786" y="6862"/>
                  </a:lnTo>
                  <a:lnTo>
                    <a:pt x="7816" y="6840"/>
                  </a:lnTo>
                  <a:lnTo>
                    <a:pt x="7831" y="6810"/>
                  </a:lnTo>
                  <a:lnTo>
                    <a:pt x="7831" y="6780"/>
                  </a:lnTo>
                  <a:lnTo>
                    <a:pt x="7838" y="6750"/>
                  </a:lnTo>
                  <a:lnTo>
                    <a:pt x="7846" y="6720"/>
                  </a:lnTo>
                  <a:lnTo>
                    <a:pt x="7846" y="6690"/>
                  </a:lnTo>
                  <a:lnTo>
                    <a:pt x="7846" y="6660"/>
                  </a:lnTo>
                  <a:lnTo>
                    <a:pt x="7868" y="6630"/>
                  </a:lnTo>
                  <a:lnTo>
                    <a:pt x="7891" y="6600"/>
                  </a:lnTo>
                  <a:lnTo>
                    <a:pt x="7891" y="6540"/>
                  </a:lnTo>
                  <a:lnTo>
                    <a:pt x="7906" y="6510"/>
                  </a:lnTo>
                  <a:lnTo>
                    <a:pt x="7913" y="6480"/>
                  </a:lnTo>
                  <a:lnTo>
                    <a:pt x="7921" y="6450"/>
                  </a:lnTo>
                  <a:lnTo>
                    <a:pt x="7928" y="6420"/>
                  </a:lnTo>
                  <a:lnTo>
                    <a:pt x="7936" y="6390"/>
                  </a:lnTo>
                  <a:lnTo>
                    <a:pt x="7951" y="6360"/>
                  </a:lnTo>
                  <a:lnTo>
                    <a:pt x="7981" y="6330"/>
                  </a:lnTo>
                  <a:lnTo>
                    <a:pt x="8011" y="6300"/>
                  </a:lnTo>
                  <a:lnTo>
                    <a:pt x="8033" y="6270"/>
                  </a:lnTo>
                  <a:lnTo>
                    <a:pt x="8048" y="6240"/>
                  </a:lnTo>
                  <a:lnTo>
                    <a:pt x="8071" y="6210"/>
                  </a:lnTo>
                  <a:lnTo>
                    <a:pt x="8078" y="6180"/>
                  </a:lnTo>
                  <a:lnTo>
                    <a:pt x="8086" y="6150"/>
                  </a:lnTo>
                  <a:lnTo>
                    <a:pt x="8101" y="6120"/>
                  </a:lnTo>
                  <a:lnTo>
                    <a:pt x="8116" y="6090"/>
                  </a:lnTo>
                  <a:lnTo>
                    <a:pt x="8116" y="6060"/>
                  </a:lnTo>
                  <a:lnTo>
                    <a:pt x="8123" y="6030"/>
                  </a:lnTo>
                  <a:lnTo>
                    <a:pt x="8146" y="6000"/>
                  </a:lnTo>
                  <a:lnTo>
                    <a:pt x="8183" y="5969"/>
                  </a:lnTo>
                  <a:lnTo>
                    <a:pt x="8198" y="5939"/>
                  </a:lnTo>
                  <a:lnTo>
                    <a:pt x="8220" y="5909"/>
                  </a:lnTo>
                  <a:lnTo>
                    <a:pt x="8235" y="5879"/>
                  </a:lnTo>
                  <a:lnTo>
                    <a:pt x="8243" y="5849"/>
                  </a:lnTo>
                  <a:lnTo>
                    <a:pt x="8265" y="5819"/>
                  </a:lnTo>
                  <a:lnTo>
                    <a:pt x="8295" y="5789"/>
                  </a:lnTo>
                  <a:lnTo>
                    <a:pt x="8318" y="5759"/>
                  </a:lnTo>
                  <a:lnTo>
                    <a:pt x="8340" y="5729"/>
                  </a:lnTo>
                  <a:lnTo>
                    <a:pt x="8348" y="5699"/>
                  </a:lnTo>
                  <a:lnTo>
                    <a:pt x="8378" y="5699"/>
                  </a:lnTo>
                  <a:lnTo>
                    <a:pt x="8408" y="5707"/>
                  </a:lnTo>
                  <a:lnTo>
                    <a:pt x="8438" y="5699"/>
                  </a:lnTo>
                  <a:lnTo>
                    <a:pt x="8445" y="5669"/>
                  </a:lnTo>
                  <a:lnTo>
                    <a:pt x="8468" y="5639"/>
                  </a:lnTo>
                  <a:lnTo>
                    <a:pt x="8498" y="5609"/>
                  </a:lnTo>
                  <a:lnTo>
                    <a:pt x="8528" y="5579"/>
                  </a:lnTo>
                  <a:lnTo>
                    <a:pt x="8543" y="5549"/>
                  </a:lnTo>
                  <a:lnTo>
                    <a:pt x="8543" y="5519"/>
                  </a:lnTo>
                  <a:lnTo>
                    <a:pt x="8558" y="5489"/>
                  </a:lnTo>
                  <a:lnTo>
                    <a:pt x="8580" y="5459"/>
                  </a:lnTo>
                  <a:lnTo>
                    <a:pt x="8588" y="5429"/>
                  </a:lnTo>
                  <a:lnTo>
                    <a:pt x="8603" y="5399"/>
                  </a:lnTo>
                  <a:lnTo>
                    <a:pt x="8625" y="5362"/>
                  </a:lnTo>
                  <a:lnTo>
                    <a:pt x="8640" y="5332"/>
                  </a:lnTo>
                  <a:lnTo>
                    <a:pt x="8655" y="5302"/>
                  </a:lnTo>
                  <a:lnTo>
                    <a:pt x="8670" y="5272"/>
                  </a:lnTo>
                  <a:lnTo>
                    <a:pt x="8678" y="5242"/>
                  </a:lnTo>
                  <a:lnTo>
                    <a:pt x="8685" y="5212"/>
                  </a:lnTo>
                  <a:lnTo>
                    <a:pt x="8678" y="5182"/>
                  </a:lnTo>
                  <a:lnTo>
                    <a:pt x="8678" y="5152"/>
                  </a:lnTo>
                  <a:lnTo>
                    <a:pt x="8693" y="5122"/>
                  </a:lnTo>
                  <a:lnTo>
                    <a:pt x="8700" y="5092"/>
                  </a:lnTo>
                  <a:lnTo>
                    <a:pt x="8708" y="5062"/>
                  </a:lnTo>
                  <a:lnTo>
                    <a:pt x="8723" y="5024"/>
                  </a:lnTo>
                  <a:lnTo>
                    <a:pt x="8738" y="4994"/>
                  </a:lnTo>
                  <a:lnTo>
                    <a:pt x="8760" y="4964"/>
                  </a:lnTo>
                  <a:lnTo>
                    <a:pt x="8775" y="4934"/>
                  </a:lnTo>
                  <a:lnTo>
                    <a:pt x="8783" y="4904"/>
                  </a:lnTo>
                  <a:lnTo>
                    <a:pt x="8783" y="4874"/>
                  </a:lnTo>
                  <a:lnTo>
                    <a:pt x="8783" y="4844"/>
                  </a:lnTo>
                  <a:lnTo>
                    <a:pt x="8790" y="4814"/>
                  </a:lnTo>
                  <a:lnTo>
                    <a:pt x="8813" y="4784"/>
                  </a:lnTo>
                  <a:lnTo>
                    <a:pt x="8828" y="4754"/>
                  </a:lnTo>
                  <a:lnTo>
                    <a:pt x="8835" y="4724"/>
                  </a:lnTo>
                  <a:lnTo>
                    <a:pt x="8850" y="4694"/>
                  </a:lnTo>
                  <a:lnTo>
                    <a:pt x="8858" y="4664"/>
                  </a:lnTo>
                  <a:lnTo>
                    <a:pt x="8843" y="4634"/>
                  </a:lnTo>
                  <a:lnTo>
                    <a:pt x="8843" y="4604"/>
                  </a:lnTo>
                  <a:lnTo>
                    <a:pt x="8843" y="4574"/>
                  </a:lnTo>
                  <a:lnTo>
                    <a:pt x="8843" y="4544"/>
                  </a:lnTo>
                  <a:lnTo>
                    <a:pt x="8843" y="4514"/>
                  </a:lnTo>
                  <a:lnTo>
                    <a:pt x="8828" y="4484"/>
                  </a:lnTo>
                  <a:lnTo>
                    <a:pt x="8835" y="4454"/>
                  </a:lnTo>
                  <a:lnTo>
                    <a:pt x="8843" y="4424"/>
                  </a:lnTo>
                  <a:lnTo>
                    <a:pt x="8813" y="4402"/>
                  </a:lnTo>
                  <a:lnTo>
                    <a:pt x="8798" y="4372"/>
                  </a:lnTo>
                  <a:lnTo>
                    <a:pt x="8783" y="4342"/>
                  </a:lnTo>
                  <a:lnTo>
                    <a:pt x="8783" y="4312"/>
                  </a:lnTo>
                  <a:lnTo>
                    <a:pt x="8783" y="4282"/>
                  </a:lnTo>
                  <a:lnTo>
                    <a:pt x="8790" y="4252"/>
                  </a:lnTo>
                  <a:lnTo>
                    <a:pt x="8805" y="4222"/>
                  </a:lnTo>
                  <a:lnTo>
                    <a:pt x="8805" y="4192"/>
                  </a:lnTo>
                  <a:lnTo>
                    <a:pt x="8805" y="4162"/>
                  </a:lnTo>
                  <a:lnTo>
                    <a:pt x="8798" y="4132"/>
                  </a:lnTo>
                  <a:lnTo>
                    <a:pt x="8805" y="4102"/>
                  </a:lnTo>
                  <a:lnTo>
                    <a:pt x="8820" y="4072"/>
                  </a:lnTo>
                  <a:lnTo>
                    <a:pt x="8820" y="4042"/>
                  </a:lnTo>
                  <a:lnTo>
                    <a:pt x="8828" y="4012"/>
                  </a:lnTo>
                  <a:lnTo>
                    <a:pt x="8843" y="3982"/>
                  </a:lnTo>
                  <a:lnTo>
                    <a:pt x="8850" y="3952"/>
                  </a:lnTo>
                  <a:lnTo>
                    <a:pt x="8858" y="3922"/>
                  </a:lnTo>
                  <a:lnTo>
                    <a:pt x="8865" y="3877"/>
                  </a:lnTo>
                  <a:lnTo>
                    <a:pt x="8880" y="3847"/>
                  </a:lnTo>
                  <a:lnTo>
                    <a:pt x="8903" y="3817"/>
                  </a:lnTo>
                  <a:lnTo>
                    <a:pt x="8918" y="3787"/>
                  </a:lnTo>
                  <a:lnTo>
                    <a:pt x="8918" y="3757"/>
                  </a:lnTo>
                  <a:lnTo>
                    <a:pt x="8910" y="3727"/>
                  </a:lnTo>
                  <a:lnTo>
                    <a:pt x="8925" y="3697"/>
                  </a:lnTo>
                  <a:lnTo>
                    <a:pt x="8910" y="3667"/>
                  </a:lnTo>
                  <a:lnTo>
                    <a:pt x="8880" y="3682"/>
                  </a:lnTo>
                  <a:lnTo>
                    <a:pt x="8865" y="3712"/>
                  </a:lnTo>
                  <a:lnTo>
                    <a:pt x="8858" y="3742"/>
                  </a:lnTo>
                  <a:lnTo>
                    <a:pt x="8850" y="3772"/>
                  </a:lnTo>
                  <a:lnTo>
                    <a:pt x="8843" y="3802"/>
                  </a:lnTo>
                  <a:lnTo>
                    <a:pt x="8835" y="3832"/>
                  </a:lnTo>
                  <a:lnTo>
                    <a:pt x="8805" y="3847"/>
                  </a:lnTo>
                  <a:lnTo>
                    <a:pt x="8775" y="3832"/>
                  </a:lnTo>
                  <a:lnTo>
                    <a:pt x="8753" y="3802"/>
                  </a:lnTo>
                  <a:lnTo>
                    <a:pt x="8738" y="3772"/>
                  </a:lnTo>
                  <a:lnTo>
                    <a:pt x="8715" y="3742"/>
                  </a:lnTo>
                  <a:lnTo>
                    <a:pt x="8708" y="3712"/>
                  </a:lnTo>
                  <a:lnTo>
                    <a:pt x="8685" y="3682"/>
                  </a:lnTo>
                  <a:lnTo>
                    <a:pt x="8663" y="3652"/>
                  </a:lnTo>
                  <a:lnTo>
                    <a:pt x="8640" y="3614"/>
                  </a:lnTo>
                  <a:lnTo>
                    <a:pt x="8625" y="3584"/>
                  </a:lnTo>
                  <a:lnTo>
                    <a:pt x="8610" y="3554"/>
                  </a:lnTo>
                  <a:lnTo>
                    <a:pt x="8588" y="3524"/>
                  </a:lnTo>
                  <a:lnTo>
                    <a:pt x="8558" y="3509"/>
                  </a:lnTo>
                  <a:lnTo>
                    <a:pt x="8528" y="3517"/>
                  </a:lnTo>
                  <a:lnTo>
                    <a:pt x="8498" y="3487"/>
                  </a:lnTo>
                  <a:lnTo>
                    <a:pt x="8490" y="3449"/>
                  </a:lnTo>
                  <a:lnTo>
                    <a:pt x="8483" y="3419"/>
                  </a:lnTo>
                  <a:lnTo>
                    <a:pt x="8468" y="3389"/>
                  </a:lnTo>
                  <a:lnTo>
                    <a:pt x="8460" y="3359"/>
                  </a:lnTo>
                  <a:lnTo>
                    <a:pt x="8423" y="3329"/>
                  </a:lnTo>
                  <a:lnTo>
                    <a:pt x="8393" y="3314"/>
                  </a:lnTo>
                  <a:lnTo>
                    <a:pt x="8393" y="3284"/>
                  </a:lnTo>
                  <a:lnTo>
                    <a:pt x="8415" y="3254"/>
                  </a:lnTo>
                  <a:lnTo>
                    <a:pt x="8423" y="3224"/>
                  </a:lnTo>
                  <a:lnTo>
                    <a:pt x="8423" y="3194"/>
                  </a:lnTo>
                  <a:lnTo>
                    <a:pt x="8423" y="3164"/>
                  </a:lnTo>
                  <a:lnTo>
                    <a:pt x="8408" y="3134"/>
                  </a:lnTo>
                  <a:lnTo>
                    <a:pt x="8385" y="3104"/>
                  </a:lnTo>
                  <a:lnTo>
                    <a:pt x="8363" y="3074"/>
                  </a:lnTo>
                  <a:lnTo>
                    <a:pt x="8333" y="3067"/>
                  </a:lnTo>
                  <a:lnTo>
                    <a:pt x="8325" y="3097"/>
                  </a:lnTo>
                  <a:lnTo>
                    <a:pt x="8295" y="3097"/>
                  </a:lnTo>
                  <a:lnTo>
                    <a:pt x="8280" y="3067"/>
                  </a:lnTo>
                  <a:lnTo>
                    <a:pt x="8265" y="3037"/>
                  </a:lnTo>
                  <a:lnTo>
                    <a:pt x="8235" y="3014"/>
                  </a:lnTo>
                  <a:lnTo>
                    <a:pt x="8205" y="3029"/>
                  </a:lnTo>
                  <a:lnTo>
                    <a:pt x="8190" y="3059"/>
                  </a:lnTo>
                  <a:lnTo>
                    <a:pt x="8160" y="3052"/>
                  </a:lnTo>
                  <a:lnTo>
                    <a:pt x="8138" y="3022"/>
                  </a:lnTo>
                  <a:lnTo>
                    <a:pt x="8138" y="2992"/>
                  </a:lnTo>
                  <a:lnTo>
                    <a:pt x="8130" y="2962"/>
                  </a:lnTo>
                  <a:lnTo>
                    <a:pt x="8145" y="2917"/>
                  </a:lnTo>
                  <a:lnTo>
                    <a:pt x="8145" y="2887"/>
                  </a:lnTo>
                  <a:lnTo>
                    <a:pt x="8175" y="2864"/>
                  </a:lnTo>
                  <a:lnTo>
                    <a:pt x="8160" y="2827"/>
                  </a:lnTo>
                  <a:lnTo>
                    <a:pt x="8130" y="2834"/>
                  </a:lnTo>
                  <a:lnTo>
                    <a:pt x="8115" y="2804"/>
                  </a:lnTo>
                  <a:lnTo>
                    <a:pt x="8100" y="2774"/>
                  </a:lnTo>
                  <a:lnTo>
                    <a:pt x="8085" y="2744"/>
                  </a:lnTo>
                  <a:lnTo>
                    <a:pt x="8085" y="2714"/>
                  </a:lnTo>
                  <a:lnTo>
                    <a:pt x="8070" y="2684"/>
                  </a:lnTo>
                  <a:lnTo>
                    <a:pt x="8040" y="2669"/>
                  </a:lnTo>
                  <a:lnTo>
                    <a:pt x="8010" y="2647"/>
                  </a:lnTo>
                  <a:lnTo>
                    <a:pt x="8003" y="2617"/>
                  </a:lnTo>
                  <a:lnTo>
                    <a:pt x="8033" y="2602"/>
                  </a:lnTo>
                  <a:lnTo>
                    <a:pt x="8040" y="2572"/>
                  </a:lnTo>
                  <a:lnTo>
                    <a:pt x="8025" y="2542"/>
                  </a:lnTo>
                  <a:lnTo>
                    <a:pt x="8010" y="2512"/>
                  </a:lnTo>
                  <a:lnTo>
                    <a:pt x="7980" y="2490"/>
                  </a:lnTo>
                  <a:lnTo>
                    <a:pt x="7950" y="2467"/>
                  </a:lnTo>
                  <a:lnTo>
                    <a:pt x="7920" y="2475"/>
                  </a:lnTo>
                  <a:lnTo>
                    <a:pt x="7905" y="2445"/>
                  </a:lnTo>
                  <a:lnTo>
                    <a:pt x="7875" y="2422"/>
                  </a:lnTo>
                  <a:lnTo>
                    <a:pt x="7845" y="2422"/>
                  </a:lnTo>
                  <a:lnTo>
                    <a:pt x="7823" y="2392"/>
                  </a:lnTo>
                  <a:lnTo>
                    <a:pt x="7793" y="2370"/>
                  </a:lnTo>
                  <a:lnTo>
                    <a:pt x="7763" y="2377"/>
                  </a:lnTo>
                  <a:lnTo>
                    <a:pt x="7755" y="2347"/>
                  </a:lnTo>
                  <a:lnTo>
                    <a:pt x="7748" y="2317"/>
                  </a:lnTo>
                  <a:lnTo>
                    <a:pt x="7725" y="2287"/>
                  </a:lnTo>
                  <a:lnTo>
                    <a:pt x="7688" y="2257"/>
                  </a:lnTo>
                  <a:lnTo>
                    <a:pt x="7658" y="2272"/>
                  </a:lnTo>
                  <a:lnTo>
                    <a:pt x="7628" y="2265"/>
                  </a:lnTo>
                  <a:lnTo>
                    <a:pt x="7635" y="2235"/>
                  </a:lnTo>
                  <a:lnTo>
                    <a:pt x="7605" y="2220"/>
                  </a:lnTo>
                  <a:lnTo>
                    <a:pt x="7575" y="2212"/>
                  </a:lnTo>
                  <a:lnTo>
                    <a:pt x="7545" y="2197"/>
                  </a:lnTo>
                  <a:lnTo>
                    <a:pt x="7515" y="2167"/>
                  </a:lnTo>
                  <a:lnTo>
                    <a:pt x="7500" y="2137"/>
                  </a:lnTo>
                  <a:lnTo>
                    <a:pt x="7493" y="2107"/>
                  </a:lnTo>
                  <a:lnTo>
                    <a:pt x="7485" y="2077"/>
                  </a:lnTo>
                  <a:lnTo>
                    <a:pt x="7493" y="2047"/>
                  </a:lnTo>
                  <a:lnTo>
                    <a:pt x="7493" y="2017"/>
                  </a:lnTo>
                  <a:lnTo>
                    <a:pt x="7500" y="1987"/>
                  </a:lnTo>
                  <a:lnTo>
                    <a:pt x="7485" y="1957"/>
                  </a:lnTo>
                  <a:lnTo>
                    <a:pt x="7455" y="1942"/>
                  </a:lnTo>
                  <a:lnTo>
                    <a:pt x="7425" y="1942"/>
                  </a:lnTo>
                  <a:lnTo>
                    <a:pt x="7425" y="1912"/>
                  </a:lnTo>
                  <a:lnTo>
                    <a:pt x="7448" y="1882"/>
                  </a:lnTo>
                  <a:lnTo>
                    <a:pt x="7463" y="1852"/>
                  </a:lnTo>
                  <a:lnTo>
                    <a:pt x="7470" y="1822"/>
                  </a:lnTo>
                  <a:lnTo>
                    <a:pt x="7463" y="1792"/>
                  </a:lnTo>
                  <a:lnTo>
                    <a:pt x="7455" y="1762"/>
                  </a:lnTo>
                  <a:lnTo>
                    <a:pt x="7425" y="1732"/>
                  </a:lnTo>
                  <a:lnTo>
                    <a:pt x="7425" y="1702"/>
                  </a:lnTo>
                  <a:lnTo>
                    <a:pt x="7425" y="1672"/>
                  </a:lnTo>
                  <a:lnTo>
                    <a:pt x="7418" y="1642"/>
                  </a:lnTo>
                  <a:lnTo>
                    <a:pt x="7418" y="1612"/>
                  </a:lnTo>
                  <a:lnTo>
                    <a:pt x="7388" y="1590"/>
                  </a:lnTo>
                  <a:lnTo>
                    <a:pt x="7358" y="1574"/>
                  </a:lnTo>
                  <a:lnTo>
                    <a:pt x="7328" y="1559"/>
                  </a:lnTo>
                  <a:lnTo>
                    <a:pt x="7313" y="1529"/>
                  </a:lnTo>
                  <a:lnTo>
                    <a:pt x="7305" y="1499"/>
                  </a:lnTo>
                  <a:lnTo>
                    <a:pt x="7313" y="1469"/>
                  </a:lnTo>
                  <a:lnTo>
                    <a:pt x="7328" y="1424"/>
                  </a:lnTo>
                  <a:lnTo>
                    <a:pt x="7328" y="1394"/>
                  </a:lnTo>
                  <a:lnTo>
                    <a:pt x="7313" y="1365"/>
                  </a:lnTo>
                  <a:lnTo>
                    <a:pt x="7305" y="1335"/>
                  </a:lnTo>
                  <a:lnTo>
                    <a:pt x="7305" y="1305"/>
                  </a:lnTo>
                  <a:lnTo>
                    <a:pt x="7275" y="1275"/>
                  </a:lnTo>
                  <a:lnTo>
                    <a:pt x="7268" y="1245"/>
                  </a:lnTo>
                  <a:lnTo>
                    <a:pt x="7298" y="1215"/>
                  </a:lnTo>
                  <a:lnTo>
                    <a:pt x="7298" y="1185"/>
                  </a:lnTo>
                  <a:lnTo>
                    <a:pt x="7290" y="1155"/>
                  </a:lnTo>
                  <a:lnTo>
                    <a:pt x="7305" y="1125"/>
                  </a:lnTo>
                  <a:lnTo>
                    <a:pt x="7290" y="1095"/>
                  </a:lnTo>
                  <a:lnTo>
                    <a:pt x="7260" y="1087"/>
                  </a:lnTo>
                  <a:lnTo>
                    <a:pt x="7230" y="1065"/>
                  </a:lnTo>
                  <a:lnTo>
                    <a:pt x="7200" y="1035"/>
                  </a:lnTo>
                  <a:lnTo>
                    <a:pt x="7185" y="1005"/>
                  </a:lnTo>
                  <a:lnTo>
                    <a:pt x="7163" y="975"/>
                  </a:lnTo>
                  <a:lnTo>
                    <a:pt x="7148" y="945"/>
                  </a:lnTo>
                  <a:lnTo>
                    <a:pt x="7125" y="915"/>
                  </a:lnTo>
                  <a:lnTo>
                    <a:pt x="7095" y="892"/>
                  </a:lnTo>
                  <a:lnTo>
                    <a:pt x="7080" y="922"/>
                  </a:lnTo>
                  <a:lnTo>
                    <a:pt x="7050" y="922"/>
                  </a:lnTo>
                  <a:lnTo>
                    <a:pt x="7028" y="952"/>
                  </a:lnTo>
                  <a:lnTo>
                    <a:pt x="6990" y="967"/>
                  </a:lnTo>
                  <a:lnTo>
                    <a:pt x="6960" y="952"/>
                  </a:lnTo>
                  <a:lnTo>
                    <a:pt x="6945" y="922"/>
                  </a:lnTo>
                  <a:lnTo>
                    <a:pt x="6945" y="892"/>
                  </a:lnTo>
                  <a:lnTo>
                    <a:pt x="6930" y="862"/>
                  </a:lnTo>
                  <a:lnTo>
                    <a:pt x="6923" y="832"/>
                  </a:lnTo>
                  <a:lnTo>
                    <a:pt x="6915" y="802"/>
                  </a:lnTo>
                  <a:lnTo>
                    <a:pt x="6915" y="772"/>
                  </a:lnTo>
                  <a:lnTo>
                    <a:pt x="6923" y="742"/>
                  </a:lnTo>
                  <a:lnTo>
                    <a:pt x="6923" y="712"/>
                  </a:lnTo>
                  <a:lnTo>
                    <a:pt x="6915" y="682"/>
                  </a:lnTo>
                  <a:lnTo>
                    <a:pt x="6900" y="652"/>
                  </a:lnTo>
                  <a:lnTo>
                    <a:pt x="6900" y="615"/>
                  </a:lnTo>
                  <a:lnTo>
                    <a:pt x="6900" y="585"/>
                  </a:lnTo>
                  <a:lnTo>
                    <a:pt x="6900" y="555"/>
                  </a:lnTo>
                  <a:lnTo>
                    <a:pt x="6885" y="525"/>
                  </a:lnTo>
                  <a:lnTo>
                    <a:pt x="6878" y="495"/>
                  </a:lnTo>
                  <a:lnTo>
                    <a:pt x="6855" y="465"/>
                  </a:lnTo>
                  <a:lnTo>
                    <a:pt x="6848" y="435"/>
                  </a:lnTo>
                  <a:lnTo>
                    <a:pt x="6808" y="414"/>
                  </a:lnTo>
                  <a:lnTo>
                    <a:pt x="6826" y="382"/>
                  </a:lnTo>
                  <a:lnTo>
                    <a:pt x="6833" y="345"/>
                  </a:lnTo>
                  <a:lnTo>
                    <a:pt x="6826" y="315"/>
                  </a:lnTo>
                  <a:lnTo>
                    <a:pt x="6788" y="292"/>
                  </a:lnTo>
                  <a:lnTo>
                    <a:pt x="6758" y="307"/>
                  </a:lnTo>
                  <a:lnTo>
                    <a:pt x="6743" y="277"/>
                  </a:lnTo>
                  <a:lnTo>
                    <a:pt x="6751" y="247"/>
                  </a:lnTo>
                  <a:lnTo>
                    <a:pt x="6781" y="232"/>
                  </a:lnTo>
                  <a:lnTo>
                    <a:pt x="6781" y="202"/>
                  </a:lnTo>
                  <a:lnTo>
                    <a:pt x="6758" y="172"/>
                  </a:lnTo>
                  <a:lnTo>
                    <a:pt x="6781" y="142"/>
                  </a:lnTo>
                  <a:lnTo>
                    <a:pt x="6751" y="127"/>
                  </a:lnTo>
                  <a:lnTo>
                    <a:pt x="6743" y="97"/>
                  </a:lnTo>
                  <a:lnTo>
                    <a:pt x="6743" y="67"/>
                  </a:lnTo>
                  <a:lnTo>
                    <a:pt x="6713" y="67"/>
                  </a:lnTo>
                  <a:lnTo>
                    <a:pt x="6683" y="60"/>
                  </a:lnTo>
                  <a:lnTo>
                    <a:pt x="6691" y="30"/>
                  </a:lnTo>
                  <a:lnTo>
                    <a:pt x="6691" y="0"/>
                  </a:lnTo>
                  <a:lnTo>
                    <a:pt x="6661" y="0"/>
                  </a:lnTo>
                  <a:lnTo>
                    <a:pt x="6631" y="7"/>
                  </a:lnTo>
                  <a:lnTo>
                    <a:pt x="6601" y="30"/>
                  </a:lnTo>
                  <a:lnTo>
                    <a:pt x="6586" y="60"/>
                  </a:lnTo>
                  <a:lnTo>
                    <a:pt x="6578" y="90"/>
                  </a:lnTo>
                  <a:lnTo>
                    <a:pt x="6571" y="120"/>
                  </a:lnTo>
                  <a:lnTo>
                    <a:pt x="6563" y="150"/>
                  </a:lnTo>
                  <a:lnTo>
                    <a:pt x="6556" y="180"/>
                  </a:lnTo>
                  <a:lnTo>
                    <a:pt x="6548" y="210"/>
                  </a:lnTo>
                  <a:lnTo>
                    <a:pt x="6533" y="240"/>
                  </a:lnTo>
                  <a:lnTo>
                    <a:pt x="6511" y="270"/>
                  </a:lnTo>
                  <a:lnTo>
                    <a:pt x="6518" y="300"/>
                  </a:lnTo>
                  <a:lnTo>
                    <a:pt x="6488" y="322"/>
                  </a:lnTo>
                  <a:lnTo>
                    <a:pt x="6466" y="352"/>
                  </a:lnTo>
                  <a:lnTo>
                    <a:pt x="6451" y="382"/>
                  </a:lnTo>
                  <a:lnTo>
                    <a:pt x="6451" y="412"/>
                  </a:lnTo>
                  <a:lnTo>
                    <a:pt x="6451" y="442"/>
                  </a:lnTo>
                  <a:lnTo>
                    <a:pt x="6436" y="472"/>
                  </a:lnTo>
                  <a:lnTo>
                    <a:pt x="6428" y="502"/>
                  </a:lnTo>
                  <a:lnTo>
                    <a:pt x="6458" y="502"/>
                  </a:lnTo>
                  <a:lnTo>
                    <a:pt x="6466" y="532"/>
                  </a:lnTo>
                  <a:lnTo>
                    <a:pt x="6436" y="562"/>
                  </a:lnTo>
                  <a:lnTo>
                    <a:pt x="6421" y="592"/>
                  </a:lnTo>
                  <a:lnTo>
                    <a:pt x="6421" y="622"/>
                  </a:lnTo>
                  <a:lnTo>
                    <a:pt x="6428" y="652"/>
                  </a:lnTo>
                  <a:lnTo>
                    <a:pt x="6428" y="682"/>
                  </a:lnTo>
                  <a:lnTo>
                    <a:pt x="6421" y="713"/>
                  </a:lnTo>
                  <a:lnTo>
                    <a:pt x="6391" y="735"/>
                  </a:lnTo>
                  <a:lnTo>
                    <a:pt x="6376" y="765"/>
                  </a:lnTo>
                  <a:lnTo>
                    <a:pt x="6391" y="795"/>
                  </a:lnTo>
                  <a:lnTo>
                    <a:pt x="6368" y="825"/>
                  </a:lnTo>
                  <a:lnTo>
                    <a:pt x="6376" y="855"/>
                  </a:lnTo>
                  <a:lnTo>
                    <a:pt x="6376" y="885"/>
                  </a:lnTo>
                  <a:lnTo>
                    <a:pt x="6376" y="915"/>
                  </a:lnTo>
                  <a:lnTo>
                    <a:pt x="6383" y="945"/>
                  </a:lnTo>
                  <a:lnTo>
                    <a:pt x="6383" y="975"/>
                  </a:lnTo>
                  <a:lnTo>
                    <a:pt x="6383" y="1005"/>
                  </a:lnTo>
                  <a:lnTo>
                    <a:pt x="6383" y="1042"/>
                  </a:lnTo>
                  <a:lnTo>
                    <a:pt x="6383" y="1072"/>
                  </a:lnTo>
                  <a:lnTo>
                    <a:pt x="6398" y="1102"/>
                  </a:lnTo>
                  <a:lnTo>
                    <a:pt x="6398" y="1132"/>
                  </a:lnTo>
                  <a:lnTo>
                    <a:pt x="6383" y="1162"/>
                  </a:lnTo>
                  <a:lnTo>
                    <a:pt x="6368" y="1192"/>
                  </a:lnTo>
                  <a:lnTo>
                    <a:pt x="6368" y="1222"/>
                  </a:lnTo>
                  <a:lnTo>
                    <a:pt x="6368" y="1252"/>
                  </a:lnTo>
                  <a:lnTo>
                    <a:pt x="6353" y="1282"/>
                  </a:lnTo>
                  <a:lnTo>
                    <a:pt x="6338" y="1312"/>
                  </a:lnTo>
                  <a:lnTo>
                    <a:pt x="6331" y="1342"/>
                  </a:lnTo>
                  <a:lnTo>
                    <a:pt x="6323" y="1372"/>
                  </a:lnTo>
                  <a:lnTo>
                    <a:pt x="6323" y="1402"/>
                  </a:lnTo>
                  <a:lnTo>
                    <a:pt x="6323" y="1432"/>
                  </a:lnTo>
                  <a:lnTo>
                    <a:pt x="6308" y="1462"/>
                  </a:lnTo>
                  <a:lnTo>
                    <a:pt x="6286" y="1492"/>
                  </a:lnTo>
                  <a:lnTo>
                    <a:pt x="6263" y="1522"/>
                  </a:lnTo>
                  <a:lnTo>
                    <a:pt x="6248" y="1552"/>
                  </a:lnTo>
                  <a:lnTo>
                    <a:pt x="6233" y="1582"/>
                  </a:lnTo>
                  <a:lnTo>
                    <a:pt x="6218" y="1612"/>
                  </a:lnTo>
                  <a:lnTo>
                    <a:pt x="6211" y="1642"/>
                  </a:lnTo>
                  <a:lnTo>
                    <a:pt x="6203" y="1672"/>
                  </a:lnTo>
                  <a:lnTo>
                    <a:pt x="6173" y="1702"/>
                  </a:lnTo>
                  <a:lnTo>
                    <a:pt x="6143" y="1717"/>
                  </a:lnTo>
                  <a:lnTo>
                    <a:pt x="6113" y="1732"/>
                  </a:lnTo>
                  <a:lnTo>
                    <a:pt x="6083" y="1747"/>
                  </a:lnTo>
                  <a:lnTo>
                    <a:pt x="6053" y="1762"/>
                  </a:lnTo>
                  <a:lnTo>
                    <a:pt x="6023" y="1762"/>
                  </a:lnTo>
                  <a:lnTo>
                    <a:pt x="5993" y="1755"/>
                  </a:lnTo>
                  <a:lnTo>
                    <a:pt x="5963" y="1732"/>
                  </a:lnTo>
                  <a:lnTo>
                    <a:pt x="5933" y="1725"/>
                  </a:lnTo>
                  <a:lnTo>
                    <a:pt x="5903" y="1710"/>
                  </a:lnTo>
                  <a:lnTo>
                    <a:pt x="5873" y="1680"/>
                  </a:lnTo>
                  <a:lnTo>
                    <a:pt x="5836" y="1627"/>
                  </a:lnTo>
                  <a:lnTo>
                    <a:pt x="5843" y="1597"/>
                  </a:lnTo>
                  <a:lnTo>
                    <a:pt x="5813" y="1575"/>
                  </a:lnTo>
                  <a:lnTo>
                    <a:pt x="5783" y="1567"/>
                  </a:lnTo>
                  <a:lnTo>
                    <a:pt x="5761" y="1537"/>
                  </a:lnTo>
                  <a:lnTo>
                    <a:pt x="5731" y="1522"/>
                  </a:lnTo>
                  <a:lnTo>
                    <a:pt x="5701" y="1492"/>
                  </a:lnTo>
                  <a:lnTo>
                    <a:pt x="5671" y="1492"/>
                  </a:lnTo>
                  <a:lnTo>
                    <a:pt x="5641" y="1492"/>
                  </a:lnTo>
                  <a:lnTo>
                    <a:pt x="5611" y="1492"/>
                  </a:lnTo>
                  <a:lnTo>
                    <a:pt x="5581" y="1470"/>
                  </a:lnTo>
                  <a:lnTo>
                    <a:pt x="5551" y="1440"/>
                  </a:lnTo>
                  <a:lnTo>
                    <a:pt x="5536" y="1410"/>
                  </a:lnTo>
                  <a:lnTo>
                    <a:pt x="5506" y="1387"/>
                  </a:lnTo>
                  <a:lnTo>
                    <a:pt x="5476" y="1372"/>
                  </a:lnTo>
                  <a:lnTo>
                    <a:pt x="5446" y="1372"/>
                  </a:lnTo>
                  <a:lnTo>
                    <a:pt x="5416" y="1357"/>
                  </a:lnTo>
                  <a:lnTo>
                    <a:pt x="5386" y="1342"/>
                  </a:lnTo>
                  <a:lnTo>
                    <a:pt x="5356" y="1312"/>
                  </a:lnTo>
                  <a:lnTo>
                    <a:pt x="5333" y="1282"/>
                  </a:lnTo>
                  <a:lnTo>
                    <a:pt x="5307" y="1279"/>
                  </a:lnTo>
                  <a:lnTo>
                    <a:pt x="5289" y="1286"/>
                  </a:lnTo>
                  <a:lnTo>
                    <a:pt x="5259" y="1279"/>
                  </a:lnTo>
                  <a:lnTo>
                    <a:pt x="5232" y="1264"/>
                  </a:lnTo>
                  <a:lnTo>
                    <a:pt x="5219" y="1251"/>
                  </a:lnTo>
                  <a:lnTo>
                    <a:pt x="5191" y="1245"/>
                  </a:lnTo>
                  <a:lnTo>
                    <a:pt x="5161" y="1230"/>
                  </a:lnTo>
                  <a:lnTo>
                    <a:pt x="5138" y="1200"/>
                  </a:lnTo>
                  <a:lnTo>
                    <a:pt x="5116" y="1170"/>
                  </a:lnTo>
                  <a:lnTo>
                    <a:pt x="5086" y="1148"/>
                  </a:lnTo>
                  <a:lnTo>
                    <a:pt x="5056" y="1140"/>
                  </a:lnTo>
                  <a:lnTo>
                    <a:pt x="5033" y="1110"/>
                  </a:lnTo>
                  <a:lnTo>
                    <a:pt x="5003" y="1088"/>
                  </a:lnTo>
                  <a:lnTo>
                    <a:pt x="4973" y="1073"/>
                  </a:lnTo>
                  <a:lnTo>
                    <a:pt x="4966" y="1043"/>
                  </a:lnTo>
                  <a:lnTo>
                    <a:pt x="4996" y="1035"/>
                  </a:lnTo>
                  <a:lnTo>
                    <a:pt x="4988" y="1005"/>
                  </a:lnTo>
                  <a:lnTo>
                    <a:pt x="4958" y="1005"/>
                  </a:lnTo>
                  <a:lnTo>
                    <a:pt x="4958" y="975"/>
                  </a:lnTo>
                  <a:lnTo>
                    <a:pt x="4981" y="945"/>
                  </a:lnTo>
                  <a:lnTo>
                    <a:pt x="4996" y="915"/>
                  </a:lnTo>
                  <a:lnTo>
                    <a:pt x="5003" y="885"/>
                  </a:lnTo>
                  <a:lnTo>
                    <a:pt x="5026" y="855"/>
                  </a:lnTo>
                  <a:lnTo>
                    <a:pt x="5041" y="825"/>
                  </a:lnTo>
                  <a:lnTo>
                    <a:pt x="5041" y="795"/>
                  </a:lnTo>
                  <a:lnTo>
                    <a:pt x="5048" y="765"/>
                  </a:lnTo>
                  <a:lnTo>
                    <a:pt x="5078" y="750"/>
                  </a:lnTo>
                  <a:lnTo>
                    <a:pt x="5101" y="720"/>
                  </a:lnTo>
                  <a:lnTo>
                    <a:pt x="5071" y="712"/>
                  </a:lnTo>
                  <a:lnTo>
                    <a:pt x="5041" y="712"/>
                  </a:lnTo>
                  <a:lnTo>
                    <a:pt x="5033" y="667"/>
                  </a:lnTo>
                  <a:lnTo>
                    <a:pt x="5063" y="637"/>
                  </a:lnTo>
                  <a:lnTo>
                    <a:pt x="5093" y="622"/>
                  </a:lnTo>
                  <a:lnTo>
                    <a:pt x="5123" y="637"/>
                  </a:lnTo>
                  <a:lnTo>
                    <a:pt x="5153" y="645"/>
                  </a:lnTo>
                  <a:lnTo>
                    <a:pt x="5183" y="622"/>
                  </a:lnTo>
                  <a:lnTo>
                    <a:pt x="5198" y="585"/>
                  </a:lnTo>
                  <a:lnTo>
                    <a:pt x="5206" y="555"/>
                  </a:lnTo>
                  <a:lnTo>
                    <a:pt x="5206" y="525"/>
                  </a:lnTo>
                  <a:lnTo>
                    <a:pt x="5221" y="495"/>
                  </a:lnTo>
                  <a:lnTo>
                    <a:pt x="5243" y="465"/>
                  </a:lnTo>
                  <a:lnTo>
                    <a:pt x="5258" y="435"/>
                  </a:lnTo>
                  <a:lnTo>
                    <a:pt x="5266" y="405"/>
                  </a:lnTo>
                  <a:lnTo>
                    <a:pt x="5273" y="375"/>
                  </a:lnTo>
                  <a:lnTo>
                    <a:pt x="5273" y="345"/>
                  </a:lnTo>
                  <a:lnTo>
                    <a:pt x="5243" y="315"/>
                  </a:lnTo>
                  <a:lnTo>
                    <a:pt x="5213" y="315"/>
                  </a:lnTo>
                  <a:lnTo>
                    <a:pt x="5191" y="285"/>
                  </a:lnTo>
                  <a:lnTo>
                    <a:pt x="5161" y="255"/>
                  </a:lnTo>
                  <a:lnTo>
                    <a:pt x="5131" y="270"/>
                  </a:lnTo>
                  <a:lnTo>
                    <a:pt x="5101" y="277"/>
                  </a:lnTo>
                  <a:lnTo>
                    <a:pt x="5071" y="292"/>
                  </a:lnTo>
                  <a:lnTo>
                    <a:pt x="5063" y="322"/>
                  </a:lnTo>
                  <a:lnTo>
                    <a:pt x="5071" y="352"/>
                  </a:lnTo>
                  <a:lnTo>
                    <a:pt x="5071" y="382"/>
                  </a:lnTo>
                  <a:lnTo>
                    <a:pt x="5041" y="382"/>
                  </a:lnTo>
                  <a:lnTo>
                    <a:pt x="5033" y="352"/>
                  </a:lnTo>
                  <a:lnTo>
                    <a:pt x="5033" y="322"/>
                  </a:lnTo>
                  <a:lnTo>
                    <a:pt x="5003" y="322"/>
                  </a:lnTo>
                  <a:lnTo>
                    <a:pt x="4988" y="292"/>
                  </a:lnTo>
                  <a:lnTo>
                    <a:pt x="4958" y="262"/>
                  </a:lnTo>
                  <a:lnTo>
                    <a:pt x="4928" y="247"/>
                  </a:lnTo>
                  <a:lnTo>
                    <a:pt x="4906" y="277"/>
                  </a:lnTo>
                  <a:lnTo>
                    <a:pt x="4921" y="307"/>
                  </a:lnTo>
                  <a:lnTo>
                    <a:pt x="4891" y="315"/>
                  </a:lnTo>
                  <a:lnTo>
                    <a:pt x="4861" y="285"/>
                  </a:lnTo>
                  <a:lnTo>
                    <a:pt x="4831" y="315"/>
                  </a:lnTo>
                  <a:lnTo>
                    <a:pt x="4838" y="345"/>
                  </a:lnTo>
                  <a:lnTo>
                    <a:pt x="4808" y="352"/>
                  </a:lnTo>
                  <a:lnTo>
                    <a:pt x="4771" y="322"/>
                  </a:lnTo>
                  <a:lnTo>
                    <a:pt x="4741" y="292"/>
                  </a:lnTo>
                  <a:lnTo>
                    <a:pt x="4711" y="300"/>
                  </a:lnTo>
                  <a:lnTo>
                    <a:pt x="4681" y="300"/>
                  </a:lnTo>
                  <a:lnTo>
                    <a:pt x="4651" y="292"/>
                  </a:lnTo>
                  <a:lnTo>
                    <a:pt x="4621" y="292"/>
                  </a:lnTo>
                  <a:lnTo>
                    <a:pt x="4591" y="292"/>
                  </a:lnTo>
                  <a:lnTo>
                    <a:pt x="4561" y="277"/>
                  </a:lnTo>
                  <a:lnTo>
                    <a:pt x="4561" y="247"/>
                  </a:lnTo>
                  <a:lnTo>
                    <a:pt x="4531" y="232"/>
                  </a:lnTo>
                  <a:lnTo>
                    <a:pt x="4493" y="232"/>
                  </a:lnTo>
                  <a:lnTo>
                    <a:pt x="4463" y="247"/>
                  </a:lnTo>
                  <a:lnTo>
                    <a:pt x="4433" y="247"/>
                  </a:lnTo>
                  <a:lnTo>
                    <a:pt x="4433" y="202"/>
                  </a:lnTo>
                  <a:lnTo>
                    <a:pt x="4426" y="172"/>
                  </a:lnTo>
                  <a:lnTo>
                    <a:pt x="4396" y="172"/>
                  </a:lnTo>
                  <a:lnTo>
                    <a:pt x="4388" y="202"/>
                  </a:lnTo>
                  <a:lnTo>
                    <a:pt x="4351" y="195"/>
                  </a:lnTo>
                  <a:lnTo>
                    <a:pt x="4328" y="165"/>
                  </a:lnTo>
                  <a:lnTo>
                    <a:pt x="4298" y="150"/>
                  </a:lnTo>
                  <a:lnTo>
                    <a:pt x="4268" y="165"/>
                  </a:lnTo>
                  <a:lnTo>
                    <a:pt x="4238" y="172"/>
                  </a:lnTo>
                  <a:lnTo>
                    <a:pt x="4216" y="142"/>
                  </a:lnTo>
                  <a:lnTo>
                    <a:pt x="4231" y="112"/>
                  </a:lnTo>
                  <a:lnTo>
                    <a:pt x="4216" y="82"/>
                  </a:lnTo>
                  <a:lnTo>
                    <a:pt x="4186" y="67"/>
                  </a:lnTo>
                  <a:lnTo>
                    <a:pt x="4171" y="97"/>
                  </a:lnTo>
                  <a:lnTo>
                    <a:pt x="4141" y="105"/>
                  </a:lnTo>
                  <a:lnTo>
                    <a:pt x="4111" y="105"/>
                  </a:lnTo>
                  <a:lnTo>
                    <a:pt x="4066" y="120"/>
                  </a:lnTo>
                  <a:lnTo>
                    <a:pt x="4036" y="112"/>
                  </a:lnTo>
                  <a:lnTo>
                    <a:pt x="4006" y="120"/>
                  </a:lnTo>
                  <a:lnTo>
                    <a:pt x="3976" y="150"/>
                  </a:lnTo>
                  <a:lnTo>
                    <a:pt x="4006" y="172"/>
                  </a:lnTo>
                  <a:lnTo>
                    <a:pt x="4036" y="202"/>
                  </a:lnTo>
                  <a:lnTo>
                    <a:pt x="4066" y="217"/>
                  </a:lnTo>
                  <a:lnTo>
                    <a:pt x="4096" y="217"/>
                  </a:lnTo>
                  <a:lnTo>
                    <a:pt x="4126" y="217"/>
                  </a:lnTo>
                  <a:lnTo>
                    <a:pt x="4156" y="225"/>
                  </a:lnTo>
                  <a:lnTo>
                    <a:pt x="4186" y="232"/>
                  </a:lnTo>
                  <a:lnTo>
                    <a:pt x="4208" y="262"/>
                  </a:lnTo>
                  <a:lnTo>
                    <a:pt x="4216" y="292"/>
                  </a:lnTo>
                  <a:lnTo>
                    <a:pt x="4201" y="322"/>
                  </a:lnTo>
                  <a:lnTo>
                    <a:pt x="4171" y="345"/>
                  </a:lnTo>
                  <a:lnTo>
                    <a:pt x="4141" y="352"/>
                  </a:lnTo>
                  <a:lnTo>
                    <a:pt x="4111" y="345"/>
                  </a:lnTo>
                  <a:lnTo>
                    <a:pt x="4081" y="352"/>
                  </a:lnTo>
                  <a:lnTo>
                    <a:pt x="4051" y="367"/>
                  </a:lnTo>
                  <a:lnTo>
                    <a:pt x="4021" y="367"/>
                  </a:lnTo>
                  <a:lnTo>
                    <a:pt x="3991" y="367"/>
                  </a:lnTo>
                  <a:lnTo>
                    <a:pt x="3961" y="382"/>
                  </a:lnTo>
                  <a:lnTo>
                    <a:pt x="3931" y="352"/>
                  </a:lnTo>
                  <a:lnTo>
                    <a:pt x="3901" y="345"/>
                  </a:lnTo>
                  <a:lnTo>
                    <a:pt x="3871" y="352"/>
                  </a:lnTo>
                  <a:lnTo>
                    <a:pt x="3841" y="345"/>
                  </a:lnTo>
                  <a:lnTo>
                    <a:pt x="3818" y="375"/>
                  </a:lnTo>
                  <a:lnTo>
                    <a:pt x="3796" y="405"/>
                  </a:lnTo>
                  <a:lnTo>
                    <a:pt x="3788" y="435"/>
                  </a:lnTo>
                  <a:lnTo>
                    <a:pt x="3758" y="427"/>
                  </a:lnTo>
                  <a:lnTo>
                    <a:pt x="3728" y="427"/>
                  </a:lnTo>
                  <a:lnTo>
                    <a:pt x="3721" y="457"/>
                  </a:lnTo>
                  <a:lnTo>
                    <a:pt x="3736" y="487"/>
                  </a:lnTo>
                  <a:lnTo>
                    <a:pt x="3706" y="502"/>
                  </a:lnTo>
                  <a:lnTo>
                    <a:pt x="3691" y="472"/>
                  </a:lnTo>
                  <a:lnTo>
                    <a:pt x="3661" y="495"/>
                  </a:lnTo>
                  <a:lnTo>
                    <a:pt x="3653" y="525"/>
                  </a:lnTo>
                  <a:lnTo>
                    <a:pt x="3661" y="555"/>
                  </a:lnTo>
                  <a:lnTo>
                    <a:pt x="3631" y="555"/>
                  </a:lnTo>
                  <a:lnTo>
                    <a:pt x="3601" y="562"/>
                  </a:lnTo>
                  <a:lnTo>
                    <a:pt x="3601" y="592"/>
                  </a:lnTo>
                  <a:lnTo>
                    <a:pt x="3586" y="622"/>
                  </a:lnTo>
                  <a:lnTo>
                    <a:pt x="3608" y="652"/>
                  </a:lnTo>
                  <a:lnTo>
                    <a:pt x="3616" y="682"/>
                  </a:lnTo>
                  <a:lnTo>
                    <a:pt x="3586" y="697"/>
                  </a:lnTo>
                  <a:lnTo>
                    <a:pt x="3556" y="697"/>
                  </a:lnTo>
                  <a:lnTo>
                    <a:pt x="3556" y="727"/>
                  </a:lnTo>
                  <a:lnTo>
                    <a:pt x="3541" y="757"/>
                  </a:lnTo>
                  <a:lnTo>
                    <a:pt x="3526" y="787"/>
                  </a:lnTo>
                  <a:lnTo>
                    <a:pt x="3496" y="817"/>
                  </a:lnTo>
                  <a:lnTo>
                    <a:pt x="3466" y="817"/>
                  </a:lnTo>
                  <a:lnTo>
                    <a:pt x="3443" y="847"/>
                  </a:lnTo>
                  <a:lnTo>
                    <a:pt x="3421" y="877"/>
                  </a:lnTo>
                  <a:lnTo>
                    <a:pt x="3421" y="908"/>
                  </a:lnTo>
                  <a:lnTo>
                    <a:pt x="3451" y="938"/>
                  </a:lnTo>
                  <a:lnTo>
                    <a:pt x="3451" y="968"/>
                  </a:lnTo>
                  <a:lnTo>
                    <a:pt x="3473" y="998"/>
                  </a:lnTo>
                  <a:lnTo>
                    <a:pt x="3526" y="1035"/>
                  </a:lnTo>
                  <a:lnTo>
                    <a:pt x="3495" y="1056"/>
                  </a:lnTo>
                  <a:lnTo>
                    <a:pt x="3465" y="1056"/>
                  </a:lnTo>
                  <a:lnTo>
                    <a:pt x="3435" y="1049"/>
                  </a:lnTo>
                  <a:lnTo>
                    <a:pt x="3405" y="1041"/>
                  </a:lnTo>
                  <a:lnTo>
                    <a:pt x="3375" y="1056"/>
                  </a:lnTo>
                  <a:lnTo>
                    <a:pt x="3337" y="1056"/>
                  </a:lnTo>
                  <a:lnTo>
                    <a:pt x="3307" y="1056"/>
                  </a:lnTo>
                  <a:lnTo>
                    <a:pt x="3277" y="1034"/>
                  </a:lnTo>
                  <a:lnTo>
                    <a:pt x="3247" y="1026"/>
                  </a:lnTo>
                  <a:lnTo>
                    <a:pt x="3225" y="1056"/>
                  </a:lnTo>
                  <a:lnTo>
                    <a:pt x="3195" y="1079"/>
                  </a:lnTo>
                  <a:lnTo>
                    <a:pt x="3165" y="1086"/>
                  </a:lnTo>
                  <a:lnTo>
                    <a:pt x="3165" y="1049"/>
                  </a:lnTo>
                  <a:lnTo>
                    <a:pt x="3142" y="1019"/>
                  </a:lnTo>
                  <a:lnTo>
                    <a:pt x="3105" y="1011"/>
                  </a:lnTo>
                  <a:lnTo>
                    <a:pt x="3090" y="981"/>
                  </a:lnTo>
                  <a:lnTo>
                    <a:pt x="3090" y="951"/>
                  </a:lnTo>
                  <a:lnTo>
                    <a:pt x="3060" y="929"/>
                  </a:lnTo>
                  <a:lnTo>
                    <a:pt x="3030" y="906"/>
                  </a:lnTo>
                  <a:lnTo>
                    <a:pt x="3007" y="876"/>
                  </a:lnTo>
                  <a:lnTo>
                    <a:pt x="2977" y="869"/>
                  </a:lnTo>
                  <a:lnTo>
                    <a:pt x="2947" y="861"/>
                  </a:lnTo>
                  <a:lnTo>
                    <a:pt x="2917" y="861"/>
                  </a:lnTo>
                  <a:lnTo>
                    <a:pt x="2887" y="846"/>
                  </a:lnTo>
                  <a:lnTo>
                    <a:pt x="2857" y="824"/>
                  </a:lnTo>
                  <a:lnTo>
                    <a:pt x="2827" y="824"/>
                  </a:lnTo>
                  <a:lnTo>
                    <a:pt x="2805" y="854"/>
                  </a:lnTo>
                  <a:lnTo>
                    <a:pt x="2775" y="861"/>
                  </a:lnTo>
                  <a:lnTo>
                    <a:pt x="2745" y="876"/>
                  </a:lnTo>
                  <a:lnTo>
                    <a:pt x="2715" y="884"/>
                  </a:lnTo>
                  <a:lnTo>
                    <a:pt x="2685" y="876"/>
                  </a:lnTo>
                  <a:lnTo>
                    <a:pt x="2655" y="861"/>
                  </a:lnTo>
                  <a:lnTo>
                    <a:pt x="2640" y="891"/>
                  </a:lnTo>
                  <a:lnTo>
                    <a:pt x="2640" y="921"/>
                  </a:lnTo>
                  <a:lnTo>
                    <a:pt x="2632" y="951"/>
                  </a:lnTo>
                  <a:lnTo>
                    <a:pt x="2625" y="981"/>
                  </a:lnTo>
                  <a:lnTo>
                    <a:pt x="2610" y="1011"/>
                  </a:lnTo>
                  <a:lnTo>
                    <a:pt x="2580" y="1004"/>
                  </a:lnTo>
                  <a:lnTo>
                    <a:pt x="2550" y="989"/>
                  </a:lnTo>
                  <a:lnTo>
                    <a:pt x="2542" y="959"/>
                  </a:lnTo>
                  <a:lnTo>
                    <a:pt x="2505" y="974"/>
                  </a:lnTo>
                  <a:lnTo>
                    <a:pt x="2505" y="1004"/>
                  </a:lnTo>
                  <a:lnTo>
                    <a:pt x="2505" y="1034"/>
                  </a:lnTo>
                  <a:lnTo>
                    <a:pt x="2475" y="1041"/>
                  </a:lnTo>
                  <a:lnTo>
                    <a:pt x="2445" y="1049"/>
                  </a:lnTo>
                  <a:lnTo>
                    <a:pt x="2415" y="1064"/>
                  </a:lnTo>
                  <a:lnTo>
                    <a:pt x="2407" y="1094"/>
                  </a:lnTo>
                  <a:lnTo>
                    <a:pt x="2415" y="1124"/>
                  </a:lnTo>
                  <a:lnTo>
                    <a:pt x="2430" y="1154"/>
                  </a:lnTo>
                  <a:lnTo>
                    <a:pt x="2400" y="1169"/>
                  </a:lnTo>
                  <a:lnTo>
                    <a:pt x="2370" y="1176"/>
                  </a:lnTo>
                  <a:lnTo>
                    <a:pt x="2340" y="1184"/>
                  </a:lnTo>
                  <a:lnTo>
                    <a:pt x="2325" y="1214"/>
                  </a:lnTo>
                  <a:lnTo>
                    <a:pt x="2340" y="1244"/>
                  </a:lnTo>
                  <a:lnTo>
                    <a:pt x="2332" y="1274"/>
                  </a:lnTo>
                  <a:lnTo>
                    <a:pt x="2302" y="1274"/>
                  </a:lnTo>
                  <a:lnTo>
                    <a:pt x="2272" y="1274"/>
                  </a:lnTo>
                  <a:lnTo>
                    <a:pt x="2265" y="1304"/>
                  </a:lnTo>
                  <a:lnTo>
                    <a:pt x="2242" y="1334"/>
                  </a:lnTo>
                  <a:lnTo>
                    <a:pt x="2235" y="1371"/>
                  </a:lnTo>
                  <a:lnTo>
                    <a:pt x="2227" y="1401"/>
                  </a:lnTo>
                  <a:lnTo>
                    <a:pt x="2257" y="1424"/>
                  </a:lnTo>
                  <a:lnTo>
                    <a:pt x="2280" y="1454"/>
                  </a:lnTo>
                  <a:lnTo>
                    <a:pt x="2265" y="1484"/>
                  </a:lnTo>
                  <a:lnTo>
                    <a:pt x="2265" y="1514"/>
                  </a:lnTo>
                  <a:lnTo>
                    <a:pt x="2235" y="1521"/>
                  </a:lnTo>
                  <a:lnTo>
                    <a:pt x="2197" y="1506"/>
                  </a:lnTo>
                  <a:lnTo>
                    <a:pt x="2160" y="1499"/>
                  </a:lnTo>
                  <a:lnTo>
                    <a:pt x="2130" y="1499"/>
                  </a:lnTo>
                  <a:lnTo>
                    <a:pt x="2091" y="1488"/>
                  </a:lnTo>
                  <a:lnTo>
                    <a:pt x="2085" y="1514"/>
                  </a:lnTo>
                  <a:lnTo>
                    <a:pt x="2070" y="1544"/>
                  </a:lnTo>
                  <a:lnTo>
                    <a:pt x="2077" y="1574"/>
                  </a:lnTo>
                  <a:lnTo>
                    <a:pt x="2092" y="1604"/>
                  </a:lnTo>
                  <a:lnTo>
                    <a:pt x="2100" y="1634"/>
                  </a:lnTo>
                  <a:lnTo>
                    <a:pt x="2130" y="1649"/>
                  </a:lnTo>
                  <a:lnTo>
                    <a:pt x="2137" y="1679"/>
                  </a:lnTo>
                  <a:lnTo>
                    <a:pt x="2115" y="1709"/>
                  </a:lnTo>
                  <a:lnTo>
                    <a:pt x="2115" y="1739"/>
                  </a:lnTo>
                  <a:lnTo>
                    <a:pt x="2085" y="1762"/>
                  </a:lnTo>
                  <a:lnTo>
                    <a:pt x="2070" y="1732"/>
                  </a:lnTo>
                  <a:lnTo>
                    <a:pt x="2047" y="1702"/>
                  </a:lnTo>
                  <a:lnTo>
                    <a:pt x="2018" y="1672"/>
                  </a:lnTo>
                  <a:lnTo>
                    <a:pt x="1995" y="1642"/>
                  </a:lnTo>
                  <a:lnTo>
                    <a:pt x="1980" y="1612"/>
                  </a:lnTo>
                  <a:lnTo>
                    <a:pt x="2010" y="1589"/>
                  </a:lnTo>
                  <a:lnTo>
                    <a:pt x="2010" y="1559"/>
                  </a:lnTo>
                  <a:lnTo>
                    <a:pt x="1995" y="1529"/>
                  </a:lnTo>
                  <a:lnTo>
                    <a:pt x="1965" y="1529"/>
                  </a:lnTo>
                  <a:lnTo>
                    <a:pt x="1935" y="1544"/>
                  </a:lnTo>
                  <a:lnTo>
                    <a:pt x="1905" y="1574"/>
                  </a:lnTo>
                  <a:lnTo>
                    <a:pt x="1890" y="1604"/>
                  </a:lnTo>
                  <a:lnTo>
                    <a:pt x="1875" y="1634"/>
                  </a:lnTo>
                  <a:lnTo>
                    <a:pt x="1860" y="1664"/>
                  </a:lnTo>
                  <a:lnTo>
                    <a:pt x="1845" y="1694"/>
                  </a:lnTo>
                  <a:lnTo>
                    <a:pt x="1815" y="1717"/>
                  </a:lnTo>
                  <a:lnTo>
                    <a:pt x="1793" y="1747"/>
                  </a:lnTo>
                  <a:lnTo>
                    <a:pt x="1778" y="1777"/>
                  </a:lnTo>
                  <a:lnTo>
                    <a:pt x="1763" y="1807"/>
                  </a:lnTo>
                  <a:lnTo>
                    <a:pt x="1755" y="1837"/>
                  </a:lnTo>
                  <a:lnTo>
                    <a:pt x="1770" y="1867"/>
                  </a:lnTo>
                  <a:lnTo>
                    <a:pt x="1770" y="1896"/>
                  </a:lnTo>
                  <a:lnTo>
                    <a:pt x="1778" y="1926"/>
                  </a:lnTo>
                  <a:lnTo>
                    <a:pt x="1800" y="1956"/>
                  </a:lnTo>
                  <a:lnTo>
                    <a:pt x="1815" y="1986"/>
                  </a:lnTo>
                  <a:lnTo>
                    <a:pt x="1815" y="2016"/>
                  </a:lnTo>
                  <a:lnTo>
                    <a:pt x="1785" y="2046"/>
                  </a:lnTo>
                  <a:lnTo>
                    <a:pt x="1770" y="2076"/>
                  </a:lnTo>
                  <a:lnTo>
                    <a:pt x="1740" y="2106"/>
                  </a:lnTo>
                  <a:lnTo>
                    <a:pt x="1710" y="2136"/>
                  </a:lnTo>
                  <a:lnTo>
                    <a:pt x="1687" y="2166"/>
                  </a:lnTo>
                  <a:lnTo>
                    <a:pt x="1672" y="2196"/>
                  </a:lnTo>
                  <a:lnTo>
                    <a:pt x="1665" y="2226"/>
                  </a:lnTo>
                  <a:lnTo>
                    <a:pt x="1650" y="2256"/>
                  </a:lnTo>
                  <a:lnTo>
                    <a:pt x="1635" y="2286"/>
                  </a:lnTo>
                  <a:lnTo>
                    <a:pt x="1620" y="2316"/>
                  </a:lnTo>
                  <a:lnTo>
                    <a:pt x="1605" y="2346"/>
                  </a:lnTo>
                  <a:lnTo>
                    <a:pt x="1575" y="2376"/>
                  </a:lnTo>
                  <a:lnTo>
                    <a:pt x="1545" y="2399"/>
                  </a:lnTo>
                  <a:lnTo>
                    <a:pt x="1515" y="2421"/>
                  </a:lnTo>
                  <a:lnTo>
                    <a:pt x="1485" y="2436"/>
                  </a:lnTo>
                  <a:lnTo>
                    <a:pt x="1455" y="2444"/>
                  </a:lnTo>
                  <a:lnTo>
                    <a:pt x="1425" y="2451"/>
                  </a:lnTo>
                  <a:lnTo>
                    <a:pt x="1395" y="2466"/>
                  </a:lnTo>
                  <a:lnTo>
                    <a:pt x="1365" y="2474"/>
                  </a:lnTo>
                  <a:lnTo>
                    <a:pt x="1335" y="2489"/>
                  </a:lnTo>
                  <a:lnTo>
                    <a:pt x="1305" y="2504"/>
                  </a:lnTo>
                  <a:lnTo>
                    <a:pt x="1275" y="2519"/>
                  </a:lnTo>
                  <a:lnTo>
                    <a:pt x="1245" y="2534"/>
                  </a:lnTo>
                  <a:lnTo>
                    <a:pt x="1215" y="2534"/>
                  </a:lnTo>
                  <a:lnTo>
                    <a:pt x="1185" y="2534"/>
                  </a:lnTo>
                  <a:lnTo>
                    <a:pt x="1155" y="2549"/>
                  </a:lnTo>
                  <a:lnTo>
                    <a:pt x="1125" y="2594"/>
                  </a:lnTo>
                  <a:lnTo>
                    <a:pt x="1095" y="2616"/>
                  </a:lnTo>
                  <a:lnTo>
                    <a:pt x="1065" y="2631"/>
                  </a:lnTo>
                  <a:lnTo>
                    <a:pt x="1035" y="2639"/>
                  </a:lnTo>
                  <a:lnTo>
                    <a:pt x="1005" y="2639"/>
                  </a:lnTo>
                  <a:lnTo>
                    <a:pt x="975" y="2661"/>
                  </a:lnTo>
                  <a:lnTo>
                    <a:pt x="945" y="2676"/>
                  </a:lnTo>
                  <a:lnTo>
                    <a:pt x="915" y="2691"/>
                  </a:lnTo>
                  <a:lnTo>
                    <a:pt x="885" y="2706"/>
                  </a:lnTo>
                  <a:lnTo>
                    <a:pt x="855" y="2736"/>
                  </a:lnTo>
                  <a:lnTo>
                    <a:pt x="825" y="2759"/>
                  </a:lnTo>
                  <a:lnTo>
                    <a:pt x="795" y="2766"/>
                  </a:lnTo>
                  <a:lnTo>
                    <a:pt x="765" y="2774"/>
                  </a:lnTo>
                  <a:lnTo>
                    <a:pt x="735" y="2766"/>
                  </a:lnTo>
                  <a:lnTo>
                    <a:pt x="705" y="2759"/>
                  </a:lnTo>
                  <a:lnTo>
                    <a:pt x="675" y="2766"/>
                  </a:lnTo>
                  <a:lnTo>
                    <a:pt x="645" y="2774"/>
                  </a:lnTo>
                  <a:lnTo>
                    <a:pt x="592" y="2819"/>
                  </a:lnTo>
                  <a:lnTo>
                    <a:pt x="562" y="2834"/>
                  </a:lnTo>
                  <a:lnTo>
                    <a:pt x="532" y="2849"/>
                  </a:lnTo>
                  <a:lnTo>
                    <a:pt x="502" y="2871"/>
                  </a:lnTo>
                  <a:lnTo>
                    <a:pt x="472" y="2901"/>
                  </a:lnTo>
                  <a:lnTo>
                    <a:pt x="435" y="2924"/>
                  </a:lnTo>
                  <a:lnTo>
                    <a:pt x="420" y="2954"/>
                  </a:lnTo>
                  <a:lnTo>
                    <a:pt x="405" y="2984"/>
                  </a:lnTo>
                  <a:lnTo>
                    <a:pt x="375" y="3014"/>
                  </a:lnTo>
                  <a:lnTo>
                    <a:pt x="360" y="3044"/>
                  </a:lnTo>
                  <a:lnTo>
                    <a:pt x="330" y="3029"/>
                  </a:lnTo>
                  <a:lnTo>
                    <a:pt x="300" y="3044"/>
                  </a:lnTo>
                  <a:lnTo>
                    <a:pt x="270" y="3074"/>
                  </a:lnTo>
                  <a:lnTo>
                    <a:pt x="248" y="3104"/>
                  </a:lnTo>
                  <a:lnTo>
                    <a:pt x="218" y="3126"/>
                  </a:lnTo>
                  <a:lnTo>
                    <a:pt x="187" y="3149"/>
                  </a:lnTo>
                  <a:lnTo>
                    <a:pt x="172" y="3179"/>
                  </a:lnTo>
                  <a:lnTo>
                    <a:pt x="157" y="3209"/>
                  </a:lnTo>
                  <a:lnTo>
                    <a:pt x="135" y="3239"/>
                  </a:lnTo>
                  <a:lnTo>
                    <a:pt x="105" y="3261"/>
                  </a:lnTo>
                  <a:lnTo>
                    <a:pt x="97" y="3231"/>
                  </a:lnTo>
                  <a:lnTo>
                    <a:pt x="105" y="3201"/>
                  </a:lnTo>
                  <a:lnTo>
                    <a:pt x="90" y="3171"/>
                  </a:lnTo>
                  <a:lnTo>
                    <a:pt x="82" y="3141"/>
                  </a:lnTo>
                  <a:lnTo>
                    <a:pt x="52" y="3164"/>
                  </a:lnTo>
                  <a:lnTo>
                    <a:pt x="30" y="3194"/>
                  </a:lnTo>
                  <a:lnTo>
                    <a:pt x="15" y="3224"/>
                  </a:lnTo>
                  <a:lnTo>
                    <a:pt x="7" y="3254"/>
                  </a:lnTo>
                  <a:lnTo>
                    <a:pt x="7" y="3284"/>
                  </a:lnTo>
                  <a:lnTo>
                    <a:pt x="7" y="3314"/>
                  </a:lnTo>
                  <a:lnTo>
                    <a:pt x="7" y="3344"/>
                  </a:lnTo>
                  <a:lnTo>
                    <a:pt x="7" y="3374"/>
                  </a:lnTo>
                  <a:lnTo>
                    <a:pt x="0" y="3404"/>
                  </a:lnTo>
                  <a:lnTo>
                    <a:pt x="30" y="3464"/>
                  </a:lnTo>
                  <a:lnTo>
                    <a:pt x="30" y="3494"/>
                  </a:lnTo>
                  <a:lnTo>
                    <a:pt x="37" y="3524"/>
                  </a:lnTo>
                  <a:lnTo>
                    <a:pt x="45" y="3554"/>
                  </a:lnTo>
                  <a:lnTo>
                    <a:pt x="45" y="3584"/>
                  </a:lnTo>
                  <a:lnTo>
                    <a:pt x="37" y="3614"/>
                  </a:lnTo>
                  <a:lnTo>
                    <a:pt x="22" y="3644"/>
                  </a:lnTo>
                  <a:lnTo>
                    <a:pt x="15" y="3682"/>
                  </a:lnTo>
                  <a:lnTo>
                    <a:pt x="0" y="3719"/>
                  </a:lnTo>
                  <a:lnTo>
                    <a:pt x="0" y="3764"/>
                  </a:lnTo>
                  <a:lnTo>
                    <a:pt x="15" y="3794"/>
                  </a:lnTo>
                  <a:lnTo>
                    <a:pt x="7" y="3824"/>
                  </a:lnTo>
                  <a:lnTo>
                    <a:pt x="7" y="3854"/>
                  </a:lnTo>
                  <a:lnTo>
                    <a:pt x="30" y="3884"/>
                  </a:lnTo>
                  <a:lnTo>
                    <a:pt x="45" y="3914"/>
                  </a:lnTo>
                  <a:lnTo>
                    <a:pt x="60" y="3944"/>
                  </a:lnTo>
                  <a:lnTo>
                    <a:pt x="90" y="3974"/>
                  </a:lnTo>
                  <a:lnTo>
                    <a:pt x="112" y="4004"/>
                  </a:lnTo>
                  <a:lnTo>
                    <a:pt x="135" y="4034"/>
                  </a:lnTo>
                  <a:lnTo>
                    <a:pt x="150" y="4064"/>
                  </a:lnTo>
                  <a:lnTo>
                    <a:pt x="172" y="4094"/>
                  </a:lnTo>
                  <a:lnTo>
                    <a:pt x="203" y="4109"/>
                  </a:lnTo>
                  <a:lnTo>
                    <a:pt x="225" y="4139"/>
                  </a:lnTo>
                  <a:lnTo>
                    <a:pt x="240" y="4169"/>
                  </a:lnTo>
                  <a:lnTo>
                    <a:pt x="248" y="4199"/>
                  </a:lnTo>
                  <a:lnTo>
                    <a:pt x="248" y="4229"/>
                  </a:lnTo>
                  <a:lnTo>
                    <a:pt x="255" y="4259"/>
                  </a:lnTo>
                  <a:lnTo>
                    <a:pt x="225" y="4267"/>
                  </a:lnTo>
                  <a:lnTo>
                    <a:pt x="203" y="4237"/>
                  </a:lnTo>
                  <a:lnTo>
                    <a:pt x="195" y="4207"/>
                  </a:lnTo>
                  <a:lnTo>
                    <a:pt x="165" y="4192"/>
                  </a:lnTo>
                  <a:lnTo>
                    <a:pt x="157" y="4162"/>
                  </a:lnTo>
                  <a:lnTo>
                    <a:pt x="135" y="4132"/>
                  </a:lnTo>
                  <a:lnTo>
                    <a:pt x="112" y="4102"/>
                  </a:lnTo>
                  <a:lnTo>
                    <a:pt x="82" y="4094"/>
                  </a:lnTo>
                  <a:lnTo>
                    <a:pt x="52" y="4109"/>
                  </a:lnTo>
                  <a:lnTo>
                    <a:pt x="60" y="4139"/>
                  </a:lnTo>
                  <a:lnTo>
                    <a:pt x="75" y="4169"/>
                  </a:lnTo>
                  <a:lnTo>
                    <a:pt x="97" y="4199"/>
                  </a:lnTo>
                  <a:lnTo>
                    <a:pt x="105" y="4229"/>
                  </a:lnTo>
                  <a:lnTo>
                    <a:pt x="75" y="4237"/>
                  </a:lnTo>
                  <a:lnTo>
                    <a:pt x="45" y="4229"/>
                  </a:lnTo>
                  <a:lnTo>
                    <a:pt x="37" y="42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77080" y="3020040"/>
              <a:ext cx="29520" cy="51840"/>
            </a:xfrm>
            <a:custGeom>
              <a:avLst/>
              <a:gdLst/>
              <a:ahLst/>
              <a:rect l="l" t="t" r="r" b="b"/>
              <a:pathLst>
                <a:path w="83" h="144">
                  <a:moveTo>
                    <a:pt x="82" y="105"/>
                  </a:moveTo>
                  <a:lnTo>
                    <a:pt x="67" y="75"/>
                  </a:lnTo>
                  <a:lnTo>
                    <a:pt x="52" y="45"/>
                  </a:lnTo>
                  <a:lnTo>
                    <a:pt x="37" y="1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0" y="60"/>
                  </a:lnTo>
                  <a:lnTo>
                    <a:pt x="22" y="90"/>
                  </a:lnTo>
                  <a:lnTo>
                    <a:pt x="37" y="120"/>
                  </a:lnTo>
                  <a:lnTo>
                    <a:pt x="67" y="143"/>
                  </a:lnTo>
                  <a:lnTo>
                    <a:pt x="82" y="1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008000" y="826920"/>
            <a:ext cx="2976120" cy="3271680"/>
            <a:chOff x="1008000" y="826920"/>
            <a:chExt cx="2976120" cy="3271680"/>
          </a:xfrm>
        </p:grpSpPr>
        <p:sp>
          <p:nvSpPr>
            <p:cNvPr id="100" name=""/>
            <p:cNvSpPr/>
            <p:nvPr/>
          </p:nvSpPr>
          <p:spPr>
            <a:xfrm>
              <a:off x="1067760" y="855000"/>
              <a:ext cx="707040" cy="642600"/>
            </a:xfrm>
            <a:custGeom>
              <a:avLst/>
              <a:gdLst/>
              <a:ahLst/>
              <a:rect l="l" t="t" r="r" b="b"/>
              <a:pathLst>
                <a:path w="1966" h="1786">
                  <a:moveTo>
                    <a:pt x="1913" y="128"/>
                  </a:moveTo>
                  <a:lnTo>
                    <a:pt x="1883" y="128"/>
                  </a:lnTo>
                  <a:lnTo>
                    <a:pt x="1853" y="128"/>
                  </a:lnTo>
                  <a:lnTo>
                    <a:pt x="1830" y="98"/>
                  </a:lnTo>
                  <a:lnTo>
                    <a:pt x="1800" y="90"/>
                  </a:lnTo>
                  <a:lnTo>
                    <a:pt x="1770" y="98"/>
                  </a:lnTo>
                  <a:lnTo>
                    <a:pt x="1733" y="98"/>
                  </a:lnTo>
                  <a:lnTo>
                    <a:pt x="1695" y="90"/>
                  </a:lnTo>
                  <a:lnTo>
                    <a:pt x="1665" y="75"/>
                  </a:lnTo>
                  <a:lnTo>
                    <a:pt x="1635" y="90"/>
                  </a:lnTo>
                  <a:lnTo>
                    <a:pt x="1605" y="68"/>
                  </a:lnTo>
                  <a:lnTo>
                    <a:pt x="1590" y="38"/>
                  </a:lnTo>
                  <a:lnTo>
                    <a:pt x="1583" y="8"/>
                  </a:lnTo>
                  <a:lnTo>
                    <a:pt x="1553" y="0"/>
                  </a:lnTo>
                  <a:lnTo>
                    <a:pt x="1523" y="15"/>
                  </a:lnTo>
                  <a:lnTo>
                    <a:pt x="1500" y="45"/>
                  </a:lnTo>
                  <a:lnTo>
                    <a:pt x="1493" y="75"/>
                  </a:lnTo>
                  <a:lnTo>
                    <a:pt x="1478" y="105"/>
                  </a:lnTo>
                  <a:lnTo>
                    <a:pt x="1463" y="135"/>
                  </a:lnTo>
                  <a:lnTo>
                    <a:pt x="1448" y="165"/>
                  </a:lnTo>
                  <a:lnTo>
                    <a:pt x="1425" y="195"/>
                  </a:lnTo>
                  <a:lnTo>
                    <a:pt x="1410" y="225"/>
                  </a:lnTo>
                  <a:lnTo>
                    <a:pt x="1380" y="240"/>
                  </a:lnTo>
                  <a:lnTo>
                    <a:pt x="1350" y="248"/>
                  </a:lnTo>
                  <a:lnTo>
                    <a:pt x="1320" y="255"/>
                  </a:lnTo>
                  <a:lnTo>
                    <a:pt x="1290" y="263"/>
                  </a:lnTo>
                  <a:lnTo>
                    <a:pt x="1260" y="278"/>
                  </a:lnTo>
                  <a:lnTo>
                    <a:pt x="1230" y="278"/>
                  </a:lnTo>
                  <a:lnTo>
                    <a:pt x="1200" y="300"/>
                  </a:lnTo>
                  <a:lnTo>
                    <a:pt x="1170" y="330"/>
                  </a:lnTo>
                  <a:lnTo>
                    <a:pt x="1140" y="360"/>
                  </a:lnTo>
                  <a:lnTo>
                    <a:pt x="1110" y="375"/>
                  </a:lnTo>
                  <a:lnTo>
                    <a:pt x="1087" y="405"/>
                  </a:lnTo>
                  <a:lnTo>
                    <a:pt x="1080" y="435"/>
                  </a:lnTo>
                  <a:lnTo>
                    <a:pt x="1057" y="465"/>
                  </a:lnTo>
                  <a:lnTo>
                    <a:pt x="1035" y="495"/>
                  </a:lnTo>
                  <a:lnTo>
                    <a:pt x="1005" y="525"/>
                  </a:lnTo>
                  <a:lnTo>
                    <a:pt x="1005" y="555"/>
                  </a:lnTo>
                  <a:lnTo>
                    <a:pt x="997" y="585"/>
                  </a:lnTo>
                  <a:lnTo>
                    <a:pt x="997" y="615"/>
                  </a:lnTo>
                  <a:lnTo>
                    <a:pt x="997" y="645"/>
                  </a:lnTo>
                  <a:lnTo>
                    <a:pt x="997" y="675"/>
                  </a:lnTo>
                  <a:lnTo>
                    <a:pt x="990" y="705"/>
                  </a:lnTo>
                  <a:lnTo>
                    <a:pt x="967" y="735"/>
                  </a:lnTo>
                  <a:lnTo>
                    <a:pt x="945" y="765"/>
                  </a:lnTo>
                  <a:lnTo>
                    <a:pt x="915" y="795"/>
                  </a:lnTo>
                  <a:lnTo>
                    <a:pt x="885" y="817"/>
                  </a:lnTo>
                  <a:lnTo>
                    <a:pt x="855" y="840"/>
                  </a:lnTo>
                  <a:lnTo>
                    <a:pt x="825" y="855"/>
                  </a:lnTo>
                  <a:lnTo>
                    <a:pt x="795" y="855"/>
                  </a:lnTo>
                  <a:lnTo>
                    <a:pt x="765" y="870"/>
                  </a:lnTo>
                  <a:lnTo>
                    <a:pt x="735" y="892"/>
                  </a:lnTo>
                  <a:lnTo>
                    <a:pt x="705" y="915"/>
                  </a:lnTo>
                  <a:lnTo>
                    <a:pt x="675" y="922"/>
                  </a:lnTo>
                  <a:lnTo>
                    <a:pt x="645" y="930"/>
                  </a:lnTo>
                  <a:lnTo>
                    <a:pt x="615" y="945"/>
                  </a:lnTo>
                  <a:lnTo>
                    <a:pt x="585" y="952"/>
                  </a:lnTo>
                  <a:lnTo>
                    <a:pt x="563" y="982"/>
                  </a:lnTo>
                  <a:lnTo>
                    <a:pt x="533" y="1012"/>
                  </a:lnTo>
                  <a:lnTo>
                    <a:pt x="518" y="1042"/>
                  </a:lnTo>
                  <a:lnTo>
                    <a:pt x="503" y="1072"/>
                  </a:lnTo>
                  <a:lnTo>
                    <a:pt x="480" y="1102"/>
                  </a:lnTo>
                  <a:lnTo>
                    <a:pt x="450" y="1117"/>
                  </a:lnTo>
                  <a:lnTo>
                    <a:pt x="420" y="1148"/>
                  </a:lnTo>
                  <a:lnTo>
                    <a:pt x="390" y="1178"/>
                  </a:lnTo>
                  <a:lnTo>
                    <a:pt x="375" y="1208"/>
                  </a:lnTo>
                  <a:lnTo>
                    <a:pt x="360" y="1238"/>
                  </a:lnTo>
                  <a:lnTo>
                    <a:pt x="353" y="1268"/>
                  </a:lnTo>
                  <a:lnTo>
                    <a:pt x="338" y="1298"/>
                  </a:lnTo>
                  <a:lnTo>
                    <a:pt x="315" y="1328"/>
                  </a:lnTo>
                  <a:lnTo>
                    <a:pt x="300" y="1358"/>
                  </a:lnTo>
                  <a:lnTo>
                    <a:pt x="277" y="1388"/>
                  </a:lnTo>
                  <a:lnTo>
                    <a:pt x="248" y="1410"/>
                  </a:lnTo>
                  <a:lnTo>
                    <a:pt x="218" y="1433"/>
                  </a:lnTo>
                  <a:lnTo>
                    <a:pt x="188" y="1455"/>
                  </a:lnTo>
                  <a:lnTo>
                    <a:pt x="173" y="1485"/>
                  </a:lnTo>
                  <a:lnTo>
                    <a:pt x="158" y="1515"/>
                  </a:lnTo>
                  <a:lnTo>
                    <a:pt x="135" y="1545"/>
                  </a:lnTo>
                  <a:lnTo>
                    <a:pt x="120" y="1575"/>
                  </a:lnTo>
                  <a:lnTo>
                    <a:pt x="105" y="1605"/>
                  </a:lnTo>
                  <a:lnTo>
                    <a:pt x="90" y="1635"/>
                  </a:lnTo>
                  <a:lnTo>
                    <a:pt x="53" y="1635"/>
                  </a:lnTo>
                  <a:lnTo>
                    <a:pt x="30" y="1665"/>
                  </a:lnTo>
                  <a:lnTo>
                    <a:pt x="15" y="1695"/>
                  </a:lnTo>
                  <a:lnTo>
                    <a:pt x="15" y="1725"/>
                  </a:lnTo>
                  <a:lnTo>
                    <a:pt x="8" y="1755"/>
                  </a:lnTo>
                  <a:lnTo>
                    <a:pt x="0" y="1785"/>
                  </a:lnTo>
                  <a:lnTo>
                    <a:pt x="23" y="1770"/>
                  </a:lnTo>
                  <a:lnTo>
                    <a:pt x="443" y="1785"/>
                  </a:lnTo>
                  <a:lnTo>
                    <a:pt x="450" y="1575"/>
                  </a:lnTo>
                  <a:lnTo>
                    <a:pt x="473" y="1538"/>
                  </a:lnTo>
                  <a:lnTo>
                    <a:pt x="488" y="1523"/>
                  </a:lnTo>
                  <a:lnTo>
                    <a:pt x="510" y="1508"/>
                  </a:lnTo>
                  <a:lnTo>
                    <a:pt x="593" y="1508"/>
                  </a:lnTo>
                  <a:lnTo>
                    <a:pt x="653" y="1193"/>
                  </a:lnTo>
                  <a:lnTo>
                    <a:pt x="1012" y="1215"/>
                  </a:lnTo>
                  <a:lnTo>
                    <a:pt x="1042" y="870"/>
                  </a:lnTo>
                  <a:lnTo>
                    <a:pt x="1057" y="870"/>
                  </a:lnTo>
                  <a:lnTo>
                    <a:pt x="1087" y="847"/>
                  </a:lnTo>
                  <a:lnTo>
                    <a:pt x="1102" y="817"/>
                  </a:lnTo>
                  <a:lnTo>
                    <a:pt x="1132" y="802"/>
                  </a:lnTo>
                  <a:lnTo>
                    <a:pt x="1162" y="795"/>
                  </a:lnTo>
                  <a:lnTo>
                    <a:pt x="1192" y="795"/>
                  </a:lnTo>
                  <a:lnTo>
                    <a:pt x="1222" y="795"/>
                  </a:lnTo>
                  <a:lnTo>
                    <a:pt x="1252" y="802"/>
                  </a:lnTo>
                  <a:lnTo>
                    <a:pt x="1282" y="795"/>
                  </a:lnTo>
                  <a:lnTo>
                    <a:pt x="1320" y="780"/>
                  </a:lnTo>
                  <a:lnTo>
                    <a:pt x="1358" y="772"/>
                  </a:lnTo>
                  <a:lnTo>
                    <a:pt x="1388" y="772"/>
                  </a:lnTo>
                  <a:lnTo>
                    <a:pt x="1418" y="780"/>
                  </a:lnTo>
                  <a:lnTo>
                    <a:pt x="1448" y="765"/>
                  </a:lnTo>
                  <a:lnTo>
                    <a:pt x="1478" y="750"/>
                  </a:lnTo>
                  <a:lnTo>
                    <a:pt x="1508" y="720"/>
                  </a:lnTo>
                  <a:lnTo>
                    <a:pt x="1538" y="705"/>
                  </a:lnTo>
                  <a:lnTo>
                    <a:pt x="1568" y="705"/>
                  </a:lnTo>
                  <a:lnTo>
                    <a:pt x="1590" y="675"/>
                  </a:lnTo>
                  <a:lnTo>
                    <a:pt x="1620" y="668"/>
                  </a:lnTo>
                  <a:lnTo>
                    <a:pt x="1650" y="653"/>
                  </a:lnTo>
                  <a:lnTo>
                    <a:pt x="1650" y="623"/>
                  </a:lnTo>
                  <a:lnTo>
                    <a:pt x="1658" y="593"/>
                  </a:lnTo>
                  <a:lnTo>
                    <a:pt x="1688" y="585"/>
                  </a:lnTo>
                  <a:lnTo>
                    <a:pt x="1718" y="585"/>
                  </a:lnTo>
                  <a:lnTo>
                    <a:pt x="1748" y="563"/>
                  </a:lnTo>
                  <a:lnTo>
                    <a:pt x="1763" y="533"/>
                  </a:lnTo>
                  <a:lnTo>
                    <a:pt x="1793" y="525"/>
                  </a:lnTo>
                  <a:lnTo>
                    <a:pt x="1830" y="525"/>
                  </a:lnTo>
                  <a:lnTo>
                    <a:pt x="1860" y="510"/>
                  </a:lnTo>
                  <a:lnTo>
                    <a:pt x="1890" y="510"/>
                  </a:lnTo>
                  <a:lnTo>
                    <a:pt x="1920" y="510"/>
                  </a:lnTo>
                  <a:lnTo>
                    <a:pt x="1950" y="488"/>
                  </a:lnTo>
                  <a:lnTo>
                    <a:pt x="1965" y="458"/>
                  </a:lnTo>
                  <a:lnTo>
                    <a:pt x="1950" y="428"/>
                  </a:lnTo>
                  <a:lnTo>
                    <a:pt x="1935" y="398"/>
                  </a:lnTo>
                  <a:lnTo>
                    <a:pt x="1928" y="360"/>
                  </a:lnTo>
                  <a:lnTo>
                    <a:pt x="1928" y="330"/>
                  </a:lnTo>
                  <a:lnTo>
                    <a:pt x="1935" y="300"/>
                  </a:lnTo>
                  <a:lnTo>
                    <a:pt x="1950" y="270"/>
                  </a:lnTo>
                  <a:lnTo>
                    <a:pt x="1943" y="240"/>
                  </a:lnTo>
                  <a:lnTo>
                    <a:pt x="1935" y="210"/>
                  </a:lnTo>
                  <a:lnTo>
                    <a:pt x="1935" y="180"/>
                  </a:lnTo>
                  <a:lnTo>
                    <a:pt x="1935" y="143"/>
                  </a:lnTo>
                  <a:lnTo>
                    <a:pt x="1913" y="1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08000" y="1721520"/>
              <a:ext cx="231480" cy="215640"/>
            </a:xfrm>
            <a:custGeom>
              <a:avLst/>
              <a:gdLst/>
              <a:ahLst/>
              <a:rect l="l" t="t" r="r" b="b"/>
              <a:pathLst>
                <a:path w="645" h="601">
                  <a:moveTo>
                    <a:pt x="600" y="285"/>
                  </a:moveTo>
                  <a:lnTo>
                    <a:pt x="585" y="315"/>
                  </a:lnTo>
                  <a:lnTo>
                    <a:pt x="600" y="345"/>
                  </a:lnTo>
                  <a:lnTo>
                    <a:pt x="607" y="375"/>
                  </a:lnTo>
                  <a:lnTo>
                    <a:pt x="585" y="405"/>
                  </a:lnTo>
                  <a:lnTo>
                    <a:pt x="585" y="435"/>
                  </a:lnTo>
                  <a:lnTo>
                    <a:pt x="615" y="450"/>
                  </a:lnTo>
                  <a:lnTo>
                    <a:pt x="637" y="480"/>
                  </a:lnTo>
                  <a:lnTo>
                    <a:pt x="637" y="510"/>
                  </a:lnTo>
                  <a:lnTo>
                    <a:pt x="637" y="540"/>
                  </a:lnTo>
                  <a:lnTo>
                    <a:pt x="644" y="570"/>
                  </a:lnTo>
                  <a:lnTo>
                    <a:pt x="615" y="592"/>
                  </a:lnTo>
                  <a:lnTo>
                    <a:pt x="585" y="600"/>
                  </a:lnTo>
                  <a:lnTo>
                    <a:pt x="547" y="600"/>
                  </a:lnTo>
                  <a:lnTo>
                    <a:pt x="517" y="592"/>
                  </a:lnTo>
                  <a:lnTo>
                    <a:pt x="487" y="577"/>
                  </a:lnTo>
                  <a:lnTo>
                    <a:pt x="457" y="570"/>
                  </a:lnTo>
                  <a:lnTo>
                    <a:pt x="427" y="540"/>
                  </a:lnTo>
                  <a:lnTo>
                    <a:pt x="397" y="532"/>
                  </a:lnTo>
                  <a:lnTo>
                    <a:pt x="367" y="532"/>
                  </a:lnTo>
                  <a:lnTo>
                    <a:pt x="337" y="532"/>
                  </a:lnTo>
                  <a:lnTo>
                    <a:pt x="307" y="525"/>
                  </a:lnTo>
                  <a:lnTo>
                    <a:pt x="277" y="517"/>
                  </a:lnTo>
                  <a:lnTo>
                    <a:pt x="247" y="517"/>
                  </a:lnTo>
                  <a:lnTo>
                    <a:pt x="217" y="517"/>
                  </a:lnTo>
                  <a:lnTo>
                    <a:pt x="194" y="547"/>
                  </a:lnTo>
                  <a:lnTo>
                    <a:pt x="164" y="562"/>
                  </a:lnTo>
                  <a:lnTo>
                    <a:pt x="134" y="547"/>
                  </a:lnTo>
                  <a:lnTo>
                    <a:pt x="104" y="562"/>
                  </a:lnTo>
                  <a:lnTo>
                    <a:pt x="97" y="592"/>
                  </a:lnTo>
                  <a:lnTo>
                    <a:pt x="67" y="592"/>
                  </a:lnTo>
                  <a:lnTo>
                    <a:pt x="52" y="562"/>
                  </a:lnTo>
                  <a:lnTo>
                    <a:pt x="82" y="547"/>
                  </a:lnTo>
                  <a:lnTo>
                    <a:pt x="59" y="517"/>
                  </a:lnTo>
                  <a:lnTo>
                    <a:pt x="59" y="487"/>
                  </a:lnTo>
                  <a:lnTo>
                    <a:pt x="59" y="450"/>
                  </a:lnTo>
                  <a:lnTo>
                    <a:pt x="52" y="420"/>
                  </a:lnTo>
                  <a:lnTo>
                    <a:pt x="82" y="405"/>
                  </a:lnTo>
                  <a:lnTo>
                    <a:pt x="82" y="375"/>
                  </a:lnTo>
                  <a:lnTo>
                    <a:pt x="74" y="345"/>
                  </a:lnTo>
                  <a:lnTo>
                    <a:pt x="67" y="315"/>
                  </a:lnTo>
                  <a:lnTo>
                    <a:pt x="59" y="285"/>
                  </a:lnTo>
                  <a:lnTo>
                    <a:pt x="52" y="255"/>
                  </a:lnTo>
                  <a:lnTo>
                    <a:pt x="22" y="247"/>
                  </a:lnTo>
                  <a:lnTo>
                    <a:pt x="0" y="217"/>
                  </a:lnTo>
                  <a:lnTo>
                    <a:pt x="30" y="202"/>
                  </a:lnTo>
                  <a:lnTo>
                    <a:pt x="59" y="202"/>
                  </a:lnTo>
                  <a:lnTo>
                    <a:pt x="89" y="172"/>
                  </a:lnTo>
                  <a:lnTo>
                    <a:pt x="112" y="142"/>
                  </a:lnTo>
                  <a:lnTo>
                    <a:pt x="127" y="112"/>
                  </a:lnTo>
                  <a:lnTo>
                    <a:pt x="134" y="82"/>
                  </a:lnTo>
                  <a:lnTo>
                    <a:pt x="134" y="52"/>
                  </a:lnTo>
                  <a:lnTo>
                    <a:pt x="149" y="22"/>
                  </a:lnTo>
                  <a:lnTo>
                    <a:pt x="179" y="22"/>
                  </a:lnTo>
                  <a:lnTo>
                    <a:pt x="209" y="22"/>
                  </a:lnTo>
                  <a:lnTo>
                    <a:pt x="239" y="22"/>
                  </a:lnTo>
                  <a:lnTo>
                    <a:pt x="269" y="7"/>
                  </a:lnTo>
                  <a:lnTo>
                    <a:pt x="299" y="7"/>
                  </a:lnTo>
                  <a:lnTo>
                    <a:pt x="329" y="0"/>
                  </a:lnTo>
                  <a:lnTo>
                    <a:pt x="359" y="7"/>
                  </a:lnTo>
                  <a:lnTo>
                    <a:pt x="389" y="22"/>
                  </a:lnTo>
                  <a:lnTo>
                    <a:pt x="419" y="52"/>
                  </a:lnTo>
                  <a:lnTo>
                    <a:pt x="449" y="67"/>
                  </a:lnTo>
                  <a:lnTo>
                    <a:pt x="479" y="82"/>
                  </a:lnTo>
                  <a:lnTo>
                    <a:pt x="487" y="112"/>
                  </a:lnTo>
                  <a:lnTo>
                    <a:pt x="487" y="142"/>
                  </a:lnTo>
                  <a:lnTo>
                    <a:pt x="510" y="172"/>
                  </a:lnTo>
                  <a:lnTo>
                    <a:pt x="532" y="202"/>
                  </a:lnTo>
                  <a:lnTo>
                    <a:pt x="547" y="232"/>
                  </a:lnTo>
                  <a:lnTo>
                    <a:pt x="562" y="262"/>
                  </a:lnTo>
                  <a:lnTo>
                    <a:pt x="592" y="270"/>
                  </a:lnTo>
                  <a:lnTo>
                    <a:pt x="600" y="2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96560" y="1911960"/>
              <a:ext cx="291600" cy="253800"/>
            </a:xfrm>
            <a:custGeom>
              <a:avLst/>
              <a:gdLst/>
              <a:ahLst/>
              <a:rect l="l" t="t" r="r" b="b"/>
              <a:pathLst>
                <a:path w="811" h="707">
                  <a:moveTo>
                    <a:pt x="435" y="75"/>
                  </a:moveTo>
                  <a:lnTo>
                    <a:pt x="465" y="75"/>
                  </a:lnTo>
                  <a:lnTo>
                    <a:pt x="472" y="105"/>
                  </a:lnTo>
                  <a:lnTo>
                    <a:pt x="502" y="83"/>
                  </a:lnTo>
                  <a:lnTo>
                    <a:pt x="532" y="68"/>
                  </a:lnTo>
                  <a:lnTo>
                    <a:pt x="562" y="75"/>
                  </a:lnTo>
                  <a:lnTo>
                    <a:pt x="592" y="83"/>
                  </a:lnTo>
                  <a:lnTo>
                    <a:pt x="622" y="68"/>
                  </a:lnTo>
                  <a:lnTo>
                    <a:pt x="660" y="45"/>
                  </a:lnTo>
                  <a:lnTo>
                    <a:pt x="690" y="53"/>
                  </a:lnTo>
                  <a:lnTo>
                    <a:pt x="697" y="83"/>
                  </a:lnTo>
                  <a:lnTo>
                    <a:pt x="697" y="113"/>
                  </a:lnTo>
                  <a:lnTo>
                    <a:pt x="705" y="143"/>
                  </a:lnTo>
                  <a:lnTo>
                    <a:pt x="720" y="173"/>
                  </a:lnTo>
                  <a:lnTo>
                    <a:pt x="712" y="203"/>
                  </a:lnTo>
                  <a:lnTo>
                    <a:pt x="712" y="233"/>
                  </a:lnTo>
                  <a:lnTo>
                    <a:pt x="742" y="256"/>
                  </a:lnTo>
                  <a:lnTo>
                    <a:pt x="750" y="286"/>
                  </a:lnTo>
                  <a:lnTo>
                    <a:pt x="757" y="316"/>
                  </a:lnTo>
                  <a:lnTo>
                    <a:pt x="772" y="346"/>
                  </a:lnTo>
                  <a:lnTo>
                    <a:pt x="757" y="376"/>
                  </a:lnTo>
                  <a:lnTo>
                    <a:pt x="757" y="406"/>
                  </a:lnTo>
                  <a:lnTo>
                    <a:pt x="772" y="436"/>
                  </a:lnTo>
                  <a:lnTo>
                    <a:pt x="787" y="466"/>
                  </a:lnTo>
                  <a:lnTo>
                    <a:pt x="772" y="496"/>
                  </a:lnTo>
                  <a:lnTo>
                    <a:pt x="780" y="526"/>
                  </a:lnTo>
                  <a:lnTo>
                    <a:pt x="810" y="556"/>
                  </a:lnTo>
                  <a:lnTo>
                    <a:pt x="802" y="586"/>
                  </a:lnTo>
                  <a:lnTo>
                    <a:pt x="772" y="563"/>
                  </a:lnTo>
                  <a:lnTo>
                    <a:pt x="742" y="571"/>
                  </a:lnTo>
                  <a:lnTo>
                    <a:pt x="750" y="601"/>
                  </a:lnTo>
                  <a:lnTo>
                    <a:pt x="750" y="631"/>
                  </a:lnTo>
                  <a:lnTo>
                    <a:pt x="750" y="661"/>
                  </a:lnTo>
                  <a:lnTo>
                    <a:pt x="720" y="661"/>
                  </a:lnTo>
                  <a:lnTo>
                    <a:pt x="690" y="646"/>
                  </a:lnTo>
                  <a:lnTo>
                    <a:pt x="682" y="676"/>
                  </a:lnTo>
                  <a:lnTo>
                    <a:pt x="660" y="706"/>
                  </a:lnTo>
                  <a:lnTo>
                    <a:pt x="630" y="698"/>
                  </a:lnTo>
                  <a:lnTo>
                    <a:pt x="600" y="683"/>
                  </a:lnTo>
                  <a:lnTo>
                    <a:pt x="600" y="653"/>
                  </a:lnTo>
                  <a:lnTo>
                    <a:pt x="600" y="623"/>
                  </a:lnTo>
                  <a:lnTo>
                    <a:pt x="600" y="593"/>
                  </a:lnTo>
                  <a:lnTo>
                    <a:pt x="600" y="563"/>
                  </a:lnTo>
                  <a:lnTo>
                    <a:pt x="570" y="541"/>
                  </a:lnTo>
                  <a:lnTo>
                    <a:pt x="540" y="548"/>
                  </a:lnTo>
                  <a:lnTo>
                    <a:pt x="510" y="571"/>
                  </a:lnTo>
                  <a:lnTo>
                    <a:pt x="480" y="586"/>
                  </a:lnTo>
                  <a:lnTo>
                    <a:pt x="450" y="563"/>
                  </a:lnTo>
                  <a:lnTo>
                    <a:pt x="457" y="533"/>
                  </a:lnTo>
                  <a:lnTo>
                    <a:pt x="450" y="503"/>
                  </a:lnTo>
                  <a:lnTo>
                    <a:pt x="420" y="496"/>
                  </a:lnTo>
                  <a:lnTo>
                    <a:pt x="442" y="466"/>
                  </a:lnTo>
                  <a:lnTo>
                    <a:pt x="435" y="436"/>
                  </a:lnTo>
                  <a:lnTo>
                    <a:pt x="427" y="406"/>
                  </a:lnTo>
                  <a:lnTo>
                    <a:pt x="405" y="376"/>
                  </a:lnTo>
                  <a:lnTo>
                    <a:pt x="375" y="346"/>
                  </a:lnTo>
                  <a:lnTo>
                    <a:pt x="345" y="346"/>
                  </a:lnTo>
                  <a:lnTo>
                    <a:pt x="315" y="361"/>
                  </a:lnTo>
                  <a:lnTo>
                    <a:pt x="285" y="361"/>
                  </a:lnTo>
                  <a:lnTo>
                    <a:pt x="255" y="383"/>
                  </a:lnTo>
                  <a:lnTo>
                    <a:pt x="232" y="413"/>
                  </a:lnTo>
                  <a:lnTo>
                    <a:pt x="202" y="443"/>
                  </a:lnTo>
                  <a:lnTo>
                    <a:pt x="158" y="495"/>
                  </a:lnTo>
                  <a:lnTo>
                    <a:pt x="150" y="443"/>
                  </a:lnTo>
                  <a:lnTo>
                    <a:pt x="142" y="413"/>
                  </a:lnTo>
                  <a:lnTo>
                    <a:pt x="112" y="383"/>
                  </a:lnTo>
                  <a:lnTo>
                    <a:pt x="82" y="361"/>
                  </a:lnTo>
                  <a:lnTo>
                    <a:pt x="52" y="338"/>
                  </a:lnTo>
                  <a:lnTo>
                    <a:pt x="22" y="316"/>
                  </a:lnTo>
                  <a:lnTo>
                    <a:pt x="7" y="286"/>
                  </a:lnTo>
                  <a:lnTo>
                    <a:pt x="22" y="256"/>
                  </a:lnTo>
                  <a:lnTo>
                    <a:pt x="0" y="225"/>
                  </a:lnTo>
                  <a:lnTo>
                    <a:pt x="0" y="195"/>
                  </a:lnTo>
                  <a:lnTo>
                    <a:pt x="15" y="165"/>
                  </a:lnTo>
                  <a:lnTo>
                    <a:pt x="45" y="143"/>
                  </a:lnTo>
                  <a:lnTo>
                    <a:pt x="75" y="135"/>
                  </a:lnTo>
                  <a:lnTo>
                    <a:pt x="105" y="128"/>
                  </a:lnTo>
                  <a:lnTo>
                    <a:pt x="135" y="105"/>
                  </a:lnTo>
                  <a:lnTo>
                    <a:pt x="135" y="75"/>
                  </a:lnTo>
                  <a:lnTo>
                    <a:pt x="135" y="45"/>
                  </a:lnTo>
                  <a:lnTo>
                    <a:pt x="150" y="15"/>
                  </a:lnTo>
                  <a:lnTo>
                    <a:pt x="150" y="0"/>
                  </a:lnTo>
                  <a:lnTo>
                    <a:pt x="180" y="8"/>
                  </a:lnTo>
                  <a:lnTo>
                    <a:pt x="210" y="38"/>
                  </a:lnTo>
                  <a:lnTo>
                    <a:pt x="240" y="45"/>
                  </a:lnTo>
                  <a:lnTo>
                    <a:pt x="270" y="60"/>
                  </a:lnTo>
                  <a:lnTo>
                    <a:pt x="300" y="68"/>
                  </a:lnTo>
                  <a:lnTo>
                    <a:pt x="338" y="68"/>
                  </a:lnTo>
                  <a:lnTo>
                    <a:pt x="368" y="60"/>
                  </a:lnTo>
                  <a:lnTo>
                    <a:pt x="397" y="38"/>
                  </a:lnTo>
                  <a:lnTo>
                    <a:pt x="435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53440" y="2037600"/>
              <a:ext cx="115560" cy="142200"/>
            </a:xfrm>
            <a:custGeom>
              <a:avLst/>
              <a:gdLst/>
              <a:ahLst/>
              <a:rect l="l" t="t" r="r" b="b"/>
              <a:pathLst>
                <a:path w="324" h="398">
                  <a:moveTo>
                    <a:pt x="315" y="255"/>
                  </a:moveTo>
                  <a:lnTo>
                    <a:pt x="308" y="285"/>
                  </a:lnTo>
                  <a:lnTo>
                    <a:pt x="285" y="315"/>
                  </a:lnTo>
                  <a:lnTo>
                    <a:pt x="270" y="345"/>
                  </a:lnTo>
                  <a:lnTo>
                    <a:pt x="240" y="360"/>
                  </a:lnTo>
                  <a:lnTo>
                    <a:pt x="211" y="360"/>
                  </a:lnTo>
                  <a:lnTo>
                    <a:pt x="188" y="390"/>
                  </a:lnTo>
                  <a:lnTo>
                    <a:pt x="158" y="397"/>
                  </a:lnTo>
                  <a:lnTo>
                    <a:pt x="121" y="375"/>
                  </a:lnTo>
                  <a:lnTo>
                    <a:pt x="91" y="360"/>
                  </a:lnTo>
                  <a:lnTo>
                    <a:pt x="91" y="330"/>
                  </a:lnTo>
                  <a:lnTo>
                    <a:pt x="60" y="307"/>
                  </a:lnTo>
                  <a:lnTo>
                    <a:pt x="38" y="277"/>
                  </a:lnTo>
                  <a:lnTo>
                    <a:pt x="30" y="247"/>
                  </a:lnTo>
                  <a:lnTo>
                    <a:pt x="38" y="217"/>
                  </a:lnTo>
                  <a:lnTo>
                    <a:pt x="23" y="187"/>
                  </a:lnTo>
                  <a:lnTo>
                    <a:pt x="0" y="150"/>
                  </a:lnTo>
                  <a:lnTo>
                    <a:pt x="15" y="127"/>
                  </a:lnTo>
                  <a:lnTo>
                    <a:pt x="45" y="97"/>
                  </a:lnTo>
                  <a:lnTo>
                    <a:pt x="75" y="67"/>
                  </a:lnTo>
                  <a:lnTo>
                    <a:pt x="98" y="37"/>
                  </a:lnTo>
                  <a:lnTo>
                    <a:pt x="128" y="15"/>
                  </a:lnTo>
                  <a:lnTo>
                    <a:pt x="158" y="15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30"/>
                  </a:lnTo>
                  <a:lnTo>
                    <a:pt x="270" y="60"/>
                  </a:lnTo>
                  <a:lnTo>
                    <a:pt x="278" y="90"/>
                  </a:lnTo>
                  <a:lnTo>
                    <a:pt x="285" y="120"/>
                  </a:lnTo>
                  <a:lnTo>
                    <a:pt x="263" y="150"/>
                  </a:lnTo>
                  <a:lnTo>
                    <a:pt x="293" y="157"/>
                  </a:lnTo>
                  <a:lnTo>
                    <a:pt x="300" y="187"/>
                  </a:lnTo>
                  <a:lnTo>
                    <a:pt x="293" y="217"/>
                  </a:lnTo>
                  <a:lnTo>
                    <a:pt x="323" y="240"/>
                  </a:lnTo>
                  <a:lnTo>
                    <a:pt x="315" y="2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21840" y="2107440"/>
              <a:ext cx="169560" cy="210600"/>
            </a:xfrm>
            <a:custGeom>
              <a:avLst/>
              <a:gdLst/>
              <a:ahLst/>
              <a:rect l="l" t="t" r="r" b="b"/>
              <a:pathLst>
                <a:path w="473" h="585">
                  <a:moveTo>
                    <a:pt x="442" y="577"/>
                  </a:moveTo>
                  <a:lnTo>
                    <a:pt x="435" y="547"/>
                  </a:lnTo>
                  <a:lnTo>
                    <a:pt x="435" y="517"/>
                  </a:lnTo>
                  <a:lnTo>
                    <a:pt x="450" y="487"/>
                  </a:lnTo>
                  <a:lnTo>
                    <a:pt x="472" y="457"/>
                  </a:lnTo>
                  <a:lnTo>
                    <a:pt x="465" y="427"/>
                  </a:lnTo>
                  <a:lnTo>
                    <a:pt x="472" y="397"/>
                  </a:lnTo>
                  <a:lnTo>
                    <a:pt x="457" y="367"/>
                  </a:lnTo>
                  <a:lnTo>
                    <a:pt x="427" y="337"/>
                  </a:lnTo>
                  <a:lnTo>
                    <a:pt x="405" y="307"/>
                  </a:lnTo>
                  <a:lnTo>
                    <a:pt x="375" y="307"/>
                  </a:lnTo>
                  <a:lnTo>
                    <a:pt x="345" y="292"/>
                  </a:lnTo>
                  <a:lnTo>
                    <a:pt x="330" y="262"/>
                  </a:lnTo>
                  <a:lnTo>
                    <a:pt x="330" y="232"/>
                  </a:lnTo>
                  <a:lnTo>
                    <a:pt x="360" y="225"/>
                  </a:lnTo>
                  <a:lnTo>
                    <a:pt x="382" y="195"/>
                  </a:lnTo>
                  <a:lnTo>
                    <a:pt x="367" y="165"/>
                  </a:lnTo>
                  <a:lnTo>
                    <a:pt x="360" y="135"/>
                  </a:lnTo>
                  <a:lnTo>
                    <a:pt x="345" y="105"/>
                  </a:lnTo>
                  <a:lnTo>
                    <a:pt x="337" y="135"/>
                  </a:lnTo>
                  <a:lnTo>
                    <a:pt x="315" y="165"/>
                  </a:lnTo>
                  <a:lnTo>
                    <a:pt x="285" y="157"/>
                  </a:lnTo>
                  <a:lnTo>
                    <a:pt x="255" y="142"/>
                  </a:lnTo>
                  <a:lnTo>
                    <a:pt x="255" y="112"/>
                  </a:lnTo>
                  <a:lnTo>
                    <a:pt x="255" y="82"/>
                  </a:lnTo>
                  <a:lnTo>
                    <a:pt x="255" y="52"/>
                  </a:lnTo>
                  <a:lnTo>
                    <a:pt x="255" y="22"/>
                  </a:lnTo>
                  <a:lnTo>
                    <a:pt x="225" y="0"/>
                  </a:lnTo>
                  <a:lnTo>
                    <a:pt x="195" y="7"/>
                  </a:lnTo>
                  <a:lnTo>
                    <a:pt x="165" y="30"/>
                  </a:lnTo>
                  <a:lnTo>
                    <a:pt x="135" y="45"/>
                  </a:lnTo>
                  <a:lnTo>
                    <a:pt x="127" y="60"/>
                  </a:lnTo>
                  <a:lnTo>
                    <a:pt x="120" y="90"/>
                  </a:lnTo>
                  <a:lnTo>
                    <a:pt x="97" y="120"/>
                  </a:lnTo>
                  <a:lnTo>
                    <a:pt x="82" y="150"/>
                  </a:lnTo>
                  <a:lnTo>
                    <a:pt x="52" y="165"/>
                  </a:lnTo>
                  <a:lnTo>
                    <a:pt x="23" y="165"/>
                  </a:lnTo>
                  <a:lnTo>
                    <a:pt x="0" y="195"/>
                  </a:lnTo>
                  <a:lnTo>
                    <a:pt x="8" y="217"/>
                  </a:lnTo>
                  <a:lnTo>
                    <a:pt x="23" y="247"/>
                  </a:lnTo>
                  <a:lnTo>
                    <a:pt x="45" y="277"/>
                  </a:lnTo>
                  <a:lnTo>
                    <a:pt x="75" y="292"/>
                  </a:lnTo>
                  <a:lnTo>
                    <a:pt x="105" y="307"/>
                  </a:lnTo>
                  <a:lnTo>
                    <a:pt x="135" y="329"/>
                  </a:lnTo>
                  <a:lnTo>
                    <a:pt x="150" y="359"/>
                  </a:lnTo>
                  <a:lnTo>
                    <a:pt x="180" y="389"/>
                  </a:lnTo>
                  <a:lnTo>
                    <a:pt x="210" y="412"/>
                  </a:lnTo>
                  <a:lnTo>
                    <a:pt x="232" y="442"/>
                  </a:lnTo>
                  <a:lnTo>
                    <a:pt x="255" y="472"/>
                  </a:lnTo>
                  <a:lnTo>
                    <a:pt x="285" y="494"/>
                  </a:lnTo>
                  <a:lnTo>
                    <a:pt x="315" y="517"/>
                  </a:lnTo>
                  <a:lnTo>
                    <a:pt x="345" y="532"/>
                  </a:lnTo>
                  <a:lnTo>
                    <a:pt x="375" y="532"/>
                  </a:lnTo>
                  <a:lnTo>
                    <a:pt x="405" y="554"/>
                  </a:lnTo>
                  <a:lnTo>
                    <a:pt x="427" y="584"/>
                  </a:lnTo>
                  <a:lnTo>
                    <a:pt x="442" y="5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8840" y="2007360"/>
              <a:ext cx="266400" cy="307440"/>
            </a:xfrm>
            <a:custGeom>
              <a:avLst/>
              <a:gdLst/>
              <a:ahLst/>
              <a:rect l="l" t="t" r="r" b="b"/>
              <a:pathLst>
                <a:path w="741" h="856">
                  <a:moveTo>
                    <a:pt x="405" y="55"/>
                  </a:moveTo>
                  <a:lnTo>
                    <a:pt x="430" y="65"/>
                  </a:lnTo>
                  <a:lnTo>
                    <a:pt x="450" y="90"/>
                  </a:lnTo>
                  <a:lnTo>
                    <a:pt x="450" y="115"/>
                  </a:lnTo>
                  <a:lnTo>
                    <a:pt x="460" y="140"/>
                  </a:lnTo>
                  <a:lnTo>
                    <a:pt x="485" y="145"/>
                  </a:lnTo>
                  <a:lnTo>
                    <a:pt x="515" y="145"/>
                  </a:lnTo>
                  <a:lnTo>
                    <a:pt x="540" y="140"/>
                  </a:lnTo>
                  <a:lnTo>
                    <a:pt x="565" y="135"/>
                  </a:lnTo>
                  <a:lnTo>
                    <a:pt x="590" y="120"/>
                  </a:lnTo>
                  <a:lnTo>
                    <a:pt x="615" y="120"/>
                  </a:lnTo>
                  <a:lnTo>
                    <a:pt x="640" y="130"/>
                  </a:lnTo>
                  <a:lnTo>
                    <a:pt x="665" y="145"/>
                  </a:lnTo>
                  <a:lnTo>
                    <a:pt x="690" y="165"/>
                  </a:lnTo>
                  <a:lnTo>
                    <a:pt x="695" y="190"/>
                  </a:lnTo>
                  <a:lnTo>
                    <a:pt x="720" y="205"/>
                  </a:lnTo>
                  <a:lnTo>
                    <a:pt x="715" y="230"/>
                  </a:lnTo>
                  <a:lnTo>
                    <a:pt x="720" y="255"/>
                  </a:lnTo>
                  <a:lnTo>
                    <a:pt x="730" y="280"/>
                  </a:lnTo>
                  <a:lnTo>
                    <a:pt x="740" y="305"/>
                  </a:lnTo>
                  <a:lnTo>
                    <a:pt x="730" y="330"/>
                  </a:lnTo>
                  <a:lnTo>
                    <a:pt x="725" y="355"/>
                  </a:lnTo>
                  <a:lnTo>
                    <a:pt x="710" y="380"/>
                  </a:lnTo>
                  <a:lnTo>
                    <a:pt x="685" y="405"/>
                  </a:lnTo>
                  <a:lnTo>
                    <a:pt x="685" y="430"/>
                  </a:lnTo>
                  <a:lnTo>
                    <a:pt x="675" y="455"/>
                  </a:lnTo>
                  <a:lnTo>
                    <a:pt x="670" y="480"/>
                  </a:lnTo>
                  <a:lnTo>
                    <a:pt x="650" y="505"/>
                  </a:lnTo>
                  <a:lnTo>
                    <a:pt x="635" y="530"/>
                  </a:lnTo>
                  <a:lnTo>
                    <a:pt x="630" y="555"/>
                  </a:lnTo>
                  <a:lnTo>
                    <a:pt x="630" y="580"/>
                  </a:lnTo>
                  <a:lnTo>
                    <a:pt x="635" y="605"/>
                  </a:lnTo>
                  <a:lnTo>
                    <a:pt x="640" y="635"/>
                  </a:lnTo>
                  <a:lnTo>
                    <a:pt x="650" y="660"/>
                  </a:lnTo>
                  <a:lnTo>
                    <a:pt x="665" y="685"/>
                  </a:lnTo>
                  <a:lnTo>
                    <a:pt x="675" y="710"/>
                  </a:lnTo>
                  <a:lnTo>
                    <a:pt x="685" y="735"/>
                  </a:lnTo>
                  <a:lnTo>
                    <a:pt x="660" y="755"/>
                  </a:lnTo>
                  <a:lnTo>
                    <a:pt x="635" y="745"/>
                  </a:lnTo>
                  <a:lnTo>
                    <a:pt x="585" y="740"/>
                  </a:lnTo>
                  <a:lnTo>
                    <a:pt x="560" y="740"/>
                  </a:lnTo>
                  <a:lnTo>
                    <a:pt x="535" y="740"/>
                  </a:lnTo>
                  <a:lnTo>
                    <a:pt x="505" y="740"/>
                  </a:lnTo>
                  <a:lnTo>
                    <a:pt x="480" y="740"/>
                  </a:lnTo>
                  <a:lnTo>
                    <a:pt x="455" y="745"/>
                  </a:lnTo>
                  <a:lnTo>
                    <a:pt x="430" y="745"/>
                  </a:lnTo>
                  <a:lnTo>
                    <a:pt x="405" y="750"/>
                  </a:lnTo>
                  <a:lnTo>
                    <a:pt x="380" y="755"/>
                  </a:lnTo>
                  <a:lnTo>
                    <a:pt x="355" y="760"/>
                  </a:lnTo>
                  <a:lnTo>
                    <a:pt x="325" y="765"/>
                  </a:lnTo>
                  <a:lnTo>
                    <a:pt x="300" y="765"/>
                  </a:lnTo>
                  <a:lnTo>
                    <a:pt x="275" y="770"/>
                  </a:lnTo>
                  <a:lnTo>
                    <a:pt x="250" y="780"/>
                  </a:lnTo>
                  <a:lnTo>
                    <a:pt x="225" y="795"/>
                  </a:lnTo>
                  <a:lnTo>
                    <a:pt x="200" y="810"/>
                  </a:lnTo>
                  <a:lnTo>
                    <a:pt x="170" y="825"/>
                  </a:lnTo>
                  <a:lnTo>
                    <a:pt x="145" y="835"/>
                  </a:lnTo>
                  <a:lnTo>
                    <a:pt x="112" y="855"/>
                  </a:lnTo>
                  <a:lnTo>
                    <a:pt x="105" y="825"/>
                  </a:lnTo>
                  <a:lnTo>
                    <a:pt x="105" y="795"/>
                  </a:lnTo>
                  <a:lnTo>
                    <a:pt x="120" y="765"/>
                  </a:lnTo>
                  <a:lnTo>
                    <a:pt x="142" y="735"/>
                  </a:lnTo>
                  <a:lnTo>
                    <a:pt x="135" y="705"/>
                  </a:lnTo>
                  <a:lnTo>
                    <a:pt x="142" y="675"/>
                  </a:lnTo>
                  <a:lnTo>
                    <a:pt x="127" y="645"/>
                  </a:lnTo>
                  <a:lnTo>
                    <a:pt x="97" y="615"/>
                  </a:lnTo>
                  <a:lnTo>
                    <a:pt x="75" y="585"/>
                  </a:lnTo>
                  <a:lnTo>
                    <a:pt x="45" y="585"/>
                  </a:lnTo>
                  <a:lnTo>
                    <a:pt x="15" y="570"/>
                  </a:lnTo>
                  <a:lnTo>
                    <a:pt x="0" y="540"/>
                  </a:lnTo>
                  <a:lnTo>
                    <a:pt x="0" y="510"/>
                  </a:lnTo>
                  <a:lnTo>
                    <a:pt x="30" y="503"/>
                  </a:lnTo>
                  <a:lnTo>
                    <a:pt x="52" y="473"/>
                  </a:lnTo>
                  <a:lnTo>
                    <a:pt x="37" y="443"/>
                  </a:lnTo>
                  <a:lnTo>
                    <a:pt x="30" y="413"/>
                  </a:lnTo>
                  <a:lnTo>
                    <a:pt x="15" y="383"/>
                  </a:lnTo>
                  <a:lnTo>
                    <a:pt x="45" y="398"/>
                  </a:lnTo>
                  <a:lnTo>
                    <a:pt x="75" y="398"/>
                  </a:lnTo>
                  <a:lnTo>
                    <a:pt x="75" y="368"/>
                  </a:lnTo>
                  <a:lnTo>
                    <a:pt x="75" y="338"/>
                  </a:lnTo>
                  <a:lnTo>
                    <a:pt x="67" y="308"/>
                  </a:lnTo>
                  <a:lnTo>
                    <a:pt x="97" y="300"/>
                  </a:lnTo>
                  <a:lnTo>
                    <a:pt x="127" y="323"/>
                  </a:lnTo>
                  <a:lnTo>
                    <a:pt x="135" y="293"/>
                  </a:lnTo>
                  <a:lnTo>
                    <a:pt x="105" y="263"/>
                  </a:lnTo>
                  <a:lnTo>
                    <a:pt x="97" y="233"/>
                  </a:lnTo>
                  <a:lnTo>
                    <a:pt x="112" y="203"/>
                  </a:lnTo>
                  <a:lnTo>
                    <a:pt x="97" y="173"/>
                  </a:lnTo>
                  <a:lnTo>
                    <a:pt x="82" y="143"/>
                  </a:lnTo>
                  <a:lnTo>
                    <a:pt x="82" y="113"/>
                  </a:lnTo>
                  <a:lnTo>
                    <a:pt x="97" y="83"/>
                  </a:lnTo>
                  <a:lnTo>
                    <a:pt x="120" y="68"/>
                  </a:lnTo>
                  <a:lnTo>
                    <a:pt x="150" y="53"/>
                  </a:lnTo>
                  <a:lnTo>
                    <a:pt x="172" y="83"/>
                  </a:lnTo>
                  <a:lnTo>
                    <a:pt x="202" y="60"/>
                  </a:lnTo>
                  <a:lnTo>
                    <a:pt x="232" y="45"/>
                  </a:lnTo>
                  <a:lnTo>
                    <a:pt x="262" y="23"/>
                  </a:lnTo>
                  <a:lnTo>
                    <a:pt x="292" y="0"/>
                  </a:lnTo>
                  <a:lnTo>
                    <a:pt x="322" y="23"/>
                  </a:lnTo>
                  <a:lnTo>
                    <a:pt x="315" y="53"/>
                  </a:lnTo>
                  <a:lnTo>
                    <a:pt x="330" y="83"/>
                  </a:lnTo>
                  <a:lnTo>
                    <a:pt x="367" y="60"/>
                  </a:lnTo>
                  <a:lnTo>
                    <a:pt x="405" y="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66000" y="2004120"/>
              <a:ext cx="190080" cy="291600"/>
            </a:xfrm>
            <a:custGeom>
              <a:avLst/>
              <a:gdLst/>
              <a:ahLst/>
              <a:rect l="l" t="t" r="r" b="b"/>
              <a:pathLst>
                <a:path w="531" h="811">
                  <a:moveTo>
                    <a:pt x="85" y="200"/>
                  </a:moveTo>
                  <a:lnTo>
                    <a:pt x="85" y="175"/>
                  </a:lnTo>
                  <a:lnTo>
                    <a:pt x="75" y="150"/>
                  </a:lnTo>
                  <a:lnTo>
                    <a:pt x="90" y="125"/>
                  </a:lnTo>
                  <a:lnTo>
                    <a:pt x="95" y="100"/>
                  </a:lnTo>
                  <a:lnTo>
                    <a:pt x="85" y="75"/>
                  </a:lnTo>
                  <a:lnTo>
                    <a:pt x="75" y="50"/>
                  </a:lnTo>
                  <a:lnTo>
                    <a:pt x="75" y="25"/>
                  </a:lnTo>
                  <a:lnTo>
                    <a:pt x="85" y="0"/>
                  </a:lnTo>
                  <a:lnTo>
                    <a:pt x="110" y="5"/>
                  </a:lnTo>
                  <a:lnTo>
                    <a:pt x="135" y="5"/>
                  </a:lnTo>
                  <a:lnTo>
                    <a:pt x="165" y="10"/>
                  </a:lnTo>
                  <a:lnTo>
                    <a:pt x="190" y="10"/>
                  </a:lnTo>
                  <a:lnTo>
                    <a:pt x="215" y="10"/>
                  </a:lnTo>
                  <a:lnTo>
                    <a:pt x="240" y="5"/>
                  </a:lnTo>
                  <a:lnTo>
                    <a:pt x="265" y="15"/>
                  </a:lnTo>
                  <a:lnTo>
                    <a:pt x="295" y="15"/>
                  </a:lnTo>
                  <a:lnTo>
                    <a:pt x="320" y="5"/>
                  </a:lnTo>
                  <a:lnTo>
                    <a:pt x="345" y="5"/>
                  </a:lnTo>
                  <a:lnTo>
                    <a:pt x="370" y="0"/>
                  </a:lnTo>
                  <a:lnTo>
                    <a:pt x="395" y="0"/>
                  </a:lnTo>
                  <a:lnTo>
                    <a:pt x="400" y="25"/>
                  </a:lnTo>
                  <a:lnTo>
                    <a:pt x="405" y="50"/>
                  </a:lnTo>
                  <a:lnTo>
                    <a:pt x="430" y="65"/>
                  </a:lnTo>
                  <a:lnTo>
                    <a:pt x="445" y="90"/>
                  </a:lnTo>
                  <a:lnTo>
                    <a:pt x="450" y="115"/>
                  </a:lnTo>
                  <a:lnTo>
                    <a:pt x="450" y="140"/>
                  </a:lnTo>
                  <a:lnTo>
                    <a:pt x="445" y="165"/>
                  </a:lnTo>
                  <a:lnTo>
                    <a:pt x="445" y="190"/>
                  </a:lnTo>
                  <a:lnTo>
                    <a:pt x="445" y="215"/>
                  </a:lnTo>
                  <a:lnTo>
                    <a:pt x="470" y="210"/>
                  </a:lnTo>
                  <a:lnTo>
                    <a:pt x="470" y="235"/>
                  </a:lnTo>
                  <a:lnTo>
                    <a:pt x="460" y="260"/>
                  </a:lnTo>
                  <a:lnTo>
                    <a:pt x="455" y="285"/>
                  </a:lnTo>
                  <a:lnTo>
                    <a:pt x="455" y="310"/>
                  </a:lnTo>
                  <a:lnTo>
                    <a:pt x="475" y="335"/>
                  </a:lnTo>
                  <a:lnTo>
                    <a:pt x="480" y="360"/>
                  </a:lnTo>
                  <a:lnTo>
                    <a:pt x="465" y="385"/>
                  </a:lnTo>
                  <a:lnTo>
                    <a:pt x="465" y="410"/>
                  </a:lnTo>
                  <a:lnTo>
                    <a:pt x="455" y="435"/>
                  </a:lnTo>
                  <a:lnTo>
                    <a:pt x="455" y="460"/>
                  </a:lnTo>
                  <a:lnTo>
                    <a:pt x="470" y="485"/>
                  </a:lnTo>
                  <a:lnTo>
                    <a:pt x="465" y="510"/>
                  </a:lnTo>
                  <a:lnTo>
                    <a:pt x="465" y="535"/>
                  </a:lnTo>
                  <a:lnTo>
                    <a:pt x="475" y="560"/>
                  </a:lnTo>
                  <a:lnTo>
                    <a:pt x="480" y="570"/>
                  </a:lnTo>
                  <a:lnTo>
                    <a:pt x="490" y="595"/>
                  </a:lnTo>
                  <a:lnTo>
                    <a:pt x="505" y="620"/>
                  </a:lnTo>
                  <a:lnTo>
                    <a:pt x="530" y="635"/>
                  </a:lnTo>
                  <a:lnTo>
                    <a:pt x="530" y="660"/>
                  </a:lnTo>
                  <a:lnTo>
                    <a:pt x="505" y="680"/>
                  </a:lnTo>
                  <a:lnTo>
                    <a:pt x="480" y="670"/>
                  </a:lnTo>
                  <a:lnTo>
                    <a:pt x="455" y="685"/>
                  </a:lnTo>
                  <a:lnTo>
                    <a:pt x="430" y="695"/>
                  </a:lnTo>
                  <a:lnTo>
                    <a:pt x="405" y="685"/>
                  </a:lnTo>
                  <a:lnTo>
                    <a:pt x="380" y="695"/>
                  </a:lnTo>
                  <a:lnTo>
                    <a:pt x="365" y="720"/>
                  </a:lnTo>
                  <a:lnTo>
                    <a:pt x="340" y="735"/>
                  </a:lnTo>
                  <a:lnTo>
                    <a:pt x="315" y="745"/>
                  </a:lnTo>
                  <a:lnTo>
                    <a:pt x="290" y="750"/>
                  </a:lnTo>
                  <a:lnTo>
                    <a:pt x="265" y="750"/>
                  </a:lnTo>
                  <a:lnTo>
                    <a:pt x="240" y="755"/>
                  </a:lnTo>
                  <a:lnTo>
                    <a:pt x="215" y="770"/>
                  </a:lnTo>
                  <a:lnTo>
                    <a:pt x="190" y="780"/>
                  </a:lnTo>
                  <a:lnTo>
                    <a:pt x="170" y="805"/>
                  </a:lnTo>
                  <a:lnTo>
                    <a:pt x="145" y="810"/>
                  </a:lnTo>
                  <a:lnTo>
                    <a:pt x="120" y="805"/>
                  </a:lnTo>
                  <a:lnTo>
                    <a:pt x="95" y="790"/>
                  </a:lnTo>
                  <a:lnTo>
                    <a:pt x="70" y="780"/>
                  </a:lnTo>
                  <a:lnTo>
                    <a:pt x="30" y="765"/>
                  </a:lnTo>
                  <a:lnTo>
                    <a:pt x="55" y="745"/>
                  </a:lnTo>
                  <a:lnTo>
                    <a:pt x="45" y="720"/>
                  </a:lnTo>
                  <a:lnTo>
                    <a:pt x="35" y="695"/>
                  </a:lnTo>
                  <a:lnTo>
                    <a:pt x="20" y="670"/>
                  </a:lnTo>
                  <a:lnTo>
                    <a:pt x="10" y="645"/>
                  </a:lnTo>
                  <a:lnTo>
                    <a:pt x="5" y="615"/>
                  </a:lnTo>
                  <a:lnTo>
                    <a:pt x="0" y="590"/>
                  </a:lnTo>
                  <a:lnTo>
                    <a:pt x="0" y="565"/>
                  </a:lnTo>
                  <a:lnTo>
                    <a:pt x="5" y="540"/>
                  </a:lnTo>
                  <a:lnTo>
                    <a:pt x="20" y="515"/>
                  </a:lnTo>
                  <a:lnTo>
                    <a:pt x="40" y="490"/>
                  </a:lnTo>
                  <a:lnTo>
                    <a:pt x="45" y="465"/>
                  </a:lnTo>
                  <a:lnTo>
                    <a:pt x="55" y="440"/>
                  </a:lnTo>
                  <a:lnTo>
                    <a:pt x="55" y="415"/>
                  </a:lnTo>
                  <a:lnTo>
                    <a:pt x="80" y="390"/>
                  </a:lnTo>
                  <a:lnTo>
                    <a:pt x="95" y="365"/>
                  </a:lnTo>
                  <a:lnTo>
                    <a:pt x="100" y="340"/>
                  </a:lnTo>
                  <a:lnTo>
                    <a:pt x="110" y="315"/>
                  </a:lnTo>
                  <a:lnTo>
                    <a:pt x="100" y="290"/>
                  </a:lnTo>
                  <a:lnTo>
                    <a:pt x="90" y="265"/>
                  </a:lnTo>
                  <a:lnTo>
                    <a:pt x="85" y="240"/>
                  </a:lnTo>
                  <a:lnTo>
                    <a:pt x="90" y="215"/>
                  </a:lnTo>
                  <a:lnTo>
                    <a:pt x="85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8400" y="1226520"/>
              <a:ext cx="526320" cy="591840"/>
            </a:xfrm>
            <a:custGeom>
              <a:avLst/>
              <a:gdLst/>
              <a:ahLst/>
              <a:rect l="l" t="t" r="r" b="b"/>
              <a:pathLst>
                <a:path w="1463" h="1646">
                  <a:moveTo>
                    <a:pt x="1054" y="0"/>
                  </a:moveTo>
                  <a:lnTo>
                    <a:pt x="1037" y="185"/>
                  </a:lnTo>
                  <a:lnTo>
                    <a:pt x="678" y="163"/>
                  </a:lnTo>
                  <a:lnTo>
                    <a:pt x="618" y="478"/>
                  </a:lnTo>
                  <a:lnTo>
                    <a:pt x="535" y="478"/>
                  </a:lnTo>
                  <a:lnTo>
                    <a:pt x="513" y="493"/>
                  </a:lnTo>
                  <a:lnTo>
                    <a:pt x="498" y="508"/>
                  </a:lnTo>
                  <a:lnTo>
                    <a:pt x="475" y="545"/>
                  </a:lnTo>
                  <a:lnTo>
                    <a:pt x="468" y="755"/>
                  </a:lnTo>
                  <a:lnTo>
                    <a:pt x="48" y="740"/>
                  </a:lnTo>
                  <a:lnTo>
                    <a:pt x="21" y="741"/>
                  </a:lnTo>
                  <a:lnTo>
                    <a:pt x="22" y="752"/>
                  </a:lnTo>
                  <a:lnTo>
                    <a:pt x="30" y="782"/>
                  </a:lnTo>
                  <a:lnTo>
                    <a:pt x="45" y="752"/>
                  </a:lnTo>
                  <a:lnTo>
                    <a:pt x="75" y="760"/>
                  </a:lnTo>
                  <a:lnTo>
                    <a:pt x="82" y="790"/>
                  </a:lnTo>
                  <a:lnTo>
                    <a:pt x="90" y="820"/>
                  </a:lnTo>
                  <a:lnTo>
                    <a:pt x="97" y="850"/>
                  </a:lnTo>
                  <a:lnTo>
                    <a:pt x="82" y="880"/>
                  </a:lnTo>
                  <a:lnTo>
                    <a:pt x="82" y="910"/>
                  </a:lnTo>
                  <a:lnTo>
                    <a:pt x="67" y="940"/>
                  </a:lnTo>
                  <a:lnTo>
                    <a:pt x="52" y="970"/>
                  </a:lnTo>
                  <a:lnTo>
                    <a:pt x="52" y="1007"/>
                  </a:lnTo>
                  <a:lnTo>
                    <a:pt x="75" y="1037"/>
                  </a:lnTo>
                  <a:lnTo>
                    <a:pt x="82" y="1067"/>
                  </a:lnTo>
                  <a:lnTo>
                    <a:pt x="67" y="1097"/>
                  </a:lnTo>
                  <a:lnTo>
                    <a:pt x="60" y="1127"/>
                  </a:lnTo>
                  <a:lnTo>
                    <a:pt x="60" y="1157"/>
                  </a:lnTo>
                  <a:lnTo>
                    <a:pt x="60" y="1187"/>
                  </a:lnTo>
                  <a:lnTo>
                    <a:pt x="52" y="1217"/>
                  </a:lnTo>
                  <a:lnTo>
                    <a:pt x="52" y="1247"/>
                  </a:lnTo>
                  <a:lnTo>
                    <a:pt x="45" y="1277"/>
                  </a:lnTo>
                  <a:lnTo>
                    <a:pt x="30" y="1307"/>
                  </a:lnTo>
                  <a:lnTo>
                    <a:pt x="22" y="1337"/>
                  </a:lnTo>
                  <a:lnTo>
                    <a:pt x="0" y="1367"/>
                  </a:lnTo>
                  <a:lnTo>
                    <a:pt x="7" y="1397"/>
                  </a:lnTo>
                  <a:lnTo>
                    <a:pt x="37" y="1397"/>
                  </a:lnTo>
                  <a:lnTo>
                    <a:pt x="67" y="1397"/>
                  </a:lnTo>
                  <a:lnTo>
                    <a:pt x="97" y="1397"/>
                  </a:lnTo>
                  <a:lnTo>
                    <a:pt x="127" y="1382"/>
                  </a:lnTo>
                  <a:lnTo>
                    <a:pt x="157" y="1382"/>
                  </a:lnTo>
                  <a:lnTo>
                    <a:pt x="187" y="1375"/>
                  </a:lnTo>
                  <a:lnTo>
                    <a:pt x="217" y="1382"/>
                  </a:lnTo>
                  <a:lnTo>
                    <a:pt x="247" y="1397"/>
                  </a:lnTo>
                  <a:lnTo>
                    <a:pt x="277" y="1427"/>
                  </a:lnTo>
                  <a:lnTo>
                    <a:pt x="307" y="1442"/>
                  </a:lnTo>
                  <a:lnTo>
                    <a:pt x="337" y="1457"/>
                  </a:lnTo>
                  <a:lnTo>
                    <a:pt x="345" y="1487"/>
                  </a:lnTo>
                  <a:lnTo>
                    <a:pt x="345" y="1517"/>
                  </a:lnTo>
                  <a:lnTo>
                    <a:pt x="368" y="1547"/>
                  </a:lnTo>
                  <a:lnTo>
                    <a:pt x="390" y="1577"/>
                  </a:lnTo>
                  <a:lnTo>
                    <a:pt x="405" y="1607"/>
                  </a:lnTo>
                  <a:lnTo>
                    <a:pt x="420" y="1637"/>
                  </a:lnTo>
                  <a:lnTo>
                    <a:pt x="450" y="1645"/>
                  </a:lnTo>
                  <a:lnTo>
                    <a:pt x="480" y="1622"/>
                  </a:lnTo>
                  <a:lnTo>
                    <a:pt x="510" y="1607"/>
                  </a:lnTo>
                  <a:lnTo>
                    <a:pt x="510" y="1577"/>
                  </a:lnTo>
                  <a:lnTo>
                    <a:pt x="525" y="1540"/>
                  </a:lnTo>
                  <a:lnTo>
                    <a:pt x="540" y="1570"/>
                  </a:lnTo>
                  <a:lnTo>
                    <a:pt x="540" y="1600"/>
                  </a:lnTo>
                  <a:lnTo>
                    <a:pt x="555" y="1570"/>
                  </a:lnTo>
                  <a:lnTo>
                    <a:pt x="592" y="1577"/>
                  </a:lnTo>
                  <a:lnTo>
                    <a:pt x="622" y="1555"/>
                  </a:lnTo>
                  <a:lnTo>
                    <a:pt x="652" y="1562"/>
                  </a:lnTo>
                  <a:lnTo>
                    <a:pt x="682" y="1555"/>
                  </a:lnTo>
                  <a:lnTo>
                    <a:pt x="712" y="1577"/>
                  </a:lnTo>
                  <a:lnTo>
                    <a:pt x="742" y="1562"/>
                  </a:lnTo>
                  <a:lnTo>
                    <a:pt x="742" y="1532"/>
                  </a:lnTo>
                  <a:lnTo>
                    <a:pt x="772" y="1532"/>
                  </a:lnTo>
                  <a:lnTo>
                    <a:pt x="802" y="1562"/>
                  </a:lnTo>
                  <a:lnTo>
                    <a:pt x="810" y="1562"/>
                  </a:lnTo>
                  <a:lnTo>
                    <a:pt x="1222" y="1577"/>
                  </a:lnTo>
                  <a:lnTo>
                    <a:pt x="1245" y="1555"/>
                  </a:lnTo>
                  <a:lnTo>
                    <a:pt x="1252" y="1532"/>
                  </a:lnTo>
                  <a:lnTo>
                    <a:pt x="1260" y="1480"/>
                  </a:lnTo>
                  <a:lnTo>
                    <a:pt x="1222" y="1457"/>
                  </a:lnTo>
                  <a:lnTo>
                    <a:pt x="1237" y="325"/>
                  </a:lnTo>
                  <a:lnTo>
                    <a:pt x="1462" y="351"/>
                  </a:lnTo>
                  <a:lnTo>
                    <a:pt x="10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18600" y="1343880"/>
              <a:ext cx="707040" cy="693720"/>
            </a:xfrm>
            <a:custGeom>
              <a:avLst/>
              <a:gdLst/>
              <a:ahLst/>
              <a:rect l="l" t="t" r="r" b="b"/>
              <a:pathLst>
                <a:path w="1967" h="1929">
                  <a:moveTo>
                    <a:pt x="457" y="1913"/>
                  </a:moveTo>
                  <a:lnTo>
                    <a:pt x="487" y="1898"/>
                  </a:lnTo>
                  <a:lnTo>
                    <a:pt x="509" y="1928"/>
                  </a:lnTo>
                  <a:lnTo>
                    <a:pt x="539" y="1905"/>
                  </a:lnTo>
                  <a:lnTo>
                    <a:pt x="569" y="1890"/>
                  </a:lnTo>
                  <a:lnTo>
                    <a:pt x="599" y="1868"/>
                  </a:lnTo>
                  <a:lnTo>
                    <a:pt x="629" y="1845"/>
                  </a:lnTo>
                  <a:lnTo>
                    <a:pt x="659" y="1868"/>
                  </a:lnTo>
                  <a:lnTo>
                    <a:pt x="652" y="1898"/>
                  </a:lnTo>
                  <a:lnTo>
                    <a:pt x="667" y="1928"/>
                  </a:lnTo>
                  <a:lnTo>
                    <a:pt x="704" y="1905"/>
                  </a:lnTo>
                  <a:lnTo>
                    <a:pt x="734" y="1875"/>
                  </a:lnTo>
                  <a:lnTo>
                    <a:pt x="742" y="1845"/>
                  </a:lnTo>
                  <a:lnTo>
                    <a:pt x="742" y="1815"/>
                  </a:lnTo>
                  <a:lnTo>
                    <a:pt x="757" y="1785"/>
                  </a:lnTo>
                  <a:lnTo>
                    <a:pt x="764" y="1755"/>
                  </a:lnTo>
                  <a:lnTo>
                    <a:pt x="779" y="1725"/>
                  </a:lnTo>
                  <a:lnTo>
                    <a:pt x="787" y="1695"/>
                  </a:lnTo>
                  <a:lnTo>
                    <a:pt x="817" y="1702"/>
                  </a:lnTo>
                  <a:lnTo>
                    <a:pt x="847" y="1702"/>
                  </a:lnTo>
                  <a:lnTo>
                    <a:pt x="869" y="1672"/>
                  </a:lnTo>
                  <a:lnTo>
                    <a:pt x="869" y="1642"/>
                  </a:lnTo>
                  <a:lnTo>
                    <a:pt x="877" y="1612"/>
                  </a:lnTo>
                  <a:lnTo>
                    <a:pt x="899" y="1582"/>
                  </a:lnTo>
                  <a:lnTo>
                    <a:pt x="907" y="1552"/>
                  </a:lnTo>
                  <a:lnTo>
                    <a:pt x="922" y="1522"/>
                  </a:lnTo>
                  <a:lnTo>
                    <a:pt x="952" y="1522"/>
                  </a:lnTo>
                  <a:lnTo>
                    <a:pt x="982" y="1545"/>
                  </a:lnTo>
                  <a:lnTo>
                    <a:pt x="1012" y="1522"/>
                  </a:lnTo>
                  <a:lnTo>
                    <a:pt x="1035" y="1492"/>
                  </a:lnTo>
                  <a:lnTo>
                    <a:pt x="1065" y="1485"/>
                  </a:lnTo>
                  <a:lnTo>
                    <a:pt x="1065" y="1455"/>
                  </a:lnTo>
                  <a:lnTo>
                    <a:pt x="1080" y="1425"/>
                  </a:lnTo>
                  <a:lnTo>
                    <a:pt x="1110" y="1432"/>
                  </a:lnTo>
                  <a:lnTo>
                    <a:pt x="1140" y="1440"/>
                  </a:lnTo>
                  <a:lnTo>
                    <a:pt x="1170" y="1425"/>
                  </a:lnTo>
                  <a:lnTo>
                    <a:pt x="1192" y="1395"/>
                  </a:lnTo>
                  <a:lnTo>
                    <a:pt x="1222" y="1372"/>
                  </a:lnTo>
                  <a:lnTo>
                    <a:pt x="1252" y="1365"/>
                  </a:lnTo>
                  <a:lnTo>
                    <a:pt x="1282" y="1365"/>
                  </a:lnTo>
                  <a:lnTo>
                    <a:pt x="1312" y="1350"/>
                  </a:lnTo>
                  <a:lnTo>
                    <a:pt x="1334" y="1320"/>
                  </a:lnTo>
                  <a:lnTo>
                    <a:pt x="1364" y="1327"/>
                  </a:lnTo>
                  <a:lnTo>
                    <a:pt x="1394" y="1327"/>
                  </a:lnTo>
                  <a:lnTo>
                    <a:pt x="1424" y="1335"/>
                  </a:lnTo>
                  <a:lnTo>
                    <a:pt x="1454" y="1342"/>
                  </a:lnTo>
                  <a:lnTo>
                    <a:pt x="1484" y="1327"/>
                  </a:lnTo>
                  <a:lnTo>
                    <a:pt x="1522" y="1320"/>
                  </a:lnTo>
                  <a:lnTo>
                    <a:pt x="1552" y="1305"/>
                  </a:lnTo>
                  <a:lnTo>
                    <a:pt x="1582" y="1305"/>
                  </a:lnTo>
                  <a:lnTo>
                    <a:pt x="1612" y="1305"/>
                  </a:lnTo>
                  <a:lnTo>
                    <a:pt x="1642" y="1305"/>
                  </a:lnTo>
                  <a:lnTo>
                    <a:pt x="1672" y="1305"/>
                  </a:lnTo>
                  <a:lnTo>
                    <a:pt x="1702" y="1312"/>
                  </a:lnTo>
                  <a:lnTo>
                    <a:pt x="1732" y="1312"/>
                  </a:lnTo>
                  <a:lnTo>
                    <a:pt x="1762" y="1312"/>
                  </a:lnTo>
                  <a:lnTo>
                    <a:pt x="1792" y="1290"/>
                  </a:lnTo>
                  <a:lnTo>
                    <a:pt x="1822" y="1290"/>
                  </a:lnTo>
                  <a:lnTo>
                    <a:pt x="1859" y="1275"/>
                  </a:lnTo>
                  <a:lnTo>
                    <a:pt x="1882" y="1245"/>
                  </a:lnTo>
                  <a:lnTo>
                    <a:pt x="1912" y="1215"/>
                  </a:lnTo>
                  <a:lnTo>
                    <a:pt x="1919" y="1207"/>
                  </a:lnTo>
                  <a:lnTo>
                    <a:pt x="1927" y="1080"/>
                  </a:lnTo>
                  <a:lnTo>
                    <a:pt x="1942" y="1065"/>
                  </a:lnTo>
                  <a:lnTo>
                    <a:pt x="1966" y="799"/>
                  </a:lnTo>
                  <a:lnTo>
                    <a:pt x="1847" y="827"/>
                  </a:lnTo>
                  <a:lnTo>
                    <a:pt x="1824" y="820"/>
                  </a:lnTo>
                  <a:lnTo>
                    <a:pt x="1817" y="805"/>
                  </a:lnTo>
                  <a:lnTo>
                    <a:pt x="1817" y="775"/>
                  </a:lnTo>
                  <a:lnTo>
                    <a:pt x="1824" y="745"/>
                  </a:lnTo>
                  <a:lnTo>
                    <a:pt x="1809" y="715"/>
                  </a:lnTo>
                  <a:lnTo>
                    <a:pt x="1787" y="685"/>
                  </a:lnTo>
                  <a:lnTo>
                    <a:pt x="1757" y="685"/>
                  </a:lnTo>
                  <a:lnTo>
                    <a:pt x="1727" y="677"/>
                  </a:lnTo>
                  <a:lnTo>
                    <a:pt x="1697" y="670"/>
                  </a:lnTo>
                  <a:lnTo>
                    <a:pt x="1667" y="640"/>
                  </a:lnTo>
                  <a:lnTo>
                    <a:pt x="1644" y="610"/>
                  </a:lnTo>
                  <a:lnTo>
                    <a:pt x="1629" y="580"/>
                  </a:lnTo>
                  <a:lnTo>
                    <a:pt x="1614" y="550"/>
                  </a:lnTo>
                  <a:lnTo>
                    <a:pt x="1592" y="513"/>
                  </a:lnTo>
                  <a:lnTo>
                    <a:pt x="1017" y="25"/>
                  </a:lnTo>
                  <a:lnTo>
                    <a:pt x="794" y="0"/>
                  </a:lnTo>
                  <a:lnTo>
                    <a:pt x="779" y="1132"/>
                  </a:lnTo>
                  <a:lnTo>
                    <a:pt x="817" y="1155"/>
                  </a:lnTo>
                  <a:lnTo>
                    <a:pt x="809" y="1207"/>
                  </a:lnTo>
                  <a:lnTo>
                    <a:pt x="802" y="1230"/>
                  </a:lnTo>
                  <a:lnTo>
                    <a:pt x="779" y="1252"/>
                  </a:lnTo>
                  <a:lnTo>
                    <a:pt x="367" y="1237"/>
                  </a:lnTo>
                  <a:lnTo>
                    <a:pt x="359" y="1237"/>
                  </a:lnTo>
                  <a:lnTo>
                    <a:pt x="329" y="1207"/>
                  </a:lnTo>
                  <a:lnTo>
                    <a:pt x="299" y="1207"/>
                  </a:lnTo>
                  <a:lnTo>
                    <a:pt x="299" y="1237"/>
                  </a:lnTo>
                  <a:lnTo>
                    <a:pt x="269" y="1252"/>
                  </a:lnTo>
                  <a:lnTo>
                    <a:pt x="239" y="1230"/>
                  </a:lnTo>
                  <a:lnTo>
                    <a:pt x="209" y="1237"/>
                  </a:lnTo>
                  <a:lnTo>
                    <a:pt x="179" y="1230"/>
                  </a:lnTo>
                  <a:lnTo>
                    <a:pt x="149" y="1252"/>
                  </a:lnTo>
                  <a:lnTo>
                    <a:pt x="112" y="1245"/>
                  </a:lnTo>
                  <a:lnTo>
                    <a:pt x="97" y="1275"/>
                  </a:lnTo>
                  <a:lnTo>
                    <a:pt x="97" y="1245"/>
                  </a:lnTo>
                  <a:lnTo>
                    <a:pt x="82" y="1215"/>
                  </a:lnTo>
                  <a:lnTo>
                    <a:pt x="67" y="1252"/>
                  </a:lnTo>
                  <a:lnTo>
                    <a:pt x="67" y="1282"/>
                  </a:lnTo>
                  <a:lnTo>
                    <a:pt x="37" y="1297"/>
                  </a:lnTo>
                  <a:lnTo>
                    <a:pt x="7" y="1320"/>
                  </a:lnTo>
                  <a:lnTo>
                    <a:pt x="15" y="1335"/>
                  </a:lnTo>
                  <a:lnTo>
                    <a:pt x="0" y="1365"/>
                  </a:lnTo>
                  <a:lnTo>
                    <a:pt x="15" y="1395"/>
                  </a:lnTo>
                  <a:lnTo>
                    <a:pt x="22" y="1425"/>
                  </a:lnTo>
                  <a:lnTo>
                    <a:pt x="0" y="1455"/>
                  </a:lnTo>
                  <a:lnTo>
                    <a:pt x="0" y="1485"/>
                  </a:lnTo>
                  <a:lnTo>
                    <a:pt x="30" y="1500"/>
                  </a:lnTo>
                  <a:lnTo>
                    <a:pt x="52" y="1530"/>
                  </a:lnTo>
                  <a:lnTo>
                    <a:pt x="52" y="1560"/>
                  </a:lnTo>
                  <a:lnTo>
                    <a:pt x="52" y="1590"/>
                  </a:lnTo>
                  <a:lnTo>
                    <a:pt x="59" y="1620"/>
                  </a:lnTo>
                  <a:lnTo>
                    <a:pt x="97" y="1657"/>
                  </a:lnTo>
                  <a:lnTo>
                    <a:pt x="127" y="1657"/>
                  </a:lnTo>
                  <a:lnTo>
                    <a:pt x="134" y="1687"/>
                  </a:lnTo>
                  <a:lnTo>
                    <a:pt x="164" y="1665"/>
                  </a:lnTo>
                  <a:lnTo>
                    <a:pt x="194" y="1650"/>
                  </a:lnTo>
                  <a:lnTo>
                    <a:pt x="224" y="1657"/>
                  </a:lnTo>
                  <a:lnTo>
                    <a:pt x="254" y="1665"/>
                  </a:lnTo>
                  <a:lnTo>
                    <a:pt x="284" y="1650"/>
                  </a:lnTo>
                  <a:lnTo>
                    <a:pt x="322" y="1627"/>
                  </a:lnTo>
                  <a:lnTo>
                    <a:pt x="352" y="1635"/>
                  </a:lnTo>
                  <a:lnTo>
                    <a:pt x="359" y="1665"/>
                  </a:lnTo>
                  <a:lnTo>
                    <a:pt x="359" y="1695"/>
                  </a:lnTo>
                  <a:lnTo>
                    <a:pt x="367" y="1725"/>
                  </a:lnTo>
                  <a:lnTo>
                    <a:pt x="382" y="1755"/>
                  </a:lnTo>
                  <a:lnTo>
                    <a:pt x="374" y="1785"/>
                  </a:lnTo>
                  <a:lnTo>
                    <a:pt x="374" y="1815"/>
                  </a:lnTo>
                  <a:lnTo>
                    <a:pt x="404" y="1838"/>
                  </a:lnTo>
                  <a:lnTo>
                    <a:pt x="412" y="1868"/>
                  </a:lnTo>
                  <a:lnTo>
                    <a:pt x="419" y="1898"/>
                  </a:lnTo>
                  <a:lnTo>
                    <a:pt x="434" y="1928"/>
                  </a:lnTo>
                  <a:lnTo>
                    <a:pt x="457" y="191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08560" y="2004120"/>
              <a:ext cx="83880" cy="232920"/>
            </a:xfrm>
            <a:custGeom>
              <a:avLst/>
              <a:gdLst/>
              <a:ahLst/>
              <a:rect l="l" t="t" r="r" b="b"/>
              <a:pathLst>
                <a:path w="233" h="648">
                  <a:moveTo>
                    <a:pt x="12" y="2"/>
                  </a:moveTo>
                  <a:lnTo>
                    <a:pt x="37" y="7"/>
                  </a:lnTo>
                  <a:lnTo>
                    <a:pt x="62" y="7"/>
                  </a:lnTo>
                  <a:lnTo>
                    <a:pt x="87" y="7"/>
                  </a:lnTo>
                  <a:lnTo>
                    <a:pt x="112" y="7"/>
                  </a:lnTo>
                  <a:lnTo>
                    <a:pt x="137" y="12"/>
                  </a:lnTo>
                  <a:lnTo>
                    <a:pt x="137" y="37"/>
                  </a:lnTo>
                  <a:lnTo>
                    <a:pt x="122" y="62"/>
                  </a:lnTo>
                  <a:lnTo>
                    <a:pt x="127" y="87"/>
                  </a:lnTo>
                  <a:lnTo>
                    <a:pt x="147" y="112"/>
                  </a:lnTo>
                  <a:lnTo>
                    <a:pt x="167" y="137"/>
                  </a:lnTo>
                  <a:lnTo>
                    <a:pt x="177" y="162"/>
                  </a:lnTo>
                  <a:lnTo>
                    <a:pt x="182" y="187"/>
                  </a:lnTo>
                  <a:lnTo>
                    <a:pt x="177" y="212"/>
                  </a:lnTo>
                  <a:lnTo>
                    <a:pt x="192" y="237"/>
                  </a:lnTo>
                  <a:lnTo>
                    <a:pt x="207" y="262"/>
                  </a:lnTo>
                  <a:lnTo>
                    <a:pt x="212" y="287"/>
                  </a:lnTo>
                  <a:lnTo>
                    <a:pt x="212" y="317"/>
                  </a:lnTo>
                  <a:lnTo>
                    <a:pt x="212" y="342"/>
                  </a:lnTo>
                  <a:lnTo>
                    <a:pt x="212" y="367"/>
                  </a:lnTo>
                  <a:lnTo>
                    <a:pt x="212" y="392"/>
                  </a:lnTo>
                  <a:lnTo>
                    <a:pt x="212" y="417"/>
                  </a:lnTo>
                  <a:lnTo>
                    <a:pt x="212" y="447"/>
                  </a:lnTo>
                  <a:lnTo>
                    <a:pt x="212" y="472"/>
                  </a:lnTo>
                  <a:lnTo>
                    <a:pt x="212" y="497"/>
                  </a:lnTo>
                  <a:lnTo>
                    <a:pt x="212" y="522"/>
                  </a:lnTo>
                  <a:lnTo>
                    <a:pt x="207" y="547"/>
                  </a:lnTo>
                  <a:lnTo>
                    <a:pt x="202" y="572"/>
                  </a:lnTo>
                  <a:lnTo>
                    <a:pt x="212" y="597"/>
                  </a:lnTo>
                  <a:lnTo>
                    <a:pt x="232" y="622"/>
                  </a:lnTo>
                  <a:lnTo>
                    <a:pt x="202" y="632"/>
                  </a:lnTo>
                  <a:lnTo>
                    <a:pt x="172" y="637"/>
                  </a:lnTo>
                  <a:lnTo>
                    <a:pt x="147" y="647"/>
                  </a:lnTo>
                  <a:lnTo>
                    <a:pt x="135" y="635"/>
                  </a:lnTo>
                  <a:lnTo>
                    <a:pt x="110" y="620"/>
                  </a:lnTo>
                  <a:lnTo>
                    <a:pt x="95" y="595"/>
                  </a:lnTo>
                  <a:lnTo>
                    <a:pt x="85" y="570"/>
                  </a:lnTo>
                  <a:lnTo>
                    <a:pt x="80" y="560"/>
                  </a:lnTo>
                  <a:lnTo>
                    <a:pt x="70" y="535"/>
                  </a:lnTo>
                  <a:lnTo>
                    <a:pt x="70" y="510"/>
                  </a:lnTo>
                  <a:lnTo>
                    <a:pt x="75" y="485"/>
                  </a:lnTo>
                  <a:lnTo>
                    <a:pt x="60" y="460"/>
                  </a:lnTo>
                  <a:lnTo>
                    <a:pt x="60" y="435"/>
                  </a:lnTo>
                  <a:lnTo>
                    <a:pt x="70" y="410"/>
                  </a:lnTo>
                  <a:lnTo>
                    <a:pt x="70" y="385"/>
                  </a:lnTo>
                  <a:lnTo>
                    <a:pt x="85" y="360"/>
                  </a:lnTo>
                  <a:lnTo>
                    <a:pt x="80" y="335"/>
                  </a:lnTo>
                  <a:lnTo>
                    <a:pt x="60" y="310"/>
                  </a:lnTo>
                  <a:lnTo>
                    <a:pt x="60" y="285"/>
                  </a:lnTo>
                  <a:lnTo>
                    <a:pt x="65" y="260"/>
                  </a:lnTo>
                  <a:lnTo>
                    <a:pt x="75" y="235"/>
                  </a:lnTo>
                  <a:lnTo>
                    <a:pt x="75" y="210"/>
                  </a:lnTo>
                  <a:lnTo>
                    <a:pt x="50" y="215"/>
                  </a:lnTo>
                  <a:lnTo>
                    <a:pt x="50" y="190"/>
                  </a:lnTo>
                  <a:lnTo>
                    <a:pt x="50" y="165"/>
                  </a:lnTo>
                  <a:lnTo>
                    <a:pt x="55" y="140"/>
                  </a:lnTo>
                  <a:lnTo>
                    <a:pt x="55" y="115"/>
                  </a:lnTo>
                  <a:lnTo>
                    <a:pt x="50" y="90"/>
                  </a:lnTo>
                  <a:lnTo>
                    <a:pt x="35" y="65"/>
                  </a:lnTo>
                  <a:lnTo>
                    <a:pt x="10" y="50"/>
                  </a:lnTo>
                  <a:lnTo>
                    <a:pt x="5" y="25"/>
                  </a:lnTo>
                  <a:lnTo>
                    <a:pt x="0" y="0"/>
                  </a:lnTo>
                  <a:lnTo>
                    <a:pt x="1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72400" y="1818360"/>
              <a:ext cx="343800" cy="263160"/>
            </a:xfrm>
            <a:custGeom>
              <a:avLst/>
              <a:gdLst/>
              <a:ahLst/>
              <a:rect l="l" t="t" r="r" b="b"/>
              <a:pathLst>
                <a:path w="956" h="731">
                  <a:moveTo>
                    <a:pt x="810" y="517"/>
                  </a:moveTo>
                  <a:lnTo>
                    <a:pt x="830" y="492"/>
                  </a:lnTo>
                  <a:lnTo>
                    <a:pt x="855" y="477"/>
                  </a:lnTo>
                  <a:lnTo>
                    <a:pt x="885" y="472"/>
                  </a:lnTo>
                  <a:lnTo>
                    <a:pt x="910" y="472"/>
                  </a:lnTo>
                  <a:lnTo>
                    <a:pt x="935" y="452"/>
                  </a:lnTo>
                  <a:lnTo>
                    <a:pt x="955" y="427"/>
                  </a:lnTo>
                  <a:lnTo>
                    <a:pt x="945" y="402"/>
                  </a:lnTo>
                  <a:lnTo>
                    <a:pt x="940" y="377"/>
                  </a:lnTo>
                  <a:lnTo>
                    <a:pt x="940" y="352"/>
                  </a:lnTo>
                  <a:lnTo>
                    <a:pt x="945" y="327"/>
                  </a:lnTo>
                  <a:lnTo>
                    <a:pt x="920" y="307"/>
                  </a:lnTo>
                  <a:lnTo>
                    <a:pt x="895" y="297"/>
                  </a:lnTo>
                  <a:lnTo>
                    <a:pt x="870" y="282"/>
                  </a:lnTo>
                  <a:lnTo>
                    <a:pt x="845" y="277"/>
                  </a:lnTo>
                  <a:lnTo>
                    <a:pt x="820" y="262"/>
                  </a:lnTo>
                  <a:lnTo>
                    <a:pt x="795" y="247"/>
                  </a:lnTo>
                  <a:lnTo>
                    <a:pt x="790" y="222"/>
                  </a:lnTo>
                  <a:lnTo>
                    <a:pt x="795" y="197"/>
                  </a:lnTo>
                  <a:lnTo>
                    <a:pt x="775" y="172"/>
                  </a:lnTo>
                  <a:lnTo>
                    <a:pt x="755" y="147"/>
                  </a:lnTo>
                  <a:lnTo>
                    <a:pt x="740" y="122"/>
                  </a:lnTo>
                  <a:lnTo>
                    <a:pt x="735" y="97"/>
                  </a:lnTo>
                  <a:lnTo>
                    <a:pt x="735" y="72"/>
                  </a:lnTo>
                  <a:lnTo>
                    <a:pt x="735" y="47"/>
                  </a:lnTo>
                  <a:lnTo>
                    <a:pt x="720" y="15"/>
                  </a:lnTo>
                  <a:lnTo>
                    <a:pt x="690" y="7"/>
                  </a:lnTo>
                  <a:lnTo>
                    <a:pt x="660" y="7"/>
                  </a:lnTo>
                  <a:lnTo>
                    <a:pt x="630" y="0"/>
                  </a:lnTo>
                  <a:lnTo>
                    <a:pt x="608" y="30"/>
                  </a:lnTo>
                  <a:lnTo>
                    <a:pt x="578" y="45"/>
                  </a:lnTo>
                  <a:lnTo>
                    <a:pt x="548" y="45"/>
                  </a:lnTo>
                  <a:lnTo>
                    <a:pt x="518" y="52"/>
                  </a:lnTo>
                  <a:lnTo>
                    <a:pt x="488" y="75"/>
                  </a:lnTo>
                  <a:lnTo>
                    <a:pt x="466" y="105"/>
                  </a:lnTo>
                  <a:lnTo>
                    <a:pt x="436" y="120"/>
                  </a:lnTo>
                  <a:lnTo>
                    <a:pt x="406" y="112"/>
                  </a:lnTo>
                  <a:lnTo>
                    <a:pt x="376" y="105"/>
                  </a:lnTo>
                  <a:lnTo>
                    <a:pt x="361" y="135"/>
                  </a:lnTo>
                  <a:lnTo>
                    <a:pt x="361" y="165"/>
                  </a:lnTo>
                  <a:lnTo>
                    <a:pt x="331" y="172"/>
                  </a:lnTo>
                  <a:lnTo>
                    <a:pt x="308" y="202"/>
                  </a:lnTo>
                  <a:lnTo>
                    <a:pt x="278" y="225"/>
                  </a:lnTo>
                  <a:lnTo>
                    <a:pt x="248" y="202"/>
                  </a:lnTo>
                  <a:lnTo>
                    <a:pt x="218" y="202"/>
                  </a:lnTo>
                  <a:lnTo>
                    <a:pt x="203" y="232"/>
                  </a:lnTo>
                  <a:lnTo>
                    <a:pt x="195" y="262"/>
                  </a:lnTo>
                  <a:lnTo>
                    <a:pt x="173" y="292"/>
                  </a:lnTo>
                  <a:lnTo>
                    <a:pt x="165" y="322"/>
                  </a:lnTo>
                  <a:lnTo>
                    <a:pt x="165" y="352"/>
                  </a:lnTo>
                  <a:lnTo>
                    <a:pt x="143" y="382"/>
                  </a:lnTo>
                  <a:lnTo>
                    <a:pt x="113" y="382"/>
                  </a:lnTo>
                  <a:lnTo>
                    <a:pt x="83" y="375"/>
                  </a:lnTo>
                  <a:lnTo>
                    <a:pt x="75" y="405"/>
                  </a:lnTo>
                  <a:lnTo>
                    <a:pt x="60" y="435"/>
                  </a:lnTo>
                  <a:lnTo>
                    <a:pt x="53" y="465"/>
                  </a:lnTo>
                  <a:lnTo>
                    <a:pt x="38" y="495"/>
                  </a:lnTo>
                  <a:lnTo>
                    <a:pt x="38" y="525"/>
                  </a:lnTo>
                  <a:lnTo>
                    <a:pt x="30" y="555"/>
                  </a:lnTo>
                  <a:lnTo>
                    <a:pt x="0" y="585"/>
                  </a:lnTo>
                  <a:lnTo>
                    <a:pt x="38" y="580"/>
                  </a:lnTo>
                  <a:lnTo>
                    <a:pt x="63" y="590"/>
                  </a:lnTo>
                  <a:lnTo>
                    <a:pt x="83" y="615"/>
                  </a:lnTo>
                  <a:lnTo>
                    <a:pt x="83" y="640"/>
                  </a:lnTo>
                  <a:lnTo>
                    <a:pt x="93" y="665"/>
                  </a:lnTo>
                  <a:lnTo>
                    <a:pt x="118" y="670"/>
                  </a:lnTo>
                  <a:lnTo>
                    <a:pt x="148" y="670"/>
                  </a:lnTo>
                  <a:lnTo>
                    <a:pt x="173" y="665"/>
                  </a:lnTo>
                  <a:lnTo>
                    <a:pt x="198" y="660"/>
                  </a:lnTo>
                  <a:lnTo>
                    <a:pt x="223" y="645"/>
                  </a:lnTo>
                  <a:lnTo>
                    <a:pt x="248" y="645"/>
                  </a:lnTo>
                  <a:lnTo>
                    <a:pt x="273" y="655"/>
                  </a:lnTo>
                  <a:lnTo>
                    <a:pt x="298" y="670"/>
                  </a:lnTo>
                  <a:lnTo>
                    <a:pt x="323" y="690"/>
                  </a:lnTo>
                  <a:lnTo>
                    <a:pt x="328" y="715"/>
                  </a:lnTo>
                  <a:lnTo>
                    <a:pt x="353" y="730"/>
                  </a:lnTo>
                  <a:lnTo>
                    <a:pt x="348" y="715"/>
                  </a:lnTo>
                  <a:lnTo>
                    <a:pt x="348" y="690"/>
                  </a:lnTo>
                  <a:lnTo>
                    <a:pt x="338" y="665"/>
                  </a:lnTo>
                  <a:lnTo>
                    <a:pt x="353" y="640"/>
                  </a:lnTo>
                  <a:lnTo>
                    <a:pt x="358" y="615"/>
                  </a:lnTo>
                  <a:lnTo>
                    <a:pt x="348" y="590"/>
                  </a:lnTo>
                  <a:lnTo>
                    <a:pt x="338" y="565"/>
                  </a:lnTo>
                  <a:lnTo>
                    <a:pt x="338" y="540"/>
                  </a:lnTo>
                  <a:lnTo>
                    <a:pt x="348" y="515"/>
                  </a:lnTo>
                  <a:lnTo>
                    <a:pt x="373" y="520"/>
                  </a:lnTo>
                  <a:lnTo>
                    <a:pt x="398" y="520"/>
                  </a:lnTo>
                  <a:lnTo>
                    <a:pt x="428" y="525"/>
                  </a:lnTo>
                  <a:lnTo>
                    <a:pt x="453" y="525"/>
                  </a:lnTo>
                  <a:lnTo>
                    <a:pt x="478" y="525"/>
                  </a:lnTo>
                  <a:lnTo>
                    <a:pt x="503" y="520"/>
                  </a:lnTo>
                  <a:lnTo>
                    <a:pt x="528" y="530"/>
                  </a:lnTo>
                  <a:lnTo>
                    <a:pt x="558" y="530"/>
                  </a:lnTo>
                  <a:lnTo>
                    <a:pt x="583" y="520"/>
                  </a:lnTo>
                  <a:lnTo>
                    <a:pt x="608" y="520"/>
                  </a:lnTo>
                  <a:lnTo>
                    <a:pt x="633" y="515"/>
                  </a:lnTo>
                  <a:lnTo>
                    <a:pt x="658" y="515"/>
                  </a:lnTo>
                  <a:lnTo>
                    <a:pt x="670" y="517"/>
                  </a:lnTo>
                  <a:lnTo>
                    <a:pt x="695" y="522"/>
                  </a:lnTo>
                  <a:lnTo>
                    <a:pt x="720" y="522"/>
                  </a:lnTo>
                  <a:lnTo>
                    <a:pt x="745" y="522"/>
                  </a:lnTo>
                  <a:lnTo>
                    <a:pt x="770" y="522"/>
                  </a:lnTo>
                  <a:lnTo>
                    <a:pt x="795" y="527"/>
                  </a:lnTo>
                  <a:lnTo>
                    <a:pt x="810" y="5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1400" y="1948680"/>
              <a:ext cx="129600" cy="279000"/>
            </a:xfrm>
            <a:custGeom>
              <a:avLst/>
              <a:gdLst/>
              <a:ahLst/>
              <a:rect l="l" t="t" r="r" b="b"/>
              <a:pathLst>
                <a:path w="361" h="776">
                  <a:moveTo>
                    <a:pt x="190" y="45"/>
                  </a:moveTo>
                  <a:lnTo>
                    <a:pt x="210" y="20"/>
                  </a:lnTo>
                  <a:lnTo>
                    <a:pt x="235" y="0"/>
                  </a:lnTo>
                  <a:lnTo>
                    <a:pt x="260" y="0"/>
                  </a:lnTo>
                  <a:lnTo>
                    <a:pt x="280" y="25"/>
                  </a:lnTo>
                  <a:lnTo>
                    <a:pt x="300" y="50"/>
                  </a:lnTo>
                  <a:lnTo>
                    <a:pt x="325" y="70"/>
                  </a:lnTo>
                  <a:lnTo>
                    <a:pt x="340" y="95"/>
                  </a:lnTo>
                  <a:lnTo>
                    <a:pt x="320" y="120"/>
                  </a:lnTo>
                  <a:lnTo>
                    <a:pt x="330" y="145"/>
                  </a:lnTo>
                  <a:lnTo>
                    <a:pt x="345" y="170"/>
                  </a:lnTo>
                  <a:lnTo>
                    <a:pt x="355" y="195"/>
                  </a:lnTo>
                  <a:lnTo>
                    <a:pt x="360" y="220"/>
                  </a:lnTo>
                  <a:lnTo>
                    <a:pt x="355" y="245"/>
                  </a:lnTo>
                  <a:lnTo>
                    <a:pt x="330" y="260"/>
                  </a:lnTo>
                  <a:lnTo>
                    <a:pt x="325" y="285"/>
                  </a:lnTo>
                  <a:lnTo>
                    <a:pt x="330" y="310"/>
                  </a:lnTo>
                  <a:lnTo>
                    <a:pt x="305" y="335"/>
                  </a:lnTo>
                  <a:lnTo>
                    <a:pt x="290" y="360"/>
                  </a:lnTo>
                  <a:lnTo>
                    <a:pt x="280" y="385"/>
                  </a:lnTo>
                  <a:lnTo>
                    <a:pt x="270" y="410"/>
                  </a:lnTo>
                  <a:lnTo>
                    <a:pt x="245" y="415"/>
                  </a:lnTo>
                  <a:lnTo>
                    <a:pt x="220" y="435"/>
                  </a:lnTo>
                  <a:lnTo>
                    <a:pt x="215" y="460"/>
                  </a:lnTo>
                  <a:lnTo>
                    <a:pt x="210" y="490"/>
                  </a:lnTo>
                  <a:lnTo>
                    <a:pt x="210" y="520"/>
                  </a:lnTo>
                  <a:lnTo>
                    <a:pt x="210" y="550"/>
                  </a:lnTo>
                  <a:lnTo>
                    <a:pt x="215" y="575"/>
                  </a:lnTo>
                  <a:lnTo>
                    <a:pt x="210" y="600"/>
                  </a:lnTo>
                  <a:lnTo>
                    <a:pt x="210" y="625"/>
                  </a:lnTo>
                  <a:lnTo>
                    <a:pt x="210" y="650"/>
                  </a:lnTo>
                  <a:lnTo>
                    <a:pt x="210" y="675"/>
                  </a:lnTo>
                  <a:lnTo>
                    <a:pt x="210" y="705"/>
                  </a:lnTo>
                  <a:lnTo>
                    <a:pt x="210" y="730"/>
                  </a:lnTo>
                  <a:lnTo>
                    <a:pt x="210" y="755"/>
                  </a:lnTo>
                  <a:lnTo>
                    <a:pt x="180" y="765"/>
                  </a:lnTo>
                  <a:lnTo>
                    <a:pt x="155" y="765"/>
                  </a:lnTo>
                  <a:lnTo>
                    <a:pt x="130" y="775"/>
                  </a:lnTo>
                  <a:lnTo>
                    <a:pt x="110" y="775"/>
                  </a:lnTo>
                  <a:lnTo>
                    <a:pt x="90" y="750"/>
                  </a:lnTo>
                  <a:lnTo>
                    <a:pt x="80" y="725"/>
                  </a:lnTo>
                  <a:lnTo>
                    <a:pt x="85" y="700"/>
                  </a:lnTo>
                  <a:lnTo>
                    <a:pt x="90" y="675"/>
                  </a:lnTo>
                  <a:lnTo>
                    <a:pt x="90" y="650"/>
                  </a:lnTo>
                  <a:lnTo>
                    <a:pt x="90" y="625"/>
                  </a:lnTo>
                  <a:lnTo>
                    <a:pt x="90" y="600"/>
                  </a:lnTo>
                  <a:lnTo>
                    <a:pt x="90" y="570"/>
                  </a:lnTo>
                  <a:lnTo>
                    <a:pt x="90" y="545"/>
                  </a:lnTo>
                  <a:lnTo>
                    <a:pt x="90" y="520"/>
                  </a:lnTo>
                  <a:lnTo>
                    <a:pt x="90" y="495"/>
                  </a:lnTo>
                  <a:lnTo>
                    <a:pt x="90" y="470"/>
                  </a:lnTo>
                  <a:lnTo>
                    <a:pt x="90" y="440"/>
                  </a:lnTo>
                  <a:lnTo>
                    <a:pt x="85" y="415"/>
                  </a:lnTo>
                  <a:lnTo>
                    <a:pt x="70" y="390"/>
                  </a:lnTo>
                  <a:lnTo>
                    <a:pt x="55" y="365"/>
                  </a:lnTo>
                  <a:lnTo>
                    <a:pt x="60" y="340"/>
                  </a:lnTo>
                  <a:lnTo>
                    <a:pt x="55" y="315"/>
                  </a:lnTo>
                  <a:lnTo>
                    <a:pt x="45" y="290"/>
                  </a:lnTo>
                  <a:lnTo>
                    <a:pt x="25" y="265"/>
                  </a:lnTo>
                  <a:lnTo>
                    <a:pt x="5" y="240"/>
                  </a:lnTo>
                  <a:lnTo>
                    <a:pt x="0" y="215"/>
                  </a:lnTo>
                  <a:lnTo>
                    <a:pt x="15" y="190"/>
                  </a:lnTo>
                  <a:lnTo>
                    <a:pt x="15" y="165"/>
                  </a:lnTo>
                  <a:lnTo>
                    <a:pt x="30" y="155"/>
                  </a:lnTo>
                  <a:lnTo>
                    <a:pt x="50" y="130"/>
                  </a:lnTo>
                  <a:lnTo>
                    <a:pt x="75" y="115"/>
                  </a:lnTo>
                  <a:lnTo>
                    <a:pt x="105" y="110"/>
                  </a:lnTo>
                  <a:lnTo>
                    <a:pt x="130" y="110"/>
                  </a:lnTo>
                  <a:lnTo>
                    <a:pt x="155" y="90"/>
                  </a:lnTo>
                  <a:lnTo>
                    <a:pt x="175" y="65"/>
                  </a:lnTo>
                  <a:lnTo>
                    <a:pt x="190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30880" y="1439280"/>
              <a:ext cx="697320" cy="534600"/>
            </a:xfrm>
            <a:custGeom>
              <a:avLst/>
              <a:gdLst/>
              <a:ahLst/>
              <a:rect l="l" t="t" r="r" b="b"/>
              <a:pathLst>
                <a:path w="1941" h="1488">
                  <a:moveTo>
                    <a:pt x="395" y="1487"/>
                  </a:moveTo>
                  <a:lnTo>
                    <a:pt x="395" y="1462"/>
                  </a:lnTo>
                  <a:lnTo>
                    <a:pt x="400" y="1437"/>
                  </a:lnTo>
                  <a:lnTo>
                    <a:pt x="405" y="1412"/>
                  </a:lnTo>
                  <a:lnTo>
                    <a:pt x="415" y="1387"/>
                  </a:lnTo>
                  <a:lnTo>
                    <a:pt x="435" y="1362"/>
                  </a:lnTo>
                  <a:lnTo>
                    <a:pt x="460" y="1342"/>
                  </a:lnTo>
                  <a:lnTo>
                    <a:pt x="475" y="1317"/>
                  </a:lnTo>
                  <a:lnTo>
                    <a:pt x="475" y="1292"/>
                  </a:lnTo>
                  <a:lnTo>
                    <a:pt x="475" y="1267"/>
                  </a:lnTo>
                  <a:lnTo>
                    <a:pt x="485" y="1242"/>
                  </a:lnTo>
                  <a:lnTo>
                    <a:pt x="515" y="1237"/>
                  </a:lnTo>
                  <a:lnTo>
                    <a:pt x="545" y="1237"/>
                  </a:lnTo>
                  <a:lnTo>
                    <a:pt x="575" y="1242"/>
                  </a:lnTo>
                  <a:lnTo>
                    <a:pt x="600" y="1242"/>
                  </a:lnTo>
                  <a:lnTo>
                    <a:pt x="610" y="1217"/>
                  </a:lnTo>
                  <a:lnTo>
                    <a:pt x="635" y="1227"/>
                  </a:lnTo>
                  <a:lnTo>
                    <a:pt x="660" y="1242"/>
                  </a:lnTo>
                  <a:lnTo>
                    <a:pt x="685" y="1247"/>
                  </a:lnTo>
                  <a:lnTo>
                    <a:pt x="710" y="1252"/>
                  </a:lnTo>
                  <a:lnTo>
                    <a:pt x="735" y="1267"/>
                  </a:lnTo>
                  <a:lnTo>
                    <a:pt x="760" y="1277"/>
                  </a:lnTo>
                  <a:lnTo>
                    <a:pt x="785" y="1292"/>
                  </a:lnTo>
                  <a:lnTo>
                    <a:pt x="810" y="1317"/>
                  </a:lnTo>
                  <a:lnTo>
                    <a:pt x="835" y="1322"/>
                  </a:lnTo>
                  <a:lnTo>
                    <a:pt x="860" y="1322"/>
                  </a:lnTo>
                  <a:lnTo>
                    <a:pt x="885" y="1302"/>
                  </a:lnTo>
                  <a:lnTo>
                    <a:pt x="915" y="1297"/>
                  </a:lnTo>
                  <a:lnTo>
                    <a:pt x="940" y="1297"/>
                  </a:lnTo>
                  <a:lnTo>
                    <a:pt x="965" y="1302"/>
                  </a:lnTo>
                  <a:lnTo>
                    <a:pt x="990" y="1322"/>
                  </a:lnTo>
                  <a:lnTo>
                    <a:pt x="1015" y="1342"/>
                  </a:lnTo>
                  <a:lnTo>
                    <a:pt x="1040" y="1362"/>
                  </a:lnTo>
                  <a:lnTo>
                    <a:pt x="1065" y="1372"/>
                  </a:lnTo>
                  <a:lnTo>
                    <a:pt x="1090" y="1372"/>
                  </a:lnTo>
                  <a:lnTo>
                    <a:pt x="1115" y="1372"/>
                  </a:lnTo>
                  <a:lnTo>
                    <a:pt x="1140" y="1367"/>
                  </a:lnTo>
                  <a:lnTo>
                    <a:pt x="1165" y="1347"/>
                  </a:lnTo>
                  <a:lnTo>
                    <a:pt x="1190" y="1327"/>
                  </a:lnTo>
                  <a:lnTo>
                    <a:pt x="1215" y="1312"/>
                  </a:lnTo>
                  <a:lnTo>
                    <a:pt x="1240" y="1312"/>
                  </a:lnTo>
                  <a:lnTo>
                    <a:pt x="1270" y="1312"/>
                  </a:lnTo>
                  <a:lnTo>
                    <a:pt x="1295" y="1312"/>
                  </a:lnTo>
                  <a:lnTo>
                    <a:pt x="1320" y="1312"/>
                  </a:lnTo>
                  <a:lnTo>
                    <a:pt x="1350" y="1312"/>
                  </a:lnTo>
                  <a:lnTo>
                    <a:pt x="1380" y="1307"/>
                  </a:lnTo>
                  <a:lnTo>
                    <a:pt x="1405" y="1307"/>
                  </a:lnTo>
                  <a:lnTo>
                    <a:pt x="1430" y="1317"/>
                  </a:lnTo>
                  <a:lnTo>
                    <a:pt x="1455" y="1337"/>
                  </a:lnTo>
                  <a:lnTo>
                    <a:pt x="1480" y="1342"/>
                  </a:lnTo>
                  <a:lnTo>
                    <a:pt x="1505" y="1332"/>
                  </a:lnTo>
                  <a:lnTo>
                    <a:pt x="1510" y="1307"/>
                  </a:lnTo>
                  <a:lnTo>
                    <a:pt x="1535" y="1287"/>
                  </a:lnTo>
                  <a:lnTo>
                    <a:pt x="1560" y="1277"/>
                  </a:lnTo>
                  <a:lnTo>
                    <a:pt x="1585" y="1267"/>
                  </a:lnTo>
                  <a:lnTo>
                    <a:pt x="1610" y="1247"/>
                  </a:lnTo>
                  <a:lnTo>
                    <a:pt x="1635" y="1237"/>
                  </a:lnTo>
                  <a:lnTo>
                    <a:pt x="1640" y="1227"/>
                  </a:lnTo>
                  <a:lnTo>
                    <a:pt x="1650" y="1122"/>
                  </a:lnTo>
                  <a:lnTo>
                    <a:pt x="1880" y="892"/>
                  </a:lnTo>
                  <a:lnTo>
                    <a:pt x="1880" y="857"/>
                  </a:lnTo>
                  <a:lnTo>
                    <a:pt x="1880" y="852"/>
                  </a:lnTo>
                  <a:lnTo>
                    <a:pt x="1885" y="807"/>
                  </a:lnTo>
                  <a:lnTo>
                    <a:pt x="1890" y="782"/>
                  </a:lnTo>
                  <a:lnTo>
                    <a:pt x="1890" y="757"/>
                  </a:lnTo>
                  <a:lnTo>
                    <a:pt x="1890" y="732"/>
                  </a:lnTo>
                  <a:lnTo>
                    <a:pt x="1890" y="707"/>
                  </a:lnTo>
                  <a:lnTo>
                    <a:pt x="1890" y="682"/>
                  </a:lnTo>
                  <a:lnTo>
                    <a:pt x="1895" y="657"/>
                  </a:lnTo>
                  <a:lnTo>
                    <a:pt x="1900" y="632"/>
                  </a:lnTo>
                  <a:lnTo>
                    <a:pt x="1900" y="607"/>
                  </a:lnTo>
                  <a:lnTo>
                    <a:pt x="1905" y="582"/>
                  </a:lnTo>
                  <a:lnTo>
                    <a:pt x="1910" y="557"/>
                  </a:lnTo>
                  <a:lnTo>
                    <a:pt x="1920" y="532"/>
                  </a:lnTo>
                  <a:lnTo>
                    <a:pt x="1920" y="507"/>
                  </a:lnTo>
                  <a:lnTo>
                    <a:pt x="1930" y="482"/>
                  </a:lnTo>
                  <a:lnTo>
                    <a:pt x="1940" y="457"/>
                  </a:lnTo>
                  <a:lnTo>
                    <a:pt x="1940" y="432"/>
                  </a:lnTo>
                  <a:lnTo>
                    <a:pt x="1925" y="407"/>
                  </a:lnTo>
                  <a:lnTo>
                    <a:pt x="1910" y="377"/>
                  </a:lnTo>
                  <a:lnTo>
                    <a:pt x="1905" y="352"/>
                  </a:lnTo>
                  <a:lnTo>
                    <a:pt x="1910" y="327"/>
                  </a:lnTo>
                  <a:lnTo>
                    <a:pt x="1900" y="302"/>
                  </a:lnTo>
                  <a:lnTo>
                    <a:pt x="1890" y="277"/>
                  </a:lnTo>
                  <a:lnTo>
                    <a:pt x="1870" y="252"/>
                  </a:lnTo>
                  <a:lnTo>
                    <a:pt x="1865" y="227"/>
                  </a:lnTo>
                  <a:lnTo>
                    <a:pt x="1870" y="202"/>
                  </a:lnTo>
                  <a:lnTo>
                    <a:pt x="1875" y="177"/>
                  </a:lnTo>
                  <a:lnTo>
                    <a:pt x="1870" y="152"/>
                  </a:lnTo>
                  <a:lnTo>
                    <a:pt x="1865" y="127"/>
                  </a:lnTo>
                  <a:lnTo>
                    <a:pt x="1855" y="102"/>
                  </a:lnTo>
                  <a:lnTo>
                    <a:pt x="1830" y="87"/>
                  </a:lnTo>
                  <a:lnTo>
                    <a:pt x="1780" y="117"/>
                  </a:lnTo>
                  <a:lnTo>
                    <a:pt x="1730" y="57"/>
                  </a:lnTo>
                  <a:lnTo>
                    <a:pt x="1480" y="7"/>
                  </a:lnTo>
                  <a:lnTo>
                    <a:pt x="1458" y="0"/>
                  </a:lnTo>
                  <a:lnTo>
                    <a:pt x="1435" y="15"/>
                  </a:lnTo>
                  <a:lnTo>
                    <a:pt x="685" y="502"/>
                  </a:lnTo>
                  <a:lnTo>
                    <a:pt x="542" y="534"/>
                  </a:lnTo>
                  <a:lnTo>
                    <a:pt x="518" y="800"/>
                  </a:lnTo>
                  <a:lnTo>
                    <a:pt x="503" y="815"/>
                  </a:lnTo>
                  <a:lnTo>
                    <a:pt x="495" y="942"/>
                  </a:lnTo>
                  <a:lnTo>
                    <a:pt x="488" y="950"/>
                  </a:lnTo>
                  <a:lnTo>
                    <a:pt x="458" y="980"/>
                  </a:lnTo>
                  <a:lnTo>
                    <a:pt x="435" y="1010"/>
                  </a:lnTo>
                  <a:lnTo>
                    <a:pt x="398" y="1025"/>
                  </a:lnTo>
                  <a:lnTo>
                    <a:pt x="368" y="1025"/>
                  </a:lnTo>
                  <a:lnTo>
                    <a:pt x="338" y="1047"/>
                  </a:lnTo>
                  <a:lnTo>
                    <a:pt x="308" y="1047"/>
                  </a:lnTo>
                  <a:lnTo>
                    <a:pt x="278" y="1047"/>
                  </a:lnTo>
                  <a:lnTo>
                    <a:pt x="248" y="1040"/>
                  </a:lnTo>
                  <a:lnTo>
                    <a:pt x="218" y="1040"/>
                  </a:lnTo>
                  <a:lnTo>
                    <a:pt x="188" y="1040"/>
                  </a:lnTo>
                  <a:lnTo>
                    <a:pt x="158" y="1040"/>
                  </a:lnTo>
                  <a:lnTo>
                    <a:pt x="128" y="1040"/>
                  </a:lnTo>
                  <a:lnTo>
                    <a:pt x="98" y="1055"/>
                  </a:lnTo>
                  <a:lnTo>
                    <a:pt x="60" y="1062"/>
                  </a:lnTo>
                  <a:lnTo>
                    <a:pt x="30" y="1077"/>
                  </a:lnTo>
                  <a:lnTo>
                    <a:pt x="0" y="1070"/>
                  </a:lnTo>
                  <a:lnTo>
                    <a:pt x="15" y="1102"/>
                  </a:lnTo>
                  <a:lnTo>
                    <a:pt x="15" y="1127"/>
                  </a:lnTo>
                  <a:lnTo>
                    <a:pt x="15" y="1152"/>
                  </a:lnTo>
                  <a:lnTo>
                    <a:pt x="20" y="1177"/>
                  </a:lnTo>
                  <a:lnTo>
                    <a:pt x="35" y="1202"/>
                  </a:lnTo>
                  <a:lnTo>
                    <a:pt x="55" y="1227"/>
                  </a:lnTo>
                  <a:lnTo>
                    <a:pt x="75" y="1252"/>
                  </a:lnTo>
                  <a:lnTo>
                    <a:pt x="70" y="1277"/>
                  </a:lnTo>
                  <a:lnTo>
                    <a:pt x="75" y="1302"/>
                  </a:lnTo>
                  <a:lnTo>
                    <a:pt x="100" y="1317"/>
                  </a:lnTo>
                  <a:lnTo>
                    <a:pt x="125" y="1332"/>
                  </a:lnTo>
                  <a:lnTo>
                    <a:pt x="150" y="1337"/>
                  </a:lnTo>
                  <a:lnTo>
                    <a:pt x="175" y="1352"/>
                  </a:lnTo>
                  <a:lnTo>
                    <a:pt x="200" y="1362"/>
                  </a:lnTo>
                  <a:lnTo>
                    <a:pt x="225" y="1382"/>
                  </a:lnTo>
                  <a:lnTo>
                    <a:pt x="220" y="1407"/>
                  </a:lnTo>
                  <a:lnTo>
                    <a:pt x="220" y="1432"/>
                  </a:lnTo>
                  <a:lnTo>
                    <a:pt x="225" y="1457"/>
                  </a:lnTo>
                  <a:lnTo>
                    <a:pt x="235" y="1482"/>
                  </a:lnTo>
                  <a:lnTo>
                    <a:pt x="250" y="1462"/>
                  </a:lnTo>
                  <a:lnTo>
                    <a:pt x="270" y="1437"/>
                  </a:lnTo>
                  <a:lnTo>
                    <a:pt x="295" y="1417"/>
                  </a:lnTo>
                  <a:lnTo>
                    <a:pt x="320" y="1417"/>
                  </a:lnTo>
                  <a:lnTo>
                    <a:pt x="340" y="1442"/>
                  </a:lnTo>
                  <a:lnTo>
                    <a:pt x="360" y="1467"/>
                  </a:lnTo>
                  <a:lnTo>
                    <a:pt x="385" y="1487"/>
                  </a:lnTo>
                  <a:lnTo>
                    <a:pt x="395" y="14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7720" y="1877040"/>
              <a:ext cx="535680" cy="442440"/>
            </a:xfrm>
            <a:custGeom>
              <a:avLst/>
              <a:gdLst/>
              <a:ahLst/>
              <a:rect l="l" t="t" r="r" b="b"/>
              <a:pathLst>
                <a:path w="1491" h="1231">
                  <a:moveTo>
                    <a:pt x="1370" y="35"/>
                  </a:moveTo>
                  <a:lnTo>
                    <a:pt x="1395" y="15"/>
                  </a:lnTo>
                  <a:lnTo>
                    <a:pt x="1420" y="15"/>
                  </a:lnTo>
                  <a:lnTo>
                    <a:pt x="1425" y="40"/>
                  </a:lnTo>
                  <a:lnTo>
                    <a:pt x="1415" y="65"/>
                  </a:lnTo>
                  <a:lnTo>
                    <a:pt x="1400" y="90"/>
                  </a:lnTo>
                  <a:lnTo>
                    <a:pt x="1405" y="115"/>
                  </a:lnTo>
                  <a:lnTo>
                    <a:pt x="1415" y="140"/>
                  </a:lnTo>
                  <a:lnTo>
                    <a:pt x="1415" y="165"/>
                  </a:lnTo>
                  <a:lnTo>
                    <a:pt x="1435" y="190"/>
                  </a:lnTo>
                  <a:lnTo>
                    <a:pt x="1460" y="215"/>
                  </a:lnTo>
                  <a:lnTo>
                    <a:pt x="1480" y="240"/>
                  </a:lnTo>
                  <a:lnTo>
                    <a:pt x="1490" y="265"/>
                  </a:lnTo>
                  <a:lnTo>
                    <a:pt x="1490" y="290"/>
                  </a:lnTo>
                  <a:lnTo>
                    <a:pt x="1490" y="315"/>
                  </a:lnTo>
                  <a:lnTo>
                    <a:pt x="1470" y="340"/>
                  </a:lnTo>
                  <a:lnTo>
                    <a:pt x="1445" y="360"/>
                  </a:lnTo>
                  <a:lnTo>
                    <a:pt x="1420" y="355"/>
                  </a:lnTo>
                  <a:lnTo>
                    <a:pt x="1395" y="360"/>
                  </a:lnTo>
                  <a:lnTo>
                    <a:pt x="1385" y="385"/>
                  </a:lnTo>
                  <a:lnTo>
                    <a:pt x="1370" y="410"/>
                  </a:lnTo>
                  <a:lnTo>
                    <a:pt x="1370" y="435"/>
                  </a:lnTo>
                  <a:lnTo>
                    <a:pt x="1365" y="445"/>
                  </a:lnTo>
                  <a:lnTo>
                    <a:pt x="1355" y="470"/>
                  </a:lnTo>
                  <a:lnTo>
                    <a:pt x="1335" y="495"/>
                  </a:lnTo>
                  <a:lnTo>
                    <a:pt x="1325" y="520"/>
                  </a:lnTo>
                  <a:lnTo>
                    <a:pt x="1325" y="545"/>
                  </a:lnTo>
                  <a:lnTo>
                    <a:pt x="1300" y="560"/>
                  </a:lnTo>
                  <a:lnTo>
                    <a:pt x="1275" y="575"/>
                  </a:lnTo>
                  <a:lnTo>
                    <a:pt x="1270" y="605"/>
                  </a:lnTo>
                  <a:lnTo>
                    <a:pt x="1265" y="650"/>
                  </a:lnTo>
                  <a:lnTo>
                    <a:pt x="1255" y="675"/>
                  </a:lnTo>
                  <a:lnTo>
                    <a:pt x="1230" y="685"/>
                  </a:lnTo>
                  <a:lnTo>
                    <a:pt x="1205" y="700"/>
                  </a:lnTo>
                  <a:lnTo>
                    <a:pt x="1185" y="725"/>
                  </a:lnTo>
                  <a:lnTo>
                    <a:pt x="1185" y="750"/>
                  </a:lnTo>
                  <a:lnTo>
                    <a:pt x="1175" y="775"/>
                  </a:lnTo>
                  <a:lnTo>
                    <a:pt x="1160" y="800"/>
                  </a:lnTo>
                  <a:lnTo>
                    <a:pt x="1150" y="825"/>
                  </a:lnTo>
                  <a:lnTo>
                    <a:pt x="1145" y="850"/>
                  </a:lnTo>
                  <a:lnTo>
                    <a:pt x="1130" y="875"/>
                  </a:lnTo>
                  <a:lnTo>
                    <a:pt x="1115" y="900"/>
                  </a:lnTo>
                  <a:lnTo>
                    <a:pt x="1090" y="925"/>
                  </a:lnTo>
                  <a:lnTo>
                    <a:pt x="1065" y="940"/>
                  </a:lnTo>
                  <a:lnTo>
                    <a:pt x="1040" y="955"/>
                  </a:lnTo>
                  <a:lnTo>
                    <a:pt x="1030" y="930"/>
                  </a:lnTo>
                  <a:lnTo>
                    <a:pt x="1020" y="905"/>
                  </a:lnTo>
                  <a:lnTo>
                    <a:pt x="995" y="885"/>
                  </a:lnTo>
                  <a:lnTo>
                    <a:pt x="970" y="890"/>
                  </a:lnTo>
                  <a:lnTo>
                    <a:pt x="945" y="905"/>
                  </a:lnTo>
                  <a:lnTo>
                    <a:pt x="920" y="900"/>
                  </a:lnTo>
                  <a:lnTo>
                    <a:pt x="895" y="905"/>
                  </a:lnTo>
                  <a:lnTo>
                    <a:pt x="875" y="930"/>
                  </a:lnTo>
                  <a:lnTo>
                    <a:pt x="850" y="950"/>
                  </a:lnTo>
                  <a:lnTo>
                    <a:pt x="825" y="970"/>
                  </a:lnTo>
                  <a:lnTo>
                    <a:pt x="795" y="990"/>
                  </a:lnTo>
                  <a:lnTo>
                    <a:pt x="770" y="1000"/>
                  </a:lnTo>
                  <a:lnTo>
                    <a:pt x="770" y="1025"/>
                  </a:lnTo>
                  <a:lnTo>
                    <a:pt x="750" y="1055"/>
                  </a:lnTo>
                  <a:lnTo>
                    <a:pt x="750" y="1080"/>
                  </a:lnTo>
                  <a:lnTo>
                    <a:pt x="755" y="1105"/>
                  </a:lnTo>
                  <a:lnTo>
                    <a:pt x="745" y="1130"/>
                  </a:lnTo>
                  <a:lnTo>
                    <a:pt x="730" y="1155"/>
                  </a:lnTo>
                  <a:lnTo>
                    <a:pt x="705" y="1165"/>
                  </a:lnTo>
                  <a:lnTo>
                    <a:pt x="680" y="1155"/>
                  </a:lnTo>
                  <a:lnTo>
                    <a:pt x="680" y="1180"/>
                  </a:lnTo>
                  <a:lnTo>
                    <a:pt x="675" y="1205"/>
                  </a:lnTo>
                  <a:lnTo>
                    <a:pt x="650" y="1215"/>
                  </a:lnTo>
                  <a:lnTo>
                    <a:pt x="625" y="1205"/>
                  </a:lnTo>
                  <a:lnTo>
                    <a:pt x="600" y="1210"/>
                  </a:lnTo>
                  <a:lnTo>
                    <a:pt x="575" y="1200"/>
                  </a:lnTo>
                  <a:lnTo>
                    <a:pt x="550" y="1210"/>
                  </a:lnTo>
                  <a:lnTo>
                    <a:pt x="525" y="1220"/>
                  </a:lnTo>
                  <a:lnTo>
                    <a:pt x="500" y="1225"/>
                  </a:lnTo>
                  <a:lnTo>
                    <a:pt x="475" y="1230"/>
                  </a:lnTo>
                  <a:lnTo>
                    <a:pt x="450" y="1230"/>
                  </a:lnTo>
                  <a:lnTo>
                    <a:pt x="425" y="1230"/>
                  </a:lnTo>
                  <a:lnTo>
                    <a:pt x="400" y="1225"/>
                  </a:lnTo>
                  <a:lnTo>
                    <a:pt x="375" y="1200"/>
                  </a:lnTo>
                  <a:lnTo>
                    <a:pt x="355" y="1175"/>
                  </a:lnTo>
                  <a:lnTo>
                    <a:pt x="345" y="1150"/>
                  </a:lnTo>
                  <a:lnTo>
                    <a:pt x="330" y="1125"/>
                  </a:lnTo>
                  <a:lnTo>
                    <a:pt x="330" y="1100"/>
                  </a:lnTo>
                  <a:lnTo>
                    <a:pt x="310" y="1075"/>
                  </a:lnTo>
                  <a:lnTo>
                    <a:pt x="310" y="1050"/>
                  </a:lnTo>
                  <a:lnTo>
                    <a:pt x="285" y="1030"/>
                  </a:lnTo>
                  <a:lnTo>
                    <a:pt x="260" y="1005"/>
                  </a:lnTo>
                  <a:lnTo>
                    <a:pt x="235" y="985"/>
                  </a:lnTo>
                  <a:lnTo>
                    <a:pt x="210" y="970"/>
                  </a:lnTo>
                  <a:lnTo>
                    <a:pt x="185" y="960"/>
                  </a:lnTo>
                  <a:lnTo>
                    <a:pt x="160" y="960"/>
                  </a:lnTo>
                  <a:lnTo>
                    <a:pt x="130" y="955"/>
                  </a:lnTo>
                  <a:lnTo>
                    <a:pt x="105" y="955"/>
                  </a:lnTo>
                  <a:lnTo>
                    <a:pt x="80" y="950"/>
                  </a:lnTo>
                  <a:lnTo>
                    <a:pt x="55" y="950"/>
                  </a:lnTo>
                  <a:lnTo>
                    <a:pt x="30" y="955"/>
                  </a:lnTo>
                  <a:lnTo>
                    <a:pt x="0" y="955"/>
                  </a:lnTo>
                  <a:lnTo>
                    <a:pt x="0" y="930"/>
                  </a:lnTo>
                  <a:lnTo>
                    <a:pt x="0" y="905"/>
                  </a:lnTo>
                  <a:lnTo>
                    <a:pt x="0" y="875"/>
                  </a:lnTo>
                  <a:lnTo>
                    <a:pt x="0" y="850"/>
                  </a:lnTo>
                  <a:lnTo>
                    <a:pt x="0" y="825"/>
                  </a:lnTo>
                  <a:lnTo>
                    <a:pt x="0" y="800"/>
                  </a:lnTo>
                  <a:lnTo>
                    <a:pt x="5" y="775"/>
                  </a:lnTo>
                  <a:lnTo>
                    <a:pt x="0" y="750"/>
                  </a:lnTo>
                  <a:lnTo>
                    <a:pt x="0" y="720"/>
                  </a:lnTo>
                  <a:lnTo>
                    <a:pt x="0" y="690"/>
                  </a:lnTo>
                  <a:lnTo>
                    <a:pt x="5" y="660"/>
                  </a:lnTo>
                  <a:lnTo>
                    <a:pt x="10" y="635"/>
                  </a:lnTo>
                  <a:lnTo>
                    <a:pt x="35" y="615"/>
                  </a:lnTo>
                  <a:lnTo>
                    <a:pt x="60" y="610"/>
                  </a:lnTo>
                  <a:lnTo>
                    <a:pt x="70" y="585"/>
                  </a:lnTo>
                  <a:lnTo>
                    <a:pt x="80" y="560"/>
                  </a:lnTo>
                  <a:lnTo>
                    <a:pt x="95" y="535"/>
                  </a:lnTo>
                  <a:lnTo>
                    <a:pt x="120" y="510"/>
                  </a:lnTo>
                  <a:lnTo>
                    <a:pt x="115" y="485"/>
                  </a:lnTo>
                  <a:lnTo>
                    <a:pt x="120" y="460"/>
                  </a:lnTo>
                  <a:lnTo>
                    <a:pt x="145" y="445"/>
                  </a:lnTo>
                  <a:lnTo>
                    <a:pt x="150" y="420"/>
                  </a:lnTo>
                  <a:lnTo>
                    <a:pt x="145" y="395"/>
                  </a:lnTo>
                  <a:lnTo>
                    <a:pt x="135" y="370"/>
                  </a:lnTo>
                  <a:lnTo>
                    <a:pt x="120" y="345"/>
                  </a:lnTo>
                  <a:lnTo>
                    <a:pt x="110" y="320"/>
                  </a:lnTo>
                  <a:lnTo>
                    <a:pt x="130" y="295"/>
                  </a:lnTo>
                  <a:lnTo>
                    <a:pt x="125" y="270"/>
                  </a:lnTo>
                  <a:lnTo>
                    <a:pt x="125" y="245"/>
                  </a:lnTo>
                  <a:lnTo>
                    <a:pt x="130" y="220"/>
                  </a:lnTo>
                  <a:lnTo>
                    <a:pt x="135" y="195"/>
                  </a:lnTo>
                  <a:lnTo>
                    <a:pt x="145" y="170"/>
                  </a:lnTo>
                  <a:lnTo>
                    <a:pt x="165" y="145"/>
                  </a:lnTo>
                  <a:lnTo>
                    <a:pt x="190" y="125"/>
                  </a:lnTo>
                  <a:lnTo>
                    <a:pt x="205" y="100"/>
                  </a:lnTo>
                  <a:lnTo>
                    <a:pt x="205" y="75"/>
                  </a:lnTo>
                  <a:lnTo>
                    <a:pt x="205" y="50"/>
                  </a:lnTo>
                  <a:lnTo>
                    <a:pt x="215" y="25"/>
                  </a:lnTo>
                  <a:lnTo>
                    <a:pt x="245" y="20"/>
                  </a:lnTo>
                  <a:lnTo>
                    <a:pt x="275" y="20"/>
                  </a:lnTo>
                  <a:lnTo>
                    <a:pt x="305" y="25"/>
                  </a:lnTo>
                  <a:lnTo>
                    <a:pt x="330" y="25"/>
                  </a:lnTo>
                  <a:lnTo>
                    <a:pt x="340" y="0"/>
                  </a:lnTo>
                  <a:lnTo>
                    <a:pt x="365" y="10"/>
                  </a:lnTo>
                  <a:lnTo>
                    <a:pt x="390" y="25"/>
                  </a:lnTo>
                  <a:lnTo>
                    <a:pt x="415" y="30"/>
                  </a:lnTo>
                  <a:lnTo>
                    <a:pt x="440" y="35"/>
                  </a:lnTo>
                  <a:lnTo>
                    <a:pt x="465" y="50"/>
                  </a:lnTo>
                  <a:lnTo>
                    <a:pt x="490" y="60"/>
                  </a:lnTo>
                  <a:lnTo>
                    <a:pt x="515" y="75"/>
                  </a:lnTo>
                  <a:lnTo>
                    <a:pt x="540" y="100"/>
                  </a:lnTo>
                  <a:lnTo>
                    <a:pt x="565" y="105"/>
                  </a:lnTo>
                  <a:lnTo>
                    <a:pt x="590" y="105"/>
                  </a:lnTo>
                  <a:lnTo>
                    <a:pt x="615" y="85"/>
                  </a:lnTo>
                  <a:lnTo>
                    <a:pt x="645" y="80"/>
                  </a:lnTo>
                  <a:lnTo>
                    <a:pt x="670" y="80"/>
                  </a:lnTo>
                  <a:lnTo>
                    <a:pt x="695" y="85"/>
                  </a:lnTo>
                  <a:lnTo>
                    <a:pt x="720" y="105"/>
                  </a:lnTo>
                  <a:lnTo>
                    <a:pt x="745" y="125"/>
                  </a:lnTo>
                  <a:lnTo>
                    <a:pt x="770" y="145"/>
                  </a:lnTo>
                  <a:lnTo>
                    <a:pt x="795" y="155"/>
                  </a:lnTo>
                  <a:lnTo>
                    <a:pt x="820" y="155"/>
                  </a:lnTo>
                  <a:lnTo>
                    <a:pt x="845" y="155"/>
                  </a:lnTo>
                  <a:lnTo>
                    <a:pt x="870" y="150"/>
                  </a:lnTo>
                  <a:lnTo>
                    <a:pt x="895" y="130"/>
                  </a:lnTo>
                  <a:lnTo>
                    <a:pt x="920" y="110"/>
                  </a:lnTo>
                  <a:lnTo>
                    <a:pt x="945" y="95"/>
                  </a:lnTo>
                  <a:lnTo>
                    <a:pt x="970" y="95"/>
                  </a:lnTo>
                  <a:lnTo>
                    <a:pt x="1000" y="95"/>
                  </a:lnTo>
                  <a:lnTo>
                    <a:pt x="1025" y="95"/>
                  </a:lnTo>
                  <a:lnTo>
                    <a:pt x="1050" y="95"/>
                  </a:lnTo>
                  <a:lnTo>
                    <a:pt x="1080" y="95"/>
                  </a:lnTo>
                  <a:lnTo>
                    <a:pt x="1110" y="90"/>
                  </a:lnTo>
                  <a:lnTo>
                    <a:pt x="1135" y="90"/>
                  </a:lnTo>
                  <a:lnTo>
                    <a:pt x="1160" y="100"/>
                  </a:lnTo>
                  <a:lnTo>
                    <a:pt x="1185" y="120"/>
                  </a:lnTo>
                  <a:lnTo>
                    <a:pt x="1210" y="125"/>
                  </a:lnTo>
                  <a:lnTo>
                    <a:pt x="1235" y="115"/>
                  </a:lnTo>
                  <a:lnTo>
                    <a:pt x="1240" y="90"/>
                  </a:lnTo>
                  <a:lnTo>
                    <a:pt x="1265" y="70"/>
                  </a:lnTo>
                  <a:lnTo>
                    <a:pt x="1290" y="60"/>
                  </a:lnTo>
                  <a:lnTo>
                    <a:pt x="1315" y="50"/>
                  </a:lnTo>
                  <a:lnTo>
                    <a:pt x="1340" y="30"/>
                  </a:lnTo>
                  <a:lnTo>
                    <a:pt x="1370" y="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19480" y="1442520"/>
              <a:ext cx="457920" cy="734760"/>
            </a:xfrm>
            <a:custGeom>
              <a:avLst/>
              <a:gdLst/>
              <a:ahLst/>
              <a:rect l="l" t="t" r="r" b="b"/>
              <a:pathLst>
                <a:path w="1276" h="2041">
                  <a:moveTo>
                    <a:pt x="75" y="1350"/>
                  </a:moveTo>
                  <a:lnTo>
                    <a:pt x="100" y="1345"/>
                  </a:lnTo>
                  <a:lnTo>
                    <a:pt x="125" y="1355"/>
                  </a:lnTo>
                  <a:lnTo>
                    <a:pt x="135" y="1380"/>
                  </a:lnTo>
                  <a:lnTo>
                    <a:pt x="145" y="1405"/>
                  </a:lnTo>
                  <a:lnTo>
                    <a:pt x="150" y="1430"/>
                  </a:lnTo>
                  <a:lnTo>
                    <a:pt x="170" y="1455"/>
                  </a:lnTo>
                  <a:lnTo>
                    <a:pt x="175" y="1480"/>
                  </a:lnTo>
                  <a:lnTo>
                    <a:pt x="180" y="1505"/>
                  </a:lnTo>
                  <a:lnTo>
                    <a:pt x="175" y="1530"/>
                  </a:lnTo>
                  <a:lnTo>
                    <a:pt x="165" y="1555"/>
                  </a:lnTo>
                  <a:lnTo>
                    <a:pt x="170" y="1580"/>
                  </a:lnTo>
                  <a:lnTo>
                    <a:pt x="180" y="1605"/>
                  </a:lnTo>
                  <a:lnTo>
                    <a:pt x="190" y="1630"/>
                  </a:lnTo>
                  <a:lnTo>
                    <a:pt x="195" y="1655"/>
                  </a:lnTo>
                  <a:lnTo>
                    <a:pt x="225" y="1695"/>
                  </a:lnTo>
                  <a:lnTo>
                    <a:pt x="200" y="1695"/>
                  </a:lnTo>
                  <a:lnTo>
                    <a:pt x="175" y="1700"/>
                  </a:lnTo>
                  <a:lnTo>
                    <a:pt x="150" y="1690"/>
                  </a:lnTo>
                  <a:lnTo>
                    <a:pt x="125" y="1690"/>
                  </a:lnTo>
                  <a:lnTo>
                    <a:pt x="100" y="1700"/>
                  </a:lnTo>
                  <a:lnTo>
                    <a:pt x="75" y="1705"/>
                  </a:lnTo>
                  <a:lnTo>
                    <a:pt x="60" y="1730"/>
                  </a:lnTo>
                  <a:lnTo>
                    <a:pt x="50" y="1755"/>
                  </a:lnTo>
                  <a:lnTo>
                    <a:pt x="55" y="1780"/>
                  </a:lnTo>
                  <a:lnTo>
                    <a:pt x="75" y="1805"/>
                  </a:lnTo>
                  <a:lnTo>
                    <a:pt x="100" y="1825"/>
                  </a:lnTo>
                  <a:lnTo>
                    <a:pt x="125" y="1845"/>
                  </a:lnTo>
                  <a:lnTo>
                    <a:pt x="145" y="1870"/>
                  </a:lnTo>
                  <a:lnTo>
                    <a:pt x="170" y="1890"/>
                  </a:lnTo>
                  <a:lnTo>
                    <a:pt x="190" y="1915"/>
                  </a:lnTo>
                  <a:lnTo>
                    <a:pt x="205" y="1940"/>
                  </a:lnTo>
                  <a:lnTo>
                    <a:pt x="215" y="1965"/>
                  </a:lnTo>
                  <a:lnTo>
                    <a:pt x="220" y="1990"/>
                  </a:lnTo>
                  <a:lnTo>
                    <a:pt x="230" y="2015"/>
                  </a:lnTo>
                  <a:lnTo>
                    <a:pt x="250" y="2040"/>
                  </a:lnTo>
                  <a:lnTo>
                    <a:pt x="280" y="2030"/>
                  </a:lnTo>
                  <a:lnTo>
                    <a:pt x="305" y="2020"/>
                  </a:lnTo>
                  <a:lnTo>
                    <a:pt x="330" y="2005"/>
                  </a:lnTo>
                  <a:lnTo>
                    <a:pt x="355" y="1985"/>
                  </a:lnTo>
                  <a:lnTo>
                    <a:pt x="380" y="1995"/>
                  </a:lnTo>
                  <a:lnTo>
                    <a:pt x="405" y="2015"/>
                  </a:lnTo>
                  <a:lnTo>
                    <a:pt x="430" y="2005"/>
                  </a:lnTo>
                  <a:lnTo>
                    <a:pt x="455" y="1985"/>
                  </a:lnTo>
                  <a:lnTo>
                    <a:pt x="480" y="1965"/>
                  </a:lnTo>
                  <a:lnTo>
                    <a:pt x="505" y="1960"/>
                  </a:lnTo>
                  <a:lnTo>
                    <a:pt x="530" y="1975"/>
                  </a:lnTo>
                  <a:lnTo>
                    <a:pt x="555" y="1980"/>
                  </a:lnTo>
                  <a:lnTo>
                    <a:pt x="580" y="1975"/>
                  </a:lnTo>
                  <a:lnTo>
                    <a:pt x="605" y="1960"/>
                  </a:lnTo>
                  <a:lnTo>
                    <a:pt x="630" y="1950"/>
                  </a:lnTo>
                  <a:lnTo>
                    <a:pt x="645" y="1925"/>
                  </a:lnTo>
                  <a:lnTo>
                    <a:pt x="670" y="1915"/>
                  </a:lnTo>
                  <a:lnTo>
                    <a:pt x="670" y="1890"/>
                  </a:lnTo>
                  <a:lnTo>
                    <a:pt x="645" y="1880"/>
                  </a:lnTo>
                  <a:lnTo>
                    <a:pt x="645" y="1855"/>
                  </a:lnTo>
                  <a:lnTo>
                    <a:pt x="670" y="1840"/>
                  </a:lnTo>
                  <a:lnTo>
                    <a:pt x="695" y="1830"/>
                  </a:lnTo>
                  <a:lnTo>
                    <a:pt x="720" y="1830"/>
                  </a:lnTo>
                  <a:lnTo>
                    <a:pt x="745" y="1815"/>
                  </a:lnTo>
                  <a:lnTo>
                    <a:pt x="770" y="1815"/>
                  </a:lnTo>
                  <a:lnTo>
                    <a:pt x="800" y="1820"/>
                  </a:lnTo>
                  <a:lnTo>
                    <a:pt x="825" y="1820"/>
                  </a:lnTo>
                  <a:lnTo>
                    <a:pt x="850" y="1800"/>
                  </a:lnTo>
                  <a:lnTo>
                    <a:pt x="875" y="1785"/>
                  </a:lnTo>
                  <a:lnTo>
                    <a:pt x="900" y="1775"/>
                  </a:lnTo>
                  <a:lnTo>
                    <a:pt x="925" y="1755"/>
                  </a:lnTo>
                  <a:lnTo>
                    <a:pt x="930" y="1730"/>
                  </a:lnTo>
                  <a:lnTo>
                    <a:pt x="955" y="1715"/>
                  </a:lnTo>
                  <a:lnTo>
                    <a:pt x="980" y="1700"/>
                  </a:lnTo>
                  <a:lnTo>
                    <a:pt x="990" y="1675"/>
                  </a:lnTo>
                  <a:lnTo>
                    <a:pt x="1000" y="1650"/>
                  </a:lnTo>
                  <a:lnTo>
                    <a:pt x="1015" y="1625"/>
                  </a:lnTo>
                  <a:lnTo>
                    <a:pt x="1040" y="1605"/>
                  </a:lnTo>
                  <a:lnTo>
                    <a:pt x="1065" y="1595"/>
                  </a:lnTo>
                  <a:lnTo>
                    <a:pt x="1090" y="1595"/>
                  </a:lnTo>
                  <a:lnTo>
                    <a:pt x="1115" y="1595"/>
                  </a:lnTo>
                  <a:lnTo>
                    <a:pt x="1140" y="1600"/>
                  </a:lnTo>
                  <a:lnTo>
                    <a:pt x="1150" y="1575"/>
                  </a:lnTo>
                  <a:lnTo>
                    <a:pt x="1140" y="1550"/>
                  </a:lnTo>
                  <a:lnTo>
                    <a:pt x="1120" y="1525"/>
                  </a:lnTo>
                  <a:lnTo>
                    <a:pt x="1095" y="1510"/>
                  </a:lnTo>
                  <a:lnTo>
                    <a:pt x="1100" y="1485"/>
                  </a:lnTo>
                  <a:lnTo>
                    <a:pt x="1095" y="1460"/>
                  </a:lnTo>
                  <a:lnTo>
                    <a:pt x="1080" y="1435"/>
                  </a:lnTo>
                  <a:lnTo>
                    <a:pt x="1080" y="1410"/>
                  </a:lnTo>
                  <a:lnTo>
                    <a:pt x="1075" y="1385"/>
                  </a:lnTo>
                  <a:lnTo>
                    <a:pt x="1050" y="1365"/>
                  </a:lnTo>
                  <a:lnTo>
                    <a:pt x="1025" y="1350"/>
                  </a:lnTo>
                  <a:lnTo>
                    <a:pt x="1035" y="1325"/>
                  </a:lnTo>
                  <a:lnTo>
                    <a:pt x="1055" y="1300"/>
                  </a:lnTo>
                  <a:lnTo>
                    <a:pt x="1060" y="1275"/>
                  </a:lnTo>
                  <a:lnTo>
                    <a:pt x="1055" y="1250"/>
                  </a:lnTo>
                  <a:lnTo>
                    <a:pt x="1055" y="1225"/>
                  </a:lnTo>
                  <a:lnTo>
                    <a:pt x="1075" y="1200"/>
                  </a:lnTo>
                  <a:lnTo>
                    <a:pt x="1095" y="1175"/>
                  </a:lnTo>
                  <a:lnTo>
                    <a:pt x="1080" y="1150"/>
                  </a:lnTo>
                  <a:lnTo>
                    <a:pt x="1095" y="1125"/>
                  </a:lnTo>
                  <a:lnTo>
                    <a:pt x="1120" y="1110"/>
                  </a:lnTo>
                  <a:lnTo>
                    <a:pt x="1130" y="1085"/>
                  </a:lnTo>
                  <a:lnTo>
                    <a:pt x="1150" y="1060"/>
                  </a:lnTo>
                  <a:lnTo>
                    <a:pt x="1145" y="1035"/>
                  </a:lnTo>
                  <a:lnTo>
                    <a:pt x="1135" y="1010"/>
                  </a:lnTo>
                  <a:lnTo>
                    <a:pt x="1160" y="995"/>
                  </a:lnTo>
                  <a:lnTo>
                    <a:pt x="1185" y="995"/>
                  </a:lnTo>
                  <a:lnTo>
                    <a:pt x="1210" y="985"/>
                  </a:lnTo>
                  <a:lnTo>
                    <a:pt x="1235" y="990"/>
                  </a:lnTo>
                  <a:lnTo>
                    <a:pt x="1260" y="995"/>
                  </a:lnTo>
                  <a:lnTo>
                    <a:pt x="1275" y="995"/>
                  </a:lnTo>
                  <a:lnTo>
                    <a:pt x="1270" y="480"/>
                  </a:lnTo>
                  <a:lnTo>
                    <a:pt x="330" y="0"/>
                  </a:lnTo>
                  <a:lnTo>
                    <a:pt x="210" y="65"/>
                  </a:lnTo>
                  <a:lnTo>
                    <a:pt x="195" y="75"/>
                  </a:lnTo>
                  <a:lnTo>
                    <a:pt x="220" y="90"/>
                  </a:lnTo>
                  <a:lnTo>
                    <a:pt x="230" y="115"/>
                  </a:lnTo>
                  <a:lnTo>
                    <a:pt x="235" y="140"/>
                  </a:lnTo>
                  <a:lnTo>
                    <a:pt x="240" y="165"/>
                  </a:lnTo>
                  <a:lnTo>
                    <a:pt x="235" y="190"/>
                  </a:lnTo>
                  <a:lnTo>
                    <a:pt x="230" y="215"/>
                  </a:lnTo>
                  <a:lnTo>
                    <a:pt x="235" y="240"/>
                  </a:lnTo>
                  <a:lnTo>
                    <a:pt x="255" y="265"/>
                  </a:lnTo>
                  <a:lnTo>
                    <a:pt x="265" y="290"/>
                  </a:lnTo>
                  <a:lnTo>
                    <a:pt x="275" y="315"/>
                  </a:lnTo>
                  <a:lnTo>
                    <a:pt x="270" y="340"/>
                  </a:lnTo>
                  <a:lnTo>
                    <a:pt x="275" y="365"/>
                  </a:lnTo>
                  <a:lnTo>
                    <a:pt x="290" y="395"/>
                  </a:lnTo>
                  <a:lnTo>
                    <a:pt x="305" y="420"/>
                  </a:lnTo>
                  <a:lnTo>
                    <a:pt x="305" y="445"/>
                  </a:lnTo>
                  <a:lnTo>
                    <a:pt x="295" y="470"/>
                  </a:lnTo>
                  <a:lnTo>
                    <a:pt x="285" y="495"/>
                  </a:lnTo>
                  <a:lnTo>
                    <a:pt x="285" y="520"/>
                  </a:lnTo>
                  <a:lnTo>
                    <a:pt x="275" y="545"/>
                  </a:lnTo>
                  <a:lnTo>
                    <a:pt x="270" y="570"/>
                  </a:lnTo>
                  <a:lnTo>
                    <a:pt x="265" y="595"/>
                  </a:lnTo>
                  <a:lnTo>
                    <a:pt x="265" y="620"/>
                  </a:lnTo>
                  <a:lnTo>
                    <a:pt x="260" y="645"/>
                  </a:lnTo>
                  <a:lnTo>
                    <a:pt x="255" y="670"/>
                  </a:lnTo>
                  <a:lnTo>
                    <a:pt x="255" y="695"/>
                  </a:lnTo>
                  <a:lnTo>
                    <a:pt x="255" y="720"/>
                  </a:lnTo>
                  <a:lnTo>
                    <a:pt x="255" y="745"/>
                  </a:lnTo>
                  <a:lnTo>
                    <a:pt x="255" y="770"/>
                  </a:lnTo>
                  <a:lnTo>
                    <a:pt x="250" y="795"/>
                  </a:lnTo>
                  <a:lnTo>
                    <a:pt x="245" y="840"/>
                  </a:lnTo>
                  <a:lnTo>
                    <a:pt x="245" y="845"/>
                  </a:lnTo>
                  <a:lnTo>
                    <a:pt x="245" y="880"/>
                  </a:lnTo>
                  <a:lnTo>
                    <a:pt x="15" y="1110"/>
                  </a:lnTo>
                  <a:lnTo>
                    <a:pt x="5" y="1215"/>
                  </a:lnTo>
                  <a:lnTo>
                    <a:pt x="0" y="1225"/>
                  </a:lnTo>
                  <a:lnTo>
                    <a:pt x="5" y="1240"/>
                  </a:lnTo>
                  <a:lnTo>
                    <a:pt x="30" y="1220"/>
                  </a:lnTo>
                  <a:lnTo>
                    <a:pt x="55" y="1220"/>
                  </a:lnTo>
                  <a:lnTo>
                    <a:pt x="60" y="1245"/>
                  </a:lnTo>
                  <a:lnTo>
                    <a:pt x="50" y="1270"/>
                  </a:lnTo>
                  <a:lnTo>
                    <a:pt x="35" y="1295"/>
                  </a:lnTo>
                  <a:lnTo>
                    <a:pt x="40" y="1320"/>
                  </a:lnTo>
                  <a:lnTo>
                    <a:pt x="50" y="1345"/>
                  </a:lnTo>
                  <a:lnTo>
                    <a:pt x="75" y="13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38920" y="828000"/>
              <a:ext cx="816480" cy="812520"/>
            </a:xfrm>
            <a:custGeom>
              <a:avLst/>
              <a:gdLst/>
              <a:ahLst/>
              <a:rect l="l" t="t" r="r" b="b"/>
              <a:pathLst>
                <a:path w="2272" h="2258">
                  <a:moveTo>
                    <a:pt x="0" y="1106"/>
                  </a:moveTo>
                  <a:lnTo>
                    <a:pt x="981" y="1943"/>
                  </a:lnTo>
                  <a:lnTo>
                    <a:pt x="1003" y="1980"/>
                  </a:lnTo>
                  <a:lnTo>
                    <a:pt x="1018" y="2010"/>
                  </a:lnTo>
                  <a:lnTo>
                    <a:pt x="1033" y="2040"/>
                  </a:lnTo>
                  <a:lnTo>
                    <a:pt x="1056" y="2070"/>
                  </a:lnTo>
                  <a:lnTo>
                    <a:pt x="1086" y="2100"/>
                  </a:lnTo>
                  <a:lnTo>
                    <a:pt x="1116" y="2107"/>
                  </a:lnTo>
                  <a:lnTo>
                    <a:pt x="1146" y="2115"/>
                  </a:lnTo>
                  <a:lnTo>
                    <a:pt x="1176" y="2115"/>
                  </a:lnTo>
                  <a:lnTo>
                    <a:pt x="1198" y="2145"/>
                  </a:lnTo>
                  <a:lnTo>
                    <a:pt x="1213" y="2175"/>
                  </a:lnTo>
                  <a:lnTo>
                    <a:pt x="1206" y="2205"/>
                  </a:lnTo>
                  <a:lnTo>
                    <a:pt x="1206" y="2235"/>
                  </a:lnTo>
                  <a:lnTo>
                    <a:pt x="1213" y="2250"/>
                  </a:lnTo>
                  <a:lnTo>
                    <a:pt x="1236" y="2257"/>
                  </a:lnTo>
                  <a:lnTo>
                    <a:pt x="1498" y="2197"/>
                  </a:lnTo>
                  <a:lnTo>
                    <a:pt x="2248" y="1710"/>
                  </a:lnTo>
                  <a:lnTo>
                    <a:pt x="2271" y="1695"/>
                  </a:lnTo>
                  <a:lnTo>
                    <a:pt x="2248" y="1665"/>
                  </a:lnTo>
                  <a:lnTo>
                    <a:pt x="2233" y="1635"/>
                  </a:lnTo>
                  <a:lnTo>
                    <a:pt x="2226" y="1605"/>
                  </a:lnTo>
                  <a:lnTo>
                    <a:pt x="2196" y="1590"/>
                  </a:lnTo>
                  <a:lnTo>
                    <a:pt x="2166" y="1575"/>
                  </a:lnTo>
                  <a:lnTo>
                    <a:pt x="2136" y="1553"/>
                  </a:lnTo>
                  <a:lnTo>
                    <a:pt x="2106" y="1553"/>
                  </a:lnTo>
                  <a:lnTo>
                    <a:pt x="2083" y="1523"/>
                  </a:lnTo>
                  <a:lnTo>
                    <a:pt x="2068" y="1493"/>
                  </a:lnTo>
                  <a:lnTo>
                    <a:pt x="2061" y="1463"/>
                  </a:lnTo>
                  <a:lnTo>
                    <a:pt x="2053" y="1433"/>
                  </a:lnTo>
                  <a:lnTo>
                    <a:pt x="2038" y="1403"/>
                  </a:lnTo>
                  <a:lnTo>
                    <a:pt x="2031" y="1373"/>
                  </a:lnTo>
                  <a:lnTo>
                    <a:pt x="2038" y="1343"/>
                  </a:lnTo>
                  <a:lnTo>
                    <a:pt x="2068" y="1320"/>
                  </a:lnTo>
                  <a:lnTo>
                    <a:pt x="2091" y="1290"/>
                  </a:lnTo>
                  <a:lnTo>
                    <a:pt x="2098" y="1260"/>
                  </a:lnTo>
                  <a:lnTo>
                    <a:pt x="2091" y="1230"/>
                  </a:lnTo>
                  <a:lnTo>
                    <a:pt x="2091" y="1200"/>
                  </a:lnTo>
                  <a:lnTo>
                    <a:pt x="2106" y="1170"/>
                  </a:lnTo>
                  <a:lnTo>
                    <a:pt x="2106" y="1140"/>
                  </a:lnTo>
                  <a:lnTo>
                    <a:pt x="2098" y="1110"/>
                  </a:lnTo>
                  <a:lnTo>
                    <a:pt x="2083" y="1080"/>
                  </a:lnTo>
                  <a:lnTo>
                    <a:pt x="2083" y="1050"/>
                  </a:lnTo>
                  <a:lnTo>
                    <a:pt x="2083" y="1020"/>
                  </a:lnTo>
                  <a:lnTo>
                    <a:pt x="2083" y="990"/>
                  </a:lnTo>
                  <a:lnTo>
                    <a:pt x="2083" y="960"/>
                  </a:lnTo>
                  <a:lnTo>
                    <a:pt x="2083" y="930"/>
                  </a:lnTo>
                  <a:lnTo>
                    <a:pt x="2083" y="900"/>
                  </a:lnTo>
                  <a:lnTo>
                    <a:pt x="2083" y="870"/>
                  </a:lnTo>
                  <a:lnTo>
                    <a:pt x="2083" y="840"/>
                  </a:lnTo>
                  <a:lnTo>
                    <a:pt x="2076" y="803"/>
                  </a:lnTo>
                  <a:lnTo>
                    <a:pt x="2061" y="773"/>
                  </a:lnTo>
                  <a:lnTo>
                    <a:pt x="2053" y="743"/>
                  </a:lnTo>
                  <a:lnTo>
                    <a:pt x="2053" y="713"/>
                  </a:lnTo>
                  <a:lnTo>
                    <a:pt x="2053" y="683"/>
                  </a:lnTo>
                  <a:lnTo>
                    <a:pt x="2038" y="653"/>
                  </a:lnTo>
                  <a:lnTo>
                    <a:pt x="2008" y="630"/>
                  </a:lnTo>
                  <a:lnTo>
                    <a:pt x="1978" y="600"/>
                  </a:lnTo>
                  <a:lnTo>
                    <a:pt x="1963" y="570"/>
                  </a:lnTo>
                  <a:lnTo>
                    <a:pt x="1956" y="540"/>
                  </a:lnTo>
                  <a:lnTo>
                    <a:pt x="1948" y="510"/>
                  </a:lnTo>
                  <a:lnTo>
                    <a:pt x="1918" y="488"/>
                  </a:lnTo>
                  <a:lnTo>
                    <a:pt x="1918" y="458"/>
                  </a:lnTo>
                  <a:lnTo>
                    <a:pt x="1911" y="428"/>
                  </a:lnTo>
                  <a:lnTo>
                    <a:pt x="1888" y="398"/>
                  </a:lnTo>
                  <a:lnTo>
                    <a:pt x="1881" y="368"/>
                  </a:lnTo>
                  <a:lnTo>
                    <a:pt x="1911" y="368"/>
                  </a:lnTo>
                  <a:lnTo>
                    <a:pt x="1941" y="345"/>
                  </a:lnTo>
                  <a:lnTo>
                    <a:pt x="1963" y="315"/>
                  </a:lnTo>
                  <a:lnTo>
                    <a:pt x="1993" y="293"/>
                  </a:lnTo>
                  <a:lnTo>
                    <a:pt x="2001" y="263"/>
                  </a:lnTo>
                  <a:lnTo>
                    <a:pt x="2008" y="233"/>
                  </a:lnTo>
                  <a:lnTo>
                    <a:pt x="2008" y="203"/>
                  </a:lnTo>
                  <a:lnTo>
                    <a:pt x="2008" y="173"/>
                  </a:lnTo>
                  <a:lnTo>
                    <a:pt x="2001" y="143"/>
                  </a:lnTo>
                  <a:lnTo>
                    <a:pt x="2001" y="113"/>
                  </a:lnTo>
                  <a:lnTo>
                    <a:pt x="2008" y="83"/>
                  </a:lnTo>
                  <a:lnTo>
                    <a:pt x="2025" y="61"/>
                  </a:lnTo>
                  <a:lnTo>
                    <a:pt x="2050" y="47"/>
                  </a:lnTo>
                  <a:lnTo>
                    <a:pt x="2065" y="28"/>
                  </a:lnTo>
                  <a:lnTo>
                    <a:pt x="2038" y="28"/>
                  </a:lnTo>
                  <a:lnTo>
                    <a:pt x="2008" y="26"/>
                  </a:lnTo>
                  <a:lnTo>
                    <a:pt x="1978" y="30"/>
                  </a:lnTo>
                  <a:lnTo>
                    <a:pt x="1948" y="30"/>
                  </a:lnTo>
                  <a:lnTo>
                    <a:pt x="1918" y="8"/>
                  </a:lnTo>
                  <a:lnTo>
                    <a:pt x="1888" y="23"/>
                  </a:lnTo>
                  <a:lnTo>
                    <a:pt x="1858" y="15"/>
                  </a:lnTo>
                  <a:lnTo>
                    <a:pt x="1828" y="0"/>
                  </a:lnTo>
                  <a:lnTo>
                    <a:pt x="1798" y="8"/>
                  </a:lnTo>
                  <a:lnTo>
                    <a:pt x="1768" y="30"/>
                  </a:lnTo>
                  <a:lnTo>
                    <a:pt x="1738" y="45"/>
                  </a:lnTo>
                  <a:lnTo>
                    <a:pt x="1708" y="45"/>
                  </a:lnTo>
                  <a:lnTo>
                    <a:pt x="1678" y="45"/>
                  </a:lnTo>
                  <a:lnTo>
                    <a:pt x="1648" y="23"/>
                  </a:lnTo>
                  <a:lnTo>
                    <a:pt x="1618" y="15"/>
                  </a:lnTo>
                  <a:lnTo>
                    <a:pt x="1588" y="15"/>
                  </a:lnTo>
                  <a:lnTo>
                    <a:pt x="1558" y="15"/>
                  </a:lnTo>
                  <a:lnTo>
                    <a:pt x="1528" y="23"/>
                  </a:lnTo>
                  <a:lnTo>
                    <a:pt x="1491" y="30"/>
                  </a:lnTo>
                  <a:lnTo>
                    <a:pt x="1461" y="23"/>
                  </a:lnTo>
                  <a:lnTo>
                    <a:pt x="1431" y="30"/>
                  </a:lnTo>
                  <a:lnTo>
                    <a:pt x="1393" y="30"/>
                  </a:lnTo>
                  <a:lnTo>
                    <a:pt x="1363" y="30"/>
                  </a:lnTo>
                  <a:lnTo>
                    <a:pt x="1333" y="30"/>
                  </a:lnTo>
                  <a:lnTo>
                    <a:pt x="1296" y="30"/>
                  </a:lnTo>
                  <a:lnTo>
                    <a:pt x="1258" y="38"/>
                  </a:lnTo>
                  <a:lnTo>
                    <a:pt x="1228" y="60"/>
                  </a:lnTo>
                  <a:lnTo>
                    <a:pt x="1198" y="83"/>
                  </a:lnTo>
                  <a:lnTo>
                    <a:pt x="1168" y="98"/>
                  </a:lnTo>
                  <a:lnTo>
                    <a:pt x="1138" y="98"/>
                  </a:lnTo>
                  <a:lnTo>
                    <a:pt x="1108" y="113"/>
                  </a:lnTo>
                  <a:lnTo>
                    <a:pt x="1078" y="105"/>
                  </a:lnTo>
                  <a:lnTo>
                    <a:pt x="1048" y="128"/>
                  </a:lnTo>
                  <a:lnTo>
                    <a:pt x="1018" y="128"/>
                  </a:lnTo>
                  <a:lnTo>
                    <a:pt x="1003" y="158"/>
                  </a:lnTo>
                  <a:lnTo>
                    <a:pt x="981" y="188"/>
                  </a:lnTo>
                  <a:lnTo>
                    <a:pt x="951" y="195"/>
                  </a:lnTo>
                  <a:lnTo>
                    <a:pt x="914" y="195"/>
                  </a:lnTo>
                  <a:lnTo>
                    <a:pt x="884" y="203"/>
                  </a:lnTo>
                  <a:lnTo>
                    <a:pt x="906" y="218"/>
                  </a:lnTo>
                  <a:lnTo>
                    <a:pt x="906" y="255"/>
                  </a:lnTo>
                  <a:lnTo>
                    <a:pt x="906" y="285"/>
                  </a:lnTo>
                  <a:lnTo>
                    <a:pt x="914" y="315"/>
                  </a:lnTo>
                  <a:lnTo>
                    <a:pt x="921" y="345"/>
                  </a:lnTo>
                  <a:lnTo>
                    <a:pt x="906" y="375"/>
                  </a:lnTo>
                  <a:lnTo>
                    <a:pt x="899" y="405"/>
                  </a:lnTo>
                  <a:lnTo>
                    <a:pt x="899" y="435"/>
                  </a:lnTo>
                  <a:lnTo>
                    <a:pt x="906" y="473"/>
                  </a:lnTo>
                  <a:lnTo>
                    <a:pt x="921" y="503"/>
                  </a:lnTo>
                  <a:lnTo>
                    <a:pt x="936" y="533"/>
                  </a:lnTo>
                  <a:lnTo>
                    <a:pt x="921" y="563"/>
                  </a:lnTo>
                  <a:lnTo>
                    <a:pt x="891" y="585"/>
                  </a:lnTo>
                  <a:lnTo>
                    <a:pt x="861" y="585"/>
                  </a:lnTo>
                  <a:lnTo>
                    <a:pt x="831" y="585"/>
                  </a:lnTo>
                  <a:lnTo>
                    <a:pt x="801" y="600"/>
                  </a:lnTo>
                  <a:lnTo>
                    <a:pt x="764" y="600"/>
                  </a:lnTo>
                  <a:lnTo>
                    <a:pt x="734" y="608"/>
                  </a:lnTo>
                  <a:lnTo>
                    <a:pt x="719" y="638"/>
                  </a:lnTo>
                  <a:lnTo>
                    <a:pt x="689" y="660"/>
                  </a:lnTo>
                  <a:lnTo>
                    <a:pt x="659" y="660"/>
                  </a:lnTo>
                  <a:lnTo>
                    <a:pt x="629" y="668"/>
                  </a:lnTo>
                  <a:lnTo>
                    <a:pt x="621" y="698"/>
                  </a:lnTo>
                  <a:lnTo>
                    <a:pt x="621" y="728"/>
                  </a:lnTo>
                  <a:lnTo>
                    <a:pt x="591" y="743"/>
                  </a:lnTo>
                  <a:lnTo>
                    <a:pt x="561" y="750"/>
                  </a:lnTo>
                  <a:lnTo>
                    <a:pt x="539" y="780"/>
                  </a:lnTo>
                  <a:lnTo>
                    <a:pt x="509" y="780"/>
                  </a:lnTo>
                  <a:lnTo>
                    <a:pt x="479" y="795"/>
                  </a:lnTo>
                  <a:lnTo>
                    <a:pt x="449" y="825"/>
                  </a:lnTo>
                  <a:lnTo>
                    <a:pt x="419" y="840"/>
                  </a:lnTo>
                  <a:lnTo>
                    <a:pt x="389" y="855"/>
                  </a:lnTo>
                  <a:lnTo>
                    <a:pt x="359" y="847"/>
                  </a:lnTo>
                  <a:lnTo>
                    <a:pt x="329" y="847"/>
                  </a:lnTo>
                  <a:lnTo>
                    <a:pt x="291" y="855"/>
                  </a:lnTo>
                  <a:lnTo>
                    <a:pt x="253" y="870"/>
                  </a:lnTo>
                  <a:lnTo>
                    <a:pt x="223" y="877"/>
                  </a:lnTo>
                  <a:lnTo>
                    <a:pt x="193" y="870"/>
                  </a:lnTo>
                  <a:lnTo>
                    <a:pt x="163" y="870"/>
                  </a:lnTo>
                  <a:lnTo>
                    <a:pt x="133" y="870"/>
                  </a:lnTo>
                  <a:lnTo>
                    <a:pt x="103" y="877"/>
                  </a:lnTo>
                  <a:lnTo>
                    <a:pt x="73" y="892"/>
                  </a:lnTo>
                  <a:lnTo>
                    <a:pt x="58" y="922"/>
                  </a:lnTo>
                  <a:lnTo>
                    <a:pt x="28" y="945"/>
                  </a:lnTo>
                  <a:lnTo>
                    <a:pt x="13" y="945"/>
                  </a:lnTo>
                  <a:lnTo>
                    <a:pt x="0" y="11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4640" y="826920"/>
              <a:ext cx="156600" cy="306000"/>
            </a:xfrm>
            <a:custGeom>
              <a:avLst/>
              <a:gdLst/>
              <a:ahLst/>
              <a:rect l="l" t="t" r="r" b="b"/>
              <a:pathLst>
                <a:path w="438" h="851">
                  <a:moveTo>
                    <a:pt x="187" y="25"/>
                  </a:moveTo>
                  <a:lnTo>
                    <a:pt x="212" y="20"/>
                  </a:lnTo>
                  <a:lnTo>
                    <a:pt x="237" y="0"/>
                  </a:lnTo>
                  <a:lnTo>
                    <a:pt x="262" y="0"/>
                  </a:lnTo>
                  <a:lnTo>
                    <a:pt x="287" y="0"/>
                  </a:lnTo>
                  <a:lnTo>
                    <a:pt x="312" y="0"/>
                  </a:lnTo>
                  <a:lnTo>
                    <a:pt x="337" y="15"/>
                  </a:lnTo>
                  <a:lnTo>
                    <a:pt x="352" y="40"/>
                  </a:lnTo>
                  <a:lnTo>
                    <a:pt x="357" y="65"/>
                  </a:lnTo>
                  <a:lnTo>
                    <a:pt x="357" y="90"/>
                  </a:lnTo>
                  <a:lnTo>
                    <a:pt x="362" y="115"/>
                  </a:lnTo>
                  <a:lnTo>
                    <a:pt x="362" y="140"/>
                  </a:lnTo>
                  <a:lnTo>
                    <a:pt x="357" y="170"/>
                  </a:lnTo>
                  <a:lnTo>
                    <a:pt x="382" y="190"/>
                  </a:lnTo>
                  <a:lnTo>
                    <a:pt x="397" y="215"/>
                  </a:lnTo>
                  <a:lnTo>
                    <a:pt x="402" y="240"/>
                  </a:lnTo>
                  <a:lnTo>
                    <a:pt x="412" y="265"/>
                  </a:lnTo>
                  <a:lnTo>
                    <a:pt x="407" y="290"/>
                  </a:lnTo>
                  <a:lnTo>
                    <a:pt x="382" y="300"/>
                  </a:lnTo>
                  <a:lnTo>
                    <a:pt x="372" y="325"/>
                  </a:lnTo>
                  <a:lnTo>
                    <a:pt x="352" y="350"/>
                  </a:lnTo>
                  <a:lnTo>
                    <a:pt x="327" y="370"/>
                  </a:lnTo>
                  <a:lnTo>
                    <a:pt x="302" y="390"/>
                  </a:lnTo>
                  <a:lnTo>
                    <a:pt x="292" y="415"/>
                  </a:lnTo>
                  <a:lnTo>
                    <a:pt x="317" y="440"/>
                  </a:lnTo>
                  <a:lnTo>
                    <a:pt x="342" y="450"/>
                  </a:lnTo>
                  <a:lnTo>
                    <a:pt x="347" y="475"/>
                  </a:lnTo>
                  <a:lnTo>
                    <a:pt x="372" y="460"/>
                  </a:lnTo>
                  <a:lnTo>
                    <a:pt x="397" y="460"/>
                  </a:lnTo>
                  <a:lnTo>
                    <a:pt x="402" y="485"/>
                  </a:lnTo>
                  <a:lnTo>
                    <a:pt x="427" y="505"/>
                  </a:lnTo>
                  <a:lnTo>
                    <a:pt x="437" y="530"/>
                  </a:lnTo>
                  <a:lnTo>
                    <a:pt x="437" y="560"/>
                  </a:lnTo>
                  <a:lnTo>
                    <a:pt x="437" y="590"/>
                  </a:lnTo>
                  <a:lnTo>
                    <a:pt x="427" y="615"/>
                  </a:lnTo>
                  <a:lnTo>
                    <a:pt x="402" y="630"/>
                  </a:lnTo>
                  <a:lnTo>
                    <a:pt x="377" y="630"/>
                  </a:lnTo>
                  <a:lnTo>
                    <a:pt x="357" y="655"/>
                  </a:lnTo>
                  <a:lnTo>
                    <a:pt x="332" y="665"/>
                  </a:lnTo>
                  <a:lnTo>
                    <a:pt x="322" y="690"/>
                  </a:lnTo>
                  <a:lnTo>
                    <a:pt x="297" y="695"/>
                  </a:lnTo>
                  <a:lnTo>
                    <a:pt x="277" y="720"/>
                  </a:lnTo>
                  <a:lnTo>
                    <a:pt x="277" y="745"/>
                  </a:lnTo>
                  <a:lnTo>
                    <a:pt x="282" y="770"/>
                  </a:lnTo>
                  <a:lnTo>
                    <a:pt x="287" y="795"/>
                  </a:lnTo>
                  <a:lnTo>
                    <a:pt x="277" y="820"/>
                  </a:lnTo>
                  <a:lnTo>
                    <a:pt x="252" y="835"/>
                  </a:lnTo>
                  <a:lnTo>
                    <a:pt x="227" y="850"/>
                  </a:lnTo>
                  <a:lnTo>
                    <a:pt x="202" y="848"/>
                  </a:lnTo>
                  <a:lnTo>
                    <a:pt x="195" y="811"/>
                  </a:lnTo>
                  <a:lnTo>
                    <a:pt x="180" y="781"/>
                  </a:lnTo>
                  <a:lnTo>
                    <a:pt x="172" y="751"/>
                  </a:lnTo>
                  <a:lnTo>
                    <a:pt x="172" y="721"/>
                  </a:lnTo>
                  <a:lnTo>
                    <a:pt x="172" y="691"/>
                  </a:lnTo>
                  <a:lnTo>
                    <a:pt x="157" y="661"/>
                  </a:lnTo>
                  <a:lnTo>
                    <a:pt x="127" y="638"/>
                  </a:lnTo>
                  <a:lnTo>
                    <a:pt x="97" y="608"/>
                  </a:lnTo>
                  <a:lnTo>
                    <a:pt x="82" y="578"/>
                  </a:lnTo>
                  <a:lnTo>
                    <a:pt x="75" y="548"/>
                  </a:lnTo>
                  <a:lnTo>
                    <a:pt x="67" y="518"/>
                  </a:lnTo>
                  <a:lnTo>
                    <a:pt x="37" y="496"/>
                  </a:lnTo>
                  <a:lnTo>
                    <a:pt x="37" y="466"/>
                  </a:lnTo>
                  <a:lnTo>
                    <a:pt x="30" y="436"/>
                  </a:lnTo>
                  <a:lnTo>
                    <a:pt x="7" y="406"/>
                  </a:lnTo>
                  <a:lnTo>
                    <a:pt x="0" y="376"/>
                  </a:lnTo>
                  <a:lnTo>
                    <a:pt x="30" y="376"/>
                  </a:lnTo>
                  <a:lnTo>
                    <a:pt x="60" y="353"/>
                  </a:lnTo>
                  <a:lnTo>
                    <a:pt x="82" y="323"/>
                  </a:lnTo>
                  <a:lnTo>
                    <a:pt x="112" y="301"/>
                  </a:lnTo>
                  <a:lnTo>
                    <a:pt x="120" y="271"/>
                  </a:lnTo>
                  <a:lnTo>
                    <a:pt x="127" y="241"/>
                  </a:lnTo>
                  <a:lnTo>
                    <a:pt x="127" y="211"/>
                  </a:lnTo>
                  <a:lnTo>
                    <a:pt x="127" y="181"/>
                  </a:lnTo>
                  <a:lnTo>
                    <a:pt x="120" y="151"/>
                  </a:lnTo>
                  <a:lnTo>
                    <a:pt x="120" y="121"/>
                  </a:lnTo>
                  <a:lnTo>
                    <a:pt x="127" y="91"/>
                  </a:lnTo>
                  <a:lnTo>
                    <a:pt x="144" y="69"/>
                  </a:lnTo>
                  <a:lnTo>
                    <a:pt x="169" y="55"/>
                  </a:lnTo>
                  <a:lnTo>
                    <a:pt x="184" y="36"/>
                  </a:lnTo>
                  <a:lnTo>
                    <a:pt x="187" y="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68640" y="1007640"/>
              <a:ext cx="648360" cy="607680"/>
            </a:xfrm>
            <a:custGeom>
              <a:avLst/>
              <a:gdLst/>
              <a:ahLst/>
              <a:rect l="l" t="t" r="r" b="b"/>
              <a:pathLst>
                <a:path w="1803" h="1691">
                  <a:moveTo>
                    <a:pt x="297" y="10"/>
                  </a:moveTo>
                  <a:lnTo>
                    <a:pt x="322" y="15"/>
                  </a:lnTo>
                  <a:lnTo>
                    <a:pt x="347" y="40"/>
                  </a:lnTo>
                  <a:lnTo>
                    <a:pt x="372" y="55"/>
                  </a:lnTo>
                  <a:lnTo>
                    <a:pt x="397" y="55"/>
                  </a:lnTo>
                  <a:lnTo>
                    <a:pt x="422" y="55"/>
                  </a:lnTo>
                  <a:lnTo>
                    <a:pt x="447" y="55"/>
                  </a:lnTo>
                  <a:lnTo>
                    <a:pt x="472" y="50"/>
                  </a:lnTo>
                  <a:lnTo>
                    <a:pt x="497" y="60"/>
                  </a:lnTo>
                  <a:lnTo>
                    <a:pt x="522" y="70"/>
                  </a:lnTo>
                  <a:lnTo>
                    <a:pt x="547" y="80"/>
                  </a:lnTo>
                  <a:lnTo>
                    <a:pt x="572" y="90"/>
                  </a:lnTo>
                  <a:lnTo>
                    <a:pt x="597" y="95"/>
                  </a:lnTo>
                  <a:lnTo>
                    <a:pt x="627" y="105"/>
                  </a:lnTo>
                  <a:lnTo>
                    <a:pt x="652" y="115"/>
                  </a:lnTo>
                  <a:lnTo>
                    <a:pt x="677" y="125"/>
                  </a:lnTo>
                  <a:lnTo>
                    <a:pt x="697" y="150"/>
                  </a:lnTo>
                  <a:lnTo>
                    <a:pt x="702" y="175"/>
                  </a:lnTo>
                  <a:lnTo>
                    <a:pt x="717" y="200"/>
                  </a:lnTo>
                  <a:lnTo>
                    <a:pt x="737" y="225"/>
                  </a:lnTo>
                  <a:lnTo>
                    <a:pt x="752" y="250"/>
                  </a:lnTo>
                  <a:lnTo>
                    <a:pt x="777" y="265"/>
                  </a:lnTo>
                  <a:lnTo>
                    <a:pt x="802" y="265"/>
                  </a:lnTo>
                  <a:lnTo>
                    <a:pt x="827" y="270"/>
                  </a:lnTo>
                  <a:lnTo>
                    <a:pt x="852" y="275"/>
                  </a:lnTo>
                  <a:lnTo>
                    <a:pt x="877" y="280"/>
                  </a:lnTo>
                  <a:lnTo>
                    <a:pt x="902" y="285"/>
                  </a:lnTo>
                  <a:lnTo>
                    <a:pt x="927" y="295"/>
                  </a:lnTo>
                  <a:lnTo>
                    <a:pt x="952" y="300"/>
                  </a:lnTo>
                  <a:lnTo>
                    <a:pt x="977" y="310"/>
                  </a:lnTo>
                  <a:lnTo>
                    <a:pt x="1002" y="325"/>
                  </a:lnTo>
                  <a:lnTo>
                    <a:pt x="1027" y="340"/>
                  </a:lnTo>
                  <a:lnTo>
                    <a:pt x="1052" y="355"/>
                  </a:lnTo>
                  <a:lnTo>
                    <a:pt x="1077" y="375"/>
                  </a:lnTo>
                  <a:lnTo>
                    <a:pt x="1102" y="380"/>
                  </a:lnTo>
                  <a:lnTo>
                    <a:pt x="1127" y="385"/>
                  </a:lnTo>
                  <a:lnTo>
                    <a:pt x="1152" y="375"/>
                  </a:lnTo>
                  <a:lnTo>
                    <a:pt x="1177" y="375"/>
                  </a:lnTo>
                  <a:lnTo>
                    <a:pt x="1202" y="350"/>
                  </a:lnTo>
                  <a:lnTo>
                    <a:pt x="1217" y="325"/>
                  </a:lnTo>
                  <a:lnTo>
                    <a:pt x="1237" y="300"/>
                  </a:lnTo>
                  <a:lnTo>
                    <a:pt x="1227" y="275"/>
                  </a:lnTo>
                  <a:lnTo>
                    <a:pt x="1212" y="250"/>
                  </a:lnTo>
                  <a:lnTo>
                    <a:pt x="1207" y="225"/>
                  </a:lnTo>
                  <a:lnTo>
                    <a:pt x="1207" y="200"/>
                  </a:lnTo>
                  <a:lnTo>
                    <a:pt x="1202" y="175"/>
                  </a:lnTo>
                  <a:lnTo>
                    <a:pt x="1212" y="150"/>
                  </a:lnTo>
                  <a:lnTo>
                    <a:pt x="1237" y="125"/>
                  </a:lnTo>
                  <a:lnTo>
                    <a:pt x="1257" y="100"/>
                  </a:lnTo>
                  <a:lnTo>
                    <a:pt x="1282" y="90"/>
                  </a:lnTo>
                  <a:lnTo>
                    <a:pt x="1307" y="80"/>
                  </a:lnTo>
                  <a:lnTo>
                    <a:pt x="1332" y="70"/>
                  </a:lnTo>
                  <a:lnTo>
                    <a:pt x="1357" y="70"/>
                  </a:lnTo>
                  <a:lnTo>
                    <a:pt x="1382" y="70"/>
                  </a:lnTo>
                  <a:lnTo>
                    <a:pt x="1407" y="65"/>
                  </a:lnTo>
                  <a:lnTo>
                    <a:pt x="1432" y="65"/>
                  </a:lnTo>
                  <a:lnTo>
                    <a:pt x="1457" y="80"/>
                  </a:lnTo>
                  <a:lnTo>
                    <a:pt x="1487" y="85"/>
                  </a:lnTo>
                  <a:lnTo>
                    <a:pt x="1512" y="95"/>
                  </a:lnTo>
                  <a:lnTo>
                    <a:pt x="1537" y="100"/>
                  </a:lnTo>
                  <a:lnTo>
                    <a:pt x="1547" y="125"/>
                  </a:lnTo>
                  <a:lnTo>
                    <a:pt x="1552" y="150"/>
                  </a:lnTo>
                  <a:lnTo>
                    <a:pt x="1577" y="155"/>
                  </a:lnTo>
                  <a:lnTo>
                    <a:pt x="1602" y="155"/>
                  </a:lnTo>
                  <a:lnTo>
                    <a:pt x="1627" y="155"/>
                  </a:lnTo>
                  <a:lnTo>
                    <a:pt x="1652" y="170"/>
                  </a:lnTo>
                  <a:lnTo>
                    <a:pt x="1677" y="170"/>
                  </a:lnTo>
                  <a:lnTo>
                    <a:pt x="1702" y="170"/>
                  </a:lnTo>
                  <a:lnTo>
                    <a:pt x="1727" y="170"/>
                  </a:lnTo>
                  <a:lnTo>
                    <a:pt x="1758" y="180"/>
                  </a:lnTo>
                  <a:lnTo>
                    <a:pt x="1777" y="205"/>
                  </a:lnTo>
                  <a:lnTo>
                    <a:pt x="1757" y="230"/>
                  </a:lnTo>
                  <a:lnTo>
                    <a:pt x="1747" y="255"/>
                  </a:lnTo>
                  <a:lnTo>
                    <a:pt x="1757" y="280"/>
                  </a:lnTo>
                  <a:lnTo>
                    <a:pt x="1767" y="305"/>
                  </a:lnTo>
                  <a:lnTo>
                    <a:pt x="1767" y="330"/>
                  </a:lnTo>
                  <a:lnTo>
                    <a:pt x="1762" y="355"/>
                  </a:lnTo>
                  <a:lnTo>
                    <a:pt x="1752" y="380"/>
                  </a:lnTo>
                  <a:lnTo>
                    <a:pt x="1757" y="405"/>
                  </a:lnTo>
                  <a:lnTo>
                    <a:pt x="1762" y="430"/>
                  </a:lnTo>
                  <a:lnTo>
                    <a:pt x="1762" y="455"/>
                  </a:lnTo>
                  <a:lnTo>
                    <a:pt x="1772" y="485"/>
                  </a:lnTo>
                  <a:lnTo>
                    <a:pt x="1782" y="530"/>
                  </a:lnTo>
                  <a:lnTo>
                    <a:pt x="1802" y="1645"/>
                  </a:lnTo>
                  <a:lnTo>
                    <a:pt x="1692" y="1655"/>
                  </a:lnTo>
                  <a:lnTo>
                    <a:pt x="1687" y="1690"/>
                  </a:lnTo>
                  <a:lnTo>
                    <a:pt x="747" y="1210"/>
                  </a:lnTo>
                  <a:lnTo>
                    <a:pt x="562" y="1315"/>
                  </a:lnTo>
                  <a:lnTo>
                    <a:pt x="512" y="1255"/>
                  </a:lnTo>
                  <a:lnTo>
                    <a:pt x="262" y="1205"/>
                  </a:lnTo>
                  <a:lnTo>
                    <a:pt x="240" y="1198"/>
                  </a:lnTo>
                  <a:lnTo>
                    <a:pt x="217" y="1168"/>
                  </a:lnTo>
                  <a:lnTo>
                    <a:pt x="202" y="1138"/>
                  </a:lnTo>
                  <a:lnTo>
                    <a:pt x="195" y="1108"/>
                  </a:lnTo>
                  <a:lnTo>
                    <a:pt x="165" y="1093"/>
                  </a:lnTo>
                  <a:lnTo>
                    <a:pt x="135" y="1078"/>
                  </a:lnTo>
                  <a:lnTo>
                    <a:pt x="105" y="1056"/>
                  </a:lnTo>
                  <a:lnTo>
                    <a:pt x="75" y="1056"/>
                  </a:lnTo>
                  <a:lnTo>
                    <a:pt x="52" y="1026"/>
                  </a:lnTo>
                  <a:lnTo>
                    <a:pt x="37" y="996"/>
                  </a:lnTo>
                  <a:lnTo>
                    <a:pt x="30" y="966"/>
                  </a:lnTo>
                  <a:lnTo>
                    <a:pt x="22" y="936"/>
                  </a:lnTo>
                  <a:lnTo>
                    <a:pt x="7" y="906"/>
                  </a:lnTo>
                  <a:lnTo>
                    <a:pt x="0" y="876"/>
                  </a:lnTo>
                  <a:lnTo>
                    <a:pt x="7" y="846"/>
                  </a:lnTo>
                  <a:lnTo>
                    <a:pt x="37" y="823"/>
                  </a:lnTo>
                  <a:lnTo>
                    <a:pt x="60" y="793"/>
                  </a:lnTo>
                  <a:lnTo>
                    <a:pt x="67" y="763"/>
                  </a:lnTo>
                  <a:lnTo>
                    <a:pt x="60" y="733"/>
                  </a:lnTo>
                  <a:lnTo>
                    <a:pt x="60" y="703"/>
                  </a:lnTo>
                  <a:lnTo>
                    <a:pt x="75" y="673"/>
                  </a:lnTo>
                  <a:lnTo>
                    <a:pt x="75" y="643"/>
                  </a:lnTo>
                  <a:lnTo>
                    <a:pt x="67" y="613"/>
                  </a:lnTo>
                  <a:lnTo>
                    <a:pt x="52" y="583"/>
                  </a:lnTo>
                  <a:lnTo>
                    <a:pt x="52" y="553"/>
                  </a:lnTo>
                  <a:lnTo>
                    <a:pt x="52" y="523"/>
                  </a:lnTo>
                  <a:lnTo>
                    <a:pt x="52" y="493"/>
                  </a:lnTo>
                  <a:lnTo>
                    <a:pt x="52" y="463"/>
                  </a:lnTo>
                  <a:lnTo>
                    <a:pt x="52" y="433"/>
                  </a:lnTo>
                  <a:lnTo>
                    <a:pt x="52" y="403"/>
                  </a:lnTo>
                  <a:lnTo>
                    <a:pt x="52" y="373"/>
                  </a:lnTo>
                  <a:lnTo>
                    <a:pt x="52" y="343"/>
                  </a:lnTo>
                  <a:lnTo>
                    <a:pt x="77" y="345"/>
                  </a:lnTo>
                  <a:lnTo>
                    <a:pt x="102" y="330"/>
                  </a:lnTo>
                  <a:lnTo>
                    <a:pt x="127" y="315"/>
                  </a:lnTo>
                  <a:lnTo>
                    <a:pt x="137" y="290"/>
                  </a:lnTo>
                  <a:lnTo>
                    <a:pt x="132" y="265"/>
                  </a:lnTo>
                  <a:lnTo>
                    <a:pt x="127" y="240"/>
                  </a:lnTo>
                  <a:lnTo>
                    <a:pt x="127" y="215"/>
                  </a:lnTo>
                  <a:lnTo>
                    <a:pt x="147" y="190"/>
                  </a:lnTo>
                  <a:lnTo>
                    <a:pt x="172" y="185"/>
                  </a:lnTo>
                  <a:lnTo>
                    <a:pt x="182" y="160"/>
                  </a:lnTo>
                  <a:lnTo>
                    <a:pt x="207" y="150"/>
                  </a:lnTo>
                  <a:lnTo>
                    <a:pt x="227" y="125"/>
                  </a:lnTo>
                  <a:lnTo>
                    <a:pt x="252" y="125"/>
                  </a:lnTo>
                  <a:lnTo>
                    <a:pt x="277" y="110"/>
                  </a:lnTo>
                  <a:lnTo>
                    <a:pt x="287" y="85"/>
                  </a:lnTo>
                  <a:lnTo>
                    <a:pt x="287" y="55"/>
                  </a:lnTo>
                  <a:lnTo>
                    <a:pt x="287" y="25"/>
                  </a:lnTo>
                  <a:lnTo>
                    <a:pt x="277" y="0"/>
                  </a:lnTo>
                  <a:lnTo>
                    <a:pt x="297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6480" y="1078920"/>
              <a:ext cx="469080" cy="436320"/>
            </a:xfrm>
            <a:custGeom>
              <a:avLst/>
              <a:gdLst/>
              <a:ahLst/>
              <a:rect l="l" t="t" r="r" b="b"/>
              <a:pathLst>
                <a:path w="1306" h="1211">
                  <a:moveTo>
                    <a:pt x="45" y="15"/>
                  </a:moveTo>
                  <a:lnTo>
                    <a:pt x="70" y="35"/>
                  </a:lnTo>
                  <a:lnTo>
                    <a:pt x="95" y="20"/>
                  </a:lnTo>
                  <a:lnTo>
                    <a:pt x="130" y="20"/>
                  </a:lnTo>
                  <a:lnTo>
                    <a:pt x="155" y="30"/>
                  </a:lnTo>
                  <a:lnTo>
                    <a:pt x="185" y="35"/>
                  </a:lnTo>
                  <a:lnTo>
                    <a:pt x="210" y="40"/>
                  </a:lnTo>
                  <a:lnTo>
                    <a:pt x="235" y="45"/>
                  </a:lnTo>
                  <a:lnTo>
                    <a:pt x="260" y="50"/>
                  </a:lnTo>
                  <a:lnTo>
                    <a:pt x="285" y="70"/>
                  </a:lnTo>
                  <a:lnTo>
                    <a:pt x="310" y="70"/>
                  </a:lnTo>
                  <a:lnTo>
                    <a:pt x="335" y="65"/>
                  </a:lnTo>
                  <a:lnTo>
                    <a:pt x="360" y="70"/>
                  </a:lnTo>
                  <a:lnTo>
                    <a:pt x="385" y="70"/>
                  </a:lnTo>
                  <a:lnTo>
                    <a:pt x="410" y="75"/>
                  </a:lnTo>
                  <a:lnTo>
                    <a:pt x="435" y="80"/>
                  </a:lnTo>
                  <a:lnTo>
                    <a:pt x="460" y="100"/>
                  </a:lnTo>
                  <a:lnTo>
                    <a:pt x="485" y="100"/>
                  </a:lnTo>
                  <a:lnTo>
                    <a:pt x="510" y="95"/>
                  </a:lnTo>
                  <a:lnTo>
                    <a:pt x="535" y="80"/>
                  </a:lnTo>
                  <a:lnTo>
                    <a:pt x="560" y="65"/>
                  </a:lnTo>
                  <a:lnTo>
                    <a:pt x="585" y="50"/>
                  </a:lnTo>
                  <a:lnTo>
                    <a:pt x="615" y="20"/>
                  </a:lnTo>
                  <a:lnTo>
                    <a:pt x="640" y="10"/>
                  </a:lnTo>
                  <a:lnTo>
                    <a:pt x="665" y="0"/>
                  </a:lnTo>
                  <a:lnTo>
                    <a:pt x="680" y="25"/>
                  </a:lnTo>
                  <a:lnTo>
                    <a:pt x="705" y="25"/>
                  </a:lnTo>
                  <a:lnTo>
                    <a:pt x="730" y="10"/>
                  </a:lnTo>
                  <a:lnTo>
                    <a:pt x="755" y="20"/>
                  </a:lnTo>
                  <a:lnTo>
                    <a:pt x="780" y="20"/>
                  </a:lnTo>
                  <a:lnTo>
                    <a:pt x="805" y="30"/>
                  </a:lnTo>
                  <a:lnTo>
                    <a:pt x="830" y="40"/>
                  </a:lnTo>
                  <a:lnTo>
                    <a:pt x="855" y="55"/>
                  </a:lnTo>
                  <a:lnTo>
                    <a:pt x="880" y="60"/>
                  </a:lnTo>
                  <a:lnTo>
                    <a:pt x="910" y="65"/>
                  </a:lnTo>
                  <a:lnTo>
                    <a:pt x="935" y="65"/>
                  </a:lnTo>
                  <a:lnTo>
                    <a:pt x="960" y="65"/>
                  </a:lnTo>
                  <a:lnTo>
                    <a:pt x="985" y="55"/>
                  </a:lnTo>
                  <a:lnTo>
                    <a:pt x="1010" y="50"/>
                  </a:lnTo>
                  <a:lnTo>
                    <a:pt x="1035" y="45"/>
                  </a:lnTo>
                  <a:lnTo>
                    <a:pt x="1060" y="40"/>
                  </a:lnTo>
                  <a:lnTo>
                    <a:pt x="1130" y="245"/>
                  </a:lnTo>
                  <a:lnTo>
                    <a:pt x="1130" y="260"/>
                  </a:lnTo>
                  <a:lnTo>
                    <a:pt x="1120" y="285"/>
                  </a:lnTo>
                  <a:lnTo>
                    <a:pt x="1120" y="310"/>
                  </a:lnTo>
                  <a:lnTo>
                    <a:pt x="1115" y="335"/>
                  </a:lnTo>
                  <a:lnTo>
                    <a:pt x="1110" y="360"/>
                  </a:lnTo>
                  <a:lnTo>
                    <a:pt x="1110" y="385"/>
                  </a:lnTo>
                  <a:lnTo>
                    <a:pt x="1105" y="410"/>
                  </a:lnTo>
                  <a:lnTo>
                    <a:pt x="1105" y="435"/>
                  </a:lnTo>
                  <a:lnTo>
                    <a:pt x="1100" y="460"/>
                  </a:lnTo>
                  <a:lnTo>
                    <a:pt x="1075" y="475"/>
                  </a:lnTo>
                  <a:lnTo>
                    <a:pt x="1050" y="460"/>
                  </a:lnTo>
                  <a:lnTo>
                    <a:pt x="1025" y="445"/>
                  </a:lnTo>
                  <a:lnTo>
                    <a:pt x="1010" y="420"/>
                  </a:lnTo>
                  <a:lnTo>
                    <a:pt x="985" y="405"/>
                  </a:lnTo>
                  <a:lnTo>
                    <a:pt x="960" y="385"/>
                  </a:lnTo>
                  <a:lnTo>
                    <a:pt x="955" y="360"/>
                  </a:lnTo>
                  <a:lnTo>
                    <a:pt x="950" y="335"/>
                  </a:lnTo>
                  <a:lnTo>
                    <a:pt x="930" y="310"/>
                  </a:lnTo>
                  <a:lnTo>
                    <a:pt x="905" y="285"/>
                  </a:lnTo>
                  <a:lnTo>
                    <a:pt x="895" y="260"/>
                  </a:lnTo>
                  <a:lnTo>
                    <a:pt x="890" y="235"/>
                  </a:lnTo>
                  <a:lnTo>
                    <a:pt x="875" y="210"/>
                  </a:lnTo>
                  <a:lnTo>
                    <a:pt x="855" y="235"/>
                  </a:lnTo>
                  <a:lnTo>
                    <a:pt x="850" y="260"/>
                  </a:lnTo>
                  <a:lnTo>
                    <a:pt x="875" y="285"/>
                  </a:lnTo>
                  <a:lnTo>
                    <a:pt x="885" y="310"/>
                  </a:lnTo>
                  <a:lnTo>
                    <a:pt x="885" y="335"/>
                  </a:lnTo>
                  <a:lnTo>
                    <a:pt x="905" y="360"/>
                  </a:lnTo>
                  <a:lnTo>
                    <a:pt x="920" y="385"/>
                  </a:lnTo>
                  <a:lnTo>
                    <a:pt x="945" y="405"/>
                  </a:lnTo>
                  <a:lnTo>
                    <a:pt x="970" y="430"/>
                  </a:lnTo>
                  <a:lnTo>
                    <a:pt x="995" y="445"/>
                  </a:lnTo>
                  <a:lnTo>
                    <a:pt x="1020" y="465"/>
                  </a:lnTo>
                  <a:lnTo>
                    <a:pt x="1010" y="490"/>
                  </a:lnTo>
                  <a:lnTo>
                    <a:pt x="1030" y="515"/>
                  </a:lnTo>
                  <a:lnTo>
                    <a:pt x="1035" y="540"/>
                  </a:lnTo>
                  <a:lnTo>
                    <a:pt x="1045" y="565"/>
                  </a:lnTo>
                  <a:lnTo>
                    <a:pt x="1065" y="590"/>
                  </a:lnTo>
                  <a:lnTo>
                    <a:pt x="1065" y="615"/>
                  </a:lnTo>
                  <a:lnTo>
                    <a:pt x="1080" y="640"/>
                  </a:lnTo>
                  <a:lnTo>
                    <a:pt x="1095" y="665"/>
                  </a:lnTo>
                  <a:lnTo>
                    <a:pt x="1105" y="690"/>
                  </a:lnTo>
                  <a:lnTo>
                    <a:pt x="1120" y="715"/>
                  </a:lnTo>
                  <a:lnTo>
                    <a:pt x="1135" y="740"/>
                  </a:lnTo>
                  <a:lnTo>
                    <a:pt x="1155" y="765"/>
                  </a:lnTo>
                  <a:lnTo>
                    <a:pt x="1175" y="790"/>
                  </a:lnTo>
                  <a:lnTo>
                    <a:pt x="1185" y="815"/>
                  </a:lnTo>
                  <a:lnTo>
                    <a:pt x="1195" y="840"/>
                  </a:lnTo>
                  <a:lnTo>
                    <a:pt x="1215" y="865"/>
                  </a:lnTo>
                  <a:lnTo>
                    <a:pt x="1240" y="890"/>
                  </a:lnTo>
                  <a:lnTo>
                    <a:pt x="1260" y="915"/>
                  </a:lnTo>
                  <a:lnTo>
                    <a:pt x="1280" y="940"/>
                  </a:lnTo>
                  <a:lnTo>
                    <a:pt x="1305" y="945"/>
                  </a:lnTo>
                  <a:lnTo>
                    <a:pt x="1300" y="960"/>
                  </a:lnTo>
                  <a:lnTo>
                    <a:pt x="1280" y="985"/>
                  </a:lnTo>
                  <a:lnTo>
                    <a:pt x="1280" y="1010"/>
                  </a:lnTo>
                  <a:lnTo>
                    <a:pt x="1290" y="1035"/>
                  </a:lnTo>
                  <a:lnTo>
                    <a:pt x="1285" y="1060"/>
                  </a:lnTo>
                  <a:lnTo>
                    <a:pt x="1260" y="1075"/>
                  </a:lnTo>
                  <a:lnTo>
                    <a:pt x="1235" y="1090"/>
                  </a:lnTo>
                  <a:lnTo>
                    <a:pt x="1210" y="1075"/>
                  </a:lnTo>
                  <a:lnTo>
                    <a:pt x="1205" y="1100"/>
                  </a:lnTo>
                  <a:lnTo>
                    <a:pt x="1200" y="1125"/>
                  </a:lnTo>
                  <a:lnTo>
                    <a:pt x="1175" y="1140"/>
                  </a:lnTo>
                  <a:lnTo>
                    <a:pt x="1145" y="1135"/>
                  </a:lnTo>
                  <a:lnTo>
                    <a:pt x="1120" y="1135"/>
                  </a:lnTo>
                  <a:lnTo>
                    <a:pt x="1100" y="1160"/>
                  </a:lnTo>
                  <a:lnTo>
                    <a:pt x="1085" y="1185"/>
                  </a:lnTo>
                  <a:lnTo>
                    <a:pt x="1060" y="1210"/>
                  </a:lnTo>
                  <a:lnTo>
                    <a:pt x="1035" y="1210"/>
                  </a:lnTo>
                  <a:lnTo>
                    <a:pt x="1010" y="1195"/>
                  </a:lnTo>
                  <a:lnTo>
                    <a:pt x="995" y="1190"/>
                  </a:lnTo>
                  <a:lnTo>
                    <a:pt x="60" y="1205"/>
                  </a:lnTo>
                  <a:lnTo>
                    <a:pt x="35" y="330"/>
                  </a:lnTo>
                  <a:lnTo>
                    <a:pt x="25" y="285"/>
                  </a:lnTo>
                  <a:lnTo>
                    <a:pt x="15" y="255"/>
                  </a:lnTo>
                  <a:lnTo>
                    <a:pt x="15" y="230"/>
                  </a:lnTo>
                  <a:lnTo>
                    <a:pt x="10" y="205"/>
                  </a:lnTo>
                  <a:lnTo>
                    <a:pt x="5" y="180"/>
                  </a:lnTo>
                  <a:lnTo>
                    <a:pt x="15" y="155"/>
                  </a:lnTo>
                  <a:lnTo>
                    <a:pt x="20" y="130"/>
                  </a:lnTo>
                  <a:lnTo>
                    <a:pt x="20" y="105"/>
                  </a:lnTo>
                  <a:lnTo>
                    <a:pt x="10" y="80"/>
                  </a:lnTo>
                  <a:lnTo>
                    <a:pt x="0" y="55"/>
                  </a:lnTo>
                  <a:lnTo>
                    <a:pt x="10" y="30"/>
                  </a:lnTo>
                  <a:lnTo>
                    <a:pt x="30" y="5"/>
                  </a:lnTo>
                  <a:lnTo>
                    <a:pt x="45" y="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87040" y="1461600"/>
              <a:ext cx="708480" cy="892800"/>
            </a:xfrm>
            <a:custGeom>
              <a:avLst/>
              <a:gdLst/>
              <a:ahLst/>
              <a:rect l="l" t="t" r="r" b="b"/>
              <a:pathLst>
                <a:path w="1971" h="2481">
                  <a:moveTo>
                    <a:pt x="360" y="385"/>
                  </a:moveTo>
                  <a:lnTo>
                    <a:pt x="250" y="395"/>
                  </a:lnTo>
                  <a:lnTo>
                    <a:pt x="245" y="430"/>
                  </a:lnTo>
                  <a:lnTo>
                    <a:pt x="250" y="945"/>
                  </a:lnTo>
                  <a:lnTo>
                    <a:pt x="235" y="945"/>
                  </a:lnTo>
                  <a:lnTo>
                    <a:pt x="210" y="940"/>
                  </a:lnTo>
                  <a:lnTo>
                    <a:pt x="185" y="935"/>
                  </a:lnTo>
                  <a:lnTo>
                    <a:pt x="160" y="945"/>
                  </a:lnTo>
                  <a:lnTo>
                    <a:pt x="135" y="945"/>
                  </a:lnTo>
                  <a:lnTo>
                    <a:pt x="110" y="960"/>
                  </a:lnTo>
                  <a:lnTo>
                    <a:pt x="120" y="985"/>
                  </a:lnTo>
                  <a:lnTo>
                    <a:pt x="125" y="1010"/>
                  </a:lnTo>
                  <a:lnTo>
                    <a:pt x="105" y="1035"/>
                  </a:lnTo>
                  <a:lnTo>
                    <a:pt x="95" y="1060"/>
                  </a:lnTo>
                  <a:lnTo>
                    <a:pt x="70" y="1075"/>
                  </a:lnTo>
                  <a:lnTo>
                    <a:pt x="55" y="1100"/>
                  </a:lnTo>
                  <a:lnTo>
                    <a:pt x="70" y="1125"/>
                  </a:lnTo>
                  <a:lnTo>
                    <a:pt x="50" y="1150"/>
                  </a:lnTo>
                  <a:lnTo>
                    <a:pt x="30" y="1175"/>
                  </a:lnTo>
                  <a:lnTo>
                    <a:pt x="30" y="1200"/>
                  </a:lnTo>
                  <a:lnTo>
                    <a:pt x="35" y="1225"/>
                  </a:lnTo>
                  <a:lnTo>
                    <a:pt x="30" y="1250"/>
                  </a:lnTo>
                  <a:lnTo>
                    <a:pt x="10" y="1275"/>
                  </a:lnTo>
                  <a:lnTo>
                    <a:pt x="0" y="1300"/>
                  </a:lnTo>
                  <a:lnTo>
                    <a:pt x="25" y="1315"/>
                  </a:lnTo>
                  <a:lnTo>
                    <a:pt x="50" y="1335"/>
                  </a:lnTo>
                  <a:lnTo>
                    <a:pt x="55" y="1360"/>
                  </a:lnTo>
                  <a:lnTo>
                    <a:pt x="55" y="1385"/>
                  </a:lnTo>
                  <a:lnTo>
                    <a:pt x="70" y="1410"/>
                  </a:lnTo>
                  <a:lnTo>
                    <a:pt x="75" y="1435"/>
                  </a:lnTo>
                  <a:lnTo>
                    <a:pt x="70" y="1460"/>
                  </a:lnTo>
                  <a:lnTo>
                    <a:pt x="95" y="1475"/>
                  </a:lnTo>
                  <a:lnTo>
                    <a:pt x="115" y="1500"/>
                  </a:lnTo>
                  <a:lnTo>
                    <a:pt x="125" y="1525"/>
                  </a:lnTo>
                  <a:lnTo>
                    <a:pt x="130" y="1580"/>
                  </a:lnTo>
                  <a:lnTo>
                    <a:pt x="155" y="1595"/>
                  </a:lnTo>
                  <a:lnTo>
                    <a:pt x="180" y="1620"/>
                  </a:lnTo>
                  <a:lnTo>
                    <a:pt x="205" y="1645"/>
                  </a:lnTo>
                  <a:lnTo>
                    <a:pt x="220" y="1670"/>
                  </a:lnTo>
                  <a:lnTo>
                    <a:pt x="220" y="1695"/>
                  </a:lnTo>
                  <a:lnTo>
                    <a:pt x="215" y="1720"/>
                  </a:lnTo>
                  <a:lnTo>
                    <a:pt x="215" y="1745"/>
                  </a:lnTo>
                  <a:lnTo>
                    <a:pt x="200" y="1770"/>
                  </a:lnTo>
                  <a:lnTo>
                    <a:pt x="210" y="1795"/>
                  </a:lnTo>
                  <a:lnTo>
                    <a:pt x="230" y="1820"/>
                  </a:lnTo>
                  <a:lnTo>
                    <a:pt x="255" y="1830"/>
                  </a:lnTo>
                  <a:lnTo>
                    <a:pt x="275" y="1855"/>
                  </a:lnTo>
                  <a:lnTo>
                    <a:pt x="290" y="1880"/>
                  </a:lnTo>
                  <a:lnTo>
                    <a:pt x="315" y="1885"/>
                  </a:lnTo>
                  <a:lnTo>
                    <a:pt x="340" y="1895"/>
                  </a:lnTo>
                  <a:lnTo>
                    <a:pt x="365" y="1910"/>
                  </a:lnTo>
                  <a:lnTo>
                    <a:pt x="390" y="1925"/>
                  </a:lnTo>
                  <a:lnTo>
                    <a:pt x="400" y="1950"/>
                  </a:lnTo>
                  <a:lnTo>
                    <a:pt x="410" y="1975"/>
                  </a:lnTo>
                  <a:lnTo>
                    <a:pt x="435" y="1995"/>
                  </a:lnTo>
                  <a:lnTo>
                    <a:pt x="460" y="2010"/>
                  </a:lnTo>
                  <a:lnTo>
                    <a:pt x="485" y="2025"/>
                  </a:lnTo>
                  <a:lnTo>
                    <a:pt x="510" y="2045"/>
                  </a:lnTo>
                  <a:lnTo>
                    <a:pt x="535" y="2060"/>
                  </a:lnTo>
                  <a:lnTo>
                    <a:pt x="540" y="2085"/>
                  </a:lnTo>
                  <a:lnTo>
                    <a:pt x="545" y="2110"/>
                  </a:lnTo>
                  <a:lnTo>
                    <a:pt x="550" y="2135"/>
                  </a:lnTo>
                  <a:lnTo>
                    <a:pt x="565" y="2160"/>
                  </a:lnTo>
                  <a:lnTo>
                    <a:pt x="590" y="2180"/>
                  </a:lnTo>
                  <a:lnTo>
                    <a:pt x="615" y="2190"/>
                  </a:lnTo>
                  <a:lnTo>
                    <a:pt x="640" y="2205"/>
                  </a:lnTo>
                  <a:lnTo>
                    <a:pt x="665" y="2230"/>
                  </a:lnTo>
                  <a:lnTo>
                    <a:pt x="665" y="2255"/>
                  </a:lnTo>
                  <a:lnTo>
                    <a:pt x="690" y="2295"/>
                  </a:lnTo>
                  <a:lnTo>
                    <a:pt x="715" y="2310"/>
                  </a:lnTo>
                  <a:lnTo>
                    <a:pt x="740" y="2335"/>
                  </a:lnTo>
                  <a:lnTo>
                    <a:pt x="765" y="2360"/>
                  </a:lnTo>
                  <a:lnTo>
                    <a:pt x="790" y="2350"/>
                  </a:lnTo>
                  <a:lnTo>
                    <a:pt x="815" y="2365"/>
                  </a:lnTo>
                  <a:lnTo>
                    <a:pt x="830" y="2390"/>
                  </a:lnTo>
                  <a:lnTo>
                    <a:pt x="855" y="2375"/>
                  </a:lnTo>
                  <a:lnTo>
                    <a:pt x="880" y="2360"/>
                  </a:lnTo>
                  <a:lnTo>
                    <a:pt x="900" y="2385"/>
                  </a:lnTo>
                  <a:lnTo>
                    <a:pt x="925" y="2365"/>
                  </a:lnTo>
                  <a:lnTo>
                    <a:pt x="950" y="2345"/>
                  </a:lnTo>
                  <a:lnTo>
                    <a:pt x="975" y="2360"/>
                  </a:lnTo>
                  <a:lnTo>
                    <a:pt x="990" y="2385"/>
                  </a:lnTo>
                  <a:lnTo>
                    <a:pt x="1005" y="2410"/>
                  </a:lnTo>
                  <a:lnTo>
                    <a:pt x="1030" y="2435"/>
                  </a:lnTo>
                  <a:lnTo>
                    <a:pt x="1055" y="2450"/>
                  </a:lnTo>
                  <a:lnTo>
                    <a:pt x="1080" y="2465"/>
                  </a:lnTo>
                  <a:lnTo>
                    <a:pt x="1105" y="2475"/>
                  </a:lnTo>
                  <a:lnTo>
                    <a:pt x="1130" y="2465"/>
                  </a:lnTo>
                  <a:lnTo>
                    <a:pt x="1155" y="2460"/>
                  </a:lnTo>
                  <a:lnTo>
                    <a:pt x="1180" y="2465"/>
                  </a:lnTo>
                  <a:lnTo>
                    <a:pt x="1205" y="2480"/>
                  </a:lnTo>
                  <a:lnTo>
                    <a:pt x="1230" y="2460"/>
                  </a:lnTo>
                  <a:lnTo>
                    <a:pt x="1255" y="2465"/>
                  </a:lnTo>
                  <a:lnTo>
                    <a:pt x="1280" y="2470"/>
                  </a:lnTo>
                  <a:lnTo>
                    <a:pt x="1305" y="2470"/>
                  </a:lnTo>
                  <a:lnTo>
                    <a:pt x="1330" y="2455"/>
                  </a:lnTo>
                  <a:lnTo>
                    <a:pt x="1355" y="2435"/>
                  </a:lnTo>
                  <a:lnTo>
                    <a:pt x="1375" y="2460"/>
                  </a:lnTo>
                  <a:lnTo>
                    <a:pt x="1400" y="2470"/>
                  </a:lnTo>
                  <a:lnTo>
                    <a:pt x="1425" y="2470"/>
                  </a:lnTo>
                  <a:lnTo>
                    <a:pt x="1450" y="2455"/>
                  </a:lnTo>
                  <a:lnTo>
                    <a:pt x="1455" y="2445"/>
                  </a:lnTo>
                  <a:lnTo>
                    <a:pt x="1575" y="2335"/>
                  </a:lnTo>
                  <a:lnTo>
                    <a:pt x="1725" y="2335"/>
                  </a:lnTo>
                  <a:lnTo>
                    <a:pt x="1735" y="2325"/>
                  </a:lnTo>
                  <a:lnTo>
                    <a:pt x="1730" y="2300"/>
                  </a:lnTo>
                  <a:lnTo>
                    <a:pt x="1725" y="2275"/>
                  </a:lnTo>
                  <a:lnTo>
                    <a:pt x="1700" y="2265"/>
                  </a:lnTo>
                  <a:lnTo>
                    <a:pt x="1675" y="2250"/>
                  </a:lnTo>
                  <a:lnTo>
                    <a:pt x="1655" y="2225"/>
                  </a:lnTo>
                  <a:lnTo>
                    <a:pt x="1650" y="2200"/>
                  </a:lnTo>
                  <a:lnTo>
                    <a:pt x="1635" y="2175"/>
                  </a:lnTo>
                  <a:lnTo>
                    <a:pt x="1615" y="2150"/>
                  </a:lnTo>
                  <a:lnTo>
                    <a:pt x="1605" y="2125"/>
                  </a:lnTo>
                  <a:lnTo>
                    <a:pt x="1600" y="2100"/>
                  </a:lnTo>
                  <a:lnTo>
                    <a:pt x="1575" y="2085"/>
                  </a:lnTo>
                  <a:lnTo>
                    <a:pt x="1560" y="2060"/>
                  </a:lnTo>
                  <a:lnTo>
                    <a:pt x="1545" y="2035"/>
                  </a:lnTo>
                  <a:lnTo>
                    <a:pt x="1520" y="2020"/>
                  </a:lnTo>
                  <a:lnTo>
                    <a:pt x="1500" y="1995"/>
                  </a:lnTo>
                  <a:lnTo>
                    <a:pt x="1475" y="1980"/>
                  </a:lnTo>
                  <a:lnTo>
                    <a:pt x="1450" y="1965"/>
                  </a:lnTo>
                  <a:lnTo>
                    <a:pt x="1425" y="1965"/>
                  </a:lnTo>
                  <a:lnTo>
                    <a:pt x="1395" y="1955"/>
                  </a:lnTo>
                  <a:lnTo>
                    <a:pt x="1390" y="1915"/>
                  </a:lnTo>
                  <a:lnTo>
                    <a:pt x="1390" y="1890"/>
                  </a:lnTo>
                  <a:lnTo>
                    <a:pt x="1410" y="1860"/>
                  </a:lnTo>
                  <a:lnTo>
                    <a:pt x="1435" y="1865"/>
                  </a:lnTo>
                  <a:lnTo>
                    <a:pt x="1460" y="1870"/>
                  </a:lnTo>
                  <a:lnTo>
                    <a:pt x="1485" y="1855"/>
                  </a:lnTo>
                  <a:lnTo>
                    <a:pt x="1510" y="1840"/>
                  </a:lnTo>
                  <a:lnTo>
                    <a:pt x="1515" y="1815"/>
                  </a:lnTo>
                  <a:lnTo>
                    <a:pt x="1525" y="1790"/>
                  </a:lnTo>
                  <a:lnTo>
                    <a:pt x="1525" y="1765"/>
                  </a:lnTo>
                  <a:lnTo>
                    <a:pt x="1525" y="1740"/>
                  </a:lnTo>
                  <a:lnTo>
                    <a:pt x="1515" y="1710"/>
                  </a:lnTo>
                  <a:lnTo>
                    <a:pt x="1520" y="1685"/>
                  </a:lnTo>
                  <a:lnTo>
                    <a:pt x="1530" y="1660"/>
                  </a:lnTo>
                  <a:lnTo>
                    <a:pt x="1535" y="1635"/>
                  </a:lnTo>
                  <a:lnTo>
                    <a:pt x="1535" y="1610"/>
                  </a:lnTo>
                  <a:lnTo>
                    <a:pt x="1545" y="1580"/>
                  </a:lnTo>
                  <a:lnTo>
                    <a:pt x="1570" y="1570"/>
                  </a:lnTo>
                  <a:lnTo>
                    <a:pt x="1600" y="1555"/>
                  </a:lnTo>
                  <a:lnTo>
                    <a:pt x="1605" y="1530"/>
                  </a:lnTo>
                  <a:lnTo>
                    <a:pt x="1610" y="1505"/>
                  </a:lnTo>
                  <a:lnTo>
                    <a:pt x="1615" y="1480"/>
                  </a:lnTo>
                  <a:lnTo>
                    <a:pt x="1620" y="1455"/>
                  </a:lnTo>
                  <a:lnTo>
                    <a:pt x="1615" y="1430"/>
                  </a:lnTo>
                  <a:lnTo>
                    <a:pt x="1635" y="1405"/>
                  </a:lnTo>
                  <a:lnTo>
                    <a:pt x="1660" y="1380"/>
                  </a:lnTo>
                  <a:lnTo>
                    <a:pt x="1680" y="1355"/>
                  </a:lnTo>
                  <a:lnTo>
                    <a:pt x="1695" y="1330"/>
                  </a:lnTo>
                  <a:lnTo>
                    <a:pt x="1720" y="1330"/>
                  </a:lnTo>
                  <a:lnTo>
                    <a:pt x="1745" y="1330"/>
                  </a:lnTo>
                  <a:lnTo>
                    <a:pt x="1745" y="1305"/>
                  </a:lnTo>
                  <a:lnTo>
                    <a:pt x="1750" y="1280"/>
                  </a:lnTo>
                  <a:lnTo>
                    <a:pt x="1755" y="1255"/>
                  </a:lnTo>
                  <a:lnTo>
                    <a:pt x="1755" y="1230"/>
                  </a:lnTo>
                  <a:lnTo>
                    <a:pt x="1765" y="1205"/>
                  </a:lnTo>
                  <a:lnTo>
                    <a:pt x="1775" y="1180"/>
                  </a:lnTo>
                  <a:lnTo>
                    <a:pt x="1785" y="1155"/>
                  </a:lnTo>
                  <a:lnTo>
                    <a:pt x="1790" y="1130"/>
                  </a:lnTo>
                  <a:lnTo>
                    <a:pt x="1790" y="1100"/>
                  </a:lnTo>
                  <a:lnTo>
                    <a:pt x="1780" y="1075"/>
                  </a:lnTo>
                  <a:lnTo>
                    <a:pt x="1765" y="1050"/>
                  </a:lnTo>
                  <a:lnTo>
                    <a:pt x="1760" y="1025"/>
                  </a:lnTo>
                  <a:lnTo>
                    <a:pt x="1765" y="1000"/>
                  </a:lnTo>
                  <a:lnTo>
                    <a:pt x="1770" y="975"/>
                  </a:lnTo>
                  <a:lnTo>
                    <a:pt x="1785" y="930"/>
                  </a:lnTo>
                  <a:lnTo>
                    <a:pt x="1795" y="900"/>
                  </a:lnTo>
                  <a:lnTo>
                    <a:pt x="1800" y="875"/>
                  </a:lnTo>
                  <a:lnTo>
                    <a:pt x="1810" y="850"/>
                  </a:lnTo>
                  <a:lnTo>
                    <a:pt x="1815" y="825"/>
                  </a:lnTo>
                  <a:lnTo>
                    <a:pt x="1820" y="800"/>
                  </a:lnTo>
                  <a:lnTo>
                    <a:pt x="1820" y="775"/>
                  </a:lnTo>
                  <a:lnTo>
                    <a:pt x="1830" y="750"/>
                  </a:lnTo>
                  <a:lnTo>
                    <a:pt x="1855" y="740"/>
                  </a:lnTo>
                  <a:lnTo>
                    <a:pt x="1865" y="715"/>
                  </a:lnTo>
                  <a:lnTo>
                    <a:pt x="1890" y="700"/>
                  </a:lnTo>
                  <a:lnTo>
                    <a:pt x="1915" y="690"/>
                  </a:lnTo>
                  <a:lnTo>
                    <a:pt x="1940" y="685"/>
                  </a:lnTo>
                  <a:lnTo>
                    <a:pt x="1965" y="665"/>
                  </a:lnTo>
                  <a:lnTo>
                    <a:pt x="1970" y="640"/>
                  </a:lnTo>
                  <a:lnTo>
                    <a:pt x="1955" y="615"/>
                  </a:lnTo>
                  <a:lnTo>
                    <a:pt x="1930" y="595"/>
                  </a:lnTo>
                  <a:lnTo>
                    <a:pt x="1915" y="570"/>
                  </a:lnTo>
                  <a:lnTo>
                    <a:pt x="1890" y="555"/>
                  </a:lnTo>
                  <a:lnTo>
                    <a:pt x="1865" y="540"/>
                  </a:lnTo>
                  <a:lnTo>
                    <a:pt x="1855" y="515"/>
                  </a:lnTo>
                  <a:lnTo>
                    <a:pt x="1845" y="490"/>
                  </a:lnTo>
                  <a:lnTo>
                    <a:pt x="1835" y="465"/>
                  </a:lnTo>
                  <a:lnTo>
                    <a:pt x="1835" y="440"/>
                  </a:lnTo>
                  <a:lnTo>
                    <a:pt x="1830" y="415"/>
                  </a:lnTo>
                  <a:lnTo>
                    <a:pt x="1830" y="390"/>
                  </a:lnTo>
                  <a:lnTo>
                    <a:pt x="1820" y="365"/>
                  </a:lnTo>
                  <a:lnTo>
                    <a:pt x="1820" y="340"/>
                  </a:lnTo>
                  <a:lnTo>
                    <a:pt x="1815" y="315"/>
                  </a:lnTo>
                  <a:lnTo>
                    <a:pt x="1805" y="290"/>
                  </a:lnTo>
                  <a:lnTo>
                    <a:pt x="1805" y="265"/>
                  </a:lnTo>
                  <a:lnTo>
                    <a:pt x="1805" y="240"/>
                  </a:lnTo>
                  <a:lnTo>
                    <a:pt x="1790" y="215"/>
                  </a:lnTo>
                  <a:lnTo>
                    <a:pt x="1785" y="190"/>
                  </a:lnTo>
                  <a:lnTo>
                    <a:pt x="1765" y="165"/>
                  </a:lnTo>
                  <a:lnTo>
                    <a:pt x="1765" y="135"/>
                  </a:lnTo>
                  <a:lnTo>
                    <a:pt x="1745" y="110"/>
                  </a:lnTo>
                  <a:lnTo>
                    <a:pt x="1715" y="90"/>
                  </a:lnTo>
                  <a:lnTo>
                    <a:pt x="1690" y="65"/>
                  </a:lnTo>
                  <a:lnTo>
                    <a:pt x="1680" y="40"/>
                  </a:lnTo>
                  <a:lnTo>
                    <a:pt x="1655" y="35"/>
                  </a:lnTo>
                  <a:lnTo>
                    <a:pt x="1630" y="30"/>
                  </a:lnTo>
                  <a:lnTo>
                    <a:pt x="1610" y="5"/>
                  </a:lnTo>
                  <a:lnTo>
                    <a:pt x="1590" y="0"/>
                  </a:lnTo>
                  <a:lnTo>
                    <a:pt x="1565" y="15"/>
                  </a:lnTo>
                  <a:lnTo>
                    <a:pt x="1540" y="30"/>
                  </a:lnTo>
                  <a:lnTo>
                    <a:pt x="1515" y="15"/>
                  </a:lnTo>
                  <a:lnTo>
                    <a:pt x="1510" y="40"/>
                  </a:lnTo>
                  <a:lnTo>
                    <a:pt x="1505" y="65"/>
                  </a:lnTo>
                  <a:lnTo>
                    <a:pt x="1480" y="80"/>
                  </a:lnTo>
                  <a:lnTo>
                    <a:pt x="1450" y="75"/>
                  </a:lnTo>
                  <a:lnTo>
                    <a:pt x="1425" y="75"/>
                  </a:lnTo>
                  <a:lnTo>
                    <a:pt x="1405" y="100"/>
                  </a:lnTo>
                  <a:lnTo>
                    <a:pt x="1390" y="125"/>
                  </a:lnTo>
                  <a:lnTo>
                    <a:pt x="1365" y="150"/>
                  </a:lnTo>
                  <a:lnTo>
                    <a:pt x="1340" y="150"/>
                  </a:lnTo>
                  <a:lnTo>
                    <a:pt x="1315" y="135"/>
                  </a:lnTo>
                  <a:lnTo>
                    <a:pt x="1300" y="130"/>
                  </a:lnTo>
                  <a:lnTo>
                    <a:pt x="365" y="145"/>
                  </a:lnTo>
                  <a:lnTo>
                    <a:pt x="360" y="3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81160" y="1926360"/>
              <a:ext cx="351720" cy="509040"/>
            </a:xfrm>
            <a:custGeom>
              <a:avLst/>
              <a:gdLst/>
              <a:ahLst/>
              <a:rect l="l" t="t" r="r" b="b"/>
              <a:pathLst>
                <a:path w="981" h="1416">
                  <a:moveTo>
                    <a:pt x="710" y="25"/>
                  </a:moveTo>
                  <a:lnTo>
                    <a:pt x="730" y="50"/>
                  </a:lnTo>
                  <a:lnTo>
                    <a:pt x="755" y="75"/>
                  </a:lnTo>
                  <a:lnTo>
                    <a:pt x="775" y="100"/>
                  </a:lnTo>
                  <a:lnTo>
                    <a:pt x="785" y="125"/>
                  </a:lnTo>
                  <a:lnTo>
                    <a:pt x="785" y="150"/>
                  </a:lnTo>
                  <a:lnTo>
                    <a:pt x="785" y="175"/>
                  </a:lnTo>
                  <a:lnTo>
                    <a:pt x="765" y="200"/>
                  </a:lnTo>
                  <a:lnTo>
                    <a:pt x="740" y="220"/>
                  </a:lnTo>
                  <a:lnTo>
                    <a:pt x="715" y="215"/>
                  </a:lnTo>
                  <a:lnTo>
                    <a:pt x="690" y="220"/>
                  </a:lnTo>
                  <a:lnTo>
                    <a:pt x="680" y="245"/>
                  </a:lnTo>
                  <a:lnTo>
                    <a:pt x="665" y="270"/>
                  </a:lnTo>
                  <a:lnTo>
                    <a:pt x="665" y="295"/>
                  </a:lnTo>
                  <a:lnTo>
                    <a:pt x="660" y="305"/>
                  </a:lnTo>
                  <a:lnTo>
                    <a:pt x="650" y="330"/>
                  </a:lnTo>
                  <a:lnTo>
                    <a:pt x="630" y="355"/>
                  </a:lnTo>
                  <a:lnTo>
                    <a:pt x="620" y="380"/>
                  </a:lnTo>
                  <a:lnTo>
                    <a:pt x="620" y="405"/>
                  </a:lnTo>
                  <a:lnTo>
                    <a:pt x="595" y="420"/>
                  </a:lnTo>
                  <a:lnTo>
                    <a:pt x="570" y="435"/>
                  </a:lnTo>
                  <a:lnTo>
                    <a:pt x="565" y="465"/>
                  </a:lnTo>
                  <a:lnTo>
                    <a:pt x="560" y="510"/>
                  </a:lnTo>
                  <a:lnTo>
                    <a:pt x="550" y="535"/>
                  </a:lnTo>
                  <a:lnTo>
                    <a:pt x="525" y="545"/>
                  </a:lnTo>
                  <a:lnTo>
                    <a:pt x="500" y="560"/>
                  </a:lnTo>
                  <a:lnTo>
                    <a:pt x="480" y="585"/>
                  </a:lnTo>
                  <a:lnTo>
                    <a:pt x="480" y="610"/>
                  </a:lnTo>
                  <a:lnTo>
                    <a:pt x="470" y="635"/>
                  </a:lnTo>
                  <a:lnTo>
                    <a:pt x="455" y="660"/>
                  </a:lnTo>
                  <a:lnTo>
                    <a:pt x="445" y="685"/>
                  </a:lnTo>
                  <a:lnTo>
                    <a:pt x="440" y="710"/>
                  </a:lnTo>
                  <a:lnTo>
                    <a:pt x="425" y="735"/>
                  </a:lnTo>
                  <a:lnTo>
                    <a:pt x="410" y="760"/>
                  </a:lnTo>
                  <a:lnTo>
                    <a:pt x="385" y="785"/>
                  </a:lnTo>
                  <a:lnTo>
                    <a:pt x="360" y="800"/>
                  </a:lnTo>
                  <a:lnTo>
                    <a:pt x="335" y="815"/>
                  </a:lnTo>
                  <a:lnTo>
                    <a:pt x="325" y="790"/>
                  </a:lnTo>
                  <a:lnTo>
                    <a:pt x="315" y="765"/>
                  </a:lnTo>
                  <a:lnTo>
                    <a:pt x="290" y="745"/>
                  </a:lnTo>
                  <a:lnTo>
                    <a:pt x="265" y="750"/>
                  </a:lnTo>
                  <a:lnTo>
                    <a:pt x="240" y="765"/>
                  </a:lnTo>
                  <a:lnTo>
                    <a:pt x="215" y="760"/>
                  </a:lnTo>
                  <a:lnTo>
                    <a:pt x="190" y="765"/>
                  </a:lnTo>
                  <a:lnTo>
                    <a:pt x="170" y="790"/>
                  </a:lnTo>
                  <a:lnTo>
                    <a:pt x="145" y="810"/>
                  </a:lnTo>
                  <a:lnTo>
                    <a:pt x="120" y="830"/>
                  </a:lnTo>
                  <a:lnTo>
                    <a:pt x="90" y="850"/>
                  </a:lnTo>
                  <a:lnTo>
                    <a:pt x="65" y="860"/>
                  </a:lnTo>
                  <a:lnTo>
                    <a:pt x="65" y="885"/>
                  </a:lnTo>
                  <a:lnTo>
                    <a:pt x="45" y="915"/>
                  </a:lnTo>
                  <a:lnTo>
                    <a:pt x="45" y="940"/>
                  </a:lnTo>
                  <a:lnTo>
                    <a:pt x="50" y="965"/>
                  </a:lnTo>
                  <a:lnTo>
                    <a:pt x="40" y="990"/>
                  </a:lnTo>
                  <a:lnTo>
                    <a:pt x="25" y="1015"/>
                  </a:lnTo>
                  <a:lnTo>
                    <a:pt x="0" y="1025"/>
                  </a:lnTo>
                  <a:lnTo>
                    <a:pt x="8" y="1035"/>
                  </a:lnTo>
                  <a:lnTo>
                    <a:pt x="28" y="1039"/>
                  </a:lnTo>
                  <a:lnTo>
                    <a:pt x="50" y="1050"/>
                  </a:lnTo>
                  <a:lnTo>
                    <a:pt x="50" y="1075"/>
                  </a:lnTo>
                  <a:lnTo>
                    <a:pt x="45" y="1100"/>
                  </a:lnTo>
                  <a:lnTo>
                    <a:pt x="70" y="1115"/>
                  </a:lnTo>
                  <a:lnTo>
                    <a:pt x="95" y="1120"/>
                  </a:lnTo>
                  <a:lnTo>
                    <a:pt x="120" y="1130"/>
                  </a:lnTo>
                  <a:lnTo>
                    <a:pt x="135" y="1155"/>
                  </a:lnTo>
                  <a:lnTo>
                    <a:pt x="160" y="1175"/>
                  </a:lnTo>
                  <a:lnTo>
                    <a:pt x="175" y="1200"/>
                  </a:lnTo>
                  <a:lnTo>
                    <a:pt x="185" y="1225"/>
                  </a:lnTo>
                  <a:lnTo>
                    <a:pt x="185" y="1250"/>
                  </a:lnTo>
                  <a:lnTo>
                    <a:pt x="175" y="1275"/>
                  </a:lnTo>
                  <a:lnTo>
                    <a:pt x="170" y="1300"/>
                  </a:lnTo>
                  <a:lnTo>
                    <a:pt x="165" y="1325"/>
                  </a:lnTo>
                  <a:lnTo>
                    <a:pt x="185" y="1350"/>
                  </a:lnTo>
                  <a:lnTo>
                    <a:pt x="210" y="1350"/>
                  </a:lnTo>
                  <a:lnTo>
                    <a:pt x="240" y="1350"/>
                  </a:lnTo>
                  <a:lnTo>
                    <a:pt x="265" y="1350"/>
                  </a:lnTo>
                  <a:lnTo>
                    <a:pt x="300" y="1355"/>
                  </a:lnTo>
                  <a:lnTo>
                    <a:pt x="325" y="1350"/>
                  </a:lnTo>
                  <a:lnTo>
                    <a:pt x="350" y="1345"/>
                  </a:lnTo>
                  <a:lnTo>
                    <a:pt x="375" y="1340"/>
                  </a:lnTo>
                  <a:lnTo>
                    <a:pt x="400" y="1345"/>
                  </a:lnTo>
                  <a:lnTo>
                    <a:pt x="425" y="1350"/>
                  </a:lnTo>
                  <a:lnTo>
                    <a:pt x="450" y="1350"/>
                  </a:lnTo>
                  <a:lnTo>
                    <a:pt x="475" y="1350"/>
                  </a:lnTo>
                  <a:lnTo>
                    <a:pt x="505" y="1350"/>
                  </a:lnTo>
                  <a:lnTo>
                    <a:pt x="530" y="1355"/>
                  </a:lnTo>
                  <a:lnTo>
                    <a:pt x="555" y="1355"/>
                  </a:lnTo>
                  <a:lnTo>
                    <a:pt x="580" y="1355"/>
                  </a:lnTo>
                  <a:lnTo>
                    <a:pt x="605" y="1360"/>
                  </a:lnTo>
                  <a:lnTo>
                    <a:pt x="630" y="1365"/>
                  </a:lnTo>
                  <a:lnTo>
                    <a:pt x="655" y="1365"/>
                  </a:lnTo>
                  <a:lnTo>
                    <a:pt x="680" y="1365"/>
                  </a:lnTo>
                  <a:lnTo>
                    <a:pt x="705" y="1360"/>
                  </a:lnTo>
                  <a:lnTo>
                    <a:pt x="730" y="1360"/>
                  </a:lnTo>
                  <a:lnTo>
                    <a:pt x="755" y="1365"/>
                  </a:lnTo>
                  <a:lnTo>
                    <a:pt x="780" y="1385"/>
                  </a:lnTo>
                  <a:lnTo>
                    <a:pt x="805" y="1395"/>
                  </a:lnTo>
                  <a:lnTo>
                    <a:pt x="830" y="1390"/>
                  </a:lnTo>
                  <a:lnTo>
                    <a:pt x="855" y="1400"/>
                  </a:lnTo>
                  <a:lnTo>
                    <a:pt x="885" y="1400"/>
                  </a:lnTo>
                  <a:lnTo>
                    <a:pt x="910" y="1405"/>
                  </a:lnTo>
                  <a:lnTo>
                    <a:pt x="935" y="1415"/>
                  </a:lnTo>
                  <a:lnTo>
                    <a:pt x="960" y="1415"/>
                  </a:lnTo>
                  <a:lnTo>
                    <a:pt x="960" y="1390"/>
                  </a:lnTo>
                  <a:lnTo>
                    <a:pt x="965" y="1365"/>
                  </a:lnTo>
                  <a:lnTo>
                    <a:pt x="980" y="1340"/>
                  </a:lnTo>
                  <a:lnTo>
                    <a:pt x="975" y="1315"/>
                  </a:lnTo>
                  <a:lnTo>
                    <a:pt x="960" y="1290"/>
                  </a:lnTo>
                  <a:lnTo>
                    <a:pt x="945" y="1265"/>
                  </a:lnTo>
                  <a:lnTo>
                    <a:pt x="920" y="1245"/>
                  </a:lnTo>
                  <a:lnTo>
                    <a:pt x="895" y="1225"/>
                  </a:lnTo>
                  <a:lnTo>
                    <a:pt x="875" y="1200"/>
                  </a:lnTo>
                  <a:lnTo>
                    <a:pt x="850" y="1180"/>
                  </a:lnTo>
                  <a:lnTo>
                    <a:pt x="845" y="1155"/>
                  </a:lnTo>
                  <a:lnTo>
                    <a:pt x="845" y="1130"/>
                  </a:lnTo>
                  <a:lnTo>
                    <a:pt x="830" y="1105"/>
                  </a:lnTo>
                  <a:lnTo>
                    <a:pt x="810" y="1080"/>
                  </a:lnTo>
                  <a:lnTo>
                    <a:pt x="800" y="1055"/>
                  </a:lnTo>
                  <a:lnTo>
                    <a:pt x="790" y="1030"/>
                  </a:lnTo>
                  <a:lnTo>
                    <a:pt x="775" y="1005"/>
                  </a:lnTo>
                  <a:lnTo>
                    <a:pt x="770" y="980"/>
                  </a:lnTo>
                  <a:lnTo>
                    <a:pt x="775" y="955"/>
                  </a:lnTo>
                  <a:lnTo>
                    <a:pt x="770" y="930"/>
                  </a:lnTo>
                  <a:lnTo>
                    <a:pt x="765" y="905"/>
                  </a:lnTo>
                  <a:lnTo>
                    <a:pt x="765" y="880"/>
                  </a:lnTo>
                  <a:lnTo>
                    <a:pt x="790" y="840"/>
                  </a:lnTo>
                  <a:lnTo>
                    <a:pt x="810" y="815"/>
                  </a:lnTo>
                  <a:lnTo>
                    <a:pt x="820" y="790"/>
                  </a:lnTo>
                  <a:lnTo>
                    <a:pt x="840" y="765"/>
                  </a:lnTo>
                  <a:lnTo>
                    <a:pt x="845" y="740"/>
                  </a:lnTo>
                  <a:lnTo>
                    <a:pt x="870" y="720"/>
                  </a:lnTo>
                  <a:lnTo>
                    <a:pt x="895" y="700"/>
                  </a:lnTo>
                  <a:lnTo>
                    <a:pt x="910" y="695"/>
                  </a:lnTo>
                  <a:lnTo>
                    <a:pt x="890" y="670"/>
                  </a:lnTo>
                  <a:lnTo>
                    <a:pt x="880" y="645"/>
                  </a:lnTo>
                  <a:lnTo>
                    <a:pt x="875" y="620"/>
                  </a:lnTo>
                  <a:lnTo>
                    <a:pt x="865" y="595"/>
                  </a:lnTo>
                  <a:lnTo>
                    <a:pt x="850" y="570"/>
                  </a:lnTo>
                  <a:lnTo>
                    <a:pt x="830" y="545"/>
                  </a:lnTo>
                  <a:lnTo>
                    <a:pt x="805" y="525"/>
                  </a:lnTo>
                  <a:lnTo>
                    <a:pt x="785" y="500"/>
                  </a:lnTo>
                  <a:lnTo>
                    <a:pt x="760" y="480"/>
                  </a:lnTo>
                  <a:lnTo>
                    <a:pt x="735" y="460"/>
                  </a:lnTo>
                  <a:lnTo>
                    <a:pt x="715" y="435"/>
                  </a:lnTo>
                  <a:lnTo>
                    <a:pt x="710" y="410"/>
                  </a:lnTo>
                  <a:lnTo>
                    <a:pt x="720" y="385"/>
                  </a:lnTo>
                  <a:lnTo>
                    <a:pt x="735" y="360"/>
                  </a:lnTo>
                  <a:lnTo>
                    <a:pt x="760" y="355"/>
                  </a:lnTo>
                  <a:lnTo>
                    <a:pt x="785" y="345"/>
                  </a:lnTo>
                  <a:lnTo>
                    <a:pt x="810" y="345"/>
                  </a:lnTo>
                  <a:lnTo>
                    <a:pt x="835" y="355"/>
                  </a:lnTo>
                  <a:lnTo>
                    <a:pt x="860" y="350"/>
                  </a:lnTo>
                  <a:lnTo>
                    <a:pt x="885" y="350"/>
                  </a:lnTo>
                  <a:lnTo>
                    <a:pt x="855" y="310"/>
                  </a:lnTo>
                  <a:lnTo>
                    <a:pt x="850" y="285"/>
                  </a:lnTo>
                  <a:lnTo>
                    <a:pt x="840" y="260"/>
                  </a:lnTo>
                  <a:lnTo>
                    <a:pt x="830" y="235"/>
                  </a:lnTo>
                  <a:lnTo>
                    <a:pt x="825" y="210"/>
                  </a:lnTo>
                  <a:lnTo>
                    <a:pt x="835" y="185"/>
                  </a:lnTo>
                  <a:lnTo>
                    <a:pt x="840" y="160"/>
                  </a:lnTo>
                  <a:lnTo>
                    <a:pt x="835" y="135"/>
                  </a:lnTo>
                  <a:lnTo>
                    <a:pt x="830" y="110"/>
                  </a:lnTo>
                  <a:lnTo>
                    <a:pt x="810" y="85"/>
                  </a:lnTo>
                  <a:lnTo>
                    <a:pt x="805" y="60"/>
                  </a:lnTo>
                  <a:lnTo>
                    <a:pt x="795" y="35"/>
                  </a:lnTo>
                  <a:lnTo>
                    <a:pt x="785" y="10"/>
                  </a:lnTo>
                  <a:lnTo>
                    <a:pt x="760" y="0"/>
                  </a:lnTo>
                  <a:lnTo>
                    <a:pt x="735" y="5"/>
                  </a:lnTo>
                  <a:lnTo>
                    <a:pt x="710" y="0"/>
                  </a:lnTo>
                  <a:lnTo>
                    <a:pt x="710" y="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55480" y="2010600"/>
              <a:ext cx="570600" cy="381960"/>
            </a:xfrm>
            <a:custGeom>
              <a:avLst/>
              <a:gdLst/>
              <a:ahLst/>
              <a:rect l="l" t="t" r="r" b="b"/>
              <a:pathLst>
                <a:path w="1586" h="1061">
                  <a:moveTo>
                    <a:pt x="1050" y="55"/>
                  </a:moveTo>
                  <a:lnTo>
                    <a:pt x="1075" y="70"/>
                  </a:lnTo>
                  <a:lnTo>
                    <a:pt x="1100" y="95"/>
                  </a:lnTo>
                  <a:lnTo>
                    <a:pt x="1125" y="120"/>
                  </a:lnTo>
                  <a:lnTo>
                    <a:pt x="1140" y="145"/>
                  </a:lnTo>
                  <a:lnTo>
                    <a:pt x="1140" y="170"/>
                  </a:lnTo>
                  <a:lnTo>
                    <a:pt x="1135" y="195"/>
                  </a:lnTo>
                  <a:lnTo>
                    <a:pt x="1135" y="220"/>
                  </a:lnTo>
                  <a:lnTo>
                    <a:pt x="1120" y="245"/>
                  </a:lnTo>
                  <a:lnTo>
                    <a:pt x="1130" y="270"/>
                  </a:lnTo>
                  <a:lnTo>
                    <a:pt x="1150" y="295"/>
                  </a:lnTo>
                  <a:lnTo>
                    <a:pt x="1175" y="305"/>
                  </a:lnTo>
                  <a:lnTo>
                    <a:pt x="1195" y="330"/>
                  </a:lnTo>
                  <a:lnTo>
                    <a:pt x="1210" y="355"/>
                  </a:lnTo>
                  <a:lnTo>
                    <a:pt x="1235" y="360"/>
                  </a:lnTo>
                  <a:lnTo>
                    <a:pt x="1260" y="370"/>
                  </a:lnTo>
                  <a:lnTo>
                    <a:pt x="1285" y="385"/>
                  </a:lnTo>
                  <a:lnTo>
                    <a:pt x="1310" y="400"/>
                  </a:lnTo>
                  <a:lnTo>
                    <a:pt x="1320" y="425"/>
                  </a:lnTo>
                  <a:lnTo>
                    <a:pt x="1330" y="450"/>
                  </a:lnTo>
                  <a:lnTo>
                    <a:pt x="1355" y="470"/>
                  </a:lnTo>
                  <a:lnTo>
                    <a:pt x="1380" y="485"/>
                  </a:lnTo>
                  <a:lnTo>
                    <a:pt x="1405" y="500"/>
                  </a:lnTo>
                  <a:lnTo>
                    <a:pt x="1430" y="520"/>
                  </a:lnTo>
                  <a:lnTo>
                    <a:pt x="1455" y="535"/>
                  </a:lnTo>
                  <a:lnTo>
                    <a:pt x="1460" y="560"/>
                  </a:lnTo>
                  <a:lnTo>
                    <a:pt x="1465" y="585"/>
                  </a:lnTo>
                  <a:lnTo>
                    <a:pt x="1470" y="610"/>
                  </a:lnTo>
                  <a:lnTo>
                    <a:pt x="1485" y="635"/>
                  </a:lnTo>
                  <a:lnTo>
                    <a:pt x="1510" y="655"/>
                  </a:lnTo>
                  <a:lnTo>
                    <a:pt x="1535" y="665"/>
                  </a:lnTo>
                  <a:lnTo>
                    <a:pt x="1560" y="680"/>
                  </a:lnTo>
                  <a:lnTo>
                    <a:pt x="1585" y="705"/>
                  </a:lnTo>
                  <a:lnTo>
                    <a:pt x="1585" y="730"/>
                  </a:lnTo>
                  <a:lnTo>
                    <a:pt x="1580" y="755"/>
                  </a:lnTo>
                  <a:lnTo>
                    <a:pt x="1555" y="765"/>
                  </a:lnTo>
                  <a:lnTo>
                    <a:pt x="1530" y="765"/>
                  </a:lnTo>
                  <a:lnTo>
                    <a:pt x="1505" y="765"/>
                  </a:lnTo>
                  <a:lnTo>
                    <a:pt x="1480" y="775"/>
                  </a:lnTo>
                  <a:lnTo>
                    <a:pt x="1455" y="760"/>
                  </a:lnTo>
                  <a:lnTo>
                    <a:pt x="1430" y="750"/>
                  </a:lnTo>
                  <a:lnTo>
                    <a:pt x="1405" y="745"/>
                  </a:lnTo>
                  <a:lnTo>
                    <a:pt x="1380" y="750"/>
                  </a:lnTo>
                  <a:lnTo>
                    <a:pt x="1355" y="770"/>
                  </a:lnTo>
                  <a:lnTo>
                    <a:pt x="1330" y="785"/>
                  </a:lnTo>
                  <a:lnTo>
                    <a:pt x="1305" y="790"/>
                  </a:lnTo>
                  <a:lnTo>
                    <a:pt x="1275" y="785"/>
                  </a:lnTo>
                  <a:lnTo>
                    <a:pt x="1250" y="775"/>
                  </a:lnTo>
                  <a:lnTo>
                    <a:pt x="1225" y="780"/>
                  </a:lnTo>
                  <a:lnTo>
                    <a:pt x="1200" y="790"/>
                  </a:lnTo>
                  <a:lnTo>
                    <a:pt x="1175" y="800"/>
                  </a:lnTo>
                  <a:lnTo>
                    <a:pt x="1145" y="810"/>
                  </a:lnTo>
                  <a:lnTo>
                    <a:pt x="1115" y="810"/>
                  </a:lnTo>
                  <a:lnTo>
                    <a:pt x="1085" y="805"/>
                  </a:lnTo>
                  <a:lnTo>
                    <a:pt x="1060" y="810"/>
                  </a:lnTo>
                  <a:lnTo>
                    <a:pt x="1030" y="830"/>
                  </a:lnTo>
                  <a:lnTo>
                    <a:pt x="1005" y="850"/>
                  </a:lnTo>
                  <a:lnTo>
                    <a:pt x="1005" y="875"/>
                  </a:lnTo>
                  <a:lnTo>
                    <a:pt x="980" y="895"/>
                  </a:lnTo>
                  <a:lnTo>
                    <a:pt x="955" y="885"/>
                  </a:lnTo>
                  <a:lnTo>
                    <a:pt x="930" y="875"/>
                  </a:lnTo>
                  <a:lnTo>
                    <a:pt x="905" y="870"/>
                  </a:lnTo>
                  <a:lnTo>
                    <a:pt x="880" y="875"/>
                  </a:lnTo>
                  <a:lnTo>
                    <a:pt x="855" y="875"/>
                  </a:lnTo>
                  <a:lnTo>
                    <a:pt x="830" y="870"/>
                  </a:lnTo>
                  <a:lnTo>
                    <a:pt x="805" y="865"/>
                  </a:lnTo>
                  <a:lnTo>
                    <a:pt x="780" y="865"/>
                  </a:lnTo>
                  <a:lnTo>
                    <a:pt x="755" y="865"/>
                  </a:lnTo>
                  <a:lnTo>
                    <a:pt x="750" y="840"/>
                  </a:lnTo>
                  <a:lnTo>
                    <a:pt x="730" y="815"/>
                  </a:lnTo>
                  <a:lnTo>
                    <a:pt x="705" y="810"/>
                  </a:lnTo>
                  <a:lnTo>
                    <a:pt x="680" y="810"/>
                  </a:lnTo>
                  <a:lnTo>
                    <a:pt x="655" y="800"/>
                  </a:lnTo>
                  <a:lnTo>
                    <a:pt x="635" y="775"/>
                  </a:lnTo>
                  <a:lnTo>
                    <a:pt x="610" y="770"/>
                  </a:lnTo>
                  <a:lnTo>
                    <a:pt x="585" y="775"/>
                  </a:lnTo>
                  <a:lnTo>
                    <a:pt x="555" y="790"/>
                  </a:lnTo>
                  <a:lnTo>
                    <a:pt x="540" y="815"/>
                  </a:lnTo>
                  <a:lnTo>
                    <a:pt x="535" y="840"/>
                  </a:lnTo>
                  <a:lnTo>
                    <a:pt x="520" y="865"/>
                  </a:lnTo>
                  <a:lnTo>
                    <a:pt x="495" y="885"/>
                  </a:lnTo>
                  <a:lnTo>
                    <a:pt x="500" y="910"/>
                  </a:lnTo>
                  <a:lnTo>
                    <a:pt x="495" y="935"/>
                  </a:lnTo>
                  <a:lnTo>
                    <a:pt x="495" y="965"/>
                  </a:lnTo>
                  <a:lnTo>
                    <a:pt x="505" y="990"/>
                  </a:lnTo>
                  <a:lnTo>
                    <a:pt x="480" y="975"/>
                  </a:lnTo>
                  <a:lnTo>
                    <a:pt x="455" y="970"/>
                  </a:lnTo>
                  <a:lnTo>
                    <a:pt x="425" y="975"/>
                  </a:lnTo>
                  <a:lnTo>
                    <a:pt x="400" y="965"/>
                  </a:lnTo>
                  <a:lnTo>
                    <a:pt x="375" y="950"/>
                  </a:lnTo>
                  <a:lnTo>
                    <a:pt x="350" y="960"/>
                  </a:lnTo>
                  <a:lnTo>
                    <a:pt x="325" y="965"/>
                  </a:lnTo>
                  <a:lnTo>
                    <a:pt x="300" y="955"/>
                  </a:lnTo>
                  <a:lnTo>
                    <a:pt x="275" y="950"/>
                  </a:lnTo>
                  <a:lnTo>
                    <a:pt x="250" y="965"/>
                  </a:lnTo>
                  <a:lnTo>
                    <a:pt x="245" y="990"/>
                  </a:lnTo>
                  <a:lnTo>
                    <a:pt x="235" y="1015"/>
                  </a:lnTo>
                  <a:lnTo>
                    <a:pt x="210" y="1030"/>
                  </a:lnTo>
                  <a:lnTo>
                    <a:pt x="205" y="1055"/>
                  </a:lnTo>
                  <a:lnTo>
                    <a:pt x="195" y="1060"/>
                  </a:lnTo>
                  <a:lnTo>
                    <a:pt x="180" y="1035"/>
                  </a:lnTo>
                  <a:lnTo>
                    <a:pt x="155" y="1015"/>
                  </a:lnTo>
                  <a:lnTo>
                    <a:pt x="130" y="995"/>
                  </a:lnTo>
                  <a:lnTo>
                    <a:pt x="110" y="970"/>
                  </a:lnTo>
                  <a:lnTo>
                    <a:pt x="85" y="950"/>
                  </a:lnTo>
                  <a:lnTo>
                    <a:pt x="80" y="925"/>
                  </a:lnTo>
                  <a:lnTo>
                    <a:pt x="80" y="900"/>
                  </a:lnTo>
                  <a:lnTo>
                    <a:pt x="65" y="875"/>
                  </a:lnTo>
                  <a:lnTo>
                    <a:pt x="45" y="850"/>
                  </a:lnTo>
                  <a:lnTo>
                    <a:pt x="35" y="825"/>
                  </a:lnTo>
                  <a:lnTo>
                    <a:pt x="25" y="800"/>
                  </a:lnTo>
                  <a:lnTo>
                    <a:pt x="10" y="775"/>
                  </a:lnTo>
                  <a:lnTo>
                    <a:pt x="5" y="750"/>
                  </a:lnTo>
                  <a:lnTo>
                    <a:pt x="10" y="725"/>
                  </a:lnTo>
                  <a:lnTo>
                    <a:pt x="5" y="700"/>
                  </a:lnTo>
                  <a:lnTo>
                    <a:pt x="0" y="675"/>
                  </a:lnTo>
                  <a:lnTo>
                    <a:pt x="0" y="650"/>
                  </a:lnTo>
                  <a:lnTo>
                    <a:pt x="25" y="610"/>
                  </a:lnTo>
                  <a:lnTo>
                    <a:pt x="45" y="585"/>
                  </a:lnTo>
                  <a:lnTo>
                    <a:pt x="55" y="560"/>
                  </a:lnTo>
                  <a:lnTo>
                    <a:pt x="75" y="535"/>
                  </a:lnTo>
                  <a:lnTo>
                    <a:pt x="80" y="510"/>
                  </a:lnTo>
                  <a:lnTo>
                    <a:pt x="105" y="490"/>
                  </a:lnTo>
                  <a:lnTo>
                    <a:pt x="130" y="470"/>
                  </a:lnTo>
                  <a:lnTo>
                    <a:pt x="145" y="465"/>
                  </a:lnTo>
                  <a:lnTo>
                    <a:pt x="175" y="455"/>
                  </a:lnTo>
                  <a:lnTo>
                    <a:pt x="200" y="445"/>
                  </a:lnTo>
                  <a:lnTo>
                    <a:pt x="225" y="430"/>
                  </a:lnTo>
                  <a:lnTo>
                    <a:pt x="250" y="410"/>
                  </a:lnTo>
                  <a:lnTo>
                    <a:pt x="275" y="420"/>
                  </a:lnTo>
                  <a:lnTo>
                    <a:pt x="300" y="440"/>
                  </a:lnTo>
                  <a:lnTo>
                    <a:pt x="325" y="430"/>
                  </a:lnTo>
                  <a:lnTo>
                    <a:pt x="350" y="410"/>
                  </a:lnTo>
                  <a:lnTo>
                    <a:pt x="375" y="390"/>
                  </a:lnTo>
                  <a:lnTo>
                    <a:pt x="400" y="385"/>
                  </a:lnTo>
                  <a:lnTo>
                    <a:pt x="425" y="400"/>
                  </a:lnTo>
                  <a:lnTo>
                    <a:pt x="450" y="405"/>
                  </a:lnTo>
                  <a:lnTo>
                    <a:pt x="475" y="400"/>
                  </a:lnTo>
                  <a:lnTo>
                    <a:pt x="500" y="385"/>
                  </a:lnTo>
                  <a:lnTo>
                    <a:pt x="525" y="375"/>
                  </a:lnTo>
                  <a:lnTo>
                    <a:pt x="540" y="350"/>
                  </a:lnTo>
                  <a:lnTo>
                    <a:pt x="565" y="340"/>
                  </a:lnTo>
                  <a:lnTo>
                    <a:pt x="565" y="315"/>
                  </a:lnTo>
                  <a:lnTo>
                    <a:pt x="540" y="305"/>
                  </a:lnTo>
                  <a:lnTo>
                    <a:pt x="540" y="280"/>
                  </a:lnTo>
                  <a:lnTo>
                    <a:pt x="565" y="265"/>
                  </a:lnTo>
                  <a:lnTo>
                    <a:pt x="590" y="255"/>
                  </a:lnTo>
                  <a:lnTo>
                    <a:pt x="615" y="255"/>
                  </a:lnTo>
                  <a:lnTo>
                    <a:pt x="640" y="240"/>
                  </a:lnTo>
                  <a:lnTo>
                    <a:pt x="665" y="240"/>
                  </a:lnTo>
                  <a:lnTo>
                    <a:pt x="695" y="245"/>
                  </a:lnTo>
                  <a:lnTo>
                    <a:pt x="720" y="245"/>
                  </a:lnTo>
                  <a:lnTo>
                    <a:pt x="745" y="225"/>
                  </a:lnTo>
                  <a:lnTo>
                    <a:pt x="770" y="210"/>
                  </a:lnTo>
                  <a:lnTo>
                    <a:pt x="795" y="200"/>
                  </a:lnTo>
                  <a:lnTo>
                    <a:pt x="820" y="180"/>
                  </a:lnTo>
                  <a:lnTo>
                    <a:pt x="825" y="155"/>
                  </a:lnTo>
                  <a:lnTo>
                    <a:pt x="850" y="140"/>
                  </a:lnTo>
                  <a:lnTo>
                    <a:pt x="875" y="125"/>
                  </a:lnTo>
                  <a:lnTo>
                    <a:pt x="885" y="100"/>
                  </a:lnTo>
                  <a:lnTo>
                    <a:pt x="895" y="75"/>
                  </a:lnTo>
                  <a:lnTo>
                    <a:pt x="910" y="50"/>
                  </a:lnTo>
                  <a:lnTo>
                    <a:pt x="935" y="30"/>
                  </a:lnTo>
                  <a:lnTo>
                    <a:pt x="960" y="20"/>
                  </a:lnTo>
                  <a:lnTo>
                    <a:pt x="985" y="20"/>
                  </a:lnTo>
                  <a:lnTo>
                    <a:pt x="1010" y="20"/>
                  </a:lnTo>
                  <a:lnTo>
                    <a:pt x="1035" y="25"/>
                  </a:lnTo>
                  <a:lnTo>
                    <a:pt x="1045" y="0"/>
                  </a:lnTo>
                  <a:lnTo>
                    <a:pt x="1050" y="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86720" y="1688040"/>
              <a:ext cx="654840" cy="669600"/>
            </a:xfrm>
            <a:custGeom>
              <a:avLst/>
              <a:gdLst/>
              <a:ahLst/>
              <a:rect l="l" t="t" r="r" b="b"/>
              <a:pathLst>
                <a:path w="1821" h="1861">
                  <a:moveTo>
                    <a:pt x="350" y="1720"/>
                  </a:moveTo>
                  <a:lnTo>
                    <a:pt x="375" y="1730"/>
                  </a:lnTo>
                  <a:lnTo>
                    <a:pt x="400" y="1715"/>
                  </a:lnTo>
                  <a:lnTo>
                    <a:pt x="425" y="1720"/>
                  </a:lnTo>
                  <a:lnTo>
                    <a:pt x="450" y="1740"/>
                  </a:lnTo>
                  <a:lnTo>
                    <a:pt x="475" y="1760"/>
                  </a:lnTo>
                  <a:lnTo>
                    <a:pt x="500" y="1770"/>
                  </a:lnTo>
                  <a:lnTo>
                    <a:pt x="525" y="1785"/>
                  </a:lnTo>
                  <a:lnTo>
                    <a:pt x="555" y="1800"/>
                  </a:lnTo>
                  <a:lnTo>
                    <a:pt x="580" y="1820"/>
                  </a:lnTo>
                  <a:lnTo>
                    <a:pt x="605" y="1830"/>
                  </a:lnTo>
                  <a:lnTo>
                    <a:pt x="630" y="1845"/>
                  </a:lnTo>
                  <a:lnTo>
                    <a:pt x="655" y="1850"/>
                  </a:lnTo>
                  <a:lnTo>
                    <a:pt x="680" y="1845"/>
                  </a:lnTo>
                  <a:lnTo>
                    <a:pt x="705" y="1850"/>
                  </a:lnTo>
                  <a:lnTo>
                    <a:pt x="730" y="1860"/>
                  </a:lnTo>
                  <a:lnTo>
                    <a:pt x="755" y="1855"/>
                  </a:lnTo>
                  <a:lnTo>
                    <a:pt x="780" y="1860"/>
                  </a:lnTo>
                  <a:lnTo>
                    <a:pt x="810" y="1850"/>
                  </a:lnTo>
                  <a:lnTo>
                    <a:pt x="835" y="1835"/>
                  </a:lnTo>
                  <a:lnTo>
                    <a:pt x="850" y="1810"/>
                  </a:lnTo>
                  <a:lnTo>
                    <a:pt x="870" y="1785"/>
                  </a:lnTo>
                  <a:lnTo>
                    <a:pt x="895" y="1780"/>
                  </a:lnTo>
                  <a:lnTo>
                    <a:pt x="920" y="1780"/>
                  </a:lnTo>
                  <a:lnTo>
                    <a:pt x="945" y="1770"/>
                  </a:lnTo>
                  <a:lnTo>
                    <a:pt x="970" y="1770"/>
                  </a:lnTo>
                  <a:lnTo>
                    <a:pt x="995" y="1800"/>
                  </a:lnTo>
                  <a:lnTo>
                    <a:pt x="1020" y="1810"/>
                  </a:lnTo>
                  <a:lnTo>
                    <a:pt x="1045" y="1805"/>
                  </a:lnTo>
                  <a:lnTo>
                    <a:pt x="1075" y="1795"/>
                  </a:lnTo>
                  <a:lnTo>
                    <a:pt x="1100" y="1785"/>
                  </a:lnTo>
                  <a:lnTo>
                    <a:pt x="1125" y="1780"/>
                  </a:lnTo>
                  <a:lnTo>
                    <a:pt x="1160" y="1765"/>
                  </a:lnTo>
                  <a:lnTo>
                    <a:pt x="1185" y="1770"/>
                  </a:lnTo>
                  <a:lnTo>
                    <a:pt x="1210" y="1765"/>
                  </a:lnTo>
                  <a:lnTo>
                    <a:pt x="1220" y="1740"/>
                  </a:lnTo>
                  <a:lnTo>
                    <a:pt x="1225" y="1725"/>
                  </a:lnTo>
                  <a:lnTo>
                    <a:pt x="1340" y="1670"/>
                  </a:lnTo>
                  <a:lnTo>
                    <a:pt x="1480" y="1675"/>
                  </a:lnTo>
                  <a:lnTo>
                    <a:pt x="1820" y="1260"/>
                  </a:lnTo>
                  <a:lnTo>
                    <a:pt x="1680" y="1260"/>
                  </a:lnTo>
                  <a:lnTo>
                    <a:pt x="1330" y="1145"/>
                  </a:lnTo>
                  <a:lnTo>
                    <a:pt x="1255" y="1090"/>
                  </a:lnTo>
                  <a:lnTo>
                    <a:pt x="1190" y="990"/>
                  </a:lnTo>
                  <a:lnTo>
                    <a:pt x="1170" y="940"/>
                  </a:lnTo>
                  <a:lnTo>
                    <a:pt x="1190" y="915"/>
                  </a:lnTo>
                  <a:lnTo>
                    <a:pt x="1205" y="885"/>
                  </a:lnTo>
                  <a:lnTo>
                    <a:pt x="1185" y="860"/>
                  </a:lnTo>
                  <a:lnTo>
                    <a:pt x="1160" y="870"/>
                  </a:lnTo>
                  <a:lnTo>
                    <a:pt x="1135" y="885"/>
                  </a:lnTo>
                  <a:lnTo>
                    <a:pt x="1110" y="895"/>
                  </a:lnTo>
                  <a:lnTo>
                    <a:pt x="1085" y="915"/>
                  </a:lnTo>
                  <a:lnTo>
                    <a:pt x="1060" y="910"/>
                  </a:lnTo>
                  <a:lnTo>
                    <a:pt x="1035" y="895"/>
                  </a:lnTo>
                  <a:lnTo>
                    <a:pt x="1035" y="870"/>
                  </a:lnTo>
                  <a:lnTo>
                    <a:pt x="1040" y="845"/>
                  </a:lnTo>
                  <a:lnTo>
                    <a:pt x="1050" y="820"/>
                  </a:lnTo>
                  <a:lnTo>
                    <a:pt x="1060" y="795"/>
                  </a:lnTo>
                  <a:lnTo>
                    <a:pt x="1080" y="770"/>
                  </a:lnTo>
                  <a:lnTo>
                    <a:pt x="1095" y="745"/>
                  </a:lnTo>
                  <a:lnTo>
                    <a:pt x="1105" y="720"/>
                  </a:lnTo>
                  <a:lnTo>
                    <a:pt x="1130" y="705"/>
                  </a:lnTo>
                  <a:lnTo>
                    <a:pt x="1155" y="700"/>
                  </a:lnTo>
                  <a:lnTo>
                    <a:pt x="1180" y="680"/>
                  </a:lnTo>
                  <a:lnTo>
                    <a:pt x="1155" y="665"/>
                  </a:lnTo>
                  <a:lnTo>
                    <a:pt x="1130" y="645"/>
                  </a:lnTo>
                  <a:lnTo>
                    <a:pt x="1115" y="620"/>
                  </a:lnTo>
                  <a:lnTo>
                    <a:pt x="1100" y="595"/>
                  </a:lnTo>
                  <a:lnTo>
                    <a:pt x="1095" y="570"/>
                  </a:lnTo>
                  <a:lnTo>
                    <a:pt x="1070" y="565"/>
                  </a:lnTo>
                  <a:lnTo>
                    <a:pt x="1055" y="540"/>
                  </a:lnTo>
                  <a:lnTo>
                    <a:pt x="1030" y="530"/>
                  </a:lnTo>
                  <a:lnTo>
                    <a:pt x="1005" y="520"/>
                  </a:lnTo>
                  <a:lnTo>
                    <a:pt x="985" y="495"/>
                  </a:lnTo>
                  <a:lnTo>
                    <a:pt x="970" y="470"/>
                  </a:lnTo>
                  <a:lnTo>
                    <a:pt x="950" y="445"/>
                  </a:lnTo>
                  <a:lnTo>
                    <a:pt x="925" y="440"/>
                  </a:lnTo>
                  <a:lnTo>
                    <a:pt x="900" y="430"/>
                  </a:lnTo>
                  <a:lnTo>
                    <a:pt x="880" y="405"/>
                  </a:lnTo>
                  <a:lnTo>
                    <a:pt x="855" y="395"/>
                  </a:lnTo>
                  <a:lnTo>
                    <a:pt x="830" y="385"/>
                  </a:lnTo>
                  <a:lnTo>
                    <a:pt x="825" y="360"/>
                  </a:lnTo>
                  <a:lnTo>
                    <a:pt x="810" y="335"/>
                  </a:lnTo>
                  <a:lnTo>
                    <a:pt x="785" y="325"/>
                  </a:lnTo>
                  <a:lnTo>
                    <a:pt x="760" y="315"/>
                  </a:lnTo>
                  <a:lnTo>
                    <a:pt x="735" y="305"/>
                  </a:lnTo>
                  <a:lnTo>
                    <a:pt x="715" y="280"/>
                  </a:lnTo>
                  <a:lnTo>
                    <a:pt x="710" y="250"/>
                  </a:lnTo>
                  <a:lnTo>
                    <a:pt x="705" y="225"/>
                  </a:lnTo>
                  <a:lnTo>
                    <a:pt x="705" y="200"/>
                  </a:lnTo>
                  <a:lnTo>
                    <a:pt x="695" y="175"/>
                  </a:lnTo>
                  <a:lnTo>
                    <a:pt x="685" y="150"/>
                  </a:lnTo>
                  <a:lnTo>
                    <a:pt x="675" y="125"/>
                  </a:lnTo>
                  <a:lnTo>
                    <a:pt x="660" y="100"/>
                  </a:lnTo>
                  <a:lnTo>
                    <a:pt x="640" y="75"/>
                  </a:lnTo>
                  <a:lnTo>
                    <a:pt x="625" y="50"/>
                  </a:lnTo>
                  <a:lnTo>
                    <a:pt x="615" y="25"/>
                  </a:lnTo>
                  <a:lnTo>
                    <a:pt x="600" y="0"/>
                  </a:lnTo>
                  <a:lnTo>
                    <a:pt x="580" y="10"/>
                  </a:lnTo>
                  <a:lnTo>
                    <a:pt x="575" y="35"/>
                  </a:lnTo>
                  <a:lnTo>
                    <a:pt x="550" y="55"/>
                  </a:lnTo>
                  <a:lnTo>
                    <a:pt x="525" y="60"/>
                  </a:lnTo>
                  <a:lnTo>
                    <a:pt x="500" y="70"/>
                  </a:lnTo>
                  <a:lnTo>
                    <a:pt x="475" y="85"/>
                  </a:lnTo>
                  <a:lnTo>
                    <a:pt x="465" y="110"/>
                  </a:lnTo>
                  <a:lnTo>
                    <a:pt x="440" y="120"/>
                  </a:lnTo>
                  <a:lnTo>
                    <a:pt x="430" y="145"/>
                  </a:lnTo>
                  <a:lnTo>
                    <a:pt x="430" y="170"/>
                  </a:lnTo>
                  <a:lnTo>
                    <a:pt x="425" y="195"/>
                  </a:lnTo>
                  <a:lnTo>
                    <a:pt x="420" y="220"/>
                  </a:lnTo>
                  <a:lnTo>
                    <a:pt x="410" y="245"/>
                  </a:lnTo>
                  <a:lnTo>
                    <a:pt x="405" y="270"/>
                  </a:lnTo>
                  <a:lnTo>
                    <a:pt x="395" y="300"/>
                  </a:lnTo>
                  <a:lnTo>
                    <a:pt x="380" y="345"/>
                  </a:lnTo>
                  <a:lnTo>
                    <a:pt x="375" y="370"/>
                  </a:lnTo>
                  <a:lnTo>
                    <a:pt x="370" y="395"/>
                  </a:lnTo>
                  <a:lnTo>
                    <a:pt x="375" y="420"/>
                  </a:lnTo>
                  <a:lnTo>
                    <a:pt x="390" y="445"/>
                  </a:lnTo>
                  <a:lnTo>
                    <a:pt x="400" y="470"/>
                  </a:lnTo>
                  <a:lnTo>
                    <a:pt x="400" y="500"/>
                  </a:lnTo>
                  <a:lnTo>
                    <a:pt x="395" y="525"/>
                  </a:lnTo>
                  <a:lnTo>
                    <a:pt x="385" y="550"/>
                  </a:lnTo>
                  <a:lnTo>
                    <a:pt x="375" y="575"/>
                  </a:lnTo>
                  <a:lnTo>
                    <a:pt x="365" y="600"/>
                  </a:lnTo>
                  <a:lnTo>
                    <a:pt x="365" y="625"/>
                  </a:lnTo>
                  <a:lnTo>
                    <a:pt x="360" y="650"/>
                  </a:lnTo>
                  <a:lnTo>
                    <a:pt x="355" y="675"/>
                  </a:lnTo>
                  <a:lnTo>
                    <a:pt x="355" y="700"/>
                  </a:lnTo>
                  <a:lnTo>
                    <a:pt x="330" y="700"/>
                  </a:lnTo>
                  <a:lnTo>
                    <a:pt x="305" y="700"/>
                  </a:lnTo>
                  <a:lnTo>
                    <a:pt x="290" y="725"/>
                  </a:lnTo>
                  <a:lnTo>
                    <a:pt x="270" y="750"/>
                  </a:lnTo>
                  <a:lnTo>
                    <a:pt x="245" y="775"/>
                  </a:lnTo>
                  <a:lnTo>
                    <a:pt x="225" y="800"/>
                  </a:lnTo>
                  <a:lnTo>
                    <a:pt x="230" y="825"/>
                  </a:lnTo>
                  <a:lnTo>
                    <a:pt x="225" y="850"/>
                  </a:lnTo>
                  <a:lnTo>
                    <a:pt x="220" y="875"/>
                  </a:lnTo>
                  <a:lnTo>
                    <a:pt x="215" y="900"/>
                  </a:lnTo>
                  <a:lnTo>
                    <a:pt x="210" y="925"/>
                  </a:lnTo>
                  <a:lnTo>
                    <a:pt x="180" y="940"/>
                  </a:lnTo>
                  <a:lnTo>
                    <a:pt x="155" y="950"/>
                  </a:lnTo>
                  <a:lnTo>
                    <a:pt x="145" y="980"/>
                  </a:lnTo>
                  <a:lnTo>
                    <a:pt x="145" y="1005"/>
                  </a:lnTo>
                  <a:lnTo>
                    <a:pt x="140" y="1030"/>
                  </a:lnTo>
                  <a:lnTo>
                    <a:pt x="130" y="1055"/>
                  </a:lnTo>
                  <a:lnTo>
                    <a:pt x="125" y="1080"/>
                  </a:lnTo>
                  <a:lnTo>
                    <a:pt x="135" y="1110"/>
                  </a:lnTo>
                  <a:lnTo>
                    <a:pt x="135" y="1135"/>
                  </a:lnTo>
                  <a:lnTo>
                    <a:pt x="135" y="1160"/>
                  </a:lnTo>
                  <a:lnTo>
                    <a:pt x="125" y="1185"/>
                  </a:lnTo>
                  <a:lnTo>
                    <a:pt x="120" y="1210"/>
                  </a:lnTo>
                  <a:lnTo>
                    <a:pt x="95" y="1225"/>
                  </a:lnTo>
                  <a:lnTo>
                    <a:pt x="70" y="1240"/>
                  </a:lnTo>
                  <a:lnTo>
                    <a:pt x="45" y="1235"/>
                  </a:lnTo>
                  <a:lnTo>
                    <a:pt x="20" y="1230"/>
                  </a:lnTo>
                  <a:lnTo>
                    <a:pt x="0" y="1260"/>
                  </a:lnTo>
                  <a:lnTo>
                    <a:pt x="0" y="1285"/>
                  </a:lnTo>
                  <a:lnTo>
                    <a:pt x="5" y="1325"/>
                  </a:lnTo>
                  <a:lnTo>
                    <a:pt x="35" y="1335"/>
                  </a:lnTo>
                  <a:lnTo>
                    <a:pt x="60" y="1335"/>
                  </a:lnTo>
                  <a:lnTo>
                    <a:pt x="85" y="1350"/>
                  </a:lnTo>
                  <a:lnTo>
                    <a:pt x="110" y="1365"/>
                  </a:lnTo>
                  <a:lnTo>
                    <a:pt x="130" y="1390"/>
                  </a:lnTo>
                  <a:lnTo>
                    <a:pt x="155" y="1405"/>
                  </a:lnTo>
                  <a:lnTo>
                    <a:pt x="170" y="1430"/>
                  </a:lnTo>
                  <a:lnTo>
                    <a:pt x="185" y="1455"/>
                  </a:lnTo>
                  <a:lnTo>
                    <a:pt x="210" y="1470"/>
                  </a:lnTo>
                  <a:lnTo>
                    <a:pt x="215" y="1495"/>
                  </a:lnTo>
                  <a:lnTo>
                    <a:pt x="225" y="1520"/>
                  </a:lnTo>
                  <a:lnTo>
                    <a:pt x="245" y="1545"/>
                  </a:lnTo>
                  <a:lnTo>
                    <a:pt x="260" y="1570"/>
                  </a:lnTo>
                  <a:lnTo>
                    <a:pt x="265" y="1595"/>
                  </a:lnTo>
                  <a:lnTo>
                    <a:pt x="285" y="1620"/>
                  </a:lnTo>
                  <a:lnTo>
                    <a:pt x="310" y="1635"/>
                  </a:lnTo>
                  <a:lnTo>
                    <a:pt x="335" y="1645"/>
                  </a:lnTo>
                  <a:lnTo>
                    <a:pt x="340" y="1670"/>
                  </a:lnTo>
                  <a:lnTo>
                    <a:pt x="345" y="1695"/>
                  </a:lnTo>
                  <a:lnTo>
                    <a:pt x="335" y="1705"/>
                  </a:lnTo>
                  <a:lnTo>
                    <a:pt x="350" y="1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59320" y="1932480"/>
              <a:ext cx="69480" cy="85680"/>
            </a:xfrm>
            <a:custGeom>
              <a:avLst/>
              <a:gdLst/>
              <a:ahLst/>
              <a:rect l="l" t="t" r="r" b="b"/>
              <a:pathLst>
                <a:path w="196" h="236">
                  <a:moveTo>
                    <a:pt x="190" y="145"/>
                  </a:moveTo>
                  <a:lnTo>
                    <a:pt x="165" y="125"/>
                  </a:lnTo>
                  <a:lnTo>
                    <a:pt x="140" y="130"/>
                  </a:lnTo>
                  <a:lnTo>
                    <a:pt x="115" y="125"/>
                  </a:lnTo>
                  <a:lnTo>
                    <a:pt x="135" y="100"/>
                  </a:lnTo>
                  <a:lnTo>
                    <a:pt x="160" y="100"/>
                  </a:lnTo>
                  <a:lnTo>
                    <a:pt x="185" y="80"/>
                  </a:lnTo>
                  <a:lnTo>
                    <a:pt x="195" y="55"/>
                  </a:lnTo>
                  <a:lnTo>
                    <a:pt x="180" y="30"/>
                  </a:lnTo>
                  <a:lnTo>
                    <a:pt x="160" y="5"/>
                  </a:lnTo>
                  <a:lnTo>
                    <a:pt x="145" y="0"/>
                  </a:lnTo>
                  <a:lnTo>
                    <a:pt x="120" y="20"/>
                  </a:lnTo>
                  <a:lnTo>
                    <a:pt x="95" y="25"/>
                  </a:lnTo>
                  <a:lnTo>
                    <a:pt x="70" y="40"/>
                  </a:lnTo>
                  <a:lnTo>
                    <a:pt x="60" y="65"/>
                  </a:lnTo>
                  <a:lnTo>
                    <a:pt x="45" y="90"/>
                  </a:lnTo>
                  <a:lnTo>
                    <a:pt x="25" y="115"/>
                  </a:lnTo>
                  <a:lnTo>
                    <a:pt x="15" y="140"/>
                  </a:lnTo>
                  <a:lnTo>
                    <a:pt x="5" y="165"/>
                  </a:lnTo>
                  <a:lnTo>
                    <a:pt x="0" y="190"/>
                  </a:lnTo>
                  <a:lnTo>
                    <a:pt x="0" y="215"/>
                  </a:lnTo>
                  <a:lnTo>
                    <a:pt x="25" y="230"/>
                  </a:lnTo>
                  <a:lnTo>
                    <a:pt x="50" y="235"/>
                  </a:lnTo>
                  <a:lnTo>
                    <a:pt x="75" y="215"/>
                  </a:lnTo>
                  <a:lnTo>
                    <a:pt x="100" y="205"/>
                  </a:lnTo>
                  <a:lnTo>
                    <a:pt x="125" y="190"/>
                  </a:lnTo>
                  <a:lnTo>
                    <a:pt x="150" y="180"/>
                  </a:lnTo>
                  <a:lnTo>
                    <a:pt x="190" y="1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41680" y="1953360"/>
              <a:ext cx="442440" cy="642600"/>
            </a:xfrm>
            <a:custGeom>
              <a:avLst/>
              <a:gdLst/>
              <a:ahLst/>
              <a:rect l="l" t="t" r="r" b="b"/>
              <a:pathLst>
                <a:path w="1230" h="1786">
                  <a:moveTo>
                    <a:pt x="240" y="85"/>
                  </a:moveTo>
                  <a:lnTo>
                    <a:pt x="200" y="120"/>
                  </a:lnTo>
                  <a:lnTo>
                    <a:pt x="197" y="123"/>
                  </a:lnTo>
                  <a:lnTo>
                    <a:pt x="217" y="148"/>
                  </a:lnTo>
                  <a:lnTo>
                    <a:pt x="202" y="178"/>
                  </a:lnTo>
                  <a:lnTo>
                    <a:pt x="182" y="203"/>
                  </a:lnTo>
                  <a:lnTo>
                    <a:pt x="202" y="253"/>
                  </a:lnTo>
                  <a:lnTo>
                    <a:pt x="267" y="353"/>
                  </a:lnTo>
                  <a:lnTo>
                    <a:pt x="342" y="408"/>
                  </a:lnTo>
                  <a:lnTo>
                    <a:pt x="692" y="523"/>
                  </a:lnTo>
                  <a:lnTo>
                    <a:pt x="832" y="523"/>
                  </a:lnTo>
                  <a:lnTo>
                    <a:pt x="492" y="938"/>
                  </a:lnTo>
                  <a:lnTo>
                    <a:pt x="352" y="933"/>
                  </a:lnTo>
                  <a:lnTo>
                    <a:pt x="237" y="988"/>
                  </a:lnTo>
                  <a:lnTo>
                    <a:pt x="232" y="1003"/>
                  </a:lnTo>
                  <a:lnTo>
                    <a:pt x="222" y="1028"/>
                  </a:lnTo>
                  <a:lnTo>
                    <a:pt x="197" y="1033"/>
                  </a:lnTo>
                  <a:lnTo>
                    <a:pt x="172" y="1028"/>
                  </a:lnTo>
                  <a:lnTo>
                    <a:pt x="137" y="1043"/>
                  </a:lnTo>
                  <a:lnTo>
                    <a:pt x="140" y="1040"/>
                  </a:lnTo>
                  <a:lnTo>
                    <a:pt x="60" y="1130"/>
                  </a:lnTo>
                  <a:lnTo>
                    <a:pt x="45" y="1155"/>
                  </a:lnTo>
                  <a:lnTo>
                    <a:pt x="25" y="1175"/>
                  </a:lnTo>
                  <a:lnTo>
                    <a:pt x="0" y="1200"/>
                  </a:lnTo>
                  <a:lnTo>
                    <a:pt x="10" y="1685"/>
                  </a:lnTo>
                  <a:lnTo>
                    <a:pt x="75" y="1785"/>
                  </a:lnTo>
                  <a:lnTo>
                    <a:pt x="85" y="1760"/>
                  </a:lnTo>
                  <a:lnTo>
                    <a:pt x="105" y="1735"/>
                  </a:lnTo>
                  <a:lnTo>
                    <a:pt x="125" y="1710"/>
                  </a:lnTo>
                  <a:lnTo>
                    <a:pt x="145" y="1685"/>
                  </a:lnTo>
                  <a:lnTo>
                    <a:pt x="165" y="1660"/>
                  </a:lnTo>
                  <a:lnTo>
                    <a:pt x="190" y="1640"/>
                  </a:lnTo>
                  <a:lnTo>
                    <a:pt x="210" y="1615"/>
                  </a:lnTo>
                  <a:lnTo>
                    <a:pt x="225" y="1590"/>
                  </a:lnTo>
                  <a:lnTo>
                    <a:pt x="240" y="1565"/>
                  </a:lnTo>
                  <a:lnTo>
                    <a:pt x="255" y="1540"/>
                  </a:lnTo>
                  <a:lnTo>
                    <a:pt x="285" y="1520"/>
                  </a:lnTo>
                  <a:lnTo>
                    <a:pt x="310" y="1500"/>
                  </a:lnTo>
                  <a:lnTo>
                    <a:pt x="335" y="1470"/>
                  </a:lnTo>
                  <a:lnTo>
                    <a:pt x="360" y="1450"/>
                  </a:lnTo>
                  <a:lnTo>
                    <a:pt x="385" y="1430"/>
                  </a:lnTo>
                  <a:lnTo>
                    <a:pt x="405" y="1405"/>
                  </a:lnTo>
                  <a:lnTo>
                    <a:pt x="415" y="1380"/>
                  </a:lnTo>
                  <a:lnTo>
                    <a:pt x="440" y="1360"/>
                  </a:lnTo>
                  <a:lnTo>
                    <a:pt x="465" y="1345"/>
                  </a:lnTo>
                  <a:lnTo>
                    <a:pt x="490" y="1330"/>
                  </a:lnTo>
                  <a:lnTo>
                    <a:pt x="515" y="1310"/>
                  </a:lnTo>
                  <a:lnTo>
                    <a:pt x="540" y="1295"/>
                  </a:lnTo>
                  <a:lnTo>
                    <a:pt x="565" y="1280"/>
                  </a:lnTo>
                  <a:lnTo>
                    <a:pt x="590" y="1270"/>
                  </a:lnTo>
                  <a:lnTo>
                    <a:pt x="615" y="1245"/>
                  </a:lnTo>
                  <a:lnTo>
                    <a:pt x="640" y="1220"/>
                  </a:lnTo>
                  <a:lnTo>
                    <a:pt x="665" y="1195"/>
                  </a:lnTo>
                  <a:lnTo>
                    <a:pt x="685" y="1170"/>
                  </a:lnTo>
                  <a:lnTo>
                    <a:pt x="710" y="1150"/>
                  </a:lnTo>
                  <a:lnTo>
                    <a:pt x="725" y="1125"/>
                  </a:lnTo>
                  <a:lnTo>
                    <a:pt x="750" y="1100"/>
                  </a:lnTo>
                  <a:lnTo>
                    <a:pt x="775" y="1075"/>
                  </a:lnTo>
                  <a:lnTo>
                    <a:pt x="805" y="1025"/>
                  </a:lnTo>
                  <a:lnTo>
                    <a:pt x="825" y="1000"/>
                  </a:lnTo>
                  <a:lnTo>
                    <a:pt x="840" y="975"/>
                  </a:lnTo>
                  <a:lnTo>
                    <a:pt x="855" y="950"/>
                  </a:lnTo>
                  <a:lnTo>
                    <a:pt x="875" y="920"/>
                  </a:lnTo>
                  <a:lnTo>
                    <a:pt x="895" y="895"/>
                  </a:lnTo>
                  <a:lnTo>
                    <a:pt x="910" y="870"/>
                  </a:lnTo>
                  <a:lnTo>
                    <a:pt x="925" y="845"/>
                  </a:lnTo>
                  <a:lnTo>
                    <a:pt x="940" y="820"/>
                  </a:lnTo>
                  <a:lnTo>
                    <a:pt x="955" y="790"/>
                  </a:lnTo>
                  <a:lnTo>
                    <a:pt x="965" y="765"/>
                  </a:lnTo>
                  <a:lnTo>
                    <a:pt x="975" y="740"/>
                  </a:lnTo>
                  <a:lnTo>
                    <a:pt x="980" y="715"/>
                  </a:lnTo>
                  <a:lnTo>
                    <a:pt x="985" y="690"/>
                  </a:lnTo>
                  <a:lnTo>
                    <a:pt x="1000" y="665"/>
                  </a:lnTo>
                  <a:lnTo>
                    <a:pt x="1020" y="640"/>
                  </a:lnTo>
                  <a:lnTo>
                    <a:pt x="1035" y="615"/>
                  </a:lnTo>
                  <a:lnTo>
                    <a:pt x="1040" y="585"/>
                  </a:lnTo>
                  <a:lnTo>
                    <a:pt x="1045" y="560"/>
                  </a:lnTo>
                  <a:lnTo>
                    <a:pt x="1055" y="535"/>
                  </a:lnTo>
                  <a:lnTo>
                    <a:pt x="1080" y="510"/>
                  </a:lnTo>
                  <a:lnTo>
                    <a:pt x="1100" y="480"/>
                  </a:lnTo>
                  <a:lnTo>
                    <a:pt x="1115" y="450"/>
                  </a:lnTo>
                  <a:lnTo>
                    <a:pt x="1125" y="425"/>
                  </a:lnTo>
                  <a:lnTo>
                    <a:pt x="1140" y="400"/>
                  </a:lnTo>
                  <a:lnTo>
                    <a:pt x="1150" y="375"/>
                  </a:lnTo>
                  <a:lnTo>
                    <a:pt x="1165" y="350"/>
                  </a:lnTo>
                  <a:lnTo>
                    <a:pt x="1165" y="325"/>
                  </a:lnTo>
                  <a:lnTo>
                    <a:pt x="1165" y="300"/>
                  </a:lnTo>
                  <a:lnTo>
                    <a:pt x="1165" y="275"/>
                  </a:lnTo>
                  <a:lnTo>
                    <a:pt x="1175" y="250"/>
                  </a:lnTo>
                  <a:lnTo>
                    <a:pt x="1190" y="225"/>
                  </a:lnTo>
                  <a:lnTo>
                    <a:pt x="1210" y="200"/>
                  </a:lnTo>
                  <a:lnTo>
                    <a:pt x="1229" y="175"/>
                  </a:lnTo>
                  <a:lnTo>
                    <a:pt x="1180" y="163"/>
                  </a:lnTo>
                  <a:lnTo>
                    <a:pt x="1180" y="135"/>
                  </a:lnTo>
                  <a:lnTo>
                    <a:pt x="1180" y="105"/>
                  </a:lnTo>
                  <a:lnTo>
                    <a:pt x="1180" y="80"/>
                  </a:lnTo>
                  <a:lnTo>
                    <a:pt x="1185" y="55"/>
                  </a:lnTo>
                  <a:lnTo>
                    <a:pt x="1195" y="30"/>
                  </a:lnTo>
                  <a:lnTo>
                    <a:pt x="1175" y="5"/>
                  </a:lnTo>
                  <a:lnTo>
                    <a:pt x="1145" y="0"/>
                  </a:lnTo>
                  <a:lnTo>
                    <a:pt x="1120" y="5"/>
                  </a:lnTo>
                  <a:lnTo>
                    <a:pt x="1095" y="30"/>
                  </a:lnTo>
                  <a:lnTo>
                    <a:pt x="1070" y="40"/>
                  </a:lnTo>
                  <a:lnTo>
                    <a:pt x="1045" y="60"/>
                  </a:lnTo>
                  <a:lnTo>
                    <a:pt x="1020" y="60"/>
                  </a:lnTo>
                  <a:lnTo>
                    <a:pt x="990" y="60"/>
                  </a:lnTo>
                  <a:lnTo>
                    <a:pt x="965" y="80"/>
                  </a:lnTo>
                  <a:lnTo>
                    <a:pt x="940" y="90"/>
                  </a:lnTo>
                  <a:lnTo>
                    <a:pt x="915" y="90"/>
                  </a:lnTo>
                  <a:lnTo>
                    <a:pt x="890" y="80"/>
                  </a:lnTo>
                  <a:lnTo>
                    <a:pt x="865" y="85"/>
                  </a:lnTo>
                  <a:lnTo>
                    <a:pt x="835" y="85"/>
                  </a:lnTo>
                  <a:lnTo>
                    <a:pt x="810" y="95"/>
                  </a:lnTo>
                  <a:lnTo>
                    <a:pt x="785" y="100"/>
                  </a:lnTo>
                  <a:lnTo>
                    <a:pt x="755" y="100"/>
                  </a:lnTo>
                  <a:lnTo>
                    <a:pt x="730" y="110"/>
                  </a:lnTo>
                  <a:lnTo>
                    <a:pt x="710" y="135"/>
                  </a:lnTo>
                  <a:lnTo>
                    <a:pt x="685" y="150"/>
                  </a:lnTo>
                  <a:lnTo>
                    <a:pt x="660" y="165"/>
                  </a:lnTo>
                  <a:lnTo>
                    <a:pt x="620" y="170"/>
                  </a:lnTo>
                  <a:lnTo>
                    <a:pt x="585" y="165"/>
                  </a:lnTo>
                  <a:lnTo>
                    <a:pt x="560" y="165"/>
                  </a:lnTo>
                  <a:lnTo>
                    <a:pt x="535" y="165"/>
                  </a:lnTo>
                  <a:lnTo>
                    <a:pt x="510" y="180"/>
                  </a:lnTo>
                  <a:lnTo>
                    <a:pt x="485" y="185"/>
                  </a:lnTo>
                  <a:lnTo>
                    <a:pt x="460" y="200"/>
                  </a:lnTo>
                  <a:lnTo>
                    <a:pt x="435" y="215"/>
                  </a:lnTo>
                  <a:lnTo>
                    <a:pt x="410" y="220"/>
                  </a:lnTo>
                  <a:lnTo>
                    <a:pt x="385" y="215"/>
                  </a:lnTo>
                  <a:lnTo>
                    <a:pt x="360" y="205"/>
                  </a:lnTo>
                  <a:lnTo>
                    <a:pt x="335" y="190"/>
                  </a:lnTo>
                  <a:lnTo>
                    <a:pt x="310" y="175"/>
                  </a:lnTo>
                  <a:lnTo>
                    <a:pt x="295" y="150"/>
                  </a:lnTo>
                  <a:lnTo>
                    <a:pt x="280" y="125"/>
                  </a:lnTo>
                  <a:lnTo>
                    <a:pt x="260" y="100"/>
                  </a:lnTo>
                  <a:lnTo>
                    <a:pt x="240" y="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20760" y="2408760"/>
              <a:ext cx="95040" cy="61560"/>
            </a:xfrm>
            <a:custGeom>
              <a:avLst/>
              <a:gdLst/>
              <a:ahLst/>
              <a:rect l="l" t="t" r="r" b="b"/>
              <a:pathLst>
                <a:path w="266" h="171">
                  <a:moveTo>
                    <a:pt x="255" y="170"/>
                  </a:moveTo>
                  <a:lnTo>
                    <a:pt x="5" y="160"/>
                  </a:lnTo>
                  <a:lnTo>
                    <a:pt x="0" y="150"/>
                  </a:lnTo>
                  <a:lnTo>
                    <a:pt x="5" y="125"/>
                  </a:lnTo>
                  <a:lnTo>
                    <a:pt x="20" y="100"/>
                  </a:lnTo>
                  <a:lnTo>
                    <a:pt x="30" y="75"/>
                  </a:lnTo>
                  <a:lnTo>
                    <a:pt x="40" y="50"/>
                  </a:lnTo>
                  <a:lnTo>
                    <a:pt x="50" y="25"/>
                  </a:lnTo>
                  <a:lnTo>
                    <a:pt x="75" y="10"/>
                  </a:lnTo>
                  <a:lnTo>
                    <a:pt x="100" y="10"/>
                  </a:lnTo>
                  <a:lnTo>
                    <a:pt x="130" y="10"/>
                  </a:lnTo>
                  <a:lnTo>
                    <a:pt x="155" y="10"/>
                  </a:lnTo>
                  <a:lnTo>
                    <a:pt x="190" y="15"/>
                  </a:lnTo>
                  <a:lnTo>
                    <a:pt x="215" y="10"/>
                  </a:lnTo>
                  <a:lnTo>
                    <a:pt x="240" y="5"/>
                  </a:lnTo>
                  <a:lnTo>
                    <a:pt x="265" y="0"/>
                  </a:lnTo>
                  <a:lnTo>
                    <a:pt x="255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81160" y="2408760"/>
              <a:ext cx="271080" cy="290160"/>
            </a:xfrm>
            <a:custGeom>
              <a:avLst/>
              <a:gdLst/>
              <a:ahLst/>
              <a:rect l="l" t="t" r="r" b="b"/>
              <a:pathLst>
                <a:path w="756" h="806">
                  <a:moveTo>
                    <a:pt x="590" y="25"/>
                  </a:moveTo>
                  <a:lnTo>
                    <a:pt x="590" y="55"/>
                  </a:lnTo>
                  <a:lnTo>
                    <a:pt x="590" y="80"/>
                  </a:lnTo>
                  <a:lnTo>
                    <a:pt x="590" y="105"/>
                  </a:lnTo>
                  <a:lnTo>
                    <a:pt x="590" y="130"/>
                  </a:lnTo>
                  <a:lnTo>
                    <a:pt x="615" y="130"/>
                  </a:lnTo>
                  <a:lnTo>
                    <a:pt x="640" y="120"/>
                  </a:lnTo>
                  <a:lnTo>
                    <a:pt x="670" y="120"/>
                  </a:lnTo>
                  <a:lnTo>
                    <a:pt x="700" y="125"/>
                  </a:lnTo>
                  <a:lnTo>
                    <a:pt x="730" y="135"/>
                  </a:lnTo>
                  <a:lnTo>
                    <a:pt x="745" y="160"/>
                  </a:lnTo>
                  <a:lnTo>
                    <a:pt x="745" y="185"/>
                  </a:lnTo>
                  <a:lnTo>
                    <a:pt x="745" y="210"/>
                  </a:lnTo>
                  <a:lnTo>
                    <a:pt x="725" y="235"/>
                  </a:lnTo>
                  <a:lnTo>
                    <a:pt x="700" y="255"/>
                  </a:lnTo>
                  <a:lnTo>
                    <a:pt x="680" y="280"/>
                  </a:lnTo>
                  <a:lnTo>
                    <a:pt x="670" y="305"/>
                  </a:lnTo>
                  <a:lnTo>
                    <a:pt x="680" y="330"/>
                  </a:lnTo>
                  <a:lnTo>
                    <a:pt x="705" y="345"/>
                  </a:lnTo>
                  <a:lnTo>
                    <a:pt x="730" y="355"/>
                  </a:lnTo>
                  <a:lnTo>
                    <a:pt x="750" y="380"/>
                  </a:lnTo>
                  <a:lnTo>
                    <a:pt x="755" y="405"/>
                  </a:lnTo>
                  <a:lnTo>
                    <a:pt x="750" y="430"/>
                  </a:lnTo>
                  <a:lnTo>
                    <a:pt x="740" y="455"/>
                  </a:lnTo>
                  <a:lnTo>
                    <a:pt x="740" y="480"/>
                  </a:lnTo>
                  <a:lnTo>
                    <a:pt x="740" y="505"/>
                  </a:lnTo>
                  <a:lnTo>
                    <a:pt x="730" y="530"/>
                  </a:lnTo>
                  <a:lnTo>
                    <a:pt x="740" y="555"/>
                  </a:lnTo>
                  <a:lnTo>
                    <a:pt x="715" y="580"/>
                  </a:lnTo>
                  <a:lnTo>
                    <a:pt x="690" y="605"/>
                  </a:lnTo>
                  <a:lnTo>
                    <a:pt x="690" y="630"/>
                  </a:lnTo>
                  <a:lnTo>
                    <a:pt x="665" y="605"/>
                  </a:lnTo>
                  <a:lnTo>
                    <a:pt x="640" y="585"/>
                  </a:lnTo>
                  <a:lnTo>
                    <a:pt x="615" y="590"/>
                  </a:lnTo>
                  <a:lnTo>
                    <a:pt x="590" y="585"/>
                  </a:lnTo>
                  <a:lnTo>
                    <a:pt x="565" y="590"/>
                  </a:lnTo>
                  <a:lnTo>
                    <a:pt x="545" y="565"/>
                  </a:lnTo>
                  <a:lnTo>
                    <a:pt x="525" y="540"/>
                  </a:lnTo>
                  <a:lnTo>
                    <a:pt x="500" y="530"/>
                  </a:lnTo>
                  <a:lnTo>
                    <a:pt x="500" y="555"/>
                  </a:lnTo>
                  <a:lnTo>
                    <a:pt x="500" y="580"/>
                  </a:lnTo>
                  <a:lnTo>
                    <a:pt x="475" y="590"/>
                  </a:lnTo>
                  <a:lnTo>
                    <a:pt x="450" y="585"/>
                  </a:lnTo>
                  <a:lnTo>
                    <a:pt x="425" y="600"/>
                  </a:lnTo>
                  <a:lnTo>
                    <a:pt x="400" y="605"/>
                  </a:lnTo>
                  <a:lnTo>
                    <a:pt x="375" y="610"/>
                  </a:lnTo>
                  <a:lnTo>
                    <a:pt x="350" y="600"/>
                  </a:lnTo>
                  <a:lnTo>
                    <a:pt x="350" y="625"/>
                  </a:lnTo>
                  <a:lnTo>
                    <a:pt x="365" y="650"/>
                  </a:lnTo>
                  <a:lnTo>
                    <a:pt x="390" y="655"/>
                  </a:lnTo>
                  <a:lnTo>
                    <a:pt x="415" y="660"/>
                  </a:lnTo>
                  <a:lnTo>
                    <a:pt x="430" y="685"/>
                  </a:lnTo>
                  <a:lnTo>
                    <a:pt x="425" y="710"/>
                  </a:lnTo>
                  <a:lnTo>
                    <a:pt x="420" y="735"/>
                  </a:lnTo>
                  <a:lnTo>
                    <a:pt x="415" y="760"/>
                  </a:lnTo>
                  <a:lnTo>
                    <a:pt x="390" y="750"/>
                  </a:lnTo>
                  <a:lnTo>
                    <a:pt x="365" y="760"/>
                  </a:lnTo>
                  <a:lnTo>
                    <a:pt x="360" y="785"/>
                  </a:lnTo>
                  <a:lnTo>
                    <a:pt x="330" y="805"/>
                  </a:lnTo>
                  <a:lnTo>
                    <a:pt x="310" y="780"/>
                  </a:lnTo>
                  <a:lnTo>
                    <a:pt x="285" y="755"/>
                  </a:lnTo>
                  <a:lnTo>
                    <a:pt x="260" y="735"/>
                  </a:lnTo>
                  <a:lnTo>
                    <a:pt x="240" y="710"/>
                  </a:lnTo>
                  <a:lnTo>
                    <a:pt x="225" y="685"/>
                  </a:lnTo>
                  <a:lnTo>
                    <a:pt x="210" y="660"/>
                  </a:lnTo>
                  <a:lnTo>
                    <a:pt x="185" y="635"/>
                  </a:lnTo>
                  <a:lnTo>
                    <a:pt x="160" y="615"/>
                  </a:lnTo>
                  <a:lnTo>
                    <a:pt x="135" y="595"/>
                  </a:lnTo>
                  <a:lnTo>
                    <a:pt x="110" y="575"/>
                  </a:lnTo>
                  <a:lnTo>
                    <a:pt x="125" y="550"/>
                  </a:lnTo>
                  <a:lnTo>
                    <a:pt x="105" y="525"/>
                  </a:lnTo>
                  <a:lnTo>
                    <a:pt x="80" y="500"/>
                  </a:lnTo>
                  <a:lnTo>
                    <a:pt x="105" y="515"/>
                  </a:lnTo>
                  <a:lnTo>
                    <a:pt x="100" y="490"/>
                  </a:lnTo>
                  <a:lnTo>
                    <a:pt x="80" y="465"/>
                  </a:lnTo>
                  <a:lnTo>
                    <a:pt x="60" y="440"/>
                  </a:lnTo>
                  <a:lnTo>
                    <a:pt x="35" y="420"/>
                  </a:lnTo>
                  <a:lnTo>
                    <a:pt x="10" y="395"/>
                  </a:lnTo>
                  <a:lnTo>
                    <a:pt x="0" y="370"/>
                  </a:lnTo>
                  <a:lnTo>
                    <a:pt x="25" y="380"/>
                  </a:lnTo>
                  <a:lnTo>
                    <a:pt x="40" y="405"/>
                  </a:lnTo>
                  <a:lnTo>
                    <a:pt x="65" y="395"/>
                  </a:lnTo>
                  <a:lnTo>
                    <a:pt x="65" y="370"/>
                  </a:lnTo>
                  <a:lnTo>
                    <a:pt x="80" y="345"/>
                  </a:lnTo>
                  <a:lnTo>
                    <a:pt x="80" y="320"/>
                  </a:lnTo>
                  <a:lnTo>
                    <a:pt x="90" y="295"/>
                  </a:lnTo>
                  <a:lnTo>
                    <a:pt x="100" y="270"/>
                  </a:lnTo>
                  <a:lnTo>
                    <a:pt x="110" y="245"/>
                  </a:lnTo>
                  <a:lnTo>
                    <a:pt x="130" y="220"/>
                  </a:lnTo>
                  <a:lnTo>
                    <a:pt x="135" y="195"/>
                  </a:lnTo>
                  <a:lnTo>
                    <a:pt x="135" y="170"/>
                  </a:lnTo>
                  <a:lnTo>
                    <a:pt x="363" y="170"/>
                  </a:lnTo>
                  <a:lnTo>
                    <a:pt x="373" y="0"/>
                  </a:lnTo>
                  <a:lnTo>
                    <a:pt x="398" y="5"/>
                  </a:lnTo>
                  <a:lnTo>
                    <a:pt x="423" y="10"/>
                  </a:lnTo>
                  <a:lnTo>
                    <a:pt x="448" y="10"/>
                  </a:lnTo>
                  <a:lnTo>
                    <a:pt x="473" y="10"/>
                  </a:lnTo>
                  <a:lnTo>
                    <a:pt x="503" y="10"/>
                  </a:lnTo>
                  <a:lnTo>
                    <a:pt x="528" y="15"/>
                  </a:lnTo>
                  <a:lnTo>
                    <a:pt x="553" y="15"/>
                  </a:lnTo>
                  <a:lnTo>
                    <a:pt x="578" y="15"/>
                  </a:lnTo>
                  <a:lnTo>
                    <a:pt x="590" y="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00320" y="2351880"/>
              <a:ext cx="337320" cy="391680"/>
            </a:xfrm>
            <a:custGeom>
              <a:avLst/>
              <a:gdLst/>
              <a:ahLst/>
              <a:rect l="l" t="t" r="r" b="b"/>
              <a:pathLst>
                <a:path w="939" h="1091">
                  <a:moveTo>
                    <a:pt x="938" y="55"/>
                  </a:moveTo>
                  <a:lnTo>
                    <a:pt x="928" y="80"/>
                  </a:lnTo>
                  <a:lnTo>
                    <a:pt x="918" y="105"/>
                  </a:lnTo>
                  <a:lnTo>
                    <a:pt x="913" y="130"/>
                  </a:lnTo>
                  <a:lnTo>
                    <a:pt x="893" y="155"/>
                  </a:lnTo>
                  <a:lnTo>
                    <a:pt x="883" y="180"/>
                  </a:lnTo>
                  <a:lnTo>
                    <a:pt x="878" y="205"/>
                  </a:lnTo>
                  <a:lnTo>
                    <a:pt x="883" y="230"/>
                  </a:lnTo>
                  <a:lnTo>
                    <a:pt x="868" y="255"/>
                  </a:lnTo>
                  <a:lnTo>
                    <a:pt x="858" y="280"/>
                  </a:lnTo>
                  <a:lnTo>
                    <a:pt x="843" y="305"/>
                  </a:lnTo>
                  <a:lnTo>
                    <a:pt x="833" y="330"/>
                  </a:lnTo>
                  <a:lnTo>
                    <a:pt x="838" y="355"/>
                  </a:lnTo>
                  <a:lnTo>
                    <a:pt x="843" y="380"/>
                  </a:lnTo>
                  <a:lnTo>
                    <a:pt x="843" y="410"/>
                  </a:lnTo>
                  <a:lnTo>
                    <a:pt x="833" y="435"/>
                  </a:lnTo>
                  <a:lnTo>
                    <a:pt x="823" y="460"/>
                  </a:lnTo>
                  <a:lnTo>
                    <a:pt x="818" y="485"/>
                  </a:lnTo>
                  <a:lnTo>
                    <a:pt x="813" y="510"/>
                  </a:lnTo>
                  <a:lnTo>
                    <a:pt x="808" y="545"/>
                  </a:lnTo>
                  <a:lnTo>
                    <a:pt x="793" y="570"/>
                  </a:lnTo>
                  <a:lnTo>
                    <a:pt x="773" y="595"/>
                  </a:lnTo>
                  <a:lnTo>
                    <a:pt x="748" y="610"/>
                  </a:lnTo>
                  <a:lnTo>
                    <a:pt x="723" y="630"/>
                  </a:lnTo>
                  <a:lnTo>
                    <a:pt x="708" y="655"/>
                  </a:lnTo>
                  <a:lnTo>
                    <a:pt x="693" y="680"/>
                  </a:lnTo>
                  <a:lnTo>
                    <a:pt x="668" y="705"/>
                  </a:lnTo>
                  <a:lnTo>
                    <a:pt x="643" y="730"/>
                  </a:lnTo>
                  <a:lnTo>
                    <a:pt x="633" y="755"/>
                  </a:lnTo>
                  <a:lnTo>
                    <a:pt x="638" y="780"/>
                  </a:lnTo>
                  <a:lnTo>
                    <a:pt x="638" y="805"/>
                  </a:lnTo>
                  <a:lnTo>
                    <a:pt x="638" y="830"/>
                  </a:lnTo>
                  <a:lnTo>
                    <a:pt x="638" y="855"/>
                  </a:lnTo>
                  <a:lnTo>
                    <a:pt x="633" y="880"/>
                  </a:lnTo>
                  <a:lnTo>
                    <a:pt x="633" y="905"/>
                  </a:lnTo>
                  <a:lnTo>
                    <a:pt x="623" y="930"/>
                  </a:lnTo>
                  <a:lnTo>
                    <a:pt x="603" y="955"/>
                  </a:lnTo>
                  <a:lnTo>
                    <a:pt x="573" y="975"/>
                  </a:lnTo>
                  <a:lnTo>
                    <a:pt x="548" y="995"/>
                  </a:lnTo>
                  <a:lnTo>
                    <a:pt x="523" y="1000"/>
                  </a:lnTo>
                  <a:lnTo>
                    <a:pt x="498" y="1020"/>
                  </a:lnTo>
                  <a:lnTo>
                    <a:pt x="483" y="1045"/>
                  </a:lnTo>
                  <a:lnTo>
                    <a:pt x="468" y="1070"/>
                  </a:lnTo>
                  <a:lnTo>
                    <a:pt x="443" y="1090"/>
                  </a:lnTo>
                  <a:lnTo>
                    <a:pt x="418" y="1085"/>
                  </a:lnTo>
                  <a:lnTo>
                    <a:pt x="398" y="1060"/>
                  </a:lnTo>
                  <a:lnTo>
                    <a:pt x="408" y="1035"/>
                  </a:lnTo>
                  <a:lnTo>
                    <a:pt x="398" y="1010"/>
                  </a:lnTo>
                  <a:lnTo>
                    <a:pt x="373" y="1015"/>
                  </a:lnTo>
                  <a:lnTo>
                    <a:pt x="348" y="1020"/>
                  </a:lnTo>
                  <a:lnTo>
                    <a:pt x="323" y="1015"/>
                  </a:lnTo>
                  <a:lnTo>
                    <a:pt x="308" y="1040"/>
                  </a:lnTo>
                  <a:lnTo>
                    <a:pt x="298" y="1065"/>
                  </a:lnTo>
                  <a:lnTo>
                    <a:pt x="273" y="1075"/>
                  </a:lnTo>
                  <a:lnTo>
                    <a:pt x="248" y="1055"/>
                  </a:lnTo>
                  <a:lnTo>
                    <a:pt x="223" y="1045"/>
                  </a:lnTo>
                  <a:lnTo>
                    <a:pt x="198" y="1035"/>
                  </a:lnTo>
                  <a:lnTo>
                    <a:pt x="173" y="1035"/>
                  </a:lnTo>
                  <a:lnTo>
                    <a:pt x="148" y="1055"/>
                  </a:lnTo>
                  <a:lnTo>
                    <a:pt x="123" y="1065"/>
                  </a:lnTo>
                  <a:lnTo>
                    <a:pt x="98" y="1060"/>
                  </a:lnTo>
                  <a:lnTo>
                    <a:pt x="78" y="1035"/>
                  </a:lnTo>
                  <a:lnTo>
                    <a:pt x="63" y="1010"/>
                  </a:lnTo>
                  <a:lnTo>
                    <a:pt x="38" y="985"/>
                  </a:lnTo>
                  <a:lnTo>
                    <a:pt x="0" y="965"/>
                  </a:lnTo>
                  <a:lnTo>
                    <a:pt x="30" y="945"/>
                  </a:lnTo>
                  <a:lnTo>
                    <a:pt x="35" y="920"/>
                  </a:lnTo>
                  <a:lnTo>
                    <a:pt x="60" y="910"/>
                  </a:lnTo>
                  <a:lnTo>
                    <a:pt x="85" y="920"/>
                  </a:lnTo>
                  <a:lnTo>
                    <a:pt x="90" y="895"/>
                  </a:lnTo>
                  <a:lnTo>
                    <a:pt x="95" y="870"/>
                  </a:lnTo>
                  <a:lnTo>
                    <a:pt x="100" y="845"/>
                  </a:lnTo>
                  <a:lnTo>
                    <a:pt x="85" y="820"/>
                  </a:lnTo>
                  <a:lnTo>
                    <a:pt x="60" y="815"/>
                  </a:lnTo>
                  <a:lnTo>
                    <a:pt x="35" y="810"/>
                  </a:lnTo>
                  <a:lnTo>
                    <a:pt x="20" y="785"/>
                  </a:lnTo>
                  <a:lnTo>
                    <a:pt x="20" y="760"/>
                  </a:lnTo>
                  <a:lnTo>
                    <a:pt x="45" y="770"/>
                  </a:lnTo>
                  <a:lnTo>
                    <a:pt x="70" y="765"/>
                  </a:lnTo>
                  <a:lnTo>
                    <a:pt x="95" y="760"/>
                  </a:lnTo>
                  <a:lnTo>
                    <a:pt x="120" y="745"/>
                  </a:lnTo>
                  <a:lnTo>
                    <a:pt x="145" y="750"/>
                  </a:lnTo>
                  <a:lnTo>
                    <a:pt x="170" y="740"/>
                  </a:lnTo>
                  <a:lnTo>
                    <a:pt x="170" y="715"/>
                  </a:lnTo>
                  <a:lnTo>
                    <a:pt x="170" y="690"/>
                  </a:lnTo>
                  <a:lnTo>
                    <a:pt x="195" y="700"/>
                  </a:lnTo>
                  <a:lnTo>
                    <a:pt x="215" y="725"/>
                  </a:lnTo>
                  <a:lnTo>
                    <a:pt x="235" y="750"/>
                  </a:lnTo>
                  <a:lnTo>
                    <a:pt x="260" y="745"/>
                  </a:lnTo>
                  <a:lnTo>
                    <a:pt x="285" y="750"/>
                  </a:lnTo>
                  <a:lnTo>
                    <a:pt x="310" y="745"/>
                  </a:lnTo>
                  <a:lnTo>
                    <a:pt x="335" y="765"/>
                  </a:lnTo>
                  <a:lnTo>
                    <a:pt x="360" y="790"/>
                  </a:lnTo>
                  <a:lnTo>
                    <a:pt x="360" y="765"/>
                  </a:lnTo>
                  <a:lnTo>
                    <a:pt x="385" y="740"/>
                  </a:lnTo>
                  <a:lnTo>
                    <a:pt x="410" y="715"/>
                  </a:lnTo>
                  <a:lnTo>
                    <a:pt x="400" y="690"/>
                  </a:lnTo>
                  <a:lnTo>
                    <a:pt x="410" y="665"/>
                  </a:lnTo>
                  <a:lnTo>
                    <a:pt x="410" y="640"/>
                  </a:lnTo>
                  <a:lnTo>
                    <a:pt x="410" y="615"/>
                  </a:lnTo>
                  <a:lnTo>
                    <a:pt x="420" y="590"/>
                  </a:lnTo>
                  <a:lnTo>
                    <a:pt x="425" y="565"/>
                  </a:lnTo>
                  <a:lnTo>
                    <a:pt x="420" y="540"/>
                  </a:lnTo>
                  <a:lnTo>
                    <a:pt x="400" y="515"/>
                  </a:lnTo>
                  <a:lnTo>
                    <a:pt x="375" y="505"/>
                  </a:lnTo>
                  <a:lnTo>
                    <a:pt x="350" y="490"/>
                  </a:lnTo>
                  <a:lnTo>
                    <a:pt x="340" y="465"/>
                  </a:lnTo>
                  <a:lnTo>
                    <a:pt x="350" y="440"/>
                  </a:lnTo>
                  <a:lnTo>
                    <a:pt x="370" y="415"/>
                  </a:lnTo>
                  <a:lnTo>
                    <a:pt x="395" y="395"/>
                  </a:lnTo>
                  <a:lnTo>
                    <a:pt x="415" y="370"/>
                  </a:lnTo>
                  <a:lnTo>
                    <a:pt x="415" y="345"/>
                  </a:lnTo>
                  <a:lnTo>
                    <a:pt x="415" y="320"/>
                  </a:lnTo>
                  <a:lnTo>
                    <a:pt x="400" y="295"/>
                  </a:lnTo>
                  <a:lnTo>
                    <a:pt x="370" y="285"/>
                  </a:lnTo>
                  <a:lnTo>
                    <a:pt x="340" y="280"/>
                  </a:lnTo>
                  <a:lnTo>
                    <a:pt x="310" y="280"/>
                  </a:lnTo>
                  <a:lnTo>
                    <a:pt x="285" y="290"/>
                  </a:lnTo>
                  <a:lnTo>
                    <a:pt x="260" y="290"/>
                  </a:lnTo>
                  <a:lnTo>
                    <a:pt x="260" y="265"/>
                  </a:lnTo>
                  <a:lnTo>
                    <a:pt x="260" y="240"/>
                  </a:lnTo>
                  <a:lnTo>
                    <a:pt x="260" y="215"/>
                  </a:lnTo>
                  <a:lnTo>
                    <a:pt x="260" y="185"/>
                  </a:lnTo>
                  <a:lnTo>
                    <a:pt x="273" y="180"/>
                  </a:lnTo>
                  <a:lnTo>
                    <a:pt x="298" y="185"/>
                  </a:lnTo>
                  <a:lnTo>
                    <a:pt x="323" y="185"/>
                  </a:lnTo>
                  <a:lnTo>
                    <a:pt x="348" y="185"/>
                  </a:lnTo>
                  <a:lnTo>
                    <a:pt x="373" y="180"/>
                  </a:lnTo>
                  <a:lnTo>
                    <a:pt x="398" y="180"/>
                  </a:lnTo>
                  <a:lnTo>
                    <a:pt x="423" y="185"/>
                  </a:lnTo>
                  <a:lnTo>
                    <a:pt x="448" y="205"/>
                  </a:lnTo>
                  <a:lnTo>
                    <a:pt x="473" y="215"/>
                  </a:lnTo>
                  <a:lnTo>
                    <a:pt x="498" y="210"/>
                  </a:lnTo>
                  <a:lnTo>
                    <a:pt x="523" y="220"/>
                  </a:lnTo>
                  <a:lnTo>
                    <a:pt x="553" y="220"/>
                  </a:lnTo>
                  <a:lnTo>
                    <a:pt x="578" y="225"/>
                  </a:lnTo>
                  <a:lnTo>
                    <a:pt x="603" y="235"/>
                  </a:lnTo>
                  <a:lnTo>
                    <a:pt x="628" y="235"/>
                  </a:lnTo>
                  <a:lnTo>
                    <a:pt x="628" y="210"/>
                  </a:lnTo>
                  <a:lnTo>
                    <a:pt x="633" y="185"/>
                  </a:lnTo>
                  <a:lnTo>
                    <a:pt x="648" y="160"/>
                  </a:lnTo>
                  <a:lnTo>
                    <a:pt x="643" y="135"/>
                  </a:lnTo>
                  <a:lnTo>
                    <a:pt x="628" y="110"/>
                  </a:lnTo>
                  <a:lnTo>
                    <a:pt x="638" y="105"/>
                  </a:lnTo>
                  <a:lnTo>
                    <a:pt x="643" y="80"/>
                  </a:lnTo>
                  <a:lnTo>
                    <a:pt x="668" y="65"/>
                  </a:lnTo>
                  <a:lnTo>
                    <a:pt x="678" y="40"/>
                  </a:lnTo>
                  <a:lnTo>
                    <a:pt x="683" y="15"/>
                  </a:lnTo>
                  <a:lnTo>
                    <a:pt x="708" y="0"/>
                  </a:lnTo>
                  <a:lnTo>
                    <a:pt x="733" y="5"/>
                  </a:lnTo>
                  <a:lnTo>
                    <a:pt x="758" y="15"/>
                  </a:lnTo>
                  <a:lnTo>
                    <a:pt x="783" y="10"/>
                  </a:lnTo>
                  <a:lnTo>
                    <a:pt x="808" y="0"/>
                  </a:lnTo>
                  <a:lnTo>
                    <a:pt x="833" y="15"/>
                  </a:lnTo>
                  <a:lnTo>
                    <a:pt x="858" y="25"/>
                  </a:lnTo>
                  <a:lnTo>
                    <a:pt x="888" y="20"/>
                  </a:lnTo>
                  <a:lnTo>
                    <a:pt x="913" y="25"/>
                  </a:lnTo>
                  <a:lnTo>
                    <a:pt x="938" y="40"/>
                  </a:lnTo>
                  <a:lnTo>
                    <a:pt x="938" y="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35240" y="2724480"/>
              <a:ext cx="45720" cy="58320"/>
            </a:xfrm>
            <a:custGeom>
              <a:avLst/>
              <a:gdLst/>
              <a:ahLst/>
              <a:rect l="l" t="t" r="r" b="b"/>
              <a:pathLst>
                <a:path w="126" h="161">
                  <a:moveTo>
                    <a:pt x="125" y="25"/>
                  </a:moveTo>
                  <a:lnTo>
                    <a:pt x="100" y="50"/>
                  </a:lnTo>
                  <a:lnTo>
                    <a:pt x="85" y="75"/>
                  </a:lnTo>
                  <a:lnTo>
                    <a:pt x="85" y="100"/>
                  </a:lnTo>
                  <a:lnTo>
                    <a:pt x="85" y="125"/>
                  </a:lnTo>
                  <a:lnTo>
                    <a:pt x="70" y="150"/>
                  </a:lnTo>
                  <a:lnTo>
                    <a:pt x="45" y="160"/>
                  </a:lnTo>
                  <a:lnTo>
                    <a:pt x="35" y="135"/>
                  </a:lnTo>
                  <a:lnTo>
                    <a:pt x="45" y="110"/>
                  </a:lnTo>
                  <a:lnTo>
                    <a:pt x="25" y="85"/>
                  </a:lnTo>
                  <a:lnTo>
                    <a:pt x="10" y="60"/>
                  </a:lnTo>
                  <a:lnTo>
                    <a:pt x="0" y="25"/>
                  </a:lnTo>
                  <a:lnTo>
                    <a:pt x="25" y="30"/>
                  </a:lnTo>
                  <a:lnTo>
                    <a:pt x="50" y="20"/>
                  </a:lnTo>
                  <a:lnTo>
                    <a:pt x="75" y="0"/>
                  </a:lnTo>
                  <a:lnTo>
                    <a:pt x="100" y="0"/>
                  </a:lnTo>
                  <a:lnTo>
                    <a:pt x="125" y="10"/>
                  </a:lnTo>
                  <a:lnTo>
                    <a:pt x="125" y="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52520" y="2278800"/>
              <a:ext cx="861120" cy="862920"/>
            </a:xfrm>
            <a:custGeom>
              <a:avLst/>
              <a:gdLst/>
              <a:ahLst/>
              <a:rect l="l" t="t" r="r" b="b"/>
              <a:pathLst>
                <a:path w="2395" h="2400">
                  <a:moveTo>
                    <a:pt x="2354" y="250"/>
                  </a:moveTo>
                  <a:lnTo>
                    <a:pt x="2344" y="275"/>
                  </a:lnTo>
                  <a:lnTo>
                    <a:pt x="2334" y="300"/>
                  </a:lnTo>
                  <a:lnTo>
                    <a:pt x="2339" y="325"/>
                  </a:lnTo>
                  <a:lnTo>
                    <a:pt x="2339" y="350"/>
                  </a:lnTo>
                  <a:lnTo>
                    <a:pt x="2344" y="375"/>
                  </a:lnTo>
                  <a:lnTo>
                    <a:pt x="2369" y="380"/>
                  </a:lnTo>
                  <a:lnTo>
                    <a:pt x="2394" y="405"/>
                  </a:lnTo>
                  <a:lnTo>
                    <a:pt x="2379" y="430"/>
                  </a:lnTo>
                  <a:lnTo>
                    <a:pt x="2364" y="455"/>
                  </a:lnTo>
                  <a:lnTo>
                    <a:pt x="2339" y="480"/>
                  </a:lnTo>
                  <a:lnTo>
                    <a:pt x="2314" y="500"/>
                  </a:lnTo>
                  <a:lnTo>
                    <a:pt x="2289" y="520"/>
                  </a:lnTo>
                  <a:lnTo>
                    <a:pt x="2264" y="540"/>
                  </a:lnTo>
                  <a:lnTo>
                    <a:pt x="2249" y="565"/>
                  </a:lnTo>
                  <a:lnTo>
                    <a:pt x="2239" y="590"/>
                  </a:lnTo>
                  <a:lnTo>
                    <a:pt x="2229" y="615"/>
                  </a:lnTo>
                  <a:lnTo>
                    <a:pt x="2219" y="640"/>
                  </a:lnTo>
                  <a:lnTo>
                    <a:pt x="2204" y="680"/>
                  </a:lnTo>
                  <a:lnTo>
                    <a:pt x="2199" y="705"/>
                  </a:lnTo>
                  <a:lnTo>
                    <a:pt x="2194" y="735"/>
                  </a:lnTo>
                  <a:lnTo>
                    <a:pt x="2189" y="760"/>
                  </a:lnTo>
                  <a:lnTo>
                    <a:pt x="2184" y="785"/>
                  </a:lnTo>
                  <a:lnTo>
                    <a:pt x="2179" y="810"/>
                  </a:lnTo>
                  <a:lnTo>
                    <a:pt x="2169" y="840"/>
                  </a:lnTo>
                  <a:lnTo>
                    <a:pt x="2164" y="865"/>
                  </a:lnTo>
                  <a:lnTo>
                    <a:pt x="2144" y="890"/>
                  </a:lnTo>
                  <a:lnTo>
                    <a:pt x="2124" y="915"/>
                  </a:lnTo>
                  <a:lnTo>
                    <a:pt x="2119" y="940"/>
                  </a:lnTo>
                  <a:lnTo>
                    <a:pt x="2114" y="970"/>
                  </a:lnTo>
                  <a:lnTo>
                    <a:pt x="2109" y="995"/>
                  </a:lnTo>
                  <a:lnTo>
                    <a:pt x="2099" y="1020"/>
                  </a:lnTo>
                  <a:lnTo>
                    <a:pt x="2099" y="1045"/>
                  </a:lnTo>
                  <a:lnTo>
                    <a:pt x="2109" y="1070"/>
                  </a:lnTo>
                  <a:lnTo>
                    <a:pt x="2119" y="1095"/>
                  </a:lnTo>
                  <a:lnTo>
                    <a:pt x="2119" y="1120"/>
                  </a:lnTo>
                  <a:lnTo>
                    <a:pt x="2119" y="1145"/>
                  </a:lnTo>
                  <a:lnTo>
                    <a:pt x="2109" y="1170"/>
                  </a:lnTo>
                  <a:lnTo>
                    <a:pt x="2109" y="1195"/>
                  </a:lnTo>
                  <a:lnTo>
                    <a:pt x="2109" y="1220"/>
                  </a:lnTo>
                  <a:lnTo>
                    <a:pt x="2124" y="1245"/>
                  </a:lnTo>
                  <a:lnTo>
                    <a:pt x="2119" y="1270"/>
                  </a:lnTo>
                  <a:lnTo>
                    <a:pt x="2119" y="1295"/>
                  </a:lnTo>
                  <a:lnTo>
                    <a:pt x="2119" y="1320"/>
                  </a:lnTo>
                  <a:lnTo>
                    <a:pt x="2119" y="1345"/>
                  </a:lnTo>
                  <a:lnTo>
                    <a:pt x="2124" y="1370"/>
                  </a:lnTo>
                  <a:lnTo>
                    <a:pt x="2139" y="1395"/>
                  </a:lnTo>
                  <a:lnTo>
                    <a:pt x="2149" y="1420"/>
                  </a:lnTo>
                  <a:lnTo>
                    <a:pt x="2139" y="1445"/>
                  </a:lnTo>
                  <a:lnTo>
                    <a:pt x="2134" y="1470"/>
                  </a:lnTo>
                  <a:lnTo>
                    <a:pt x="2144" y="1495"/>
                  </a:lnTo>
                  <a:lnTo>
                    <a:pt x="2164" y="1520"/>
                  </a:lnTo>
                  <a:lnTo>
                    <a:pt x="2164" y="1550"/>
                  </a:lnTo>
                  <a:lnTo>
                    <a:pt x="2179" y="1575"/>
                  </a:lnTo>
                  <a:lnTo>
                    <a:pt x="2199" y="1600"/>
                  </a:lnTo>
                  <a:lnTo>
                    <a:pt x="2224" y="1620"/>
                  </a:lnTo>
                  <a:lnTo>
                    <a:pt x="2249" y="1630"/>
                  </a:lnTo>
                  <a:lnTo>
                    <a:pt x="2259" y="1655"/>
                  </a:lnTo>
                  <a:lnTo>
                    <a:pt x="2274" y="1680"/>
                  </a:lnTo>
                  <a:lnTo>
                    <a:pt x="2274" y="1705"/>
                  </a:lnTo>
                  <a:lnTo>
                    <a:pt x="2294" y="1730"/>
                  </a:lnTo>
                  <a:lnTo>
                    <a:pt x="2289" y="1744"/>
                  </a:lnTo>
                  <a:lnTo>
                    <a:pt x="2264" y="1749"/>
                  </a:lnTo>
                  <a:lnTo>
                    <a:pt x="2239" y="1749"/>
                  </a:lnTo>
                  <a:lnTo>
                    <a:pt x="2214" y="1749"/>
                  </a:lnTo>
                  <a:lnTo>
                    <a:pt x="2184" y="1754"/>
                  </a:lnTo>
                  <a:lnTo>
                    <a:pt x="2154" y="1754"/>
                  </a:lnTo>
                  <a:lnTo>
                    <a:pt x="2124" y="1754"/>
                  </a:lnTo>
                  <a:lnTo>
                    <a:pt x="2099" y="1759"/>
                  </a:lnTo>
                  <a:lnTo>
                    <a:pt x="2074" y="1774"/>
                  </a:lnTo>
                  <a:lnTo>
                    <a:pt x="2059" y="1804"/>
                  </a:lnTo>
                  <a:lnTo>
                    <a:pt x="2044" y="1829"/>
                  </a:lnTo>
                  <a:lnTo>
                    <a:pt x="2034" y="1854"/>
                  </a:lnTo>
                  <a:lnTo>
                    <a:pt x="2029" y="1879"/>
                  </a:lnTo>
                  <a:lnTo>
                    <a:pt x="2034" y="1904"/>
                  </a:lnTo>
                  <a:lnTo>
                    <a:pt x="2034" y="1934"/>
                  </a:lnTo>
                  <a:lnTo>
                    <a:pt x="2039" y="1999"/>
                  </a:lnTo>
                  <a:lnTo>
                    <a:pt x="2039" y="2024"/>
                  </a:lnTo>
                  <a:lnTo>
                    <a:pt x="2039" y="2049"/>
                  </a:lnTo>
                  <a:lnTo>
                    <a:pt x="2034" y="2074"/>
                  </a:lnTo>
                  <a:lnTo>
                    <a:pt x="2014" y="2099"/>
                  </a:lnTo>
                  <a:lnTo>
                    <a:pt x="2009" y="2124"/>
                  </a:lnTo>
                  <a:lnTo>
                    <a:pt x="2009" y="2149"/>
                  </a:lnTo>
                  <a:lnTo>
                    <a:pt x="2014" y="2174"/>
                  </a:lnTo>
                  <a:lnTo>
                    <a:pt x="2029" y="2204"/>
                  </a:lnTo>
                  <a:lnTo>
                    <a:pt x="2054" y="2214"/>
                  </a:lnTo>
                  <a:lnTo>
                    <a:pt x="2079" y="2229"/>
                  </a:lnTo>
                  <a:lnTo>
                    <a:pt x="2104" y="2239"/>
                  </a:lnTo>
                  <a:lnTo>
                    <a:pt x="2129" y="2244"/>
                  </a:lnTo>
                  <a:lnTo>
                    <a:pt x="2154" y="2224"/>
                  </a:lnTo>
                  <a:lnTo>
                    <a:pt x="2184" y="2204"/>
                  </a:lnTo>
                  <a:lnTo>
                    <a:pt x="2209" y="2219"/>
                  </a:lnTo>
                  <a:lnTo>
                    <a:pt x="2209" y="2249"/>
                  </a:lnTo>
                  <a:lnTo>
                    <a:pt x="2194" y="2274"/>
                  </a:lnTo>
                  <a:lnTo>
                    <a:pt x="2174" y="2299"/>
                  </a:lnTo>
                  <a:lnTo>
                    <a:pt x="2169" y="2324"/>
                  </a:lnTo>
                  <a:lnTo>
                    <a:pt x="2164" y="2349"/>
                  </a:lnTo>
                  <a:lnTo>
                    <a:pt x="2159" y="2374"/>
                  </a:lnTo>
                  <a:lnTo>
                    <a:pt x="2149" y="2399"/>
                  </a:lnTo>
                  <a:lnTo>
                    <a:pt x="2124" y="2399"/>
                  </a:lnTo>
                  <a:lnTo>
                    <a:pt x="2099" y="2389"/>
                  </a:lnTo>
                  <a:lnTo>
                    <a:pt x="2074" y="2369"/>
                  </a:lnTo>
                  <a:lnTo>
                    <a:pt x="2054" y="2344"/>
                  </a:lnTo>
                  <a:lnTo>
                    <a:pt x="2034" y="2319"/>
                  </a:lnTo>
                  <a:lnTo>
                    <a:pt x="2014" y="2289"/>
                  </a:lnTo>
                  <a:lnTo>
                    <a:pt x="1994" y="2264"/>
                  </a:lnTo>
                  <a:lnTo>
                    <a:pt x="1969" y="2249"/>
                  </a:lnTo>
                  <a:lnTo>
                    <a:pt x="1944" y="2239"/>
                  </a:lnTo>
                  <a:lnTo>
                    <a:pt x="1919" y="2219"/>
                  </a:lnTo>
                  <a:lnTo>
                    <a:pt x="1899" y="2194"/>
                  </a:lnTo>
                  <a:lnTo>
                    <a:pt x="1884" y="2169"/>
                  </a:lnTo>
                  <a:lnTo>
                    <a:pt x="1859" y="2164"/>
                  </a:lnTo>
                  <a:lnTo>
                    <a:pt x="1839" y="2189"/>
                  </a:lnTo>
                  <a:lnTo>
                    <a:pt x="1824" y="2214"/>
                  </a:lnTo>
                  <a:lnTo>
                    <a:pt x="1799" y="2204"/>
                  </a:lnTo>
                  <a:lnTo>
                    <a:pt x="1774" y="2204"/>
                  </a:lnTo>
                  <a:lnTo>
                    <a:pt x="1749" y="2204"/>
                  </a:lnTo>
                  <a:lnTo>
                    <a:pt x="1724" y="2189"/>
                  </a:lnTo>
                  <a:lnTo>
                    <a:pt x="1699" y="2174"/>
                  </a:lnTo>
                  <a:lnTo>
                    <a:pt x="1669" y="2159"/>
                  </a:lnTo>
                  <a:lnTo>
                    <a:pt x="1649" y="2134"/>
                  </a:lnTo>
                  <a:lnTo>
                    <a:pt x="1624" y="2129"/>
                  </a:lnTo>
                  <a:lnTo>
                    <a:pt x="1599" y="2129"/>
                  </a:lnTo>
                  <a:lnTo>
                    <a:pt x="1569" y="2129"/>
                  </a:lnTo>
                  <a:lnTo>
                    <a:pt x="1544" y="2129"/>
                  </a:lnTo>
                  <a:lnTo>
                    <a:pt x="1519" y="2109"/>
                  </a:lnTo>
                  <a:lnTo>
                    <a:pt x="1499" y="2084"/>
                  </a:lnTo>
                  <a:lnTo>
                    <a:pt x="1474" y="2084"/>
                  </a:lnTo>
                  <a:lnTo>
                    <a:pt x="1449" y="2089"/>
                  </a:lnTo>
                  <a:lnTo>
                    <a:pt x="1424" y="2079"/>
                  </a:lnTo>
                  <a:lnTo>
                    <a:pt x="1399" y="2089"/>
                  </a:lnTo>
                  <a:lnTo>
                    <a:pt x="1374" y="2089"/>
                  </a:lnTo>
                  <a:lnTo>
                    <a:pt x="1349" y="2089"/>
                  </a:lnTo>
                  <a:lnTo>
                    <a:pt x="1324" y="2089"/>
                  </a:lnTo>
                  <a:lnTo>
                    <a:pt x="1299" y="2089"/>
                  </a:lnTo>
                  <a:lnTo>
                    <a:pt x="1274" y="2104"/>
                  </a:lnTo>
                  <a:lnTo>
                    <a:pt x="1249" y="2095"/>
                  </a:lnTo>
                  <a:lnTo>
                    <a:pt x="1249" y="2070"/>
                  </a:lnTo>
                  <a:lnTo>
                    <a:pt x="1269" y="2045"/>
                  </a:lnTo>
                  <a:lnTo>
                    <a:pt x="1264" y="2020"/>
                  </a:lnTo>
                  <a:lnTo>
                    <a:pt x="1249" y="1995"/>
                  </a:lnTo>
                  <a:lnTo>
                    <a:pt x="1259" y="1970"/>
                  </a:lnTo>
                  <a:lnTo>
                    <a:pt x="1244" y="1945"/>
                  </a:lnTo>
                  <a:lnTo>
                    <a:pt x="1219" y="1920"/>
                  </a:lnTo>
                  <a:lnTo>
                    <a:pt x="1214" y="1895"/>
                  </a:lnTo>
                  <a:lnTo>
                    <a:pt x="1214" y="1870"/>
                  </a:lnTo>
                  <a:lnTo>
                    <a:pt x="1214" y="1845"/>
                  </a:lnTo>
                  <a:lnTo>
                    <a:pt x="1209" y="1820"/>
                  </a:lnTo>
                  <a:lnTo>
                    <a:pt x="1209" y="1795"/>
                  </a:lnTo>
                  <a:lnTo>
                    <a:pt x="1209" y="1770"/>
                  </a:lnTo>
                  <a:lnTo>
                    <a:pt x="1199" y="1745"/>
                  </a:lnTo>
                  <a:lnTo>
                    <a:pt x="1199" y="1720"/>
                  </a:lnTo>
                  <a:lnTo>
                    <a:pt x="1204" y="1695"/>
                  </a:lnTo>
                  <a:lnTo>
                    <a:pt x="1199" y="1670"/>
                  </a:lnTo>
                  <a:lnTo>
                    <a:pt x="1204" y="1645"/>
                  </a:lnTo>
                  <a:lnTo>
                    <a:pt x="1198" y="1590"/>
                  </a:lnTo>
                  <a:lnTo>
                    <a:pt x="1136" y="1590"/>
                  </a:lnTo>
                  <a:lnTo>
                    <a:pt x="1111" y="1590"/>
                  </a:lnTo>
                  <a:lnTo>
                    <a:pt x="1076" y="1590"/>
                  </a:lnTo>
                  <a:lnTo>
                    <a:pt x="1051" y="1585"/>
                  </a:lnTo>
                  <a:lnTo>
                    <a:pt x="1031" y="1560"/>
                  </a:lnTo>
                  <a:lnTo>
                    <a:pt x="1011" y="1535"/>
                  </a:lnTo>
                  <a:lnTo>
                    <a:pt x="1001" y="1560"/>
                  </a:lnTo>
                  <a:lnTo>
                    <a:pt x="976" y="1555"/>
                  </a:lnTo>
                  <a:lnTo>
                    <a:pt x="951" y="1555"/>
                  </a:lnTo>
                  <a:lnTo>
                    <a:pt x="926" y="1555"/>
                  </a:lnTo>
                  <a:lnTo>
                    <a:pt x="901" y="1555"/>
                  </a:lnTo>
                  <a:lnTo>
                    <a:pt x="906" y="1585"/>
                  </a:lnTo>
                  <a:lnTo>
                    <a:pt x="906" y="1610"/>
                  </a:lnTo>
                  <a:lnTo>
                    <a:pt x="886" y="1635"/>
                  </a:lnTo>
                  <a:lnTo>
                    <a:pt x="866" y="1660"/>
                  </a:lnTo>
                  <a:lnTo>
                    <a:pt x="856" y="1685"/>
                  </a:lnTo>
                  <a:lnTo>
                    <a:pt x="831" y="1685"/>
                  </a:lnTo>
                  <a:lnTo>
                    <a:pt x="801" y="1675"/>
                  </a:lnTo>
                  <a:lnTo>
                    <a:pt x="776" y="1680"/>
                  </a:lnTo>
                  <a:lnTo>
                    <a:pt x="751" y="1690"/>
                  </a:lnTo>
                  <a:lnTo>
                    <a:pt x="726" y="1690"/>
                  </a:lnTo>
                  <a:lnTo>
                    <a:pt x="696" y="1690"/>
                  </a:lnTo>
                  <a:lnTo>
                    <a:pt x="666" y="1690"/>
                  </a:lnTo>
                  <a:lnTo>
                    <a:pt x="636" y="1685"/>
                  </a:lnTo>
                  <a:lnTo>
                    <a:pt x="626" y="1640"/>
                  </a:lnTo>
                  <a:lnTo>
                    <a:pt x="611" y="1610"/>
                  </a:lnTo>
                  <a:lnTo>
                    <a:pt x="596" y="1585"/>
                  </a:lnTo>
                  <a:lnTo>
                    <a:pt x="581" y="1560"/>
                  </a:lnTo>
                  <a:lnTo>
                    <a:pt x="576" y="1535"/>
                  </a:lnTo>
                  <a:lnTo>
                    <a:pt x="571" y="1510"/>
                  </a:lnTo>
                  <a:lnTo>
                    <a:pt x="556" y="1485"/>
                  </a:lnTo>
                  <a:lnTo>
                    <a:pt x="566" y="1460"/>
                  </a:lnTo>
                  <a:lnTo>
                    <a:pt x="556" y="1435"/>
                  </a:lnTo>
                  <a:lnTo>
                    <a:pt x="556" y="1410"/>
                  </a:lnTo>
                  <a:lnTo>
                    <a:pt x="547" y="1406"/>
                  </a:lnTo>
                  <a:lnTo>
                    <a:pt x="272" y="1411"/>
                  </a:lnTo>
                  <a:lnTo>
                    <a:pt x="127" y="1396"/>
                  </a:lnTo>
                  <a:lnTo>
                    <a:pt x="120" y="1399"/>
                  </a:lnTo>
                  <a:lnTo>
                    <a:pt x="95" y="1399"/>
                  </a:lnTo>
                  <a:lnTo>
                    <a:pt x="70" y="1409"/>
                  </a:lnTo>
                  <a:lnTo>
                    <a:pt x="45" y="1409"/>
                  </a:lnTo>
                  <a:lnTo>
                    <a:pt x="20" y="1414"/>
                  </a:lnTo>
                  <a:lnTo>
                    <a:pt x="0" y="1400"/>
                  </a:lnTo>
                  <a:lnTo>
                    <a:pt x="25" y="1390"/>
                  </a:lnTo>
                  <a:lnTo>
                    <a:pt x="40" y="1365"/>
                  </a:lnTo>
                  <a:lnTo>
                    <a:pt x="40" y="1340"/>
                  </a:lnTo>
                  <a:lnTo>
                    <a:pt x="40" y="1315"/>
                  </a:lnTo>
                  <a:lnTo>
                    <a:pt x="55" y="1290"/>
                  </a:lnTo>
                  <a:lnTo>
                    <a:pt x="80" y="1265"/>
                  </a:lnTo>
                  <a:lnTo>
                    <a:pt x="80" y="1250"/>
                  </a:lnTo>
                  <a:lnTo>
                    <a:pt x="105" y="1260"/>
                  </a:lnTo>
                  <a:lnTo>
                    <a:pt x="130" y="1280"/>
                  </a:lnTo>
                  <a:lnTo>
                    <a:pt x="155" y="1270"/>
                  </a:lnTo>
                  <a:lnTo>
                    <a:pt x="165" y="1245"/>
                  </a:lnTo>
                  <a:lnTo>
                    <a:pt x="180" y="1220"/>
                  </a:lnTo>
                  <a:lnTo>
                    <a:pt x="205" y="1225"/>
                  </a:lnTo>
                  <a:lnTo>
                    <a:pt x="230" y="1220"/>
                  </a:lnTo>
                  <a:lnTo>
                    <a:pt x="255" y="1215"/>
                  </a:lnTo>
                  <a:lnTo>
                    <a:pt x="265" y="1240"/>
                  </a:lnTo>
                  <a:lnTo>
                    <a:pt x="255" y="1265"/>
                  </a:lnTo>
                  <a:lnTo>
                    <a:pt x="275" y="1290"/>
                  </a:lnTo>
                  <a:lnTo>
                    <a:pt x="300" y="1295"/>
                  </a:lnTo>
                  <a:lnTo>
                    <a:pt x="325" y="1275"/>
                  </a:lnTo>
                  <a:lnTo>
                    <a:pt x="340" y="1250"/>
                  </a:lnTo>
                  <a:lnTo>
                    <a:pt x="355" y="1225"/>
                  </a:lnTo>
                  <a:lnTo>
                    <a:pt x="380" y="1205"/>
                  </a:lnTo>
                  <a:lnTo>
                    <a:pt x="405" y="1200"/>
                  </a:lnTo>
                  <a:lnTo>
                    <a:pt x="430" y="1180"/>
                  </a:lnTo>
                  <a:lnTo>
                    <a:pt x="460" y="1160"/>
                  </a:lnTo>
                  <a:lnTo>
                    <a:pt x="480" y="1135"/>
                  </a:lnTo>
                  <a:lnTo>
                    <a:pt x="490" y="1110"/>
                  </a:lnTo>
                  <a:lnTo>
                    <a:pt x="490" y="1085"/>
                  </a:lnTo>
                  <a:lnTo>
                    <a:pt x="495" y="1060"/>
                  </a:lnTo>
                  <a:lnTo>
                    <a:pt x="495" y="1035"/>
                  </a:lnTo>
                  <a:lnTo>
                    <a:pt x="495" y="1010"/>
                  </a:lnTo>
                  <a:lnTo>
                    <a:pt x="495" y="985"/>
                  </a:lnTo>
                  <a:lnTo>
                    <a:pt x="490" y="960"/>
                  </a:lnTo>
                  <a:lnTo>
                    <a:pt x="500" y="935"/>
                  </a:lnTo>
                  <a:lnTo>
                    <a:pt x="525" y="910"/>
                  </a:lnTo>
                  <a:lnTo>
                    <a:pt x="550" y="885"/>
                  </a:lnTo>
                  <a:lnTo>
                    <a:pt x="565" y="860"/>
                  </a:lnTo>
                  <a:lnTo>
                    <a:pt x="580" y="835"/>
                  </a:lnTo>
                  <a:lnTo>
                    <a:pt x="605" y="815"/>
                  </a:lnTo>
                  <a:lnTo>
                    <a:pt x="630" y="800"/>
                  </a:lnTo>
                  <a:lnTo>
                    <a:pt x="650" y="775"/>
                  </a:lnTo>
                  <a:lnTo>
                    <a:pt x="665" y="750"/>
                  </a:lnTo>
                  <a:lnTo>
                    <a:pt x="670" y="715"/>
                  </a:lnTo>
                  <a:lnTo>
                    <a:pt x="675" y="690"/>
                  </a:lnTo>
                  <a:lnTo>
                    <a:pt x="680" y="665"/>
                  </a:lnTo>
                  <a:lnTo>
                    <a:pt x="690" y="640"/>
                  </a:lnTo>
                  <a:lnTo>
                    <a:pt x="700" y="615"/>
                  </a:lnTo>
                  <a:lnTo>
                    <a:pt x="700" y="585"/>
                  </a:lnTo>
                  <a:lnTo>
                    <a:pt x="695" y="560"/>
                  </a:lnTo>
                  <a:lnTo>
                    <a:pt x="690" y="535"/>
                  </a:lnTo>
                  <a:lnTo>
                    <a:pt x="700" y="510"/>
                  </a:lnTo>
                  <a:lnTo>
                    <a:pt x="715" y="485"/>
                  </a:lnTo>
                  <a:lnTo>
                    <a:pt x="725" y="460"/>
                  </a:lnTo>
                  <a:lnTo>
                    <a:pt x="740" y="435"/>
                  </a:lnTo>
                  <a:lnTo>
                    <a:pt x="735" y="410"/>
                  </a:lnTo>
                  <a:lnTo>
                    <a:pt x="740" y="385"/>
                  </a:lnTo>
                  <a:lnTo>
                    <a:pt x="750" y="360"/>
                  </a:lnTo>
                  <a:lnTo>
                    <a:pt x="770" y="335"/>
                  </a:lnTo>
                  <a:lnTo>
                    <a:pt x="775" y="310"/>
                  </a:lnTo>
                  <a:lnTo>
                    <a:pt x="785" y="285"/>
                  </a:lnTo>
                  <a:lnTo>
                    <a:pt x="795" y="260"/>
                  </a:lnTo>
                  <a:lnTo>
                    <a:pt x="795" y="245"/>
                  </a:lnTo>
                  <a:lnTo>
                    <a:pt x="785" y="220"/>
                  </a:lnTo>
                  <a:lnTo>
                    <a:pt x="785" y="190"/>
                  </a:lnTo>
                  <a:lnTo>
                    <a:pt x="790" y="165"/>
                  </a:lnTo>
                  <a:lnTo>
                    <a:pt x="785" y="140"/>
                  </a:lnTo>
                  <a:lnTo>
                    <a:pt x="810" y="120"/>
                  </a:lnTo>
                  <a:lnTo>
                    <a:pt x="825" y="95"/>
                  </a:lnTo>
                  <a:lnTo>
                    <a:pt x="830" y="70"/>
                  </a:lnTo>
                  <a:lnTo>
                    <a:pt x="845" y="45"/>
                  </a:lnTo>
                  <a:lnTo>
                    <a:pt x="875" y="30"/>
                  </a:lnTo>
                  <a:lnTo>
                    <a:pt x="900" y="25"/>
                  </a:lnTo>
                  <a:lnTo>
                    <a:pt x="925" y="30"/>
                  </a:lnTo>
                  <a:lnTo>
                    <a:pt x="945" y="55"/>
                  </a:lnTo>
                  <a:lnTo>
                    <a:pt x="970" y="65"/>
                  </a:lnTo>
                  <a:lnTo>
                    <a:pt x="995" y="65"/>
                  </a:lnTo>
                  <a:lnTo>
                    <a:pt x="1020" y="70"/>
                  </a:lnTo>
                  <a:lnTo>
                    <a:pt x="1040" y="95"/>
                  </a:lnTo>
                  <a:lnTo>
                    <a:pt x="1045" y="120"/>
                  </a:lnTo>
                  <a:lnTo>
                    <a:pt x="1070" y="120"/>
                  </a:lnTo>
                  <a:lnTo>
                    <a:pt x="1095" y="120"/>
                  </a:lnTo>
                  <a:lnTo>
                    <a:pt x="1120" y="125"/>
                  </a:lnTo>
                  <a:lnTo>
                    <a:pt x="1145" y="130"/>
                  </a:lnTo>
                  <a:lnTo>
                    <a:pt x="1170" y="130"/>
                  </a:lnTo>
                  <a:lnTo>
                    <a:pt x="1195" y="125"/>
                  </a:lnTo>
                  <a:lnTo>
                    <a:pt x="1220" y="130"/>
                  </a:lnTo>
                  <a:lnTo>
                    <a:pt x="1245" y="140"/>
                  </a:lnTo>
                  <a:lnTo>
                    <a:pt x="1270" y="150"/>
                  </a:lnTo>
                  <a:lnTo>
                    <a:pt x="1295" y="130"/>
                  </a:lnTo>
                  <a:lnTo>
                    <a:pt x="1295" y="105"/>
                  </a:lnTo>
                  <a:lnTo>
                    <a:pt x="1320" y="85"/>
                  </a:lnTo>
                  <a:lnTo>
                    <a:pt x="1350" y="65"/>
                  </a:lnTo>
                  <a:lnTo>
                    <a:pt x="1375" y="60"/>
                  </a:lnTo>
                  <a:lnTo>
                    <a:pt x="1405" y="65"/>
                  </a:lnTo>
                  <a:lnTo>
                    <a:pt x="1435" y="65"/>
                  </a:lnTo>
                  <a:lnTo>
                    <a:pt x="1465" y="55"/>
                  </a:lnTo>
                  <a:lnTo>
                    <a:pt x="1490" y="45"/>
                  </a:lnTo>
                  <a:lnTo>
                    <a:pt x="1515" y="35"/>
                  </a:lnTo>
                  <a:lnTo>
                    <a:pt x="1540" y="30"/>
                  </a:lnTo>
                  <a:lnTo>
                    <a:pt x="1565" y="40"/>
                  </a:lnTo>
                  <a:lnTo>
                    <a:pt x="1595" y="45"/>
                  </a:lnTo>
                  <a:lnTo>
                    <a:pt x="1620" y="40"/>
                  </a:lnTo>
                  <a:lnTo>
                    <a:pt x="1645" y="25"/>
                  </a:lnTo>
                  <a:lnTo>
                    <a:pt x="1670" y="5"/>
                  </a:lnTo>
                  <a:lnTo>
                    <a:pt x="1695" y="0"/>
                  </a:lnTo>
                  <a:lnTo>
                    <a:pt x="1720" y="5"/>
                  </a:lnTo>
                  <a:lnTo>
                    <a:pt x="1745" y="15"/>
                  </a:lnTo>
                  <a:lnTo>
                    <a:pt x="1770" y="30"/>
                  </a:lnTo>
                  <a:lnTo>
                    <a:pt x="1795" y="20"/>
                  </a:lnTo>
                  <a:lnTo>
                    <a:pt x="1820" y="20"/>
                  </a:lnTo>
                  <a:lnTo>
                    <a:pt x="1845" y="20"/>
                  </a:lnTo>
                  <a:lnTo>
                    <a:pt x="1900" y="25"/>
                  </a:lnTo>
                  <a:lnTo>
                    <a:pt x="1925" y="40"/>
                  </a:lnTo>
                  <a:lnTo>
                    <a:pt x="1950" y="65"/>
                  </a:lnTo>
                  <a:lnTo>
                    <a:pt x="1975" y="90"/>
                  </a:lnTo>
                  <a:lnTo>
                    <a:pt x="2000" y="80"/>
                  </a:lnTo>
                  <a:lnTo>
                    <a:pt x="2025" y="95"/>
                  </a:lnTo>
                  <a:lnTo>
                    <a:pt x="2040" y="120"/>
                  </a:lnTo>
                  <a:lnTo>
                    <a:pt x="2065" y="105"/>
                  </a:lnTo>
                  <a:lnTo>
                    <a:pt x="2090" y="90"/>
                  </a:lnTo>
                  <a:lnTo>
                    <a:pt x="2110" y="115"/>
                  </a:lnTo>
                  <a:lnTo>
                    <a:pt x="2135" y="95"/>
                  </a:lnTo>
                  <a:lnTo>
                    <a:pt x="2160" y="75"/>
                  </a:lnTo>
                  <a:lnTo>
                    <a:pt x="2185" y="90"/>
                  </a:lnTo>
                  <a:lnTo>
                    <a:pt x="2200" y="115"/>
                  </a:lnTo>
                  <a:lnTo>
                    <a:pt x="2215" y="140"/>
                  </a:lnTo>
                  <a:lnTo>
                    <a:pt x="2240" y="165"/>
                  </a:lnTo>
                  <a:lnTo>
                    <a:pt x="2265" y="180"/>
                  </a:lnTo>
                  <a:lnTo>
                    <a:pt x="2290" y="195"/>
                  </a:lnTo>
                  <a:lnTo>
                    <a:pt x="2315" y="205"/>
                  </a:lnTo>
                  <a:lnTo>
                    <a:pt x="2340" y="195"/>
                  </a:lnTo>
                  <a:lnTo>
                    <a:pt x="2354" y="2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32640" y="2323080"/>
              <a:ext cx="245520" cy="259920"/>
            </a:xfrm>
            <a:custGeom>
              <a:avLst/>
              <a:gdLst/>
              <a:ahLst/>
              <a:rect l="l" t="t" r="r" b="b"/>
              <a:pathLst>
                <a:path w="682" h="721">
                  <a:moveTo>
                    <a:pt x="21" y="720"/>
                  </a:moveTo>
                  <a:lnTo>
                    <a:pt x="46" y="715"/>
                  </a:lnTo>
                  <a:lnTo>
                    <a:pt x="71" y="705"/>
                  </a:lnTo>
                  <a:lnTo>
                    <a:pt x="96" y="695"/>
                  </a:lnTo>
                  <a:lnTo>
                    <a:pt x="121" y="680"/>
                  </a:lnTo>
                  <a:lnTo>
                    <a:pt x="146" y="680"/>
                  </a:lnTo>
                  <a:lnTo>
                    <a:pt x="171" y="680"/>
                  </a:lnTo>
                  <a:lnTo>
                    <a:pt x="196" y="680"/>
                  </a:lnTo>
                  <a:lnTo>
                    <a:pt x="221" y="680"/>
                  </a:lnTo>
                  <a:lnTo>
                    <a:pt x="251" y="680"/>
                  </a:lnTo>
                  <a:lnTo>
                    <a:pt x="281" y="665"/>
                  </a:lnTo>
                  <a:lnTo>
                    <a:pt x="281" y="640"/>
                  </a:lnTo>
                  <a:lnTo>
                    <a:pt x="291" y="615"/>
                  </a:lnTo>
                  <a:lnTo>
                    <a:pt x="306" y="590"/>
                  </a:lnTo>
                  <a:lnTo>
                    <a:pt x="331" y="565"/>
                  </a:lnTo>
                  <a:lnTo>
                    <a:pt x="346" y="540"/>
                  </a:lnTo>
                  <a:lnTo>
                    <a:pt x="371" y="540"/>
                  </a:lnTo>
                  <a:lnTo>
                    <a:pt x="396" y="535"/>
                  </a:lnTo>
                  <a:lnTo>
                    <a:pt x="421" y="540"/>
                  </a:lnTo>
                  <a:lnTo>
                    <a:pt x="446" y="540"/>
                  </a:lnTo>
                  <a:lnTo>
                    <a:pt x="471" y="540"/>
                  </a:lnTo>
                  <a:lnTo>
                    <a:pt x="496" y="520"/>
                  </a:lnTo>
                  <a:lnTo>
                    <a:pt x="521" y="530"/>
                  </a:lnTo>
                  <a:lnTo>
                    <a:pt x="556" y="530"/>
                  </a:lnTo>
                  <a:lnTo>
                    <a:pt x="576" y="505"/>
                  </a:lnTo>
                  <a:lnTo>
                    <a:pt x="596" y="480"/>
                  </a:lnTo>
                  <a:lnTo>
                    <a:pt x="611" y="455"/>
                  </a:lnTo>
                  <a:lnTo>
                    <a:pt x="621" y="430"/>
                  </a:lnTo>
                  <a:lnTo>
                    <a:pt x="631" y="405"/>
                  </a:lnTo>
                  <a:lnTo>
                    <a:pt x="641" y="380"/>
                  </a:lnTo>
                  <a:lnTo>
                    <a:pt x="666" y="355"/>
                  </a:lnTo>
                  <a:lnTo>
                    <a:pt x="681" y="330"/>
                  </a:lnTo>
                  <a:lnTo>
                    <a:pt x="681" y="305"/>
                  </a:lnTo>
                  <a:lnTo>
                    <a:pt x="666" y="280"/>
                  </a:lnTo>
                  <a:lnTo>
                    <a:pt x="661" y="255"/>
                  </a:lnTo>
                  <a:lnTo>
                    <a:pt x="656" y="230"/>
                  </a:lnTo>
                  <a:lnTo>
                    <a:pt x="646" y="205"/>
                  </a:lnTo>
                  <a:lnTo>
                    <a:pt x="631" y="180"/>
                  </a:lnTo>
                  <a:lnTo>
                    <a:pt x="621" y="155"/>
                  </a:lnTo>
                  <a:lnTo>
                    <a:pt x="596" y="135"/>
                  </a:lnTo>
                  <a:lnTo>
                    <a:pt x="601" y="110"/>
                  </a:lnTo>
                  <a:lnTo>
                    <a:pt x="596" y="85"/>
                  </a:lnTo>
                  <a:lnTo>
                    <a:pt x="586" y="60"/>
                  </a:lnTo>
                  <a:lnTo>
                    <a:pt x="561" y="45"/>
                  </a:lnTo>
                  <a:lnTo>
                    <a:pt x="551" y="0"/>
                  </a:lnTo>
                  <a:lnTo>
                    <a:pt x="496" y="50"/>
                  </a:lnTo>
                  <a:lnTo>
                    <a:pt x="491" y="60"/>
                  </a:lnTo>
                  <a:lnTo>
                    <a:pt x="466" y="75"/>
                  </a:lnTo>
                  <a:lnTo>
                    <a:pt x="441" y="75"/>
                  </a:lnTo>
                  <a:lnTo>
                    <a:pt x="416" y="65"/>
                  </a:lnTo>
                  <a:lnTo>
                    <a:pt x="396" y="40"/>
                  </a:lnTo>
                  <a:lnTo>
                    <a:pt x="371" y="60"/>
                  </a:lnTo>
                  <a:lnTo>
                    <a:pt x="346" y="75"/>
                  </a:lnTo>
                  <a:lnTo>
                    <a:pt x="321" y="75"/>
                  </a:lnTo>
                  <a:lnTo>
                    <a:pt x="296" y="70"/>
                  </a:lnTo>
                  <a:lnTo>
                    <a:pt x="271" y="65"/>
                  </a:lnTo>
                  <a:lnTo>
                    <a:pt x="246" y="85"/>
                  </a:lnTo>
                  <a:lnTo>
                    <a:pt x="221" y="70"/>
                  </a:lnTo>
                  <a:lnTo>
                    <a:pt x="196" y="65"/>
                  </a:lnTo>
                  <a:lnTo>
                    <a:pt x="171" y="70"/>
                  </a:lnTo>
                  <a:lnTo>
                    <a:pt x="185" y="125"/>
                  </a:lnTo>
                  <a:lnTo>
                    <a:pt x="175" y="150"/>
                  </a:lnTo>
                  <a:lnTo>
                    <a:pt x="165" y="175"/>
                  </a:lnTo>
                  <a:lnTo>
                    <a:pt x="170" y="200"/>
                  </a:lnTo>
                  <a:lnTo>
                    <a:pt x="170" y="225"/>
                  </a:lnTo>
                  <a:lnTo>
                    <a:pt x="175" y="250"/>
                  </a:lnTo>
                  <a:lnTo>
                    <a:pt x="200" y="255"/>
                  </a:lnTo>
                  <a:lnTo>
                    <a:pt x="225" y="280"/>
                  </a:lnTo>
                  <a:lnTo>
                    <a:pt x="210" y="305"/>
                  </a:lnTo>
                  <a:lnTo>
                    <a:pt x="195" y="330"/>
                  </a:lnTo>
                  <a:lnTo>
                    <a:pt x="170" y="355"/>
                  </a:lnTo>
                  <a:lnTo>
                    <a:pt x="145" y="375"/>
                  </a:lnTo>
                  <a:lnTo>
                    <a:pt x="120" y="395"/>
                  </a:lnTo>
                  <a:lnTo>
                    <a:pt x="95" y="415"/>
                  </a:lnTo>
                  <a:lnTo>
                    <a:pt x="80" y="440"/>
                  </a:lnTo>
                  <a:lnTo>
                    <a:pt x="70" y="465"/>
                  </a:lnTo>
                  <a:lnTo>
                    <a:pt x="60" y="490"/>
                  </a:lnTo>
                  <a:lnTo>
                    <a:pt x="50" y="515"/>
                  </a:lnTo>
                  <a:lnTo>
                    <a:pt x="35" y="555"/>
                  </a:lnTo>
                  <a:lnTo>
                    <a:pt x="30" y="580"/>
                  </a:lnTo>
                  <a:lnTo>
                    <a:pt x="25" y="610"/>
                  </a:lnTo>
                  <a:lnTo>
                    <a:pt x="20" y="635"/>
                  </a:lnTo>
                  <a:lnTo>
                    <a:pt x="15" y="660"/>
                  </a:lnTo>
                  <a:lnTo>
                    <a:pt x="10" y="685"/>
                  </a:lnTo>
                  <a:lnTo>
                    <a:pt x="0" y="715"/>
                  </a:lnTo>
                  <a:lnTo>
                    <a:pt x="21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31000" y="2301120"/>
              <a:ext cx="361440" cy="435960"/>
            </a:xfrm>
            <a:custGeom>
              <a:avLst/>
              <a:gdLst/>
              <a:ahLst/>
              <a:rect l="l" t="t" r="r" b="b"/>
              <a:pathLst>
                <a:path w="1006" h="1211">
                  <a:moveTo>
                    <a:pt x="980" y="80"/>
                  </a:moveTo>
                  <a:lnTo>
                    <a:pt x="955" y="90"/>
                  </a:lnTo>
                  <a:lnTo>
                    <a:pt x="925" y="100"/>
                  </a:lnTo>
                  <a:lnTo>
                    <a:pt x="900" y="105"/>
                  </a:lnTo>
                  <a:lnTo>
                    <a:pt x="875" y="95"/>
                  </a:lnTo>
                  <a:lnTo>
                    <a:pt x="850" y="65"/>
                  </a:lnTo>
                  <a:lnTo>
                    <a:pt x="825" y="65"/>
                  </a:lnTo>
                  <a:lnTo>
                    <a:pt x="800" y="75"/>
                  </a:lnTo>
                  <a:lnTo>
                    <a:pt x="775" y="75"/>
                  </a:lnTo>
                  <a:lnTo>
                    <a:pt x="750" y="80"/>
                  </a:lnTo>
                  <a:lnTo>
                    <a:pt x="730" y="105"/>
                  </a:lnTo>
                  <a:lnTo>
                    <a:pt x="715" y="130"/>
                  </a:lnTo>
                  <a:lnTo>
                    <a:pt x="690" y="145"/>
                  </a:lnTo>
                  <a:lnTo>
                    <a:pt x="660" y="155"/>
                  </a:lnTo>
                  <a:lnTo>
                    <a:pt x="635" y="150"/>
                  </a:lnTo>
                  <a:lnTo>
                    <a:pt x="610" y="155"/>
                  </a:lnTo>
                  <a:lnTo>
                    <a:pt x="585" y="145"/>
                  </a:lnTo>
                  <a:lnTo>
                    <a:pt x="560" y="140"/>
                  </a:lnTo>
                  <a:lnTo>
                    <a:pt x="535" y="145"/>
                  </a:lnTo>
                  <a:lnTo>
                    <a:pt x="510" y="140"/>
                  </a:lnTo>
                  <a:lnTo>
                    <a:pt x="485" y="125"/>
                  </a:lnTo>
                  <a:lnTo>
                    <a:pt x="460" y="115"/>
                  </a:lnTo>
                  <a:lnTo>
                    <a:pt x="435" y="95"/>
                  </a:lnTo>
                  <a:lnTo>
                    <a:pt x="405" y="80"/>
                  </a:lnTo>
                  <a:lnTo>
                    <a:pt x="380" y="65"/>
                  </a:lnTo>
                  <a:lnTo>
                    <a:pt x="355" y="55"/>
                  </a:lnTo>
                  <a:lnTo>
                    <a:pt x="330" y="35"/>
                  </a:lnTo>
                  <a:lnTo>
                    <a:pt x="305" y="15"/>
                  </a:lnTo>
                  <a:lnTo>
                    <a:pt x="280" y="10"/>
                  </a:lnTo>
                  <a:lnTo>
                    <a:pt x="255" y="25"/>
                  </a:lnTo>
                  <a:lnTo>
                    <a:pt x="230" y="15"/>
                  </a:lnTo>
                  <a:lnTo>
                    <a:pt x="215" y="0"/>
                  </a:lnTo>
                  <a:lnTo>
                    <a:pt x="65" y="0"/>
                  </a:lnTo>
                  <a:lnTo>
                    <a:pt x="0" y="60"/>
                  </a:lnTo>
                  <a:lnTo>
                    <a:pt x="10" y="105"/>
                  </a:lnTo>
                  <a:lnTo>
                    <a:pt x="35" y="120"/>
                  </a:lnTo>
                  <a:lnTo>
                    <a:pt x="45" y="145"/>
                  </a:lnTo>
                  <a:lnTo>
                    <a:pt x="50" y="170"/>
                  </a:lnTo>
                  <a:lnTo>
                    <a:pt x="45" y="195"/>
                  </a:lnTo>
                  <a:lnTo>
                    <a:pt x="70" y="215"/>
                  </a:lnTo>
                  <a:lnTo>
                    <a:pt x="80" y="240"/>
                  </a:lnTo>
                  <a:lnTo>
                    <a:pt x="95" y="265"/>
                  </a:lnTo>
                  <a:lnTo>
                    <a:pt x="105" y="290"/>
                  </a:lnTo>
                  <a:lnTo>
                    <a:pt x="110" y="315"/>
                  </a:lnTo>
                  <a:lnTo>
                    <a:pt x="115" y="340"/>
                  </a:lnTo>
                  <a:lnTo>
                    <a:pt x="130" y="365"/>
                  </a:lnTo>
                  <a:lnTo>
                    <a:pt x="130" y="390"/>
                  </a:lnTo>
                  <a:lnTo>
                    <a:pt x="115" y="415"/>
                  </a:lnTo>
                  <a:lnTo>
                    <a:pt x="90" y="440"/>
                  </a:lnTo>
                  <a:lnTo>
                    <a:pt x="80" y="465"/>
                  </a:lnTo>
                  <a:lnTo>
                    <a:pt x="70" y="490"/>
                  </a:lnTo>
                  <a:lnTo>
                    <a:pt x="60" y="515"/>
                  </a:lnTo>
                  <a:lnTo>
                    <a:pt x="45" y="540"/>
                  </a:lnTo>
                  <a:lnTo>
                    <a:pt x="25" y="565"/>
                  </a:lnTo>
                  <a:lnTo>
                    <a:pt x="5" y="590"/>
                  </a:lnTo>
                  <a:lnTo>
                    <a:pt x="10" y="605"/>
                  </a:lnTo>
                  <a:lnTo>
                    <a:pt x="35" y="625"/>
                  </a:lnTo>
                  <a:lnTo>
                    <a:pt x="60" y="635"/>
                  </a:lnTo>
                  <a:lnTo>
                    <a:pt x="65" y="660"/>
                  </a:lnTo>
                  <a:lnTo>
                    <a:pt x="40" y="675"/>
                  </a:lnTo>
                  <a:lnTo>
                    <a:pt x="15" y="690"/>
                  </a:lnTo>
                  <a:lnTo>
                    <a:pt x="10" y="715"/>
                  </a:lnTo>
                  <a:lnTo>
                    <a:pt x="25" y="735"/>
                  </a:lnTo>
                  <a:lnTo>
                    <a:pt x="415" y="970"/>
                  </a:lnTo>
                  <a:lnTo>
                    <a:pt x="435" y="985"/>
                  </a:lnTo>
                  <a:lnTo>
                    <a:pt x="455" y="1070"/>
                  </a:lnTo>
                  <a:lnTo>
                    <a:pt x="650" y="1210"/>
                  </a:lnTo>
                  <a:lnTo>
                    <a:pt x="670" y="1205"/>
                  </a:lnTo>
                  <a:lnTo>
                    <a:pt x="685" y="1180"/>
                  </a:lnTo>
                  <a:lnTo>
                    <a:pt x="700" y="1155"/>
                  </a:lnTo>
                  <a:lnTo>
                    <a:pt x="700" y="1130"/>
                  </a:lnTo>
                  <a:lnTo>
                    <a:pt x="705" y="1105"/>
                  </a:lnTo>
                  <a:lnTo>
                    <a:pt x="720" y="1080"/>
                  </a:lnTo>
                  <a:lnTo>
                    <a:pt x="735" y="1055"/>
                  </a:lnTo>
                  <a:lnTo>
                    <a:pt x="755" y="1030"/>
                  </a:lnTo>
                  <a:lnTo>
                    <a:pt x="750" y="1005"/>
                  </a:lnTo>
                  <a:lnTo>
                    <a:pt x="750" y="980"/>
                  </a:lnTo>
                  <a:lnTo>
                    <a:pt x="770" y="955"/>
                  </a:lnTo>
                  <a:lnTo>
                    <a:pt x="795" y="945"/>
                  </a:lnTo>
                  <a:lnTo>
                    <a:pt x="820" y="940"/>
                  </a:lnTo>
                  <a:lnTo>
                    <a:pt x="835" y="915"/>
                  </a:lnTo>
                  <a:lnTo>
                    <a:pt x="840" y="890"/>
                  </a:lnTo>
                  <a:lnTo>
                    <a:pt x="845" y="865"/>
                  </a:lnTo>
                  <a:lnTo>
                    <a:pt x="870" y="870"/>
                  </a:lnTo>
                  <a:lnTo>
                    <a:pt x="900" y="875"/>
                  </a:lnTo>
                  <a:lnTo>
                    <a:pt x="925" y="860"/>
                  </a:lnTo>
                  <a:lnTo>
                    <a:pt x="935" y="835"/>
                  </a:lnTo>
                  <a:lnTo>
                    <a:pt x="940" y="820"/>
                  </a:lnTo>
                  <a:lnTo>
                    <a:pt x="875" y="720"/>
                  </a:lnTo>
                  <a:lnTo>
                    <a:pt x="865" y="235"/>
                  </a:lnTo>
                  <a:lnTo>
                    <a:pt x="890" y="210"/>
                  </a:lnTo>
                  <a:lnTo>
                    <a:pt x="910" y="190"/>
                  </a:lnTo>
                  <a:lnTo>
                    <a:pt x="925" y="165"/>
                  </a:lnTo>
                  <a:lnTo>
                    <a:pt x="1005" y="75"/>
                  </a:lnTo>
                  <a:lnTo>
                    <a:pt x="980" y="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10320" y="2573640"/>
              <a:ext cx="80640" cy="77400"/>
            </a:xfrm>
            <a:custGeom>
              <a:avLst/>
              <a:gdLst/>
              <a:ahLst/>
              <a:rect l="l" t="t" r="r" b="b"/>
              <a:pathLst>
                <a:path w="227" h="216">
                  <a:moveTo>
                    <a:pt x="166" y="10"/>
                  </a:moveTo>
                  <a:lnTo>
                    <a:pt x="191" y="15"/>
                  </a:lnTo>
                  <a:lnTo>
                    <a:pt x="206" y="40"/>
                  </a:lnTo>
                  <a:lnTo>
                    <a:pt x="211" y="65"/>
                  </a:lnTo>
                  <a:lnTo>
                    <a:pt x="216" y="90"/>
                  </a:lnTo>
                  <a:lnTo>
                    <a:pt x="226" y="115"/>
                  </a:lnTo>
                  <a:lnTo>
                    <a:pt x="221" y="140"/>
                  </a:lnTo>
                  <a:lnTo>
                    <a:pt x="201" y="165"/>
                  </a:lnTo>
                  <a:lnTo>
                    <a:pt x="176" y="175"/>
                  </a:lnTo>
                  <a:lnTo>
                    <a:pt x="151" y="160"/>
                  </a:lnTo>
                  <a:lnTo>
                    <a:pt x="126" y="140"/>
                  </a:lnTo>
                  <a:lnTo>
                    <a:pt x="101" y="165"/>
                  </a:lnTo>
                  <a:lnTo>
                    <a:pt x="101" y="190"/>
                  </a:lnTo>
                  <a:lnTo>
                    <a:pt x="76" y="200"/>
                  </a:lnTo>
                  <a:lnTo>
                    <a:pt x="51" y="205"/>
                  </a:lnTo>
                  <a:lnTo>
                    <a:pt x="26" y="215"/>
                  </a:lnTo>
                  <a:lnTo>
                    <a:pt x="6" y="195"/>
                  </a:lnTo>
                  <a:lnTo>
                    <a:pt x="0" y="175"/>
                  </a:lnTo>
                  <a:lnTo>
                    <a:pt x="5" y="150"/>
                  </a:lnTo>
                  <a:lnTo>
                    <a:pt x="10" y="120"/>
                  </a:lnTo>
                  <a:lnTo>
                    <a:pt x="15" y="95"/>
                  </a:lnTo>
                  <a:lnTo>
                    <a:pt x="35" y="70"/>
                  </a:lnTo>
                  <a:lnTo>
                    <a:pt x="55" y="45"/>
                  </a:lnTo>
                  <a:lnTo>
                    <a:pt x="60" y="20"/>
                  </a:lnTo>
                  <a:lnTo>
                    <a:pt x="81" y="25"/>
                  </a:lnTo>
                  <a:lnTo>
                    <a:pt x="106" y="20"/>
                  </a:lnTo>
                  <a:lnTo>
                    <a:pt x="131" y="10"/>
                  </a:lnTo>
                  <a:lnTo>
                    <a:pt x="156" y="0"/>
                  </a:lnTo>
                  <a:lnTo>
                    <a:pt x="166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20040" y="2622960"/>
              <a:ext cx="59760" cy="107640"/>
            </a:xfrm>
            <a:custGeom>
              <a:avLst/>
              <a:gdLst/>
              <a:ahLst/>
              <a:rect l="l" t="t" r="r" b="b"/>
              <a:pathLst>
                <a:path w="166" h="301">
                  <a:moveTo>
                    <a:pt x="150" y="45"/>
                  </a:moveTo>
                  <a:lnTo>
                    <a:pt x="150" y="70"/>
                  </a:lnTo>
                  <a:lnTo>
                    <a:pt x="165" y="95"/>
                  </a:lnTo>
                  <a:lnTo>
                    <a:pt x="160" y="120"/>
                  </a:lnTo>
                  <a:lnTo>
                    <a:pt x="145" y="145"/>
                  </a:lnTo>
                  <a:lnTo>
                    <a:pt x="140" y="170"/>
                  </a:lnTo>
                  <a:lnTo>
                    <a:pt x="125" y="195"/>
                  </a:lnTo>
                  <a:lnTo>
                    <a:pt x="110" y="220"/>
                  </a:lnTo>
                  <a:lnTo>
                    <a:pt x="95" y="245"/>
                  </a:lnTo>
                  <a:lnTo>
                    <a:pt x="70" y="260"/>
                  </a:lnTo>
                  <a:lnTo>
                    <a:pt x="50" y="285"/>
                  </a:lnTo>
                  <a:lnTo>
                    <a:pt x="25" y="300"/>
                  </a:lnTo>
                  <a:lnTo>
                    <a:pt x="25" y="275"/>
                  </a:lnTo>
                  <a:lnTo>
                    <a:pt x="15" y="250"/>
                  </a:lnTo>
                  <a:lnTo>
                    <a:pt x="10" y="225"/>
                  </a:lnTo>
                  <a:lnTo>
                    <a:pt x="10" y="200"/>
                  </a:lnTo>
                  <a:lnTo>
                    <a:pt x="5" y="175"/>
                  </a:lnTo>
                  <a:lnTo>
                    <a:pt x="5" y="150"/>
                  </a:lnTo>
                  <a:lnTo>
                    <a:pt x="0" y="75"/>
                  </a:lnTo>
                  <a:lnTo>
                    <a:pt x="25" y="65"/>
                  </a:lnTo>
                  <a:lnTo>
                    <a:pt x="50" y="60"/>
                  </a:lnTo>
                  <a:lnTo>
                    <a:pt x="75" y="50"/>
                  </a:lnTo>
                  <a:lnTo>
                    <a:pt x="75" y="25"/>
                  </a:lnTo>
                  <a:lnTo>
                    <a:pt x="100" y="0"/>
                  </a:lnTo>
                  <a:lnTo>
                    <a:pt x="125" y="20"/>
                  </a:lnTo>
                  <a:lnTo>
                    <a:pt x="150" y="35"/>
                  </a:lnTo>
                  <a:lnTo>
                    <a:pt x="150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29400" y="2557800"/>
              <a:ext cx="477000" cy="506160"/>
            </a:xfrm>
            <a:custGeom>
              <a:avLst/>
              <a:gdLst/>
              <a:ahLst/>
              <a:rect l="l" t="t" r="r" b="b"/>
              <a:pathLst>
                <a:path w="1326" h="1406">
                  <a:moveTo>
                    <a:pt x="570" y="0"/>
                  </a:moveTo>
                  <a:lnTo>
                    <a:pt x="585" y="20"/>
                  </a:lnTo>
                  <a:lnTo>
                    <a:pt x="975" y="255"/>
                  </a:lnTo>
                  <a:lnTo>
                    <a:pt x="995" y="270"/>
                  </a:lnTo>
                  <a:lnTo>
                    <a:pt x="1015" y="355"/>
                  </a:lnTo>
                  <a:lnTo>
                    <a:pt x="1210" y="495"/>
                  </a:lnTo>
                  <a:lnTo>
                    <a:pt x="1210" y="510"/>
                  </a:lnTo>
                  <a:lnTo>
                    <a:pt x="1200" y="535"/>
                  </a:lnTo>
                  <a:lnTo>
                    <a:pt x="1195" y="560"/>
                  </a:lnTo>
                  <a:lnTo>
                    <a:pt x="1180" y="585"/>
                  </a:lnTo>
                  <a:lnTo>
                    <a:pt x="1165" y="610"/>
                  </a:lnTo>
                  <a:lnTo>
                    <a:pt x="1150" y="635"/>
                  </a:lnTo>
                  <a:lnTo>
                    <a:pt x="1145" y="660"/>
                  </a:lnTo>
                  <a:lnTo>
                    <a:pt x="1145" y="685"/>
                  </a:lnTo>
                  <a:lnTo>
                    <a:pt x="1150" y="710"/>
                  </a:lnTo>
                  <a:lnTo>
                    <a:pt x="1175" y="720"/>
                  </a:lnTo>
                  <a:lnTo>
                    <a:pt x="1185" y="745"/>
                  </a:lnTo>
                  <a:lnTo>
                    <a:pt x="1205" y="770"/>
                  </a:lnTo>
                  <a:lnTo>
                    <a:pt x="1225" y="795"/>
                  </a:lnTo>
                  <a:lnTo>
                    <a:pt x="1215" y="820"/>
                  </a:lnTo>
                  <a:lnTo>
                    <a:pt x="1205" y="845"/>
                  </a:lnTo>
                  <a:lnTo>
                    <a:pt x="1195" y="870"/>
                  </a:lnTo>
                  <a:lnTo>
                    <a:pt x="1205" y="895"/>
                  </a:lnTo>
                  <a:lnTo>
                    <a:pt x="1205" y="920"/>
                  </a:lnTo>
                  <a:lnTo>
                    <a:pt x="1195" y="945"/>
                  </a:lnTo>
                  <a:lnTo>
                    <a:pt x="1190" y="970"/>
                  </a:lnTo>
                  <a:lnTo>
                    <a:pt x="1190" y="995"/>
                  </a:lnTo>
                  <a:lnTo>
                    <a:pt x="1210" y="1020"/>
                  </a:lnTo>
                  <a:lnTo>
                    <a:pt x="1195" y="1045"/>
                  </a:lnTo>
                  <a:lnTo>
                    <a:pt x="1210" y="1070"/>
                  </a:lnTo>
                  <a:lnTo>
                    <a:pt x="1235" y="1080"/>
                  </a:lnTo>
                  <a:lnTo>
                    <a:pt x="1225" y="1105"/>
                  </a:lnTo>
                  <a:lnTo>
                    <a:pt x="1245" y="1130"/>
                  </a:lnTo>
                  <a:lnTo>
                    <a:pt x="1245" y="1155"/>
                  </a:lnTo>
                  <a:lnTo>
                    <a:pt x="1240" y="1180"/>
                  </a:lnTo>
                  <a:lnTo>
                    <a:pt x="1265" y="1180"/>
                  </a:lnTo>
                  <a:lnTo>
                    <a:pt x="1275" y="1205"/>
                  </a:lnTo>
                  <a:lnTo>
                    <a:pt x="1300" y="1215"/>
                  </a:lnTo>
                  <a:lnTo>
                    <a:pt x="1325" y="1230"/>
                  </a:lnTo>
                  <a:lnTo>
                    <a:pt x="1325" y="1255"/>
                  </a:lnTo>
                  <a:lnTo>
                    <a:pt x="1300" y="1270"/>
                  </a:lnTo>
                  <a:lnTo>
                    <a:pt x="1275" y="1290"/>
                  </a:lnTo>
                  <a:lnTo>
                    <a:pt x="1250" y="1305"/>
                  </a:lnTo>
                  <a:lnTo>
                    <a:pt x="1225" y="1310"/>
                  </a:lnTo>
                  <a:lnTo>
                    <a:pt x="1200" y="1315"/>
                  </a:lnTo>
                  <a:lnTo>
                    <a:pt x="1175" y="1335"/>
                  </a:lnTo>
                  <a:lnTo>
                    <a:pt x="1150" y="1345"/>
                  </a:lnTo>
                  <a:lnTo>
                    <a:pt x="1125" y="1355"/>
                  </a:lnTo>
                  <a:lnTo>
                    <a:pt x="1100" y="1365"/>
                  </a:lnTo>
                  <a:lnTo>
                    <a:pt x="1075" y="1365"/>
                  </a:lnTo>
                  <a:lnTo>
                    <a:pt x="1050" y="1355"/>
                  </a:lnTo>
                  <a:lnTo>
                    <a:pt x="1025" y="1345"/>
                  </a:lnTo>
                  <a:lnTo>
                    <a:pt x="995" y="1365"/>
                  </a:lnTo>
                  <a:lnTo>
                    <a:pt x="975" y="1390"/>
                  </a:lnTo>
                  <a:lnTo>
                    <a:pt x="950" y="1405"/>
                  </a:lnTo>
                  <a:lnTo>
                    <a:pt x="925" y="1400"/>
                  </a:lnTo>
                  <a:lnTo>
                    <a:pt x="900" y="1400"/>
                  </a:lnTo>
                  <a:lnTo>
                    <a:pt x="875" y="1390"/>
                  </a:lnTo>
                  <a:lnTo>
                    <a:pt x="850" y="1390"/>
                  </a:lnTo>
                  <a:lnTo>
                    <a:pt x="825" y="1395"/>
                  </a:lnTo>
                  <a:lnTo>
                    <a:pt x="800" y="1395"/>
                  </a:lnTo>
                  <a:lnTo>
                    <a:pt x="775" y="1375"/>
                  </a:lnTo>
                  <a:lnTo>
                    <a:pt x="750" y="1380"/>
                  </a:lnTo>
                  <a:lnTo>
                    <a:pt x="725" y="1390"/>
                  </a:lnTo>
                  <a:lnTo>
                    <a:pt x="700" y="1375"/>
                  </a:lnTo>
                  <a:lnTo>
                    <a:pt x="675" y="1375"/>
                  </a:lnTo>
                  <a:lnTo>
                    <a:pt x="645" y="1380"/>
                  </a:lnTo>
                  <a:lnTo>
                    <a:pt x="620" y="1355"/>
                  </a:lnTo>
                  <a:lnTo>
                    <a:pt x="615" y="1330"/>
                  </a:lnTo>
                  <a:lnTo>
                    <a:pt x="610" y="1305"/>
                  </a:lnTo>
                  <a:lnTo>
                    <a:pt x="610" y="1280"/>
                  </a:lnTo>
                  <a:lnTo>
                    <a:pt x="615" y="1255"/>
                  </a:lnTo>
                  <a:lnTo>
                    <a:pt x="615" y="1230"/>
                  </a:lnTo>
                  <a:lnTo>
                    <a:pt x="610" y="1205"/>
                  </a:lnTo>
                  <a:lnTo>
                    <a:pt x="595" y="1180"/>
                  </a:lnTo>
                  <a:lnTo>
                    <a:pt x="585" y="1155"/>
                  </a:lnTo>
                  <a:lnTo>
                    <a:pt x="565" y="1130"/>
                  </a:lnTo>
                  <a:lnTo>
                    <a:pt x="540" y="1120"/>
                  </a:lnTo>
                  <a:lnTo>
                    <a:pt x="515" y="1135"/>
                  </a:lnTo>
                  <a:lnTo>
                    <a:pt x="490" y="1135"/>
                  </a:lnTo>
                  <a:lnTo>
                    <a:pt x="465" y="1125"/>
                  </a:lnTo>
                  <a:lnTo>
                    <a:pt x="440" y="1115"/>
                  </a:lnTo>
                  <a:lnTo>
                    <a:pt x="415" y="1105"/>
                  </a:lnTo>
                  <a:lnTo>
                    <a:pt x="390" y="1095"/>
                  </a:lnTo>
                  <a:lnTo>
                    <a:pt x="365" y="1075"/>
                  </a:lnTo>
                  <a:lnTo>
                    <a:pt x="340" y="1065"/>
                  </a:lnTo>
                  <a:lnTo>
                    <a:pt x="315" y="1045"/>
                  </a:lnTo>
                  <a:lnTo>
                    <a:pt x="290" y="1035"/>
                  </a:lnTo>
                  <a:lnTo>
                    <a:pt x="265" y="1025"/>
                  </a:lnTo>
                  <a:lnTo>
                    <a:pt x="235" y="1005"/>
                  </a:lnTo>
                  <a:lnTo>
                    <a:pt x="210" y="995"/>
                  </a:lnTo>
                  <a:lnTo>
                    <a:pt x="205" y="970"/>
                  </a:lnTo>
                  <a:lnTo>
                    <a:pt x="190" y="945"/>
                  </a:lnTo>
                  <a:lnTo>
                    <a:pt x="180" y="920"/>
                  </a:lnTo>
                  <a:lnTo>
                    <a:pt x="160" y="895"/>
                  </a:lnTo>
                  <a:lnTo>
                    <a:pt x="140" y="870"/>
                  </a:lnTo>
                  <a:lnTo>
                    <a:pt x="130" y="845"/>
                  </a:lnTo>
                  <a:lnTo>
                    <a:pt x="120" y="820"/>
                  </a:lnTo>
                  <a:lnTo>
                    <a:pt x="120" y="795"/>
                  </a:lnTo>
                  <a:lnTo>
                    <a:pt x="105" y="770"/>
                  </a:lnTo>
                  <a:lnTo>
                    <a:pt x="85" y="745"/>
                  </a:lnTo>
                  <a:lnTo>
                    <a:pt x="60" y="730"/>
                  </a:lnTo>
                  <a:lnTo>
                    <a:pt x="35" y="720"/>
                  </a:lnTo>
                  <a:lnTo>
                    <a:pt x="20" y="695"/>
                  </a:lnTo>
                  <a:lnTo>
                    <a:pt x="30" y="670"/>
                  </a:lnTo>
                  <a:lnTo>
                    <a:pt x="55" y="650"/>
                  </a:lnTo>
                  <a:lnTo>
                    <a:pt x="45" y="625"/>
                  </a:lnTo>
                  <a:lnTo>
                    <a:pt x="30" y="600"/>
                  </a:lnTo>
                  <a:lnTo>
                    <a:pt x="35" y="575"/>
                  </a:lnTo>
                  <a:lnTo>
                    <a:pt x="30" y="550"/>
                  </a:lnTo>
                  <a:lnTo>
                    <a:pt x="20" y="525"/>
                  </a:lnTo>
                  <a:lnTo>
                    <a:pt x="10" y="500"/>
                  </a:lnTo>
                  <a:lnTo>
                    <a:pt x="0" y="480"/>
                  </a:lnTo>
                  <a:lnTo>
                    <a:pt x="25" y="465"/>
                  </a:lnTo>
                  <a:lnTo>
                    <a:pt x="45" y="440"/>
                  </a:lnTo>
                  <a:lnTo>
                    <a:pt x="70" y="425"/>
                  </a:lnTo>
                  <a:lnTo>
                    <a:pt x="85" y="400"/>
                  </a:lnTo>
                  <a:lnTo>
                    <a:pt x="100" y="375"/>
                  </a:lnTo>
                  <a:lnTo>
                    <a:pt x="115" y="350"/>
                  </a:lnTo>
                  <a:lnTo>
                    <a:pt x="120" y="325"/>
                  </a:lnTo>
                  <a:lnTo>
                    <a:pt x="135" y="300"/>
                  </a:lnTo>
                  <a:lnTo>
                    <a:pt x="140" y="275"/>
                  </a:lnTo>
                  <a:lnTo>
                    <a:pt x="125" y="250"/>
                  </a:lnTo>
                  <a:lnTo>
                    <a:pt x="125" y="225"/>
                  </a:lnTo>
                  <a:lnTo>
                    <a:pt x="125" y="215"/>
                  </a:lnTo>
                  <a:lnTo>
                    <a:pt x="150" y="205"/>
                  </a:lnTo>
                  <a:lnTo>
                    <a:pt x="170" y="180"/>
                  </a:lnTo>
                  <a:lnTo>
                    <a:pt x="175" y="155"/>
                  </a:lnTo>
                  <a:lnTo>
                    <a:pt x="165" y="130"/>
                  </a:lnTo>
                  <a:lnTo>
                    <a:pt x="160" y="105"/>
                  </a:lnTo>
                  <a:lnTo>
                    <a:pt x="155" y="80"/>
                  </a:lnTo>
                  <a:lnTo>
                    <a:pt x="140" y="55"/>
                  </a:lnTo>
                  <a:lnTo>
                    <a:pt x="115" y="50"/>
                  </a:lnTo>
                  <a:lnTo>
                    <a:pt x="105" y="40"/>
                  </a:lnTo>
                  <a:lnTo>
                    <a:pt x="130" y="25"/>
                  </a:lnTo>
                  <a:lnTo>
                    <a:pt x="155" y="25"/>
                  </a:lnTo>
                  <a:lnTo>
                    <a:pt x="180" y="25"/>
                  </a:lnTo>
                  <a:lnTo>
                    <a:pt x="205" y="25"/>
                  </a:lnTo>
                  <a:lnTo>
                    <a:pt x="230" y="25"/>
                  </a:lnTo>
                  <a:lnTo>
                    <a:pt x="260" y="25"/>
                  </a:lnTo>
                  <a:lnTo>
                    <a:pt x="280" y="35"/>
                  </a:lnTo>
                  <a:lnTo>
                    <a:pt x="295" y="60"/>
                  </a:lnTo>
                  <a:lnTo>
                    <a:pt x="290" y="85"/>
                  </a:lnTo>
                  <a:lnTo>
                    <a:pt x="275" y="110"/>
                  </a:lnTo>
                  <a:lnTo>
                    <a:pt x="260" y="135"/>
                  </a:lnTo>
                  <a:lnTo>
                    <a:pt x="255" y="160"/>
                  </a:lnTo>
                  <a:lnTo>
                    <a:pt x="270" y="185"/>
                  </a:lnTo>
                  <a:lnTo>
                    <a:pt x="280" y="210"/>
                  </a:lnTo>
                  <a:lnTo>
                    <a:pt x="280" y="235"/>
                  </a:lnTo>
                  <a:lnTo>
                    <a:pt x="305" y="220"/>
                  </a:lnTo>
                  <a:lnTo>
                    <a:pt x="330" y="215"/>
                  </a:lnTo>
                  <a:lnTo>
                    <a:pt x="355" y="200"/>
                  </a:lnTo>
                  <a:lnTo>
                    <a:pt x="380" y="215"/>
                  </a:lnTo>
                  <a:lnTo>
                    <a:pt x="405" y="230"/>
                  </a:lnTo>
                  <a:lnTo>
                    <a:pt x="430" y="250"/>
                  </a:lnTo>
                  <a:lnTo>
                    <a:pt x="415" y="225"/>
                  </a:lnTo>
                  <a:lnTo>
                    <a:pt x="445" y="205"/>
                  </a:lnTo>
                  <a:lnTo>
                    <a:pt x="470" y="225"/>
                  </a:lnTo>
                  <a:lnTo>
                    <a:pt x="495" y="205"/>
                  </a:lnTo>
                  <a:lnTo>
                    <a:pt x="520" y="195"/>
                  </a:lnTo>
                  <a:lnTo>
                    <a:pt x="530" y="170"/>
                  </a:lnTo>
                  <a:lnTo>
                    <a:pt x="505" y="180"/>
                  </a:lnTo>
                  <a:lnTo>
                    <a:pt x="480" y="185"/>
                  </a:lnTo>
                  <a:lnTo>
                    <a:pt x="460" y="160"/>
                  </a:lnTo>
                  <a:lnTo>
                    <a:pt x="485" y="155"/>
                  </a:lnTo>
                  <a:lnTo>
                    <a:pt x="480" y="130"/>
                  </a:lnTo>
                  <a:lnTo>
                    <a:pt x="505" y="115"/>
                  </a:lnTo>
                  <a:lnTo>
                    <a:pt x="525" y="90"/>
                  </a:lnTo>
                  <a:lnTo>
                    <a:pt x="535" y="65"/>
                  </a:lnTo>
                  <a:lnTo>
                    <a:pt x="555" y="40"/>
                  </a:lnTo>
                  <a:lnTo>
                    <a:pt x="565" y="20"/>
                  </a:ln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35240" y="2779920"/>
              <a:ext cx="545400" cy="564840"/>
            </a:xfrm>
            <a:custGeom>
              <a:avLst/>
              <a:gdLst/>
              <a:ahLst/>
              <a:rect l="l" t="t" r="r" b="b"/>
              <a:pathLst>
                <a:path w="1516" h="1570">
                  <a:moveTo>
                    <a:pt x="1500" y="719"/>
                  </a:moveTo>
                  <a:lnTo>
                    <a:pt x="1495" y="744"/>
                  </a:lnTo>
                  <a:lnTo>
                    <a:pt x="1490" y="769"/>
                  </a:lnTo>
                  <a:lnTo>
                    <a:pt x="1495" y="794"/>
                  </a:lnTo>
                  <a:lnTo>
                    <a:pt x="1510" y="824"/>
                  </a:lnTo>
                  <a:lnTo>
                    <a:pt x="1515" y="849"/>
                  </a:lnTo>
                  <a:lnTo>
                    <a:pt x="1495" y="874"/>
                  </a:lnTo>
                  <a:lnTo>
                    <a:pt x="1500" y="899"/>
                  </a:lnTo>
                  <a:lnTo>
                    <a:pt x="1495" y="924"/>
                  </a:lnTo>
                  <a:lnTo>
                    <a:pt x="1260" y="934"/>
                  </a:lnTo>
                  <a:lnTo>
                    <a:pt x="1255" y="1359"/>
                  </a:lnTo>
                  <a:lnTo>
                    <a:pt x="1265" y="1384"/>
                  </a:lnTo>
                  <a:lnTo>
                    <a:pt x="1290" y="1409"/>
                  </a:lnTo>
                  <a:lnTo>
                    <a:pt x="1310" y="1434"/>
                  </a:lnTo>
                  <a:lnTo>
                    <a:pt x="1335" y="1454"/>
                  </a:lnTo>
                  <a:lnTo>
                    <a:pt x="1360" y="1474"/>
                  </a:lnTo>
                  <a:lnTo>
                    <a:pt x="1380" y="1499"/>
                  </a:lnTo>
                  <a:lnTo>
                    <a:pt x="1405" y="1509"/>
                  </a:lnTo>
                  <a:lnTo>
                    <a:pt x="1210" y="1569"/>
                  </a:lnTo>
                  <a:lnTo>
                    <a:pt x="1180" y="1559"/>
                  </a:lnTo>
                  <a:lnTo>
                    <a:pt x="1155" y="1559"/>
                  </a:lnTo>
                  <a:lnTo>
                    <a:pt x="1130" y="1559"/>
                  </a:lnTo>
                  <a:lnTo>
                    <a:pt x="1105" y="1559"/>
                  </a:lnTo>
                  <a:lnTo>
                    <a:pt x="1080" y="1554"/>
                  </a:lnTo>
                  <a:lnTo>
                    <a:pt x="1050" y="1554"/>
                  </a:lnTo>
                  <a:lnTo>
                    <a:pt x="1025" y="1549"/>
                  </a:lnTo>
                  <a:lnTo>
                    <a:pt x="1000" y="1544"/>
                  </a:lnTo>
                  <a:lnTo>
                    <a:pt x="975" y="1544"/>
                  </a:lnTo>
                  <a:lnTo>
                    <a:pt x="950" y="1539"/>
                  </a:lnTo>
                  <a:lnTo>
                    <a:pt x="920" y="1524"/>
                  </a:lnTo>
                  <a:lnTo>
                    <a:pt x="895" y="1529"/>
                  </a:lnTo>
                  <a:lnTo>
                    <a:pt x="870" y="1529"/>
                  </a:lnTo>
                  <a:lnTo>
                    <a:pt x="845" y="1514"/>
                  </a:lnTo>
                  <a:lnTo>
                    <a:pt x="820" y="1504"/>
                  </a:lnTo>
                  <a:lnTo>
                    <a:pt x="795" y="1489"/>
                  </a:lnTo>
                  <a:lnTo>
                    <a:pt x="345" y="1499"/>
                  </a:lnTo>
                  <a:lnTo>
                    <a:pt x="330" y="1494"/>
                  </a:lnTo>
                  <a:lnTo>
                    <a:pt x="305" y="1494"/>
                  </a:lnTo>
                  <a:lnTo>
                    <a:pt x="275" y="1489"/>
                  </a:lnTo>
                  <a:lnTo>
                    <a:pt x="250" y="1479"/>
                  </a:lnTo>
                  <a:lnTo>
                    <a:pt x="225" y="1464"/>
                  </a:lnTo>
                  <a:lnTo>
                    <a:pt x="200" y="1449"/>
                  </a:lnTo>
                  <a:lnTo>
                    <a:pt x="170" y="1444"/>
                  </a:lnTo>
                  <a:lnTo>
                    <a:pt x="145" y="1449"/>
                  </a:lnTo>
                  <a:lnTo>
                    <a:pt x="120" y="1464"/>
                  </a:lnTo>
                  <a:lnTo>
                    <a:pt x="95" y="1474"/>
                  </a:lnTo>
                  <a:lnTo>
                    <a:pt x="70" y="1469"/>
                  </a:lnTo>
                  <a:lnTo>
                    <a:pt x="45" y="1469"/>
                  </a:lnTo>
                  <a:lnTo>
                    <a:pt x="20" y="1479"/>
                  </a:lnTo>
                  <a:lnTo>
                    <a:pt x="20" y="1474"/>
                  </a:lnTo>
                  <a:lnTo>
                    <a:pt x="10" y="1449"/>
                  </a:lnTo>
                  <a:lnTo>
                    <a:pt x="0" y="1424"/>
                  </a:lnTo>
                  <a:lnTo>
                    <a:pt x="0" y="1399"/>
                  </a:lnTo>
                  <a:lnTo>
                    <a:pt x="5" y="1374"/>
                  </a:lnTo>
                  <a:lnTo>
                    <a:pt x="5" y="1349"/>
                  </a:lnTo>
                  <a:lnTo>
                    <a:pt x="0" y="1324"/>
                  </a:lnTo>
                  <a:lnTo>
                    <a:pt x="5" y="1299"/>
                  </a:lnTo>
                  <a:lnTo>
                    <a:pt x="15" y="1274"/>
                  </a:lnTo>
                  <a:lnTo>
                    <a:pt x="40" y="1249"/>
                  </a:lnTo>
                  <a:lnTo>
                    <a:pt x="50" y="1224"/>
                  </a:lnTo>
                  <a:lnTo>
                    <a:pt x="60" y="1199"/>
                  </a:lnTo>
                  <a:lnTo>
                    <a:pt x="70" y="1174"/>
                  </a:lnTo>
                  <a:lnTo>
                    <a:pt x="80" y="1149"/>
                  </a:lnTo>
                  <a:lnTo>
                    <a:pt x="80" y="1124"/>
                  </a:lnTo>
                  <a:lnTo>
                    <a:pt x="75" y="1099"/>
                  </a:lnTo>
                  <a:lnTo>
                    <a:pt x="85" y="1074"/>
                  </a:lnTo>
                  <a:lnTo>
                    <a:pt x="90" y="1049"/>
                  </a:lnTo>
                  <a:lnTo>
                    <a:pt x="90" y="1024"/>
                  </a:lnTo>
                  <a:lnTo>
                    <a:pt x="90" y="999"/>
                  </a:lnTo>
                  <a:lnTo>
                    <a:pt x="90" y="974"/>
                  </a:lnTo>
                  <a:lnTo>
                    <a:pt x="110" y="949"/>
                  </a:lnTo>
                  <a:lnTo>
                    <a:pt x="125" y="924"/>
                  </a:lnTo>
                  <a:lnTo>
                    <a:pt x="140" y="899"/>
                  </a:lnTo>
                  <a:lnTo>
                    <a:pt x="170" y="884"/>
                  </a:lnTo>
                  <a:lnTo>
                    <a:pt x="195" y="864"/>
                  </a:lnTo>
                  <a:lnTo>
                    <a:pt x="210" y="839"/>
                  </a:lnTo>
                  <a:lnTo>
                    <a:pt x="230" y="809"/>
                  </a:lnTo>
                  <a:lnTo>
                    <a:pt x="230" y="784"/>
                  </a:lnTo>
                  <a:lnTo>
                    <a:pt x="235" y="759"/>
                  </a:lnTo>
                  <a:lnTo>
                    <a:pt x="235" y="734"/>
                  </a:lnTo>
                  <a:lnTo>
                    <a:pt x="240" y="709"/>
                  </a:lnTo>
                  <a:lnTo>
                    <a:pt x="240" y="684"/>
                  </a:lnTo>
                  <a:lnTo>
                    <a:pt x="235" y="659"/>
                  </a:lnTo>
                  <a:lnTo>
                    <a:pt x="235" y="634"/>
                  </a:lnTo>
                  <a:lnTo>
                    <a:pt x="225" y="609"/>
                  </a:lnTo>
                  <a:lnTo>
                    <a:pt x="205" y="584"/>
                  </a:lnTo>
                  <a:lnTo>
                    <a:pt x="190" y="559"/>
                  </a:lnTo>
                  <a:lnTo>
                    <a:pt x="180" y="534"/>
                  </a:lnTo>
                  <a:lnTo>
                    <a:pt x="170" y="509"/>
                  </a:lnTo>
                  <a:lnTo>
                    <a:pt x="160" y="484"/>
                  </a:lnTo>
                  <a:lnTo>
                    <a:pt x="145" y="459"/>
                  </a:lnTo>
                  <a:lnTo>
                    <a:pt x="135" y="434"/>
                  </a:lnTo>
                  <a:lnTo>
                    <a:pt x="130" y="409"/>
                  </a:lnTo>
                  <a:lnTo>
                    <a:pt x="155" y="399"/>
                  </a:lnTo>
                  <a:lnTo>
                    <a:pt x="180" y="389"/>
                  </a:lnTo>
                  <a:lnTo>
                    <a:pt x="185" y="364"/>
                  </a:lnTo>
                  <a:lnTo>
                    <a:pt x="185" y="339"/>
                  </a:lnTo>
                  <a:lnTo>
                    <a:pt x="175" y="314"/>
                  </a:lnTo>
                  <a:lnTo>
                    <a:pt x="160" y="289"/>
                  </a:lnTo>
                  <a:lnTo>
                    <a:pt x="145" y="264"/>
                  </a:lnTo>
                  <a:lnTo>
                    <a:pt x="135" y="239"/>
                  </a:lnTo>
                  <a:lnTo>
                    <a:pt x="130" y="214"/>
                  </a:lnTo>
                  <a:lnTo>
                    <a:pt x="125" y="184"/>
                  </a:lnTo>
                  <a:lnTo>
                    <a:pt x="120" y="159"/>
                  </a:lnTo>
                  <a:lnTo>
                    <a:pt x="105" y="134"/>
                  </a:lnTo>
                  <a:lnTo>
                    <a:pt x="80" y="114"/>
                  </a:lnTo>
                  <a:lnTo>
                    <a:pt x="65" y="89"/>
                  </a:lnTo>
                  <a:lnTo>
                    <a:pt x="45" y="64"/>
                  </a:lnTo>
                  <a:lnTo>
                    <a:pt x="55" y="39"/>
                  </a:lnTo>
                  <a:lnTo>
                    <a:pt x="65" y="18"/>
                  </a:lnTo>
                  <a:lnTo>
                    <a:pt x="90" y="13"/>
                  </a:lnTo>
                  <a:lnTo>
                    <a:pt x="115" y="13"/>
                  </a:lnTo>
                  <a:lnTo>
                    <a:pt x="140" y="3"/>
                  </a:lnTo>
                  <a:lnTo>
                    <a:pt x="165" y="3"/>
                  </a:lnTo>
                  <a:lnTo>
                    <a:pt x="172" y="0"/>
                  </a:lnTo>
                  <a:lnTo>
                    <a:pt x="317" y="15"/>
                  </a:lnTo>
                  <a:lnTo>
                    <a:pt x="592" y="10"/>
                  </a:lnTo>
                  <a:lnTo>
                    <a:pt x="601" y="14"/>
                  </a:lnTo>
                  <a:lnTo>
                    <a:pt x="601" y="39"/>
                  </a:lnTo>
                  <a:lnTo>
                    <a:pt x="611" y="64"/>
                  </a:lnTo>
                  <a:lnTo>
                    <a:pt x="601" y="89"/>
                  </a:lnTo>
                  <a:lnTo>
                    <a:pt x="616" y="114"/>
                  </a:lnTo>
                  <a:lnTo>
                    <a:pt x="621" y="139"/>
                  </a:lnTo>
                  <a:lnTo>
                    <a:pt x="626" y="164"/>
                  </a:lnTo>
                  <a:lnTo>
                    <a:pt x="641" y="189"/>
                  </a:lnTo>
                  <a:lnTo>
                    <a:pt x="656" y="214"/>
                  </a:lnTo>
                  <a:lnTo>
                    <a:pt x="671" y="244"/>
                  </a:lnTo>
                  <a:lnTo>
                    <a:pt x="681" y="289"/>
                  </a:lnTo>
                  <a:lnTo>
                    <a:pt x="711" y="294"/>
                  </a:lnTo>
                  <a:lnTo>
                    <a:pt x="741" y="294"/>
                  </a:lnTo>
                  <a:lnTo>
                    <a:pt x="771" y="294"/>
                  </a:lnTo>
                  <a:lnTo>
                    <a:pt x="796" y="294"/>
                  </a:lnTo>
                  <a:lnTo>
                    <a:pt x="821" y="284"/>
                  </a:lnTo>
                  <a:lnTo>
                    <a:pt x="846" y="279"/>
                  </a:lnTo>
                  <a:lnTo>
                    <a:pt x="876" y="289"/>
                  </a:lnTo>
                  <a:lnTo>
                    <a:pt x="901" y="289"/>
                  </a:lnTo>
                  <a:lnTo>
                    <a:pt x="911" y="264"/>
                  </a:lnTo>
                  <a:lnTo>
                    <a:pt x="931" y="239"/>
                  </a:lnTo>
                  <a:lnTo>
                    <a:pt x="951" y="214"/>
                  </a:lnTo>
                  <a:lnTo>
                    <a:pt x="951" y="189"/>
                  </a:lnTo>
                  <a:lnTo>
                    <a:pt x="946" y="159"/>
                  </a:lnTo>
                  <a:lnTo>
                    <a:pt x="971" y="159"/>
                  </a:lnTo>
                  <a:lnTo>
                    <a:pt x="996" y="159"/>
                  </a:lnTo>
                  <a:lnTo>
                    <a:pt x="1021" y="159"/>
                  </a:lnTo>
                  <a:lnTo>
                    <a:pt x="1046" y="164"/>
                  </a:lnTo>
                  <a:lnTo>
                    <a:pt x="1056" y="139"/>
                  </a:lnTo>
                  <a:lnTo>
                    <a:pt x="1076" y="164"/>
                  </a:lnTo>
                  <a:lnTo>
                    <a:pt x="1096" y="189"/>
                  </a:lnTo>
                  <a:lnTo>
                    <a:pt x="1121" y="194"/>
                  </a:lnTo>
                  <a:lnTo>
                    <a:pt x="1156" y="194"/>
                  </a:lnTo>
                  <a:lnTo>
                    <a:pt x="1181" y="194"/>
                  </a:lnTo>
                  <a:lnTo>
                    <a:pt x="1243" y="194"/>
                  </a:lnTo>
                  <a:lnTo>
                    <a:pt x="1249" y="249"/>
                  </a:lnTo>
                  <a:lnTo>
                    <a:pt x="1244" y="274"/>
                  </a:lnTo>
                  <a:lnTo>
                    <a:pt x="1249" y="299"/>
                  </a:lnTo>
                  <a:lnTo>
                    <a:pt x="1244" y="324"/>
                  </a:lnTo>
                  <a:lnTo>
                    <a:pt x="1244" y="349"/>
                  </a:lnTo>
                  <a:lnTo>
                    <a:pt x="1254" y="374"/>
                  </a:lnTo>
                  <a:lnTo>
                    <a:pt x="1254" y="399"/>
                  </a:lnTo>
                  <a:lnTo>
                    <a:pt x="1254" y="424"/>
                  </a:lnTo>
                  <a:lnTo>
                    <a:pt x="1259" y="449"/>
                  </a:lnTo>
                  <a:lnTo>
                    <a:pt x="1259" y="474"/>
                  </a:lnTo>
                  <a:lnTo>
                    <a:pt x="1259" y="499"/>
                  </a:lnTo>
                  <a:lnTo>
                    <a:pt x="1264" y="524"/>
                  </a:lnTo>
                  <a:lnTo>
                    <a:pt x="1289" y="549"/>
                  </a:lnTo>
                  <a:lnTo>
                    <a:pt x="1304" y="574"/>
                  </a:lnTo>
                  <a:lnTo>
                    <a:pt x="1294" y="599"/>
                  </a:lnTo>
                  <a:lnTo>
                    <a:pt x="1309" y="624"/>
                  </a:lnTo>
                  <a:lnTo>
                    <a:pt x="1314" y="649"/>
                  </a:lnTo>
                  <a:lnTo>
                    <a:pt x="1294" y="674"/>
                  </a:lnTo>
                  <a:lnTo>
                    <a:pt x="1294" y="699"/>
                  </a:lnTo>
                  <a:lnTo>
                    <a:pt x="1319" y="708"/>
                  </a:lnTo>
                  <a:lnTo>
                    <a:pt x="1344" y="693"/>
                  </a:lnTo>
                  <a:lnTo>
                    <a:pt x="1369" y="693"/>
                  </a:lnTo>
                  <a:lnTo>
                    <a:pt x="1394" y="693"/>
                  </a:lnTo>
                  <a:lnTo>
                    <a:pt x="1419" y="693"/>
                  </a:lnTo>
                  <a:lnTo>
                    <a:pt x="1444" y="693"/>
                  </a:lnTo>
                  <a:lnTo>
                    <a:pt x="1469" y="683"/>
                  </a:lnTo>
                  <a:lnTo>
                    <a:pt x="1494" y="693"/>
                  </a:lnTo>
                  <a:lnTo>
                    <a:pt x="1500" y="7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87040" y="2900520"/>
              <a:ext cx="521280" cy="450720"/>
            </a:xfrm>
            <a:custGeom>
              <a:avLst/>
              <a:gdLst/>
              <a:ahLst/>
              <a:rect l="l" t="t" r="r" b="b"/>
              <a:pathLst>
                <a:path w="1451" h="1251">
                  <a:moveTo>
                    <a:pt x="1084" y="0"/>
                  </a:moveTo>
                  <a:lnTo>
                    <a:pt x="1079" y="14"/>
                  </a:lnTo>
                  <a:lnTo>
                    <a:pt x="1054" y="19"/>
                  </a:lnTo>
                  <a:lnTo>
                    <a:pt x="1029" y="19"/>
                  </a:lnTo>
                  <a:lnTo>
                    <a:pt x="1004" y="19"/>
                  </a:lnTo>
                  <a:lnTo>
                    <a:pt x="974" y="24"/>
                  </a:lnTo>
                  <a:lnTo>
                    <a:pt x="944" y="24"/>
                  </a:lnTo>
                  <a:lnTo>
                    <a:pt x="914" y="24"/>
                  </a:lnTo>
                  <a:lnTo>
                    <a:pt x="889" y="29"/>
                  </a:lnTo>
                  <a:lnTo>
                    <a:pt x="864" y="44"/>
                  </a:lnTo>
                  <a:lnTo>
                    <a:pt x="849" y="74"/>
                  </a:lnTo>
                  <a:lnTo>
                    <a:pt x="834" y="99"/>
                  </a:lnTo>
                  <a:lnTo>
                    <a:pt x="824" y="124"/>
                  </a:lnTo>
                  <a:lnTo>
                    <a:pt x="819" y="149"/>
                  </a:lnTo>
                  <a:lnTo>
                    <a:pt x="824" y="174"/>
                  </a:lnTo>
                  <a:lnTo>
                    <a:pt x="824" y="204"/>
                  </a:lnTo>
                  <a:lnTo>
                    <a:pt x="829" y="269"/>
                  </a:lnTo>
                  <a:lnTo>
                    <a:pt x="829" y="294"/>
                  </a:lnTo>
                  <a:lnTo>
                    <a:pt x="829" y="319"/>
                  </a:lnTo>
                  <a:lnTo>
                    <a:pt x="824" y="344"/>
                  </a:lnTo>
                  <a:lnTo>
                    <a:pt x="804" y="369"/>
                  </a:lnTo>
                  <a:lnTo>
                    <a:pt x="799" y="394"/>
                  </a:lnTo>
                  <a:lnTo>
                    <a:pt x="799" y="419"/>
                  </a:lnTo>
                  <a:lnTo>
                    <a:pt x="804" y="444"/>
                  </a:lnTo>
                  <a:lnTo>
                    <a:pt x="819" y="474"/>
                  </a:lnTo>
                  <a:lnTo>
                    <a:pt x="844" y="484"/>
                  </a:lnTo>
                  <a:lnTo>
                    <a:pt x="869" y="499"/>
                  </a:lnTo>
                  <a:lnTo>
                    <a:pt x="894" y="509"/>
                  </a:lnTo>
                  <a:lnTo>
                    <a:pt x="919" y="514"/>
                  </a:lnTo>
                  <a:lnTo>
                    <a:pt x="944" y="494"/>
                  </a:lnTo>
                  <a:lnTo>
                    <a:pt x="974" y="474"/>
                  </a:lnTo>
                  <a:lnTo>
                    <a:pt x="999" y="489"/>
                  </a:lnTo>
                  <a:lnTo>
                    <a:pt x="999" y="519"/>
                  </a:lnTo>
                  <a:lnTo>
                    <a:pt x="984" y="544"/>
                  </a:lnTo>
                  <a:lnTo>
                    <a:pt x="964" y="569"/>
                  </a:lnTo>
                  <a:lnTo>
                    <a:pt x="959" y="594"/>
                  </a:lnTo>
                  <a:lnTo>
                    <a:pt x="954" y="619"/>
                  </a:lnTo>
                  <a:lnTo>
                    <a:pt x="949" y="644"/>
                  </a:lnTo>
                  <a:lnTo>
                    <a:pt x="939" y="669"/>
                  </a:lnTo>
                  <a:lnTo>
                    <a:pt x="914" y="669"/>
                  </a:lnTo>
                  <a:lnTo>
                    <a:pt x="889" y="659"/>
                  </a:lnTo>
                  <a:lnTo>
                    <a:pt x="864" y="639"/>
                  </a:lnTo>
                  <a:lnTo>
                    <a:pt x="844" y="614"/>
                  </a:lnTo>
                  <a:lnTo>
                    <a:pt x="824" y="589"/>
                  </a:lnTo>
                  <a:lnTo>
                    <a:pt x="804" y="559"/>
                  </a:lnTo>
                  <a:lnTo>
                    <a:pt x="784" y="534"/>
                  </a:lnTo>
                  <a:lnTo>
                    <a:pt x="759" y="519"/>
                  </a:lnTo>
                  <a:lnTo>
                    <a:pt x="734" y="509"/>
                  </a:lnTo>
                  <a:lnTo>
                    <a:pt x="709" y="489"/>
                  </a:lnTo>
                  <a:lnTo>
                    <a:pt x="689" y="464"/>
                  </a:lnTo>
                  <a:lnTo>
                    <a:pt x="674" y="439"/>
                  </a:lnTo>
                  <a:lnTo>
                    <a:pt x="649" y="434"/>
                  </a:lnTo>
                  <a:lnTo>
                    <a:pt x="629" y="459"/>
                  </a:lnTo>
                  <a:lnTo>
                    <a:pt x="614" y="484"/>
                  </a:lnTo>
                  <a:lnTo>
                    <a:pt x="589" y="474"/>
                  </a:lnTo>
                  <a:lnTo>
                    <a:pt x="564" y="474"/>
                  </a:lnTo>
                  <a:lnTo>
                    <a:pt x="539" y="474"/>
                  </a:lnTo>
                  <a:lnTo>
                    <a:pt x="514" y="459"/>
                  </a:lnTo>
                  <a:lnTo>
                    <a:pt x="489" y="444"/>
                  </a:lnTo>
                  <a:lnTo>
                    <a:pt x="459" y="429"/>
                  </a:lnTo>
                  <a:lnTo>
                    <a:pt x="439" y="404"/>
                  </a:lnTo>
                  <a:lnTo>
                    <a:pt x="414" y="399"/>
                  </a:lnTo>
                  <a:lnTo>
                    <a:pt x="389" y="399"/>
                  </a:lnTo>
                  <a:lnTo>
                    <a:pt x="359" y="399"/>
                  </a:lnTo>
                  <a:lnTo>
                    <a:pt x="334" y="399"/>
                  </a:lnTo>
                  <a:lnTo>
                    <a:pt x="309" y="379"/>
                  </a:lnTo>
                  <a:lnTo>
                    <a:pt x="289" y="354"/>
                  </a:lnTo>
                  <a:lnTo>
                    <a:pt x="264" y="354"/>
                  </a:lnTo>
                  <a:lnTo>
                    <a:pt x="239" y="359"/>
                  </a:lnTo>
                  <a:lnTo>
                    <a:pt x="245" y="385"/>
                  </a:lnTo>
                  <a:lnTo>
                    <a:pt x="240" y="410"/>
                  </a:lnTo>
                  <a:lnTo>
                    <a:pt x="235" y="435"/>
                  </a:lnTo>
                  <a:lnTo>
                    <a:pt x="240" y="460"/>
                  </a:lnTo>
                  <a:lnTo>
                    <a:pt x="255" y="490"/>
                  </a:lnTo>
                  <a:lnTo>
                    <a:pt x="260" y="515"/>
                  </a:lnTo>
                  <a:lnTo>
                    <a:pt x="240" y="540"/>
                  </a:lnTo>
                  <a:lnTo>
                    <a:pt x="245" y="565"/>
                  </a:lnTo>
                  <a:lnTo>
                    <a:pt x="240" y="590"/>
                  </a:lnTo>
                  <a:lnTo>
                    <a:pt x="5" y="600"/>
                  </a:lnTo>
                  <a:lnTo>
                    <a:pt x="0" y="1025"/>
                  </a:lnTo>
                  <a:lnTo>
                    <a:pt x="10" y="1050"/>
                  </a:lnTo>
                  <a:lnTo>
                    <a:pt x="35" y="1075"/>
                  </a:lnTo>
                  <a:lnTo>
                    <a:pt x="55" y="1100"/>
                  </a:lnTo>
                  <a:lnTo>
                    <a:pt x="80" y="1120"/>
                  </a:lnTo>
                  <a:lnTo>
                    <a:pt x="105" y="1140"/>
                  </a:lnTo>
                  <a:lnTo>
                    <a:pt x="125" y="1165"/>
                  </a:lnTo>
                  <a:lnTo>
                    <a:pt x="150" y="1175"/>
                  </a:lnTo>
                  <a:lnTo>
                    <a:pt x="165" y="1185"/>
                  </a:lnTo>
                  <a:lnTo>
                    <a:pt x="160" y="1210"/>
                  </a:lnTo>
                  <a:lnTo>
                    <a:pt x="160" y="1235"/>
                  </a:lnTo>
                  <a:lnTo>
                    <a:pt x="185" y="1245"/>
                  </a:lnTo>
                  <a:lnTo>
                    <a:pt x="210" y="1245"/>
                  </a:lnTo>
                  <a:lnTo>
                    <a:pt x="235" y="1250"/>
                  </a:lnTo>
                  <a:lnTo>
                    <a:pt x="260" y="1245"/>
                  </a:lnTo>
                  <a:lnTo>
                    <a:pt x="285" y="1230"/>
                  </a:lnTo>
                  <a:lnTo>
                    <a:pt x="310" y="1235"/>
                  </a:lnTo>
                  <a:lnTo>
                    <a:pt x="335" y="1225"/>
                  </a:lnTo>
                  <a:lnTo>
                    <a:pt x="360" y="1210"/>
                  </a:lnTo>
                  <a:lnTo>
                    <a:pt x="385" y="1215"/>
                  </a:lnTo>
                  <a:lnTo>
                    <a:pt x="410" y="1220"/>
                  </a:lnTo>
                  <a:lnTo>
                    <a:pt x="440" y="1220"/>
                  </a:lnTo>
                  <a:lnTo>
                    <a:pt x="465" y="1215"/>
                  </a:lnTo>
                  <a:lnTo>
                    <a:pt x="490" y="1225"/>
                  </a:lnTo>
                  <a:lnTo>
                    <a:pt x="515" y="1225"/>
                  </a:lnTo>
                  <a:lnTo>
                    <a:pt x="545" y="1235"/>
                  </a:lnTo>
                  <a:lnTo>
                    <a:pt x="570" y="1240"/>
                  </a:lnTo>
                  <a:lnTo>
                    <a:pt x="595" y="1230"/>
                  </a:lnTo>
                  <a:lnTo>
                    <a:pt x="600" y="1205"/>
                  </a:lnTo>
                  <a:lnTo>
                    <a:pt x="610" y="1175"/>
                  </a:lnTo>
                  <a:lnTo>
                    <a:pt x="630" y="1150"/>
                  </a:lnTo>
                  <a:lnTo>
                    <a:pt x="650" y="1125"/>
                  </a:lnTo>
                  <a:lnTo>
                    <a:pt x="680" y="1100"/>
                  </a:lnTo>
                  <a:lnTo>
                    <a:pt x="705" y="1085"/>
                  </a:lnTo>
                  <a:lnTo>
                    <a:pt x="730" y="1075"/>
                  </a:lnTo>
                  <a:lnTo>
                    <a:pt x="755" y="1065"/>
                  </a:lnTo>
                  <a:lnTo>
                    <a:pt x="780" y="1055"/>
                  </a:lnTo>
                  <a:lnTo>
                    <a:pt x="805" y="1050"/>
                  </a:lnTo>
                  <a:lnTo>
                    <a:pt x="830" y="1030"/>
                  </a:lnTo>
                  <a:lnTo>
                    <a:pt x="835" y="1005"/>
                  </a:lnTo>
                  <a:lnTo>
                    <a:pt x="835" y="980"/>
                  </a:lnTo>
                  <a:lnTo>
                    <a:pt x="860" y="960"/>
                  </a:lnTo>
                  <a:lnTo>
                    <a:pt x="885" y="950"/>
                  </a:lnTo>
                  <a:lnTo>
                    <a:pt x="915" y="945"/>
                  </a:lnTo>
                  <a:lnTo>
                    <a:pt x="945" y="945"/>
                  </a:lnTo>
                  <a:lnTo>
                    <a:pt x="970" y="945"/>
                  </a:lnTo>
                  <a:lnTo>
                    <a:pt x="995" y="950"/>
                  </a:lnTo>
                  <a:lnTo>
                    <a:pt x="1020" y="950"/>
                  </a:lnTo>
                  <a:lnTo>
                    <a:pt x="1015" y="920"/>
                  </a:lnTo>
                  <a:lnTo>
                    <a:pt x="1010" y="895"/>
                  </a:lnTo>
                  <a:lnTo>
                    <a:pt x="1005" y="865"/>
                  </a:lnTo>
                  <a:lnTo>
                    <a:pt x="1365" y="745"/>
                  </a:lnTo>
                  <a:lnTo>
                    <a:pt x="1310" y="690"/>
                  </a:lnTo>
                  <a:lnTo>
                    <a:pt x="1330" y="665"/>
                  </a:lnTo>
                  <a:lnTo>
                    <a:pt x="1345" y="635"/>
                  </a:lnTo>
                  <a:lnTo>
                    <a:pt x="1355" y="610"/>
                  </a:lnTo>
                  <a:lnTo>
                    <a:pt x="1355" y="585"/>
                  </a:lnTo>
                  <a:lnTo>
                    <a:pt x="1365" y="560"/>
                  </a:lnTo>
                  <a:lnTo>
                    <a:pt x="1390" y="555"/>
                  </a:lnTo>
                  <a:lnTo>
                    <a:pt x="1415" y="550"/>
                  </a:lnTo>
                  <a:lnTo>
                    <a:pt x="1410" y="525"/>
                  </a:lnTo>
                  <a:lnTo>
                    <a:pt x="1410" y="500"/>
                  </a:lnTo>
                  <a:lnTo>
                    <a:pt x="1400" y="470"/>
                  </a:lnTo>
                  <a:lnTo>
                    <a:pt x="1390" y="445"/>
                  </a:lnTo>
                  <a:lnTo>
                    <a:pt x="1390" y="420"/>
                  </a:lnTo>
                  <a:lnTo>
                    <a:pt x="1390" y="395"/>
                  </a:lnTo>
                  <a:lnTo>
                    <a:pt x="1405" y="370"/>
                  </a:lnTo>
                  <a:lnTo>
                    <a:pt x="1410" y="340"/>
                  </a:lnTo>
                  <a:lnTo>
                    <a:pt x="1435" y="325"/>
                  </a:lnTo>
                  <a:lnTo>
                    <a:pt x="1450" y="300"/>
                  </a:lnTo>
                  <a:lnTo>
                    <a:pt x="1445" y="275"/>
                  </a:lnTo>
                  <a:lnTo>
                    <a:pt x="1440" y="245"/>
                  </a:lnTo>
                  <a:lnTo>
                    <a:pt x="1435" y="220"/>
                  </a:lnTo>
                  <a:lnTo>
                    <a:pt x="1425" y="195"/>
                  </a:lnTo>
                  <a:lnTo>
                    <a:pt x="1400" y="185"/>
                  </a:lnTo>
                  <a:lnTo>
                    <a:pt x="1375" y="170"/>
                  </a:lnTo>
                  <a:lnTo>
                    <a:pt x="1350" y="155"/>
                  </a:lnTo>
                  <a:lnTo>
                    <a:pt x="1340" y="145"/>
                  </a:lnTo>
                  <a:lnTo>
                    <a:pt x="1315" y="125"/>
                  </a:lnTo>
                  <a:lnTo>
                    <a:pt x="1290" y="115"/>
                  </a:lnTo>
                  <a:lnTo>
                    <a:pt x="1265" y="95"/>
                  </a:lnTo>
                  <a:lnTo>
                    <a:pt x="1240" y="85"/>
                  </a:lnTo>
                  <a:lnTo>
                    <a:pt x="1215" y="75"/>
                  </a:lnTo>
                  <a:lnTo>
                    <a:pt x="1185" y="55"/>
                  </a:lnTo>
                  <a:lnTo>
                    <a:pt x="1160" y="45"/>
                  </a:lnTo>
                  <a:lnTo>
                    <a:pt x="1091" y="21"/>
                  </a:lnTo>
                  <a:lnTo>
                    <a:pt x="10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57920" y="2953080"/>
              <a:ext cx="134640" cy="329760"/>
            </a:xfrm>
            <a:custGeom>
              <a:avLst/>
              <a:gdLst/>
              <a:ahLst/>
              <a:rect l="l" t="t" r="r" b="b"/>
              <a:pathLst>
                <a:path w="374" h="919">
                  <a:moveTo>
                    <a:pt x="30" y="0"/>
                  </a:moveTo>
                  <a:lnTo>
                    <a:pt x="40" y="10"/>
                  </a:lnTo>
                  <a:lnTo>
                    <a:pt x="65" y="25"/>
                  </a:lnTo>
                  <a:lnTo>
                    <a:pt x="90" y="40"/>
                  </a:lnTo>
                  <a:lnTo>
                    <a:pt x="115" y="50"/>
                  </a:lnTo>
                  <a:lnTo>
                    <a:pt x="125" y="75"/>
                  </a:lnTo>
                  <a:lnTo>
                    <a:pt x="130" y="100"/>
                  </a:lnTo>
                  <a:lnTo>
                    <a:pt x="135" y="130"/>
                  </a:lnTo>
                  <a:lnTo>
                    <a:pt x="140" y="155"/>
                  </a:lnTo>
                  <a:lnTo>
                    <a:pt x="125" y="180"/>
                  </a:lnTo>
                  <a:lnTo>
                    <a:pt x="100" y="195"/>
                  </a:lnTo>
                  <a:lnTo>
                    <a:pt x="95" y="225"/>
                  </a:lnTo>
                  <a:lnTo>
                    <a:pt x="80" y="250"/>
                  </a:lnTo>
                  <a:lnTo>
                    <a:pt x="80" y="275"/>
                  </a:lnTo>
                  <a:lnTo>
                    <a:pt x="80" y="300"/>
                  </a:lnTo>
                  <a:lnTo>
                    <a:pt x="90" y="325"/>
                  </a:lnTo>
                  <a:lnTo>
                    <a:pt x="100" y="355"/>
                  </a:lnTo>
                  <a:lnTo>
                    <a:pt x="100" y="380"/>
                  </a:lnTo>
                  <a:lnTo>
                    <a:pt x="105" y="405"/>
                  </a:lnTo>
                  <a:lnTo>
                    <a:pt x="80" y="410"/>
                  </a:lnTo>
                  <a:lnTo>
                    <a:pt x="55" y="415"/>
                  </a:lnTo>
                  <a:lnTo>
                    <a:pt x="45" y="440"/>
                  </a:lnTo>
                  <a:lnTo>
                    <a:pt x="45" y="465"/>
                  </a:lnTo>
                  <a:lnTo>
                    <a:pt x="35" y="490"/>
                  </a:lnTo>
                  <a:lnTo>
                    <a:pt x="20" y="520"/>
                  </a:lnTo>
                  <a:lnTo>
                    <a:pt x="0" y="545"/>
                  </a:lnTo>
                  <a:lnTo>
                    <a:pt x="55" y="600"/>
                  </a:lnTo>
                  <a:lnTo>
                    <a:pt x="78" y="608"/>
                  </a:lnTo>
                  <a:lnTo>
                    <a:pt x="103" y="633"/>
                  </a:lnTo>
                  <a:lnTo>
                    <a:pt x="123" y="658"/>
                  </a:lnTo>
                  <a:lnTo>
                    <a:pt x="148" y="663"/>
                  </a:lnTo>
                  <a:lnTo>
                    <a:pt x="173" y="643"/>
                  </a:lnTo>
                  <a:lnTo>
                    <a:pt x="198" y="663"/>
                  </a:lnTo>
                  <a:lnTo>
                    <a:pt x="208" y="688"/>
                  </a:lnTo>
                  <a:lnTo>
                    <a:pt x="213" y="713"/>
                  </a:lnTo>
                  <a:lnTo>
                    <a:pt x="213" y="738"/>
                  </a:lnTo>
                  <a:lnTo>
                    <a:pt x="208" y="763"/>
                  </a:lnTo>
                  <a:lnTo>
                    <a:pt x="198" y="788"/>
                  </a:lnTo>
                  <a:lnTo>
                    <a:pt x="183" y="813"/>
                  </a:lnTo>
                  <a:lnTo>
                    <a:pt x="183" y="838"/>
                  </a:lnTo>
                  <a:lnTo>
                    <a:pt x="203" y="863"/>
                  </a:lnTo>
                  <a:lnTo>
                    <a:pt x="228" y="893"/>
                  </a:lnTo>
                  <a:lnTo>
                    <a:pt x="253" y="913"/>
                  </a:lnTo>
                  <a:lnTo>
                    <a:pt x="278" y="918"/>
                  </a:lnTo>
                  <a:lnTo>
                    <a:pt x="293" y="893"/>
                  </a:lnTo>
                  <a:lnTo>
                    <a:pt x="318" y="878"/>
                  </a:lnTo>
                  <a:lnTo>
                    <a:pt x="343" y="863"/>
                  </a:lnTo>
                  <a:lnTo>
                    <a:pt x="358" y="838"/>
                  </a:lnTo>
                  <a:lnTo>
                    <a:pt x="363" y="813"/>
                  </a:lnTo>
                  <a:lnTo>
                    <a:pt x="363" y="788"/>
                  </a:lnTo>
                  <a:lnTo>
                    <a:pt x="363" y="763"/>
                  </a:lnTo>
                  <a:lnTo>
                    <a:pt x="363" y="738"/>
                  </a:lnTo>
                  <a:lnTo>
                    <a:pt x="373" y="713"/>
                  </a:lnTo>
                  <a:lnTo>
                    <a:pt x="373" y="688"/>
                  </a:lnTo>
                  <a:lnTo>
                    <a:pt x="368" y="663"/>
                  </a:lnTo>
                  <a:lnTo>
                    <a:pt x="353" y="638"/>
                  </a:lnTo>
                  <a:lnTo>
                    <a:pt x="328" y="623"/>
                  </a:lnTo>
                  <a:lnTo>
                    <a:pt x="313" y="598"/>
                  </a:lnTo>
                  <a:lnTo>
                    <a:pt x="298" y="573"/>
                  </a:lnTo>
                  <a:lnTo>
                    <a:pt x="278" y="548"/>
                  </a:lnTo>
                  <a:lnTo>
                    <a:pt x="258" y="523"/>
                  </a:lnTo>
                  <a:lnTo>
                    <a:pt x="258" y="548"/>
                  </a:lnTo>
                  <a:lnTo>
                    <a:pt x="278" y="573"/>
                  </a:lnTo>
                  <a:lnTo>
                    <a:pt x="293" y="598"/>
                  </a:lnTo>
                  <a:lnTo>
                    <a:pt x="298" y="623"/>
                  </a:lnTo>
                  <a:lnTo>
                    <a:pt x="293" y="648"/>
                  </a:lnTo>
                  <a:lnTo>
                    <a:pt x="268" y="628"/>
                  </a:lnTo>
                  <a:lnTo>
                    <a:pt x="238" y="623"/>
                  </a:lnTo>
                  <a:lnTo>
                    <a:pt x="218" y="598"/>
                  </a:lnTo>
                  <a:lnTo>
                    <a:pt x="223" y="573"/>
                  </a:lnTo>
                  <a:lnTo>
                    <a:pt x="208" y="548"/>
                  </a:lnTo>
                  <a:lnTo>
                    <a:pt x="198" y="523"/>
                  </a:lnTo>
                  <a:lnTo>
                    <a:pt x="203" y="498"/>
                  </a:lnTo>
                  <a:lnTo>
                    <a:pt x="203" y="473"/>
                  </a:lnTo>
                  <a:lnTo>
                    <a:pt x="188" y="448"/>
                  </a:lnTo>
                  <a:lnTo>
                    <a:pt x="178" y="423"/>
                  </a:lnTo>
                  <a:lnTo>
                    <a:pt x="163" y="398"/>
                  </a:lnTo>
                  <a:lnTo>
                    <a:pt x="168" y="373"/>
                  </a:lnTo>
                  <a:lnTo>
                    <a:pt x="188" y="348"/>
                  </a:lnTo>
                  <a:lnTo>
                    <a:pt x="203" y="323"/>
                  </a:lnTo>
                  <a:lnTo>
                    <a:pt x="208" y="298"/>
                  </a:lnTo>
                  <a:lnTo>
                    <a:pt x="208" y="273"/>
                  </a:lnTo>
                  <a:lnTo>
                    <a:pt x="198" y="248"/>
                  </a:lnTo>
                  <a:lnTo>
                    <a:pt x="198" y="223"/>
                  </a:lnTo>
                  <a:lnTo>
                    <a:pt x="193" y="198"/>
                  </a:lnTo>
                  <a:lnTo>
                    <a:pt x="193" y="173"/>
                  </a:lnTo>
                  <a:lnTo>
                    <a:pt x="203" y="148"/>
                  </a:lnTo>
                  <a:lnTo>
                    <a:pt x="198" y="123"/>
                  </a:lnTo>
                  <a:lnTo>
                    <a:pt x="183" y="98"/>
                  </a:lnTo>
                  <a:lnTo>
                    <a:pt x="173" y="73"/>
                  </a:lnTo>
                  <a:lnTo>
                    <a:pt x="168" y="48"/>
                  </a:lnTo>
                  <a:lnTo>
                    <a:pt x="155" y="40"/>
                  </a:lnTo>
                  <a:lnTo>
                    <a:pt x="130" y="40"/>
                  </a:lnTo>
                  <a:lnTo>
                    <a:pt x="105" y="30"/>
                  </a:lnTo>
                  <a:lnTo>
                    <a:pt x="80" y="20"/>
                  </a:lnTo>
                  <a:lnTo>
                    <a:pt x="55" y="1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8480" y="3010320"/>
              <a:ext cx="457920" cy="744120"/>
            </a:xfrm>
            <a:custGeom>
              <a:avLst/>
              <a:gdLst/>
              <a:ahLst/>
              <a:rect l="l" t="t" r="r" b="b"/>
              <a:pathLst>
                <a:path w="1274" h="2069">
                  <a:moveTo>
                    <a:pt x="1270" y="0"/>
                  </a:moveTo>
                  <a:lnTo>
                    <a:pt x="1245" y="15"/>
                  </a:lnTo>
                  <a:lnTo>
                    <a:pt x="1220" y="35"/>
                  </a:lnTo>
                  <a:lnTo>
                    <a:pt x="1195" y="50"/>
                  </a:lnTo>
                  <a:lnTo>
                    <a:pt x="1170" y="55"/>
                  </a:lnTo>
                  <a:lnTo>
                    <a:pt x="1145" y="60"/>
                  </a:lnTo>
                  <a:lnTo>
                    <a:pt x="1120" y="80"/>
                  </a:lnTo>
                  <a:lnTo>
                    <a:pt x="1095" y="90"/>
                  </a:lnTo>
                  <a:lnTo>
                    <a:pt x="1070" y="100"/>
                  </a:lnTo>
                  <a:lnTo>
                    <a:pt x="1045" y="110"/>
                  </a:lnTo>
                  <a:lnTo>
                    <a:pt x="1020" y="110"/>
                  </a:lnTo>
                  <a:lnTo>
                    <a:pt x="995" y="100"/>
                  </a:lnTo>
                  <a:lnTo>
                    <a:pt x="970" y="90"/>
                  </a:lnTo>
                  <a:lnTo>
                    <a:pt x="940" y="110"/>
                  </a:lnTo>
                  <a:lnTo>
                    <a:pt x="920" y="135"/>
                  </a:lnTo>
                  <a:lnTo>
                    <a:pt x="895" y="150"/>
                  </a:lnTo>
                  <a:lnTo>
                    <a:pt x="870" y="145"/>
                  </a:lnTo>
                  <a:lnTo>
                    <a:pt x="845" y="145"/>
                  </a:lnTo>
                  <a:lnTo>
                    <a:pt x="820" y="135"/>
                  </a:lnTo>
                  <a:lnTo>
                    <a:pt x="795" y="135"/>
                  </a:lnTo>
                  <a:lnTo>
                    <a:pt x="770" y="140"/>
                  </a:lnTo>
                  <a:lnTo>
                    <a:pt x="745" y="140"/>
                  </a:lnTo>
                  <a:lnTo>
                    <a:pt x="720" y="120"/>
                  </a:lnTo>
                  <a:lnTo>
                    <a:pt x="695" y="125"/>
                  </a:lnTo>
                  <a:lnTo>
                    <a:pt x="670" y="135"/>
                  </a:lnTo>
                  <a:lnTo>
                    <a:pt x="645" y="120"/>
                  </a:lnTo>
                  <a:lnTo>
                    <a:pt x="620" y="120"/>
                  </a:lnTo>
                  <a:lnTo>
                    <a:pt x="590" y="125"/>
                  </a:lnTo>
                  <a:lnTo>
                    <a:pt x="588" y="133"/>
                  </a:lnTo>
                  <a:lnTo>
                    <a:pt x="578" y="158"/>
                  </a:lnTo>
                  <a:lnTo>
                    <a:pt x="583" y="183"/>
                  </a:lnTo>
                  <a:lnTo>
                    <a:pt x="558" y="203"/>
                  </a:lnTo>
                  <a:lnTo>
                    <a:pt x="553" y="228"/>
                  </a:lnTo>
                  <a:lnTo>
                    <a:pt x="553" y="253"/>
                  </a:lnTo>
                  <a:lnTo>
                    <a:pt x="568" y="278"/>
                  </a:lnTo>
                  <a:lnTo>
                    <a:pt x="573" y="303"/>
                  </a:lnTo>
                  <a:lnTo>
                    <a:pt x="568" y="328"/>
                  </a:lnTo>
                  <a:lnTo>
                    <a:pt x="563" y="348"/>
                  </a:lnTo>
                  <a:lnTo>
                    <a:pt x="563" y="363"/>
                  </a:lnTo>
                  <a:lnTo>
                    <a:pt x="583" y="388"/>
                  </a:lnTo>
                  <a:lnTo>
                    <a:pt x="603" y="413"/>
                  </a:lnTo>
                  <a:lnTo>
                    <a:pt x="618" y="438"/>
                  </a:lnTo>
                  <a:lnTo>
                    <a:pt x="633" y="463"/>
                  </a:lnTo>
                  <a:lnTo>
                    <a:pt x="658" y="478"/>
                  </a:lnTo>
                  <a:lnTo>
                    <a:pt x="673" y="503"/>
                  </a:lnTo>
                  <a:lnTo>
                    <a:pt x="678" y="528"/>
                  </a:lnTo>
                  <a:lnTo>
                    <a:pt x="678" y="553"/>
                  </a:lnTo>
                  <a:lnTo>
                    <a:pt x="668" y="578"/>
                  </a:lnTo>
                  <a:lnTo>
                    <a:pt x="668" y="603"/>
                  </a:lnTo>
                  <a:lnTo>
                    <a:pt x="668" y="628"/>
                  </a:lnTo>
                  <a:lnTo>
                    <a:pt x="668" y="653"/>
                  </a:lnTo>
                  <a:lnTo>
                    <a:pt x="663" y="678"/>
                  </a:lnTo>
                  <a:lnTo>
                    <a:pt x="648" y="703"/>
                  </a:lnTo>
                  <a:lnTo>
                    <a:pt x="623" y="718"/>
                  </a:lnTo>
                  <a:lnTo>
                    <a:pt x="598" y="733"/>
                  </a:lnTo>
                  <a:lnTo>
                    <a:pt x="583" y="758"/>
                  </a:lnTo>
                  <a:lnTo>
                    <a:pt x="558" y="753"/>
                  </a:lnTo>
                  <a:lnTo>
                    <a:pt x="533" y="733"/>
                  </a:lnTo>
                  <a:lnTo>
                    <a:pt x="508" y="703"/>
                  </a:lnTo>
                  <a:lnTo>
                    <a:pt x="488" y="678"/>
                  </a:lnTo>
                  <a:lnTo>
                    <a:pt x="488" y="653"/>
                  </a:lnTo>
                  <a:lnTo>
                    <a:pt x="503" y="628"/>
                  </a:lnTo>
                  <a:lnTo>
                    <a:pt x="513" y="603"/>
                  </a:lnTo>
                  <a:lnTo>
                    <a:pt x="518" y="578"/>
                  </a:lnTo>
                  <a:lnTo>
                    <a:pt x="518" y="553"/>
                  </a:lnTo>
                  <a:lnTo>
                    <a:pt x="513" y="528"/>
                  </a:lnTo>
                  <a:lnTo>
                    <a:pt x="503" y="503"/>
                  </a:lnTo>
                  <a:lnTo>
                    <a:pt x="478" y="483"/>
                  </a:lnTo>
                  <a:lnTo>
                    <a:pt x="453" y="503"/>
                  </a:lnTo>
                  <a:lnTo>
                    <a:pt x="428" y="498"/>
                  </a:lnTo>
                  <a:lnTo>
                    <a:pt x="408" y="473"/>
                  </a:lnTo>
                  <a:lnTo>
                    <a:pt x="383" y="448"/>
                  </a:lnTo>
                  <a:lnTo>
                    <a:pt x="360" y="440"/>
                  </a:lnTo>
                  <a:lnTo>
                    <a:pt x="0" y="560"/>
                  </a:lnTo>
                  <a:lnTo>
                    <a:pt x="5" y="590"/>
                  </a:lnTo>
                  <a:lnTo>
                    <a:pt x="10" y="615"/>
                  </a:lnTo>
                  <a:lnTo>
                    <a:pt x="15" y="645"/>
                  </a:lnTo>
                  <a:lnTo>
                    <a:pt x="13" y="653"/>
                  </a:lnTo>
                  <a:lnTo>
                    <a:pt x="13" y="688"/>
                  </a:lnTo>
                  <a:lnTo>
                    <a:pt x="38" y="688"/>
                  </a:lnTo>
                  <a:lnTo>
                    <a:pt x="68" y="688"/>
                  </a:lnTo>
                  <a:lnTo>
                    <a:pt x="93" y="683"/>
                  </a:lnTo>
                  <a:lnTo>
                    <a:pt x="118" y="703"/>
                  </a:lnTo>
                  <a:lnTo>
                    <a:pt x="153" y="733"/>
                  </a:lnTo>
                  <a:lnTo>
                    <a:pt x="178" y="743"/>
                  </a:lnTo>
                  <a:lnTo>
                    <a:pt x="203" y="758"/>
                  </a:lnTo>
                  <a:lnTo>
                    <a:pt x="228" y="763"/>
                  </a:lnTo>
                  <a:lnTo>
                    <a:pt x="253" y="763"/>
                  </a:lnTo>
                  <a:lnTo>
                    <a:pt x="278" y="783"/>
                  </a:lnTo>
                  <a:lnTo>
                    <a:pt x="303" y="798"/>
                  </a:lnTo>
                  <a:lnTo>
                    <a:pt x="298" y="828"/>
                  </a:lnTo>
                  <a:lnTo>
                    <a:pt x="298" y="853"/>
                  </a:lnTo>
                  <a:lnTo>
                    <a:pt x="298" y="878"/>
                  </a:lnTo>
                  <a:lnTo>
                    <a:pt x="298" y="903"/>
                  </a:lnTo>
                  <a:lnTo>
                    <a:pt x="293" y="933"/>
                  </a:lnTo>
                  <a:lnTo>
                    <a:pt x="298" y="958"/>
                  </a:lnTo>
                  <a:lnTo>
                    <a:pt x="293" y="983"/>
                  </a:lnTo>
                  <a:lnTo>
                    <a:pt x="278" y="1008"/>
                  </a:lnTo>
                  <a:lnTo>
                    <a:pt x="263" y="1033"/>
                  </a:lnTo>
                  <a:lnTo>
                    <a:pt x="238" y="1053"/>
                  </a:lnTo>
                  <a:lnTo>
                    <a:pt x="248" y="1078"/>
                  </a:lnTo>
                  <a:lnTo>
                    <a:pt x="263" y="1103"/>
                  </a:lnTo>
                  <a:lnTo>
                    <a:pt x="258" y="1128"/>
                  </a:lnTo>
                  <a:lnTo>
                    <a:pt x="273" y="1158"/>
                  </a:lnTo>
                  <a:lnTo>
                    <a:pt x="278" y="1183"/>
                  </a:lnTo>
                  <a:lnTo>
                    <a:pt x="278" y="1208"/>
                  </a:lnTo>
                  <a:lnTo>
                    <a:pt x="273" y="1233"/>
                  </a:lnTo>
                  <a:lnTo>
                    <a:pt x="263" y="1258"/>
                  </a:lnTo>
                  <a:lnTo>
                    <a:pt x="238" y="1273"/>
                  </a:lnTo>
                  <a:lnTo>
                    <a:pt x="213" y="1293"/>
                  </a:lnTo>
                  <a:lnTo>
                    <a:pt x="203" y="1318"/>
                  </a:lnTo>
                  <a:lnTo>
                    <a:pt x="68" y="1498"/>
                  </a:lnTo>
                  <a:lnTo>
                    <a:pt x="78" y="1513"/>
                  </a:lnTo>
                  <a:lnTo>
                    <a:pt x="78" y="1538"/>
                  </a:lnTo>
                  <a:lnTo>
                    <a:pt x="78" y="1563"/>
                  </a:lnTo>
                  <a:lnTo>
                    <a:pt x="78" y="1593"/>
                  </a:lnTo>
                  <a:lnTo>
                    <a:pt x="88" y="1618"/>
                  </a:lnTo>
                  <a:lnTo>
                    <a:pt x="103" y="1643"/>
                  </a:lnTo>
                  <a:lnTo>
                    <a:pt x="108" y="1673"/>
                  </a:lnTo>
                  <a:lnTo>
                    <a:pt x="113" y="1698"/>
                  </a:lnTo>
                  <a:lnTo>
                    <a:pt x="133" y="1723"/>
                  </a:lnTo>
                  <a:lnTo>
                    <a:pt x="138" y="1748"/>
                  </a:lnTo>
                  <a:lnTo>
                    <a:pt x="143" y="1773"/>
                  </a:lnTo>
                  <a:lnTo>
                    <a:pt x="143" y="1798"/>
                  </a:lnTo>
                  <a:lnTo>
                    <a:pt x="138" y="1823"/>
                  </a:lnTo>
                  <a:lnTo>
                    <a:pt x="133" y="1893"/>
                  </a:lnTo>
                  <a:lnTo>
                    <a:pt x="128" y="1918"/>
                  </a:lnTo>
                  <a:lnTo>
                    <a:pt x="123" y="1943"/>
                  </a:lnTo>
                  <a:lnTo>
                    <a:pt x="123" y="1968"/>
                  </a:lnTo>
                  <a:lnTo>
                    <a:pt x="113" y="2028"/>
                  </a:lnTo>
                  <a:lnTo>
                    <a:pt x="123" y="2053"/>
                  </a:lnTo>
                  <a:lnTo>
                    <a:pt x="148" y="2058"/>
                  </a:lnTo>
                  <a:lnTo>
                    <a:pt x="173" y="2068"/>
                  </a:lnTo>
                  <a:lnTo>
                    <a:pt x="198" y="2058"/>
                  </a:lnTo>
                  <a:lnTo>
                    <a:pt x="203" y="2033"/>
                  </a:lnTo>
                  <a:lnTo>
                    <a:pt x="193" y="2008"/>
                  </a:lnTo>
                  <a:lnTo>
                    <a:pt x="183" y="1983"/>
                  </a:lnTo>
                  <a:lnTo>
                    <a:pt x="183" y="1958"/>
                  </a:lnTo>
                  <a:lnTo>
                    <a:pt x="188" y="1933"/>
                  </a:lnTo>
                  <a:lnTo>
                    <a:pt x="213" y="1913"/>
                  </a:lnTo>
                  <a:lnTo>
                    <a:pt x="238" y="1898"/>
                  </a:lnTo>
                  <a:lnTo>
                    <a:pt x="263" y="1888"/>
                  </a:lnTo>
                  <a:lnTo>
                    <a:pt x="288" y="1873"/>
                  </a:lnTo>
                  <a:lnTo>
                    <a:pt x="313" y="1858"/>
                  </a:lnTo>
                  <a:lnTo>
                    <a:pt x="338" y="1838"/>
                  </a:lnTo>
                  <a:lnTo>
                    <a:pt x="368" y="1833"/>
                  </a:lnTo>
                  <a:lnTo>
                    <a:pt x="393" y="1833"/>
                  </a:lnTo>
                  <a:lnTo>
                    <a:pt x="418" y="1823"/>
                  </a:lnTo>
                  <a:lnTo>
                    <a:pt x="443" y="1813"/>
                  </a:lnTo>
                  <a:lnTo>
                    <a:pt x="468" y="1798"/>
                  </a:lnTo>
                  <a:lnTo>
                    <a:pt x="493" y="1793"/>
                  </a:lnTo>
                  <a:lnTo>
                    <a:pt x="518" y="1768"/>
                  </a:lnTo>
                  <a:lnTo>
                    <a:pt x="523" y="1743"/>
                  </a:lnTo>
                  <a:lnTo>
                    <a:pt x="533" y="1718"/>
                  </a:lnTo>
                  <a:lnTo>
                    <a:pt x="538" y="1693"/>
                  </a:lnTo>
                  <a:lnTo>
                    <a:pt x="543" y="1668"/>
                  </a:lnTo>
                  <a:lnTo>
                    <a:pt x="543" y="1638"/>
                  </a:lnTo>
                  <a:lnTo>
                    <a:pt x="553" y="1613"/>
                  </a:lnTo>
                  <a:lnTo>
                    <a:pt x="568" y="1588"/>
                  </a:lnTo>
                  <a:lnTo>
                    <a:pt x="568" y="1563"/>
                  </a:lnTo>
                  <a:lnTo>
                    <a:pt x="563" y="1538"/>
                  </a:lnTo>
                  <a:lnTo>
                    <a:pt x="563" y="1513"/>
                  </a:lnTo>
                  <a:lnTo>
                    <a:pt x="558" y="1488"/>
                  </a:lnTo>
                  <a:lnTo>
                    <a:pt x="543" y="1513"/>
                  </a:lnTo>
                  <a:lnTo>
                    <a:pt x="543" y="1488"/>
                  </a:lnTo>
                  <a:lnTo>
                    <a:pt x="543" y="1463"/>
                  </a:lnTo>
                  <a:lnTo>
                    <a:pt x="548" y="1438"/>
                  </a:lnTo>
                  <a:lnTo>
                    <a:pt x="548" y="1413"/>
                  </a:lnTo>
                  <a:lnTo>
                    <a:pt x="548" y="1388"/>
                  </a:lnTo>
                  <a:lnTo>
                    <a:pt x="543" y="1363"/>
                  </a:lnTo>
                  <a:lnTo>
                    <a:pt x="533" y="1338"/>
                  </a:lnTo>
                  <a:lnTo>
                    <a:pt x="523" y="1313"/>
                  </a:lnTo>
                  <a:lnTo>
                    <a:pt x="513" y="1288"/>
                  </a:lnTo>
                  <a:lnTo>
                    <a:pt x="488" y="1263"/>
                  </a:lnTo>
                  <a:lnTo>
                    <a:pt x="488" y="1238"/>
                  </a:lnTo>
                  <a:lnTo>
                    <a:pt x="498" y="1213"/>
                  </a:lnTo>
                  <a:lnTo>
                    <a:pt x="513" y="1188"/>
                  </a:lnTo>
                  <a:lnTo>
                    <a:pt x="538" y="1163"/>
                  </a:lnTo>
                  <a:lnTo>
                    <a:pt x="563" y="1148"/>
                  </a:lnTo>
                  <a:lnTo>
                    <a:pt x="593" y="1133"/>
                  </a:lnTo>
                  <a:lnTo>
                    <a:pt x="618" y="1118"/>
                  </a:lnTo>
                  <a:lnTo>
                    <a:pt x="643" y="1093"/>
                  </a:lnTo>
                  <a:lnTo>
                    <a:pt x="668" y="1073"/>
                  </a:lnTo>
                  <a:lnTo>
                    <a:pt x="693" y="1073"/>
                  </a:lnTo>
                  <a:lnTo>
                    <a:pt x="708" y="1048"/>
                  </a:lnTo>
                  <a:lnTo>
                    <a:pt x="723" y="1023"/>
                  </a:lnTo>
                  <a:lnTo>
                    <a:pt x="743" y="998"/>
                  </a:lnTo>
                  <a:lnTo>
                    <a:pt x="768" y="983"/>
                  </a:lnTo>
                  <a:lnTo>
                    <a:pt x="778" y="958"/>
                  </a:lnTo>
                  <a:lnTo>
                    <a:pt x="798" y="933"/>
                  </a:lnTo>
                  <a:lnTo>
                    <a:pt x="823" y="913"/>
                  </a:lnTo>
                  <a:lnTo>
                    <a:pt x="848" y="903"/>
                  </a:lnTo>
                  <a:lnTo>
                    <a:pt x="873" y="893"/>
                  </a:lnTo>
                  <a:lnTo>
                    <a:pt x="898" y="878"/>
                  </a:lnTo>
                  <a:lnTo>
                    <a:pt x="928" y="863"/>
                  </a:lnTo>
                  <a:lnTo>
                    <a:pt x="953" y="848"/>
                  </a:lnTo>
                  <a:lnTo>
                    <a:pt x="978" y="843"/>
                  </a:lnTo>
                  <a:lnTo>
                    <a:pt x="1003" y="843"/>
                  </a:lnTo>
                  <a:lnTo>
                    <a:pt x="1028" y="843"/>
                  </a:lnTo>
                  <a:lnTo>
                    <a:pt x="1053" y="823"/>
                  </a:lnTo>
                  <a:lnTo>
                    <a:pt x="1078" y="798"/>
                  </a:lnTo>
                  <a:lnTo>
                    <a:pt x="1098" y="773"/>
                  </a:lnTo>
                  <a:lnTo>
                    <a:pt x="1118" y="748"/>
                  </a:lnTo>
                  <a:lnTo>
                    <a:pt x="1143" y="728"/>
                  </a:lnTo>
                  <a:lnTo>
                    <a:pt x="1168" y="703"/>
                  </a:lnTo>
                  <a:lnTo>
                    <a:pt x="1193" y="683"/>
                  </a:lnTo>
                  <a:lnTo>
                    <a:pt x="1218" y="658"/>
                  </a:lnTo>
                  <a:lnTo>
                    <a:pt x="1223" y="633"/>
                  </a:lnTo>
                  <a:lnTo>
                    <a:pt x="1233" y="598"/>
                  </a:lnTo>
                  <a:lnTo>
                    <a:pt x="1238" y="573"/>
                  </a:lnTo>
                  <a:lnTo>
                    <a:pt x="1243" y="548"/>
                  </a:lnTo>
                  <a:lnTo>
                    <a:pt x="1268" y="528"/>
                  </a:lnTo>
                  <a:lnTo>
                    <a:pt x="1268" y="503"/>
                  </a:lnTo>
                  <a:lnTo>
                    <a:pt x="1248" y="478"/>
                  </a:lnTo>
                  <a:lnTo>
                    <a:pt x="1233" y="453"/>
                  </a:lnTo>
                  <a:lnTo>
                    <a:pt x="1238" y="423"/>
                  </a:lnTo>
                  <a:lnTo>
                    <a:pt x="1243" y="398"/>
                  </a:lnTo>
                  <a:lnTo>
                    <a:pt x="1253" y="368"/>
                  </a:lnTo>
                  <a:lnTo>
                    <a:pt x="1248" y="343"/>
                  </a:lnTo>
                  <a:lnTo>
                    <a:pt x="1243" y="318"/>
                  </a:lnTo>
                  <a:lnTo>
                    <a:pt x="1258" y="293"/>
                  </a:lnTo>
                  <a:lnTo>
                    <a:pt x="1258" y="268"/>
                  </a:lnTo>
                  <a:lnTo>
                    <a:pt x="1253" y="243"/>
                  </a:lnTo>
                  <a:lnTo>
                    <a:pt x="1253" y="218"/>
                  </a:lnTo>
                  <a:lnTo>
                    <a:pt x="1258" y="193"/>
                  </a:lnTo>
                  <a:lnTo>
                    <a:pt x="1268" y="168"/>
                  </a:lnTo>
                  <a:lnTo>
                    <a:pt x="1263" y="143"/>
                  </a:lnTo>
                  <a:lnTo>
                    <a:pt x="1253" y="118"/>
                  </a:lnTo>
                  <a:lnTo>
                    <a:pt x="1258" y="93"/>
                  </a:lnTo>
                  <a:lnTo>
                    <a:pt x="1268" y="68"/>
                  </a:lnTo>
                  <a:lnTo>
                    <a:pt x="1268" y="43"/>
                  </a:lnTo>
                  <a:lnTo>
                    <a:pt x="1273" y="18"/>
                  </a:lnTo>
                  <a:lnTo>
                    <a:pt x="1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36680" y="3300480"/>
              <a:ext cx="510480" cy="537840"/>
            </a:xfrm>
            <a:custGeom>
              <a:avLst/>
              <a:gdLst/>
              <a:ahLst/>
              <a:rect l="l" t="t" r="r" b="b"/>
              <a:pathLst>
                <a:path w="1418" h="1494">
                  <a:moveTo>
                    <a:pt x="1207" y="125"/>
                  </a:moveTo>
                  <a:lnTo>
                    <a:pt x="1177" y="115"/>
                  </a:lnTo>
                  <a:lnTo>
                    <a:pt x="1152" y="115"/>
                  </a:lnTo>
                  <a:lnTo>
                    <a:pt x="1127" y="115"/>
                  </a:lnTo>
                  <a:lnTo>
                    <a:pt x="1102" y="115"/>
                  </a:lnTo>
                  <a:lnTo>
                    <a:pt x="1077" y="110"/>
                  </a:lnTo>
                  <a:lnTo>
                    <a:pt x="1047" y="110"/>
                  </a:lnTo>
                  <a:lnTo>
                    <a:pt x="1022" y="105"/>
                  </a:lnTo>
                  <a:lnTo>
                    <a:pt x="997" y="100"/>
                  </a:lnTo>
                  <a:lnTo>
                    <a:pt x="972" y="100"/>
                  </a:lnTo>
                  <a:lnTo>
                    <a:pt x="947" y="95"/>
                  </a:lnTo>
                  <a:lnTo>
                    <a:pt x="917" y="80"/>
                  </a:lnTo>
                  <a:lnTo>
                    <a:pt x="892" y="85"/>
                  </a:lnTo>
                  <a:lnTo>
                    <a:pt x="867" y="85"/>
                  </a:lnTo>
                  <a:lnTo>
                    <a:pt x="842" y="70"/>
                  </a:lnTo>
                  <a:lnTo>
                    <a:pt x="817" y="60"/>
                  </a:lnTo>
                  <a:lnTo>
                    <a:pt x="792" y="45"/>
                  </a:lnTo>
                  <a:lnTo>
                    <a:pt x="342" y="55"/>
                  </a:lnTo>
                  <a:lnTo>
                    <a:pt x="327" y="50"/>
                  </a:lnTo>
                  <a:lnTo>
                    <a:pt x="302" y="50"/>
                  </a:lnTo>
                  <a:lnTo>
                    <a:pt x="272" y="45"/>
                  </a:lnTo>
                  <a:lnTo>
                    <a:pt x="247" y="35"/>
                  </a:lnTo>
                  <a:lnTo>
                    <a:pt x="222" y="20"/>
                  </a:lnTo>
                  <a:lnTo>
                    <a:pt x="197" y="5"/>
                  </a:lnTo>
                  <a:lnTo>
                    <a:pt x="167" y="0"/>
                  </a:lnTo>
                  <a:lnTo>
                    <a:pt x="142" y="5"/>
                  </a:lnTo>
                  <a:lnTo>
                    <a:pt x="117" y="20"/>
                  </a:lnTo>
                  <a:lnTo>
                    <a:pt x="92" y="30"/>
                  </a:lnTo>
                  <a:lnTo>
                    <a:pt x="67" y="25"/>
                  </a:lnTo>
                  <a:lnTo>
                    <a:pt x="42" y="25"/>
                  </a:lnTo>
                  <a:lnTo>
                    <a:pt x="17" y="30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0" y="93"/>
                  </a:lnTo>
                  <a:lnTo>
                    <a:pt x="0" y="118"/>
                  </a:lnTo>
                  <a:lnTo>
                    <a:pt x="25" y="143"/>
                  </a:lnTo>
                  <a:lnTo>
                    <a:pt x="35" y="168"/>
                  </a:lnTo>
                  <a:lnTo>
                    <a:pt x="65" y="193"/>
                  </a:lnTo>
                  <a:lnTo>
                    <a:pt x="85" y="218"/>
                  </a:lnTo>
                  <a:lnTo>
                    <a:pt x="100" y="243"/>
                  </a:lnTo>
                  <a:lnTo>
                    <a:pt x="115" y="268"/>
                  </a:lnTo>
                  <a:lnTo>
                    <a:pt x="130" y="293"/>
                  </a:lnTo>
                  <a:lnTo>
                    <a:pt x="145" y="318"/>
                  </a:lnTo>
                  <a:lnTo>
                    <a:pt x="155" y="343"/>
                  </a:lnTo>
                  <a:lnTo>
                    <a:pt x="165" y="368"/>
                  </a:lnTo>
                  <a:lnTo>
                    <a:pt x="180" y="393"/>
                  </a:lnTo>
                  <a:lnTo>
                    <a:pt x="195" y="418"/>
                  </a:lnTo>
                  <a:lnTo>
                    <a:pt x="200" y="443"/>
                  </a:lnTo>
                  <a:lnTo>
                    <a:pt x="215" y="468"/>
                  </a:lnTo>
                  <a:lnTo>
                    <a:pt x="240" y="483"/>
                  </a:lnTo>
                  <a:lnTo>
                    <a:pt x="255" y="508"/>
                  </a:lnTo>
                  <a:lnTo>
                    <a:pt x="260" y="533"/>
                  </a:lnTo>
                  <a:lnTo>
                    <a:pt x="270" y="558"/>
                  </a:lnTo>
                  <a:lnTo>
                    <a:pt x="275" y="583"/>
                  </a:lnTo>
                  <a:lnTo>
                    <a:pt x="295" y="608"/>
                  </a:lnTo>
                  <a:lnTo>
                    <a:pt x="310" y="633"/>
                  </a:lnTo>
                  <a:lnTo>
                    <a:pt x="325" y="658"/>
                  </a:lnTo>
                  <a:lnTo>
                    <a:pt x="345" y="683"/>
                  </a:lnTo>
                  <a:lnTo>
                    <a:pt x="355" y="708"/>
                  </a:lnTo>
                  <a:lnTo>
                    <a:pt x="355" y="733"/>
                  </a:lnTo>
                  <a:lnTo>
                    <a:pt x="340" y="763"/>
                  </a:lnTo>
                  <a:lnTo>
                    <a:pt x="345" y="788"/>
                  </a:lnTo>
                  <a:lnTo>
                    <a:pt x="345" y="813"/>
                  </a:lnTo>
                  <a:lnTo>
                    <a:pt x="350" y="838"/>
                  </a:lnTo>
                  <a:lnTo>
                    <a:pt x="350" y="863"/>
                  </a:lnTo>
                  <a:lnTo>
                    <a:pt x="355" y="888"/>
                  </a:lnTo>
                  <a:lnTo>
                    <a:pt x="360" y="913"/>
                  </a:lnTo>
                  <a:lnTo>
                    <a:pt x="370" y="938"/>
                  </a:lnTo>
                  <a:lnTo>
                    <a:pt x="380" y="963"/>
                  </a:lnTo>
                  <a:lnTo>
                    <a:pt x="395" y="988"/>
                  </a:lnTo>
                  <a:lnTo>
                    <a:pt x="400" y="1013"/>
                  </a:lnTo>
                  <a:lnTo>
                    <a:pt x="400" y="1038"/>
                  </a:lnTo>
                  <a:lnTo>
                    <a:pt x="400" y="1063"/>
                  </a:lnTo>
                  <a:lnTo>
                    <a:pt x="400" y="1088"/>
                  </a:lnTo>
                  <a:lnTo>
                    <a:pt x="405" y="1113"/>
                  </a:lnTo>
                  <a:lnTo>
                    <a:pt x="405" y="1138"/>
                  </a:lnTo>
                  <a:lnTo>
                    <a:pt x="415" y="1163"/>
                  </a:lnTo>
                  <a:lnTo>
                    <a:pt x="430" y="1188"/>
                  </a:lnTo>
                  <a:lnTo>
                    <a:pt x="440" y="1213"/>
                  </a:lnTo>
                  <a:lnTo>
                    <a:pt x="440" y="1238"/>
                  </a:lnTo>
                  <a:lnTo>
                    <a:pt x="445" y="1263"/>
                  </a:lnTo>
                  <a:lnTo>
                    <a:pt x="455" y="1288"/>
                  </a:lnTo>
                  <a:lnTo>
                    <a:pt x="470" y="1313"/>
                  </a:lnTo>
                  <a:lnTo>
                    <a:pt x="485" y="1338"/>
                  </a:lnTo>
                  <a:lnTo>
                    <a:pt x="495" y="1363"/>
                  </a:lnTo>
                  <a:lnTo>
                    <a:pt x="510" y="1388"/>
                  </a:lnTo>
                  <a:lnTo>
                    <a:pt x="555" y="1403"/>
                  </a:lnTo>
                  <a:lnTo>
                    <a:pt x="570" y="1428"/>
                  </a:lnTo>
                  <a:lnTo>
                    <a:pt x="595" y="1453"/>
                  </a:lnTo>
                  <a:lnTo>
                    <a:pt x="620" y="1433"/>
                  </a:lnTo>
                  <a:lnTo>
                    <a:pt x="640" y="1408"/>
                  </a:lnTo>
                  <a:lnTo>
                    <a:pt x="655" y="1383"/>
                  </a:lnTo>
                  <a:lnTo>
                    <a:pt x="680" y="1393"/>
                  </a:lnTo>
                  <a:lnTo>
                    <a:pt x="700" y="1418"/>
                  </a:lnTo>
                  <a:lnTo>
                    <a:pt x="700" y="1443"/>
                  </a:lnTo>
                  <a:lnTo>
                    <a:pt x="715" y="1468"/>
                  </a:lnTo>
                  <a:lnTo>
                    <a:pt x="740" y="1473"/>
                  </a:lnTo>
                  <a:lnTo>
                    <a:pt x="765" y="1478"/>
                  </a:lnTo>
                  <a:lnTo>
                    <a:pt x="790" y="1493"/>
                  </a:lnTo>
                  <a:lnTo>
                    <a:pt x="815" y="1493"/>
                  </a:lnTo>
                  <a:lnTo>
                    <a:pt x="840" y="1493"/>
                  </a:lnTo>
                  <a:lnTo>
                    <a:pt x="865" y="1493"/>
                  </a:lnTo>
                  <a:lnTo>
                    <a:pt x="890" y="1488"/>
                  </a:lnTo>
                  <a:lnTo>
                    <a:pt x="915" y="1483"/>
                  </a:lnTo>
                  <a:lnTo>
                    <a:pt x="940" y="1468"/>
                  </a:lnTo>
                  <a:lnTo>
                    <a:pt x="955" y="1443"/>
                  </a:lnTo>
                  <a:lnTo>
                    <a:pt x="980" y="1433"/>
                  </a:lnTo>
                  <a:lnTo>
                    <a:pt x="1000" y="1433"/>
                  </a:lnTo>
                  <a:lnTo>
                    <a:pt x="995" y="623"/>
                  </a:lnTo>
                  <a:lnTo>
                    <a:pt x="1115" y="618"/>
                  </a:lnTo>
                  <a:lnTo>
                    <a:pt x="1120" y="158"/>
                  </a:lnTo>
                  <a:lnTo>
                    <a:pt x="1195" y="158"/>
                  </a:lnTo>
                  <a:lnTo>
                    <a:pt x="1295" y="128"/>
                  </a:lnTo>
                  <a:lnTo>
                    <a:pt x="1370" y="118"/>
                  </a:lnTo>
                  <a:lnTo>
                    <a:pt x="1412" y="125"/>
                  </a:lnTo>
                  <a:lnTo>
                    <a:pt x="1412" y="100"/>
                  </a:lnTo>
                  <a:lnTo>
                    <a:pt x="1417" y="75"/>
                  </a:lnTo>
                  <a:lnTo>
                    <a:pt x="1402" y="65"/>
                  </a:lnTo>
                  <a:lnTo>
                    <a:pt x="1207" y="1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39120" y="3699000"/>
              <a:ext cx="53280" cy="756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145" y="145"/>
                  </a:moveTo>
                  <a:lnTo>
                    <a:pt x="115" y="150"/>
                  </a:lnTo>
                  <a:lnTo>
                    <a:pt x="105" y="210"/>
                  </a:lnTo>
                  <a:lnTo>
                    <a:pt x="75" y="210"/>
                  </a:lnTo>
                  <a:lnTo>
                    <a:pt x="45" y="200"/>
                  </a:lnTo>
                  <a:lnTo>
                    <a:pt x="25" y="175"/>
                  </a:lnTo>
                  <a:lnTo>
                    <a:pt x="5" y="150"/>
                  </a:lnTo>
                  <a:lnTo>
                    <a:pt x="0" y="125"/>
                  </a:lnTo>
                  <a:lnTo>
                    <a:pt x="5" y="100"/>
                  </a:lnTo>
                  <a:lnTo>
                    <a:pt x="15" y="75"/>
                  </a:lnTo>
                  <a:lnTo>
                    <a:pt x="30" y="50"/>
                  </a:lnTo>
                  <a:lnTo>
                    <a:pt x="55" y="25"/>
                  </a:lnTo>
                  <a:lnTo>
                    <a:pt x="75" y="0"/>
                  </a:lnTo>
                  <a:lnTo>
                    <a:pt x="100" y="5"/>
                  </a:lnTo>
                  <a:lnTo>
                    <a:pt x="125" y="25"/>
                  </a:lnTo>
                  <a:lnTo>
                    <a:pt x="150" y="30"/>
                  </a:lnTo>
                  <a:lnTo>
                    <a:pt x="150" y="55"/>
                  </a:lnTo>
                  <a:lnTo>
                    <a:pt x="140" y="115"/>
                  </a:lnTo>
                  <a:lnTo>
                    <a:pt x="150" y="140"/>
                  </a:lnTo>
                  <a:lnTo>
                    <a:pt x="145" y="1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7480" y="3835440"/>
              <a:ext cx="94680" cy="77400"/>
            </a:xfrm>
            <a:custGeom>
              <a:avLst/>
              <a:gdLst/>
              <a:ahLst/>
              <a:rect l="l" t="t" r="r" b="b"/>
              <a:pathLst>
                <a:path w="266" h="216">
                  <a:moveTo>
                    <a:pt x="185" y="0"/>
                  </a:moveTo>
                  <a:lnTo>
                    <a:pt x="155" y="5"/>
                  </a:lnTo>
                  <a:lnTo>
                    <a:pt x="130" y="10"/>
                  </a:lnTo>
                  <a:lnTo>
                    <a:pt x="100" y="25"/>
                  </a:lnTo>
                  <a:lnTo>
                    <a:pt x="75" y="25"/>
                  </a:lnTo>
                  <a:lnTo>
                    <a:pt x="60" y="50"/>
                  </a:lnTo>
                  <a:lnTo>
                    <a:pt x="55" y="75"/>
                  </a:lnTo>
                  <a:lnTo>
                    <a:pt x="30" y="85"/>
                  </a:lnTo>
                  <a:lnTo>
                    <a:pt x="5" y="95"/>
                  </a:lnTo>
                  <a:lnTo>
                    <a:pt x="0" y="120"/>
                  </a:lnTo>
                  <a:lnTo>
                    <a:pt x="15" y="145"/>
                  </a:lnTo>
                  <a:lnTo>
                    <a:pt x="30" y="170"/>
                  </a:lnTo>
                  <a:lnTo>
                    <a:pt x="40" y="195"/>
                  </a:lnTo>
                  <a:lnTo>
                    <a:pt x="65" y="205"/>
                  </a:lnTo>
                  <a:lnTo>
                    <a:pt x="90" y="195"/>
                  </a:lnTo>
                  <a:lnTo>
                    <a:pt x="115" y="205"/>
                  </a:lnTo>
                  <a:lnTo>
                    <a:pt x="140" y="200"/>
                  </a:lnTo>
                  <a:lnTo>
                    <a:pt x="165" y="210"/>
                  </a:lnTo>
                  <a:lnTo>
                    <a:pt x="190" y="215"/>
                  </a:lnTo>
                  <a:lnTo>
                    <a:pt x="215" y="205"/>
                  </a:lnTo>
                  <a:lnTo>
                    <a:pt x="220" y="180"/>
                  </a:lnTo>
                  <a:lnTo>
                    <a:pt x="220" y="155"/>
                  </a:lnTo>
                  <a:lnTo>
                    <a:pt x="220" y="130"/>
                  </a:lnTo>
                  <a:lnTo>
                    <a:pt x="240" y="105"/>
                  </a:lnTo>
                  <a:lnTo>
                    <a:pt x="265" y="85"/>
                  </a:lnTo>
                  <a:lnTo>
                    <a:pt x="250" y="60"/>
                  </a:lnTo>
                  <a:lnTo>
                    <a:pt x="230" y="30"/>
                  </a:lnTo>
                  <a:lnTo>
                    <a:pt x="210" y="5"/>
                  </a:lnTo>
                  <a:lnTo>
                    <a:pt x="1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24920" y="3240360"/>
              <a:ext cx="332640" cy="310680"/>
            </a:xfrm>
            <a:custGeom>
              <a:avLst/>
              <a:gdLst/>
              <a:ahLst/>
              <a:rect l="l" t="t" r="r" b="b"/>
              <a:pathLst>
                <a:path w="926" h="864">
                  <a:moveTo>
                    <a:pt x="680" y="863"/>
                  </a:moveTo>
                  <a:lnTo>
                    <a:pt x="655" y="853"/>
                  </a:lnTo>
                  <a:lnTo>
                    <a:pt x="630" y="848"/>
                  </a:lnTo>
                  <a:lnTo>
                    <a:pt x="605" y="848"/>
                  </a:lnTo>
                  <a:lnTo>
                    <a:pt x="575" y="838"/>
                  </a:lnTo>
                  <a:lnTo>
                    <a:pt x="550" y="833"/>
                  </a:lnTo>
                  <a:lnTo>
                    <a:pt x="525" y="828"/>
                  </a:lnTo>
                  <a:lnTo>
                    <a:pt x="500" y="823"/>
                  </a:lnTo>
                  <a:lnTo>
                    <a:pt x="475" y="818"/>
                  </a:lnTo>
                  <a:lnTo>
                    <a:pt x="450" y="823"/>
                  </a:lnTo>
                  <a:lnTo>
                    <a:pt x="425" y="808"/>
                  </a:lnTo>
                  <a:lnTo>
                    <a:pt x="420" y="783"/>
                  </a:lnTo>
                  <a:lnTo>
                    <a:pt x="395" y="768"/>
                  </a:lnTo>
                  <a:lnTo>
                    <a:pt x="370" y="758"/>
                  </a:lnTo>
                  <a:lnTo>
                    <a:pt x="345" y="753"/>
                  </a:lnTo>
                  <a:lnTo>
                    <a:pt x="315" y="733"/>
                  </a:lnTo>
                  <a:lnTo>
                    <a:pt x="305" y="708"/>
                  </a:lnTo>
                  <a:lnTo>
                    <a:pt x="285" y="683"/>
                  </a:lnTo>
                  <a:lnTo>
                    <a:pt x="280" y="658"/>
                  </a:lnTo>
                  <a:lnTo>
                    <a:pt x="285" y="633"/>
                  </a:lnTo>
                  <a:lnTo>
                    <a:pt x="265" y="608"/>
                  </a:lnTo>
                  <a:lnTo>
                    <a:pt x="240" y="588"/>
                  </a:lnTo>
                  <a:lnTo>
                    <a:pt x="215" y="568"/>
                  </a:lnTo>
                  <a:lnTo>
                    <a:pt x="190" y="563"/>
                  </a:lnTo>
                  <a:lnTo>
                    <a:pt x="165" y="538"/>
                  </a:lnTo>
                  <a:lnTo>
                    <a:pt x="145" y="513"/>
                  </a:lnTo>
                  <a:lnTo>
                    <a:pt x="120" y="483"/>
                  </a:lnTo>
                  <a:lnTo>
                    <a:pt x="105" y="453"/>
                  </a:lnTo>
                  <a:lnTo>
                    <a:pt x="85" y="428"/>
                  </a:lnTo>
                  <a:lnTo>
                    <a:pt x="70" y="403"/>
                  </a:lnTo>
                  <a:lnTo>
                    <a:pt x="60" y="378"/>
                  </a:lnTo>
                  <a:lnTo>
                    <a:pt x="60" y="353"/>
                  </a:lnTo>
                  <a:lnTo>
                    <a:pt x="45" y="328"/>
                  </a:lnTo>
                  <a:lnTo>
                    <a:pt x="20" y="308"/>
                  </a:lnTo>
                  <a:lnTo>
                    <a:pt x="0" y="283"/>
                  </a:lnTo>
                  <a:lnTo>
                    <a:pt x="2" y="270"/>
                  </a:lnTo>
                  <a:lnTo>
                    <a:pt x="27" y="275"/>
                  </a:lnTo>
                  <a:lnTo>
                    <a:pt x="57" y="275"/>
                  </a:lnTo>
                  <a:lnTo>
                    <a:pt x="82" y="270"/>
                  </a:lnTo>
                  <a:lnTo>
                    <a:pt x="107" y="280"/>
                  </a:lnTo>
                  <a:lnTo>
                    <a:pt x="132" y="280"/>
                  </a:lnTo>
                  <a:lnTo>
                    <a:pt x="162" y="290"/>
                  </a:lnTo>
                  <a:lnTo>
                    <a:pt x="187" y="295"/>
                  </a:lnTo>
                  <a:lnTo>
                    <a:pt x="212" y="285"/>
                  </a:lnTo>
                  <a:lnTo>
                    <a:pt x="217" y="260"/>
                  </a:lnTo>
                  <a:lnTo>
                    <a:pt x="227" y="230"/>
                  </a:lnTo>
                  <a:lnTo>
                    <a:pt x="247" y="205"/>
                  </a:lnTo>
                  <a:lnTo>
                    <a:pt x="267" y="180"/>
                  </a:lnTo>
                  <a:lnTo>
                    <a:pt x="297" y="155"/>
                  </a:lnTo>
                  <a:lnTo>
                    <a:pt x="322" y="140"/>
                  </a:lnTo>
                  <a:lnTo>
                    <a:pt x="347" y="130"/>
                  </a:lnTo>
                  <a:lnTo>
                    <a:pt x="372" y="120"/>
                  </a:lnTo>
                  <a:lnTo>
                    <a:pt x="397" y="110"/>
                  </a:lnTo>
                  <a:lnTo>
                    <a:pt x="422" y="105"/>
                  </a:lnTo>
                  <a:lnTo>
                    <a:pt x="447" y="85"/>
                  </a:lnTo>
                  <a:lnTo>
                    <a:pt x="452" y="60"/>
                  </a:lnTo>
                  <a:lnTo>
                    <a:pt x="452" y="35"/>
                  </a:lnTo>
                  <a:lnTo>
                    <a:pt x="477" y="15"/>
                  </a:lnTo>
                  <a:lnTo>
                    <a:pt x="502" y="5"/>
                  </a:lnTo>
                  <a:lnTo>
                    <a:pt x="532" y="0"/>
                  </a:lnTo>
                  <a:lnTo>
                    <a:pt x="562" y="0"/>
                  </a:lnTo>
                  <a:lnTo>
                    <a:pt x="587" y="0"/>
                  </a:lnTo>
                  <a:lnTo>
                    <a:pt x="612" y="5"/>
                  </a:lnTo>
                  <a:lnTo>
                    <a:pt x="637" y="5"/>
                  </a:lnTo>
                  <a:lnTo>
                    <a:pt x="635" y="13"/>
                  </a:lnTo>
                  <a:lnTo>
                    <a:pt x="635" y="48"/>
                  </a:lnTo>
                  <a:lnTo>
                    <a:pt x="660" y="48"/>
                  </a:lnTo>
                  <a:lnTo>
                    <a:pt x="690" y="48"/>
                  </a:lnTo>
                  <a:lnTo>
                    <a:pt x="715" y="43"/>
                  </a:lnTo>
                  <a:lnTo>
                    <a:pt x="740" y="63"/>
                  </a:lnTo>
                  <a:lnTo>
                    <a:pt x="775" y="93"/>
                  </a:lnTo>
                  <a:lnTo>
                    <a:pt x="800" y="103"/>
                  </a:lnTo>
                  <a:lnTo>
                    <a:pt x="825" y="118"/>
                  </a:lnTo>
                  <a:lnTo>
                    <a:pt x="850" y="123"/>
                  </a:lnTo>
                  <a:lnTo>
                    <a:pt x="875" y="123"/>
                  </a:lnTo>
                  <a:lnTo>
                    <a:pt x="900" y="143"/>
                  </a:lnTo>
                  <a:lnTo>
                    <a:pt x="925" y="158"/>
                  </a:lnTo>
                  <a:lnTo>
                    <a:pt x="920" y="188"/>
                  </a:lnTo>
                  <a:lnTo>
                    <a:pt x="920" y="213"/>
                  </a:lnTo>
                  <a:lnTo>
                    <a:pt x="920" y="238"/>
                  </a:lnTo>
                  <a:lnTo>
                    <a:pt x="920" y="263"/>
                  </a:lnTo>
                  <a:lnTo>
                    <a:pt x="915" y="293"/>
                  </a:lnTo>
                  <a:lnTo>
                    <a:pt x="920" y="318"/>
                  </a:lnTo>
                  <a:lnTo>
                    <a:pt x="915" y="343"/>
                  </a:lnTo>
                  <a:lnTo>
                    <a:pt x="900" y="368"/>
                  </a:lnTo>
                  <a:lnTo>
                    <a:pt x="885" y="393"/>
                  </a:lnTo>
                  <a:lnTo>
                    <a:pt x="860" y="413"/>
                  </a:lnTo>
                  <a:lnTo>
                    <a:pt x="870" y="438"/>
                  </a:lnTo>
                  <a:lnTo>
                    <a:pt x="885" y="463"/>
                  </a:lnTo>
                  <a:lnTo>
                    <a:pt x="880" y="488"/>
                  </a:lnTo>
                  <a:lnTo>
                    <a:pt x="895" y="518"/>
                  </a:lnTo>
                  <a:lnTo>
                    <a:pt x="900" y="543"/>
                  </a:lnTo>
                  <a:lnTo>
                    <a:pt x="900" y="568"/>
                  </a:lnTo>
                  <a:lnTo>
                    <a:pt x="895" y="593"/>
                  </a:lnTo>
                  <a:lnTo>
                    <a:pt x="885" y="618"/>
                  </a:lnTo>
                  <a:lnTo>
                    <a:pt x="860" y="633"/>
                  </a:lnTo>
                  <a:lnTo>
                    <a:pt x="835" y="653"/>
                  </a:lnTo>
                  <a:lnTo>
                    <a:pt x="825" y="678"/>
                  </a:lnTo>
                  <a:lnTo>
                    <a:pt x="690" y="858"/>
                  </a:lnTo>
                  <a:lnTo>
                    <a:pt x="680" y="8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50880" y="3535200"/>
              <a:ext cx="670320" cy="563400"/>
            </a:xfrm>
            <a:custGeom>
              <a:avLst/>
              <a:gdLst/>
              <a:ahLst/>
              <a:rect l="l" t="t" r="r" b="b"/>
              <a:pathLst>
                <a:path w="1866" h="1566">
                  <a:moveTo>
                    <a:pt x="1865" y="615"/>
                  </a:moveTo>
                  <a:lnTo>
                    <a:pt x="1860" y="640"/>
                  </a:lnTo>
                  <a:lnTo>
                    <a:pt x="1845" y="665"/>
                  </a:lnTo>
                  <a:lnTo>
                    <a:pt x="1840" y="690"/>
                  </a:lnTo>
                  <a:lnTo>
                    <a:pt x="1840" y="715"/>
                  </a:lnTo>
                  <a:lnTo>
                    <a:pt x="1830" y="770"/>
                  </a:lnTo>
                  <a:lnTo>
                    <a:pt x="1815" y="795"/>
                  </a:lnTo>
                  <a:lnTo>
                    <a:pt x="1800" y="820"/>
                  </a:lnTo>
                  <a:lnTo>
                    <a:pt x="1775" y="845"/>
                  </a:lnTo>
                  <a:lnTo>
                    <a:pt x="1750" y="870"/>
                  </a:lnTo>
                  <a:lnTo>
                    <a:pt x="1725" y="890"/>
                  </a:lnTo>
                  <a:lnTo>
                    <a:pt x="1700" y="910"/>
                  </a:lnTo>
                  <a:lnTo>
                    <a:pt x="1675" y="935"/>
                  </a:lnTo>
                  <a:lnTo>
                    <a:pt x="1650" y="960"/>
                  </a:lnTo>
                  <a:lnTo>
                    <a:pt x="1625" y="985"/>
                  </a:lnTo>
                  <a:lnTo>
                    <a:pt x="1610" y="1010"/>
                  </a:lnTo>
                  <a:lnTo>
                    <a:pt x="1590" y="1035"/>
                  </a:lnTo>
                  <a:lnTo>
                    <a:pt x="1570" y="1060"/>
                  </a:lnTo>
                  <a:lnTo>
                    <a:pt x="1555" y="1085"/>
                  </a:lnTo>
                  <a:lnTo>
                    <a:pt x="1545" y="1110"/>
                  </a:lnTo>
                  <a:lnTo>
                    <a:pt x="1535" y="1135"/>
                  </a:lnTo>
                  <a:lnTo>
                    <a:pt x="1510" y="1155"/>
                  </a:lnTo>
                  <a:lnTo>
                    <a:pt x="1485" y="1170"/>
                  </a:lnTo>
                  <a:lnTo>
                    <a:pt x="1460" y="1185"/>
                  </a:lnTo>
                  <a:lnTo>
                    <a:pt x="1435" y="1200"/>
                  </a:lnTo>
                  <a:lnTo>
                    <a:pt x="1420" y="1225"/>
                  </a:lnTo>
                  <a:lnTo>
                    <a:pt x="1395" y="1245"/>
                  </a:lnTo>
                  <a:lnTo>
                    <a:pt x="1370" y="1270"/>
                  </a:lnTo>
                  <a:lnTo>
                    <a:pt x="1345" y="1285"/>
                  </a:lnTo>
                  <a:lnTo>
                    <a:pt x="1320" y="1305"/>
                  </a:lnTo>
                  <a:lnTo>
                    <a:pt x="1295" y="1320"/>
                  </a:lnTo>
                  <a:lnTo>
                    <a:pt x="1270" y="1340"/>
                  </a:lnTo>
                  <a:lnTo>
                    <a:pt x="1250" y="1365"/>
                  </a:lnTo>
                  <a:lnTo>
                    <a:pt x="1225" y="1390"/>
                  </a:lnTo>
                  <a:lnTo>
                    <a:pt x="1200" y="1390"/>
                  </a:lnTo>
                  <a:lnTo>
                    <a:pt x="1175" y="1400"/>
                  </a:lnTo>
                  <a:lnTo>
                    <a:pt x="1150" y="1420"/>
                  </a:lnTo>
                  <a:lnTo>
                    <a:pt x="1125" y="1425"/>
                  </a:lnTo>
                  <a:lnTo>
                    <a:pt x="1095" y="1440"/>
                  </a:lnTo>
                  <a:lnTo>
                    <a:pt x="1065" y="1440"/>
                  </a:lnTo>
                  <a:lnTo>
                    <a:pt x="1040" y="1435"/>
                  </a:lnTo>
                  <a:lnTo>
                    <a:pt x="1015" y="1450"/>
                  </a:lnTo>
                  <a:lnTo>
                    <a:pt x="990" y="1470"/>
                  </a:lnTo>
                  <a:lnTo>
                    <a:pt x="965" y="1465"/>
                  </a:lnTo>
                  <a:lnTo>
                    <a:pt x="940" y="1470"/>
                  </a:lnTo>
                  <a:lnTo>
                    <a:pt x="915" y="1485"/>
                  </a:lnTo>
                  <a:lnTo>
                    <a:pt x="890" y="1480"/>
                  </a:lnTo>
                  <a:lnTo>
                    <a:pt x="865" y="1480"/>
                  </a:lnTo>
                  <a:lnTo>
                    <a:pt x="840" y="1475"/>
                  </a:lnTo>
                  <a:lnTo>
                    <a:pt x="815" y="1475"/>
                  </a:lnTo>
                  <a:lnTo>
                    <a:pt x="790" y="1465"/>
                  </a:lnTo>
                  <a:lnTo>
                    <a:pt x="750" y="1475"/>
                  </a:lnTo>
                  <a:lnTo>
                    <a:pt x="725" y="1475"/>
                  </a:lnTo>
                  <a:lnTo>
                    <a:pt x="700" y="1475"/>
                  </a:lnTo>
                  <a:lnTo>
                    <a:pt x="675" y="1480"/>
                  </a:lnTo>
                  <a:lnTo>
                    <a:pt x="650" y="1470"/>
                  </a:lnTo>
                  <a:lnTo>
                    <a:pt x="630" y="1490"/>
                  </a:lnTo>
                  <a:lnTo>
                    <a:pt x="610" y="1515"/>
                  </a:lnTo>
                  <a:lnTo>
                    <a:pt x="585" y="1515"/>
                  </a:lnTo>
                  <a:lnTo>
                    <a:pt x="560" y="1510"/>
                  </a:lnTo>
                  <a:lnTo>
                    <a:pt x="535" y="1515"/>
                  </a:lnTo>
                  <a:lnTo>
                    <a:pt x="510" y="1520"/>
                  </a:lnTo>
                  <a:lnTo>
                    <a:pt x="485" y="1520"/>
                  </a:lnTo>
                  <a:lnTo>
                    <a:pt x="460" y="1525"/>
                  </a:lnTo>
                  <a:lnTo>
                    <a:pt x="440" y="1550"/>
                  </a:lnTo>
                  <a:lnTo>
                    <a:pt x="415" y="1565"/>
                  </a:lnTo>
                  <a:lnTo>
                    <a:pt x="390" y="1565"/>
                  </a:lnTo>
                  <a:lnTo>
                    <a:pt x="365" y="1565"/>
                  </a:lnTo>
                  <a:lnTo>
                    <a:pt x="340" y="1550"/>
                  </a:lnTo>
                  <a:lnTo>
                    <a:pt x="315" y="1525"/>
                  </a:lnTo>
                  <a:lnTo>
                    <a:pt x="290" y="1520"/>
                  </a:lnTo>
                  <a:lnTo>
                    <a:pt x="270" y="1495"/>
                  </a:lnTo>
                  <a:lnTo>
                    <a:pt x="260" y="1470"/>
                  </a:lnTo>
                  <a:lnTo>
                    <a:pt x="235" y="1450"/>
                  </a:lnTo>
                  <a:lnTo>
                    <a:pt x="230" y="1425"/>
                  </a:lnTo>
                  <a:lnTo>
                    <a:pt x="205" y="1405"/>
                  </a:lnTo>
                  <a:lnTo>
                    <a:pt x="195" y="1380"/>
                  </a:lnTo>
                  <a:lnTo>
                    <a:pt x="180" y="1355"/>
                  </a:lnTo>
                  <a:lnTo>
                    <a:pt x="180" y="1330"/>
                  </a:lnTo>
                  <a:lnTo>
                    <a:pt x="190" y="1305"/>
                  </a:lnTo>
                  <a:lnTo>
                    <a:pt x="215" y="1320"/>
                  </a:lnTo>
                  <a:lnTo>
                    <a:pt x="210" y="1295"/>
                  </a:lnTo>
                  <a:lnTo>
                    <a:pt x="200" y="1270"/>
                  </a:lnTo>
                  <a:lnTo>
                    <a:pt x="200" y="1240"/>
                  </a:lnTo>
                  <a:lnTo>
                    <a:pt x="200" y="1210"/>
                  </a:lnTo>
                  <a:lnTo>
                    <a:pt x="200" y="1185"/>
                  </a:lnTo>
                  <a:lnTo>
                    <a:pt x="190" y="1160"/>
                  </a:lnTo>
                  <a:lnTo>
                    <a:pt x="165" y="1135"/>
                  </a:lnTo>
                  <a:lnTo>
                    <a:pt x="160" y="1110"/>
                  </a:lnTo>
                  <a:lnTo>
                    <a:pt x="135" y="1090"/>
                  </a:lnTo>
                  <a:lnTo>
                    <a:pt x="130" y="1065"/>
                  </a:lnTo>
                  <a:lnTo>
                    <a:pt x="110" y="1040"/>
                  </a:lnTo>
                  <a:lnTo>
                    <a:pt x="90" y="1010"/>
                  </a:lnTo>
                  <a:lnTo>
                    <a:pt x="80" y="985"/>
                  </a:lnTo>
                  <a:lnTo>
                    <a:pt x="70" y="960"/>
                  </a:lnTo>
                  <a:lnTo>
                    <a:pt x="60" y="935"/>
                  </a:lnTo>
                  <a:lnTo>
                    <a:pt x="55" y="910"/>
                  </a:lnTo>
                  <a:lnTo>
                    <a:pt x="45" y="885"/>
                  </a:lnTo>
                  <a:lnTo>
                    <a:pt x="35" y="860"/>
                  </a:lnTo>
                  <a:lnTo>
                    <a:pt x="15" y="835"/>
                  </a:lnTo>
                  <a:lnTo>
                    <a:pt x="10" y="810"/>
                  </a:lnTo>
                  <a:lnTo>
                    <a:pt x="0" y="800"/>
                  </a:lnTo>
                  <a:lnTo>
                    <a:pt x="25" y="780"/>
                  </a:lnTo>
                  <a:lnTo>
                    <a:pt x="45" y="755"/>
                  </a:lnTo>
                  <a:lnTo>
                    <a:pt x="60" y="730"/>
                  </a:lnTo>
                  <a:lnTo>
                    <a:pt x="85" y="740"/>
                  </a:lnTo>
                  <a:lnTo>
                    <a:pt x="105" y="765"/>
                  </a:lnTo>
                  <a:lnTo>
                    <a:pt x="105" y="790"/>
                  </a:lnTo>
                  <a:lnTo>
                    <a:pt x="120" y="815"/>
                  </a:lnTo>
                  <a:lnTo>
                    <a:pt x="145" y="820"/>
                  </a:lnTo>
                  <a:lnTo>
                    <a:pt x="170" y="825"/>
                  </a:lnTo>
                  <a:lnTo>
                    <a:pt x="195" y="840"/>
                  </a:lnTo>
                  <a:lnTo>
                    <a:pt x="220" y="840"/>
                  </a:lnTo>
                  <a:lnTo>
                    <a:pt x="245" y="840"/>
                  </a:lnTo>
                  <a:lnTo>
                    <a:pt x="270" y="840"/>
                  </a:lnTo>
                  <a:lnTo>
                    <a:pt x="295" y="835"/>
                  </a:lnTo>
                  <a:lnTo>
                    <a:pt x="320" y="830"/>
                  </a:lnTo>
                  <a:lnTo>
                    <a:pt x="345" y="815"/>
                  </a:lnTo>
                  <a:lnTo>
                    <a:pt x="360" y="790"/>
                  </a:lnTo>
                  <a:lnTo>
                    <a:pt x="385" y="780"/>
                  </a:lnTo>
                  <a:lnTo>
                    <a:pt x="405" y="780"/>
                  </a:lnTo>
                  <a:lnTo>
                    <a:pt x="402" y="320"/>
                  </a:lnTo>
                  <a:lnTo>
                    <a:pt x="440" y="345"/>
                  </a:lnTo>
                  <a:lnTo>
                    <a:pt x="460" y="370"/>
                  </a:lnTo>
                  <a:lnTo>
                    <a:pt x="470" y="395"/>
                  </a:lnTo>
                  <a:lnTo>
                    <a:pt x="480" y="420"/>
                  </a:lnTo>
                  <a:lnTo>
                    <a:pt x="495" y="445"/>
                  </a:lnTo>
                  <a:lnTo>
                    <a:pt x="505" y="470"/>
                  </a:lnTo>
                  <a:lnTo>
                    <a:pt x="495" y="495"/>
                  </a:lnTo>
                  <a:lnTo>
                    <a:pt x="485" y="520"/>
                  </a:lnTo>
                  <a:lnTo>
                    <a:pt x="485" y="545"/>
                  </a:lnTo>
                  <a:lnTo>
                    <a:pt x="480" y="570"/>
                  </a:lnTo>
                  <a:lnTo>
                    <a:pt x="505" y="580"/>
                  </a:lnTo>
                  <a:lnTo>
                    <a:pt x="530" y="580"/>
                  </a:lnTo>
                  <a:lnTo>
                    <a:pt x="560" y="580"/>
                  </a:lnTo>
                  <a:lnTo>
                    <a:pt x="590" y="580"/>
                  </a:lnTo>
                  <a:lnTo>
                    <a:pt x="615" y="575"/>
                  </a:lnTo>
                  <a:lnTo>
                    <a:pt x="640" y="560"/>
                  </a:lnTo>
                  <a:lnTo>
                    <a:pt x="655" y="530"/>
                  </a:lnTo>
                  <a:lnTo>
                    <a:pt x="680" y="510"/>
                  </a:lnTo>
                  <a:lnTo>
                    <a:pt x="705" y="500"/>
                  </a:lnTo>
                  <a:lnTo>
                    <a:pt x="720" y="475"/>
                  </a:lnTo>
                  <a:lnTo>
                    <a:pt x="720" y="450"/>
                  </a:lnTo>
                  <a:lnTo>
                    <a:pt x="730" y="425"/>
                  </a:lnTo>
                  <a:lnTo>
                    <a:pt x="750" y="400"/>
                  </a:lnTo>
                  <a:lnTo>
                    <a:pt x="775" y="390"/>
                  </a:lnTo>
                  <a:lnTo>
                    <a:pt x="800" y="390"/>
                  </a:lnTo>
                  <a:lnTo>
                    <a:pt x="825" y="385"/>
                  </a:lnTo>
                  <a:lnTo>
                    <a:pt x="850" y="385"/>
                  </a:lnTo>
                  <a:lnTo>
                    <a:pt x="875" y="410"/>
                  </a:lnTo>
                  <a:lnTo>
                    <a:pt x="875" y="435"/>
                  </a:lnTo>
                  <a:lnTo>
                    <a:pt x="905" y="435"/>
                  </a:lnTo>
                  <a:lnTo>
                    <a:pt x="930" y="450"/>
                  </a:lnTo>
                  <a:lnTo>
                    <a:pt x="955" y="450"/>
                  </a:lnTo>
                  <a:lnTo>
                    <a:pt x="985" y="445"/>
                  </a:lnTo>
                  <a:lnTo>
                    <a:pt x="1015" y="445"/>
                  </a:lnTo>
                  <a:lnTo>
                    <a:pt x="1040" y="440"/>
                  </a:lnTo>
                  <a:lnTo>
                    <a:pt x="1055" y="415"/>
                  </a:lnTo>
                  <a:lnTo>
                    <a:pt x="1065" y="390"/>
                  </a:lnTo>
                  <a:lnTo>
                    <a:pt x="1075" y="365"/>
                  </a:lnTo>
                  <a:lnTo>
                    <a:pt x="1095" y="340"/>
                  </a:lnTo>
                  <a:lnTo>
                    <a:pt x="1120" y="325"/>
                  </a:lnTo>
                  <a:lnTo>
                    <a:pt x="1145" y="320"/>
                  </a:lnTo>
                  <a:lnTo>
                    <a:pt x="1170" y="295"/>
                  </a:lnTo>
                  <a:lnTo>
                    <a:pt x="1180" y="265"/>
                  </a:lnTo>
                  <a:lnTo>
                    <a:pt x="1195" y="240"/>
                  </a:lnTo>
                  <a:lnTo>
                    <a:pt x="1200" y="215"/>
                  </a:lnTo>
                  <a:lnTo>
                    <a:pt x="1220" y="190"/>
                  </a:lnTo>
                  <a:lnTo>
                    <a:pt x="1245" y="165"/>
                  </a:lnTo>
                  <a:lnTo>
                    <a:pt x="1265" y="140"/>
                  </a:lnTo>
                  <a:lnTo>
                    <a:pt x="1290" y="125"/>
                  </a:lnTo>
                  <a:lnTo>
                    <a:pt x="1320" y="105"/>
                  </a:lnTo>
                  <a:lnTo>
                    <a:pt x="1345" y="80"/>
                  </a:lnTo>
                  <a:lnTo>
                    <a:pt x="1370" y="60"/>
                  </a:lnTo>
                  <a:lnTo>
                    <a:pt x="1395" y="45"/>
                  </a:lnTo>
                  <a:lnTo>
                    <a:pt x="1420" y="40"/>
                  </a:lnTo>
                  <a:lnTo>
                    <a:pt x="1445" y="35"/>
                  </a:lnTo>
                  <a:lnTo>
                    <a:pt x="1475" y="5"/>
                  </a:lnTo>
                  <a:lnTo>
                    <a:pt x="1490" y="5"/>
                  </a:lnTo>
                  <a:lnTo>
                    <a:pt x="1515" y="0"/>
                  </a:lnTo>
                  <a:lnTo>
                    <a:pt x="1540" y="5"/>
                  </a:lnTo>
                  <a:lnTo>
                    <a:pt x="1565" y="10"/>
                  </a:lnTo>
                  <a:lnTo>
                    <a:pt x="1590" y="15"/>
                  </a:lnTo>
                  <a:lnTo>
                    <a:pt x="1615" y="20"/>
                  </a:lnTo>
                  <a:lnTo>
                    <a:pt x="1645" y="30"/>
                  </a:lnTo>
                  <a:lnTo>
                    <a:pt x="1670" y="30"/>
                  </a:lnTo>
                  <a:lnTo>
                    <a:pt x="1695" y="35"/>
                  </a:lnTo>
                  <a:lnTo>
                    <a:pt x="1720" y="45"/>
                  </a:lnTo>
                  <a:lnTo>
                    <a:pt x="1740" y="55"/>
                  </a:lnTo>
                  <a:lnTo>
                    <a:pt x="1740" y="80"/>
                  </a:lnTo>
                  <a:lnTo>
                    <a:pt x="1740" y="105"/>
                  </a:lnTo>
                  <a:lnTo>
                    <a:pt x="1740" y="135"/>
                  </a:lnTo>
                  <a:lnTo>
                    <a:pt x="1750" y="160"/>
                  </a:lnTo>
                  <a:lnTo>
                    <a:pt x="1765" y="185"/>
                  </a:lnTo>
                  <a:lnTo>
                    <a:pt x="1770" y="215"/>
                  </a:lnTo>
                  <a:lnTo>
                    <a:pt x="1775" y="240"/>
                  </a:lnTo>
                  <a:lnTo>
                    <a:pt x="1795" y="265"/>
                  </a:lnTo>
                  <a:lnTo>
                    <a:pt x="1800" y="290"/>
                  </a:lnTo>
                  <a:lnTo>
                    <a:pt x="1805" y="315"/>
                  </a:lnTo>
                  <a:lnTo>
                    <a:pt x="1805" y="340"/>
                  </a:lnTo>
                  <a:lnTo>
                    <a:pt x="1800" y="365"/>
                  </a:lnTo>
                  <a:lnTo>
                    <a:pt x="1795" y="435"/>
                  </a:lnTo>
                  <a:lnTo>
                    <a:pt x="1790" y="460"/>
                  </a:lnTo>
                  <a:lnTo>
                    <a:pt x="1785" y="485"/>
                  </a:lnTo>
                  <a:lnTo>
                    <a:pt x="1760" y="480"/>
                  </a:lnTo>
                  <a:lnTo>
                    <a:pt x="1735" y="460"/>
                  </a:lnTo>
                  <a:lnTo>
                    <a:pt x="1710" y="455"/>
                  </a:lnTo>
                  <a:lnTo>
                    <a:pt x="1690" y="480"/>
                  </a:lnTo>
                  <a:lnTo>
                    <a:pt x="1665" y="505"/>
                  </a:lnTo>
                  <a:lnTo>
                    <a:pt x="1650" y="530"/>
                  </a:lnTo>
                  <a:lnTo>
                    <a:pt x="1640" y="555"/>
                  </a:lnTo>
                  <a:lnTo>
                    <a:pt x="1635" y="580"/>
                  </a:lnTo>
                  <a:lnTo>
                    <a:pt x="1640" y="605"/>
                  </a:lnTo>
                  <a:lnTo>
                    <a:pt x="1660" y="630"/>
                  </a:lnTo>
                  <a:lnTo>
                    <a:pt x="1680" y="655"/>
                  </a:lnTo>
                  <a:lnTo>
                    <a:pt x="1710" y="665"/>
                  </a:lnTo>
                  <a:lnTo>
                    <a:pt x="1740" y="665"/>
                  </a:lnTo>
                  <a:lnTo>
                    <a:pt x="1750" y="605"/>
                  </a:lnTo>
                  <a:lnTo>
                    <a:pt x="1785" y="595"/>
                  </a:lnTo>
                  <a:lnTo>
                    <a:pt x="1810" y="600"/>
                  </a:lnTo>
                  <a:lnTo>
                    <a:pt x="1835" y="610"/>
                  </a:lnTo>
                  <a:lnTo>
                    <a:pt x="1860" y="600"/>
                  </a:lnTo>
                  <a:lnTo>
                    <a:pt x="1865" y="6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5240" y="3335400"/>
              <a:ext cx="386640" cy="407520"/>
            </a:xfrm>
            <a:custGeom>
              <a:avLst/>
              <a:gdLst/>
              <a:ahLst/>
              <a:rect l="l" t="t" r="r" b="b"/>
              <a:pathLst>
                <a:path w="1076" h="1134">
                  <a:moveTo>
                    <a:pt x="1075" y="558"/>
                  </a:moveTo>
                  <a:lnTo>
                    <a:pt x="1045" y="588"/>
                  </a:lnTo>
                  <a:lnTo>
                    <a:pt x="1020" y="593"/>
                  </a:lnTo>
                  <a:lnTo>
                    <a:pt x="995" y="598"/>
                  </a:lnTo>
                  <a:lnTo>
                    <a:pt x="970" y="613"/>
                  </a:lnTo>
                  <a:lnTo>
                    <a:pt x="945" y="633"/>
                  </a:lnTo>
                  <a:lnTo>
                    <a:pt x="920" y="658"/>
                  </a:lnTo>
                  <a:lnTo>
                    <a:pt x="890" y="678"/>
                  </a:lnTo>
                  <a:lnTo>
                    <a:pt x="865" y="693"/>
                  </a:lnTo>
                  <a:lnTo>
                    <a:pt x="845" y="718"/>
                  </a:lnTo>
                  <a:lnTo>
                    <a:pt x="820" y="743"/>
                  </a:lnTo>
                  <a:lnTo>
                    <a:pt x="800" y="768"/>
                  </a:lnTo>
                  <a:lnTo>
                    <a:pt x="795" y="793"/>
                  </a:lnTo>
                  <a:lnTo>
                    <a:pt x="780" y="818"/>
                  </a:lnTo>
                  <a:lnTo>
                    <a:pt x="770" y="848"/>
                  </a:lnTo>
                  <a:lnTo>
                    <a:pt x="745" y="873"/>
                  </a:lnTo>
                  <a:lnTo>
                    <a:pt x="720" y="878"/>
                  </a:lnTo>
                  <a:lnTo>
                    <a:pt x="695" y="893"/>
                  </a:lnTo>
                  <a:lnTo>
                    <a:pt x="675" y="918"/>
                  </a:lnTo>
                  <a:lnTo>
                    <a:pt x="665" y="943"/>
                  </a:lnTo>
                  <a:lnTo>
                    <a:pt x="655" y="968"/>
                  </a:lnTo>
                  <a:lnTo>
                    <a:pt x="640" y="993"/>
                  </a:lnTo>
                  <a:lnTo>
                    <a:pt x="615" y="998"/>
                  </a:lnTo>
                  <a:lnTo>
                    <a:pt x="585" y="998"/>
                  </a:lnTo>
                  <a:lnTo>
                    <a:pt x="555" y="1003"/>
                  </a:lnTo>
                  <a:lnTo>
                    <a:pt x="530" y="1003"/>
                  </a:lnTo>
                  <a:lnTo>
                    <a:pt x="505" y="988"/>
                  </a:lnTo>
                  <a:lnTo>
                    <a:pt x="475" y="988"/>
                  </a:lnTo>
                  <a:lnTo>
                    <a:pt x="475" y="963"/>
                  </a:lnTo>
                  <a:lnTo>
                    <a:pt x="450" y="938"/>
                  </a:lnTo>
                  <a:lnTo>
                    <a:pt x="425" y="938"/>
                  </a:lnTo>
                  <a:lnTo>
                    <a:pt x="400" y="943"/>
                  </a:lnTo>
                  <a:lnTo>
                    <a:pt x="375" y="943"/>
                  </a:lnTo>
                  <a:lnTo>
                    <a:pt x="350" y="953"/>
                  </a:lnTo>
                  <a:lnTo>
                    <a:pt x="330" y="978"/>
                  </a:lnTo>
                  <a:lnTo>
                    <a:pt x="320" y="1003"/>
                  </a:lnTo>
                  <a:lnTo>
                    <a:pt x="320" y="1028"/>
                  </a:lnTo>
                  <a:lnTo>
                    <a:pt x="305" y="1053"/>
                  </a:lnTo>
                  <a:lnTo>
                    <a:pt x="280" y="1063"/>
                  </a:lnTo>
                  <a:lnTo>
                    <a:pt x="255" y="1083"/>
                  </a:lnTo>
                  <a:lnTo>
                    <a:pt x="240" y="1113"/>
                  </a:lnTo>
                  <a:lnTo>
                    <a:pt x="215" y="1128"/>
                  </a:lnTo>
                  <a:lnTo>
                    <a:pt x="190" y="1133"/>
                  </a:lnTo>
                  <a:lnTo>
                    <a:pt x="160" y="1133"/>
                  </a:lnTo>
                  <a:lnTo>
                    <a:pt x="130" y="1133"/>
                  </a:lnTo>
                  <a:lnTo>
                    <a:pt x="105" y="1133"/>
                  </a:lnTo>
                  <a:lnTo>
                    <a:pt x="80" y="1123"/>
                  </a:lnTo>
                  <a:lnTo>
                    <a:pt x="85" y="1098"/>
                  </a:lnTo>
                  <a:lnTo>
                    <a:pt x="85" y="1073"/>
                  </a:lnTo>
                  <a:lnTo>
                    <a:pt x="95" y="1048"/>
                  </a:lnTo>
                  <a:lnTo>
                    <a:pt x="105" y="1023"/>
                  </a:lnTo>
                  <a:lnTo>
                    <a:pt x="95" y="998"/>
                  </a:lnTo>
                  <a:lnTo>
                    <a:pt x="80" y="973"/>
                  </a:lnTo>
                  <a:lnTo>
                    <a:pt x="70" y="948"/>
                  </a:lnTo>
                  <a:lnTo>
                    <a:pt x="60" y="923"/>
                  </a:lnTo>
                  <a:lnTo>
                    <a:pt x="40" y="898"/>
                  </a:lnTo>
                  <a:lnTo>
                    <a:pt x="3" y="871"/>
                  </a:lnTo>
                  <a:lnTo>
                    <a:pt x="0" y="523"/>
                  </a:lnTo>
                  <a:lnTo>
                    <a:pt x="120" y="518"/>
                  </a:lnTo>
                  <a:lnTo>
                    <a:pt x="125" y="58"/>
                  </a:lnTo>
                  <a:lnTo>
                    <a:pt x="200" y="58"/>
                  </a:lnTo>
                  <a:lnTo>
                    <a:pt x="300" y="28"/>
                  </a:lnTo>
                  <a:lnTo>
                    <a:pt x="375" y="18"/>
                  </a:lnTo>
                  <a:lnTo>
                    <a:pt x="417" y="25"/>
                  </a:lnTo>
                  <a:lnTo>
                    <a:pt x="442" y="35"/>
                  </a:lnTo>
                  <a:lnTo>
                    <a:pt x="467" y="35"/>
                  </a:lnTo>
                  <a:lnTo>
                    <a:pt x="492" y="40"/>
                  </a:lnTo>
                  <a:lnTo>
                    <a:pt x="517" y="35"/>
                  </a:lnTo>
                  <a:lnTo>
                    <a:pt x="542" y="20"/>
                  </a:lnTo>
                  <a:lnTo>
                    <a:pt x="567" y="25"/>
                  </a:lnTo>
                  <a:lnTo>
                    <a:pt x="592" y="15"/>
                  </a:lnTo>
                  <a:lnTo>
                    <a:pt x="617" y="0"/>
                  </a:lnTo>
                  <a:lnTo>
                    <a:pt x="642" y="5"/>
                  </a:lnTo>
                  <a:lnTo>
                    <a:pt x="640" y="18"/>
                  </a:lnTo>
                  <a:lnTo>
                    <a:pt x="660" y="43"/>
                  </a:lnTo>
                  <a:lnTo>
                    <a:pt x="685" y="63"/>
                  </a:lnTo>
                  <a:lnTo>
                    <a:pt x="700" y="88"/>
                  </a:lnTo>
                  <a:lnTo>
                    <a:pt x="700" y="113"/>
                  </a:lnTo>
                  <a:lnTo>
                    <a:pt x="710" y="138"/>
                  </a:lnTo>
                  <a:lnTo>
                    <a:pt x="725" y="163"/>
                  </a:lnTo>
                  <a:lnTo>
                    <a:pt x="745" y="188"/>
                  </a:lnTo>
                  <a:lnTo>
                    <a:pt x="760" y="218"/>
                  </a:lnTo>
                  <a:lnTo>
                    <a:pt x="785" y="248"/>
                  </a:lnTo>
                  <a:lnTo>
                    <a:pt x="805" y="273"/>
                  </a:lnTo>
                  <a:lnTo>
                    <a:pt x="830" y="298"/>
                  </a:lnTo>
                  <a:lnTo>
                    <a:pt x="855" y="303"/>
                  </a:lnTo>
                  <a:lnTo>
                    <a:pt x="880" y="323"/>
                  </a:lnTo>
                  <a:lnTo>
                    <a:pt x="905" y="343"/>
                  </a:lnTo>
                  <a:lnTo>
                    <a:pt x="925" y="368"/>
                  </a:lnTo>
                  <a:lnTo>
                    <a:pt x="920" y="393"/>
                  </a:lnTo>
                  <a:lnTo>
                    <a:pt x="925" y="418"/>
                  </a:lnTo>
                  <a:lnTo>
                    <a:pt x="945" y="443"/>
                  </a:lnTo>
                  <a:lnTo>
                    <a:pt x="955" y="468"/>
                  </a:lnTo>
                  <a:lnTo>
                    <a:pt x="985" y="488"/>
                  </a:lnTo>
                  <a:lnTo>
                    <a:pt x="1010" y="493"/>
                  </a:lnTo>
                  <a:lnTo>
                    <a:pt x="1035" y="503"/>
                  </a:lnTo>
                  <a:lnTo>
                    <a:pt x="1060" y="518"/>
                  </a:lnTo>
                  <a:lnTo>
                    <a:pt x="1065" y="543"/>
                  </a:lnTo>
                  <a:lnTo>
                    <a:pt x="1075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73720" y="3094200"/>
              <a:ext cx="340560" cy="628560"/>
            </a:xfrm>
            <a:custGeom>
              <a:avLst/>
              <a:gdLst/>
              <a:ahLst/>
              <a:rect l="l" t="t" r="r" b="b"/>
              <a:pathLst>
                <a:path w="946" h="1746">
                  <a:moveTo>
                    <a:pt x="845" y="0"/>
                  </a:moveTo>
                  <a:lnTo>
                    <a:pt x="830" y="25"/>
                  </a:lnTo>
                  <a:lnTo>
                    <a:pt x="820" y="50"/>
                  </a:lnTo>
                  <a:lnTo>
                    <a:pt x="795" y="55"/>
                  </a:lnTo>
                  <a:lnTo>
                    <a:pt x="770" y="50"/>
                  </a:lnTo>
                  <a:lnTo>
                    <a:pt x="785" y="75"/>
                  </a:lnTo>
                  <a:lnTo>
                    <a:pt x="790" y="100"/>
                  </a:lnTo>
                  <a:lnTo>
                    <a:pt x="790" y="125"/>
                  </a:lnTo>
                  <a:lnTo>
                    <a:pt x="775" y="150"/>
                  </a:lnTo>
                  <a:lnTo>
                    <a:pt x="765" y="175"/>
                  </a:lnTo>
                  <a:lnTo>
                    <a:pt x="740" y="175"/>
                  </a:lnTo>
                  <a:lnTo>
                    <a:pt x="725" y="200"/>
                  </a:lnTo>
                  <a:lnTo>
                    <a:pt x="710" y="225"/>
                  </a:lnTo>
                  <a:lnTo>
                    <a:pt x="685" y="207"/>
                  </a:lnTo>
                  <a:lnTo>
                    <a:pt x="665" y="197"/>
                  </a:lnTo>
                  <a:lnTo>
                    <a:pt x="667" y="221"/>
                  </a:lnTo>
                  <a:lnTo>
                    <a:pt x="660" y="240"/>
                  </a:lnTo>
                  <a:lnTo>
                    <a:pt x="675" y="265"/>
                  </a:lnTo>
                  <a:lnTo>
                    <a:pt x="660" y="290"/>
                  </a:lnTo>
                  <a:lnTo>
                    <a:pt x="635" y="300"/>
                  </a:lnTo>
                  <a:lnTo>
                    <a:pt x="630" y="325"/>
                  </a:lnTo>
                  <a:lnTo>
                    <a:pt x="620" y="350"/>
                  </a:lnTo>
                  <a:lnTo>
                    <a:pt x="600" y="375"/>
                  </a:lnTo>
                  <a:lnTo>
                    <a:pt x="585" y="350"/>
                  </a:lnTo>
                  <a:lnTo>
                    <a:pt x="560" y="375"/>
                  </a:lnTo>
                  <a:lnTo>
                    <a:pt x="545" y="400"/>
                  </a:lnTo>
                  <a:lnTo>
                    <a:pt x="550" y="425"/>
                  </a:lnTo>
                  <a:lnTo>
                    <a:pt x="560" y="450"/>
                  </a:lnTo>
                  <a:lnTo>
                    <a:pt x="530" y="470"/>
                  </a:lnTo>
                  <a:lnTo>
                    <a:pt x="520" y="445"/>
                  </a:lnTo>
                  <a:lnTo>
                    <a:pt x="525" y="420"/>
                  </a:lnTo>
                  <a:lnTo>
                    <a:pt x="500" y="435"/>
                  </a:lnTo>
                  <a:lnTo>
                    <a:pt x="470" y="455"/>
                  </a:lnTo>
                  <a:lnTo>
                    <a:pt x="455" y="480"/>
                  </a:lnTo>
                  <a:lnTo>
                    <a:pt x="475" y="505"/>
                  </a:lnTo>
                  <a:lnTo>
                    <a:pt x="450" y="500"/>
                  </a:lnTo>
                  <a:lnTo>
                    <a:pt x="425" y="485"/>
                  </a:lnTo>
                  <a:lnTo>
                    <a:pt x="400" y="480"/>
                  </a:lnTo>
                  <a:lnTo>
                    <a:pt x="375" y="485"/>
                  </a:lnTo>
                  <a:lnTo>
                    <a:pt x="365" y="510"/>
                  </a:lnTo>
                  <a:lnTo>
                    <a:pt x="340" y="505"/>
                  </a:lnTo>
                  <a:lnTo>
                    <a:pt x="315" y="500"/>
                  </a:lnTo>
                  <a:lnTo>
                    <a:pt x="290" y="520"/>
                  </a:lnTo>
                  <a:lnTo>
                    <a:pt x="265" y="535"/>
                  </a:lnTo>
                  <a:lnTo>
                    <a:pt x="240" y="525"/>
                  </a:lnTo>
                  <a:lnTo>
                    <a:pt x="220" y="555"/>
                  </a:lnTo>
                  <a:lnTo>
                    <a:pt x="225" y="580"/>
                  </a:lnTo>
                  <a:lnTo>
                    <a:pt x="215" y="605"/>
                  </a:lnTo>
                  <a:lnTo>
                    <a:pt x="195" y="630"/>
                  </a:lnTo>
                  <a:lnTo>
                    <a:pt x="175" y="655"/>
                  </a:lnTo>
                  <a:lnTo>
                    <a:pt x="155" y="680"/>
                  </a:lnTo>
                  <a:lnTo>
                    <a:pt x="145" y="705"/>
                  </a:lnTo>
                  <a:lnTo>
                    <a:pt x="150" y="730"/>
                  </a:lnTo>
                  <a:lnTo>
                    <a:pt x="155" y="755"/>
                  </a:lnTo>
                  <a:lnTo>
                    <a:pt x="145" y="780"/>
                  </a:lnTo>
                  <a:lnTo>
                    <a:pt x="155" y="805"/>
                  </a:lnTo>
                  <a:lnTo>
                    <a:pt x="155" y="830"/>
                  </a:lnTo>
                  <a:lnTo>
                    <a:pt x="175" y="855"/>
                  </a:lnTo>
                  <a:lnTo>
                    <a:pt x="180" y="880"/>
                  </a:lnTo>
                  <a:lnTo>
                    <a:pt x="185" y="905"/>
                  </a:lnTo>
                  <a:lnTo>
                    <a:pt x="190" y="930"/>
                  </a:lnTo>
                  <a:lnTo>
                    <a:pt x="195" y="955"/>
                  </a:lnTo>
                  <a:lnTo>
                    <a:pt x="190" y="980"/>
                  </a:lnTo>
                  <a:lnTo>
                    <a:pt x="180" y="1005"/>
                  </a:lnTo>
                  <a:lnTo>
                    <a:pt x="150" y="1065"/>
                  </a:lnTo>
                  <a:lnTo>
                    <a:pt x="140" y="1090"/>
                  </a:lnTo>
                  <a:lnTo>
                    <a:pt x="115" y="1115"/>
                  </a:lnTo>
                  <a:lnTo>
                    <a:pt x="110" y="1140"/>
                  </a:lnTo>
                  <a:lnTo>
                    <a:pt x="95" y="1165"/>
                  </a:lnTo>
                  <a:lnTo>
                    <a:pt x="65" y="1185"/>
                  </a:lnTo>
                  <a:lnTo>
                    <a:pt x="40" y="1195"/>
                  </a:lnTo>
                  <a:lnTo>
                    <a:pt x="30" y="1220"/>
                  </a:lnTo>
                  <a:lnTo>
                    <a:pt x="30" y="1245"/>
                  </a:lnTo>
                  <a:lnTo>
                    <a:pt x="10" y="1270"/>
                  </a:lnTo>
                  <a:lnTo>
                    <a:pt x="0" y="1295"/>
                  </a:lnTo>
                  <a:lnTo>
                    <a:pt x="0" y="1320"/>
                  </a:lnTo>
                  <a:lnTo>
                    <a:pt x="0" y="1350"/>
                  </a:lnTo>
                  <a:lnTo>
                    <a:pt x="5" y="1375"/>
                  </a:lnTo>
                  <a:lnTo>
                    <a:pt x="15" y="1400"/>
                  </a:lnTo>
                  <a:lnTo>
                    <a:pt x="30" y="1425"/>
                  </a:lnTo>
                  <a:lnTo>
                    <a:pt x="35" y="1450"/>
                  </a:lnTo>
                  <a:lnTo>
                    <a:pt x="45" y="1475"/>
                  </a:lnTo>
                  <a:lnTo>
                    <a:pt x="30" y="1500"/>
                  </a:lnTo>
                  <a:lnTo>
                    <a:pt x="20" y="1525"/>
                  </a:lnTo>
                  <a:lnTo>
                    <a:pt x="20" y="1550"/>
                  </a:lnTo>
                  <a:lnTo>
                    <a:pt x="20" y="1575"/>
                  </a:lnTo>
                  <a:lnTo>
                    <a:pt x="25" y="1600"/>
                  </a:lnTo>
                  <a:lnTo>
                    <a:pt x="45" y="1625"/>
                  </a:lnTo>
                  <a:lnTo>
                    <a:pt x="45" y="1650"/>
                  </a:lnTo>
                  <a:lnTo>
                    <a:pt x="65" y="1675"/>
                  </a:lnTo>
                  <a:lnTo>
                    <a:pt x="80" y="1700"/>
                  </a:lnTo>
                  <a:lnTo>
                    <a:pt x="105" y="1710"/>
                  </a:lnTo>
                  <a:lnTo>
                    <a:pt x="130" y="1725"/>
                  </a:lnTo>
                  <a:lnTo>
                    <a:pt x="155" y="1740"/>
                  </a:lnTo>
                  <a:lnTo>
                    <a:pt x="180" y="1745"/>
                  </a:lnTo>
                  <a:lnTo>
                    <a:pt x="205" y="1745"/>
                  </a:lnTo>
                  <a:lnTo>
                    <a:pt x="230" y="1730"/>
                  </a:lnTo>
                  <a:lnTo>
                    <a:pt x="255" y="1715"/>
                  </a:lnTo>
                  <a:lnTo>
                    <a:pt x="280" y="1710"/>
                  </a:lnTo>
                  <a:lnTo>
                    <a:pt x="305" y="1710"/>
                  </a:lnTo>
                  <a:lnTo>
                    <a:pt x="330" y="1695"/>
                  </a:lnTo>
                  <a:lnTo>
                    <a:pt x="355" y="1695"/>
                  </a:lnTo>
                  <a:lnTo>
                    <a:pt x="380" y="1670"/>
                  </a:lnTo>
                  <a:lnTo>
                    <a:pt x="410" y="1645"/>
                  </a:lnTo>
                  <a:lnTo>
                    <a:pt x="415" y="1620"/>
                  </a:lnTo>
                  <a:lnTo>
                    <a:pt x="425" y="1595"/>
                  </a:lnTo>
                  <a:lnTo>
                    <a:pt x="435" y="1570"/>
                  </a:lnTo>
                  <a:lnTo>
                    <a:pt x="465" y="1520"/>
                  </a:lnTo>
                  <a:lnTo>
                    <a:pt x="480" y="1495"/>
                  </a:lnTo>
                  <a:lnTo>
                    <a:pt x="490" y="1470"/>
                  </a:lnTo>
                  <a:lnTo>
                    <a:pt x="490" y="1445"/>
                  </a:lnTo>
                  <a:lnTo>
                    <a:pt x="505" y="1420"/>
                  </a:lnTo>
                  <a:lnTo>
                    <a:pt x="520" y="1395"/>
                  </a:lnTo>
                  <a:lnTo>
                    <a:pt x="530" y="1370"/>
                  </a:lnTo>
                  <a:lnTo>
                    <a:pt x="540" y="1345"/>
                  </a:lnTo>
                  <a:lnTo>
                    <a:pt x="545" y="1315"/>
                  </a:lnTo>
                  <a:lnTo>
                    <a:pt x="555" y="1290"/>
                  </a:lnTo>
                  <a:lnTo>
                    <a:pt x="570" y="1265"/>
                  </a:lnTo>
                  <a:lnTo>
                    <a:pt x="585" y="1240"/>
                  </a:lnTo>
                  <a:lnTo>
                    <a:pt x="595" y="1215"/>
                  </a:lnTo>
                  <a:lnTo>
                    <a:pt x="605" y="1190"/>
                  </a:lnTo>
                  <a:lnTo>
                    <a:pt x="615" y="1165"/>
                  </a:lnTo>
                  <a:lnTo>
                    <a:pt x="625" y="1140"/>
                  </a:lnTo>
                  <a:lnTo>
                    <a:pt x="635" y="1115"/>
                  </a:lnTo>
                  <a:lnTo>
                    <a:pt x="640" y="1090"/>
                  </a:lnTo>
                  <a:lnTo>
                    <a:pt x="655" y="1065"/>
                  </a:lnTo>
                  <a:lnTo>
                    <a:pt x="690" y="1010"/>
                  </a:lnTo>
                  <a:lnTo>
                    <a:pt x="700" y="985"/>
                  </a:lnTo>
                  <a:lnTo>
                    <a:pt x="700" y="960"/>
                  </a:lnTo>
                  <a:lnTo>
                    <a:pt x="715" y="935"/>
                  </a:lnTo>
                  <a:lnTo>
                    <a:pt x="725" y="910"/>
                  </a:lnTo>
                  <a:lnTo>
                    <a:pt x="740" y="875"/>
                  </a:lnTo>
                  <a:lnTo>
                    <a:pt x="750" y="850"/>
                  </a:lnTo>
                  <a:lnTo>
                    <a:pt x="765" y="825"/>
                  </a:lnTo>
                  <a:lnTo>
                    <a:pt x="780" y="800"/>
                  </a:lnTo>
                  <a:lnTo>
                    <a:pt x="780" y="775"/>
                  </a:lnTo>
                  <a:lnTo>
                    <a:pt x="785" y="750"/>
                  </a:lnTo>
                  <a:lnTo>
                    <a:pt x="780" y="725"/>
                  </a:lnTo>
                  <a:lnTo>
                    <a:pt x="780" y="700"/>
                  </a:lnTo>
                  <a:lnTo>
                    <a:pt x="795" y="675"/>
                  </a:lnTo>
                  <a:lnTo>
                    <a:pt x="820" y="650"/>
                  </a:lnTo>
                  <a:lnTo>
                    <a:pt x="835" y="625"/>
                  </a:lnTo>
                  <a:lnTo>
                    <a:pt x="850" y="600"/>
                  </a:lnTo>
                  <a:lnTo>
                    <a:pt x="855" y="575"/>
                  </a:lnTo>
                  <a:lnTo>
                    <a:pt x="850" y="550"/>
                  </a:lnTo>
                  <a:lnTo>
                    <a:pt x="835" y="525"/>
                  </a:lnTo>
                  <a:lnTo>
                    <a:pt x="845" y="500"/>
                  </a:lnTo>
                  <a:lnTo>
                    <a:pt x="845" y="475"/>
                  </a:lnTo>
                  <a:lnTo>
                    <a:pt x="855" y="450"/>
                  </a:lnTo>
                  <a:lnTo>
                    <a:pt x="880" y="465"/>
                  </a:lnTo>
                  <a:lnTo>
                    <a:pt x="885" y="490"/>
                  </a:lnTo>
                  <a:lnTo>
                    <a:pt x="900" y="515"/>
                  </a:lnTo>
                  <a:lnTo>
                    <a:pt x="915" y="490"/>
                  </a:lnTo>
                  <a:lnTo>
                    <a:pt x="930" y="465"/>
                  </a:lnTo>
                  <a:lnTo>
                    <a:pt x="945" y="440"/>
                  </a:lnTo>
                  <a:lnTo>
                    <a:pt x="940" y="400"/>
                  </a:lnTo>
                  <a:lnTo>
                    <a:pt x="935" y="375"/>
                  </a:lnTo>
                  <a:lnTo>
                    <a:pt x="935" y="350"/>
                  </a:lnTo>
                  <a:lnTo>
                    <a:pt x="910" y="330"/>
                  </a:lnTo>
                  <a:lnTo>
                    <a:pt x="905" y="305"/>
                  </a:lnTo>
                  <a:lnTo>
                    <a:pt x="910" y="280"/>
                  </a:lnTo>
                  <a:lnTo>
                    <a:pt x="915" y="255"/>
                  </a:lnTo>
                  <a:lnTo>
                    <a:pt x="915" y="230"/>
                  </a:lnTo>
                  <a:lnTo>
                    <a:pt x="915" y="205"/>
                  </a:lnTo>
                  <a:lnTo>
                    <a:pt x="910" y="180"/>
                  </a:lnTo>
                  <a:lnTo>
                    <a:pt x="900" y="155"/>
                  </a:lnTo>
                  <a:lnTo>
                    <a:pt x="900" y="130"/>
                  </a:lnTo>
                  <a:lnTo>
                    <a:pt x="895" y="105"/>
                  </a:lnTo>
                  <a:lnTo>
                    <a:pt x="880" y="80"/>
                  </a:lnTo>
                  <a:lnTo>
                    <a:pt x="875" y="55"/>
                  </a:lnTo>
                  <a:lnTo>
                    <a:pt x="850" y="30"/>
                  </a:lnTo>
                  <a:lnTo>
                    <a:pt x="845" y="5"/>
                  </a:lnTo>
                  <a:lnTo>
                    <a:pt x="8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Интересные факты о Иван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День рождения — 15 апрел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ван староста класс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Любит животны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сещает футбольную секцию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Много читае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остижения Ивана на этой недел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ван принимал активное участия в жизни класса и школ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Он участник КВН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ван является призером по биологи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Участник олимпиады по географи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бедитель викторины по физик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9640" y="4859280"/>
            <a:ext cx="2700360" cy="1620720"/>
          </a:xfrm>
          <a:custGeom>
            <a:avLst/>
            <a:gdLst/>
            <a:ahLst/>
            <a:rect l="l" t="t" r="r" b="b"/>
            <a:pathLst>
              <a:path w="7501" h="4501">
                <a:moveTo>
                  <a:pt x="4236" y="1554"/>
                </a:moveTo>
                <a:lnTo>
                  <a:pt x="3750" y="0"/>
                </a:lnTo>
                <a:lnTo>
                  <a:pt x="3283" y="1548"/>
                </a:lnTo>
                <a:lnTo>
                  <a:pt x="1091" y="661"/>
                </a:lnTo>
                <a:lnTo>
                  <a:pt x="2580" y="1965"/>
                </a:lnTo>
                <a:lnTo>
                  <a:pt x="0" y="2250"/>
                </a:lnTo>
                <a:lnTo>
                  <a:pt x="2609" y="2566"/>
                </a:lnTo>
                <a:lnTo>
                  <a:pt x="1111" y="3851"/>
                </a:lnTo>
                <a:lnTo>
                  <a:pt x="3273" y="2947"/>
                </a:lnTo>
                <a:lnTo>
                  <a:pt x="3750" y="4500"/>
                </a:lnTo>
                <a:lnTo>
                  <a:pt x="4246" y="2941"/>
                </a:lnTo>
                <a:lnTo>
                  <a:pt x="6399" y="3839"/>
                </a:lnTo>
                <a:lnTo>
                  <a:pt x="4861" y="2595"/>
                </a:lnTo>
                <a:lnTo>
                  <a:pt x="7500" y="2256"/>
                </a:lnTo>
                <a:lnTo>
                  <a:pt x="4891" y="1940"/>
                </a:lnTo>
                <a:lnTo>
                  <a:pt x="6419" y="666"/>
                </a:lnTo>
                <a:lnTo>
                  <a:pt x="4236" y="1554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92160" y="5288040"/>
            <a:ext cx="1401480" cy="1401480"/>
            <a:chOff x="992160" y="5288040"/>
            <a:chExt cx="1401480" cy="1401480"/>
          </a:xfrm>
        </p:grpSpPr>
        <p:sp>
          <p:nvSpPr>
            <p:cNvPr id="152" name=""/>
            <p:cNvSpPr/>
            <p:nvPr/>
          </p:nvSpPr>
          <p:spPr>
            <a:xfrm>
              <a:off x="1532160" y="5611320"/>
              <a:ext cx="861480" cy="647280"/>
            </a:xfrm>
            <a:custGeom>
              <a:avLst/>
              <a:gdLst/>
              <a:ahLst/>
              <a:rect l="l" t="t" r="r" b="b"/>
              <a:pathLst>
                <a:path w="2401" h="1801">
                  <a:moveTo>
                    <a:pt x="0" y="0"/>
                  </a:moveTo>
                  <a:lnTo>
                    <a:pt x="2400" y="0"/>
                  </a:lnTo>
                  <a:lnTo>
                    <a:pt x="2400" y="1800"/>
                  </a:lnTo>
                  <a:lnTo>
                    <a:pt x="1500" y="1800"/>
                  </a:lnTo>
                  <a:lnTo>
                    <a:pt x="1500" y="1500"/>
                  </a:lnTo>
                  <a:lnTo>
                    <a:pt x="2100" y="1500"/>
                  </a:lnTo>
                  <a:lnTo>
                    <a:pt x="2100" y="300"/>
                  </a:lnTo>
                  <a:lnTo>
                    <a:pt x="0" y="300"/>
                  </a:lnTo>
                  <a:lnTo>
                    <a:pt x="0" y="0"/>
                  </a:lnTo>
                </a:path>
              </a:pathLst>
            </a:custGeom>
            <a:solidFill>
              <a:srgbClr val="ffd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2160" y="5611320"/>
              <a:ext cx="322920" cy="107640"/>
            </a:xfrm>
            <a:custGeom>
              <a:avLst/>
              <a:gdLst/>
              <a:ahLst/>
              <a:rect l="l" t="t" r="r" b="b"/>
              <a:pathLst>
                <a:path w="901" h="301">
                  <a:moveTo>
                    <a:pt x="0" y="300"/>
                  </a:moveTo>
                  <a:lnTo>
                    <a:pt x="300" y="0"/>
                  </a:lnTo>
                  <a:lnTo>
                    <a:pt x="900" y="0"/>
                  </a:lnTo>
                  <a:lnTo>
                    <a:pt x="900" y="300"/>
                  </a:lnTo>
                  <a:lnTo>
                    <a:pt x="0" y="300"/>
                  </a:lnTo>
                </a:path>
              </a:pathLst>
            </a:custGeom>
            <a:solidFill>
              <a:srgbClr val="ffd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99800" y="6150600"/>
              <a:ext cx="753840" cy="107640"/>
            </a:xfrm>
            <a:custGeom>
              <a:avLst/>
              <a:gdLst/>
              <a:ahLst/>
              <a:rect l="l" t="t" r="r" b="b"/>
              <a:pathLst>
                <a:path w="2101" h="301">
                  <a:moveTo>
                    <a:pt x="0" y="300"/>
                  </a:moveTo>
                  <a:lnTo>
                    <a:pt x="300" y="0"/>
                  </a:lnTo>
                  <a:lnTo>
                    <a:pt x="2100" y="0"/>
                  </a:lnTo>
                  <a:lnTo>
                    <a:pt x="2100" y="300"/>
                  </a:lnTo>
                  <a:lnTo>
                    <a:pt x="0" y="300"/>
                  </a:lnTo>
                </a:path>
              </a:pathLst>
            </a:custGeom>
            <a:solidFill>
              <a:srgbClr val="ffd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9800" y="5826960"/>
              <a:ext cx="107640" cy="431280"/>
            </a:xfrm>
            <a:custGeom>
              <a:avLst/>
              <a:gdLst/>
              <a:ahLst/>
              <a:rect l="l" t="t" r="r" b="b"/>
              <a:pathLst>
                <a:path w="301" h="1201">
                  <a:moveTo>
                    <a:pt x="0" y="120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900"/>
                  </a:lnTo>
                  <a:lnTo>
                    <a:pt x="0" y="1200"/>
                  </a:lnTo>
                </a:path>
              </a:pathLst>
            </a:custGeom>
            <a:solidFill>
              <a:srgbClr val="ffd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8360" y="5718960"/>
              <a:ext cx="107640" cy="431280"/>
            </a:xfrm>
            <a:custGeom>
              <a:avLst/>
              <a:gdLst/>
              <a:ahLst/>
              <a:rect l="l" t="t" r="r" b="b"/>
              <a:pathLst>
                <a:path w="301" h="1201">
                  <a:moveTo>
                    <a:pt x="0" y="300"/>
                  </a:moveTo>
                  <a:lnTo>
                    <a:pt x="300" y="0"/>
                  </a:lnTo>
                  <a:lnTo>
                    <a:pt x="300" y="1200"/>
                  </a:lnTo>
                  <a:lnTo>
                    <a:pt x="0" y="1200"/>
                  </a:lnTo>
                  <a:lnTo>
                    <a:pt x="0" y="300"/>
                  </a:lnTo>
                </a:path>
              </a:pathLst>
            </a:custGeom>
            <a:solidFill>
              <a:srgbClr val="ffa1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32160" y="5718960"/>
              <a:ext cx="753840" cy="107640"/>
            </a:xfrm>
            <a:custGeom>
              <a:avLst/>
              <a:gdLst/>
              <a:ahLst/>
              <a:rect l="l" t="t" r="r" b="b"/>
              <a:pathLst>
                <a:path w="2101" h="301">
                  <a:moveTo>
                    <a:pt x="0" y="300"/>
                  </a:moveTo>
                  <a:lnTo>
                    <a:pt x="0" y="0"/>
                  </a:lnTo>
                  <a:lnTo>
                    <a:pt x="2100" y="0"/>
                  </a:lnTo>
                  <a:lnTo>
                    <a:pt x="1800" y="300"/>
                  </a:lnTo>
                  <a:lnTo>
                    <a:pt x="0" y="300"/>
                  </a:lnTo>
                </a:path>
              </a:pathLst>
            </a:custGeom>
            <a:solidFill>
              <a:srgbClr val="ffa1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2160" y="5718960"/>
              <a:ext cx="861480" cy="646920"/>
            </a:xfrm>
            <a:custGeom>
              <a:avLst/>
              <a:gdLst/>
              <a:ahLst/>
              <a:rect l="l" t="t" r="r" b="b"/>
              <a:pathLst>
                <a:path w="2401" h="1801">
                  <a:moveTo>
                    <a:pt x="900" y="0"/>
                  </a:moveTo>
                  <a:lnTo>
                    <a:pt x="900" y="300"/>
                  </a:lnTo>
                  <a:lnTo>
                    <a:pt x="300" y="300"/>
                  </a:lnTo>
                  <a:lnTo>
                    <a:pt x="300" y="1500"/>
                  </a:lnTo>
                  <a:lnTo>
                    <a:pt x="2400" y="1500"/>
                  </a:lnTo>
                  <a:lnTo>
                    <a:pt x="2400" y="1800"/>
                  </a:lnTo>
                  <a:lnTo>
                    <a:pt x="0" y="1800"/>
                  </a:lnTo>
                  <a:lnTo>
                    <a:pt x="0" y="0"/>
                  </a:lnTo>
                  <a:lnTo>
                    <a:pt x="900" y="0"/>
                  </a:lnTo>
                </a:path>
              </a:pathLst>
            </a:custGeom>
            <a:solidFill>
              <a:srgbClr val="ffa1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70720" y="6258600"/>
              <a:ext cx="322920" cy="107280"/>
            </a:xfrm>
            <a:custGeom>
              <a:avLst/>
              <a:gdLst/>
              <a:ahLst/>
              <a:rect l="l" t="t" r="r" b="b"/>
              <a:pathLst>
                <a:path w="901" h="301">
                  <a:moveTo>
                    <a:pt x="900" y="0"/>
                  </a:moveTo>
                  <a:lnTo>
                    <a:pt x="600" y="300"/>
                  </a:lnTo>
                  <a:lnTo>
                    <a:pt x="0" y="300"/>
                  </a:lnTo>
                  <a:lnTo>
                    <a:pt x="0" y="0"/>
                  </a:lnTo>
                  <a:lnTo>
                    <a:pt x="900" y="0"/>
                  </a:lnTo>
                </a:path>
              </a:pathLst>
            </a:custGeom>
            <a:solidFill>
              <a:srgbClr val="ffa1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24520" y="5826960"/>
              <a:ext cx="645840" cy="862560"/>
            </a:xfrm>
            <a:custGeom>
              <a:avLst/>
              <a:gdLst/>
              <a:ahLst/>
              <a:rect l="l" t="t" r="r" b="b"/>
              <a:pathLst>
                <a:path w="1801" h="2401">
                  <a:moveTo>
                    <a:pt x="1800" y="0"/>
                  </a:moveTo>
                  <a:lnTo>
                    <a:pt x="1800" y="2400"/>
                  </a:lnTo>
                  <a:lnTo>
                    <a:pt x="0" y="2400"/>
                  </a:lnTo>
                  <a:lnTo>
                    <a:pt x="0" y="1500"/>
                  </a:lnTo>
                  <a:lnTo>
                    <a:pt x="300" y="1500"/>
                  </a:lnTo>
                  <a:lnTo>
                    <a:pt x="300" y="2100"/>
                  </a:lnTo>
                  <a:lnTo>
                    <a:pt x="1500" y="2100"/>
                  </a:lnTo>
                  <a:lnTo>
                    <a:pt x="1500" y="0"/>
                  </a:lnTo>
                  <a:lnTo>
                    <a:pt x="1800" y="0"/>
                  </a:lnTo>
                </a:path>
              </a:pathLst>
            </a:custGeom>
            <a:solidFill>
              <a:srgbClr val="d10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62720" y="5288040"/>
              <a:ext cx="107640" cy="323280"/>
            </a:xfrm>
            <a:custGeom>
              <a:avLst/>
              <a:gdLst/>
              <a:ahLst/>
              <a:rect l="l" t="t" r="r" b="b"/>
              <a:pathLst>
                <a:path w="301" h="901">
                  <a:moveTo>
                    <a:pt x="0" y="0"/>
                  </a:moveTo>
                  <a:lnTo>
                    <a:pt x="300" y="300"/>
                  </a:lnTo>
                  <a:lnTo>
                    <a:pt x="300" y="900"/>
                  </a:lnTo>
                  <a:lnTo>
                    <a:pt x="0" y="900"/>
                  </a:lnTo>
                  <a:lnTo>
                    <a:pt x="0" y="0"/>
                  </a:lnTo>
                </a:path>
              </a:pathLst>
            </a:custGeom>
            <a:solidFill>
              <a:srgbClr val="d10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24520" y="5395680"/>
              <a:ext cx="107640" cy="754560"/>
            </a:xfrm>
            <a:custGeom>
              <a:avLst/>
              <a:gdLst/>
              <a:ahLst/>
              <a:rect l="l" t="t" r="r" b="b"/>
              <a:pathLst>
                <a:path w="301" h="2101">
                  <a:moveTo>
                    <a:pt x="0" y="0"/>
                  </a:moveTo>
                  <a:lnTo>
                    <a:pt x="300" y="300"/>
                  </a:lnTo>
                  <a:lnTo>
                    <a:pt x="300" y="2100"/>
                  </a:lnTo>
                  <a:lnTo>
                    <a:pt x="0" y="2100"/>
                  </a:lnTo>
                  <a:lnTo>
                    <a:pt x="0" y="0"/>
                  </a:lnTo>
                </a:path>
              </a:pathLst>
            </a:custGeom>
            <a:solidFill>
              <a:srgbClr val="d10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24520" y="5395680"/>
              <a:ext cx="430560" cy="107640"/>
            </a:xfrm>
            <a:custGeom>
              <a:avLst/>
              <a:gdLst/>
              <a:ahLst/>
              <a:rect l="l" t="t" r="r" b="b"/>
              <a:pathLst>
                <a:path w="1201" h="301">
                  <a:moveTo>
                    <a:pt x="0" y="0"/>
                  </a:moveTo>
                  <a:lnTo>
                    <a:pt x="1200" y="0"/>
                  </a:lnTo>
                  <a:lnTo>
                    <a:pt x="1200" y="300"/>
                  </a:lnTo>
                  <a:lnTo>
                    <a:pt x="300" y="300"/>
                  </a:lnTo>
                  <a:lnTo>
                    <a:pt x="0" y="0"/>
                  </a:lnTo>
                </a:path>
              </a:pathLst>
            </a:custGeom>
            <a:solidFill>
              <a:srgbClr val="d10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55080" y="5826960"/>
              <a:ext cx="107640" cy="754560"/>
            </a:xfrm>
            <a:custGeom>
              <a:avLst/>
              <a:gdLst/>
              <a:ahLst/>
              <a:rect l="l" t="t" r="r" b="b"/>
              <a:pathLst>
                <a:path w="301" h="2101">
                  <a:moveTo>
                    <a:pt x="0" y="0"/>
                  </a:moveTo>
                  <a:lnTo>
                    <a:pt x="300" y="0"/>
                  </a:lnTo>
                  <a:lnTo>
                    <a:pt x="300" y="2100"/>
                  </a:lnTo>
                  <a:lnTo>
                    <a:pt x="0" y="1800"/>
                  </a:lnTo>
                  <a:lnTo>
                    <a:pt x="0" y="0"/>
                  </a:lnTo>
                </a:path>
              </a:pathLst>
            </a:custGeom>
            <a:solidFill>
              <a:srgbClr val="87c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16520" y="5288040"/>
              <a:ext cx="645840" cy="862560"/>
            </a:xfrm>
            <a:custGeom>
              <a:avLst/>
              <a:gdLst/>
              <a:ahLst/>
              <a:rect l="l" t="t" r="r" b="b"/>
              <a:pathLst>
                <a:path w="1801" h="2401">
                  <a:moveTo>
                    <a:pt x="1800" y="900"/>
                  </a:moveTo>
                  <a:lnTo>
                    <a:pt x="1500" y="900"/>
                  </a:lnTo>
                  <a:lnTo>
                    <a:pt x="1500" y="300"/>
                  </a:lnTo>
                  <a:lnTo>
                    <a:pt x="300" y="300"/>
                  </a:lnTo>
                  <a:lnTo>
                    <a:pt x="300" y="2400"/>
                  </a:lnTo>
                  <a:lnTo>
                    <a:pt x="0" y="2400"/>
                  </a:lnTo>
                  <a:lnTo>
                    <a:pt x="0" y="0"/>
                  </a:lnTo>
                  <a:lnTo>
                    <a:pt x="1800" y="0"/>
                  </a:lnTo>
                  <a:lnTo>
                    <a:pt x="1800" y="900"/>
                  </a:lnTo>
                </a:path>
              </a:pathLst>
            </a:custGeom>
            <a:solidFill>
              <a:srgbClr val="87c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32160" y="6473880"/>
              <a:ext cx="430560" cy="107640"/>
            </a:xfrm>
            <a:custGeom>
              <a:avLst/>
              <a:gdLst/>
              <a:ahLst/>
              <a:rect l="l" t="t" r="r" b="b"/>
              <a:pathLst>
                <a:path w="1201" h="301">
                  <a:moveTo>
                    <a:pt x="900" y="0"/>
                  </a:moveTo>
                  <a:lnTo>
                    <a:pt x="1200" y="300"/>
                  </a:lnTo>
                  <a:lnTo>
                    <a:pt x="0" y="300"/>
                  </a:lnTo>
                  <a:lnTo>
                    <a:pt x="0" y="0"/>
                  </a:lnTo>
                  <a:lnTo>
                    <a:pt x="900" y="0"/>
                  </a:lnTo>
                </a:path>
              </a:pathLst>
            </a:custGeom>
            <a:solidFill>
              <a:srgbClr val="87c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16520" y="6365880"/>
              <a:ext cx="107640" cy="323640"/>
            </a:xfrm>
            <a:custGeom>
              <a:avLst/>
              <a:gdLst/>
              <a:ahLst/>
              <a:rect l="l" t="t" r="r" b="b"/>
              <a:pathLst>
                <a:path w="301" h="901">
                  <a:moveTo>
                    <a:pt x="300" y="900"/>
                  </a:moveTo>
                  <a:lnTo>
                    <a:pt x="0" y="600"/>
                  </a:lnTo>
                  <a:lnTo>
                    <a:pt x="0" y="0"/>
                  </a:lnTo>
                  <a:lnTo>
                    <a:pt x="300" y="0"/>
                  </a:lnTo>
                  <a:lnTo>
                    <a:pt x="300" y="900"/>
                  </a:lnTo>
                </a:path>
              </a:pathLst>
            </a:custGeom>
            <a:solidFill>
              <a:srgbClr val="87c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19640" y="6300720"/>
            <a:ext cx="2517120" cy="360"/>
            <a:chOff x="3419640" y="6300720"/>
            <a:chExt cx="2517120" cy="360"/>
          </a:xfrm>
        </p:grpSpPr>
        <p:grpSp>
          <p:nvGrpSpPr>
            <p:cNvPr id="169" name=""/>
            <p:cNvGrpSpPr/>
            <p:nvPr/>
          </p:nvGrpSpPr>
          <p:grpSpPr>
            <a:xfrm>
              <a:off x="3419640" y="6300720"/>
              <a:ext cx="2517120" cy="360"/>
              <a:chOff x="3419640" y="6300720"/>
              <a:chExt cx="2517120" cy="360"/>
            </a:xfrm>
          </p:grpSpPr>
          <p:sp>
            <p:nvSpPr>
              <p:cNvPr id="170" name=""/>
              <p:cNvSpPr/>
              <p:nvPr/>
            </p:nvSpPr>
            <p:spPr>
              <a:xfrm>
                <a:off x="5001480" y="6300720"/>
                <a:ext cx="935280" cy="360"/>
              </a:xfrm>
              <a:custGeom>
                <a:avLst/>
                <a:gdLst/>
                <a:ahLst/>
                <a:rect l="l" t="t" r="r" b="b"/>
                <a:pathLst>
                  <a:path w="2603" h="1">
                    <a:moveTo>
                      <a:pt x="0" y="0"/>
                    </a:moveTo>
                    <a:cubicBezTo>
                      <a:pt x="394" y="0"/>
                      <a:pt x="1000" y="0"/>
                      <a:pt x="1338" y="0"/>
                    </a:cubicBezTo>
                    <a:cubicBezTo>
                      <a:pt x="1908" y="0"/>
                      <a:pt x="2091" y="0"/>
                      <a:pt x="2602" y="0"/>
                    </a:cubicBezTo>
                    <a:cubicBezTo>
                      <a:pt x="2039" y="0"/>
                      <a:pt x="2145" y="0"/>
                      <a:pt x="1689" y="0"/>
                    </a:cubicBezTo>
                    <a:cubicBezTo>
                      <a:pt x="1391" y="0"/>
                      <a:pt x="949" y="0"/>
                      <a:pt x="459" y="0"/>
                    </a:cubicBezTo>
                    <a:cubicBezTo>
                      <a:pt x="421" y="0"/>
                      <a:pt x="323" y="0"/>
                      <a:pt x="279" y="0"/>
                    </a:cubicBezTo>
                    <a:cubicBezTo>
                      <a:pt x="537" y="0"/>
                      <a:pt x="874" y="0"/>
                      <a:pt x="1111" y="0"/>
                    </a:cubicBezTo>
                    <a:cubicBezTo>
                      <a:pt x="1449" y="0"/>
                      <a:pt x="1414" y="0"/>
                      <a:pt x="1011" y="0"/>
                    </a:cubicBezTo>
                    <a:cubicBezTo>
                      <a:pt x="769" y="0"/>
                      <a:pt x="534" y="0"/>
                      <a:pt x="415" y="0"/>
                    </a:cubicBezTo>
                    <a:cubicBezTo>
                      <a:pt x="267" y="0"/>
                      <a:pt x="164" y="0"/>
                      <a:pt x="0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0"/>
              </a:gradFill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19640" y="6300720"/>
                <a:ext cx="952560" cy="360"/>
              </a:xfrm>
              <a:custGeom>
                <a:avLst/>
                <a:gdLst/>
                <a:ahLst/>
                <a:rect l="l" t="t" r="r" b="b"/>
                <a:pathLst>
                  <a:path w="2650" h="1">
                    <a:moveTo>
                      <a:pt x="1749" y="0"/>
                    </a:moveTo>
                    <a:cubicBezTo>
                      <a:pt x="1104" y="0"/>
                      <a:pt x="799" y="0"/>
                      <a:pt x="655" y="0"/>
                    </a:cubicBezTo>
                    <a:cubicBezTo>
                      <a:pt x="418" y="0"/>
                      <a:pt x="360" y="0"/>
                      <a:pt x="0" y="0"/>
                    </a:cubicBezTo>
                    <a:cubicBezTo>
                      <a:pt x="723" y="0"/>
                      <a:pt x="883" y="0"/>
                      <a:pt x="1590" y="0"/>
                    </a:cubicBezTo>
                    <a:cubicBezTo>
                      <a:pt x="2051" y="0"/>
                      <a:pt x="2338" y="0"/>
                      <a:pt x="2649" y="0"/>
                    </a:cubicBezTo>
                    <a:cubicBezTo>
                      <a:pt x="2528" y="0"/>
                      <a:pt x="2494" y="0"/>
                      <a:pt x="2380" y="0"/>
                    </a:cubicBezTo>
                    <a:cubicBezTo>
                      <a:pt x="2208" y="0"/>
                      <a:pt x="1978" y="0"/>
                      <a:pt x="1740" y="0"/>
                    </a:cubicBezTo>
                    <a:cubicBezTo>
                      <a:pt x="1409" y="0"/>
                      <a:pt x="1083" y="0"/>
                      <a:pt x="1227" y="0"/>
                    </a:cubicBezTo>
                    <a:cubicBezTo>
                      <a:pt x="1312" y="0"/>
                      <a:pt x="1548" y="0"/>
                      <a:pt x="1707" y="0"/>
                    </a:cubicBezTo>
                    <a:cubicBezTo>
                      <a:pt x="1713" y="0"/>
                      <a:pt x="1721" y="0"/>
                      <a:pt x="1749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14400000"/>
              </a:gradFill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15040" y="6300720"/>
                <a:ext cx="699120" cy="360"/>
              </a:xfrm>
              <a:custGeom>
                <a:avLst/>
                <a:gdLst/>
                <a:ahLst/>
                <a:rect l="l" t="t" r="r" b="b"/>
                <a:pathLst>
                  <a:path w="1945" h="1">
                    <a:moveTo>
                      <a:pt x="1693" y="0"/>
                    </a:moveTo>
                    <a:cubicBezTo>
                      <a:pt x="1944" y="0"/>
                      <a:pt x="1644" y="0"/>
                      <a:pt x="1449" y="0"/>
                    </a:cubicBezTo>
                    <a:cubicBezTo>
                      <a:pt x="1116" y="0"/>
                      <a:pt x="991" y="0"/>
                      <a:pt x="840" y="0"/>
                    </a:cubicBezTo>
                    <a:cubicBezTo>
                      <a:pt x="679" y="0"/>
                      <a:pt x="414" y="0"/>
                      <a:pt x="162" y="0"/>
                    </a:cubicBezTo>
                    <a:cubicBezTo>
                      <a:pt x="0" y="0"/>
                      <a:pt x="138" y="0"/>
                      <a:pt x="317" y="0"/>
                    </a:cubicBezTo>
                    <a:cubicBezTo>
                      <a:pt x="539" y="0"/>
                      <a:pt x="630" y="0"/>
                      <a:pt x="793" y="0"/>
                    </a:cubicBezTo>
                    <a:cubicBezTo>
                      <a:pt x="708" y="0"/>
                      <a:pt x="589" y="0"/>
                      <a:pt x="591" y="0"/>
                    </a:cubicBezTo>
                    <a:cubicBezTo>
                      <a:pt x="583" y="0"/>
                      <a:pt x="945" y="0"/>
                      <a:pt x="1204" y="0"/>
                    </a:cubicBezTo>
                    <a:cubicBezTo>
                      <a:pt x="1361" y="0"/>
                      <a:pt x="1359" y="0"/>
                      <a:pt x="1319" y="0"/>
                    </a:cubicBezTo>
                    <a:cubicBezTo>
                      <a:pt x="1462" y="0"/>
                      <a:pt x="1557" y="0"/>
                      <a:pt x="1693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7200000"/>
              </a:gradFill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4800" y="6300720"/>
                <a:ext cx="738720" cy="360"/>
              </a:xfrm>
              <a:custGeom>
                <a:avLst/>
                <a:gdLst/>
                <a:ahLst/>
                <a:rect l="l" t="t" r="r" b="b"/>
                <a:pathLst>
                  <a:path w="2053" h="1">
                    <a:moveTo>
                      <a:pt x="1459" y="0"/>
                    </a:moveTo>
                    <a:cubicBezTo>
                      <a:pt x="1642" y="0"/>
                      <a:pt x="1722" y="0"/>
                      <a:pt x="1885" y="0"/>
                    </a:cubicBezTo>
                    <a:cubicBezTo>
                      <a:pt x="2052" y="0"/>
                      <a:pt x="1933" y="0"/>
                      <a:pt x="1670" y="0"/>
                    </a:cubicBezTo>
                    <a:cubicBezTo>
                      <a:pt x="1304" y="0"/>
                      <a:pt x="757" y="0"/>
                      <a:pt x="409" y="0"/>
                    </a:cubicBezTo>
                    <a:cubicBezTo>
                      <a:pt x="0" y="0"/>
                      <a:pt x="52" y="0"/>
                      <a:pt x="556" y="0"/>
                    </a:cubicBezTo>
                    <a:cubicBezTo>
                      <a:pt x="598" y="0"/>
                      <a:pt x="693" y="0"/>
                      <a:pt x="739" y="0"/>
                    </a:cubicBezTo>
                    <a:cubicBezTo>
                      <a:pt x="548" y="0"/>
                      <a:pt x="542" y="0"/>
                      <a:pt x="651" y="0"/>
                    </a:cubicBezTo>
                    <a:cubicBezTo>
                      <a:pt x="896" y="0"/>
                      <a:pt x="1180" y="0"/>
                      <a:pt x="1368" y="0"/>
                    </a:cubicBezTo>
                    <a:cubicBezTo>
                      <a:pt x="1550" y="0"/>
                      <a:pt x="1531" y="0"/>
                      <a:pt x="1459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01200" y="6300720"/>
                <a:ext cx="703440" cy="360"/>
              </a:xfrm>
              <a:custGeom>
                <a:avLst/>
                <a:gdLst/>
                <a:ahLst/>
                <a:rect l="l" t="t" r="r" b="b"/>
                <a:pathLst>
                  <a:path w="1960" h="1">
                    <a:moveTo>
                      <a:pt x="307" y="0"/>
                    </a:moveTo>
                    <a:cubicBezTo>
                      <a:pt x="183" y="0"/>
                      <a:pt x="125" y="0"/>
                      <a:pt x="0" y="0"/>
                    </a:cubicBezTo>
                    <a:cubicBezTo>
                      <a:pt x="435" y="0"/>
                      <a:pt x="871" y="0"/>
                      <a:pt x="1225" y="0"/>
                    </a:cubicBezTo>
                    <a:cubicBezTo>
                      <a:pt x="1716" y="0"/>
                      <a:pt x="1959" y="0"/>
                      <a:pt x="1849" y="0"/>
                    </a:cubicBezTo>
                    <a:cubicBezTo>
                      <a:pt x="1724" y="0"/>
                      <a:pt x="1086" y="0"/>
                      <a:pt x="559" y="0"/>
                    </a:cubicBezTo>
                    <a:cubicBezTo>
                      <a:pt x="674" y="0"/>
                      <a:pt x="719" y="0"/>
                      <a:pt x="839" y="0"/>
                    </a:cubicBezTo>
                    <a:cubicBezTo>
                      <a:pt x="1049" y="0"/>
                      <a:pt x="1336" y="0"/>
                      <a:pt x="1397" y="0"/>
                    </a:cubicBezTo>
                    <a:cubicBezTo>
                      <a:pt x="1517" y="0"/>
                      <a:pt x="1350" y="0"/>
                      <a:pt x="1080" y="0"/>
                    </a:cubicBezTo>
                    <a:cubicBezTo>
                      <a:pt x="815" y="0"/>
                      <a:pt x="559" y="0"/>
                      <a:pt x="307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144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43880" y="6300720"/>
                <a:ext cx="684720" cy="360"/>
              </a:xfrm>
              <a:custGeom>
                <a:avLst/>
                <a:gdLst/>
                <a:ahLst/>
                <a:rect l="l" t="t" r="r" b="b"/>
                <a:pathLst>
                  <a:path w="1906" h="1">
                    <a:moveTo>
                      <a:pt x="1254" y="0"/>
                    </a:moveTo>
                    <a:cubicBezTo>
                      <a:pt x="1194" y="0"/>
                      <a:pt x="1173" y="0"/>
                      <a:pt x="1134" y="0"/>
                    </a:cubicBezTo>
                    <a:cubicBezTo>
                      <a:pt x="533" y="0"/>
                      <a:pt x="216" y="0"/>
                      <a:pt x="125" y="0"/>
                    </a:cubicBezTo>
                    <a:cubicBezTo>
                      <a:pt x="0" y="0"/>
                      <a:pt x="305" y="0"/>
                      <a:pt x="762" y="0"/>
                    </a:cubicBezTo>
                    <a:cubicBezTo>
                      <a:pt x="1296" y="0"/>
                      <a:pt x="1883" y="0"/>
                      <a:pt x="1905" y="0"/>
                    </a:cubicBezTo>
                    <a:cubicBezTo>
                      <a:pt x="1748" y="0"/>
                      <a:pt x="1609" y="0"/>
                      <a:pt x="1441" y="0"/>
                    </a:cubicBezTo>
                    <a:cubicBezTo>
                      <a:pt x="1423" y="0"/>
                      <a:pt x="1142" y="0"/>
                      <a:pt x="972" y="0"/>
                    </a:cubicBezTo>
                    <a:cubicBezTo>
                      <a:pt x="607" y="0"/>
                      <a:pt x="490" y="0"/>
                      <a:pt x="572" y="0"/>
                    </a:cubicBezTo>
                    <a:cubicBezTo>
                      <a:pt x="655" y="0"/>
                      <a:pt x="930" y="0"/>
                      <a:pt x="1254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72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44520" y="6300720"/>
                <a:ext cx="500760" cy="360"/>
              </a:xfrm>
              <a:custGeom>
                <a:avLst/>
                <a:gdLst/>
                <a:ahLst/>
                <a:rect l="l" t="t" r="r" b="b"/>
                <a:pathLst>
                  <a:path w="1395" h="1">
                    <a:moveTo>
                      <a:pt x="0" y="0"/>
                    </a:moveTo>
                    <a:cubicBezTo>
                      <a:pt x="623" y="0"/>
                      <a:pt x="958" y="0"/>
                      <a:pt x="1394" y="0"/>
                    </a:cubicBezTo>
                    <a:cubicBezTo>
                      <a:pt x="1192" y="0"/>
                      <a:pt x="1097" y="0"/>
                      <a:pt x="920" y="0"/>
                    </a:cubicBezTo>
                    <a:cubicBezTo>
                      <a:pt x="641" y="0"/>
                      <a:pt x="454" y="0"/>
                      <a:pt x="92" y="0"/>
                    </a:cubicBezTo>
                    <a:cubicBezTo>
                      <a:pt x="93" y="0"/>
                      <a:pt x="63" y="0"/>
                      <a:pt x="0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04280" y="6300720"/>
                <a:ext cx="232920" cy="360"/>
              </a:xfrm>
              <a:custGeom>
                <a:avLst/>
                <a:gdLst/>
                <a:ahLst/>
                <a:rect l="l" t="t" r="r" b="b"/>
                <a:pathLst>
                  <a:path w="648" h="1">
                    <a:moveTo>
                      <a:pt x="313" y="0"/>
                    </a:moveTo>
                    <a:cubicBezTo>
                      <a:pt x="0" y="0"/>
                      <a:pt x="44" y="0"/>
                      <a:pt x="275" y="0"/>
                    </a:cubicBezTo>
                    <a:cubicBezTo>
                      <a:pt x="443" y="0"/>
                      <a:pt x="505" y="0"/>
                      <a:pt x="623" y="0"/>
                    </a:cubicBezTo>
                    <a:cubicBezTo>
                      <a:pt x="506" y="0"/>
                      <a:pt x="515" y="0"/>
                      <a:pt x="647" y="0"/>
                    </a:cubicBezTo>
                    <a:cubicBezTo>
                      <a:pt x="501" y="0"/>
                      <a:pt x="416" y="0"/>
                      <a:pt x="313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144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632120" y="6300720"/>
                <a:ext cx="491400" cy="360"/>
              </a:xfrm>
              <a:custGeom>
                <a:avLst/>
                <a:gdLst/>
                <a:ahLst/>
                <a:rect l="l" t="t" r="r" b="b"/>
                <a:pathLst>
                  <a:path w="1366" h="1">
                    <a:moveTo>
                      <a:pt x="1365" y="0"/>
                    </a:moveTo>
                    <a:cubicBezTo>
                      <a:pt x="1005" y="0"/>
                      <a:pt x="667" y="0"/>
                      <a:pt x="0" y="0"/>
                    </a:cubicBezTo>
                    <a:cubicBezTo>
                      <a:pt x="35" y="0"/>
                      <a:pt x="66" y="0"/>
                      <a:pt x="126" y="0"/>
                    </a:cubicBezTo>
                    <a:cubicBezTo>
                      <a:pt x="522" y="0"/>
                      <a:pt x="664" y="0"/>
                      <a:pt x="894" y="0"/>
                    </a:cubicBezTo>
                    <a:cubicBezTo>
                      <a:pt x="1040" y="0"/>
                      <a:pt x="1195" y="0"/>
                      <a:pt x="1365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72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11120" y="6300720"/>
                <a:ext cx="294480" cy="360"/>
              </a:xfrm>
              <a:custGeom>
                <a:avLst/>
                <a:gdLst/>
                <a:ahLst/>
                <a:rect l="l" t="t" r="r" b="b"/>
                <a:pathLst>
                  <a:path w="822" h="1">
                    <a:moveTo>
                      <a:pt x="52" y="0"/>
                    </a:moveTo>
                    <a:cubicBezTo>
                      <a:pt x="238" y="0"/>
                      <a:pt x="315" y="0"/>
                      <a:pt x="469" y="0"/>
                    </a:cubicBezTo>
                    <a:cubicBezTo>
                      <a:pt x="484" y="0"/>
                      <a:pt x="578" y="0"/>
                      <a:pt x="664" y="0"/>
                    </a:cubicBezTo>
                    <a:cubicBezTo>
                      <a:pt x="776" y="0"/>
                      <a:pt x="821" y="0"/>
                      <a:pt x="782" y="0"/>
                    </a:cubicBezTo>
                    <a:cubicBezTo>
                      <a:pt x="663" y="0"/>
                      <a:pt x="496" y="0"/>
                      <a:pt x="312" y="0"/>
                    </a:cubicBezTo>
                    <a:cubicBezTo>
                      <a:pt x="421" y="0"/>
                      <a:pt x="297" y="0"/>
                      <a:pt x="170" y="0"/>
                    </a:cubicBezTo>
                    <a:cubicBezTo>
                      <a:pt x="44" y="0"/>
                      <a:pt x="0" y="0"/>
                      <a:pt x="52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97960" y="6300720"/>
                <a:ext cx="518400" cy="360"/>
              </a:xfrm>
              <a:custGeom>
                <a:avLst/>
                <a:gdLst/>
                <a:ahLst/>
                <a:rect l="l" t="t" r="r" b="b"/>
                <a:pathLst>
                  <a:path w="1442" h="1">
                    <a:moveTo>
                      <a:pt x="56" y="0"/>
                    </a:moveTo>
                    <a:cubicBezTo>
                      <a:pt x="6" y="0"/>
                      <a:pt x="0" y="0"/>
                      <a:pt x="8" y="0"/>
                    </a:cubicBezTo>
                    <a:cubicBezTo>
                      <a:pt x="323" y="0"/>
                      <a:pt x="278" y="0"/>
                      <a:pt x="417" y="0"/>
                    </a:cubicBezTo>
                    <a:cubicBezTo>
                      <a:pt x="616" y="0"/>
                      <a:pt x="722" y="0"/>
                      <a:pt x="1227" y="0"/>
                    </a:cubicBezTo>
                    <a:cubicBezTo>
                      <a:pt x="1364" y="0"/>
                      <a:pt x="1441" y="0"/>
                      <a:pt x="1434" y="0"/>
                    </a:cubicBezTo>
                    <a:cubicBezTo>
                      <a:pt x="990" y="0"/>
                      <a:pt x="827" y="0"/>
                      <a:pt x="676" y="0"/>
                    </a:cubicBezTo>
                    <a:cubicBezTo>
                      <a:pt x="536" y="0"/>
                      <a:pt x="312" y="0"/>
                      <a:pt x="56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144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34320" y="6300720"/>
                <a:ext cx="689400" cy="360"/>
              </a:xfrm>
              <a:custGeom>
                <a:avLst/>
                <a:gdLst/>
                <a:ahLst/>
                <a:rect l="l" t="t" r="r" b="b"/>
                <a:pathLst>
                  <a:path w="1920" h="1">
                    <a:moveTo>
                      <a:pt x="1919" y="0"/>
                    </a:moveTo>
                    <a:cubicBezTo>
                      <a:pt x="1788" y="0"/>
                      <a:pt x="1729" y="0"/>
                      <a:pt x="1549" y="0"/>
                    </a:cubicBezTo>
                    <a:cubicBezTo>
                      <a:pt x="1180" y="0"/>
                      <a:pt x="1290" y="0"/>
                      <a:pt x="951" y="0"/>
                    </a:cubicBezTo>
                    <a:cubicBezTo>
                      <a:pt x="648" y="0"/>
                      <a:pt x="483" y="0"/>
                      <a:pt x="17" y="0"/>
                    </a:cubicBezTo>
                    <a:cubicBezTo>
                      <a:pt x="0" y="0"/>
                      <a:pt x="90" y="0"/>
                      <a:pt x="280" y="0"/>
                    </a:cubicBezTo>
                    <a:cubicBezTo>
                      <a:pt x="616" y="0"/>
                      <a:pt x="908" y="0"/>
                      <a:pt x="1180" y="0"/>
                    </a:cubicBezTo>
                    <a:cubicBezTo>
                      <a:pt x="1446" y="0"/>
                      <a:pt x="1715" y="0"/>
                      <a:pt x="1919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72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2195280"/>
            <a:ext cx="86072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здравляем Ивана с присвоением звания </a:t>
            </a: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Ученик недели!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71640" y="3995640"/>
            <a:ext cx="691344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Желаем дальнейших успехов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48560" y="4475160"/>
            <a:ext cx="266760" cy="285840"/>
          </a:xfrm>
          <a:prstGeom prst="ellipse">
            <a:avLst/>
          </a:prstGeom>
          <a:noFill/>
          <a:ln w="18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3520" y="5410080"/>
            <a:ext cx="266760" cy="285840"/>
          </a:xfrm>
          <a:prstGeom prst="ellipse">
            <a:avLst/>
          </a:prstGeom>
          <a:noFill/>
          <a:ln w="18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7200" y="5297400"/>
            <a:ext cx="266760" cy="285840"/>
          </a:xfrm>
          <a:prstGeom prst="ellipse">
            <a:avLst/>
          </a:prstGeom>
          <a:noFill/>
          <a:ln w="18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68400" y="4538520"/>
            <a:ext cx="266760" cy="285840"/>
          </a:xfrm>
          <a:prstGeom prst="ellipse">
            <a:avLst/>
          </a:prstGeom>
          <a:noFill/>
          <a:ln w="18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55:25Z</dcterms:created>
  <dc:creator>школа </dc:creator>
  <dc:description/>
  <dc:language>en-US</dc:language>
  <cp:lastModifiedBy>imc</cp:lastModifiedBy>
  <dcterms:modified xsi:type="dcterms:W3CDTF">2013-02-13T07:07:00Z</dcterms:modified>
  <cp:revision>1</cp:revision>
  <dc:subject/>
  <dc:title>Сидоров Иван</dc:title>
</cp:coreProperties>
</file>