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6D8-C399-4E6A-9964-A88411A1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796-5F3E-48A4-9F7D-F1C5137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EDA-D581-4715-A78B-AB88D67A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C8F-0305-44E3-8C9C-97FF689F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AF2-DBE8-429A-A8EE-94273150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1BD-2B4B-4850-839D-17668AF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223-893F-4847-BD2E-32CF4FB3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60A-5AA4-4F76-949A-381F82CB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554-3B4A-4C31-8E83-D9EC134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AD4-156F-4B15-9DF0-0FDE53F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12D-B7A3-4DAB-866D-3EDCA12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CB7-29A6-4BEA-88EB-6C9F68C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41974-32C8-459D-8A03-31BA1413FD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280" y="2006280"/>
            <a:ext cx="90709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азвитие творческих способностей учащихся через включение их в исследовательскую деятельность на уроках географи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58920" y="5338800"/>
            <a:ext cx="54766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олодова Л М — учитель географии ООШ№2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Желаю творческих успехов и побед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3897360"/>
            <a:ext cx="2967120" cy="29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-339840"/>
            <a:ext cx="7337160" cy="735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3478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альние цел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22480" y="207612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Развить интерес школьников к географии  через включение их в исследовательскую деятельность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Ближние цел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79640" y="2519280"/>
            <a:ext cx="809928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Развивать творческие способности учащихся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Вовлекать их в исследовательскую деятельность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едагогические методы и задач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60360"/>
            <a:ext cx="41068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спользовать в своей работе метод проекто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216684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2040" y="198756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Групповая фор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Знакомство учащихся с литерату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бсуждение плана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рудности и решен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ебуется больше времени на самостоятельный поиск информации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се это ведет к дополнительной нагрузке учащихс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2040" y="2160720"/>
            <a:ext cx="410688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Выбрать интегрированную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одключить к работе библиотекаря, учителей работающих в эт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есурсы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1800360"/>
            <a:ext cx="8418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Консультация с учителям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Интернет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Текстовой редактор электронные таблицы и мультимедио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0796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тчет о работ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60000" y="1963800"/>
            <a:ext cx="841860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Как шла работа над проектом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Плюсы и минусы в рабо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тчет каждой группы о своей рабо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формлени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 - график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1979640"/>
            <a:ext cx="841824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ентябрь — выбор тем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ктябрь — поиск литератур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Ноябрь- работа в группах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Декабрь — поиск в интерне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Январь-март оформление работ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Выступление на школьной конференци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рудности и решен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98756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уд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ебуется больше времени на поиск литературы, оформление рабо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92760" y="197964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Выбрать интегрированную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одключить к работе библиотекаря и учителей работающих в эт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10:16Z</dcterms:created>
  <dc:creator>школа </dc:creator>
  <dc:description/>
  <dc:language>en-US</dc:language>
  <cp:lastModifiedBy>школа </cp:lastModifiedBy>
  <dcterms:modified xsi:type="dcterms:W3CDTF">2012-11-20T12:01:18Z</dcterms:modified>
  <cp:revision>3</cp:revision>
  <dc:subject/>
  <dc:title/>
</cp:coreProperties>
</file>