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9B9-BAC2-43A2-ADFD-B9D67ECC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FA7-42D7-4D34-86D7-D6B5AD53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905-F941-4F08-976E-5578A228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2774-345A-4EE0-8D00-9FA8D883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AEF-8B6D-4A68-92A5-524F4BDF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AC7-8F47-4C4D-ACF7-C98CD3BB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BBEC-1D1F-4EA5-AEF7-2782949F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66D-0901-416B-AEFB-4AB41F0B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7F2-F90C-4D4A-83DF-04C12D3F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E93-58D2-4B7F-81CE-EDE9454C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993-7228-4547-9DB7-5DB62AAE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6DC-4ACC-47B8-8F4F-5AE8C6AE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4D9B1-EE04-43D3-A918-469D07385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22669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Учебный план</a:t>
            </a: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МБОУ ООШ №2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1640" y="4859280"/>
            <a:ext cx="738684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Солодова Лидия Михайловна — учитель географии, кабинет №1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Сентябрь 2012 — Июнь 2013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 advTm="1000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География 6 класс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727280" y="2411280"/>
            <a:ext cx="6791400" cy="3434040"/>
            <a:chOff x="1727280" y="2411280"/>
            <a:chExt cx="6791400" cy="3434040"/>
          </a:xfrm>
        </p:grpSpPr>
        <p:sp>
          <p:nvSpPr>
            <p:cNvPr id="84" name=""/>
            <p:cNvSpPr/>
            <p:nvPr/>
          </p:nvSpPr>
          <p:spPr>
            <a:xfrm>
              <a:off x="3319200" y="5843880"/>
              <a:ext cx="3607200" cy="1080"/>
            </a:xfrm>
            <a:custGeom>
              <a:avLst/>
              <a:gdLst/>
              <a:ahLst/>
              <a:rect l="l" t="t" r="r" b="b"/>
              <a:pathLst>
                <a:path w="10025" h="1">
                  <a:moveTo>
                    <a:pt x="0" y="0"/>
                  </a:moveTo>
                  <a:lnTo>
                    <a:pt x="1256" y="0"/>
                  </a:lnTo>
                  <a:lnTo>
                    <a:pt x="2506" y="0"/>
                  </a:lnTo>
                  <a:lnTo>
                    <a:pt x="3762" y="0"/>
                  </a:lnTo>
                  <a:lnTo>
                    <a:pt x="5013" y="0"/>
                  </a:lnTo>
                  <a:lnTo>
                    <a:pt x="6263" y="0"/>
                  </a:lnTo>
                  <a:lnTo>
                    <a:pt x="7518" y="0"/>
                  </a:lnTo>
                  <a:lnTo>
                    <a:pt x="8769" y="0"/>
                  </a:lnTo>
                  <a:lnTo>
                    <a:pt x="1002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06240" y="5387040"/>
              <a:ext cx="5434200" cy="1080"/>
            </a:xfrm>
            <a:custGeom>
              <a:avLst/>
              <a:gdLst/>
              <a:ahLst/>
              <a:rect l="l" t="t" r="r" b="b"/>
              <a:pathLst>
                <a:path w="15098" h="1">
                  <a:moveTo>
                    <a:pt x="0" y="0"/>
                  </a:moveTo>
                  <a:lnTo>
                    <a:pt x="1888" y="0"/>
                  </a:lnTo>
                  <a:lnTo>
                    <a:pt x="3774" y="0"/>
                  </a:lnTo>
                  <a:lnTo>
                    <a:pt x="5661" y="0"/>
                  </a:lnTo>
                  <a:lnTo>
                    <a:pt x="7549" y="0"/>
                  </a:lnTo>
                  <a:lnTo>
                    <a:pt x="9436" y="0"/>
                  </a:lnTo>
                  <a:lnTo>
                    <a:pt x="11322" y="0"/>
                  </a:lnTo>
                  <a:lnTo>
                    <a:pt x="13209" y="0"/>
                  </a:lnTo>
                  <a:lnTo>
                    <a:pt x="1509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65160" y="4764960"/>
              <a:ext cx="6515280" cy="1440"/>
            </a:xfrm>
            <a:custGeom>
              <a:avLst/>
              <a:gdLst/>
              <a:ahLst/>
              <a:rect l="l" t="t" r="r" b="b"/>
              <a:pathLst>
                <a:path w="18104" h="1">
                  <a:moveTo>
                    <a:pt x="0" y="0"/>
                  </a:moveTo>
                  <a:lnTo>
                    <a:pt x="2264" y="0"/>
                  </a:lnTo>
                  <a:lnTo>
                    <a:pt x="4529" y="0"/>
                  </a:lnTo>
                  <a:lnTo>
                    <a:pt x="6787" y="0"/>
                  </a:lnTo>
                  <a:lnTo>
                    <a:pt x="9052" y="0"/>
                  </a:lnTo>
                  <a:lnTo>
                    <a:pt x="11315" y="0"/>
                  </a:lnTo>
                  <a:lnTo>
                    <a:pt x="13574" y="0"/>
                  </a:lnTo>
                  <a:lnTo>
                    <a:pt x="15838" y="0"/>
                  </a:lnTo>
                  <a:lnTo>
                    <a:pt x="1810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27280" y="4125960"/>
              <a:ext cx="6791400" cy="1440"/>
            </a:xfrm>
            <a:custGeom>
              <a:avLst/>
              <a:gdLst/>
              <a:ahLst/>
              <a:rect l="l" t="t" r="r" b="b"/>
              <a:pathLst>
                <a:path w="18871" h="1">
                  <a:moveTo>
                    <a:pt x="0" y="0"/>
                  </a:moveTo>
                  <a:lnTo>
                    <a:pt x="2358" y="0"/>
                  </a:lnTo>
                  <a:lnTo>
                    <a:pt x="4717" y="0"/>
                  </a:lnTo>
                  <a:lnTo>
                    <a:pt x="7076" y="0"/>
                  </a:lnTo>
                  <a:lnTo>
                    <a:pt x="9435" y="0"/>
                  </a:lnTo>
                  <a:lnTo>
                    <a:pt x="11793" y="0"/>
                  </a:lnTo>
                  <a:lnTo>
                    <a:pt x="14152" y="0"/>
                  </a:lnTo>
                  <a:lnTo>
                    <a:pt x="16511" y="0"/>
                  </a:lnTo>
                  <a:lnTo>
                    <a:pt x="1887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65160" y="3488040"/>
              <a:ext cx="6515280" cy="1440"/>
            </a:xfrm>
            <a:custGeom>
              <a:avLst/>
              <a:gdLst/>
              <a:ahLst/>
              <a:rect l="l" t="t" r="r" b="b"/>
              <a:pathLst>
                <a:path w="18104" h="1">
                  <a:moveTo>
                    <a:pt x="0" y="0"/>
                  </a:moveTo>
                  <a:lnTo>
                    <a:pt x="2264" y="0"/>
                  </a:lnTo>
                  <a:lnTo>
                    <a:pt x="4529" y="0"/>
                  </a:lnTo>
                  <a:lnTo>
                    <a:pt x="6787" y="0"/>
                  </a:lnTo>
                  <a:lnTo>
                    <a:pt x="9052" y="0"/>
                  </a:lnTo>
                  <a:lnTo>
                    <a:pt x="11315" y="0"/>
                  </a:lnTo>
                  <a:lnTo>
                    <a:pt x="13574" y="0"/>
                  </a:lnTo>
                  <a:lnTo>
                    <a:pt x="15838" y="0"/>
                  </a:lnTo>
                  <a:lnTo>
                    <a:pt x="1810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06240" y="2866320"/>
              <a:ext cx="5434200" cy="1080"/>
            </a:xfrm>
            <a:custGeom>
              <a:avLst/>
              <a:gdLst/>
              <a:ahLst/>
              <a:rect l="l" t="t" r="r" b="b"/>
              <a:pathLst>
                <a:path w="15098" h="1">
                  <a:moveTo>
                    <a:pt x="0" y="0"/>
                  </a:moveTo>
                  <a:lnTo>
                    <a:pt x="1888" y="0"/>
                  </a:lnTo>
                  <a:lnTo>
                    <a:pt x="3774" y="0"/>
                  </a:lnTo>
                  <a:lnTo>
                    <a:pt x="5661" y="0"/>
                  </a:lnTo>
                  <a:lnTo>
                    <a:pt x="7549" y="0"/>
                  </a:lnTo>
                  <a:lnTo>
                    <a:pt x="9436" y="0"/>
                  </a:lnTo>
                  <a:lnTo>
                    <a:pt x="11322" y="0"/>
                  </a:lnTo>
                  <a:lnTo>
                    <a:pt x="13209" y="0"/>
                  </a:lnTo>
                  <a:lnTo>
                    <a:pt x="1509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27280" y="2411280"/>
              <a:ext cx="5199120" cy="3434040"/>
            </a:xfrm>
            <a:custGeom>
              <a:avLst/>
              <a:gdLst/>
              <a:ahLst/>
              <a:rect l="l" t="t" r="r" b="b"/>
              <a:pathLst>
                <a:path w="14447" h="9545">
                  <a:moveTo>
                    <a:pt x="4422" y="9544"/>
                  </a:moveTo>
                  <a:lnTo>
                    <a:pt x="3791" y="9344"/>
                  </a:lnTo>
                  <a:lnTo>
                    <a:pt x="3107" y="9039"/>
                  </a:lnTo>
                  <a:lnTo>
                    <a:pt x="2458" y="8675"/>
                  </a:lnTo>
                  <a:lnTo>
                    <a:pt x="1886" y="8275"/>
                  </a:lnTo>
                  <a:lnTo>
                    <a:pt x="1390" y="7857"/>
                  </a:lnTo>
                  <a:lnTo>
                    <a:pt x="978" y="7427"/>
                  </a:lnTo>
                  <a:lnTo>
                    <a:pt x="642" y="6992"/>
                  </a:lnTo>
                  <a:lnTo>
                    <a:pt x="383" y="6545"/>
                  </a:lnTo>
                  <a:lnTo>
                    <a:pt x="199" y="6098"/>
                  </a:lnTo>
                  <a:lnTo>
                    <a:pt x="88" y="5657"/>
                  </a:lnTo>
                  <a:lnTo>
                    <a:pt x="35" y="5216"/>
                  </a:lnTo>
                  <a:lnTo>
                    <a:pt x="0" y="4769"/>
                  </a:lnTo>
                  <a:lnTo>
                    <a:pt x="35" y="4328"/>
                  </a:lnTo>
                  <a:lnTo>
                    <a:pt x="88" y="3887"/>
                  </a:lnTo>
                  <a:lnTo>
                    <a:pt x="199" y="3440"/>
                  </a:lnTo>
                  <a:lnTo>
                    <a:pt x="383" y="2993"/>
                  </a:lnTo>
                  <a:lnTo>
                    <a:pt x="642" y="2552"/>
                  </a:lnTo>
                  <a:lnTo>
                    <a:pt x="978" y="2111"/>
                  </a:lnTo>
                  <a:lnTo>
                    <a:pt x="1390" y="1682"/>
                  </a:lnTo>
                  <a:lnTo>
                    <a:pt x="1886" y="1265"/>
                  </a:lnTo>
                  <a:lnTo>
                    <a:pt x="2458" y="871"/>
                  </a:lnTo>
                  <a:lnTo>
                    <a:pt x="3107" y="505"/>
                  </a:lnTo>
                  <a:lnTo>
                    <a:pt x="3791" y="194"/>
                  </a:lnTo>
                  <a:lnTo>
                    <a:pt x="4422" y="0"/>
                  </a:lnTo>
                  <a:lnTo>
                    <a:pt x="5678" y="0"/>
                  </a:lnTo>
                  <a:lnTo>
                    <a:pt x="6928" y="0"/>
                  </a:lnTo>
                  <a:lnTo>
                    <a:pt x="8184" y="0"/>
                  </a:lnTo>
                  <a:lnTo>
                    <a:pt x="9435" y="0"/>
                  </a:lnTo>
                  <a:lnTo>
                    <a:pt x="10685" y="0"/>
                  </a:lnTo>
                  <a:lnTo>
                    <a:pt x="11940" y="0"/>
                  </a:lnTo>
                  <a:lnTo>
                    <a:pt x="13191" y="0"/>
                  </a:lnTo>
                  <a:lnTo>
                    <a:pt x="1444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6160" y="2411280"/>
              <a:ext cx="1195200" cy="3434040"/>
            </a:xfrm>
            <a:custGeom>
              <a:avLst/>
              <a:gdLst/>
              <a:ahLst/>
              <a:rect l="l" t="t" r="r" b="b"/>
              <a:pathLst>
                <a:path w="3321" h="9545">
                  <a:moveTo>
                    <a:pt x="3320" y="9544"/>
                  </a:moveTo>
                  <a:lnTo>
                    <a:pt x="2843" y="9344"/>
                  </a:lnTo>
                  <a:lnTo>
                    <a:pt x="2329" y="9039"/>
                  </a:lnTo>
                  <a:lnTo>
                    <a:pt x="1845" y="8675"/>
                  </a:lnTo>
                  <a:lnTo>
                    <a:pt x="1416" y="8275"/>
                  </a:lnTo>
                  <a:lnTo>
                    <a:pt x="1044" y="7857"/>
                  </a:lnTo>
                  <a:lnTo>
                    <a:pt x="737" y="7427"/>
                  </a:lnTo>
                  <a:lnTo>
                    <a:pt x="484" y="6992"/>
                  </a:lnTo>
                  <a:lnTo>
                    <a:pt x="289" y="6545"/>
                  </a:lnTo>
                  <a:lnTo>
                    <a:pt x="147" y="6098"/>
                  </a:lnTo>
                  <a:lnTo>
                    <a:pt x="64" y="5657"/>
                  </a:lnTo>
                  <a:lnTo>
                    <a:pt x="29" y="5216"/>
                  </a:lnTo>
                  <a:lnTo>
                    <a:pt x="0" y="4769"/>
                  </a:lnTo>
                  <a:lnTo>
                    <a:pt x="29" y="4328"/>
                  </a:lnTo>
                  <a:lnTo>
                    <a:pt x="64" y="3887"/>
                  </a:lnTo>
                  <a:lnTo>
                    <a:pt x="147" y="3440"/>
                  </a:lnTo>
                  <a:lnTo>
                    <a:pt x="289" y="2993"/>
                  </a:lnTo>
                  <a:lnTo>
                    <a:pt x="484" y="2552"/>
                  </a:lnTo>
                  <a:lnTo>
                    <a:pt x="737" y="2111"/>
                  </a:lnTo>
                  <a:lnTo>
                    <a:pt x="1044" y="1682"/>
                  </a:lnTo>
                  <a:lnTo>
                    <a:pt x="1416" y="1265"/>
                  </a:lnTo>
                  <a:lnTo>
                    <a:pt x="1845" y="871"/>
                  </a:lnTo>
                  <a:lnTo>
                    <a:pt x="2329" y="505"/>
                  </a:lnTo>
                  <a:lnTo>
                    <a:pt x="2843" y="194"/>
                  </a:lnTo>
                  <a:lnTo>
                    <a:pt x="332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25040" y="2411280"/>
              <a:ext cx="796680" cy="3434040"/>
            </a:xfrm>
            <a:custGeom>
              <a:avLst/>
              <a:gdLst/>
              <a:ahLst/>
              <a:rect l="l" t="t" r="r" b="b"/>
              <a:pathLst>
                <a:path w="2212" h="9545">
                  <a:moveTo>
                    <a:pt x="2211" y="9544"/>
                  </a:moveTo>
                  <a:lnTo>
                    <a:pt x="1898" y="9344"/>
                  </a:lnTo>
                  <a:lnTo>
                    <a:pt x="1556" y="9039"/>
                  </a:lnTo>
                  <a:lnTo>
                    <a:pt x="1232" y="8675"/>
                  </a:lnTo>
                  <a:lnTo>
                    <a:pt x="943" y="8275"/>
                  </a:lnTo>
                  <a:lnTo>
                    <a:pt x="696" y="7857"/>
                  </a:lnTo>
                  <a:lnTo>
                    <a:pt x="489" y="7427"/>
                  </a:lnTo>
                  <a:lnTo>
                    <a:pt x="324" y="6992"/>
                  </a:lnTo>
                  <a:lnTo>
                    <a:pt x="195" y="6545"/>
                  </a:lnTo>
                  <a:lnTo>
                    <a:pt x="100" y="6098"/>
                  </a:lnTo>
                  <a:lnTo>
                    <a:pt x="41" y="5657"/>
                  </a:lnTo>
                  <a:lnTo>
                    <a:pt x="17" y="5216"/>
                  </a:lnTo>
                  <a:lnTo>
                    <a:pt x="0" y="4769"/>
                  </a:lnTo>
                  <a:lnTo>
                    <a:pt x="17" y="4328"/>
                  </a:lnTo>
                  <a:lnTo>
                    <a:pt x="41" y="3887"/>
                  </a:lnTo>
                  <a:lnTo>
                    <a:pt x="100" y="3440"/>
                  </a:lnTo>
                  <a:lnTo>
                    <a:pt x="195" y="2993"/>
                  </a:lnTo>
                  <a:lnTo>
                    <a:pt x="324" y="2552"/>
                  </a:lnTo>
                  <a:lnTo>
                    <a:pt x="489" y="2111"/>
                  </a:lnTo>
                  <a:lnTo>
                    <a:pt x="696" y="1682"/>
                  </a:lnTo>
                  <a:lnTo>
                    <a:pt x="943" y="1265"/>
                  </a:lnTo>
                  <a:lnTo>
                    <a:pt x="1232" y="871"/>
                  </a:lnTo>
                  <a:lnTo>
                    <a:pt x="1556" y="505"/>
                  </a:lnTo>
                  <a:lnTo>
                    <a:pt x="1898" y="194"/>
                  </a:lnTo>
                  <a:lnTo>
                    <a:pt x="22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74640" y="2411280"/>
              <a:ext cx="397800" cy="3434040"/>
            </a:xfrm>
            <a:custGeom>
              <a:avLst/>
              <a:gdLst/>
              <a:ahLst/>
              <a:rect l="l" t="t" r="r" b="b"/>
              <a:pathLst>
                <a:path w="1109" h="9545">
                  <a:moveTo>
                    <a:pt x="1108" y="9544"/>
                  </a:moveTo>
                  <a:lnTo>
                    <a:pt x="949" y="9344"/>
                  </a:lnTo>
                  <a:lnTo>
                    <a:pt x="777" y="9039"/>
                  </a:lnTo>
                  <a:lnTo>
                    <a:pt x="613" y="8675"/>
                  </a:lnTo>
                  <a:lnTo>
                    <a:pt x="471" y="8275"/>
                  </a:lnTo>
                  <a:lnTo>
                    <a:pt x="348" y="7857"/>
                  </a:lnTo>
                  <a:lnTo>
                    <a:pt x="248" y="7427"/>
                  </a:lnTo>
                  <a:lnTo>
                    <a:pt x="159" y="6992"/>
                  </a:lnTo>
                  <a:lnTo>
                    <a:pt x="94" y="6545"/>
                  </a:lnTo>
                  <a:lnTo>
                    <a:pt x="47" y="6098"/>
                  </a:lnTo>
                  <a:lnTo>
                    <a:pt x="23" y="5657"/>
                  </a:lnTo>
                  <a:lnTo>
                    <a:pt x="11" y="5216"/>
                  </a:lnTo>
                  <a:lnTo>
                    <a:pt x="0" y="4769"/>
                  </a:lnTo>
                  <a:lnTo>
                    <a:pt x="11" y="4328"/>
                  </a:lnTo>
                  <a:lnTo>
                    <a:pt x="23" y="3887"/>
                  </a:lnTo>
                  <a:lnTo>
                    <a:pt x="47" y="3440"/>
                  </a:lnTo>
                  <a:lnTo>
                    <a:pt x="94" y="2993"/>
                  </a:lnTo>
                  <a:lnTo>
                    <a:pt x="159" y="2552"/>
                  </a:lnTo>
                  <a:lnTo>
                    <a:pt x="248" y="2111"/>
                  </a:lnTo>
                  <a:lnTo>
                    <a:pt x="348" y="1682"/>
                  </a:lnTo>
                  <a:lnTo>
                    <a:pt x="471" y="1265"/>
                  </a:lnTo>
                  <a:lnTo>
                    <a:pt x="613" y="871"/>
                  </a:lnTo>
                  <a:lnTo>
                    <a:pt x="777" y="505"/>
                  </a:lnTo>
                  <a:lnTo>
                    <a:pt x="949" y="194"/>
                  </a:lnTo>
                  <a:lnTo>
                    <a:pt x="110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23520" y="2411280"/>
              <a:ext cx="1080" cy="3434040"/>
            </a:xfrm>
            <a:custGeom>
              <a:avLst/>
              <a:gdLst/>
              <a:ahLst/>
              <a:rect l="l" t="t" r="r" b="b"/>
              <a:pathLst>
                <a:path w="1" h="9545">
                  <a:moveTo>
                    <a:pt x="0" y="9544"/>
                  </a:moveTo>
                  <a:lnTo>
                    <a:pt x="0" y="9344"/>
                  </a:lnTo>
                  <a:lnTo>
                    <a:pt x="0" y="9039"/>
                  </a:lnTo>
                  <a:lnTo>
                    <a:pt x="0" y="8675"/>
                  </a:lnTo>
                  <a:lnTo>
                    <a:pt x="0" y="8275"/>
                  </a:lnTo>
                  <a:lnTo>
                    <a:pt x="0" y="7857"/>
                  </a:lnTo>
                  <a:lnTo>
                    <a:pt x="0" y="7427"/>
                  </a:lnTo>
                  <a:lnTo>
                    <a:pt x="0" y="6992"/>
                  </a:lnTo>
                  <a:lnTo>
                    <a:pt x="0" y="6545"/>
                  </a:lnTo>
                  <a:lnTo>
                    <a:pt x="0" y="6098"/>
                  </a:lnTo>
                  <a:lnTo>
                    <a:pt x="0" y="5657"/>
                  </a:lnTo>
                  <a:lnTo>
                    <a:pt x="0" y="5216"/>
                  </a:lnTo>
                  <a:lnTo>
                    <a:pt x="0" y="4769"/>
                  </a:lnTo>
                  <a:lnTo>
                    <a:pt x="0" y="4328"/>
                  </a:lnTo>
                  <a:lnTo>
                    <a:pt x="0" y="3887"/>
                  </a:lnTo>
                  <a:lnTo>
                    <a:pt x="0" y="3440"/>
                  </a:lnTo>
                  <a:lnTo>
                    <a:pt x="0" y="2993"/>
                  </a:lnTo>
                  <a:lnTo>
                    <a:pt x="0" y="2552"/>
                  </a:lnTo>
                  <a:lnTo>
                    <a:pt x="0" y="2111"/>
                  </a:lnTo>
                  <a:lnTo>
                    <a:pt x="0" y="1682"/>
                  </a:lnTo>
                  <a:lnTo>
                    <a:pt x="0" y="1265"/>
                  </a:lnTo>
                  <a:lnTo>
                    <a:pt x="0" y="871"/>
                  </a:lnTo>
                  <a:lnTo>
                    <a:pt x="0" y="505"/>
                  </a:lnTo>
                  <a:lnTo>
                    <a:pt x="0" y="19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72800" y="2411280"/>
              <a:ext cx="398160" cy="3434040"/>
            </a:xfrm>
            <a:custGeom>
              <a:avLst/>
              <a:gdLst/>
              <a:ahLst/>
              <a:rect l="l" t="t" r="r" b="b"/>
              <a:pathLst>
                <a:path w="1109" h="9545">
                  <a:moveTo>
                    <a:pt x="0" y="9544"/>
                  </a:moveTo>
                  <a:lnTo>
                    <a:pt x="159" y="9344"/>
                  </a:lnTo>
                  <a:lnTo>
                    <a:pt x="330" y="9039"/>
                  </a:lnTo>
                  <a:lnTo>
                    <a:pt x="495" y="8675"/>
                  </a:lnTo>
                  <a:lnTo>
                    <a:pt x="637" y="8275"/>
                  </a:lnTo>
                  <a:lnTo>
                    <a:pt x="760" y="7857"/>
                  </a:lnTo>
                  <a:lnTo>
                    <a:pt x="860" y="7427"/>
                  </a:lnTo>
                  <a:lnTo>
                    <a:pt x="949" y="6992"/>
                  </a:lnTo>
                  <a:lnTo>
                    <a:pt x="1013" y="6545"/>
                  </a:lnTo>
                  <a:lnTo>
                    <a:pt x="1060" y="6098"/>
                  </a:lnTo>
                  <a:lnTo>
                    <a:pt x="1085" y="5657"/>
                  </a:lnTo>
                  <a:lnTo>
                    <a:pt x="1096" y="5216"/>
                  </a:lnTo>
                  <a:lnTo>
                    <a:pt x="1108" y="4769"/>
                  </a:lnTo>
                  <a:lnTo>
                    <a:pt x="1096" y="4328"/>
                  </a:lnTo>
                  <a:lnTo>
                    <a:pt x="1085" y="3887"/>
                  </a:lnTo>
                  <a:lnTo>
                    <a:pt x="1060" y="3440"/>
                  </a:lnTo>
                  <a:lnTo>
                    <a:pt x="1013" y="2993"/>
                  </a:lnTo>
                  <a:lnTo>
                    <a:pt x="949" y="2552"/>
                  </a:lnTo>
                  <a:lnTo>
                    <a:pt x="860" y="2111"/>
                  </a:lnTo>
                  <a:lnTo>
                    <a:pt x="760" y="1682"/>
                  </a:lnTo>
                  <a:lnTo>
                    <a:pt x="637" y="1265"/>
                  </a:lnTo>
                  <a:lnTo>
                    <a:pt x="495" y="871"/>
                  </a:lnTo>
                  <a:lnTo>
                    <a:pt x="330" y="505"/>
                  </a:lnTo>
                  <a:lnTo>
                    <a:pt x="159" y="19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25320" y="2411280"/>
              <a:ext cx="796320" cy="3434040"/>
            </a:xfrm>
            <a:custGeom>
              <a:avLst/>
              <a:gdLst/>
              <a:ahLst/>
              <a:rect l="l" t="t" r="r" b="b"/>
              <a:pathLst>
                <a:path w="2213" h="9545">
                  <a:moveTo>
                    <a:pt x="0" y="9544"/>
                  </a:moveTo>
                  <a:lnTo>
                    <a:pt x="313" y="9344"/>
                  </a:lnTo>
                  <a:lnTo>
                    <a:pt x="655" y="9039"/>
                  </a:lnTo>
                  <a:lnTo>
                    <a:pt x="979" y="8675"/>
                  </a:lnTo>
                  <a:lnTo>
                    <a:pt x="1268" y="8275"/>
                  </a:lnTo>
                  <a:lnTo>
                    <a:pt x="1516" y="7857"/>
                  </a:lnTo>
                  <a:lnTo>
                    <a:pt x="1722" y="7427"/>
                  </a:lnTo>
                  <a:lnTo>
                    <a:pt x="1888" y="6992"/>
                  </a:lnTo>
                  <a:lnTo>
                    <a:pt x="2017" y="6545"/>
                  </a:lnTo>
                  <a:lnTo>
                    <a:pt x="2111" y="6098"/>
                  </a:lnTo>
                  <a:lnTo>
                    <a:pt x="2170" y="5657"/>
                  </a:lnTo>
                  <a:lnTo>
                    <a:pt x="2194" y="5216"/>
                  </a:lnTo>
                  <a:lnTo>
                    <a:pt x="2212" y="4769"/>
                  </a:lnTo>
                  <a:lnTo>
                    <a:pt x="2194" y="4328"/>
                  </a:lnTo>
                  <a:lnTo>
                    <a:pt x="2170" y="3887"/>
                  </a:lnTo>
                  <a:lnTo>
                    <a:pt x="2111" y="3440"/>
                  </a:lnTo>
                  <a:lnTo>
                    <a:pt x="2017" y="2993"/>
                  </a:lnTo>
                  <a:lnTo>
                    <a:pt x="1888" y="2552"/>
                  </a:lnTo>
                  <a:lnTo>
                    <a:pt x="1722" y="2111"/>
                  </a:lnTo>
                  <a:lnTo>
                    <a:pt x="1516" y="1682"/>
                  </a:lnTo>
                  <a:lnTo>
                    <a:pt x="1268" y="1265"/>
                  </a:lnTo>
                  <a:lnTo>
                    <a:pt x="979" y="871"/>
                  </a:lnTo>
                  <a:lnTo>
                    <a:pt x="655" y="505"/>
                  </a:lnTo>
                  <a:lnTo>
                    <a:pt x="313" y="19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76040" y="2411280"/>
              <a:ext cx="1194840" cy="3434040"/>
            </a:xfrm>
            <a:custGeom>
              <a:avLst/>
              <a:gdLst/>
              <a:ahLst/>
              <a:rect l="l" t="t" r="r" b="b"/>
              <a:pathLst>
                <a:path w="3321" h="9545">
                  <a:moveTo>
                    <a:pt x="0" y="9544"/>
                  </a:moveTo>
                  <a:lnTo>
                    <a:pt x="477" y="9344"/>
                  </a:lnTo>
                  <a:lnTo>
                    <a:pt x="991" y="9039"/>
                  </a:lnTo>
                  <a:lnTo>
                    <a:pt x="1474" y="8675"/>
                  </a:lnTo>
                  <a:lnTo>
                    <a:pt x="1904" y="8275"/>
                  </a:lnTo>
                  <a:lnTo>
                    <a:pt x="2276" y="7857"/>
                  </a:lnTo>
                  <a:lnTo>
                    <a:pt x="2582" y="7427"/>
                  </a:lnTo>
                  <a:lnTo>
                    <a:pt x="2836" y="6992"/>
                  </a:lnTo>
                  <a:lnTo>
                    <a:pt x="3030" y="6545"/>
                  </a:lnTo>
                  <a:lnTo>
                    <a:pt x="3172" y="6098"/>
                  </a:lnTo>
                  <a:lnTo>
                    <a:pt x="3255" y="5657"/>
                  </a:lnTo>
                  <a:lnTo>
                    <a:pt x="3291" y="5216"/>
                  </a:lnTo>
                  <a:lnTo>
                    <a:pt x="3320" y="4769"/>
                  </a:lnTo>
                  <a:lnTo>
                    <a:pt x="3291" y="4328"/>
                  </a:lnTo>
                  <a:lnTo>
                    <a:pt x="3255" y="3887"/>
                  </a:lnTo>
                  <a:lnTo>
                    <a:pt x="3172" y="3440"/>
                  </a:lnTo>
                  <a:lnTo>
                    <a:pt x="3030" y="2993"/>
                  </a:lnTo>
                  <a:lnTo>
                    <a:pt x="2836" y="2552"/>
                  </a:lnTo>
                  <a:lnTo>
                    <a:pt x="2582" y="2111"/>
                  </a:lnTo>
                  <a:lnTo>
                    <a:pt x="2276" y="1682"/>
                  </a:lnTo>
                  <a:lnTo>
                    <a:pt x="1904" y="1265"/>
                  </a:lnTo>
                  <a:lnTo>
                    <a:pt x="1474" y="871"/>
                  </a:lnTo>
                  <a:lnTo>
                    <a:pt x="991" y="505"/>
                  </a:lnTo>
                  <a:lnTo>
                    <a:pt x="477" y="19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6400" y="2411280"/>
              <a:ext cx="1591920" cy="3434040"/>
            </a:xfrm>
            <a:custGeom>
              <a:avLst/>
              <a:gdLst/>
              <a:ahLst/>
              <a:rect l="l" t="t" r="r" b="b"/>
              <a:pathLst>
                <a:path w="4425" h="9545">
                  <a:moveTo>
                    <a:pt x="0" y="9544"/>
                  </a:moveTo>
                  <a:lnTo>
                    <a:pt x="632" y="9344"/>
                  </a:lnTo>
                  <a:lnTo>
                    <a:pt x="1316" y="9039"/>
                  </a:lnTo>
                  <a:lnTo>
                    <a:pt x="1964" y="8675"/>
                  </a:lnTo>
                  <a:lnTo>
                    <a:pt x="2537" y="8275"/>
                  </a:lnTo>
                  <a:lnTo>
                    <a:pt x="3032" y="7857"/>
                  </a:lnTo>
                  <a:lnTo>
                    <a:pt x="3444" y="7427"/>
                  </a:lnTo>
                  <a:lnTo>
                    <a:pt x="3781" y="6992"/>
                  </a:lnTo>
                  <a:lnTo>
                    <a:pt x="4040" y="6545"/>
                  </a:lnTo>
                  <a:lnTo>
                    <a:pt x="4223" y="6098"/>
                  </a:lnTo>
                  <a:lnTo>
                    <a:pt x="4335" y="5657"/>
                  </a:lnTo>
                  <a:lnTo>
                    <a:pt x="4388" y="5216"/>
                  </a:lnTo>
                  <a:lnTo>
                    <a:pt x="4424" y="4769"/>
                  </a:lnTo>
                  <a:lnTo>
                    <a:pt x="4388" y="4328"/>
                  </a:lnTo>
                  <a:lnTo>
                    <a:pt x="4335" y="3887"/>
                  </a:lnTo>
                  <a:lnTo>
                    <a:pt x="4223" y="3440"/>
                  </a:lnTo>
                  <a:lnTo>
                    <a:pt x="4040" y="2993"/>
                  </a:lnTo>
                  <a:lnTo>
                    <a:pt x="3781" y="2552"/>
                  </a:lnTo>
                  <a:lnTo>
                    <a:pt x="3444" y="2111"/>
                  </a:lnTo>
                  <a:lnTo>
                    <a:pt x="3032" y="1682"/>
                  </a:lnTo>
                  <a:lnTo>
                    <a:pt x="2537" y="1265"/>
                  </a:lnTo>
                  <a:lnTo>
                    <a:pt x="1964" y="871"/>
                  </a:lnTo>
                  <a:lnTo>
                    <a:pt x="1316" y="505"/>
                  </a:lnTo>
                  <a:lnTo>
                    <a:pt x="632" y="19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43040" y="2644200"/>
              <a:ext cx="1926360" cy="2623320"/>
            </a:xfrm>
            <a:custGeom>
              <a:avLst/>
              <a:gdLst/>
              <a:ahLst/>
              <a:rect l="l" t="t" r="r" b="b"/>
              <a:pathLst>
                <a:path w="5355" h="7294">
                  <a:moveTo>
                    <a:pt x="1332" y="2199"/>
                  </a:moveTo>
                  <a:lnTo>
                    <a:pt x="1332" y="2169"/>
                  </a:lnTo>
                  <a:lnTo>
                    <a:pt x="1296" y="2105"/>
                  </a:lnTo>
                  <a:lnTo>
                    <a:pt x="1202" y="2076"/>
                  </a:lnTo>
                  <a:lnTo>
                    <a:pt x="1220" y="2041"/>
                  </a:lnTo>
                  <a:lnTo>
                    <a:pt x="1185" y="1975"/>
                  </a:lnTo>
                  <a:lnTo>
                    <a:pt x="1208" y="1947"/>
                  </a:lnTo>
                  <a:lnTo>
                    <a:pt x="1191" y="1905"/>
                  </a:lnTo>
                  <a:lnTo>
                    <a:pt x="1196" y="1888"/>
                  </a:lnTo>
                  <a:lnTo>
                    <a:pt x="1208" y="1905"/>
                  </a:lnTo>
                  <a:lnTo>
                    <a:pt x="1208" y="1875"/>
                  </a:lnTo>
                  <a:lnTo>
                    <a:pt x="1255" y="1875"/>
                  </a:lnTo>
                  <a:lnTo>
                    <a:pt x="1243" y="1864"/>
                  </a:lnTo>
                  <a:lnTo>
                    <a:pt x="1196" y="1882"/>
                  </a:lnTo>
                  <a:lnTo>
                    <a:pt x="1179" y="1875"/>
                  </a:lnTo>
                  <a:lnTo>
                    <a:pt x="1191" y="1864"/>
                  </a:lnTo>
                  <a:lnTo>
                    <a:pt x="1167" y="1817"/>
                  </a:lnTo>
                  <a:lnTo>
                    <a:pt x="1191" y="1764"/>
                  </a:lnTo>
                  <a:lnTo>
                    <a:pt x="1179" y="1728"/>
                  </a:lnTo>
                  <a:lnTo>
                    <a:pt x="1208" y="1705"/>
                  </a:lnTo>
                  <a:lnTo>
                    <a:pt x="1238" y="1641"/>
                  </a:lnTo>
                  <a:lnTo>
                    <a:pt x="1249" y="1588"/>
                  </a:lnTo>
                  <a:lnTo>
                    <a:pt x="1296" y="1541"/>
                  </a:lnTo>
                  <a:lnTo>
                    <a:pt x="1391" y="1394"/>
                  </a:lnTo>
                  <a:lnTo>
                    <a:pt x="1427" y="1394"/>
                  </a:lnTo>
                  <a:lnTo>
                    <a:pt x="1385" y="1394"/>
                  </a:lnTo>
                  <a:lnTo>
                    <a:pt x="1397" y="1381"/>
                  </a:lnTo>
                  <a:lnTo>
                    <a:pt x="1415" y="1364"/>
                  </a:lnTo>
                  <a:lnTo>
                    <a:pt x="1409" y="1353"/>
                  </a:lnTo>
                  <a:lnTo>
                    <a:pt x="1427" y="1353"/>
                  </a:lnTo>
                  <a:lnTo>
                    <a:pt x="1409" y="1353"/>
                  </a:lnTo>
                  <a:lnTo>
                    <a:pt x="1432" y="1270"/>
                  </a:lnTo>
                  <a:lnTo>
                    <a:pt x="1515" y="1282"/>
                  </a:lnTo>
                  <a:lnTo>
                    <a:pt x="1515" y="1300"/>
                  </a:lnTo>
                  <a:lnTo>
                    <a:pt x="1468" y="1329"/>
                  </a:lnTo>
                  <a:lnTo>
                    <a:pt x="1474" y="1329"/>
                  </a:lnTo>
                  <a:lnTo>
                    <a:pt x="1515" y="1294"/>
                  </a:lnTo>
                  <a:lnTo>
                    <a:pt x="1497" y="1334"/>
                  </a:lnTo>
                  <a:lnTo>
                    <a:pt x="1462" y="1341"/>
                  </a:lnTo>
                  <a:lnTo>
                    <a:pt x="1503" y="1334"/>
                  </a:lnTo>
                  <a:lnTo>
                    <a:pt x="1538" y="1294"/>
                  </a:lnTo>
                  <a:lnTo>
                    <a:pt x="1544" y="1259"/>
                  </a:lnTo>
                  <a:lnTo>
                    <a:pt x="1544" y="1234"/>
                  </a:lnTo>
                  <a:lnTo>
                    <a:pt x="1533" y="1234"/>
                  </a:lnTo>
                  <a:lnTo>
                    <a:pt x="1533" y="1234"/>
                  </a:lnTo>
                  <a:lnTo>
                    <a:pt x="1533" y="1229"/>
                  </a:lnTo>
                  <a:lnTo>
                    <a:pt x="1563" y="1211"/>
                  </a:lnTo>
                  <a:lnTo>
                    <a:pt x="1544" y="1211"/>
                  </a:lnTo>
                  <a:lnTo>
                    <a:pt x="1557" y="1194"/>
                  </a:lnTo>
                  <a:lnTo>
                    <a:pt x="1527" y="1211"/>
                  </a:lnTo>
                  <a:lnTo>
                    <a:pt x="1510" y="1206"/>
                  </a:lnTo>
                  <a:lnTo>
                    <a:pt x="1521" y="1194"/>
                  </a:lnTo>
                  <a:lnTo>
                    <a:pt x="1521" y="1206"/>
                  </a:lnTo>
                  <a:lnTo>
                    <a:pt x="1538" y="1194"/>
                  </a:lnTo>
                  <a:lnTo>
                    <a:pt x="1521" y="1194"/>
                  </a:lnTo>
                  <a:lnTo>
                    <a:pt x="1544" y="1170"/>
                  </a:lnTo>
                  <a:lnTo>
                    <a:pt x="1510" y="1194"/>
                  </a:lnTo>
                  <a:lnTo>
                    <a:pt x="1491" y="1176"/>
                  </a:lnTo>
                  <a:lnTo>
                    <a:pt x="1533" y="1147"/>
                  </a:lnTo>
                  <a:lnTo>
                    <a:pt x="1503" y="1159"/>
                  </a:lnTo>
                  <a:lnTo>
                    <a:pt x="1503" y="1153"/>
                  </a:lnTo>
                  <a:lnTo>
                    <a:pt x="1527" y="1123"/>
                  </a:lnTo>
                  <a:lnTo>
                    <a:pt x="1491" y="1153"/>
                  </a:lnTo>
                  <a:lnTo>
                    <a:pt x="1474" y="1153"/>
                  </a:lnTo>
                  <a:lnTo>
                    <a:pt x="1491" y="1135"/>
                  </a:lnTo>
                  <a:lnTo>
                    <a:pt x="1468" y="1153"/>
                  </a:lnTo>
                  <a:lnTo>
                    <a:pt x="1444" y="1147"/>
                  </a:lnTo>
                  <a:lnTo>
                    <a:pt x="1468" y="1140"/>
                  </a:lnTo>
                  <a:lnTo>
                    <a:pt x="1485" y="1135"/>
                  </a:lnTo>
                  <a:lnTo>
                    <a:pt x="1497" y="1117"/>
                  </a:lnTo>
                  <a:lnTo>
                    <a:pt x="1485" y="1135"/>
                  </a:lnTo>
                  <a:lnTo>
                    <a:pt x="1457" y="1140"/>
                  </a:lnTo>
                  <a:lnTo>
                    <a:pt x="1444" y="1129"/>
                  </a:lnTo>
                  <a:lnTo>
                    <a:pt x="1468" y="1123"/>
                  </a:lnTo>
                  <a:lnTo>
                    <a:pt x="1457" y="1117"/>
                  </a:lnTo>
                  <a:lnTo>
                    <a:pt x="1427" y="1129"/>
                  </a:lnTo>
                  <a:lnTo>
                    <a:pt x="1402" y="1112"/>
                  </a:lnTo>
                  <a:lnTo>
                    <a:pt x="1438" y="1100"/>
                  </a:lnTo>
                  <a:lnTo>
                    <a:pt x="1409" y="1100"/>
                  </a:lnTo>
                  <a:lnTo>
                    <a:pt x="1438" y="1087"/>
                  </a:lnTo>
                  <a:lnTo>
                    <a:pt x="1480" y="1082"/>
                  </a:lnTo>
                  <a:lnTo>
                    <a:pt x="1438" y="1082"/>
                  </a:lnTo>
                  <a:lnTo>
                    <a:pt x="1457" y="1070"/>
                  </a:lnTo>
                  <a:lnTo>
                    <a:pt x="1432" y="1082"/>
                  </a:lnTo>
                  <a:lnTo>
                    <a:pt x="1421" y="1094"/>
                  </a:lnTo>
                  <a:lnTo>
                    <a:pt x="1421" y="1082"/>
                  </a:lnTo>
                  <a:lnTo>
                    <a:pt x="1444" y="1064"/>
                  </a:lnTo>
                  <a:lnTo>
                    <a:pt x="1480" y="1047"/>
                  </a:lnTo>
                  <a:lnTo>
                    <a:pt x="1491" y="1064"/>
                  </a:lnTo>
                  <a:lnTo>
                    <a:pt x="1503" y="1040"/>
                  </a:lnTo>
                  <a:lnTo>
                    <a:pt x="1485" y="1047"/>
                  </a:lnTo>
                  <a:lnTo>
                    <a:pt x="1480" y="1040"/>
                  </a:lnTo>
                  <a:lnTo>
                    <a:pt x="1510" y="1017"/>
                  </a:lnTo>
                  <a:lnTo>
                    <a:pt x="1480" y="1040"/>
                  </a:lnTo>
                  <a:lnTo>
                    <a:pt x="1462" y="1047"/>
                  </a:lnTo>
                  <a:lnTo>
                    <a:pt x="1450" y="1053"/>
                  </a:lnTo>
                  <a:lnTo>
                    <a:pt x="1457" y="1035"/>
                  </a:lnTo>
                  <a:lnTo>
                    <a:pt x="1444" y="1047"/>
                  </a:lnTo>
                  <a:lnTo>
                    <a:pt x="1462" y="1029"/>
                  </a:lnTo>
                  <a:lnTo>
                    <a:pt x="1432" y="1040"/>
                  </a:lnTo>
                  <a:lnTo>
                    <a:pt x="1468" y="1012"/>
                  </a:lnTo>
                  <a:lnTo>
                    <a:pt x="1444" y="1017"/>
                  </a:lnTo>
                  <a:lnTo>
                    <a:pt x="1444" y="1012"/>
                  </a:lnTo>
                  <a:lnTo>
                    <a:pt x="1457" y="1000"/>
                  </a:lnTo>
                  <a:lnTo>
                    <a:pt x="1444" y="994"/>
                  </a:lnTo>
                  <a:lnTo>
                    <a:pt x="1457" y="976"/>
                  </a:lnTo>
                  <a:lnTo>
                    <a:pt x="1491" y="994"/>
                  </a:lnTo>
                  <a:lnTo>
                    <a:pt x="1462" y="976"/>
                  </a:lnTo>
                  <a:lnTo>
                    <a:pt x="1491" y="953"/>
                  </a:lnTo>
                  <a:lnTo>
                    <a:pt x="1432" y="987"/>
                  </a:lnTo>
                  <a:lnTo>
                    <a:pt x="1432" y="987"/>
                  </a:lnTo>
                  <a:lnTo>
                    <a:pt x="1427" y="970"/>
                  </a:lnTo>
                  <a:lnTo>
                    <a:pt x="1421" y="959"/>
                  </a:lnTo>
                  <a:lnTo>
                    <a:pt x="1432" y="940"/>
                  </a:lnTo>
                  <a:lnTo>
                    <a:pt x="1438" y="940"/>
                  </a:lnTo>
                  <a:lnTo>
                    <a:pt x="1462" y="940"/>
                  </a:lnTo>
                  <a:lnTo>
                    <a:pt x="1421" y="929"/>
                  </a:lnTo>
                  <a:lnTo>
                    <a:pt x="1438" y="917"/>
                  </a:lnTo>
                  <a:lnTo>
                    <a:pt x="1444" y="935"/>
                  </a:lnTo>
                  <a:lnTo>
                    <a:pt x="1444" y="917"/>
                  </a:lnTo>
                  <a:lnTo>
                    <a:pt x="1462" y="906"/>
                  </a:lnTo>
                  <a:lnTo>
                    <a:pt x="1491" y="893"/>
                  </a:lnTo>
                  <a:lnTo>
                    <a:pt x="1474" y="893"/>
                  </a:lnTo>
                  <a:lnTo>
                    <a:pt x="1521" y="870"/>
                  </a:lnTo>
                  <a:lnTo>
                    <a:pt x="1510" y="859"/>
                  </a:lnTo>
                  <a:lnTo>
                    <a:pt x="1468" y="893"/>
                  </a:lnTo>
                  <a:lnTo>
                    <a:pt x="1515" y="847"/>
                  </a:lnTo>
                  <a:lnTo>
                    <a:pt x="1485" y="882"/>
                  </a:lnTo>
                  <a:lnTo>
                    <a:pt x="1432" y="912"/>
                  </a:lnTo>
                  <a:lnTo>
                    <a:pt x="1427" y="912"/>
                  </a:lnTo>
                  <a:lnTo>
                    <a:pt x="1432" y="893"/>
                  </a:lnTo>
                  <a:lnTo>
                    <a:pt x="1468" y="876"/>
                  </a:lnTo>
                  <a:lnTo>
                    <a:pt x="1432" y="888"/>
                  </a:lnTo>
                  <a:lnTo>
                    <a:pt x="1462" y="882"/>
                  </a:lnTo>
                  <a:lnTo>
                    <a:pt x="1480" y="835"/>
                  </a:lnTo>
                  <a:lnTo>
                    <a:pt x="1432" y="847"/>
                  </a:lnTo>
                  <a:lnTo>
                    <a:pt x="1409" y="870"/>
                  </a:lnTo>
                  <a:lnTo>
                    <a:pt x="1409" y="853"/>
                  </a:lnTo>
                  <a:lnTo>
                    <a:pt x="1468" y="829"/>
                  </a:lnTo>
                  <a:lnTo>
                    <a:pt x="1438" y="806"/>
                  </a:lnTo>
                  <a:lnTo>
                    <a:pt x="1450" y="782"/>
                  </a:lnTo>
                  <a:lnTo>
                    <a:pt x="1427" y="776"/>
                  </a:lnTo>
                  <a:lnTo>
                    <a:pt x="1457" y="765"/>
                  </a:lnTo>
                  <a:lnTo>
                    <a:pt x="1444" y="746"/>
                  </a:lnTo>
                  <a:lnTo>
                    <a:pt x="1462" y="759"/>
                  </a:lnTo>
                  <a:lnTo>
                    <a:pt x="1462" y="735"/>
                  </a:lnTo>
                  <a:lnTo>
                    <a:pt x="1474" y="735"/>
                  </a:lnTo>
                  <a:lnTo>
                    <a:pt x="1450" y="735"/>
                  </a:lnTo>
                  <a:lnTo>
                    <a:pt x="1444" y="723"/>
                  </a:lnTo>
                  <a:lnTo>
                    <a:pt x="1480" y="700"/>
                  </a:lnTo>
                  <a:lnTo>
                    <a:pt x="1450" y="718"/>
                  </a:lnTo>
                  <a:lnTo>
                    <a:pt x="1432" y="706"/>
                  </a:lnTo>
                  <a:lnTo>
                    <a:pt x="1468" y="646"/>
                  </a:lnTo>
                  <a:lnTo>
                    <a:pt x="1444" y="670"/>
                  </a:lnTo>
                  <a:lnTo>
                    <a:pt x="1409" y="718"/>
                  </a:lnTo>
                  <a:lnTo>
                    <a:pt x="1409" y="706"/>
                  </a:lnTo>
                  <a:lnTo>
                    <a:pt x="1385" y="706"/>
                  </a:lnTo>
                  <a:lnTo>
                    <a:pt x="1415" y="682"/>
                  </a:lnTo>
                  <a:lnTo>
                    <a:pt x="1409" y="670"/>
                  </a:lnTo>
                  <a:lnTo>
                    <a:pt x="1391" y="688"/>
                  </a:lnTo>
                  <a:lnTo>
                    <a:pt x="1374" y="670"/>
                  </a:lnTo>
                  <a:lnTo>
                    <a:pt x="1355" y="682"/>
                  </a:lnTo>
                  <a:lnTo>
                    <a:pt x="1379" y="682"/>
                  </a:lnTo>
                  <a:lnTo>
                    <a:pt x="1374" y="712"/>
                  </a:lnTo>
                  <a:lnTo>
                    <a:pt x="1321" y="693"/>
                  </a:lnTo>
                  <a:lnTo>
                    <a:pt x="1321" y="665"/>
                  </a:lnTo>
                  <a:lnTo>
                    <a:pt x="1279" y="646"/>
                  </a:lnTo>
                  <a:lnTo>
                    <a:pt x="1321" y="623"/>
                  </a:lnTo>
                  <a:lnTo>
                    <a:pt x="1302" y="641"/>
                  </a:lnTo>
                  <a:lnTo>
                    <a:pt x="1332" y="629"/>
                  </a:lnTo>
                  <a:lnTo>
                    <a:pt x="1321" y="618"/>
                  </a:lnTo>
                  <a:lnTo>
                    <a:pt x="1268" y="635"/>
                  </a:lnTo>
                  <a:lnTo>
                    <a:pt x="1232" y="629"/>
                  </a:lnTo>
                  <a:lnTo>
                    <a:pt x="1249" y="612"/>
                  </a:lnTo>
                  <a:lnTo>
                    <a:pt x="1226" y="623"/>
                  </a:lnTo>
                  <a:lnTo>
                    <a:pt x="1120" y="618"/>
                  </a:lnTo>
                  <a:lnTo>
                    <a:pt x="1108" y="606"/>
                  </a:lnTo>
                  <a:lnTo>
                    <a:pt x="1143" y="582"/>
                  </a:lnTo>
                  <a:lnTo>
                    <a:pt x="1096" y="599"/>
                  </a:lnTo>
                  <a:lnTo>
                    <a:pt x="1079" y="593"/>
                  </a:lnTo>
                  <a:lnTo>
                    <a:pt x="1102" y="582"/>
                  </a:lnTo>
                  <a:lnTo>
                    <a:pt x="1073" y="588"/>
                  </a:lnTo>
                  <a:lnTo>
                    <a:pt x="1090" y="576"/>
                  </a:lnTo>
                  <a:lnTo>
                    <a:pt x="1062" y="582"/>
                  </a:lnTo>
                  <a:lnTo>
                    <a:pt x="1090" y="576"/>
                  </a:lnTo>
                  <a:lnTo>
                    <a:pt x="1067" y="571"/>
                  </a:lnTo>
                  <a:lnTo>
                    <a:pt x="1096" y="559"/>
                  </a:lnTo>
                  <a:lnTo>
                    <a:pt x="1043" y="571"/>
                  </a:lnTo>
                  <a:lnTo>
                    <a:pt x="1049" y="559"/>
                  </a:lnTo>
                  <a:lnTo>
                    <a:pt x="1020" y="576"/>
                  </a:lnTo>
                  <a:lnTo>
                    <a:pt x="1049" y="553"/>
                  </a:lnTo>
                  <a:lnTo>
                    <a:pt x="979" y="576"/>
                  </a:lnTo>
                  <a:lnTo>
                    <a:pt x="990" y="588"/>
                  </a:lnTo>
                  <a:lnTo>
                    <a:pt x="960" y="593"/>
                  </a:lnTo>
                  <a:lnTo>
                    <a:pt x="996" y="593"/>
                  </a:lnTo>
                  <a:lnTo>
                    <a:pt x="967" y="612"/>
                  </a:lnTo>
                  <a:lnTo>
                    <a:pt x="931" y="623"/>
                  </a:lnTo>
                  <a:lnTo>
                    <a:pt x="901" y="629"/>
                  </a:lnTo>
                  <a:lnTo>
                    <a:pt x="907" y="612"/>
                  </a:lnTo>
                  <a:lnTo>
                    <a:pt x="884" y="629"/>
                  </a:lnTo>
                  <a:lnTo>
                    <a:pt x="867" y="641"/>
                  </a:lnTo>
                  <a:lnTo>
                    <a:pt x="854" y="635"/>
                  </a:lnTo>
                  <a:lnTo>
                    <a:pt x="790" y="665"/>
                  </a:lnTo>
                  <a:lnTo>
                    <a:pt x="754" y="659"/>
                  </a:lnTo>
                  <a:lnTo>
                    <a:pt x="825" y="629"/>
                  </a:lnTo>
                  <a:lnTo>
                    <a:pt x="795" y="641"/>
                  </a:lnTo>
                  <a:lnTo>
                    <a:pt x="784" y="635"/>
                  </a:lnTo>
                  <a:lnTo>
                    <a:pt x="860" y="582"/>
                  </a:lnTo>
                  <a:lnTo>
                    <a:pt x="926" y="565"/>
                  </a:lnTo>
                  <a:lnTo>
                    <a:pt x="973" y="576"/>
                  </a:lnTo>
                  <a:lnTo>
                    <a:pt x="943" y="559"/>
                  </a:lnTo>
                  <a:lnTo>
                    <a:pt x="1002" y="541"/>
                  </a:lnTo>
                  <a:lnTo>
                    <a:pt x="954" y="553"/>
                  </a:lnTo>
                  <a:lnTo>
                    <a:pt x="937" y="546"/>
                  </a:lnTo>
                  <a:lnTo>
                    <a:pt x="795" y="606"/>
                  </a:lnTo>
                  <a:lnTo>
                    <a:pt x="767" y="606"/>
                  </a:lnTo>
                  <a:lnTo>
                    <a:pt x="760" y="623"/>
                  </a:lnTo>
                  <a:lnTo>
                    <a:pt x="725" y="641"/>
                  </a:lnTo>
                  <a:lnTo>
                    <a:pt x="648" y="665"/>
                  </a:lnTo>
                  <a:lnTo>
                    <a:pt x="672" y="676"/>
                  </a:lnTo>
                  <a:lnTo>
                    <a:pt x="654" y="688"/>
                  </a:lnTo>
                  <a:lnTo>
                    <a:pt x="583" y="723"/>
                  </a:lnTo>
                  <a:lnTo>
                    <a:pt x="442" y="765"/>
                  </a:lnTo>
                  <a:lnTo>
                    <a:pt x="425" y="788"/>
                  </a:lnTo>
                  <a:lnTo>
                    <a:pt x="377" y="793"/>
                  </a:lnTo>
                  <a:lnTo>
                    <a:pt x="359" y="806"/>
                  </a:lnTo>
                  <a:lnTo>
                    <a:pt x="312" y="817"/>
                  </a:lnTo>
                  <a:lnTo>
                    <a:pt x="289" y="823"/>
                  </a:lnTo>
                  <a:lnTo>
                    <a:pt x="312" y="829"/>
                  </a:lnTo>
                  <a:lnTo>
                    <a:pt x="283" y="840"/>
                  </a:lnTo>
                  <a:lnTo>
                    <a:pt x="294" y="829"/>
                  </a:lnTo>
                  <a:lnTo>
                    <a:pt x="230" y="847"/>
                  </a:lnTo>
                  <a:lnTo>
                    <a:pt x="206" y="865"/>
                  </a:lnTo>
                  <a:lnTo>
                    <a:pt x="217" y="847"/>
                  </a:lnTo>
                  <a:lnTo>
                    <a:pt x="123" y="876"/>
                  </a:lnTo>
                  <a:lnTo>
                    <a:pt x="123" y="870"/>
                  </a:lnTo>
                  <a:lnTo>
                    <a:pt x="123" y="865"/>
                  </a:lnTo>
                  <a:lnTo>
                    <a:pt x="77" y="888"/>
                  </a:lnTo>
                  <a:lnTo>
                    <a:pt x="64" y="882"/>
                  </a:lnTo>
                  <a:lnTo>
                    <a:pt x="41" y="900"/>
                  </a:lnTo>
                  <a:lnTo>
                    <a:pt x="23" y="888"/>
                  </a:lnTo>
                  <a:lnTo>
                    <a:pt x="0" y="906"/>
                  </a:lnTo>
                  <a:lnTo>
                    <a:pt x="23" y="888"/>
                  </a:lnTo>
                  <a:lnTo>
                    <a:pt x="130" y="847"/>
                  </a:lnTo>
                  <a:lnTo>
                    <a:pt x="177" y="847"/>
                  </a:lnTo>
                  <a:lnTo>
                    <a:pt x="194" y="853"/>
                  </a:lnTo>
                  <a:lnTo>
                    <a:pt x="217" y="823"/>
                  </a:lnTo>
                  <a:lnTo>
                    <a:pt x="317" y="788"/>
                  </a:lnTo>
                  <a:lnTo>
                    <a:pt x="317" y="800"/>
                  </a:lnTo>
                  <a:lnTo>
                    <a:pt x="365" y="765"/>
                  </a:lnTo>
                  <a:lnTo>
                    <a:pt x="418" y="759"/>
                  </a:lnTo>
                  <a:lnTo>
                    <a:pt x="442" y="723"/>
                  </a:lnTo>
                  <a:lnTo>
                    <a:pt x="465" y="723"/>
                  </a:lnTo>
                  <a:lnTo>
                    <a:pt x="465" y="706"/>
                  </a:lnTo>
                  <a:lnTo>
                    <a:pt x="542" y="665"/>
                  </a:lnTo>
                  <a:lnTo>
                    <a:pt x="448" y="693"/>
                  </a:lnTo>
                  <a:lnTo>
                    <a:pt x="459" y="676"/>
                  </a:lnTo>
                  <a:lnTo>
                    <a:pt x="478" y="682"/>
                  </a:lnTo>
                  <a:lnTo>
                    <a:pt x="465" y="665"/>
                  </a:lnTo>
                  <a:lnTo>
                    <a:pt x="406" y="706"/>
                  </a:lnTo>
                  <a:lnTo>
                    <a:pt x="406" y="676"/>
                  </a:lnTo>
                  <a:lnTo>
                    <a:pt x="383" y="682"/>
                  </a:lnTo>
                  <a:lnTo>
                    <a:pt x="300" y="700"/>
                  </a:lnTo>
                  <a:lnTo>
                    <a:pt x="283" y="693"/>
                  </a:lnTo>
                  <a:lnTo>
                    <a:pt x="336" y="670"/>
                  </a:lnTo>
                  <a:lnTo>
                    <a:pt x="324" y="665"/>
                  </a:lnTo>
                  <a:lnTo>
                    <a:pt x="353" y="646"/>
                  </a:lnTo>
                  <a:lnTo>
                    <a:pt x="377" y="606"/>
                  </a:lnTo>
                  <a:lnTo>
                    <a:pt x="425" y="582"/>
                  </a:lnTo>
                  <a:lnTo>
                    <a:pt x="365" y="606"/>
                  </a:lnTo>
                  <a:lnTo>
                    <a:pt x="353" y="618"/>
                  </a:lnTo>
                  <a:lnTo>
                    <a:pt x="294" y="629"/>
                  </a:lnTo>
                  <a:lnTo>
                    <a:pt x="264" y="593"/>
                  </a:lnTo>
                  <a:lnTo>
                    <a:pt x="289" y="582"/>
                  </a:lnTo>
                  <a:lnTo>
                    <a:pt x="312" y="571"/>
                  </a:lnTo>
                  <a:lnTo>
                    <a:pt x="330" y="576"/>
                  </a:lnTo>
                  <a:lnTo>
                    <a:pt x="312" y="588"/>
                  </a:lnTo>
                  <a:lnTo>
                    <a:pt x="347" y="576"/>
                  </a:lnTo>
                  <a:lnTo>
                    <a:pt x="353" y="588"/>
                  </a:lnTo>
                  <a:lnTo>
                    <a:pt x="347" y="576"/>
                  </a:lnTo>
                  <a:lnTo>
                    <a:pt x="372" y="571"/>
                  </a:lnTo>
                  <a:lnTo>
                    <a:pt x="306" y="571"/>
                  </a:lnTo>
                  <a:lnTo>
                    <a:pt x="336" y="559"/>
                  </a:lnTo>
                  <a:lnTo>
                    <a:pt x="312" y="553"/>
                  </a:lnTo>
                  <a:lnTo>
                    <a:pt x="342" y="541"/>
                  </a:lnTo>
                  <a:lnTo>
                    <a:pt x="372" y="529"/>
                  </a:lnTo>
                  <a:lnTo>
                    <a:pt x="306" y="565"/>
                  </a:lnTo>
                  <a:lnTo>
                    <a:pt x="306" y="535"/>
                  </a:lnTo>
                  <a:lnTo>
                    <a:pt x="324" y="523"/>
                  </a:lnTo>
                  <a:lnTo>
                    <a:pt x="347" y="518"/>
                  </a:lnTo>
                  <a:lnTo>
                    <a:pt x="412" y="482"/>
                  </a:lnTo>
                  <a:lnTo>
                    <a:pt x="430" y="488"/>
                  </a:lnTo>
                  <a:lnTo>
                    <a:pt x="453" y="471"/>
                  </a:lnTo>
                  <a:lnTo>
                    <a:pt x="453" y="471"/>
                  </a:lnTo>
                  <a:lnTo>
                    <a:pt x="442" y="465"/>
                  </a:lnTo>
                  <a:lnTo>
                    <a:pt x="489" y="446"/>
                  </a:lnTo>
                  <a:lnTo>
                    <a:pt x="518" y="446"/>
                  </a:lnTo>
                  <a:lnTo>
                    <a:pt x="501" y="459"/>
                  </a:lnTo>
                  <a:lnTo>
                    <a:pt x="595" y="429"/>
                  </a:lnTo>
                  <a:lnTo>
                    <a:pt x="642" y="429"/>
                  </a:lnTo>
                  <a:lnTo>
                    <a:pt x="684" y="412"/>
                  </a:lnTo>
                  <a:lnTo>
                    <a:pt x="689" y="382"/>
                  </a:lnTo>
                  <a:lnTo>
                    <a:pt x="731" y="371"/>
                  </a:lnTo>
                  <a:lnTo>
                    <a:pt x="748" y="359"/>
                  </a:lnTo>
                  <a:lnTo>
                    <a:pt x="636" y="388"/>
                  </a:lnTo>
                  <a:lnTo>
                    <a:pt x="642" y="371"/>
                  </a:lnTo>
                  <a:lnTo>
                    <a:pt x="625" y="382"/>
                  </a:lnTo>
                  <a:lnTo>
                    <a:pt x="518" y="376"/>
                  </a:lnTo>
                  <a:lnTo>
                    <a:pt x="525" y="359"/>
                  </a:lnTo>
                  <a:lnTo>
                    <a:pt x="531" y="341"/>
                  </a:lnTo>
                  <a:lnTo>
                    <a:pt x="565" y="341"/>
                  </a:lnTo>
                  <a:lnTo>
                    <a:pt x="518" y="318"/>
                  </a:lnTo>
                  <a:lnTo>
                    <a:pt x="660" y="282"/>
                  </a:lnTo>
                  <a:lnTo>
                    <a:pt x="737" y="271"/>
                  </a:lnTo>
                  <a:lnTo>
                    <a:pt x="760" y="271"/>
                  </a:lnTo>
                  <a:lnTo>
                    <a:pt x="712" y="288"/>
                  </a:lnTo>
                  <a:lnTo>
                    <a:pt x="790" y="299"/>
                  </a:lnTo>
                  <a:lnTo>
                    <a:pt x="843" y="288"/>
                  </a:lnTo>
                  <a:lnTo>
                    <a:pt x="807" y="288"/>
                  </a:lnTo>
                  <a:lnTo>
                    <a:pt x="837" y="252"/>
                  </a:lnTo>
                  <a:lnTo>
                    <a:pt x="831" y="276"/>
                  </a:lnTo>
                  <a:lnTo>
                    <a:pt x="884" y="282"/>
                  </a:lnTo>
                  <a:lnTo>
                    <a:pt x="901" y="265"/>
                  </a:lnTo>
                  <a:lnTo>
                    <a:pt x="843" y="271"/>
                  </a:lnTo>
                  <a:lnTo>
                    <a:pt x="873" y="247"/>
                  </a:lnTo>
                  <a:lnTo>
                    <a:pt x="837" y="247"/>
                  </a:lnTo>
                  <a:lnTo>
                    <a:pt x="854" y="241"/>
                  </a:lnTo>
                  <a:lnTo>
                    <a:pt x="795" y="241"/>
                  </a:lnTo>
                  <a:lnTo>
                    <a:pt x="820" y="218"/>
                  </a:lnTo>
                  <a:lnTo>
                    <a:pt x="772" y="177"/>
                  </a:lnTo>
                  <a:lnTo>
                    <a:pt x="837" y="152"/>
                  </a:lnTo>
                  <a:lnTo>
                    <a:pt x="949" y="141"/>
                  </a:lnTo>
                  <a:lnTo>
                    <a:pt x="1108" y="88"/>
                  </a:lnTo>
                  <a:lnTo>
                    <a:pt x="1196" y="65"/>
                  </a:lnTo>
                  <a:lnTo>
                    <a:pt x="1179" y="88"/>
                  </a:lnTo>
                  <a:lnTo>
                    <a:pt x="1226" y="71"/>
                  </a:lnTo>
                  <a:lnTo>
                    <a:pt x="1202" y="65"/>
                  </a:lnTo>
                  <a:lnTo>
                    <a:pt x="1238" y="65"/>
                  </a:lnTo>
                  <a:lnTo>
                    <a:pt x="1302" y="52"/>
                  </a:lnTo>
                  <a:lnTo>
                    <a:pt x="1391" y="29"/>
                  </a:lnTo>
                  <a:lnTo>
                    <a:pt x="1409" y="41"/>
                  </a:lnTo>
                  <a:lnTo>
                    <a:pt x="1362" y="58"/>
                  </a:lnTo>
                  <a:lnTo>
                    <a:pt x="1427" y="41"/>
                  </a:lnTo>
                  <a:lnTo>
                    <a:pt x="1421" y="52"/>
                  </a:lnTo>
                  <a:lnTo>
                    <a:pt x="1510" y="52"/>
                  </a:lnTo>
                  <a:lnTo>
                    <a:pt x="1474" y="71"/>
                  </a:lnTo>
                  <a:lnTo>
                    <a:pt x="1515" y="77"/>
                  </a:lnTo>
                  <a:lnTo>
                    <a:pt x="1722" y="100"/>
                  </a:lnTo>
                  <a:lnTo>
                    <a:pt x="1792" y="88"/>
                  </a:lnTo>
                  <a:lnTo>
                    <a:pt x="1845" y="112"/>
                  </a:lnTo>
                  <a:lnTo>
                    <a:pt x="1975" y="152"/>
                  </a:lnTo>
                  <a:lnTo>
                    <a:pt x="2005" y="165"/>
                  </a:lnTo>
                  <a:lnTo>
                    <a:pt x="2005" y="152"/>
                  </a:lnTo>
                  <a:lnTo>
                    <a:pt x="2039" y="165"/>
                  </a:lnTo>
                  <a:lnTo>
                    <a:pt x="2045" y="159"/>
                  </a:lnTo>
                  <a:lnTo>
                    <a:pt x="2045" y="152"/>
                  </a:lnTo>
                  <a:lnTo>
                    <a:pt x="2134" y="124"/>
                  </a:lnTo>
                  <a:lnTo>
                    <a:pt x="2311" y="82"/>
                  </a:lnTo>
                  <a:lnTo>
                    <a:pt x="2305" y="94"/>
                  </a:lnTo>
                  <a:lnTo>
                    <a:pt x="2081" y="152"/>
                  </a:lnTo>
                  <a:lnTo>
                    <a:pt x="2087" y="165"/>
                  </a:lnTo>
                  <a:lnTo>
                    <a:pt x="2087" y="152"/>
                  </a:lnTo>
                  <a:lnTo>
                    <a:pt x="2122" y="152"/>
                  </a:lnTo>
                  <a:lnTo>
                    <a:pt x="2117" y="141"/>
                  </a:lnTo>
                  <a:lnTo>
                    <a:pt x="2187" y="124"/>
                  </a:lnTo>
                  <a:lnTo>
                    <a:pt x="2193" y="129"/>
                  </a:lnTo>
                  <a:lnTo>
                    <a:pt x="2211" y="118"/>
                  </a:lnTo>
                  <a:lnTo>
                    <a:pt x="2205" y="129"/>
                  </a:lnTo>
                  <a:lnTo>
                    <a:pt x="2217" y="118"/>
                  </a:lnTo>
                  <a:lnTo>
                    <a:pt x="2217" y="129"/>
                  </a:lnTo>
                  <a:lnTo>
                    <a:pt x="2253" y="112"/>
                  </a:lnTo>
                  <a:lnTo>
                    <a:pt x="2323" y="100"/>
                  </a:lnTo>
                  <a:lnTo>
                    <a:pt x="2305" y="112"/>
                  </a:lnTo>
                  <a:lnTo>
                    <a:pt x="2387" y="88"/>
                  </a:lnTo>
                  <a:lnTo>
                    <a:pt x="2394" y="65"/>
                  </a:lnTo>
                  <a:lnTo>
                    <a:pt x="2417" y="129"/>
                  </a:lnTo>
                  <a:lnTo>
                    <a:pt x="2482" y="100"/>
                  </a:lnTo>
                  <a:lnTo>
                    <a:pt x="2500" y="88"/>
                  </a:lnTo>
                  <a:lnTo>
                    <a:pt x="2459" y="129"/>
                  </a:lnTo>
                  <a:lnTo>
                    <a:pt x="2500" y="124"/>
                  </a:lnTo>
                  <a:lnTo>
                    <a:pt x="2542" y="105"/>
                  </a:lnTo>
                  <a:lnTo>
                    <a:pt x="2706" y="152"/>
                  </a:lnTo>
                  <a:lnTo>
                    <a:pt x="2789" y="152"/>
                  </a:lnTo>
                  <a:lnTo>
                    <a:pt x="2807" y="177"/>
                  </a:lnTo>
                  <a:lnTo>
                    <a:pt x="2742" y="188"/>
                  </a:lnTo>
                  <a:lnTo>
                    <a:pt x="2724" y="205"/>
                  </a:lnTo>
                  <a:lnTo>
                    <a:pt x="2871" y="212"/>
                  </a:lnTo>
                  <a:lnTo>
                    <a:pt x="2930" y="199"/>
                  </a:lnTo>
                  <a:lnTo>
                    <a:pt x="2948" y="229"/>
                  </a:lnTo>
                  <a:lnTo>
                    <a:pt x="2965" y="218"/>
                  </a:lnTo>
                  <a:lnTo>
                    <a:pt x="2977" y="235"/>
                  </a:lnTo>
                  <a:lnTo>
                    <a:pt x="2965" y="247"/>
                  </a:lnTo>
                  <a:lnTo>
                    <a:pt x="2942" y="247"/>
                  </a:lnTo>
                  <a:lnTo>
                    <a:pt x="2960" y="282"/>
                  </a:lnTo>
                  <a:lnTo>
                    <a:pt x="2977" y="247"/>
                  </a:lnTo>
                  <a:lnTo>
                    <a:pt x="2990" y="259"/>
                  </a:lnTo>
                  <a:lnTo>
                    <a:pt x="3018" y="194"/>
                  </a:lnTo>
                  <a:lnTo>
                    <a:pt x="3077" y="188"/>
                  </a:lnTo>
                  <a:lnTo>
                    <a:pt x="3131" y="165"/>
                  </a:lnTo>
                  <a:lnTo>
                    <a:pt x="3077" y="182"/>
                  </a:lnTo>
                  <a:lnTo>
                    <a:pt x="3030" y="182"/>
                  </a:lnTo>
                  <a:lnTo>
                    <a:pt x="3001" y="188"/>
                  </a:lnTo>
                  <a:lnTo>
                    <a:pt x="3024" y="165"/>
                  </a:lnTo>
                  <a:lnTo>
                    <a:pt x="3124" y="147"/>
                  </a:lnTo>
                  <a:lnTo>
                    <a:pt x="3149" y="194"/>
                  </a:lnTo>
                  <a:lnTo>
                    <a:pt x="3219" y="212"/>
                  </a:lnTo>
                  <a:lnTo>
                    <a:pt x="3343" y="212"/>
                  </a:lnTo>
                  <a:lnTo>
                    <a:pt x="3372" y="205"/>
                  </a:lnTo>
                  <a:lnTo>
                    <a:pt x="3379" y="194"/>
                  </a:lnTo>
                  <a:lnTo>
                    <a:pt x="3408" y="218"/>
                  </a:lnTo>
                  <a:lnTo>
                    <a:pt x="3419" y="199"/>
                  </a:lnTo>
                  <a:lnTo>
                    <a:pt x="3379" y="188"/>
                  </a:lnTo>
                  <a:lnTo>
                    <a:pt x="3385" y="177"/>
                  </a:lnTo>
                  <a:lnTo>
                    <a:pt x="3419" y="177"/>
                  </a:lnTo>
                  <a:lnTo>
                    <a:pt x="3425" y="171"/>
                  </a:lnTo>
                  <a:lnTo>
                    <a:pt x="3472" y="182"/>
                  </a:lnTo>
                  <a:lnTo>
                    <a:pt x="3444" y="194"/>
                  </a:lnTo>
                  <a:lnTo>
                    <a:pt x="3491" y="182"/>
                  </a:lnTo>
                  <a:lnTo>
                    <a:pt x="3455" y="212"/>
                  </a:lnTo>
                  <a:lnTo>
                    <a:pt x="3432" y="235"/>
                  </a:lnTo>
                  <a:lnTo>
                    <a:pt x="3455" y="247"/>
                  </a:lnTo>
                  <a:lnTo>
                    <a:pt x="3414" y="247"/>
                  </a:lnTo>
                  <a:lnTo>
                    <a:pt x="3419" y="271"/>
                  </a:lnTo>
                  <a:lnTo>
                    <a:pt x="3419" y="252"/>
                  </a:lnTo>
                  <a:lnTo>
                    <a:pt x="3455" y="252"/>
                  </a:lnTo>
                  <a:lnTo>
                    <a:pt x="3479" y="218"/>
                  </a:lnTo>
                  <a:lnTo>
                    <a:pt x="3496" y="194"/>
                  </a:lnTo>
                  <a:lnTo>
                    <a:pt x="3526" y="194"/>
                  </a:lnTo>
                  <a:lnTo>
                    <a:pt x="3602" y="165"/>
                  </a:lnTo>
                  <a:lnTo>
                    <a:pt x="3602" y="141"/>
                  </a:lnTo>
                  <a:lnTo>
                    <a:pt x="3555" y="159"/>
                  </a:lnTo>
                  <a:lnTo>
                    <a:pt x="3597" y="129"/>
                  </a:lnTo>
                  <a:lnTo>
                    <a:pt x="3638" y="124"/>
                  </a:lnTo>
                  <a:lnTo>
                    <a:pt x="3555" y="112"/>
                  </a:lnTo>
                  <a:lnTo>
                    <a:pt x="3549" y="88"/>
                  </a:lnTo>
                  <a:lnTo>
                    <a:pt x="3597" y="71"/>
                  </a:lnTo>
                  <a:lnTo>
                    <a:pt x="3573" y="58"/>
                  </a:lnTo>
                  <a:lnTo>
                    <a:pt x="3602" y="35"/>
                  </a:lnTo>
                  <a:lnTo>
                    <a:pt x="3638" y="35"/>
                  </a:lnTo>
                  <a:lnTo>
                    <a:pt x="3638" y="18"/>
                  </a:lnTo>
                  <a:lnTo>
                    <a:pt x="3697" y="5"/>
                  </a:lnTo>
                  <a:lnTo>
                    <a:pt x="3708" y="0"/>
                  </a:lnTo>
                  <a:lnTo>
                    <a:pt x="3727" y="12"/>
                  </a:lnTo>
                  <a:lnTo>
                    <a:pt x="3714" y="52"/>
                  </a:lnTo>
                  <a:lnTo>
                    <a:pt x="3738" y="88"/>
                  </a:lnTo>
                  <a:lnTo>
                    <a:pt x="3703" y="88"/>
                  </a:lnTo>
                  <a:lnTo>
                    <a:pt x="3714" y="94"/>
                  </a:lnTo>
                  <a:lnTo>
                    <a:pt x="3661" y="112"/>
                  </a:lnTo>
                  <a:lnTo>
                    <a:pt x="3697" y="124"/>
                  </a:lnTo>
                  <a:lnTo>
                    <a:pt x="3708" y="124"/>
                  </a:lnTo>
                  <a:lnTo>
                    <a:pt x="3750" y="124"/>
                  </a:lnTo>
                  <a:lnTo>
                    <a:pt x="3703" y="129"/>
                  </a:lnTo>
                  <a:lnTo>
                    <a:pt x="3703" y="182"/>
                  </a:lnTo>
                  <a:lnTo>
                    <a:pt x="3797" y="135"/>
                  </a:lnTo>
                  <a:lnTo>
                    <a:pt x="3803" y="177"/>
                  </a:lnTo>
                  <a:lnTo>
                    <a:pt x="3780" y="182"/>
                  </a:lnTo>
                  <a:lnTo>
                    <a:pt x="3761" y="205"/>
                  </a:lnTo>
                  <a:lnTo>
                    <a:pt x="3761" y="241"/>
                  </a:lnTo>
                  <a:lnTo>
                    <a:pt x="3786" y="235"/>
                  </a:lnTo>
                  <a:lnTo>
                    <a:pt x="3897" y="159"/>
                  </a:lnTo>
                  <a:lnTo>
                    <a:pt x="3933" y="159"/>
                  </a:lnTo>
                  <a:lnTo>
                    <a:pt x="3927" y="147"/>
                  </a:lnTo>
                  <a:lnTo>
                    <a:pt x="3956" y="147"/>
                  </a:lnTo>
                  <a:lnTo>
                    <a:pt x="3927" y="135"/>
                  </a:lnTo>
                  <a:lnTo>
                    <a:pt x="3950" y="100"/>
                  </a:lnTo>
                  <a:lnTo>
                    <a:pt x="4062" y="112"/>
                  </a:lnTo>
                  <a:lnTo>
                    <a:pt x="4022" y="118"/>
                  </a:lnTo>
                  <a:lnTo>
                    <a:pt x="4080" y="135"/>
                  </a:lnTo>
                  <a:lnTo>
                    <a:pt x="4045" y="152"/>
                  </a:lnTo>
                  <a:lnTo>
                    <a:pt x="4062" y="165"/>
                  </a:lnTo>
                  <a:lnTo>
                    <a:pt x="4003" y="177"/>
                  </a:lnTo>
                  <a:lnTo>
                    <a:pt x="4022" y="224"/>
                  </a:lnTo>
                  <a:lnTo>
                    <a:pt x="3992" y="247"/>
                  </a:lnTo>
                  <a:lnTo>
                    <a:pt x="3897" y="282"/>
                  </a:lnTo>
                  <a:lnTo>
                    <a:pt x="3897" y="252"/>
                  </a:lnTo>
                  <a:lnTo>
                    <a:pt x="3880" y="265"/>
                  </a:lnTo>
                  <a:lnTo>
                    <a:pt x="3880" y="252"/>
                  </a:lnTo>
                  <a:lnTo>
                    <a:pt x="3844" y="252"/>
                  </a:lnTo>
                  <a:lnTo>
                    <a:pt x="3867" y="252"/>
                  </a:lnTo>
                  <a:lnTo>
                    <a:pt x="3880" y="288"/>
                  </a:lnTo>
                  <a:lnTo>
                    <a:pt x="3856" y="282"/>
                  </a:lnTo>
                  <a:lnTo>
                    <a:pt x="3850" y="294"/>
                  </a:lnTo>
                  <a:lnTo>
                    <a:pt x="3821" y="288"/>
                  </a:lnTo>
                  <a:lnTo>
                    <a:pt x="3821" y="271"/>
                  </a:lnTo>
                  <a:lnTo>
                    <a:pt x="3767" y="271"/>
                  </a:lnTo>
                  <a:lnTo>
                    <a:pt x="3767" y="282"/>
                  </a:lnTo>
                  <a:lnTo>
                    <a:pt x="3786" y="299"/>
                  </a:lnTo>
                  <a:lnTo>
                    <a:pt x="3697" y="335"/>
                  </a:lnTo>
                  <a:lnTo>
                    <a:pt x="3632" y="305"/>
                  </a:lnTo>
                  <a:lnTo>
                    <a:pt x="3561" y="299"/>
                  </a:lnTo>
                  <a:lnTo>
                    <a:pt x="3614" y="312"/>
                  </a:lnTo>
                  <a:lnTo>
                    <a:pt x="3632" y="335"/>
                  </a:lnTo>
                  <a:lnTo>
                    <a:pt x="3708" y="341"/>
                  </a:lnTo>
                  <a:lnTo>
                    <a:pt x="3632" y="394"/>
                  </a:lnTo>
                  <a:lnTo>
                    <a:pt x="3591" y="406"/>
                  </a:lnTo>
                  <a:lnTo>
                    <a:pt x="3579" y="394"/>
                  </a:lnTo>
                  <a:lnTo>
                    <a:pt x="3579" y="406"/>
                  </a:lnTo>
                  <a:lnTo>
                    <a:pt x="3549" y="399"/>
                  </a:lnTo>
                  <a:lnTo>
                    <a:pt x="3526" y="423"/>
                  </a:lnTo>
                  <a:lnTo>
                    <a:pt x="3491" y="429"/>
                  </a:lnTo>
                  <a:lnTo>
                    <a:pt x="3396" y="394"/>
                  </a:lnTo>
                  <a:lnTo>
                    <a:pt x="3391" y="412"/>
                  </a:lnTo>
                  <a:lnTo>
                    <a:pt x="3444" y="418"/>
                  </a:lnTo>
                  <a:lnTo>
                    <a:pt x="3425" y="429"/>
                  </a:lnTo>
                  <a:lnTo>
                    <a:pt x="3461" y="418"/>
                  </a:lnTo>
                  <a:lnTo>
                    <a:pt x="3485" y="452"/>
                  </a:lnTo>
                  <a:lnTo>
                    <a:pt x="3444" y="471"/>
                  </a:lnTo>
                  <a:lnTo>
                    <a:pt x="3396" y="471"/>
                  </a:lnTo>
                  <a:lnTo>
                    <a:pt x="3414" y="476"/>
                  </a:lnTo>
                  <a:lnTo>
                    <a:pt x="3385" y="476"/>
                  </a:lnTo>
                  <a:lnTo>
                    <a:pt x="3372" y="506"/>
                  </a:lnTo>
                  <a:lnTo>
                    <a:pt x="3349" y="494"/>
                  </a:lnTo>
                  <a:lnTo>
                    <a:pt x="3361" y="499"/>
                  </a:lnTo>
                  <a:lnTo>
                    <a:pt x="3319" y="518"/>
                  </a:lnTo>
                  <a:lnTo>
                    <a:pt x="3325" y="523"/>
                  </a:lnTo>
                  <a:lnTo>
                    <a:pt x="3213" y="593"/>
                  </a:lnTo>
                  <a:lnTo>
                    <a:pt x="3196" y="618"/>
                  </a:lnTo>
                  <a:lnTo>
                    <a:pt x="3149" y="670"/>
                  </a:lnTo>
                  <a:lnTo>
                    <a:pt x="3172" y="688"/>
                  </a:lnTo>
                  <a:lnTo>
                    <a:pt x="3160" y="706"/>
                  </a:lnTo>
                  <a:lnTo>
                    <a:pt x="3177" y="688"/>
                  </a:lnTo>
                  <a:lnTo>
                    <a:pt x="3213" y="688"/>
                  </a:lnTo>
                  <a:lnTo>
                    <a:pt x="3207" y="706"/>
                  </a:lnTo>
                  <a:lnTo>
                    <a:pt x="3202" y="765"/>
                  </a:lnTo>
                  <a:lnTo>
                    <a:pt x="3166" y="788"/>
                  </a:lnTo>
                  <a:lnTo>
                    <a:pt x="3260" y="770"/>
                  </a:lnTo>
                  <a:lnTo>
                    <a:pt x="3332" y="793"/>
                  </a:lnTo>
                  <a:lnTo>
                    <a:pt x="3338" y="793"/>
                  </a:lnTo>
                  <a:lnTo>
                    <a:pt x="3361" y="840"/>
                  </a:lnTo>
                  <a:lnTo>
                    <a:pt x="3449" y="876"/>
                  </a:lnTo>
                  <a:lnTo>
                    <a:pt x="3425" y="900"/>
                  </a:lnTo>
                  <a:lnTo>
                    <a:pt x="3455" y="882"/>
                  </a:lnTo>
                  <a:lnTo>
                    <a:pt x="3567" y="888"/>
                  </a:lnTo>
                  <a:lnTo>
                    <a:pt x="3508" y="1012"/>
                  </a:lnTo>
                  <a:lnTo>
                    <a:pt x="3526" y="1047"/>
                  </a:lnTo>
                  <a:lnTo>
                    <a:pt x="3502" y="1053"/>
                  </a:lnTo>
                  <a:lnTo>
                    <a:pt x="3549" y="1082"/>
                  </a:lnTo>
                  <a:lnTo>
                    <a:pt x="3544" y="1100"/>
                  </a:lnTo>
                  <a:lnTo>
                    <a:pt x="3514" y="1117"/>
                  </a:lnTo>
                  <a:lnTo>
                    <a:pt x="3549" y="1100"/>
                  </a:lnTo>
                  <a:lnTo>
                    <a:pt x="3573" y="1123"/>
                  </a:lnTo>
                  <a:lnTo>
                    <a:pt x="3579" y="1135"/>
                  </a:lnTo>
                  <a:lnTo>
                    <a:pt x="3579" y="1123"/>
                  </a:lnTo>
                  <a:lnTo>
                    <a:pt x="3579" y="1100"/>
                  </a:lnTo>
                  <a:lnTo>
                    <a:pt x="3591" y="1094"/>
                  </a:lnTo>
                  <a:lnTo>
                    <a:pt x="3602" y="1082"/>
                  </a:lnTo>
                  <a:lnTo>
                    <a:pt x="3608" y="1112"/>
                  </a:lnTo>
                  <a:lnTo>
                    <a:pt x="3627" y="1094"/>
                  </a:lnTo>
                  <a:lnTo>
                    <a:pt x="3620" y="1076"/>
                  </a:lnTo>
                  <a:lnTo>
                    <a:pt x="3661" y="1053"/>
                  </a:lnTo>
                  <a:lnTo>
                    <a:pt x="3655" y="1006"/>
                  </a:lnTo>
                  <a:lnTo>
                    <a:pt x="3680" y="965"/>
                  </a:lnTo>
                  <a:lnTo>
                    <a:pt x="3685" y="940"/>
                  </a:lnTo>
                  <a:lnTo>
                    <a:pt x="3667" y="917"/>
                  </a:lnTo>
                  <a:lnTo>
                    <a:pt x="3809" y="859"/>
                  </a:lnTo>
                  <a:lnTo>
                    <a:pt x="3850" y="823"/>
                  </a:lnTo>
                  <a:lnTo>
                    <a:pt x="3874" y="770"/>
                  </a:lnTo>
                  <a:lnTo>
                    <a:pt x="3874" y="729"/>
                  </a:lnTo>
                  <a:lnTo>
                    <a:pt x="3833" y="693"/>
                  </a:lnTo>
                  <a:lnTo>
                    <a:pt x="3844" y="676"/>
                  </a:lnTo>
                  <a:lnTo>
                    <a:pt x="3897" y="635"/>
                  </a:lnTo>
                  <a:lnTo>
                    <a:pt x="3933" y="618"/>
                  </a:lnTo>
                  <a:lnTo>
                    <a:pt x="3915" y="618"/>
                  </a:lnTo>
                  <a:lnTo>
                    <a:pt x="3939" y="588"/>
                  </a:lnTo>
                  <a:lnTo>
                    <a:pt x="3945" y="576"/>
                  </a:lnTo>
                  <a:lnTo>
                    <a:pt x="3915" y="576"/>
                  </a:lnTo>
                  <a:lnTo>
                    <a:pt x="3969" y="535"/>
                  </a:lnTo>
                  <a:lnTo>
                    <a:pt x="3950" y="529"/>
                  </a:lnTo>
                  <a:lnTo>
                    <a:pt x="3969" y="494"/>
                  </a:lnTo>
                  <a:lnTo>
                    <a:pt x="4003" y="482"/>
                  </a:lnTo>
                  <a:lnTo>
                    <a:pt x="4069" y="494"/>
                  </a:lnTo>
                  <a:lnTo>
                    <a:pt x="4051" y="506"/>
                  </a:lnTo>
                  <a:lnTo>
                    <a:pt x="4104" y="506"/>
                  </a:lnTo>
                  <a:lnTo>
                    <a:pt x="4151" y="488"/>
                  </a:lnTo>
                  <a:lnTo>
                    <a:pt x="4169" y="499"/>
                  </a:lnTo>
                  <a:lnTo>
                    <a:pt x="4186" y="506"/>
                  </a:lnTo>
                  <a:lnTo>
                    <a:pt x="4169" y="523"/>
                  </a:lnTo>
                  <a:lnTo>
                    <a:pt x="4198" y="523"/>
                  </a:lnTo>
                  <a:lnTo>
                    <a:pt x="4181" y="535"/>
                  </a:lnTo>
                  <a:lnTo>
                    <a:pt x="4216" y="535"/>
                  </a:lnTo>
                  <a:lnTo>
                    <a:pt x="4198" y="559"/>
                  </a:lnTo>
                  <a:lnTo>
                    <a:pt x="4257" y="559"/>
                  </a:lnTo>
                  <a:lnTo>
                    <a:pt x="4281" y="559"/>
                  </a:lnTo>
                  <a:lnTo>
                    <a:pt x="4287" y="571"/>
                  </a:lnTo>
                  <a:lnTo>
                    <a:pt x="4251" y="618"/>
                  </a:lnTo>
                  <a:lnTo>
                    <a:pt x="4192" y="618"/>
                  </a:lnTo>
                  <a:lnTo>
                    <a:pt x="4245" y="623"/>
                  </a:lnTo>
                  <a:lnTo>
                    <a:pt x="4228" y="659"/>
                  </a:lnTo>
                  <a:lnTo>
                    <a:pt x="4245" y="659"/>
                  </a:lnTo>
                  <a:lnTo>
                    <a:pt x="4222" y="688"/>
                  </a:lnTo>
                  <a:lnTo>
                    <a:pt x="4216" y="670"/>
                  </a:lnTo>
                  <a:lnTo>
                    <a:pt x="4192" y="688"/>
                  </a:lnTo>
                  <a:lnTo>
                    <a:pt x="4204" y="700"/>
                  </a:lnTo>
                  <a:lnTo>
                    <a:pt x="4234" y="682"/>
                  </a:lnTo>
                  <a:lnTo>
                    <a:pt x="4269" y="688"/>
                  </a:lnTo>
                  <a:lnTo>
                    <a:pt x="4269" y="700"/>
                  </a:lnTo>
                  <a:lnTo>
                    <a:pt x="4245" y="729"/>
                  </a:lnTo>
                  <a:lnTo>
                    <a:pt x="4198" y="741"/>
                  </a:lnTo>
                  <a:lnTo>
                    <a:pt x="4251" y="729"/>
                  </a:lnTo>
                  <a:lnTo>
                    <a:pt x="4281" y="700"/>
                  </a:lnTo>
                  <a:lnTo>
                    <a:pt x="4262" y="723"/>
                  </a:lnTo>
                  <a:lnTo>
                    <a:pt x="4287" y="706"/>
                  </a:lnTo>
                  <a:lnTo>
                    <a:pt x="4275" y="735"/>
                  </a:lnTo>
                  <a:lnTo>
                    <a:pt x="4357" y="682"/>
                  </a:lnTo>
                  <a:lnTo>
                    <a:pt x="4357" y="712"/>
                  </a:lnTo>
                  <a:lnTo>
                    <a:pt x="4381" y="676"/>
                  </a:lnTo>
                  <a:lnTo>
                    <a:pt x="4404" y="670"/>
                  </a:lnTo>
                  <a:lnTo>
                    <a:pt x="4393" y="665"/>
                  </a:lnTo>
                  <a:lnTo>
                    <a:pt x="4404" y="646"/>
                  </a:lnTo>
                  <a:lnTo>
                    <a:pt x="4428" y="653"/>
                  </a:lnTo>
                  <a:lnTo>
                    <a:pt x="4417" y="635"/>
                  </a:lnTo>
                  <a:lnTo>
                    <a:pt x="4440" y="635"/>
                  </a:lnTo>
                  <a:lnTo>
                    <a:pt x="4457" y="599"/>
                  </a:lnTo>
                  <a:lnTo>
                    <a:pt x="4470" y="606"/>
                  </a:lnTo>
                  <a:lnTo>
                    <a:pt x="4476" y="606"/>
                  </a:lnTo>
                  <a:lnTo>
                    <a:pt x="4476" y="612"/>
                  </a:lnTo>
                  <a:lnTo>
                    <a:pt x="4451" y="623"/>
                  </a:lnTo>
                  <a:lnTo>
                    <a:pt x="4464" y="623"/>
                  </a:lnTo>
                  <a:lnTo>
                    <a:pt x="4481" y="623"/>
                  </a:lnTo>
                  <a:lnTo>
                    <a:pt x="4470" y="646"/>
                  </a:lnTo>
                  <a:lnTo>
                    <a:pt x="4487" y="646"/>
                  </a:lnTo>
                  <a:lnTo>
                    <a:pt x="4470" y="653"/>
                  </a:lnTo>
                  <a:lnTo>
                    <a:pt x="4493" y="659"/>
                  </a:lnTo>
                  <a:lnTo>
                    <a:pt x="4457" y="676"/>
                  </a:lnTo>
                  <a:lnTo>
                    <a:pt x="4504" y="688"/>
                  </a:lnTo>
                  <a:lnTo>
                    <a:pt x="4464" y="712"/>
                  </a:lnTo>
                  <a:lnTo>
                    <a:pt x="4511" y="706"/>
                  </a:lnTo>
                  <a:lnTo>
                    <a:pt x="4487" y="718"/>
                  </a:lnTo>
                  <a:lnTo>
                    <a:pt x="4464" y="729"/>
                  </a:lnTo>
                  <a:lnTo>
                    <a:pt x="4504" y="718"/>
                  </a:lnTo>
                  <a:lnTo>
                    <a:pt x="4493" y="735"/>
                  </a:lnTo>
                  <a:lnTo>
                    <a:pt x="4517" y="729"/>
                  </a:lnTo>
                  <a:lnTo>
                    <a:pt x="4517" y="753"/>
                  </a:lnTo>
                  <a:lnTo>
                    <a:pt x="4487" y="759"/>
                  </a:lnTo>
                  <a:lnTo>
                    <a:pt x="4529" y="782"/>
                  </a:lnTo>
                  <a:lnTo>
                    <a:pt x="4499" y="793"/>
                  </a:lnTo>
                  <a:lnTo>
                    <a:pt x="4504" y="806"/>
                  </a:lnTo>
                  <a:lnTo>
                    <a:pt x="4481" y="800"/>
                  </a:lnTo>
                  <a:lnTo>
                    <a:pt x="4470" y="793"/>
                  </a:lnTo>
                  <a:lnTo>
                    <a:pt x="4470" y="793"/>
                  </a:lnTo>
                  <a:lnTo>
                    <a:pt x="4504" y="812"/>
                  </a:lnTo>
                  <a:lnTo>
                    <a:pt x="4481" y="817"/>
                  </a:lnTo>
                  <a:lnTo>
                    <a:pt x="4499" y="823"/>
                  </a:lnTo>
                  <a:lnTo>
                    <a:pt x="4481" y="829"/>
                  </a:lnTo>
                  <a:lnTo>
                    <a:pt x="4511" y="829"/>
                  </a:lnTo>
                  <a:lnTo>
                    <a:pt x="4499" y="840"/>
                  </a:lnTo>
                  <a:lnTo>
                    <a:pt x="4517" y="853"/>
                  </a:lnTo>
                  <a:lnTo>
                    <a:pt x="4534" y="853"/>
                  </a:lnTo>
                  <a:lnTo>
                    <a:pt x="4523" y="865"/>
                  </a:lnTo>
                  <a:lnTo>
                    <a:pt x="4546" y="853"/>
                  </a:lnTo>
                  <a:lnTo>
                    <a:pt x="4529" y="876"/>
                  </a:lnTo>
                  <a:lnTo>
                    <a:pt x="4511" y="893"/>
                  </a:lnTo>
                  <a:lnTo>
                    <a:pt x="4540" y="882"/>
                  </a:lnTo>
                  <a:lnTo>
                    <a:pt x="4557" y="876"/>
                  </a:lnTo>
                  <a:lnTo>
                    <a:pt x="4546" y="888"/>
                  </a:lnTo>
                  <a:lnTo>
                    <a:pt x="4570" y="888"/>
                  </a:lnTo>
                  <a:lnTo>
                    <a:pt x="4540" y="912"/>
                  </a:lnTo>
                  <a:lnTo>
                    <a:pt x="4582" y="882"/>
                  </a:lnTo>
                  <a:lnTo>
                    <a:pt x="4570" y="900"/>
                  </a:lnTo>
                  <a:lnTo>
                    <a:pt x="4587" y="906"/>
                  </a:lnTo>
                  <a:lnTo>
                    <a:pt x="4646" y="917"/>
                  </a:lnTo>
                  <a:lnTo>
                    <a:pt x="4540" y="947"/>
                  </a:lnTo>
                  <a:lnTo>
                    <a:pt x="4599" y="940"/>
                  </a:lnTo>
                  <a:lnTo>
                    <a:pt x="4511" y="965"/>
                  </a:lnTo>
                  <a:lnTo>
                    <a:pt x="4504" y="976"/>
                  </a:lnTo>
                  <a:lnTo>
                    <a:pt x="4476" y="959"/>
                  </a:lnTo>
                  <a:lnTo>
                    <a:pt x="4504" y="982"/>
                  </a:lnTo>
                  <a:lnTo>
                    <a:pt x="4487" y="994"/>
                  </a:lnTo>
                  <a:lnTo>
                    <a:pt x="4617" y="947"/>
                  </a:lnTo>
                  <a:lnTo>
                    <a:pt x="4593" y="947"/>
                  </a:lnTo>
                  <a:lnTo>
                    <a:pt x="4611" y="940"/>
                  </a:lnTo>
                  <a:lnTo>
                    <a:pt x="4646" y="953"/>
                  </a:lnTo>
                  <a:lnTo>
                    <a:pt x="4623" y="982"/>
                  </a:lnTo>
                  <a:lnTo>
                    <a:pt x="4646" y="965"/>
                  </a:lnTo>
                  <a:lnTo>
                    <a:pt x="4687" y="976"/>
                  </a:lnTo>
                  <a:lnTo>
                    <a:pt x="4693" y="1000"/>
                  </a:lnTo>
                  <a:lnTo>
                    <a:pt x="4670" y="1006"/>
                  </a:lnTo>
                  <a:lnTo>
                    <a:pt x="4682" y="1017"/>
                  </a:lnTo>
                  <a:lnTo>
                    <a:pt x="4664" y="1017"/>
                  </a:lnTo>
                  <a:lnTo>
                    <a:pt x="4682" y="1029"/>
                  </a:lnTo>
                  <a:lnTo>
                    <a:pt x="4646" y="1029"/>
                  </a:lnTo>
                  <a:lnTo>
                    <a:pt x="4682" y="1035"/>
                  </a:lnTo>
                  <a:lnTo>
                    <a:pt x="4659" y="1040"/>
                  </a:lnTo>
                  <a:lnTo>
                    <a:pt x="4682" y="1053"/>
                  </a:lnTo>
                  <a:lnTo>
                    <a:pt x="4605" y="1100"/>
                  </a:lnTo>
                  <a:lnTo>
                    <a:pt x="4599" y="1100"/>
                  </a:lnTo>
                  <a:lnTo>
                    <a:pt x="4523" y="1106"/>
                  </a:lnTo>
                  <a:lnTo>
                    <a:pt x="4499" y="1135"/>
                  </a:lnTo>
                  <a:lnTo>
                    <a:pt x="4440" y="1164"/>
                  </a:lnTo>
                  <a:lnTo>
                    <a:pt x="4245" y="1159"/>
                  </a:lnTo>
                  <a:lnTo>
                    <a:pt x="4151" y="1164"/>
                  </a:lnTo>
                  <a:lnTo>
                    <a:pt x="4092" y="1217"/>
                  </a:lnTo>
                  <a:lnTo>
                    <a:pt x="4039" y="1223"/>
                  </a:lnTo>
                  <a:lnTo>
                    <a:pt x="3962" y="1282"/>
                  </a:lnTo>
                  <a:lnTo>
                    <a:pt x="3903" y="1270"/>
                  </a:lnTo>
                  <a:lnTo>
                    <a:pt x="3956" y="1287"/>
                  </a:lnTo>
                  <a:lnTo>
                    <a:pt x="3856" y="1364"/>
                  </a:lnTo>
                  <a:lnTo>
                    <a:pt x="3897" y="1347"/>
                  </a:lnTo>
                  <a:lnTo>
                    <a:pt x="4039" y="1259"/>
                  </a:lnTo>
                  <a:lnTo>
                    <a:pt x="4181" y="1217"/>
                  </a:lnTo>
                  <a:lnTo>
                    <a:pt x="4222" y="1234"/>
                  </a:lnTo>
                  <a:lnTo>
                    <a:pt x="4228" y="1247"/>
                  </a:lnTo>
                  <a:lnTo>
                    <a:pt x="4209" y="1241"/>
                  </a:lnTo>
                  <a:lnTo>
                    <a:pt x="4222" y="1264"/>
                  </a:lnTo>
                  <a:lnTo>
                    <a:pt x="4156" y="1294"/>
                  </a:lnTo>
                  <a:lnTo>
                    <a:pt x="4133" y="1282"/>
                  </a:lnTo>
                  <a:lnTo>
                    <a:pt x="4086" y="1294"/>
                  </a:lnTo>
                  <a:lnTo>
                    <a:pt x="4133" y="1300"/>
                  </a:lnTo>
                  <a:lnTo>
                    <a:pt x="4139" y="1311"/>
                  </a:lnTo>
                  <a:lnTo>
                    <a:pt x="4181" y="1306"/>
                  </a:lnTo>
                  <a:lnTo>
                    <a:pt x="4139" y="1347"/>
                  </a:lnTo>
                  <a:lnTo>
                    <a:pt x="4162" y="1347"/>
                  </a:lnTo>
                  <a:lnTo>
                    <a:pt x="4156" y="1388"/>
                  </a:lnTo>
                  <a:lnTo>
                    <a:pt x="4192" y="1400"/>
                  </a:lnTo>
                  <a:lnTo>
                    <a:pt x="4181" y="1406"/>
                  </a:lnTo>
                  <a:lnTo>
                    <a:pt x="4181" y="1406"/>
                  </a:lnTo>
                  <a:lnTo>
                    <a:pt x="4192" y="1417"/>
                  </a:lnTo>
                  <a:lnTo>
                    <a:pt x="4234" y="1429"/>
                  </a:lnTo>
                  <a:lnTo>
                    <a:pt x="4275" y="1411"/>
                  </a:lnTo>
                  <a:lnTo>
                    <a:pt x="4304" y="1434"/>
                  </a:lnTo>
                  <a:lnTo>
                    <a:pt x="4287" y="1447"/>
                  </a:lnTo>
                  <a:lnTo>
                    <a:pt x="4310" y="1453"/>
                  </a:lnTo>
                  <a:lnTo>
                    <a:pt x="4216" y="1481"/>
                  </a:lnTo>
                  <a:lnTo>
                    <a:pt x="4175" y="1481"/>
                  </a:lnTo>
                  <a:lnTo>
                    <a:pt x="4169" y="1500"/>
                  </a:lnTo>
                  <a:lnTo>
                    <a:pt x="4162" y="1481"/>
                  </a:lnTo>
                  <a:lnTo>
                    <a:pt x="4145" y="1488"/>
                  </a:lnTo>
                  <a:lnTo>
                    <a:pt x="4139" y="1506"/>
                  </a:lnTo>
                  <a:lnTo>
                    <a:pt x="4092" y="1541"/>
                  </a:lnTo>
                  <a:lnTo>
                    <a:pt x="4069" y="1553"/>
                  </a:lnTo>
                  <a:lnTo>
                    <a:pt x="4039" y="1529"/>
                  </a:lnTo>
                  <a:lnTo>
                    <a:pt x="4069" y="1488"/>
                  </a:lnTo>
                  <a:lnTo>
                    <a:pt x="4051" y="1500"/>
                  </a:lnTo>
                  <a:lnTo>
                    <a:pt x="4092" y="1476"/>
                  </a:lnTo>
                  <a:lnTo>
                    <a:pt x="4145" y="1447"/>
                  </a:lnTo>
                  <a:lnTo>
                    <a:pt x="4156" y="1464"/>
                  </a:lnTo>
                  <a:lnTo>
                    <a:pt x="4162" y="1453"/>
                  </a:lnTo>
                  <a:lnTo>
                    <a:pt x="4198" y="1447"/>
                  </a:lnTo>
                  <a:lnTo>
                    <a:pt x="4128" y="1447"/>
                  </a:lnTo>
                  <a:lnTo>
                    <a:pt x="4162" y="1423"/>
                  </a:lnTo>
                  <a:lnTo>
                    <a:pt x="4169" y="1417"/>
                  </a:lnTo>
                  <a:lnTo>
                    <a:pt x="4151" y="1400"/>
                  </a:lnTo>
                  <a:lnTo>
                    <a:pt x="4139" y="1429"/>
                  </a:lnTo>
                  <a:lnTo>
                    <a:pt x="4086" y="1453"/>
                  </a:lnTo>
                  <a:lnTo>
                    <a:pt x="4069" y="1447"/>
                  </a:lnTo>
                  <a:lnTo>
                    <a:pt x="4080" y="1441"/>
                  </a:lnTo>
                  <a:lnTo>
                    <a:pt x="4051" y="1458"/>
                  </a:lnTo>
                  <a:lnTo>
                    <a:pt x="4015" y="1453"/>
                  </a:lnTo>
                  <a:lnTo>
                    <a:pt x="4009" y="1481"/>
                  </a:lnTo>
                  <a:lnTo>
                    <a:pt x="3962" y="1506"/>
                  </a:lnTo>
                  <a:lnTo>
                    <a:pt x="3945" y="1494"/>
                  </a:lnTo>
                  <a:lnTo>
                    <a:pt x="3939" y="1511"/>
                  </a:lnTo>
                  <a:lnTo>
                    <a:pt x="3933" y="1488"/>
                  </a:lnTo>
                  <a:lnTo>
                    <a:pt x="3903" y="1523"/>
                  </a:lnTo>
                  <a:lnTo>
                    <a:pt x="3880" y="1535"/>
                  </a:lnTo>
                  <a:lnTo>
                    <a:pt x="3880" y="1523"/>
                  </a:lnTo>
                  <a:lnTo>
                    <a:pt x="3867" y="1535"/>
                  </a:lnTo>
                  <a:lnTo>
                    <a:pt x="3867" y="1523"/>
                  </a:lnTo>
                  <a:lnTo>
                    <a:pt x="3867" y="1535"/>
                  </a:lnTo>
                  <a:lnTo>
                    <a:pt x="3850" y="1535"/>
                  </a:lnTo>
                  <a:lnTo>
                    <a:pt x="3809" y="1576"/>
                  </a:lnTo>
                  <a:lnTo>
                    <a:pt x="3803" y="1588"/>
                  </a:lnTo>
                  <a:lnTo>
                    <a:pt x="3791" y="1617"/>
                  </a:lnTo>
                  <a:lnTo>
                    <a:pt x="3797" y="1628"/>
                  </a:lnTo>
                  <a:lnTo>
                    <a:pt x="3827" y="1658"/>
                  </a:lnTo>
                  <a:lnTo>
                    <a:pt x="3791" y="1653"/>
                  </a:lnTo>
                  <a:lnTo>
                    <a:pt x="3761" y="1670"/>
                  </a:lnTo>
                  <a:lnTo>
                    <a:pt x="3767" y="1653"/>
                  </a:lnTo>
                  <a:lnTo>
                    <a:pt x="3756" y="1653"/>
                  </a:lnTo>
                  <a:lnTo>
                    <a:pt x="3727" y="1682"/>
                  </a:lnTo>
                  <a:lnTo>
                    <a:pt x="3632" y="1700"/>
                  </a:lnTo>
                  <a:lnTo>
                    <a:pt x="3614" y="1717"/>
                  </a:lnTo>
                  <a:lnTo>
                    <a:pt x="3627" y="1682"/>
                  </a:lnTo>
                  <a:lnTo>
                    <a:pt x="3597" y="1728"/>
                  </a:lnTo>
                  <a:lnTo>
                    <a:pt x="3608" y="1735"/>
                  </a:lnTo>
                  <a:lnTo>
                    <a:pt x="3591" y="1770"/>
                  </a:lnTo>
                  <a:lnTo>
                    <a:pt x="3597" y="1753"/>
                  </a:lnTo>
                  <a:lnTo>
                    <a:pt x="3538" y="1817"/>
                  </a:lnTo>
                  <a:lnTo>
                    <a:pt x="3514" y="1788"/>
                  </a:lnTo>
                  <a:lnTo>
                    <a:pt x="3549" y="1758"/>
                  </a:lnTo>
                  <a:lnTo>
                    <a:pt x="3526" y="1770"/>
                  </a:lnTo>
                  <a:lnTo>
                    <a:pt x="3514" y="1788"/>
                  </a:lnTo>
                  <a:lnTo>
                    <a:pt x="3520" y="1847"/>
                  </a:lnTo>
                  <a:lnTo>
                    <a:pt x="3496" y="1875"/>
                  </a:lnTo>
                  <a:lnTo>
                    <a:pt x="3455" y="1923"/>
                  </a:lnTo>
                  <a:lnTo>
                    <a:pt x="3485" y="1875"/>
                  </a:lnTo>
                  <a:lnTo>
                    <a:pt x="3472" y="1875"/>
                  </a:lnTo>
                  <a:lnTo>
                    <a:pt x="3485" y="1852"/>
                  </a:lnTo>
                  <a:lnTo>
                    <a:pt x="3461" y="1847"/>
                  </a:lnTo>
                  <a:lnTo>
                    <a:pt x="3461" y="1847"/>
                  </a:lnTo>
                  <a:lnTo>
                    <a:pt x="3479" y="1841"/>
                  </a:lnTo>
                  <a:lnTo>
                    <a:pt x="3479" y="1828"/>
                  </a:lnTo>
                  <a:lnTo>
                    <a:pt x="3467" y="1823"/>
                  </a:lnTo>
                  <a:lnTo>
                    <a:pt x="3502" y="1782"/>
                  </a:lnTo>
                  <a:lnTo>
                    <a:pt x="3461" y="1800"/>
                  </a:lnTo>
                  <a:lnTo>
                    <a:pt x="3455" y="1852"/>
                  </a:lnTo>
                  <a:lnTo>
                    <a:pt x="3444" y="1835"/>
                  </a:lnTo>
                  <a:lnTo>
                    <a:pt x="3444" y="1847"/>
                  </a:lnTo>
                  <a:lnTo>
                    <a:pt x="3455" y="1870"/>
                  </a:lnTo>
                  <a:lnTo>
                    <a:pt x="3414" y="1852"/>
                  </a:lnTo>
                  <a:lnTo>
                    <a:pt x="3432" y="1828"/>
                  </a:lnTo>
                  <a:lnTo>
                    <a:pt x="3432" y="1823"/>
                  </a:lnTo>
                  <a:lnTo>
                    <a:pt x="3408" y="1852"/>
                  </a:lnTo>
                  <a:lnTo>
                    <a:pt x="3455" y="1882"/>
                  </a:lnTo>
                  <a:lnTo>
                    <a:pt x="3444" y="1900"/>
                  </a:lnTo>
                  <a:lnTo>
                    <a:pt x="3414" y="1864"/>
                  </a:lnTo>
                  <a:lnTo>
                    <a:pt x="3444" y="1900"/>
                  </a:lnTo>
                  <a:lnTo>
                    <a:pt x="3432" y="1917"/>
                  </a:lnTo>
                  <a:lnTo>
                    <a:pt x="3419" y="1905"/>
                  </a:lnTo>
                  <a:lnTo>
                    <a:pt x="3438" y="1929"/>
                  </a:lnTo>
                  <a:lnTo>
                    <a:pt x="3391" y="1917"/>
                  </a:lnTo>
                  <a:lnTo>
                    <a:pt x="3419" y="1923"/>
                  </a:lnTo>
                  <a:lnTo>
                    <a:pt x="3419" y="1941"/>
                  </a:lnTo>
                  <a:lnTo>
                    <a:pt x="3449" y="1941"/>
                  </a:lnTo>
                  <a:lnTo>
                    <a:pt x="3449" y="1958"/>
                  </a:lnTo>
                  <a:lnTo>
                    <a:pt x="3455" y="2005"/>
                  </a:lnTo>
                  <a:lnTo>
                    <a:pt x="3449" y="1958"/>
                  </a:lnTo>
                  <a:lnTo>
                    <a:pt x="3449" y="1952"/>
                  </a:lnTo>
                  <a:lnTo>
                    <a:pt x="3444" y="1958"/>
                  </a:lnTo>
                  <a:lnTo>
                    <a:pt x="3444" y="1958"/>
                  </a:lnTo>
                  <a:lnTo>
                    <a:pt x="3449" y="1958"/>
                  </a:lnTo>
                  <a:lnTo>
                    <a:pt x="3444" y="1958"/>
                  </a:lnTo>
                  <a:lnTo>
                    <a:pt x="3444" y="1958"/>
                  </a:lnTo>
                  <a:lnTo>
                    <a:pt x="3444" y="1988"/>
                  </a:lnTo>
                  <a:lnTo>
                    <a:pt x="3444" y="1975"/>
                  </a:lnTo>
                  <a:lnTo>
                    <a:pt x="3432" y="1982"/>
                  </a:lnTo>
                  <a:lnTo>
                    <a:pt x="3408" y="1994"/>
                  </a:lnTo>
                  <a:lnTo>
                    <a:pt x="3402" y="1975"/>
                  </a:lnTo>
                  <a:lnTo>
                    <a:pt x="3396" y="1994"/>
                  </a:lnTo>
                  <a:lnTo>
                    <a:pt x="3432" y="1994"/>
                  </a:lnTo>
                  <a:lnTo>
                    <a:pt x="3425" y="2011"/>
                  </a:lnTo>
                  <a:lnTo>
                    <a:pt x="3444" y="1994"/>
                  </a:lnTo>
                  <a:lnTo>
                    <a:pt x="3438" y="2017"/>
                  </a:lnTo>
                  <a:lnTo>
                    <a:pt x="3414" y="2029"/>
                  </a:lnTo>
                  <a:lnTo>
                    <a:pt x="3372" y="2017"/>
                  </a:lnTo>
                  <a:lnTo>
                    <a:pt x="3402" y="2035"/>
                  </a:lnTo>
                  <a:lnTo>
                    <a:pt x="3379" y="2052"/>
                  </a:lnTo>
                  <a:lnTo>
                    <a:pt x="3366" y="2041"/>
                  </a:lnTo>
                  <a:lnTo>
                    <a:pt x="3372" y="2052"/>
                  </a:lnTo>
                  <a:lnTo>
                    <a:pt x="3402" y="2058"/>
                  </a:lnTo>
                  <a:lnTo>
                    <a:pt x="3343" y="2076"/>
                  </a:lnTo>
                  <a:lnTo>
                    <a:pt x="3343" y="2064"/>
                  </a:lnTo>
                  <a:lnTo>
                    <a:pt x="3308" y="2117"/>
                  </a:lnTo>
                  <a:lnTo>
                    <a:pt x="3308" y="2099"/>
                  </a:lnTo>
                  <a:lnTo>
                    <a:pt x="3302" y="2117"/>
                  </a:lnTo>
                  <a:lnTo>
                    <a:pt x="3272" y="2117"/>
                  </a:lnTo>
                  <a:lnTo>
                    <a:pt x="3232" y="2158"/>
                  </a:lnTo>
                  <a:lnTo>
                    <a:pt x="3219" y="2169"/>
                  </a:lnTo>
                  <a:lnTo>
                    <a:pt x="3184" y="2194"/>
                  </a:lnTo>
                  <a:lnTo>
                    <a:pt x="3149" y="2199"/>
                  </a:lnTo>
                  <a:lnTo>
                    <a:pt x="3154" y="2211"/>
                  </a:lnTo>
                  <a:lnTo>
                    <a:pt x="3143" y="2199"/>
                  </a:lnTo>
                  <a:lnTo>
                    <a:pt x="3143" y="2217"/>
                  </a:lnTo>
                  <a:lnTo>
                    <a:pt x="3131" y="2229"/>
                  </a:lnTo>
                  <a:lnTo>
                    <a:pt x="3107" y="2241"/>
                  </a:lnTo>
                  <a:lnTo>
                    <a:pt x="3090" y="2264"/>
                  </a:lnTo>
                  <a:lnTo>
                    <a:pt x="3101" y="2269"/>
                  </a:lnTo>
                  <a:lnTo>
                    <a:pt x="3084" y="2305"/>
                  </a:lnTo>
                  <a:lnTo>
                    <a:pt x="3090" y="2405"/>
                  </a:lnTo>
                  <a:lnTo>
                    <a:pt x="3101" y="2429"/>
                  </a:lnTo>
                  <a:lnTo>
                    <a:pt x="3101" y="2435"/>
                  </a:lnTo>
                  <a:lnTo>
                    <a:pt x="3101" y="2441"/>
                  </a:lnTo>
                  <a:lnTo>
                    <a:pt x="3096" y="2452"/>
                  </a:lnTo>
                  <a:lnTo>
                    <a:pt x="3096" y="2476"/>
                  </a:lnTo>
                  <a:lnTo>
                    <a:pt x="3096" y="2452"/>
                  </a:lnTo>
                  <a:lnTo>
                    <a:pt x="3101" y="2435"/>
                  </a:lnTo>
                  <a:lnTo>
                    <a:pt x="3101" y="2429"/>
                  </a:lnTo>
                  <a:lnTo>
                    <a:pt x="3090" y="2423"/>
                  </a:lnTo>
                  <a:lnTo>
                    <a:pt x="3090" y="2429"/>
                  </a:lnTo>
                  <a:lnTo>
                    <a:pt x="3090" y="2458"/>
                  </a:lnTo>
                  <a:lnTo>
                    <a:pt x="3096" y="2482"/>
                  </a:lnTo>
                  <a:lnTo>
                    <a:pt x="3101" y="2499"/>
                  </a:lnTo>
                  <a:lnTo>
                    <a:pt x="3101" y="2511"/>
                  </a:lnTo>
                  <a:lnTo>
                    <a:pt x="3101" y="2516"/>
                  </a:lnTo>
                  <a:lnTo>
                    <a:pt x="3101" y="2516"/>
                  </a:lnTo>
                  <a:lnTo>
                    <a:pt x="3107" y="2541"/>
                  </a:lnTo>
                  <a:lnTo>
                    <a:pt x="3037" y="2640"/>
                  </a:lnTo>
                  <a:lnTo>
                    <a:pt x="3037" y="2623"/>
                  </a:lnTo>
                  <a:lnTo>
                    <a:pt x="3043" y="2629"/>
                  </a:lnTo>
                  <a:lnTo>
                    <a:pt x="3001" y="2558"/>
                  </a:lnTo>
                  <a:lnTo>
                    <a:pt x="3018" y="2541"/>
                  </a:lnTo>
                  <a:lnTo>
                    <a:pt x="3001" y="2558"/>
                  </a:lnTo>
                  <a:lnTo>
                    <a:pt x="3001" y="2546"/>
                  </a:lnTo>
                  <a:lnTo>
                    <a:pt x="3007" y="2529"/>
                  </a:lnTo>
                  <a:lnTo>
                    <a:pt x="2990" y="2535"/>
                  </a:lnTo>
                  <a:lnTo>
                    <a:pt x="2977" y="2493"/>
                  </a:lnTo>
                  <a:lnTo>
                    <a:pt x="3001" y="2476"/>
                  </a:lnTo>
                  <a:lnTo>
                    <a:pt x="2990" y="2464"/>
                  </a:lnTo>
                  <a:lnTo>
                    <a:pt x="2984" y="2488"/>
                  </a:lnTo>
                  <a:lnTo>
                    <a:pt x="2977" y="2476"/>
                  </a:lnTo>
                  <a:lnTo>
                    <a:pt x="3001" y="2416"/>
                  </a:lnTo>
                  <a:lnTo>
                    <a:pt x="2960" y="2352"/>
                  </a:lnTo>
                  <a:lnTo>
                    <a:pt x="2895" y="2364"/>
                  </a:lnTo>
                  <a:lnTo>
                    <a:pt x="2877" y="2364"/>
                  </a:lnTo>
                  <a:lnTo>
                    <a:pt x="2877" y="2352"/>
                  </a:lnTo>
                  <a:lnTo>
                    <a:pt x="2860" y="2335"/>
                  </a:lnTo>
                  <a:lnTo>
                    <a:pt x="2871" y="2329"/>
                  </a:lnTo>
                  <a:lnTo>
                    <a:pt x="2860" y="2329"/>
                  </a:lnTo>
                  <a:lnTo>
                    <a:pt x="2860" y="2341"/>
                  </a:lnTo>
                  <a:lnTo>
                    <a:pt x="2824" y="2323"/>
                  </a:lnTo>
                  <a:lnTo>
                    <a:pt x="2842" y="2317"/>
                  </a:lnTo>
                  <a:lnTo>
                    <a:pt x="2824" y="2323"/>
                  </a:lnTo>
                  <a:lnTo>
                    <a:pt x="2789" y="2329"/>
                  </a:lnTo>
                  <a:lnTo>
                    <a:pt x="2807" y="2323"/>
                  </a:lnTo>
                  <a:lnTo>
                    <a:pt x="2801" y="2311"/>
                  </a:lnTo>
                  <a:lnTo>
                    <a:pt x="2782" y="2329"/>
                  </a:lnTo>
                  <a:lnTo>
                    <a:pt x="2777" y="2335"/>
                  </a:lnTo>
                  <a:lnTo>
                    <a:pt x="2782" y="2317"/>
                  </a:lnTo>
                  <a:lnTo>
                    <a:pt x="2748" y="2335"/>
                  </a:lnTo>
                  <a:lnTo>
                    <a:pt x="2759" y="2329"/>
                  </a:lnTo>
                  <a:lnTo>
                    <a:pt x="2754" y="2305"/>
                  </a:lnTo>
                  <a:lnTo>
                    <a:pt x="2742" y="2329"/>
                  </a:lnTo>
                  <a:lnTo>
                    <a:pt x="2729" y="2323"/>
                  </a:lnTo>
                  <a:lnTo>
                    <a:pt x="2671" y="2335"/>
                  </a:lnTo>
                  <a:lnTo>
                    <a:pt x="2642" y="2323"/>
                  </a:lnTo>
                  <a:lnTo>
                    <a:pt x="2623" y="2341"/>
                  </a:lnTo>
                  <a:lnTo>
                    <a:pt x="2665" y="2341"/>
                  </a:lnTo>
                  <a:lnTo>
                    <a:pt x="2659" y="2358"/>
                  </a:lnTo>
                  <a:lnTo>
                    <a:pt x="2676" y="2346"/>
                  </a:lnTo>
                  <a:lnTo>
                    <a:pt x="2665" y="2371"/>
                  </a:lnTo>
                  <a:lnTo>
                    <a:pt x="2653" y="2371"/>
                  </a:lnTo>
                  <a:lnTo>
                    <a:pt x="2682" y="2399"/>
                  </a:lnTo>
                  <a:lnTo>
                    <a:pt x="2659" y="2411"/>
                  </a:lnTo>
                  <a:lnTo>
                    <a:pt x="2671" y="2399"/>
                  </a:lnTo>
                  <a:lnTo>
                    <a:pt x="2629" y="2376"/>
                  </a:lnTo>
                  <a:lnTo>
                    <a:pt x="2635" y="2388"/>
                  </a:lnTo>
                  <a:lnTo>
                    <a:pt x="2618" y="2405"/>
                  </a:lnTo>
                  <a:lnTo>
                    <a:pt x="2612" y="2388"/>
                  </a:lnTo>
                  <a:lnTo>
                    <a:pt x="2595" y="2399"/>
                  </a:lnTo>
                  <a:lnTo>
                    <a:pt x="2570" y="2393"/>
                  </a:lnTo>
                  <a:lnTo>
                    <a:pt x="2576" y="2371"/>
                  </a:lnTo>
                  <a:lnTo>
                    <a:pt x="2547" y="2358"/>
                  </a:lnTo>
                  <a:lnTo>
                    <a:pt x="2535" y="2371"/>
                  </a:lnTo>
                  <a:lnTo>
                    <a:pt x="2523" y="2376"/>
                  </a:lnTo>
                  <a:lnTo>
                    <a:pt x="2447" y="2364"/>
                  </a:lnTo>
                  <a:lnTo>
                    <a:pt x="2453" y="2346"/>
                  </a:lnTo>
                  <a:lnTo>
                    <a:pt x="2447" y="2364"/>
                  </a:lnTo>
                  <a:lnTo>
                    <a:pt x="2394" y="2388"/>
                  </a:lnTo>
                  <a:lnTo>
                    <a:pt x="2411" y="2376"/>
                  </a:lnTo>
                  <a:lnTo>
                    <a:pt x="2394" y="2376"/>
                  </a:lnTo>
                  <a:lnTo>
                    <a:pt x="2387" y="2364"/>
                  </a:lnTo>
                  <a:lnTo>
                    <a:pt x="2394" y="2388"/>
                  </a:lnTo>
                  <a:lnTo>
                    <a:pt x="2358" y="2416"/>
                  </a:lnTo>
                  <a:lnTo>
                    <a:pt x="2311" y="2441"/>
                  </a:lnTo>
                  <a:lnTo>
                    <a:pt x="2323" y="2429"/>
                  </a:lnTo>
                  <a:lnTo>
                    <a:pt x="2294" y="2435"/>
                  </a:lnTo>
                  <a:lnTo>
                    <a:pt x="2287" y="2423"/>
                  </a:lnTo>
                  <a:lnTo>
                    <a:pt x="2300" y="2441"/>
                  </a:lnTo>
                  <a:lnTo>
                    <a:pt x="2276" y="2441"/>
                  </a:lnTo>
                  <a:lnTo>
                    <a:pt x="2270" y="2458"/>
                  </a:lnTo>
                  <a:lnTo>
                    <a:pt x="2247" y="2476"/>
                  </a:lnTo>
                  <a:lnTo>
                    <a:pt x="2234" y="2476"/>
                  </a:lnTo>
                  <a:lnTo>
                    <a:pt x="2247" y="2488"/>
                  </a:lnTo>
                  <a:lnTo>
                    <a:pt x="2234" y="2505"/>
                  </a:lnTo>
                  <a:lnTo>
                    <a:pt x="2211" y="2511"/>
                  </a:lnTo>
                  <a:lnTo>
                    <a:pt x="2228" y="2511"/>
                  </a:lnTo>
                  <a:lnTo>
                    <a:pt x="2217" y="2535"/>
                  </a:lnTo>
                  <a:lnTo>
                    <a:pt x="2228" y="2588"/>
                  </a:lnTo>
                  <a:lnTo>
                    <a:pt x="2170" y="2717"/>
                  </a:lnTo>
                  <a:lnTo>
                    <a:pt x="2147" y="2787"/>
                  </a:lnTo>
                  <a:lnTo>
                    <a:pt x="2147" y="2817"/>
                  </a:lnTo>
                  <a:lnTo>
                    <a:pt x="2164" y="2899"/>
                  </a:lnTo>
                  <a:lnTo>
                    <a:pt x="2217" y="3017"/>
                  </a:lnTo>
                  <a:lnTo>
                    <a:pt x="2253" y="3017"/>
                  </a:lnTo>
                  <a:lnTo>
                    <a:pt x="2281" y="3052"/>
                  </a:lnTo>
                  <a:lnTo>
                    <a:pt x="2334" y="3034"/>
                  </a:lnTo>
                  <a:lnTo>
                    <a:pt x="2382" y="3034"/>
                  </a:lnTo>
                  <a:lnTo>
                    <a:pt x="2394" y="3023"/>
                  </a:lnTo>
                  <a:lnTo>
                    <a:pt x="2417" y="3023"/>
                  </a:lnTo>
                  <a:lnTo>
                    <a:pt x="2423" y="3040"/>
                  </a:lnTo>
                  <a:lnTo>
                    <a:pt x="2459" y="3023"/>
                  </a:lnTo>
                  <a:lnTo>
                    <a:pt x="2447" y="3011"/>
                  </a:lnTo>
                  <a:lnTo>
                    <a:pt x="2459" y="3005"/>
                  </a:lnTo>
                  <a:lnTo>
                    <a:pt x="2441" y="3011"/>
                  </a:lnTo>
                  <a:lnTo>
                    <a:pt x="2487" y="2982"/>
                  </a:lnTo>
                  <a:lnTo>
                    <a:pt x="2523" y="2882"/>
                  </a:lnTo>
                  <a:lnTo>
                    <a:pt x="2623" y="2852"/>
                  </a:lnTo>
                  <a:lnTo>
                    <a:pt x="2676" y="2852"/>
                  </a:lnTo>
                  <a:lnTo>
                    <a:pt x="2695" y="2846"/>
                  </a:lnTo>
                  <a:lnTo>
                    <a:pt x="2706" y="2876"/>
                  </a:lnTo>
                  <a:lnTo>
                    <a:pt x="2659" y="2946"/>
                  </a:lnTo>
                  <a:lnTo>
                    <a:pt x="2642" y="2964"/>
                  </a:lnTo>
                  <a:lnTo>
                    <a:pt x="2659" y="2970"/>
                  </a:lnTo>
                  <a:lnTo>
                    <a:pt x="2642" y="2982"/>
                  </a:lnTo>
                  <a:lnTo>
                    <a:pt x="2653" y="2982"/>
                  </a:lnTo>
                  <a:lnTo>
                    <a:pt x="2635" y="3034"/>
                  </a:lnTo>
                  <a:lnTo>
                    <a:pt x="2629" y="3052"/>
                  </a:lnTo>
                  <a:lnTo>
                    <a:pt x="2618" y="3029"/>
                  </a:lnTo>
                  <a:lnTo>
                    <a:pt x="2623" y="3011"/>
                  </a:lnTo>
                  <a:lnTo>
                    <a:pt x="2606" y="3034"/>
                  </a:lnTo>
                  <a:lnTo>
                    <a:pt x="2600" y="3040"/>
                  </a:lnTo>
                  <a:lnTo>
                    <a:pt x="2618" y="3046"/>
                  </a:lnTo>
                  <a:lnTo>
                    <a:pt x="2600" y="3123"/>
                  </a:lnTo>
                  <a:lnTo>
                    <a:pt x="2559" y="3187"/>
                  </a:lnTo>
                  <a:lnTo>
                    <a:pt x="2576" y="3181"/>
                  </a:lnTo>
                  <a:lnTo>
                    <a:pt x="2595" y="3193"/>
                  </a:lnTo>
                  <a:lnTo>
                    <a:pt x="2629" y="3181"/>
                  </a:lnTo>
                  <a:lnTo>
                    <a:pt x="2689" y="3193"/>
                  </a:lnTo>
                  <a:lnTo>
                    <a:pt x="2712" y="3176"/>
                  </a:lnTo>
                  <a:lnTo>
                    <a:pt x="2789" y="3187"/>
                  </a:lnTo>
                  <a:lnTo>
                    <a:pt x="2807" y="3199"/>
                  </a:lnTo>
                  <a:lnTo>
                    <a:pt x="2824" y="3217"/>
                  </a:lnTo>
                  <a:lnTo>
                    <a:pt x="2807" y="3217"/>
                  </a:lnTo>
                  <a:lnTo>
                    <a:pt x="2807" y="3217"/>
                  </a:lnTo>
                  <a:lnTo>
                    <a:pt x="2830" y="3229"/>
                  </a:lnTo>
                  <a:lnTo>
                    <a:pt x="2854" y="3240"/>
                  </a:lnTo>
                  <a:lnTo>
                    <a:pt x="2836" y="3252"/>
                  </a:lnTo>
                  <a:lnTo>
                    <a:pt x="2848" y="3276"/>
                  </a:lnTo>
                  <a:lnTo>
                    <a:pt x="2824" y="3329"/>
                  </a:lnTo>
                  <a:lnTo>
                    <a:pt x="2824" y="3393"/>
                  </a:lnTo>
                  <a:lnTo>
                    <a:pt x="2824" y="3370"/>
                  </a:lnTo>
                  <a:lnTo>
                    <a:pt x="2812" y="3381"/>
                  </a:lnTo>
                  <a:lnTo>
                    <a:pt x="2818" y="3393"/>
                  </a:lnTo>
                  <a:lnTo>
                    <a:pt x="2812" y="3434"/>
                  </a:lnTo>
                  <a:lnTo>
                    <a:pt x="2801" y="3453"/>
                  </a:lnTo>
                  <a:lnTo>
                    <a:pt x="2812" y="3476"/>
                  </a:lnTo>
                  <a:lnTo>
                    <a:pt x="2865" y="3558"/>
                  </a:lnTo>
                  <a:lnTo>
                    <a:pt x="2877" y="3593"/>
                  </a:lnTo>
                  <a:lnTo>
                    <a:pt x="2901" y="3593"/>
                  </a:lnTo>
                  <a:lnTo>
                    <a:pt x="2918" y="3605"/>
                  </a:lnTo>
                  <a:lnTo>
                    <a:pt x="2995" y="3575"/>
                  </a:lnTo>
                  <a:lnTo>
                    <a:pt x="3001" y="3575"/>
                  </a:lnTo>
                  <a:lnTo>
                    <a:pt x="3007" y="3570"/>
                  </a:lnTo>
                  <a:lnTo>
                    <a:pt x="3024" y="3552"/>
                  </a:lnTo>
                  <a:lnTo>
                    <a:pt x="3077" y="3570"/>
                  </a:lnTo>
                  <a:lnTo>
                    <a:pt x="3131" y="3611"/>
                  </a:lnTo>
                  <a:lnTo>
                    <a:pt x="3160" y="3640"/>
                  </a:lnTo>
                  <a:lnTo>
                    <a:pt x="3166" y="3652"/>
                  </a:lnTo>
                  <a:lnTo>
                    <a:pt x="3154" y="3617"/>
                  </a:lnTo>
                  <a:lnTo>
                    <a:pt x="3225" y="3564"/>
                  </a:lnTo>
                  <a:lnTo>
                    <a:pt x="3232" y="3523"/>
                  </a:lnTo>
                  <a:lnTo>
                    <a:pt x="3232" y="3499"/>
                  </a:lnTo>
                  <a:lnTo>
                    <a:pt x="3266" y="3464"/>
                  </a:lnTo>
                  <a:lnTo>
                    <a:pt x="3302" y="3476"/>
                  </a:lnTo>
                  <a:lnTo>
                    <a:pt x="3285" y="3481"/>
                  </a:lnTo>
                  <a:lnTo>
                    <a:pt x="3296" y="3487"/>
                  </a:lnTo>
                  <a:lnTo>
                    <a:pt x="3308" y="3453"/>
                  </a:lnTo>
                  <a:lnTo>
                    <a:pt x="3355" y="3458"/>
                  </a:lnTo>
                  <a:lnTo>
                    <a:pt x="3408" y="3423"/>
                  </a:lnTo>
                  <a:lnTo>
                    <a:pt x="3444" y="3387"/>
                  </a:lnTo>
                  <a:lnTo>
                    <a:pt x="3467" y="3411"/>
                  </a:lnTo>
                  <a:lnTo>
                    <a:pt x="3455" y="3423"/>
                  </a:lnTo>
                  <a:lnTo>
                    <a:pt x="3419" y="3440"/>
                  </a:lnTo>
                  <a:lnTo>
                    <a:pt x="3438" y="3487"/>
                  </a:lnTo>
                  <a:lnTo>
                    <a:pt x="3408" y="3540"/>
                  </a:lnTo>
                  <a:lnTo>
                    <a:pt x="3432" y="3587"/>
                  </a:lnTo>
                  <a:lnTo>
                    <a:pt x="3461" y="3570"/>
                  </a:lnTo>
                  <a:lnTo>
                    <a:pt x="3467" y="3546"/>
                  </a:lnTo>
                  <a:lnTo>
                    <a:pt x="3438" y="3487"/>
                  </a:lnTo>
                  <a:lnTo>
                    <a:pt x="3532" y="3446"/>
                  </a:lnTo>
                  <a:lnTo>
                    <a:pt x="3532" y="3434"/>
                  </a:lnTo>
                  <a:lnTo>
                    <a:pt x="3514" y="3440"/>
                  </a:lnTo>
                  <a:lnTo>
                    <a:pt x="3508" y="3423"/>
                  </a:lnTo>
                  <a:lnTo>
                    <a:pt x="3526" y="3405"/>
                  </a:lnTo>
                  <a:lnTo>
                    <a:pt x="3544" y="3446"/>
                  </a:lnTo>
                  <a:lnTo>
                    <a:pt x="3608" y="3464"/>
                  </a:lnTo>
                  <a:lnTo>
                    <a:pt x="3608" y="3493"/>
                  </a:lnTo>
                  <a:lnTo>
                    <a:pt x="3720" y="3493"/>
                  </a:lnTo>
                  <a:lnTo>
                    <a:pt x="3733" y="3517"/>
                  </a:lnTo>
                  <a:lnTo>
                    <a:pt x="3774" y="3528"/>
                  </a:lnTo>
                  <a:lnTo>
                    <a:pt x="3850" y="3505"/>
                  </a:lnTo>
                  <a:lnTo>
                    <a:pt x="3821" y="3493"/>
                  </a:lnTo>
                  <a:lnTo>
                    <a:pt x="3945" y="3487"/>
                  </a:lnTo>
                  <a:lnTo>
                    <a:pt x="3892" y="3499"/>
                  </a:lnTo>
                  <a:lnTo>
                    <a:pt x="3886" y="3517"/>
                  </a:lnTo>
                  <a:lnTo>
                    <a:pt x="3897" y="3511"/>
                  </a:lnTo>
                  <a:lnTo>
                    <a:pt x="3903" y="3523"/>
                  </a:lnTo>
                  <a:lnTo>
                    <a:pt x="3886" y="3528"/>
                  </a:lnTo>
                  <a:lnTo>
                    <a:pt x="3909" y="3517"/>
                  </a:lnTo>
                  <a:lnTo>
                    <a:pt x="3922" y="3546"/>
                  </a:lnTo>
                  <a:lnTo>
                    <a:pt x="3922" y="3552"/>
                  </a:lnTo>
                  <a:lnTo>
                    <a:pt x="3927" y="3552"/>
                  </a:lnTo>
                  <a:lnTo>
                    <a:pt x="3927" y="3528"/>
                  </a:lnTo>
                  <a:lnTo>
                    <a:pt x="3950" y="3558"/>
                  </a:lnTo>
                  <a:lnTo>
                    <a:pt x="3956" y="3540"/>
                  </a:lnTo>
                  <a:lnTo>
                    <a:pt x="3998" y="3564"/>
                  </a:lnTo>
                  <a:lnTo>
                    <a:pt x="3974" y="3617"/>
                  </a:lnTo>
                  <a:lnTo>
                    <a:pt x="3950" y="3611"/>
                  </a:lnTo>
                  <a:lnTo>
                    <a:pt x="3950" y="3617"/>
                  </a:lnTo>
                  <a:lnTo>
                    <a:pt x="3956" y="3617"/>
                  </a:lnTo>
                  <a:lnTo>
                    <a:pt x="4039" y="3617"/>
                  </a:lnTo>
                  <a:lnTo>
                    <a:pt x="4051" y="3623"/>
                  </a:lnTo>
                  <a:lnTo>
                    <a:pt x="4069" y="3640"/>
                  </a:lnTo>
                  <a:lnTo>
                    <a:pt x="4098" y="3658"/>
                  </a:lnTo>
                  <a:lnTo>
                    <a:pt x="4104" y="3670"/>
                  </a:lnTo>
                  <a:lnTo>
                    <a:pt x="4116" y="3687"/>
                  </a:lnTo>
                  <a:lnTo>
                    <a:pt x="4104" y="3747"/>
                  </a:lnTo>
                  <a:lnTo>
                    <a:pt x="4122" y="3717"/>
                  </a:lnTo>
                  <a:lnTo>
                    <a:pt x="4181" y="3758"/>
                  </a:lnTo>
                  <a:lnTo>
                    <a:pt x="4181" y="3799"/>
                  </a:lnTo>
                  <a:lnTo>
                    <a:pt x="4192" y="3770"/>
                  </a:lnTo>
                  <a:lnTo>
                    <a:pt x="4251" y="3787"/>
                  </a:lnTo>
                  <a:lnTo>
                    <a:pt x="4251" y="3770"/>
                  </a:lnTo>
                  <a:lnTo>
                    <a:pt x="4292" y="3775"/>
                  </a:lnTo>
                  <a:lnTo>
                    <a:pt x="4304" y="3775"/>
                  </a:lnTo>
                  <a:lnTo>
                    <a:pt x="4292" y="3770"/>
                  </a:lnTo>
                  <a:lnTo>
                    <a:pt x="4345" y="3775"/>
                  </a:lnTo>
                  <a:lnTo>
                    <a:pt x="4340" y="3805"/>
                  </a:lnTo>
                  <a:lnTo>
                    <a:pt x="4357" y="3781"/>
                  </a:lnTo>
                  <a:lnTo>
                    <a:pt x="4404" y="3799"/>
                  </a:lnTo>
                  <a:lnTo>
                    <a:pt x="4440" y="3828"/>
                  </a:lnTo>
                  <a:lnTo>
                    <a:pt x="4434" y="3840"/>
                  </a:lnTo>
                  <a:lnTo>
                    <a:pt x="4451" y="3847"/>
                  </a:lnTo>
                  <a:lnTo>
                    <a:pt x="4451" y="3864"/>
                  </a:lnTo>
                  <a:lnTo>
                    <a:pt x="4464" y="3852"/>
                  </a:lnTo>
                  <a:lnTo>
                    <a:pt x="4470" y="3881"/>
                  </a:lnTo>
                  <a:lnTo>
                    <a:pt x="4476" y="3870"/>
                  </a:lnTo>
                  <a:lnTo>
                    <a:pt x="4481" y="3887"/>
                  </a:lnTo>
                  <a:lnTo>
                    <a:pt x="4476" y="3864"/>
                  </a:lnTo>
                  <a:lnTo>
                    <a:pt x="4499" y="3894"/>
                  </a:lnTo>
                  <a:lnTo>
                    <a:pt x="4499" y="3922"/>
                  </a:lnTo>
                  <a:lnTo>
                    <a:pt x="4511" y="3999"/>
                  </a:lnTo>
                  <a:lnTo>
                    <a:pt x="4552" y="4022"/>
                  </a:lnTo>
                  <a:lnTo>
                    <a:pt x="4557" y="4052"/>
                  </a:lnTo>
                  <a:lnTo>
                    <a:pt x="4481" y="4128"/>
                  </a:lnTo>
                  <a:lnTo>
                    <a:pt x="4451" y="4205"/>
                  </a:lnTo>
                  <a:lnTo>
                    <a:pt x="4410" y="4216"/>
                  </a:lnTo>
                  <a:lnTo>
                    <a:pt x="4410" y="4222"/>
                  </a:lnTo>
                  <a:lnTo>
                    <a:pt x="4434" y="4228"/>
                  </a:lnTo>
                  <a:lnTo>
                    <a:pt x="4434" y="4228"/>
                  </a:lnTo>
                  <a:lnTo>
                    <a:pt x="4440" y="4228"/>
                  </a:lnTo>
                  <a:lnTo>
                    <a:pt x="4504" y="4181"/>
                  </a:lnTo>
                  <a:lnTo>
                    <a:pt x="4517" y="4234"/>
                  </a:lnTo>
                  <a:lnTo>
                    <a:pt x="4517" y="4234"/>
                  </a:lnTo>
                  <a:lnTo>
                    <a:pt x="4529" y="4252"/>
                  </a:lnTo>
                  <a:lnTo>
                    <a:pt x="4557" y="4234"/>
                  </a:lnTo>
                  <a:lnTo>
                    <a:pt x="4564" y="4252"/>
                  </a:lnTo>
                  <a:lnTo>
                    <a:pt x="4557" y="4241"/>
                  </a:lnTo>
                  <a:lnTo>
                    <a:pt x="4576" y="4246"/>
                  </a:lnTo>
                  <a:lnTo>
                    <a:pt x="4582" y="4234"/>
                  </a:lnTo>
                  <a:lnTo>
                    <a:pt x="4570" y="4288"/>
                  </a:lnTo>
                  <a:lnTo>
                    <a:pt x="4611" y="4234"/>
                  </a:lnTo>
                  <a:lnTo>
                    <a:pt x="4635" y="4222"/>
                  </a:lnTo>
                  <a:lnTo>
                    <a:pt x="4629" y="4205"/>
                  </a:lnTo>
                  <a:lnTo>
                    <a:pt x="4652" y="4169"/>
                  </a:lnTo>
                  <a:lnTo>
                    <a:pt x="4687" y="4175"/>
                  </a:lnTo>
                  <a:lnTo>
                    <a:pt x="4693" y="4158"/>
                  </a:lnTo>
                  <a:lnTo>
                    <a:pt x="4712" y="4181"/>
                  </a:lnTo>
                  <a:lnTo>
                    <a:pt x="4717" y="4169"/>
                  </a:lnTo>
                  <a:lnTo>
                    <a:pt x="4729" y="4175"/>
                  </a:lnTo>
                  <a:lnTo>
                    <a:pt x="4723" y="4187"/>
                  </a:lnTo>
                  <a:lnTo>
                    <a:pt x="4752" y="4181"/>
                  </a:lnTo>
                  <a:lnTo>
                    <a:pt x="4746" y="4193"/>
                  </a:lnTo>
                  <a:lnTo>
                    <a:pt x="4765" y="4187"/>
                  </a:lnTo>
                  <a:lnTo>
                    <a:pt x="4770" y="4205"/>
                  </a:lnTo>
                  <a:lnTo>
                    <a:pt x="4776" y="4193"/>
                  </a:lnTo>
                  <a:lnTo>
                    <a:pt x="4793" y="4205"/>
                  </a:lnTo>
                  <a:lnTo>
                    <a:pt x="4788" y="4216"/>
                  </a:lnTo>
                  <a:lnTo>
                    <a:pt x="4793" y="4205"/>
                  </a:lnTo>
                  <a:lnTo>
                    <a:pt x="4793" y="4228"/>
                  </a:lnTo>
                  <a:lnTo>
                    <a:pt x="4823" y="4211"/>
                  </a:lnTo>
                  <a:lnTo>
                    <a:pt x="4818" y="4222"/>
                  </a:lnTo>
                  <a:lnTo>
                    <a:pt x="4835" y="4228"/>
                  </a:lnTo>
                  <a:lnTo>
                    <a:pt x="4841" y="4246"/>
                  </a:lnTo>
                  <a:lnTo>
                    <a:pt x="4823" y="4264"/>
                  </a:lnTo>
                  <a:lnTo>
                    <a:pt x="4835" y="4269"/>
                  </a:lnTo>
                  <a:lnTo>
                    <a:pt x="4841" y="4252"/>
                  </a:lnTo>
                  <a:lnTo>
                    <a:pt x="4846" y="4264"/>
                  </a:lnTo>
                  <a:lnTo>
                    <a:pt x="4835" y="4281"/>
                  </a:lnTo>
                  <a:lnTo>
                    <a:pt x="4829" y="4322"/>
                  </a:lnTo>
                  <a:lnTo>
                    <a:pt x="4846" y="4293"/>
                  </a:lnTo>
                  <a:lnTo>
                    <a:pt x="4852" y="4275"/>
                  </a:lnTo>
                  <a:lnTo>
                    <a:pt x="4865" y="4269"/>
                  </a:lnTo>
                  <a:lnTo>
                    <a:pt x="4859" y="4299"/>
                  </a:lnTo>
                  <a:lnTo>
                    <a:pt x="4899" y="4264"/>
                  </a:lnTo>
                  <a:lnTo>
                    <a:pt x="4959" y="4293"/>
                  </a:lnTo>
                  <a:lnTo>
                    <a:pt x="4982" y="4288"/>
                  </a:lnTo>
                  <a:lnTo>
                    <a:pt x="5012" y="4305"/>
                  </a:lnTo>
                  <a:lnTo>
                    <a:pt x="5077" y="4293"/>
                  </a:lnTo>
                  <a:lnTo>
                    <a:pt x="5160" y="4346"/>
                  </a:lnTo>
                  <a:lnTo>
                    <a:pt x="5230" y="4416"/>
                  </a:lnTo>
                  <a:lnTo>
                    <a:pt x="5319" y="4435"/>
                  </a:lnTo>
                  <a:lnTo>
                    <a:pt x="5349" y="4540"/>
                  </a:lnTo>
                  <a:lnTo>
                    <a:pt x="5354" y="4552"/>
                  </a:lnTo>
                  <a:lnTo>
                    <a:pt x="5349" y="4622"/>
                  </a:lnTo>
                  <a:lnTo>
                    <a:pt x="5330" y="4669"/>
                  </a:lnTo>
                  <a:lnTo>
                    <a:pt x="5295" y="4693"/>
                  </a:lnTo>
                  <a:lnTo>
                    <a:pt x="5301" y="4699"/>
                  </a:lnTo>
                  <a:lnTo>
                    <a:pt x="5271" y="4746"/>
                  </a:lnTo>
                  <a:lnTo>
                    <a:pt x="5230" y="4775"/>
                  </a:lnTo>
                  <a:lnTo>
                    <a:pt x="5236" y="4787"/>
                  </a:lnTo>
                  <a:lnTo>
                    <a:pt x="5224" y="4799"/>
                  </a:lnTo>
                  <a:lnTo>
                    <a:pt x="5218" y="4799"/>
                  </a:lnTo>
                  <a:lnTo>
                    <a:pt x="5183" y="4875"/>
                  </a:lnTo>
                  <a:lnTo>
                    <a:pt x="5165" y="4893"/>
                  </a:lnTo>
                  <a:lnTo>
                    <a:pt x="5165" y="4875"/>
                  </a:lnTo>
                  <a:lnTo>
                    <a:pt x="5147" y="4875"/>
                  </a:lnTo>
                  <a:lnTo>
                    <a:pt x="5154" y="4887"/>
                  </a:lnTo>
                  <a:lnTo>
                    <a:pt x="5141" y="4910"/>
                  </a:lnTo>
                  <a:lnTo>
                    <a:pt x="5141" y="4934"/>
                  </a:lnTo>
                  <a:lnTo>
                    <a:pt x="5136" y="4934"/>
                  </a:lnTo>
                  <a:lnTo>
                    <a:pt x="5147" y="4946"/>
                  </a:lnTo>
                  <a:lnTo>
                    <a:pt x="5154" y="5063"/>
                  </a:lnTo>
                  <a:lnTo>
                    <a:pt x="5147" y="5169"/>
                  </a:lnTo>
                  <a:lnTo>
                    <a:pt x="5118" y="5199"/>
                  </a:lnTo>
                  <a:lnTo>
                    <a:pt x="5118" y="5287"/>
                  </a:lnTo>
                  <a:lnTo>
                    <a:pt x="5065" y="5381"/>
                  </a:lnTo>
                  <a:lnTo>
                    <a:pt x="5065" y="5423"/>
                  </a:lnTo>
                  <a:lnTo>
                    <a:pt x="5024" y="5446"/>
                  </a:lnTo>
                  <a:lnTo>
                    <a:pt x="5018" y="5481"/>
                  </a:lnTo>
                  <a:lnTo>
                    <a:pt x="4965" y="5481"/>
                  </a:lnTo>
                  <a:lnTo>
                    <a:pt x="4959" y="5463"/>
                  </a:lnTo>
                  <a:lnTo>
                    <a:pt x="4959" y="5481"/>
                  </a:lnTo>
                  <a:lnTo>
                    <a:pt x="4929" y="5481"/>
                  </a:lnTo>
                  <a:lnTo>
                    <a:pt x="4894" y="5481"/>
                  </a:lnTo>
                  <a:lnTo>
                    <a:pt x="4882" y="5493"/>
                  </a:lnTo>
                  <a:lnTo>
                    <a:pt x="4888" y="5504"/>
                  </a:lnTo>
                  <a:lnTo>
                    <a:pt x="4846" y="5522"/>
                  </a:lnTo>
                  <a:lnTo>
                    <a:pt x="4846" y="5534"/>
                  </a:lnTo>
                  <a:lnTo>
                    <a:pt x="4799" y="5534"/>
                  </a:lnTo>
                  <a:lnTo>
                    <a:pt x="4717" y="5604"/>
                  </a:lnTo>
                  <a:lnTo>
                    <a:pt x="4717" y="5622"/>
                  </a:lnTo>
                  <a:lnTo>
                    <a:pt x="4717" y="5617"/>
                  </a:lnTo>
                  <a:lnTo>
                    <a:pt x="4699" y="5617"/>
                  </a:lnTo>
                  <a:lnTo>
                    <a:pt x="4687" y="5622"/>
                  </a:lnTo>
                  <a:lnTo>
                    <a:pt x="4705" y="5640"/>
                  </a:lnTo>
                  <a:lnTo>
                    <a:pt x="4687" y="5651"/>
                  </a:lnTo>
                  <a:lnTo>
                    <a:pt x="4693" y="5675"/>
                  </a:lnTo>
                  <a:lnTo>
                    <a:pt x="4687" y="5670"/>
                  </a:lnTo>
                  <a:lnTo>
                    <a:pt x="4712" y="5734"/>
                  </a:lnTo>
                  <a:lnTo>
                    <a:pt x="4712" y="5792"/>
                  </a:lnTo>
                  <a:lnTo>
                    <a:pt x="4705" y="5811"/>
                  </a:lnTo>
                  <a:lnTo>
                    <a:pt x="4664" y="5864"/>
                  </a:lnTo>
                  <a:lnTo>
                    <a:pt x="4652" y="5892"/>
                  </a:lnTo>
                  <a:lnTo>
                    <a:pt x="4652" y="5892"/>
                  </a:lnTo>
                  <a:lnTo>
                    <a:pt x="4646" y="5928"/>
                  </a:lnTo>
                  <a:lnTo>
                    <a:pt x="4629" y="5958"/>
                  </a:lnTo>
                  <a:lnTo>
                    <a:pt x="4629" y="5958"/>
                  </a:lnTo>
                  <a:lnTo>
                    <a:pt x="4623" y="5975"/>
                  </a:lnTo>
                  <a:lnTo>
                    <a:pt x="4570" y="6028"/>
                  </a:lnTo>
                  <a:lnTo>
                    <a:pt x="4570" y="6011"/>
                  </a:lnTo>
                  <a:lnTo>
                    <a:pt x="4605" y="5987"/>
                  </a:lnTo>
                  <a:lnTo>
                    <a:pt x="4629" y="5928"/>
                  </a:lnTo>
                  <a:lnTo>
                    <a:pt x="4629" y="5911"/>
                  </a:lnTo>
                  <a:lnTo>
                    <a:pt x="4611" y="5928"/>
                  </a:lnTo>
                  <a:lnTo>
                    <a:pt x="4593" y="5898"/>
                  </a:lnTo>
                  <a:lnTo>
                    <a:pt x="4599" y="5945"/>
                  </a:lnTo>
                  <a:lnTo>
                    <a:pt x="4593" y="5939"/>
                  </a:lnTo>
                  <a:lnTo>
                    <a:pt x="4593" y="5964"/>
                  </a:lnTo>
                  <a:lnTo>
                    <a:pt x="4570" y="5981"/>
                  </a:lnTo>
                  <a:lnTo>
                    <a:pt x="4557" y="6011"/>
                  </a:lnTo>
                  <a:lnTo>
                    <a:pt x="4552" y="6086"/>
                  </a:lnTo>
                  <a:lnTo>
                    <a:pt x="4523" y="6122"/>
                  </a:lnTo>
                  <a:lnTo>
                    <a:pt x="4504" y="6163"/>
                  </a:lnTo>
                  <a:lnTo>
                    <a:pt x="4457" y="6198"/>
                  </a:lnTo>
                  <a:lnTo>
                    <a:pt x="4345" y="6169"/>
                  </a:lnTo>
                  <a:lnTo>
                    <a:pt x="4310" y="6169"/>
                  </a:lnTo>
                  <a:lnTo>
                    <a:pt x="4275" y="6128"/>
                  </a:lnTo>
                  <a:lnTo>
                    <a:pt x="4269" y="6086"/>
                  </a:lnTo>
                  <a:lnTo>
                    <a:pt x="4281" y="6075"/>
                  </a:lnTo>
                  <a:lnTo>
                    <a:pt x="4269" y="6045"/>
                  </a:lnTo>
                  <a:lnTo>
                    <a:pt x="4275" y="6081"/>
                  </a:lnTo>
                  <a:lnTo>
                    <a:pt x="4262" y="6086"/>
                  </a:lnTo>
                  <a:lnTo>
                    <a:pt x="4275" y="6139"/>
                  </a:lnTo>
                  <a:lnTo>
                    <a:pt x="4275" y="6163"/>
                  </a:lnTo>
                  <a:lnTo>
                    <a:pt x="4351" y="6216"/>
                  </a:lnTo>
                  <a:lnTo>
                    <a:pt x="4351" y="6258"/>
                  </a:lnTo>
                  <a:lnTo>
                    <a:pt x="4387" y="6275"/>
                  </a:lnTo>
                  <a:lnTo>
                    <a:pt x="4393" y="6310"/>
                  </a:lnTo>
                  <a:lnTo>
                    <a:pt x="4364" y="6381"/>
                  </a:lnTo>
                  <a:lnTo>
                    <a:pt x="4334" y="6405"/>
                  </a:lnTo>
                  <a:lnTo>
                    <a:pt x="4317" y="6410"/>
                  </a:lnTo>
                  <a:lnTo>
                    <a:pt x="4287" y="6416"/>
                  </a:lnTo>
                  <a:lnTo>
                    <a:pt x="4269" y="6422"/>
                  </a:lnTo>
                  <a:lnTo>
                    <a:pt x="4239" y="6428"/>
                  </a:lnTo>
                  <a:lnTo>
                    <a:pt x="4222" y="6433"/>
                  </a:lnTo>
                  <a:lnTo>
                    <a:pt x="4186" y="6433"/>
                  </a:lnTo>
                  <a:lnTo>
                    <a:pt x="4139" y="6422"/>
                  </a:lnTo>
                  <a:lnTo>
                    <a:pt x="4169" y="6458"/>
                  </a:lnTo>
                  <a:lnTo>
                    <a:pt x="4156" y="6452"/>
                  </a:lnTo>
                  <a:lnTo>
                    <a:pt x="4169" y="6480"/>
                  </a:lnTo>
                  <a:lnTo>
                    <a:pt x="4156" y="6510"/>
                  </a:lnTo>
                  <a:lnTo>
                    <a:pt x="4175" y="6539"/>
                  </a:lnTo>
                  <a:lnTo>
                    <a:pt x="4128" y="6563"/>
                  </a:lnTo>
                  <a:lnTo>
                    <a:pt x="4039" y="6539"/>
                  </a:lnTo>
                  <a:lnTo>
                    <a:pt x="4069" y="6616"/>
                  </a:lnTo>
                  <a:lnTo>
                    <a:pt x="4098" y="6633"/>
                  </a:lnTo>
                  <a:lnTo>
                    <a:pt x="4104" y="6622"/>
                  </a:lnTo>
                  <a:lnTo>
                    <a:pt x="4128" y="6616"/>
                  </a:lnTo>
                  <a:lnTo>
                    <a:pt x="4145" y="6646"/>
                  </a:lnTo>
                  <a:lnTo>
                    <a:pt x="4122" y="6663"/>
                  </a:lnTo>
                  <a:lnTo>
                    <a:pt x="4116" y="6646"/>
                  </a:lnTo>
                  <a:lnTo>
                    <a:pt x="4080" y="6646"/>
                  </a:lnTo>
                  <a:lnTo>
                    <a:pt x="4116" y="6669"/>
                  </a:lnTo>
                  <a:lnTo>
                    <a:pt x="4080" y="6704"/>
                  </a:lnTo>
                  <a:lnTo>
                    <a:pt x="4080" y="6763"/>
                  </a:lnTo>
                  <a:lnTo>
                    <a:pt x="4092" y="6786"/>
                  </a:lnTo>
                  <a:lnTo>
                    <a:pt x="4033" y="6799"/>
                  </a:lnTo>
                  <a:lnTo>
                    <a:pt x="4015" y="6839"/>
                  </a:lnTo>
                  <a:lnTo>
                    <a:pt x="4039" y="6874"/>
                  </a:lnTo>
                  <a:lnTo>
                    <a:pt x="4075" y="6899"/>
                  </a:lnTo>
                  <a:lnTo>
                    <a:pt x="4116" y="6904"/>
                  </a:lnTo>
                  <a:lnTo>
                    <a:pt x="4128" y="6922"/>
                  </a:lnTo>
                  <a:lnTo>
                    <a:pt x="4128" y="6946"/>
                  </a:lnTo>
                  <a:lnTo>
                    <a:pt x="4109" y="6951"/>
                  </a:lnTo>
                  <a:lnTo>
                    <a:pt x="4128" y="6946"/>
                  </a:lnTo>
                  <a:lnTo>
                    <a:pt x="4133" y="6963"/>
                  </a:lnTo>
                  <a:lnTo>
                    <a:pt x="4075" y="7016"/>
                  </a:lnTo>
                  <a:lnTo>
                    <a:pt x="4086" y="7063"/>
                  </a:lnTo>
                  <a:lnTo>
                    <a:pt x="4062" y="7074"/>
                  </a:lnTo>
                  <a:lnTo>
                    <a:pt x="4039" y="7057"/>
                  </a:lnTo>
                  <a:lnTo>
                    <a:pt x="4051" y="7069"/>
                  </a:lnTo>
                  <a:lnTo>
                    <a:pt x="4033" y="7069"/>
                  </a:lnTo>
                  <a:lnTo>
                    <a:pt x="4062" y="7080"/>
                  </a:lnTo>
                  <a:lnTo>
                    <a:pt x="4039" y="7133"/>
                  </a:lnTo>
                  <a:lnTo>
                    <a:pt x="4045" y="7127"/>
                  </a:lnTo>
                  <a:lnTo>
                    <a:pt x="4069" y="7157"/>
                  </a:lnTo>
                  <a:lnTo>
                    <a:pt x="4039" y="7163"/>
                  </a:lnTo>
                  <a:lnTo>
                    <a:pt x="4069" y="7163"/>
                  </a:lnTo>
                  <a:lnTo>
                    <a:pt x="4109" y="7204"/>
                  </a:lnTo>
                  <a:lnTo>
                    <a:pt x="4062" y="7198"/>
                  </a:lnTo>
                  <a:lnTo>
                    <a:pt x="4056" y="7216"/>
                  </a:lnTo>
                  <a:lnTo>
                    <a:pt x="4009" y="7221"/>
                  </a:lnTo>
                  <a:lnTo>
                    <a:pt x="4022" y="7263"/>
                  </a:lnTo>
                  <a:lnTo>
                    <a:pt x="4022" y="7293"/>
                  </a:lnTo>
                  <a:lnTo>
                    <a:pt x="3974" y="7280"/>
                  </a:lnTo>
                  <a:lnTo>
                    <a:pt x="3956" y="7263"/>
                  </a:lnTo>
                  <a:lnTo>
                    <a:pt x="3969" y="7263"/>
                  </a:lnTo>
                  <a:lnTo>
                    <a:pt x="3980" y="7251"/>
                  </a:lnTo>
                  <a:lnTo>
                    <a:pt x="3986" y="7268"/>
                  </a:lnTo>
                  <a:lnTo>
                    <a:pt x="4003" y="7233"/>
                  </a:lnTo>
                  <a:lnTo>
                    <a:pt x="3945" y="7246"/>
                  </a:lnTo>
                  <a:lnTo>
                    <a:pt x="3962" y="7251"/>
                  </a:lnTo>
                  <a:lnTo>
                    <a:pt x="3945" y="7257"/>
                  </a:lnTo>
                  <a:lnTo>
                    <a:pt x="3956" y="7268"/>
                  </a:lnTo>
                  <a:lnTo>
                    <a:pt x="3915" y="7251"/>
                  </a:lnTo>
                  <a:lnTo>
                    <a:pt x="3939" y="7257"/>
                  </a:lnTo>
                  <a:lnTo>
                    <a:pt x="3915" y="7233"/>
                  </a:lnTo>
                  <a:lnTo>
                    <a:pt x="3927" y="7221"/>
                  </a:lnTo>
                  <a:lnTo>
                    <a:pt x="3933" y="7233"/>
                  </a:lnTo>
                  <a:lnTo>
                    <a:pt x="3980" y="7221"/>
                  </a:lnTo>
                  <a:lnTo>
                    <a:pt x="3915" y="7210"/>
                  </a:lnTo>
                  <a:lnTo>
                    <a:pt x="3922" y="7240"/>
                  </a:lnTo>
                  <a:lnTo>
                    <a:pt x="3903" y="7240"/>
                  </a:lnTo>
                  <a:lnTo>
                    <a:pt x="3909" y="7233"/>
                  </a:lnTo>
                  <a:lnTo>
                    <a:pt x="3892" y="7227"/>
                  </a:lnTo>
                  <a:lnTo>
                    <a:pt x="3915" y="7216"/>
                  </a:lnTo>
                  <a:lnTo>
                    <a:pt x="3886" y="7227"/>
                  </a:lnTo>
                  <a:lnTo>
                    <a:pt x="3862" y="7187"/>
                  </a:lnTo>
                  <a:lnTo>
                    <a:pt x="3909" y="7198"/>
                  </a:lnTo>
                  <a:lnTo>
                    <a:pt x="3903" y="7180"/>
                  </a:lnTo>
                  <a:lnTo>
                    <a:pt x="3922" y="7198"/>
                  </a:lnTo>
                  <a:lnTo>
                    <a:pt x="3909" y="7210"/>
                  </a:lnTo>
                  <a:lnTo>
                    <a:pt x="3927" y="7210"/>
                  </a:lnTo>
                  <a:lnTo>
                    <a:pt x="3915" y="7169"/>
                  </a:lnTo>
                  <a:lnTo>
                    <a:pt x="3880" y="7151"/>
                  </a:lnTo>
                  <a:lnTo>
                    <a:pt x="3909" y="7169"/>
                  </a:lnTo>
                  <a:lnTo>
                    <a:pt x="3874" y="7163"/>
                  </a:lnTo>
                  <a:lnTo>
                    <a:pt x="3897" y="7174"/>
                  </a:lnTo>
                  <a:lnTo>
                    <a:pt x="3886" y="7187"/>
                  </a:lnTo>
                  <a:lnTo>
                    <a:pt x="3867" y="7163"/>
                  </a:lnTo>
                  <a:lnTo>
                    <a:pt x="3874" y="7187"/>
                  </a:lnTo>
                  <a:lnTo>
                    <a:pt x="3880" y="7187"/>
                  </a:lnTo>
                  <a:lnTo>
                    <a:pt x="3867" y="7169"/>
                  </a:lnTo>
                  <a:lnTo>
                    <a:pt x="3844" y="7163"/>
                  </a:lnTo>
                  <a:lnTo>
                    <a:pt x="3839" y="7146"/>
                  </a:lnTo>
                  <a:lnTo>
                    <a:pt x="3862" y="7163"/>
                  </a:lnTo>
                  <a:lnTo>
                    <a:pt x="3844" y="7133"/>
                  </a:lnTo>
                  <a:lnTo>
                    <a:pt x="3827" y="7140"/>
                  </a:lnTo>
                  <a:lnTo>
                    <a:pt x="3814" y="7121"/>
                  </a:lnTo>
                  <a:lnTo>
                    <a:pt x="3839" y="7127"/>
                  </a:lnTo>
                  <a:lnTo>
                    <a:pt x="3833" y="7093"/>
                  </a:lnTo>
                  <a:lnTo>
                    <a:pt x="3821" y="7116"/>
                  </a:lnTo>
                  <a:lnTo>
                    <a:pt x="3803" y="7098"/>
                  </a:lnTo>
                  <a:lnTo>
                    <a:pt x="3821" y="7104"/>
                  </a:lnTo>
                  <a:lnTo>
                    <a:pt x="3809" y="7093"/>
                  </a:lnTo>
                  <a:lnTo>
                    <a:pt x="3780" y="7080"/>
                  </a:lnTo>
                  <a:lnTo>
                    <a:pt x="3814" y="7086"/>
                  </a:lnTo>
                  <a:lnTo>
                    <a:pt x="3786" y="7069"/>
                  </a:lnTo>
                  <a:lnTo>
                    <a:pt x="3809" y="7074"/>
                  </a:lnTo>
                  <a:lnTo>
                    <a:pt x="3803" y="7063"/>
                  </a:lnTo>
                  <a:lnTo>
                    <a:pt x="3786" y="7057"/>
                  </a:lnTo>
                  <a:lnTo>
                    <a:pt x="3814" y="7057"/>
                  </a:lnTo>
                  <a:lnTo>
                    <a:pt x="3786" y="7040"/>
                  </a:lnTo>
                  <a:lnTo>
                    <a:pt x="3797" y="7033"/>
                  </a:lnTo>
                  <a:lnTo>
                    <a:pt x="3786" y="7016"/>
                  </a:lnTo>
                  <a:lnTo>
                    <a:pt x="3767" y="7033"/>
                  </a:lnTo>
                  <a:lnTo>
                    <a:pt x="3756" y="7004"/>
                  </a:lnTo>
                  <a:lnTo>
                    <a:pt x="3774" y="6999"/>
                  </a:lnTo>
                  <a:lnTo>
                    <a:pt x="3756" y="6993"/>
                  </a:lnTo>
                  <a:lnTo>
                    <a:pt x="3774" y="6980"/>
                  </a:lnTo>
                  <a:lnTo>
                    <a:pt x="3727" y="6957"/>
                  </a:lnTo>
                  <a:lnTo>
                    <a:pt x="3756" y="6969"/>
                  </a:lnTo>
                  <a:lnTo>
                    <a:pt x="3744" y="6957"/>
                  </a:lnTo>
                  <a:lnTo>
                    <a:pt x="3786" y="6969"/>
                  </a:lnTo>
                  <a:lnTo>
                    <a:pt x="3791" y="6963"/>
                  </a:lnTo>
                  <a:lnTo>
                    <a:pt x="3774" y="6957"/>
                  </a:lnTo>
                  <a:lnTo>
                    <a:pt x="3797" y="6957"/>
                  </a:lnTo>
                  <a:lnTo>
                    <a:pt x="3761" y="6940"/>
                  </a:lnTo>
                  <a:lnTo>
                    <a:pt x="3761" y="6927"/>
                  </a:lnTo>
                  <a:lnTo>
                    <a:pt x="3720" y="6940"/>
                  </a:lnTo>
                  <a:lnTo>
                    <a:pt x="3727" y="6927"/>
                  </a:lnTo>
                  <a:lnTo>
                    <a:pt x="3750" y="6933"/>
                  </a:lnTo>
                  <a:lnTo>
                    <a:pt x="3720" y="6922"/>
                  </a:lnTo>
                  <a:lnTo>
                    <a:pt x="3738" y="6899"/>
                  </a:lnTo>
                  <a:lnTo>
                    <a:pt x="3708" y="6886"/>
                  </a:lnTo>
                  <a:lnTo>
                    <a:pt x="3685" y="6886"/>
                  </a:lnTo>
                  <a:lnTo>
                    <a:pt x="3680" y="6869"/>
                  </a:lnTo>
                  <a:lnTo>
                    <a:pt x="3655" y="6880"/>
                  </a:lnTo>
                  <a:lnTo>
                    <a:pt x="3667" y="6899"/>
                  </a:lnTo>
                  <a:lnTo>
                    <a:pt x="3650" y="6874"/>
                  </a:lnTo>
                  <a:lnTo>
                    <a:pt x="3685" y="6852"/>
                  </a:lnTo>
                  <a:lnTo>
                    <a:pt x="3680" y="6827"/>
                  </a:lnTo>
                  <a:lnTo>
                    <a:pt x="3697" y="6846"/>
                  </a:lnTo>
                  <a:lnTo>
                    <a:pt x="3703" y="6827"/>
                  </a:lnTo>
                  <a:lnTo>
                    <a:pt x="3720" y="6846"/>
                  </a:lnTo>
                  <a:lnTo>
                    <a:pt x="3697" y="6852"/>
                  </a:lnTo>
                  <a:lnTo>
                    <a:pt x="3733" y="6863"/>
                  </a:lnTo>
                  <a:lnTo>
                    <a:pt x="3720" y="6852"/>
                  </a:lnTo>
                  <a:lnTo>
                    <a:pt x="3738" y="6874"/>
                  </a:lnTo>
                  <a:lnTo>
                    <a:pt x="3744" y="6846"/>
                  </a:lnTo>
                  <a:lnTo>
                    <a:pt x="3738" y="6857"/>
                  </a:lnTo>
                  <a:lnTo>
                    <a:pt x="3733" y="6839"/>
                  </a:lnTo>
                  <a:lnTo>
                    <a:pt x="3744" y="6822"/>
                  </a:lnTo>
                  <a:lnTo>
                    <a:pt x="3733" y="6827"/>
                  </a:lnTo>
                  <a:lnTo>
                    <a:pt x="3727" y="6810"/>
                  </a:lnTo>
                  <a:lnTo>
                    <a:pt x="3756" y="6810"/>
                  </a:lnTo>
                  <a:lnTo>
                    <a:pt x="3727" y="6799"/>
                  </a:lnTo>
                  <a:lnTo>
                    <a:pt x="3720" y="6780"/>
                  </a:lnTo>
                  <a:lnTo>
                    <a:pt x="3750" y="6769"/>
                  </a:lnTo>
                  <a:lnTo>
                    <a:pt x="3750" y="6757"/>
                  </a:lnTo>
                  <a:lnTo>
                    <a:pt x="3744" y="6757"/>
                  </a:lnTo>
                  <a:lnTo>
                    <a:pt x="3708" y="6733"/>
                  </a:lnTo>
                  <a:lnTo>
                    <a:pt x="3727" y="6716"/>
                  </a:lnTo>
                  <a:lnTo>
                    <a:pt x="3703" y="6692"/>
                  </a:lnTo>
                  <a:lnTo>
                    <a:pt x="3714" y="6675"/>
                  </a:lnTo>
                  <a:lnTo>
                    <a:pt x="3703" y="6639"/>
                  </a:lnTo>
                  <a:lnTo>
                    <a:pt x="3714" y="6639"/>
                  </a:lnTo>
                  <a:lnTo>
                    <a:pt x="3697" y="6628"/>
                  </a:lnTo>
                  <a:lnTo>
                    <a:pt x="3703" y="6622"/>
                  </a:lnTo>
                  <a:lnTo>
                    <a:pt x="3720" y="6633"/>
                  </a:lnTo>
                  <a:lnTo>
                    <a:pt x="3708" y="6605"/>
                  </a:lnTo>
                  <a:lnTo>
                    <a:pt x="3685" y="6605"/>
                  </a:lnTo>
                  <a:lnTo>
                    <a:pt x="3703" y="6575"/>
                  </a:lnTo>
                  <a:lnTo>
                    <a:pt x="3703" y="6592"/>
                  </a:lnTo>
                  <a:lnTo>
                    <a:pt x="3674" y="6580"/>
                  </a:lnTo>
                  <a:lnTo>
                    <a:pt x="3655" y="6599"/>
                  </a:lnTo>
                  <a:lnTo>
                    <a:pt x="3644" y="6592"/>
                  </a:lnTo>
                  <a:lnTo>
                    <a:pt x="3638" y="6580"/>
                  </a:lnTo>
                  <a:lnTo>
                    <a:pt x="3620" y="6557"/>
                  </a:lnTo>
                  <a:lnTo>
                    <a:pt x="3627" y="6486"/>
                  </a:lnTo>
                  <a:lnTo>
                    <a:pt x="3627" y="6445"/>
                  </a:lnTo>
                  <a:lnTo>
                    <a:pt x="3567" y="6333"/>
                  </a:lnTo>
                  <a:lnTo>
                    <a:pt x="3591" y="6322"/>
                  </a:lnTo>
                  <a:lnTo>
                    <a:pt x="3602" y="6086"/>
                  </a:lnTo>
                  <a:lnTo>
                    <a:pt x="3608" y="6058"/>
                  </a:lnTo>
                  <a:lnTo>
                    <a:pt x="3573" y="5939"/>
                  </a:lnTo>
                  <a:lnTo>
                    <a:pt x="3585" y="5892"/>
                  </a:lnTo>
                  <a:lnTo>
                    <a:pt x="3561" y="5840"/>
                  </a:lnTo>
                  <a:lnTo>
                    <a:pt x="3579" y="5681"/>
                  </a:lnTo>
                  <a:lnTo>
                    <a:pt x="3579" y="5622"/>
                  </a:lnTo>
                  <a:lnTo>
                    <a:pt x="3567" y="5522"/>
                  </a:lnTo>
                  <a:lnTo>
                    <a:pt x="3555" y="5517"/>
                  </a:lnTo>
                  <a:lnTo>
                    <a:pt x="3555" y="5487"/>
                  </a:lnTo>
                  <a:lnTo>
                    <a:pt x="3567" y="5475"/>
                  </a:lnTo>
                  <a:lnTo>
                    <a:pt x="3567" y="5393"/>
                  </a:lnTo>
                  <a:lnTo>
                    <a:pt x="3532" y="5210"/>
                  </a:lnTo>
                  <a:lnTo>
                    <a:pt x="3479" y="5169"/>
                  </a:lnTo>
                  <a:lnTo>
                    <a:pt x="3419" y="5116"/>
                  </a:lnTo>
                  <a:lnTo>
                    <a:pt x="3266" y="5034"/>
                  </a:lnTo>
                  <a:lnTo>
                    <a:pt x="3207" y="4963"/>
                  </a:lnTo>
                  <a:lnTo>
                    <a:pt x="3207" y="4916"/>
                  </a:lnTo>
                  <a:lnTo>
                    <a:pt x="3149" y="4840"/>
                  </a:lnTo>
                  <a:lnTo>
                    <a:pt x="3124" y="4793"/>
                  </a:lnTo>
                  <a:lnTo>
                    <a:pt x="3060" y="4635"/>
                  </a:lnTo>
                  <a:lnTo>
                    <a:pt x="2995" y="4528"/>
                  </a:lnTo>
                  <a:lnTo>
                    <a:pt x="2930" y="4481"/>
                  </a:lnTo>
                  <a:lnTo>
                    <a:pt x="2942" y="4463"/>
                  </a:lnTo>
                  <a:lnTo>
                    <a:pt x="2924" y="4435"/>
                  </a:lnTo>
                  <a:lnTo>
                    <a:pt x="2918" y="4405"/>
                  </a:lnTo>
                  <a:lnTo>
                    <a:pt x="2918" y="4381"/>
                  </a:lnTo>
                  <a:lnTo>
                    <a:pt x="2965" y="4328"/>
                  </a:lnTo>
                  <a:lnTo>
                    <a:pt x="2990" y="4316"/>
                  </a:lnTo>
                  <a:lnTo>
                    <a:pt x="2995" y="4246"/>
                  </a:lnTo>
                  <a:lnTo>
                    <a:pt x="2990" y="4264"/>
                  </a:lnTo>
                  <a:lnTo>
                    <a:pt x="2984" y="4264"/>
                  </a:lnTo>
                  <a:lnTo>
                    <a:pt x="2971" y="4288"/>
                  </a:lnTo>
                  <a:lnTo>
                    <a:pt x="2937" y="4264"/>
                  </a:lnTo>
                  <a:lnTo>
                    <a:pt x="2942" y="4241"/>
                  </a:lnTo>
                  <a:lnTo>
                    <a:pt x="2930" y="4187"/>
                  </a:lnTo>
                  <a:lnTo>
                    <a:pt x="2965" y="4164"/>
                  </a:lnTo>
                  <a:lnTo>
                    <a:pt x="2954" y="4146"/>
                  </a:lnTo>
                  <a:lnTo>
                    <a:pt x="2971" y="4122"/>
                  </a:lnTo>
                  <a:lnTo>
                    <a:pt x="2977" y="4075"/>
                  </a:lnTo>
                  <a:lnTo>
                    <a:pt x="3030" y="4058"/>
                  </a:lnTo>
                  <a:lnTo>
                    <a:pt x="3043" y="4040"/>
                  </a:lnTo>
                  <a:lnTo>
                    <a:pt x="3030" y="4028"/>
                  </a:lnTo>
                  <a:lnTo>
                    <a:pt x="3054" y="4017"/>
                  </a:lnTo>
                  <a:lnTo>
                    <a:pt x="3060" y="3975"/>
                  </a:lnTo>
                  <a:lnTo>
                    <a:pt x="3101" y="3969"/>
                  </a:lnTo>
                  <a:lnTo>
                    <a:pt x="3107" y="3940"/>
                  </a:lnTo>
                  <a:lnTo>
                    <a:pt x="3143" y="3887"/>
                  </a:lnTo>
                  <a:lnTo>
                    <a:pt x="3119" y="3881"/>
                  </a:lnTo>
                  <a:lnTo>
                    <a:pt x="3131" y="3870"/>
                  </a:lnTo>
                  <a:lnTo>
                    <a:pt x="3119" y="3799"/>
                  </a:lnTo>
                  <a:lnTo>
                    <a:pt x="3131" y="3781"/>
                  </a:lnTo>
                  <a:lnTo>
                    <a:pt x="3119" y="3758"/>
                  </a:lnTo>
                  <a:lnTo>
                    <a:pt x="3131" y="3734"/>
                  </a:lnTo>
                  <a:lnTo>
                    <a:pt x="3101" y="3693"/>
                  </a:lnTo>
                  <a:lnTo>
                    <a:pt x="3077" y="3646"/>
                  </a:lnTo>
                  <a:lnTo>
                    <a:pt x="3090" y="3628"/>
                  </a:lnTo>
                  <a:lnTo>
                    <a:pt x="3113" y="3640"/>
                  </a:lnTo>
                  <a:lnTo>
                    <a:pt x="3096" y="3617"/>
                  </a:lnTo>
                  <a:lnTo>
                    <a:pt x="3090" y="3628"/>
                  </a:lnTo>
                  <a:lnTo>
                    <a:pt x="3077" y="3617"/>
                  </a:lnTo>
                  <a:lnTo>
                    <a:pt x="3077" y="3628"/>
                  </a:lnTo>
                  <a:lnTo>
                    <a:pt x="3071" y="3617"/>
                  </a:lnTo>
                  <a:lnTo>
                    <a:pt x="3043" y="3593"/>
                  </a:lnTo>
                  <a:lnTo>
                    <a:pt x="3048" y="3581"/>
                  </a:lnTo>
                  <a:lnTo>
                    <a:pt x="3018" y="3593"/>
                  </a:lnTo>
                  <a:lnTo>
                    <a:pt x="3018" y="3593"/>
                  </a:lnTo>
                  <a:lnTo>
                    <a:pt x="3018" y="3600"/>
                  </a:lnTo>
                  <a:lnTo>
                    <a:pt x="2971" y="3634"/>
                  </a:lnTo>
                  <a:lnTo>
                    <a:pt x="2995" y="3675"/>
                  </a:lnTo>
                  <a:lnTo>
                    <a:pt x="2971" y="3693"/>
                  </a:lnTo>
                  <a:lnTo>
                    <a:pt x="2942" y="3693"/>
                  </a:lnTo>
                  <a:lnTo>
                    <a:pt x="2937" y="3658"/>
                  </a:lnTo>
                  <a:lnTo>
                    <a:pt x="2930" y="3675"/>
                  </a:lnTo>
                  <a:lnTo>
                    <a:pt x="2883" y="3628"/>
                  </a:lnTo>
                  <a:lnTo>
                    <a:pt x="2848" y="3634"/>
                  </a:lnTo>
                  <a:lnTo>
                    <a:pt x="2842" y="3646"/>
                  </a:lnTo>
                  <a:lnTo>
                    <a:pt x="2830" y="3611"/>
                  </a:lnTo>
                  <a:lnTo>
                    <a:pt x="2812" y="3611"/>
                  </a:lnTo>
                  <a:lnTo>
                    <a:pt x="2824" y="3628"/>
                  </a:lnTo>
                  <a:lnTo>
                    <a:pt x="2801" y="3617"/>
                  </a:lnTo>
                  <a:lnTo>
                    <a:pt x="2807" y="3587"/>
                  </a:lnTo>
                  <a:lnTo>
                    <a:pt x="2759" y="3558"/>
                  </a:lnTo>
                  <a:lnTo>
                    <a:pt x="2754" y="3534"/>
                  </a:lnTo>
                  <a:lnTo>
                    <a:pt x="2724" y="3517"/>
                  </a:lnTo>
                  <a:lnTo>
                    <a:pt x="2729" y="3528"/>
                  </a:lnTo>
                  <a:lnTo>
                    <a:pt x="2742" y="3540"/>
                  </a:lnTo>
                  <a:lnTo>
                    <a:pt x="2729" y="3558"/>
                  </a:lnTo>
                  <a:lnTo>
                    <a:pt x="2701" y="3540"/>
                  </a:lnTo>
                  <a:lnTo>
                    <a:pt x="2695" y="3511"/>
                  </a:lnTo>
                  <a:lnTo>
                    <a:pt x="2706" y="3487"/>
                  </a:lnTo>
                  <a:lnTo>
                    <a:pt x="2689" y="3481"/>
                  </a:lnTo>
                  <a:lnTo>
                    <a:pt x="2706" y="3470"/>
                  </a:lnTo>
                  <a:lnTo>
                    <a:pt x="2606" y="3364"/>
                  </a:lnTo>
                  <a:lnTo>
                    <a:pt x="2629" y="3358"/>
                  </a:lnTo>
                  <a:lnTo>
                    <a:pt x="2623" y="3329"/>
                  </a:lnTo>
                  <a:lnTo>
                    <a:pt x="2600" y="3329"/>
                  </a:lnTo>
                  <a:lnTo>
                    <a:pt x="2600" y="3346"/>
                  </a:lnTo>
                  <a:lnTo>
                    <a:pt x="2487" y="3311"/>
                  </a:lnTo>
                  <a:lnTo>
                    <a:pt x="2459" y="3299"/>
                  </a:lnTo>
                  <a:lnTo>
                    <a:pt x="2429" y="3299"/>
                  </a:lnTo>
                  <a:lnTo>
                    <a:pt x="2417" y="3293"/>
                  </a:lnTo>
                  <a:lnTo>
                    <a:pt x="2400" y="3287"/>
                  </a:lnTo>
                  <a:lnTo>
                    <a:pt x="2376" y="3264"/>
                  </a:lnTo>
                  <a:lnTo>
                    <a:pt x="2376" y="3264"/>
                  </a:lnTo>
                  <a:lnTo>
                    <a:pt x="2358" y="3240"/>
                  </a:lnTo>
                  <a:lnTo>
                    <a:pt x="2353" y="3234"/>
                  </a:lnTo>
                  <a:lnTo>
                    <a:pt x="2300" y="3176"/>
                  </a:lnTo>
                  <a:lnTo>
                    <a:pt x="2294" y="3181"/>
                  </a:lnTo>
                  <a:lnTo>
                    <a:pt x="2258" y="3170"/>
                  </a:lnTo>
                  <a:lnTo>
                    <a:pt x="2264" y="3158"/>
                  </a:lnTo>
                  <a:lnTo>
                    <a:pt x="2253" y="3152"/>
                  </a:lnTo>
                  <a:lnTo>
                    <a:pt x="2240" y="3164"/>
                  </a:lnTo>
                  <a:lnTo>
                    <a:pt x="2258" y="3170"/>
                  </a:lnTo>
                  <a:lnTo>
                    <a:pt x="2164" y="3199"/>
                  </a:lnTo>
                  <a:lnTo>
                    <a:pt x="2099" y="3181"/>
                  </a:lnTo>
                  <a:lnTo>
                    <a:pt x="1939" y="3105"/>
                  </a:lnTo>
                  <a:lnTo>
                    <a:pt x="1898" y="3064"/>
                  </a:lnTo>
                  <a:lnTo>
                    <a:pt x="1822" y="3040"/>
                  </a:lnTo>
                  <a:lnTo>
                    <a:pt x="1798" y="3011"/>
                  </a:lnTo>
                  <a:lnTo>
                    <a:pt x="1733" y="2946"/>
                  </a:lnTo>
                  <a:lnTo>
                    <a:pt x="1727" y="2917"/>
                  </a:lnTo>
                  <a:lnTo>
                    <a:pt x="1751" y="2912"/>
                  </a:lnTo>
                  <a:lnTo>
                    <a:pt x="1733" y="2893"/>
                  </a:lnTo>
                  <a:lnTo>
                    <a:pt x="1763" y="2858"/>
                  </a:lnTo>
                  <a:lnTo>
                    <a:pt x="1745" y="2823"/>
                  </a:lnTo>
                  <a:lnTo>
                    <a:pt x="1745" y="2793"/>
                  </a:lnTo>
                  <a:lnTo>
                    <a:pt x="1663" y="2676"/>
                  </a:lnTo>
                  <a:lnTo>
                    <a:pt x="1680" y="2676"/>
                  </a:lnTo>
                  <a:lnTo>
                    <a:pt x="1657" y="2670"/>
                  </a:lnTo>
                  <a:lnTo>
                    <a:pt x="1663" y="2646"/>
                  </a:lnTo>
                  <a:lnTo>
                    <a:pt x="1644" y="2640"/>
                  </a:lnTo>
                  <a:lnTo>
                    <a:pt x="1657" y="2640"/>
                  </a:lnTo>
                  <a:lnTo>
                    <a:pt x="1610" y="2611"/>
                  </a:lnTo>
                  <a:lnTo>
                    <a:pt x="1627" y="2599"/>
                  </a:lnTo>
                  <a:lnTo>
                    <a:pt x="1597" y="2605"/>
                  </a:lnTo>
                  <a:lnTo>
                    <a:pt x="1604" y="2582"/>
                  </a:lnTo>
                  <a:lnTo>
                    <a:pt x="1621" y="2570"/>
                  </a:lnTo>
                  <a:lnTo>
                    <a:pt x="1610" y="2541"/>
                  </a:lnTo>
                  <a:lnTo>
                    <a:pt x="1568" y="2511"/>
                  </a:lnTo>
                  <a:lnTo>
                    <a:pt x="1574" y="2476"/>
                  </a:lnTo>
                  <a:lnTo>
                    <a:pt x="1544" y="2470"/>
                  </a:lnTo>
                  <a:lnTo>
                    <a:pt x="1510" y="2411"/>
                  </a:lnTo>
                  <a:lnTo>
                    <a:pt x="1515" y="2388"/>
                  </a:lnTo>
                  <a:lnTo>
                    <a:pt x="1510" y="2388"/>
                  </a:lnTo>
                  <a:lnTo>
                    <a:pt x="1497" y="2305"/>
                  </a:lnTo>
                  <a:lnTo>
                    <a:pt x="1510" y="2276"/>
                  </a:lnTo>
                  <a:lnTo>
                    <a:pt x="1474" y="2246"/>
                  </a:lnTo>
                  <a:lnTo>
                    <a:pt x="1427" y="2229"/>
                  </a:lnTo>
                  <a:lnTo>
                    <a:pt x="1409" y="2341"/>
                  </a:lnTo>
                  <a:lnTo>
                    <a:pt x="1462" y="2452"/>
                  </a:lnTo>
                  <a:lnTo>
                    <a:pt x="1462" y="2482"/>
                  </a:lnTo>
                  <a:lnTo>
                    <a:pt x="1491" y="2546"/>
                  </a:lnTo>
                  <a:lnTo>
                    <a:pt x="1491" y="2535"/>
                  </a:lnTo>
                  <a:lnTo>
                    <a:pt x="1510" y="2558"/>
                  </a:lnTo>
                  <a:lnTo>
                    <a:pt x="1503" y="2599"/>
                  </a:lnTo>
                  <a:lnTo>
                    <a:pt x="1515" y="2682"/>
                  </a:lnTo>
                  <a:lnTo>
                    <a:pt x="1527" y="2699"/>
                  </a:lnTo>
                  <a:lnTo>
                    <a:pt x="1557" y="2699"/>
                  </a:lnTo>
                  <a:lnTo>
                    <a:pt x="1568" y="2740"/>
                  </a:lnTo>
                  <a:lnTo>
                    <a:pt x="1557" y="2758"/>
                  </a:lnTo>
                  <a:lnTo>
                    <a:pt x="1533" y="2770"/>
                  </a:lnTo>
                  <a:lnTo>
                    <a:pt x="1527" y="2758"/>
                  </a:lnTo>
                  <a:lnTo>
                    <a:pt x="1521" y="2729"/>
                  </a:lnTo>
                  <a:lnTo>
                    <a:pt x="1462" y="2676"/>
                  </a:lnTo>
                  <a:lnTo>
                    <a:pt x="1457" y="2652"/>
                  </a:lnTo>
                  <a:lnTo>
                    <a:pt x="1444" y="2663"/>
                  </a:lnTo>
                  <a:lnTo>
                    <a:pt x="1462" y="2605"/>
                  </a:lnTo>
                  <a:lnTo>
                    <a:pt x="1457" y="2570"/>
                  </a:lnTo>
                  <a:lnTo>
                    <a:pt x="1421" y="2541"/>
                  </a:lnTo>
                  <a:lnTo>
                    <a:pt x="1427" y="2529"/>
                  </a:lnTo>
                  <a:lnTo>
                    <a:pt x="1421" y="2541"/>
                  </a:lnTo>
                  <a:lnTo>
                    <a:pt x="1385" y="2529"/>
                  </a:lnTo>
                  <a:lnTo>
                    <a:pt x="1344" y="2482"/>
                  </a:lnTo>
                  <a:lnTo>
                    <a:pt x="1397" y="2482"/>
                  </a:lnTo>
                  <a:lnTo>
                    <a:pt x="1385" y="2476"/>
                  </a:lnTo>
                  <a:lnTo>
                    <a:pt x="1409" y="2435"/>
                  </a:lnTo>
                  <a:lnTo>
                    <a:pt x="1349" y="2364"/>
                  </a:lnTo>
                  <a:lnTo>
                    <a:pt x="1332" y="219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57200" y="2658600"/>
              <a:ext cx="1110960" cy="824760"/>
            </a:xfrm>
            <a:custGeom>
              <a:avLst/>
              <a:gdLst/>
              <a:ahLst/>
              <a:rect l="l" t="t" r="r" b="b"/>
              <a:pathLst>
                <a:path w="3086" h="2295">
                  <a:moveTo>
                    <a:pt x="3085" y="147"/>
                  </a:moveTo>
                  <a:lnTo>
                    <a:pt x="2926" y="94"/>
                  </a:lnTo>
                  <a:lnTo>
                    <a:pt x="2754" y="59"/>
                  </a:lnTo>
                  <a:lnTo>
                    <a:pt x="2731" y="71"/>
                  </a:lnTo>
                  <a:lnTo>
                    <a:pt x="2760" y="94"/>
                  </a:lnTo>
                  <a:lnTo>
                    <a:pt x="2784" y="111"/>
                  </a:lnTo>
                  <a:lnTo>
                    <a:pt x="2748" y="124"/>
                  </a:lnTo>
                  <a:lnTo>
                    <a:pt x="2748" y="141"/>
                  </a:lnTo>
                  <a:lnTo>
                    <a:pt x="2701" y="106"/>
                  </a:lnTo>
                  <a:lnTo>
                    <a:pt x="2654" y="130"/>
                  </a:lnTo>
                  <a:lnTo>
                    <a:pt x="2577" y="130"/>
                  </a:lnTo>
                  <a:lnTo>
                    <a:pt x="2565" y="147"/>
                  </a:lnTo>
                  <a:lnTo>
                    <a:pt x="2542" y="147"/>
                  </a:lnTo>
                  <a:lnTo>
                    <a:pt x="2507" y="141"/>
                  </a:lnTo>
                  <a:lnTo>
                    <a:pt x="2507" y="141"/>
                  </a:lnTo>
                  <a:lnTo>
                    <a:pt x="2531" y="136"/>
                  </a:lnTo>
                  <a:lnTo>
                    <a:pt x="2501" y="111"/>
                  </a:lnTo>
                  <a:lnTo>
                    <a:pt x="2536" y="106"/>
                  </a:lnTo>
                  <a:lnTo>
                    <a:pt x="2489" y="111"/>
                  </a:lnTo>
                  <a:lnTo>
                    <a:pt x="2483" y="130"/>
                  </a:lnTo>
                  <a:lnTo>
                    <a:pt x="2465" y="141"/>
                  </a:lnTo>
                  <a:lnTo>
                    <a:pt x="2459" y="124"/>
                  </a:lnTo>
                  <a:lnTo>
                    <a:pt x="2336" y="158"/>
                  </a:lnTo>
                  <a:lnTo>
                    <a:pt x="2359" y="177"/>
                  </a:lnTo>
                  <a:lnTo>
                    <a:pt x="2312" y="177"/>
                  </a:lnTo>
                  <a:lnTo>
                    <a:pt x="2318" y="211"/>
                  </a:lnTo>
                  <a:lnTo>
                    <a:pt x="2253" y="218"/>
                  </a:lnTo>
                  <a:lnTo>
                    <a:pt x="2206" y="188"/>
                  </a:lnTo>
                  <a:lnTo>
                    <a:pt x="2212" y="171"/>
                  </a:lnTo>
                  <a:lnTo>
                    <a:pt x="2265" y="164"/>
                  </a:lnTo>
                  <a:lnTo>
                    <a:pt x="2223" y="130"/>
                  </a:lnTo>
                  <a:lnTo>
                    <a:pt x="2117" y="124"/>
                  </a:lnTo>
                  <a:lnTo>
                    <a:pt x="2134" y="130"/>
                  </a:lnTo>
                  <a:lnTo>
                    <a:pt x="2159" y="158"/>
                  </a:lnTo>
                  <a:lnTo>
                    <a:pt x="2159" y="194"/>
                  </a:lnTo>
                  <a:lnTo>
                    <a:pt x="2206" y="264"/>
                  </a:lnTo>
                  <a:lnTo>
                    <a:pt x="2189" y="247"/>
                  </a:lnTo>
                  <a:lnTo>
                    <a:pt x="2170" y="258"/>
                  </a:lnTo>
                  <a:lnTo>
                    <a:pt x="2159" y="235"/>
                  </a:lnTo>
                  <a:lnTo>
                    <a:pt x="2117" y="230"/>
                  </a:lnTo>
                  <a:lnTo>
                    <a:pt x="2041" y="277"/>
                  </a:lnTo>
                  <a:lnTo>
                    <a:pt x="2081" y="335"/>
                  </a:lnTo>
                  <a:lnTo>
                    <a:pt x="2081" y="335"/>
                  </a:lnTo>
                  <a:lnTo>
                    <a:pt x="2000" y="324"/>
                  </a:lnTo>
                  <a:lnTo>
                    <a:pt x="1981" y="330"/>
                  </a:lnTo>
                  <a:lnTo>
                    <a:pt x="1994" y="318"/>
                  </a:lnTo>
                  <a:lnTo>
                    <a:pt x="1928" y="300"/>
                  </a:lnTo>
                  <a:lnTo>
                    <a:pt x="1923" y="324"/>
                  </a:lnTo>
                  <a:lnTo>
                    <a:pt x="1987" y="347"/>
                  </a:lnTo>
                  <a:lnTo>
                    <a:pt x="1976" y="377"/>
                  </a:lnTo>
                  <a:lnTo>
                    <a:pt x="1881" y="347"/>
                  </a:lnTo>
                  <a:lnTo>
                    <a:pt x="1852" y="335"/>
                  </a:lnTo>
                  <a:lnTo>
                    <a:pt x="1822" y="294"/>
                  </a:lnTo>
                  <a:lnTo>
                    <a:pt x="1847" y="277"/>
                  </a:lnTo>
                  <a:lnTo>
                    <a:pt x="1805" y="247"/>
                  </a:lnTo>
                  <a:lnTo>
                    <a:pt x="1769" y="241"/>
                  </a:lnTo>
                  <a:lnTo>
                    <a:pt x="1781" y="235"/>
                  </a:lnTo>
                  <a:lnTo>
                    <a:pt x="1775" y="230"/>
                  </a:lnTo>
                  <a:lnTo>
                    <a:pt x="1764" y="224"/>
                  </a:lnTo>
                  <a:lnTo>
                    <a:pt x="1699" y="200"/>
                  </a:lnTo>
                  <a:lnTo>
                    <a:pt x="1811" y="230"/>
                  </a:lnTo>
                  <a:lnTo>
                    <a:pt x="1958" y="253"/>
                  </a:lnTo>
                  <a:lnTo>
                    <a:pt x="2034" y="247"/>
                  </a:lnTo>
                  <a:lnTo>
                    <a:pt x="2070" y="194"/>
                  </a:lnTo>
                  <a:lnTo>
                    <a:pt x="2047" y="171"/>
                  </a:lnTo>
                  <a:lnTo>
                    <a:pt x="1828" y="94"/>
                  </a:lnTo>
                  <a:lnTo>
                    <a:pt x="1746" y="88"/>
                  </a:lnTo>
                  <a:lnTo>
                    <a:pt x="1716" y="106"/>
                  </a:lnTo>
                  <a:lnTo>
                    <a:pt x="1728" y="100"/>
                  </a:lnTo>
                  <a:lnTo>
                    <a:pt x="1728" y="83"/>
                  </a:lnTo>
                  <a:lnTo>
                    <a:pt x="1711" y="83"/>
                  </a:lnTo>
                  <a:lnTo>
                    <a:pt x="1669" y="77"/>
                  </a:lnTo>
                  <a:lnTo>
                    <a:pt x="1705" y="77"/>
                  </a:lnTo>
                  <a:lnTo>
                    <a:pt x="1711" y="64"/>
                  </a:lnTo>
                  <a:lnTo>
                    <a:pt x="1663" y="59"/>
                  </a:lnTo>
                  <a:lnTo>
                    <a:pt x="1658" y="71"/>
                  </a:lnTo>
                  <a:lnTo>
                    <a:pt x="1622" y="64"/>
                  </a:lnTo>
                  <a:lnTo>
                    <a:pt x="1599" y="59"/>
                  </a:lnTo>
                  <a:lnTo>
                    <a:pt x="1533" y="53"/>
                  </a:lnTo>
                  <a:lnTo>
                    <a:pt x="1622" y="41"/>
                  </a:lnTo>
                  <a:lnTo>
                    <a:pt x="1580" y="17"/>
                  </a:lnTo>
                  <a:lnTo>
                    <a:pt x="1539" y="11"/>
                  </a:lnTo>
                  <a:lnTo>
                    <a:pt x="1510" y="53"/>
                  </a:lnTo>
                  <a:lnTo>
                    <a:pt x="1516" y="17"/>
                  </a:lnTo>
                  <a:lnTo>
                    <a:pt x="1492" y="24"/>
                  </a:lnTo>
                  <a:lnTo>
                    <a:pt x="1522" y="6"/>
                  </a:lnTo>
                  <a:lnTo>
                    <a:pt x="1486" y="0"/>
                  </a:lnTo>
                  <a:lnTo>
                    <a:pt x="1474" y="30"/>
                  </a:lnTo>
                  <a:lnTo>
                    <a:pt x="1445" y="24"/>
                  </a:lnTo>
                  <a:lnTo>
                    <a:pt x="1451" y="6"/>
                  </a:lnTo>
                  <a:lnTo>
                    <a:pt x="1410" y="53"/>
                  </a:lnTo>
                  <a:lnTo>
                    <a:pt x="1398" y="30"/>
                  </a:lnTo>
                  <a:lnTo>
                    <a:pt x="1421" y="11"/>
                  </a:lnTo>
                  <a:lnTo>
                    <a:pt x="1404" y="6"/>
                  </a:lnTo>
                  <a:lnTo>
                    <a:pt x="1386" y="6"/>
                  </a:lnTo>
                  <a:lnTo>
                    <a:pt x="1363" y="11"/>
                  </a:lnTo>
                  <a:lnTo>
                    <a:pt x="1380" y="24"/>
                  </a:lnTo>
                  <a:lnTo>
                    <a:pt x="1339" y="36"/>
                  </a:lnTo>
                  <a:lnTo>
                    <a:pt x="1339" y="59"/>
                  </a:lnTo>
                  <a:lnTo>
                    <a:pt x="1321" y="47"/>
                  </a:lnTo>
                  <a:lnTo>
                    <a:pt x="1321" y="47"/>
                  </a:lnTo>
                  <a:lnTo>
                    <a:pt x="1286" y="41"/>
                  </a:lnTo>
                  <a:lnTo>
                    <a:pt x="1257" y="47"/>
                  </a:lnTo>
                  <a:lnTo>
                    <a:pt x="1291" y="47"/>
                  </a:lnTo>
                  <a:lnTo>
                    <a:pt x="1291" y="71"/>
                  </a:lnTo>
                  <a:lnTo>
                    <a:pt x="1263" y="53"/>
                  </a:lnTo>
                  <a:lnTo>
                    <a:pt x="1244" y="59"/>
                  </a:lnTo>
                  <a:lnTo>
                    <a:pt x="1251" y="83"/>
                  </a:lnTo>
                  <a:lnTo>
                    <a:pt x="1215" y="94"/>
                  </a:lnTo>
                  <a:lnTo>
                    <a:pt x="1221" y="59"/>
                  </a:lnTo>
                  <a:lnTo>
                    <a:pt x="1204" y="83"/>
                  </a:lnTo>
                  <a:lnTo>
                    <a:pt x="1204" y="64"/>
                  </a:lnTo>
                  <a:lnTo>
                    <a:pt x="1174" y="77"/>
                  </a:lnTo>
                  <a:lnTo>
                    <a:pt x="1204" y="94"/>
                  </a:lnTo>
                  <a:lnTo>
                    <a:pt x="1174" y="77"/>
                  </a:lnTo>
                  <a:lnTo>
                    <a:pt x="1180" y="88"/>
                  </a:lnTo>
                  <a:lnTo>
                    <a:pt x="1151" y="83"/>
                  </a:lnTo>
                  <a:lnTo>
                    <a:pt x="1144" y="88"/>
                  </a:lnTo>
                  <a:lnTo>
                    <a:pt x="1138" y="118"/>
                  </a:lnTo>
                  <a:lnTo>
                    <a:pt x="1121" y="118"/>
                  </a:lnTo>
                  <a:lnTo>
                    <a:pt x="1138" y="124"/>
                  </a:lnTo>
                  <a:lnTo>
                    <a:pt x="1091" y="130"/>
                  </a:lnTo>
                  <a:lnTo>
                    <a:pt x="1144" y="136"/>
                  </a:lnTo>
                  <a:lnTo>
                    <a:pt x="1121" y="136"/>
                  </a:lnTo>
                  <a:lnTo>
                    <a:pt x="1127" y="147"/>
                  </a:lnTo>
                  <a:lnTo>
                    <a:pt x="1085" y="136"/>
                  </a:lnTo>
                  <a:lnTo>
                    <a:pt x="1109" y="147"/>
                  </a:lnTo>
                  <a:lnTo>
                    <a:pt x="1079" y="147"/>
                  </a:lnTo>
                  <a:lnTo>
                    <a:pt x="1097" y="164"/>
                  </a:lnTo>
                  <a:lnTo>
                    <a:pt x="1074" y="141"/>
                  </a:lnTo>
                  <a:lnTo>
                    <a:pt x="1049" y="153"/>
                  </a:lnTo>
                  <a:lnTo>
                    <a:pt x="1074" y="158"/>
                  </a:lnTo>
                  <a:lnTo>
                    <a:pt x="1032" y="164"/>
                  </a:lnTo>
                  <a:lnTo>
                    <a:pt x="1068" y="164"/>
                  </a:lnTo>
                  <a:lnTo>
                    <a:pt x="1049" y="177"/>
                  </a:lnTo>
                  <a:lnTo>
                    <a:pt x="1074" y="177"/>
                  </a:lnTo>
                  <a:lnTo>
                    <a:pt x="1068" y="194"/>
                  </a:lnTo>
                  <a:lnTo>
                    <a:pt x="1044" y="177"/>
                  </a:lnTo>
                  <a:lnTo>
                    <a:pt x="1015" y="194"/>
                  </a:lnTo>
                  <a:lnTo>
                    <a:pt x="1074" y="200"/>
                  </a:lnTo>
                  <a:lnTo>
                    <a:pt x="1021" y="200"/>
                  </a:lnTo>
                  <a:lnTo>
                    <a:pt x="991" y="211"/>
                  </a:lnTo>
                  <a:lnTo>
                    <a:pt x="1009" y="218"/>
                  </a:lnTo>
                  <a:lnTo>
                    <a:pt x="973" y="224"/>
                  </a:lnTo>
                  <a:lnTo>
                    <a:pt x="996" y="230"/>
                  </a:lnTo>
                  <a:lnTo>
                    <a:pt x="968" y="230"/>
                  </a:lnTo>
                  <a:lnTo>
                    <a:pt x="991" y="241"/>
                  </a:lnTo>
                  <a:lnTo>
                    <a:pt x="973" y="247"/>
                  </a:lnTo>
                  <a:lnTo>
                    <a:pt x="1015" y="241"/>
                  </a:lnTo>
                  <a:lnTo>
                    <a:pt x="962" y="253"/>
                  </a:lnTo>
                  <a:lnTo>
                    <a:pt x="979" y="264"/>
                  </a:lnTo>
                  <a:lnTo>
                    <a:pt x="956" y="264"/>
                  </a:lnTo>
                  <a:lnTo>
                    <a:pt x="949" y="300"/>
                  </a:lnTo>
                  <a:lnTo>
                    <a:pt x="973" y="294"/>
                  </a:lnTo>
                  <a:lnTo>
                    <a:pt x="909" y="318"/>
                  </a:lnTo>
                  <a:lnTo>
                    <a:pt x="926" y="318"/>
                  </a:lnTo>
                  <a:lnTo>
                    <a:pt x="949" y="318"/>
                  </a:lnTo>
                  <a:lnTo>
                    <a:pt x="915" y="330"/>
                  </a:lnTo>
                  <a:lnTo>
                    <a:pt x="926" y="341"/>
                  </a:lnTo>
                  <a:lnTo>
                    <a:pt x="896" y="335"/>
                  </a:lnTo>
                  <a:lnTo>
                    <a:pt x="879" y="341"/>
                  </a:lnTo>
                  <a:lnTo>
                    <a:pt x="843" y="377"/>
                  </a:lnTo>
                  <a:lnTo>
                    <a:pt x="867" y="377"/>
                  </a:lnTo>
                  <a:lnTo>
                    <a:pt x="867" y="394"/>
                  </a:lnTo>
                  <a:lnTo>
                    <a:pt x="902" y="377"/>
                  </a:lnTo>
                  <a:lnTo>
                    <a:pt x="885" y="377"/>
                  </a:lnTo>
                  <a:lnTo>
                    <a:pt x="915" y="358"/>
                  </a:lnTo>
                  <a:lnTo>
                    <a:pt x="920" y="377"/>
                  </a:lnTo>
                  <a:lnTo>
                    <a:pt x="896" y="394"/>
                  </a:lnTo>
                  <a:lnTo>
                    <a:pt x="867" y="394"/>
                  </a:lnTo>
                  <a:lnTo>
                    <a:pt x="879" y="405"/>
                  </a:lnTo>
                  <a:lnTo>
                    <a:pt x="856" y="382"/>
                  </a:lnTo>
                  <a:lnTo>
                    <a:pt x="832" y="400"/>
                  </a:lnTo>
                  <a:lnTo>
                    <a:pt x="809" y="394"/>
                  </a:lnTo>
                  <a:lnTo>
                    <a:pt x="826" y="405"/>
                  </a:lnTo>
                  <a:lnTo>
                    <a:pt x="790" y="411"/>
                  </a:lnTo>
                  <a:lnTo>
                    <a:pt x="814" y="430"/>
                  </a:lnTo>
                  <a:lnTo>
                    <a:pt x="779" y="418"/>
                  </a:lnTo>
                  <a:lnTo>
                    <a:pt x="809" y="435"/>
                  </a:lnTo>
                  <a:lnTo>
                    <a:pt x="785" y="418"/>
                  </a:lnTo>
                  <a:lnTo>
                    <a:pt x="743" y="424"/>
                  </a:lnTo>
                  <a:lnTo>
                    <a:pt x="743" y="435"/>
                  </a:lnTo>
                  <a:lnTo>
                    <a:pt x="790" y="435"/>
                  </a:lnTo>
                  <a:lnTo>
                    <a:pt x="714" y="441"/>
                  </a:lnTo>
                  <a:lnTo>
                    <a:pt x="732" y="447"/>
                  </a:lnTo>
                  <a:lnTo>
                    <a:pt x="761" y="453"/>
                  </a:lnTo>
                  <a:lnTo>
                    <a:pt x="755" y="465"/>
                  </a:lnTo>
                  <a:lnTo>
                    <a:pt x="737" y="447"/>
                  </a:lnTo>
                  <a:lnTo>
                    <a:pt x="732" y="465"/>
                  </a:lnTo>
                  <a:lnTo>
                    <a:pt x="720" y="453"/>
                  </a:lnTo>
                  <a:lnTo>
                    <a:pt x="702" y="458"/>
                  </a:lnTo>
                  <a:lnTo>
                    <a:pt x="720" y="471"/>
                  </a:lnTo>
                  <a:lnTo>
                    <a:pt x="667" y="458"/>
                  </a:lnTo>
                  <a:lnTo>
                    <a:pt x="673" y="477"/>
                  </a:lnTo>
                  <a:lnTo>
                    <a:pt x="743" y="477"/>
                  </a:lnTo>
                  <a:lnTo>
                    <a:pt x="667" y="482"/>
                  </a:lnTo>
                  <a:lnTo>
                    <a:pt x="702" y="500"/>
                  </a:lnTo>
                  <a:lnTo>
                    <a:pt x="667" y="500"/>
                  </a:lnTo>
                  <a:lnTo>
                    <a:pt x="696" y="505"/>
                  </a:lnTo>
                  <a:lnTo>
                    <a:pt x="667" y="512"/>
                  </a:lnTo>
                  <a:lnTo>
                    <a:pt x="679" y="518"/>
                  </a:lnTo>
                  <a:lnTo>
                    <a:pt x="726" y="518"/>
                  </a:lnTo>
                  <a:lnTo>
                    <a:pt x="737" y="505"/>
                  </a:lnTo>
                  <a:lnTo>
                    <a:pt x="732" y="512"/>
                  </a:lnTo>
                  <a:lnTo>
                    <a:pt x="761" y="518"/>
                  </a:lnTo>
                  <a:lnTo>
                    <a:pt x="773" y="500"/>
                  </a:lnTo>
                  <a:lnTo>
                    <a:pt x="761" y="512"/>
                  </a:lnTo>
                  <a:lnTo>
                    <a:pt x="779" y="512"/>
                  </a:lnTo>
                  <a:lnTo>
                    <a:pt x="749" y="518"/>
                  </a:lnTo>
                  <a:lnTo>
                    <a:pt x="755" y="530"/>
                  </a:lnTo>
                  <a:lnTo>
                    <a:pt x="737" y="518"/>
                  </a:lnTo>
                  <a:lnTo>
                    <a:pt x="673" y="524"/>
                  </a:lnTo>
                  <a:lnTo>
                    <a:pt x="673" y="535"/>
                  </a:lnTo>
                  <a:lnTo>
                    <a:pt x="690" y="530"/>
                  </a:lnTo>
                  <a:lnTo>
                    <a:pt x="684" y="547"/>
                  </a:lnTo>
                  <a:lnTo>
                    <a:pt x="667" y="535"/>
                  </a:lnTo>
                  <a:lnTo>
                    <a:pt x="679" y="541"/>
                  </a:lnTo>
                  <a:lnTo>
                    <a:pt x="702" y="541"/>
                  </a:lnTo>
                  <a:lnTo>
                    <a:pt x="679" y="558"/>
                  </a:lnTo>
                  <a:lnTo>
                    <a:pt x="684" y="571"/>
                  </a:lnTo>
                  <a:lnTo>
                    <a:pt x="702" y="558"/>
                  </a:lnTo>
                  <a:lnTo>
                    <a:pt x="702" y="582"/>
                  </a:lnTo>
                  <a:lnTo>
                    <a:pt x="720" y="552"/>
                  </a:lnTo>
                  <a:lnTo>
                    <a:pt x="755" y="552"/>
                  </a:lnTo>
                  <a:lnTo>
                    <a:pt x="732" y="577"/>
                  </a:lnTo>
                  <a:lnTo>
                    <a:pt x="726" y="558"/>
                  </a:lnTo>
                  <a:lnTo>
                    <a:pt x="696" y="588"/>
                  </a:lnTo>
                  <a:lnTo>
                    <a:pt x="726" y="588"/>
                  </a:lnTo>
                  <a:lnTo>
                    <a:pt x="690" y="605"/>
                  </a:lnTo>
                  <a:lnTo>
                    <a:pt x="679" y="605"/>
                  </a:lnTo>
                  <a:lnTo>
                    <a:pt x="696" y="618"/>
                  </a:lnTo>
                  <a:lnTo>
                    <a:pt x="708" y="612"/>
                  </a:lnTo>
                  <a:lnTo>
                    <a:pt x="737" y="605"/>
                  </a:lnTo>
                  <a:lnTo>
                    <a:pt x="714" y="618"/>
                  </a:lnTo>
                  <a:lnTo>
                    <a:pt x="708" y="629"/>
                  </a:lnTo>
                  <a:lnTo>
                    <a:pt x="714" y="641"/>
                  </a:lnTo>
                  <a:lnTo>
                    <a:pt x="737" y="629"/>
                  </a:lnTo>
                  <a:lnTo>
                    <a:pt x="720" y="641"/>
                  </a:lnTo>
                  <a:lnTo>
                    <a:pt x="696" y="629"/>
                  </a:lnTo>
                  <a:lnTo>
                    <a:pt x="690" y="647"/>
                  </a:lnTo>
                  <a:lnTo>
                    <a:pt x="755" y="677"/>
                  </a:lnTo>
                  <a:lnTo>
                    <a:pt x="743" y="682"/>
                  </a:lnTo>
                  <a:lnTo>
                    <a:pt x="809" y="682"/>
                  </a:lnTo>
                  <a:lnTo>
                    <a:pt x="862" y="629"/>
                  </a:lnTo>
                  <a:lnTo>
                    <a:pt x="896" y="629"/>
                  </a:lnTo>
                  <a:lnTo>
                    <a:pt x="902" y="605"/>
                  </a:lnTo>
                  <a:lnTo>
                    <a:pt x="902" y="588"/>
                  </a:lnTo>
                  <a:lnTo>
                    <a:pt x="915" y="624"/>
                  </a:lnTo>
                  <a:lnTo>
                    <a:pt x="943" y="635"/>
                  </a:lnTo>
                  <a:lnTo>
                    <a:pt x="938" y="671"/>
                  </a:lnTo>
                  <a:lnTo>
                    <a:pt x="949" y="677"/>
                  </a:lnTo>
                  <a:lnTo>
                    <a:pt x="968" y="671"/>
                  </a:lnTo>
                  <a:lnTo>
                    <a:pt x="962" y="705"/>
                  </a:lnTo>
                  <a:lnTo>
                    <a:pt x="1015" y="765"/>
                  </a:lnTo>
                  <a:lnTo>
                    <a:pt x="1015" y="788"/>
                  </a:lnTo>
                  <a:lnTo>
                    <a:pt x="1003" y="782"/>
                  </a:lnTo>
                  <a:lnTo>
                    <a:pt x="1032" y="818"/>
                  </a:lnTo>
                  <a:lnTo>
                    <a:pt x="1021" y="835"/>
                  </a:lnTo>
                  <a:lnTo>
                    <a:pt x="1044" y="835"/>
                  </a:lnTo>
                  <a:lnTo>
                    <a:pt x="1079" y="835"/>
                  </a:lnTo>
                  <a:lnTo>
                    <a:pt x="1097" y="788"/>
                  </a:lnTo>
                  <a:lnTo>
                    <a:pt x="1151" y="794"/>
                  </a:lnTo>
                  <a:lnTo>
                    <a:pt x="1180" y="718"/>
                  </a:lnTo>
                  <a:lnTo>
                    <a:pt x="1162" y="694"/>
                  </a:lnTo>
                  <a:lnTo>
                    <a:pt x="1180" y="694"/>
                  </a:lnTo>
                  <a:lnTo>
                    <a:pt x="1174" y="671"/>
                  </a:lnTo>
                  <a:lnTo>
                    <a:pt x="1157" y="665"/>
                  </a:lnTo>
                  <a:lnTo>
                    <a:pt x="1180" y="665"/>
                  </a:lnTo>
                  <a:lnTo>
                    <a:pt x="1151" y="652"/>
                  </a:lnTo>
                  <a:lnTo>
                    <a:pt x="1197" y="647"/>
                  </a:lnTo>
                  <a:lnTo>
                    <a:pt x="1210" y="624"/>
                  </a:lnTo>
                  <a:lnTo>
                    <a:pt x="1221" y="641"/>
                  </a:lnTo>
                  <a:lnTo>
                    <a:pt x="1238" y="624"/>
                  </a:lnTo>
                  <a:lnTo>
                    <a:pt x="1238" y="612"/>
                  </a:lnTo>
                  <a:lnTo>
                    <a:pt x="1215" y="624"/>
                  </a:lnTo>
                  <a:lnTo>
                    <a:pt x="1132" y="605"/>
                  </a:lnTo>
                  <a:lnTo>
                    <a:pt x="1191" y="605"/>
                  </a:lnTo>
                  <a:lnTo>
                    <a:pt x="1210" y="605"/>
                  </a:lnTo>
                  <a:lnTo>
                    <a:pt x="1197" y="588"/>
                  </a:lnTo>
                  <a:lnTo>
                    <a:pt x="1210" y="612"/>
                  </a:lnTo>
                  <a:lnTo>
                    <a:pt x="1238" y="605"/>
                  </a:lnTo>
                  <a:lnTo>
                    <a:pt x="1263" y="594"/>
                  </a:lnTo>
                  <a:lnTo>
                    <a:pt x="1263" y="588"/>
                  </a:lnTo>
                  <a:lnTo>
                    <a:pt x="1210" y="547"/>
                  </a:lnTo>
                  <a:lnTo>
                    <a:pt x="1174" y="541"/>
                  </a:lnTo>
                  <a:lnTo>
                    <a:pt x="1162" y="494"/>
                  </a:lnTo>
                  <a:lnTo>
                    <a:pt x="1185" y="488"/>
                  </a:lnTo>
                  <a:lnTo>
                    <a:pt x="1168" y="447"/>
                  </a:lnTo>
                  <a:lnTo>
                    <a:pt x="1197" y="441"/>
                  </a:lnTo>
                  <a:lnTo>
                    <a:pt x="1180" y="418"/>
                  </a:lnTo>
                  <a:lnTo>
                    <a:pt x="1204" y="430"/>
                  </a:lnTo>
                  <a:lnTo>
                    <a:pt x="1215" y="418"/>
                  </a:lnTo>
                  <a:lnTo>
                    <a:pt x="1251" y="388"/>
                  </a:lnTo>
                  <a:lnTo>
                    <a:pt x="1297" y="377"/>
                  </a:lnTo>
                  <a:lnTo>
                    <a:pt x="1327" y="341"/>
                  </a:lnTo>
                  <a:lnTo>
                    <a:pt x="1297" y="318"/>
                  </a:lnTo>
                  <a:lnTo>
                    <a:pt x="1321" y="306"/>
                  </a:lnTo>
                  <a:lnTo>
                    <a:pt x="1304" y="294"/>
                  </a:lnTo>
                  <a:lnTo>
                    <a:pt x="1339" y="283"/>
                  </a:lnTo>
                  <a:lnTo>
                    <a:pt x="1321" y="277"/>
                  </a:lnTo>
                  <a:lnTo>
                    <a:pt x="1344" y="264"/>
                  </a:lnTo>
                  <a:lnTo>
                    <a:pt x="1416" y="271"/>
                  </a:lnTo>
                  <a:lnTo>
                    <a:pt x="1463" y="283"/>
                  </a:lnTo>
                  <a:lnTo>
                    <a:pt x="1474" y="311"/>
                  </a:lnTo>
                  <a:lnTo>
                    <a:pt x="1439" y="324"/>
                  </a:lnTo>
                  <a:lnTo>
                    <a:pt x="1363" y="388"/>
                  </a:lnTo>
                  <a:lnTo>
                    <a:pt x="1368" y="405"/>
                  </a:lnTo>
                  <a:lnTo>
                    <a:pt x="1321" y="430"/>
                  </a:lnTo>
                  <a:lnTo>
                    <a:pt x="1357" y="494"/>
                  </a:lnTo>
                  <a:lnTo>
                    <a:pt x="1351" y="547"/>
                  </a:lnTo>
                  <a:lnTo>
                    <a:pt x="1404" y="558"/>
                  </a:lnTo>
                  <a:lnTo>
                    <a:pt x="1404" y="571"/>
                  </a:lnTo>
                  <a:lnTo>
                    <a:pt x="1427" y="558"/>
                  </a:lnTo>
                  <a:lnTo>
                    <a:pt x="1421" y="571"/>
                  </a:lnTo>
                  <a:lnTo>
                    <a:pt x="1439" y="577"/>
                  </a:lnTo>
                  <a:lnTo>
                    <a:pt x="1421" y="588"/>
                  </a:lnTo>
                  <a:lnTo>
                    <a:pt x="1546" y="565"/>
                  </a:lnTo>
                  <a:lnTo>
                    <a:pt x="1569" y="547"/>
                  </a:lnTo>
                  <a:lnTo>
                    <a:pt x="1575" y="558"/>
                  </a:lnTo>
                  <a:lnTo>
                    <a:pt x="1622" y="547"/>
                  </a:lnTo>
                  <a:lnTo>
                    <a:pt x="1652" y="541"/>
                  </a:lnTo>
                  <a:lnTo>
                    <a:pt x="1658" y="547"/>
                  </a:lnTo>
                  <a:lnTo>
                    <a:pt x="1675" y="571"/>
                  </a:lnTo>
                  <a:lnTo>
                    <a:pt x="1728" y="582"/>
                  </a:lnTo>
                  <a:lnTo>
                    <a:pt x="1728" y="582"/>
                  </a:lnTo>
                  <a:lnTo>
                    <a:pt x="1681" y="582"/>
                  </a:lnTo>
                  <a:lnTo>
                    <a:pt x="1639" y="588"/>
                  </a:lnTo>
                  <a:lnTo>
                    <a:pt x="1646" y="605"/>
                  </a:lnTo>
                  <a:lnTo>
                    <a:pt x="1539" y="600"/>
                  </a:lnTo>
                  <a:lnTo>
                    <a:pt x="1451" y="624"/>
                  </a:lnTo>
                  <a:lnTo>
                    <a:pt x="1457" y="647"/>
                  </a:lnTo>
                  <a:lnTo>
                    <a:pt x="1457" y="652"/>
                  </a:lnTo>
                  <a:lnTo>
                    <a:pt x="1469" y="671"/>
                  </a:lnTo>
                  <a:lnTo>
                    <a:pt x="1504" y="671"/>
                  </a:lnTo>
                  <a:lnTo>
                    <a:pt x="1504" y="694"/>
                  </a:lnTo>
                  <a:lnTo>
                    <a:pt x="1510" y="729"/>
                  </a:lnTo>
                  <a:lnTo>
                    <a:pt x="1480" y="747"/>
                  </a:lnTo>
                  <a:lnTo>
                    <a:pt x="1457" y="729"/>
                  </a:lnTo>
                  <a:lnTo>
                    <a:pt x="1427" y="700"/>
                  </a:lnTo>
                  <a:lnTo>
                    <a:pt x="1392" y="712"/>
                  </a:lnTo>
                  <a:lnTo>
                    <a:pt x="1380" y="735"/>
                  </a:lnTo>
                  <a:lnTo>
                    <a:pt x="1368" y="776"/>
                  </a:lnTo>
                  <a:lnTo>
                    <a:pt x="1374" y="794"/>
                  </a:lnTo>
                  <a:lnTo>
                    <a:pt x="1392" y="841"/>
                  </a:lnTo>
                  <a:lnTo>
                    <a:pt x="1392" y="859"/>
                  </a:lnTo>
                  <a:lnTo>
                    <a:pt x="1363" y="859"/>
                  </a:lnTo>
                  <a:lnTo>
                    <a:pt x="1380" y="841"/>
                  </a:lnTo>
                  <a:lnTo>
                    <a:pt x="1380" y="818"/>
                  </a:lnTo>
                  <a:lnTo>
                    <a:pt x="1374" y="841"/>
                  </a:lnTo>
                  <a:lnTo>
                    <a:pt x="1368" y="847"/>
                  </a:lnTo>
                  <a:lnTo>
                    <a:pt x="1333" y="859"/>
                  </a:lnTo>
                  <a:lnTo>
                    <a:pt x="1327" y="882"/>
                  </a:lnTo>
                  <a:lnTo>
                    <a:pt x="1297" y="894"/>
                  </a:lnTo>
                  <a:lnTo>
                    <a:pt x="1280" y="888"/>
                  </a:lnTo>
                  <a:lnTo>
                    <a:pt x="1268" y="865"/>
                  </a:lnTo>
                  <a:lnTo>
                    <a:pt x="1286" y="876"/>
                  </a:lnTo>
                  <a:lnTo>
                    <a:pt x="1263" y="865"/>
                  </a:lnTo>
                  <a:lnTo>
                    <a:pt x="1091" y="912"/>
                  </a:lnTo>
                  <a:lnTo>
                    <a:pt x="1068" y="899"/>
                  </a:lnTo>
                  <a:lnTo>
                    <a:pt x="1074" y="918"/>
                  </a:lnTo>
                  <a:lnTo>
                    <a:pt x="1091" y="918"/>
                  </a:lnTo>
                  <a:lnTo>
                    <a:pt x="1109" y="918"/>
                  </a:lnTo>
                  <a:lnTo>
                    <a:pt x="1109" y="935"/>
                  </a:lnTo>
                  <a:lnTo>
                    <a:pt x="1091" y="929"/>
                  </a:lnTo>
                  <a:lnTo>
                    <a:pt x="1091" y="924"/>
                  </a:lnTo>
                  <a:lnTo>
                    <a:pt x="1032" y="888"/>
                  </a:lnTo>
                  <a:lnTo>
                    <a:pt x="1009" y="894"/>
                  </a:lnTo>
                  <a:lnTo>
                    <a:pt x="1026" y="888"/>
                  </a:lnTo>
                  <a:lnTo>
                    <a:pt x="1015" y="882"/>
                  </a:lnTo>
                  <a:lnTo>
                    <a:pt x="996" y="906"/>
                  </a:lnTo>
                  <a:lnTo>
                    <a:pt x="943" y="912"/>
                  </a:lnTo>
                  <a:lnTo>
                    <a:pt x="949" y="888"/>
                  </a:lnTo>
                  <a:lnTo>
                    <a:pt x="896" y="888"/>
                  </a:lnTo>
                  <a:lnTo>
                    <a:pt x="896" y="871"/>
                  </a:lnTo>
                  <a:lnTo>
                    <a:pt x="873" y="865"/>
                  </a:lnTo>
                  <a:lnTo>
                    <a:pt x="890" y="859"/>
                  </a:lnTo>
                  <a:lnTo>
                    <a:pt x="873" y="852"/>
                  </a:lnTo>
                  <a:lnTo>
                    <a:pt x="890" y="824"/>
                  </a:lnTo>
                  <a:lnTo>
                    <a:pt x="879" y="818"/>
                  </a:lnTo>
                  <a:lnTo>
                    <a:pt x="896" y="818"/>
                  </a:lnTo>
                  <a:lnTo>
                    <a:pt x="909" y="788"/>
                  </a:lnTo>
                  <a:lnTo>
                    <a:pt x="926" y="794"/>
                  </a:lnTo>
                  <a:lnTo>
                    <a:pt x="932" y="776"/>
                  </a:lnTo>
                  <a:lnTo>
                    <a:pt x="902" y="771"/>
                  </a:lnTo>
                  <a:lnTo>
                    <a:pt x="890" y="741"/>
                  </a:lnTo>
                  <a:lnTo>
                    <a:pt x="915" y="729"/>
                  </a:lnTo>
                  <a:lnTo>
                    <a:pt x="915" y="705"/>
                  </a:lnTo>
                  <a:lnTo>
                    <a:pt x="867" y="735"/>
                  </a:lnTo>
                  <a:lnTo>
                    <a:pt x="814" y="752"/>
                  </a:lnTo>
                  <a:lnTo>
                    <a:pt x="832" y="771"/>
                  </a:lnTo>
                  <a:lnTo>
                    <a:pt x="837" y="741"/>
                  </a:lnTo>
                  <a:lnTo>
                    <a:pt x="890" y="741"/>
                  </a:lnTo>
                  <a:lnTo>
                    <a:pt x="856" y="747"/>
                  </a:lnTo>
                  <a:lnTo>
                    <a:pt x="867" y="771"/>
                  </a:lnTo>
                  <a:lnTo>
                    <a:pt x="849" y="752"/>
                  </a:lnTo>
                  <a:lnTo>
                    <a:pt x="814" y="765"/>
                  </a:lnTo>
                  <a:lnTo>
                    <a:pt x="814" y="824"/>
                  </a:lnTo>
                  <a:lnTo>
                    <a:pt x="837" y="829"/>
                  </a:lnTo>
                  <a:lnTo>
                    <a:pt x="837" y="859"/>
                  </a:lnTo>
                  <a:lnTo>
                    <a:pt x="837" y="894"/>
                  </a:lnTo>
                  <a:lnTo>
                    <a:pt x="856" y="894"/>
                  </a:lnTo>
                  <a:lnTo>
                    <a:pt x="856" y="912"/>
                  </a:lnTo>
                  <a:lnTo>
                    <a:pt x="896" y="935"/>
                  </a:lnTo>
                  <a:lnTo>
                    <a:pt x="843" y="918"/>
                  </a:lnTo>
                  <a:lnTo>
                    <a:pt x="837" y="946"/>
                  </a:lnTo>
                  <a:lnTo>
                    <a:pt x="814" y="929"/>
                  </a:lnTo>
                  <a:lnTo>
                    <a:pt x="773" y="941"/>
                  </a:lnTo>
                  <a:lnTo>
                    <a:pt x="779" y="953"/>
                  </a:lnTo>
                  <a:lnTo>
                    <a:pt x="726" y="946"/>
                  </a:lnTo>
                  <a:lnTo>
                    <a:pt x="673" y="971"/>
                  </a:lnTo>
                  <a:lnTo>
                    <a:pt x="643" y="1023"/>
                  </a:lnTo>
                  <a:lnTo>
                    <a:pt x="643" y="1035"/>
                  </a:lnTo>
                  <a:lnTo>
                    <a:pt x="673" y="1035"/>
                  </a:lnTo>
                  <a:lnTo>
                    <a:pt x="679" y="1041"/>
                  </a:lnTo>
                  <a:lnTo>
                    <a:pt x="643" y="1041"/>
                  </a:lnTo>
                  <a:lnTo>
                    <a:pt x="654" y="1053"/>
                  </a:lnTo>
                  <a:lnTo>
                    <a:pt x="614" y="1046"/>
                  </a:lnTo>
                  <a:lnTo>
                    <a:pt x="649" y="1059"/>
                  </a:lnTo>
                  <a:lnTo>
                    <a:pt x="654" y="1065"/>
                  </a:lnTo>
                  <a:lnTo>
                    <a:pt x="649" y="1059"/>
                  </a:lnTo>
                  <a:lnTo>
                    <a:pt x="614" y="1059"/>
                  </a:lnTo>
                  <a:lnTo>
                    <a:pt x="578" y="1076"/>
                  </a:lnTo>
                  <a:lnTo>
                    <a:pt x="531" y="1088"/>
                  </a:lnTo>
                  <a:lnTo>
                    <a:pt x="537" y="1129"/>
                  </a:lnTo>
                  <a:lnTo>
                    <a:pt x="472" y="1153"/>
                  </a:lnTo>
                  <a:lnTo>
                    <a:pt x="467" y="1165"/>
                  </a:lnTo>
                  <a:lnTo>
                    <a:pt x="484" y="1165"/>
                  </a:lnTo>
                  <a:lnTo>
                    <a:pt x="461" y="1176"/>
                  </a:lnTo>
                  <a:lnTo>
                    <a:pt x="407" y="1176"/>
                  </a:lnTo>
                  <a:lnTo>
                    <a:pt x="401" y="1153"/>
                  </a:lnTo>
                  <a:lnTo>
                    <a:pt x="372" y="1153"/>
                  </a:lnTo>
                  <a:lnTo>
                    <a:pt x="395" y="1218"/>
                  </a:lnTo>
                  <a:lnTo>
                    <a:pt x="372" y="1212"/>
                  </a:lnTo>
                  <a:lnTo>
                    <a:pt x="336" y="1223"/>
                  </a:lnTo>
                  <a:lnTo>
                    <a:pt x="313" y="1200"/>
                  </a:lnTo>
                  <a:lnTo>
                    <a:pt x="242" y="1223"/>
                  </a:lnTo>
                  <a:lnTo>
                    <a:pt x="266" y="1235"/>
                  </a:lnTo>
                  <a:lnTo>
                    <a:pt x="248" y="1229"/>
                  </a:lnTo>
                  <a:lnTo>
                    <a:pt x="266" y="1246"/>
                  </a:lnTo>
                  <a:lnTo>
                    <a:pt x="242" y="1246"/>
                  </a:lnTo>
                  <a:lnTo>
                    <a:pt x="259" y="1265"/>
                  </a:lnTo>
                  <a:lnTo>
                    <a:pt x="313" y="1265"/>
                  </a:lnTo>
                  <a:lnTo>
                    <a:pt x="313" y="1282"/>
                  </a:lnTo>
                  <a:lnTo>
                    <a:pt x="336" y="1270"/>
                  </a:lnTo>
                  <a:lnTo>
                    <a:pt x="348" y="1282"/>
                  </a:lnTo>
                  <a:lnTo>
                    <a:pt x="342" y="1293"/>
                  </a:lnTo>
                  <a:lnTo>
                    <a:pt x="378" y="1293"/>
                  </a:lnTo>
                  <a:lnTo>
                    <a:pt x="359" y="1293"/>
                  </a:lnTo>
                  <a:lnTo>
                    <a:pt x="359" y="1318"/>
                  </a:lnTo>
                  <a:lnTo>
                    <a:pt x="407" y="1347"/>
                  </a:lnTo>
                  <a:lnTo>
                    <a:pt x="414" y="1382"/>
                  </a:lnTo>
                  <a:lnTo>
                    <a:pt x="401" y="1382"/>
                  </a:lnTo>
                  <a:lnTo>
                    <a:pt x="437" y="1423"/>
                  </a:lnTo>
                  <a:lnTo>
                    <a:pt x="407" y="1393"/>
                  </a:lnTo>
                  <a:lnTo>
                    <a:pt x="414" y="1440"/>
                  </a:lnTo>
                  <a:lnTo>
                    <a:pt x="378" y="1517"/>
                  </a:lnTo>
                  <a:lnTo>
                    <a:pt x="248" y="1517"/>
                  </a:lnTo>
                  <a:lnTo>
                    <a:pt x="183" y="1500"/>
                  </a:lnTo>
                  <a:lnTo>
                    <a:pt x="125" y="1512"/>
                  </a:lnTo>
                  <a:lnTo>
                    <a:pt x="89" y="1494"/>
                  </a:lnTo>
                  <a:lnTo>
                    <a:pt x="72" y="1523"/>
                  </a:lnTo>
                  <a:lnTo>
                    <a:pt x="72" y="1517"/>
                  </a:lnTo>
                  <a:lnTo>
                    <a:pt x="36" y="1523"/>
                  </a:lnTo>
                  <a:lnTo>
                    <a:pt x="36" y="1529"/>
                  </a:lnTo>
                  <a:lnTo>
                    <a:pt x="19" y="1535"/>
                  </a:lnTo>
                  <a:lnTo>
                    <a:pt x="36" y="1553"/>
                  </a:lnTo>
                  <a:lnTo>
                    <a:pt x="47" y="1559"/>
                  </a:lnTo>
                  <a:lnTo>
                    <a:pt x="47" y="1576"/>
                  </a:lnTo>
                  <a:lnTo>
                    <a:pt x="42" y="1600"/>
                  </a:lnTo>
                  <a:lnTo>
                    <a:pt x="47" y="1670"/>
                  </a:lnTo>
                  <a:lnTo>
                    <a:pt x="0" y="1787"/>
                  </a:lnTo>
                  <a:lnTo>
                    <a:pt x="12" y="1806"/>
                  </a:lnTo>
                  <a:lnTo>
                    <a:pt x="42" y="1806"/>
                  </a:lnTo>
                  <a:lnTo>
                    <a:pt x="24" y="1806"/>
                  </a:lnTo>
                  <a:lnTo>
                    <a:pt x="24" y="1882"/>
                  </a:lnTo>
                  <a:lnTo>
                    <a:pt x="24" y="1894"/>
                  </a:lnTo>
                  <a:lnTo>
                    <a:pt x="72" y="1894"/>
                  </a:lnTo>
                  <a:lnTo>
                    <a:pt x="95" y="1882"/>
                  </a:lnTo>
                  <a:lnTo>
                    <a:pt x="125" y="1876"/>
                  </a:lnTo>
                  <a:lnTo>
                    <a:pt x="159" y="1894"/>
                  </a:lnTo>
                  <a:lnTo>
                    <a:pt x="148" y="1906"/>
                  </a:lnTo>
                  <a:lnTo>
                    <a:pt x="166" y="1941"/>
                  </a:lnTo>
                  <a:lnTo>
                    <a:pt x="195" y="1941"/>
                  </a:lnTo>
                  <a:lnTo>
                    <a:pt x="195" y="1941"/>
                  </a:lnTo>
                  <a:lnTo>
                    <a:pt x="242" y="1911"/>
                  </a:lnTo>
                  <a:lnTo>
                    <a:pt x="354" y="1906"/>
                  </a:lnTo>
                  <a:lnTo>
                    <a:pt x="378" y="1870"/>
                  </a:lnTo>
                  <a:lnTo>
                    <a:pt x="425" y="1859"/>
                  </a:lnTo>
                  <a:lnTo>
                    <a:pt x="425" y="1823"/>
                  </a:lnTo>
                  <a:lnTo>
                    <a:pt x="461" y="1794"/>
                  </a:lnTo>
                  <a:lnTo>
                    <a:pt x="472" y="1787"/>
                  </a:lnTo>
                  <a:lnTo>
                    <a:pt x="454" y="1776"/>
                  </a:lnTo>
                  <a:lnTo>
                    <a:pt x="442" y="1747"/>
                  </a:lnTo>
                  <a:lnTo>
                    <a:pt x="461" y="1717"/>
                  </a:lnTo>
                  <a:lnTo>
                    <a:pt x="507" y="1653"/>
                  </a:lnTo>
                  <a:lnTo>
                    <a:pt x="561" y="1641"/>
                  </a:lnTo>
                  <a:lnTo>
                    <a:pt x="614" y="1606"/>
                  </a:lnTo>
                  <a:lnTo>
                    <a:pt x="614" y="1570"/>
                  </a:lnTo>
                  <a:lnTo>
                    <a:pt x="607" y="1535"/>
                  </a:lnTo>
                  <a:lnTo>
                    <a:pt x="643" y="1506"/>
                  </a:lnTo>
                  <a:lnTo>
                    <a:pt x="690" y="1517"/>
                  </a:lnTo>
                  <a:lnTo>
                    <a:pt x="684" y="1506"/>
                  </a:lnTo>
                  <a:lnTo>
                    <a:pt x="690" y="1517"/>
                  </a:lnTo>
                  <a:lnTo>
                    <a:pt x="696" y="1506"/>
                  </a:lnTo>
                  <a:lnTo>
                    <a:pt x="696" y="1517"/>
                  </a:lnTo>
                  <a:lnTo>
                    <a:pt x="755" y="1535"/>
                  </a:lnTo>
                  <a:lnTo>
                    <a:pt x="809" y="1500"/>
                  </a:lnTo>
                  <a:lnTo>
                    <a:pt x="814" y="1494"/>
                  </a:lnTo>
                  <a:lnTo>
                    <a:pt x="814" y="1494"/>
                  </a:lnTo>
                  <a:lnTo>
                    <a:pt x="873" y="1459"/>
                  </a:lnTo>
                  <a:lnTo>
                    <a:pt x="938" y="1482"/>
                  </a:lnTo>
                  <a:lnTo>
                    <a:pt x="962" y="1547"/>
                  </a:lnTo>
                  <a:lnTo>
                    <a:pt x="991" y="1576"/>
                  </a:lnTo>
                  <a:lnTo>
                    <a:pt x="1015" y="1582"/>
                  </a:lnTo>
                  <a:lnTo>
                    <a:pt x="1085" y="1647"/>
                  </a:lnTo>
                  <a:lnTo>
                    <a:pt x="1121" y="1641"/>
                  </a:lnTo>
                  <a:lnTo>
                    <a:pt x="1138" y="1670"/>
                  </a:lnTo>
                  <a:lnTo>
                    <a:pt x="1174" y="1676"/>
                  </a:lnTo>
                  <a:lnTo>
                    <a:pt x="1197" y="1712"/>
                  </a:lnTo>
                  <a:lnTo>
                    <a:pt x="1215" y="1712"/>
                  </a:lnTo>
                  <a:lnTo>
                    <a:pt x="1244" y="1776"/>
                  </a:lnTo>
                  <a:lnTo>
                    <a:pt x="1221" y="1834"/>
                  </a:lnTo>
                  <a:lnTo>
                    <a:pt x="1244" y="1841"/>
                  </a:lnTo>
                  <a:lnTo>
                    <a:pt x="1268" y="1787"/>
                  </a:lnTo>
                  <a:lnTo>
                    <a:pt x="1291" y="1770"/>
                  </a:lnTo>
                  <a:lnTo>
                    <a:pt x="1291" y="1753"/>
                  </a:lnTo>
                  <a:lnTo>
                    <a:pt x="1263" y="1734"/>
                  </a:lnTo>
                  <a:lnTo>
                    <a:pt x="1263" y="1712"/>
                  </a:lnTo>
                  <a:lnTo>
                    <a:pt x="1280" y="1687"/>
                  </a:lnTo>
                  <a:lnTo>
                    <a:pt x="1344" y="1729"/>
                  </a:lnTo>
                  <a:lnTo>
                    <a:pt x="1351" y="1706"/>
                  </a:lnTo>
                  <a:lnTo>
                    <a:pt x="1327" y="1676"/>
                  </a:lnTo>
                  <a:lnTo>
                    <a:pt x="1227" y="1629"/>
                  </a:lnTo>
                  <a:lnTo>
                    <a:pt x="1233" y="1606"/>
                  </a:lnTo>
                  <a:lnTo>
                    <a:pt x="1162" y="1594"/>
                  </a:lnTo>
                  <a:lnTo>
                    <a:pt x="1127" y="1559"/>
                  </a:lnTo>
                  <a:lnTo>
                    <a:pt x="1104" y="1506"/>
                  </a:lnTo>
                  <a:lnTo>
                    <a:pt x="1044" y="1470"/>
                  </a:lnTo>
                  <a:lnTo>
                    <a:pt x="1038" y="1440"/>
                  </a:lnTo>
                  <a:lnTo>
                    <a:pt x="1049" y="1423"/>
                  </a:lnTo>
                  <a:lnTo>
                    <a:pt x="1032" y="1400"/>
                  </a:lnTo>
                  <a:lnTo>
                    <a:pt x="1091" y="1376"/>
                  </a:lnTo>
                  <a:lnTo>
                    <a:pt x="1104" y="1388"/>
                  </a:lnTo>
                  <a:lnTo>
                    <a:pt x="1097" y="1393"/>
                  </a:lnTo>
                  <a:lnTo>
                    <a:pt x="1091" y="1393"/>
                  </a:lnTo>
                  <a:lnTo>
                    <a:pt x="1115" y="1435"/>
                  </a:lnTo>
                  <a:lnTo>
                    <a:pt x="1132" y="1406"/>
                  </a:lnTo>
                  <a:lnTo>
                    <a:pt x="1144" y="1406"/>
                  </a:lnTo>
                  <a:lnTo>
                    <a:pt x="1191" y="1465"/>
                  </a:lnTo>
                  <a:lnTo>
                    <a:pt x="1174" y="1470"/>
                  </a:lnTo>
                  <a:lnTo>
                    <a:pt x="1215" y="1512"/>
                  </a:lnTo>
                  <a:lnTo>
                    <a:pt x="1263" y="1517"/>
                  </a:lnTo>
                  <a:lnTo>
                    <a:pt x="1297" y="1540"/>
                  </a:lnTo>
                  <a:lnTo>
                    <a:pt x="1297" y="1547"/>
                  </a:lnTo>
                  <a:lnTo>
                    <a:pt x="1304" y="1553"/>
                  </a:lnTo>
                  <a:lnTo>
                    <a:pt x="1268" y="1540"/>
                  </a:lnTo>
                  <a:lnTo>
                    <a:pt x="1339" y="1570"/>
                  </a:lnTo>
                  <a:lnTo>
                    <a:pt x="1351" y="1570"/>
                  </a:lnTo>
                  <a:lnTo>
                    <a:pt x="1386" y="1606"/>
                  </a:lnTo>
                  <a:lnTo>
                    <a:pt x="1398" y="1623"/>
                  </a:lnTo>
                  <a:lnTo>
                    <a:pt x="1386" y="1694"/>
                  </a:lnTo>
                  <a:lnTo>
                    <a:pt x="1427" y="1734"/>
                  </a:lnTo>
                  <a:lnTo>
                    <a:pt x="1445" y="1759"/>
                  </a:lnTo>
                  <a:lnTo>
                    <a:pt x="1486" y="1776"/>
                  </a:lnTo>
                  <a:lnTo>
                    <a:pt x="1469" y="1787"/>
                  </a:lnTo>
                  <a:lnTo>
                    <a:pt x="1492" y="1817"/>
                  </a:lnTo>
                  <a:lnTo>
                    <a:pt x="1552" y="1806"/>
                  </a:lnTo>
                  <a:lnTo>
                    <a:pt x="1592" y="1823"/>
                  </a:lnTo>
                  <a:lnTo>
                    <a:pt x="1575" y="1834"/>
                  </a:lnTo>
                  <a:lnTo>
                    <a:pt x="1539" y="1817"/>
                  </a:lnTo>
                  <a:lnTo>
                    <a:pt x="1522" y="1811"/>
                  </a:lnTo>
                  <a:lnTo>
                    <a:pt x="1486" y="1841"/>
                  </a:lnTo>
                  <a:lnTo>
                    <a:pt x="1516" y="1864"/>
                  </a:lnTo>
                  <a:lnTo>
                    <a:pt x="1522" y="1906"/>
                  </a:lnTo>
                  <a:lnTo>
                    <a:pt x="1546" y="1894"/>
                  </a:lnTo>
                  <a:lnTo>
                    <a:pt x="1557" y="1923"/>
                  </a:lnTo>
                  <a:lnTo>
                    <a:pt x="1575" y="1906"/>
                  </a:lnTo>
                  <a:lnTo>
                    <a:pt x="1599" y="1923"/>
                  </a:lnTo>
                  <a:lnTo>
                    <a:pt x="1569" y="1859"/>
                  </a:lnTo>
                  <a:lnTo>
                    <a:pt x="1610" y="1864"/>
                  </a:lnTo>
                  <a:lnTo>
                    <a:pt x="1580" y="1841"/>
                  </a:lnTo>
                  <a:lnTo>
                    <a:pt x="1610" y="1829"/>
                  </a:lnTo>
                  <a:lnTo>
                    <a:pt x="1633" y="1853"/>
                  </a:lnTo>
                  <a:lnTo>
                    <a:pt x="1633" y="1823"/>
                  </a:lnTo>
                  <a:lnTo>
                    <a:pt x="1552" y="1782"/>
                  </a:lnTo>
                  <a:lnTo>
                    <a:pt x="1575" y="1776"/>
                  </a:lnTo>
                  <a:lnTo>
                    <a:pt x="1569" y="1764"/>
                  </a:lnTo>
                  <a:lnTo>
                    <a:pt x="1569" y="1753"/>
                  </a:lnTo>
                  <a:lnTo>
                    <a:pt x="1592" y="1764"/>
                  </a:lnTo>
                  <a:lnTo>
                    <a:pt x="1552" y="1717"/>
                  </a:lnTo>
                  <a:lnTo>
                    <a:pt x="1546" y="1687"/>
                  </a:lnTo>
                  <a:lnTo>
                    <a:pt x="1563" y="1676"/>
                  </a:lnTo>
                  <a:lnTo>
                    <a:pt x="1563" y="1694"/>
                  </a:lnTo>
                  <a:lnTo>
                    <a:pt x="1605" y="1723"/>
                  </a:lnTo>
                  <a:lnTo>
                    <a:pt x="1586" y="1706"/>
                  </a:lnTo>
                  <a:lnTo>
                    <a:pt x="1616" y="1717"/>
                  </a:lnTo>
                  <a:lnTo>
                    <a:pt x="1610" y="1694"/>
                  </a:lnTo>
                  <a:lnTo>
                    <a:pt x="1639" y="1706"/>
                  </a:lnTo>
                  <a:lnTo>
                    <a:pt x="1599" y="1676"/>
                  </a:lnTo>
                  <a:lnTo>
                    <a:pt x="1669" y="1659"/>
                  </a:lnTo>
                  <a:lnTo>
                    <a:pt x="1711" y="1670"/>
                  </a:lnTo>
                  <a:lnTo>
                    <a:pt x="1752" y="1682"/>
                  </a:lnTo>
                  <a:lnTo>
                    <a:pt x="1722" y="1700"/>
                  </a:lnTo>
                  <a:lnTo>
                    <a:pt x="1722" y="1712"/>
                  </a:lnTo>
                  <a:lnTo>
                    <a:pt x="1781" y="1659"/>
                  </a:lnTo>
                  <a:lnTo>
                    <a:pt x="1852" y="1659"/>
                  </a:lnTo>
                  <a:lnTo>
                    <a:pt x="1858" y="1641"/>
                  </a:lnTo>
                  <a:lnTo>
                    <a:pt x="1811" y="1623"/>
                  </a:lnTo>
                  <a:lnTo>
                    <a:pt x="1799" y="1600"/>
                  </a:lnTo>
                  <a:lnTo>
                    <a:pt x="1769" y="1570"/>
                  </a:lnTo>
                  <a:lnTo>
                    <a:pt x="1787" y="1529"/>
                  </a:lnTo>
                  <a:lnTo>
                    <a:pt x="1811" y="1517"/>
                  </a:lnTo>
                  <a:lnTo>
                    <a:pt x="1811" y="1494"/>
                  </a:lnTo>
                  <a:lnTo>
                    <a:pt x="1817" y="1429"/>
                  </a:lnTo>
                  <a:lnTo>
                    <a:pt x="1852" y="1435"/>
                  </a:lnTo>
                  <a:lnTo>
                    <a:pt x="1852" y="1429"/>
                  </a:lnTo>
                  <a:lnTo>
                    <a:pt x="1852" y="1417"/>
                  </a:lnTo>
                  <a:lnTo>
                    <a:pt x="1852" y="1412"/>
                  </a:lnTo>
                  <a:lnTo>
                    <a:pt x="1847" y="1376"/>
                  </a:lnTo>
                  <a:lnTo>
                    <a:pt x="1852" y="1388"/>
                  </a:lnTo>
                  <a:lnTo>
                    <a:pt x="1875" y="1376"/>
                  </a:lnTo>
                  <a:lnTo>
                    <a:pt x="1894" y="1335"/>
                  </a:lnTo>
                  <a:lnTo>
                    <a:pt x="1923" y="1318"/>
                  </a:lnTo>
                  <a:lnTo>
                    <a:pt x="1947" y="1329"/>
                  </a:lnTo>
                  <a:lnTo>
                    <a:pt x="1928" y="1293"/>
                  </a:lnTo>
                  <a:lnTo>
                    <a:pt x="1952" y="1329"/>
                  </a:lnTo>
                  <a:lnTo>
                    <a:pt x="1976" y="1329"/>
                  </a:lnTo>
                  <a:lnTo>
                    <a:pt x="1976" y="1329"/>
                  </a:lnTo>
                  <a:lnTo>
                    <a:pt x="1964" y="1340"/>
                  </a:lnTo>
                  <a:lnTo>
                    <a:pt x="1928" y="1335"/>
                  </a:lnTo>
                  <a:lnTo>
                    <a:pt x="1952" y="1340"/>
                  </a:lnTo>
                  <a:lnTo>
                    <a:pt x="1941" y="1353"/>
                  </a:lnTo>
                  <a:lnTo>
                    <a:pt x="2028" y="1359"/>
                  </a:lnTo>
                  <a:lnTo>
                    <a:pt x="2034" y="1370"/>
                  </a:lnTo>
                  <a:lnTo>
                    <a:pt x="1981" y="1400"/>
                  </a:lnTo>
                  <a:lnTo>
                    <a:pt x="2034" y="1417"/>
                  </a:lnTo>
                  <a:lnTo>
                    <a:pt x="2028" y="1447"/>
                  </a:lnTo>
                  <a:lnTo>
                    <a:pt x="2047" y="1459"/>
                  </a:lnTo>
                  <a:lnTo>
                    <a:pt x="2129" y="1417"/>
                  </a:lnTo>
                  <a:lnTo>
                    <a:pt x="2170" y="1423"/>
                  </a:lnTo>
                  <a:lnTo>
                    <a:pt x="2176" y="1400"/>
                  </a:lnTo>
                  <a:lnTo>
                    <a:pt x="2111" y="1400"/>
                  </a:lnTo>
                  <a:lnTo>
                    <a:pt x="2081" y="1359"/>
                  </a:lnTo>
                  <a:lnTo>
                    <a:pt x="2100" y="1335"/>
                  </a:lnTo>
                  <a:lnTo>
                    <a:pt x="2094" y="1365"/>
                  </a:lnTo>
                  <a:lnTo>
                    <a:pt x="2129" y="1329"/>
                  </a:lnTo>
                  <a:lnTo>
                    <a:pt x="2170" y="1329"/>
                  </a:lnTo>
                  <a:lnTo>
                    <a:pt x="2182" y="1318"/>
                  </a:lnTo>
                  <a:lnTo>
                    <a:pt x="2236" y="1300"/>
                  </a:lnTo>
                  <a:lnTo>
                    <a:pt x="2259" y="1293"/>
                  </a:lnTo>
                  <a:lnTo>
                    <a:pt x="2247" y="1300"/>
                  </a:lnTo>
                  <a:lnTo>
                    <a:pt x="2289" y="1300"/>
                  </a:lnTo>
                  <a:lnTo>
                    <a:pt x="2247" y="1318"/>
                  </a:lnTo>
                  <a:lnTo>
                    <a:pt x="2253" y="1329"/>
                  </a:lnTo>
                  <a:lnTo>
                    <a:pt x="2217" y="1329"/>
                  </a:lnTo>
                  <a:lnTo>
                    <a:pt x="2259" y="1365"/>
                  </a:lnTo>
                  <a:lnTo>
                    <a:pt x="2242" y="1376"/>
                  </a:lnTo>
                  <a:lnTo>
                    <a:pt x="2229" y="1365"/>
                  </a:lnTo>
                  <a:lnTo>
                    <a:pt x="2229" y="1406"/>
                  </a:lnTo>
                  <a:lnTo>
                    <a:pt x="2176" y="1412"/>
                  </a:lnTo>
                  <a:lnTo>
                    <a:pt x="2289" y="1465"/>
                  </a:lnTo>
                  <a:lnTo>
                    <a:pt x="2359" y="1517"/>
                  </a:lnTo>
                  <a:lnTo>
                    <a:pt x="2436" y="1559"/>
                  </a:lnTo>
                  <a:lnTo>
                    <a:pt x="2459" y="1606"/>
                  </a:lnTo>
                  <a:lnTo>
                    <a:pt x="2448" y="1629"/>
                  </a:lnTo>
                  <a:lnTo>
                    <a:pt x="2389" y="1664"/>
                  </a:lnTo>
                  <a:lnTo>
                    <a:pt x="2353" y="1653"/>
                  </a:lnTo>
                  <a:lnTo>
                    <a:pt x="2306" y="1664"/>
                  </a:lnTo>
                  <a:lnTo>
                    <a:pt x="2206" y="1641"/>
                  </a:lnTo>
                  <a:lnTo>
                    <a:pt x="2189" y="1617"/>
                  </a:lnTo>
                  <a:lnTo>
                    <a:pt x="2147" y="1617"/>
                  </a:lnTo>
                  <a:lnTo>
                    <a:pt x="2129" y="1594"/>
                  </a:lnTo>
                  <a:lnTo>
                    <a:pt x="2017" y="1606"/>
                  </a:lnTo>
                  <a:lnTo>
                    <a:pt x="1964" y="1647"/>
                  </a:lnTo>
                  <a:lnTo>
                    <a:pt x="1881" y="1647"/>
                  </a:lnTo>
                  <a:lnTo>
                    <a:pt x="1858" y="1641"/>
                  </a:lnTo>
                  <a:lnTo>
                    <a:pt x="1852" y="1659"/>
                  </a:lnTo>
                  <a:lnTo>
                    <a:pt x="1899" y="1676"/>
                  </a:lnTo>
                  <a:lnTo>
                    <a:pt x="1852" y="1676"/>
                  </a:lnTo>
                  <a:lnTo>
                    <a:pt x="1847" y="1687"/>
                  </a:lnTo>
                  <a:lnTo>
                    <a:pt x="1858" y="1694"/>
                  </a:lnTo>
                  <a:lnTo>
                    <a:pt x="1752" y="1694"/>
                  </a:lnTo>
                  <a:lnTo>
                    <a:pt x="1722" y="1717"/>
                  </a:lnTo>
                  <a:lnTo>
                    <a:pt x="1722" y="1741"/>
                  </a:lnTo>
                  <a:lnTo>
                    <a:pt x="1764" y="1741"/>
                  </a:lnTo>
                  <a:lnTo>
                    <a:pt x="1752" y="1759"/>
                  </a:lnTo>
                  <a:lnTo>
                    <a:pt x="1775" y="1782"/>
                  </a:lnTo>
                  <a:lnTo>
                    <a:pt x="1758" y="1794"/>
                  </a:lnTo>
                  <a:lnTo>
                    <a:pt x="1781" y="1806"/>
                  </a:lnTo>
                  <a:lnTo>
                    <a:pt x="1758" y="1817"/>
                  </a:lnTo>
                  <a:lnTo>
                    <a:pt x="1746" y="1794"/>
                  </a:lnTo>
                  <a:lnTo>
                    <a:pt x="1734" y="1817"/>
                  </a:lnTo>
                  <a:lnTo>
                    <a:pt x="1787" y="1834"/>
                  </a:lnTo>
                  <a:lnTo>
                    <a:pt x="1775" y="1853"/>
                  </a:lnTo>
                  <a:lnTo>
                    <a:pt x="1811" y="1876"/>
                  </a:lnTo>
                  <a:lnTo>
                    <a:pt x="1794" y="1888"/>
                  </a:lnTo>
                  <a:lnTo>
                    <a:pt x="1847" y="1888"/>
                  </a:lnTo>
                  <a:lnTo>
                    <a:pt x="1799" y="1911"/>
                  </a:lnTo>
                  <a:lnTo>
                    <a:pt x="1841" y="1906"/>
                  </a:lnTo>
                  <a:lnTo>
                    <a:pt x="1834" y="1917"/>
                  </a:lnTo>
                  <a:lnTo>
                    <a:pt x="1852" y="1900"/>
                  </a:lnTo>
                  <a:lnTo>
                    <a:pt x="1887" y="1929"/>
                  </a:lnTo>
                  <a:lnTo>
                    <a:pt x="1917" y="1947"/>
                  </a:lnTo>
                  <a:lnTo>
                    <a:pt x="1952" y="1941"/>
                  </a:lnTo>
                  <a:lnTo>
                    <a:pt x="1958" y="1900"/>
                  </a:lnTo>
                  <a:lnTo>
                    <a:pt x="1981" y="1900"/>
                  </a:lnTo>
                  <a:lnTo>
                    <a:pt x="2070" y="1953"/>
                  </a:lnTo>
                  <a:lnTo>
                    <a:pt x="2129" y="1941"/>
                  </a:lnTo>
                  <a:lnTo>
                    <a:pt x="2159" y="1906"/>
                  </a:lnTo>
                  <a:lnTo>
                    <a:pt x="2194" y="1917"/>
                  </a:lnTo>
                  <a:lnTo>
                    <a:pt x="2223" y="1894"/>
                  </a:lnTo>
                  <a:lnTo>
                    <a:pt x="2236" y="1911"/>
                  </a:lnTo>
                  <a:lnTo>
                    <a:pt x="2217" y="1934"/>
                  </a:lnTo>
                  <a:lnTo>
                    <a:pt x="2229" y="1953"/>
                  </a:lnTo>
                  <a:lnTo>
                    <a:pt x="2217" y="1976"/>
                  </a:lnTo>
                  <a:lnTo>
                    <a:pt x="2242" y="2029"/>
                  </a:lnTo>
                  <a:lnTo>
                    <a:pt x="2206" y="2123"/>
                  </a:lnTo>
                  <a:lnTo>
                    <a:pt x="2182" y="2211"/>
                  </a:lnTo>
                  <a:lnTo>
                    <a:pt x="2170" y="2228"/>
                  </a:lnTo>
                  <a:lnTo>
                    <a:pt x="2134" y="2241"/>
                  </a:lnTo>
                  <a:lnTo>
                    <a:pt x="2100" y="2247"/>
                  </a:lnTo>
                  <a:lnTo>
                    <a:pt x="2111" y="2241"/>
                  </a:lnTo>
                  <a:lnTo>
                    <a:pt x="2076" y="2235"/>
                  </a:lnTo>
                  <a:lnTo>
                    <a:pt x="2081" y="2282"/>
                  </a:lnTo>
                  <a:lnTo>
                    <a:pt x="2100" y="2294"/>
                  </a:lnTo>
                  <a:lnTo>
                    <a:pt x="2081" y="228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12480" y="3483360"/>
              <a:ext cx="1080" cy="612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96640" y="2768040"/>
              <a:ext cx="2971080" cy="2100240"/>
            </a:xfrm>
            <a:custGeom>
              <a:avLst/>
              <a:gdLst/>
              <a:ahLst/>
              <a:rect l="l" t="t" r="r" b="b"/>
              <a:pathLst>
                <a:path w="8257" h="5840">
                  <a:moveTo>
                    <a:pt x="2524" y="1929"/>
                  </a:moveTo>
                  <a:lnTo>
                    <a:pt x="2501" y="1922"/>
                  </a:lnTo>
                  <a:lnTo>
                    <a:pt x="2501" y="1911"/>
                  </a:lnTo>
                  <a:lnTo>
                    <a:pt x="2518" y="1922"/>
                  </a:lnTo>
                  <a:lnTo>
                    <a:pt x="2506" y="1911"/>
                  </a:lnTo>
                  <a:lnTo>
                    <a:pt x="2501" y="1911"/>
                  </a:lnTo>
                  <a:lnTo>
                    <a:pt x="2459" y="1905"/>
                  </a:lnTo>
                  <a:lnTo>
                    <a:pt x="2435" y="1917"/>
                  </a:lnTo>
                  <a:lnTo>
                    <a:pt x="2424" y="1911"/>
                  </a:lnTo>
                  <a:lnTo>
                    <a:pt x="2429" y="1917"/>
                  </a:lnTo>
                  <a:lnTo>
                    <a:pt x="2429" y="1911"/>
                  </a:lnTo>
                  <a:lnTo>
                    <a:pt x="2424" y="1929"/>
                  </a:lnTo>
                  <a:lnTo>
                    <a:pt x="2406" y="1929"/>
                  </a:lnTo>
                  <a:lnTo>
                    <a:pt x="2371" y="1952"/>
                  </a:lnTo>
                  <a:lnTo>
                    <a:pt x="2295" y="1929"/>
                  </a:lnTo>
                  <a:lnTo>
                    <a:pt x="2164" y="1905"/>
                  </a:lnTo>
                  <a:lnTo>
                    <a:pt x="2159" y="1882"/>
                  </a:lnTo>
                  <a:lnTo>
                    <a:pt x="2070" y="1876"/>
                  </a:lnTo>
                  <a:lnTo>
                    <a:pt x="2058" y="1847"/>
                  </a:lnTo>
                  <a:lnTo>
                    <a:pt x="1987" y="1822"/>
                  </a:lnTo>
                  <a:lnTo>
                    <a:pt x="1911" y="1870"/>
                  </a:lnTo>
                  <a:lnTo>
                    <a:pt x="1917" y="1941"/>
                  </a:lnTo>
                  <a:lnTo>
                    <a:pt x="1881" y="1982"/>
                  </a:lnTo>
                  <a:lnTo>
                    <a:pt x="1781" y="1935"/>
                  </a:lnTo>
                  <a:lnTo>
                    <a:pt x="1705" y="1922"/>
                  </a:lnTo>
                  <a:lnTo>
                    <a:pt x="1663" y="1858"/>
                  </a:lnTo>
                  <a:lnTo>
                    <a:pt x="1569" y="1829"/>
                  </a:lnTo>
                  <a:lnTo>
                    <a:pt x="1522" y="1835"/>
                  </a:lnTo>
                  <a:lnTo>
                    <a:pt x="1480" y="1811"/>
                  </a:lnTo>
                  <a:lnTo>
                    <a:pt x="1463" y="1811"/>
                  </a:lnTo>
                  <a:lnTo>
                    <a:pt x="1457" y="1788"/>
                  </a:lnTo>
                  <a:lnTo>
                    <a:pt x="1439" y="1782"/>
                  </a:lnTo>
                  <a:lnTo>
                    <a:pt x="1421" y="1782"/>
                  </a:lnTo>
                  <a:lnTo>
                    <a:pt x="1404" y="1752"/>
                  </a:lnTo>
                  <a:lnTo>
                    <a:pt x="1457" y="1688"/>
                  </a:lnTo>
                  <a:lnTo>
                    <a:pt x="1421" y="1641"/>
                  </a:lnTo>
                  <a:lnTo>
                    <a:pt x="1451" y="1582"/>
                  </a:lnTo>
                  <a:lnTo>
                    <a:pt x="1421" y="1605"/>
                  </a:lnTo>
                  <a:lnTo>
                    <a:pt x="1410" y="1576"/>
                  </a:lnTo>
                  <a:lnTo>
                    <a:pt x="1391" y="1564"/>
                  </a:lnTo>
                  <a:lnTo>
                    <a:pt x="1333" y="1588"/>
                  </a:lnTo>
                  <a:lnTo>
                    <a:pt x="1227" y="1582"/>
                  </a:lnTo>
                  <a:lnTo>
                    <a:pt x="1215" y="1594"/>
                  </a:lnTo>
                  <a:lnTo>
                    <a:pt x="1168" y="1605"/>
                  </a:lnTo>
                  <a:lnTo>
                    <a:pt x="1144" y="1594"/>
                  </a:lnTo>
                  <a:lnTo>
                    <a:pt x="1049" y="1600"/>
                  </a:lnTo>
                  <a:lnTo>
                    <a:pt x="955" y="1617"/>
                  </a:lnTo>
                  <a:lnTo>
                    <a:pt x="909" y="1652"/>
                  </a:lnTo>
                  <a:lnTo>
                    <a:pt x="867" y="1658"/>
                  </a:lnTo>
                  <a:lnTo>
                    <a:pt x="802" y="1700"/>
                  </a:lnTo>
                  <a:lnTo>
                    <a:pt x="767" y="1694"/>
                  </a:lnTo>
                  <a:lnTo>
                    <a:pt x="761" y="1675"/>
                  </a:lnTo>
                  <a:lnTo>
                    <a:pt x="743" y="1694"/>
                  </a:lnTo>
                  <a:lnTo>
                    <a:pt x="678" y="1694"/>
                  </a:lnTo>
                  <a:lnTo>
                    <a:pt x="643" y="1652"/>
                  </a:lnTo>
                  <a:lnTo>
                    <a:pt x="620" y="1658"/>
                  </a:lnTo>
                  <a:lnTo>
                    <a:pt x="601" y="1705"/>
                  </a:lnTo>
                  <a:lnTo>
                    <a:pt x="567" y="1770"/>
                  </a:lnTo>
                  <a:lnTo>
                    <a:pt x="484" y="1805"/>
                  </a:lnTo>
                  <a:lnTo>
                    <a:pt x="448" y="1847"/>
                  </a:lnTo>
                  <a:lnTo>
                    <a:pt x="412" y="1917"/>
                  </a:lnTo>
                  <a:lnTo>
                    <a:pt x="425" y="1994"/>
                  </a:lnTo>
                  <a:lnTo>
                    <a:pt x="395" y="2041"/>
                  </a:lnTo>
                  <a:lnTo>
                    <a:pt x="325" y="2099"/>
                  </a:lnTo>
                  <a:lnTo>
                    <a:pt x="253" y="2123"/>
                  </a:lnTo>
                  <a:lnTo>
                    <a:pt x="242" y="2141"/>
                  </a:lnTo>
                  <a:lnTo>
                    <a:pt x="218" y="2194"/>
                  </a:lnTo>
                  <a:lnTo>
                    <a:pt x="172" y="2229"/>
                  </a:lnTo>
                  <a:lnTo>
                    <a:pt x="147" y="2316"/>
                  </a:lnTo>
                  <a:lnTo>
                    <a:pt x="89" y="2376"/>
                  </a:lnTo>
                  <a:lnTo>
                    <a:pt x="100" y="2364"/>
                  </a:lnTo>
                  <a:lnTo>
                    <a:pt x="42" y="2482"/>
                  </a:lnTo>
                  <a:lnTo>
                    <a:pt x="30" y="2552"/>
                  </a:lnTo>
                  <a:lnTo>
                    <a:pt x="36" y="2529"/>
                  </a:lnTo>
                  <a:lnTo>
                    <a:pt x="47" y="2552"/>
                  </a:lnTo>
                  <a:lnTo>
                    <a:pt x="71" y="2582"/>
                  </a:lnTo>
                  <a:lnTo>
                    <a:pt x="65" y="2623"/>
                  </a:lnTo>
                  <a:lnTo>
                    <a:pt x="53" y="2635"/>
                  </a:lnTo>
                  <a:lnTo>
                    <a:pt x="71" y="2658"/>
                  </a:lnTo>
                  <a:lnTo>
                    <a:pt x="77" y="2729"/>
                  </a:lnTo>
                  <a:lnTo>
                    <a:pt x="53" y="2829"/>
                  </a:lnTo>
                  <a:lnTo>
                    <a:pt x="53" y="2846"/>
                  </a:lnTo>
                  <a:lnTo>
                    <a:pt x="30" y="2876"/>
                  </a:lnTo>
                  <a:lnTo>
                    <a:pt x="0" y="2905"/>
                  </a:lnTo>
                  <a:lnTo>
                    <a:pt x="17" y="2911"/>
                  </a:lnTo>
                  <a:lnTo>
                    <a:pt x="36" y="2959"/>
                  </a:lnTo>
                  <a:lnTo>
                    <a:pt x="59" y="2940"/>
                  </a:lnTo>
                  <a:lnTo>
                    <a:pt x="36" y="2952"/>
                  </a:lnTo>
                  <a:lnTo>
                    <a:pt x="42" y="2964"/>
                  </a:lnTo>
                  <a:lnTo>
                    <a:pt x="53" y="2952"/>
                  </a:lnTo>
                  <a:lnTo>
                    <a:pt x="47" y="2976"/>
                  </a:lnTo>
                  <a:lnTo>
                    <a:pt x="53" y="2987"/>
                  </a:lnTo>
                  <a:lnTo>
                    <a:pt x="112" y="2982"/>
                  </a:lnTo>
                  <a:lnTo>
                    <a:pt x="112" y="2982"/>
                  </a:lnTo>
                  <a:lnTo>
                    <a:pt x="53" y="2999"/>
                  </a:lnTo>
                  <a:lnTo>
                    <a:pt x="36" y="2982"/>
                  </a:lnTo>
                  <a:lnTo>
                    <a:pt x="36" y="3004"/>
                  </a:lnTo>
                  <a:lnTo>
                    <a:pt x="36" y="3034"/>
                  </a:lnTo>
                  <a:lnTo>
                    <a:pt x="42" y="3023"/>
                  </a:lnTo>
                  <a:lnTo>
                    <a:pt x="53" y="3034"/>
                  </a:lnTo>
                  <a:lnTo>
                    <a:pt x="94" y="3034"/>
                  </a:lnTo>
                  <a:lnTo>
                    <a:pt x="106" y="3017"/>
                  </a:lnTo>
                  <a:lnTo>
                    <a:pt x="94" y="3034"/>
                  </a:lnTo>
                  <a:lnTo>
                    <a:pt x="47" y="3029"/>
                  </a:lnTo>
                  <a:lnTo>
                    <a:pt x="36" y="3046"/>
                  </a:lnTo>
                  <a:lnTo>
                    <a:pt x="71" y="3046"/>
                  </a:lnTo>
                  <a:lnTo>
                    <a:pt x="53" y="3064"/>
                  </a:lnTo>
                  <a:lnTo>
                    <a:pt x="71" y="3076"/>
                  </a:lnTo>
                  <a:lnTo>
                    <a:pt x="89" y="3064"/>
                  </a:lnTo>
                  <a:lnTo>
                    <a:pt x="77" y="3081"/>
                  </a:lnTo>
                  <a:lnTo>
                    <a:pt x="130" y="3070"/>
                  </a:lnTo>
                  <a:lnTo>
                    <a:pt x="130" y="3081"/>
                  </a:lnTo>
                  <a:lnTo>
                    <a:pt x="124" y="3070"/>
                  </a:lnTo>
                  <a:lnTo>
                    <a:pt x="100" y="3081"/>
                  </a:lnTo>
                  <a:lnTo>
                    <a:pt x="118" y="3081"/>
                  </a:lnTo>
                  <a:lnTo>
                    <a:pt x="124" y="3087"/>
                  </a:lnTo>
                  <a:lnTo>
                    <a:pt x="100" y="3106"/>
                  </a:lnTo>
                  <a:lnTo>
                    <a:pt x="118" y="3111"/>
                  </a:lnTo>
                  <a:lnTo>
                    <a:pt x="112" y="3129"/>
                  </a:lnTo>
                  <a:lnTo>
                    <a:pt x="124" y="3111"/>
                  </a:lnTo>
                  <a:lnTo>
                    <a:pt x="124" y="3129"/>
                  </a:lnTo>
                  <a:lnTo>
                    <a:pt x="130" y="3140"/>
                  </a:lnTo>
                  <a:lnTo>
                    <a:pt x="142" y="3129"/>
                  </a:lnTo>
                  <a:lnTo>
                    <a:pt x="142" y="3146"/>
                  </a:lnTo>
                  <a:lnTo>
                    <a:pt x="153" y="3134"/>
                  </a:lnTo>
                  <a:lnTo>
                    <a:pt x="142" y="3158"/>
                  </a:lnTo>
                  <a:lnTo>
                    <a:pt x="172" y="3181"/>
                  </a:lnTo>
                  <a:lnTo>
                    <a:pt x="177" y="3176"/>
                  </a:lnTo>
                  <a:lnTo>
                    <a:pt x="195" y="3187"/>
                  </a:lnTo>
                  <a:lnTo>
                    <a:pt x="195" y="3217"/>
                  </a:lnTo>
                  <a:lnTo>
                    <a:pt x="212" y="3223"/>
                  </a:lnTo>
                  <a:lnTo>
                    <a:pt x="212" y="3240"/>
                  </a:lnTo>
                  <a:lnTo>
                    <a:pt x="230" y="3253"/>
                  </a:lnTo>
                  <a:lnTo>
                    <a:pt x="218" y="3253"/>
                  </a:lnTo>
                  <a:lnTo>
                    <a:pt x="225" y="3270"/>
                  </a:lnTo>
                  <a:lnTo>
                    <a:pt x="236" y="3264"/>
                  </a:lnTo>
                  <a:lnTo>
                    <a:pt x="225" y="3281"/>
                  </a:lnTo>
                  <a:lnTo>
                    <a:pt x="212" y="3276"/>
                  </a:lnTo>
                  <a:lnTo>
                    <a:pt x="236" y="3299"/>
                  </a:lnTo>
                  <a:lnTo>
                    <a:pt x="230" y="3311"/>
                  </a:lnTo>
                  <a:lnTo>
                    <a:pt x="259" y="3317"/>
                  </a:lnTo>
                  <a:lnTo>
                    <a:pt x="272" y="3328"/>
                  </a:lnTo>
                  <a:lnTo>
                    <a:pt x="253" y="3340"/>
                  </a:lnTo>
                  <a:lnTo>
                    <a:pt x="289" y="3353"/>
                  </a:lnTo>
                  <a:lnTo>
                    <a:pt x="301" y="3358"/>
                  </a:lnTo>
                  <a:lnTo>
                    <a:pt x="306" y="3364"/>
                  </a:lnTo>
                  <a:lnTo>
                    <a:pt x="431" y="3475"/>
                  </a:lnTo>
                  <a:lnTo>
                    <a:pt x="513" y="3517"/>
                  </a:lnTo>
                  <a:lnTo>
                    <a:pt x="649" y="3470"/>
                  </a:lnTo>
                  <a:lnTo>
                    <a:pt x="631" y="3464"/>
                  </a:lnTo>
                  <a:lnTo>
                    <a:pt x="654" y="3470"/>
                  </a:lnTo>
                  <a:lnTo>
                    <a:pt x="702" y="3464"/>
                  </a:lnTo>
                  <a:lnTo>
                    <a:pt x="707" y="3470"/>
                  </a:lnTo>
                  <a:lnTo>
                    <a:pt x="761" y="3470"/>
                  </a:lnTo>
                  <a:lnTo>
                    <a:pt x="749" y="3475"/>
                  </a:lnTo>
                  <a:lnTo>
                    <a:pt x="802" y="3493"/>
                  </a:lnTo>
                  <a:lnTo>
                    <a:pt x="843" y="3475"/>
                  </a:lnTo>
                  <a:lnTo>
                    <a:pt x="909" y="3440"/>
                  </a:lnTo>
                  <a:lnTo>
                    <a:pt x="943" y="3434"/>
                  </a:lnTo>
                  <a:lnTo>
                    <a:pt x="920" y="3417"/>
                  </a:lnTo>
                  <a:lnTo>
                    <a:pt x="943" y="3434"/>
                  </a:lnTo>
                  <a:lnTo>
                    <a:pt x="973" y="3417"/>
                  </a:lnTo>
                  <a:lnTo>
                    <a:pt x="991" y="3405"/>
                  </a:lnTo>
                  <a:lnTo>
                    <a:pt x="1002" y="3405"/>
                  </a:lnTo>
                  <a:lnTo>
                    <a:pt x="1026" y="3400"/>
                  </a:lnTo>
                  <a:lnTo>
                    <a:pt x="1049" y="3400"/>
                  </a:lnTo>
                  <a:lnTo>
                    <a:pt x="1102" y="3381"/>
                  </a:lnTo>
                  <a:lnTo>
                    <a:pt x="1085" y="3393"/>
                  </a:lnTo>
                  <a:lnTo>
                    <a:pt x="1138" y="3400"/>
                  </a:lnTo>
                  <a:lnTo>
                    <a:pt x="1174" y="3434"/>
                  </a:lnTo>
                  <a:lnTo>
                    <a:pt x="1185" y="3428"/>
                  </a:lnTo>
                  <a:lnTo>
                    <a:pt x="1180" y="3446"/>
                  </a:lnTo>
                  <a:lnTo>
                    <a:pt x="1197" y="3446"/>
                  </a:lnTo>
                  <a:lnTo>
                    <a:pt x="1185" y="3452"/>
                  </a:lnTo>
                  <a:lnTo>
                    <a:pt x="1203" y="3446"/>
                  </a:lnTo>
                  <a:lnTo>
                    <a:pt x="1185" y="3458"/>
                  </a:lnTo>
                  <a:lnTo>
                    <a:pt x="1197" y="3470"/>
                  </a:lnTo>
                  <a:lnTo>
                    <a:pt x="1191" y="3487"/>
                  </a:lnTo>
                  <a:lnTo>
                    <a:pt x="1227" y="3511"/>
                  </a:lnTo>
                  <a:lnTo>
                    <a:pt x="1227" y="3523"/>
                  </a:lnTo>
                  <a:lnTo>
                    <a:pt x="1233" y="3511"/>
                  </a:lnTo>
                  <a:lnTo>
                    <a:pt x="1233" y="3523"/>
                  </a:lnTo>
                  <a:lnTo>
                    <a:pt x="1250" y="3511"/>
                  </a:lnTo>
                  <a:lnTo>
                    <a:pt x="1257" y="3517"/>
                  </a:lnTo>
                  <a:lnTo>
                    <a:pt x="1262" y="3505"/>
                  </a:lnTo>
                  <a:lnTo>
                    <a:pt x="1268" y="3517"/>
                  </a:lnTo>
                  <a:lnTo>
                    <a:pt x="1262" y="3487"/>
                  </a:lnTo>
                  <a:lnTo>
                    <a:pt x="1274" y="3517"/>
                  </a:lnTo>
                  <a:lnTo>
                    <a:pt x="1274" y="3493"/>
                  </a:lnTo>
                  <a:lnTo>
                    <a:pt x="1280" y="3511"/>
                  </a:lnTo>
                  <a:lnTo>
                    <a:pt x="1280" y="3493"/>
                  </a:lnTo>
                  <a:lnTo>
                    <a:pt x="1291" y="3511"/>
                  </a:lnTo>
                  <a:lnTo>
                    <a:pt x="1304" y="3500"/>
                  </a:lnTo>
                  <a:lnTo>
                    <a:pt x="1310" y="3511"/>
                  </a:lnTo>
                  <a:lnTo>
                    <a:pt x="1344" y="3505"/>
                  </a:lnTo>
                  <a:lnTo>
                    <a:pt x="1338" y="3481"/>
                  </a:lnTo>
                  <a:lnTo>
                    <a:pt x="1357" y="3493"/>
                  </a:lnTo>
                  <a:lnTo>
                    <a:pt x="1350" y="3505"/>
                  </a:lnTo>
                  <a:lnTo>
                    <a:pt x="1363" y="3505"/>
                  </a:lnTo>
                  <a:lnTo>
                    <a:pt x="1363" y="3493"/>
                  </a:lnTo>
                  <a:lnTo>
                    <a:pt x="1374" y="3505"/>
                  </a:lnTo>
                  <a:lnTo>
                    <a:pt x="1386" y="3534"/>
                  </a:lnTo>
                  <a:lnTo>
                    <a:pt x="1416" y="3528"/>
                  </a:lnTo>
                  <a:lnTo>
                    <a:pt x="1416" y="3547"/>
                  </a:lnTo>
                  <a:lnTo>
                    <a:pt x="1410" y="3547"/>
                  </a:lnTo>
                  <a:lnTo>
                    <a:pt x="1416" y="3564"/>
                  </a:lnTo>
                  <a:lnTo>
                    <a:pt x="1427" y="3593"/>
                  </a:lnTo>
                  <a:lnTo>
                    <a:pt x="1421" y="3634"/>
                  </a:lnTo>
                  <a:lnTo>
                    <a:pt x="1416" y="3681"/>
                  </a:lnTo>
                  <a:lnTo>
                    <a:pt x="1397" y="3705"/>
                  </a:lnTo>
                  <a:lnTo>
                    <a:pt x="1421" y="3717"/>
                  </a:lnTo>
                  <a:lnTo>
                    <a:pt x="1410" y="3717"/>
                  </a:lnTo>
                  <a:lnTo>
                    <a:pt x="1410" y="3747"/>
                  </a:lnTo>
                  <a:lnTo>
                    <a:pt x="1410" y="3734"/>
                  </a:lnTo>
                  <a:lnTo>
                    <a:pt x="1397" y="3747"/>
                  </a:lnTo>
                  <a:lnTo>
                    <a:pt x="1433" y="3764"/>
                  </a:lnTo>
                  <a:lnTo>
                    <a:pt x="1421" y="3775"/>
                  </a:lnTo>
                  <a:lnTo>
                    <a:pt x="1397" y="3758"/>
                  </a:lnTo>
                  <a:lnTo>
                    <a:pt x="1397" y="3764"/>
                  </a:lnTo>
                  <a:lnTo>
                    <a:pt x="1380" y="3828"/>
                  </a:lnTo>
                  <a:lnTo>
                    <a:pt x="1363" y="3817"/>
                  </a:lnTo>
                  <a:lnTo>
                    <a:pt x="1380" y="3858"/>
                  </a:lnTo>
                  <a:lnTo>
                    <a:pt x="1391" y="3869"/>
                  </a:lnTo>
                  <a:lnTo>
                    <a:pt x="1410" y="3875"/>
                  </a:lnTo>
                  <a:lnTo>
                    <a:pt x="1380" y="3852"/>
                  </a:lnTo>
                  <a:lnTo>
                    <a:pt x="1391" y="3887"/>
                  </a:lnTo>
                  <a:lnTo>
                    <a:pt x="1410" y="3899"/>
                  </a:lnTo>
                  <a:lnTo>
                    <a:pt x="1391" y="3887"/>
                  </a:lnTo>
                  <a:lnTo>
                    <a:pt x="1410" y="3922"/>
                  </a:lnTo>
                  <a:lnTo>
                    <a:pt x="1439" y="3928"/>
                  </a:lnTo>
                  <a:lnTo>
                    <a:pt x="1416" y="3922"/>
                  </a:lnTo>
                  <a:lnTo>
                    <a:pt x="1492" y="4011"/>
                  </a:lnTo>
                  <a:lnTo>
                    <a:pt x="1539" y="4075"/>
                  </a:lnTo>
                  <a:lnTo>
                    <a:pt x="1545" y="4122"/>
                  </a:lnTo>
                  <a:lnTo>
                    <a:pt x="1557" y="4134"/>
                  </a:lnTo>
                  <a:lnTo>
                    <a:pt x="1599" y="4128"/>
                  </a:lnTo>
                  <a:lnTo>
                    <a:pt x="1552" y="4141"/>
                  </a:lnTo>
                  <a:lnTo>
                    <a:pt x="1605" y="4275"/>
                  </a:lnTo>
                  <a:lnTo>
                    <a:pt x="1605" y="4293"/>
                  </a:lnTo>
                  <a:lnTo>
                    <a:pt x="1586" y="4316"/>
                  </a:lnTo>
                  <a:lnTo>
                    <a:pt x="1628" y="4410"/>
                  </a:lnTo>
                  <a:lnTo>
                    <a:pt x="1628" y="4475"/>
                  </a:lnTo>
                  <a:lnTo>
                    <a:pt x="1610" y="4516"/>
                  </a:lnTo>
                  <a:lnTo>
                    <a:pt x="1557" y="4569"/>
                  </a:lnTo>
                  <a:lnTo>
                    <a:pt x="1539" y="4675"/>
                  </a:lnTo>
                  <a:lnTo>
                    <a:pt x="1516" y="4710"/>
                  </a:lnTo>
                  <a:lnTo>
                    <a:pt x="1516" y="4799"/>
                  </a:lnTo>
                  <a:lnTo>
                    <a:pt x="1522" y="4846"/>
                  </a:lnTo>
                  <a:lnTo>
                    <a:pt x="1563" y="4923"/>
                  </a:lnTo>
                  <a:lnTo>
                    <a:pt x="1575" y="4940"/>
                  </a:lnTo>
                  <a:lnTo>
                    <a:pt x="1580" y="4957"/>
                  </a:lnTo>
                  <a:lnTo>
                    <a:pt x="1652" y="5116"/>
                  </a:lnTo>
                  <a:lnTo>
                    <a:pt x="1652" y="5146"/>
                  </a:lnTo>
                  <a:lnTo>
                    <a:pt x="1686" y="5393"/>
                  </a:lnTo>
                  <a:lnTo>
                    <a:pt x="1739" y="5470"/>
                  </a:lnTo>
                  <a:lnTo>
                    <a:pt x="1822" y="5669"/>
                  </a:lnTo>
                  <a:lnTo>
                    <a:pt x="1816" y="5711"/>
                  </a:lnTo>
                  <a:lnTo>
                    <a:pt x="1799" y="5722"/>
                  </a:lnTo>
                  <a:lnTo>
                    <a:pt x="1822" y="5775"/>
                  </a:lnTo>
                  <a:lnTo>
                    <a:pt x="1816" y="5798"/>
                  </a:lnTo>
                  <a:lnTo>
                    <a:pt x="1822" y="5811"/>
                  </a:lnTo>
                  <a:lnTo>
                    <a:pt x="1822" y="5798"/>
                  </a:lnTo>
                  <a:lnTo>
                    <a:pt x="1840" y="5798"/>
                  </a:lnTo>
                  <a:lnTo>
                    <a:pt x="1840" y="5816"/>
                  </a:lnTo>
                  <a:lnTo>
                    <a:pt x="1899" y="5839"/>
                  </a:lnTo>
                  <a:lnTo>
                    <a:pt x="1922" y="5816"/>
                  </a:lnTo>
                  <a:lnTo>
                    <a:pt x="1987" y="5816"/>
                  </a:lnTo>
                  <a:lnTo>
                    <a:pt x="2028" y="5792"/>
                  </a:lnTo>
                  <a:lnTo>
                    <a:pt x="2141" y="5804"/>
                  </a:lnTo>
                  <a:lnTo>
                    <a:pt x="2147" y="5787"/>
                  </a:lnTo>
                  <a:lnTo>
                    <a:pt x="2182" y="5792"/>
                  </a:lnTo>
                  <a:lnTo>
                    <a:pt x="2182" y="5775"/>
                  </a:lnTo>
                  <a:lnTo>
                    <a:pt x="2223" y="5775"/>
                  </a:lnTo>
                  <a:lnTo>
                    <a:pt x="2295" y="5734"/>
                  </a:lnTo>
                  <a:lnTo>
                    <a:pt x="2412" y="5628"/>
                  </a:lnTo>
                  <a:lnTo>
                    <a:pt x="2471" y="5540"/>
                  </a:lnTo>
                  <a:lnTo>
                    <a:pt x="2512" y="5493"/>
                  </a:lnTo>
                  <a:lnTo>
                    <a:pt x="2542" y="5464"/>
                  </a:lnTo>
                  <a:lnTo>
                    <a:pt x="2559" y="5428"/>
                  </a:lnTo>
                  <a:lnTo>
                    <a:pt x="2565" y="5410"/>
                  </a:lnTo>
                  <a:lnTo>
                    <a:pt x="2571" y="5387"/>
                  </a:lnTo>
                  <a:lnTo>
                    <a:pt x="2577" y="5363"/>
                  </a:lnTo>
                  <a:lnTo>
                    <a:pt x="2582" y="5323"/>
                  </a:lnTo>
                  <a:lnTo>
                    <a:pt x="2577" y="5334"/>
                  </a:lnTo>
                  <a:lnTo>
                    <a:pt x="2559" y="5317"/>
                  </a:lnTo>
                  <a:lnTo>
                    <a:pt x="2577" y="5293"/>
                  </a:lnTo>
                  <a:lnTo>
                    <a:pt x="2630" y="5263"/>
                  </a:lnTo>
                  <a:lnTo>
                    <a:pt x="2642" y="5257"/>
                  </a:lnTo>
                  <a:lnTo>
                    <a:pt x="2665" y="5246"/>
                  </a:lnTo>
                  <a:lnTo>
                    <a:pt x="2684" y="5240"/>
                  </a:lnTo>
                  <a:lnTo>
                    <a:pt x="2701" y="5234"/>
                  </a:lnTo>
                  <a:lnTo>
                    <a:pt x="2724" y="5204"/>
                  </a:lnTo>
                  <a:lnTo>
                    <a:pt x="2724" y="5187"/>
                  </a:lnTo>
                  <a:lnTo>
                    <a:pt x="2737" y="5087"/>
                  </a:lnTo>
                  <a:lnTo>
                    <a:pt x="2724" y="5104"/>
                  </a:lnTo>
                  <a:lnTo>
                    <a:pt x="2724" y="5087"/>
                  </a:lnTo>
                  <a:lnTo>
                    <a:pt x="2718" y="5016"/>
                  </a:lnTo>
                  <a:lnTo>
                    <a:pt x="2695" y="4993"/>
                  </a:lnTo>
                  <a:lnTo>
                    <a:pt x="2701" y="4951"/>
                  </a:lnTo>
                  <a:lnTo>
                    <a:pt x="2690" y="4934"/>
                  </a:lnTo>
                  <a:lnTo>
                    <a:pt x="2707" y="4951"/>
                  </a:lnTo>
                  <a:lnTo>
                    <a:pt x="2724" y="4934"/>
                  </a:lnTo>
                  <a:lnTo>
                    <a:pt x="2760" y="4899"/>
                  </a:lnTo>
                  <a:lnTo>
                    <a:pt x="2777" y="4887"/>
                  </a:lnTo>
                  <a:lnTo>
                    <a:pt x="2784" y="4893"/>
                  </a:lnTo>
                  <a:lnTo>
                    <a:pt x="2790" y="4887"/>
                  </a:lnTo>
                  <a:lnTo>
                    <a:pt x="2819" y="4846"/>
                  </a:lnTo>
                  <a:lnTo>
                    <a:pt x="2813" y="4834"/>
                  </a:lnTo>
                  <a:lnTo>
                    <a:pt x="2877" y="4793"/>
                  </a:lnTo>
                  <a:lnTo>
                    <a:pt x="2972" y="4746"/>
                  </a:lnTo>
                  <a:lnTo>
                    <a:pt x="3019" y="4682"/>
                  </a:lnTo>
                  <a:lnTo>
                    <a:pt x="3013" y="4669"/>
                  </a:lnTo>
                  <a:lnTo>
                    <a:pt x="3032" y="4646"/>
                  </a:lnTo>
                  <a:lnTo>
                    <a:pt x="3032" y="4629"/>
                  </a:lnTo>
                  <a:lnTo>
                    <a:pt x="3019" y="4640"/>
                  </a:lnTo>
                  <a:lnTo>
                    <a:pt x="3013" y="4616"/>
                  </a:lnTo>
                  <a:lnTo>
                    <a:pt x="3019" y="4546"/>
                  </a:lnTo>
                  <a:lnTo>
                    <a:pt x="3013" y="4546"/>
                  </a:lnTo>
                  <a:lnTo>
                    <a:pt x="3025" y="4535"/>
                  </a:lnTo>
                  <a:lnTo>
                    <a:pt x="3013" y="4446"/>
                  </a:lnTo>
                  <a:lnTo>
                    <a:pt x="3025" y="4410"/>
                  </a:lnTo>
                  <a:lnTo>
                    <a:pt x="3013" y="4399"/>
                  </a:lnTo>
                  <a:lnTo>
                    <a:pt x="2979" y="4375"/>
                  </a:lnTo>
                  <a:lnTo>
                    <a:pt x="2972" y="4305"/>
                  </a:lnTo>
                  <a:lnTo>
                    <a:pt x="2960" y="4269"/>
                  </a:lnTo>
                  <a:lnTo>
                    <a:pt x="2966" y="4240"/>
                  </a:lnTo>
                  <a:lnTo>
                    <a:pt x="2960" y="4240"/>
                  </a:lnTo>
                  <a:lnTo>
                    <a:pt x="2972" y="4193"/>
                  </a:lnTo>
                  <a:lnTo>
                    <a:pt x="2937" y="4141"/>
                  </a:lnTo>
                  <a:lnTo>
                    <a:pt x="2960" y="4058"/>
                  </a:lnTo>
                  <a:lnTo>
                    <a:pt x="2990" y="3993"/>
                  </a:lnTo>
                  <a:lnTo>
                    <a:pt x="3007" y="3975"/>
                  </a:lnTo>
                  <a:lnTo>
                    <a:pt x="3013" y="3941"/>
                  </a:lnTo>
                  <a:lnTo>
                    <a:pt x="3049" y="3917"/>
                  </a:lnTo>
                  <a:lnTo>
                    <a:pt x="3049" y="3894"/>
                  </a:lnTo>
                  <a:lnTo>
                    <a:pt x="3072" y="3894"/>
                  </a:lnTo>
                  <a:lnTo>
                    <a:pt x="3085" y="3875"/>
                  </a:lnTo>
                  <a:lnTo>
                    <a:pt x="3108" y="3834"/>
                  </a:lnTo>
                  <a:lnTo>
                    <a:pt x="3138" y="3799"/>
                  </a:lnTo>
                  <a:lnTo>
                    <a:pt x="3179" y="3752"/>
                  </a:lnTo>
                  <a:lnTo>
                    <a:pt x="3196" y="3728"/>
                  </a:lnTo>
                  <a:lnTo>
                    <a:pt x="3232" y="3693"/>
                  </a:lnTo>
                  <a:lnTo>
                    <a:pt x="3244" y="3681"/>
                  </a:lnTo>
                  <a:lnTo>
                    <a:pt x="3267" y="3664"/>
                  </a:lnTo>
                  <a:lnTo>
                    <a:pt x="3291" y="3647"/>
                  </a:lnTo>
                  <a:lnTo>
                    <a:pt x="3308" y="3634"/>
                  </a:lnTo>
                  <a:lnTo>
                    <a:pt x="3314" y="3628"/>
                  </a:lnTo>
                  <a:lnTo>
                    <a:pt x="3355" y="3587"/>
                  </a:lnTo>
                  <a:lnTo>
                    <a:pt x="3361" y="3581"/>
                  </a:lnTo>
                  <a:lnTo>
                    <a:pt x="3380" y="3552"/>
                  </a:lnTo>
                  <a:lnTo>
                    <a:pt x="3391" y="3547"/>
                  </a:lnTo>
                  <a:lnTo>
                    <a:pt x="3414" y="3511"/>
                  </a:lnTo>
                  <a:lnTo>
                    <a:pt x="3562" y="3217"/>
                  </a:lnTo>
                  <a:lnTo>
                    <a:pt x="3562" y="3164"/>
                  </a:lnTo>
                  <a:lnTo>
                    <a:pt x="3591" y="3158"/>
                  </a:lnTo>
                  <a:lnTo>
                    <a:pt x="3567" y="3158"/>
                  </a:lnTo>
                  <a:lnTo>
                    <a:pt x="3580" y="3076"/>
                  </a:lnTo>
                  <a:lnTo>
                    <a:pt x="3550" y="3070"/>
                  </a:lnTo>
                  <a:lnTo>
                    <a:pt x="3514" y="3093"/>
                  </a:lnTo>
                  <a:lnTo>
                    <a:pt x="3380" y="3117"/>
                  </a:lnTo>
                  <a:lnTo>
                    <a:pt x="3332" y="3146"/>
                  </a:lnTo>
                  <a:lnTo>
                    <a:pt x="3291" y="3134"/>
                  </a:lnTo>
                  <a:lnTo>
                    <a:pt x="3249" y="3158"/>
                  </a:lnTo>
                  <a:lnTo>
                    <a:pt x="3214" y="3158"/>
                  </a:lnTo>
                  <a:lnTo>
                    <a:pt x="3161" y="3099"/>
                  </a:lnTo>
                  <a:lnTo>
                    <a:pt x="3126" y="3093"/>
                  </a:lnTo>
                  <a:lnTo>
                    <a:pt x="3166" y="3064"/>
                  </a:lnTo>
                  <a:lnTo>
                    <a:pt x="3155" y="3029"/>
                  </a:lnTo>
                  <a:lnTo>
                    <a:pt x="3049" y="2911"/>
                  </a:lnTo>
                  <a:lnTo>
                    <a:pt x="2996" y="2893"/>
                  </a:lnTo>
                  <a:lnTo>
                    <a:pt x="2979" y="2864"/>
                  </a:lnTo>
                  <a:lnTo>
                    <a:pt x="2972" y="2887"/>
                  </a:lnTo>
                  <a:lnTo>
                    <a:pt x="2907" y="2712"/>
                  </a:lnTo>
                  <a:lnTo>
                    <a:pt x="2843" y="2664"/>
                  </a:lnTo>
                  <a:lnTo>
                    <a:pt x="2819" y="2535"/>
                  </a:lnTo>
                  <a:lnTo>
                    <a:pt x="2824" y="2535"/>
                  </a:lnTo>
                  <a:lnTo>
                    <a:pt x="2801" y="2476"/>
                  </a:lnTo>
                  <a:lnTo>
                    <a:pt x="2737" y="2411"/>
                  </a:lnTo>
                  <a:lnTo>
                    <a:pt x="2724" y="2358"/>
                  </a:lnTo>
                  <a:lnTo>
                    <a:pt x="2743" y="2364"/>
                  </a:lnTo>
                  <a:lnTo>
                    <a:pt x="2701" y="2329"/>
                  </a:lnTo>
                  <a:lnTo>
                    <a:pt x="2630" y="2199"/>
                  </a:lnTo>
                  <a:lnTo>
                    <a:pt x="2607" y="2129"/>
                  </a:lnTo>
                  <a:lnTo>
                    <a:pt x="2536" y="2024"/>
                  </a:lnTo>
                  <a:lnTo>
                    <a:pt x="2548" y="2005"/>
                  </a:lnTo>
                  <a:lnTo>
                    <a:pt x="2554" y="2024"/>
                  </a:lnTo>
                  <a:lnTo>
                    <a:pt x="2589" y="2088"/>
                  </a:lnTo>
                  <a:lnTo>
                    <a:pt x="2642" y="2135"/>
                  </a:lnTo>
                  <a:lnTo>
                    <a:pt x="2665" y="2029"/>
                  </a:lnTo>
                  <a:lnTo>
                    <a:pt x="2671" y="2029"/>
                  </a:lnTo>
                  <a:lnTo>
                    <a:pt x="2671" y="2041"/>
                  </a:lnTo>
                  <a:lnTo>
                    <a:pt x="2660" y="2117"/>
                  </a:lnTo>
                  <a:lnTo>
                    <a:pt x="2690" y="2117"/>
                  </a:lnTo>
                  <a:lnTo>
                    <a:pt x="2807" y="2288"/>
                  </a:lnTo>
                  <a:lnTo>
                    <a:pt x="2824" y="2335"/>
                  </a:lnTo>
                  <a:lnTo>
                    <a:pt x="2877" y="2370"/>
                  </a:lnTo>
                  <a:lnTo>
                    <a:pt x="2919" y="2452"/>
                  </a:lnTo>
                  <a:lnTo>
                    <a:pt x="2907" y="2482"/>
                  </a:lnTo>
                  <a:lnTo>
                    <a:pt x="2925" y="2529"/>
                  </a:lnTo>
                  <a:lnTo>
                    <a:pt x="2960" y="2576"/>
                  </a:lnTo>
                  <a:lnTo>
                    <a:pt x="3007" y="2610"/>
                  </a:lnTo>
                  <a:lnTo>
                    <a:pt x="3043" y="2676"/>
                  </a:lnTo>
                  <a:lnTo>
                    <a:pt x="3096" y="2746"/>
                  </a:lnTo>
                  <a:lnTo>
                    <a:pt x="3126" y="2811"/>
                  </a:lnTo>
                  <a:lnTo>
                    <a:pt x="3132" y="2876"/>
                  </a:lnTo>
                  <a:lnTo>
                    <a:pt x="3119" y="2876"/>
                  </a:lnTo>
                  <a:lnTo>
                    <a:pt x="3138" y="2893"/>
                  </a:lnTo>
                  <a:lnTo>
                    <a:pt x="3172" y="3029"/>
                  </a:lnTo>
                  <a:lnTo>
                    <a:pt x="3255" y="3023"/>
                  </a:lnTo>
                  <a:lnTo>
                    <a:pt x="3285" y="2987"/>
                  </a:lnTo>
                  <a:lnTo>
                    <a:pt x="3338" y="2982"/>
                  </a:lnTo>
                  <a:lnTo>
                    <a:pt x="3438" y="2946"/>
                  </a:lnTo>
                  <a:lnTo>
                    <a:pt x="3474" y="2911"/>
                  </a:lnTo>
                  <a:lnTo>
                    <a:pt x="3621" y="2852"/>
                  </a:lnTo>
                  <a:lnTo>
                    <a:pt x="3621" y="2817"/>
                  </a:lnTo>
                  <a:lnTo>
                    <a:pt x="3662" y="2793"/>
                  </a:lnTo>
                  <a:lnTo>
                    <a:pt x="3709" y="2770"/>
                  </a:lnTo>
                  <a:lnTo>
                    <a:pt x="3762" y="2770"/>
                  </a:lnTo>
                  <a:lnTo>
                    <a:pt x="3775" y="2723"/>
                  </a:lnTo>
                  <a:lnTo>
                    <a:pt x="3822" y="2717"/>
                  </a:lnTo>
                  <a:lnTo>
                    <a:pt x="3845" y="2670"/>
                  </a:lnTo>
                  <a:lnTo>
                    <a:pt x="3892" y="2658"/>
                  </a:lnTo>
                  <a:lnTo>
                    <a:pt x="3892" y="2582"/>
                  </a:lnTo>
                  <a:lnTo>
                    <a:pt x="3904" y="2558"/>
                  </a:lnTo>
                  <a:lnTo>
                    <a:pt x="3909" y="2570"/>
                  </a:lnTo>
                  <a:lnTo>
                    <a:pt x="3922" y="2570"/>
                  </a:lnTo>
                  <a:lnTo>
                    <a:pt x="3981" y="2463"/>
                  </a:lnTo>
                  <a:lnTo>
                    <a:pt x="3975" y="2446"/>
                  </a:lnTo>
                  <a:lnTo>
                    <a:pt x="3962" y="2446"/>
                  </a:lnTo>
                  <a:lnTo>
                    <a:pt x="3916" y="2388"/>
                  </a:lnTo>
                  <a:lnTo>
                    <a:pt x="3833" y="2364"/>
                  </a:lnTo>
                  <a:lnTo>
                    <a:pt x="3798" y="2329"/>
                  </a:lnTo>
                  <a:lnTo>
                    <a:pt x="3792" y="2316"/>
                  </a:lnTo>
                  <a:lnTo>
                    <a:pt x="3786" y="2299"/>
                  </a:lnTo>
                  <a:lnTo>
                    <a:pt x="3775" y="2258"/>
                  </a:lnTo>
                  <a:lnTo>
                    <a:pt x="3775" y="2258"/>
                  </a:lnTo>
                  <a:lnTo>
                    <a:pt x="3775" y="2216"/>
                  </a:lnTo>
                  <a:lnTo>
                    <a:pt x="3762" y="2235"/>
                  </a:lnTo>
                  <a:lnTo>
                    <a:pt x="3674" y="2352"/>
                  </a:lnTo>
                  <a:lnTo>
                    <a:pt x="3574" y="2358"/>
                  </a:lnTo>
                  <a:lnTo>
                    <a:pt x="3556" y="2352"/>
                  </a:lnTo>
                  <a:lnTo>
                    <a:pt x="3544" y="2335"/>
                  </a:lnTo>
                  <a:lnTo>
                    <a:pt x="3527" y="2341"/>
                  </a:lnTo>
                  <a:lnTo>
                    <a:pt x="3538" y="2323"/>
                  </a:lnTo>
                  <a:lnTo>
                    <a:pt x="3527" y="2323"/>
                  </a:lnTo>
                  <a:lnTo>
                    <a:pt x="3544" y="2299"/>
                  </a:lnTo>
                  <a:lnTo>
                    <a:pt x="3533" y="2246"/>
                  </a:lnTo>
                  <a:lnTo>
                    <a:pt x="3514" y="2229"/>
                  </a:lnTo>
                  <a:lnTo>
                    <a:pt x="3497" y="2270"/>
                  </a:lnTo>
                  <a:lnTo>
                    <a:pt x="3503" y="2311"/>
                  </a:lnTo>
                  <a:lnTo>
                    <a:pt x="3450" y="2241"/>
                  </a:lnTo>
                  <a:lnTo>
                    <a:pt x="3461" y="2223"/>
                  </a:lnTo>
                  <a:lnTo>
                    <a:pt x="3456" y="2199"/>
                  </a:lnTo>
                  <a:lnTo>
                    <a:pt x="3414" y="2169"/>
                  </a:lnTo>
                  <a:lnTo>
                    <a:pt x="3403" y="2146"/>
                  </a:lnTo>
                  <a:lnTo>
                    <a:pt x="3385" y="2141"/>
                  </a:lnTo>
                  <a:lnTo>
                    <a:pt x="3355" y="2088"/>
                  </a:lnTo>
                  <a:lnTo>
                    <a:pt x="3332" y="2041"/>
                  </a:lnTo>
                  <a:lnTo>
                    <a:pt x="3308" y="2035"/>
                  </a:lnTo>
                  <a:lnTo>
                    <a:pt x="3332" y="2029"/>
                  </a:lnTo>
                  <a:lnTo>
                    <a:pt x="3320" y="1999"/>
                  </a:lnTo>
                  <a:lnTo>
                    <a:pt x="3350" y="2005"/>
                  </a:lnTo>
                  <a:lnTo>
                    <a:pt x="3350" y="2005"/>
                  </a:lnTo>
                  <a:lnTo>
                    <a:pt x="3367" y="1999"/>
                  </a:lnTo>
                  <a:lnTo>
                    <a:pt x="3367" y="1970"/>
                  </a:lnTo>
                  <a:lnTo>
                    <a:pt x="3380" y="1982"/>
                  </a:lnTo>
                  <a:lnTo>
                    <a:pt x="3385" y="1994"/>
                  </a:lnTo>
                  <a:lnTo>
                    <a:pt x="3427" y="1994"/>
                  </a:lnTo>
                  <a:lnTo>
                    <a:pt x="3433" y="2005"/>
                  </a:lnTo>
                  <a:lnTo>
                    <a:pt x="3480" y="2058"/>
                  </a:lnTo>
                  <a:lnTo>
                    <a:pt x="3503" y="2117"/>
                  </a:lnTo>
                  <a:lnTo>
                    <a:pt x="3567" y="2141"/>
                  </a:lnTo>
                  <a:lnTo>
                    <a:pt x="3639" y="2199"/>
                  </a:lnTo>
                  <a:lnTo>
                    <a:pt x="3727" y="2194"/>
                  </a:lnTo>
                  <a:lnTo>
                    <a:pt x="3769" y="2169"/>
                  </a:lnTo>
                  <a:lnTo>
                    <a:pt x="3792" y="2169"/>
                  </a:lnTo>
                  <a:lnTo>
                    <a:pt x="3809" y="2199"/>
                  </a:lnTo>
                  <a:lnTo>
                    <a:pt x="3828" y="2252"/>
                  </a:lnTo>
                  <a:lnTo>
                    <a:pt x="3851" y="2258"/>
                  </a:lnTo>
                  <a:lnTo>
                    <a:pt x="3992" y="2282"/>
                  </a:lnTo>
                  <a:lnTo>
                    <a:pt x="3992" y="2270"/>
                  </a:lnTo>
                  <a:lnTo>
                    <a:pt x="4051" y="2288"/>
                  </a:lnTo>
                  <a:lnTo>
                    <a:pt x="4146" y="2288"/>
                  </a:lnTo>
                  <a:lnTo>
                    <a:pt x="4175" y="2270"/>
                  </a:lnTo>
                  <a:lnTo>
                    <a:pt x="4204" y="2288"/>
                  </a:lnTo>
                  <a:lnTo>
                    <a:pt x="4299" y="2276"/>
                  </a:lnTo>
                  <a:lnTo>
                    <a:pt x="4276" y="2270"/>
                  </a:lnTo>
                  <a:lnTo>
                    <a:pt x="4287" y="2264"/>
                  </a:lnTo>
                  <a:lnTo>
                    <a:pt x="4311" y="2293"/>
                  </a:lnTo>
                  <a:lnTo>
                    <a:pt x="4311" y="2311"/>
                  </a:lnTo>
                  <a:lnTo>
                    <a:pt x="4340" y="2311"/>
                  </a:lnTo>
                  <a:lnTo>
                    <a:pt x="4364" y="2352"/>
                  </a:lnTo>
                  <a:lnTo>
                    <a:pt x="4364" y="2352"/>
                  </a:lnTo>
                  <a:lnTo>
                    <a:pt x="4359" y="2364"/>
                  </a:lnTo>
                  <a:lnTo>
                    <a:pt x="4370" y="2364"/>
                  </a:lnTo>
                  <a:lnTo>
                    <a:pt x="4370" y="2364"/>
                  </a:lnTo>
                  <a:lnTo>
                    <a:pt x="4382" y="2364"/>
                  </a:lnTo>
                  <a:lnTo>
                    <a:pt x="4382" y="2364"/>
                  </a:lnTo>
                  <a:lnTo>
                    <a:pt x="4387" y="2364"/>
                  </a:lnTo>
                  <a:lnTo>
                    <a:pt x="4393" y="2376"/>
                  </a:lnTo>
                  <a:lnTo>
                    <a:pt x="4399" y="2370"/>
                  </a:lnTo>
                  <a:lnTo>
                    <a:pt x="4399" y="2382"/>
                  </a:lnTo>
                  <a:lnTo>
                    <a:pt x="4429" y="2364"/>
                  </a:lnTo>
                  <a:lnTo>
                    <a:pt x="4412" y="2393"/>
                  </a:lnTo>
                  <a:lnTo>
                    <a:pt x="4459" y="2429"/>
                  </a:lnTo>
                  <a:lnTo>
                    <a:pt x="4523" y="2411"/>
                  </a:lnTo>
                  <a:lnTo>
                    <a:pt x="4512" y="2446"/>
                  </a:lnTo>
                  <a:lnTo>
                    <a:pt x="4465" y="2458"/>
                  </a:lnTo>
                  <a:lnTo>
                    <a:pt x="4446" y="2458"/>
                  </a:lnTo>
                  <a:lnTo>
                    <a:pt x="4552" y="2552"/>
                  </a:lnTo>
                  <a:lnTo>
                    <a:pt x="4618" y="2523"/>
                  </a:lnTo>
                  <a:lnTo>
                    <a:pt x="4624" y="2499"/>
                  </a:lnTo>
                  <a:lnTo>
                    <a:pt x="4606" y="2488"/>
                  </a:lnTo>
                  <a:lnTo>
                    <a:pt x="4612" y="2458"/>
                  </a:lnTo>
                  <a:lnTo>
                    <a:pt x="4653" y="2458"/>
                  </a:lnTo>
                  <a:lnTo>
                    <a:pt x="4635" y="2476"/>
                  </a:lnTo>
                  <a:lnTo>
                    <a:pt x="4647" y="2476"/>
                  </a:lnTo>
                  <a:lnTo>
                    <a:pt x="4635" y="2499"/>
                  </a:lnTo>
                  <a:lnTo>
                    <a:pt x="4665" y="2493"/>
                  </a:lnTo>
                  <a:lnTo>
                    <a:pt x="4641" y="2511"/>
                  </a:lnTo>
                  <a:lnTo>
                    <a:pt x="4665" y="2552"/>
                  </a:lnTo>
                  <a:lnTo>
                    <a:pt x="4653" y="2605"/>
                  </a:lnTo>
                  <a:lnTo>
                    <a:pt x="4682" y="2640"/>
                  </a:lnTo>
                  <a:lnTo>
                    <a:pt x="4665" y="2640"/>
                  </a:lnTo>
                  <a:lnTo>
                    <a:pt x="4665" y="2658"/>
                  </a:lnTo>
                  <a:lnTo>
                    <a:pt x="4677" y="2646"/>
                  </a:lnTo>
                  <a:lnTo>
                    <a:pt x="4682" y="2652"/>
                  </a:lnTo>
                  <a:lnTo>
                    <a:pt x="4671" y="2676"/>
                  </a:lnTo>
                  <a:lnTo>
                    <a:pt x="4706" y="2799"/>
                  </a:lnTo>
                  <a:lnTo>
                    <a:pt x="4777" y="2923"/>
                  </a:lnTo>
                  <a:lnTo>
                    <a:pt x="4824" y="3070"/>
                  </a:lnTo>
                  <a:lnTo>
                    <a:pt x="4883" y="3170"/>
                  </a:lnTo>
                  <a:lnTo>
                    <a:pt x="4883" y="3187"/>
                  </a:lnTo>
                  <a:lnTo>
                    <a:pt x="4901" y="3246"/>
                  </a:lnTo>
                  <a:lnTo>
                    <a:pt x="4924" y="3281"/>
                  </a:lnTo>
                  <a:lnTo>
                    <a:pt x="4954" y="3299"/>
                  </a:lnTo>
                  <a:lnTo>
                    <a:pt x="4983" y="3281"/>
                  </a:lnTo>
                  <a:lnTo>
                    <a:pt x="5001" y="3240"/>
                  </a:lnTo>
                  <a:lnTo>
                    <a:pt x="5054" y="3234"/>
                  </a:lnTo>
                  <a:lnTo>
                    <a:pt x="5024" y="3217"/>
                  </a:lnTo>
                  <a:lnTo>
                    <a:pt x="5042" y="3170"/>
                  </a:lnTo>
                  <a:lnTo>
                    <a:pt x="5072" y="3170"/>
                  </a:lnTo>
                  <a:lnTo>
                    <a:pt x="5072" y="3117"/>
                  </a:lnTo>
                  <a:lnTo>
                    <a:pt x="5060" y="3111"/>
                  </a:lnTo>
                  <a:lnTo>
                    <a:pt x="5089" y="2987"/>
                  </a:lnTo>
                  <a:lnTo>
                    <a:pt x="5072" y="2970"/>
                  </a:lnTo>
                  <a:lnTo>
                    <a:pt x="5083" y="2982"/>
                  </a:lnTo>
                  <a:lnTo>
                    <a:pt x="5066" y="2940"/>
                  </a:lnTo>
                  <a:lnTo>
                    <a:pt x="5072" y="2852"/>
                  </a:lnTo>
                  <a:lnTo>
                    <a:pt x="5095" y="2840"/>
                  </a:lnTo>
                  <a:lnTo>
                    <a:pt x="5102" y="2846"/>
                  </a:lnTo>
                  <a:lnTo>
                    <a:pt x="5107" y="2829"/>
                  </a:lnTo>
                  <a:lnTo>
                    <a:pt x="5113" y="2846"/>
                  </a:lnTo>
                  <a:lnTo>
                    <a:pt x="5125" y="2811"/>
                  </a:lnTo>
                  <a:lnTo>
                    <a:pt x="5172" y="2799"/>
                  </a:lnTo>
                  <a:lnTo>
                    <a:pt x="5172" y="2770"/>
                  </a:lnTo>
                  <a:lnTo>
                    <a:pt x="5260" y="2693"/>
                  </a:lnTo>
                  <a:lnTo>
                    <a:pt x="5284" y="2646"/>
                  </a:lnTo>
                  <a:lnTo>
                    <a:pt x="5325" y="2617"/>
                  </a:lnTo>
                  <a:lnTo>
                    <a:pt x="5308" y="2610"/>
                  </a:lnTo>
                  <a:lnTo>
                    <a:pt x="5319" y="2617"/>
                  </a:lnTo>
                  <a:lnTo>
                    <a:pt x="5355" y="2599"/>
                  </a:lnTo>
                  <a:lnTo>
                    <a:pt x="5349" y="2588"/>
                  </a:lnTo>
                  <a:lnTo>
                    <a:pt x="5366" y="2599"/>
                  </a:lnTo>
                  <a:lnTo>
                    <a:pt x="5389" y="2552"/>
                  </a:lnTo>
                  <a:lnTo>
                    <a:pt x="5378" y="2511"/>
                  </a:lnTo>
                  <a:lnTo>
                    <a:pt x="5437" y="2470"/>
                  </a:lnTo>
                  <a:lnTo>
                    <a:pt x="5419" y="2452"/>
                  </a:lnTo>
                  <a:lnTo>
                    <a:pt x="5444" y="2505"/>
                  </a:lnTo>
                  <a:lnTo>
                    <a:pt x="5444" y="2488"/>
                  </a:lnTo>
                  <a:lnTo>
                    <a:pt x="5455" y="2482"/>
                  </a:lnTo>
                  <a:lnTo>
                    <a:pt x="5461" y="2505"/>
                  </a:lnTo>
                  <a:lnTo>
                    <a:pt x="5461" y="2463"/>
                  </a:lnTo>
                  <a:lnTo>
                    <a:pt x="5461" y="2482"/>
                  </a:lnTo>
                  <a:lnTo>
                    <a:pt x="5467" y="2505"/>
                  </a:lnTo>
                  <a:lnTo>
                    <a:pt x="5472" y="2493"/>
                  </a:lnTo>
                  <a:lnTo>
                    <a:pt x="5490" y="2499"/>
                  </a:lnTo>
                  <a:lnTo>
                    <a:pt x="5484" y="2482"/>
                  </a:lnTo>
                  <a:lnTo>
                    <a:pt x="5497" y="2499"/>
                  </a:lnTo>
                  <a:lnTo>
                    <a:pt x="5502" y="2493"/>
                  </a:lnTo>
                  <a:lnTo>
                    <a:pt x="5508" y="2482"/>
                  </a:lnTo>
                  <a:lnTo>
                    <a:pt x="5508" y="2476"/>
                  </a:lnTo>
                  <a:lnTo>
                    <a:pt x="5508" y="2458"/>
                  </a:lnTo>
                  <a:lnTo>
                    <a:pt x="5514" y="2493"/>
                  </a:lnTo>
                  <a:lnTo>
                    <a:pt x="5525" y="2482"/>
                  </a:lnTo>
                  <a:lnTo>
                    <a:pt x="5525" y="2446"/>
                  </a:lnTo>
                  <a:lnTo>
                    <a:pt x="5525" y="2476"/>
                  </a:lnTo>
                  <a:lnTo>
                    <a:pt x="5531" y="2488"/>
                  </a:lnTo>
                  <a:lnTo>
                    <a:pt x="5550" y="2482"/>
                  </a:lnTo>
                  <a:lnTo>
                    <a:pt x="5561" y="2452"/>
                  </a:lnTo>
                  <a:lnTo>
                    <a:pt x="5544" y="2435"/>
                  </a:lnTo>
                  <a:lnTo>
                    <a:pt x="5550" y="2399"/>
                  </a:lnTo>
                  <a:lnTo>
                    <a:pt x="5531" y="2393"/>
                  </a:lnTo>
                  <a:lnTo>
                    <a:pt x="5531" y="2388"/>
                  </a:lnTo>
                  <a:lnTo>
                    <a:pt x="5555" y="2399"/>
                  </a:lnTo>
                  <a:lnTo>
                    <a:pt x="5573" y="2440"/>
                  </a:lnTo>
                  <a:lnTo>
                    <a:pt x="5597" y="2423"/>
                  </a:lnTo>
                  <a:lnTo>
                    <a:pt x="5661" y="2552"/>
                  </a:lnTo>
                  <a:lnTo>
                    <a:pt x="5656" y="2529"/>
                  </a:lnTo>
                  <a:lnTo>
                    <a:pt x="5684" y="2576"/>
                  </a:lnTo>
                  <a:lnTo>
                    <a:pt x="5679" y="2552"/>
                  </a:lnTo>
                  <a:lnTo>
                    <a:pt x="5697" y="2576"/>
                  </a:lnTo>
                  <a:lnTo>
                    <a:pt x="5697" y="2588"/>
                  </a:lnTo>
                  <a:lnTo>
                    <a:pt x="5703" y="2565"/>
                  </a:lnTo>
                  <a:lnTo>
                    <a:pt x="5714" y="2605"/>
                  </a:lnTo>
                  <a:lnTo>
                    <a:pt x="5709" y="2593"/>
                  </a:lnTo>
                  <a:lnTo>
                    <a:pt x="5709" y="2593"/>
                  </a:lnTo>
                  <a:lnTo>
                    <a:pt x="5744" y="2599"/>
                  </a:lnTo>
                  <a:lnTo>
                    <a:pt x="5738" y="2610"/>
                  </a:lnTo>
                  <a:lnTo>
                    <a:pt x="5762" y="2635"/>
                  </a:lnTo>
                  <a:lnTo>
                    <a:pt x="5732" y="2635"/>
                  </a:lnTo>
                  <a:lnTo>
                    <a:pt x="5750" y="2652"/>
                  </a:lnTo>
                  <a:lnTo>
                    <a:pt x="5762" y="2652"/>
                  </a:lnTo>
                  <a:lnTo>
                    <a:pt x="5767" y="2635"/>
                  </a:lnTo>
                  <a:lnTo>
                    <a:pt x="5767" y="2664"/>
                  </a:lnTo>
                  <a:lnTo>
                    <a:pt x="5809" y="2740"/>
                  </a:lnTo>
                  <a:lnTo>
                    <a:pt x="5797" y="2834"/>
                  </a:lnTo>
                  <a:lnTo>
                    <a:pt x="5815" y="2799"/>
                  </a:lnTo>
                  <a:lnTo>
                    <a:pt x="5815" y="2834"/>
                  </a:lnTo>
                  <a:lnTo>
                    <a:pt x="5820" y="2840"/>
                  </a:lnTo>
                  <a:lnTo>
                    <a:pt x="5832" y="2817"/>
                  </a:lnTo>
                  <a:lnTo>
                    <a:pt x="5832" y="2846"/>
                  </a:lnTo>
                  <a:lnTo>
                    <a:pt x="5844" y="2823"/>
                  </a:lnTo>
                  <a:lnTo>
                    <a:pt x="5844" y="2846"/>
                  </a:lnTo>
                  <a:lnTo>
                    <a:pt x="5856" y="2823"/>
                  </a:lnTo>
                  <a:lnTo>
                    <a:pt x="5850" y="2846"/>
                  </a:lnTo>
                  <a:lnTo>
                    <a:pt x="5873" y="2834"/>
                  </a:lnTo>
                  <a:lnTo>
                    <a:pt x="5873" y="2817"/>
                  </a:lnTo>
                  <a:lnTo>
                    <a:pt x="5886" y="2811"/>
                  </a:lnTo>
                  <a:lnTo>
                    <a:pt x="5903" y="2805"/>
                  </a:lnTo>
                  <a:lnTo>
                    <a:pt x="5892" y="2787"/>
                  </a:lnTo>
                  <a:lnTo>
                    <a:pt x="5903" y="2805"/>
                  </a:lnTo>
                  <a:lnTo>
                    <a:pt x="5926" y="2787"/>
                  </a:lnTo>
                  <a:lnTo>
                    <a:pt x="5926" y="2746"/>
                  </a:lnTo>
                  <a:lnTo>
                    <a:pt x="5945" y="2770"/>
                  </a:lnTo>
                  <a:lnTo>
                    <a:pt x="5956" y="2805"/>
                  </a:lnTo>
                  <a:lnTo>
                    <a:pt x="5968" y="2799"/>
                  </a:lnTo>
                  <a:lnTo>
                    <a:pt x="5973" y="2799"/>
                  </a:lnTo>
                  <a:lnTo>
                    <a:pt x="5968" y="2829"/>
                  </a:lnTo>
                  <a:lnTo>
                    <a:pt x="5986" y="2899"/>
                  </a:lnTo>
                  <a:lnTo>
                    <a:pt x="6009" y="2976"/>
                  </a:lnTo>
                  <a:lnTo>
                    <a:pt x="6009" y="2946"/>
                  </a:lnTo>
                  <a:lnTo>
                    <a:pt x="6039" y="2999"/>
                  </a:lnTo>
                  <a:lnTo>
                    <a:pt x="6051" y="3070"/>
                  </a:lnTo>
                  <a:lnTo>
                    <a:pt x="6039" y="3076"/>
                  </a:lnTo>
                  <a:lnTo>
                    <a:pt x="6056" y="3087"/>
                  </a:lnTo>
                  <a:lnTo>
                    <a:pt x="6039" y="3140"/>
                  </a:lnTo>
                  <a:lnTo>
                    <a:pt x="6045" y="3187"/>
                  </a:lnTo>
                  <a:lnTo>
                    <a:pt x="6056" y="3164"/>
                  </a:lnTo>
                  <a:lnTo>
                    <a:pt x="6039" y="3234"/>
                  </a:lnTo>
                  <a:lnTo>
                    <a:pt x="6039" y="3287"/>
                  </a:lnTo>
                  <a:lnTo>
                    <a:pt x="6056" y="3281"/>
                  </a:lnTo>
                  <a:lnTo>
                    <a:pt x="6079" y="3305"/>
                  </a:lnTo>
                  <a:lnTo>
                    <a:pt x="6098" y="3346"/>
                  </a:lnTo>
                  <a:lnTo>
                    <a:pt x="6109" y="3340"/>
                  </a:lnTo>
                  <a:lnTo>
                    <a:pt x="6139" y="3393"/>
                  </a:lnTo>
                  <a:lnTo>
                    <a:pt x="6174" y="3500"/>
                  </a:lnTo>
                  <a:lnTo>
                    <a:pt x="6168" y="3517"/>
                  </a:lnTo>
                  <a:lnTo>
                    <a:pt x="6187" y="3534"/>
                  </a:lnTo>
                  <a:lnTo>
                    <a:pt x="6210" y="3581"/>
                  </a:lnTo>
                  <a:lnTo>
                    <a:pt x="6210" y="3605"/>
                  </a:lnTo>
                  <a:lnTo>
                    <a:pt x="6327" y="3699"/>
                  </a:lnTo>
                  <a:lnTo>
                    <a:pt x="6357" y="3693"/>
                  </a:lnTo>
                  <a:lnTo>
                    <a:pt x="6351" y="3675"/>
                  </a:lnTo>
                  <a:lnTo>
                    <a:pt x="6363" y="3693"/>
                  </a:lnTo>
                  <a:lnTo>
                    <a:pt x="6369" y="3687"/>
                  </a:lnTo>
                  <a:lnTo>
                    <a:pt x="6321" y="3599"/>
                  </a:lnTo>
                  <a:lnTo>
                    <a:pt x="6316" y="3493"/>
                  </a:lnTo>
                  <a:lnTo>
                    <a:pt x="6245" y="3405"/>
                  </a:lnTo>
                  <a:lnTo>
                    <a:pt x="6210" y="3370"/>
                  </a:lnTo>
                  <a:lnTo>
                    <a:pt x="6151" y="3353"/>
                  </a:lnTo>
                  <a:lnTo>
                    <a:pt x="6139" y="3317"/>
                  </a:lnTo>
                  <a:lnTo>
                    <a:pt x="6162" y="3346"/>
                  </a:lnTo>
                  <a:lnTo>
                    <a:pt x="6139" y="3276"/>
                  </a:lnTo>
                  <a:lnTo>
                    <a:pt x="6115" y="3228"/>
                  </a:lnTo>
                  <a:lnTo>
                    <a:pt x="6086" y="3228"/>
                  </a:lnTo>
                  <a:lnTo>
                    <a:pt x="6079" y="3164"/>
                  </a:lnTo>
                  <a:lnTo>
                    <a:pt x="6115" y="3058"/>
                  </a:lnTo>
                  <a:lnTo>
                    <a:pt x="6109" y="2993"/>
                  </a:lnTo>
                  <a:lnTo>
                    <a:pt x="6121" y="2976"/>
                  </a:lnTo>
                  <a:lnTo>
                    <a:pt x="6162" y="2982"/>
                  </a:lnTo>
                  <a:lnTo>
                    <a:pt x="6157" y="3029"/>
                  </a:lnTo>
                  <a:lnTo>
                    <a:pt x="6221" y="3034"/>
                  </a:lnTo>
                  <a:lnTo>
                    <a:pt x="6234" y="3058"/>
                  </a:lnTo>
                  <a:lnTo>
                    <a:pt x="6268" y="3087"/>
                  </a:lnTo>
                  <a:lnTo>
                    <a:pt x="6281" y="3099"/>
                  </a:lnTo>
                  <a:lnTo>
                    <a:pt x="6287" y="3134"/>
                  </a:lnTo>
                  <a:lnTo>
                    <a:pt x="6304" y="3117"/>
                  </a:lnTo>
                  <a:lnTo>
                    <a:pt x="6316" y="3134"/>
                  </a:lnTo>
                  <a:lnTo>
                    <a:pt x="6310" y="3158"/>
                  </a:lnTo>
                  <a:lnTo>
                    <a:pt x="6321" y="3146"/>
                  </a:lnTo>
                  <a:lnTo>
                    <a:pt x="6351" y="3164"/>
                  </a:lnTo>
                  <a:lnTo>
                    <a:pt x="6387" y="3187"/>
                  </a:lnTo>
                  <a:lnTo>
                    <a:pt x="6381" y="3205"/>
                  </a:lnTo>
                  <a:lnTo>
                    <a:pt x="6387" y="3258"/>
                  </a:lnTo>
                  <a:lnTo>
                    <a:pt x="6381" y="3270"/>
                  </a:lnTo>
                  <a:lnTo>
                    <a:pt x="6446" y="3223"/>
                  </a:lnTo>
                  <a:lnTo>
                    <a:pt x="6428" y="3187"/>
                  </a:lnTo>
                  <a:lnTo>
                    <a:pt x="6428" y="3187"/>
                  </a:lnTo>
                  <a:lnTo>
                    <a:pt x="6463" y="3211"/>
                  </a:lnTo>
                  <a:lnTo>
                    <a:pt x="6440" y="3170"/>
                  </a:lnTo>
                  <a:lnTo>
                    <a:pt x="6469" y="3193"/>
                  </a:lnTo>
                  <a:lnTo>
                    <a:pt x="6451" y="3170"/>
                  </a:lnTo>
                  <a:lnTo>
                    <a:pt x="6451" y="3170"/>
                  </a:lnTo>
                  <a:lnTo>
                    <a:pt x="6469" y="3187"/>
                  </a:lnTo>
                  <a:lnTo>
                    <a:pt x="6475" y="3176"/>
                  </a:lnTo>
                  <a:lnTo>
                    <a:pt x="6457" y="3164"/>
                  </a:lnTo>
                  <a:lnTo>
                    <a:pt x="6457" y="3164"/>
                  </a:lnTo>
                  <a:lnTo>
                    <a:pt x="6475" y="3170"/>
                  </a:lnTo>
                  <a:lnTo>
                    <a:pt x="6463" y="3158"/>
                  </a:lnTo>
                  <a:lnTo>
                    <a:pt x="6469" y="3146"/>
                  </a:lnTo>
                  <a:lnTo>
                    <a:pt x="6487" y="3158"/>
                  </a:lnTo>
                  <a:lnTo>
                    <a:pt x="6499" y="3164"/>
                  </a:lnTo>
                  <a:lnTo>
                    <a:pt x="6540" y="3146"/>
                  </a:lnTo>
                  <a:lnTo>
                    <a:pt x="6599" y="3081"/>
                  </a:lnTo>
                  <a:lnTo>
                    <a:pt x="6593" y="3058"/>
                  </a:lnTo>
                  <a:lnTo>
                    <a:pt x="6593" y="3040"/>
                  </a:lnTo>
                  <a:lnTo>
                    <a:pt x="6599" y="3023"/>
                  </a:lnTo>
                  <a:lnTo>
                    <a:pt x="6605" y="3034"/>
                  </a:lnTo>
                  <a:lnTo>
                    <a:pt x="6605" y="3017"/>
                  </a:lnTo>
                  <a:lnTo>
                    <a:pt x="6563" y="2876"/>
                  </a:lnTo>
                  <a:lnTo>
                    <a:pt x="6529" y="2823"/>
                  </a:lnTo>
                  <a:lnTo>
                    <a:pt x="6499" y="2817"/>
                  </a:lnTo>
                  <a:lnTo>
                    <a:pt x="6428" y="2740"/>
                  </a:lnTo>
                  <a:lnTo>
                    <a:pt x="6410" y="2729"/>
                  </a:lnTo>
                  <a:lnTo>
                    <a:pt x="6416" y="2705"/>
                  </a:lnTo>
                  <a:lnTo>
                    <a:pt x="6363" y="2658"/>
                  </a:lnTo>
                  <a:lnTo>
                    <a:pt x="6369" y="2617"/>
                  </a:lnTo>
                  <a:lnTo>
                    <a:pt x="6399" y="2582"/>
                  </a:lnTo>
                  <a:lnTo>
                    <a:pt x="6399" y="2558"/>
                  </a:lnTo>
                  <a:lnTo>
                    <a:pt x="6410" y="2552"/>
                  </a:lnTo>
                  <a:lnTo>
                    <a:pt x="6399" y="2535"/>
                  </a:lnTo>
                  <a:lnTo>
                    <a:pt x="6434" y="2535"/>
                  </a:lnTo>
                  <a:lnTo>
                    <a:pt x="6434" y="2517"/>
                  </a:lnTo>
                  <a:lnTo>
                    <a:pt x="6457" y="2505"/>
                  </a:lnTo>
                  <a:lnTo>
                    <a:pt x="6475" y="2493"/>
                  </a:lnTo>
                  <a:lnTo>
                    <a:pt x="6487" y="2505"/>
                  </a:lnTo>
                  <a:lnTo>
                    <a:pt x="6487" y="2482"/>
                  </a:lnTo>
                  <a:lnTo>
                    <a:pt x="6499" y="2499"/>
                  </a:lnTo>
                  <a:lnTo>
                    <a:pt x="6499" y="2488"/>
                  </a:lnTo>
                  <a:lnTo>
                    <a:pt x="6522" y="2511"/>
                  </a:lnTo>
                  <a:lnTo>
                    <a:pt x="6540" y="2505"/>
                  </a:lnTo>
                  <a:lnTo>
                    <a:pt x="6540" y="2493"/>
                  </a:lnTo>
                  <a:lnTo>
                    <a:pt x="6563" y="2505"/>
                  </a:lnTo>
                  <a:lnTo>
                    <a:pt x="6552" y="2540"/>
                  </a:lnTo>
                  <a:lnTo>
                    <a:pt x="6563" y="2552"/>
                  </a:lnTo>
                  <a:lnTo>
                    <a:pt x="6576" y="2582"/>
                  </a:lnTo>
                  <a:lnTo>
                    <a:pt x="6605" y="2570"/>
                  </a:lnTo>
                  <a:lnTo>
                    <a:pt x="6582" y="2546"/>
                  </a:lnTo>
                  <a:lnTo>
                    <a:pt x="6582" y="2511"/>
                  </a:lnTo>
                  <a:lnTo>
                    <a:pt x="6593" y="2523"/>
                  </a:lnTo>
                  <a:lnTo>
                    <a:pt x="6599" y="2523"/>
                  </a:lnTo>
                  <a:lnTo>
                    <a:pt x="6616" y="2505"/>
                  </a:lnTo>
                  <a:lnTo>
                    <a:pt x="6646" y="2505"/>
                  </a:lnTo>
                  <a:lnTo>
                    <a:pt x="6646" y="2488"/>
                  </a:lnTo>
                  <a:lnTo>
                    <a:pt x="6658" y="2482"/>
                  </a:lnTo>
                  <a:lnTo>
                    <a:pt x="6682" y="2493"/>
                  </a:lnTo>
                  <a:lnTo>
                    <a:pt x="6682" y="2476"/>
                  </a:lnTo>
                  <a:lnTo>
                    <a:pt x="6693" y="2493"/>
                  </a:lnTo>
                  <a:lnTo>
                    <a:pt x="6711" y="2482"/>
                  </a:lnTo>
                  <a:lnTo>
                    <a:pt x="6716" y="2463"/>
                  </a:lnTo>
                  <a:lnTo>
                    <a:pt x="6723" y="2476"/>
                  </a:lnTo>
                  <a:lnTo>
                    <a:pt x="6716" y="2440"/>
                  </a:lnTo>
                  <a:lnTo>
                    <a:pt x="6741" y="2463"/>
                  </a:lnTo>
                  <a:lnTo>
                    <a:pt x="6741" y="2463"/>
                  </a:lnTo>
                  <a:lnTo>
                    <a:pt x="6729" y="2429"/>
                  </a:lnTo>
                  <a:lnTo>
                    <a:pt x="6711" y="2423"/>
                  </a:lnTo>
                  <a:lnTo>
                    <a:pt x="6729" y="2423"/>
                  </a:lnTo>
                  <a:lnTo>
                    <a:pt x="6723" y="2418"/>
                  </a:lnTo>
                  <a:lnTo>
                    <a:pt x="6723" y="2411"/>
                  </a:lnTo>
                  <a:lnTo>
                    <a:pt x="6741" y="2411"/>
                  </a:lnTo>
                  <a:lnTo>
                    <a:pt x="6729" y="2411"/>
                  </a:lnTo>
                  <a:lnTo>
                    <a:pt x="6735" y="2429"/>
                  </a:lnTo>
                  <a:lnTo>
                    <a:pt x="6758" y="2446"/>
                  </a:lnTo>
                  <a:lnTo>
                    <a:pt x="6776" y="2458"/>
                  </a:lnTo>
                  <a:lnTo>
                    <a:pt x="6769" y="2446"/>
                  </a:lnTo>
                  <a:lnTo>
                    <a:pt x="6794" y="2429"/>
                  </a:lnTo>
                  <a:lnTo>
                    <a:pt x="6799" y="2446"/>
                  </a:lnTo>
                  <a:lnTo>
                    <a:pt x="6799" y="2435"/>
                  </a:lnTo>
                  <a:lnTo>
                    <a:pt x="6817" y="2423"/>
                  </a:lnTo>
                  <a:lnTo>
                    <a:pt x="6835" y="2440"/>
                  </a:lnTo>
                  <a:lnTo>
                    <a:pt x="6824" y="2423"/>
                  </a:lnTo>
                  <a:lnTo>
                    <a:pt x="6847" y="2435"/>
                  </a:lnTo>
                  <a:lnTo>
                    <a:pt x="6882" y="2423"/>
                  </a:lnTo>
                  <a:lnTo>
                    <a:pt x="6877" y="2405"/>
                  </a:lnTo>
                  <a:lnTo>
                    <a:pt x="6894" y="2405"/>
                  </a:lnTo>
                  <a:lnTo>
                    <a:pt x="6877" y="2393"/>
                  </a:lnTo>
                  <a:lnTo>
                    <a:pt x="6905" y="2382"/>
                  </a:lnTo>
                  <a:lnTo>
                    <a:pt x="6911" y="2358"/>
                  </a:lnTo>
                  <a:lnTo>
                    <a:pt x="6924" y="2352"/>
                  </a:lnTo>
                  <a:lnTo>
                    <a:pt x="6947" y="2341"/>
                  </a:lnTo>
                  <a:lnTo>
                    <a:pt x="6924" y="2329"/>
                  </a:lnTo>
                  <a:lnTo>
                    <a:pt x="6941" y="2316"/>
                  </a:lnTo>
                  <a:lnTo>
                    <a:pt x="6971" y="2323"/>
                  </a:lnTo>
                  <a:lnTo>
                    <a:pt x="6958" y="2305"/>
                  </a:lnTo>
                  <a:lnTo>
                    <a:pt x="6982" y="2305"/>
                  </a:lnTo>
                  <a:lnTo>
                    <a:pt x="6971" y="2282"/>
                  </a:lnTo>
                  <a:lnTo>
                    <a:pt x="6994" y="2282"/>
                  </a:lnTo>
                  <a:lnTo>
                    <a:pt x="6977" y="2276"/>
                  </a:lnTo>
                  <a:lnTo>
                    <a:pt x="6988" y="2264"/>
                  </a:lnTo>
                  <a:lnTo>
                    <a:pt x="7006" y="2276"/>
                  </a:lnTo>
                  <a:lnTo>
                    <a:pt x="6994" y="2258"/>
                  </a:lnTo>
                  <a:lnTo>
                    <a:pt x="7000" y="2241"/>
                  </a:lnTo>
                  <a:lnTo>
                    <a:pt x="6964" y="2229"/>
                  </a:lnTo>
                  <a:lnTo>
                    <a:pt x="7006" y="2223"/>
                  </a:lnTo>
                  <a:lnTo>
                    <a:pt x="6988" y="2211"/>
                  </a:lnTo>
                  <a:lnTo>
                    <a:pt x="7000" y="2211"/>
                  </a:lnTo>
                  <a:lnTo>
                    <a:pt x="6982" y="2194"/>
                  </a:lnTo>
                  <a:lnTo>
                    <a:pt x="7006" y="2194"/>
                  </a:lnTo>
                  <a:lnTo>
                    <a:pt x="7000" y="2211"/>
                  </a:lnTo>
                  <a:lnTo>
                    <a:pt x="7011" y="2194"/>
                  </a:lnTo>
                  <a:lnTo>
                    <a:pt x="7017" y="2169"/>
                  </a:lnTo>
                  <a:lnTo>
                    <a:pt x="7006" y="2164"/>
                  </a:lnTo>
                  <a:lnTo>
                    <a:pt x="7017" y="2164"/>
                  </a:lnTo>
                  <a:lnTo>
                    <a:pt x="7024" y="2123"/>
                  </a:lnTo>
                  <a:lnTo>
                    <a:pt x="7006" y="2111"/>
                  </a:lnTo>
                  <a:lnTo>
                    <a:pt x="7030" y="2111"/>
                  </a:lnTo>
                  <a:lnTo>
                    <a:pt x="7035" y="2099"/>
                  </a:lnTo>
                  <a:lnTo>
                    <a:pt x="7047" y="2111"/>
                  </a:lnTo>
                  <a:lnTo>
                    <a:pt x="7059" y="2105"/>
                  </a:lnTo>
                  <a:lnTo>
                    <a:pt x="7024" y="2069"/>
                  </a:lnTo>
                  <a:lnTo>
                    <a:pt x="7047" y="2069"/>
                  </a:lnTo>
                  <a:lnTo>
                    <a:pt x="7030" y="2052"/>
                  </a:lnTo>
                  <a:lnTo>
                    <a:pt x="7047" y="2041"/>
                  </a:lnTo>
                  <a:lnTo>
                    <a:pt x="7059" y="2046"/>
                  </a:lnTo>
                  <a:lnTo>
                    <a:pt x="7053" y="2024"/>
                  </a:lnTo>
                  <a:lnTo>
                    <a:pt x="7024" y="2029"/>
                  </a:lnTo>
                  <a:lnTo>
                    <a:pt x="7053" y="2005"/>
                  </a:lnTo>
                  <a:lnTo>
                    <a:pt x="7000" y="1982"/>
                  </a:lnTo>
                  <a:lnTo>
                    <a:pt x="6982" y="1999"/>
                  </a:lnTo>
                  <a:lnTo>
                    <a:pt x="6964" y="1982"/>
                  </a:lnTo>
                  <a:lnTo>
                    <a:pt x="6947" y="1988"/>
                  </a:lnTo>
                  <a:lnTo>
                    <a:pt x="7017" y="1941"/>
                  </a:lnTo>
                  <a:lnTo>
                    <a:pt x="6935" y="1882"/>
                  </a:lnTo>
                  <a:lnTo>
                    <a:pt x="6894" y="1882"/>
                  </a:lnTo>
                  <a:lnTo>
                    <a:pt x="6877" y="1870"/>
                  </a:lnTo>
                  <a:lnTo>
                    <a:pt x="6877" y="1870"/>
                  </a:lnTo>
                  <a:lnTo>
                    <a:pt x="6877" y="1864"/>
                  </a:lnTo>
                  <a:lnTo>
                    <a:pt x="6905" y="1888"/>
                  </a:lnTo>
                  <a:lnTo>
                    <a:pt x="7000" y="1899"/>
                  </a:lnTo>
                  <a:lnTo>
                    <a:pt x="6929" y="1847"/>
                  </a:lnTo>
                  <a:lnTo>
                    <a:pt x="6858" y="1747"/>
                  </a:lnTo>
                  <a:lnTo>
                    <a:pt x="6799" y="1723"/>
                  </a:lnTo>
                  <a:lnTo>
                    <a:pt x="6794" y="1700"/>
                  </a:lnTo>
                  <a:lnTo>
                    <a:pt x="6824" y="1647"/>
                  </a:lnTo>
                  <a:lnTo>
                    <a:pt x="6805" y="1635"/>
                  </a:lnTo>
                  <a:lnTo>
                    <a:pt x="6824" y="1641"/>
                  </a:lnTo>
                  <a:lnTo>
                    <a:pt x="6835" y="1635"/>
                  </a:lnTo>
                  <a:lnTo>
                    <a:pt x="6841" y="1611"/>
                  </a:lnTo>
                  <a:lnTo>
                    <a:pt x="6829" y="1611"/>
                  </a:lnTo>
                  <a:lnTo>
                    <a:pt x="6877" y="1588"/>
                  </a:lnTo>
                  <a:lnTo>
                    <a:pt x="6905" y="1594"/>
                  </a:lnTo>
                  <a:lnTo>
                    <a:pt x="6905" y="1564"/>
                  </a:lnTo>
                  <a:lnTo>
                    <a:pt x="6847" y="1564"/>
                  </a:lnTo>
                  <a:lnTo>
                    <a:pt x="6794" y="1535"/>
                  </a:lnTo>
                  <a:lnTo>
                    <a:pt x="6764" y="1576"/>
                  </a:lnTo>
                  <a:lnTo>
                    <a:pt x="6723" y="1564"/>
                  </a:lnTo>
                  <a:lnTo>
                    <a:pt x="6711" y="1541"/>
                  </a:lnTo>
                  <a:lnTo>
                    <a:pt x="6693" y="1517"/>
                  </a:lnTo>
                  <a:lnTo>
                    <a:pt x="6640" y="1511"/>
                  </a:lnTo>
                  <a:lnTo>
                    <a:pt x="6616" y="1488"/>
                  </a:lnTo>
                  <a:lnTo>
                    <a:pt x="6616" y="1464"/>
                  </a:lnTo>
                  <a:lnTo>
                    <a:pt x="6669" y="1458"/>
                  </a:lnTo>
                  <a:lnTo>
                    <a:pt x="6693" y="1411"/>
                  </a:lnTo>
                  <a:lnTo>
                    <a:pt x="6729" y="1353"/>
                  </a:lnTo>
                  <a:lnTo>
                    <a:pt x="6758" y="1353"/>
                  </a:lnTo>
                  <a:lnTo>
                    <a:pt x="6794" y="1381"/>
                  </a:lnTo>
                  <a:lnTo>
                    <a:pt x="6788" y="1411"/>
                  </a:lnTo>
                  <a:lnTo>
                    <a:pt x="6769" y="1441"/>
                  </a:lnTo>
                  <a:lnTo>
                    <a:pt x="6811" y="1447"/>
                  </a:lnTo>
                  <a:lnTo>
                    <a:pt x="6782" y="1470"/>
                  </a:lnTo>
                  <a:lnTo>
                    <a:pt x="6794" y="1481"/>
                  </a:lnTo>
                  <a:lnTo>
                    <a:pt x="6905" y="1417"/>
                  </a:lnTo>
                  <a:lnTo>
                    <a:pt x="6905" y="1406"/>
                  </a:lnTo>
                  <a:lnTo>
                    <a:pt x="6935" y="1435"/>
                  </a:lnTo>
                  <a:lnTo>
                    <a:pt x="6935" y="1423"/>
                  </a:lnTo>
                  <a:lnTo>
                    <a:pt x="6977" y="1435"/>
                  </a:lnTo>
                  <a:lnTo>
                    <a:pt x="6982" y="1481"/>
                  </a:lnTo>
                  <a:lnTo>
                    <a:pt x="7011" y="1488"/>
                  </a:lnTo>
                  <a:lnTo>
                    <a:pt x="6982" y="1494"/>
                  </a:lnTo>
                  <a:lnTo>
                    <a:pt x="6994" y="1511"/>
                  </a:lnTo>
                  <a:lnTo>
                    <a:pt x="6982" y="1517"/>
                  </a:lnTo>
                  <a:lnTo>
                    <a:pt x="7011" y="1523"/>
                  </a:lnTo>
                  <a:lnTo>
                    <a:pt x="7000" y="1535"/>
                  </a:lnTo>
                  <a:lnTo>
                    <a:pt x="7030" y="1535"/>
                  </a:lnTo>
                  <a:lnTo>
                    <a:pt x="7024" y="1547"/>
                  </a:lnTo>
                  <a:lnTo>
                    <a:pt x="7024" y="1523"/>
                  </a:lnTo>
                  <a:lnTo>
                    <a:pt x="7059" y="1541"/>
                  </a:lnTo>
                  <a:lnTo>
                    <a:pt x="7088" y="1535"/>
                  </a:lnTo>
                  <a:lnTo>
                    <a:pt x="7106" y="1576"/>
                  </a:lnTo>
                  <a:lnTo>
                    <a:pt x="7130" y="1588"/>
                  </a:lnTo>
                  <a:lnTo>
                    <a:pt x="7124" y="1600"/>
                  </a:lnTo>
                  <a:lnTo>
                    <a:pt x="7100" y="1582"/>
                  </a:lnTo>
                  <a:lnTo>
                    <a:pt x="7088" y="1600"/>
                  </a:lnTo>
                  <a:lnTo>
                    <a:pt x="7106" y="1605"/>
                  </a:lnTo>
                  <a:lnTo>
                    <a:pt x="7124" y="1641"/>
                  </a:lnTo>
                  <a:lnTo>
                    <a:pt x="7141" y="1641"/>
                  </a:lnTo>
                  <a:lnTo>
                    <a:pt x="7136" y="1647"/>
                  </a:lnTo>
                  <a:lnTo>
                    <a:pt x="7136" y="1664"/>
                  </a:lnTo>
                  <a:lnTo>
                    <a:pt x="7147" y="1670"/>
                  </a:lnTo>
                  <a:lnTo>
                    <a:pt x="7136" y="1688"/>
                  </a:lnTo>
                  <a:lnTo>
                    <a:pt x="7147" y="1705"/>
                  </a:lnTo>
                  <a:lnTo>
                    <a:pt x="7136" y="1700"/>
                  </a:lnTo>
                  <a:lnTo>
                    <a:pt x="7153" y="1717"/>
                  </a:lnTo>
                  <a:lnTo>
                    <a:pt x="7164" y="1717"/>
                  </a:lnTo>
                  <a:lnTo>
                    <a:pt x="7153" y="1717"/>
                  </a:lnTo>
                  <a:lnTo>
                    <a:pt x="7171" y="1729"/>
                  </a:lnTo>
                  <a:lnTo>
                    <a:pt x="7147" y="1723"/>
                  </a:lnTo>
                  <a:lnTo>
                    <a:pt x="7171" y="1747"/>
                  </a:lnTo>
                  <a:lnTo>
                    <a:pt x="7194" y="1717"/>
                  </a:lnTo>
                  <a:lnTo>
                    <a:pt x="7206" y="1735"/>
                  </a:lnTo>
                  <a:lnTo>
                    <a:pt x="7200" y="1717"/>
                  </a:lnTo>
                  <a:lnTo>
                    <a:pt x="7219" y="1729"/>
                  </a:lnTo>
                  <a:lnTo>
                    <a:pt x="7212" y="1705"/>
                  </a:lnTo>
                  <a:lnTo>
                    <a:pt x="7253" y="1705"/>
                  </a:lnTo>
                  <a:lnTo>
                    <a:pt x="7253" y="1694"/>
                  </a:lnTo>
                  <a:lnTo>
                    <a:pt x="7277" y="1700"/>
                  </a:lnTo>
                  <a:lnTo>
                    <a:pt x="7283" y="1675"/>
                  </a:lnTo>
                  <a:lnTo>
                    <a:pt x="7242" y="1582"/>
                  </a:lnTo>
                  <a:lnTo>
                    <a:pt x="7147" y="1488"/>
                  </a:lnTo>
                  <a:lnTo>
                    <a:pt x="7083" y="1453"/>
                  </a:lnTo>
                  <a:lnTo>
                    <a:pt x="7071" y="1428"/>
                  </a:lnTo>
                  <a:lnTo>
                    <a:pt x="7141" y="1358"/>
                  </a:lnTo>
                  <a:lnTo>
                    <a:pt x="7118" y="1311"/>
                  </a:lnTo>
                  <a:lnTo>
                    <a:pt x="7141" y="1276"/>
                  </a:lnTo>
                  <a:lnTo>
                    <a:pt x="7130" y="1253"/>
                  </a:lnTo>
                  <a:lnTo>
                    <a:pt x="7153" y="1253"/>
                  </a:lnTo>
                  <a:lnTo>
                    <a:pt x="7159" y="1217"/>
                  </a:lnTo>
                  <a:lnTo>
                    <a:pt x="7171" y="1217"/>
                  </a:lnTo>
                  <a:lnTo>
                    <a:pt x="7171" y="1229"/>
                  </a:lnTo>
                  <a:lnTo>
                    <a:pt x="7183" y="1217"/>
                  </a:lnTo>
                  <a:lnTo>
                    <a:pt x="7200" y="1241"/>
                  </a:lnTo>
                  <a:lnTo>
                    <a:pt x="7242" y="1253"/>
                  </a:lnTo>
                  <a:lnTo>
                    <a:pt x="7312" y="1206"/>
                  </a:lnTo>
                  <a:lnTo>
                    <a:pt x="7342" y="1070"/>
                  </a:lnTo>
                  <a:lnTo>
                    <a:pt x="7353" y="917"/>
                  </a:lnTo>
                  <a:lnTo>
                    <a:pt x="7306" y="823"/>
                  </a:lnTo>
                  <a:lnTo>
                    <a:pt x="7266" y="793"/>
                  </a:lnTo>
                  <a:lnTo>
                    <a:pt x="7247" y="712"/>
                  </a:lnTo>
                  <a:lnTo>
                    <a:pt x="7219" y="693"/>
                  </a:lnTo>
                  <a:lnTo>
                    <a:pt x="7206" y="670"/>
                  </a:lnTo>
                  <a:lnTo>
                    <a:pt x="7164" y="653"/>
                  </a:lnTo>
                  <a:lnTo>
                    <a:pt x="7164" y="653"/>
                  </a:lnTo>
                  <a:lnTo>
                    <a:pt x="7189" y="647"/>
                  </a:lnTo>
                  <a:lnTo>
                    <a:pt x="7064" y="588"/>
                  </a:lnTo>
                  <a:lnTo>
                    <a:pt x="7017" y="588"/>
                  </a:lnTo>
                  <a:lnTo>
                    <a:pt x="7047" y="629"/>
                  </a:lnTo>
                  <a:lnTo>
                    <a:pt x="7030" y="606"/>
                  </a:lnTo>
                  <a:lnTo>
                    <a:pt x="6994" y="629"/>
                  </a:lnTo>
                  <a:lnTo>
                    <a:pt x="7000" y="606"/>
                  </a:lnTo>
                  <a:lnTo>
                    <a:pt x="6971" y="600"/>
                  </a:lnTo>
                  <a:lnTo>
                    <a:pt x="6977" y="588"/>
                  </a:lnTo>
                  <a:lnTo>
                    <a:pt x="6958" y="600"/>
                  </a:lnTo>
                  <a:lnTo>
                    <a:pt x="6977" y="618"/>
                  </a:lnTo>
                  <a:lnTo>
                    <a:pt x="6953" y="618"/>
                  </a:lnTo>
                  <a:lnTo>
                    <a:pt x="6924" y="570"/>
                  </a:lnTo>
                  <a:lnTo>
                    <a:pt x="6847" y="565"/>
                  </a:lnTo>
                  <a:lnTo>
                    <a:pt x="6835" y="553"/>
                  </a:lnTo>
                  <a:lnTo>
                    <a:pt x="6894" y="470"/>
                  </a:lnTo>
                  <a:lnTo>
                    <a:pt x="6917" y="394"/>
                  </a:lnTo>
                  <a:lnTo>
                    <a:pt x="6929" y="318"/>
                  </a:lnTo>
                  <a:lnTo>
                    <a:pt x="7053" y="306"/>
                  </a:lnTo>
                  <a:lnTo>
                    <a:pt x="7094" y="318"/>
                  </a:lnTo>
                  <a:lnTo>
                    <a:pt x="7083" y="299"/>
                  </a:lnTo>
                  <a:lnTo>
                    <a:pt x="7159" y="306"/>
                  </a:lnTo>
                  <a:lnTo>
                    <a:pt x="7200" y="318"/>
                  </a:lnTo>
                  <a:lnTo>
                    <a:pt x="7177" y="299"/>
                  </a:lnTo>
                  <a:lnTo>
                    <a:pt x="7200" y="288"/>
                  </a:lnTo>
                  <a:lnTo>
                    <a:pt x="7259" y="306"/>
                  </a:lnTo>
                  <a:lnTo>
                    <a:pt x="7283" y="294"/>
                  </a:lnTo>
                  <a:lnTo>
                    <a:pt x="7342" y="318"/>
                  </a:lnTo>
                  <a:lnTo>
                    <a:pt x="7295" y="323"/>
                  </a:lnTo>
                  <a:lnTo>
                    <a:pt x="7325" y="335"/>
                  </a:lnTo>
                  <a:lnTo>
                    <a:pt x="7353" y="323"/>
                  </a:lnTo>
                  <a:lnTo>
                    <a:pt x="7389" y="335"/>
                  </a:lnTo>
                  <a:lnTo>
                    <a:pt x="7389" y="312"/>
                  </a:lnTo>
                  <a:lnTo>
                    <a:pt x="7425" y="323"/>
                  </a:lnTo>
                  <a:lnTo>
                    <a:pt x="7466" y="318"/>
                  </a:lnTo>
                  <a:lnTo>
                    <a:pt x="7436" y="299"/>
                  </a:lnTo>
                  <a:lnTo>
                    <a:pt x="7406" y="299"/>
                  </a:lnTo>
                  <a:lnTo>
                    <a:pt x="7383" y="282"/>
                  </a:lnTo>
                  <a:lnTo>
                    <a:pt x="7401" y="176"/>
                  </a:lnTo>
                  <a:lnTo>
                    <a:pt x="7495" y="182"/>
                  </a:lnTo>
                  <a:lnTo>
                    <a:pt x="7507" y="171"/>
                  </a:lnTo>
                  <a:lnTo>
                    <a:pt x="7519" y="176"/>
                  </a:lnTo>
                  <a:lnTo>
                    <a:pt x="7531" y="206"/>
                  </a:lnTo>
                  <a:lnTo>
                    <a:pt x="7548" y="224"/>
                  </a:lnTo>
                  <a:lnTo>
                    <a:pt x="7572" y="218"/>
                  </a:lnTo>
                  <a:lnTo>
                    <a:pt x="7589" y="241"/>
                  </a:lnTo>
                  <a:lnTo>
                    <a:pt x="7607" y="212"/>
                  </a:lnTo>
                  <a:lnTo>
                    <a:pt x="7614" y="182"/>
                  </a:lnTo>
                  <a:lnTo>
                    <a:pt x="7648" y="182"/>
                  </a:lnTo>
                  <a:lnTo>
                    <a:pt x="7589" y="135"/>
                  </a:lnTo>
                  <a:lnTo>
                    <a:pt x="7690" y="141"/>
                  </a:lnTo>
                  <a:lnTo>
                    <a:pt x="7642" y="152"/>
                  </a:lnTo>
                  <a:lnTo>
                    <a:pt x="7701" y="199"/>
                  </a:lnTo>
                  <a:lnTo>
                    <a:pt x="7720" y="224"/>
                  </a:lnTo>
                  <a:lnTo>
                    <a:pt x="7672" y="252"/>
                  </a:lnTo>
                  <a:lnTo>
                    <a:pt x="7678" y="388"/>
                  </a:lnTo>
                  <a:lnTo>
                    <a:pt x="7619" y="394"/>
                  </a:lnTo>
                  <a:lnTo>
                    <a:pt x="7654" y="435"/>
                  </a:lnTo>
                  <a:lnTo>
                    <a:pt x="7648" y="459"/>
                  </a:lnTo>
                  <a:lnTo>
                    <a:pt x="7720" y="541"/>
                  </a:lnTo>
                  <a:lnTo>
                    <a:pt x="7743" y="559"/>
                  </a:lnTo>
                  <a:lnTo>
                    <a:pt x="7748" y="570"/>
                  </a:lnTo>
                  <a:lnTo>
                    <a:pt x="7790" y="600"/>
                  </a:lnTo>
                  <a:lnTo>
                    <a:pt x="7801" y="612"/>
                  </a:lnTo>
                  <a:lnTo>
                    <a:pt x="7820" y="629"/>
                  </a:lnTo>
                  <a:lnTo>
                    <a:pt x="7854" y="659"/>
                  </a:lnTo>
                  <a:lnTo>
                    <a:pt x="7867" y="670"/>
                  </a:lnTo>
                  <a:lnTo>
                    <a:pt x="7990" y="782"/>
                  </a:lnTo>
                  <a:lnTo>
                    <a:pt x="8009" y="723"/>
                  </a:lnTo>
                  <a:lnTo>
                    <a:pt x="7962" y="659"/>
                  </a:lnTo>
                  <a:lnTo>
                    <a:pt x="8009" y="647"/>
                  </a:lnTo>
                  <a:lnTo>
                    <a:pt x="8026" y="653"/>
                  </a:lnTo>
                  <a:lnTo>
                    <a:pt x="7990" y="629"/>
                  </a:lnTo>
                  <a:lnTo>
                    <a:pt x="7967" y="593"/>
                  </a:lnTo>
                  <a:lnTo>
                    <a:pt x="7985" y="576"/>
                  </a:lnTo>
                  <a:lnTo>
                    <a:pt x="8026" y="565"/>
                  </a:lnTo>
                  <a:lnTo>
                    <a:pt x="7967" y="523"/>
                  </a:lnTo>
                  <a:lnTo>
                    <a:pt x="7943" y="470"/>
                  </a:lnTo>
                  <a:lnTo>
                    <a:pt x="7967" y="465"/>
                  </a:lnTo>
                  <a:lnTo>
                    <a:pt x="7962" y="482"/>
                  </a:lnTo>
                  <a:lnTo>
                    <a:pt x="7985" y="493"/>
                  </a:lnTo>
                  <a:lnTo>
                    <a:pt x="7996" y="482"/>
                  </a:lnTo>
                  <a:lnTo>
                    <a:pt x="7962" y="453"/>
                  </a:lnTo>
                  <a:lnTo>
                    <a:pt x="7902" y="418"/>
                  </a:lnTo>
                  <a:lnTo>
                    <a:pt x="7896" y="394"/>
                  </a:lnTo>
                  <a:lnTo>
                    <a:pt x="7861" y="382"/>
                  </a:lnTo>
                  <a:lnTo>
                    <a:pt x="7849" y="394"/>
                  </a:lnTo>
                  <a:lnTo>
                    <a:pt x="7820" y="376"/>
                  </a:lnTo>
                  <a:lnTo>
                    <a:pt x="7796" y="318"/>
                  </a:lnTo>
                  <a:lnTo>
                    <a:pt x="7814" y="323"/>
                  </a:lnTo>
                  <a:lnTo>
                    <a:pt x="7773" y="271"/>
                  </a:lnTo>
                  <a:lnTo>
                    <a:pt x="7801" y="282"/>
                  </a:lnTo>
                  <a:lnTo>
                    <a:pt x="7808" y="271"/>
                  </a:lnTo>
                  <a:lnTo>
                    <a:pt x="7837" y="282"/>
                  </a:lnTo>
                  <a:lnTo>
                    <a:pt x="7831" y="271"/>
                  </a:lnTo>
                  <a:lnTo>
                    <a:pt x="7854" y="246"/>
                  </a:lnTo>
                  <a:lnTo>
                    <a:pt x="7884" y="282"/>
                  </a:lnTo>
                  <a:lnTo>
                    <a:pt x="7896" y="271"/>
                  </a:lnTo>
                  <a:lnTo>
                    <a:pt x="7884" y="246"/>
                  </a:lnTo>
                  <a:lnTo>
                    <a:pt x="7967" y="241"/>
                  </a:lnTo>
                  <a:lnTo>
                    <a:pt x="8056" y="276"/>
                  </a:lnTo>
                  <a:lnTo>
                    <a:pt x="8032" y="246"/>
                  </a:lnTo>
                  <a:lnTo>
                    <a:pt x="8068" y="229"/>
                  </a:lnTo>
                  <a:lnTo>
                    <a:pt x="8049" y="212"/>
                  </a:lnTo>
                  <a:lnTo>
                    <a:pt x="8056" y="194"/>
                  </a:lnTo>
                  <a:lnTo>
                    <a:pt x="8068" y="176"/>
                  </a:lnTo>
                  <a:lnTo>
                    <a:pt x="8162" y="135"/>
                  </a:lnTo>
                  <a:lnTo>
                    <a:pt x="8126" y="118"/>
                  </a:lnTo>
                  <a:lnTo>
                    <a:pt x="8149" y="124"/>
                  </a:lnTo>
                  <a:lnTo>
                    <a:pt x="8162" y="135"/>
                  </a:lnTo>
                  <a:lnTo>
                    <a:pt x="8256" y="147"/>
                  </a:lnTo>
                  <a:lnTo>
                    <a:pt x="8238" y="124"/>
                  </a:lnTo>
                  <a:lnTo>
                    <a:pt x="8144" y="82"/>
                  </a:lnTo>
                  <a:lnTo>
                    <a:pt x="8156" y="88"/>
                  </a:lnTo>
                  <a:lnTo>
                    <a:pt x="8126" y="82"/>
                  </a:lnTo>
                  <a:lnTo>
                    <a:pt x="8138" y="76"/>
                  </a:lnTo>
                  <a:lnTo>
                    <a:pt x="8056" y="35"/>
                  </a:lnTo>
                  <a:lnTo>
                    <a:pt x="8068" y="47"/>
                  </a:lnTo>
                  <a:lnTo>
                    <a:pt x="8026" y="35"/>
                  </a:lnTo>
                  <a:lnTo>
                    <a:pt x="7996" y="18"/>
                  </a:lnTo>
                  <a:lnTo>
                    <a:pt x="7967" y="29"/>
                  </a:lnTo>
                  <a:lnTo>
                    <a:pt x="7932" y="12"/>
                  </a:lnTo>
                  <a:lnTo>
                    <a:pt x="7884" y="24"/>
                  </a:lnTo>
                  <a:lnTo>
                    <a:pt x="7932" y="5"/>
                  </a:lnTo>
                  <a:lnTo>
                    <a:pt x="7990" y="18"/>
                  </a:lnTo>
                  <a:lnTo>
                    <a:pt x="7932" y="0"/>
                  </a:lnTo>
                  <a:lnTo>
                    <a:pt x="8056" y="29"/>
                  </a:lnTo>
                  <a:lnTo>
                    <a:pt x="8079" y="18"/>
                  </a:lnTo>
                  <a:lnTo>
                    <a:pt x="807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43040" y="2696760"/>
              <a:ext cx="175680" cy="88560"/>
            </a:xfrm>
            <a:custGeom>
              <a:avLst/>
              <a:gdLst/>
              <a:ahLst/>
              <a:rect l="l" t="t" r="r" b="b"/>
              <a:pathLst>
                <a:path w="490" h="248">
                  <a:moveTo>
                    <a:pt x="0" y="200"/>
                  </a:moveTo>
                  <a:lnTo>
                    <a:pt x="64" y="177"/>
                  </a:lnTo>
                  <a:lnTo>
                    <a:pt x="77" y="152"/>
                  </a:lnTo>
                  <a:lnTo>
                    <a:pt x="141" y="129"/>
                  </a:lnTo>
                  <a:lnTo>
                    <a:pt x="130" y="147"/>
                  </a:lnTo>
                  <a:lnTo>
                    <a:pt x="164" y="135"/>
                  </a:lnTo>
                  <a:lnTo>
                    <a:pt x="117" y="152"/>
                  </a:lnTo>
                  <a:lnTo>
                    <a:pt x="94" y="177"/>
                  </a:lnTo>
                  <a:lnTo>
                    <a:pt x="188" y="182"/>
                  </a:lnTo>
                  <a:lnTo>
                    <a:pt x="158" y="218"/>
                  </a:lnTo>
                  <a:lnTo>
                    <a:pt x="200" y="241"/>
                  </a:lnTo>
                  <a:lnTo>
                    <a:pt x="230" y="224"/>
                  </a:lnTo>
                  <a:lnTo>
                    <a:pt x="211" y="247"/>
                  </a:lnTo>
                  <a:lnTo>
                    <a:pt x="236" y="229"/>
                  </a:lnTo>
                  <a:lnTo>
                    <a:pt x="259" y="235"/>
                  </a:lnTo>
                  <a:lnTo>
                    <a:pt x="241" y="229"/>
                  </a:lnTo>
                  <a:lnTo>
                    <a:pt x="247" y="218"/>
                  </a:lnTo>
                  <a:lnTo>
                    <a:pt x="312" y="200"/>
                  </a:lnTo>
                  <a:lnTo>
                    <a:pt x="306" y="194"/>
                  </a:lnTo>
                  <a:lnTo>
                    <a:pt x="347" y="177"/>
                  </a:lnTo>
                  <a:lnTo>
                    <a:pt x="336" y="171"/>
                  </a:lnTo>
                  <a:lnTo>
                    <a:pt x="347" y="182"/>
                  </a:lnTo>
                  <a:lnTo>
                    <a:pt x="389" y="182"/>
                  </a:lnTo>
                  <a:lnTo>
                    <a:pt x="395" y="165"/>
                  </a:lnTo>
                  <a:lnTo>
                    <a:pt x="425" y="171"/>
                  </a:lnTo>
                  <a:lnTo>
                    <a:pt x="489" y="147"/>
                  </a:lnTo>
                  <a:lnTo>
                    <a:pt x="459" y="141"/>
                  </a:lnTo>
                  <a:lnTo>
                    <a:pt x="472" y="105"/>
                  </a:lnTo>
                  <a:lnTo>
                    <a:pt x="442" y="105"/>
                  </a:lnTo>
                  <a:lnTo>
                    <a:pt x="412" y="94"/>
                  </a:lnTo>
                  <a:lnTo>
                    <a:pt x="372" y="100"/>
                  </a:lnTo>
                  <a:lnTo>
                    <a:pt x="342" y="124"/>
                  </a:lnTo>
                  <a:lnTo>
                    <a:pt x="353" y="129"/>
                  </a:lnTo>
                  <a:lnTo>
                    <a:pt x="347" y="129"/>
                  </a:lnTo>
                  <a:lnTo>
                    <a:pt x="317" y="135"/>
                  </a:lnTo>
                  <a:lnTo>
                    <a:pt x="365" y="82"/>
                  </a:lnTo>
                  <a:lnTo>
                    <a:pt x="389" y="65"/>
                  </a:lnTo>
                  <a:lnTo>
                    <a:pt x="347" y="24"/>
                  </a:lnTo>
                  <a:lnTo>
                    <a:pt x="330" y="35"/>
                  </a:lnTo>
                  <a:lnTo>
                    <a:pt x="336" y="0"/>
                  </a:lnTo>
                  <a:lnTo>
                    <a:pt x="3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2360" y="2549160"/>
              <a:ext cx="1577880" cy="199440"/>
            </a:xfrm>
            <a:custGeom>
              <a:avLst/>
              <a:gdLst/>
              <a:ahLst/>
              <a:rect l="l" t="t" r="r" b="b"/>
              <a:pathLst>
                <a:path w="4382" h="554">
                  <a:moveTo>
                    <a:pt x="4381" y="412"/>
                  </a:moveTo>
                  <a:lnTo>
                    <a:pt x="4157" y="365"/>
                  </a:lnTo>
                  <a:lnTo>
                    <a:pt x="4045" y="365"/>
                  </a:lnTo>
                  <a:lnTo>
                    <a:pt x="3926" y="353"/>
                  </a:lnTo>
                  <a:lnTo>
                    <a:pt x="3956" y="370"/>
                  </a:lnTo>
                  <a:lnTo>
                    <a:pt x="3950" y="383"/>
                  </a:lnTo>
                  <a:lnTo>
                    <a:pt x="4039" y="412"/>
                  </a:lnTo>
                  <a:lnTo>
                    <a:pt x="4039" y="424"/>
                  </a:lnTo>
                  <a:lnTo>
                    <a:pt x="3998" y="424"/>
                  </a:lnTo>
                  <a:lnTo>
                    <a:pt x="3915" y="400"/>
                  </a:lnTo>
                  <a:lnTo>
                    <a:pt x="3850" y="370"/>
                  </a:lnTo>
                  <a:lnTo>
                    <a:pt x="3839" y="389"/>
                  </a:lnTo>
                  <a:lnTo>
                    <a:pt x="3661" y="377"/>
                  </a:lnTo>
                  <a:lnTo>
                    <a:pt x="3644" y="394"/>
                  </a:lnTo>
                  <a:lnTo>
                    <a:pt x="3691" y="436"/>
                  </a:lnTo>
                  <a:lnTo>
                    <a:pt x="3679" y="436"/>
                  </a:lnTo>
                  <a:lnTo>
                    <a:pt x="3679" y="436"/>
                  </a:lnTo>
                  <a:lnTo>
                    <a:pt x="3614" y="383"/>
                  </a:lnTo>
                  <a:lnTo>
                    <a:pt x="3549" y="377"/>
                  </a:lnTo>
                  <a:lnTo>
                    <a:pt x="3525" y="347"/>
                  </a:lnTo>
                  <a:lnTo>
                    <a:pt x="3449" y="317"/>
                  </a:lnTo>
                  <a:lnTo>
                    <a:pt x="3308" y="306"/>
                  </a:lnTo>
                  <a:lnTo>
                    <a:pt x="3207" y="323"/>
                  </a:lnTo>
                  <a:lnTo>
                    <a:pt x="3124" y="294"/>
                  </a:lnTo>
                  <a:lnTo>
                    <a:pt x="3083" y="300"/>
                  </a:lnTo>
                  <a:lnTo>
                    <a:pt x="3083" y="289"/>
                  </a:lnTo>
                  <a:lnTo>
                    <a:pt x="3001" y="277"/>
                  </a:lnTo>
                  <a:lnTo>
                    <a:pt x="3024" y="265"/>
                  </a:lnTo>
                  <a:lnTo>
                    <a:pt x="2936" y="247"/>
                  </a:lnTo>
                  <a:lnTo>
                    <a:pt x="2894" y="247"/>
                  </a:lnTo>
                  <a:lnTo>
                    <a:pt x="2894" y="270"/>
                  </a:lnTo>
                  <a:lnTo>
                    <a:pt x="2860" y="277"/>
                  </a:lnTo>
                  <a:lnTo>
                    <a:pt x="2841" y="265"/>
                  </a:lnTo>
                  <a:lnTo>
                    <a:pt x="2871" y="265"/>
                  </a:lnTo>
                  <a:lnTo>
                    <a:pt x="2841" y="253"/>
                  </a:lnTo>
                  <a:lnTo>
                    <a:pt x="2877" y="259"/>
                  </a:lnTo>
                  <a:lnTo>
                    <a:pt x="2883" y="270"/>
                  </a:lnTo>
                  <a:lnTo>
                    <a:pt x="2888" y="247"/>
                  </a:lnTo>
                  <a:lnTo>
                    <a:pt x="2788" y="247"/>
                  </a:lnTo>
                  <a:lnTo>
                    <a:pt x="2883" y="247"/>
                  </a:lnTo>
                  <a:lnTo>
                    <a:pt x="2618" y="218"/>
                  </a:lnTo>
                  <a:lnTo>
                    <a:pt x="2659" y="236"/>
                  </a:lnTo>
                  <a:lnTo>
                    <a:pt x="2606" y="253"/>
                  </a:lnTo>
                  <a:lnTo>
                    <a:pt x="2646" y="253"/>
                  </a:lnTo>
                  <a:lnTo>
                    <a:pt x="2635" y="265"/>
                  </a:lnTo>
                  <a:lnTo>
                    <a:pt x="2694" y="289"/>
                  </a:lnTo>
                  <a:lnTo>
                    <a:pt x="2635" y="283"/>
                  </a:lnTo>
                  <a:lnTo>
                    <a:pt x="2618" y="289"/>
                  </a:lnTo>
                  <a:lnTo>
                    <a:pt x="2641" y="306"/>
                  </a:lnTo>
                  <a:lnTo>
                    <a:pt x="2529" y="283"/>
                  </a:lnTo>
                  <a:lnTo>
                    <a:pt x="2506" y="300"/>
                  </a:lnTo>
                  <a:lnTo>
                    <a:pt x="2476" y="294"/>
                  </a:lnTo>
                  <a:lnTo>
                    <a:pt x="2393" y="265"/>
                  </a:lnTo>
                  <a:lnTo>
                    <a:pt x="2405" y="294"/>
                  </a:lnTo>
                  <a:lnTo>
                    <a:pt x="2405" y="323"/>
                  </a:lnTo>
                  <a:lnTo>
                    <a:pt x="2334" y="306"/>
                  </a:lnTo>
                  <a:lnTo>
                    <a:pt x="2293" y="277"/>
                  </a:lnTo>
                  <a:lnTo>
                    <a:pt x="2251" y="265"/>
                  </a:lnTo>
                  <a:lnTo>
                    <a:pt x="2270" y="277"/>
                  </a:lnTo>
                  <a:lnTo>
                    <a:pt x="2151" y="242"/>
                  </a:lnTo>
                  <a:lnTo>
                    <a:pt x="2181" y="265"/>
                  </a:lnTo>
                  <a:lnTo>
                    <a:pt x="2228" y="294"/>
                  </a:lnTo>
                  <a:lnTo>
                    <a:pt x="2223" y="294"/>
                  </a:lnTo>
                  <a:lnTo>
                    <a:pt x="2134" y="247"/>
                  </a:lnTo>
                  <a:lnTo>
                    <a:pt x="1933" y="218"/>
                  </a:lnTo>
                  <a:lnTo>
                    <a:pt x="1862" y="218"/>
                  </a:lnTo>
                  <a:lnTo>
                    <a:pt x="1792" y="206"/>
                  </a:lnTo>
                  <a:lnTo>
                    <a:pt x="1780" y="189"/>
                  </a:lnTo>
                  <a:lnTo>
                    <a:pt x="1603" y="189"/>
                  </a:lnTo>
                  <a:lnTo>
                    <a:pt x="1627" y="223"/>
                  </a:lnTo>
                  <a:lnTo>
                    <a:pt x="1656" y="236"/>
                  </a:lnTo>
                  <a:lnTo>
                    <a:pt x="1567" y="170"/>
                  </a:lnTo>
                  <a:lnTo>
                    <a:pt x="1503" y="176"/>
                  </a:lnTo>
                  <a:lnTo>
                    <a:pt x="1497" y="165"/>
                  </a:lnTo>
                  <a:lnTo>
                    <a:pt x="1444" y="176"/>
                  </a:lnTo>
                  <a:lnTo>
                    <a:pt x="1497" y="176"/>
                  </a:lnTo>
                  <a:lnTo>
                    <a:pt x="1480" y="189"/>
                  </a:lnTo>
                  <a:lnTo>
                    <a:pt x="1361" y="206"/>
                  </a:lnTo>
                  <a:lnTo>
                    <a:pt x="1338" y="223"/>
                  </a:lnTo>
                  <a:lnTo>
                    <a:pt x="1474" y="136"/>
                  </a:lnTo>
                  <a:lnTo>
                    <a:pt x="1503" y="106"/>
                  </a:lnTo>
                  <a:lnTo>
                    <a:pt x="1427" y="83"/>
                  </a:lnTo>
                  <a:lnTo>
                    <a:pt x="1485" y="100"/>
                  </a:lnTo>
                  <a:lnTo>
                    <a:pt x="1485" y="83"/>
                  </a:lnTo>
                  <a:lnTo>
                    <a:pt x="1438" y="65"/>
                  </a:lnTo>
                  <a:lnTo>
                    <a:pt x="1438" y="76"/>
                  </a:lnTo>
                  <a:lnTo>
                    <a:pt x="1385" y="59"/>
                  </a:lnTo>
                  <a:lnTo>
                    <a:pt x="1338" y="42"/>
                  </a:lnTo>
                  <a:lnTo>
                    <a:pt x="1185" y="53"/>
                  </a:lnTo>
                  <a:lnTo>
                    <a:pt x="1202" y="36"/>
                  </a:lnTo>
                  <a:lnTo>
                    <a:pt x="1132" y="36"/>
                  </a:lnTo>
                  <a:lnTo>
                    <a:pt x="1079" y="29"/>
                  </a:lnTo>
                  <a:lnTo>
                    <a:pt x="1138" y="18"/>
                  </a:lnTo>
                  <a:lnTo>
                    <a:pt x="1043" y="0"/>
                  </a:lnTo>
                  <a:lnTo>
                    <a:pt x="979" y="36"/>
                  </a:lnTo>
                  <a:lnTo>
                    <a:pt x="996" y="53"/>
                  </a:lnTo>
                  <a:lnTo>
                    <a:pt x="1049" y="59"/>
                  </a:lnTo>
                  <a:lnTo>
                    <a:pt x="924" y="53"/>
                  </a:lnTo>
                  <a:lnTo>
                    <a:pt x="984" y="71"/>
                  </a:lnTo>
                  <a:lnTo>
                    <a:pt x="1043" y="112"/>
                  </a:lnTo>
                  <a:lnTo>
                    <a:pt x="984" y="95"/>
                  </a:lnTo>
                  <a:lnTo>
                    <a:pt x="937" y="65"/>
                  </a:lnTo>
                  <a:lnTo>
                    <a:pt x="877" y="83"/>
                  </a:lnTo>
                  <a:lnTo>
                    <a:pt x="843" y="83"/>
                  </a:lnTo>
                  <a:lnTo>
                    <a:pt x="843" y="71"/>
                  </a:lnTo>
                  <a:lnTo>
                    <a:pt x="748" y="71"/>
                  </a:lnTo>
                  <a:lnTo>
                    <a:pt x="748" y="83"/>
                  </a:lnTo>
                  <a:lnTo>
                    <a:pt x="790" y="83"/>
                  </a:lnTo>
                  <a:lnTo>
                    <a:pt x="642" y="100"/>
                  </a:lnTo>
                  <a:lnTo>
                    <a:pt x="577" y="112"/>
                  </a:lnTo>
                  <a:lnTo>
                    <a:pt x="612" y="123"/>
                  </a:lnTo>
                  <a:lnTo>
                    <a:pt x="601" y="142"/>
                  </a:lnTo>
                  <a:lnTo>
                    <a:pt x="559" y="136"/>
                  </a:lnTo>
                  <a:lnTo>
                    <a:pt x="624" y="153"/>
                  </a:lnTo>
                  <a:lnTo>
                    <a:pt x="589" y="147"/>
                  </a:lnTo>
                  <a:lnTo>
                    <a:pt x="577" y="153"/>
                  </a:lnTo>
                  <a:lnTo>
                    <a:pt x="660" y="170"/>
                  </a:lnTo>
                  <a:lnTo>
                    <a:pt x="612" y="195"/>
                  </a:lnTo>
                  <a:lnTo>
                    <a:pt x="665" y="218"/>
                  </a:lnTo>
                  <a:lnTo>
                    <a:pt x="607" y="195"/>
                  </a:lnTo>
                  <a:lnTo>
                    <a:pt x="624" y="170"/>
                  </a:lnTo>
                  <a:lnTo>
                    <a:pt x="418" y="189"/>
                  </a:lnTo>
                  <a:lnTo>
                    <a:pt x="465" y="236"/>
                  </a:lnTo>
                  <a:lnTo>
                    <a:pt x="607" y="283"/>
                  </a:lnTo>
                  <a:lnTo>
                    <a:pt x="607" y="306"/>
                  </a:lnTo>
                  <a:lnTo>
                    <a:pt x="637" y="347"/>
                  </a:lnTo>
                  <a:lnTo>
                    <a:pt x="654" y="359"/>
                  </a:lnTo>
                  <a:lnTo>
                    <a:pt x="648" y="359"/>
                  </a:lnTo>
                  <a:lnTo>
                    <a:pt x="630" y="353"/>
                  </a:lnTo>
                  <a:lnTo>
                    <a:pt x="607" y="312"/>
                  </a:lnTo>
                  <a:lnTo>
                    <a:pt x="618" y="353"/>
                  </a:lnTo>
                  <a:lnTo>
                    <a:pt x="589" y="336"/>
                  </a:lnTo>
                  <a:lnTo>
                    <a:pt x="589" y="277"/>
                  </a:lnTo>
                  <a:lnTo>
                    <a:pt x="529" y="277"/>
                  </a:lnTo>
                  <a:lnTo>
                    <a:pt x="389" y="242"/>
                  </a:lnTo>
                  <a:lnTo>
                    <a:pt x="359" y="259"/>
                  </a:lnTo>
                  <a:lnTo>
                    <a:pt x="395" y="270"/>
                  </a:lnTo>
                  <a:lnTo>
                    <a:pt x="317" y="265"/>
                  </a:lnTo>
                  <a:lnTo>
                    <a:pt x="335" y="283"/>
                  </a:lnTo>
                  <a:lnTo>
                    <a:pt x="412" y="294"/>
                  </a:lnTo>
                  <a:lnTo>
                    <a:pt x="442" y="317"/>
                  </a:lnTo>
                  <a:lnTo>
                    <a:pt x="465" y="312"/>
                  </a:lnTo>
                  <a:lnTo>
                    <a:pt x="442" y="317"/>
                  </a:lnTo>
                  <a:lnTo>
                    <a:pt x="317" y="294"/>
                  </a:lnTo>
                  <a:lnTo>
                    <a:pt x="312" y="283"/>
                  </a:lnTo>
                  <a:lnTo>
                    <a:pt x="282" y="236"/>
                  </a:lnTo>
                  <a:lnTo>
                    <a:pt x="241" y="218"/>
                  </a:lnTo>
                  <a:lnTo>
                    <a:pt x="270" y="259"/>
                  </a:lnTo>
                  <a:lnTo>
                    <a:pt x="223" y="289"/>
                  </a:lnTo>
                  <a:lnTo>
                    <a:pt x="300" y="342"/>
                  </a:lnTo>
                  <a:lnTo>
                    <a:pt x="329" y="406"/>
                  </a:lnTo>
                  <a:lnTo>
                    <a:pt x="489" y="417"/>
                  </a:lnTo>
                  <a:lnTo>
                    <a:pt x="529" y="447"/>
                  </a:lnTo>
                  <a:lnTo>
                    <a:pt x="518" y="477"/>
                  </a:lnTo>
                  <a:lnTo>
                    <a:pt x="589" y="483"/>
                  </a:lnTo>
                  <a:lnTo>
                    <a:pt x="506" y="470"/>
                  </a:lnTo>
                  <a:lnTo>
                    <a:pt x="489" y="436"/>
                  </a:lnTo>
                  <a:lnTo>
                    <a:pt x="442" y="412"/>
                  </a:lnTo>
                  <a:lnTo>
                    <a:pt x="370" y="424"/>
                  </a:lnTo>
                  <a:lnTo>
                    <a:pt x="418" y="477"/>
                  </a:lnTo>
                  <a:lnTo>
                    <a:pt x="359" y="553"/>
                  </a:lnTo>
                  <a:lnTo>
                    <a:pt x="247" y="541"/>
                  </a:lnTo>
                  <a:lnTo>
                    <a:pt x="223" y="524"/>
                  </a:lnTo>
                  <a:lnTo>
                    <a:pt x="223" y="524"/>
                  </a:lnTo>
                  <a:lnTo>
                    <a:pt x="294" y="524"/>
                  </a:lnTo>
                  <a:lnTo>
                    <a:pt x="282" y="536"/>
                  </a:lnTo>
                  <a:lnTo>
                    <a:pt x="300" y="541"/>
                  </a:lnTo>
                  <a:lnTo>
                    <a:pt x="323" y="524"/>
                  </a:lnTo>
                  <a:lnTo>
                    <a:pt x="312" y="517"/>
                  </a:lnTo>
                  <a:lnTo>
                    <a:pt x="353" y="477"/>
                  </a:lnTo>
                  <a:lnTo>
                    <a:pt x="347" y="436"/>
                  </a:lnTo>
                  <a:lnTo>
                    <a:pt x="289" y="412"/>
                  </a:lnTo>
                  <a:lnTo>
                    <a:pt x="235" y="317"/>
                  </a:lnTo>
                  <a:lnTo>
                    <a:pt x="176" y="289"/>
                  </a:lnTo>
                  <a:lnTo>
                    <a:pt x="170" y="230"/>
                  </a:lnTo>
                  <a:lnTo>
                    <a:pt x="40" y="218"/>
                  </a:lnTo>
                  <a:lnTo>
                    <a:pt x="34" y="230"/>
                  </a:lnTo>
                  <a:lnTo>
                    <a:pt x="40" y="277"/>
                  </a:lnTo>
                  <a:lnTo>
                    <a:pt x="0" y="312"/>
                  </a:lnTo>
                  <a:lnTo>
                    <a:pt x="34" y="323"/>
                  </a:lnTo>
                  <a:lnTo>
                    <a:pt x="53" y="383"/>
                  </a:lnTo>
                  <a:lnTo>
                    <a:pt x="100" y="383"/>
                  </a:lnTo>
                  <a:lnTo>
                    <a:pt x="134" y="412"/>
                  </a:lnTo>
                  <a:lnTo>
                    <a:pt x="164" y="412"/>
                  </a:lnTo>
                  <a:lnTo>
                    <a:pt x="164" y="447"/>
                  </a:lnTo>
                  <a:lnTo>
                    <a:pt x="153" y="45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14080" y="3126600"/>
              <a:ext cx="158400" cy="218880"/>
            </a:xfrm>
            <a:custGeom>
              <a:avLst/>
              <a:gdLst/>
              <a:ahLst/>
              <a:rect l="l" t="t" r="r" b="b"/>
              <a:pathLst>
                <a:path w="443" h="607">
                  <a:moveTo>
                    <a:pt x="177" y="506"/>
                  </a:moveTo>
                  <a:lnTo>
                    <a:pt x="171" y="464"/>
                  </a:lnTo>
                  <a:lnTo>
                    <a:pt x="183" y="476"/>
                  </a:lnTo>
                  <a:lnTo>
                    <a:pt x="194" y="459"/>
                  </a:lnTo>
                  <a:lnTo>
                    <a:pt x="189" y="406"/>
                  </a:lnTo>
                  <a:lnTo>
                    <a:pt x="200" y="394"/>
                  </a:lnTo>
                  <a:lnTo>
                    <a:pt x="230" y="400"/>
                  </a:lnTo>
                  <a:lnTo>
                    <a:pt x="183" y="376"/>
                  </a:lnTo>
                  <a:lnTo>
                    <a:pt x="124" y="306"/>
                  </a:lnTo>
                  <a:lnTo>
                    <a:pt x="118" y="306"/>
                  </a:lnTo>
                  <a:lnTo>
                    <a:pt x="53" y="240"/>
                  </a:lnTo>
                  <a:lnTo>
                    <a:pt x="53" y="188"/>
                  </a:lnTo>
                  <a:lnTo>
                    <a:pt x="30" y="170"/>
                  </a:lnTo>
                  <a:lnTo>
                    <a:pt x="0" y="153"/>
                  </a:lnTo>
                  <a:lnTo>
                    <a:pt x="24" y="112"/>
                  </a:lnTo>
                  <a:lnTo>
                    <a:pt x="18" y="82"/>
                  </a:lnTo>
                  <a:lnTo>
                    <a:pt x="30" y="93"/>
                  </a:lnTo>
                  <a:lnTo>
                    <a:pt x="24" y="82"/>
                  </a:lnTo>
                  <a:lnTo>
                    <a:pt x="77" y="76"/>
                  </a:lnTo>
                  <a:lnTo>
                    <a:pt x="71" y="59"/>
                  </a:lnTo>
                  <a:lnTo>
                    <a:pt x="94" y="47"/>
                  </a:lnTo>
                  <a:lnTo>
                    <a:pt x="88" y="47"/>
                  </a:lnTo>
                  <a:lnTo>
                    <a:pt x="94" y="35"/>
                  </a:lnTo>
                  <a:lnTo>
                    <a:pt x="177" y="0"/>
                  </a:lnTo>
                  <a:lnTo>
                    <a:pt x="224" y="18"/>
                  </a:lnTo>
                  <a:lnTo>
                    <a:pt x="253" y="12"/>
                  </a:lnTo>
                  <a:lnTo>
                    <a:pt x="277" y="53"/>
                  </a:lnTo>
                  <a:lnTo>
                    <a:pt x="272" y="93"/>
                  </a:lnTo>
                  <a:lnTo>
                    <a:pt x="295" y="106"/>
                  </a:lnTo>
                  <a:lnTo>
                    <a:pt x="212" y="106"/>
                  </a:lnTo>
                  <a:lnTo>
                    <a:pt x="194" y="129"/>
                  </a:lnTo>
                  <a:lnTo>
                    <a:pt x="230" y="153"/>
                  </a:lnTo>
                  <a:lnTo>
                    <a:pt x="164" y="147"/>
                  </a:lnTo>
                  <a:lnTo>
                    <a:pt x="200" y="170"/>
                  </a:lnTo>
                  <a:lnTo>
                    <a:pt x="236" y="229"/>
                  </a:lnTo>
                  <a:lnTo>
                    <a:pt x="312" y="259"/>
                  </a:lnTo>
                  <a:lnTo>
                    <a:pt x="306" y="312"/>
                  </a:lnTo>
                  <a:lnTo>
                    <a:pt x="342" y="353"/>
                  </a:lnTo>
                  <a:lnTo>
                    <a:pt x="330" y="317"/>
                  </a:lnTo>
                  <a:lnTo>
                    <a:pt x="336" y="294"/>
                  </a:lnTo>
                  <a:lnTo>
                    <a:pt x="359" y="287"/>
                  </a:lnTo>
                  <a:lnTo>
                    <a:pt x="383" y="317"/>
                  </a:lnTo>
                  <a:lnTo>
                    <a:pt x="430" y="353"/>
                  </a:lnTo>
                  <a:lnTo>
                    <a:pt x="406" y="364"/>
                  </a:lnTo>
                  <a:lnTo>
                    <a:pt x="419" y="376"/>
                  </a:lnTo>
                  <a:lnTo>
                    <a:pt x="389" y="382"/>
                  </a:lnTo>
                  <a:lnTo>
                    <a:pt x="378" y="364"/>
                  </a:lnTo>
                  <a:lnTo>
                    <a:pt x="342" y="359"/>
                  </a:lnTo>
                  <a:lnTo>
                    <a:pt x="336" y="387"/>
                  </a:lnTo>
                  <a:lnTo>
                    <a:pt x="359" y="429"/>
                  </a:lnTo>
                  <a:lnTo>
                    <a:pt x="353" y="417"/>
                  </a:lnTo>
                  <a:lnTo>
                    <a:pt x="389" y="417"/>
                  </a:lnTo>
                  <a:lnTo>
                    <a:pt x="383" y="434"/>
                  </a:lnTo>
                  <a:lnTo>
                    <a:pt x="401" y="447"/>
                  </a:lnTo>
                  <a:lnTo>
                    <a:pt x="372" y="447"/>
                  </a:lnTo>
                  <a:lnTo>
                    <a:pt x="378" y="464"/>
                  </a:lnTo>
                  <a:lnTo>
                    <a:pt x="378" y="453"/>
                  </a:lnTo>
                  <a:lnTo>
                    <a:pt x="419" y="476"/>
                  </a:lnTo>
                  <a:lnTo>
                    <a:pt x="436" y="570"/>
                  </a:lnTo>
                  <a:lnTo>
                    <a:pt x="442" y="606"/>
                  </a:lnTo>
                  <a:lnTo>
                    <a:pt x="425" y="600"/>
                  </a:lnTo>
                  <a:lnTo>
                    <a:pt x="306" y="606"/>
                  </a:lnTo>
                  <a:lnTo>
                    <a:pt x="253" y="570"/>
                  </a:lnTo>
                  <a:lnTo>
                    <a:pt x="200" y="553"/>
                  </a:lnTo>
                  <a:lnTo>
                    <a:pt x="177" y="50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39720" y="2468160"/>
              <a:ext cx="744120" cy="399600"/>
            </a:xfrm>
            <a:custGeom>
              <a:avLst/>
              <a:gdLst/>
              <a:ahLst/>
              <a:rect l="l" t="t" r="r" b="b"/>
              <a:pathLst>
                <a:path w="2066" h="1113">
                  <a:moveTo>
                    <a:pt x="1044" y="783"/>
                  </a:moveTo>
                  <a:lnTo>
                    <a:pt x="1050" y="765"/>
                  </a:lnTo>
                  <a:lnTo>
                    <a:pt x="1091" y="771"/>
                  </a:lnTo>
                  <a:lnTo>
                    <a:pt x="1109" y="760"/>
                  </a:lnTo>
                  <a:lnTo>
                    <a:pt x="1167" y="701"/>
                  </a:lnTo>
                  <a:lnTo>
                    <a:pt x="1214" y="694"/>
                  </a:lnTo>
                  <a:lnTo>
                    <a:pt x="1209" y="654"/>
                  </a:lnTo>
                  <a:lnTo>
                    <a:pt x="1256" y="683"/>
                  </a:lnTo>
                  <a:lnTo>
                    <a:pt x="1280" y="683"/>
                  </a:lnTo>
                  <a:lnTo>
                    <a:pt x="1274" y="671"/>
                  </a:lnTo>
                  <a:lnTo>
                    <a:pt x="1297" y="683"/>
                  </a:lnTo>
                  <a:lnTo>
                    <a:pt x="1309" y="666"/>
                  </a:lnTo>
                  <a:lnTo>
                    <a:pt x="1327" y="677"/>
                  </a:lnTo>
                  <a:lnTo>
                    <a:pt x="1409" y="660"/>
                  </a:lnTo>
                  <a:lnTo>
                    <a:pt x="1475" y="641"/>
                  </a:lnTo>
                  <a:lnTo>
                    <a:pt x="1539" y="613"/>
                  </a:lnTo>
                  <a:lnTo>
                    <a:pt x="1534" y="607"/>
                  </a:lnTo>
                  <a:lnTo>
                    <a:pt x="1557" y="607"/>
                  </a:lnTo>
                  <a:lnTo>
                    <a:pt x="1616" y="583"/>
                  </a:lnTo>
                  <a:lnTo>
                    <a:pt x="1509" y="566"/>
                  </a:lnTo>
                  <a:lnTo>
                    <a:pt x="1422" y="589"/>
                  </a:lnTo>
                  <a:lnTo>
                    <a:pt x="1380" y="583"/>
                  </a:lnTo>
                  <a:lnTo>
                    <a:pt x="1462" y="560"/>
                  </a:lnTo>
                  <a:lnTo>
                    <a:pt x="1362" y="566"/>
                  </a:lnTo>
                  <a:lnTo>
                    <a:pt x="1403" y="554"/>
                  </a:lnTo>
                  <a:lnTo>
                    <a:pt x="1428" y="536"/>
                  </a:lnTo>
                  <a:lnTo>
                    <a:pt x="1422" y="530"/>
                  </a:lnTo>
                  <a:lnTo>
                    <a:pt x="1433" y="541"/>
                  </a:lnTo>
                  <a:lnTo>
                    <a:pt x="1515" y="524"/>
                  </a:lnTo>
                  <a:lnTo>
                    <a:pt x="1498" y="513"/>
                  </a:lnTo>
                  <a:lnTo>
                    <a:pt x="1403" y="507"/>
                  </a:lnTo>
                  <a:lnTo>
                    <a:pt x="1451" y="501"/>
                  </a:lnTo>
                  <a:lnTo>
                    <a:pt x="1409" y="483"/>
                  </a:lnTo>
                  <a:lnTo>
                    <a:pt x="1462" y="507"/>
                  </a:lnTo>
                  <a:lnTo>
                    <a:pt x="1545" y="518"/>
                  </a:lnTo>
                  <a:lnTo>
                    <a:pt x="1581" y="566"/>
                  </a:lnTo>
                  <a:lnTo>
                    <a:pt x="1610" y="566"/>
                  </a:lnTo>
                  <a:lnTo>
                    <a:pt x="1616" y="541"/>
                  </a:lnTo>
                  <a:lnTo>
                    <a:pt x="1616" y="566"/>
                  </a:lnTo>
                  <a:lnTo>
                    <a:pt x="1645" y="560"/>
                  </a:lnTo>
                  <a:lnTo>
                    <a:pt x="1651" y="530"/>
                  </a:lnTo>
                  <a:lnTo>
                    <a:pt x="1628" y="536"/>
                  </a:lnTo>
                  <a:lnTo>
                    <a:pt x="1651" y="513"/>
                  </a:lnTo>
                  <a:lnTo>
                    <a:pt x="1622" y="524"/>
                  </a:lnTo>
                  <a:lnTo>
                    <a:pt x="1622" y="513"/>
                  </a:lnTo>
                  <a:lnTo>
                    <a:pt x="1651" y="501"/>
                  </a:lnTo>
                  <a:lnTo>
                    <a:pt x="1622" y="507"/>
                  </a:lnTo>
                  <a:lnTo>
                    <a:pt x="1628" y="494"/>
                  </a:lnTo>
                  <a:lnTo>
                    <a:pt x="1610" y="501"/>
                  </a:lnTo>
                  <a:lnTo>
                    <a:pt x="1628" y="489"/>
                  </a:lnTo>
                  <a:lnTo>
                    <a:pt x="1557" y="466"/>
                  </a:lnTo>
                  <a:lnTo>
                    <a:pt x="1522" y="483"/>
                  </a:lnTo>
                  <a:lnTo>
                    <a:pt x="1522" y="466"/>
                  </a:lnTo>
                  <a:lnTo>
                    <a:pt x="1557" y="460"/>
                  </a:lnTo>
                  <a:lnTo>
                    <a:pt x="1551" y="454"/>
                  </a:lnTo>
                  <a:lnTo>
                    <a:pt x="1528" y="447"/>
                  </a:lnTo>
                  <a:lnTo>
                    <a:pt x="1492" y="460"/>
                  </a:lnTo>
                  <a:lnTo>
                    <a:pt x="1462" y="447"/>
                  </a:lnTo>
                  <a:lnTo>
                    <a:pt x="1509" y="447"/>
                  </a:lnTo>
                  <a:lnTo>
                    <a:pt x="1551" y="436"/>
                  </a:lnTo>
                  <a:lnTo>
                    <a:pt x="1498" y="430"/>
                  </a:lnTo>
                  <a:lnTo>
                    <a:pt x="1456" y="442"/>
                  </a:lnTo>
                  <a:lnTo>
                    <a:pt x="1451" y="430"/>
                  </a:lnTo>
                  <a:lnTo>
                    <a:pt x="1504" y="430"/>
                  </a:lnTo>
                  <a:lnTo>
                    <a:pt x="1469" y="419"/>
                  </a:lnTo>
                  <a:lnTo>
                    <a:pt x="1515" y="424"/>
                  </a:lnTo>
                  <a:lnTo>
                    <a:pt x="1569" y="413"/>
                  </a:lnTo>
                  <a:lnTo>
                    <a:pt x="1539" y="394"/>
                  </a:lnTo>
                  <a:lnTo>
                    <a:pt x="1575" y="413"/>
                  </a:lnTo>
                  <a:lnTo>
                    <a:pt x="1592" y="400"/>
                  </a:lnTo>
                  <a:lnTo>
                    <a:pt x="1657" y="407"/>
                  </a:lnTo>
                  <a:lnTo>
                    <a:pt x="1592" y="407"/>
                  </a:lnTo>
                  <a:lnTo>
                    <a:pt x="1645" y="424"/>
                  </a:lnTo>
                  <a:lnTo>
                    <a:pt x="1717" y="419"/>
                  </a:lnTo>
                  <a:lnTo>
                    <a:pt x="1728" y="394"/>
                  </a:lnTo>
                  <a:lnTo>
                    <a:pt x="1681" y="389"/>
                  </a:lnTo>
                  <a:lnTo>
                    <a:pt x="1669" y="407"/>
                  </a:lnTo>
                  <a:lnTo>
                    <a:pt x="1651" y="389"/>
                  </a:lnTo>
                  <a:lnTo>
                    <a:pt x="1669" y="366"/>
                  </a:lnTo>
                  <a:lnTo>
                    <a:pt x="1751" y="383"/>
                  </a:lnTo>
                  <a:lnTo>
                    <a:pt x="1781" y="371"/>
                  </a:lnTo>
                  <a:lnTo>
                    <a:pt x="1710" y="360"/>
                  </a:lnTo>
                  <a:lnTo>
                    <a:pt x="1728" y="342"/>
                  </a:lnTo>
                  <a:lnTo>
                    <a:pt x="1687" y="347"/>
                  </a:lnTo>
                  <a:lnTo>
                    <a:pt x="1669" y="336"/>
                  </a:lnTo>
                  <a:lnTo>
                    <a:pt x="1687" y="347"/>
                  </a:lnTo>
                  <a:lnTo>
                    <a:pt x="1734" y="342"/>
                  </a:lnTo>
                  <a:lnTo>
                    <a:pt x="1704" y="324"/>
                  </a:lnTo>
                  <a:lnTo>
                    <a:pt x="1681" y="319"/>
                  </a:lnTo>
                  <a:lnTo>
                    <a:pt x="1757" y="336"/>
                  </a:lnTo>
                  <a:lnTo>
                    <a:pt x="1775" y="330"/>
                  </a:lnTo>
                  <a:lnTo>
                    <a:pt x="1763" y="307"/>
                  </a:lnTo>
                  <a:lnTo>
                    <a:pt x="1692" y="300"/>
                  </a:lnTo>
                  <a:lnTo>
                    <a:pt x="1775" y="295"/>
                  </a:lnTo>
                  <a:lnTo>
                    <a:pt x="1728" y="289"/>
                  </a:lnTo>
                  <a:lnTo>
                    <a:pt x="1704" y="289"/>
                  </a:lnTo>
                  <a:lnTo>
                    <a:pt x="1710" y="277"/>
                  </a:lnTo>
                  <a:lnTo>
                    <a:pt x="1687" y="266"/>
                  </a:lnTo>
                  <a:lnTo>
                    <a:pt x="1710" y="272"/>
                  </a:lnTo>
                  <a:lnTo>
                    <a:pt x="1740" y="266"/>
                  </a:lnTo>
                  <a:lnTo>
                    <a:pt x="1734" y="260"/>
                  </a:lnTo>
                  <a:lnTo>
                    <a:pt x="1823" y="266"/>
                  </a:lnTo>
                  <a:lnTo>
                    <a:pt x="1834" y="260"/>
                  </a:lnTo>
                  <a:lnTo>
                    <a:pt x="1828" y="242"/>
                  </a:lnTo>
                  <a:lnTo>
                    <a:pt x="1793" y="247"/>
                  </a:lnTo>
                  <a:lnTo>
                    <a:pt x="1740" y="230"/>
                  </a:lnTo>
                  <a:lnTo>
                    <a:pt x="1757" y="224"/>
                  </a:lnTo>
                  <a:lnTo>
                    <a:pt x="1804" y="224"/>
                  </a:lnTo>
                  <a:lnTo>
                    <a:pt x="1751" y="213"/>
                  </a:lnTo>
                  <a:lnTo>
                    <a:pt x="1710" y="224"/>
                  </a:lnTo>
                  <a:lnTo>
                    <a:pt x="1751" y="177"/>
                  </a:lnTo>
                  <a:lnTo>
                    <a:pt x="1823" y="166"/>
                  </a:lnTo>
                  <a:lnTo>
                    <a:pt x="1810" y="147"/>
                  </a:lnTo>
                  <a:lnTo>
                    <a:pt x="1887" y="130"/>
                  </a:lnTo>
                  <a:lnTo>
                    <a:pt x="1828" y="130"/>
                  </a:lnTo>
                  <a:lnTo>
                    <a:pt x="1787" y="142"/>
                  </a:lnTo>
                  <a:lnTo>
                    <a:pt x="1787" y="130"/>
                  </a:lnTo>
                  <a:lnTo>
                    <a:pt x="1934" y="113"/>
                  </a:lnTo>
                  <a:lnTo>
                    <a:pt x="1810" y="106"/>
                  </a:lnTo>
                  <a:lnTo>
                    <a:pt x="1770" y="113"/>
                  </a:lnTo>
                  <a:lnTo>
                    <a:pt x="1940" y="100"/>
                  </a:lnTo>
                  <a:lnTo>
                    <a:pt x="2065" y="72"/>
                  </a:lnTo>
                  <a:lnTo>
                    <a:pt x="1976" y="60"/>
                  </a:lnTo>
                  <a:lnTo>
                    <a:pt x="1899" y="60"/>
                  </a:lnTo>
                  <a:lnTo>
                    <a:pt x="1870" y="77"/>
                  </a:lnTo>
                  <a:lnTo>
                    <a:pt x="1804" y="77"/>
                  </a:lnTo>
                  <a:lnTo>
                    <a:pt x="1823" y="66"/>
                  </a:lnTo>
                  <a:lnTo>
                    <a:pt x="1663" y="113"/>
                  </a:lnTo>
                  <a:lnTo>
                    <a:pt x="1751" y="53"/>
                  </a:lnTo>
                  <a:lnTo>
                    <a:pt x="1581" y="77"/>
                  </a:lnTo>
                  <a:lnTo>
                    <a:pt x="1657" y="53"/>
                  </a:lnTo>
                  <a:lnTo>
                    <a:pt x="1415" y="66"/>
                  </a:lnTo>
                  <a:lnTo>
                    <a:pt x="1509" y="53"/>
                  </a:lnTo>
                  <a:lnTo>
                    <a:pt x="1456" y="48"/>
                  </a:lnTo>
                  <a:lnTo>
                    <a:pt x="1681" y="48"/>
                  </a:lnTo>
                  <a:lnTo>
                    <a:pt x="1787" y="36"/>
                  </a:lnTo>
                  <a:lnTo>
                    <a:pt x="1704" y="25"/>
                  </a:lnTo>
                  <a:lnTo>
                    <a:pt x="1645" y="30"/>
                  </a:lnTo>
                  <a:lnTo>
                    <a:pt x="1675" y="19"/>
                  </a:lnTo>
                  <a:lnTo>
                    <a:pt x="1345" y="30"/>
                  </a:lnTo>
                  <a:lnTo>
                    <a:pt x="1415" y="19"/>
                  </a:lnTo>
                  <a:lnTo>
                    <a:pt x="1616" y="19"/>
                  </a:lnTo>
                  <a:lnTo>
                    <a:pt x="1657" y="13"/>
                  </a:lnTo>
                  <a:lnTo>
                    <a:pt x="1439" y="0"/>
                  </a:lnTo>
                  <a:lnTo>
                    <a:pt x="1256" y="6"/>
                  </a:lnTo>
                  <a:lnTo>
                    <a:pt x="1309" y="19"/>
                  </a:lnTo>
                  <a:lnTo>
                    <a:pt x="1250" y="19"/>
                  </a:lnTo>
                  <a:lnTo>
                    <a:pt x="1239" y="19"/>
                  </a:lnTo>
                  <a:lnTo>
                    <a:pt x="1250" y="30"/>
                  </a:lnTo>
                  <a:lnTo>
                    <a:pt x="1133" y="13"/>
                  </a:lnTo>
                  <a:lnTo>
                    <a:pt x="1038" y="19"/>
                  </a:lnTo>
                  <a:lnTo>
                    <a:pt x="1103" y="25"/>
                  </a:lnTo>
                  <a:lnTo>
                    <a:pt x="1003" y="19"/>
                  </a:lnTo>
                  <a:lnTo>
                    <a:pt x="1203" y="30"/>
                  </a:lnTo>
                  <a:lnTo>
                    <a:pt x="1203" y="42"/>
                  </a:lnTo>
                  <a:lnTo>
                    <a:pt x="1156" y="30"/>
                  </a:lnTo>
                  <a:lnTo>
                    <a:pt x="1144" y="42"/>
                  </a:lnTo>
                  <a:lnTo>
                    <a:pt x="1138" y="30"/>
                  </a:lnTo>
                  <a:lnTo>
                    <a:pt x="1027" y="30"/>
                  </a:lnTo>
                  <a:lnTo>
                    <a:pt x="1120" y="48"/>
                  </a:lnTo>
                  <a:lnTo>
                    <a:pt x="1050" y="48"/>
                  </a:lnTo>
                  <a:lnTo>
                    <a:pt x="1038" y="66"/>
                  </a:lnTo>
                  <a:lnTo>
                    <a:pt x="891" y="36"/>
                  </a:lnTo>
                  <a:lnTo>
                    <a:pt x="849" y="42"/>
                  </a:lnTo>
                  <a:lnTo>
                    <a:pt x="891" y="60"/>
                  </a:lnTo>
                  <a:lnTo>
                    <a:pt x="838" y="60"/>
                  </a:lnTo>
                  <a:lnTo>
                    <a:pt x="867" y="72"/>
                  </a:lnTo>
                  <a:lnTo>
                    <a:pt x="785" y="53"/>
                  </a:lnTo>
                  <a:lnTo>
                    <a:pt x="743" y="72"/>
                  </a:lnTo>
                  <a:lnTo>
                    <a:pt x="743" y="42"/>
                  </a:lnTo>
                  <a:lnTo>
                    <a:pt x="607" y="53"/>
                  </a:lnTo>
                  <a:lnTo>
                    <a:pt x="649" y="83"/>
                  </a:lnTo>
                  <a:lnTo>
                    <a:pt x="549" y="60"/>
                  </a:lnTo>
                  <a:lnTo>
                    <a:pt x="496" y="89"/>
                  </a:lnTo>
                  <a:lnTo>
                    <a:pt x="424" y="89"/>
                  </a:lnTo>
                  <a:lnTo>
                    <a:pt x="430" y="100"/>
                  </a:lnTo>
                  <a:lnTo>
                    <a:pt x="413" y="89"/>
                  </a:lnTo>
                  <a:lnTo>
                    <a:pt x="265" y="119"/>
                  </a:lnTo>
                  <a:lnTo>
                    <a:pt x="265" y="130"/>
                  </a:lnTo>
                  <a:lnTo>
                    <a:pt x="377" y="124"/>
                  </a:lnTo>
                  <a:lnTo>
                    <a:pt x="277" y="166"/>
                  </a:lnTo>
                  <a:lnTo>
                    <a:pt x="29" y="195"/>
                  </a:lnTo>
                  <a:lnTo>
                    <a:pt x="0" y="207"/>
                  </a:lnTo>
                  <a:lnTo>
                    <a:pt x="48" y="224"/>
                  </a:lnTo>
                  <a:lnTo>
                    <a:pt x="95" y="219"/>
                  </a:lnTo>
                  <a:lnTo>
                    <a:pt x="65" y="224"/>
                  </a:lnTo>
                  <a:lnTo>
                    <a:pt x="106" y="224"/>
                  </a:lnTo>
                  <a:lnTo>
                    <a:pt x="76" y="230"/>
                  </a:lnTo>
                  <a:lnTo>
                    <a:pt x="106" y="236"/>
                  </a:lnTo>
                  <a:lnTo>
                    <a:pt x="201" y="224"/>
                  </a:lnTo>
                  <a:lnTo>
                    <a:pt x="212" y="236"/>
                  </a:lnTo>
                  <a:lnTo>
                    <a:pt x="201" y="247"/>
                  </a:lnTo>
                  <a:lnTo>
                    <a:pt x="106" y="247"/>
                  </a:lnTo>
                  <a:lnTo>
                    <a:pt x="189" y="253"/>
                  </a:lnTo>
                  <a:lnTo>
                    <a:pt x="18" y="253"/>
                  </a:lnTo>
                  <a:lnTo>
                    <a:pt x="35" y="266"/>
                  </a:lnTo>
                  <a:lnTo>
                    <a:pt x="76" y="253"/>
                  </a:lnTo>
                  <a:lnTo>
                    <a:pt x="53" y="266"/>
                  </a:lnTo>
                  <a:lnTo>
                    <a:pt x="124" y="272"/>
                  </a:lnTo>
                  <a:lnTo>
                    <a:pt x="59" y="283"/>
                  </a:lnTo>
                  <a:lnTo>
                    <a:pt x="82" y="295"/>
                  </a:lnTo>
                  <a:lnTo>
                    <a:pt x="148" y="307"/>
                  </a:lnTo>
                  <a:lnTo>
                    <a:pt x="142" y="289"/>
                  </a:lnTo>
                  <a:lnTo>
                    <a:pt x="154" y="295"/>
                  </a:lnTo>
                  <a:lnTo>
                    <a:pt x="189" y="289"/>
                  </a:lnTo>
                  <a:lnTo>
                    <a:pt x="182" y="300"/>
                  </a:lnTo>
                  <a:lnTo>
                    <a:pt x="235" y="283"/>
                  </a:lnTo>
                  <a:lnTo>
                    <a:pt x="271" y="283"/>
                  </a:lnTo>
                  <a:lnTo>
                    <a:pt x="371" y="300"/>
                  </a:lnTo>
                  <a:lnTo>
                    <a:pt x="413" y="342"/>
                  </a:lnTo>
                  <a:lnTo>
                    <a:pt x="466" y="366"/>
                  </a:lnTo>
                  <a:lnTo>
                    <a:pt x="413" y="389"/>
                  </a:lnTo>
                  <a:lnTo>
                    <a:pt x="460" y="377"/>
                  </a:lnTo>
                  <a:lnTo>
                    <a:pt x="443" y="407"/>
                  </a:lnTo>
                  <a:lnTo>
                    <a:pt x="472" y="424"/>
                  </a:lnTo>
                  <a:lnTo>
                    <a:pt x="443" y="436"/>
                  </a:lnTo>
                  <a:lnTo>
                    <a:pt x="472" y="442"/>
                  </a:lnTo>
                  <a:lnTo>
                    <a:pt x="454" y="460"/>
                  </a:lnTo>
                  <a:lnTo>
                    <a:pt x="477" y="466"/>
                  </a:lnTo>
                  <a:lnTo>
                    <a:pt x="430" y="466"/>
                  </a:lnTo>
                  <a:lnTo>
                    <a:pt x="460" y="471"/>
                  </a:lnTo>
                  <a:lnTo>
                    <a:pt x="419" y="489"/>
                  </a:lnTo>
                  <a:lnTo>
                    <a:pt x="466" y="477"/>
                  </a:lnTo>
                  <a:lnTo>
                    <a:pt x="396" y="501"/>
                  </a:lnTo>
                  <a:lnTo>
                    <a:pt x="413" y="518"/>
                  </a:lnTo>
                  <a:lnTo>
                    <a:pt x="466" y="513"/>
                  </a:lnTo>
                  <a:lnTo>
                    <a:pt x="496" y="494"/>
                  </a:lnTo>
                  <a:lnTo>
                    <a:pt x="501" y="471"/>
                  </a:lnTo>
                  <a:lnTo>
                    <a:pt x="496" y="501"/>
                  </a:lnTo>
                  <a:lnTo>
                    <a:pt x="525" y="489"/>
                  </a:lnTo>
                  <a:lnTo>
                    <a:pt x="496" y="501"/>
                  </a:lnTo>
                  <a:lnTo>
                    <a:pt x="554" y="501"/>
                  </a:lnTo>
                  <a:lnTo>
                    <a:pt x="496" y="513"/>
                  </a:lnTo>
                  <a:lnTo>
                    <a:pt x="560" y="513"/>
                  </a:lnTo>
                  <a:lnTo>
                    <a:pt x="507" y="530"/>
                  </a:lnTo>
                  <a:lnTo>
                    <a:pt x="549" y="518"/>
                  </a:lnTo>
                  <a:lnTo>
                    <a:pt x="519" y="530"/>
                  </a:lnTo>
                  <a:lnTo>
                    <a:pt x="554" y="530"/>
                  </a:lnTo>
                  <a:lnTo>
                    <a:pt x="560" y="536"/>
                  </a:lnTo>
                  <a:lnTo>
                    <a:pt x="525" y="536"/>
                  </a:lnTo>
                  <a:lnTo>
                    <a:pt x="566" y="547"/>
                  </a:lnTo>
                  <a:lnTo>
                    <a:pt x="537" y="547"/>
                  </a:lnTo>
                  <a:lnTo>
                    <a:pt x="566" y="554"/>
                  </a:lnTo>
                  <a:lnTo>
                    <a:pt x="549" y="566"/>
                  </a:lnTo>
                  <a:lnTo>
                    <a:pt x="566" y="560"/>
                  </a:lnTo>
                  <a:lnTo>
                    <a:pt x="554" y="571"/>
                  </a:lnTo>
                  <a:lnTo>
                    <a:pt x="477" y="547"/>
                  </a:lnTo>
                  <a:lnTo>
                    <a:pt x="419" y="554"/>
                  </a:lnTo>
                  <a:lnTo>
                    <a:pt x="490" y="583"/>
                  </a:lnTo>
                  <a:lnTo>
                    <a:pt x="566" y="583"/>
                  </a:lnTo>
                  <a:lnTo>
                    <a:pt x="530" y="613"/>
                  </a:lnTo>
                  <a:lnTo>
                    <a:pt x="554" y="607"/>
                  </a:lnTo>
                  <a:lnTo>
                    <a:pt x="513" y="624"/>
                  </a:lnTo>
                  <a:lnTo>
                    <a:pt x="549" y="624"/>
                  </a:lnTo>
                  <a:lnTo>
                    <a:pt x="525" y="630"/>
                  </a:lnTo>
                  <a:lnTo>
                    <a:pt x="537" y="641"/>
                  </a:lnTo>
                  <a:lnTo>
                    <a:pt x="513" y="630"/>
                  </a:lnTo>
                  <a:lnTo>
                    <a:pt x="519" y="641"/>
                  </a:lnTo>
                  <a:lnTo>
                    <a:pt x="507" y="654"/>
                  </a:lnTo>
                  <a:lnTo>
                    <a:pt x="407" y="671"/>
                  </a:lnTo>
                  <a:lnTo>
                    <a:pt x="437" y="677"/>
                  </a:lnTo>
                  <a:lnTo>
                    <a:pt x="472" y="666"/>
                  </a:lnTo>
                  <a:lnTo>
                    <a:pt x="507" y="660"/>
                  </a:lnTo>
                  <a:lnTo>
                    <a:pt x="477" y="671"/>
                  </a:lnTo>
                  <a:lnTo>
                    <a:pt x="477" y="677"/>
                  </a:lnTo>
                  <a:lnTo>
                    <a:pt x="519" y="688"/>
                  </a:lnTo>
                  <a:lnTo>
                    <a:pt x="407" y="677"/>
                  </a:lnTo>
                  <a:lnTo>
                    <a:pt x="448" y="688"/>
                  </a:lnTo>
                  <a:lnTo>
                    <a:pt x="407" y="683"/>
                  </a:lnTo>
                  <a:lnTo>
                    <a:pt x="371" y="713"/>
                  </a:lnTo>
                  <a:lnTo>
                    <a:pt x="466" y="688"/>
                  </a:lnTo>
                  <a:lnTo>
                    <a:pt x="430" y="694"/>
                  </a:lnTo>
                  <a:lnTo>
                    <a:pt x="454" y="701"/>
                  </a:lnTo>
                  <a:lnTo>
                    <a:pt x="490" y="688"/>
                  </a:lnTo>
                  <a:lnTo>
                    <a:pt x="513" y="694"/>
                  </a:lnTo>
                  <a:lnTo>
                    <a:pt x="472" y="701"/>
                  </a:lnTo>
                  <a:lnTo>
                    <a:pt x="519" y="701"/>
                  </a:lnTo>
                  <a:lnTo>
                    <a:pt x="484" y="707"/>
                  </a:lnTo>
                  <a:lnTo>
                    <a:pt x="507" y="713"/>
                  </a:lnTo>
                  <a:lnTo>
                    <a:pt x="424" y="701"/>
                  </a:lnTo>
                  <a:lnTo>
                    <a:pt x="360" y="724"/>
                  </a:lnTo>
                  <a:lnTo>
                    <a:pt x="472" y="718"/>
                  </a:lnTo>
                  <a:lnTo>
                    <a:pt x="460" y="730"/>
                  </a:lnTo>
                  <a:lnTo>
                    <a:pt x="496" y="730"/>
                  </a:lnTo>
                  <a:lnTo>
                    <a:pt x="430" y="718"/>
                  </a:lnTo>
                  <a:lnTo>
                    <a:pt x="354" y="736"/>
                  </a:lnTo>
                  <a:lnTo>
                    <a:pt x="377" y="730"/>
                  </a:lnTo>
                  <a:lnTo>
                    <a:pt x="377" y="736"/>
                  </a:lnTo>
                  <a:lnTo>
                    <a:pt x="413" y="748"/>
                  </a:lnTo>
                  <a:lnTo>
                    <a:pt x="396" y="754"/>
                  </a:lnTo>
                  <a:lnTo>
                    <a:pt x="360" y="754"/>
                  </a:lnTo>
                  <a:lnTo>
                    <a:pt x="401" y="760"/>
                  </a:lnTo>
                  <a:lnTo>
                    <a:pt x="354" y="765"/>
                  </a:lnTo>
                  <a:lnTo>
                    <a:pt x="348" y="777"/>
                  </a:lnTo>
                  <a:lnTo>
                    <a:pt x="366" y="777"/>
                  </a:lnTo>
                  <a:lnTo>
                    <a:pt x="348" y="783"/>
                  </a:lnTo>
                  <a:lnTo>
                    <a:pt x="466" y="736"/>
                  </a:lnTo>
                  <a:lnTo>
                    <a:pt x="501" y="736"/>
                  </a:lnTo>
                  <a:lnTo>
                    <a:pt x="466" y="741"/>
                  </a:lnTo>
                  <a:lnTo>
                    <a:pt x="490" y="748"/>
                  </a:lnTo>
                  <a:lnTo>
                    <a:pt x="454" y="748"/>
                  </a:lnTo>
                  <a:lnTo>
                    <a:pt x="348" y="788"/>
                  </a:lnTo>
                  <a:lnTo>
                    <a:pt x="371" y="788"/>
                  </a:lnTo>
                  <a:lnTo>
                    <a:pt x="413" y="783"/>
                  </a:lnTo>
                  <a:lnTo>
                    <a:pt x="348" y="801"/>
                  </a:lnTo>
                  <a:lnTo>
                    <a:pt x="348" y="807"/>
                  </a:lnTo>
                  <a:lnTo>
                    <a:pt x="371" y="801"/>
                  </a:lnTo>
                  <a:lnTo>
                    <a:pt x="377" y="807"/>
                  </a:lnTo>
                  <a:lnTo>
                    <a:pt x="371" y="824"/>
                  </a:lnTo>
                  <a:lnTo>
                    <a:pt x="419" y="801"/>
                  </a:lnTo>
                  <a:lnTo>
                    <a:pt x="454" y="807"/>
                  </a:lnTo>
                  <a:lnTo>
                    <a:pt x="407" y="807"/>
                  </a:lnTo>
                  <a:lnTo>
                    <a:pt x="366" y="824"/>
                  </a:lnTo>
                  <a:lnTo>
                    <a:pt x="390" y="824"/>
                  </a:lnTo>
                  <a:lnTo>
                    <a:pt x="366" y="854"/>
                  </a:lnTo>
                  <a:lnTo>
                    <a:pt x="413" y="841"/>
                  </a:lnTo>
                  <a:lnTo>
                    <a:pt x="371" y="854"/>
                  </a:lnTo>
                  <a:lnTo>
                    <a:pt x="360" y="883"/>
                  </a:lnTo>
                  <a:lnTo>
                    <a:pt x="407" y="854"/>
                  </a:lnTo>
                  <a:lnTo>
                    <a:pt x="430" y="854"/>
                  </a:lnTo>
                  <a:lnTo>
                    <a:pt x="424" y="830"/>
                  </a:lnTo>
                  <a:lnTo>
                    <a:pt x="430" y="854"/>
                  </a:lnTo>
                  <a:lnTo>
                    <a:pt x="460" y="848"/>
                  </a:lnTo>
                  <a:lnTo>
                    <a:pt x="460" y="877"/>
                  </a:lnTo>
                  <a:lnTo>
                    <a:pt x="437" y="854"/>
                  </a:lnTo>
                  <a:lnTo>
                    <a:pt x="413" y="865"/>
                  </a:lnTo>
                  <a:lnTo>
                    <a:pt x="437" y="871"/>
                  </a:lnTo>
                  <a:lnTo>
                    <a:pt x="371" y="883"/>
                  </a:lnTo>
                  <a:lnTo>
                    <a:pt x="419" y="883"/>
                  </a:lnTo>
                  <a:lnTo>
                    <a:pt x="443" y="883"/>
                  </a:lnTo>
                  <a:lnTo>
                    <a:pt x="371" y="895"/>
                  </a:lnTo>
                  <a:lnTo>
                    <a:pt x="377" y="907"/>
                  </a:lnTo>
                  <a:lnTo>
                    <a:pt x="401" y="901"/>
                  </a:lnTo>
                  <a:lnTo>
                    <a:pt x="371" y="918"/>
                  </a:lnTo>
                  <a:lnTo>
                    <a:pt x="413" y="912"/>
                  </a:lnTo>
                  <a:lnTo>
                    <a:pt x="401" y="918"/>
                  </a:lnTo>
                  <a:lnTo>
                    <a:pt x="377" y="924"/>
                  </a:lnTo>
                  <a:lnTo>
                    <a:pt x="407" y="924"/>
                  </a:lnTo>
                  <a:lnTo>
                    <a:pt x="377" y="930"/>
                  </a:lnTo>
                  <a:lnTo>
                    <a:pt x="419" y="935"/>
                  </a:lnTo>
                  <a:lnTo>
                    <a:pt x="396" y="941"/>
                  </a:lnTo>
                  <a:lnTo>
                    <a:pt x="413" y="948"/>
                  </a:lnTo>
                  <a:lnTo>
                    <a:pt x="396" y="960"/>
                  </a:lnTo>
                  <a:lnTo>
                    <a:pt x="430" y="941"/>
                  </a:lnTo>
                  <a:lnTo>
                    <a:pt x="396" y="977"/>
                  </a:lnTo>
                  <a:lnTo>
                    <a:pt x="430" y="988"/>
                  </a:lnTo>
                  <a:lnTo>
                    <a:pt x="430" y="995"/>
                  </a:lnTo>
                  <a:lnTo>
                    <a:pt x="413" y="1001"/>
                  </a:lnTo>
                  <a:lnTo>
                    <a:pt x="443" y="988"/>
                  </a:lnTo>
                  <a:lnTo>
                    <a:pt x="419" y="1018"/>
                  </a:lnTo>
                  <a:lnTo>
                    <a:pt x="448" y="1001"/>
                  </a:lnTo>
                  <a:lnTo>
                    <a:pt x="424" y="1018"/>
                  </a:lnTo>
                  <a:lnTo>
                    <a:pt x="430" y="1024"/>
                  </a:lnTo>
                  <a:lnTo>
                    <a:pt x="448" y="1018"/>
                  </a:lnTo>
                  <a:lnTo>
                    <a:pt x="419" y="1024"/>
                  </a:lnTo>
                  <a:lnTo>
                    <a:pt x="454" y="1024"/>
                  </a:lnTo>
                  <a:lnTo>
                    <a:pt x="424" y="1035"/>
                  </a:lnTo>
                  <a:lnTo>
                    <a:pt x="454" y="1035"/>
                  </a:lnTo>
                  <a:lnTo>
                    <a:pt x="460" y="1048"/>
                  </a:lnTo>
                  <a:lnTo>
                    <a:pt x="472" y="1048"/>
                  </a:lnTo>
                  <a:lnTo>
                    <a:pt x="472" y="1054"/>
                  </a:lnTo>
                  <a:lnTo>
                    <a:pt x="448" y="1065"/>
                  </a:lnTo>
                  <a:lnTo>
                    <a:pt x="501" y="1054"/>
                  </a:lnTo>
                  <a:lnTo>
                    <a:pt x="501" y="1065"/>
                  </a:lnTo>
                  <a:lnTo>
                    <a:pt x="554" y="1035"/>
                  </a:lnTo>
                  <a:lnTo>
                    <a:pt x="537" y="1060"/>
                  </a:lnTo>
                  <a:lnTo>
                    <a:pt x="578" y="1042"/>
                  </a:lnTo>
                  <a:lnTo>
                    <a:pt x="530" y="1065"/>
                  </a:lnTo>
                  <a:lnTo>
                    <a:pt x="566" y="1054"/>
                  </a:lnTo>
                  <a:lnTo>
                    <a:pt x="537" y="1077"/>
                  </a:lnTo>
                  <a:lnTo>
                    <a:pt x="572" y="1071"/>
                  </a:lnTo>
                  <a:lnTo>
                    <a:pt x="572" y="1071"/>
                  </a:lnTo>
                  <a:lnTo>
                    <a:pt x="566" y="1082"/>
                  </a:lnTo>
                  <a:lnTo>
                    <a:pt x="596" y="1071"/>
                  </a:lnTo>
                  <a:lnTo>
                    <a:pt x="560" y="1101"/>
                  </a:lnTo>
                  <a:lnTo>
                    <a:pt x="560" y="1107"/>
                  </a:lnTo>
                  <a:lnTo>
                    <a:pt x="584" y="1112"/>
                  </a:lnTo>
                  <a:lnTo>
                    <a:pt x="607" y="1088"/>
                  </a:lnTo>
                  <a:lnTo>
                    <a:pt x="602" y="1101"/>
                  </a:lnTo>
                  <a:lnTo>
                    <a:pt x="649" y="1107"/>
                  </a:lnTo>
                  <a:lnTo>
                    <a:pt x="649" y="1088"/>
                  </a:lnTo>
                  <a:lnTo>
                    <a:pt x="632" y="1095"/>
                  </a:lnTo>
                  <a:lnTo>
                    <a:pt x="643" y="1082"/>
                  </a:lnTo>
                  <a:lnTo>
                    <a:pt x="613" y="1077"/>
                  </a:lnTo>
                  <a:lnTo>
                    <a:pt x="632" y="1077"/>
                  </a:lnTo>
                  <a:lnTo>
                    <a:pt x="666" y="1077"/>
                  </a:lnTo>
                  <a:lnTo>
                    <a:pt x="649" y="1071"/>
                  </a:lnTo>
                  <a:lnTo>
                    <a:pt x="643" y="1065"/>
                  </a:lnTo>
                  <a:lnTo>
                    <a:pt x="672" y="1065"/>
                  </a:lnTo>
                  <a:lnTo>
                    <a:pt x="643" y="1060"/>
                  </a:lnTo>
                  <a:lnTo>
                    <a:pt x="678" y="1054"/>
                  </a:lnTo>
                  <a:lnTo>
                    <a:pt x="643" y="1048"/>
                  </a:lnTo>
                  <a:lnTo>
                    <a:pt x="685" y="1048"/>
                  </a:lnTo>
                  <a:lnTo>
                    <a:pt x="660" y="1042"/>
                  </a:lnTo>
                  <a:lnTo>
                    <a:pt x="660" y="1035"/>
                  </a:lnTo>
                  <a:lnTo>
                    <a:pt x="685" y="1042"/>
                  </a:lnTo>
                  <a:lnTo>
                    <a:pt x="696" y="1024"/>
                  </a:lnTo>
                  <a:lnTo>
                    <a:pt x="672" y="1024"/>
                  </a:lnTo>
                  <a:lnTo>
                    <a:pt x="702" y="1024"/>
                  </a:lnTo>
                  <a:lnTo>
                    <a:pt x="708" y="1018"/>
                  </a:lnTo>
                  <a:lnTo>
                    <a:pt x="685" y="1012"/>
                  </a:lnTo>
                  <a:lnTo>
                    <a:pt x="702" y="1012"/>
                  </a:lnTo>
                  <a:lnTo>
                    <a:pt x="702" y="1007"/>
                  </a:lnTo>
                  <a:lnTo>
                    <a:pt x="719" y="983"/>
                  </a:lnTo>
                  <a:lnTo>
                    <a:pt x="696" y="971"/>
                  </a:lnTo>
                  <a:lnTo>
                    <a:pt x="725" y="983"/>
                  </a:lnTo>
                  <a:lnTo>
                    <a:pt x="690" y="960"/>
                  </a:lnTo>
                  <a:lnTo>
                    <a:pt x="719" y="965"/>
                  </a:lnTo>
                  <a:lnTo>
                    <a:pt x="749" y="954"/>
                  </a:lnTo>
                  <a:lnTo>
                    <a:pt x="738" y="935"/>
                  </a:lnTo>
                  <a:lnTo>
                    <a:pt x="749" y="935"/>
                  </a:lnTo>
                  <a:lnTo>
                    <a:pt x="766" y="941"/>
                  </a:lnTo>
                  <a:lnTo>
                    <a:pt x="755" y="924"/>
                  </a:lnTo>
                  <a:lnTo>
                    <a:pt x="785" y="930"/>
                  </a:lnTo>
                  <a:lnTo>
                    <a:pt x="766" y="924"/>
                  </a:lnTo>
                  <a:lnTo>
                    <a:pt x="779" y="924"/>
                  </a:lnTo>
                  <a:lnTo>
                    <a:pt x="785" y="918"/>
                  </a:lnTo>
                  <a:lnTo>
                    <a:pt x="802" y="918"/>
                  </a:lnTo>
                  <a:lnTo>
                    <a:pt x="779" y="901"/>
                  </a:lnTo>
                  <a:lnTo>
                    <a:pt x="814" y="912"/>
                  </a:lnTo>
                  <a:lnTo>
                    <a:pt x="819" y="888"/>
                  </a:lnTo>
                  <a:lnTo>
                    <a:pt x="785" y="883"/>
                  </a:lnTo>
                  <a:lnTo>
                    <a:pt x="832" y="877"/>
                  </a:lnTo>
                  <a:lnTo>
                    <a:pt x="814" y="836"/>
                  </a:lnTo>
                  <a:lnTo>
                    <a:pt x="861" y="836"/>
                  </a:lnTo>
                  <a:lnTo>
                    <a:pt x="861" y="813"/>
                  </a:lnTo>
                  <a:lnTo>
                    <a:pt x="897" y="813"/>
                  </a:lnTo>
                  <a:lnTo>
                    <a:pt x="897" y="801"/>
                  </a:lnTo>
                  <a:lnTo>
                    <a:pt x="938" y="807"/>
                  </a:lnTo>
                  <a:lnTo>
                    <a:pt x="938" y="788"/>
                  </a:lnTo>
                  <a:lnTo>
                    <a:pt x="955" y="794"/>
                  </a:lnTo>
                  <a:lnTo>
                    <a:pt x="973" y="777"/>
                  </a:lnTo>
                  <a:lnTo>
                    <a:pt x="967" y="765"/>
                  </a:lnTo>
                  <a:lnTo>
                    <a:pt x="991" y="771"/>
                  </a:lnTo>
                  <a:lnTo>
                    <a:pt x="961" y="794"/>
                  </a:lnTo>
                  <a:lnTo>
                    <a:pt x="985" y="801"/>
                  </a:lnTo>
                  <a:lnTo>
                    <a:pt x="991" y="783"/>
                  </a:lnTo>
                  <a:lnTo>
                    <a:pt x="991" y="801"/>
                  </a:lnTo>
                  <a:lnTo>
                    <a:pt x="1014" y="783"/>
                  </a:lnTo>
                  <a:lnTo>
                    <a:pt x="1044" y="78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74080" y="4357440"/>
              <a:ext cx="755280" cy="602640"/>
            </a:xfrm>
            <a:custGeom>
              <a:avLst/>
              <a:gdLst/>
              <a:ahLst/>
              <a:rect l="l" t="t" r="r" b="b"/>
              <a:pathLst>
                <a:path w="2100" h="1677">
                  <a:moveTo>
                    <a:pt x="1168" y="1618"/>
                  </a:moveTo>
                  <a:lnTo>
                    <a:pt x="1143" y="1606"/>
                  </a:lnTo>
                  <a:lnTo>
                    <a:pt x="1132" y="1565"/>
                  </a:lnTo>
                  <a:lnTo>
                    <a:pt x="1143" y="1471"/>
                  </a:lnTo>
                  <a:lnTo>
                    <a:pt x="1149" y="1471"/>
                  </a:lnTo>
                  <a:lnTo>
                    <a:pt x="1162" y="1476"/>
                  </a:lnTo>
                  <a:lnTo>
                    <a:pt x="1168" y="1465"/>
                  </a:lnTo>
                  <a:lnTo>
                    <a:pt x="1173" y="1453"/>
                  </a:lnTo>
                  <a:lnTo>
                    <a:pt x="1143" y="1465"/>
                  </a:lnTo>
                  <a:lnTo>
                    <a:pt x="1149" y="1465"/>
                  </a:lnTo>
                  <a:lnTo>
                    <a:pt x="1103" y="1471"/>
                  </a:lnTo>
                  <a:lnTo>
                    <a:pt x="1149" y="1423"/>
                  </a:lnTo>
                  <a:lnTo>
                    <a:pt x="1143" y="1382"/>
                  </a:lnTo>
                  <a:lnTo>
                    <a:pt x="1096" y="1442"/>
                  </a:lnTo>
                  <a:lnTo>
                    <a:pt x="1049" y="1453"/>
                  </a:lnTo>
                  <a:lnTo>
                    <a:pt x="1067" y="1429"/>
                  </a:lnTo>
                  <a:lnTo>
                    <a:pt x="1090" y="1429"/>
                  </a:lnTo>
                  <a:lnTo>
                    <a:pt x="1115" y="1382"/>
                  </a:lnTo>
                  <a:lnTo>
                    <a:pt x="1156" y="1348"/>
                  </a:lnTo>
                  <a:lnTo>
                    <a:pt x="1173" y="1288"/>
                  </a:lnTo>
                  <a:lnTo>
                    <a:pt x="1156" y="1312"/>
                  </a:lnTo>
                  <a:lnTo>
                    <a:pt x="1115" y="1353"/>
                  </a:lnTo>
                  <a:lnTo>
                    <a:pt x="1020" y="1412"/>
                  </a:lnTo>
                  <a:lnTo>
                    <a:pt x="1014" y="1435"/>
                  </a:lnTo>
                  <a:lnTo>
                    <a:pt x="984" y="1412"/>
                  </a:lnTo>
                  <a:lnTo>
                    <a:pt x="1002" y="1412"/>
                  </a:lnTo>
                  <a:lnTo>
                    <a:pt x="1009" y="1371"/>
                  </a:lnTo>
                  <a:lnTo>
                    <a:pt x="1002" y="1329"/>
                  </a:lnTo>
                  <a:lnTo>
                    <a:pt x="979" y="1318"/>
                  </a:lnTo>
                  <a:lnTo>
                    <a:pt x="979" y="1301"/>
                  </a:lnTo>
                  <a:lnTo>
                    <a:pt x="990" y="1295"/>
                  </a:lnTo>
                  <a:lnTo>
                    <a:pt x="973" y="1288"/>
                  </a:lnTo>
                  <a:lnTo>
                    <a:pt x="979" y="1271"/>
                  </a:lnTo>
                  <a:lnTo>
                    <a:pt x="902" y="1259"/>
                  </a:lnTo>
                  <a:lnTo>
                    <a:pt x="867" y="1224"/>
                  </a:lnTo>
                  <a:lnTo>
                    <a:pt x="761" y="1235"/>
                  </a:lnTo>
                  <a:lnTo>
                    <a:pt x="754" y="1241"/>
                  </a:lnTo>
                  <a:lnTo>
                    <a:pt x="654" y="1276"/>
                  </a:lnTo>
                  <a:lnTo>
                    <a:pt x="589" y="1276"/>
                  </a:lnTo>
                  <a:lnTo>
                    <a:pt x="478" y="1318"/>
                  </a:lnTo>
                  <a:lnTo>
                    <a:pt x="425" y="1376"/>
                  </a:lnTo>
                  <a:lnTo>
                    <a:pt x="253" y="1371"/>
                  </a:lnTo>
                  <a:lnTo>
                    <a:pt x="183" y="1406"/>
                  </a:lnTo>
                  <a:lnTo>
                    <a:pt x="124" y="1442"/>
                  </a:lnTo>
                  <a:lnTo>
                    <a:pt x="53" y="1435"/>
                  </a:lnTo>
                  <a:lnTo>
                    <a:pt x="0" y="1400"/>
                  </a:lnTo>
                  <a:lnTo>
                    <a:pt x="5" y="1359"/>
                  </a:lnTo>
                  <a:lnTo>
                    <a:pt x="53" y="1335"/>
                  </a:lnTo>
                  <a:lnTo>
                    <a:pt x="83" y="1253"/>
                  </a:lnTo>
                  <a:lnTo>
                    <a:pt x="77" y="1171"/>
                  </a:lnTo>
                  <a:lnTo>
                    <a:pt x="94" y="1088"/>
                  </a:lnTo>
                  <a:lnTo>
                    <a:pt x="77" y="1024"/>
                  </a:lnTo>
                  <a:lnTo>
                    <a:pt x="58" y="912"/>
                  </a:lnTo>
                  <a:lnTo>
                    <a:pt x="71" y="907"/>
                  </a:lnTo>
                  <a:lnTo>
                    <a:pt x="77" y="935"/>
                  </a:lnTo>
                  <a:lnTo>
                    <a:pt x="94" y="918"/>
                  </a:lnTo>
                  <a:lnTo>
                    <a:pt x="88" y="871"/>
                  </a:lnTo>
                  <a:lnTo>
                    <a:pt x="88" y="912"/>
                  </a:lnTo>
                  <a:lnTo>
                    <a:pt x="100" y="924"/>
                  </a:lnTo>
                  <a:lnTo>
                    <a:pt x="111" y="907"/>
                  </a:lnTo>
                  <a:lnTo>
                    <a:pt x="100" y="788"/>
                  </a:lnTo>
                  <a:lnTo>
                    <a:pt x="130" y="747"/>
                  </a:lnTo>
                  <a:lnTo>
                    <a:pt x="164" y="654"/>
                  </a:lnTo>
                  <a:lnTo>
                    <a:pt x="159" y="688"/>
                  </a:lnTo>
                  <a:lnTo>
                    <a:pt x="194" y="647"/>
                  </a:lnTo>
                  <a:lnTo>
                    <a:pt x="324" y="571"/>
                  </a:lnTo>
                  <a:lnTo>
                    <a:pt x="348" y="583"/>
                  </a:lnTo>
                  <a:lnTo>
                    <a:pt x="377" y="571"/>
                  </a:lnTo>
                  <a:lnTo>
                    <a:pt x="448" y="541"/>
                  </a:lnTo>
                  <a:lnTo>
                    <a:pt x="548" y="518"/>
                  </a:lnTo>
                  <a:lnTo>
                    <a:pt x="601" y="447"/>
                  </a:lnTo>
                  <a:lnTo>
                    <a:pt x="631" y="430"/>
                  </a:lnTo>
                  <a:lnTo>
                    <a:pt x="631" y="377"/>
                  </a:lnTo>
                  <a:lnTo>
                    <a:pt x="667" y="353"/>
                  </a:lnTo>
                  <a:lnTo>
                    <a:pt x="678" y="330"/>
                  </a:lnTo>
                  <a:lnTo>
                    <a:pt x="678" y="341"/>
                  </a:lnTo>
                  <a:lnTo>
                    <a:pt x="707" y="418"/>
                  </a:lnTo>
                  <a:lnTo>
                    <a:pt x="707" y="365"/>
                  </a:lnTo>
                  <a:lnTo>
                    <a:pt x="725" y="353"/>
                  </a:lnTo>
                  <a:lnTo>
                    <a:pt x="701" y="336"/>
                  </a:lnTo>
                  <a:lnTo>
                    <a:pt x="714" y="330"/>
                  </a:lnTo>
                  <a:lnTo>
                    <a:pt x="714" y="313"/>
                  </a:lnTo>
                  <a:lnTo>
                    <a:pt x="731" y="318"/>
                  </a:lnTo>
                  <a:lnTo>
                    <a:pt x="748" y="336"/>
                  </a:lnTo>
                  <a:lnTo>
                    <a:pt x="748" y="324"/>
                  </a:lnTo>
                  <a:lnTo>
                    <a:pt x="778" y="330"/>
                  </a:lnTo>
                  <a:lnTo>
                    <a:pt x="754" y="324"/>
                  </a:lnTo>
                  <a:lnTo>
                    <a:pt x="773" y="294"/>
                  </a:lnTo>
                  <a:lnTo>
                    <a:pt x="754" y="289"/>
                  </a:lnTo>
                  <a:lnTo>
                    <a:pt x="778" y="259"/>
                  </a:lnTo>
                  <a:lnTo>
                    <a:pt x="801" y="283"/>
                  </a:lnTo>
                  <a:lnTo>
                    <a:pt x="784" y="266"/>
                  </a:lnTo>
                  <a:lnTo>
                    <a:pt x="784" y="253"/>
                  </a:lnTo>
                  <a:lnTo>
                    <a:pt x="814" y="253"/>
                  </a:lnTo>
                  <a:lnTo>
                    <a:pt x="801" y="230"/>
                  </a:lnTo>
                  <a:lnTo>
                    <a:pt x="826" y="218"/>
                  </a:lnTo>
                  <a:lnTo>
                    <a:pt x="831" y="200"/>
                  </a:lnTo>
                  <a:lnTo>
                    <a:pt x="831" y="224"/>
                  </a:lnTo>
                  <a:lnTo>
                    <a:pt x="843" y="224"/>
                  </a:lnTo>
                  <a:lnTo>
                    <a:pt x="854" y="183"/>
                  </a:lnTo>
                  <a:lnTo>
                    <a:pt x="861" y="200"/>
                  </a:lnTo>
                  <a:lnTo>
                    <a:pt x="884" y="183"/>
                  </a:lnTo>
                  <a:lnTo>
                    <a:pt x="884" y="200"/>
                  </a:lnTo>
                  <a:lnTo>
                    <a:pt x="896" y="177"/>
                  </a:lnTo>
                  <a:lnTo>
                    <a:pt x="902" y="171"/>
                  </a:lnTo>
                  <a:lnTo>
                    <a:pt x="926" y="183"/>
                  </a:lnTo>
                  <a:lnTo>
                    <a:pt x="961" y="230"/>
                  </a:lnTo>
                  <a:lnTo>
                    <a:pt x="956" y="266"/>
                  </a:lnTo>
                  <a:lnTo>
                    <a:pt x="949" y="271"/>
                  </a:lnTo>
                  <a:lnTo>
                    <a:pt x="937" y="283"/>
                  </a:lnTo>
                  <a:lnTo>
                    <a:pt x="956" y="259"/>
                  </a:lnTo>
                  <a:lnTo>
                    <a:pt x="967" y="277"/>
                  </a:lnTo>
                  <a:lnTo>
                    <a:pt x="961" y="253"/>
                  </a:lnTo>
                  <a:lnTo>
                    <a:pt x="979" y="236"/>
                  </a:lnTo>
                  <a:lnTo>
                    <a:pt x="1002" y="241"/>
                  </a:lnTo>
                  <a:lnTo>
                    <a:pt x="1009" y="241"/>
                  </a:lnTo>
                  <a:lnTo>
                    <a:pt x="1014" y="259"/>
                  </a:lnTo>
                  <a:lnTo>
                    <a:pt x="1020" y="236"/>
                  </a:lnTo>
                  <a:lnTo>
                    <a:pt x="1043" y="271"/>
                  </a:lnTo>
                  <a:lnTo>
                    <a:pt x="1062" y="271"/>
                  </a:lnTo>
                  <a:lnTo>
                    <a:pt x="1037" y="253"/>
                  </a:lnTo>
                  <a:lnTo>
                    <a:pt x="1056" y="230"/>
                  </a:lnTo>
                  <a:lnTo>
                    <a:pt x="1043" y="218"/>
                  </a:lnTo>
                  <a:lnTo>
                    <a:pt x="1026" y="213"/>
                  </a:lnTo>
                  <a:lnTo>
                    <a:pt x="1049" y="183"/>
                  </a:lnTo>
                  <a:lnTo>
                    <a:pt x="1056" y="159"/>
                  </a:lnTo>
                  <a:lnTo>
                    <a:pt x="1079" y="153"/>
                  </a:lnTo>
                  <a:lnTo>
                    <a:pt x="1073" y="124"/>
                  </a:lnTo>
                  <a:lnTo>
                    <a:pt x="1103" y="112"/>
                  </a:lnTo>
                  <a:lnTo>
                    <a:pt x="1103" y="94"/>
                  </a:lnTo>
                  <a:lnTo>
                    <a:pt x="1120" y="106"/>
                  </a:lnTo>
                  <a:lnTo>
                    <a:pt x="1126" y="83"/>
                  </a:lnTo>
                  <a:lnTo>
                    <a:pt x="1143" y="77"/>
                  </a:lnTo>
                  <a:lnTo>
                    <a:pt x="1191" y="94"/>
                  </a:lnTo>
                  <a:lnTo>
                    <a:pt x="1215" y="83"/>
                  </a:lnTo>
                  <a:lnTo>
                    <a:pt x="1215" y="47"/>
                  </a:lnTo>
                  <a:lnTo>
                    <a:pt x="1179" y="47"/>
                  </a:lnTo>
                  <a:lnTo>
                    <a:pt x="1168" y="36"/>
                  </a:lnTo>
                  <a:lnTo>
                    <a:pt x="1179" y="24"/>
                  </a:lnTo>
                  <a:lnTo>
                    <a:pt x="1185" y="42"/>
                  </a:lnTo>
                  <a:lnTo>
                    <a:pt x="1191" y="24"/>
                  </a:lnTo>
                  <a:lnTo>
                    <a:pt x="1215" y="42"/>
                  </a:lnTo>
                  <a:lnTo>
                    <a:pt x="1226" y="36"/>
                  </a:lnTo>
                  <a:lnTo>
                    <a:pt x="1256" y="66"/>
                  </a:lnTo>
                  <a:lnTo>
                    <a:pt x="1279" y="59"/>
                  </a:lnTo>
                  <a:lnTo>
                    <a:pt x="1291" y="83"/>
                  </a:lnTo>
                  <a:lnTo>
                    <a:pt x="1338" y="89"/>
                  </a:lnTo>
                  <a:lnTo>
                    <a:pt x="1380" y="71"/>
                  </a:lnTo>
                  <a:lnTo>
                    <a:pt x="1368" y="89"/>
                  </a:lnTo>
                  <a:lnTo>
                    <a:pt x="1385" y="77"/>
                  </a:lnTo>
                  <a:lnTo>
                    <a:pt x="1391" y="100"/>
                  </a:lnTo>
                  <a:lnTo>
                    <a:pt x="1404" y="89"/>
                  </a:lnTo>
                  <a:lnTo>
                    <a:pt x="1391" y="83"/>
                  </a:lnTo>
                  <a:lnTo>
                    <a:pt x="1415" y="71"/>
                  </a:lnTo>
                  <a:lnTo>
                    <a:pt x="1415" y="89"/>
                  </a:lnTo>
                  <a:lnTo>
                    <a:pt x="1433" y="94"/>
                  </a:lnTo>
                  <a:lnTo>
                    <a:pt x="1404" y="119"/>
                  </a:lnTo>
                  <a:lnTo>
                    <a:pt x="1415" y="130"/>
                  </a:lnTo>
                  <a:lnTo>
                    <a:pt x="1404" y="147"/>
                  </a:lnTo>
                  <a:lnTo>
                    <a:pt x="1397" y="136"/>
                  </a:lnTo>
                  <a:lnTo>
                    <a:pt x="1374" y="147"/>
                  </a:lnTo>
                  <a:lnTo>
                    <a:pt x="1368" y="166"/>
                  </a:lnTo>
                  <a:lnTo>
                    <a:pt x="1380" y="171"/>
                  </a:lnTo>
                  <a:lnTo>
                    <a:pt x="1332" y="230"/>
                  </a:lnTo>
                  <a:lnTo>
                    <a:pt x="1338" y="247"/>
                  </a:lnTo>
                  <a:lnTo>
                    <a:pt x="1397" y="300"/>
                  </a:lnTo>
                  <a:lnTo>
                    <a:pt x="1421" y="306"/>
                  </a:lnTo>
                  <a:lnTo>
                    <a:pt x="1457" y="341"/>
                  </a:lnTo>
                  <a:lnTo>
                    <a:pt x="1510" y="360"/>
                  </a:lnTo>
                  <a:lnTo>
                    <a:pt x="1515" y="388"/>
                  </a:lnTo>
                  <a:lnTo>
                    <a:pt x="1557" y="406"/>
                  </a:lnTo>
                  <a:lnTo>
                    <a:pt x="1598" y="388"/>
                  </a:lnTo>
                  <a:lnTo>
                    <a:pt x="1663" y="259"/>
                  </a:lnTo>
                  <a:lnTo>
                    <a:pt x="1657" y="177"/>
                  </a:lnTo>
                  <a:lnTo>
                    <a:pt x="1669" y="153"/>
                  </a:lnTo>
                  <a:lnTo>
                    <a:pt x="1674" y="166"/>
                  </a:lnTo>
                  <a:lnTo>
                    <a:pt x="1669" y="130"/>
                  </a:lnTo>
                  <a:lnTo>
                    <a:pt x="1692" y="112"/>
                  </a:lnTo>
                  <a:lnTo>
                    <a:pt x="1699" y="106"/>
                  </a:lnTo>
                  <a:lnTo>
                    <a:pt x="1674" y="106"/>
                  </a:lnTo>
                  <a:lnTo>
                    <a:pt x="1686" y="77"/>
                  </a:lnTo>
                  <a:lnTo>
                    <a:pt x="1699" y="77"/>
                  </a:lnTo>
                  <a:lnTo>
                    <a:pt x="1710" y="12"/>
                  </a:lnTo>
                  <a:lnTo>
                    <a:pt x="1733" y="0"/>
                  </a:lnTo>
                  <a:lnTo>
                    <a:pt x="1727" y="12"/>
                  </a:lnTo>
                  <a:lnTo>
                    <a:pt x="1739" y="12"/>
                  </a:lnTo>
                  <a:lnTo>
                    <a:pt x="1746" y="66"/>
                  </a:lnTo>
                  <a:lnTo>
                    <a:pt x="1763" y="71"/>
                  </a:lnTo>
                  <a:lnTo>
                    <a:pt x="1757" y="83"/>
                  </a:lnTo>
                  <a:lnTo>
                    <a:pt x="1763" y="124"/>
                  </a:lnTo>
                  <a:lnTo>
                    <a:pt x="1775" y="124"/>
                  </a:lnTo>
                  <a:lnTo>
                    <a:pt x="1775" y="213"/>
                  </a:lnTo>
                  <a:lnTo>
                    <a:pt x="1816" y="200"/>
                  </a:lnTo>
                  <a:lnTo>
                    <a:pt x="1822" y="213"/>
                  </a:lnTo>
                  <a:lnTo>
                    <a:pt x="1852" y="247"/>
                  </a:lnTo>
                  <a:lnTo>
                    <a:pt x="1839" y="336"/>
                  </a:lnTo>
                  <a:lnTo>
                    <a:pt x="1863" y="360"/>
                  </a:lnTo>
                  <a:lnTo>
                    <a:pt x="1863" y="477"/>
                  </a:lnTo>
                  <a:lnTo>
                    <a:pt x="1899" y="507"/>
                  </a:lnTo>
                  <a:lnTo>
                    <a:pt x="1916" y="500"/>
                  </a:lnTo>
                  <a:lnTo>
                    <a:pt x="1916" y="530"/>
                  </a:lnTo>
                  <a:lnTo>
                    <a:pt x="1969" y="560"/>
                  </a:lnTo>
                  <a:lnTo>
                    <a:pt x="1964" y="583"/>
                  </a:lnTo>
                  <a:lnTo>
                    <a:pt x="1981" y="607"/>
                  </a:lnTo>
                  <a:lnTo>
                    <a:pt x="1994" y="635"/>
                  </a:lnTo>
                  <a:lnTo>
                    <a:pt x="1981" y="694"/>
                  </a:lnTo>
                  <a:lnTo>
                    <a:pt x="1999" y="694"/>
                  </a:lnTo>
                  <a:lnTo>
                    <a:pt x="2011" y="671"/>
                  </a:lnTo>
                  <a:lnTo>
                    <a:pt x="2028" y="700"/>
                  </a:lnTo>
                  <a:lnTo>
                    <a:pt x="2034" y="683"/>
                  </a:lnTo>
                  <a:lnTo>
                    <a:pt x="2041" y="694"/>
                  </a:lnTo>
                  <a:lnTo>
                    <a:pt x="2028" y="754"/>
                  </a:lnTo>
                  <a:lnTo>
                    <a:pt x="2017" y="754"/>
                  </a:lnTo>
                  <a:lnTo>
                    <a:pt x="2070" y="794"/>
                  </a:lnTo>
                  <a:lnTo>
                    <a:pt x="2081" y="847"/>
                  </a:lnTo>
                  <a:lnTo>
                    <a:pt x="2099" y="859"/>
                  </a:lnTo>
                  <a:lnTo>
                    <a:pt x="2099" y="901"/>
                  </a:lnTo>
                  <a:lnTo>
                    <a:pt x="2064" y="977"/>
                  </a:lnTo>
                  <a:lnTo>
                    <a:pt x="2070" y="1006"/>
                  </a:lnTo>
                  <a:lnTo>
                    <a:pt x="2070" y="1029"/>
                  </a:lnTo>
                  <a:lnTo>
                    <a:pt x="2058" y="1065"/>
                  </a:lnTo>
                  <a:lnTo>
                    <a:pt x="1911" y="1282"/>
                  </a:lnTo>
                  <a:lnTo>
                    <a:pt x="1875" y="1295"/>
                  </a:lnTo>
                  <a:lnTo>
                    <a:pt x="1881" y="1301"/>
                  </a:lnTo>
                  <a:lnTo>
                    <a:pt x="1816" y="1348"/>
                  </a:lnTo>
                  <a:lnTo>
                    <a:pt x="1810" y="1365"/>
                  </a:lnTo>
                  <a:lnTo>
                    <a:pt x="1746" y="1423"/>
                  </a:lnTo>
                  <a:lnTo>
                    <a:pt x="1746" y="1435"/>
                  </a:lnTo>
                  <a:lnTo>
                    <a:pt x="1699" y="1476"/>
                  </a:lnTo>
                  <a:lnTo>
                    <a:pt x="1627" y="1582"/>
                  </a:lnTo>
                  <a:lnTo>
                    <a:pt x="1627" y="1582"/>
                  </a:lnTo>
                  <a:lnTo>
                    <a:pt x="1604" y="1595"/>
                  </a:lnTo>
                  <a:lnTo>
                    <a:pt x="1504" y="1600"/>
                  </a:lnTo>
                  <a:lnTo>
                    <a:pt x="1515" y="1606"/>
                  </a:lnTo>
                  <a:lnTo>
                    <a:pt x="1491" y="1618"/>
                  </a:lnTo>
                  <a:lnTo>
                    <a:pt x="1451" y="1642"/>
                  </a:lnTo>
                  <a:lnTo>
                    <a:pt x="1438" y="1647"/>
                  </a:lnTo>
                  <a:lnTo>
                    <a:pt x="1404" y="1653"/>
                  </a:lnTo>
                  <a:lnTo>
                    <a:pt x="1397" y="1676"/>
                  </a:lnTo>
                  <a:lnTo>
                    <a:pt x="1397" y="1659"/>
                  </a:lnTo>
                  <a:lnTo>
                    <a:pt x="1368" y="1642"/>
                  </a:lnTo>
                  <a:lnTo>
                    <a:pt x="1380" y="1623"/>
                  </a:lnTo>
                  <a:lnTo>
                    <a:pt x="1344" y="1642"/>
                  </a:lnTo>
                  <a:lnTo>
                    <a:pt x="1338" y="1629"/>
                  </a:lnTo>
                  <a:lnTo>
                    <a:pt x="1368" y="1618"/>
                  </a:lnTo>
                  <a:lnTo>
                    <a:pt x="1368" y="1606"/>
                  </a:lnTo>
                  <a:lnTo>
                    <a:pt x="1332" y="1618"/>
                  </a:lnTo>
                  <a:lnTo>
                    <a:pt x="1268" y="1665"/>
                  </a:lnTo>
                  <a:lnTo>
                    <a:pt x="1179" y="1635"/>
                  </a:lnTo>
                  <a:lnTo>
                    <a:pt x="1168" y="161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51080" y="5450040"/>
              <a:ext cx="4235760" cy="355320"/>
            </a:xfrm>
            <a:custGeom>
              <a:avLst/>
              <a:gdLst/>
              <a:ahLst/>
              <a:rect l="l" t="t" r="r" b="b"/>
              <a:pathLst>
                <a:path w="11771" h="989">
                  <a:moveTo>
                    <a:pt x="0" y="959"/>
                  </a:moveTo>
                  <a:lnTo>
                    <a:pt x="283" y="965"/>
                  </a:lnTo>
                  <a:lnTo>
                    <a:pt x="495" y="976"/>
                  </a:lnTo>
                  <a:lnTo>
                    <a:pt x="979" y="988"/>
                  </a:lnTo>
                  <a:lnTo>
                    <a:pt x="1014" y="982"/>
                  </a:lnTo>
                  <a:lnTo>
                    <a:pt x="1298" y="976"/>
                  </a:lnTo>
                  <a:lnTo>
                    <a:pt x="1245" y="970"/>
                  </a:lnTo>
                  <a:lnTo>
                    <a:pt x="1109" y="970"/>
                  </a:lnTo>
                  <a:lnTo>
                    <a:pt x="967" y="965"/>
                  </a:lnTo>
                  <a:lnTo>
                    <a:pt x="850" y="952"/>
                  </a:lnTo>
                  <a:lnTo>
                    <a:pt x="725" y="899"/>
                  </a:lnTo>
                  <a:lnTo>
                    <a:pt x="578" y="876"/>
                  </a:lnTo>
                  <a:lnTo>
                    <a:pt x="578" y="865"/>
                  </a:lnTo>
                  <a:lnTo>
                    <a:pt x="460" y="846"/>
                  </a:lnTo>
                  <a:lnTo>
                    <a:pt x="613" y="846"/>
                  </a:lnTo>
                  <a:lnTo>
                    <a:pt x="795" y="852"/>
                  </a:lnTo>
                  <a:lnTo>
                    <a:pt x="837" y="829"/>
                  </a:lnTo>
                  <a:lnTo>
                    <a:pt x="648" y="794"/>
                  </a:lnTo>
                  <a:lnTo>
                    <a:pt x="307" y="765"/>
                  </a:lnTo>
                  <a:lnTo>
                    <a:pt x="277" y="746"/>
                  </a:lnTo>
                  <a:lnTo>
                    <a:pt x="319" y="729"/>
                  </a:lnTo>
                  <a:lnTo>
                    <a:pt x="171" y="718"/>
                  </a:lnTo>
                  <a:lnTo>
                    <a:pt x="106" y="682"/>
                  </a:lnTo>
                  <a:lnTo>
                    <a:pt x="165" y="694"/>
                  </a:lnTo>
                  <a:lnTo>
                    <a:pt x="165" y="682"/>
                  </a:lnTo>
                  <a:lnTo>
                    <a:pt x="266" y="688"/>
                  </a:lnTo>
                  <a:lnTo>
                    <a:pt x="283" y="694"/>
                  </a:lnTo>
                  <a:lnTo>
                    <a:pt x="319" y="688"/>
                  </a:lnTo>
                  <a:lnTo>
                    <a:pt x="430" y="712"/>
                  </a:lnTo>
                  <a:lnTo>
                    <a:pt x="478" y="688"/>
                  </a:lnTo>
                  <a:lnTo>
                    <a:pt x="525" y="694"/>
                  </a:lnTo>
                  <a:lnTo>
                    <a:pt x="495" y="671"/>
                  </a:lnTo>
                  <a:lnTo>
                    <a:pt x="419" y="652"/>
                  </a:lnTo>
                  <a:lnTo>
                    <a:pt x="336" y="652"/>
                  </a:lnTo>
                  <a:lnTo>
                    <a:pt x="347" y="635"/>
                  </a:lnTo>
                  <a:lnTo>
                    <a:pt x="466" y="652"/>
                  </a:lnTo>
                  <a:lnTo>
                    <a:pt x="413" y="629"/>
                  </a:lnTo>
                  <a:lnTo>
                    <a:pt x="501" y="612"/>
                  </a:lnTo>
                  <a:lnTo>
                    <a:pt x="566" y="612"/>
                  </a:lnTo>
                  <a:lnTo>
                    <a:pt x="578" y="594"/>
                  </a:lnTo>
                  <a:lnTo>
                    <a:pt x="655" y="605"/>
                  </a:lnTo>
                  <a:lnTo>
                    <a:pt x="642" y="576"/>
                  </a:lnTo>
                  <a:lnTo>
                    <a:pt x="684" y="565"/>
                  </a:lnTo>
                  <a:lnTo>
                    <a:pt x="731" y="565"/>
                  </a:lnTo>
                  <a:lnTo>
                    <a:pt x="772" y="582"/>
                  </a:lnTo>
                  <a:lnTo>
                    <a:pt x="997" y="571"/>
                  </a:lnTo>
                  <a:lnTo>
                    <a:pt x="1279" y="565"/>
                  </a:lnTo>
                  <a:lnTo>
                    <a:pt x="1292" y="552"/>
                  </a:lnTo>
                  <a:lnTo>
                    <a:pt x="1345" y="565"/>
                  </a:lnTo>
                  <a:lnTo>
                    <a:pt x="1415" y="565"/>
                  </a:lnTo>
                  <a:lnTo>
                    <a:pt x="1385" y="547"/>
                  </a:lnTo>
                  <a:lnTo>
                    <a:pt x="1404" y="535"/>
                  </a:lnTo>
                  <a:lnTo>
                    <a:pt x="1510" y="582"/>
                  </a:lnTo>
                  <a:lnTo>
                    <a:pt x="1545" y="576"/>
                  </a:lnTo>
                  <a:lnTo>
                    <a:pt x="1515" y="547"/>
                  </a:lnTo>
                  <a:lnTo>
                    <a:pt x="1663" y="582"/>
                  </a:lnTo>
                  <a:lnTo>
                    <a:pt x="1651" y="571"/>
                  </a:lnTo>
                  <a:lnTo>
                    <a:pt x="1699" y="565"/>
                  </a:lnTo>
                  <a:lnTo>
                    <a:pt x="1746" y="594"/>
                  </a:lnTo>
                  <a:lnTo>
                    <a:pt x="1746" y="576"/>
                  </a:lnTo>
                  <a:lnTo>
                    <a:pt x="1958" y="605"/>
                  </a:lnTo>
                  <a:lnTo>
                    <a:pt x="1899" y="582"/>
                  </a:lnTo>
                  <a:lnTo>
                    <a:pt x="1893" y="571"/>
                  </a:lnTo>
                  <a:lnTo>
                    <a:pt x="1952" y="582"/>
                  </a:lnTo>
                  <a:lnTo>
                    <a:pt x="1935" y="565"/>
                  </a:lnTo>
                  <a:lnTo>
                    <a:pt x="1881" y="565"/>
                  </a:lnTo>
                  <a:lnTo>
                    <a:pt x="1852" y="541"/>
                  </a:lnTo>
                  <a:lnTo>
                    <a:pt x="1804" y="541"/>
                  </a:lnTo>
                  <a:lnTo>
                    <a:pt x="1780" y="524"/>
                  </a:lnTo>
                  <a:lnTo>
                    <a:pt x="1869" y="535"/>
                  </a:lnTo>
                  <a:lnTo>
                    <a:pt x="1922" y="524"/>
                  </a:lnTo>
                  <a:lnTo>
                    <a:pt x="1775" y="512"/>
                  </a:lnTo>
                  <a:lnTo>
                    <a:pt x="1733" y="482"/>
                  </a:lnTo>
                  <a:lnTo>
                    <a:pt x="1793" y="499"/>
                  </a:lnTo>
                  <a:lnTo>
                    <a:pt x="1946" y="494"/>
                  </a:lnTo>
                  <a:lnTo>
                    <a:pt x="2028" y="512"/>
                  </a:lnTo>
                  <a:lnTo>
                    <a:pt x="2075" y="499"/>
                  </a:lnTo>
                  <a:lnTo>
                    <a:pt x="2064" y="488"/>
                  </a:lnTo>
                  <a:lnTo>
                    <a:pt x="2099" y="505"/>
                  </a:lnTo>
                  <a:lnTo>
                    <a:pt x="2211" y="512"/>
                  </a:lnTo>
                  <a:lnTo>
                    <a:pt x="2253" y="499"/>
                  </a:lnTo>
                  <a:lnTo>
                    <a:pt x="2230" y="476"/>
                  </a:lnTo>
                  <a:lnTo>
                    <a:pt x="2277" y="476"/>
                  </a:lnTo>
                  <a:lnTo>
                    <a:pt x="2282" y="494"/>
                  </a:lnTo>
                  <a:lnTo>
                    <a:pt x="2353" y="512"/>
                  </a:lnTo>
                  <a:lnTo>
                    <a:pt x="2383" y="494"/>
                  </a:lnTo>
                  <a:lnTo>
                    <a:pt x="2406" y="512"/>
                  </a:lnTo>
                  <a:lnTo>
                    <a:pt x="2559" y="541"/>
                  </a:lnTo>
                  <a:lnTo>
                    <a:pt x="2589" y="529"/>
                  </a:lnTo>
                  <a:lnTo>
                    <a:pt x="2565" y="505"/>
                  </a:lnTo>
                  <a:lnTo>
                    <a:pt x="2600" y="512"/>
                  </a:lnTo>
                  <a:lnTo>
                    <a:pt x="2583" y="494"/>
                  </a:lnTo>
                  <a:lnTo>
                    <a:pt x="2665" y="524"/>
                  </a:lnTo>
                  <a:lnTo>
                    <a:pt x="2725" y="518"/>
                  </a:lnTo>
                  <a:lnTo>
                    <a:pt x="2731" y="535"/>
                  </a:lnTo>
                  <a:lnTo>
                    <a:pt x="2831" y="529"/>
                  </a:lnTo>
                  <a:lnTo>
                    <a:pt x="3031" y="488"/>
                  </a:lnTo>
                  <a:lnTo>
                    <a:pt x="3043" y="465"/>
                  </a:lnTo>
                  <a:lnTo>
                    <a:pt x="2984" y="411"/>
                  </a:lnTo>
                  <a:lnTo>
                    <a:pt x="2872" y="318"/>
                  </a:lnTo>
                  <a:lnTo>
                    <a:pt x="2925" y="318"/>
                  </a:lnTo>
                  <a:lnTo>
                    <a:pt x="2943" y="300"/>
                  </a:lnTo>
                  <a:lnTo>
                    <a:pt x="2901" y="288"/>
                  </a:lnTo>
                  <a:lnTo>
                    <a:pt x="2925" y="288"/>
                  </a:lnTo>
                  <a:lnTo>
                    <a:pt x="2901" y="264"/>
                  </a:lnTo>
                  <a:lnTo>
                    <a:pt x="2919" y="258"/>
                  </a:lnTo>
                  <a:lnTo>
                    <a:pt x="2890" y="247"/>
                  </a:lnTo>
                  <a:lnTo>
                    <a:pt x="2907" y="224"/>
                  </a:lnTo>
                  <a:lnTo>
                    <a:pt x="2860" y="224"/>
                  </a:lnTo>
                  <a:lnTo>
                    <a:pt x="2848" y="200"/>
                  </a:lnTo>
                  <a:lnTo>
                    <a:pt x="2901" y="211"/>
                  </a:lnTo>
                  <a:lnTo>
                    <a:pt x="2890" y="200"/>
                  </a:lnTo>
                  <a:lnTo>
                    <a:pt x="2907" y="171"/>
                  </a:lnTo>
                  <a:lnTo>
                    <a:pt x="2890" y="153"/>
                  </a:lnTo>
                  <a:lnTo>
                    <a:pt x="2937" y="141"/>
                  </a:lnTo>
                  <a:lnTo>
                    <a:pt x="2919" y="130"/>
                  </a:lnTo>
                  <a:lnTo>
                    <a:pt x="2954" y="117"/>
                  </a:lnTo>
                  <a:lnTo>
                    <a:pt x="2931" y="94"/>
                  </a:lnTo>
                  <a:lnTo>
                    <a:pt x="2967" y="94"/>
                  </a:lnTo>
                  <a:lnTo>
                    <a:pt x="2990" y="82"/>
                  </a:lnTo>
                  <a:lnTo>
                    <a:pt x="2978" y="71"/>
                  </a:lnTo>
                  <a:lnTo>
                    <a:pt x="3025" y="58"/>
                  </a:lnTo>
                  <a:lnTo>
                    <a:pt x="3020" y="41"/>
                  </a:lnTo>
                  <a:lnTo>
                    <a:pt x="3084" y="30"/>
                  </a:lnTo>
                  <a:lnTo>
                    <a:pt x="3090" y="11"/>
                  </a:lnTo>
                  <a:lnTo>
                    <a:pt x="3149" y="0"/>
                  </a:lnTo>
                  <a:lnTo>
                    <a:pt x="3184" y="17"/>
                  </a:lnTo>
                  <a:lnTo>
                    <a:pt x="3154" y="11"/>
                  </a:lnTo>
                  <a:lnTo>
                    <a:pt x="3131" y="24"/>
                  </a:lnTo>
                  <a:lnTo>
                    <a:pt x="3126" y="64"/>
                  </a:lnTo>
                  <a:lnTo>
                    <a:pt x="3090" y="58"/>
                  </a:lnTo>
                  <a:lnTo>
                    <a:pt x="3096" y="64"/>
                  </a:lnTo>
                  <a:lnTo>
                    <a:pt x="3067" y="64"/>
                  </a:lnTo>
                  <a:lnTo>
                    <a:pt x="3013" y="100"/>
                  </a:lnTo>
                  <a:lnTo>
                    <a:pt x="3031" y="117"/>
                  </a:lnTo>
                  <a:lnTo>
                    <a:pt x="3013" y="141"/>
                  </a:lnTo>
                  <a:lnTo>
                    <a:pt x="3043" y="153"/>
                  </a:lnTo>
                  <a:lnTo>
                    <a:pt x="3090" y="141"/>
                  </a:lnTo>
                  <a:lnTo>
                    <a:pt x="3084" y="158"/>
                  </a:lnTo>
                  <a:lnTo>
                    <a:pt x="3054" y="158"/>
                  </a:lnTo>
                  <a:lnTo>
                    <a:pt x="3060" y="171"/>
                  </a:lnTo>
                  <a:lnTo>
                    <a:pt x="3007" y="158"/>
                  </a:lnTo>
                  <a:lnTo>
                    <a:pt x="3031" y="182"/>
                  </a:lnTo>
                  <a:lnTo>
                    <a:pt x="2972" y="153"/>
                  </a:lnTo>
                  <a:lnTo>
                    <a:pt x="2967" y="182"/>
                  </a:lnTo>
                  <a:lnTo>
                    <a:pt x="2990" y="188"/>
                  </a:lnTo>
                  <a:lnTo>
                    <a:pt x="2948" y="194"/>
                  </a:lnTo>
                  <a:lnTo>
                    <a:pt x="2967" y="211"/>
                  </a:lnTo>
                  <a:lnTo>
                    <a:pt x="2937" y="218"/>
                  </a:lnTo>
                  <a:lnTo>
                    <a:pt x="2948" y="252"/>
                  </a:lnTo>
                  <a:lnTo>
                    <a:pt x="2990" y="252"/>
                  </a:lnTo>
                  <a:lnTo>
                    <a:pt x="2967" y="264"/>
                  </a:lnTo>
                  <a:lnTo>
                    <a:pt x="2984" y="277"/>
                  </a:lnTo>
                  <a:lnTo>
                    <a:pt x="3031" y="271"/>
                  </a:lnTo>
                  <a:lnTo>
                    <a:pt x="3067" y="271"/>
                  </a:lnTo>
                  <a:lnTo>
                    <a:pt x="3037" y="282"/>
                  </a:lnTo>
                  <a:lnTo>
                    <a:pt x="3067" y="288"/>
                  </a:lnTo>
                  <a:lnTo>
                    <a:pt x="3054" y="300"/>
                  </a:lnTo>
                  <a:lnTo>
                    <a:pt x="3120" y="324"/>
                  </a:lnTo>
                  <a:lnTo>
                    <a:pt x="3149" y="371"/>
                  </a:lnTo>
                  <a:lnTo>
                    <a:pt x="3190" y="377"/>
                  </a:lnTo>
                  <a:lnTo>
                    <a:pt x="3173" y="394"/>
                  </a:lnTo>
                  <a:lnTo>
                    <a:pt x="3202" y="394"/>
                  </a:lnTo>
                  <a:lnTo>
                    <a:pt x="3207" y="424"/>
                  </a:lnTo>
                  <a:lnTo>
                    <a:pt x="3243" y="435"/>
                  </a:lnTo>
                  <a:lnTo>
                    <a:pt x="3207" y="447"/>
                  </a:lnTo>
                  <a:lnTo>
                    <a:pt x="3255" y="447"/>
                  </a:lnTo>
                  <a:lnTo>
                    <a:pt x="3273" y="465"/>
                  </a:lnTo>
                  <a:lnTo>
                    <a:pt x="3243" y="476"/>
                  </a:lnTo>
                  <a:lnTo>
                    <a:pt x="3279" y="476"/>
                  </a:lnTo>
                  <a:lnTo>
                    <a:pt x="3290" y="494"/>
                  </a:lnTo>
                  <a:lnTo>
                    <a:pt x="3315" y="488"/>
                  </a:lnTo>
                  <a:lnTo>
                    <a:pt x="3296" y="512"/>
                  </a:lnTo>
                  <a:lnTo>
                    <a:pt x="3243" y="499"/>
                  </a:lnTo>
                  <a:lnTo>
                    <a:pt x="3267" y="518"/>
                  </a:lnTo>
                  <a:lnTo>
                    <a:pt x="3302" y="524"/>
                  </a:lnTo>
                  <a:lnTo>
                    <a:pt x="3302" y="541"/>
                  </a:lnTo>
                  <a:lnTo>
                    <a:pt x="3273" y="535"/>
                  </a:lnTo>
                  <a:lnTo>
                    <a:pt x="3308" y="547"/>
                  </a:lnTo>
                  <a:lnTo>
                    <a:pt x="3290" y="552"/>
                  </a:lnTo>
                  <a:lnTo>
                    <a:pt x="3326" y="558"/>
                  </a:lnTo>
                  <a:lnTo>
                    <a:pt x="3273" y="565"/>
                  </a:lnTo>
                  <a:lnTo>
                    <a:pt x="3285" y="588"/>
                  </a:lnTo>
                  <a:lnTo>
                    <a:pt x="3243" y="571"/>
                  </a:lnTo>
                  <a:lnTo>
                    <a:pt x="3260" y="582"/>
                  </a:lnTo>
                  <a:lnTo>
                    <a:pt x="3226" y="588"/>
                  </a:lnTo>
                  <a:lnTo>
                    <a:pt x="3267" y="594"/>
                  </a:lnTo>
                  <a:lnTo>
                    <a:pt x="3226" y="599"/>
                  </a:lnTo>
                  <a:lnTo>
                    <a:pt x="3273" y="605"/>
                  </a:lnTo>
                  <a:lnTo>
                    <a:pt x="3202" y="629"/>
                  </a:lnTo>
                  <a:lnTo>
                    <a:pt x="3084" y="641"/>
                  </a:lnTo>
                  <a:lnTo>
                    <a:pt x="3037" y="635"/>
                  </a:lnTo>
                  <a:lnTo>
                    <a:pt x="2772" y="623"/>
                  </a:lnTo>
                  <a:lnTo>
                    <a:pt x="2570" y="671"/>
                  </a:lnTo>
                  <a:lnTo>
                    <a:pt x="2589" y="694"/>
                  </a:lnTo>
                  <a:lnTo>
                    <a:pt x="2895" y="735"/>
                  </a:lnTo>
                  <a:lnTo>
                    <a:pt x="2865" y="752"/>
                  </a:lnTo>
                  <a:lnTo>
                    <a:pt x="2784" y="752"/>
                  </a:lnTo>
                  <a:lnTo>
                    <a:pt x="2778" y="765"/>
                  </a:lnTo>
                  <a:lnTo>
                    <a:pt x="2848" y="794"/>
                  </a:lnTo>
                  <a:lnTo>
                    <a:pt x="2831" y="771"/>
                  </a:lnTo>
                  <a:lnTo>
                    <a:pt x="2972" y="776"/>
                  </a:lnTo>
                  <a:lnTo>
                    <a:pt x="2990" y="799"/>
                  </a:lnTo>
                  <a:lnTo>
                    <a:pt x="2865" y="799"/>
                  </a:lnTo>
                  <a:lnTo>
                    <a:pt x="2978" y="805"/>
                  </a:lnTo>
                  <a:lnTo>
                    <a:pt x="3107" y="835"/>
                  </a:lnTo>
                  <a:lnTo>
                    <a:pt x="3260" y="846"/>
                  </a:lnTo>
                  <a:lnTo>
                    <a:pt x="3362" y="859"/>
                  </a:lnTo>
                  <a:lnTo>
                    <a:pt x="3385" y="865"/>
                  </a:lnTo>
                  <a:lnTo>
                    <a:pt x="3468" y="876"/>
                  </a:lnTo>
                  <a:lnTo>
                    <a:pt x="3538" y="888"/>
                  </a:lnTo>
                  <a:lnTo>
                    <a:pt x="3579" y="888"/>
                  </a:lnTo>
                  <a:lnTo>
                    <a:pt x="3609" y="893"/>
                  </a:lnTo>
                  <a:lnTo>
                    <a:pt x="3668" y="912"/>
                  </a:lnTo>
                  <a:lnTo>
                    <a:pt x="3721" y="899"/>
                  </a:lnTo>
                  <a:lnTo>
                    <a:pt x="3727" y="893"/>
                  </a:lnTo>
                  <a:lnTo>
                    <a:pt x="3786" y="882"/>
                  </a:lnTo>
                  <a:lnTo>
                    <a:pt x="3821" y="876"/>
                  </a:lnTo>
                  <a:lnTo>
                    <a:pt x="3874" y="876"/>
                  </a:lnTo>
                  <a:lnTo>
                    <a:pt x="4110" y="870"/>
                  </a:lnTo>
                  <a:lnTo>
                    <a:pt x="4334" y="818"/>
                  </a:lnTo>
                  <a:lnTo>
                    <a:pt x="4494" y="818"/>
                  </a:lnTo>
                  <a:lnTo>
                    <a:pt x="4470" y="782"/>
                  </a:lnTo>
                  <a:lnTo>
                    <a:pt x="4506" y="771"/>
                  </a:lnTo>
                  <a:lnTo>
                    <a:pt x="4292" y="752"/>
                  </a:lnTo>
                  <a:lnTo>
                    <a:pt x="4292" y="712"/>
                  </a:lnTo>
                  <a:lnTo>
                    <a:pt x="4511" y="659"/>
                  </a:lnTo>
                  <a:lnTo>
                    <a:pt x="4511" y="641"/>
                  </a:lnTo>
                  <a:lnTo>
                    <a:pt x="4559" y="641"/>
                  </a:lnTo>
                  <a:lnTo>
                    <a:pt x="4540" y="635"/>
                  </a:lnTo>
                  <a:lnTo>
                    <a:pt x="4800" y="605"/>
                  </a:lnTo>
                  <a:lnTo>
                    <a:pt x="4788" y="594"/>
                  </a:lnTo>
                  <a:lnTo>
                    <a:pt x="4848" y="571"/>
                  </a:lnTo>
                  <a:lnTo>
                    <a:pt x="4989" y="541"/>
                  </a:lnTo>
                  <a:lnTo>
                    <a:pt x="4918" y="547"/>
                  </a:lnTo>
                  <a:lnTo>
                    <a:pt x="4906" y="529"/>
                  </a:lnTo>
                  <a:lnTo>
                    <a:pt x="4876" y="529"/>
                  </a:lnTo>
                  <a:lnTo>
                    <a:pt x="4901" y="512"/>
                  </a:lnTo>
                  <a:lnTo>
                    <a:pt x="4982" y="499"/>
                  </a:lnTo>
                  <a:lnTo>
                    <a:pt x="4954" y="482"/>
                  </a:lnTo>
                  <a:lnTo>
                    <a:pt x="4995" y="482"/>
                  </a:lnTo>
                  <a:lnTo>
                    <a:pt x="5060" y="458"/>
                  </a:lnTo>
                  <a:lnTo>
                    <a:pt x="5042" y="411"/>
                  </a:lnTo>
                  <a:lnTo>
                    <a:pt x="5065" y="429"/>
                  </a:lnTo>
                  <a:lnTo>
                    <a:pt x="5101" y="394"/>
                  </a:lnTo>
                  <a:lnTo>
                    <a:pt x="5148" y="411"/>
                  </a:lnTo>
                  <a:lnTo>
                    <a:pt x="5171" y="441"/>
                  </a:lnTo>
                  <a:lnTo>
                    <a:pt x="5207" y="429"/>
                  </a:lnTo>
                  <a:lnTo>
                    <a:pt x="5195" y="418"/>
                  </a:lnTo>
                  <a:lnTo>
                    <a:pt x="5260" y="382"/>
                  </a:lnTo>
                  <a:lnTo>
                    <a:pt x="5254" y="418"/>
                  </a:lnTo>
                  <a:lnTo>
                    <a:pt x="5396" y="405"/>
                  </a:lnTo>
                  <a:lnTo>
                    <a:pt x="5402" y="424"/>
                  </a:lnTo>
                  <a:lnTo>
                    <a:pt x="5449" y="418"/>
                  </a:lnTo>
                  <a:lnTo>
                    <a:pt x="5479" y="424"/>
                  </a:lnTo>
                  <a:lnTo>
                    <a:pt x="5585" y="388"/>
                  </a:lnTo>
                  <a:lnTo>
                    <a:pt x="5738" y="377"/>
                  </a:lnTo>
                  <a:lnTo>
                    <a:pt x="5761" y="358"/>
                  </a:lnTo>
                  <a:lnTo>
                    <a:pt x="5803" y="371"/>
                  </a:lnTo>
                  <a:lnTo>
                    <a:pt x="5803" y="352"/>
                  </a:lnTo>
                  <a:lnTo>
                    <a:pt x="5920" y="382"/>
                  </a:lnTo>
                  <a:lnTo>
                    <a:pt x="5956" y="365"/>
                  </a:lnTo>
                  <a:lnTo>
                    <a:pt x="6074" y="358"/>
                  </a:lnTo>
                  <a:lnTo>
                    <a:pt x="6145" y="347"/>
                  </a:lnTo>
                  <a:lnTo>
                    <a:pt x="6156" y="347"/>
                  </a:lnTo>
                  <a:lnTo>
                    <a:pt x="6351" y="377"/>
                  </a:lnTo>
                  <a:lnTo>
                    <a:pt x="6381" y="371"/>
                  </a:lnTo>
                  <a:lnTo>
                    <a:pt x="6434" y="365"/>
                  </a:lnTo>
                  <a:lnTo>
                    <a:pt x="6651" y="335"/>
                  </a:lnTo>
                  <a:lnTo>
                    <a:pt x="6729" y="311"/>
                  </a:lnTo>
                  <a:lnTo>
                    <a:pt x="6782" y="271"/>
                  </a:lnTo>
                  <a:lnTo>
                    <a:pt x="6805" y="277"/>
                  </a:lnTo>
                  <a:lnTo>
                    <a:pt x="6840" y="324"/>
                  </a:lnTo>
                  <a:lnTo>
                    <a:pt x="6876" y="341"/>
                  </a:lnTo>
                  <a:lnTo>
                    <a:pt x="6905" y="329"/>
                  </a:lnTo>
                  <a:lnTo>
                    <a:pt x="6923" y="347"/>
                  </a:lnTo>
                  <a:lnTo>
                    <a:pt x="6976" y="329"/>
                  </a:lnTo>
                  <a:lnTo>
                    <a:pt x="6994" y="294"/>
                  </a:lnTo>
                  <a:lnTo>
                    <a:pt x="7052" y="277"/>
                  </a:lnTo>
                  <a:lnTo>
                    <a:pt x="7271" y="229"/>
                  </a:lnTo>
                  <a:lnTo>
                    <a:pt x="7283" y="211"/>
                  </a:lnTo>
                  <a:lnTo>
                    <a:pt x="7354" y="224"/>
                  </a:lnTo>
                  <a:lnTo>
                    <a:pt x="7394" y="211"/>
                  </a:lnTo>
                  <a:lnTo>
                    <a:pt x="7360" y="205"/>
                  </a:lnTo>
                  <a:lnTo>
                    <a:pt x="7366" y="194"/>
                  </a:lnTo>
                  <a:lnTo>
                    <a:pt x="7454" y="205"/>
                  </a:lnTo>
                  <a:lnTo>
                    <a:pt x="7447" y="171"/>
                  </a:lnTo>
                  <a:lnTo>
                    <a:pt x="7525" y="141"/>
                  </a:lnTo>
                  <a:lnTo>
                    <a:pt x="7660" y="141"/>
                  </a:lnTo>
                  <a:lnTo>
                    <a:pt x="7725" y="171"/>
                  </a:lnTo>
                  <a:lnTo>
                    <a:pt x="7689" y="200"/>
                  </a:lnTo>
                  <a:lnTo>
                    <a:pt x="7742" y="200"/>
                  </a:lnTo>
                  <a:lnTo>
                    <a:pt x="8067" y="235"/>
                  </a:lnTo>
                  <a:lnTo>
                    <a:pt x="8167" y="235"/>
                  </a:lnTo>
                  <a:lnTo>
                    <a:pt x="8150" y="282"/>
                  </a:lnTo>
                  <a:lnTo>
                    <a:pt x="8103" y="294"/>
                  </a:lnTo>
                  <a:lnTo>
                    <a:pt x="8137" y="294"/>
                  </a:lnTo>
                  <a:lnTo>
                    <a:pt x="8097" y="305"/>
                  </a:lnTo>
                  <a:lnTo>
                    <a:pt x="8120" y="311"/>
                  </a:lnTo>
                  <a:lnTo>
                    <a:pt x="8073" y="311"/>
                  </a:lnTo>
                  <a:lnTo>
                    <a:pt x="8056" y="329"/>
                  </a:lnTo>
                  <a:lnTo>
                    <a:pt x="8079" y="341"/>
                  </a:lnTo>
                  <a:lnTo>
                    <a:pt x="8044" y="341"/>
                  </a:lnTo>
                  <a:lnTo>
                    <a:pt x="8026" y="358"/>
                  </a:lnTo>
                  <a:lnTo>
                    <a:pt x="8050" y="388"/>
                  </a:lnTo>
                  <a:lnTo>
                    <a:pt x="8120" y="400"/>
                  </a:lnTo>
                  <a:lnTo>
                    <a:pt x="8120" y="411"/>
                  </a:lnTo>
                  <a:lnTo>
                    <a:pt x="8167" y="388"/>
                  </a:lnTo>
                  <a:lnTo>
                    <a:pt x="8173" y="358"/>
                  </a:lnTo>
                  <a:lnTo>
                    <a:pt x="8332" y="335"/>
                  </a:lnTo>
                  <a:lnTo>
                    <a:pt x="8356" y="318"/>
                  </a:lnTo>
                  <a:lnTo>
                    <a:pt x="8432" y="305"/>
                  </a:lnTo>
                  <a:lnTo>
                    <a:pt x="8456" y="277"/>
                  </a:lnTo>
                  <a:lnTo>
                    <a:pt x="8515" y="252"/>
                  </a:lnTo>
                  <a:lnTo>
                    <a:pt x="8651" y="229"/>
                  </a:lnTo>
                  <a:lnTo>
                    <a:pt x="8634" y="224"/>
                  </a:lnTo>
                  <a:lnTo>
                    <a:pt x="8674" y="205"/>
                  </a:lnTo>
                  <a:lnTo>
                    <a:pt x="8893" y="188"/>
                  </a:lnTo>
                  <a:lnTo>
                    <a:pt x="8929" y="177"/>
                  </a:lnTo>
                  <a:lnTo>
                    <a:pt x="8940" y="158"/>
                  </a:lnTo>
                  <a:lnTo>
                    <a:pt x="8957" y="147"/>
                  </a:lnTo>
                  <a:lnTo>
                    <a:pt x="8946" y="182"/>
                  </a:lnTo>
                  <a:lnTo>
                    <a:pt x="8975" y="188"/>
                  </a:lnTo>
                  <a:lnTo>
                    <a:pt x="9082" y="171"/>
                  </a:lnTo>
                  <a:lnTo>
                    <a:pt x="9164" y="177"/>
                  </a:lnTo>
                  <a:lnTo>
                    <a:pt x="9217" y="171"/>
                  </a:lnTo>
                  <a:lnTo>
                    <a:pt x="9217" y="153"/>
                  </a:lnTo>
                  <a:lnTo>
                    <a:pt x="9229" y="177"/>
                  </a:lnTo>
                  <a:lnTo>
                    <a:pt x="9311" y="177"/>
                  </a:lnTo>
                  <a:lnTo>
                    <a:pt x="9364" y="164"/>
                  </a:lnTo>
                  <a:lnTo>
                    <a:pt x="9382" y="135"/>
                  </a:lnTo>
                  <a:lnTo>
                    <a:pt x="9435" y="124"/>
                  </a:lnTo>
                  <a:lnTo>
                    <a:pt x="9424" y="153"/>
                  </a:lnTo>
                  <a:lnTo>
                    <a:pt x="9453" y="158"/>
                  </a:lnTo>
                  <a:lnTo>
                    <a:pt x="9464" y="147"/>
                  </a:lnTo>
                  <a:lnTo>
                    <a:pt x="9589" y="135"/>
                  </a:lnTo>
                  <a:lnTo>
                    <a:pt x="9725" y="194"/>
                  </a:lnTo>
                  <a:lnTo>
                    <a:pt x="9806" y="171"/>
                  </a:lnTo>
                  <a:lnTo>
                    <a:pt x="9848" y="147"/>
                  </a:lnTo>
                  <a:lnTo>
                    <a:pt x="9966" y="130"/>
                  </a:lnTo>
                  <a:lnTo>
                    <a:pt x="9972" y="171"/>
                  </a:lnTo>
                  <a:lnTo>
                    <a:pt x="10042" y="171"/>
                  </a:lnTo>
                  <a:lnTo>
                    <a:pt x="10067" y="194"/>
                  </a:lnTo>
                  <a:lnTo>
                    <a:pt x="10261" y="171"/>
                  </a:lnTo>
                  <a:lnTo>
                    <a:pt x="10284" y="182"/>
                  </a:lnTo>
                  <a:lnTo>
                    <a:pt x="10355" y="171"/>
                  </a:lnTo>
                  <a:lnTo>
                    <a:pt x="10367" y="182"/>
                  </a:lnTo>
                  <a:lnTo>
                    <a:pt x="10438" y="158"/>
                  </a:lnTo>
                  <a:lnTo>
                    <a:pt x="10467" y="194"/>
                  </a:lnTo>
                  <a:lnTo>
                    <a:pt x="10520" y="200"/>
                  </a:lnTo>
                  <a:lnTo>
                    <a:pt x="10579" y="164"/>
                  </a:lnTo>
                  <a:lnTo>
                    <a:pt x="10626" y="153"/>
                  </a:lnTo>
                  <a:lnTo>
                    <a:pt x="10815" y="147"/>
                  </a:lnTo>
                  <a:lnTo>
                    <a:pt x="11033" y="194"/>
                  </a:lnTo>
                  <a:lnTo>
                    <a:pt x="11074" y="188"/>
                  </a:lnTo>
                  <a:lnTo>
                    <a:pt x="11099" y="211"/>
                  </a:lnTo>
                  <a:lnTo>
                    <a:pt x="11146" y="194"/>
                  </a:lnTo>
                  <a:lnTo>
                    <a:pt x="11152" y="205"/>
                  </a:lnTo>
                  <a:lnTo>
                    <a:pt x="11099" y="229"/>
                  </a:lnTo>
                  <a:lnTo>
                    <a:pt x="11186" y="247"/>
                  </a:lnTo>
                  <a:lnTo>
                    <a:pt x="11152" y="271"/>
                  </a:lnTo>
                  <a:lnTo>
                    <a:pt x="11275" y="264"/>
                  </a:lnTo>
                  <a:lnTo>
                    <a:pt x="11258" y="288"/>
                  </a:lnTo>
                  <a:lnTo>
                    <a:pt x="11311" y="294"/>
                  </a:lnTo>
                  <a:lnTo>
                    <a:pt x="11358" y="288"/>
                  </a:lnTo>
                  <a:lnTo>
                    <a:pt x="11381" y="264"/>
                  </a:lnTo>
                  <a:lnTo>
                    <a:pt x="11399" y="277"/>
                  </a:lnTo>
                  <a:lnTo>
                    <a:pt x="11358" y="305"/>
                  </a:lnTo>
                  <a:lnTo>
                    <a:pt x="11505" y="311"/>
                  </a:lnTo>
                  <a:lnTo>
                    <a:pt x="11511" y="358"/>
                  </a:lnTo>
                  <a:lnTo>
                    <a:pt x="11576" y="365"/>
                  </a:lnTo>
                  <a:lnTo>
                    <a:pt x="11570" y="382"/>
                  </a:lnTo>
                  <a:lnTo>
                    <a:pt x="11587" y="371"/>
                  </a:lnTo>
                  <a:lnTo>
                    <a:pt x="11700" y="377"/>
                  </a:lnTo>
                  <a:lnTo>
                    <a:pt x="11723" y="388"/>
                  </a:lnTo>
                  <a:lnTo>
                    <a:pt x="11741" y="429"/>
                  </a:lnTo>
                  <a:lnTo>
                    <a:pt x="11770" y="411"/>
                  </a:lnTo>
                  <a:lnTo>
                    <a:pt x="11764" y="429"/>
                  </a:lnTo>
                  <a:lnTo>
                    <a:pt x="11670" y="476"/>
                  </a:lnTo>
                  <a:lnTo>
                    <a:pt x="11552" y="518"/>
                  </a:lnTo>
                  <a:lnTo>
                    <a:pt x="11405" y="535"/>
                  </a:lnTo>
                  <a:lnTo>
                    <a:pt x="11399" y="547"/>
                  </a:lnTo>
                  <a:lnTo>
                    <a:pt x="11339" y="547"/>
                  </a:lnTo>
                  <a:lnTo>
                    <a:pt x="11322" y="571"/>
                  </a:lnTo>
                  <a:lnTo>
                    <a:pt x="11281" y="571"/>
                  </a:lnTo>
                  <a:lnTo>
                    <a:pt x="11246" y="582"/>
                  </a:lnTo>
                  <a:lnTo>
                    <a:pt x="11233" y="571"/>
                  </a:lnTo>
                  <a:lnTo>
                    <a:pt x="11192" y="582"/>
                  </a:lnTo>
                  <a:lnTo>
                    <a:pt x="11180" y="594"/>
                  </a:lnTo>
                  <a:lnTo>
                    <a:pt x="11233" y="605"/>
                  </a:lnTo>
                  <a:lnTo>
                    <a:pt x="11169" y="612"/>
                  </a:lnTo>
                  <a:lnTo>
                    <a:pt x="11021" y="676"/>
                  </a:lnTo>
                  <a:lnTo>
                    <a:pt x="11033" y="705"/>
                  </a:lnTo>
                  <a:lnTo>
                    <a:pt x="10986" y="723"/>
                  </a:lnTo>
                  <a:lnTo>
                    <a:pt x="11039" y="723"/>
                  </a:lnTo>
                  <a:lnTo>
                    <a:pt x="11051" y="746"/>
                  </a:lnTo>
                  <a:lnTo>
                    <a:pt x="10951" y="746"/>
                  </a:lnTo>
                  <a:lnTo>
                    <a:pt x="10874" y="759"/>
                  </a:lnTo>
                  <a:lnTo>
                    <a:pt x="10785" y="759"/>
                  </a:lnTo>
                  <a:lnTo>
                    <a:pt x="10762" y="776"/>
                  </a:lnTo>
                  <a:lnTo>
                    <a:pt x="10679" y="799"/>
                  </a:lnTo>
                  <a:lnTo>
                    <a:pt x="10721" y="799"/>
                  </a:lnTo>
                  <a:lnTo>
                    <a:pt x="10649" y="812"/>
                  </a:lnTo>
                  <a:lnTo>
                    <a:pt x="10697" y="818"/>
                  </a:lnTo>
                  <a:lnTo>
                    <a:pt x="10644" y="823"/>
                  </a:lnTo>
                  <a:lnTo>
                    <a:pt x="10685" y="823"/>
                  </a:lnTo>
                  <a:lnTo>
                    <a:pt x="10621" y="846"/>
                  </a:lnTo>
                  <a:lnTo>
                    <a:pt x="10668" y="846"/>
                  </a:lnTo>
                  <a:lnTo>
                    <a:pt x="10596" y="859"/>
                  </a:lnTo>
                  <a:lnTo>
                    <a:pt x="10649" y="882"/>
                  </a:lnTo>
                  <a:lnTo>
                    <a:pt x="10615" y="888"/>
                  </a:lnTo>
                  <a:lnTo>
                    <a:pt x="10668" y="893"/>
                  </a:lnTo>
                  <a:lnTo>
                    <a:pt x="10957" y="95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52280" y="2542680"/>
              <a:ext cx="43920" cy="12240"/>
            </a:xfrm>
            <a:custGeom>
              <a:avLst/>
              <a:gdLst/>
              <a:ahLst/>
              <a:rect l="l" t="t" r="r" b="b"/>
              <a:pathLst>
                <a:path w="125" h="36">
                  <a:moveTo>
                    <a:pt x="124" y="0"/>
                  </a:moveTo>
                  <a:lnTo>
                    <a:pt x="83" y="23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12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58400" y="2533320"/>
              <a:ext cx="45720" cy="5760"/>
            </a:xfrm>
            <a:custGeom>
              <a:avLst/>
              <a:gdLst/>
              <a:ahLst/>
              <a:rect l="l" t="t" r="r" b="b"/>
              <a:pathLst>
                <a:path w="130" h="18">
                  <a:moveTo>
                    <a:pt x="123" y="0"/>
                  </a:moveTo>
                  <a:lnTo>
                    <a:pt x="129" y="17"/>
                  </a:lnTo>
                  <a:lnTo>
                    <a:pt x="0" y="17"/>
                  </a:lnTo>
                  <a:lnTo>
                    <a:pt x="12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63760" y="2684160"/>
              <a:ext cx="40680" cy="16920"/>
            </a:xfrm>
            <a:custGeom>
              <a:avLst/>
              <a:gdLst/>
              <a:ahLst/>
              <a:rect l="l" t="t" r="r" b="b"/>
              <a:pathLst>
                <a:path w="113" h="48">
                  <a:moveTo>
                    <a:pt x="0" y="29"/>
                  </a:moveTo>
                  <a:lnTo>
                    <a:pt x="11" y="17"/>
                  </a:lnTo>
                  <a:lnTo>
                    <a:pt x="76" y="12"/>
                  </a:lnTo>
                  <a:lnTo>
                    <a:pt x="94" y="0"/>
                  </a:lnTo>
                  <a:lnTo>
                    <a:pt x="112" y="6"/>
                  </a:lnTo>
                  <a:lnTo>
                    <a:pt x="40" y="35"/>
                  </a:lnTo>
                  <a:lnTo>
                    <a:pt x="40" y="47"/>
                  </a:lnTo>
                  <a:lnTo>
                    <a:pt x="34" y="35"/>
                  </a:lnTo>
                  <a:lnTo>
                    <a:pt x="0" y="2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61760" y="2599920"/>
              <a:ext cx="171000" cy="58320"/>
            </a:xfrm>
            <a:custGeom>
              <a:avLst/>
              <a:gdLst/>
              <a:ahLst/>
              <a:rect l="l" t="t" r="r" b="b"/>
              <a:pathLst>
                <a:path w="478" h="165">
                  <a:moveTo>
                    <a:pt x="354" y="23"/>
                  </a:moveTo>
                  <a:lnTo>
                    <a:pt x="365" y="28"/>
                  </a:lnTo>
                  <a:lnTo>
                    <a:pt x="424" y="11"/>
                  </a:lnTo>
                  <a:lnTo>
                    <a:pt x="460" y="28"/>
                  </a:lnTo>
                  <a:lnTo>
                    <a:pt x="477" y="53"/>
                  </a:lnTo>
                  <a:lnTo>
                    <a:pt x="229" y="105"/>
                  </a:lnTo>
                  <a:lnTo>
                    <a:pt x="171" y="147"/>
                  </a:lnTo>
                  <a:lnTo>
                    <a:pt x="65" y="164"/>
                  </a:lnTo>
                  <a:lnTo>
                    <a:pt x="42" y="123"/>
                  </a:lnTo>
                  <a:lnTo>
                    <a:pt x="0" y="123"/>
                  </a:lnTo>
                  <a:lnTo>
                    <a:pt x="189" y="34"/>
                  </a:lnTo>
                  <a:lnTo>
                    <a:pt x="189" y="11"/>
                  </a:lnTo>
                  <a:lnTo>
                    <a:pt x="318" y="0"/>
                  </a:lnTo>
                  <a:lnTo>
                    <a:pt x="348" y="11"/>
                  </a:lnTo>
                  <a:lnTo>
                    <a:pt x="354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90280" y="2550600"/>
              <a:ext cx="120240" cy="29880"/>
            </a:xfrm>
            <a:custGeom>
              <a:avLst/>
              <a:gdLst/>
              <a:ahLst/>
              <a:rect l="l" t="t" r="r" b="b"/>
              <a:pathLst>
                <a:path w="337" h="84">
                  <a:moveTo>
                    <a:pt x="230" y="12"/>
                  </a:moveTo>
                  <a:lnTo>
                    <a:pt x="319" y="0"/>
                  </a:lnTo>
                  <a:lnTo>
                    <a:pt x="336" y="12"/>
                  </a:lnTo>
                  <a:lnTo>
                    <a:pt x="289" y="23"/>
                  </a:lnTo>
                  <a:lnTo>
                    <a:pt x="283" y="42"/>
                  </a:lnTo>
                  <a:lnTo>
                    <a:pt x="206" y="59"/>
                  </a:lnTo>
                  <a:lnTo>
                    <a:pt x="224" y="36"/>
                  </a:lnTo>
                  <a:lnTo>
                    <a:pt x="194" y="42"/>
                  </a:lnTo>
                  <a:lnTo>
                    <a:pt x="141" y="53"/>
                  </a:lnTo>
                  <a:lnTo>
                    <a:pt x="77" y="83"/>
                  </a:lnTo>
                  <a:lnTo>
                    <a:pt x="82" y="59"/>
                  </a:lnTo>
                  <a:lnTo>
                    <a:pt x="47" y="77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230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34840" y="2619000"/>
              <a:ext cx="225000" cy="86760"/>
            </a:xfrm>
            <a:custGeom>
              <a:avLst/>
              <a:gdLst/>
              <a:ahLst/>
              <a:rect l="l" t="t" r="r" b="b"/>
              <a:pathLst>
                <a:path w="627" h="242">
                  <a:moveTo>
                    <a:pt x="248" y="41"/>
                  </a:moveTo>
                  <a:lnTo>
                    <a:pt x="284" y="41"/>
                  </a:lnTo>
                  <a:lnTo>
                    <a:pt x="325" y="17"/>
                  </a:lnTo>
                  <a:lnTo>
                    <a:pt x="378" y="35"/>
                  </a:lnTo>
                  <a:lnTo>
                    <a:pt x="331" y="58"/>
                  </a:lnTo>
                  <a:lnTo>
                    <a:pt x="360" y="47"/>
                  </a:lnTo>
                  <a:lnTo>
                    <a:pt x="418" y="41"/>
                  </a:lnTo>
                  <a:lnTo>
                    <a:pt x="418" y="17"/>
                  </a:lnTo>
                  <a:lnTo>
                    <a:pt x="460" y="41"/>
                  </a:lnTo>
                  <a:lnTo>
                    <a:pt x="443" y="88"/>
                  </a:lnTo>
                  <a:lnTo>
                    <a:pt x="478" y="70"/>
                  </a:lnTo>
                  <a:lnTo>
                    <a:pt x="526" y="5"/>
                  </a:lnTo>
                  <a:lnTo>
                    <a:pt x="590" y="17"/>
                  </a:lnTo>
                  <a:lnTo>
                    <a:pt x="579" y="52"/>
                  </a:lnTo>
                  <a:lnTo>
                    <a:pt x="537" y="128"/>
                  </a:lnTo>
                  <a:lnTo>
                    <a:pt x="626" y="158"/>
                  </a:lnTo>
                  <a:lnTo>
                    <a:pt x="602" y="182"/>
                  </a:lnTo>
                  <a:lnTo>
                    <a:pt x="596" y="170"/>
                  </a:lnTo>
                  <a:lnTo>
                    <a:pt x="573" y="182"/>
                  </a:lnTo>
                  <a:lnTo>
                    <a:pt x="560" y="170"/>
                  </a:lnTo>
                  <a:lnTo>
                    <a:pt x="531" y="188"/>
                  </a:lnTo>
                  <a:lnTo>
                    <a:pt x="507" y="182"/>
                  </a:lnTo>
                  <a:lnTo>
                    <a:pt x="490" y="211"/>
                  </a:lnTo>
                  <a:lnTo>
                    <a:pt x="543" y="194"/>
                  </a:lnTo>
                  <a:lnTo>
                    <a:pt x="549" y="205"/>
                  </a:lnTo>
                  <a:lnTo>
                    <a:pt x="484" y="229"/>
                  </a:lnTo>
                  <a:lnTo>
                    <a:pt x="407" y="222"/>
                  </a:lnTo>
                  <a:lnTo>
                    <a:pt x="418" y="211"/>
                  </a:lnTo>
                  <a:lnTo>
                    <a:pt x="372" y="205"/>
                  </a:lnTo>
                  <a:lnTo>
                    <a:pt x="378" y="194"/>
                  </a:lnTo>
                  <a:lnTo>
                    <a:pt x="325" y="217"/>
                  </a:lnTo>
                  <a:lnTo>
                    <a:pt x="242" y="229"/>
                  </a:lnTo>
                  <a:lnTo>
                    <a:pt x="71" y="241"/>
                  </a:lnTo>
                  <a:lnTo>
                    <a:pt x="101" y="205"/>
                  </a:lnTo>
                  <a:lnTo>
                    <a:pt x="0" y="194"/>
                  </a:lnTo>
                  <a:lnTo>
                    <a:pt x="0" y="164"/>
                  </a:lnTo>
                  <a:lnTo>
                    <a:pt x="236" y="152"/>
                  </a:lnTo>
                  <a:lnTo>
                    <a:pt x="165" y="128"/>
                  </a:lnTo>
                  <a:lnTo>
                    <a:pt x="23" y="135"/>
                  </a:lnTo>
                  <a:lnTo>
                    <a:pt x="18" y="117"/>
                  </a:lnTo>
                  <a:lnTo>
                    <a:pt x="171" y="94"/>
                  </a:lnTo>
                  <a:lnTo>
                    <a:pt x="83" y="82"/>
                  </a:lnTo>
                  <a:lnTo>
                    <a:pt x="30" y="82"/>
                  </a:lnTo>
                  <a:lnTo>
                    <a:pt x="101" y="58"/>
                  </a:lnTo>
                  <a:lnTo>
                    <a:pt x="165" y="23"/>
                  </a:lnTo>
                  <a:lnTo>
                    <a:pt x="295" y="0"/>
                  </a:lnTo>
                  <a:lnTo>
                    <a:pt x="284" y="23"/>
                  </a:lnTo>
                  <a:lnTo>
                    <a:pt x="248" y="4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39600" y="2563560"/>
              <a:ext cx="163080" cy="37440"/>
            </a:xfrm>
            <a:custGeom>
              <a:avLst/>
              <a:gdLst/>
              <a:ahLst/>
              <a:rect l="l" t="t" r="r" b="b"/>
              <a:pathLst>
                <a:path w="455" h="106">
                  <a:moveTo>
                    <a:pt x="237" y="29"/>
                  </a:moveTo>
                  <a:lnTo>
                    <a:pt x="242" y="58"/>
                  </a:lnTo>
                  <a:lnTo>
                    <a:pt x="318" y="58"/>
                  </a:lnTo>
                  <a:lnTo>
                    <a:pt x="301" y="41"/>
                  </a:lnTo>
                  <a:lnTo>
                    <a:pt x="318" y="17"/>
                  </a:lnTo>
                  <a:lnTo>
                    <a:pt x="401" y="0"/>
                  </a:lnTo>
                  <a:lnTo>
                    <a:pt x="366" y="34"/>
                  </a:lnTo>
                  <a:lnTo>
                    <a:pt x="366" y="47"/>
                  </a:lnTo>
                  <a:lnTo>
                    <a:pt x="419" y="47"/>
                  </a:lnTo>
                  <a:lnTo>
                    <a:pt x="431" y="34"/>
                  </a:lnTo>
                  <a:lnTo>
                    <a:pt x="454" y="53"/>
                  </a:lnTo>
                  <a:lnTo>
                    <a:pt x="401" y="76"/>
                  </a:lnTo>
                  <a:lnTo>
                    <a:pt x="295" y="76"/>
                  </a:lnTo>
                  <a:lnTo>
                    <a:pt x="142" y="105"/>
                  </a:lnTo>
                  <a:lnTo>
                    <a:pt x="83" y="94"/>
                  </a:lnTo>
                  <a:lnTo>
                    <a:pt x="237" y="70"/>
                  </a:lnTo>
                  <a:lnTo>
                    <a:pt x="129" y="76"/>
                  </a:lnTo>
                  <a:lnTo>
                    <a:pt x="136" y="70"/>
                  </a:lnTo>
                  <a:lnTo>
                    <a:pt x="165" y="58"/>
                  </a:lnTo>
                  <a:lnTo>
                    <a:pt x="142" y="58"/>
                  </a:lnTo>
                  <a:lnTo>
                    <a:pt x="118" y="70"/>
                  </a:lnTo>
                  <a:lnTo>
                    <a:pt x="76" y="81"/>
                  </a:lnTo>
                  <a:lnTo>
                    <a:pt x="83" y="70"/>
                  </a:lnTo>
                  <a:lnTo>
                    <a:pt x="53" y="81"/>
                  </a:lnTo>
                  <a:lnTo>
                    <a:pt x="0" y="70"/>
                  </a:lnTo>
                  <a:lnTo>
                    <a:pt x="118" y="47"/>
                  </a:lnTo>
                  <a:lnTo>
                    <a:pt x="36" y="53"/>
                  </a:lnTo>
                  <a:lnTo>
                    <a:pt x="136" y="41"/>
                  </a:lnTo>
                  <a:lnTo>
                    <a:pt x="71" y="41"/>
                  </a:lnTo>
                  <a:lnTo>
                    <a:pt x="101" y="29"/>
                  </a:lnTo>
                  <a:lnTo>
                    <a:pt x="159" y="29"/>
                  </a:lnTo>
                  <a:lnTo>
                    <a:pt x="124" y="23"/>
                  </a:lnTo>
                  <a:lnTo>
                    <a:pt x="148" y="17"/>
                  </a:lnTo>
                  <a:lnTo>
                    <a:pt x="195" y="17"/>
                  </a:lnTo>
                  <a:lnTo>
                    <a:pt x="237" y="2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9680" y="2611080"/>
              <a:ext cx="34560" cy="1692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94" y="13"/>
                  </a:moveTo>
                  <a:lnTo>
                    <a:pt x="36" y="47"/>
                  </a:lnTo>
                  <a:lnTo>
                    <a:pt x="0" y="19"/>
                  </a:lnTo>
                  <a:lnTo>
                    <a:pt x="71" y="0"/>
                  </a:lnTo>
                  <a:lnTo>
                    <a:pt x="94" y="1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60280" y="2525400"/>
              <a:ext cx="67680" cy="2160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95" y="0"/>
                  </a:moveTo>
                  <a:lnTo>
                    <a:pt x="106" y="17"/>
                  </a:lnTo>
                  <a:lnTo>
                    <a:pt x="189" y="29"/>
                  </a:lnTo>
                  <a:lnTo>
                    <a:pt x="166" y="59"/>
                  </a:lnTo>
                  <a:lnTo>
                    <a:pt x="72" y="35"/>
                  </a:lnTo>
                  <a:lnTo>
                    <a:pt x="0" y="40"/>
                  </a:lnTo>
                  <a:lnTo>
                    <a:pt x="72" y="23"/>
                  </a:lnTo>
                  <a:lnTo>
                    <a:pt x="59" y="12"/>
                  </a:lnTo>
                  <a:lnTo>
                    <a:pt x="19" y="23"/>
                  </a:lnTo>
                  <a:lnTo>
                    <a:pt x="30" y="0"/>
                  </a:lnTo>
                  <a:lnTo>
                    <a:pt x="9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33280" y="2565000"/>
              <a:ext cx="80640" cy="24840"/>
            </a:xfrm>
            <a:custGeom>
              <a:avLst/>
              <a:gdLst/>
              <a:ahLst/>
              <a:rect l="l" t="t" r="r" b="b"/>
              <a:pathLst>
                <a:path w="225" h="71">
                  <a:moveTo>
                    <a:pt x="142" y="0"/>
                  </a:moveTo>
                  <a:lnTo>
                    <a:pt x="201" y="0"/>
                  </a:lnTo>
                  <a:lnTo>
                    <a:pt x="224" y="5"/>
                  </a:lnTo>
                  <a:lnTo>
                    <a:pt x="189" y="58"/>
                  </a:lnTo>
                  <a:lnTo>
                    <a:pt x="159" y="70"/>
                  </a:lnTo>
                  <a:lnTo>
                    <a:pt x="65" y="70"/>
                  </a:lnTo>
                  <a:lnTo>
                    <a:pt x="65" y="52"/>
                  </a:lnTo>
                  <a:lnTo>
                    <a:pt x="142" y="41"/>
                  </a:lnTo>
                  <a:lnTo>
                    <a:pt x="0" y="47"/>
                  </a:lnTo>
                  <a:lnTo>
                    <a:pt x="42" y="35"/>
                  </a:lnTo>
                  <a:lnTo>
                    <a:pt x="76" y="41"/>
                  </a:lnTo>
                  <a:lnTo>
                    <a:pt x="76" y="11"/>
                  </a:lnTo>
                  <a:lnTo>
                    <a:pt x="135" y="28"/>
                  </a:lnTo>
                  <a:lnTo>
                    <a:pt x="118" y="23"/>
                  </a:lnTo>
                  <a:lnTo>
                    <a:pt x="112" y="5"/>
                  </a:lnTo>
                  <a:lnTo>
                    <a:pt x="1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82520" y="2609280"/>
              <a:ext cx="93240" cy="47520"/>
            </a:xfrm>
            <a:custGeom>
              <a:avLst/>
              <a:gdLst/>
              <a:ahLst/>
              <a:rect l="l" t="t" r="r" b="b"/>
              <a:pathLst>
                <a:path w="260" h="131">
                  <a:moveTo>
                    <a:pt x="158" y="0"/>
                  </a:moveTo>
                  <a:lnTo>
                    <a:pt x="176" y="13"/>
                  </a:lnTo>
                  <a:lnTo>
                    <a:pt x="236" y="0"/>
                  </a:lnTo>
                  <a:lnTo>
                    <a:pt x="259" y="13"/>
                  </a:lnTo>
                  <a:lnTo>
                    <a:pt x="164" y="48"/>
                  </a:lnTo>
                  <a:lnTo>
                    <a:pt x="206" y="48"/>
                  </a:lnTo>
                  <a:lnTo>
                    <a:pt x="194" y="66"/>
                  </a:lnTo>
                  <a:lnTo>
                    <a:pt x="223" y="60"/>
                  </a:lnTo>
                  <a:lnTo>
                    <a:pt x="183" y="100"/>
                  </a:lnTo>
                  <a:lnTo>
                    <a:pt x="135" y="113"/>
                  </a:lnTo>
                  <a:lnTo>
                    <a:pt x="111" y="100"/>
                  </a:lnTo>
                  <a:lnTo>
                    <a:pt x="111" y="119"/>
                  </a:lnTo>
                  <a:lnTo>
                    <a:pt x="76" y="130"/>
                  </a:lnTo>
                  <a:lnTo>
                    <a:pt x="58" y="100"/>
                  </a:lnTo>
                  <a:lnTo>
                    <a:pt x="0" y="60"/>
                  </a:lnTo>
                  <a:lnTo>
                    <a:pt x="35" y="42"/>
                  </a:lnTo>
                  <a:lnTo>
                    <a:pt x="58" y="60"/>
                  </a:lnTo>
                  <a:lnTo>
                    <a:pt x="100" y="42"/>
                  </a:lnTo>
                  <a:lnTo>
                    <a:pt x="105" y="48"/>
                  </a:lnTo>
                  <a:lnTo>
                    <a:pt x="105" y="36"/>
                  </a:lnTo>
                  <a:lnTo>
                    <a:pt x="129" y="36"/>
                  </a:lnTo>
                  <a:lnTo>
                    <a:pt x="76" y="25"/>
                  </a:lnTo>
                  <a:lnTo>
                    <a:pt x="117" y="25"/>
                  </a:lnTo>
                  <a:lnTo>
                    <a:pt x="111" y="13"/>
                  </a:lnTo>
                  <a:lnTo>
                    <a:pt x="147" y="13"/>
                  </a:lnTo>
                  <a:lnTo>
                    <a:pt x="15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41280" y="2531520"/>
              <a:ext cx="40680" cy="17280"/>
            </a:xfrm>
            <a:custGeom>
              <a:avLst/>
              <a:gdLst/>
              <a:ahLst/>
              <a:rect l="l" t="t" r="r" b="b"/>
              <a:pathLst>
                <a:path w="113" h="48">
                  <a:moveTo>
                    <a:pt x="29" y="0"/>
                  </a:moveTo>
                  <a:lnTo>
                    <a:pt x="112" y="23"/>
                  </a:lnTo>
                  <a:lnTo>
                    <a:pt x="83" y="42"/>
                  </a:lnTo>
                  <a:lnTo>
                    <a:pt x="17" y="47"/>
                  </a:lnTo>
                  <a:lnTo>
                    <a:pt x="0" y="36"/>
                  </a:lnTo>
                  <a:lnTo>
                    <a:pt x="2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58400" y="2679120"/>
              <a:ext cx="56880" cy="28440"/>
            </a:xfrm>
            <a:custGeom>
              <a:avLst/>
              <a:gdLst/>
              <a:ahLst/>
              <a:rect l="l" t="t" r="r" b="b"/>
              <a:pathLst>
                <a:path w="160" h="78">
                  <a:moveTo>
                    <a:pt x="106" y="0"/>
                  </a:moveTo>
                  <a:lnTo>
                    <a:pt x="129" y="41"/>
                  </a:lnTo>
                  <a:lnTo>
                    <a:pt x="159" y="52"/>
                  </a:lnTo>
                  <a:lnTo>
                    <a:pt x="141" y="65"/>
                  </a:lnTo>
                  <a:lnTo>
                    <a:pt x="93" y="77"/>
                  </a:lnTo>
                  <a:lnTo>
                    <a:pt x="0" y="52"/>
                  </a:lnTo>
                  <a:lnTo>
                    <a:pt x="12" y="41"/>
                  </a:lnTo>
                  <a:lnTo>
                    <a:pt x="59" y="29"/>
                  </a:lnTo>
                  <a:lnTo>
                    <a:pt x="70" y="18"/>
                  </a:lnTo>
                  <a:lnTo>
                    <a:pt x="82" y="24"/>
                  </a:lnTo>
                  <a:lnTo>
                    <a:pt x="10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8200" y="2607840"/>
              <a:ext cx="94680" cy="36000"/>
            </a:xfrm>
            <a:custGeom>
              <a:avLst/>
              <a:gdLst/>
              <a:ahLst/>
              <a:rect l="l" t="t" r="r" b="b"/>
              <a:pathLst>
                <a:path w="266" h="101">
                  <a:moveTo>
                    <a:pt x="95" y="0"/>
                  </a:moveTo>
                  <a:lnTo>
                    <a:pt x="265" y="5"/>
                  </a:lnTo>
                  <a:lnTo>
                    <a:pt x="148" y="65"/>
                  </a:lnTo>
                  <a:lnTo>
                    <a:pt x="65" y="58"/>
                  </a:lnTo>
                  <a:lnTo>
                    <a:pt x="82" y="77"/>
                  </a:lnTo>
                  <a:lnTo>
                    <a:pt x="42" y="100"/>
                  </a:lnTo>
                  <a:lnTo>
                    <a:pt x="0" y="100"/>
                  </a:lnTo>
                  <a:lnTo>
                    <a:pt x="18" y="58"/>
                  </a:lnTo>
                  <a:lnTo>
                    <a:pt x="59" y="18"/>
                  </a:lnTo>
                  <a:lnTo>
                    <a:pt x="95" y="18"/>
                  </a:lnTo>
                  <a:lnTo>
                    <a:pt x="9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9880" y="2582280"/>
              <a:ext cx="43920" cy="17280"/>
            </a:xfrm>
            <a:custGeom>
              <a:avLst/>
              <a:gdLst/>
              <a:ahLst/>
              <a:rect l="l" t="t" r="r" b="b"/>
              <a:pathLst>
                <a:path w="124" h="48">
                  <a:moveTo>
                    <a:pt x="93" y="0"/>
                  </a:moveTo>
                  <a:lnTo>
                    <a:pt x="123" y="17"/>
                  </a:lnTo>
                  <a:lnTo>
                    <a:pt x="88" y="47"/>
                  </a:lnTo>
                  <a:lnTo>
                    <a:pt x="0" y="28"/>
                  </a:lnTo>
                  <a:lnTo>
                    <a:pt x="9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90240" y="2495160"/>
              <a:ext cx="125280" cy="47160"/>
            </a:xfrm>
            <a:custGeom>
              <a:avLst/>
              <a:gdLst/>
              <a:ahLst/>
              <a:rect l="l" t="t" r="r" b="b"/>
              <a:pathLst>
                <a:path w="349" h="131">
                  <a:moveTo>
                    <a:pt x="123" y="12"/>
                  </a:moveTo>
                  <a:lnTo>
                    <a:pt x="164" y="12"/>
                  </a:lnTo>
                  <a:lnTo>
                    <a:pt x="164" y="0"/>
                  </a:lnTo>
                  <a:lnTo>
                    <a:pt x="206" y="12"/>
                  </a:lnTo>
                  <a:lnTo>
                    <a:pt x="265" y="53"/>
                  </a:lnTo>
                  <a:lnTo>
                    <a:pt x="306" y="42"/>
                  </a:lnTo>
                  <a:lnTo>
                    <a:pt x="276" y="70"/>
                  </a:lnTo>
                  <a:lnTo>
                    <a:pt x="348" y="83"/>
                  </a:lnTo>
                  <a:lnTo>
                    <a:pt x="229" y="112"/>
                  </a:lnTo>
                  <a:lnTo>
                    <a:pt x="229" y="95"/>
                  </a:lnTo>
                  <a:lnTo>
                    <a:pt x="170" y="130"/>
                  </a:lnTo>
                  <a:lnTo>
                    <a:pt x="153" y="112"/>
                  </a:lnTo>
                  <a:lnTo>
                    <a:pt x="147" y="130"/>
                  </a:lnTo>
                  <a:lnTo>
                    <a:pt x="111" y="130"/>
                  </a:lnTo>
                  <a:lnTo>
                    <a:pt x="64" y="130"/>
                  </a:lnTo>
                  <a:lnTo>
                    <a:pt x="47" y="118"/>
                  </a:lnTo>
                  <a:lnTo>
                    <a:pt x="94" y="112"/>
                  </a:lnTo>
                  <a:lnTo>
                    <a:pt x="40" y="112"/>
                  </a:lnTo>
                  <a:lnTo>
                    <a:pt x="23" y="95"/>
                  </a:lnTo>
                  <a:lnTo>
                    <a:pt x="159" y="89"/>
                  </a:lnTo>
                  <a:lnTo>
                    <a:pt x="87" y="83"/>
                  </a:lnTo>
                  <a:lnTo>
                    <a:pt x="147" y="76"/>
                  </a:lnTo>
                  <a:lnTo>
                    <a:pt x="0" y="76"/>
                  </a:lnTo>
                  <a:lnTo>
                    <a:pt x="64" y="65"/>
                  </a:lnTo>
                  <a:lnTo>
                    <a:pt x="0" y="65"/>
                  </a:lnTo>
                  <a:lnTo>
                    <a:pt x="0" y="47"/>
                  </a:lnTo>
                  <a:lnTo>
                    <a:pt x="87" y="47"/>
                  </a:lnTo>
                  <a:lnTo>
                    <a:pt x="11" y="42"/>
                  </a:lnTo>
                  <a:lnTo>
                    <a:pt x="53" y="42"/>
                  </a:lnTo>
                  <a:lnTo>
                    <a:pt x="47" y="29"/>
                  </a:lnTo>
                  <a:lnTo>
                    <a:pt x="117" y="36"/>
                  </a:lnTo>
                  <a:lnTo>
                    <a:pt x="70" y="23"/>
                  </a:lnTo>
                  <a:lnTo>
                    <a:pt x="123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25080" y="2558520"/>
              <a:ext cx="195120" cy="42480"/>
            </a:xfrm>
            <a:custGeom>
              <a:avLst/>
              <a:gdLst/>
              <a:ahLst/>
              <a:rect l="l" t="t" r="r" b="b"/>
              <a:pathLst>
                <a:path w="544" h="119">
                  <a:moveTo>
                    <a:pt x="171" y="19"/>
                  </a:moveTo>
                  <a:lnTo>
                    <a:pt x="212" y="24"/>
                  </a:lnTo>
                  <a:lnTo>
                    <a:pt x="183" y="30"/>
                  </a:lnTo>
                  <a:lnTo>
                    <a:pt x="248" y="36"/>
                  </a:lnTo>
                  <a:lnTo>
                    <a:pt x="165" y="36"/>
                  </a:lnTo>
                  <a:lnTo>
                    <a:pt x="207" y="42"/>
                  </a:lnTo>
                  <a:lnTo>
                    <a:pt x="159" y="54"/>
                  </a:lnTo>
                  <a:lnTo>
                    <a:pt x="207" y="47"/>
                  </a:lnTo>
                  <a:lnTo>
                    <a:pt x="218" y="54"/>
                  </a:lnTo>
                  <a:lnTo>
                    <a:pt x="218" y="71"/>
                  </a:lnTo>
                  <a:lnTo>
                    <a:pt x="236" y="60"/>
                  </a:lnTo>
                  <a:lnTo>
                    <a:pt x="337" y="77"/>
                  </a:lnTo>
                  <a:lnTo>
                    <a:pt x="318" y="71"/>
                  </a:lnTo>
                  <a:lnTo>
                    <a:pt x="407" y="54"/>
                  </a:lnTo>
                  <a:lnTo>
                    <a:pt x="531" y="66"/>
                  </a:lnTo>
                  <a:lnTo>
                    <a:pt x="543" y="77"/>
                  </a:lnTo>
                  <a:lnTo>
                    <a:pt x="501" y="89"/>
                  </a:lnTo>
                  <a:lnTo>
                    <a:pt x="537" y="94"/>
                  </a:lnTo>
                  <a:lnTo>
                    <a:pt x="496" y="94"/>
                  </a:lnTo>
                  <a:lnTo>
                    <a:pt x="490" y="113"/>
                  </a:lnTo>
                  <a:lnTo>
                    <a:pt x="395" y="113"/>
                  </a:lnTo>
                  <a:lnTo>
                    <a:pt x="390" y="94"/>
                  </a:lnTo>
                  <a:lnTo>
                    <a:pt x="342" y="118"/>
                  </a:lnTo>
                  <a:lnTo>
                    <a:pt x="325" y="107"/>
                  </a:lnTo>
                  <a:lnTo>
                    <a:pt x="307" y="118"/>
                  </a:lnTo>
                  <a:lnTo>
                    <a:pt x="307" y="107"/>
                  </a:lnTo>
                  <a:lnTo>
                    <a:pt x="295" y="118"/>
                  </a:lnTo>
                  <a:lnTo>
                    <a:pt x="195" y="118"/>
                  </a:lnTo>
                  <a:lnTo>
                    <a:pt x="212" y="94"/>
                  </a:lnTo>
                  <a:lnTo>
                    <a:pt x="159" y="113"/>
                  </a:lnTo>
                  <a:lnTo>
                    <a:pt x="112" y="107"/>
                  </a:lnTo>
                  <a:lnTo>
                    <a:pt x="130" y="101"/>
                  </a:lnTo>
                  <a:lnTo>
                    <a:pt x="95" y="107"/>
                  </a:lnTo>
                  <a:lnTo>
                    <a:pt x="125" y="66"/>
                  </a:lnTo>
                  <a:lnTo>
                    <a:pt x="118" y="30"/>
                  </a:lnTo>
                  <a:lnTo>
                    <a:pt x="42" y="30"/>
                  </a:lnTo>
                  <a:lnTo>
                    <a:pt x="0" y="13"/>
                  </a:lnTo>
                  <a:lnTo>
                    <a:pt x="59" y="0"/>
                  </a:lnTo>
                  <a:lnTo>
                    <a:pt x="125" y="7"/>
                  </a:lnTo>
                  <a:lnTo>
                    <a:pt x="101" y="30"/>
                  </a:lnTo>
                  <a:lnTo>
                    <a:pt x="171" y="1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53800" y="2754000"/>
              <a:ext cx="104400" cy="53640"/>
            </a:xfrm>
            <a:custGeom>
              <a:avLst/>
              <a:gdLst/>
              <a:ahLst/>
              <a:rect l="l" t="t" r="r" b="b"/>
              <a:pathLst>
                <a:path w="290" h="148">
                  <a:moveTo>
                    <a:pt x="212" y="54"/>
                  </a:moveTo>
                  <a:lnTo>
                    <a:pt x="248" y="71"/>
                  </a:lnTo>
                  <a:lnTo>
                    <a:pt x="223" y="101"/>
                  </a:lnTo>
                  <a:lnTo>
                    <a:pt x="289" y="113"/>
                  </a:lnTo>
                  <a:lnTo>
                    <a:pt x="248" y="130"/>
                  </a:lnTo>
                  <a:lnTo>
                    <a:pt x="195" y="118"/>
                  </a:lnTo>
                  <a:lnTo>
                    <a:pt x="177" y="101"/>
                  </a:lnTo>
                  <a:lnTo>
                    <a:pt x="189" y="89"/>
                  </a:lnTo>
                  <a:lnTo>
                    <a:pt x="147" y="113"/>
                  </a:lnTo>
                  <a:lnTo>
                    <a:pt x="59" y="147"/>
                  </a:lnTo>
                  <a:lnTo>
                    <a:pt x="64" y="113"/>
                  </a:lnTo>
                  <a:lnTo>
                    <a:pt x="0" y="124"/>
                  </a:lnTo>
                  <a:lnTo>
                    <a:pt x="59" y="94"/>
                  </a:lnTo>
                  <a:lnTo>
                    <a:pt x="147" y="0"/>
                  </a:lnTo>
                  <a:lnTo>
                    <a:pt x="147" y="36"/>
                  </a:lnTo>
                  <a:lnTo>
                    <a:pt x="170" y="24"/>
                  </a:lnTo>
                  <a:lnTo>
                    <a:pt x="212" y="5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5480" y="2809440"/>
              <a:ext cx="34560" cy="1728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88" y="0"/>
                  </a:moveTo>
                  <a:lnTo>
                    <a:pt x="94" y="17"/>
                  </a:lnTo>
                  <a:lnTo>
                    <a:pt x="23" y="47"/>
                  </a:lnTo>
                  <a:lnTo>
                    <a:pt x="0" y="47"/>
                  </a:lnTo>
                  <a:lnTo>
                    <a:pt x="0" y="29"/>
                  </a:lnTo>
                  <a:lnTo>
                    <a:pt x="41" y="6"/>
                  </a:lnTo>
                  <a:lnTo>
                    <a:pt x="8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520" y="3002760"/>
              <a:ext cx="16920" cy="75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7" y="0"/>
                  </a:moveTo>
                  <a:lnTo>
                    <a:pt x="47" y="23"/>
                  </a:lnTo>
                  <a:lnTo>
                    <a:pt x="0" y="6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82400" y="2611080"/>
              <a:ext cx="44280" cy="16920"/>
            </a:xfrm>
            <a:custGeom>
              <a:avLst/>
              <a:gdLst/>
              <a:ahLst/>
              <a:rect l="l" t="t" r="r" b="b"/>
              <a:pathLst>
                <a:path w="124" h="48">
                  <a:moveTo>
                    <a:pt x="0" y="0"/>
                  </a:moveTo>
                  <a:lnTo>
                    <a:pt x="117" y="13"/>
                  </a:lnTo>
                  <a:lnTo>
                    <a:pt x="123" y="47"/>
                  </a:lnTo>
                  <a:lnTo>
                    <a:pt x="0" y="4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36240" y="2818800"/>
              <a:ext cx="15480" cy="17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1" y="0"/>
                  </a:moveTo>
                  <a:lnTo>
                    <a:pt x="0" y="47"/>
                  </a:lnTo>
                  <a:lnTo>
                    <a:pt x="0" y="18"/>
                  </a:lnTo>
                  <a:lnTo>
                    <a:pt x="4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71440" y="2936160"/>
              <a:ext cx="21600" cy="1224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53" y="0"/>
                  </a:moveTo>
                  <a:lnTo>
                    <a:pt x="36" y="35"/>
                  </a:lnTo>
                  <a:lnTo>
                    <a:pt x="59" y="5"/>
                  </a:lnTo>
                  <a:lnTo>
                    <a:pt x="29" y="35"/>
                  </a:lnTo>
                  <a:lnTo>
                    <a:pt x="47" y="17"/>
                  </a:lnTo>
                  <a:lnTo>
                    <a:pt x="23" y="35"/>
                  </a:lnTo>
                  <a:lnTo>
                    <a:pt x="29" y="23"/>
                  </a:lnTo>
                  <a:lnTo>
                    <a:pt x="0" y="35"/>
                  </a:lnTo>
                  <a:lnTo>
                    <a:pt x="23" y="23"/>
                  </a:lnTo>
                  <a:lnTo>
                    <a:pt x="5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12560" y="2474640"/>
              <a:ext cx="418680" cy="99360"/>
            </a:xfrm>
            <a:custGeom>
              <a:avLst/>
              <a:gdLst/>
              <a:ahLst/>
              <a:rect l="l" t="t" r="r" b="b"/>
              <a:pathLst>
                <a:path w="1162" h="277">
                  <a:moveTo>
                    <a:pt x="690" y="23"/>
                  </a:moveTo>
                  <a:lnTo>
                    <a:pt x="684" y="0"/>
                  </a:lnTo>
                  <a:lnTo>
                    <a:pt x="813" y="11"/>
                  </a:lnTo>
                  <a:lnTo>
                    <a:pt x="813" y="0"/>
                  </a:lnTo>
                  <a:lnTo>
                    <a:pt x="914" y="0"/>
                  </a:lnTo>
                  <a:lnTo>
                    <a:pt x="1021" y="6"/>
                  </a:lnTo>
                  <a:lnTo>
                    <a:pt x="938" y="17"/>
                  </a:lnTo>
                  <a:lnTo>
                    <a:pt x="1061" y="6"/>
                  </a:lnTo>
                  <a:lnTo>
                    <a:pt x="1161" y="29"/>
                  </a:lnTo>
                  <a:lnTo>
                    <a:pt x="1044" y="47"/>
                  </a:lnTo>
                  <a:lnTo>
                    <a:pt x="885" y="47"/>
                  </a:lnTo>
                  <a:lnTo>
                    <a:pt x="961" y="53"/>
                  </a:lnTo>
                  <a:lnTo>
                    <a:pt x="838" y="70"/>
                  </a:lnTo>
                  <a:lnTo>
                    <a:pt x="1032" y="58"/>
                  </a:lnTo>
                  <a:lnTo>
                    <a:pt x="832" y="100"/>
                  </a:lnTo>
                  <a:lnTo>
                    <a:pt x="796" y="94"/>
                  </a:lnTo>
                  <a:lnTo>
                    <a:pt x="802" y="105"/>
                  </a:lnTo>
                  <a:lnTo>
                    <a:pt x="732" y="105"/>
                  </a:lnTo>
                  <a:lnTo>
                    <a:pt x="790" y="111"/>
                  </a:lnTo>
                  <a:lnTo>
                    <a:pt x="755" y="123"/>
                  </a:lnTo>
                  <a:lnTo>
                    <a:pt x="643" y="123"/>
                  </a:lnTo>
                  <a:lnTo>
                    <a:pt x="684" y="128"/>
                  </a:lnTo>
                  <a:lnTo>
                    <a:pt x="613" y="141"/>
                  </a:lnTo>
                  <a:lnTo>
                    <a:pt x="549" y="128"/>
                  </a:lnTo>
                  <a:lnTo>
                    <a:pt x="584" y="141"/>
                  </a:lnTo>
                  <a:lnTo>
                    <a:pt x="513" y="141"/>
                  </a:lnTo>
                  <a:lnTo>
                    <a:pt x="626" y="147"/>
                  </a:lnTo>
                  <a:lnTo>
                    <a:pt x="613" y="153"/>
                  </a:lnTo>
                  <a:lnTo>
                    <a:pt x="501" y="147"/>
                  </a:lnTo>
                  <a:lnTo>
                    <a:pt x="471" y="153"/>
                  </a:lnTo>
                  <a:lnTo>
                    <a:pt x="513" y="153"/>
                  </a:lnTo>
                  <a:lnTo>
                    <a:pt x="484" y="164"/>
                  </a:lnTo>
                  <a:lnTo>
                    <a:pt x="543" y="153"/>
                  </a:lnTo>
                  <a:lnTo>
                    <a:pt x="601" y="158"/>
                  </a:lnTo>
                  <a:lnTo>
                    <a:pt x="596" y="170"/>
                  </a:lnTo>
                  <a:lnTo>
                    <a:pt x="525" y="176"/>
                  </a:lnTo>
                  <a:lnTo>
                    <a:pt x="573" y="181"/>
                  </a:lnTo>
                  <a:lnTo>
                    <a:pt x="507" y="188"/>
                  </a:lnTo>
                  <a:lnTo>
                    <a:pt x="531" y="194"/>
                  </a:lnTo>
                  <a:lnTo>
                    <a:pt x="448" y="200"/>
                  </a:lnTo>
                  <a:lnTo>
                    <a:pt x="454" y="211"/>
                  </a:lnTo>
                  <a:lnTo>
                    <a:pt x="407" y="223"/>
                  </a:lnTo>
                  <a:lnTo>
                    <a:pt x="342" y="223"/>
                  </a:lnTo>
                  <a:lnTo>
                    <a:pt x="312" y="205"/>
                  </a:lnTo>
                  <a:lnTo>
                    <a:pt x="295" y="228"/>
                  </a:lnTo>
                  <a:lnTo>
                    <a:pt x="390" y="228"/>
                  </a:lnTo>
                  <a:lnTo>
                    <a:pt x="390" y="247"/>
                  </a:lnTo>
                  <a:lnTo>
                    <a:pt x="418" y="234"/>
                  </a:lnTo>
                  <a:lnTo>
                    <a:pt x="401" y="258"/>
                  </a:lnTo>
                  <a:lnTo>
                    <a:pt x="284" y="276"/>
                  </a:lnTo>
                  <a:lnTo>
                    <a:pt x="301" y="264"/>
                  </a:lnTo>
                  <a:lnTo>
                    <a:pt x="254" y="247"/>
                  </a:lnTo>
                  <a:lnTo>
                    <a:pt x="254" y="264"/>
                  </a:lnTo>
                  <a:lnTo>
                    <a:pt x="231" y="247"/>
                  </a:lnTo>
                  <a:lnTo>
                    <a:pt x="218" y="264"/>
                  </a:lnTo>
                  <a:lnTo>
                    <a:pt x="183" y="264"/>
                  </a:lnTo>
                  <a:lnTo>
                    <a:pt x="153" y="270"/>
                  </a:lnTo>
                  <a:lnTo>
                    <a:pt x="112" y="253"/>
                  </a:lnTo>
                  <a:lnTo>
                    <a:pt x="95" y="264"/>
                  </a:lnTo>
                  <a:lnTo>
                    <a:pt x="76" y="253"/>
                  </a:lnTo>
                  <a:lnTo>
                    <a:pt x="70" y="264"/>
                  </a:lnTo>
                  <a:lnTo>
                    <a:pt x="42" y="264"/>
                  </a:lnTo>
                  <a:lnTo>
                    <a:pt x="53" y="247"/>
                  </a:lnTo>
                  <a:lnTo>
                    <a:pt x="36" y="264"/>
                  </a:lnTo>
                  <a:lnTo>
                    <a:pt x="23" y="264"/>
                  </a:lnTo>
                  <a:lnTo>
                    <a:pt x="0" y="258"/>
                  </a:lnTo>
                  <a:lnTo>
                    <a:pt x="65" y="234"/>
                  </a:lnTo>
                  <a:lnTo>
                    <a:pt x="136" y="228"/>
                  </a:lnTo>
                  <a:lnTo>
                    <a:pt x="112" y="200"/>
                  </a:lnTo>
                  <a:lnTo>
                    <a:pt x="171" y="205"/>
                  </a:lnTo>
                  <a:lnTo>
                    <a:pt x="171" y="217"/>
                  </a:lnTo>
                  <a:lnTo>
                    <a:pt x="248" y="223"/>
                  </a:lnTo>
                  <a:lnTo>
                    <a:pt x="318" y="194"/>
                  </a:lnTo>
                  <a:lnTo>
                    <a:pt x="242" y="217"/>
                  </a:lnTo>
                  <a:lnTo>
                    <a:pt x="201" y="211"/>
                  </a:lnTo>
                  <a:lnTo>
                    <a:pt x="242" y="200"/>
                  </a:lnTo>
                  <a:lnTo>
                    <a:pt x="201" y="200"/>
                  </a:lnTo>
                  <a:lnTo>
                    <a:pt x="254" y="194"/>
                  </a:lnTo>
                  <a:lnTo>
                    <a:pt x="265" y="188"/>
                  </a:lnTo>
                  <a:lnTo>
                    <a:pt x="236" y="188"/>
                  </a:lnTo>
                  <a:lnTo>
                    <a:pt x="265" y="170"/>
                  </a:lnTo>
                  <a:lnTo>
                    <a:pt x="212" y="188"/>
                  </a:lnTo>
                  <a:lnTo>
                    <a:pt x="212" y="176"/>
                  </a:lnTo>
                  <a:lnTo>
                    <a:pt x="148" y="188"/>
                  </a:lnTo>
                  <a:lnTo>
                    <a:pt x="206" y="164"/>
                  </a:lnTo>
                  <a:lnTo>
                    <a:pt x="337" y="170"/>
                  </a:lnTo>
                  <a:lnTo>
                    <a:pt x="348" y="164"/>
                  </a:lnTo>
                  <a:lnTo>
                    <a:pt x="318" y="158"/>
                  </a:lnTo>
                  <a:lnTo>
                    <a:pt x="390" y="153"/>
                  </a:lnTo>
                  <a:lnTo>
                    <a:pt x="348" y="158"/>
                  </a:lnTo>
                  <a:lnTo>
                    <a:pt x="278" y="153"/>
                  </a:lnTo>
                  <a:lnTo>
                    <a:pt x="324" y="153"/>
                  </a:lnTo>
                  <a:lnTo>
                    <a:pt x="254" y="123"/>
                  </a:lnTo>
                  <a:lnTo>
                    <a:pt x="301" y="117"/>
                  </a:lnTo>
                  <a:lnTo>
                    <a:pt x="278" y="100"/>
                  </a:lnTo>
                  <a:lnTo>
                    <a:pt x="360" y="105"/>
                  </a:lnTo>
                  <a:lnTo>
                    <a:pt x="401" y="128"/>
                  </a:lnTo>
                  <a:lnTo>
                    <a:pt x="471" y="123"/>
                  </a:lnTo>
                  <a:lnTo>
                    <a:pt x="413" y="123"/>
                  </a:lnTo>
                  <a:lnTo>
                    <a:pt x="384" y="100"/>
                  </a:lnTo>
                  <a:lnTo>
                    <a:pt x="560" y="94"/>
                  </a:lnTo>
                  <a:lnTo>
                    <a:pt x="501" y="87"/>
                  </a:lnTo>
                  <a:lnTo>
                    <a:pt x="619" y="81"/>
                  </a:lnTo>
                  <a:lnTo>
                    <a:pt x="543" y="76"/>
                  </a:lnTo>
                  <a:lnTo>
                    <a:pt x="637" y="58"/>
                  </a:lnTo>
                  <a:lnTo>
                    <a:pt x="543" y="64"/>
                  </a:lnTo>
                  <a:lnTo>
                    <a:pt x="418" y="94"/>
                  </a:lnTo>
                  <a:lnTo>
                    <a:pt x="448" y="81"/>
                  </a:lnTo>
                  <a:lnTo>
                    <a:pt x="354" y="94"/>
                  </a:lnTo>
                  <a:lnTo>
                    <a:pt x="284" y="87"/>
                  </a:lnTo>
                  <a:lnTo>
                    <a:pt x="448" y="70"/>
                  </a:lnTo>
                  <a:lnTo>
                    <a:pt x="331" y="76"/>
                  </a:lnTo>
                  <a:lnTo>
                    <a:pt x="236" y="87"/>
                  </a:lnTo>
                  <a:lnTo>
                    <a:pt x="206" y="76"/>
                  </a:lnTo>
                  <a:lnTo>
                    <a:pt x="378" y="64"/>
                  </a:lnTo>
                  <a:lnTo>
                    <a:pt x="206" y="76"/>
                  </a:lnTo>
                  <a:lnTo>
                    <a:pt x="206" y="64"/>
                  </a:lnTo>
                  <a:lnTo>
                    <a:pt x="301" y="58"/>
                  </a:lnTo>
                  <a:lnTo>
                    <a:pt x="236" y="53"/>
                  </a:lnTo>
                  <a:lnTo>
                    <a:pt x="159" y="53"/>
                  </a:lnTo>
                  <a:lnTo>
                    <a:pt x="307" y="34"/>
                  </a:lnTo>
                  <a:lnTo>
                    <a:pt x="342" y="34"/>
                  </a:lnTo>
                  <a:lnTo>
                    <a:pt x="407" y="41"/>
                  </a:lnTo>
                  <a:lnTo>
                    <a:pt x="348" y="29"/>
                  </a:lnTo>
                  <a:lnTo>
                    <a:pt x="418" y="23"/>
                  </a:lnTo>
                  <a:lnTo>
                    <a:pt x="460" y="34"/>
                  </a:lnTo>
                  <a:lnTo>
                    <a:pt x="496" y="34"/>
                  </a:lnTo>
                  <a:lnTo>
                    <a:pt x="471" y="29"/>
                  </a:lnTo>
                  <a:lnTo>
                    <a:pt x="573" y="47"/>
                  </a:lnTo>
                  <a:lnTo>
                    <a:pt x="484" y="23"/>
                  </a:lnTo>
                  <a:lnTo>
                    <a:pt x="513" y="11"/>
                  </a:lnTo>
                  <a:lnTo>
                    <a:pt x="560" y="17"/>
                  </a:lnTo>
                  <a:lnTo>
                    <a:pt x="543" y="11"/>
                  </a:lnTo>
                  <a:lnTo>
                    <a:pt x="631" y="11"/>
                  </a:lnTo>
                  <a:lnTo>
                    <a:pt x="613" y="6"/>
                  </a:lnTo>
                  <a:lnTo>
                    <a:pt x="690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44240" y="2709360"/>
              <a:ext cx="41040" cy="1872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112" y="6"/>
                  </a:moveTo>
                  <a:lnTo>
                    <a:pt x="59" y="53"/>
                  </a:lnTo>
                  <a:lnTo>
                    <a:pt x="0" y="53"/>
                  </a:lnTo>
                  <a:lnTo>
                    <a:pt x="6" y="30"/>
                  </a:lnTo>
                  <a:lnTo>
                    <a:pt x="53" y="0"/>
                  </a:lnTo>
                  <a:lnTo>
                    <a:pt x="112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01480" y="28551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28320" y="2611080"/>
              <a:ext cx="331560" cy="218520"/>
            </a:xfrm>
            <a:custGeom>
              <a:avLst/>
              <a:gdLst/>
              <a:ahLst/>
              <a:rect l="l" t="t" r="r" b="b"/>
              <a:pathLst>
                <a:path w="921" h="608">
                  <a:moveTo>
                    <a:pt x="737" y="271"/>
                  </a:moveTo>
                  <a:lnTo>
                    <a:pt x="720" y="277"/>
                  </a:lnTo>
                  <a:lnTo>
                    <a:pt x="743" y="283"/>
                  </a:lnTo>
                  <a:lnTo>
                    <a:pt x="773" y="277"/>
                  </a:lnTo>
                  <a:lnTo>
                    <a:pt x="755" y="301"/>
                  </a:lnTo>
                  <a:lnTo>
                    <a:pt x="785" y="277"/>
                  </a:lnTo>
                  <a:lnTo>
                    <a:pt x="767" y="307"/>
                  </a:lnTo>
                  <a:lnTo>
                    <a:pt x="785" y="288"/>
                  </a:lnTo>
                  <a:lnTo>
                    <a:pt x="790" y="307"/>
                  </a:lnTo>
                  <a:lnTo>
                    <a:pt x="796" y="288"/>
                  </a:lnTo>
                  <a:lnTo>
                    <a:pt x="826" y="288"/>
                  </a:lnTo>
                  <a:lnTo>
                    <a:pt x="796" y="307"/>
                  </a:lnTo>
                  <a:lnTo>
                    <a:pt x="826" y="294"/>
                  </a:lnTo>
                  <a:lnTo>
                    <a:pt x="843" y="307"/>
                  </a:lnTo>
                  <a:lnTo>
                    <a:pt x="837" y="324"/>
                  </a:lnTo>
                  <a:lnTo>
                    <a:pt x="802" y="318"/>
                  </a:lnTo>
                  <a:lnTo>
                    <a:pt x="826" y="324"/>
                  </a:lnTo>
                  <a:lnTo>
                    <a:pt x="837" y="324"/>
                  </a:lnTo>
                  <a:lnTo>
                    <a:pt x="796" y="336"/>
                  </a:lnTo>
                  <a:lnTo>
                    <a:pt x="837" y="324"/>
                  </a:lnTo>
                  <a:lnTo>
                    <a:pt x="837" y="336"/>
                  </a:lnTo>
                  <a:lnTo>
                    <a:pt x="867" y="318"/>
                  </a:lnTo>
                  <a:lnTo>
                    <a:pt x="826" y="348"/>
                  </a:lnTo>
                  <a:lnTo>
                    <a:pt x="867" y="341"/>
                  </a:lnTo>
                  <a:lnTo>
                    <a:pt x="862" y="354"/>
                  </a:lnTo>
                  <a:lnTo>
                    <a:pt x="873" y="341"/>
                  </a:lnTo>
                  <a:lnTo>
                    <a:pt x="885" y="354"/>
                  </a:lnTo>
                  <a:lnTo>
                    <a:pt x="896" y="336"/>
                  </a:lnTo>
                  <a:lnTo>
                    <a:pt x="909" y="341"/>
                  </a:lnTo>
                  <a:lnTo>
                    <a:pt x="920" y="354"/>
                  </a:lnTo>
                  <a:lnTo>
                    <a:pt x="885" y="354"/>
                  </a:lnTo>
                  <a:lnTo>
                    <a:pt x="902" y="371"/>
                  </a:lnTo>
                  <a:lnTo>
                    <a:pt x="849" y="371"/>
                  </a:lnTo>
                  <a:lnTo>
                    <a:pt x="879" y="388"/>
                  </a:lnTo>
                  <a:lnTo>
                    <a:pt x="837" y="383"/>
                  </a:lnTo>
                  <a:lnTo>
                    <a:pt x="862" y="401"/>
                  </a:lnTo>
                  <a:lnTo>
                    <a:pt x="837" y="401"/>
                  </a:lnTo>
                  <a:lnTo>
                    <a:pt x="837" y="413"/>
                  </a:lnTo>
                  <a:lnTo>
                    <a:pt x="814" y="394"/>
                  </a:lnTo>
                  <a:lnTo>
                    <a:pt x="785" y="448"/>
                  </a:lnTo>
                  <a:lnTo>
                    <a:pt x="785" y="430"/>
                  </a:lnTo>
                  <a:lnTo>
                    <a:pt x="761" y="436"/>
                  </a:lnTo>
                  <a:lnTo>
                    <a:pt x="773" y="418"/>
                  </a:lnTo>
                  <a:lnTo>
                    <a:pt x="749" y="436"/>
                  </a:lnTo>
                  <a:lnTo>
                    <a:pt x="743" y="424"/>
                  </a:lnTo>
                  <a:lnTo>
                    <a:pt x="767" y="418"/>
                  </a:lnTo>
                  <a:lnTo>
                    <a:pt x="737" y="418"/>
                  </a:lnTo>
                  <a:lnTo>
                    <a:pt x="761" y="407"/>
                  </a:lnTo>
                  <a:lnTo>
                    <a:pt x="761" y="401"/>
                  </a:lnTo>
                  <a:lnTo>
                    <a:pt x="732" y="401"/>
                  </a:lnTo>
                  <a:lnTo>
                    <a:pt x="796" y="371"/>
                  </a:lnTo>
                  <a:lnTo>
                    <a:pt x="720" y="388"/>
                  </a:lnTo>
                  <a:lnTo>
                    <a:pt x="749" y="371"/>
                  </a:lnTo>
                  <a:lnTo>
                    <a:pt x="726" y="383"/>
                  </a:lnTo>
                  <a:lnTo>
                    <a:pt x="696" y="354"/>
                  </a:lnTo>
                  <a:lnTo>
                    <a:pt x="667" y="360"/>
                  </a:lnTo>
                  <a:lnTo>
                    <a:pt x="679" y="377"/>
                  </a:lnTo>
                  <a:lnTo>
                    <a:pt x="654" y="365"/>
                  </a:lnTo>
                  <a:lnTo>
                    <a:pt x="661" y="371"/>
                  </a:lnTo>
                  <a:lnTo>
                    <a:pt x="673" y="394"/>
                  </a:lnTo>
                  <a:lnTo>
                    <a:pt x="643" y="394"/>
                  </a:lnTo>
                  <a:lnTo>
                    <a:pt x="626" y="371"/>
                  </a:lnTo>
                  <a:lnTo>
                    <a:pt x="626" y="418"/>
                  </a:lnTo>
                  <a:lnTo>
                    <a:pt x="649" y="413"/>
                  </a:lnTo>
                  <a:lnTo>
                    <a:pt x="649" y="436"/>
                  </a:lnTo>
                  <a:lnTo>
                    <a:pt x="654" y="454"/>
                  </a:lnTo>
                  <a:lnTo>
                    <a:pt x="661" y="441"/>
                  </a:lnTo>
                  <a:lnTo>
                    <a:pt x="673" y="460"/>
                  </a:lnTo>
                  <a:lnTo>
                    <a:pt x="696" y="454"/>
                  </a:lnTo>
                  <a:lnTo>
                    <a:pt x="714" y="471"/>
                  </a:lnTo>
                  <a:lnTo>
                    <a:pt x="684" y="477"/>
                  </a:lnTo>
                  <a:lnTo>
                    <a:pt x="714" y="495"/>
                  </a:lnTo>
                  <a:lnTo>
                    <a:pt x="702" y="535"/>
                  </a:lnTo>
                  <a:lnTo>
                    <a:pt x="684" y="507"/>
                  </a:lnTo>
                  <a:lnTo>
                    <a:pt x="684" y="554"/>
                  </a:lnTo>
                  <a:lnTo>
                    <a:pt x="661" y="554"/>
                  </a:lnTo>
                  <a:lnTo>
                    <a:pt x="654" y="571"/>
                  </a:lnTo>
                  <a:lnTo>
                    <a:pt x="661" y="554"/>
                  </a:lnTo>
                  <a:lnTo>
                    <a:pt x="626" y="541"/>
                  </a:lnTo>
                  <a:lnTo>
                    <a:pt x="626" y="554"/>
                  </a:lnTo>
                  <a:lnTo>
                    <a:pt x="620" y="530"/>
                  </a:lnTo>
                  <a:lnTo>
                    <a:pt x="607" y="548"/>
                  </a:lnTo>
                  <a:lnTo>
                    <a:pt x="578" y="507"/>
                  </a:lnTo>
                  <a:lnTo>
                    <a:pt x="573" y="530"/>
                  </a:lnTo>
                  <a:lnTo>
                    <a:pt x="531" y="507"/>
                  </a:lnTo>
                  <a:lnTo>
                    <a:pt x="614" y="588"/>
                  </a:lnTo>
                  <a:lnTo>
                    <a:pt x="601" y="607"/>
                  </a:lnTo>
                  <a:lnTo>
                    <a:pt x="507" y="588"/>
                  </a:lnTo>
                  <a:lnTo>
                    <a:pt x="490" y="560"/>
                  </a:lnTo>
                  <a:lnTo>
                    <a:pt x="425" y="548"/>
                  </a:lnTo>
                  <a:lnTo>
                    <a:pt x="437" y="535"/>
                  </a:lnTo>
                  <a:lnTo>
                    <a:pt x="412" y="541"/>
                  </a:lnTo>
                  <a:lnTo>
                    <a:pt x="395" y="524"/>
                  </a:lnTo>
                  <a:lnTo>
                    <a:pt x="437" y="518"/>
                  </a:lnTo>
                  <a:lnTo>
                    <a:pt x="395" y="512"/>
                  </a:lnTo>
                  <a:lnTo>
                    <a:pt x="412" y="501"/>
                  </a:lnTo>
                  <a:lnTo>
                    <a:pt x="372" y="483"/>
                  </a:lnTo>
                  <a:lnTo>
                    <a:pt x="389" y="460"/>
                  </a:lnTo>
                  <a:lnTo>
                    <a:pt x="348" y="477"/>
                  </a:lnTo>
                  <a:lnTo>
                    <a:pt x="342" y="448"/>
                  </a:lnTo>
                  <a:lnTo>
                    <a:pt x="331" y="471"/>
                  </a:lnTo>
                  <a:lnTo>
                    <a:pt x="306" y="471"/>
                  </a:lnTo>
                  <a:lnTo>
                    <a:pt x="283" y="477"/>
                  </a:lnTo>
                  <a:lnTo>
                    <a:pt x="236" y="483"/>
                  </a:lnTo>
                  <a:lnTo>
                    <a:pt x="189" y="471"/>
                  </a:lnTo>
                  <a:lnTo>
                    <a:pt x="189" y="460"/>
                  </a:lnTo>
                  <a:lnTo>
                    <a:pt x="248" y="418"/>
                  </a:lnTo>
                  <a:lnTo>
                    <a:pt x="306" y="430"/>
                  </a:lnTo>
                  <a:lnTo>
                    <a:pt x="306" y="454"/>
                  </a:lnTo>
                  <a:lnTo>
                    <a:pt x="325" y="436"/>
                  </a:lnTo>
                  <a:lnTo>
                    <a:pt x="301" y="424"/>
                  </a:lnTo>
                  <a:lnTo>
                    <a:pt x="407" y="418"/>
                  </a:lnTo>
                  <a:lnTo>
                    <a:pt x="389" y="383"/>
                  </a:lnTo>
                  <a:lnTo>
                    <a:pt x="460" y="354"/>
                  </a:lnTo>
                  <a:lnTo>
                    <a:pt x="525" y="360"/>
                  </a:lnTo>
                  <a:lnTo>
                    <a:pt x="507" y="388"/>
                  </a:lnTo>
                  <a:lnTo>
                    <a:pt x="548" y="371"/>
                  </a:lnTo>
                  <a:lnTo>
                    <a:pt x="584" y="377"/>
                  </a:lnTo>
                  <a:lnTo>
                    <a:pt x="607" y="365"/>
                  </a:lnTo>
                  <a:lnTo>
                    <a:pt x="607" y="360"/>
                  </a:lnTo>
                  <a:lnTo>
                    <a:pt x="554" y="336"/>
                  </a:lnTo>
                  <a:lnTo>
                    <a:pt x="525" y="360"/>
                  </a:lnTo>
                  <a:lnTo>
                    <a:pt x="467" y="348"/>
                  </a:lnTo>
                  <a:lnTo>
                    <a:pt x="514" y="324"/>
                  </a:lnTo>
                  <a:lnTo>
                    <a:pt x="520" y="271"/>
                  </a:lnTo>
                  <a:lnTo>
                    <a:pt x="490" y="266"/>
                  </a:lnTo>
                  <a:lnTo>
                    <a:pt x="501" y="254"/>
                  </a:lnTo>
                  <a:lnTo>
                    <a:pt x="460" y="241"/>
                  </a:lnTo>
                  <a:lnTo>
                    <a:pt x="478" y="230"/>
                  </a:lnTo>
                  <a:lnTo>
                    <a:pt x="395" y="248"/>
                  </a:lnTo>
                  <a:lnTo>
                    <a:pt x="407" y="236"/>
                  </a:lnTo>
                  <a:lnTo>
                    <a:pt x="454" y="224"/>
                  </a:lnTo>
                  <a:lnTo>
                    <a:pt x="425" y="207"/>
                  </a:lnTo>
                  <a:lnTo>
                    <a:pt x="442" y="201"/>
                  </a:lnTo>
                  <a:lnTo>
                    <a:pt x="407" y="201"/>
                  </a:lnTo>
                  <a:lnTo>
                    <a:pt x="425" y="189"/>
                  </a:lnTo>
                  <a:lnTo>
                    <a:pt x="395" y="194"/>
                  </a:lnTo>
                  <a:lnTo>
                    <a:pt x="407" y="177"/>
                  </a:lnTo>
                  <a:lnTo>
                    <a:pt x="378" y="154"/>
                  </a:lnTo>
                  <a:lnTo>
                    <a:pt x="342" y="166"/>
                  </a:lnTo>
                  <a:lnTo>
                    <a:pt x="354" y="189"/>
                  </a:lnTo>
                  <a:lnTo>
                    <a:pt x="254" y="177"/>
                  </a:lnTo>
                  <a:lnTo>
                    <a:pt x="266" y="201"/>
                  </a:lnTo>
                  <a:lnTo>
                    <a:pt x="212" y="171"/>
                  </a:lnTo>
                  <a:lnTo>
                    <a:pt x="248" y="189"/>
                  </a:lnTo>
                  <a:lnTo>
                    <a:pt x="225" y="194"/>
                  </a:lnTo>
                  <a:lnTo>
                    <a:pt x="119" y="189"/>
                  </a:lnTo>
                  <a:lnTo>
                    <a:pt x="95" y="183"/>
                  </a:lnTo>
                  <a:lnTo>
                    <a:pt x="95" y="160"/>
                  </a:lnTo>
                  <a:lnTo>
                    <a:pt x="24" y="171"/>
                  </a:lnTo>
                  <a:lnTo>
                    <a:pt x="0" y="130"/>
                  </a:lnTo>
                  <a:lnTo>
                    <a:pt x="95" y="136"/>
                  </a:lnTo>
                  <a:lnTo>
                    <a:pt x="0" y="118"/>
                  </a:lnTo>
                  <a:lnTo>
                    <a:pt x="17" y="94"/>
                  </a:lnTo>
                  <a:lnTo>
                    <a:pt x="119" y="24"/>
                  </a:lnTo>
                  <a:lnTo>
                    <a:pt x="242" y="0"/>
                  </a:lnTo>
                  <a:lnTo>
                    <a:pt x="283" y="7"/>
                  </a:lnTo>
                  <a:lnTo>
                    <a:pt x="183" y="47"/>
                  </a:lnTo>
                  <a:lnTo>
                    <a:pt x="153" y="89"/>
                  </a:lnTo>
                  <a:lnTo>
                    <a:pt x="183" y="124"/>
                  </a:lnTo>
                  <a:lnTo>
                    <a:pt x="100" y="136"/>
                  </a:lnTo>
                  <a:lnTo>
                    <a:pt x="177" y="124"/>
                  </a:lnTo>
                  <a:lnTo>
                    <a:pt x="177" y="136"/>
                  </a:lnTo>
                  <a:lnTo>
                    <a:pt x="206" y="101"/>
                  </a:lnTo>
                  <a:lnTo>
                    <a:pt x="172" y="89"/>
                  </a:lnTo>
                  <a:lnTo>
                    <a:pt x="201" y="71"/>
                  </a:lnTo>
                  <a:lnTo>
                    <a:pt x="236" y="89"/>
                  </a:lnTo>
                  <a:lnTo>
                    <a:pt x="219" y="71"/>
                  </a:lnTo>
                  <a:lnTo>
                    <a:pt x="242" y="71"/>
                  </a:lnTo>
                  <a:lnTo>
                    <a:pt x="219" y="42"/>
                  </a:lnTo>
                  <a:lnTo>
                    <a:pt x="278" y="54"/>
                  </a:lnTo>
                  <a:lnTo>
                    <a:pt x="242" y="30"/>
                  </a:lnTo>
                  <a:lnTo>
                    <a:pt x="295" y="42"/>
                  </a:lnTo>
                  <a:lnTo>
                    <a:pt x="254" y="24"/>
                  </a:lnTo>
                  <a:lnTo>
                    <a:pt x="301" y="19"/>
                  </a:lnTo>
                  <a:lnTo>
                    <a:pt x="312" y="24"/>
                  </a:lnTo>
                  <a:lnTo>
                    <a:pt x="306" y="13"/>
                  </a:lnTo>
                  <a:lnTo>
                    <a:pt x="389" y="7"/>
                  </a:lnTo>
                  <a:lnTo>
                    <a:pt x="407" y="54"/>
                  </a:lnTo>
                  <a:lnTo>
                    <a:pt x="348" y="77"/>
                  </a:lnTo>
                  <a:lnTo>
                    <a:pt x="384" y="71"/>
                  </a:lnTo>
                  <a:lnTo>
                    <a:pt x="348" y="94"/>
                  </a:lnTo>
                  <a:lnTo>
                    <a:pt x="389" y="71"/>
                  </a:lnTo>
                  <a:lnTo>
                    <a:pt x="407" y="83"/>
                  </a:lnTo>
                  <a:lnTo>
                    <a:pt x="419" y="66"/>
                  </a:lnTo>
                  <a:lnTo>
                    <a:pt x="407" y="77"/>
                  </a:lnTo>
                  <a:lnTo>
                    <a:pt x="437" y="71"/>
                  </a:lnTo>
                  <a:lnTo>
                    <a:pt x="419" y="89"/>
                  </a:lnTo>
                  <a:lnTo>
                    <a:pt x="437" y="77"/>
                  </a:lnTo>
                  <a:lnTo>
                    <a:pt x="467" y="94"/>
                  </a:lnTo>
                  <a:lnTo>
                    <a:pt x="448" y="71"/>
                  </a:lnTo>
                  <a:lnTo>
                    <a:pt x="501" y="77"/>
                  </a:lnTo>
                  <a:lnTo>
                    <a:pt x="460" y="66"/>
                  </a:lnTo>
                  <a:lnTo>
                    <a:pt x="525" y="54"/>
                  </a:lnTo>
                  <a:lnTo>
                    <a:pt x="584" y="71"/>
                  </a:lnTo>
                  <a:lnTo>
                    <a:pt x="537" y="83"/>
                  </a:lnTo>
                  <a:lnTo>
                    <a:pt x="520" y="94"/>
                  </a:lnTo>
                  <a:lnTo>
                    <a:pt x="567" y="83"/>
                  </a:lnTo>
                  <a:lnTo>
                    <a:pt x="520" y="101"/>
                  </a:lnTo>
                  <a:lnTo>
                    <a:pt x="578" y="83"/>
                  </a:lnTo>
                  <a:lnTo>
                    <a:pt x="601" y="89"/>
                  </a:lnTo>
                  <a:lnTo>
                    <a:pt x="548" y="101"/>
                  </a:lnTo>
                  <a:lnTo>
                    <a:pt x="543" y="113"/>
                  </a:lnTo>
                  <a:lnTo>
                    <a:pt x="573" y="101"/>
                  </a:lnTo>
                  <a:lnTo>
                    <a:pt x="543" y="124"/>
                  </a:lnTo>
                  <a:lnTo>
                    <a:pt x="590" y="101"/>
                  </a:lnTo>
                  <a:lnTo>
                    <a:pt x="590" y="113"/>
                  </a:lnTo>
                  <a:lnTo>
                    <a:pt x="614" y="101"/>
                  </a:lnTo>
                  <a:lnTo>
                    <a:pt x="573" y="124"/>
                  </a:lnTo>
                  <a:lnTo>
                    <a:pt x="601" y="107"/>
                  </a:lnTo>
                  <a:lnTo>
                    <a:pt x="614" y="118"/>
                  </a:lnTo>
                  <a:lnTo>
                    <a:pt x="578" y="136"/>
                  </a:lnTo>
                  <a:lnTo>
                    <a:pt x="620" y="124"/>
                  </a:lnTo>
                  <a:lnTo>
                    <a:pt x="596" y="136"/>
                  </a:lnTo>
                  <a:lnTo>
                    <a:pt x="649" y="107"/>
                  </a:lnTo>
                  <a:lnTo>
                    <a:pt x="673" y="107"/>
                  </a:lnTo>
                  <a:lnTo>
                    <a:pt x="690" y="124"/>
                  </a:lnTo>
                  <a:lnTo>
                    <a:pt x="637" y="141"/>
                  </a:lnTo>
                  <a:lnTo>
                    <a:pt x="614" y="154"/>
                  </a:lnTo>
                  <a:lnTo>
                    <a:pt x="696" y="130"/>
                  </a:lnTo>
                  <a:lnTo>
                    <a:pt x="702" y="141"/>
                  </a:lnTo>
                  <a:lnTo>
                    <a:pt x="631" y="166"/>
                  </a:lnTo>
                  <a:lnTo>
                    <a:pt x="654" y="166"/>
                  </a:lnTo>
                  <a:lnTo>
                    <a:pt x="631" y="183"/>
                  </a:lnTo>
                  <a:lnTo>
                    <a:pt x="673" y="154"/>
                  </a:lnTo>
                  <a:lnTo>
                    <a:pt x="726" y="141"/>
                  </a:lnTo>
                  <a:lnTo>
                    <a:pt x="690" y="160"/>
                  </a:lnTo>
                  <a:lnTo>
                    <a:pt x="737" y="147"/>
                  </a:lnTo>
                  <a:lnTo>
                    <a:pt x="773" y="160"/>
                  </a:lnTo>
                  <a:lnTo>
                    <a:pt x="667" y="194"/>
                  </a:lnTo>
                  <a:lnTo>
                    <a:pt x="732" y="177"/>
                  </a:lnTo>
                  <a:lnTo>
                    <a:pt x="726" y="183"/>
                  </a:lnTo>
                  <a:lnTo>
                    <a:pt x="679" y="207"/>
                  </a:lnTo>
                  <a:lnTo>
                    <a:pt x="767" y="171"/>
                  </a:lnTo>
                  <a:lnTo>
                    <a:pt x="790" y="189"/>
                  </a:lnTo>
                  <a:lnTo>
                    <a:pt x="790" y="201"/>
                  </a:lnTo>
                  <a:lnTo>
                    <a:pt x="673" y="207"/>
                  </a:lnTo>
                  <a:lnTo>
                    <a:pt x="790" y="218"/>
                  </a:lnTo>
                  <a:lnTo>
                    <a:pt x="785" y="230"/>
                  </a:lnTo>
                  <a:lnTo>
                    <a:pt x="696" y="218"/>
                  </a:lnTo>
                  <a:lnTo>
                    <a:pt x="737" y="224"/>
                  </a:lnTo>
                  <a:lnTo>
                    <a:pt x="702" y="224"/>
                  </a:lnTo>
                  <a:lnTo>
                    <a:pt x="720" y="224"/>
                  </a:lnTo>
                  <a:lnTo>
                    <a:pt x="690" y="236"/>
                  </a:lnTo>
                  <a:lnTo>
                    <a:pt x="720" y="224"/>
                  </a:lnTo>
                  <a:lnTo>
                    <a:pt x="707" y="236"/>
                  </a:lnTo>
                  <a:lnTo>
                    <a:pt x="707" y="241"/>
                  </a:lnTo>
                  <a:lnTo>
                    <a:pt x="737" y="248"/>
                  </a:lnTo>
                  <a:lnTo>
                    <a:pt x="673" y="241"/>
                  </a:lnTo>
                  <a:lnTo>
                    <a:pt x="720" y="254"/>
                  </a:lnTo>
                  <a:lnTo>
                    <a:pt x="684" y="254"/>
                  </a:lnTo>
                  <a:lnTo>
                    <a:pt x="714" y="266"/>
                  </a:lnTo>
                  <a:lnTo>
                    <a:pt x="726" y="266"/>
                  </a:lnTo>
                  <a:lnTo>
                    <a:pt x="767" y="266"/>
                  </a:lnTo>
                  <a:lnTo>
                    <a:pt x="720" y="271"/>
                  </a:lnTo>
                  <a:lnTo>
                    <a:pt x="737" y="27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50800" y="2835000"/>
              <a:ext cx="10800" cy="57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9" y="6"/>
                  </a:moveTo>
                  <a:lnTo>
                    <a:pt x="11" y="17"/>
                  </a:lnTo>
                  <a:lnTo>
                    <a:pt x="0" y="0"/>
                  </a:lnTo>
                  <a:lnTo>
                    <a:pt x="29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07880" y="25459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85560" y="2563560"/>
              <a:ext cx="6120" cy="1548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11" y="0"/>
                  </a:moveTo>
                  <a:lnTo>
                    <a:pt x="17" y="6"/>
                  </a:lnTo>
                  <a:lnTo>
                    <a:pt x="11" y="41"/>
                  </a:lnTo>
                  <a:lnTo>
                    <a:pt x="0" y="11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84120" y="2584080"/>
              <a:ext cx="21960" cy="756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36" y="0"/>
                  </a:moveTo>
                  <a:lnTo>
                    <a:pt x="59" y="23"/>
                  </a:lnTo>
                  <a:lnTo>
                    <a:pt x="0" y="23"/>
                  </a:lnTo>
                  <a:lnTo>
                    <a:pt x="3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61800" y="260136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90520" y="2619000"/>
              <a:ext cx="36000" cy="6120"/>
            </a:xfrm>
            <a:custGeom>
              <a:avLst/>
              <a:gdLst/>
              <a:ahLst/>
              <a:rect l="l" t="t" r="r" b="b"/>
              <a:pathLst>
                <a:path w="101" h="18">
                  <a:moveTo>
                    <a:pt x="47" y="0"/>
                  </a:moveTo>
                  <a:lnTo>
                    <a:pt x="88" y="11"/>
                  </a:lnTo>
                  <a:lnTo>
                    <a:pt x="29" y="5"/>
                  </a:lnTo>
                  <a:lnTo>
                    <a:pt x="100" y="11"/>
                  </a:lnTo>
                  <a:lnTo>
                    <a:pt x="47" y="17"/>
                  </a:lnTo>
                  <a:lnTo>
                    <a:pt x="0" y="11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03120" y="2626920"/>
              <a:ext cx="36000" cy="4320"/>
            </a:xfrm>
            <a:custGeom>
              <a:avLst/>
              <a:gdLst/>
              <a:ahLst/>
              <a:rect l="l" t="t" r="r" b="b"/>
              <a:pathLst>
                <a:path w="102" h="13">
                  <a:moveTo>
                    <a:pt x="101" y="0"/>
                  </a:moveTo>
                  <a:lnTo>
                    <a:pt x="95" y="12"/>
                  </a:lnTo>
                  <a:lnTo>
                    <a:pt x="0" y="0"/>
                  </a:lnTo>
                  <a:lnTo>
                    <a:pt x="10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4560" y="2628360"/>
              <a:ext cx="31680" cy="12600"/>
            </a:xfrm>
            <a:custGeom>
              <a:avLst/>
              <a:gdLst/>
              <a:ahLst/>
              <a:rect l="l" t="t" r="r" b="b"/>
              <a:pathLst>
                <a:path w="89" h="37">
                  <a:moveTo>
                    <a:pt x="47" y="0"/>
                  </a:moveTo>
                  <a:lnTo>
                    <a:pt x="88" y="19"/>
                  </a:lnTo>
                  <a:lnTo>
                    <a:pt x="53" y="19"/>
                  </a:lnTo>
                  <a:lnTo>
                    <a:pt x="76" y="3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44440" y="2658600"/>
              <a:ext cx="37800" cy="12240"/>
            </a:xfrm>
            <a:custGeom>
              <a:avLst/>
              <a:gdLst/>
              <a:ahLst/>
              <a:rect l="l" t="t" r="r" b="b"/>
              <a:pathLst>
                <a:path w="107" h="37">
                  <a:moveTo>
                    <a:pt x="101" y="0"/>
                  </a:moveTo>
                  <a:lnTo>
                    <a:pt x="106" y="24"/>
                  </a:lnTo>
                  <a:lnTo>
                    <a:pt x="0" y="36"/>
                  </a:lnTo>
                  <a:lnTo>
                    <a:pt x="10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76160" y="2673000"/>
              <a:ext cx="42480" cy="18720"/>
            </a:xfrm>
            <a:custGeom>
              <a:avLst/>
              <a:gdLst/>
              <a:ahLst/>
              <a:rect l="l" t="t" r="r" b="b"/>
              <a:pathLst>
                <a:path w="120" h="54">
                  <a:moveTo>
                    <a:pt x="42" y="0"/>
                  </a:moveTo>
                  <a:lnTo>
                    <a:pt x="119" y="30"/>
                  </a:lnTo>
                  <a:lnTo>
                    <a:pt x="42" y="53"/>
                  </a:lnTo>
                  <a:lnTo>
                    <a:pt x="24" y="42"/>
                  </a:lnTo>
                  <a:lnTo>
                    <a:pt x="60" y="36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6" y="23"/>
                  </a:lnTo>
                  <a:lnTo>
                    <a:pt x="36" y="18"/>
                  </a:lnTo>
                  <a:lnTo>
                    <a:pt x="19" y="12"/>
                  </a:lnTo>
                  <a:lnTo>
                    <a:pt x="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12640" y="26586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75880" y="2544480"/>
              <a:ext cx="50400" cy="12240"/>
            </a:xfrm>
            <a:custGeom>
              <a:avLst/>
              <a:gdLst/>
              <a:ahLst/>
              <a:rect l="l" t="t" r="r" b="b"/>
              <a:pathLst>
                <a:path w="143" h="35">
                  <a:moveTo>
                    <a:pt x="76" y="0"/>
                  </a:moveTo>
                  <a:lnTo>
                    <a:pt x="142" y="11"/>
                  </a:lnTo>
                  <a:lnTo>
                    <a:pt x="71" y="34"/>
                  </a:lnTo>
                  <a:lnTo>
                    <a:pt x="71" y="17"/>
                  </a:lnTo>
                  <a:lnTo>
                    <a:pt x="6" y="23"/>
                  </a:lnTo>
                  <a:lnTo>
                    <a:pt x="0" y="0"/>
                  </a:lnTo>
                  <a:lnTo>
                    <a:pt x="7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64720" y="2536560"/>
              <a:ext cx="23400" cy="5760"/>
            </a:xfrm>
            <a:custGeom>
              <a:avLst/>
              <a:gdLst/>
              <a:ahLst/>
              <a:rect l="l" t="t" r="r" b="b"/>
              <a:pathLst>
                <a:path w="66" h="19">
                  <a:moveTo>
                    <a:pt x="65" y="11"/>
                  </a:moveTo>
                  <a:lnTo>
                    <a:pt x="65" y="0"/>
                  </a:lnTo>
                  <a:lnTo>
                    <a:pt x="0" y="6"/>
                  </a:lnTo>
                  <a:lnTo>
                    <a:pt x="25" y="18"/>
                  </a:lnTo>
                  <a:lnTo>
                    <a:pt x="65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41040" y="25333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4800" y="25300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1240" y="2507760"/>
              <a:ext cx="112680" cy="18720"/>
            </a:xfrm>
            <a:custGeom>
              <a:avLst/>
              <a:gdLst/>
              <a:ahLst/>
              <a:rect l="l" t="t" r="r" b="b"/>
              <a:pathLst>
                <a:path w="314" h="54">
                  <a:moveTo>
                    <a:pt x="230" y="6"/>
                  </a:moveTo>
                  <a:lnTo>
                    <a:pt x="313" y="23"/>
                  </a:lnTo>
                  <a:lnTo>
                    <a:pt x="206" y="53"/>
                  </a:lnTo>
                  <a:lnTo>
                    <a:pt x="71" y="34"/>
                  </a:lnTo>
                  <a:lnTo>
                    <a:pt x="94" y="29"/>
                  </a:lnTo>
                  <a:lnTo>
                    <a:pt x="153" y="29"/>
                  </a:lnTo>
                  <a:lnTo>
                    <a:pt x="24" y="29"/>
                  </a:lnTo>
                  <a:lnTo>
                    <a:pt x="0" y="11"/>
                  </a:lnTo>
                  <a:lnTo>
                    <a:pt x="59" y="11"/>
                  </a:lnTo>
                  <a:lnTo>
                    <a:pt x="59" y="0"/>
                  </a:lnTo>
                  <a:lnTo>
                    <a:pt x="147" y="17"/>
                  </a:lnTo>
                  <a:lnTo>
                    <a:pt x="159" y="0"/>
                  </a:lnTo>
                  <a:lnTo>
                    <a:pt x="177" y="17"/>
                  </a:lnTo>
                  <a:lnTo>
                    <a:pt x="230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09080" y="25124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0600" y="2514240"/>
              <a:ext cx="129600" cy="53640"/>
            </a:xfrm>
            <a:custGeom>
              <a:avLst/>
              <a:gdLst/>
              <a:ahLst/>
              <a:rect l="l" t="t" r="r" b="b"/>
              <a:pathLst>
                <a:path w="361" h="148">
                  <a:moveTo>
                    <a:pt x="0" y="17"/>
                  </a:moveTo>
                  <a:lnTo>
                    <a:pt x="18" y="36"/>
                  </a:lnTo>
                  <a:lnTo>
                    <a:pt x="48" y="30"/>
                  </a:lnTo>
                  <a:lnTo>
                    <a:pt x="59" y="47"/>
                  </a:lnTo>
                  <a:lnTo>
                    <a:pt x="23" y="42"/>
                  </a:lnTo>
                  <a:lnTo>
                    <a:pt x="88" y="59"/>
                  </a:lnTo>
                  <a:lnTo>
                    <a:pt x="82" y="77"/>
                  </a:lnTo>
                  <a:lnTo>
                    <a:pt x="142" y="65"/>
                  </a:lnTo>
                  <a:lnTo>
                    <a:pt x="159" y="47"/>
                  </a:lnTo>
                  <a:lnTo>
                    <a:pt x="159" y="65"/>
                  </a:lnTo>
                  <a:lnTo>
                    <a:pt x="195" y="53"/>
                  </a:lnTo>
                  <a:lnTo>
                    <a:pt x="224" y="65"/>
                  </a:lnTo>
                  <a:lnTo>
                    <a:pt x="101" y="83"/>
                  </a:lnTo>
                  <a:lnTo>
                    <a:pt x="118" y="94"/>
                  </a:lnTo>
                  <a:lnTo>
                    <a:pt x="218" y="89"/>
                  </a:lnTo>
                  <a:lnTo>
                    <a:pt x="142" y="100"/>
                  </a:lnTo>
                  <a:lnTo>
                    <a:pt x="195" y="106"/>
                  </a:lnTo>
                  <a:lnTo>
                    <a:pt x="118" y="106"/>
                  </a:lnTo>
                  <a:lnTo>
                    <a:pt x="142" y="117"/>
                  </a:lnTo>
                  <a:lnTo>
                    <a:pt x="212" y="123"/>
                  </a:lnTo>
                  <a:lnTo>
                    <a:pt x="177" y="130"/>
                  </a:lnTo>
                  <a:lnTo>
                    <a:pt x="207" y="147"/>
                  </a:lnTo>
                  <a:lnTo>
                    <a:pt x="277" y="65"/>
                  </a:lnTo>
                  <a:lnTo>
                    <a:pt x="360" y="53"/>
                  </a:lnTo>
                  <a:lnTo>
                    <a:pt x="271" y="36"/>
                  </a:lnTo>
                  <a:lnTo>
                    <a:pt x="248" y="17"/>
                  </a:lnTo>
                  <a:lnTo>
                    <a:pt x="224" y="30"/>
                  </a:lnTo>
                  <a:lnTo>
                    <a:pt x="242" y="12"/>
                  </a:lnTo>
                  <a:lnTo>
                    <a:pt x="177" y="0"/>
                  </a:lnTo>
                  <a:lnTo>
                    <a:pt x="195" y="47"/>
                  </a:lnTo>
                  <a:lnTo>
                    <a:pt x="124" y="12"/>
                  </a:lnTo>
                  <a:lnTo>
                    <a:pt x="112" y="30"/>
                  </a:lnTo>
                  <a:lnTo>
                    <a:pt x="53" y="17"/>
                  </a:lnTo>
                  <a:lnTo>
                    <a:pt x="101" y="6"/>
                  </a:lnTo>
                  <a:lnTo>
                    <a:pt x="48" y="17"/>
                  </a:lnTo>
                  <a:lnTo>
                    <a:pt x="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50600" y="25333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64720" y="25999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83760" y="2685600"/>
              <a:ext cx="26640" cy="1548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0" y="23"/>
                  </a:moveTo>
                  <a:lnTo>
                    <a:pt x="17" y="0"/>
                  </a:lnTo>
                  <a:lnTo>
                    <a:pt x="76" y="23"/>
                  </a:lnTo>
                  <a:lnTo>
                    <a:pt x="28" y="41"/>
                  </a:lnTo>
                  <a:lnTo>
                    <a:pt x="0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02840" y="2620440"/>
              <a:ext cx="93240" cy="48960"/>
            </a:xfrm>
            <a:custGeom>
              <a:avLst/>
              <a:gdLst/>
              <a:ahLst/>
              <a:rect l="l" t="t" r="r" b="b"/>
              <a:pathLst>
                <a:path w="260" h="137">
                  <a:moveTo>
                    <a:pt x="0" y="70"/>
                  </a:moveTo>
                  <a:lnTo>
                    <a:pt x="41" y="47"/>
                  </a:lnTo>
                  <a:lnTo>
                    <a:pt x="47" y="30"/>
                  </a:lnTo>
                  <a:lnTo>
                    <a:pt x="11" y="30"/>
                  </a:lnTo>
                  <a:lnTo>
                    <a:pt x="47" y="0"/>
                  </a:lnTo>
                  <a:lnTo>
                    <a:pt x="153" y="6"/>
                  </a:lnTo>
                  <a:lnTo>
                    <a:pt x="129" y="12"/>
                  </a:lnTo>
                  <a:lnTo>
                    <a:pt x="123" y="18"/>
                  </a:lnTo>
                  <a:lnTo>
                    <a:pt x="147" y="18"/>
                  </a:lnTo>
                  <a:lnTo>
                    <a:pt x="123" y="23"/>
                  </a:lnTo>
                  <a:lnTo>
                    <a:pt x="117" y="42"/>
                  </a:lnTo>
                  <a:lnTo>
                    <a:pt x="135" y="65"/>
                  </a:lnTo>
                  <a:lnTo>
                    <a:pt x="259" y="123"/>
                  </a:lnTo>
                  <a:lnTo>
                    <a:pt x="223" y="123"/>
                  </a:lnTo>
                  <a:lnTo>
                    <a:pt x="217" y="123"/>
                  </a:lnTo>
                  <a:lnTo>
                    <a:pt x="223" y="136"/>
                  </a:lnTo>
                  <a:lnTo>
                    <a:pt x="176" y="123"/>
                  </a:lnTo>
                  <a:lnTo>
                    <a:pt x="153" y="130"/>
                  </a:lnTo>
                  <a:lnTo>
                    <a:pt x="100" y="117"/>
                  </a:lnTo>
                  <a:lnTo>
                    <a:pt x="94" y="106"/>
                  </a:lnTo>
                  <a:lnTo>
                    <a:pt x="123" y="106"/>
                  </a:lnTo>
                  <a:lnTo>
                    <a:pt x="88" y="100"/>
                  </a:lnTo>
                  <a:lnTo>
                    <a:pt x="100" y="89"/>
                  </a:lnTo>
                  <a:lnTo>
                    <a:pt x="88" y="100"/>
                  </a:lnTo>
                  <a:lnTo>
                    <a:pt x="76" y="83"/>
                  </a:lnTo>
                  <a:lnTo>
                    <a:pt x="47" y="83"/>
                  </a:lnTo>
                  <a:lnTo>
                    <a:pt x="23" y="89"/>
                  </a:lnTo>
                  <a:lnTo>
                    <a:pt x="0" y="7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2560" y="2561760"/>
              <a:ext cx="159840" cy="58320"/>
            </a:xfrm>
            <a:custGeom>
              <a:avLst/>
              <a:gdLst/>
              <a:ahLst/>
              <a:rect l="l" t="t" r="r" b="b"/>
              <a:pathLst>
                <a:path w="444" h="165">
                  <a:moveTo>
                    <a:pt x="95" y="100"/>
                  </a:moveTo>
                  <a:lnTo>
                    <a:pt x="48" y="100"/>
                  </a:lnTo>
                  <a:lnTo>
                    <a:pt x="78" y="111"/>
                  </a:lnTo>
                  <a:lnTo>
                    <a:pt x="42" y="117"/>
                  </a:lnTo>
                  <a:lnTo>
                    <a:pt x="72" y="129"/>
                  </a:lnTo>
                  <a:lnTo>
                    <a:pt x="0" y="140"/>
                  </a:lnTo>
                  <a:lnTo>
                    <a:pt x="30" y="153"/>
                  </a:lnTo>
                  <a:lnTo>
                    <a:pt x="66" y="147"/>
                  </a:lnTo>
                  <a:lnTo>
                    <a:pt x="30" y="164"/>
                  </a:lnTo>
                  <a:lnTo>
                    <a:pt x="136" y="164"/>
                  </a:lnTo>
                  <a:lnTo>
                    <a:pt x="113" y="147"/>
                  </a:lnTo>
                  <a:lnTo>
                    <a:pt x="148" y="147"/>
                  </a:lnTo>
                  <a:lnTo>
                    <a:pt x="101" y="134"/>
                  </a:lnTo>
                  <a:lnTo>
                    <a:pt x="155" y="140"/>
                  </a:lnTo>
                  <a:lnTo>
                    <a:pt x="125" y="123"/>
                  </a:lnTo>
                  <a:lnTo>
                    <a:pt x="160" y="134"/>
                  </a:lnTo>
                  <a:lnTo>
                    <a:pt x="142" y="106"/>
                  </a:lnTo>
                  <a:lnTo>
                    <a:pt x="195" y="106"/>
                  </a:lnTo>
                  <a:lnTo>
                    <a:pt x="213" y="94"/>
                  </a:lnTo>
                  <a:lnTo>
                    <a:pt x="189" y="87"/>
                  </a:lnTo>
                  <a:lnTo>
                    <a:pt x="231" y="70"/>
                  </a:lnTo>
                  <a:lnTo>
                    <a:pt x="443" y="29"/>
                  </a:lnTo>
                  <a:lnTo>
                    <a:pt x="425" y="0"/>
                  </a:lnTo>
                  <a:lnTo>
                    <a:pt x="372" y="0"/>
                  </a:lnTo>
                  <a:lnTo>
                    <a:pt x="295" y="29"/>
                  </a:lnTo>
                  <a:lnTo>
                    <a:pt x="189" y="29"/>
                  </a:lnTo>
                  <a:lnTo>
                    <a:pt x="101" y="59"/>
                  </a:lnTo>
                  <a:lnTo>
                    <a:pt x="107" y="70"/>
                  </a:lnTo>
                  <a:lnTo>
                    <a:pt x="66" y="82"/>
                  </a:lnTo>
                  <a:lnTo>
                    <a:pt x="42" y="76"/>
                  </a:lnTo>
                  <a:lnTo>
                    <a:pt x="78" y="87"/>
                  </a:lnTo>
                  <a:lnTo>
                    <a:pt x="53" y="94"/>
                  </a:lnTo>
                  <a:lnTo>
                    <a:pt x="95" y="10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10840" y="2669760"/>
              <a:ext cx="34560" cy="15480"/>
            </a:xfrm>
            <a:custGeom>
              <a:avLst/>
              <a:gdLst/>
              <a:ahLst/>
              <a:rect l="l" t="t" r="r" b="b"/>
              <a:pathLst>
                <a:path w="96" h="42">
                  <a:moveTo>
                    <a:pt x="30" y="29"/>
                  </a:moveTo>
                  <a:lnTo>
                    <a:pt x="0" y="11"/>
                  </a:lnTo>
                  <a:lnTo>
                    <a:pt x="17" y="0"/>
                  </a:lnTo>
                  <a:lnTo>
                    <a:pt x="95" y="41"/>
                  </a:lnTo>
                  <a:lnTo>
                    <a:pt x="30" y="2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85560" y="24919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09320" y="25174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12560" y="25142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87000" y="2507760"/>
              <a:ext cx="28080" cy="6120"/>
            </a:xfrm>
            <a:custGeom>
              <a:avLst/>
              <a:gdLst/>
              <a:ahLst/>
              <a:rect l="l" t="t" r="r" b="b"/>
              <a:pathLst>
                <a:path w="78" h="18">
                  <a:moveTo>
                    <a:pt x="30" y="17"/>
                  </a:moveTo>
                  <a:lnTo>
                    <a:pt x="0" y="0"/>
                  </a:lnTo>
                  <a:lnTo>
                    <a:pt x="77" y="6"/>
                  </a:lnTo>
                  <a:lnTo>
                    <a:pt x="3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75840" y="2511000"/>
              <a:ext cx="15480" cy="43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0" y="11"/>
                  </a:moveTo>
                  <a:lnTo>
                    <a:pt x="24" y="0"/>
                  </a:lnTo>
                  <a:lnTo>
                    <a:pt x="42" y="11"/>
                  </a:lnTo>
                  <a:lnTo>
                    <a:pt x="0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34800" y="2511000"/>
              <a:ext cx="18360" cy="1080"/>
            </a:xfrm>
            <a:custGeom>
              <a:avLst/>
              <a:gdLst/>
              <a:ahLst/>
              <a:rect l="l" t="t" r="r" b="b"/>
              <a:pathLst>
                <a:path w="54" h="6">
                  <a:moveTo>
                    <a:pt x="0" y="5"/>
                  </a:moveTo>
                  <a:lnTo>
                    <a:pt x="17" y="0"/>
                  </a:lnTo>
                  <a:lnTo>
                    <a:pt x="53" y="5"/>
                  </a:lnTo>
                  <a:lnTo>
                    <a:pt x="0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0680" y="2514240"/>
              <a:ext cx="14040" cy="288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0" y="0"/>
                  </a:moveTo>
                  <a:lnTo>
                    <a:pt x="40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67840" y="2501640"/>
              <a:ext cx="55440" cy="12240"/>
            </a:xfrm>
            <a:custGeom>
              <a:avLst/>
              <a:gdLst/>
              <a:ahLst/>
              <a:rect l="l" t="t" r="r" b="b"/>
              <a:pathLst>
                <a:path w="154" h="36">
                  <a:moveTo>
                    <a:pt x="35" y="35"/>
                  </a:moveTo>
                  <a:lnTo>
                    <a:pt x="0" y="24"/>
                  </a:lnTo>
                  <a:lnTo>
                    <a:pt x="47" y="24"/>
                  </a:lnTo>
                  <a:lnTo>
                    <a:pt x="18" y="18"/>
                  </a:lnTo>
                  <a:lnTo>
                    <a:pt x="77" y="18"/>
                  </a:lnTo>
                  <a:lnTo>
                    <a:pt x="88" y="0"/>
                  </a:lnTo>
                  <a:lnTo>
                    <a:pt x="153" y="11"/>
                  </a:lnTo>
                  <a:lnTo>
                    <a:pt x="65" y="24"/>
                  </a:lnTo>
                  <a:lnTo>
                    <a:pt x="35" y="3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45880" y="2503080"/>
              <a:ext cx="43920" cy="4320"/>
            </a:xfrm>
            <a:custGeom>
              <a:avLst/>
              <a:gdLst/>
              <a:ahLst/>
              <a:rect l="l" t="t" r="r" b="b"/>
              <a:pathLst>
                <a:path w="124" h="14">
                  <a:moveTo>
                    <a:pt x="0" y="6"/>
                  </a:moveTo>
                  <a:lnTo>
                    <a:pt x="76" y="0"/>
                  </a:lnTo>
                  <a:lnTo>
                    <a:pt x="123" y="6"/>
                  </a:lnTo>
                  <a:lnTo>
                    <a:pt x="41" y="13"/>
                  </a:lnTo>
                  <a:lnTo>
                    <a:pt x="0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12560" y="2503080"/>
              <a:ext cx="31320" cy="7560"/>
            </a:xfrm>
            <a:custGeom>
              <a:avLst/>
              <a:gdLst/>
              <a:ahLst/>
              <a:rect l="l" t="t" r="r" b="b"/>
              <a:pathLst>
                <a:path w="90" h="20">
                  <a:moveTo>
                    <a:pt x="0" y="13"/>
                  </a:moveTo>
                  <a:lnTo>
                    <a:pt x="13" y="0"/>
                  </a:lnTo>
                  <a:lnTo>
                    <a:pt x="83" y="0"/>
                  </a:lnTo>
                  <a:lnTo>
                    <a:pt x="89" y="6"/>
                  </a:lnTo>
                  <a:lnTo>
                    <a:pt x="60" y="19"/>
                  </a:lnTo>
                  <a:lnTo>
                    <a:pt x="0" y="1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47480" y="2498400"/>
              <a:ext cx="34560" cy="7560"/>
            </a:xfrm>
            <a:custGeom>
              <a:avLst/>
              <a:gdLst/>
              <a:ahLst/>
              <a:rect l="l" t="t" r="r" b="b"/>
              <a:pathLst>
                <a:path w="95" h="24">
                  <a:moveTo>
                    <a:pt x="0" y="17"/>
                  </a:moveTo>
                  <a:lnTo>
                    <a:pt x="53" y="0"/>
                  </a:lnTo>
                  <a:lnTo>
                    <a:pt x="94" y="12"/>
                  </a:lnTo>
                  <a:lnTo>
                    <a:pt x="30" y="23"/>
                  </a:lnTo>
                  <a:lnTo>
                    <a:pt x="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7240" y="25016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3480" y="25030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71160" y="2499840"/>
              <a:ext cx="28080" cy="2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0" y="0"/>
                  </a:moveTo>
                  <a:lnTo>
                    <a:pt x="77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48840" y="2503080"/>
              <a:ext cx="23400" cy="1080"/>
            </a:xfrm>
            <a:custGeom>
              <a:avLst/>
              <a:gdLst/>
              <a:ahLst/>
              <a:rect l="l" t="t" r="r" b="b"/>
              <a:pathLst>
                <a:path w="66" h="1">
                  <a:moveTo>
                    <a:pt x="0" y="0"/>
                  </a:moveTo>
                  <a:lnTo>
                    <a:pt x="65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52080" y="2501640"/>
              <a:ext cx="41040" cy="1080"/>
            </a:xfrm>
            <a:custGeom>
              <a:avLst/>
              <a:gdLst/>
              <a:ahLst/>
              <a:rect l="l" t="t" r="r" b="b"/>
              <a:pathLst>
                <a:path w="113" h="6">
                  <a:moveTo>
                    <a:pt x="0" y="0"/>
                  </a:moveTo>
                  <a:lnTo>
                    <a:pt x="112" y="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66480" y="25063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61800" y="2498400"/>
              <a:ext cx="26280" cy="1080"/>
            </a:xfrm>
            <a:custGeom>
              <a:avLst/>
              <a:gdLst/>
              <a:ahLst/>
              <a:rect l="l" t="t" r="r" b="b"/>
              <a:pathLst>
                <a:path w="77" h="1">
                  <a:moveTo>
                    <a:pt x="0" y="0"/>
                  </a:move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74400" y="24951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34520" y="24919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31440" y="2615760"/>
              <a:ext cx="20520" cy="756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0" y="23"/>
                  </a:moveTo>
                  <a:lnTo>
                    <a:pt x="5" y="0"/>
                  </a:lnTo>
                  <a:lnTo>
                    <a:pt x="58" y="17"/>
                  </a:lnTo>
                  <a:lnTo>
                    <a:pt x="0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31520" y="2631600"/>
              <a:ext cx="18720" cy="612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17"/>
                  </a:moveTo>
                  <a:lnTo>
                    <a:pt x="18" y="0"/>
                  </a:lnTo>
                  <a:lnTo>
                    <a:pt x="53" y="12"/>
                  </a:lnTo>
                  <a:lnTo>
                    <a:pt x="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0200" y="2498400"/>
              <a:ext cx="69480" cy="16920"/>
            </a:xfrm>
            <a:custGeom>
              <a:avLst/>
              <a:gdLst/>
              <a:ahLst/>
              <a:rect l="l" t="t" r="r" b="b"/>
              <a:pathLst>
                <a:path w="195" h="48">
                  <a:moveTo>
                    <a:pt x="87" y="0"/>
                  </a:moveTo>
                  <a:lnTo>
                    <a:pt x="0" y="36"/>
                  </a:lnTo>
                  <a:lnTo>
                    <a:pt x="59" y="36"/>
                  </a:lnTo>
                  <a:lnTo>
                    <a:pt x="29" y="41"/>
                  </a:lnTo>
                  <a:lnTo>
                    <a:pt x="87" y="47"/>
                  </a:lnTo>
                  <a:lnTo>
                    <a:pt x="194" y="36"/>
                  </a:lnTo>
                  <a:lnTo>
                    <a:pt x="194" y="23"/>
                  </a:lnTo>
                  <a:lnTo>
                    <a:pt x="8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28440" y="2522160"/>
              <a:ext cx="59760" cy="23400"/>
            </a:xfrm>
            <a:custGeom>
              <a:avLst/>
              <a:gdLst/>
              <a:ahLst/>
              <a:rect l="l" t="t" r="r" b="b"/>
              <a:pathLst>
                <a:path w="167" h="67">
                  <a:moveTo>
                    <a:pt x="0" y="66"/>
                  </a:moveTo>
                  <a:lnTo>
                    <a:pt x="166" y="42"/>
                  </a:lnTo>
                  <a:lnTo>
                    <a:pt x="83" y="13"/>
                  </a:lnTo>
                  <a:lnTo>
                    <a:pt x="54" y="24"/>
                  </a:lnTo>
                  <a:lnTo>
                    <a:pt x="19" y="0"/>
                  </a:lnTo>
                  <a:lnTo>
                    <a:pt x="0" y="6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20440" y="2512440"/>
              <a:ext cx="91800" cy="18720"/>
            </a:xfrm>
            <a:custGeom>
              <a:avLst/>
              <a:gdLst/>
              <a:ahLst/>
              <a:rect l="l" t="t" r="r" b="b"/>
              <a:pathLst>
                <a:path w="255" h="54">
                  <a:moveTo>
                    <a:pt x="230" y="36"/>
                  </a:moveTo>
                  <a:lnTo>
                    <a:pt x="224" y="18"/>
                  </a:lnTo>
                  <a:lnTo>
                    <a:pt x="165" y="6"/>
                  </a:lnTo>
                  <a:lnTo>
                    <a:pt x="141" y="18"/>
                  </a:lnTo>
                  <a:lnTo>
                    <a:pt x="124" y="0"/>
                  </a:lnTo>
                  <a:lnTo>
                    <a:pt x="41" y="6"/>
                  </a:lnTo>
                  <a:lnTo>
                    <a:pt x="0" y="23"/>
                  </a:lnTo>
                  <a:lnTo>
                    <a:pt x="189" y="53"/>
                  </a:lnTo>
                  <a:lnTo>
                    <a:pt x="254" y="53"/>
                  </a:lnTo>
                  <a:lnTo>
                    <a:pt x="230" y="3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47320" y="2601360"/>
              <a:ext cx="21960" cy="612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59" y="18"/>
                  </a:moveTo>
                  <a:lnTo>
                    <a:pt x="53" y="0"/>
                  </a:lnTo>
                  <a:lnTo>
                    <a:pt x="0" y="6"/>
                  </a:lnTo>
                  <a:lnTo>
                    <a:pt x="59" y="1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5120" y="2606400"/>
              <a:ext cx="18720" cy="432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0" y="0"/>
                  </a:moveTo>
                  <a:lnTo>
                    <a:pt x="53" y="11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17040" y="2603160"/>
              <a:ext cx="12240" cy="576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4" y="17"/>
                  </a:moveTo>
                  <a:lnTo>
                    <a:pt x="0" y="6"/>
                  </a:lnTo>
                  <a:lnTo>
                    <a:pt x="17" y="0"/>
                  </a:lnTo>
                  <a:lnTo>
                    <a:pt x="34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1080" y="2609280"/>
              <a:ext cx="48960" cy="10800"/>
            </a:xfrm>
            <a:custGeom>
              <a:avLst/>
              <a:gdLst/>
              <a:ahLst/>
              <a:rect l="l" t="t" r="r" b="b"/>
              <a:pathLst>
                <a:path w="137" h="31">
                  <a:moveTo>
                    <a:pt x="18" y="0"/>
                  </a:moveTo>
                  <a:lnTo>
                    <a:pt x="0" y="30"/>
                  </a:lnTo>
                  <a:lnTo>
                    <a:pt x="136" y="30"/>
                  </a:lnTo>
                  <a:lnTo>
                    <a:pt x="66" y="6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61320" y="2582280"/>
              <a:ext cx="69480" cy="12600"/>
            </a:xfrm>
            <a:custGeom>
              <a:avLst/>
              <a:gdLst/>
              <a:ahLst/>
              <a:rect l="l" t="t" r="r" b="b"/>
              <a:pathLst>
                <a:path w="196" h="36">
                  <a:moveTo>
                    <a:pt x="0" y="0"/>
                  </a:moveTo>
                  <a:lnTo>
                    <a:pt x="11" y="17"/>
                  </a:lnTo>
                  <a:lnTo>
                    <a:pt x="119" y="35"/>
                  </a:lnTo>
                  <a:lnTo>
                    <a:pt x="195" y="35"/>
                  </a:lnTo>
                  <a:lnTo>
                    <a:pt x="189" y="23"/>
                  </a:lnTo>
                  <a:lnTo>
                    <a:pt x="100" y="17"/>
                  </a:lnTo>
                  <a:lnTo>
                    <a:pt x="36" y="11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37480" y="2571480"/>
              <a:ext cx="110880" cy="23400"/>
            </a:xfrm>
            <a:custGeom>
              <a:avLst/>
              <a:gdLst/>
              <a:ahLst/>
              <a:rect l="l" t="t" r="r" b="b"/>
              <a:pathLst>
                <a:path w="307" h="66">
                  <a:moveTo>
                    <a:pt x="166" y="65"/>
                  </a:moveTo>
                  <a:lnTo>
                    <a:pt x="289" y="58"/>
                  </a:lnTo>
                  <a:lnTo>
                    <a:pt x="242" y="53"/>
                  </a:lnTo>
                  <a:lnTo>
                    <a:pt x="183" y="24"/>
                  </a:lnTo>
                  <a:lnTo>
                    <a:pt x="247" y="53"/>
                  </a:lnTo>
                  <a:lnTo>
                    <a:pt x="295" y="53"/>
                  </a:lnTo>
                  <a:lnTo>
                    <a:pt x="306" y="35"/>
                  </a:lnTo>
                  <a:lnTo>
                    <a:pt x="118" y="6"/>
                  </a:lnTo>
                  <a:lnTo>
                    <a:pt x="136" y="30"/>
                  </a:lnTo>
                  <a:lnTo>
                    <a:pt x="24" y="0"/>
                  </a:lnTo>
                  <a:lnTo>
                    <a:pt x="0" y="11"/>
                  </a:lnTo>
                  <a:lnTo>
                    <a:pt x="30" y="47"/>
                  </a:lnTo>
                  <a:lnTo>
                    <a:pt x="106" y="65"/>
                  </a:lnTo>
                  <a:lnTo>
                    <a:pt x="153" y="65"/>
                  </a:lnTo>
                  <a:lnTo>
                    <a:pt x="166" y="6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18760" y="2577600"/>
              <a:ext cx="9360" cy="75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0" y="0"/>
                  </a:lnTo>
                  <a:lnTo>
                    <a:pt x="24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96560" y="2677680"/>
              <a:ext cx="24840" cy="9000"/>
            </a:xfrm>
            <a:custGeom>
              <a:avLst/>
              <a:gdLst/>
              <a:ahLst/>
              <a:rect l="l" t="t" r="r" b="b"/>
              <a:pathLst>
                <a:path w="72" h="25">
                  <a:moveTo>
                    <a:pt x="71" y="11"/>
                  </a:moveTo>
                  <a:lnTo>
                    <a:pt x="6" y="0"/>
                  </a:lnTo>
                  <a:lnTo>
                    <a:pt x="0" y="11"/>
                  </a:lnTo>
                  <a:lnTo>
                    <a:pt x="65" y="24"/>
                  </a:lnTo>
                  <a:lnTo>
                    <a:pt x="71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06000" y="2652120"/>
              <a:ext cx="20160" cy="1260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11" y="0"/>
                  </a:moveTo>
                  <a:lnTo>
                    <a:pt x="0" y="0"/>
                  </a:lnTo>
                  <a:lnTo>
                    <a:pt x="30" y="34"/>
                  </a:lnTo>
                  <a:lnTo>
                    <a:pt x="58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19080" y="2650680"/>
              <a:ext cx="37800" cy="10800"/>
            </a:xfrm>
            <a:custGeom>
              <a:avLst/>
              <a:gdLst/>
              <a:ahLst/>
              <a:rect l="l" t="t" r="r" b="b"/>
              <a:pathLst>
                <a:path w="107" h="30">
                  <a:moveTo>
                    <a:pt x="0" y="29"/>
                  </a:moveTo>
                  <a:lnTo>
                    <a:pt x="100" y="23"/>
                  </a:lnTo>
                  <a:lnTo>
                    <a:pt x="106" y="0"/>
                  </a:lnTo>
                  <a:lnTo>
                    <a:pt x="47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72880" y="2741040"/>
              <a:ext cx="156960" cy="58680"/>
            </a:xfrm>
            <a:custGeom>
              <a:avLst/>
              <a:gdLst/>
              <a:ahLst/>
              <a:rect l="l" t="t" r="r" b="b"/>
              <a:pathLst>
                <a:path w="437" h="165">
                  <a:moveTo>
                    <a:pt x="111" y="141"/>
                  </a:moveTo>
                  <a:lnTo>
                    <a:pt x="53" y="141"/>
                  </a:lnTo>
                  <a:lnTo>
                    <a:pt x="58" y="128"/>
                  </a:lnTo>
                  <a:lnTo>
                    <a:pt x="117" y="111"/>
                  </a:lnTo>
                  <a:lnTo>
                    <a:pt x="81" y="117"/>
                  </a:lnTo>
                  <a:lnTo>
                    <a:pt x="111" y="100"/>
                  </a:lnTo>
                  <a:lnTo>
                    <a:pt x="76" y="94"/>
                  </a:lnTo>
                  <a:lnTo>
                    <a:pt x="11" y="88"/>
                  </a:lnTo>
                  <a:lnTo>
                    <a:pt x="106" y="81"/>
                  </a:lnTo>
                  <a:lnTo>
                    <a:pt x="76" y="70"/>
                  </a:lnTo>
                  <a:lnTo>
                    <a:pt x="111" y="58"/>
                  </a:lnTo>
                  <a:lnTo>
                    <a:pt x="0" y="53"/>
                  </a:lnTo>
                  <a:lnTo>
                    <a:pt x="28" y="53"/>
                  </a:lnTo>
                  <a:lnTo>
                    <a:pt x="23" y="41"/>
                  </a:lnTo>
                  <a:lnTo>
                    <a:pt x="53" y="47"/>
                  </a:lnTo>
                  <a:lnTo>
                    <a:pt x="28" y="34"/>
                  </a:lnTo>
                  <a:lnTo>
                    <a:pt x="58" y="41"/>
                  </a:lnTo>
                  <a:lnTo>
                    <a:pt x="34" y="28"/>
                  </a:lnTo>
                  <a:lnTo>
                    <a:pt x="47" y="17"/>
                  </a:lnTo>
                  <a:lnTo>
                    <a:pt x="88" y="41"/>
                  </a:lnTo>
                  <a:lnTo>
                    <a:pt x="70" y="17"/>
                  </a:lnTo>
                  <a:lnTo>
                    <a:pt x="94" y="17"/>
                  </a:lnTo>
                  <a:lnTo>
                    <a:pt x="64" y="5"/>
                  </a:lnTo>
                  <a:lnTo>
                    <a:pt x="129" y="28"/>
                  </a:lnTo>
                  <a:lnTo>
                    <a:pt x="111" y="41"/>
                  </a:lnTo>
                  <a:lnTo>
                    <a:pt x="135" y="70"/>
                  </a:lnTo>
                  <a:lnTo>
                    <a:pt x="141" y="53"/>
                  </a:lnTo>
                  <a:lnTo>
                    <a:pt x="158" y="58"/>
                  </a:lnTo>
                  <a:lnTo>
                    <a:pt x="170" y="47"/>
                  </a:lnTo>
                  <a:lnTo>
                    <a:pt x="170" y="23"/>
                  </a:lnTo>
                  <a:lnTo>
                    <a:pt x="200" y="41"/>
                  </a:lnTo>
                  <a:lnTo>
                    <a:pt x="206" y="23"/>
                  </a:lnTo>
                  <a:lnTo>
                    <a:pt x="241" y="23"/>
                  </a:lnTo>
                  <a:lnTo>
                    <a:pt x="259" y="47"/>
                  </a:lnTo>
                  <a:lnTo>
                    <a:pt x="253" y="23"/>
                  </a:lnTo>
                  <a:lnTo>
                    <a:pt x="282" y="34"/>
                  </a:lnTo>
                  <a:lnTo>
                    <a:pt x="300" y="17"/>
                  </a:lnTo>
                  <a:lnTo>
                    <a:pt x="317" y="23"/>
                  </a:lnTo>
                  <a:lnTo>
                    <a:pt x="342" y="0"/>
                  </a:lnTo>
                  <a:lnTo>
                    <a:pt x="365" y="23"/>
                  </a:lnTo>
                  <a:lnTo>
                    <a:pt x="400" y="11"/>
                  </a:lnTo>
                  <a:lnTo>
                    <a:pt x="376" y="23"/>
                  </a:lnTo>
                  <a:lnTo>
                    <a:pt x="395" y="28"/>
                  </a:lnTo>
                  <a:lnTo>
                    <a:pt x="383" y="41"/>
                  </a:lnTo>
                  <a:lnTo>
                    <a:pt x="406" y="41"/>
                  </a:lnTo>
                  <a:lnTo>
                    <a:pt x="429" y="58"/>
                  </a:lnTo>
                  <a:lnTo>
                    <a:pt x="418" y="70"/>
                  </a:lnTo>
                  <a:lnTo>
                    <a:pt x="412" y="70"/>
                  </a:lnTo>
                  <a:lnTo>
                    <a:pt x="436" y="76"/>
                  </a:lnTo>
                  <a:lnTo>
                    <a:pt x="406" y="81"/>
                  </a:lnTo>
                  <a:lnTo>
                    <a:pt x="423" y="88"/>
                  </a:lnTo>
                  <a:lnTo>
                    <a:pt x="395" y="94"/>
                  </a:lnTo>
                  <a:lnTo>
                    <a:pt x="389" y="111"/>
                  </a:lnTo>
                  <a:lnTo>
                    <a:pt x="353" y="111"/>
                  </a:lnTo>
                  <a:lnTo>
                    <a:pt x="236" y="164"/>
                  </a:lnTo>
                  <a:lnTo>
                    <a:pt x="158" y="158"/>
                  </a:lnTo>
                  <a:lnTo>
                    <a:pt x="147" y="141"/>
                  </a:lnTo>
                  <a:lnTo>
                    <a:pt x="111" y="14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27040" y="2822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0560" y="2822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17320" y="2822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2640" y="28252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23800" y="28299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23800" y="28364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55400" y="2958480"/>
              <a:ext cx="80640" cy="78840"/>
            </a:xfrm>
            <a:custGeom>
              <a:avLst/>
              <a:gdLst/>
              <a:ahLst/>
              <a:rect l="l" t="t" r="r" b="b"/>
              <a:pathLst>
                <a:path w="226" h="219">
                  <a:moveTo>
                    <a:pt x="148" y="17"/>
                  </a:moveTo>
                  <a:lnTo>
                    <a:pt x="183" y="6"/>
                  </a:lnTo>
                  <a:lnTo>
                    <a:pt x="201" y="17"/>
                  </a:lnTo>
                  <a:lnTo>
                    <a:pt x="218" y="30"/>
                  </a:lnTo>
                  <a:lnTo>
                    <a:pt x="207" y="41"/>
                  </a:lnTo>
                  <a:lnTo>
                    <a:pt x="225" y="59"/>
                  </a:lnTo>
                  <a:lnTo>
                    <a:pt x="218" y="59"/>
                  </a:lnTo>
                  <a:lnTo>
                    <a:pt x="189" y="71"/>
                  </a:lnTo>
                  <a:lnTo>
                    <a:pt x="201" y="136"/>
                  </a:lnTo>
                  <a:lnTo>
                    <a:pt x="183" y="177"/>
                  </a:lnTo>
                  <a:lnTo>
                    <a:pt x="83" y="211"/>
                  </a:lnTo>
                  <a:lnTo>
                    <a:pt x="25" y="218"/>
                  </a:lnTo>
                  <a:lnTo>
                    <a:pt x="36" y="211"/>
                  </a:lnTo>
                  <a:lnTo>
                    <a:pt x="42" y="206"/>
                  </a:lnTo>
                  <a:lnTo>
                    <a:pt x="12" y="211"/>
                  </a:lnTo>
                  <a:lnTo>
                    <a:pt x="36" y="194"/>
                  </a:lnTo>
                  <a:lnTo>
                    <a:pt x="0" y="194"/>
                  </a:lnTo>
                  <a:lnTo>
                    <a:pt x="30" y="183"/>
                  </a:lnTo>
                  <a:lnTo>
                    <a:pt x="0" y="177"/>
                  </a:lnTo>
                  <a:lnTo>
                    <a:pt x="30" y="177"/>
                  </a:lnTo>
                  <a:lnTo>
                    <a:pt x="78" y="153"/>
                  </a:lnTo>
                  <a:lnTo>
                    <a:pt x="25" y="159"/>
                  </a:lnTo>
                  <a:lnTo>
                    <a:pt x="71" y="118"/>
                  </a:lnTo>
                  <a:lnTo>
                    <a:pt x="12" y="111"/>
                  </a:lnTo>
                  <a:lnTo>
                    <a:pt x="42" y="89"/>
                  </a:lnTo>
                  <a:lnTo>
                    <a:pt x="18" y="71"/>
                  </a:lnTo>
                  <a:lnTo>
                    <a:pt x="36" y="59"/>
                  </a:lnTo>
                  <a:lnTo>
                    <a:pt x="89" y="64"/>
                  </a:lnTo>
                  <a:lnTo>
                    <a:pt x="112" y="41"/>
                  </a:lnTo>
                  <a:lnTo>
                    <a:pt x="78" y="36"/>
                  </a:lnTo>
                  <a:lnTo>
                    <a:pt x="106" y="12"/>
                  </a:lnTo>
                  <a:lnTo>
                    <a:pt x="136" y="12"/>
                  </a:lnTo>
                  <a:lnTo>
                    <a:pt x="131" y="24"/>
                  </a:lnTo>
                  <a:lnTo>
                    <a:pt x="136" y="12"/>
                  </a:lnTo>
                  <a:lnTo>
                    <a:pt x="142" y="0"/>
                  </a:lnTo>
                  <a:lnTo>
                    <a:pt x="165" y="6"/>
                  </a:lnTo>
                  <a:lnTo>
                    <a:pt x="148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25240" y="2893320"/>
              <a:ext cx="125280" cy="175680"/>
            </a:xfrm>
            <a:custGeom>
              <a:avLst/>
              <a:gdLst/>
              <a:ahLst/>
              <a:rect l="l" t="t" r="r" b="b"/>
              <a:pathLst>
                <a:path w="349" h="490">
                  <a:moveTo>
                    <a:pt x="136" y="207"/>
                  </a:moveTo>
                  <a:lnTo>
                    <a:pt x="94" y="219"/>
                  </a:lnTo>
                  <a:lnTo>
                    <a:pt x="77" y="207"/>
                  </a:lnTo>
                  <a:lnTo>
                    <a:pt x="77" y="219"/>
                  </a:lnTo>
                  <a:lnTo>
                    <a:pt x="59" y="213"/>
                  </a:lnTo>
                  <a:lnTo>
                    <a:pt x="59" y="224"/>
                  </a:lnTo>
                  <a:lnTo>
                    <a:pt x="47" y="213"/>
                  </a:lnTo>
                  <a:lnTo>
                    <a:pt x="70" y="177"/>
                  </a:lnTo>
                  <a:lnTo>
                    <a:pt x="59" y="154"/>
                  </a:lnTo>
                  <a:lnTo>
                    <a:pt x="77" y="154"/>
                  </a:lnTo>
                  <a:lnTo>
                    <a:pt x="59" y="136"/>
                  </a:lnTo>
                  <a:lnTo>
                    <a:pt x="53" y="154"/>
                  </a:lnTo>
                  <a:lnTo>
                    <a:pt x="41" y="154"/>
                  </a:lnTo>
                  <a:lnTo>
                    <a:pt x="59" y="130"/>
                  </a:lnTo>
                  <a:lnTo>
                    <a:pt x="17" y="189"/>
                  </a:lnTo>
                  <a:lnTo>
                    <a:pt x="53" y="107"/>
                  </a:lnTo>
                  <a:lnTo>
                    <a:pt x="23" y="119"/>
                  </a:lnTo>
                  <a:lnTo>
                    <a:pt x="12" y="113"/>
                  </a:lnTo>
                  <a:lnTo>
                    <a:pt x="30" y="107"/>
                  </a:lnTo>
                  <a:lnTo>
                    <a:pt x="0" y="107"/>
                  </a:lnTo>
                  <a:lnTo>
                    <a:pt x="36" y="89"/>
                  </a:lnTo>
                  <a:lnTo>
                    <a:pt x="36" y="72"/>
                  </a:lnTo>
                  <a:lnTo>
                    <a:pt x="36" y="60"/>
                  </a:lnTo>
                  <a:lnTo>
                    <a:pt x="23" y="42"/>
                  </a:lnTo>
                  <a:lnTo>
                    <a:pt x="53" y="42"/>
                  </a:lnTo>
                  <a:lnTo>
                    <a:pt x="36" y="30"/>
                  </a:lnTo>
                  <a:lnTo>
                    <a:pt x="59" y="25"/>
                  </a:lnTo>
                  <a:lnTo>
                    <a:pt x="59" y="0"/>
                  </a:lnTo>
                  <a:lnTo>
                    <a:pt x="70" y="13"/>
                  </a:lnTo>
                  <a:lnTo>
                    <a:pt x="142" y="0"/>
                  </a:lnTo>
                  <a:lnTo>
                    <a:pt x="112" y="42"/>
                  </a:lnTo>
                  <a:lnTo>
                    <a:pt x="89" y="66"/>
                  </a:lnTo>
                  <a:lnTo>
                    <a:pt x="130" y="53"/>
                  </a:lnTo>
                  <a:lnTo>
                    <a:pt x="195" y="60"/>
                  </a:lnTo>
                  <a:lnTo>
                    <a:pt x="159" y="119"/>
                  </a:lnTo>
                  <a:lnTo>
                    <a:pt x="130" y="124"/>
                  </a:lnTo>
                  <a:lnTo>
                    <a:pt x="159" y="130"/>
                  </a:lnTo>
                  <a:lnTo>
                    <a:pt x="112" y="147"/>
                  </a:lnTo>
                  <a:lnTo>
                    <a:pt x="177" y="154"/>
                  </a:lnTo>
                  <a:lnTo>
                    <a:pt x="183" y="160"/>
                  </a:lnTo>
                  <a:lnTo>
                    <a:pt x="218" y="224"/>
                  </a:lnTo>
                  <a:lnTo>
                    <a:pt x="248" y="236"/>
                  </a:lnTo>
                  <a:lnTo>
                    <a:pt x="272" y="272"/>
                  </a:lnTo>
                  <a:lnTo>
                    <a:pt x="278" y="283"/>
                  </a:lnTo>
                  <a:lnTo>
                    <a:pt x="272" y="283"/>
                  </a:lnTo>
                  <a:lnTo>
                    <a:pt x="289" y="307"/>
                  </a:lnTo>
                  <a:lnTo>
                    <a:pt x="272" y="324"/>
                  </a:lnTo>
                  <a:lnTo>
                    <a:pt x="295" y="319"/>
                  </a:lnTo>
                  <a:lnTo>
                    <a:pt x="336" y="324"/>
                  </a:lnTo>
                  <a:lnTo>
                    <a:pt x="348" y="342"/>
                  </a:lnTo>
                  <a:lnTo>
                    <a:pt x="331" y="377"/>
                  </a:lnTo>
                  <a:lnTo>
                    <a:pt x="312" y="394"/>
                  </a:lnTo>
                  <a:lnTo>
                    <a:pt x="289" y="401"/>
                  </a:lnTo>
                  <a:lnTo>
                    <a:pt x="336" y="407"/>
                  </a:lnTo>
                  <a:lnTo>
                    <a:pt x="336" y="419"/>
                  </a:lnTo>
                  <a:lnTo>
                    <a:pt x="283" y="442"/>
                  </a:lnTo>
                  <a:lnTo>
                    <a:pt x="206" y="430"/>
                  </a:lnTo>
                  <a:lnTo>
                    <a:pt x="177" y="442"/>
                  </a:lnTo>
                  <a:lnTo>
                    <a:pt x="159" y="454"/>
                  </a:lnTo>
                  <a:lnTo>
                    <a:pt x="112" y="447"/>
                  </a:lnTo>
                  <a:lnTo>
                    <a:pt x="106" y="471"/>
                  </a:lnTo>
                  <a:lnTo>
                    <a:pt x="41" y="471"/>
                  </a:lnTo>
                  <a:lnTo>
                    <a:pt x="36" y="489"/>
                  </a:lnTo>
                  <a:lnTo>
                    <a:pt x="12" y="477"/>
                  </a:lnTo>
                  <a:lnTo>
                    <a:pt x="47" y="454"/>
                  </a:lnTo>
                  <a:lnTo>
                    <a:pt x="83" y="419"/>
                  </a:lnTo>
                  <a:lnTo>
                    <a:pt x="136" y="419"/>
                  </a:lnTo>
                  <a:lnTo>
                    <a:pt x="165" y="383"/>
                  </a:lnTo>
                  <a:lnTo>
                    <a:pt x="153" y="394"/>
                  </a:lnTo>
                  <a:lnTo>
                    <a:pt x="124" y="407"/>
                  </a:lnTo>
                  <a:lnTo>
                    <a:pt x="77" y="389"/>
                  </a:lnTo>
                  <a:lnTo>
                    <a:pt x="36" y="377"/>
                  </a:lnTo>
                  <a:lnTo>
                    <a:pt x="94" y="342"/>
                  </a:lnTo>
                  <a:lnTo>
                    <a:pt x="89" y="319"/>
                  </a:lnTo>
                  <a:lnTo>
                    <a:pt x="59" y="324"/>
                  </a:lnTo>
                  <a:lnTo>
                    <a:pt x="100" y="294"/>
                  </a:lnTo>
                  <a:lnTo>
                    <a:pt x="136" y="301"/>
                  </a:lnTo>
                  <a:lnTo>
                    <a:pt x="130" y="294"/>
                  </a:lnTo>
                  <a:lnTo>
                    <a:pt x="147" y="294"/>
                  </a:lnTo>
                  <a:lnTo>
                    <a:pt x="136" y="283"/>
                  </a:lnTo>
                  <a:lnTo>
                    <a:pt x="147" y="247"/>
                  </a:lnTo>
                  <a:lnTo>
                    <a:pt x="112" y="230"/>
                  </a:lnTo>
                  <a:lnTo>
                    <a:pt x="142" y="207"/>
                  </a:lnTo>
                  <a:lnTo>
                    <a:pt x="136" y="20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55480" y="29772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96880" y="3053520"/>
              <a:ext cx="900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25" y="0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54040" y="2996280"/>
              <a:ext cx="4320" cy="61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6" y="5"/>
                  </a:lnTo>
                  <a:lnTo>
                    <a:pt x="6" y="5"/>
                  </a:lnTo>
                  <a:lnTo>
                    <a:pt x="12" y="12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12640" y="2898000"/>
              <a:ext cx="15480" cy="122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2" y="0"/>
                  </a:moveTo>
                  <a:lnTo>
                    <a:pt x="30" y="29"/>
                  </a:lnTo>
                  <a:lnTo>
                    <a:pt x="0" y="35"/>
                  </a:lnTo>
                  <a:lnTo>
                    <a:pt x="6" y="12"/>
                  </a:lnTo>
                  <a:lnTo>
                    <a:pt x="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6160" y="2912400"/>
              <a:ext cx="6120" cy="252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7" y="0"/>
                  </a:moveTo>
                  <a:lnTo>
                    <a:pt x="0" y="7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07960" y="2918520"/>
              <a:ext cx="2880" cy="61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06160" y="2925000"/>
              <a:ext cx="288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19120" y="2912400"/>
              <a:ext cx="16920" cy="122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17" y="0"/>
                  </a:moveTo>
                  <a:lnTo>
                    <a:pt x="23" y="7"/>
                  </a:lnTo>
                  <a:lnTo>
                    <a:pt x="23" y="19"/>
                  </a:lnTo>
                  <a:lnTo>
                    <a:pt x="23" y="24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47" y="24"/>
                  </a:lnTo>
                  <a:lnTo>
                    <a:pt x="34" y="36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7" y="24"/>
                  </a:lnTo>
                  <a:lnTo>
                    <a:pt x="11" y="19"/>
                  </a:lnTo>
                  <a:lnTo>
                    <a:pt x="17" y="2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7"/>
                  </a:lnTo>
                  <a:lnTo>
                    <a:pt x="17" y="13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5240" y="2932920"/>
              <a:ext cx="10800" cy="61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6" y="0"/>
                  </a:moveTo>
                  <a:lnTo>
                    <a:pt x="12" y="6"/>
                  </a:lnTo>
                  <a:lnTo>
                    <a:pt x="17" y="6"/>
                  </a:lnTo>
                  <a:lnTo>
                    <a:pt x="30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12" y="6"/>
                  </a:ln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7040" y="2942280"/>
              <a:ext cx="5760" cy="93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7" y="0"/>
                  </a:moveTo>
                  <a:lnTo>
                    <a:pt x="11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20560" y="2948760"/>
              <a:ext cx="6120" cy="61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18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38200" y="2952000"/>
              <a:ext cx="4320" cy="43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5" y="0"/>
                  </a:moveTo>
                  <a:lnTo>
                    <a:pt x="5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82480" y="28868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96880" y="2855160"/>
              <a:ext cx="9000" cy="1548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5" y="5"/>
                  </a:moveTo>
                  <a:lnTo>
                    <a:pt x="18" y="0"/>
                  </a:lnTo>
                  <a:lnTo>
                    <a:pt x="18" y="11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2" y="41"/>
                  </a:lnTo>
                  <a:lnTo>
                    <a:pt x="25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77800" y="307728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0"/>
                  </a:move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87160" y="3083760"/>
              <a:ext cx="2880" cy="108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60000" y="34390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66640" y="4130280"/>
              <a:ext cx="43920" cy="36360"/>
            </a:xfrm>
            <a:custGeom>
              <a:avLst/>
              <a:gdLst/>
              <a:ahLst/>
              <a:rect l="l" t="t" r="r" b="b"/>
              <a:pathLst>
                <a:path w="125" h="101">
                  <a:moveTo>
                    <a:pt x="124" y="7"/>
                  </a:moveTo>
                  <a:lnTo>
                    <a:pt x="112" y="53"/>
                  </a:lnTo>
                  <a:lnTo>
                    <a:pt x="100" y="59"/>
                  </a:lnTo>
                  <a:lnTo>
                    <a:pt x="100" y="77"/>
                  </a:lnTo>
                  <a:lnTo>
                    <a:pt x="94" y="71"/>
                  </a:lnTo>
                  <a:lnTo>
                    <a:pt x="100" y="77"/>
                  </a:lnTo>
                  <a:lnTo>
                    <a:pt x="65" y="82"/>
                  </a:lnTo>
                  <a:lnTo>
                    <a:pt x="53" y="100"/>
                  </a:lnTo>
                  <a:lnTo>
                    <a:pt x="29" y="94"/>
                  </a:lnTo>
                  <a:lnTo>
                    <a:pt x="29" y="77"/>
                  </a:lnTo>
                  <a:lnTo>
                    <a:pt x="23" y="100"/>
                  </a:lnTo>
                  <a:lnTo>
                    <a:pt x="0" y="77"/>
                  </a:lnTo>
                  <a:lnTo>
                    <a:pt x="0" y="59"/>
                  </a:lnTo>
                  <a:lnTo>
                    <a:pt x="18" y="53"/>
                  </a:lnTo>
                  <a:lnTo>
                    <a:pt x="0" y="4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0"/>
                  </a:lnTo>
                  <a:lnTo>
                    <a:pt x="124" y="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4320" y="4140000"/>
              <a:ext cx="10800" cy="1872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13" y="29"/>
                  </a:moveTo>
                  <a:lnTo>
                    <a:pt x="30" y="0"/>
                  </a:lnTo>
                  <a:lnTo>
                    <a:pt x="30" y="29"/>
                  </a:lnTo>
                  <a:lnTo>
                    <a:pt x="0" y="53"/>
                  </a:lnTo>
                  <a:lnTo>
                    <a:pt x="13" y="2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82480" y="41212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88600" y="41245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3880" y="4298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17320" y="44668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06440" y="4917600"/>
              <a:ext cx="288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49280" y="4985640"/>
              <a:ext cx="288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33400" y="5398200"/>
              <a:ext cx="12240" cy="432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35" y="11"/>
                  </a:move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29" y="5"/>
                  </a:lnTo>
                  <a:lnTo>
                    <a:pt x="35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52480" y="5402880"/>
              <a:ext cx="4320" cy="108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17280" y="5267880"/>
              <a:ext cx="37800" cy="18720"/>
            </a:xfrm>
            <a:custGeom>
              <a:avLst/>
              <a:gdLst/>
              <a:ahLst/>
              <a:rect l="l" t="t" r="r" b="b"/>
              <a:pathLst>
                <a:path w="108" h="53">
                  <a:moveTo>
                    <a:pt x="100" y="52"/>
                  </a:moveTo>
                  <a:lnTo>
                    <a:pt x="83" y="41"/>
                  </a:lnTo>
                  <a:lnTo>
                    <a:pt x="77" y="34"/>
                  </a:lnTo>
                  <a:lnTo>
                    <a:pt x="72" y="34"/>
                  </a:lnTo>
                  <a:lnTo>
                    <a:pt x="60" y="23"/>
                  </a:lnTo>
                  <a:lnTo>
                    <a:pt x="42" y="17"/>
                  </a:lnTo>
                  <a:lnTo>
                    <a:pt x="36" y="17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5"/>
                  </a:lnTo>
                  <a:lnTo>
                    <a:pt x="13" y="5"/>
                  </a:lnTo>
                  <a:lnTo>
                    <a:pt x="0" y="5"/>
                  </a:lnTo>
                  <a:lnTo>
                    <a:pt x="13" y="0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42" y="5"/>
                  </a:lnTo>
                  <a:lnTo>
                    <a:pt x="42" y="11"/>
                  </a:lnTo>
                  <a:lnTo>
                    <a:pt x="47" y="5"/>
                  </a:lnTo>
                  <a:lnTo>
                    <a:pt x="47" y="11"/>
                  </a:lnTo>
                  <a:lnTo>
                    <a:pt x="53" y="11"/>
                  </a:lnTo>
                  <a:lnTo>
                    <a:pt x="60" y="11"/>
                  </a:lnTo>
                  <a:lnTo>
                    <a:pt x="72" y="11"/>
                  </a:lnTo>
                  <a:lnTo>
                    <a:pt x="66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72" y="23"/>
                  </a:lnTo>
                  <a:lnTo>
                    <a:pt x="77" y="23"/>
                  </a:lnTo>
                  <a:lnTo>
                    <a:pt x="77" y="17"/>
                  </a:lnTo>
                  <a:lnTo>
                    <a:pt x="83" y="17"/>
                  </a:lnTo>
                  <a:lnTo>
                    <a:pt x="83" y="23"/>
                  </a:lnTo>
                  <a:lnTo>
                    <a:pt x="89" y="23"/>
                  </a:lnTo>
                  <a:lnTo>
                    <a:pt x="89" y="28"/>
                  </a:lnTo>
                  <a:lnTo>
                    <a:pt x="95" y="28"/>
                  </a:lnTo>
                  <a:lnTo>
                    <a:pt x="100" y="34"/>
                  </a:lnTo>
                  <a:lnTo>
                    <a:pt x="107" y="47"/>
                  </a:lnTo>
                  <a:lnTo>
                    <a:pt x="95" y="47"/>
                  </a:lnTo>
                  <a:lnTo>
                    <a:pt x="100" y="5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37840" y="5213880"/>
              <a:ext cx="25200" cy="1872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0" y="41"/>
                  </a:moveTo>
                  <a:lnTo>
                    <a:pt x="36" y="23"/>
                  </a:lnTo>
                  <a:lnTo>
                    <a:pt x="12" y="17"/>
                  </a:lnTo>
                  <a:lnTo>
                    <a:pt x="36" y="23"/>
                  </a:lnTo>
                  <a:lnTo>
                    <a:pt x="6" y="0"/>
                  </a:lnTo>
                  <a:lnTo>
                    <a:pt x="70" y="5"/>
                  </a:lnTo>
                  <a:lnTo>
                    <a:pt x="23" y="52"/>
                  </a:lnTo>
                  <a:lnTo>
                    <a:pt x="0" y="4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60160" y="5212440"/>
              <a:ext cx="29880" cy="2340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0" y="53"/>
                  </a:moveTo>
                  <a:lnTo>
                    <a:pt x="30" y="34"/>
                  </a:lnTo>
                  <a:lnTo>
                    <a:pt x="18" y="0"/>
                  </a:lnTo>
                  <a:lnTo>
                    <a:pt x="47" y="6"/>
                  </a:lnTo>
                  <a:lnTo>
                    <a:pt x="59" y="23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59" y="17"/>
                  </a:lnTo>
                  <a:lnTo>
                    <a:pt x="83" y="29"/>
                  </a:lnTo>
                  <a:lnTo>
                    <a:pt x="30" y="34"/>
                  </a:lnTo>
                  <a:lnTo>
                    <a:pt x="47" y="53"/>
                  </a:lnTo>
                  <a:lnTo>
                    <a:pt x="36" y="58"/>
                  </a:lnTo>
                  <a:lnTo>
                    <a:pt x="18" y="53"/>
                  </a:lnTo>
                  <a:lnTo>
                    <a:pt x="24" y="64"/>
                  </a:lnTo>
                  <a:lnTo>
                    <a:pt x="0" y="5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01480" y="5283720"/>
              <a:ext cx="12240" cy="1440"/>
            </a:xfrm>
            <a:custGeom>
              <a:avLst/>
              <a:gdLst/>
              <a:ahLst/>
              <a:rect l="l" t="t" r="r" b="b"/>
              <a:pathLst>
                <a:path w="37" h="6">
                  <a:moveTo>
                    <a:pt x="17" y="0"/>
                  </a:moveTo>
                  <a:lnTo>
                    <a:pt x="36" y="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44240" y="5288400"/>
              <a:ext cx="21960" cy="6120"/>
            </a:xfrm>
            <a:custGeom>
              <a:avLst/>
              <a:gdLst/>
              <a:ahLst/>
              <a:rect l="l" t="t" r="r" b="b"/>
              <a:pathLst>
                <a:path w="60" h="18">
                  <a:moveTo>
                    <a:pt x="59" y="6"/>
                  </a:moveTo>
                  <a:lnTo>
                    <a:pt x="59" y="17"/>
                  </a:lnTo>
                  <a:lnTo>
                    <a:pt x="17" y="12"/>
                  </a:lnTo>
                  <a:lnTo>
                    <a:pt x="0" y="0"/>
                  </a:lnTo>
                  <a:lnTo>
                    <a:pt x="59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19040" y="5288400"/>
              <a:ext cx="36000" cy="15840"/>
            </a:xfrm>
            <a:custGeom>
              <a:avLst/>
              <a:gdLst/>
              <a:ahLst/>
              <a:rect l="l" t="t" r="r" b="b"/>
              <a:pathLst>
                <a:path w="101" h="43">
                  <a:moveTo>
                    <a:pt x="71" y="0"/>
                  </a:moveTo>
                  <a:lnTo>
                    <a:pt x="41" y="6"/>
                  </a:lnTo>
                  <a:lnTo>
                    <a:pt x="82" y="17"/>
                  </a:lnTo>
                  <a:lnTo>
                    <a:pt x="58" y="17"/>
                  </a:lnTo>
                  <a:lnTo>
                    <a:pt x="88" y="23"/>
                  </a:lnTo>
                  <a:lnTo>
                    <a:pt x="100" y="42"/>
                  </a:lnTo>
                  <a:lnTo>
                    <a:pt x="58" y="29"/>
                  </a:lnTo>
                  <a:lnTo>
                    <a:pt x="58" y="12"/>
                  </a:lnTo>
                  <a:lnTo>
                    <a:pt x="29" y="12"/>
                  </a:lnTo>
                  <a:lnTo>
                    <a:pt x="47" y="29"/>
                  </a:lnTo>
                  <a:lnTo>
                    <a:pt x="18" y="17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7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82320" y="5237640"/>
              <a:ext cx="110880" cy="53640"/>
            </a:xfrm>
            <a:custGeom>
              <a:avLst/>
              <a:gdLst/>
              <a:ahLst/>
              <a:rect l="l" t="t" r="r" b="b"/>
              <a:pathLst>
                <a:path w="308" h="148">
                  <a:moveTo>
                    <a:pt x="159" y="135"/>
                  </a:moveTo>
                  <a:lnTo>
                    <a:pt x="95" y="124"/>
                  </a:lnTo>
                  <a:lnTo>
                    <a:pt x="59" y="135"/>
                  </a:lnTo>
                  <a:lnTo>
                    <a:pt x="72" y="124"/>
                  </a:lnTo>
                  <a:lnTo>
                    <a:pt x="24" y="124"/>
                  </a:lnTo>
                  <a:lnTo>
                    <a:pt x="0" y="117"/>
                  </a:lnTo>
                  <a:lnTo>
                    <a:pt x="42" y="111"/>
                  </a:lnTo>
                  <a:lnTo>
                    <a:pt x="48" y="106"/>
                  </a:lnTo>
                  <a:lnTo>
                    <a:pt x="53" y="117"/>
                  </a:lnTo>
                  <a:lnTo>
                    <a:pt x="59" y="106"/>
                  </a:lnTo>
                  <a:lnTo>
                    <a:pt x="77" y="111"/>
                  </a:lnTo>
                  <a:lnTo>
                    <a:pt x="36" y="94"/>
                  </a:lnTo>
                  <a:lnTo>
                    <a:pt x="77" y="111"/>
                  </a:lnTo>
                  <a:lnTo>
                    <a:pt x="77" y="100"/>
                  </a:lnTo>
                  <a:lnTo>
                    <a:pt x="101" y="117"/>
                  </a:lnTo>
                  <a:lnTo>
                    <a:pt x="89" y="100"/>
                  </a:lnTo>
                  <a:lnTo>
                    <a:pt x="106" y="106"/>
                  </a:lnTo>
                  <a:lnTo>
                    <a:pt x="119" y="124"/>
                  </a:lnTo>
                  <a:lnTo>
                    <a:pt x="130" y="111"/>
                  </a:lnTo>
                  <a:lnTo>
                    <a:pt x="77" y="94"/>
                  </a:lnTo>
                  <a:lnTo>
                    <a:pt x="59" y="70"/>
                  </a:lnTo>
                  <a:lnTo>
                    <a:pt x="89" y="53"/>
                  </a:lnTo>
                  <a:lnTo>
                    <a:pt x="42" y="53"/>
                  </a:lnTo>
                  <a:lnTo>
                    <a:pt x="42" y="23"/>
                  </a:lnTo>
                  <a:lnTo>
                    <a:pt x="30" y="17"/>
                  </a:lnTo>
                  <a:lnTo>
                    <a:pt x="53" y="17"/>
                  </a:lnTo>
                  <a:lnTo>
                    <a:pt x="66" y="0"/>
                  </a:lnTo>
                  <a:lnTo>
                    <a:pt x="106" y="11"/>
                  </a:lnTo>
                  <a:lnTo>
                    <a:pt x="136" y="36"/>
                  </a:lnTo>
                  <a:lnTo>
                    <a:pt x="119" y="41"/>
                  </a:lnTo>
                  <a:lnTo>
                    <a:pt x="183" y="83"/>
                  </a:lnTo>
                  <a:lnTo>
                    <a:pt x="254" y="117"/>
                  </a:lnTo>
                  <a:lnTo>
                    <a:pt x="307" y="124"/>
                  </a:lnTo>
                  <a:lnTo>
                    <a:pt x="301" y="141"/>
                  </a:lnTo>
                  <a:lnTo>
                    <a:pt x="254" y="147"/>
                  </a:lnTo>
                  <a:lnTo>
                    <a:pt x="231" y="135"/>
                  </a:lnTo>
                  <a:lnTo>
                    <a:pt x="159" y="13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49200" y="5256720"/>
              <a:ext cx="23400" cy="1548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65" y="24"/>
                  </a:moveTo>
                  <a:lnTo>
                    <a:pt x="47" y="41"/>
                  </a:lnTo>
                  <a:lnTo>
                    <a:pt x="47" y="24"/>
                  </a:lnTo>
                  <a:lnTo>
                    <a:pt x="18" y="17"/>
                  </a:lnTo>
                  <a:lnTo>
                    <a:pt x="6" y="17"/>
                  </a:lnTo>
                  <a:lnTo>
                    <a:pt x="0" y="11"/>
                  </a:lnTo>
                  <a:lnTo>
                    <a:pt x="30" y="17"/>
                  </a:lnTo>
                  <a:lnTo>
                    <a:pt x="6" y="5"/>
                  </a:lnTo>
                  <a:lnTo>
                    <a:pt x="18" y="0"/>
                  </a:lnTo>
                  <a:lnTo>
                    <a:pt x="36" y="17"/>
                  </a:lnTo>
                  <a:lnTo>
                    <a:pt x="30" y="0"/>
                  </a:lnTo>
                  <a:lnTo>
                    <a:pt x="65" y="2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9360" y="5069520"/>
              <a:ext cx="10440" cy="122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3" y="34"/>
                  </a:moveTo>
                  <a:lnTo>
                    <a:pt x="0" y="17"/>
                  </a:lnTo>
                  <a:lnTo>
                    <a:pt x="13" y="0"/>
                  </a:lnTo>
                  <a:lnTo>
                    <a:pt x="30" y="11"/>
                  </a:lnTo>
                  <a:lnTo>
                    <a:pt x="13" y="3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80800" y="5158440"/>
              <a:ext cx="21960" cy="2988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47" y="81"/>
                  </a:moveTo>
                  <a:lnTo>
                    <a:pt x="30" y="70"/>
                  </a:lnTo>
                  <a:lnTo>
                    <a:pt x="0" y="34"/>
                  </a:lnTo>
                  <a:lnTo>
                    <a:pt x="18" y="0"/>
                  </a:lnTo>
                  <a:lnTo>
                    <a:pt x="36" y="17"/>
                  </a:lnTo>
                  <a:lnTo>
                    <a:pt x="60" y="58"/>
                  </a:lnTo>
                  <a:lnTo>
                    <a:pt x="47" y="8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23640" y="5240880"/>
              <a:ext cx="31320" cy="15480"/>
            </a:xfrm>
            <a:custGeom>
              <a:avLst/>
              <a:gdLst/>
              <a:ahLst/>
              <a:rect l="l" t="t" r="r" b="b"/>
              <a:pathLst>
                <a:path w="89" h="43">
                  <a:moveTo>
                    <a:pt x="0" y="0"/>
                  </a:moveTo>
                  <a:lnTo>
                    <a:pt x="58" y="25"/>
                  </a:lnTo>
                  <a:lnTo>
                    <a:pt x="88" y="42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74400" y="5267880"/>
              <a:ext cx="21960" cy="756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23" y="0"/>
                  </a:moveTo>
                  <a:lnTo>
                    <a:pt x="18" y="23"/>
                  </a:lnTo>
                  <a:lnTo>
                    <a:pt x="0" y="0"/>
                  </a:lnTo>
                  <a:lnTo>
                    <a:pt x="23" y="0"/>
                  </a:lnTo>
                  <a:lnTo>
                    <a:pt x="53" y="11"/>
                  </a:lnTo>
                  <a:lnTo>
                    <a:pt x="59" y="23"/>
                  </a:lnTo>
                  <a:lnTo>
                    <a:pt x="29" y="17"/>
                  </a:lnTo>
                  <a:lnTo>
                    <a:pt x="2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96720" y="5258520"/>
              <a:ext cx="7560" cy="154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6" y="0"/>
                  </a:moveTo>
                  <a:lnTo>
                    <a:pt x="23" y="30"/>
                  </a:lnTo>
                  <a:lnTo>
                    <a:pt x="23" y="42"/>
                  </a:lnTo>
                  <a:lnTo>
                    <a:pt x="0" y="25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06360" y="52092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15720" y="52027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87280" y="5188680"/>
              <a:ext cx="12240" cy="756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18" y="19"/>
                  </a:moveTo>
                  <a:lnTo>
                    <a:pt x="0" y="0"/>
                  </a:lnTo>
                  <a:lnTo>
                    <a:pt x="36" y="6"/>
                  </a:lnTo>
                  <a:lnTo>
                    <a:pt x="18" y="1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68200" y="5145840"/>
              <a:ext cx="12240" cy="1548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35" y="42"/>
                  </a:moveTo>
                  <a:lnTo>
                    <a:pt x="18" y="17"/>
                  </a:lnTo>
                  <a:lnTo>
                    <a:pt x="12" y="23"/>
                  </a:lnTo>
                  <a:lnTo>
                    <a:pt x="0" y="6"/>
                  </a:lnTo>
                  <a:lnTo>
                    <a:pt x="12" y="0"/>
                  </a:lnTo>
                  <a:lnTo>
                    <a:pt x="35" y="29"/>
                  </a:lnTo>
                  <a:lnTo>
                    <a:pt x="35" y="4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84040" y="5148720"/>
              <a:ext cx="7560" cy="1260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17" y="36"/>
                  </a:moveTo>
                  <a:lnTo>
                    <a:pt x="6" y="30"/>
                  </a:lnTo>
                  <a:lnTo>
                    <a:pt x="0" y="0"/>
                  </a:lnTo>
                  <a:lnTo>
                    <a:pt x="23" y="30"/>
                  </a:lnTo>
                  <a:lnTo>
                    <a:pt x="17" y="3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9120" y="5015520"/>
              <a:ext cx="16920" cy="3456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35" y="94"/>
                  </a:moveTo>
                  <a:lnTo>
                    <a:pt x="6" y="8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23" y="7"/>
                  </a:lnTo>
                  <a:lnTo>
                    <a:pt x="42" y="36"/>
                  </a:lnTo>
                  <a:lnTo>
                    <a:pt x="23" y="47"/>
                  </a:lnTo>
                  <a:lnTo>
                    <a:pt x="48" y="83"/>
                  </a:lnTo>
                  <a:lnTo>
                    <a:pt x="35" y="9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10880" y="48445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14040" y="41828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87040" y="396396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41040" y="39466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62160" y="3495960"/>
              <a:ext cx="9000" cy="1260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6" y="0"/>
                  </a:moveTo>
                  <a:lnTo>
                    <a:pt x="24" y="17"/>
                  </a:lnTo>
                  <a:lnTo>
                    <a:pt x="18" y="34"/>
                  </a:lnTo>
                  <a:lnTo>
                    <a:pt x="0" y="11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79440" y="3503880"/>
              <a:ext cx="7560" cy="10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12" y="30"/>
                  </a:lnTo>
                  <a:lnTo>
                    <a:pt x="0" y="23"/>
                  </a:lnTo>
                  <a:lnTo>
                    <a:pt x="1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74680" y="3513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24000" y="3526200"/>
              <a:ext cx="2880" cy="4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  <a:lnTo>
                    <a:pt x="0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66840" y="35848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68280" y="3609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60360" y="3589920"/>
              <a:ext cx="7560" cy="169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9" y="0"/>
                  </a:moveTo>
                  <a:lnTo>
                    <a:pt x="6" y="29"/>
                  </a:lnTo>
                  <a:lnTo>
                    <a:pt x="6" y="47"/>
                  </a:lnTo>
                  <a:lnTo>
                    <a:pt x="0" y="29"/>
                  </a:lnTo>
                  <a:lnTo>
                    <a:pt x="1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63600" y="36072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49280" y="36658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52520" y="36691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55760" y="36738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60360" y="3726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4800" y="2661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8720" y="2661840"/>
              <a:ext cx="17280" cy="756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6" y="19"/>
                  </a:moveTo>
                  <a:lnTo>
                    <a:pt x="0" y="13"/>
                  </a:lnTo>
                  <a:lnTo>
                    <a:pt x="47" y="0"/>
                  </a:lnTo>
                  <a:lnTo>
                    <a:pt x="6" y="1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41040" y="2669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34560" y="2673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99640" y="26776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93160" y="26776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82360" y="26809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69400" y="2685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360" y="2685600"/>
              <a:ext cx="10800" cy="108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5" y="29"/>
                  </a:moveTo>
                  <a:lnTo>
                    <a:pt x="0" y="6"/>
                  </a:lnTo>
                  <a:lnTo>
                    <a:pt x="28" y="0"/>
                  </a:lnTo>
                  <a:lnTo>
                    <a:pt x="5" y="2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4480" y="26982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21880" y="2696760"/>
              <a:ext cx="7560" cy="90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24"/>
                  </a:moveTo>
                  <a:lnTo>
                    <a:pt x="0" y="18"/>
                  </a:lnTo>
                  <a:lnTo>
                    <a:pt x="23" y="0"/>
                  </a:lnTo>
                  <a:lnTo>
                    <a:pt x="23" y="2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31240" y="2696760"/>
              <a:ext cx="18720" cy="1224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0" y="35"/>
                  </a:moveTo>
                  <a:lnTo>
                    <a:pt x="6" y="30"/>
                  </a:lnTo>
                  <a:lnTo>
                    <a:pt x="18" y="0"/>
                  </a:lnTo>
                  <a:lnTo>
                    <a:pt x="24" y="24"/>
                  </a:lnTo>
                  <a:lnTo>
                    <a:pt x="41" y="5"/>
                  </a:lnTo>
                  <a:lnTo>
                    <a:pt x="53" y="12"/>
                  </a:lnTo>
                  <a:lnTo>
                    <a:pt x="18" y="24"/>
                  </a:lnTo>
                  <a:lnTo>
                    <a:pt x="0" y="3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20440" y="2707920"/>
              <a:ext cx="12240" cy="432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11"/>
                  </a:moveTo>
                  <a:lnTo>
                    <a:pt x="6" y="0"/>
                  </a:lnTo>
                  <a:lnTo>
                    <a:pt x="35" y="0"/>
                  </a:lnTo>
                  <a:lnTo>
                    <a:pt x="0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09280" y="2714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02800" y="2714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6720" y="27982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40880" y="28000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56800" y="29613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93440" y="2944080"/>
              <a:ext cx="24840" cy="2016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71" y="0"/>
                  </a:moveTo>
                  <a:lnTo>
                    <a:pt x="59" y="58"/>
                  </a:lnTo>
                  <a:lnTo>
                    <a:pt x="17" y="47"/>
                  </a:lnTo>
                  <a:lnTo>
                    <a:pt x="0" y="18"/>
                  </a:lnTo>
                  <a:lnTo>
                    <a:pt x="24" y="18"/>
                  </a:lnTo>
                  <a:lnTo>
                    <a:pt x="17" y="5"/>
                  </a:lnTo>
                  <a:lnTo>
                    <a:pt x="41" y="5"/>
                  </a:lnTo>
                  <a:lnTo>
                    <a:pt x="47" y="12"/>
                  </a:lnTo>
                  <a:lnTo>
                    <a:pt x="53" y="18"/>
                  </a:lnTo>
                  <a:lnTo>
                    <a:pt x="41" y="5"/>
                  </a:lnTo>
                  <a:lnTo>
                    <a:pt x="7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15400" y="29646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09280" y="2967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96320" y="2967840"/>
              <a:ext cx="12600" cy="612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13" y="0"/>
                  </a:moveTo>
                  <a:lnTo>
                    <a:pt x="36" y="12"/>
                  </a:lnTo>
                  <a:lnTo>
                    <a:pt x="19" y="17"/>
                  </a:lnTo>
                  <a:lnTo>
                    <a:pt x="0" y="6"/>
                  </a:lnTo>
                  <a:lnTo>
                    <a:pt x="1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4880" y="29631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3440" y="29203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75800" y="2955240"/>
              <a:ext cx="17280" cy="10800"/>
            </a:xfrm>
            <a:custGeom>
              <a:avLst/>
              <a:gdLst/>
              <a:ahLst/>
              <a:rect l="l" t="t" r="r" b="b"/>
              <a:pathLst>
                <a:path w="48" h="29">
                  <a:moveTo>
                    <a:pt x="41" y="0"/>
                  </a:moveTo>
                  <a:lnTo>
                    <a:pt x="47" y="28"/>
                  </a:lnTo>
                  <a:lnTo>
                    <a:pt x="17" y="28"/>
                  </a:lnTo>
                  <a:lnTo>
                    <a:pt x="0" y="5"/>
                  </a:lnTo>
                  <a:lnTo>
                    <a:pt x="4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88400" y="294552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75800" y="29646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59960" y="29264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55280" y="29566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31520" y="2994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39440" y="29934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44120" y="29916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64640" y="2975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56720" y="29710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55280" y="29710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96320" y="2975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1240" y="2971080"/>
              <a:ext cx="10800" cy="756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0" y="23"/>
                  </a:moveTo>
                  <a:lnTo>
                    <a:pt x="0" y="11"/>
                  </a:lnTo>
                  <a:lnTo>
                    <a:pt x="11" y="0"/>
                  </a:lnTo>
                  <a:lnTo>
                    <a:pt x="30" y="23"/>
                  </a:lnTo>
                  <a:lnTo>
                    <a:pt x="0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88480" y="291852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02880" y="2907360"/>
              <a:ext cx="12240" cy="1872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6" y="0"/>
                  </a:moveTo>
                  <a:lnTo>
                    <a:pt x="36" y="30"/>
                  </a:lnTo>
                  <a:lnTo>
                    <a:pt x="6" y="53"/>
                  </a:lnTo>
                  <a:lnTo>
                    <a:pt x="0" y="18"/>
                  </a:lnTo>
                  <a:lnTo>
                    <a:pt x="3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58320" y="2885400"/>
              <a:ext cx="17280" cy="75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24" y="0"/>
                  </a:moveTo>
                  <a:lnTo>
                    <a:pt x="47" y="12"/>
                  </a:lnTo>
                  <a:lnTo>
                    <a:pt x="24" y="23"/>
                  </a:lnTo>
                  <a:lnTo>
                    <a:pt x="0" y="6"/>
                  </a:lnTo>
                  <a:lnTo>
                    <a:pt x="2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75960" y="28854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77400" y="28933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82080" y="29106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56880" y="2893320"/>
              <a:ext cx="23400" cy="154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3" y="0"/>
                  </a:moveTo>
                  <a:lnTo>
                    <a:pt x="65" y="13"/>
                  </a:lnTo>
                  <a:lnTo>
                    <a:pt x="18" y="42"/>
                  </a:lnTo>
                  <a:lnTo>
                    <a:pt x="0" y="7"/>
                  </a:lnTo>
                  <a:lnTo>
                    <a:pt x="5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69480" y="28616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21960" y="2859840"/>
              <a:ext cx="4320" cy="75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0"/>
                  </a:moveTo>
                  <a:lnTo>
                    <a:pt x="6" y="0"/>
                  </a:lnTo>
                  <a:lnTo>
                    <a:pt x="13" y="7"/>
                  </a:lnTo>
                  <a:lnTo>
                    <a:pt x="13" y="13"/>
                  </a:lnTo>
                  <a:lnTo>
                    <a:pt x="13" y="7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37800" y="2804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75960" y="27712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25040" y="29962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12440" y="29962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2720" y="30013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01280" y="3002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3880" y="30139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86880" y="30283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83640" y="30312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79280" y="3339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68120" y="3319920"/>
              <a:ext cx="12600" cy="43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0"/>
                  </a:moveTo>
                  <a:lnTo>
                    <a:pt x="18" y="12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42920" y="3300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33200" y="329436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28520" y="3300840"/>
              <a:ext cx="7560" cy="432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0"/>
                  </a:moveTo>
                  <a:lnTo>
                    <a:pt x="0" y="0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23840" y="3305520"/>
              <a:ext cx="9000" cy="46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0"/>
                  </a:moveTo>
                  <a:lnTo>
                    <a:pt x="0" y="11"/>
                  </a:lnTo>
                  <a:lnTo>
                    <a:pt x="24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20600" y="33040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9200" y="32864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63120" y="3275280"/>
              <a:ext cx="20160" cy="1260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41" y="0"/>
                  </a:moveTo>
                  <a:lnTo>
                    <a:pt x="58" y="17"/>
                  </a:lnTo>
                  <a:lnTo>
                    <a:pt x="47" y="36"/>
                  </a:lnTo>
                  <a:lnTo>
                    <a:pt x="0" y="24"/>
                  </a:lnTo>
                  <a:lnTo>
                    <a:pt x="4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88680" y="3273840"/>
              <a:ext cx="9000" cy="612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0"/>
                  </a:moveTo>
                  <a:lnTo>
                    <a:pt x="24" y="17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50520" y="32929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48720" y="33008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69680" y="3212280"/>
              <a:ext cx="16920" cy="34560"/>
            </a:xfrm>
            <a:custGeom>
              <a:avLst/>
              <a:gdLst/>
              <a:ahLst/>
              <a:rect l="l" t="t" r="r" b="b"/>
              <a:pathLst>
                <a:path w="49" h="96">
                  <a:moveTo>
                    <a:pt x="42" y="0"/>
                  </a:moveTo>
                  <a:lnTo>
                    <a:pt x="48" y="47"/>
                  </a:lnTo>
                  <a:lnTo>
                    <a:pt x="35" y="95"/>
                  </a:lnTo>
                  <a:lnTo>
                    <a:pt x="6" y="72"/>
                  </a:lnTo>
                  <a:lnTo>
                    <a:pt x="0" y="36"/>
                  </a:lnTo>
                  <a:lnTo>
                    <a:pt x="35" y="19"/>
                  </a:lnTo>
                  <a:lnTo>
                    <a:pt x="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01360" y="3215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63200" y="3249000"/>
              <a:ext cx="29880" cy="50400"/>
            </a:xfrm>
            <a:custGeom>
              <a:avLst/>
              <a:gdLst/>
              <a:ahLst/>
              <a:rect l="l" t="t" r="r" b="b"/>
              <a:pathLst>
                <a:path w="84" h="142">
                  <a:moveTo>
                    <a:pt x="53" y="0"/>
                  </a:moveTo>
                  <a:lnTo>
                    <a:pt x="83" y="41"/>
                  </a:lnTo>
                  <a:lnTo>
                    <a:pt x="77" y="118"/>
                  </a:lnTo>
                  <a:lnTo>
                    <a:pt x="71" y="129"/>
                  </a:lnTo>
                  <a:lnTo>
                    <a:pt x="47" y="118"/>
                  </a:lnTo>
                  <a:lnTo>
                    <a:pt x="41" y="141"/>
                  </a:lnTo>
                  <a:lnTo>
                    <a:pt x="18" y="129"/>
                  </a:lnTo>
                  <a:lnTo>
                    <a:pt x="24" y="82"/>
                  </a:lnTo>
                  <a:lnTo>
                    <a:pt x="0" y="29"/>
                  </a:lnTo>
                  <a:lnTo>
                    <a:pt x="7" y="18"/>
                  </a:lnTo>
                  <a:lnTo>
                    <a:pt x="5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40960" y="3312000"/>
              <a:ext cx="55080" cy="34560"/>
            </a:xfrm>
            <a:custGeom>
              <a:avLst/>
              <a:gdLst/>
              <a:ahLst/>
              <a:rect l="l" t="t" r="r" b="b"/>
              <a:pathLst>
                <a:path w="154" h="95">
                  <a:moveTo>
                    <a:pt x="153" y="0"/>
                  </a:moveTo>
                  <a:lnTo>
                    <a:pt x="129" y="47"/>
                  </a:lnTo>
                  <a:lnTo>
                    <a:pt x="142" y="77"/>
                  </a:lnTo>
                  <a:lnTo>
                    <a:pt x="129" y="94"/>
                  </a:lnTo>
                  <a:lnTo>
                    <a:pt x="0" y="30"/>
                  </a:lnTo>
                  <a:lnTo>
                    <a:pt x="11" y="6"/>
                  </a:lnTo>
                  <a:lnTo>
                    <a:pt x="41" y="0"/>
                  </a:lnTo>
                  <a:lnTo>
                    <a:pt x="64" y="17"/>
                  </a:lnTo>
                  <a:lnTo>
                    <a:pt x="15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77320" y="3362760"/>
              <a:ext cx="288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74440" y="3359520"/>
              <a:ext cx="10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69400" y="31662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64720" y="3166200"/>
              <a:ext cx="4320" cy="1224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0" y="0"/>
                  </a:moveTo>
                  <a:lnTo>
                    <a:pt x="12" y="35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74440" y="3177360"/>
              <a:ext cx="7560" cy="936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3" y="25"/>
                  </a:lnTo>
                  <a:lnTo>
                    <a:pt x="17" y="2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02880" y="32043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02880" y="3209040"/>
              <a:ext cx="12240" cy="288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0" y="0"/>
                  </a:moveTo>
                  <a:lnTo>
                    <a:pt x="13" y="0"/>
                  </a:lnTo>
                  <a:lnTo>
                    <a:pt x="36" y="6"/>
                  </a:lnTo>
                  <a:lnTo>
                    <a:pt x="13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09360" y="32122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66240" y="3280320"/>
              <a:ext cx="6120" cy="90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5" y="0"/>
                  </a:moveTo>
                  <a:lnTo>
                    <a:pt x="5" y="0"/>
                  </a:lnTo>
                  <a:lnTo>
                    <a:pt x="5" y="5"/>
                  </a:lnTo>
                  <a:lnTo>
                    <a:pt x="11" y="18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1" y="24"/>
                  </a:lnTo>
                  <a:lnTo>
                    <a:pt x="0" y="12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82080" y="3299400"/>
              <a:ext cx="2880" cy="576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6" y="12"/>
                  </a:lnTo>
                  <a:lnTo>
                    <a:pt x="0" y="18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79200" y="3308760"/>
              <a:ext cx="756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12" y="11"/>
                  </a:lnTo>
                  <a:lnTo>
                    <a:pt x="23" y="17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6" y="11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85320" y="3319920"/>
              <a:ext cx="6120" cy="43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17" y="6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28160" y="3351600"/>
              <a:ext cx="2880" cy="14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22040" y="3294360"/>
              <a:ext cx="31320" cy="23760"/>
            </a:xfrm>
            <a:custGeom>
              <a:avLst/>
              <a:gdLst/>
              <a:ahLst/>
              <a:rect l="l" t="t" r="r" b="b"/>
              <a:pathLst>
                <a:path w="90" h="65">
                  <a:moveTo>
                    <a:pt x="23" y="0"/>
                  </a:moveTo>
                  <a:lnTo>
                    <a:pt x="36" y="17"/>
                  </a:lnTo>
                  <a:lnTo>
                    <a:pt x="47" y="24"/>
                  </a:lnTo>
                  <a:lnTo>
                    <a:pt x="59" y="24"/>
                  </a:lnTo>
                  <a:lnTo>
                    <a:pt x="59" y="24"/>
                  </a:lnTo>
                  <a:lnTo>
                    <a:pt x="64" y="24"/>
                  </a:lnTo>
                  <a:lnTo>
                    <a:pt x="70" y="30"/>
                  </a:lnTo>
                  <a:lnTo>
                    <a:pt x="70" y="47"/>
                  </a:lnTo>
                  <a:lnTo>
                    <a:pt x="77" y="53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9" y="53"/>
                  </a:lnTo>
                  <a:lnTo>
                    <a:pt x="89" y="64"/>
                  </a:lnTo>
                  <a:lnTo>
                    <a:pt x="89" y="64"/>
                  </a:lnTo>
                  <a:lnTo>
                    <a:pt x="83" y="64"/>
                  </a:lnTo>
                  <a:lnTo>
                    <a:pt x="70" y="59"/>
                  </a:lnTo>
                  <a:lnTo>
                    <a:pt x="64" y="47"/>
                  </a:lnTo>
                  <a:lnTo>
                    <a:pt x="59" y="41"/>
                  </a:lnTo>
                  <a:lnTo>
                    <a:pt x="41" y="36"/>
                  </a:lnTo>
                  <a:lnTo>
                    <a:pt x="41" y="41"/>
                  </a:lnTo>
                  <a:lnTo>
                    <a:pt x="41" y="36"/>
                  </a:lnTo>
                  <a:lnTo>
                    <a:pt x="30" y="24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0" y="12"/>
                  </a:lnTo>
                  <a:lnTo>
                    <a:pt x="2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58400" y="3318480"/>
              <a:ext cx="4320" cy="75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0"/>
                  </a:moveTo>
                  <a:lnTo>
                    <a:pt x="6" y="7"/>
                  </a:lnTo>
                  <a:lnTo>
                    <a:pt x="12" y="19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69560" y="3335760"/>
              <a:ext cx="4320" cy="4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12" y="12"/>
                  </a:lnTo>
                  <a:lnTo>
                    <a:pt x="0" y="6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03040" y="3364200"/>
              <a:ext cx="4320" cy="612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5" y="0"/>
                  </a:moveTo>
                  <a:lnTo>
                    <a:pt x="5" y="6"/>
                  </a:lnTo>
                  <a:lnTo>
                    <a:pt x="11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12400" y="3350160"/>
              <a:ext cx="9000" cy="1224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25" y="0"/>
                  </a:moveTo>
                  <a:lnTo>
                    <a:pt x="19" y="18"/>
                  </a:lnTo>
                  <a:lnTo>
                    <a:pt x="19" y="24"/>
                  </a:lnTo>
                  <a:lnTo>
                    <a:pt x="6" y="35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2" y="6"/>
                  </a:lnTo>
                  <a:lnTo>
                    <a:pt x="2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98000" y="3342240"/>
              <a:ext cx="6120" cy="43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3" y="0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90080" y="3323160"/>
              <a:ext cx="7560" cy="288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3" y="0"/>
                  </a:moveTo>
                  <a:lnTo>
                    <a:pt x="23" y="6"/>
                  </a:lnTo>
                  <a:lnTo>
                    <a:pt x="17" y="6"/>
                  </a:lnTo>
                  <a:lnTo>
                    <a:pt x="0" y="6"/>
                  </a:lnTo>
                  <a:lnTo>
                    <a:pt x="2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4240" y="3305520"/>
              <a:ext cx="6120" cy="75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0"/>
                  </a:moveTo>
                  <a:lnTo>
                    <a:pt x="18" y="17"/>
                  </a:lnTo>
                  <a:lnTo>
                    <a:pt x="12" y="17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72800" y="3289680"/>
              <a:ext cx="15480" cy="756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28" y="0"/>
                  </a:moveTo>
                  <a:lnTo>
                    <a:pt x="41" y="17"/>
                  </a:lnTo>
                  <a:lnTo>
                    <a:pt x="41" y="17"/>
                  </a:lnTo>
                  <a:lnTo>
                    <a:pt x="35" y="17"/>
                  </a:lnTo>
                  <a:lnTo>
                    <a:pt x="35" y="11"/>
                  </a:lnTo>
                  <a:lnTo>
                    <a:pt x="35" y="17"/>
                  </a:lnTo>
                  <a:lnTo>
                    <a:pt x="35" y="23"/>
                  </a:lnTo>
                  <a:lnTo>
                    <a:pt x="28" y="23"/>
                  </a:lnTo>
                  <a:lnTo>
                    <a:pt x="23" y="17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5" y="1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64880" y="32752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66320" y="32662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50480" y="32598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41120" y="3367440"/>
              <a:ext cx="48600" cy="15480"/>
            </a:xfrm>
            <a:custGeom>
              <a:avLst/>
              <a:gdLst/>
              <a:ahLst/>
              <a:rect l="l" t="t" r="r" b="b"/>
              <a:pathLst>
                <a:path w="137" h="42">
                  <a:moveTo>
                    <a:pt x="136" y="24"/>
                  </a:moveTo>
                  <a:lnTo>
                    <a:pt x="130" y="41"/>
                  </a:lnTo>
                  <a:lnTo>
                    <a:pt x="71" y="41"/>
                  </a:lnTo>
                  <a:lnTo>
                    <a:pt x="0" y="24"/>
                  </a:lnTo>
                  <a:lnTo>
                    <a:pt x="0" y="6"/>
                  </a:lnTo>
                  <a:lnTo>
                    <a:pt x="6" y="0"/>
                  </a:lnTo>
                  <a:lnTo>
                    <a:pt x="36" y="18"/>
                  </a:lnTo>
                  <a:lnTo>
                    <a:pt x="106" y="18"/>
                  </a:lnTo>
                  <a:lnTo>
                    <a:pt x="112" y="36"/>
                  </a:lnTo>
                  <a:lnTo>
                    <a:pt x="136" y="2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74240" y="32724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50560" y="3142440"/>
              <a:ext cx="10800" cy="43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0" y="0"/>
                  </a:moveTo>
                  <a:lnTo>
                    <a:pt x="6" y="6"/>
                  </a:lnTo>
                  <a:lnTo>
                    <a:pt x="3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96640" y="3367440"/>
              <a:ext cx="39240" cy="23400"/>
            </a:xfrm>
            <a:custGeom>
              <a:avLst/>
              <a:gdLst/>
              <a:ahLst/>
              <a:rect l="l" t="t" r="r" b="b"/>
              <a:pathLst>
                <a:path w="112" h="66">
                  <a:moveTo>
                    <a:pt x="111" y="0"/>
                  </a:moveTo>
                  <a:lnTo>
                    <a:pt x="81" y="24"/>
                  </a:lnTo>
                  <a:lnTo>
                    <a:pt x="94" y="41"/>
                  </a:lnTo>
                  <a:lnTo>
                    <a:pt x="41" y="65"/>
                  </a:lnTo>
                  <a:lnTo>
                    <a:pt x="11" y="53"/>
                  </a:lnTo>
                  <a:lnTo>
                    <a:pt x="0" y="36"/>
                  </a:lnTo>
                  <a:lnTo>
                    <a:pt x="28" y="30"/>
                  </a:lnTo>
                  <a:lnTo>
                    <a:pt x="1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17160" y="3462840"/>
              <a:ext cx="4320" cy="288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23640" y="3462840"/>
              <a:ext cx="1080" cy="28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5" y="6"/>
                  </a:moveTo>
                  <a:lnTo>
                    <a:pt x="0" y="0"/>
                  </a:lnTo>
                  <a:lnTo>
                    <a:pt x="5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20440" y="3407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15720" y="3426120"/>
              <a:ext cx="9360" cy="468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6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6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30120" y="3421440"/>
              <a:ext cx="288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34800" y="3528000"/>
              <a:ext cx="9360" cy="9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12"/>
                  </a:moveTo>
                  <a:lnTo>
                    <a:pt x="12" y="24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0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15720" y="3520080"/>
              <a:ext cx="12600" cy="12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6" y="0"/>
                  </a:moveTo>
                  <a:lnTo>
                    <a:pt x="0" y="11"/>
                  </a:lnTo>
                  <a:lnTo>
                    <a:pt x="12" y="35"/>
                  </a:lnTo>
                  <a:lnTo>
                    <a:pt x="3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69720" y="3503880"/>
              <a:ext cx="9360" cy="79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6"/>
                  </a:moveTo>
                  <a:lnTo>
                    <a:pt x="24" y="12"/>
                  </a:lnTo>
                  <a:lnTo>
                    <a:pt x="24" y="18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9" y="6"/>
                  </a:lnTo>
                  <a:lnTo>
                    <a:pt x="24" y="0"/>
                  </a:lnTo>
                  <a:lnTo>
                    <a:pt x="24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60360" y="3515040"/>
              <a:ext cx="10800" cy="1548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18" y="12"/>
                  </a:moveTo>
                  <a:lnTo>
                    <a:pt x="12" y="29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6" y="41"/>
                  </a:lnTo>
                  <a:lnTo>
                    <a:pt x="18" y="29"/>
                  </a:lnTo>
                  <a:lnTo>
                    <a:pt x="23" y="29"/>
                  </a:lnTo>
                  <a:lnTo>
                    <a:pt x="29" y="12"/>
                  </a:lnTo>
                  <a:lnTo>
                    <a:pt x="29" y="0"/>
                  </a:lnTo>
                  <a:lnTo>
                    <a:pt x="18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96640" y="3513600"/>
              <a:ext cx="4680" cy="90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2" y="19"/>
                  </a:move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19"/>
                  </a:lnTo>
                  <a:lnTo>
                    <a:pt x="6" y="25"/>
                  </a:lnTo>
                  <a:lnTo>
                    <a:pt x="12" y="1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93760" y="3537360"/>
              <a:ext cx="252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09600" y="3526200"/>
              <a:ext cx="2880" cy="4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66680" y="3808440"/>
              <a:ext cx="1080" cy="28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77840" y="3800520"/>
              <a:ext cx="7560" cy="75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6" y="23"/>
                  </a:moveTo>
                  <a:lnTo>
                    <a:pt x="6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17"/>
                  </a:lnTo>
                  <a:lnTo>
                    <a:pt x="6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90440" y="3803760"/>
              <a:ext cx="1080" cy="288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95120" y="3781440"/>
              <a:ext cx="6120" cy="612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17"/>
                  </a:moveTo>
                  <a:lnTo>
                    <a:pt x="5" y="17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95120" y="3770280"/>
              <a:ext cx="1440" cy="28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66680" y="3773520"/>
              <a:ext cx="7560" cy="43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0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12"/>
                  </a:lnTo>
                  <a:lnTo>
                    <a:pt x="5" y="6"/>
                  </a:lnTo>
                  <a:lnTo>
                    <a:pt x="23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55520" y="3768840"/>
              <a:ext cx="1080" cy="10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5"/>
                  </a:move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49040" y="3762360"/>
              <a:ext cx="7560" cy="468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6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6"/>
                  </a:lnTo>
                  <a:lnTo>
                    <a:pt x="6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23640" y="3875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18960" y="38815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23640" y="38782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31560" y="38782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18960" y="3888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22200" y="38894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23640" y="38894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30120" y="38880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80880" y="396396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82280" y="4046760"/>
              <a:ext cx="9000" cy="12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0"/>
                  </a:moveTo>
                  <a:lnTo>
                    <a:pt x="13" y="35"/>
                  </a:lnTo>
                  <a:lnTo>
                    <a:pt x="0" y="18"/>
                  </a:lnTo>
                  <a:lnTo>
                    <a:pt x="2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59960" y="4091040"/>
              <a:ext cx="288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44120" y="4118040"/>
              <a:ext cx="6120" cy="75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3" y="0"/>
                  </a:moveTo>
                  <a:lnTo>
                    <a:pt x="18" y="6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36400" y="3034440"/>
              <a:ext cx="110880" cy="101160"/>
            </a:xfrm>
            <a:custGeom>
              <a:avLst/>
              <a:gdLst/>
              <a:ahLst/>
              <a:rect l="l" t="t" r="r" b="b"/>
              <a:pathLst>
                <a:path w="308" h="284">
                  <a:moveTo>
                    <a:pt x="242" y="0"/>
                  </a:moveTo>
                  <a:lnTo>
                    <a:pt x="236" y="19"/>
                  </a:lnTo>
                  <a:lnTo>
                    <a:pt x="212" y="13"/>
                  </a:lnTo>
                  <a:lnTo>
                    <a:pt x="224" y="30"/>
                  </a:lnTo>
                  <a:lnTo>
                    <a:pt x="148" y="119"/>
                  </a:lnTo>
                  <a:lnTo>
                    <a:pt x="195" y="83"/>
                  </a:lnTo>
                  <a:lnTo>
                    <a:pt x="183" y="95"/>
                  </a:lnTo>
                  <a:lnTo>
                    <a:pt x="218" y="95"/>
                  </a:lnTo>
                  <a:lnTo>
                    <a:pt x="195" y="107"/>
                  </a:lnTo>
                  <a:lnTo>
                    <a:pt x="177" y="124"/>
                  </a:lnTo>
                  <a:lnTo>
                    <a:pt x="224" y="119"/>
                  </a:lnTo>
                  <a:lnTo>
                    <a:pt x="207" y="147"/>
                  </a:lnTo>
                  <a:lnTo>
                    <a:pt x="254" y="119"/>
                  </a:lnTo>
                  <a:lnTo>
                    <a:pt x="254" y="130"/>
                  </a:lnTo>
                  <a:lnTo>
                    <a:pt x="277" y="119"/>
                  </a:lnTo>
                  <a:lnTo>
                    <a:pt x="295" y="130"/>
                  </a:lnTo>
                  <a:lnTo>
                    <a:pt x="254" y="160"/>
                  </a:lnTo>
                  <a:lnTo>
                    <a:pt x="284" y="166"/>
                  </a:lnTo>
                  <a:lnTo>
                    <a:pt x="254" y="183"/>
                  </a:lnTo>
                  <a:lnTo>
                    <a:pt x="307" y="172"/>
                  </a:lnTo>
                  <a:lnTo>
                    <a:pt x="259" y="189"/>
                  </a:lnTo>
                  <a:lnTo>
                    <a:pt x="271" y="200"/>
                  </a:lnTo>
                  <a:lnTo>
                    <a:pt x="271" y="200"/>
                  </a:lnTo>
                  <a:lnTo>
                    <a:pt x="254" y="213"/>
                  </a:lnTo>
                  <a:lnTo>
                    <a:pt x="259" y="230"/>
                  </a:lnTo>
                  <a:lnTo>
                    <a:pt x="307" y="200"/>
                  </a:lnTo>
                  <a:lnTo>
                    <a:pt x="277" y="230"/>
                  </a:lnTo>
                  <a:lnTo>
                    <a:pt x="284" y="236"/>
                  </a:lnTo>
                  <a:lnTo>
                    <a:pt x="307" y="219"/>
                  </a:lnTo>
                  <a:lnTo>
                    <a:pt x="307" y="230"/>
                  </a:lnTo>
                  <a:lnTo>
                    <a:pt x="271" y="283"/>
                  </a:lnTo>
                  <a:lnTo>
                    <a:pt x="248" y="283"/>
                  </a:lnTo>
                  <a:lnTo>
                    <a:pt x="259" y="254"/>
                  </a:lnTo>
                  <a:lnTo>
                    <a:pt x="224" y="272"/>
                  </a:lnTo>
                  <a:lnTo>
                    <a:pt x="254" y="236"/>
                  </a:lnTo>
                  <a:lnTo>
                    <a:pt x="242" y="213"/>
                  </a:lnTo>
                  <a:lnTo>
                    <a:pt x="224" y="236"/>
                  </a:lnTo>
                  <a:lnTo>
                    <a:pt x="207" y="236"/>
                  </a:lnTo>
                  <a:lnTo>
                    <a:pt x="171" y="272"/>
                  </a:lnTo>
                  <a:lnTo>
                    <a:pt x="148" y="266"/>
                  </a:lnTo>
                  <a:lnTo>
                    <a:pt x="212" y="224"/>
                  </a:lnTo>
                  <a:lnTo>
                    <a:pt x="183" y="224"/>
                  </a:lnTo>
                  <a:lnTo>
                    <a:pt x="171" y="242"/>
                  </a:lnTo>
                  <a:lnTo>
                    <a:pt x="154" y="236"/>
                  </a:lnTo>
                  <a:lnTo>
                    <a:pt x="142" y="236"/>
                  </a:lnTo>
                  <a:lnTo>
                    <a:pt x="159" y="224"/>
                  </a:lnTo>
                  <a:lnTo>
                    <a:pt x="171" y="207"/>
                  </a:lnTo>
                  <a:lnTo>
                    <a:pt x="118" y="230"/>
                  </a:lnTo>
                  <a:lnTo>
                    <a:pt x="53" y="219"/>
                  </a:lnTo>
                  <a:lnTo>
                    <a:pt x="0" y="224"/>
                  </a:lnTo>
                  <a:lnTo>
                    <a:pt x="0" y="213"/>
                  </a:lnTo>
                  <a:lnTo>
                    <a:pt x="65" y="177"/>
                  </a:lnTo>
                  <a:lnTo>
                    <a:pt x="23" y="172"/>
                  </a:lnTo>
                  <a:lnTo>
                    <a:pt x="48" y="160"/>
                  </a:lnTo>
                  <a:lnTo>
                    <a:pt x="48" y="172"/>
                  </a:lnTo>
                  <a:lnTo>
                    <a:pt x="71" y="142"/>
                  </a:lnTo>
                  <a:lnTo>
                    <a:pt x="89" y="147"/>
                  </a:lnTo>
                  <a:lnTo>
                    <a:pt x="83" y="142"/>
                  </a:lnTo>
                  <a:lnTo>
                    <a:pt x="83" y="130"/>
                  </a:lnTo>
                  <a:lnTo>
                    <a:pt x="95" y="119"/>
                  </a:lnTo>
                  <a:lnTo>
                    <a:pt x="106" y="119"/>
                  </a:lnTo>
                  <a:lnTo>
                    <a:pt x="106" y="100"/>
                  </a:lnTo>
                  <a:lnTo>
                    <a:pt x="154" y="53"/>
                  </a:lnTo>
                  <a:lnTo>
                    <a:pt x="183" y="19"/>
                  </a:lnTo>
                  <a:lnTo>
                    <a:pt x="231" y="0"/>
                  </a:lnTo>
                  <a:lnTo>
                    <a:pt x="2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66560" y="3071160"/>
              <a:ext cx="37800" cy="15480"/>
            </a:xfrm>
            <a:custGeom>
              <a:avLst/>
              <a:gdLst/>
              <a:ahLst/>
              <a:rect l="l" t="t" r="r" b="b"/>
              <a:pathLst>
                <a:path w="107" h="43">
                  <a:moveTo>
                    <a:pt x="47" y="0"/>
                  </a:moveTo>
                  <a:lnTo>
                    <a:pt x="106" y="30"/>
                  </a:lnTo>
                  <a:lnTo>
                    <a:pt x="106" y="42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8880" y="3128040"/>
              <a:ext cx="28080" cy="3168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72" y="12"/>
                  </a:moveTo>
                  <a:lnTo>
                    <a:pt x="53" y="47"/>
                  </a:lnTo>
                  <a:lnTo>
                    <a:pt x="36" y="59"/>
                  </a:lnTo>
                  <a:lnTo>
                    <a:pt x="12" y="76"/>
                  </a:lnTo>
                  <a:lnTo>
                    <a:pt x="30" y="76"/>
                  </a:lnTo>
                  <a:lnTo>
                    <a:pt x="53" y="59"/>
                  </a:lnTo>
                  <a:lnTo>
                    <a:pt x="42" y="59"/>
                  </a:lnTo>
                  <a:lnTo>
                    <a:pt x="59" y="41"/>
                  </a:lnTo>
                  <a:lnTo>
                    <a:pt x="77" y="64"/>
                  </a:lnTo>
                  <a:lnTo>
                    <a:pt x="0" y="87"/>
                  </a:lnTo>
                  <a:lnTo>
                    <a:pt x="0" y="64"/>
                  </a:lnTo>
                  <a:lnTo>
                    <a:pt x="59" y="0"/>
                  </a:lnTo>
                  <a:lnTo>
                    <a:pt x="72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91760" y="3115440"/>
              <a:ext cx="10800" cy="756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0"/>
                  </a:moveTo>
                  <a:lnTo>
                    <a:pt x="18" y="6"/>
                  </a:lnTo>
                  <a:lnTo>
                    <a:pt x="0" y="23"/>
                  </a:lnTo>
                  <a:lnTo>
                    <a:pt x="3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85480" y="3155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41280" y="3128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44240" y="3128040"/>
              <a:ext cx="41040" cy="2376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29" y="0"/>
                  </a:moveTo>
                  <a:lnTo>
                    <a:pt x="17" y="34"/>
                  </a:lnTo>
                  <a:lnTo>
                    <a:pt x="112" y="34"/>
                  </a:lnTo>
                  <a:lnTo>
                    <a:pt x="64" y="64"/>
                  </a:lnTo>
                  <a:lnTo>
                    <a:pt x="59" y="41"/>
                  </a:lnTo>
                  <a:lnTo>
                    <a:pt x="11" y="34"/>
                  </a:lnTo>
                  <a:lnTo>
                    <a:pt x="0" y="17"/>
                  </a:lnTo>
                  <a:lnTo>
                    <a:pt x="2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10880" y="31424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25280" y="3152160"/>
              <a:ext cx="24840" cy="7560"/>
            </a:xfrm>
            <a:custGeom>
              <a:avLst/>
              <a:gdLst/>
              <a:ahLst/>
              <a:rect l="l" t="t" r="r" b="b"/>
              <a:pathLst>
                <a:path w="71" h="24">
                  <a:moveTo>
                    <a:pt x="70" y="0"/>
                  </a:moveTo>
                  <a:lnTo>
                    <a:pt x="53" y="23"/>
                  </a:lnTo>
                  <a:lnTo>
                    <a:pt x="58" y="12"/>
                  </a:lnTo>
                  <a:lnTo>
                    <a:pt x="0" y="0"/>
                  </a:lnTo>
                  <a:lnTo>
                    <a:pt x="7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80680" y="3128040"/>
              <a:ext cx="1440" cy="61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5" y="0"/>
                  </a:moveTo>
                  <a:lnTo>
                    <a:pt x="0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53640" y="3164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44280" y="3120120"/>
              <a:ext cx="16920" cy="1080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36" y="6"/>
                  </a:moveTo>
                  <a:lnTo>
                    <a:pt x="6" y="30"/>
                  </a:lnTo>
                  <a:lnTo>
                    <a:pt x="0" y="18"/>
                  </a:lnTo>
                  <a:lnTo>
                    <a:pt x="30" y="0"/>
                  </a:lnTo>
                  <a:lnTo>
                    <a:pt x="47" y="0"/>
                  </a:lnTo>
                  <a:lnTo>
                    <a:pt x="36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56880" y="31042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17360" y="31471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66480" y="31838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11040" y="3247200"/>
              <a:ext cx="4320" cy="28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0"/>
                  </a:moveTo>
                  <a:lnTo>
                    <a:pt x="0" y="6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99880" y="3243960"/>
              <a:ext cx="6120" cy="28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7" y="0"/>
                  </a:moveTo>
                  <a:lnTo>
                    <a:pt x="0" y="6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41200" y="3253680"/>
              <a:ext cx="40680" cy="10800"/>
            </a:xfrm>
            <a:custGeom>
              <a:avLst/>
              <a:gdLst/>
              <a:ahLst/>
              <a:rect l="l" t="t" r="r" b="b"/>
              <a:pathLst>
                <a:path w="113" h="30">
                  <a:moveTo>
                    <a:pt x="112" y="0"/>
                  </a:moveTo>
                  <a:lnTo>
                    <a:pt x="0" y="29"/>
                  </a:lnTo>
                  <a:lnTo>
                    <a:pt x="30" y="6"/>
                  </a:lnTo>
                  <a:lnTo>
                    <a:pt x="72" y="11"/>
                  </a:lnTo>
                  <a:lnTo>
                    <a:pt x="1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53800" y="3261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64960" y="32598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41200" y="3261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0040" y="32864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99800" y="3312000"/>
              <a:ext cx="6120" cy="90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6" y="12"/>
                  </a:move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6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79280" y="3367440"/>
              <a:ext cx="5760" cy="10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30"/>
                  </a:moveTo>
                  <a:lnTo>
                    <a:pt x="6" y="24"/>
                  </a:lnTo>
                  <a:lnTo>
                    <a:pt x="6" y="24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11" y="18"/>
                  </a:lnTo>
                  <a:lnTo>
                    <a:pt x="6" y="24"/>
                  </a:lnTo>
                  <a:lnTo>
                    <a:pt x="0" y="3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72800" y="3378600"/>
              <a:ext cx="4320" cy="288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0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1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68120" y="3380400"/>
              <a:ext cx="2880" cy="1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60200" y="3383280"/>
              <a:ext cx="7560" cy="6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6880" y="35182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56880" y="3534120"/>
              <a:ext cx="1440" cy="1404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0" y="0"/>
                  </a:moveTo>
                  <a:lnTo>
                    <a:pt x="5" y="40"/>
                  </a:lnTo>
                  <a:lnTo>
                    <a:pt x="5" y="4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44280" y="3588120"/>
              <a:ext cx="6120" cy="75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0"/>
                  </a:moveTo>
                  <a:lnTo>
                    <a:pt x="0" y="23"/>
                  </a:lnTo>
                  <a:lnTo>
                    <a:pt x="0" y="23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25200" y="3602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8840" y="3494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46000" y="3478680"/>
              <a:ext cx="12240" cy="288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35" y="0"/>
                  </a:moveTo>
                  <a:lnTo>
                    <a:pt x="0" y="6"/>
                  </a:lnTo>
                  <a:lnTo>
                    <a:pt x="3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61760" y="3497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04880" y="35024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58800" y="3521520"/>
              <a:ext cx="10800" cy="756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0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3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58800" y="3528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44760" y="3534120"/>
              <a:ext cx="10440" cy="126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0"/>
                  </a:moveTo>
                  <a:lnTo>
                    <a:pt x="19" y="17"/>
                  </a:lnTo>
                  <a:lnTo>
                    <a:pt x="0" y="35"/>
                  </a:lnTo>
                  <a:lnTo>
                    <a:pt x="12" y="17"/>
                  </a:lnTo>
                  <a:lnTo>
                    <a:pt x="3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4760" y="3548520"/>
              <a:ext cx="1080" cy="23400"/>
            </a:xfrm>
            <a:custGeom>
              <a:avLst/>
              <a:gdLst/>
              <a:ahLst/>
              <a:rect l="l" t="t" r="r" b="b"/>
              <a:pathLst>
                <a:path w="1" h="67">
                  <a:moveTo>
                    <a:pt x="0" y="0"/>
                  </a:moveTo>
                  <a:lnTo>
                    <a:pt x="0" y="25"/>
                  </a:lnTo>
                  <a:lnTo>
                    <a:pt x="0" y="66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20720" y="37292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13960" y="36882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04600" y="37814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19000" y="3881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77680" y="39258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79120" y="3927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9120" y="3929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34640" y="3623040"/>
              <a:ext cx="7560" cy="1728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0" y="29"/>
                  </a:lnTo>
                  <a:lnTo>
                    <a:pt x="19" y="4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33200" y="3602520"/>
              <a:ext cx="4320" cy="1080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0" y="30"/>
                  </a:lnTo>
                  <a:lnTo>
                    <a:pt x="11" y="3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88560" y="3610440"/>
              <a:ext cx="6120" cy="108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0"/>
                  </a:moveTo>
                  <a:lnTo>
                    <a:pt x="18" y="5"/>
                  </a:lnTo>
                  <a:lnTo>
                    <a:pt x="18" y="29"/>
                  </a:lnTo>
                  <a:lnTo>
                    <a:pt x="18" y="23"/>
                  </a:lnTo>
                  <a:lnTo>
                    <a:pt x="0" y="11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82440" y="3591360"/>
              <a:ext cx="12240" cy="1872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18" y="0"/>
                  </a:moveTo>
                  <a:lnTo>
                    <a:pt x="36" y="28"/>
                  </a:lnTo>
                  <a:lnTo>
                    <a:pt x="18" y="53"/>
                  </a:lnTo>
                  <a:lnTo>
                    <a:pt x="0" y="35"/>
                  </a:lnTo>
                  <a:lnTo>
                    <a:pt x="11" y="35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15560" y="3583440"/>
              <a:ext cx="10800" cy="1872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lnTo>
                    <a:pt x="30" y="29"/>
                  </a:lnTo>
                  <a:lnTo>
                    <a:pt x="19" y="52"/>
                  </a:lnTo>
                  <a:lnTo>
                    <a:pt x="25" y="29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98280" y="3556440"/>
              <a:ext cx="15480" cy="20160"/>
            </a:xfrm>
            <a:custGeom>
              <a:avLst/>
              <a:gdLst/>
              <a:ahLst/>
              <a:rect l="l" t="t" r="r" b="b"/>
              <a:pathLst>
                <a:path w="43" h="59">
                  <a:moveTo>
                    <a:pt x="0" y="0"/>
                  </a:moveTo>
                  <a:lnTo>
                    <a:pt x="42" y="23"/>
                  </a:lnTo>
                  <a:lnTo>
                    <a:pt x="30" y="58"/>
                  </a:lnTo>
                  <a:lnTo>
                    <a:pt x="19" y="53"/>
                  </a:lnTo>
                  <a:lnTo>
                    <a:pt x="36" y="1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79200" y="3557880"/>
              <a:ext cx="18720" cy="612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5"/>
                  </a:moveTo>
                  <a:lnTo>
                    <a:pt x="17" y="0"/>
                  </a:lnTo>
                  <a:lnTo>
                    <a:pt x="53" y="0"/>
                  </a:lnTo>
                  <a:lnTo>
                    <a:pt x="12" y="17"/>
                  </a:lnTo>
                  <a:lnTo>
                    <a:pt x="0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58400" y="3673800"/>
              <a:ext cx="12600" cy="75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18"/>
                  </a:moveTo>
                  <a:lnTo>
                    <a:pt x="35" y="0"/>
                  </a:lnTo>
                  <a:lnTo>
                    <a:pt x="23" y="23"/>
                  </a:lnTo>
                  <a:lnTo>
                    <a:pt x="0" y="1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98280" y="3596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749040" y="36169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85400" y="3664440"/>
              <a:ext cx="288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91880" y="3661200"/>
              <a:ext cx="2880" cy="2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7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95120" y="3664440"/>
              <a:ext cx="4320" cy="1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98360" y="3665880"/>
              <a:ext cx="10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52120" y="3634200"/>
              <a:ext cx="195120" cy="72720"/>
            </a:xfrm>
            <a:custGeom>
              <a:avLst/>
              <a:gdLst/>
              <a:ahLst/>
              <a:rect l="l" t="t" r="r" b="b"/>
              <a:pathLst>
                <a:path w="543" h="201">
                  <a:moveTo>
                    <a:pt x="0" y="77"/>
                  </a:moveTo>
                  <a:lnTo>
                    <a:pt x="35" y="71"/>
                  </a:lnTo>
                  <a:lnTo>
                    <a:pt x="29" y="58"/>
                  </a:lnTo>
                  <a:lnTo>
                    <a:pt x="41" y="35"/>
                  </a:lnTo>
                  <a:lnTo>
                    <a:pt x="94" y="13"/>
                  </a:lnTo>
                  <a:lnTo>
                    <a:pt x="206" y="0"/>
                  </a:lnTo>
                  <a:lnTo>
                    <a:pt x="206" y="13"/>
                  </a:lnTo>
                  <a:lnTo>
                    <a:pt x="270" y="18"/>
                  </a:lnTo>
                  <a:lnTo>
                    <a:pt x="294" y="47"/>
                  </a:lnTo>
                  <a:lnTo>
                    <a:pt x="324" y="47"/>
                  </a:lnTo>
                  <a:lnTo>
                    <a:pt x="377" y="77"/>
                  </a:lnTo>
                  <a:lnTo>
                    <a:pt x="389" y="88"/>
                  </a:lnTo>
                  <a:lnTo>
                    <a:pt x="406" y="112"/>
                  </a:lnTo>
                  <a:lnTo>
                    <a:pt x="472" y="130"/>
                  </a:lnTo>
                  <a:lnTo>
                    <a:pt x="465" y="147"/>
                  </a:lnTo>
                  <a:lnTo>
                    <a:pt x="501" y="147"/>
                  </a:lnTo>
                  <a:lnTo>
                    <a:pt x="542" y="183"/>
                  </a:lnTo>
                  <a:lnTo>
                    <a:pt x="489" y="200"/>
                  </a:lnTo>
                  <a:lnTo>
                    <a:pt x="489" y="188"/>
                  </a:lnTo>
                  <a:lnTo>
                    <a:pt x="359" y="200"/>
                  </a:lnTo>
                  <a:lnTo>
                    <a:pt x="370" y="183"/>
                  </a:lnTo>
                  <a:lnTo>
                    <a:pt x="389" y="171"/>
                  </a:lnTo>
                  <a:lnTo>
                    <a:pt x="389" y="153"/>
                  </a:lnTo>
                  <a:lnTo>
                    <a:pt x="342" y="147"/>
                  </a:lnTo>
                  <a:lnTo>
                    <a:pt x="317" y="94"/>
                  </a:lnTo>
                  <a:lnTo>
                    <a:pt x="259" y="94"/>
                  </a:lnTo>
                  <a:lnTo>
                    <a:pt x="230" y="58"/>
                  </a:lnTo>
                  <a:lnTo>
                    <a:pt x="194" y="53"/>
                  </a:lnTo>
                  <a:lnTo>
                    <a:pt x="194" y="71"/>
                  </a:lnTo>
                  <a:lnTo>
                    <a:pt x="164" y="58"/>
                  </a:lnTo>
                  <a:lnTo>
                    <a:pt x="147" y="47"/>
                  </a:lnTo>
                  <a:lnTo>
                    <a:pt x="170" y="41"/>
                  </a:lnTo>
                  <a:lnTo>
                    <a:pt x="164" y="30"/>
                  </a:lnTo>
                  <a:lnTo>
                    <a:pt x="117" y="30"/>
                  </a:lnTo>
                  <a:lnTo>
                    <a:pt x="53" y="58"/>
                  </a:lnTo>
                  <a:lnTo>
                    <a:pt x="23" y="88"/>
                  </a:lnTo>
                  <a:lnTo>
                    <a:pt x="0" y="7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83800" y="3664440"/>
              <a:ext cx="10800" cy="61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6" y="0"/>
                  </a:moveTo>
                  <a:lnTo>
                    <a:pt x="29" y="17"/>
                  </a:lnTo>
                  <a:lnTo>
                    <a:pt x="0" y="17"/>
                  </a:lnTo>
                  <a:lnTo>
                    <a:pt x="12" y="11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72720" y="3648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75960" y="3650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82440" y="36532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82440" y="3656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09360" y="37162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64800" y="3733920"/>
              <a:ext cx="41040" cy="16920"/>
            </a:xfrm>
            <a:custGeom>
              <a:avLst/>
              <a:gdLst/>
              <a:ahLst/>
              <a:rect l="l" t="t" r="r" b="b"/>
              <a:pathLst>
                <a:path w="114" h="48">
                  <a:moveTo>
                    <a:pt x="0" y="17"/>
                  </a:moveTo>
                  <a:lnTo>
                    <a:pt x="24" y="0"/>
                  </a:lnTo>
                  <a:lnTo>
                    <a:pt x="88" y="17"/>
                  </a:lnTo>
                  <a:lnTo>
                    <a:pt x="113" y="35"/>
                  </a:lnTo>
                  <a:lnTo>
                    <a:pt x="65" y="35"/>
                  </a:lnTo>
                  <a:lnTo>
                    <a:pt x="58" y="47"/>
                  </a:lnTo>
                  <a:lnTo>
                    <a:pt x="24" y="35"/>
                  </a:lnTo>
                  <a:lnTo>
                    <a:pt x="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36440" y="3703680"/>
              <a:ext cx="115560" cy="50400"/>
            </a:xfrm>
            <a:custGeom>
              <a:avLst/>
              <a:gdLst/>
              <a:ahLst/>
              <a:rect l="l" t="t" r="r" b="b"/>
              <a:pathLst>
                <a:path w="320" h="142">
                  <a:moveTo>
                    <a:pt x="148" y="11"/>
                  </a:moveTo>
                  <a:lnTo>
                    <a:pt x="189" y="0"/>
                  </a:lnTo>
                  <a:lnTo>
                    <a:pt x="242" y="18"/>
                  </a:lnTo>
                  <a:lnTo>
                    <a:pt x="248" y="41"/>
                  </a:lnTo>
                  <a:lnTo>
                    <a:pt x="283" y="36"/>
                  </a:lnTo>
                  <a:lnTo>
                    <a:pt x="254" y="53"/>
                  </a:lnTo>
                  <a:lnTo>
                    <a:pt x="301" y="59"/>
                  </a:lnTo>
                  <a:lnTo>
                    <a:pt x="319" y="77"/>
                  </a:lnTo>
                  <a:lnTo>
                    <a:pt x="301" y="100"/>
                  </a:lnTo>
                  <a:lnTo>
                    <a:pt x="236" y="88"/>
                  </a:lnTo>
                  <a:lnTo>
                    <a:pt x="207" y="100"/>
                  </a:lnTo>
                  <a:lnTo>
                    <a:pt x="195" y="88"/>
                  </a:lnTo>
                  <a:lnTo>
                    <a:pt x="177" y="94"/>
                  </a:lnTo>
                  <a:lnTo>
                    <a:pt x="153" y="141"/>
                  </a:lnTo>
                  <a:lnTo>
                    <a:pt x="136" y="113"/>
                  </a:lnTo>
                  <a:lnTo>
                    <a:pt x="60" y="100"/>
                  </a:lnTo>
                  <a:lnTo>
                    <a:pt x="30" y="113"/>
                  </a:lnTo>
                  <a:lnTo>
                    <a:pt x="0" y="88"/>
                  </a:lnTo>
                  <a:lnTo>
                    <a:pt x="13" y="77"/>
                  </a:lnTo>
                  <a:lnTo>
                    <a:pt x="113" y="83"/>
                  </a:lnTo>
                  <a:lnTo>
                    <a:pt x="89" y="53"/>
                  </a:lnTo>
                  <a:lnTo>
                    <a:pt x="100" y="30"/>
                  </a:lnTo>
                  <a:lnTo>
                    <a:pt x="60" y="11"/>
                  </a:lnTo>
                  <a:lnTo>
                    <a:pt x="95" y="0"/>
                  </a:lnTo>
                  <a:lnTo>
                    <a:pt x="148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60200" y="3724200"/>
              <a:ext cx="7560" cy="468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0"/>
                  </a:moveTo>
                  <a:lnTo>
                    <a:pt x="17" y="6"/>
                  </a:lnTo>
                  <a:lnTo>
                    <a:pt x="23" y="12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71440" y="3737160"/>
              <a:ext cx="31320" cy="9000"/>
            </a:xfrm>
            <a:custGeom>
              <a:avLst/>
              <a:gdLst/>
              <a:ahLst/>
              <a:rect l="l" t="t" r="r" b="b"/>
              <a:pathLst>
                <a:path w="90" h="25">
                  <a:moveTo>
                    <a:pt x="0" y="0"/>
                  </a:moveTo>
                  <a:lnTo>
                    <a:pt x="89" y="6"/>
                  </a:lnTo>
                  <a:lnTo>
                    <a:pt x="53" y="24"/>
                  </a:lnTo>
                  <a:lnTo>
                    <a:pt x="6" y="2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03120" y="3741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15720" y="3749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12480" y="37371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17160" y="37371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22200" y="37353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47400" y="3738600"/>
              <a:ext cx="4320" cy="288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  <a:lnTo>
                    <a:pt x="0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47400" y="37432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71160" y="3749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71160" y="376236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50640" y="37562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55320" y="376236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61800" y="3768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74400" y="3780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971160" y="3780000"/>
              <a:ext cx="4680" cy="576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18"/>
                  </a:moveTo>
                  <a:lnTo>
                    <a:pt x="0" y="0"/>
                  </a:lnTo>
                  <a:lnTo>
                    <a:pt x="11" y="6"/>
                  </a:lnTo>
                  <a:lnTo>
                    <a:pt x="0" y="1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79080" y="378612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74400" y="3794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79080" y="3811680"/>
              <a:ext cx="6120" cy="90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17" y="6"/>
                  </a:lnTo>
                  <a:lnTo>
                    <a:pt x="17" y="24"/>
                  </a:lnTo>
                  <a:lnTo>
                    <a:pt x="6" y="2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82320" y="38354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77640" y="3846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09320" y="38498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68280" y="38656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87000" y="38862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960000" y="3895920"/>
              <a:ext cx="21960" cy="169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47" y="0"/>
                  </a:moveTo>
                  <a:lnTo>
                    <a:pt x="59" y="0"/>
                  </a:lnTo>
                  <a:lnTo>
                    <a:pt x="53" y="42"/>
                  </a:lnTo>
                  <a:lnTo>
                    <a:pt x="0" y="47"/>
                  </a:lnTo>
                  <a:lnTo>
                    <a:pt x="30" y="36"/>
                  </a:lnTo>
                  <a:lnTo>
                    <a:pt x="17" y="6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15720" y="3889440"/>
              <a:ext cx="10800" cy="61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6"/>
                  </a:moveTo>
                  <a:lnTo>
                    <a:pt x="30" y="0"/>
                  </a:lnTo>
                  <a:lnTo>
                    <a:pt x="25" y="17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98440" y="38941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41200" y="38656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26800" y="38638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0960" y="3857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32960" y="3553200"/>
              <a:ext cx="17280" cy="75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7" y="0"/>
                  </a:moveTo>
                  <a:lnTo>
                    <a:pt x="0" y="23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49080" y="3567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95080" y="3488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15760" y="3686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20360" y="3855960"/>
              <a:ext cx="23400" cy="756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53" y="6"/>
                  </a:moveTo>
                  <a:lnTo>
                    <a:pt x="65" y="11"/>
                  </a:lnTo>
                  <a:lnTo>
                    <a:pt x="53" y="17"/>
                  </a:lnTo>
                  <a:lnTo>
                    <a:pt x="42" y="23"/>
                  </a:lnTo>
                  <a:lnTo>
                    <a:pt x="23" y="23"/>
                  </a:lnTo>
                  <a:lnTo>
                    <a:pt x="12" y="17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9" y="6"/>
                  </a:lnTo>
                  <a:lnTo>
                    <a:pt x="42" y="6"/>
                  </a:lnTo>
                  <a:lnTo>
                    <a:pt x="53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99840" y="3865680"/>
              <a:ext cx="5760" cy="288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8" y="6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04360" y="37656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01480" y="3768840"/>
              <a:ext cx="9000" cy="612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18" y="5"/>
                  </a:lnTo>
                  <a:lnTo>
                    <a:pt x="24" y="1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68000" y="3789360"/>
              <a:ext cx="10800" cy="756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5" y="19"/>
                  </a:moveTo>
                  <a:lnTo>
                    <a:pt x="0" y="12"/>
                  </a:lnTo>
                  <a:lnTo>
                    <a:pt x="5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8" y="19"/>
                  </a:lnTo>
                  <a:lnTo>
                    <a:pt x="11" y="19"/>
                  </a:lnTo>
                  <a:lnTo>
                    <a:pt x="5" y="1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923440" y="38275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23440" y="38354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68000" y="4232160"/>
              <a:ext cx="4320" cy="1044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5" y="30"/>
                  </a:moveTo>
                  <a:lnTo>
                    <a:pt x="0" y="30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2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24"/>
                  </a:lnTo>
                  <a:lnTo>
                    <a:pt x="11" y="30"/>
                  </a:lnTo>
                  <a:lnTo>
                    <a:pt x="5" y="3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60080" y="4249440"/>
              <a:ext cx="9000" cy="1548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12"/>
                  </a:moveTo>
                  <a:lnTo>
                    <a:pt x="5" y="36"/>
                  </a:lnTo>
                  <a:lnTo>
                    <a:pt x="24" y="42"/>
                  </a:lnTo>
                  <a:lnTo>
                    <a:pt x="5" y="0"/>
                  </a:lnTo>
                  <a:lnTo>
                    <a:pt x="0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34600" y="4370040"/>
              <a:ext cx="4320" cy="1080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11" y="30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41080" y="4387680"/>
              <a:ext cx="4320" cy="288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66440" y="4224240"/>
              <a:ext cx="1080" cy="576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68080" y="4397040"/>
              <a:ext cx="2880" cy="28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50440" y="4387680"/>
              <a:ext cx="6120" cy="43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0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23440" y="4381200"/>
              <a:ext cx="144360" cy="291600"/>
            </a:xfrm>
            <a:custGeom>
              <a:avLst/>
              <a:gdLst/>
              <a:ahLst/>
              <a:rect l="l" t="t" r="r" b="b"/>
              <a:pathLst>
                <a:path w="402" h="812">
                  <a:moveTo>
                    <a:pt x="0" y="588"/>
                  </a:moveTo>
                  <a:lnTo>
                    <a:pt x="29" y="546"/>
                  </a:lnTo>
                  <a:lnTo>
                    <a:pt x="70" y="475"/>
                  </a:lnTo>
                  <a:lnTo>
                    <a:pt x="53" y="334"/>
                  </a:lnTo>
                  <a:lnTo>
                    <a:pt x="82" y="252"/>
                  </a:lnTo>
                  <a:lnTo>
                    <a:pt x="123" y="234"/>
                  </a:lnTo>
                  <a:lnTo>
                    <a:pt x="140" y="247"/>
                  </a:lnTo>
                  <a:lnTo>
                    <a:pt x="147" y="228"/>
                  </a:lnTo>
                  <a:lnTo>
                    <a:pt x="170" y="223"/>
                  </a:lnTo>
                  <a:lnTo>
                    <a:pt x="188" y="240"/>
                  </a:lnTo>
                  <a:lnTo>
                    <a:pt x="182" y="217"/>
                  </a:lnTo>
                  <a:lnTo>
                    <a:pt x="212" y="193"/>
                  </a:lnTo>
                  <a:lnTo>
                    <a:pt x="212" y="211"/>
                  </a:lnTo>
                  <a:lnTo>
                    <a:pt x="229" y="205"/>
                  </a:lnTo>
                  <a:lnTo>
                    <a:pt x="218" y="193"/>
                  </a:lnTo>
                  <a:lnTo>
                    <a:pt x="242" y="164"/>
                  </a:lnTo>
                  <a:lnTo>
                    <a:pt x="242" y="187"/>
                  </a:lnTo>
                  <a:lnTo>
                    <a:pt x="259" y="158"/>
                  </a:lnTo>
                  <a:lnTo>
                    <a:pt x="271" y="170"/>
                  </a:lnTo>
                  <a:lnTo>
                    <a:pt x="253" y="147"/>
                  </a:lnTo>
                  <a:lnTo>
                    <a:pt x="265" y="128"/>
                  </a:lnTo>
                  <a:lnTo>
                    <a:pt x="271" y="140"/>
                  </a:lnTo>
                  <a:lnTo>
                    <a:pt x="265" y="100"/>
                  </a:lnTo>
                  <a:lnTo>
                    <a:pt x="288" y="111"/>
                  </a:lnTo>
                  <a:lnTo>
                    <a:pt x="312" y="87"/>
                  </a:lnTo>
                  <a:lnTo>
                    <a:pt x="324" y="53"/>
                  </a:lnTo>
                  <a:lnTo>
                    <a:pt x="312" y="28"/>
                  </a:lnTo>
                  <a:lnTo>
                    <a:pt x="342" y="0"/>
                  </a:lnTo>
                  <a:lnTo>
                    <a:pt x="342" y="17"/>
                  </a:lnTo>
                  <a:lnTo>
                    <a:pt x="377" y="64"/>
                  </a:lnTo>
                  <a:lnTo>
                    <a:pt x="401" y="200"/>
                  </a:lnTo>
                  <a:lnTo>
                    <a:pt x="382" y="240"/>
                  </a:lnTo>
                  <a:lnTo>
                    <a:pt x="365" y="205"/>
                  </a:lnTo>
                  <a:lnTo>
                    <a:pt x="354" y="211"/>
                  </a:lnTo>
                  <a:lnTo>
                    <a:pt x="359" y="294"/>
                  </a:lnTo>
                  <a:lnTo>
                    <a:pt x="335" y="317"/>
                  </a:lnTo>
                  <a:lnTo>
                    <a:pt x="335" y="370"/>
                  </a:lnTo>
                  <a:lnTo>
                    <a:pt x="295" y="481"/>
                  </a:lnTo>
                  <a:lnTo>
                    <a:pt x="282" y="494"/>
                  </a:lnTo>
                  <a:lnTo>
                    <a:pt x="276" y="511"/>
                  </a:lnTo>
                  <a:lnTo>
                    <a:pt x="271" y="522"/>
                  </a:lnTo>
                  <a:lnTo>
                    <a:pt x="271" y="534"/>
                  </a:lnTo>
                  <a:lnTo>
                    <a:pt x="259" y="569"/>
                  </a:lnTo>
                  <a:lnTo>
                    <a:pt x="248" y="599"/>
                  </a:lnTo>
                  <a:lnTo>
                    <a:pt x="242" y="605"/>
                  </a:lnTo>
                  <a:lnTo>
                    <a:pt x="182" y="775"/>
                  </a:lnTo>
                  <a:lnTo>
                    <a:pt x="76" y="811"/>
                  </a:lnTo>
                  <a:lnTo>
                    <a:pt x="23" y="769"/>
                  </a:lnTo>
                  <a:lnTo>
                    <a:pt x="11" y="734"/>
                  </a:lnTo>
                  <a:lnTo>
                    <a:pt x="17" y="688"/>
                  </a:lnTo>
                  <a:lnTo>
                    <a:pt x="0" y="646"/>
                  </a:lnTo>
                  <a:lnTo>
                    <a:pt x="0" y="58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45920" y="4569840"/>
              <a:ext cx="10800" cy="108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5" y="6"/>
                  </a:moveTo>
                  <a:lnTo>
                    <a:pt x="25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24"/>
                  </a:lnTo>
                  <a:lnTo>
                    <a:pt x="19" y="30"/>
                  </a:lnTo>
                  <a:lnTo>
                    <a:pt x="25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18"/>
                  </a:lnTo>
                  <a:lnTo>
                    <a:pt x="30" y="13"/>
                  </a:lnTo>
                  <a:lnTo>
                    <a:pt x="25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185520" y="4551120"/>
              <a:ext cx="9000" cy="108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6"/>
                  </a:moveTo>
                  <a:lnTo>
                    <a:pt x="19" y="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7" y="12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24" y="12"/>
                  </a:lnTo>
                  <a:lnTo>
                    <a:pt x="24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98200" y="4546440"/>
              <a:ext cx="288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93560" y="36388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95000" y="36406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95000" y="3642120"/>
              <a:ext cx="6120" cy="17280"/>
            </a:xfrm>
            <a:custGeom>
              <a:avLst/>
              <a:gdLst/>
              <a:ahLst/>
              <a:rect l="l" t="t" r="r" b="b"/>
              <a:pathLst>
                <a:path w="19" h="48">
                  <a:moveTo>
                    <a:pt x="6" y="0"/>
                  </a:moveTo>
                  <a:lnTo>
                    <a:pt x="18" y="23"/>
                  </a:lnTo>
                  <a:lnTo>
                    <a:pt x="12" y="47"/>
                  </a:lnTo>
                  <a:lnTo>
                    <a:pt x="6" y="47"/>
                  </a:lnTo>
                  <a:lnTo>
                    <a:pt x="6" y="23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06160" y="3648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12640" y="36468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20560" y="36612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23440" y="36658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48640" y="37004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56560" y="37036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63040" y="37116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63040" y="37242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88240" y="37814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42240" y="3776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63120" y="38512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64560" y="38638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58080" y="38656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61320" y="38689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69240" y="3875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69240" y="38815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63120" y="38829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61320" y="38782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64560" y="3900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67800" y="3911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67800" y="39132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01280" y="39243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1280" y="39196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69240" y="39528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74280" y="39528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83640" y="39639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96240" y="3983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01280" y="3989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07400" y="4010040"/>
              <a:ext cx="2880" cy="4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77240" y="4097520"/>
              <a:ext cx="4320" cy="28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0"/>
                  </a:moveTo>
                  <a:lnTo>
                    <a:pt x="0" y="6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71120" y="3905280"/>
              <a:ext cx="4320" cy="108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6" y="0"/>
                  </a:moveTo>
                  <a:lnTo>
                    <a:pt x="13" y="6"/>
                  </a:lnTo>
                  <a:lnTo>
                    <a:pt x="13" y="29"/>
                  </a:ln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20400" y="3916440"/>
              <a:ext cx="42480" cy="82080"/>
            </a:xfrm>
            <a:custGeom>
              <a:avLst/>
              <a:gdLst/>
              <a:ahLst/>
              <a:rect l="l" t="t" r="r" b="b"/>
              <a:pathLst>
                <a:path w="118" h="231">
                  <a:moveTo>
                    <a:pt x="11" y="135"/>
                  </a:moveTo>
                  <a:lnTo>
                    <a:pt x="23" y="212"/>
                  </a:lnTo>
                  <a:lnTo>
                    <a:pt x="47" y="230"/>
                  </a:lnTo>
                  <a:lnTo>
                    <a:pt x="112" y="200"/>
                  </a:lnTo>
                  <a:lnTo>
                    <a:pt x="117" y="153"/>
                  </a:lnTo>
                  <a:lnTo>
                    <a:pt x="76" y="83"/>
                  </a:lnTo>
                  <a:lnTo>
                    <a:pt x="59" y="35"/>
                  </a:lnTo>
                  <a:lnTo>
                    <a:pt x="29" y="0"/>
                  </a:lnTo>
                  <a:lnTo>
                    <a:pt x="41" y="18"/>
                  </a:lnTo>
                  <a:lnTo>
                    <a:pt x="11" y="6"/>
                  </a:lnTo>
                  <a:lnTo>
                    <a:pt x="47" y="24"/>
                  </a:lnTo>
                  <a:lnTo>
                    <a:pt x="17" y="30"/>
                  </a:lnTo>
                  <a:lnTo>
                    <a:pt x="11" y="112"/>
                  </a:lnTo>
                  <a:lnTo>
                    <a:pt x="0" y="94"/>
                  </a:lnTo>
                  <a:lnTo>
                    <a:pt x="11" y="13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60000" y="396396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6560" y="3838680"/>
              <a:ext cx="9360" cy="43920"/>
            </a:xfrm>
            <a:custGeom>
              <a:avLst/>
              <a:gdLst/>
              <a:ahLst/>
              <a:rect l="l" t="t" r="r" b="b"/>
              <a:pathLst>
                <a:path w="25" h="124">
                  <a:moveTo>
                    <a:pt x="24" y="0"/>
                  </a:moveTo>
                  <a:lnTo>
                    <a:pt x="12" y="123"/>
                  </a:lnTo>
                  <a:lnTo>
                    <a:pt x="0" y="100"/>
                  </a:lnTo>
                  <a:lnTo>
                    <a:pt x="12" y="11"/>
                  </a:lnTo>
                  <a:lnTo>
                    <a:pt x="2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55120" y="3895920"/>
              <a:ext cx="4320" cy="576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6"/>
                  </a:moveTo>
                  <a:lnTo>
                    <a:pt x="12" y="18"/>
                  </a:lnTo>
                  <a:lnTo>
                    <a:pt x="0" y="18"/>
                  </a:lnTo>
                  <a:lnTo>
                    <a:pt x="12" y="0"/>
                  </a:lnTo>
                  <a:lnTo>
                    <a:pt x="12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66280" y="3929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80320" y="39448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70960" y="39481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80320" y="39513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80320" y="39578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878880" y="3954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82120" y="3975120"/>
              <a:ext cx="4320" cy="75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2" y="0"/>
                  </a:moveTo>
                  <a:lnTo>
                    <a:pt x="12" y="23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85360" y="39672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5720" y="5277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52080" y="51249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964840" y="5105880"/>
              <a:ext cx="288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88600" y="5112360"/>
              <a:ext cx="288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98320" y="5112360"/>
              <a:ext cx="252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  <a:lnTo>
                    <a:pt x="0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52120" y="5158440"/>
              <a:ext cx="31320" cy="23400"/>
            </a:xfrm>
            <a:custGeom>
              <a:avLst/>
              <a:gdLst/>
              <a:ahLst/>
              <a:rect l="l" t="t" r="r" b="b"/>
              <a:pathLst>
                <a:path w="90" h="65">
                  <a:moveTo>
                    <a:pt x="59" y="64"/>
                  </a:moveTo>
                  <a:lnTo>
                    <a:pt x="48" y="58"/>
                  </a:lnTo>
                  <a:lnTo>
                    <a:pt x="48" y="58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42" y="53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24" y="53"/>
                  </a:lnTo>
                  <a:lnTo>
                    <a:pt x="24" y="47"/>
                  </a:lnTo>
                  <a:lnTo>
                    <a:pt x="24" y="53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9" y="58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6" y="64"/>
                  </a:lnTo>
                  <a:lnTo>
                    <a:pt x="0" y="64"/>
                  </a:lnTo>
                  <a:lnTo>
                    <a:pt x="6" y="47"/>
                  </a:lnTo>
                  <a:lnTo>
                    <a:pt x="12" y="47"/>
                  </a:lnTo>
                  <a:lnTo>
                    <a:pt x="12" y="29"/>
                  </a:lnTo>
                  <a:lnTo>
                    <a:pt x="12" y="29"/>
                  </a:lnTo>
                  <a:lnTo>
                    <a:pt x="19" y="29"/>
                  </a:lnTo>
                  <a:lnTo>
                    <a:pt x="12" y="29"/>
                  </a:lnTo>
                  <a:lnTo>
                    <a:pt x="12" y="23"/>
                  </a:lnTo>
                  <a:lnTo>
                    <a:pt x="19" y="17"/>
                  </a:lnTo>
                  <a:lnTo>
                    <a:pt x="19" y="11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24" y="17"/>
                  </a:lnTo>
                  <a:lnTo>
                    <a:pt x="24" y="11"/>
                  </a:lnTo>
                  <a:lnTo>
                    <a:pt x="30" y="11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0" y="17"/>
                  </a:lnTo>
                  <a:lnTo>
                    <a:pt x="24" y="23"/>
                  </a:lnTo>
                  <a:lnTo>
                    <a:pt x="24" y="23"/>
                  </a:lnTo>
                  <a:lnTo>
                    <a:pt x="24" y="29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8" y="17"/>
                  </a:lnTo>
                  <a:lnTo>
                    <a:pt x="53" y="17"/>
                  </a:lnTo>
                  <a:lnTo>
                    <a:pt x="48" y="23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42" y="34"/>
                  </a:lnTo>
                  <a:lnTo>
                    <a:pt x="48" y="34"/>
                  </a:lnTo>
                  <a:lnTo>
                    <a:pt x="42" y="34"/>
                  </a:lnTo>
                  <a:lnTo>
                    <a:pt x="48" y="40"/>
                  </a:lnTo>
                  <a:lnTo>
                    <a:pt x="72" y="29"/>
                  </a:lnTo>
                  <a:lnTo>
                    <a:pt x="72" y="29"/>
                  </a:lnTo>
                  <a:lnTo>
                    <a:pt x="77" y="29"/>
                  </a:lnTo>
                  <a:lnTo>
                    <a:pt x="83" y="23"/>
                  </a:lnTo>
                  <a:lnTo>
                    <a:pt x="89" y="23"/>
                  </a:lnTo>
                  <a:lnTo>
                    <a:pt x="89" y="23"/>
                  </a:lnTo>
                  <a:lnTo>
                    <a:pt x="83" y="40"/>
                  </a:lnTo>
                  <a:lnTo>
                    <a:pt x="77" y="40"/>
                  </a:lnTo>
                  <a:lnTo>
                    <a:pt x="83" y="47"/>
                  </a:lnTo>
                  <a:lnTo>
                    <a:pt x="72" y="40"/>
                  </a:lnTo>
                  <a:lnTo>
                    <a:pt x="59" y="40"/>
                  </a:lnTo>
                  <a:lnTo>
                    <a:pt x="53" y="40"/>
                  </a:lnTo>
                  <a:lnTo>
                    <a:pt x="48" y="40"/>
                  </a:lnTo>
                  <a:lnTo>
                    <a:pt x="48" y="53"/>
                  </a:lnTo>
                  <a:lnTo>
                    <a:pt x="59" y="53"/>
                  </a:lnTo>
                  <a:lnTo>
                    <a:pt x="72" y="53"/>
                  </a:lnTo>
                  <a:lnTo>
                    <a:pt x="59" y="6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63280" y="5167800"/>
              <a:ext cx="288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83960" y="49348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296760" y="5248800"/>
              <a:ext cx="7560" cy="43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17" y="6"/>
                  </a:lnTo>
                  <a:lnTo>
                    <a:pt x="17" y="6"/>
                  </a:lnTo>
                  <a:lnTo>
                    <a:pt x="23" y="6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5" y="11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16880" y="2882160"/>
              <a:ext cx="17280" cy="12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17" y="35"/>
                  </a:moveTo>
                  <a:lnTo>
                    <a:pt x="47" y="17"/>
                  </a:lnTo>
                  <a:lnTo>
                    <a:pt x="24" y="0"/>
                  </a:lnTo>
                  <a:lnTo>
                    <a:pt x="0" y="11"/>
                  </a:lnTo>
                  <a:lnTo>
                    <a:pt x="17" y="3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31360" y="2958480"/>
              <a:ext cx="26640" cy="1548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17" y="0"/>
                  </a:moveTo>
                  <a:lnTo>
                    <a:pt x="0" y="6"/>
                  </a:lnTo>
                  <a:lnTo>
                    <a:pt x="76" y="41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62960" y="3052080"/>
              <a:ext cx="7560" cy="1548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0" y="41"/>
                  </a:moveTo>
                  <a:lnTo>
                    <a:pt x="23" y="29"/>
                  </a:lnTo>
                  <a:lnTo>
                    <a:pt x="0" y="0"/>
                  </a:lnTo>
                  <a:lnTo>
                    <a:pt x="0" y="4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61520" y="3126600"/>
              <a:ext cx="1080" cy="75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0" y="23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41000" y="3145680"/>
              <a:ext cx="5760" cy="12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35"/>
                  </a:moveTo>
                  <a:lnTo>
                    <a:pt x="18" y="0"/>
                  </a:lnTo>
                  <a:lnTo>
                    <a:pt x="0" y="3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16880" y="3160080"/>
              <a:ext cx="15840" cy="23400"/>
            </a:xfrm>
            <a:custGeom>
              <a:avLst/>
              <a:gdLst/>
              <a:ahLst/>
              <a:rect l="l" t="t" r="r" b="b"/>
              <a:pathLst>
                <a:path w="43" h="67">
                  <a:moveTo>
                    <a:pt x="42" y="0"/>
                  </a:moveTo>
                  <a:lnTo>
                    <a:pt x="6" y="30"/>
                  </a:lnTo>
                  <a:lnTo>
                    <a:pt x="0" y="66"/>
                  </a:lnTo>
                  <a:lnTo>
                    <a:pt x="0" y="7"/>
                  </a:lnTo>
                  <a:lnTo>
                    <a:pt x="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98160" y="3180600"/>
              <a:ext cx="10440" cy="1692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2" y="0"/>
                  </a:moveTo>
                  <a:lnTo>
                    <a:pt x="30" y="6"/>
                  </a:lnTo>
                  <a:lnTo>
                    <a:pt x="12" y="47"/>
                  </a:lnTo>
                  <a:lnTo>
                    <a:pt x="0" y="41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90000" y="2961360"/>
              <a:ext cx="12240" cy="1260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6" y="30"/>
                  </a:moveTo>
                  <a:lnTo>
                    <a:pt x="29" y="35"/>
                  </a:lnTo>
                  <a:lnTo>
                    <a:pt x="35" y="11"/>
                  </a:lnTo>
                  <a:lnTo>
                    <a:pt x="0" y="0"/>
                  </a:lnTo>
                  <a:lnTo>
                    <a:pt x="6" y="3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78920" y="2977200"/>
              <a:ext cx="155160" cy="174600"/>
            </a:xfrm>
            <a:custGeom>
              <a:avLst/>
              <a:gdLst/>
              <a:ahLst/>
              <a:rect l="l" t="t" r="r" b="b"/>
              <a:pathLst>
                <a:path w="431" h="483">
                  <a:moveTo>
                    <a:pt x="35" y="71"/>
                  </a:moveTo>
                  <a:lnTo>
                    <a:pt x="89" y="141"/>
                  </a:lnTo>
                  <a:lnTo>
                    <a:pt x="153" y="188"/>
                  </a:lnTo>
                  <a:lnTo>
                    <a:pt x="242" y="318"/>
                  </a:lnTo>
                  <a:lnTo>
                    <a:pt x="289" y="365"/>
                  </a:lnTo>
                  <a:lnTo>
                    <a:pt x="330" y="447"/>
                  </a:lnTo>
                  <a:lnTo>
                    <a:pt x="371" y="482"/>
                  </a:lnTo>
                  <a:lnTo>
                    <a:pt x="360" y="435"/>
                  </a:lnTo>
                  <a:lnTo>
                    <a:pt x="401" y="447"/>
                  </a:lnTo>
                  <a:lnTo>
                    <a:pt x="430" y="477"/>
                  </a:lnTo>
                  <a:lnTo>
                    <a:pt x="424" y="459"/>
                  </a:lnTo>
                  <a:lnTo>
                    <a:pt x="395" y="430"/>
                  </a:lnTo>
                  <a:lnTo>
                    <a:pt x="384" y="430"/>
                  </a:lnTo>
                  <a:lnTo>
                    <a:pt x="312" y="377"/>
                  </a:lnTo>
                  <a:lnTo>
                    <a:pt x="301" y="365"/>
                  </a:lnTo>
                  <a:lnTo>
                    <a:pt x="301" y="358"/>
                  </a:lnTo>
                  <a:lnTo>
                    <a:pt x="289" y="330"/>
                  </a:lnTo>
                  <a:lnTo>
                    <a:pt x="282" y="312"/>
                  </a:lnTo>
                  <a:lnTo>
                    <a:pt x="277" y="300"/>
                  </a:lnTo>
                  <a:lnTo>
                    <a:pt x="301" y="288"/>
                  </a:lnTo>
                  <a:lnTo>
                    <a:pt x="277" y="282"/>
                  </a:lnTo>
                  <a:lnTo>
                    <a:pt x="324" y="294"/>
                  </a:lnTo>
                  <a:lnTo>
                    <a:pt x="377" y="330"/>
                  </a:lnTo>
                  <a:lnTo>
                    <a:pt x="176" y="158"/>
                  </a:lnTo>
                  <a:lnTo>
                    <a:pt x="42" y="18"/>
                  </a:lnTo>
                  <a:lnTo>
                    <a:pt x="12" y="0"/>
                  </a:lnTo>
                  <a:lnTo>
                    <a:pt x="0" y="6"/>
                  </a:lnTo>
                  <a:lnTo>
                    <a:pt x="17" y="18"/>
                  </a:lnTo>
                  <a:lnTo>
                    <a:pt x="59" y="47"/>
                  </a:lnTo>
                  <a:lnTo>
                    <a:pt x="23" y="58"/>
                  </a:lnTo>
                  <a:lnTo>
                    <a:pt x="35" y="7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12120" y="3160080"/>
              <a:ext cx="98280" cy="85320"/>
            </a:xfrm>
            <a:custGeom>
              <a:avLst/>
              <a:gdLst/>
              <a:ahLst/>
              <a:rect l="l" t="t" r="r" b="b"/>
              <a:pathLst>
                <a:path w="273" h="237">
                  <a:moveTo>
                    <a:pt x="6" y="0"/>
                  </a:moveTo>
                  <a:lnTo>
                    <a:pt x="147" y="83"/>
                  </a:lnTo>
                  <a:lnTo>
                    <a:pt x="200" y="95"/>
                  </a:lnTo>
                  <a:lnTo>
                    <a:pt x="206" y="83"/>
                  </a:lnTo>
                  <a:lnTo>
                    <a:pt x="213" y="72"/>
                  </a:lnTo>
                  <a:lnTo>
                    <a:pt x="248" y="130"/>
                  </a:lnTo>
                  <a:lnTo>
                    <a:pt x="272" y="124"/>
                  </a:lnTo>
                  <a:lnTo>
                    <a:pt x="248" y="147"/>
                  </a:lnTo>
                  <a:lnTo>
                    <a:pt x="206" y="154"/>
                  </a:lnTo>
                  <a:lnTo>
                    <a:pt x="206" y="213"/>
                  </a:lnTo>
                  <a:lnTo>
                    <a:pt x="113" y="171"/>
                  </a:lnTo>
                  <a:lnTo>
                    <a:pt x="83" y="189"/>
                  </a:lnTo>
                  <a:lnTo>
                    <a:pt x="47" y="171"/>
                  </a:lnTo>
                  <a:lnTo>
                    <a:pt x="53" y="189"/>
                  </a:lnTo>
                  <a:lnTo>
                    <a:pt x="113" y="219"/>
                  </a:lnTo>
                  <a:lnTo>
                    <a:pt x="71" y="236"/>
                  </a:lnTo>
                  <a:lnTo>
                    <a:pt x="18" y="171"/>
                  </a:lnTo>
                  <a:lnTo>
                    <a:pt x="36" y="147"/>
                  </a:lnTo>
                  <a:lnTo>
                    <a:pt x="18" y="124"/>
                  </a:lnTo>
                  <a:lnTo>
                    <a:pt x="59" y="142"/>
                  </a:lnTo>
                  <a:lnTo>
                    <a:pt x="66" y="130"/>
                  </a:lnTo>
                  <a:lnTo>
                    <a:pt x="36" y="54"/>
                  </a:lnTo>
                  <a:lnTo>
                    <a:pt x="0" y="19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55240" y="3242520"/>
              <a:ext cx="163080" cy="174240"/>
            </a:xfrm>
            <a:custGeom>
              <a:avLst/>
              <a:gdLst/>
              <a:ahLst/>
              <a:rect l="l" t="t" r="r" b="b"/>
              <a:pathLst>
                <a:path w="455" h="484">
                  <a:moveTo>
                    <a:pt x="283" y="6"/>
                  </a:moveTo>
                  <a:lnTo>
                    <a:pt x="301" y="12"/>
                  </a:lnTo>
                  <a:lnTo>
                    <a:pt x="325" y="59"/>
                  </a:lnTo>
                  <a:lnTo>
                    <a:pt x="389" y="118"/>
                  </a:lnTo>
                  <a:lnTo>
                    <a:pt x="389" y="171"/>
                  </a:lnTo>
                  <a:lnTo>
                    <a:pt x="407" y="194"/>
                  </a:lnTo>
                  <a:lnTo>
                    <a:pt x="384" y="200"/>
                  </a:lnTo>
                  <a:lnTo>
                    <a:pt x="419" y="259"/>
                  </a:lnTo>
                  <a:lnTo>
                    <a:pt x="419" y="311"/>
                  </a:lnTo>
                  <a:lnTo>
                    <a:pt x="454" y="347"/>
                  </a:lnTo>
                  <a:lnTo>
                    <a:pt x="442" y="377"/>
                  </a:lnTo>
                  <a:lnTo>
                    <a:pt x="425" y="394"/>
                  </a:lnTo>
                  <a:lnTo>
                    <a:pt x="419" y="377"/>
                  </a:lnTo>
                  <a:lnTo>
                    <a:pt x="407" y="347"/>
                  </a:lnTo>
                  <a:lnTo>
                    <a:pt x="412" y="377"/>
                  </a:lnTo>
                  <a:lnTo>
                    <a:pt x="384" y="371"/>
                  </a:lnTo>
                  <a:lnTo>
                    <a:pt x="384" y="412"/>
                  </a:lnTo>
                  <a:lnTo>
                    <a:pt x="365" y="383"/>
                  </a:lnTo>
                  <a:lnTo>
                    <a:pt x="354" y="412"/>
                  </a:lnTo>
                  <a:lnTo>
                    <a:pt x="295" y="412"/>
                  </a:lnTo>
                  <a:lnTo>
                    <a:pt x="306" y="406"/>
                  </a:lnTo>
                  <a:lnTo>
                    <a:pt x="283" y="394"/>
                  </a:lnTo>
                  <a:lnTo>
                    <a:pt x="283" y="400"/>
                  </a:lnTo>
                  <a:lnTo>
                    <a:pt x="272" y="383"/>
                  </a:lnTo>
                  <a:lnTo>
                    <a:pt x="265" y="406"/>
                  </a:lnTo>
                  <a:lnTo>
                    <a:pt x="295" y="430"/>
                  </a:lnTo>
                  <a:lnTo>
                    <a:pt x="272" y="435"/>
                  </a:lnTo>
                  <a:lnTo>
                    <a:pt x="265" y="483"/>
                  </a:lnTo>
                  <a:lnTo>
                    <a:pt x="218" y="453"/>
                  </a:lnTo>
                  <a:lnTo>
                    <a:pt x="206" y="430"/>
                  </a:lnTo>
                  <a:lnTo>
                    <a:pt x="206" y="406"/>
                  </a:lnTo>
                  <a:lnTo>
                    <a:pt x="153" y="406"/>
                  </a:lnTo>
                  <a:lnTo>
                    <a:pt x="106" y="430"/>
                  </a:lnTo>
                  <a:lnTo>
                    <a:pt x="83" y="435"/>
                  </a:lnTo>
                  <a:lnTo>
                    <a:pt x="70" y="424"/>
                  </a:lnTo>
                  <a:lnTo>
                    <a:pt x="70" y="458"/>
                  </a:lnTo>
                  <a:lnTo>
                    <a:pt x="47" y="441"/>
                  </a:lnTo>
                  <a:lnTo>
                    <a:pt x="6" y="453"/>
                  </a:lnTo>
                  <a:lnTo>
                    <a:pt x="0" y="424"/>
                  </a:lnTo>
                  <a:lnTo>
                    <a:pt x="24" y="424"/>
                  </a:lnTo>
                  <a:lnTo>
                    <a:pt x="70" y="353"/>
                  </a:lnTo>
                  <a:lnTo>
                    <a:pt x="189" y="358"/>
                  </a:lnTo>
                  <a:lnTo>
                    <a:pt x="206" y="358"/>
                  </a:lnTo>
                  <a:lnTo>
                    <a:pt x="206" y="330"/>
                  </a:lnTo>
                  <a:lnTo>
                    <a:pt x="218" y="283"/>
                  </a:lnTo>
                  <a:lnTo>
                    <a:pt x="200" y="247"/>
                  </a:lnTo>
                  <a:lnTo>
                    <a:pt x="230" y="241"/>
                  </a:lnTo>
                  <a:lnTo>
                    <a:pt x="218" y="265"/>
                  </a:lnTo>
                  <a:lnTo>
                    <a:pt x="242" y="283"/>
                  </a:lnTo>
                  <a:lnTo>
                    <a:pt x="289" y="247"/>
                  </a:lnTo>
                  <a:lnTo>
                    <a:pt x="306" y="200"/>
                  </a:lnTo>
                  <a:lnTo>
                    <a:pt x="295" y="130"/>
                  </a:lnTo>
                  <a:lnTo>
                    <a:pt x="283" y="106"/>
                  </a:lnTo>
                  <a:lnTo>
                    <a:pt x="265" y="94"/>
                  </a:lnTo>
                  <a:lnTo>
                    <a:pt x="272" y="83"/>
                  </a:lnTo>
                  <a:lnTo>
                    <a:pt x="248" y="59"/>
                  </a:lnTo>
                  <a:lnTo>
                    <a:pt x="259" y="47"/>
                  </a:lnTo>
                  <a:lnTo>
                    <a:pt x="248" y="18"/>
                  </a:lnTo>
                  <a:lnTo>
                    <a:pt x="283" y="41"/>
                  </a:lnTo>
                  <a:lnTo>
                    <a:pt x="301" y="41"/>
                  </a:lnTo>
                  <a:lnTo>
                    <a:pt x="295" y="18"/>
                  </a:lnTo>
                  <a:lnTo>
                    <a:pt x="272" y="24"/>
                  </a:lnTo>
                  <a:lnTo>
                    <a:pt x="265" y="0"/>
                  </a:lnTo>
                  <a:lnTo>
                    <a:pt x="283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23280" y="3389760"/>
              <a:ext cx="4680" cy="612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11" y="18"/>
                  </a:lnTo>
                  <a:lnTo>
                    <a:pt x="0" y="18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83680" y="3394440"/>
              <a:ext cx="44280" cy="36360"/>
            </a:xfrm>
            <a:custGeom>
              <a:avLst/>
              <a:gdLst/>
              <a:ahLst/>
              <a:rect l="l" t="t" r="r" b="b"/>
              <a:pathLst>
                <a:path w="124" h="101">
                  <a:moveTo>
                    <a:pt x="112" y="17"/>
                  </a:moveTo>
                  <a:lnTo>
                    <a:pt x="123" y="34"/>
                  </a:lnTo>
                  <a:lnTo>
                    <a:pt x="112" y="70"/>
                  </a:lnTo>
                  <a:lnTo>
                    <a:pt x="82" y="53"/>
                  </a:lnTo>
                  <a:lnTo>
                    <a:pt x="65" y="70"/>
                  </a:lnTo>
                  <a:lnTo>
                    <a:pt x="71" y="100"/>
                  </a:lnTo>
                  <a:lnTo>
                    <a:pt x="35" y="88"/>
                  </a:lnTo>
                  <a:lnTo>
                    <a:pt x="18" y="53"/>
                  </a:lnTo>
                  <a:lnTo>
                    <a:pt x="0" y="64"/>
                  </a:lnTo>
                  <a:lnTo>
                    <a:pt x="29" y="17"/>
                  </a:lnTo>
                  <a:lnTo>
                    <a:pt x="65" y="23"/>
                  </a:lnTo>
                  <a:lnTo>
                    <a:pt x="82" y="0"/>
                  </a:lnTo>
                  <a:lnTo>
                    <a:pt x="112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40840" y="3402360"/>
              <a:ext cx="48960" cy="63360"/>
            </a:xfrm>
            <a:custGeom>
              <a:avLst/>
              <a:gdLst/>
              <a:ahLst/>
              <a:rect l="l" t="t" r="r" b="b"/>
              <a:pathLst>
                <a:path w="137" h="178">
                  <a:moveTo>
                    <a:pt x="124" y="88"/>
                  </a:moveTo>
                  <a:lnTo>
                    <a:pt x="136" y="65"/>
                  </a:lnTo>
                  <a:lnTo>
                    <a:pt x="118" y="41"/>
                  </a:lnTo>
                  <a:lnTo>
                    <a:pt x="100" y="41"/>
                  </a:lnTo>
                  <a:lnTo>
                    <a:pt x="94" y="18"/>
                  </a:lnTo>
                  <a:lnTo>
                    <a:pt x="65" y="18"/>
                  </a:lnTo>
                  <a:lnTo>
                    <a:pt x="53" y="0"/>
                  </a:lnTo>
                  <a:lnTo>
                    <a:pt x="11" y="30"/>
                  </a:lnTo>
                  <a:lnTo>
                    <a:pt x="11" y="41"/>
                  </a:lnTo>
                  <a:lnTo>
                    <a:pt x="0" y="36"/>
                  </a:lnTo>
                  <a:lnTo>
                    <a:pt x="35" y="71"/>
                  </a:lnTo>
                  <a:lnTo>
                    <a:pt x="11" y="53"/>
                  </a:lnTo>
                  <a:lnTo>
                    <a:pt x="18" y="71"/>
                  </a:lnTo>
                  <a:lnTo>
                    <a:pt x="30" y="83"/>
                  </a:lnTo>
                  <a:lnTo>
                    <a:pt x="53" y="77"/>
                  </a:lnTo>
                  <a:lnTo>
                    <a:pt x="35" y="65"/>
                  </a:lnTo>
                  <a:lnTo>
                    <a:pt x="35" y="47"/>
                  </a:lnTo>
                  <a:lnTo>
                    <a:pt x="65" y="71"/>
                  </a:lnTo>
                  <a:lnTo>
                    <a:pt x="71" y="83"/>
                  </a:lnTo>
                  <a:lnTo>
                    <a:pt x="77" y="141"/>
                  </a:lnTo>
                  <a:lnTo>
                    <a:pt x="71" y="153"/>
                  </a:lnTo>
                  <a:lnTo>
                    <a:pt x="100" y="171"/>
                  </a:lnTo>
                  <a:lnTo>
                    <a:pt x="94" y="153"/>
                  </a:lnTo>
                  <a:lnTo>
                    <a:pt x="94" y="135"/>
                  </a:lnTo>
                  <a:lnTo>
                    <a:pt x="106" y="153"/>
                  </a:lnTo>
                  <a:lnTo>
                    <a:pt x="111" y="177"/>
                  </a:lnTo>
                  <a:lnTo>
                    <a:pt x="118" y="153"/>
                  </a:lnTo>
                  <a:lnTo>
                    <a:pt x="136" y="153"/>
                  </a:lnTo>
                  <a:lnTo>
                    <a:pt x="124" y="8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47040" y="3312000"/>
              <a:ext cx="7920" cy="10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6" y="0"/>
                  </a:moveTo>
                  <a:lnTo>
                    <a:pt x="19" y="12"/>
                  </a:lnTo>
                  <a:lnTo>
                    <a:pt x="6" y="30"/>
                  </a:ln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79000" y="33516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25000" y="3388320"/>
              <a:ext cx="2880" cy="90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6" y="2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28240" y="33991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439400" y="3405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40840" y="34182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434360" y="34214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28240" y="34279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459920" y="3434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55240" y="3434040"/>
              <a:ext cx="4320" cy="46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2"/>
                  </a:moveTo>
                  <a:lnTo>
                    <a:pt x="12" y="0"/>
                  </a:lnTo>
                  <a:lnTo>
                    <a:pt x="0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90160" y="3470760"/>
              <a:ext cx="1080" cy="1080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3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80440" y="34786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72520" y="3520080"/>
              <a:ext cx="756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18" y="23"/>
                  </a:lnTo>
                  <a:lnTo>
                    <a:pt x="0" y="17"/>
                  </a:lnTo>
                  <a:lnTo>
                    <a:pt x="2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59920" y="3556440"/>
              <a:ext cx="6120" cy="17280"/>
            </a:xfrm>
            <a:custGeom>
              <a:avLst/>
              <a:gdLst/>
              <a:ahLst/>
              <a:rect l="l" t="t" r="r" b="b"/>
              <a:pathLst>
                <a:path w="19" h="48">
                  <a:moveTo>
                    <a:pt x="18" y="0"/>
                  </a:moveTo>
                  <a:lnTo>
                    <a:pt x="0" y="47"/>
                  </a:lnTo>
                  <a:lnTo>
                    <a:pt x="5" y="11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23560" y="3597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4480" y="36090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98000" y="36090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20200" y="3551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23440" y="35596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8760" y="3602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72440" y="3393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96560" y="33832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10600" y="3381840"/>
              <a:ext cx="1440" cy="612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82160" y="3413520"/>
              <a:ext cx="10800" cy="61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3" y="0"/>
                  </a:moveTo>
                  <a:lnTo>
                    <a:pt x="29" y="11"/>
                  </a:lnTo>
                  <a:lnTo>
                    <a:pt x="0" y="17"/>
                  </a:lnTo>
                  <a:lnTo>
                    <a:pt x="2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36080" y="3592800"/>
              <a:ext cx="28080" cy="68040"/>
            </a:xfrm>
            <a:custGeom>
              <a:avLst/>
              <a:gdLst/>
              <a:ahLst/>
              <a:rect l="l" t="t" r="r" b="b"/>
              <a:pathLst>
                <a:path w="78" h="190">
                  <a:moveTo>
                    <a:pt x="35" y="0"/>
                  </a:moveTo>
                  <a:lnTo>
                    <a:pt x="77" y="6"/>
                  </a:lnTo>
                  <a:lnTo>
                    <a:pt x="52" y="189"/>
                  </a:lnTo>
                  <a:lnTo>
                    <a:pt x="0" y="125"/>
                  </a:lnTo>
                  <a:lnTo>
                    <a:pt x="0" y="89"/>
                  </a:lnTo>
                  <a:lnTo>
                    <a:pt x="3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26640" y="3653280"/>
              <a:ext cx="4320" cy="1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0"/>
                  </a:move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31320" y="3653280"/>
              <a:ext cx="1080" cy="1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40960" y="3699000"/>
              <a:ext cx="43920" cy="42480"/>
            </a:xfrm>
            <a:custGeom>
              <a:avLst/>
              <a:gdLst/>
              <a:ahLst/>
              <a:rect l="l" t="t" r="r" b="b"/>
              <a:pathLst>
                <a:path w="125" h="118">
                  <a:moveTo>
                    <a:pt x="41" y="11"/>
                  </a:moveTo>
                  <a:lnTo>
                    <a:pt x="94" y="11"/>
                  </a:lnTo>
                  <a:lnTo>
                    <a:pt x="100" y="0"/>
                  </a:lnTo>
                  <a:lnTo>
                    <a:pt x="113" y="11"/>
                  </a:lnTo>
                  <a:lnTo>
                    <a:pt x="124" y="29"/>
                  </a:lnTo>
                  <a:lnTo>
                    <a:pt x="94" y="58"/>
                  </a:lnTo>
                  <a:lnTo>
                    <a:pt x="100" y="82"/>
                  </a:lnTo>
                  <a:lnTo>
                    <a:pt x="60" y="117"/>
                  </a:lnTo>
                  <a:lnTo>
                    <a:pt x="13" y="94"/>
                  </a:lnTo>
                  <a:lnTo>
                    <a:pt x="0" y="47"/>
                  </a:lnTo>
                  <a:lnTo>
                    <a:pt x="41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58400" y="3733920"/>
              <a:ext cx="91440" cy="126720"/>
            </a:xfrm>
            <a:custGeom>
              <a:avLst/>
              <a:gdLst/>
              <a:ahLst/>
              <a:rect l="l" t="t" r="r" b="b"/>
              <a:pathLst>
                <a:path w="255" h="353">
                  <a:moveTo>
                    <a:pt x="112" y="5"/>
                  </a:moveTo>
                  <a:lnTo>
                    <a:pt x="112" y="58"/>
                  </a:lnTo>
                  <a:lnTo>
                    <a:pt x="135" y="88"/>
                  </a:lnTo>
                  <a:lnTo>
                    <a:pt x="129" y="135"/>
                  </a:lnTo>
                  <a:lnTo>
                    <a:pt x="124" y="135"/>
                  </a:lnTo>
                  <a:lnTo>
                    <a:pt x="101" y="152"/>
                  </a:lnTo>
                  <a:lnTo>
                    <a:pt x="94" y="194"/>
                  </a:lnTo>
                  <a:lnTo>
                    <a:pt x="129" y="270"/>
                  </a:lnTo>
                  <a:lnTo>
                    <a:pt x="148" y="270"/>
                  </a:lnTo>
                  <a:lnTo>
                    <a:pt x="141" y="258"/>
                  </a:lnTo>
                  <a:lnTo>
                    <a:pt x="159" y="247"/>
                  </a:lnTo>
                  <a:lnTo>
                    <a:pt x="182" y="264"/>
                  </a:lnTo>
                  <a:lnTo>
                    <a:pt x="194" y="282"/>
                  </a:lnTo>
                  <a:lnTo>
                    <a:pt x="201" y="264"/>
                  </a:lnTo>
                  <a:lnTo>
                    <a:pt x="235" y="282"/>
                  </a:lnTo>
                  <a:lnTo>
                    <a:pt x="212" y="294"/>
                  </a:lnTo>
                  <a:lnTo>
                    <a:pt x="230" y="322"/>
                  </a:lnTo>
                  <a:lnTo>
                    <a:pt x="254" y="322"/>
                  </a:lnTo>
                  <a:lnTo>
                    <a:pt x="248" y="352"/>
                  </a:lnTo>
                  <a:lnTo>
                    <a:pt x="235" y="335"/>
                  </a:lnTo>
                  <a:lnTo>
                    <a:pt x="241" y="329"/>
                  </a:lnTo>
                  <a:lnTo>
                    <a:pt x="207" y="322"/>
                  </a:lnTo>
                  <a:lnTo>
                    <a:pt x="194" y="300"/>
                  </a:lnTo>
                  <a:lnTo>
                    <a:pt x="159" y="270"/>
                  </a:lnTo>
                  <a:lnTo>
                    <a:pt x="171" y="317"/>
                  </a:lnTo>
                  <a:lnTo>
                    <a:pt x="118" y="270"/>
                  </a:lnTo>
                  <a:lnTo>
                    <a:pt x="101" y="294"/>
                  </a:lnTo>
                  <a:lnTo>
                    <a:pt x="76" y="277"/>
                  </a:lnTo>
                  <a:lnTo>
                    <a:pt x="65" y="282"/>
                  </a:lnTo>
                  <a:lnTo>
                    <a:pt x="59" y="252"/>
                  </a:lnTo>
                  <a:lnTo>
                    <a:pt x="76" y="235"/>
                  </a:lnTo>
                  <a:lnTo>
                    <a:pt x="53" y="217"/>
                  </a:lnTo>
                  <a:lnTo>
                    <a:pt x="53" y="241"/>
                  </a:lnTo>
                  <a:lnTo>
                    <a:pt x="29" y="223"/>
                  </a:lnTo>
                  <a:lnTo>
                    <a:pt x="0" y="129"/>
                  </a:lnTo>
                  <a:lnTo>
                    <a:pt x="23" y="147"/>
                  </a:lnTo>
                  <a:lnTo>
                    <a:pt x="35" y="135"/>
                  </a:lnTo>
                  <a:lnTo>
                    <a:pt x="18" y="58"/>
                  </a:lnTo>
                  <a:lnTo>
                    <a:pt x="23" y="0"/>
                  </a:lnTo>
                  <a:lnTo>
                    <a:pt x="112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47320" y="3827520"/>
              <a:ext cx="4320" cy="1080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12" y="24"/>
                  </a:lnTo>
                  <a:lnTo>
                    <a:pt x="0" y="3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32920" y="3859200"/>
              <a:ext cx="16920" cy="17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0"/>
                  </a:moveTo>
                  <a:lnTo>
                    <a:pt x="34" y="24"/>
                  </a:lnTo>
                  <a:lnTo>
                    <a:pt x="47" y="47"/>
                  </a:lnTo>
                  <a:lnTo>
                    <a:pt x="17" y="24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77480" y="3838680"/>
              <a:ext cx="21600" cy="2664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0" y="0"/>
                  </a:moveTo>
                  <a:lnTo>
                    <a:pt x="29" y="0"/>
                  </a:lnTo>
                  <a:lnTo>
                    <a:pt x="59" y="23"/>
                  </a:lnTo>
                  <a:lnTo>
                    <a:pt x="59" y="70"/>
                  </a:lnTo>
                  <a:lnTo>
                    <a:pt x="41" y="7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52000" y="3859200"/>
              <a:ext cx="29880" cy="31320"/>
            </a:xfrm>
            <a:custGeom>
              <a:avLst/>
              <a:gdLst/>
              <a:ahLst/>
              <a:rect l="l" t="t" r="r" b="b"/>
              <a:pathLst>
                <a:path w="82" h="90">
                  <a:moveTo>
                    <a:pt x="0" y="0"/>
                  </a:moveTo>
                  <a:lnTo>
                    <a:pt x="53" y="6"/>
                  </a:lnTo>
                  <a:lnTo>
                    <a:pt x="64" y="59"/>
                  </a:lnTo>
                  <a:lnTo>
                    <a:pt x="81" y="89"/>
                  </a:lnTo>
                  <a:lnTo>
                    <a:pt x="41" y="77"/>
                  </a:lnTo>
                  <a:lnTo>
                    <a:pt x="35" y="65"/>
                  </a:lnTo>
                  <a:lnTo>
                    <a:pt x="47" y="47"/>
                  </a:lnTo>
                  <a:lnTo>
                    <a:pt x="28" y="36"/>
                  </a:lnTo>
                  <a:lnTo>
                    <a:pt x="11" y="2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55240" y="3881520"/>
              <a:ext cx="18720" cy="31320"/>
            </a:xfrm>
            <a:custGeom>
              <a:avLst/>
              <a:gdLst/>
              <a:ahLst/>
              <a:rect l="l" t="t" r="r" b="b"/>
              <a:pathLst>
                <a:path w="54" h="89">
                  <a:moveTo>
                    <a:pt x="0" y="0"/>
                  </a:moveTo>
                  <a:lnTo>
                    <a:pt x="30" y="13"/>
                  </a:lnTo>
                  <a:lnTo>
                    <a:pt x="53" y="77"/>
                  </a:lnTo>
                  <a:lnTo>
                    <a:pt x="36" y="77"/>
                  </a:lnTo>
                  <a:lnTo>
                    <a:pt x="42" y="88"/>
                  </a:lnTo>
                  <a:lnTo>
                    <a:pt x="24" y="77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13840" y="3919680"/>
              <a:ext cx="88560" cy="88560"/>
            </a:xfrm>
            <a:custGeom>
              <a:avLst/>
              <a:gdLst/>
              <a:ahLst/>
              <a:rect l="l" t="t" r="r" b="b"/>
              <a:pathLst>
                <a:path w="248" h="248">
                  <a:moveTo>
                    <a:pt x="182" y="0"/>
                  </a:moveTo>
                  <a:lnTo>
                    <a:pt x="223" y="29"/>
                  </a:lnTo>
                  <a:lnTo>
                    <a:pt x="229" y="54"/>
                  </a:lnTo>
                  <a:lnTo>
                    <a:pt x="217" y="71"/>
                  </a:lnTo>
                  <a:lnTo>
                    <a:pt x="235" y="77"/>
                  </a:lnTo>
                  <a:lnTo>
                    <a:pt x="247" y="147"/>
                  </a:lnTo>
                  <a:lnTo>
                    <a:pt x="235" y="177"/>
                  </a:lnTo>
                  <a:lnTo>
                    <a:pt x="229" y="171"/>
                  </a:lnTo>
                  <a:lnTo>
                    <a:pt x="229" y="206"/>
                  </a:lnTo>
                  <a:lnTo>
                    <a:pt x="206" y="141"/>
                  </a:lnTo>
                  <a:lnTo>
                    <a:pt x="200" y="147"/>
                  </a:lnTo>
                  <a:lnTo>
                    <a:pt x="187" y="182"/>
                  </a:lnTo>
                  <a:lnTo>
                    <a:pt x="206" y="218"/>
                  </a:lnTo>
                  <a:lnTo>
                    <a:pt x="187" y="247"/>
                  </a:lnTo>
                  <a:lnTo>
                    <a:pt x="182" y="218"/>
                  </a:lnTo>
                  <a:lnTo>
                    <a:pt x="170" y="229"/>
                  </a:lnTo>
                  <a:lnTo>
                    <a:pt x="141" y="218"/>
                  </a:lnTo>
                  <a:lnTo>
                    <a:pt x="117" y="201"/>
                  </a:lnTo>
                  <a:lnTo>
                    <a:pt x="111" y="165"/>
                  </a:lnTo>
                  <a:lnTo>
                    <a:pt x="123" y="141"/>
                  </a:lnTo>
                  <a:lnTo>
                    <a:pt x="94" y="112"/>
                  </a:lnTo>
                  <a:lnTo>
                    <a:pt x="81" y="118"/>
                  </a:lnTo>
                  <a:lnTo>
                    <a:pt x="81" y="141"/>
                  </a:lnTo>
                  <a:lnTo>
                    <a:pt x="64" y="118"/>
                  </a:lnTo>
                  <a:lnTo>
                    <a:pt x="53" y="135"/>
                  </a:lnTo>
                  <a:lnTo>
                    <a:pt x="40" y="118"/>
                  </a:lnTo>
                  <a:lnTo>
                    <a:pt x="17" y="171"/>
                  </a:lnTo>
                  <a:lnTo>
                    <a:pt x="0" y="159"/>
                  </a:lnTo>
                  <a:lnTo>
                    <a:pt x="17" y="106"/>
                  </a:lnTo>
                  <a:lnTo>
                    <a:pt x="53" y="94"/>
                  </a:lnTo>
                  <a:lnTo>
                    <a:pt x="76" y="59"/>
                  </a:lnTo>
                  <a:lnTo>
                    <a:pt x="100" y="77"/>
                  </a:lnTo>
                  <a:lnTo>
                    <a:pt x="94" y="106"/>
                  </a:lnTo>
                  <a:lnTo>
                    <a:pt x="123" y="94"/>
                  </a:lnTo>
                  <a:lnTo>
                    <a:pt x="129" y="65"/>
                  </a:lnTo>
                  <a:lnTo>
                    <a:pt x="147" y="77"/>
                  </a:lnTo>
                  <a:lnTo>
                    <a:pt x="147" y="41"/>
                  </a:lnTo>
                  <a:lnTo>
                    <a:pt x="164" y="54"/>
                  </a:lnTo>
                  <a:lnTo>
                    <a:pt x="170" y="41"/>
                  </a:lnTo>
                  <a:lnTo>
                    <a:pt x="187" y="47"/>
                  </a:lnTo>
                  <a:lnTo>
                    <a:pt x="18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13840" y="3983040"/>
              <a:ext cx="10800" cy="612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11" y="0"/>
                  </a:moveTo>
                  <a:lnTo>
                    <a:pt x="28" y="5"/>
                  </a:lnTo>
                  <a:lnTo>
                    <a:pt x="17" y="17"/>
                  </a:lnTo>
                  <a:lnTo>
                    <a:pt x="0" y="11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47320" y="3911760"/>
              <a:ext cx="13680" cy="75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29" y="5"/>
                  </a:moveTo>
                  <a:lnTo>
                    <a:pt x="40" y="23"/>
                  </a:lnTo>
                  <a:lnTo>
                    <a:pt x="0" y="23"/>
                  </a:lnTo>
                  <a:lnTo>
                    <a:pt x="17" y="0"/>
                  </a:lnTo>
                  <a:lnTo>
                    <a:pt x="29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39400" y="3888000"/>
              <a:ext cx="10440" cy="37440"/>
            </a:xfrm>
            <a:custGeom>
              <a:avLst/>
              <a:gdLst/>
              <a:ahLst/>
              <a:rect l="l" t="t" r="r" b="b"/>
              <a:pathLst>
                <a:path w="31" h="107">
                  <a:moveTo>
                    <a:pt x="30" y="0"/>
                  </a:moveTo>
                  <a:lnTo>
                    <a:pt x="30" y="53"/>
                  </a:lnTo>
                  <a:lnTo>
                    <a:pt x="0" y="106"/>
                  </a:lnTo>
                  <a:lnTo>
                    <a:pt x="3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21760" y="3895920"/>
              <a:ext cx="18720" cy="37800"/>
            </a:xfrm>
            <a:custGeom>
              <a:avLst/>
              <a:gdLst/>
              <a:ahLst/>
              <a:rect l="l" t="t" r="r" b="b"/>
              <a:pathLst>
                <a:path w="54" h="107">
                  <a:moveTo>
                    <a:pt x="53" y="0"/>
                  </a:moveTo>
                  <a:lnTo>
                    <a:pt x="35" y="59"/>
                  </a:lnTo>
                  <a:lnTo>
                    <a:pt x="41" y="106"/>
                  </a:lnTo>
                  <a:lnTo>
                    <a:pt x="30" y="106"/>
                  </a:lnTo>
                  <a:lnTo>
                    <a:pt x="0" y="59"/>
                  </a:lnTo>
                  <a:lnTo>
                    <a:pt x="17" y="47"/>
                  </a:lnTo>
                  <a:lnTo>
                    <a:pt x="24" y="0"/>
                  </a:lnTo>
                  <a:lnTo>
                    <a:pt x="5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10600" y="3875040"/>
              <a:ext cx="21960" cy="29880"/>
            </a:xfrm>
            <a:custGeom>
              <a:avLst/>
              <a:gdLst/>
              <a:ahLst/>
              <a:rect l="l" t="t" r="r" b="b"/>
              <a:pathLst>
                <a:path w="60" h="83">
                  <a:moveTo>
                    <a:pt x="0" y="0"/>
                  </a:moveTo>
                  <a:lnTo>
                    <a:pt x="46" y="23"/>
                  </a:lnTo>
                  <a:lnTo>
                    <a:pt x="59" y="23"/>
                  </a:lnTo>
                  <a:lnTo>
                    <a:pt x="40" y="64"/>
                  </a:lnTo>
                  <a:lnTo>
                    <a:pt x="0" y="82"/>
                  </a:lnTo>
                  <a:lnTo>
                    <a:pt x="6" y="11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71000" y="3863880"/>
              <a:ext cx="9000" cy="9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4" y="18"/>
                  </a:lnTo>
                  <a:lnTo>
                    <a:pt x="11" y="2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24920" y="3886200"/>
              <a:ext cx="44280" cy="63360"/>
            </a:xfrm>
            <a:custGeom>
              <a:avLst/>
              <a:gdLst/>
              <a:ahLst/>
              <a:rect l="l" t="t" r="r" b="b"/>
              <a:pathLst>
                <a:path w="124" h="176">
                  <a:moveTo>
                    <a:pt x="112" y="0"/>
                  </a:moveTo>
                  <a:lnTo>
                    <a:pt x="123" y="52"/>
                  </a:lnTo>
                  <a:lnTo>
                    <a:pt x="76" y="81"/>
                  </a:lnTo>
                  <a:lnTo>
                    <a:pt x="64" y="122"/>
                  </a:lnTo>
                  <a:lnTo>
                    <a:pt x="0" y="175"/>
                  </a:lnTo>
                  <a:lnTo>
                    <a:pt x="100" y="52"/>
                  </a:lnTo>
                  <a:lnTo>
                    <a:pt x="100" y="23"/>
                  </a:lnTo>
                  <a:lnTo>
                    <a:pt x="112" y="34"/>
                  </a:lnTo>
                  <a:lnTo>
                    <a:pt x="1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175880" y="3978360"/>
              <a:ext cx="191520" cy="239400"/>
            </a:xfrm>
            <a:custGeom>
              <a:avLst/>
              <a:gdLst/>
              <a:ahLst/>
              <a:rect l="l" t="t" r="r" b="b"/>
              <a:pathLst>
                <a:path w="532" h="665">
                  <a:moveTo>
                    <a:pt x="449" y="164"/>
                  </a:moveTo>
                  <a:lnTo>
                    <a:pt x="449" y="147"/>
                  </a:lnTo>
                  <a:lnTo>
                    <a:pt x="467" y="159"/>
                  </a:lnTo>
                  <a:lnTo>
                    <a:pt x="496" y="153"/>
                  </a:lnTo>
                  <a:lnTo>
                    <a:pt x="473" y="123"/>
                  </a:lnTo>
                  <a:lnTo>
                    <a:pt x="520" y="111"/>
                  </a:lnTo>
                  <a:lnTo>
                    <a:pt x="531" y="94"/>
                  </a:lnTo>
                  <a:lnTo>
                    <a:pt x="484" y="64"/>
                  </a:lnTo>
                  <a:lnTo>
                    <a:pt x="461" y="76"/>
                  </a:lnTo>
                  <a:lnTo>
                    <a:pt x="467" y="53"/>
                  </a:lnTo>
                  <a:lnTo>
                    <a:pt x="437" y="64"/>
                  </a:lnTo>
                  <a:lnTo>
                    <a:pt x="449" y="29"/>
                  </a:lnTo>
                  <a:lnTo>
                    <a:pt x="425" y="17"/>
                  </a:lnTo>
                  <a:lnTo>
                    <a:pt x="420" y="0"/>
                  </a:lnTo>
                  <a:lnTo>
                    <a:pt x="401" y="23"/>
                  </a:lnTo>
                  <a:lnTo>
                    <a:pt x="396" y="0"/>
                  </a:lnTo>
                  <a:lnTo>
                    <a:pt x="354" y="82"/>
                  </a:lnTo>
                  <a:lnTo>
                    <a:pt x="331" y="94"/>
                  </a:lnTo>
                  <a:lnTo>
                    <a:pt x="337" y="111"/>
                  </a:lnTo>
                  <a:lnTo>
                    <a:pt x="319" y="123"/>
                  </a:lnTo>
                  <a:lnTo>
                    <a:pt x="314" y="123"/>
                  </a:lnTo>
                  <a:lnTo>
                    <a:pt x="314" y="123"/>
                  </a:lnTo>
                  <a:lnTo>
                    <a:pt x="314" y="111"/>
                  </a:lnTo>
                  <a:lnTo>
                    <a:pt x="261" y="141"/>
                  </a:lnTo>
                  <a:lnTo>
                    <a:pt x="214" y="223"/>
                  </a:lnTo>
                  <a:lnTo>
                    <a:pt x="189" y="229"/>
                  </a:lnTo>
                  <a:lnTo>
                    <a:pt x="166" y="241"/>
                  </a:lnTo>
                  <a:lnTo>
                    <a:pt x="159" y="241"/>
                  </a:lnTo>
                  <a:lnTo>
                    <a:pt x="131" y="253"/>
                  </a:lnTo>
                  <a:lnTo>
                    <a:pt x="136" y="270"/>
                  </a:lnTo>
                  <a:lnTo>
                    <a:pt x="119" y="270"/>
                  </a:lnTo>
                  <a:lnTo>
                    <a:pt x="131" y="283"/>
                  </a:lnTo>
                  <a:lnTo>
                    <a:pt x="113" y="306"/>
                  </a:lnTo>
                  <a:lnTo>
                    <a:pt x="125" y="317"/>
                  </a:lnTo>
                  <a:lnTo>
                    <a:pt x="113" y="317"/>
                  </a:lnTo>
                  <a:lnTo>
                    <a:pt x="131" y="329"/>
                  </a:lnTo>
                  <a:lnTo>
                    <a:pt x="95" y="323"/>
                  </a:lnTo>
                  <a:lnTo>
                    <a:pt x="78" y="306"/>
                  </a:lnTo>
                  <a:lnTo>
                    <a:pt x="53" y="311"/>
                  </a:lnTo>
                  <a:lnTo>
                    <a:pt x="36" y="288"/>
                  </a:lnTo>
                  <a:lnTo>
                    <a:pt x="6" y="323"/>
                  </a:lnTo>
                  <a:lnTo>
                    <a:pt x="6" y="341"/>
                  </a:lnTo>
                  <a:lnTo>
                    <a:pt x="19" y="329"/>
                  </a:lnTo>
                  <a:lnTo>
                    <a:pt x="0" y="364"/>
                  </a:lnTo>
                  <a:lnTo>
                    <a:pt x="6" y="394"/>
                  </a:lnTo>
                  <a:lnTo>
                    <a:pt x="30" y="411"/>
                  </a:lnTo>
                  <a:lnTo>
                    <a:pt x="19" y="441"/>
                  </a:lnTo>
                  <a:lnTo>
                    <a:pt x="36" y="458"/>
                  </a:lnTo>
                  <a:lnTo>
                    <a:pt x="25" y="464"/>
                  </a:lnTo>
                  <a:lnTo>
                    <a:pt x="48" y="464"/>
                  </a:lnTo>
                  <a:lnTo>
                    <a:pt x="59" y="494"/>
                  </a:lnTo>
                  <a:lnTo>
                    <a:pt x="53" y="523"/>
                  </a:lnTo>
                  <a:lnTo>
                    <a:pt x="72" y="564"/>
                  </a:lnTo>
                  <a:lnTo>
                    <a:pt x="66" y="594"/>
                  </a:lnTo>
                  <a:lnTo>
                    <a:pt x="89" y="600"/>
                  </a:lnTo>
                  <a:lnTo>
                    <a:pt x="136" y="594"/>
                  </a:lnTo>
                  <a:lnTo>
                    <a:pt x="148" y="577"/>
                  </a:lnTo>
                  <a:lnTo>
                    <a:pt x="148" y="594"/>
                  </a:lnTo>
                  <a:lnTo>
                    <a:pt x="148" y="629"/>
                  </a:lnTo>
                  <a:lnTo>
                    <a:pt x="172" y="611"/>
                  </a:lnTo>
                  <a:lnTo>
                    <a:pt x="189" y="617"/>
                  </a:lnTo>
                  <a:lnTo>
                    <a:pt x="214" y="588"/>
                  </a:lnTo>
                  <a:lnTo>
                    <a:pt x="231" y="611"/>
                  </a:lnTo>
                  <a:lnTo>
                    <a:pt x="242" y="605"/>
                  </a:lnTo>
                  <a:lnTo>
                    <a:pt x="242" y="623"/>
                  </a:lnTo>
                  <a:lnTo>
                    <a:pt x="267" y="605"/>
                  </a:lnTo>
                  <a:lnTo>
                    <a:pt x="272" y="617"/>
                  </a:lnTo>
                  <a:lnTo>
                    <a:pt x="284" y="623"/>
                  </a:lnTo>
                  <a:lnTo>
                    <a:pt x="290" y="611"/>
                  </a:lnTo>
                  <a:lnTo>
                    <a:pt x="295" y="664"/>
                  </a:lnTo>
                  <a:lnTo>
                    <a:pt x="367" y="623"/>
                  </a:lnTo>
                  <a:lnTo>
                    <a:pt x="384" y="600"/>
                  </a:lnTo>
                  <a:lnTo>
                    <a:pt x="378" y="582"/>
                  </a:lnTo>
                  <a:lnTo>
                    <a:pt x="378" y="594"/>
                  </a:lnTo>
                  <a:lnTo>
                    <a:pt x="390" y="582"/>
                  </a:lnTo>
                  <a:lnTo>
                    <a:pt x="384" y="564"/>
                  </a:lnTo>
                  <a:lnTo>
                    <a:pt x="401" y="547"/>
                  </a:lnTo>
                  <a:lnTo>
                    <a:pt x="384" y="541"/>
                  </a:lnTo>
                  <a:lnTo>
                    <a:pt x="396" y="523"/>
                  </a:lnTo>
                  <a:lnTo>
                    <a:pt x="384" y="523"/>
                  </a:lnTo>
                  <a:lnTo>
                    <a:pt x="414" y="494"/>
                  </a:lnTo>
                  <a:lnTo>
                    <a:pt x="414" y="476"/>
                  </a:lnTo>
                  <a:lnTo>
                    <a:pt x="414" y="488"/>
                  </a:lnTo>
                  <a:lnTo>
                    <a:pt x="461" y="458"/>
                  </a:lnTo>
                  <a:lnTo>
                    <a:pt x="461" y="441"/>
                  </a:lnTo>
                  <a:lnTo>
                    <a:pt x="454" y="405"/>
                  </a:lnTo>
                  <a:lnTo>
                    <a:pt x="467" y="370"/>
                  </a:lnTo>
                  <a:lnTo>
                    <a:pt x="484" y="364"/>
                  </a:lnTo>
                  <a:lnTo>
                    <a:pt x="473" y="347"/>
                  </a:lnTo>
                  <a:lnTo>
                    <a:pt x="501" y="364"/>
                  </a:lnTo>
                  <a:lnTo>
                    <a:pt x="531" y="353"/>
                  </a:lnTo>
                  <a:lnTo>
                    <a:pt x="461" y="294"/>
                  </a:lnTo>
                  <a:lnTo>
                    <a:pt x="478" y="276"/>
                  </a:lnTo>
                  <a:lnTo>
                    <a:pt x="454" y="229"/>
                  </a:lnTo>
                  <a:lnTo>
                    <a:pt x="431" y="223"/>
                  </a:lnTo>
                  <a:lnTo>
                    <a:pt x="443" y="206"/>
                  </a:lnTo>
                  <a:lnTo>
                    <a:pt x="420" y="200"/>
                  </a:lnTo>
                  <a:lnTo>
                    <a:pt x="443" y="200"/>
                  </a:lnTo>
                  <a:lnTo>
                    <a:pt x="461" y="194"/>
                  </a:lnTo>
                  <a:lnTo>
                    <a:pt x="437" y="170"/>
                  </a:lnTo>
                  <a:lnTo>
                    <a:pt x="449" y="16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13800" y="4008600"/>
              <a:ext cx="205920" cy="245520"/>
            </a:xfrm>
            <a:custGeom>
              <a:avLst/>
              <a:gdLst/>
              <a:ahLst/>
              <a:rect l="l" t="t" r="r" b="b"/>
              <a:pathLst>
                <a:path w="572" h="683">
                  <a:moveTo>
                    <a:pt x="0" y="0"/>
                  </a:moveTo>
                  <a:lnTo>
                    <a:pt x="59" y="18"/>
                  </a:lnTo>
                  <a:lnTo>
                    <a:pt x="117" y="18"/>
                  </a:lnTo>
                  <a:lnTo>
                    <a:pt x="159" y="65"/>
                  </a:lnTo>
                  <a:lnTo>
                    <a:pt x="159" y="88"/>
                  </a:lnTo>
                  <a:lnTo>
                    <a:pt x="241" y="141"/>
                  </a:lnTo>
                  <a:lnTo>
                    <a:pt x="253" y="176"/>
                  </a:lnTo>
                  <a:lnTo>
                    <a:pt x="271" y="176"/>
                  </a:lnTo>
                  <a:lnTo>
                    <a:pt x="306" y="224"/>
                  </a:lnTo>
                  <a:lnTo>
                    <a:pt x="301" y="194"/>
                  </a:lnTo>
                  <a:lnTo>
                    <a:pt x="371" y="247"/>
                  </a:lnTo>
                  <a:lnTo>
                    <a:pt x="388" y="282"/>
                  </a:lnTo>
                  <a:lnTo>
                    <a:pt x="418" y="288"/>
                  </a:lnTo>
                  <a:lnTo>
                    <a:pt x="424" y="306"/>
                  </a:lnTo>
                  <a:lnTo>
                    <a:pt x="388" y="318"/>
                  </a:lnTo>
                  <a:lnTo>
                    <a:pt x="435" y="301"/>
                  </a:lnTo>
                  <a:lnTo>
                    <a:pt x="460" y="312"/>
                  </a:lnTo>
                  <a:lnTo>
                    <a:pt x="465" y="329"/>
                  </a:lnTo>
                  <a:lnTo>
                    <a:pt x="435" y="348"/>
                  </a:lnTo>
                  <a:lnTo>
                    <a:pt x="435" y="353"/>
                  </a:lnTo>
                  <a:lnTo>
                    <a:pt x="454" y="359"/>
                  </a:lnTo>
                  <a:lnTo>
                    <a:pt x="435" y="371"/>
                  </a:lnTo>
                  <a:lnTo>
                    <a:pt x="460" y="394"/>
                  </a:lnTo>
                  <a:lnTo>
                    <a:pt x="488" y="394"/>
                  </a:lnTo>
                  <a:lnTo>
                    <a:pt x="495" y="448"/>
                  </a:lnTo>
                  <a:lnTo>
                    <a:pt x="513" y="459"/>
                  </a:lnTo>
                  <a:lnTo>
                    <a:pt x="495" y="500"/>
                  </a:lnTo>
                  <a:lnTo>
                    <a:pt x="513" y="471"/>
                  </a:lnTo>
                  <a:lnTo>
                    <a:pt x="548" y="476"/>
                  </a:lnTo>
                  <a:lnTo>
                    <a:pt x="571" y="523"/>
                  </a:lnTo>
                  <a:lnTo>
                    <a:pt x="560" y="553"/>
                  </a:lnTo>
                  <a:lnTo>
                    <a:pt x="548" y="676"/>
                  </a:lnTo>
                  <a:lnTo>
                    <a:pt x="524" y="659"/>
                  </a:lnTo>
                  <a:lnTo>
                    <a:pt x="518" y="676"/>
                  </a:lnTo>
                  <a:lnTo>
                    <a:pt x="488" y="659"/>
                  </a:lnTo>
                  <a:lnTo>
                    <a:pt x="488" y="682"/>
                  </a:lnTo>
                  <a:lnTo>
                    <a:pt x="335" y="523"/>
                  </a:lnTo>
                  <a:lnTo>
                    <a:pt x="306" y="471"/>
                  </a:lnTo>
                  <a:lnTo>
                    <a:pt x="276" y="382"/>
                  </a:lnTo>
                  <a:lnTo>
                    <a:pt x="248" y="323"/>
                  </a:lnTo>
                  <a:lnTo>
                    <a:pt x="218" y="318"/>
                  </a:lnTo>
                  <a:lnTo>
                    <a:pt x="193" y="224"/>
                  </a:lnTo>
                  <a:lnTo>
                    <a:pt x="140" y="194"/>
                  </a:lnTo>
                  <a:lnTo>
                    <a:pt x="129" y="159"/>
                  </a:lnTo>
                  <a:lnTo>
                    <a:pt x="87" y="112"/>
                  </a:lnTo>
                  <a:lnTo>
                    <a:pt x="70" y="106"/>
                  </a:lnTo>
                  <a:lnTo>
                    <a:pt x="11" y="41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26400" y="4065840"/>
              <a:ext cx="12600" cy="1044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6" y="29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36" y="2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982200" y="4147920"/>
              <a:ext cx="10440" cy="1692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30" y="47"/>
                  </a:moveTo>
                  <a:lnTo>
                    <a:pt x="0" y="18"/>
                  </a:lnTo>
                  <a:lnTo>
                    <a:pt x="12" y="0"/>
                  </a:lnTo>
                  <a:lnTo>
                    <a:pt x="30" y="4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51960" y="4097520"/>
              <a:ext cx="16920" cy="1872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47" y="29"/>
                  </a:moveTo>
                  <a:lnTo>
                    <a:pt x="41" y="54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7" y="2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02800" y="4159080"/>
              <a:ext cx="31320" cy="36000"/>
            </a:xfrm>
            <a:custGeom>
              <a:avLst/>
              <a:gdLst/>
              <a:ahLst/>
              <a:rect l="l" t="t" r="r" b="b"/>
              <a:pathLst>
                <a:path w="90" h="101">
                  <a:moveTo>
                    <a:pt x="41" y="0"/>
                  </a:moveTo>
                  <a:lnTo>
                    <a:pt x="65" y="58"/>
                  </a:lnTo>
                  <a:lnTo>
                    <a:pt x="89" y="70"/>
                  </a:lnTo>
                  <a:lnTo>
                    <a:pt x="77" y="88"/>
                  </a:lnTo>
                  <a:lnTo>
                    <a:pt x="83" y="100"/>
                  </a:lnTo>
                  <a:lnTo>
                    <a:pt x="71" y="100"/>
                  </a:lnTo>
                  <a:lnTo>
                    <a:pt x="41" y="82"/>
                  </a:lnTo>
                  <a:lnTo>
                    <a:pt x="36" y="41"/>
                  </a:lnTo>
                  <a:lnTo>
                    <a:pt x="0" y="35"/>
                  </a:lnTo>
                  <a:lnTo>
                    <a:pt x="18" y="11"/>
                  </a:lnTo>
                  <a:lnTo>
                    <a:pt x="4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150320" y="4181040"/>
              <a:ext cx="12240" cy="1584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6" y="0"/>
                  </a:moveTo>
                  <a:lnTo>
                    <a:pt x="36" y="18"/>
                  </a:lnTo>
                  <a:lnTo>
                    <a:pt x="17" y="41"/>
                  </a:lnTo>
                  <a:lnTo>
                    <a:pt x="12" y="30"/>
                  </a:lnTo>
                  <a:lnTo>
                    <a:pt x="0" y="41"/>
                  </a:lnTo>
                  <a:lnTo>
                    <a:pt x="0" y="18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88400" y="4102200"/>
              <a:ext cx="9360" cy="75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12"/>
                  </a:moveTo>
                  <a:lnTo>
                    <a:pt x="18" y="23"/>
                  </a:lnTo>
                  <a:lnTo>
                    <a:pt x="0" y="12"/>
                  </a:lnTo>
                  <a:lnTo>
                    <a:pt x="5" y="0"/>
                  </a:lnTo>
                  <a:lnTo>
                    <a:pt x="24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81920" y="4103640"/>
              <a:ext cx="46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056720" y="4105440"/>
              <a:ext cx="10800" cy="432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29" y="11"/>
                  </a:moveTo>
                  <a:lnTo>
                    <a:pt x="0" y="0"/>
                  </a:lnTo>
                  <a:lnTo>
                    <a:pt x="29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53480" y="4103640"/>
              <a:ext cx="10800" cy="61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30" y="17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3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050240" y="4098960"/>
              <a:ext cx="4320" cy="75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6"/>
                  </a:moveTo>
                  <a:lnTo>
                    <a:pt x="5" y="23"/>
                  </a:lnTo>
                  <a:lnTo>
                    <a:pt x="0" y="0"/>
                  </a:lnTo>
                  <a:lnTo>
                    <a:pt x="11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45560" y="4092480"/>
              <a:ext cx="7560" cy="6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12"/>
                  </a:moveTo>
                  <a:lnTo>
                    <a:pt x="23" y="18"/>
                  </a:lnTo>
                  <a:lnTo>
                    <a:pt x="0" y="0"/>
                  </a:lnTo>
                  <a:lnTo>
                    <a:pt x="23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032960" y="4083120"/>
              <a:ext cx="7560" cy="75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9" y="12"/>
                  </a:moveTo>
                  <a:lnTo>
                    <a:pt x="19" y="23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9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01000" y="4252680"/>
              <a:ext cx="174240" cy="61560"/>
            </a:xfrm>
            <a:custGeom>
              <a:avLst/>
              <a:gdLst/>
              <a:ahLst/>
              <a:rect l="l" t="t" r="r" b="b"/>
              <a:pathLst>
                <a:path w="485" h="172">
                  <a:moveTo>
                    <a:pt x="242" y="112"/>
                  </a:moveTo>
                  <a:lnTo>
                    <a:pt x="337" y="147"/>
                  </a:lnTo>
                  <a:lnTo>
                    <a:pt x="384" y="153"/>
                  </a:lnTo>
                  <a:lnTo>
                    <a:pt x="413" y="141"/>
                  </a:lnTo>
                  <a:lnTo>
                    <a:pt x="484" y="171"/>
                  </a:lnTo>
                  <a:lnTo>
                    <a:pt x="473" y="147"/>
                  </a:lnTo>
                  <a:lnTo>
                    <a:pt x="478" y="112"/>
                  </a:lnTo>
                  <a:lnTo>
                    <a:pt x="460" y="100"/>
                  </a:lnTo>
                  <a:lnTo>
                    <a:pt x="413" y="112"/>
                  </a:lnTo>
                  <a:lnTo>
                    <a:pt x="390" y="94"/>
                  </a:lnTo>
                  <a:lnTo>
                    <a:pt x="384" y="60"/>
                  </a:lnTo>
                  <a:lnTo>
                    <a:pt x="312" y="47"/>
                  </a:lnTo>
                  <a:lnTo>
                    <a:pt x="307" y="30"/>
                  </a:lnTo>
                  <a:lnTo>
                    <a:pt x="284" y="35"/>
                  </a:lnTo>
                  <a:lnTo>
                    <a:pt x="272" y="65"/>
                  </a:lnTo>
                  <a:lnTo>
                    <a:pt x="183" y="53"/>
                  </a:lnTo>
                  <a:lnTo>
                    <a:pt x="165" y="24"/>
                  </a:lnTo>
                  <a:lnTo>
                    <a:pt x="95" y="0"/>
                  </a:lnTo>
                  <a:lnTo>
                    <a:pt x="89" y="13"/>
                  </a:lnTo>
                  <a:lnTo>
                    <a:pt x="42" y="0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65" y="65"/>
                  </a:lnTo>
                  <a:lnTo>
                    <a:pt x="59" y="88"/>
                  </a:lnTo>
                  <a:lnTo>
                    <a:pt x="136" y="107"/>
                  </a:lnTo>
                  <a:lnTo>
                    <a:pt x="242" y="1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40680" y="4275000"/>
              <a:ext cx="28440" cy="5760"/>
            </a:xfrm>
            <a:custGeom>
              <a:avLst/>
              <a:gdLst/>
              <a:ahLst/>
              <a:rect l="l" t="t" r="r" b="b"/>
              <a:pathLst>
                <a:path w="78" h="18">
                  <a:moveTo>
                    <a:pt x="11" y="0"/>
                  </a:moveTo>
                  <a:lnTo>
                    <a:pt x="77" y="5"/>
                  </a:lnTo>
                  <a:lnTo>
                    <a:pt x="23" y="17"/>
                  </a:lnTo>
                  <a:lnTo>
                    <a:pt x="0" y="17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72720" y="4300200"/>
              <a:ext cx="23400" cy="1728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0" y="0"/>
                  </a:moveTo>
                  <a:lnTo>
                    <a:pt x="47" y="0"/>
                  </a:lnTo>
                  <a:lnTo>
                    <a:pt x="65" y="17"/>
                  </a:lnTo>
                  <a:lnTo>
                    <a:pt x="42" y="4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97920" y="4302000"/>
              <a:ext cx="17280" cy="1548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29" y="0"/>
                  </a:moveTo>
                  <a:lnTo>
                    <a:pt x="47" y="12"/>
                  </a:lnTo>
                  <a:lnTo>
                    <a:pt x="41" y="42"/>
                  </a:lnTo>
                  <a:lnTo>
                    <a:pt x="11" y="42"/>
                  </a:lnTo>
                  <a:lnTo>
                    <a:pt x="0" y="36"/>
                  </a:lnTo>
                  <a:lnTo>
                    <a:pt x="11" y="36"/>
                  </a:lnTo>
                  <a:lnTo>
                    <a:pt x="2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15560" y="4300200"/>
              <a:ext cx="47160" cy="20160"/>
            </a:xfrm>
            <a:custGeom>
              <a:avLst/>
              <a:gdLst/>
              <a:ahLst/>
              <a:rect l="l" t="t" r="r" b="b"/>
              <a:pathLst>
                <a:path w="131" h="59">
                  <a:moveTo>
                    <a:pt x="24" y="17"/>
                  </a:moveTo>
                  <a:lnTo>
                    <a:pt x="64" y="41"/>
                  </a:lnTo>
                  <a:lnTo>
                    <a:pt x="83" y="30"/>
                  </a:lnTo>
                  <a:lnTo>
                    <a:pt x="59" y="0"/>
                  </a:lnTo>
                  <a:lnTo>
                    <a:pt x="100" y="11"/>
                  </a:lnTo>
                  <a:lnTo>
                    <a:pt x="100" y="30"/>
                  </a:lnTo>
                  <a:lnTo>
                    <a:pt x="106" y="11"/>
                  </a:lnTo>
                  <a:lnTo>
                    <a:pt x="118" y="17"/>
                  </a:lnTo>
                  <a:lnTo>
                    <a:pt x="130" y="35"/>
                  </a:lnTo>
                  <a:lnTo>
                    <a:pt x="100" y="41"/>
                  </a:lnTo>
                  <a:lnTo>
                    <a:pt x="111" y="47"/>
                  </a:lnTo>
                  <a:lnTo>
                    <a:pt x="88" y="47"/>
                  </a:lnTo>
                  <a:lnTo>
                    <a:pt x="88" y="30"/>
                  </a:lnTo>
                  <a:lnTo>
                    <a:pt x="71" y="47"/>
                  </a:lnTo>
                  <a:lnTo>
                    <a:pt x="17" y="58"/>
                  </a:lnTo>
                  <a:lnTo>
                    <a:pt x="0" y="53"/>
                  </a:lnTo>
                  <a:lnTo>
                    <a:pt x="0" y="35"/>
                  </a:lnTo>
                  <a:lnTo>
                    <a:pt x="24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58400" y="4327200"/>
              <a:ext cx="31320" cy="18720"/>
            </a:xfrm>
            <a:custGeom>
              <a:avLst/>
              <a:gdLst/>
              <a:ahLst/>
              <a:rect l="l" t="t" r="r" b="b"/>
              <a:pathLst>
                <a:path w="89" h="53">
                  <a:moveTo>
                    <a:pt x="0" y="0"/>
                  </a:moveTo>
                  <a:lnTo>
                    <a:pt x="59" y="5"/>
                  </a:lnTo>
                  <a:lnTo>
                    <a:pt x="88" y="34"/>
                  </a:lnTo>
                  <a:lnTo>
                    <a:pt x="71" y="52"/>
                  </a:lnTo>
                  <a:lnTo>
                    <a:pt x="41" y="34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374240" y="4300200"/>
              <a:ext cx="59760" cy="18720"/>
            </a:xfrm>
            <a:custGeom>
              <a:avLst/>
              <a:gdLst/>
              <a:ahLst/>
              <a:rect l="l" t="t" r="r" b="b"/>
              <a:pathLst>
                <a:path w="167" h="54">
                  <a:moveTo>
                    <a:pt x="25" y="11"/>
                  </a:moveTo>
                  <a:lnTo>
                    <a:pt x="83" y="30"/>
                  </a:lnTo>
                  <a:lnTo>
                    <a:pt x="125" y="35"/>
                  </a:lnTo>
                  <a:lnTo>
                    <a:pt x="161" y="11"/>
                  </a:lnTo>
                  <a:lnTo>
                    <a:pt x="161" y="0"/>
                  </a:lnTo>
                  <a:lnTo>
                    <a:pt x="166" y="11"/>
                  </a:lnTo>
                  <a:lnTo>
                    <a:pt x="136" y="35"/>
                  </a:lnTo>
                  <a:lnTo>
                    <a:pt x="60" y="53"/>
                  </a:lnTo>
                  <a:lnTo>
                    <a:pt x="0" y="47"/>
                  </a:lnTo>
                  <a:lnTo>
                    <a:pt x="0" y="17"/>
                  </a:lnTo>
                  <a:lnTo>
                    <a:pt x="25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39400" y="4303440"/>
              <a:ext cx="12240" cy="756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6" y="0"/>
                  </a:moveTo>
                  <a:lnTo>
                    <a:pt x="36" y="0"/>
                  </a:lnTo>
                  <a:lnTo>
                    <a:pt x="6" y="19"/>
                  </a:ln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459920" y="4300200"/>
              <a:ext cx="15480" cy="756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5" y="0"/>
                  </a:moveTo>
                  <a:lnTo>
                    <a:pt x="41" y="17"/>
                  </a:lnTo>
                  <a:lnTo>
                    <a:pt x="0" y="23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40840" y="4306680"/>
              <a:ext cx="74160" cy="4248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88" y="65"/>
                  </a:moveTo>
                  <a:lnTo>
                    <a:pt x="206" y="0"/>
                  </a:lnTo>
                  <a:lnTo>
                    <a:pt x="94" y="13"/>
                  </a:lnTo>
                  <a:lnTo>
                    <a:pt x="11" y="71"/>
                  </a:lnTo>
                  <a:lnTo>
                    <a:pt x="5" y="94"/>
                  </a:lnTo>
                  <a:lnTo>
                    <a:pt x="11" y="100"/>
                  </a:lnTo>
                  <a:lnTo>
                    <a:pt x="0" y="118"/>
                  </a:lnTo>
                  <a:lnTo>
                    <a:pt x="47" y="107"/>
                  </a:lnTo>
                  <a:lnTo>
                    <a:pt x="88" y="6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86920" y="4292280"/>
              <a:ext cx="18720" cy="612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6" y="0"/>
                  </a:moveTo>
                  <a:lnTo>
                    <a:pt x="53" y="0"/>
                  </a:lnTo>
                  <a:lnTo>
                    <a:pt x="35" y="17"/>
                  </a:lnTo>
                  <a:lnTo>
                    <a:pt x="0" y="17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87000" y="4279680"/>
              <a:ext cx="10800" cy="1872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30" y="0"/>
                  </a:moveTo>
                  <a:lnTo>
                    <a:pt x="30" y="29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3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59840" y="4091040"/>
              <a:ext cx="123480" cy="156960"/>
            </a:xfrm>
            <a:custGeom>
              <a:avLst/>
              <a:gdLst/>
              <a:ahLst/>
              <a:rect l="l" t="t" r="r" b="b"/>
              <a:pathLst>
                <a:path w="343" h="437">
                  <a:moveTo>
                    <a:pt x="59" y="436"/>
                  </a:moveTo>
                  <a:lnTo>
                    <a:pt x="35" y="436"/>
                  </a:lnTo>
                  <a:lnTo>
                    <a:pt x="23" y="436"/>
                  </a:lnTo>
                  <a:lnTo>
                    <a:pt x="40" y="341"/>
                  </a:lnTo>
                  <a:lnTo>
                    <a:pt x="35" y="312"/>
                  </a:lnTo>
                  <a:lnTo>
                    <a:pt x="6" y="312"/>
                  </a:lnTo>
                  <a:lnTo>
                    <a:pt x="0" y="289"/>
                  </a:lnTo>
                  <a:lnTo>
                    <a:pt x="0" y="259"/>
                  </a:lnTo>
                  <a:lnTo>
                    <a:pt x="35" y="219"/>
                  </a:lnTo>
                  <a:lnTo>
                    <a:pt x="35" y="177"/>
                  </a:lnTo>
                  <a:lnTo>
                    <a:pt x="59" y="142"/>
                  </a:lnTo>
                  <a:lnTo>
                    <a:pt x="65" y="153"/>
                  </a:lnTo>
                  <a:lnTo>
                    <a:pt x="53" y="100"/>
                  </a:lnTo>
                  <a:lnTo>
                    <a:pt x="65" y="100"/>
                  </a:lnTo>
                  <a:lnTo>
                    <a:pt x="70" y="59"/>
                  </a:lnTo>
                  <a:lnTo>
                    <a:pt x="88" y="42"/>
                  </a:lnTo>
                  <a:lnTo>
                    <a:pt x="100" y="53"/>
                  </a:lnTo>
                  <a:lnTo>
                    <a:pt x="118" y="18"/>
                  </a:lnTo>
                  <a:lnTo>
                    <a:pt x="148" y="24"/>
                  </a:lnTo>
                  <a:lnTo>
                    <a:pt x="218" y="53"/>
                  </a:lnTo>
                  <a:lnTo>
                    <a:pt x="277" y="53"/>
                  </a:lnTo>
                  <a:lnTo>
                    <a:pt x="330" y="0"/>
                  </a:lnTo>
                  <a:lnTo>
                    <a:pt x="342" y="12"/>
                  </a:lnTo>
                  <a:lnTo>
                    <a:pt x="295" y="83"/>
                  </a:lnTo>
                  <a:lnTo>
                    <a:pt x="88" y="83"/>
                  </a:lnTo>
                  <a:lnTo>
                    <a:pt x="76" y="142"/>
                  </a:lnTo>
                  <a:lnTo>
                    <a:pt x="106" y="189"/>
                  </a:lnTo>
                  <a:lnTo>
                    <a:pt x="129" y="189"/>
                  </a:lnTo>
                  <a:lnTo>
                    <a:pt x="153" y="153"/>
                  </a:lnTo>
                  <a:lnTo>
                    <a:pt x="212" y="153"/>
                  </a:lnTo>
                  <a:lnTo>
                    <a:pt x="224" y="147"/>
                  </a:lnTo>
                  <a:lnTo>
                    <a:pt x="229" y="136"/>
                  </a:lnTo>
                  <a:lnTo>
                    <a:pt x="254" y="147"/>
                  </a:lnTo>
                  <a:lnTo>
                    <a:pt x="242" y="165"/>
                  </a:lnTo>
                  <a:lnTo>
                    <a:pt x="218" y="159"/>
                  </a:lnTo>
                  <a:lnTo>
                    <a:pt x="153" y="219"/>
                  </a:lnTo>
                  <a:lnTo>
                    <a:pt x="135" y="212"/>
                  </a:lnTo>
                  <a:lnTo>
                    <a:pt x="195" y="289"/>
                  </a:lnTo>
                  <a:lnTo>
                    <a:pt x="176" y="318"/>
                  </a:lnTo>
                  <a:lnTo>
                    <a:pt x="206" y="347"/>
                  </a:lnTo>
                  <a:lnTo>
                    <a:pt x="212" y="366"/>
                  </a:lnTo>
                  <a:lnTo>
                    <a:pt x="171" y="371"/>
                  </a:lnTo>
                  <a:lnTo>
                    <a:pt x="159" y="394"/>
                  </a:lnTo>
                  <a:lnTo>
                    <a:pt x="142" y="389"/>
                  </a:lnTo>
                  <a:lnTo>
                    <a:pt x="142" y="366"/>
                  </a:lnTo>
                  <a:lnTo>
                    <a:pt x="142" y="341"/>
                  </a:lnTo>
                  <a:lnTo>
                    <a:pt x="106" y="312"/>
                  </a:lnTo>
                  <a:lnTo>
                    <a:pt x="118" y="271"/>
                  </a:lnTo>
                  <a:lnTo>
                    <a:pt x="106" y="259"/>
                  </a:lnTo>
                  <a:lnTo>
                    <a:pt x="76" y="283"/>
                  </a:lnTo>
                  <a:lnTo>
                    <a:pt x="82" y="300"/>
                  </a:lnTo>
                  <a:lnTo>
                    <a:pt x="76" y="366"/>
                  </a:lnTo>
                  <a:lnTo>
                    <a:pt x="82" y="436"/>
                  </a:lnTo>
                  <a:lnTo>
                    <a:pt x="59" y="43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06000" y="4032360"/>
              <a:ext cx="4320" cy="75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0" y="23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436160" y="4152600"/>
              <a:ext cx="15480" cy="1080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42" y="12"/>
                  </a:moveTo>
                  <a:lnTo>
                    <a:pt x="23" y="29"/>
                  </a:lnTo>
                  <a:lnTo>
                    <a:pt x="23" y="12"/>
                  </a:lnTo>
                  <a:lnTo>
                    <a:pt x="6" y="29"/>
                  </a:lnTo>
                  <a:lnTo>
                    <a:pt x="0" y="18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42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66400" y="4162320"/>
              <a:ext cx="18360" cy="900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6" y="0"/>
                  </a:moveTo>
                  <a:lnTo>
                    <a:pt x="53" y="19"/>
                  </a:lnTo>
                  <a:lnTo>
                    <a:pt x="0" y="24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86920" y="4167000"/>
              <a:ext cx="16920" cy="288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0" y="0"/>
                  </a:moveTo>
                  <a:lnTo>
                    <a:pt x="47" y="0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23560" y="4225680"/>
              <a:ext cx="9000" cy="16920"/>
            </a:xfrm>
            <a:custGeom>
              <a:avLst/>
              <a:gdLst/>
              <a:ahLst/>
              <a:rect l="l" t="t" r="r" b="b"/>
              <a:pathLst>
                <a:path w="26" h="48">
                  <a:moveTo>
                    <a:pt x="25" y="0"/>
                  </a:moveTo>
                  <a:lnTo>
                    <a:pt x="19" y="47"/>
                  </a:lnTo>
                  <a:lnTo>
                    <a:pt x="0" y="47"/>
                  </a:lnTo>
                  <a:lnTo>
                    <a:pt x="6" y="12"/>
                  </a:lnTo>
                  <a:lnTo>
                    <a:pt x="2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28240" y="4222440"/>
              <a:ext cx="12240" cy="26640"/>
            </a:xfrm>
            <a:custGeom>
              <a:avLst/>
              <a:gdLst/>
              <a:ahLst/>
              <a:rect l="l" t="t" r="r" b="b"/>
              <a:pathLst>
                <a:path w="37" h="76">
                  <a:moveTo>
                    <a:pt x="30" y="0"/>
                  </a:moveTo>
                  <a:lnTo>
                    <a:pt x="36" y="23"/>
                  </a:lnTo>
                  <a:lnTo>
                    <a:pt x="24" y="47"/>
                  </a:lnTo>
                  <a:lnTo>
                    <a:pt x="36" y="52"/>
                  </a:lnTo>
                  <a:lnTo>
                    <a:pt x="13" y="75"/>
                  </a:lnTo>
                  <a:lnTo>
                    <a:pt x="0" y="64"/>
                  </a:lnTo>
                  <a:lnTo>
                    <a:pt x="3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98080" y="4194000"/>
              <a:ext cx="21600" cy="1548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0"/>
                  </a:moveTo>
                  <a:lnTo>
                    <a:pt x="41" y="0"/>
                  </a:lnTo>
                  <a:lnTo>
                    <a:pt x="59" y="17"/>
                  </a:lnTo>
                  <a:lnTo>
                    <a:pt x="54" y="29"/>
                  </a:lnTo>
                  <a:lnTo>
                    <a:pt x="30" y="41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31200" y="4203360"/>
              <a:ext cx="6120" cy="61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6"/>
                  </a:moveTo>
                  <a:lnTo>
                    <a:pt x="18" y="0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6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529760" y="4190760"/>
              <a:ext cx="55080" cy="21960"/>
            </a:xfrm>
            <a:custGeom>
              <a:avLst/>
              <a:gdLst/>
              <a:ahLst/>
              <a:rect l="l" t="t" r="r" b="b"/>
              <a:pathLst>
                <a:path w="154" h="60">
                  <a:moveTo>
                    <a:pt x="19" y="0"/>
                  </a:moveTo>
                  <a:lnTo>
                    <a:pt x="100" y="0"/>
                  </a:lnTo>
                  <a:lnTo>
                    <a:pt x="148" y="12"/>
                  </a:lnTo>
                  <a:lnTo>
                    <a:pt x="153" y="59"/>
                  </a:lnTo>
                  <a:lnTo>
                    <a:pt x="106" y="23"/>
                  </a:lnTo>
                  <a:lnTo>
                    <a:pt x="36" y="35"/>
                  </a:lnTo>
                  <a:lnTo>
                    <a:pt x="19" y="12"/>
                  </a:lnTo>
                  <a:lnTo>
                    <a:pt x="6" y="41"/>
                  </a:lnTo>
                  <a:lnTo>
                    <a:pt x="0" y="17"/>
                  </a:lnTo>
                  <a:lnTo>
                    <a:pt x="1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43880" y="4260600"/>
              <a:ext cx="7920" cy="154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0"/>
                  </a:moveTo>
                  <a:lnTo>
                    <a:pt x="23" y="23"/>
                  </a:lnTo>
                  <a:lnTo>
                    <a:pt x="0" y="42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47120" y="4242960"/>
              <a:ext cx="10800" cy="1728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17" y="0"/>
                  </a:moveTo>
                  <a:lnTo>
                    <a:pt x="29" y="47"/>
                  </a:lnTo>
                  <a:lnTo>
                    <a:pt x="6" y="47"/>
                  </a:lnTo>
                  <a:lnTo>
                    <a:pt x="0" y="17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26520" y="4159080"/>
              <a:ext cx="12240" cy="576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5" y="11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523280" y="4135320"/>
              <a:ext cx="10800" cy="104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1" y="0"/>
                  </a:moveTo>
                  <a:lnTo>
                    <a:pt x="29" y="23"/>
                  </a:lnTo>
                  <a:lnTo>
                    <a:pt x="23" y="29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23280" y="41068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26520" y="411156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40920" y="4071960"/>
              <a:ext cx="5760" cy="1224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0" y="36"/>
                  </a:moveTo>
                  <a:lnTo>
                    <a:pt x="6" y="0"/>
                  </a:lnTo>
                  <a:lnTo>
                    <a:pt x="17" y="12"/>
                  </a:lnTo>
                  <a:lnTo>
                    <a:pt x="0" y="3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23280" y="4079880"/>
              <a:ext cx="31680" cy="68040"/>
            </a:xfrm>
            <a:custGeom>
              <a:avLst/>
              <a:gdLst/>
              <a:ahLst/>
              <a:rect l="l" t="t" r="r" b="b"/>
              <a:pathLst>
                <a:path w="90" h="188">
                  <a:moveTo>
                    <a:pt x="89" y="117"/>
                  </a:moveTo>
                  <a:lnTo>
                    <a:pt x="36" y="100"/>
                  </a:lnTo>
                  <a:lnTo>
                    <a:pt x="36" y="117"/>
                  </a:lnTo>
                  <a:lnTo>
                    <a:pt x="59" y="187"/>
                  </a:lnTo>
                  <a:lnTo>
                    <a:pt x="23" y="147"/>
                  </a:lnTo>
                  <a:lnTo>
                    <a:pt x="17" y="105"/>
                  </a:lnTo>
                  <a:lnTo>
                    <a:pt x="0" y="58"/>
                  </a:lnTo>
                  <a:lnTo>
                    <a:pt x="36" y="0"/>
                  </a:lnTo>
                  <a:lnTo>
                    <a:pt x="23" y="17"/>
                  </a:lnTo>
                  <a:lnTo>
                    <a:pt x="36" y="52"/>
                  </a:lnTo>
                  <a:lnTo>
                    <a:pt x="17" y="75"/>
                  </a:lnTo>
                  <a:lnTo>
                    <a:pt x="64" y="34"/>
                  </a:lnTo>
                  <a:lnTo>
                    <a:pt x="70" y="64"/>
                  </a:lnTo>
                  <a:lnTo>
                    <a:pt x="47" y="81"/>
                  </a:lnTo>
                  <a:lnTo>
                    <a:pt x="89" y="1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79080" y="4125960"/>
              <a:ext cx="21600" cy="10800"/>
            </a:xfrm>
            <a:custGeom>
              <a:avLst/>
              <a:gdLst/>
              <a:ahLst/>
              <a:rect l="l" t="t" r="r" b="b"/>
              <a:pathLst>
                <a:path w="60" h="31">
                  <a:moveTo>
                    <a:pt x="36" y="0"/>
                  </a:moveTo>
                  <a:lnTo>
                    <a:pt x="59" y="19"/>
                  </a:lnTo>
                  <a:lnTo>
                    <a:pt x="30" y="6"/>
                  </a:lnTo>
                  <a:lnTo>
                    <a:pt x="42" y="24"/>
                  </a:lnTo>
                  <a:lnTo>
                    <a:pt x="17" y="30"/>
                  </a:lnTo>
                  <a:lnTo>
                    <a:pt x="0" y="12"/>
                  </a:lnTo>
                  <a:lnTo>
                    <a:pt x="3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567920" y="4163760"/>
              <a:ext cx="10800" cy="612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0" y="0"/>
                  </a:moveTo>
                  <a:lnTo>
                    <a:pt x="30" y="18"/>
                  </a:lnTo>
                  <a:lnTo>
                    <a:pt x="0" y="13"/>
                  </a:lnTo>
                  <a:lnTo>
                    <a:pt x="3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707600" y="4284360"/>
              <a:ext cx="28080" cy="2196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53" y="0"/>
                  </a:moveTo>
                  <a:lnTo>
                    <a:pt x="77" y="12"/>
                  </a:lnTo>
                  <a:lnTo>
                    <a:pt x="71" y="42"/>
                  </a:lnTo>
                  <a:lnTo>
                    <a:pt x="41" y="59"/>
                  </a:lnTo>
                  <a:lnTo>
                    <a:pt x="0" y="59"/>
                  </a:lnTo>
                  <a:lnTo>
                    <a:pt x="24" y="12"/>
                  </a:lnTo>
                  <a:lnTo>
                    <a:pt x="5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75920" y="4162320"/>
              <a:ext cx="24840" cy="4320"/>
            </a:xfrm>
            <a:custGeom>
              <a:avLst/>
              <a:gdLst/>
              <a:ahLst/>
              <a:rect l="l" t="t" r="r" b="b"/>
              <a:pathLst>
                <a:path w="72" h="13">
                  <a:moveTo>
                    <a:pt x="0" y="0"/>
                  </a:moveTo>
                  <a:lnTo>
                    <a:pt x="71" y="12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75920" y="4141440"/>
              <a:ext cx="16920" cy="1080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0" y="0"/>
                  </a:moveTo>
                  <a:lnTo>
                    <a:pt x="47" y="29"/>
                  </a:lnTo>
                  <a:lnTo>
                    <a:pt x="18" y="29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91680" y="4135320"/>
              <a:ext cx="363240" cy="220320"/>
            </a:xfrm>
            <a:custGeom>
              <a:avLst/>
              <a:gdLst/>
              <a:ahLst/>
              <a:rect l="l" t="t" r="r" b="b"/>
              <a:pathLst>
                <a:path w="1009" h="612">
                  <a:moveTo>
                    <a:pt x="518" y="135"/>
                  </a:moveTo>
                  <a:lnTo>
                    <a:pt x="701" y="206"/>
                  </a:lnTo>
                  <a:lnTo>
                    <a:pt x="766" y="265"/>
                  </a:lnTo>
                  <a:lnTo>
                    <a:pt x="760" y="306"/>
                  </a:lnTo>
                  <a:lnTo>
                    <a:pt x="849" y="335"/>
                  </a:lnTo>
                  <a:lnTo>
                    <a:pt x="866" y="376"/>
                  </a:lnTo>
                  <a:lnTo>
                    <a:pt x="819" y="382"/>
                  </a:lnTo>
                  <a:lnTo>
                    <a:pt x="825" y="423"/>
                  </a:lnTo>
                  <a:lnTo>
                    <a:pt x="872" y="459"/>
                  </a:lnTo>
                  <a:lnTo>
                    <a:pt x="896" y="517"/>
                  </a:lnTo>
                  <a:lnTo>
                    <a:pt x="932" y="517"/>
                  </a:lnTo>
                  <a:lnTo>
                    <a:pt x="925" y="541"/>
                  </a:lnTo>
                  <a:lnTo>
                    <a:pt x="966" y="547"/>
                  </a:lnTo>
                  <a:lnTo>
                    <a:pt x="949" y="559"/>
                  </a:lnTo>
                  <a:lnTo>
                    <a:pt x="955" y="570"/>
                  </a:lnTo>
                  <a:lnTo>
                    <a:pt x="1008" y="583"/>
                  </a:lnTo>
                  <a:lnTo>
                    <a:pt x="979" y="588"/>
                  </a:lnTo>
                  <a:lnTo>
                    <a:pt x="996" y="606"/>
                  </a:lnTo>
                  <a:lnTo>
                    <a:pt x="972" y="611"/>
                  </a:lnTo>
                  <a:lnTo>
                    <a:pt x="955" y="606"/>
                  </a:lnTo>
                  <a:lnTo>
                    <a:pt x="949" y="594"/>
                  </a:lnTo>
                  <a:lnTo>
                    <a:pt x="843" y="576"/>
                  </a:lnTo>
                  <a:lnTo>
                    <a:pt x="807" y="529"/>
                  </a:lnTo>
                  <a:lnTo>
                    <a:pt x="807" y="512"/>
                  </a:lnTo>
                  <a:lnTo>
                    <a:pt x="790" y="512"/>
                  </a:lnTo>
                  <a:lnTo>
                    <a:pt x="766" y="459"/>
                  </a:lnTo>
                  <a:lnTo>
                    <a:pt x="690" y="423"/>
                  </a:lnTo>
                  <a:lnTo>
                    <a:pt x="690" y="436"/>
                  </a:lnTo>
                  <a:lnTo>
                    <a:pt x="684" y="441"/>
                  </a:lnTo>
                  <a:lnTo>
                    <a:pt x="643" y="423"/>
                  </a:lnTo>
                  <a:lnTo>
                    <a:pt x="654" y="453"/>
                  </a:lnTo>
                  <a:lnTo>
                    <a:pt x="624" y="447"/>
                  </a:lnTo>
                  <a:lnTo>
                    <a:pt x="637" y="470"/>
                  </a:lnTo>
                  <a:lnTo>
                    <a:pt x="560" y="464"/>
                  </a:lnTo>
                  <a:lnTo>
                    <a:pt x="613" y="482"/>
                  </a:lnTo>
                  <a:lnTo>
                    <a:pt x="618" y="512"/>
                  </a:lnTo>
                  <a:lnTo>
                    <a:pt x="584" y="529"/>
                  </a:lnTo>
                  <a:lnTo>
                    <a:pt x="501" y="517"/>
                  </a:lnTo>
                  <a:lnTo>
                    <a:pt x="448" y="464"/>
                  </a:lnTo>
                  <a:lnTo>
                    <a:pt x="459" y="447"/>
                  </a:lnTo>
                  <a:lnTo>
                    <a:pt x="418" y="464"/>
                  </a:lnTo>
                  <a:lnTo>
                    <a:pt x="406" y="453"/>
                  </a:lnTo>
                  <a:lnTo>
                    <a:pt x="395" y="470"/>
                  </a:lnTo>
                  <a:lnTo>
                    <a:pt x="406" y="429"/>
                  </a:lnTo>
                  <a:lnTo>
                    <a:pt x="382" y="406"/>
                  </a:lnTo>
                  <a:lnTo>
                    <a:pt x="412" y="406"/>
                  </a:lnTo>
                  <a:lnTo>
                    <a:pt x="377" y="389"/>
                  </a:lnTo>
                  <a:lnTo>
                    <a:pt x="412" y="394"/>
                  </a:lnTo>
                  <a:lnTo>
                    <a:pt x="382" y="376"/>
                  </a:lnTo>
                  <a:lnTo>
                    <a:pt x="371" y="329"/>
                  </a:lnTo>
                  <a:lnTo>
                    <a:pt x="359" y="323"/>
                  </a:lnTo>
                  <a:lnTo>
                    <a:pt x="359" y="317"/>
                  </a:lnTo>
                  <a:lnTo>
                    <a:pt x="359" y="300"/>
                  </a:lnTo>
                  <a:lnTo>
                    <a:pt x="318" y="270"/>
                  </a:lnTo>
                  <a:lnTo>
                    <a:pt x="212" y="242"/>
                  </a:lnTo>
                  <a:lnTo>
                    <a:pt x="182" y="223"/>
                  </a:lnTo>
                  <a:lnTo>
                    <a:pt x="200" y="212"/>
                  </a:lnTo>
                  <a:lnTo>
                    <a:pt x="159" y="212"/>
                  </a:lnTo>
                  <a:lnTo>
                    <a:pt x="147" y="206"/>
                  </a:lnTo>
                  <a:lnTo>
                    <a:pt x="129" y="188"/>
                  </a:lnTo>
                  <a:lnTo>
                    <a:pt x="147" y="153"/>
                  </a:lnTo>
                  <a:lnTo>
                    <a:pt x="123" y="212"/>
                  </a:lnTo>
                  <a:lnTo>
                    <a:pt x="94" y="223"/>
                  </a:lnTo>
                  <a:lnTo>
                    <a:pt x="94" y="188"/>
                  </a:lnTo>
                  <a:lnTo>
                    <a:pt x="87" y="176"/>
                  </a:lnTo>
                  <a:lnTo>
                    <a:pt x="47" y="147"/>
                  </a:lnTo>
                  <a:lnTo>
                    <a:pt x="87" y="147"/>
                  </a:lnTo>
                  <a:lnTo>
                    <a:pt x="112" y="123"/>
                  </a:lnTo>
                  <a:lnTo>
                    <a:pt x="123" y="129"/>
                  </a:lnTo>
                  <a:lnTo>
                    <a:pt x="135" y="142"/>
                  </a:lnTo>
                  <a:lnTo>
                    <a:pt x="142" y="129"/>
                  </a:lnTo>
                  <a:lnTo>
                    <a:pt x="153" y="123"/>
                  </a:lnTo>
                  <a:lnTo>
                    <a:pt x="142" y="112"/>
                  </a:lnTo>
                  <a:lnTo>
                    <a:pt x="153" y="106"/>
                  </a:lnTo>
                  <a:lnTo>
                    <a:pt x="87" y="118"/>
                  </a:lnTo>
                  <a:lnTo>
                    <a:pt x="53" y="106"/>
                  </a:lnTo>
                  <a:lnTo>
                    <a:pt x="53" y="70"/>
                  </a:lnTo>
                  <a:lnTo>
                    <a:pt x="0" y="65"/>
                  </a:lnTo>
                  <a:lnTo>
                    <a:pt x="17" y="29"/>
                  </a:lnTo>
                  <a:lnTo>
                    <a:pt x="82" y="0"/>
                  </a:lnTo>
                  <a:lnTo>
                    <a:pt x="159" y="23"/>
                  </a:lnTo>
                  <a:lnTo>
                    <a:pt x="170" y="65"/>
                  </a:lnTo>
                  <a:lnTo>
                    <a:pt x="165" y="118"/>
                  </a:lnTo>
                  <a:lnTo>
                    <a:pt x="176" y="153"/>
                  </a:lnTo>
                  <a:lnTo>
                    <a:pt x="189" y="129"/>
                  </a:lnTo>
                  <a:lnTo>
                    <a:pt x="189" y="159"/>
                  </a:lnTo>
                  <a:lnTo>
                    <a:pt x="212" y="182"/>
                  </a:lnTo>
                  <a:lnTo>
                    <a:pt x="229" y="176"/>
                  </a:lnTo>
                  <a:lnTo>
                    <a:pt x="282" y="112"/>
                  </a:lnTo>
                  <a:lnTo>
                    <a:pt x="324" y="106"/>
                  </a:lnTo>
                  <a:lnTo>
                    <a:pt x="324" y="88"/>
                  </a:lnTo>
                  <a:lnTo>
                    <a:pt x="359" y="65"/>
                  </a:lnTo>
                  <a:lnTo>
                    <a:pt x="459" y="118"/>
                  </a:lnTo>
                  <a:lnTo>
                    <a:pt x="518" y="13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13880" y="4214520"/>
              <a:ext cx="75960" cy="47160"/>
            </a:xfrm>
            <a:custGeom>
              <a:avLst/>
              <a:gdLst/>
              <a:ahLst/>
              <a:rect l="l" t="t" r="r" b="b"/>
              <a:pathLst>
                <a:path w="213" h="131">
                  <a:moveTo>
                    <a:pt x="206" y="0"/>
                  </a:moveTo>
                  <a:lnTo>
                    <a:pt x="212" y="36"/>
                  </a:lnTo>
                  <a:lnTo>
                    <a:pt x="189" y="53"/>
                  </a:lnTo>
                  <a:lnTo>
                    <a:pt x="195" y="77"/>
                  </a:lnTo>
                  <a:lnTo>
                    <a:pt x="159" y="83"/>
                  </a:lnTo>
                  <a:lnTo>
                    <a:pt x="136" y="119"/>
                  </a:lnTo>
                  <a:lnTo>
                    <a:pt x="83" y="130"/>
                  </a:lnTo>
                  <a:lnTo>
                    <a:pt x="36" y="112"/>
                  </a:lnTo>
                  <a:lnTo>
                    <a:pt x="0" y="100"/>
                  </a:lnTo>
                  <a:lnTo>
                    <a:pt x="0" y="83"/>
                  </a:lnTo>
                  <a:lnTo>
                    <a:pt x="83" y="83"/>
                  </a:lnTo>
                  <a:lnTo>
                    <a:pt x="89" y="53"/>
                  </a:lnTo>
                  <a:lnTo>
                    <a:pt x="94" y="89"/>
                  </a:lnTo>
                  <a:lnTo>
                    <a:pt x="136" y="83"/>
                  </a:lnTo>
                  <a:lnTo>
                    <a:pt x="153" y="53"/>
                  </a:lnTo>
                  <a:lnTo>
                    <a:pt x="176" y="47"/>
                  </a:lnTo>
                  <a:lnTo>
                    <a:pt x="170" y="6"/>
                  </a:lnTo>
                  <a:lnTo>
                    <a:pt x="20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63200" y="4181040"/>
              <a:ext cx="42480" cy="48960"/>
            </a:xfrm>
            <a:custGeom>
              <a:avLst/>
              <a:gdLst/>
              <a:ahLst/>
              <a:rect l="l" t="t" r="r" b="b"/>
              <a:pathLst>
                <a:path w="118" h="137">
                  <a:moveTo>
                    <a:pt x="0" y="0"/>
                  </a:moveTo>
                  <a:lnTo>
                    <a:pt x="106" y="88"/>
                  </a:lnTo>
                  <a:lnTo>
                    <a:pt x="117" y="106"/>
                  </a:lnTo>
                  <a:lnTo>
                    <a:pt x="106" y="136"/>
                  </a:lnTo>
                  <a:lnTo>
                    <a:pt x="76" y="65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948800" y="4179600"/>
              <a:ext cx="7560" cy="43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0"/>
                  </a:moveTo>
                  <a:lnTo>
                    <a:pt x="23" y="0"/>
                  </a:lnTo>
                  <a:lnTo>
                    <a:pt x="23" y="12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83640" y="4168440"/>
              <a:ext cx="17280" cy="61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47" y="0"/>
                  </a:moveTo>
                  <a:lnTo>
                    <a:pt x="0" y="17"/>
                  </a:lnTo>
                  <a:lnTo>
                    <a:pt x="6" y="0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944120" y="4322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948800" y="4325760"/>
              <a:ext cx="7560" cy="90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23" y="24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952040" y="4333680"/>
              <a:ext cx="10800" cy="108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0"/>
                  </a:moveTo>
                  <a:lnTo>
                    <a:pt x="17" y="23"/>
                  </a:lnTo>
                  <a:lnTo>
                    <a:pt x="30" y="11"/>
                  </a:lnTo>
                  <a:lnTo>
                    <a:pt x="24" y="30"/>
                  </a:lnTo>
                  <a:lnTo>
                    <a:pt x="11" y="23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988400" y="43192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83720" y="4352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996320" y="4368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12520" y="4368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33040" y="4233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033040" y="4242960"/>
              <a:ext cx="20160" cy="2988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0" y="0"/>
                  </a:moveTo>
                  <a:lnTo>
                    <a:pt x="53" y="59"/>
                  </a:lnTo>
                  <a:lnTo>
                    <a:pt x="58" y="82"/>
                  </a:lnTo>
                  <a:lnTo>
                    <a:pt x="28" y="76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064720" y="4268520"/>
              <a:ext cx="18720" cy="169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3" y="47"/>
                  </a:lnTo>
                  <a:lnTo>
                    <a:pt x="30" y="42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064720" y="4289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075880" y="4295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080560" y="43066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091720" y="43081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77320" y="4298760"/>
              <a:ext cx="10800" cy="1224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11" y="0"/>
                  </a:moveTo>
                  <a:lnTo>
                    <a:pt x="30" y="36"/>
                  </a:lnTo>
                  <a:lnTo>
                    <a:pt x="11" y="17"/>
                  </a:lnTo>
                  <a:lnTo>
                    <a:pt x="0" y="17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101080" y="4287600"/>
              <a:ext cx="26640" cy="2340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8" y="30"/>
                  </a:lnTo>
                  <a:lnTo>
                    <a:pt x="72" y="6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21960" y="4325760"/>
              <a:ext cx="18720" cy="1224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0" y="0"/>
                  </a:moveTo>
                  <a:lnTo>
                    <a:pt x="35" y="7"/>
                  </a:lnTo>
                  <a:lnTo>
                    <a:pt x="53" y="35"/>
                  </a:lnTo>
                  <a:lnTo>
                    <a:pt x="6" y="3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144280" y="4303440"/>
              <a:ext cx="7560" cy="2808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0" y="0"/>
                  </a:moveTo>
                  <a:lnTo>
                    <a:pt x="23" y="77"/>
                  </a:lnTo>
                  <a:lnTo>
                    <a:pt x="0" y="4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150400" y="4344840"/>
              <a:ext cx="17280" cy="1224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0"/>
                  </a:moveTo>
                  <a:lnTo>
                    <a:pt x="42" y="17"/>
                  </a:lnTo>
                  <a:lnTo>
                    <a:pt x="47" y="34"/>
                  </a:lnTo>
                  <a:lnTo>
                    <a:pt x="19" y="23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25200" y="4371840"/>
              <a:ext cx="7560" cy="57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23" y="17"/>
                  </a:lnTo>
                  <a:lnTo>
                    <a:pt x="17" y="1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232840" y="43574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250480" y="43732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23440" y="44924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20200" y="4476600"/>
              <a:ext cx="6120" cy="576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17"/>
                  </a:moveTo>
                  <a:lnTo>
                    <a:pt x="0" y="6"/>
                  </a:lnTo>
                  <a:lnTo>
                    <a:pt x="18" y="0"/>
                  </a:lnTo>
                  <a:lnTo>
                    <a:pt x="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926480" y="4654080"/>
              <a:ext cx="12600" cy="2016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0" y="58"/>
                  </a:moveTo>
                  <a:lnTo>
                    <a:pt x="34" y="0"/>
                  </a:lnTo>
                  <a:lnTo>
                    <a:pt x="0" y="5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691760" y="4974480"/>
              <a:ext cx="4320" cy="1080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13" y="30"/>
                  </a:lnTo>
                  <a:lnTo>
                    <a:pt x="0" y="6"/>
                  </a:lnTo>
                  <a:lnTo>
                    <a:pt x="1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612200" y="4993200"/>
              <a:ext cx="74520" cy="61560"/>
            </a:xfrm>
            <a:custGeom>
              <a:avLst/>
              <a:gdLst/>
              <a:ahLst/>
              <a:rect l="l" t="t" r="r" b="b"/>
              <a:pathLst>
                <a:path w="207" h="172">
                  <a:moveTo>
                    <a:pt x="0" y="142"/>
                  </a:moveTo>
                  <a:lnTo>
                    <a:pt x="0" y="100"/>
                  </a:lnTo>
                  <a:lnTo>
                    <a:pt x="11" y="89"/>
                  </a:lnTo>
                  <a:lnTo>
                    <a:pt x="23" y="95"/>
                  </a:lnTo>
                  <a:lnTo>
                    <a:pt x="23" y="30"/>
                  </a:lnTo>
                  <a:lnTo>
                    <a:pt x="41" y="0"/>
                  </a:lnTo>
                  <a:lnTo>
                    <a:pt x="111" y="30"/>
                  </a:lnTo>
                  <a:lnTo>
                    <a:pt x="123" y="24"/>
                  </a:lnTo>
                  <a:lnTo>
                    <a:pt x="130" y="42"/>
                  </a:lnTo>
                  <a:lnTo>
                    <a:pt x="130" y="24"/>
                  </a:lnTo>
                  <a:lnTo>
                    <a:pt x="200" y="0"/>
                  </a:lnTo>
                  <a:lnTo>
                    <a:pt x="206" y="19"/>
                  </a:lnTo>
                  <a:lnTo>
                    <a:pt x="164" y="89"/>
                  </a:lnTo>
                  <a:lnTo>
                    <a:pt x="164" y="77"/>
                  </a:lnTo>
                  <a:lnTo>
                    <a:pt x="130" y="106"/>
                  </a:lnTo>
                  <a:lnTo>
                    <a:pt x="106" y="147"/>
                  </a:lnTo>
                  <a:lnTo>
                    <a:pt x="94" y="136"/>
                  </a:lnTo>
                  <a:lnTo>
                    <a:pt x="88" y="124"/>
                  </a:lnTo>
                  <a:lnTo>
                    <a:pt x="64" y="147"/>
                  </a:lnTo>
                  <a:lnTo>
                    <a:pt x="28" y="171"/>
                  </a:lnTo>
                  <a:lnTo>
                    <a:pt x="0" y="166"/>
                  </a:lnTo>
                  <a:lnTo>
                    <a:pt x="0" y="153"/>
                  </a:lnTo>
                  <a:lnTo>
                    <a:pt x="17" y="153"/>
                  </a:lnTo>
                  <a:lnTo>
                    <a:pt x="0" y="14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21920" y="4973040"/>
              <a:ext cx="5760" cy="108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8" y="0"/>
                  </a:moveTo>
                  <a:lnTo>
                    <a:pt x="0" y="30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0920" y="4885560"/>
              <a:ext cx="24840" cy="10800"/>
            </a:xfrm>
            <a:custGeom>
              <a:avLst/>
              <a:gdLst/>
              <a:ahLst/>
              <a:rect l="l" t="t" r="r" b="b"/>
              <a:pathLst>
                <a:path w="71" h="30">
                  <a:moveTo>
                    <a:pt x="47" y="0"/>
                  </a:moveTo>
                  <a:lnTo>
                    <a:pt x="70" y="18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93160" y="4669920"/>
              <a:ext cx="4320" cy="1224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5" y="36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1" y="36"/>
                  </a:lnTo>
                  <a:lnTo>
                    <a:pt x="5" y="3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567920" y="4365360"/>
              <a:ext cx="18720" cy="15480"/>
            </a:xfrm>
            <a:custGeom>
              <a:avLst/>
              <a:gdLst/>
              <a:ahLst/>
              <a:rect l="l" t="t" r="r" b="b"/>
              <a:pathLst>
                <a:path w="54" h="43">
                  <a:moveTo>
                    <a:pt x="24" y="42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19" y="18"/>
                  </a:lnTo>
                  <a:lnTo>
                    <a:pt x="53" y="6"/>
                  </a:lnTo>
                  <a:lnTo>
                    <a:pt x="53" y="23"/>
                  </a:lnTo>
                  <a:lnTo>
                    <a:pt x="24" y="4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560000" y="4370040"/>
              <a:ext cx="10800" cy="756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30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672680" y="4419360"/>
              <a:ext cx="12240" cy="12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0" y="35"/>
                  </a:moveTo>
                  <a:lnTo>
                    <a:pt x="0" y="29"/>
                  </a:lnTo>
                  <a:lnTo>
                    <a:pt x="25" y="0"/>
                  </a:lnTo>
                  <a:lnTo>
                    <a:pt x="36" y="6"/>
                  </a:lnTo>
                  <a:lnTo>
                    <a:pt x="25" y="18"/>
                  </a:lnTo>
                  <a:lnTo>
                    <a:pt x="25" y="29"/>
                  </a:lnTo>
                  <a:lnTo>
                    <a:pt x="30" y="3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34520" y="5277600"/>
              <a:ext cx="6120" cy="75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9"/>
                  </a:moveTo>
                  <a:lnTo>
                    <a:pt x="18" y="0"/>
                  </a:lnTo>
                  <a:lnTo>
                    <a:pt x="0" y="1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172720" y="47444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137800" y="4860360"/>
              <a:ext cx="120240" cy="151920"/>
            </a:xfrm>
            <a:custGeom>
              <a:avLst/>
              <a:gdLst/>
              <a:ahLst/>
              <a:rect l="l" t="t" r="r" b="b"/>
              <a:pathLst>
                <a:path w="337" h="424">
                  <a:moveTo>
                    <a:pt x="177" y="312"/>
                  </a:moveTo>
                  <a:lnTo>
                    <a:pt x="77" y="394"/>
                  </a:lnTo>
                  <a:lnTo>
                    <a:pt x="12" y="423"/>
                  </a:lnTo>
                  <a:lnTo>
                    <a:pt x="12" y="400"/>
                  </a:lnTo>
                  <a:lnTo>
                    <a:pt x="0" y="406"/>
                  </a:lnTo>
                  <a:lnTo>
                    <a:pt x="82" y="342"/>
                  </a:lnTo>
                  <a:lnTo>
                    <a:pt x="35" y="295"/>
                  </a:lnTo>
                  <a:lnTo>
                    <a:pt x="54" y="276"/>
                  </a:lnTo>
                  <a:lnTo>
                    <a:pt x="100" y="259"/>
                  </a:lnTo>
                  <a:lnTo>
                    <a:pt x="135" y="218"/>
                  </a:lnTo>
                  <a:lnTo>
                    <a:pt x="147" y="218"/>
                  </a:lnTo>
                  <a:lnTo>
                    <a:pt x="165" y="159"/>
                  </a:lnTo>
                  <a:lnTo>
                    <a:pt x="171" y="165"/>
                  </a:lnTo>
                  <a:lnTo>
                    <a:pt x="188" y="159"/>
                  </a:lnTo>
                  <a:lnTo>
                    <a:pt x="165" y="153"/>
                  </a:lnTo>
                  <a:lnTo>
                    <a:pt x="171" y="123"/>
                  </a:lnTo>
                  <a:lnTo>
                    <a:pt x="177" y="135"/>
                  </a:lnTo>
                  <a:lnTo>
                    <a:pt x="183" y="123"/>
                  </a:lnTo>
                  <a:lnTo>
                    <a:pt x="194" y="100"/>
                  </a:lnTo>
                  <a:lnTo>
                    <a:pt x="177" y="106"/>
                  </a:lnTo>
                  <a:lnTo>
                    <a:pt x="183" y="89"/>
                  </a:lnTo>
                  <a:lnTo>
                    <a:pt x="177" y="112"/>
                  </a:lnTo>
                  <a:lnTo>
                    <a:pt x="171" y="100"/>
                  </a:lnTo>
                  <a:lnTo>
                    <a:pt x="165" y="65"/>
                  </a:lnTo>
                  <a:lnTo>
                    <a:pt x="188" y="53"/>
                  </a:lnTo>
                  <a:lnTo>
                    <a:pt x="165" y="65"/>
                  </a:lnTo>
                  <a:lnTo>
                    <a:pt x="165" y="53"/>
                  </a:lnTo>
                  <a:lnTo>
                    <a:pt x="171" y="0"/>
                  </a:lnTo>
                  <a:lnTo>
                    <a:pt x="188" y="0"/>
                  </a:lnTo>
                  <a:lnTo>
                    <a:pt x="177" y="35"/>
                  </a:lnTo>
                  <a:lnTo>
                    <a:pt x="194" y="23"/>
                  </a:lnTo>
                  <a:lnTo>
                    <a:pt x="213" y="35"/>
                  </a:lnTo>
                  <a:lnTo>
                    <a:pt x="213" y="53"/>
                  </a:lnTo>
                  <a:lnTo>
                    <a:pt x="224" y="48"/>
                  </a:lnTo>
                  <a:lnTo>
                    <a:pt x="213" y="82"/>
                  </a:lnTo>
                  <a:lnTo>
                    <a:pt x="201" y="82"/>
                  </a:lnTo>
                  <a:lnTo>
                    <a:pt x="213" y="112"/>
                  </a:lnTo>
                  <a:lnTo>
                    <a:pt x="183" y="147"/>
                  </a:lnTo>
                  <a:lnTo>
                    <a:pt x="213" y="165"/>
                  </a:lnTo>
                  <a:lnTo>
                    <a:pt x="218" y="147"/>
                  </a:lnTo>
                  <a:lnTo>
                    <a:pt x="230" y="123"/>
                  </a:lnTo>
                  <a:lnTo>
                    <a:pt x="236" y="147"/>
                  </a:lnTo>
                  <a:lnTo>
                    <a:pt x="218" y="189"/>
                  </a:lnTo>
                  <a:lnTo>
                    <a:pt x="254" y="212"/>
                  </a:lnTo>
                  <a:lnTo>
                    <a:pt x="319" y="182"/>
                  </a:lnTo>
                  <a:lnTo>
                    <a:pt x="336" y="195"/>
                  </a:lnTo>
                  <a:lnTo>
                    <a:pt x="294" y="242"/>
                  </a:lnTo>
                  <a:lnTo>
                    <a:pt x="241" y="282"/>
                  </a:lnTo>
                  <a:lnTo>
                    <a:pt x="230" y="276"/>
                  </a:lnTo>
                  <a:lnTo>
                    <a:pt x="201" y="282"/>
                  </a:lnTo>
                  <a:lnTo>
                    <a:pt x="177" y="3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20360" y="4989960"/>
              <a:ext cx="213840" cy="128520"/>
            </a:xfrm>
            <a:custGeom>
              <a:avLst/>
              <a:gdLst/>
              <a:ahLst/>
              <a:rect l="l" t="t" r="r" b="b"/>
              <a:pathLst>
                <a:path w="597" h="359">
                  <a:moveTo>
                    <a:pt x="554" y="70"/>
                  </a:moveTo>
                  <a:lnTo>
                    <a:pt x="590" y="41"/>
                  </a:lnTo>
                  <a:lnTo>
                    <a:pt x="567" y="47"/>
                  </a:lnTo>
                  <a:lnTo>
                    <a:pt x="596" y="30"/>
                  </a:lnTo>
                  <a:lnTo>
                    <a:pt x="584" y="41"/>
                  </a:lnTo>
                  <a:lnTo>
                    <a:pt x="561" y="47"/>
                  </a:lnTo>
                  <a:lnTo>
                    <a:pt x="590" y="23"/>
                  </a:lnTo>
                  <a:lnTo>
                    <a:pt x="531" y="47"/>
                  </a:lnTo>
                  <a:lnTo>
                    <a:pt x="537" y="30"/>
                  </a:lnTo>
                  <a:lnTo>
                    <a:pt x="531" y="6"/>
                  </a:lnTo>
                  <a:lnTo>
                    <a:pt x="554" y="0"/>
                  </a:lnTo>
                  <a:lnTo>
                    <a:pt x="543" y="0"/>
                  </a:lnTo>
                  <a:lnTo>
                    <a:pt x="496" y="23"/>
                  </a:lnTo>
                  <a:lnTo>
                    <a:pt x="448" y="64"/>
                  </a:lnTo>
                  <a:lnTo>
                    <a:pt x="431" y="70"/>
                  </a:lnTo>
                  <a:lnTo>
                    <a:pt x="390" y="111"/>
                  </a:lnTo>
                  <a:lnTo>
                    <a:pt x="420" y="106"/>
                  </a:lnTo>
                  <a:lnTo>
                    <a:pt x="384" y="111"/>
                  </a:lnTo>
                  <a:lnTo>
                    <a:pt x="354" y="147"/>
                  </a:lnTo>
                  <a:lnTo>
                    <a:pt x="367" y="130"/>
                  </a:lnTo>
                  <a:lnTo>
                    <a:pt x="337" y="147"/>
                  </a:lnTo>
                  <a:lnTo>
                    <a:pt x="314" y="153"/>
                  </a:lnTo>
                  <a:lnTo>
                    <a:pt x="314" y="158"/>
                  </a:lnTo>
                  <a:lnTo>
                    <a:pt x="225" y="194"/>
                  </a:lnTo>
                  <a:lnTo>
                    <a:pt x="225" y="200"/>
                  </a:lnTo>
                  <a:lnTo>
                    <a:pt x="183" y="205"/>
                  </a:lnTo>
                  <a:lnTo>
                    <a:pt x="130" y="241"/>
                  </a:lnTo>
                  <a:lnTo>
                    <a:pt x="106" y="247"/>
                  </a:lnTo>
                  <a:lnTo>
                    <a:pt x="77" y="258"/>
                  </a:lnTo>
                  <a:lnTo>
                    <a:pt x="59" y="288"/>
                  </a:lnTo>
                  <a:lnTo>
                    <a:pt x="53" y="277"/>
                  </a:lnTo>
                  <a:lnTo>
                    <a:pt x="36" y="288"/>
                  </a:lnTo>
                  <a:lnTo>
                    <a:pt x="36" y="294"/>
                  </a:lnTo>
                  <a:lnTo>
                    <a:pt x="42" y="300"/>
                  </a:lnTo>
                  <a:lnTo>
                    <a:pt x="12" y="305"/>
                  </a:lnTo>
                  <a:lnTo>
                    <a:pt x="0" y="317"/>
                  </a:lnTo>
                  <a:lnTo>
                    <a:pt x="19" y="317"/>
                  </a:lnTo>
                  <a:lnTo>
                    <a:pt x="6" y="324"/>
                  </a:lnTo>
                  <a:lnTo>
                    <a:pt x="24" y="317"/>
                  </a:lnTo>
                  <a:lnTo>
                    <a:pt x="0" y="330"/>
                  </a:lnTo>
                  <a:lnTo>
                    <a:pt x="48" y="330"/>
                  </a:lnTo>
                  <a:lnTo>
                    <a:pt x="83" y="358"/>
                  </a:lnTo>
                  <a:lnTo>
                    <a:pt x="206" y="311"/>
                  </a:lnTo>
                  <a:lnTo>
                    <a:pt x="272" y="258"/>
                  </a:lnTo>
                  <a:lnTo>
                    <a:pt x="248" y="247"/>
                  </a:lnTo>
                  <a:lnTo>
                    <a:pt x="272" y="258"/>
                  </a:lnTo>
                  <a:lnTo>
                    <a:pt x="284" y="247"/>
                  </a:lnTo>
                  <a:lnTo>
                    <a:pt x="307" y="224"/>
                  </a:lnTo>
                  <a:lnTo>
                    <a:pt x="301" y="211"/>
                  </a:lnTo>
                  <a:lnTo>
                    <a:pt x="314" y="217"/>
                  </a:lnTo>
                  <a:lnTo>
                    <a:pt x="325" y="205"/>
                  </a:lnTo>
                  <a:lnTo>
                    <a:pt x="367" y="200"/>
                  </a:lnTo>
                  <a:lnTo>
                    <a:pt x="337" y="164"/>
                  </a:lnTo>
                  <a:lnTo>
                    <a:pt x="361" y="164"/>
                  </a:lnTo>
                  <a:lnTo>
                    <a:pt x="367" y="147"/>
                  </a:lnTo>
                  <a:lnTo>
                    <a:pt x="361" y="164"/>
                  </a:lnTo>
                  <a:lnTo>
                    <a:pt x="372" y="194"/>
                  </a:lnTo>
                  <a:lnTo>
                    <a:pt x="401" y="200"/>
                  </a:lnTo>
                  <a:lnTo>
                    <a:pt x="401" y="182"/>
                  </a:lnTo>
                  <a:lnTo>
                    <a:pt x="414" y="170"/>
                  </a:lnTo>
                  <a:lnTo>
                    <a:pt x="384" y="164"/>
                  </a:lnTo>
                  <a:lnTo>
                    <a:pt x="420" y="164"/>
                  </a:lnTo>
                  <a:lnTo>
                    <a:pt x="401" y="158"/>
                  </a:lnTo>
                  <a:lnTo>
                    <a:pt x="425" y="158"/>
                  </a:lnTo>
                  <a:lnTo>
                    <a:pt x="561" y="77"/>
                  </a:lnTo>
                  <a:lnTo>
                    <a:pt x="554" y="7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917120" y="5118840"/>
              <a:ext cx="16920" cy="122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47" y="0"/>
                  </a:moveTo>
                  <a:lnTo>
                    <a:pt x="41" y="24"/>
                  </a:lnTo>
                  <a:lnTo>
                    <a:pt x="0" y="36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23520" y="5199480"/>
              <a:ext cx="12240" cy="468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4" y="0"/>
                  </a:moveTo>
                  <a:lnTo>
                    <a:pt x="28" y="0"/>
                  </a:lnTo>
                  <a:lnTo>
                    <a:pt x="23" y="6"/>
                  </a:lnTo>
                  <a:lnTo>
                    <a:pt x="17" y="12"/>
                  </a:lnTo>
                  <a:lnTo>
                    <a:pt x="0" y="12"/>
                  </a:lnTo>
                  <a:lnTo>
                    <a:pt x="3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39360" y="5237640"/>
              <a:ext cx="4320" cy="28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0"/>
                  </a:moveTo>
                  <a:lnTo>
                    <a:pt x="0" y="6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93600" y="47491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31560" y="5067720"/>
              <a:ext cx="1440" cy="28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7"/>
                  </a:move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14280" y="5056920"/>
              <a:ext cx="10800" cy="75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17" y="17"/>
                  </a:moveTo>
                  <a:lnTo>
                    <a:pt x="17" y="12"/>
                  </a:lnTo>
                  <a:lnTo>
                    <a:pt x="17" y="6"/>
                  </a:lnTo>
                  <a:lnTo>
                    <a:pt x="5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23" y="12"/>
                  </a:lnTo>
                  <a:lnTo>
                    <a:pt x="28" y="23"/>
                  </a:lnTo>
                  <a:lnTo>
                    <a:pt x="17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836120" y="51994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58240" y="5180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50360" y="3962520"/>
              <a:ext cx="1440" cy="75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5" y="17"/>
                  </a:lnTo>
                  <a:lnTo>
                    <a:pt x="5" y="23"/>
                  </a:lnTo>
                  <a:lnTo>
                    <a:pt x="0" y="17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831440" y="37260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837560" y="37418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845480" y="3803760"/>
              <a:ext cx="2880" cy="43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lnTo>
                    <a:pt x="0" y="11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844040" y="3807000"/>
              <a:ext cx="288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839360" y="38260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831440" y="3837240"/>
              <a:ext cx="4320" cy="75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5" y="23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715520" y="3924360"/>
              <a:ext cx="288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971120" y="3970440"/>
              <a:ext cx="288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77240" y="39672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096400" y="3981600"/>
              <a:ext cx="288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190000" y="401472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271000" y="4136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166240" y="4554360"/>
              <a:ext cx="42480" cy="4860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42" y="36"/>
                  </a:moveTo>
                  <a:lnTo>
                    <a:pt x="0" y="0"/>
                  </a:lnTo>
                  <a:lnTo>
                    <a:pt x="30" y="77"/>
                  </a:lnTo>
                  <a:lnTo>
                    <a:pt x="89" y="136"/>
                  </a:lnTo>
                  <a:lnTo>
                    <a:pt x="119" y="136"/>
                  </a:lnTo>
                  <a:lnTo>
                    <a:pt x="119" y="118"/>
                  </a:lnTo>
                  <a:lnTo>
                    <a:pt x="42" y="3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220240" y="4566600"/>
              <a:ext cx="4320" cy="108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11" y="17"/>
                  </a:moveTo>
                  <a:lnTo>
                    <a:pt x="11" y="0"/>
                  </a:lnTo>
                  <a:lnTo>
                    <a:pt x="0" y="5"/>
                  </a:lnTo>
                  <a:lnTo>
                    <a:pt x="6" y="29"/>
                  </a:lnTo>
                  <a:lnTo>
                    <a:pt x="11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234640" y="45856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55160" y="4422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253720" y="44319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236080" y="4438440"/>
              <a:ext cx="10800" cy="23400"/>
            </a:xfrm>
            <a:custGeom>
              <a:avLst/>
              <a:gdLst/>
              <a:ahLst/>
              <a:rect l="l" t="t" r="r" b="b"/>
              <a:pathLst>
                <a:path w="31" h="66">
                  <a:moveTo>
                    <a:pt x="12" y="23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6" y="65"/>
                  </a:lnTo>
                  <a:lnTo>
                    <a:pt x="30" y="53"/>
                  </a:lnTo>
                  <a:lnTo>
                    <a:pt x="30" y="17"/>
                  </a:lnTo>
                  <a:lnTo>
                    <a:pt x="17" y="35"/>
                  </a:lnTo>
                  <a:lnTo>
                    <a:pt x="12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245800" y="4465440"/>
              <a:ext cx="7560" cy="1224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6" y="36"/>
                  </a:moveTo>
                  <a:lnTo>
                    <a:pt x="0" y="0"/>
                  </a:lnTo>
                  <a:lnTo>
                    <a:pt x="23" y="30"/>
                  </a:lnTo>
                  <a:lnTo>
                    <a:pt x="6" y="3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255160" y="44575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264880" y="4443120"/>
              <a:ext cx="1080" cy="1080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30"/>
                  </a:move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263080" y="4457520"/>
              <a:ext cx="1440" cy="1080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29"/>
                  </a:moveTo>
                  <a:lnTo>
                    <a:pt x="5" y="0"/>
                  </a:lnTo>
                  <a:lnTo>
                    <a:pt x="5" y="29"/>
                  </a:lnTo>
                  <a:lnTo>
                    <a:pt x="0" y="2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263080" y="44701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259840" y="44845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263080" y="4503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271000" y="45288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269560" y="45464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274240" y="45558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37680" y="43923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423640" y="4497120"/>
              <a:ext cx="26640" cy="18720"/>
            </a:xfrm>
            <a:custGeom>
              <a:avLst/>
              <a:gdLst/>
              <a:ahLst/>
              <a:rect l="l" t="t" r="r" b="b"/>
              <a:pathLst>
                <a:path w="77" h="54">
                  <a:moveTo>
                    <a:pt x="34" y="53"/>
                  </a:moveTo>
                  <a:lnTo>
                    <a:pt x="0" y="36"/>
                  </a:lnTo>
                  <a:lnTo>
                    <a:pt x="34" y="0"/>
                  </a:lnTo>
                  <a:lnTo>
                    <a:pt x="58" y="0"/>
                  </a:lnTo>
                  <a:lnTo>
                    <a:pt x="76" y="36"/>
                  </a:lnTo>
                  <a:lnTo>
                    <a:pt x="34" y="5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429760" y="4528800"/>
              <a:ext cx="10800" cy="43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11"/>
                  </a:moveTo>
                  <a:lnTo>
                    <a:pt x="23" y="0"/>
                  </a:lnTo>
                  <a:lnTo>
                    <a:pt x="30" y="6"/>
                  </a:lnTo>
                  <a:lnTo>
                    <a:pt x="0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453520" y="4471560"/>
              <a:ext cx="29880" cy="17280"/>
            </a:xfrm>
            <a:custGeom>
              <a:avLst/>
              <a:gdLst/>
              <a:ahLst/>
              <a:rect l="l" t="t" r="r" b="b"/>
              <a:pathLst>
                <a:path w="84" h="48">
                  <a:moveTo>
                    <a:pt x="83" y="0"/>
                  </a:moveTo>
                  <a:lnTo>
                    <a:pt x="48" y="29"/>
                  </a:lnTo>
                  <a:lnTo>
                    <a:pt x="78" y="18"/>
                  </a:lnTo>
                  <a:lnTo>
                    <a:pt x="72" y="29"/>
                  </a:lnTo>
                  <a:lnTo>
                    <a:pt x="6" y="47"/>
                  </a:lnTo>
                  <a:lnTo>
                    <a:pt x="0" y="23"/>
                  </a:lnTo>
                  <a:lnTo>
                    <a:pt x="8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63280" y="4470120"/>
              <a:ext cx="2880" cy="1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5"/>
                  </a:moveTo>
                  <a:lnTo>
                    <a:pt x="6" y="0"/>
                  </a:lnTo>
                  <a:lnTo>
                    <a:pt x="0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8479080" y="4482360"/>
              <a:ext cx="1080" cy="756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65080" y="4484520"/>
              <a:ext cx="1080" cy="432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790280" y="442872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25200" y="44082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90360" y="4414680"/>
              <a:ext cx="10800" cy="576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1" y="18"/>
                  </a:moveTo>
                  <a:lnTo>
                    <a:pt x="0" y="0"/>
                  </a:lnTo>
                  <a:lnTo>
                    <a:pt x="24" y="7"/>
                  </a:lnTo>
                  <a:lnTo>
                    <a:pt x="30" y="18"/>
                  </a:lnTo>
                  <a:lnTo>
                    <a:pt x="11" y="1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902960" y="4420800"/>
              <a:ext cx="12600" cy="468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17" y="12"/>
                  </a:moveTo>
                  <a:lnTo>
                    <a:pt x="0" y="0"/>
                  </a:lnTo>
                  <a:lnTo>
                    <a:pt x="35" y="12"/>
                  </a:lnTo>
                  <a:lnTo>
                    <a:pt x="17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28520" y="4428720"/>
              <a:ext cx="4320" cy="46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3"/>
                  </a:moveTo>
                  <a:lnTo>
                    <a:pt x="12" y="0"/>
                  </a:lnTo>
                  <a:lnTo>
                    <a:pt x="0" y="1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952280" y="442872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964880" y="45320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41400" y="44589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884240" y="45842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79200" y="45792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871280" y="45478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74520" y="45273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85680" y="45241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03200" y="4593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50640" y="45288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65040" y="45792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295360" y="44794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336400" y="4498560"/>
              <a:ext cx="6120" cy="93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8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8" y="2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30280" y="45018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98600" y="44859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00040" y="46062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325240" y="4604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68440" y="4623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404800" y="46350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490480" y="47142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52240" y="44622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90400" y="44701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420640" y="4460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520720" y="45871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33400" y="46173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481120" y="4298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493720" y="4314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1640" y="4317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493720" y="4325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4240" y="43336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512800" y="43383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520720" y="4349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888920" y="4187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104920" y="40276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25440" y="4046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53880" y="4084560"/>
              <a:ext cx="6120" cy="612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8" y="17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8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206440" y="4214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88800" y="4248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276280" y="4371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761920" y="46443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25520" y="4704840"/>
              <a:ext cx="2880" cy="25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  <a:lnTo>
                    <a:pt x="0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25520" y="3697560"/>
              <a:ext cx="20160" cy="26640"/>
            </a:xfrm>
            <a:custGeom>
              <a:avLst/>
              <a:gdLst/>
              <a:ahLst/>
              <a:rect l="l" t="t" r="r" b="b"/>
              <a:pathLst>
                <a:path w="59" h="77">
                  <a:moveTo>
                    <a:pt x="17" y="0"/>
                  </a:moveTo>
                  <a:lnTo>
                    <a:pt x="58" y="41"/>
                  </a:lnTo>
                  <a:lnTo>
                    <a:pt x="5" y="76"/>
                  </a:lnTo>
                  <a:lnTo>
                    <a:pt x="0" y="28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219040" y="3680280"/>
              <a:ext cx="12240" cy="612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23" y="5"/>
                  </a:moveTo>
                  <a:lnTo>
                    <a:pt x="35" y="17"/>
                  </a:lnTo>
                  <a:lnTo>
                    <a:pt x="0" y="11"/>
                  </a:lnTo>
                  <a:lnTo>
                    <a:pt x="6" y="0"/>
                  </a:lnTo>
                  <a:lnTo>
                    <a:pt x="23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222280" y="36882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15800" y="368172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12560" y="3677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193480" y="3665880"/>
              <a:ext cx="10800" cy="936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18" y="0"/>
                  </a:moveTo>
                  <a:lnTo>
                    <a:pt x="30" y="24"/>
                  </a:lnTo>
                  <a:lnTo>
                    <a:pt x="6" y="24"/>
                  </a:lnTo>
                  <a:lnTo>
                    <a:pt x="0" y="6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168280" y="3654720"/>
              <a:ext cx="10800" cy="936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9" y="0"/>
                  </a:moveTo>
                  <a:lnTo>
                    <a:pt x="17" y="25"/>
                  </a:lnTo>
                  <a:lnTo>
                    <a:pt x="0" y="13"/>
                  </a:lnTo>
                  <a:lnTo>
                    <a:pt x="2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65040" y="3659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96960" y="4124520"/>
              <a:ext cx="12240" cy="2484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0"/>
                  </a:moveTo>
                  <a:lnTo>
                    <a:pt x="24" y="42"/>
                  </a:lnTo>
                  <a:lnTo>
                    <a:pt x="0" y="59"/>
                  </a:lnTo>
                  <a:lnTo>
                    <a:pt x="6" y="71"/>
                  </a:lnTo>
                  <a:lnTo>
                    <a:pt x="35" y="53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393720" y="413352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409560" y="4130280"/>
              <a:ext cx="4680" cy="46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414600" y="4136760"/>
              <a:ext cx="5760" cy="612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8" y="0"/>
                  </a:moveTo>
                  <a:lnTo>
                    <a:pt x="6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8" y="17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432960" y="4141440"/>
              <a:ext cx="6120" cy="612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1" y="0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18" y="5"/>
                  </a:lnTo>
                  <a:lnTo>
                    <a:pt x="18" y="0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888680" y="3006000"/>
              <a:ext cx="16920" cy="576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0" y="0"/>
                  </a:moveTo>
                  <a:lnTo>
                    <a:pt x="24" y="6"/>
                  </a:lnTo>
                  <a:lnTo>
                    <a:pt x="35" y="6"/>
                  </a:lnTo>
                  <a:lnTo>
                    <a:pt x="41" y="11"/>
                  </a:lnTo>
                  <a:lnTo>
                    <a:pt x="47" y="11"/>
                  </a:lnTo>
                  <a:lnTo>
                    <a:pt x="41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0" y="11"/>
                  </a:lnTo>
                  <a:lnTo>
                    <a:pt x="30" y="17"/>
                  </a:lnTo>
                  <a:lnTo>
                    <a:pt x="18" y="1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13880" y="301536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5"/>
                  </a:moveTo>
                  <a:lnTo>
                    <a:pt x="12" y="0"/>
                  </a:lnTo>
                  <a:lnTo>
                    <a:pt x="0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86960" y="3025080"/>
              <a:ext cx="4320" cy="43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6" y="0"/>
                  </a:moveTo>
                  <a:lnTo>
                    <a:pt x="12" y="5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015400" y="3033000"/>
              <a:ext cx="17280" cy="576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0" y="0"/>
                  </a:moveTo>
                  <a:lnTo>
                    <a:pt x="23" y="12"/>
                  </a:lnTo>
                  <a:lnTo>
                    <a:pt x="29" y="12"/>
                  </a:lnTo>
                  <a:lnTo>
                    <a:pt x="35" y="12"/>
                  </a:lnTo>
                  <a:lnTo>
                    <a:pt x="35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1" y="18"/>
                  </a:lnTo>
                  <a:lnTo>
                    <a:pt x="18" y="12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242800" y="3028320"/>
              <a:ext cx="10800" cy="252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17" y="0"/>
                  </a:moveTo>
                  <a:lnTo>
                    <a:pt x="30" y="6"/>
                  </a:ln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57200" y="3026520"/>
              <a:ext cx="15480" cy="75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0"/>
                  </a:moveTo>
                  <a:lnTo>
                    <a:pt x="36" y="18"/>
                  </a:lnTo>
                  <a:lnTo>
                    <a:pt x="0" y="23"/>
                  </a:lnTo>
                  <a:lnTo>
                    <a:pt x="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93560" y="3018600"/>
              <a:ext cx="25200" cy="936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0"/>
                  </a:moveTo>
                  <a:lnTo>
                    <a:pt x="58" y="19"/>
                  </a:lnTo>
                  <a:lnTo>
                    <a:pt x="23" y="24"/>
                  </a:lnTo>
                  <a:lnTo>
                    <a:pt x="0" y="24"/>
                  </a:lnTo>
                  <a:lnTo>
                    <a:pt x="7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17320" y="30250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11280" y="2996280"/>
              <a:ext cx="34560" cy="1260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94" y="0"/>
                  </a:moveTo>
                  <a:lnTo>
                    <a:pt x="0" y="35"/>
                  </a:lnTo>
                  <a:lnTo>
                    <a:pt x="71" y="0"/>
                  </a:lnTo>
                  <a:lnTo>
                    <a:pt x="9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39720" y="2986920"/>
              <a:ext cx="37800" cy="15480"/>
            </a:xfrm>
            <a:custGeom>
              <a:avLst/>
              <a:gdLst/>
              <a:ahLst/>
              <a:rect l="l" t="t" r="r" b="b"/>
              <a:pathLst>
                <a:path w="107" h="42">
                  <a:moveTo>
                    <a:pt x="106" y="0"/>
                  </a:moveTo>
                  <a:lnTo>
                    <a:pt x="83" y="17"/>
                  </a:lnTo>
                  <a:lnTo>
                    <a:pt x="66" y="29"/>
                  </a:lnTo>
                  <a:lnTo>
                    <a:pt x="0" y="41"/>
                  </a:lnTo>
                  <a:lnTo>
                    <a:pt x="66" y="17"/>
                  </a:lnTo>
                  <a:lnTo>
                    <a:pt x="72" y="0"/>
                  </a:lnTo>
                  <a:lnTo>
                    <a:pt x="10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512800" y="2967840"/>
              <a:ext cx="31320" cy="1080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88" y="0"/>
                  </a:moveTo>
                  <a:lnTo>
                    <a:pt x="88" y="17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41" y="0"/>
                  </a:lnTo>
                  <a:lnTo>
                    <a:pt x="8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598480" y="2859840"/>
              <a:ext cx="26640" cy="1224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72" y="0"/>
                  </a:moveTo>
                  <a:lnTo>
                    <a:pt x="66" y="24"/>
                  </a:lnTo>
                  <a:lnTo>
                    <a:pt x="30" y="36"/>
                  </a:lnTo>
                  <a:lnTo>
                    <a:pt x="0" y="13"/>
                  </a:lnTo>
                  <a:lnTo>
                    <a:pt x="7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615760" y="2793600"/>
              <a:ext cx="42840" cy="15480"/>
            </a:xfrm>
            <a:custGeom>
              <a:avLst/>
              <a:gdLst/>
              <a:ahLst/>
              <a:rect l="l" t="t" r="r" b="b"/>
              <a:pathLst>
                <a:path w="119" h="42">
                  <a:moveTo>
                    <a:pt x="53" y="41"/>
                  </a:moveTo>
                  <a:lnTo>
                    <a:pt x="41" y="17"/>
                  </a:lnTo>
                  <a:lnTo>
                    <a:pt x="47" y="28"/>
                  </a:lnTo>
                  <a:lnTo>
                    <a:pt x="0" y="23"/>
                  </a:lnTo>
                  <a:lnTo>
                    <a:pt x="30" y="0"/>
                  </a:lnTo>
                  <a:lnTo>
                    <a:pt x="118" y="23"/>
                  </a:lnTo>
                  <a:lnTo>
                    <a:pt x="53" y="4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728800" y="2905920"/>
              <a:ext cx="48600" cy="25200"/>
            </a:xfrm>
            <a:custGeom>
              <a:avLst/>
              <a:gdLst/>
              <a:ahLst/>
              <a:rect l="l" t="t" r="r" b="b"/>
              <a:pathLst>
                <a:path w="137" h="72">
                  <a:moveTo>
                    <a:pt x="107" y="0"/>
                  </a:moveTo>
                  <a:lnTo>
                    <a:pt x="107" y="17"/>
                  </a:lnTo>
                  <a:lnTo>
                    <a:pt x="136" y="12"/>
                  </a:lnTo>
                  <a:lnTo>
                    <a:pt x="113" y="30"/>
                  </a:lnTo>
                  <a:lnTo>
                    <a:pt x="83" y="30"/>
                  </a:lnTo>
                  <a:lnTo>
                    <a:pt x="89" y="41"/>
                  </a:lnTo>
                  <a:lnTo>
                    <a:pt x="47" y="47"/>
                  </a:lnTo>
                  <a:lnTo>
                    <a:pt x="0" y="71"/>
                  </a:lnTo>
                  <a:lnTo>
                    <a:pt x="36" y="47"/>
                  </a:lnTo>
                  <a:lnTo>
                    <a:pt x="0" y="47"/>
                  </a:lnTo>
                  <a:lnTo>
                    <a:pt x="18" y="47"/>
                  </a:lnTo>
                  <a:lnTo>
                    <a:pt x="0" y="36"/>
                  </a:lnTo>
                  <a:lnTo>
                    <a:pt x="47" y="17"/>
                  </a:lnTo>
                  <a:lnTo>
                    <a:pt x="47" y="36"/>
                  </a:lnTo>
                  <a:lnTo>
                    <a:pt x="65" y="12"/>
                  </a:lnTo>
                  <a:lnTo>
                    <a:pt x="71" y="24"/>
                  </a:lnTo>
                  <a:lnTo>
                    <a:pt x="107" y="12"/>
                  </a:lnTo>
                  <a:lnTo>
                    <a:pt x="10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771640" y="2898000"/>
              <a:ext cx="21600" cy="756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59" y="6"/>
                  </a:moveTo>
                  <a:lnTo>
                    <a:pt x="6" y="23"/>
                  </a:lnTo>
                  <a:lnTo>
                    <a:pt x="0" y="17"/>
                  </a:lnTo>
                  <a:lnTo>
                    <a:pt x="24" y="0"/>
                  </a:lnTo>
                  <a:lnTo>
                    <a:pt x="59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28680" y="29613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25440" y="2939400"/>
              <a:ext cx="20160" cy="313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35" y="0"/>
                  </a:moveTo>
                  <a:lnTo>
                    <a:pt x="58" y="47"/>
                  </a:lnTo>
                  <a:lnTo>
                    <a:pt x="35" y="47"/>
                  </a:lnTo>
                  <a:lnTo>
                    <a:pt x="53" y="59"/>
                  </a:lnTo>
                  <a:lnTo>
                    <a:pt x="30" y="89"/>
                  </a:lnTo>
                  <a:lnTo>
                    <a:pt x="24" y="59"/>
                  </a:lnTo>
                  <a:lnTo>
                    <a:pt x="0" y="59"/>
                  </a:lnTo>
                  <a:lnTo>
                    <a:pt x="35" y="36"/>
                  </a:lnTo>
                  <a:lnTo>
                    <a:pt x="11" y="36"/>
                  </a:lnTo>
                  <a:lnTo>
                    <a:pt x="35" y="24"/>
                  </a:lnTo>
                  <a:lnTo>
                    <a:pt x="3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52440" y="2945520"/>
              <a:ext cx="17280" cy="172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7" y="0"/>
                  </a:moveTo>
                  <a:lnTo>
                    <a:pt x="12" y="48"/>
                  </a:lnTo>
                  <a:lnTo>
                    <a:pt x="23" y="36"/>
                  </a:lnTo>
                  <a:lnTo>
                    <a:pt x="29" y="19"/>
                  </a:lnTo>
                  <a:lnTo>
                    <a:pt x="6" y="42"/>
                  </a:lnTo>
                  <a:lnTo>
                    <a:pt x="0" y="30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41280" y="2925000"/>
              <a:ext cx="18720" cy="1224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53" y="6"/>
                  </a:moveTo>
                  <a:lnTo>
                    <a:pt x="36" y="24"/>
                  </a:lnTo>
                  <a:lnTo>
                    <a:pt x="17" y="35"/>
                  </a:lnTo>
                  <a:lnTo>
                    <a:pt x="0" y="35"/>
                  </a:lnTo>
                  <a:lnTo>
                    <a:pt x="12" y="0"/>
                  </a:lnTo>
                  <a:lnTo>
                    <a:pt x="53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25440" y="2926440"/>
              <a:ext cx="17280" cy="1872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41" y="0"/>
                  </a:moveTo>
                  <a:lnTo>
                    <a:pt x="47" y="18"/>
                  </a:lnTo>
                  <a:lnTo>
                    <a:pt x="0" y="52"/>
                  </a:lnTo>
                  <a:lnTo>
                    <a:pt x="24" y="5"/>
                  </a:lnTo>
                  <a:lnTo>
                    <a:pt x="4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19320" y="2917080"/>
              <a:ext cx="15480" cy="2484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42" y="0"/>
                  </a:moveTo>
                  <a:lnTo>
                    <a:pt x="0" y="70"/>
                  </a:lnTo>
                  <a:lnTo>
                    <a:pt x="18" y="6"/>
                  </a:lnTo>
                  <a:lnTo>
                    <a:pt x="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22200" y="2902680"/>
              <a:ext cx="28440" cy="1548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53" y="0"/>
                  </a:moveTo>
                  <a:lnTo>
                    <a:pt x="36" y="11"/>
                  </a:lnTo>
                  <a:lnTo>
                    <a:pt x="77" y="11"/>
                  </a:lnTo>
                  <a:lnTo>
                    <a:pt x="59" y="23"/>
                  </a:lnTo>
                  <a:lnTo>
                    <a:pt x="30" y="11"/>
                  </a:lnTo>
                  <a:lnTo>
                    <a:pt x="53" y="41"/>
                  </a:lnTo>
                  <a:lnTo>
                    <a:pt x="23" y="23"/>
                  </a:lnTo>
                  <a:lnTo>
                    <a:pt x="17" y="41"/>
                  </a:lnTo>
                  <a:lnTo>
                    <a:pt x="6" y="41"/>
                  </a:lnTo>
                  <a:lnTo>
                    <a:pt x="0" y="23"/>
                  </a:lnTo>
                  <a:lnTo>
                    <a:pt x="17" y="17"/>
                  </a:lnTo>
                  <a:lnTo>
                    <a:pt x="23" y="0"/>
                  </a:lnTo>
                  <a:lnTo>
                    <a:pt x="5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035160" y="2899440"/>
              <a:ext cx="26640" cy="25200"/>
            </a:xfrm>
            <a:custGeom>
              <a:avLst/>
              <a:gdLst/>
              <a:ahLst/>
              <a:rect l="l" t="t" r="r" b="b"/>
              <a:pathLst>
                <a:path w="77" h="71">
                  <a:moveTo>
                    <a:pt x="59" y="0"/>
                  </a:moveTo>
                  <a:lnTo>
                    <a:pt x="76" y="11"/>
                  </a:lnTo>
                  <a:lnTo>
                    <a:pt x="64" y="41"/>
                  </a:lnTo>
                  <a:lnTo>
                    <a:pt x="70" y="11"/>
                  </a:lnTo>
                  <a:lnTo>
                    <a:pt x="53" y="53"/>
                  </a:lnTo>
                  <a:lnTo>
                    <a:pt x="0" y="70"/>
                  </a:lnTo>
                  <a:lnTo>
                    <a:pt x="23" y="53"/>
                  </a:lnTo>
                  <a:lnTo>
                    <a:pt x="5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000240" y="2982240"/>
              <a:ext cx="31320" cy="18720"/>
            </a:xfrm>
            <a:custGeom>
              <a:avLst/>
              <a:gdLst/>
              <a:ahLst/>
              <a:rect l="l" t="t" r="r" b="b"/>
              <a:pathLst>
                <a:path w="90" h="55">
                  <a:moveTo>
                    <a:pt x="89" y="7"/>
                  </a:moveTo>
                  <a:lnTo>
                    <a:pt x="36" y="54"/>
                  </a:lnTo>
                  <a:lnTo>
                    <a:pt x="0" y="54"/>
                  </a:lnTo>
                  <a:lnTo>
                    <a:pt x="18" y="47"/>
                  </a:lnTo>
                  <a:lnTo>
                    <a:pt x="6" y="36"/>
                  </a:lnTo>
                  <a:lnTo>
                    <a:pt x="29" y="0"/>
                  </a:lnTo>
                  <a:lnTo>
                    <a:pt x="59" y="13"/>
                  </a:lnTo>
                  <a:lnTo>
                    <a:pt x="23" y="36"/>
                  </a:lnTo>
                  <a:lnTo>
                    <a:pt x="59" y="13"/>
                  </a:lnTo>
                  <a:lnTo>
                    <a:pt x="89" y="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0240" y="3001320"/>
              <a:ext cx="15480" cy="21600"/>
            </a:xfrm>
            <a:custGeom>
              <a:avLst/>
              <a:gdLst/>
              <a:ahLst/>
              <a:rect l="l" t="t" r="r" b="b"/>
              <a:pathLst>
                <a:path w="43" h="60">
                  <a:moveTo>
                    <a:pt x="42" y="0"/>
                  </a:moveTo>
                  <a:lnTo>
                    <a:pt x="42" y="12"/>
                  </a:lnTo>
                  <a:lnTo>
                    <a:pt x="23" y="12"/>
                  </a:lnTo>
                  <a:lnTo>
                    <a:pt x="36" y="18"/>
                  </a:lnTo>
                  <a:lnTo>
                    <a:pt x="18" y="23"/>
                  </a:lnTo>
                  <a:lnTo>
                    <a:pt x="29" y="59"/>
                  </a:lnTo>
                  <a:lnTo>
                    <a:pt x="0" y="12"/>
                  </a:lnTo>
                  <a:lnTo>
                    <a:pt x="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52440" y="3001320"/>
              <a:ext cx="12240" cy="12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23" y="0"/>
                  </a:moveTo>
                  <a:lnTo>
                    <a:pt x="35" y="6"/>
                  </a:lnTo>
                  <a:lnTo>
                    <a:pt x="12" y="35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49200" y="2988360"/>
              <a:ext cx="6120" cy="126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6" y="0"/>
                  </a:moveTo>
                  <a:lnTo>
                    <a:pt x="18" y="23"/>
                  </a:lnTo>
                  <a:lnTo>
                    <a:pt x="6" y="3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043080" y="2993400"/>
              <a:ext cx="4320" cy="1044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11" y="24"/>
                  </a:lnTo>
                  <a:lnTo>
                    <a:pt x="0" y="3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74760" y="30186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30120" y="3052080"/>
              <a:ext cx="53640" cy="5040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42" y="5"/>
                  </a:moveTo>
                  <a:lnTo>
                    <a:pt x="7" y="0"/>
                  </a:lnTo>
                  <a:lnTo>
                    <a:pt x="7" y="18"/>
                  </a:lnTo>
                  <a:lnTo>
                    <a:pt x="30" y="12"/>
                  </a:lnTo>
                  <a:lnTo>
                    <a:pt x="42" y="12"/>
                  </a:lnTo>
                  <a:lnTo>
                    <a:pt x="30" y="24"/>
                  </a:lnTo>
                  <a:lnTo>
                    <a:pt x="13" y="18"/>
                  </a:lnTo>
                  <a:lnTo>
                    <a:pt x="0" y="35"/>
                  </a:lnTo>
                  <a:lnTo>
                    <a:pt x="36" y="35"/>
                  </a:lnTo>
                  <a:lnTo>
                    <a:pt x="24" y="52"/>
                  </a:lnTo>
                  <a:lnTo>
                    <a:pt x="66" y="59"/>
                  </a:lnTo>
                  <a:lnTo>
                    <a:pt x="30" y="76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66" y="106"/>
                  </a:lnTo>
                  <a:lnTo>
                    <a:pt x="107" y="88"/>
                  </a:lnTo>
                  <a:lnTo>
                    <a:pt x="72" y="118"/>
                  </a:lnTo>
                  <a:lnTo>
                    <a:pt x="130" y="141"/>
                  </a:lnTo>
                  <a:lnTo>
                    <a:pt x="148" y="118"/>
                  </a:lnTo>
                  <a:lnTo>
                    <a:pt x="148" y="88"/>
                  </a:lnTo>
                  <a:lnTo>
                    <a:pt x="119" y="71"/>
                  </a:lnTo>
                  <a:lnTo>
                    <a:pt x="119" y="24"/>
                  </a:lnTo>
                  <a:lnTo>
                    <a:pt x="42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093840" y="30949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87360" y="3096360"/>
              <a:ext cx="1440" cy="144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90600" y="3101040"/>
              <a:ext cx="4320" cy="93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0"/>
                  </a:moveTo>
                  <a:lnTo>
                    <a:pt x="12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985840" y="34009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81160" y="34023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04920" y="34135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00240" y="3424680"/>
              <a:ext cx="2520" cy="4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6" y="13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77600" y="5631120"/>
              <a:ext cx="63000" cy="16920"/>
            </a:xfrm>
            <a:custGeom>
              <a:avLst/>
              <a:gdLst/>
              <a:ahLst/>
              <a:rect l="l" t="t" r="r" b="b"/>
              <a:pathLst>
                <a:path w="178" h="49">
                  <a:moveTo>
                    <a:pt x="23" y="19"/>
                  </a:moveTo>
                  <a:lnTo>
                    <a:pt x="0" y="0"/>
                  </a:lnTo>
                  <a:lnTo>
                    <a:pt x="48" y="13"/>
                  </a:lnTo>
                  <a:lnTo>
                    <a:pt x="76" y="13"/>
                  </a:lnTo>
                  <a:lnTo>
                    <a:pt x="101" y="30"/>
                  </a:lnTo>
                  <a:lnTo>
                    <a:pt x="124" y="25"/>
                  </a:lnTo>
                  <a:lnTo>
                    <a:pt x="177" y="48"/>
                  </a:lnTo>
                  <a:lnTo>
                    <a:pt x="76" y="36"/>
                  </a:lnTo>
                  <a:lnTo>
                    <a:pt x="23" y="1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39520" y="5639040"/>
              <a:ext cx="56880" cy="10800"/>
            </a:xfrm>
            <a:custGeom>
              <a:avLst/>
              <a:gdLst/>
              <a:ahLst/>
              <a:rect l="l" t="t" r="r" b="b"/>
              <a:pathLst>
                <a:path w="160" h="29">
                  <a:moveTo>
                    <a:pt x="47" y="28"/>
                  </a:moveTo>
                  <a:lnTo>
                    <a:pt x="0" y="0"/>
                  </a:lnTo>
                  <a:lnTo>
                    <a:pt x="159" y="5"/>
                  </a:lnTo>
                  <a:lnTo>
                    <a:pt x="130" y="28"/>
                  </a:lnTo>
                  <a:lnTo>
                    <a:pt x="47" y="2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166920" y="5721480"/>
              <a:ext cx="72360" cy="15480"/>
            </a:xfrm>
            <a:custGeom>
              <a:avLst/>
              <a:gdLst/>
              <a:ahLst/>
              <a:rect l="l" t="t" r="r" b="b"/>
              <a:pathLst>
                <a:path w="201" h="43">
                  <a:moveTo>
                    <a:pt x="106" y="7"/>
                  </a:moveTo>
                  <a:lnTo>
                    <a:pt x="30" y="0"/>
                  </a:lnTo>
                  <a:lnTo>
                    <a:pt x="0" y="13"/>
                  </a:lnTo>
                  <a:lnTo>
                    <a:pt x="65" y="30"/>
                  </a:lnTo>
                  <a:lnTo>
                    <a:pt x="200" y="42"/>
                  </a:lnTo>
                  <a:lnTo>
                    <a:pt x="189" y="30"/>
                  </a:lnTo>
                  <a:lnTo>
                    <a:pt x="106" y="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151760" y="5696280"/>
              <a:ext cx="37800" cy="10800"/>
            </a:xfrm>
            <a:custGeom>
              <a:avLst/>
              <a:gdLst/>
              <a:ahLst/>
              <a:rect l="l" t="t" r="r" b="b"/>
              <a:pathLst>
                <a:path w="107" h="31">
                  <a:moveTo>
                    <a:pt x="0" y="30"/>
                  </a:moveTo>
                  <a:lnTo>
                    <a:pt x="106" y="12"/>
                  </a:lnTo>
                  <a:lnTo>
                    <a:pt x="41" y="0"/>
                  </a:lnTo>
                  <a:lnTo>
                    <a:pt x="11" y="12"/>
                  </a:lnTo>
                  <a:lnTo>
                    <a:pt x="0" y="3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777480" y="5605560"/>
              <a:ext cx="93600" cy="15480"/>
            </a:xfrm>
            <a:custGeom>
              <a:avLst/>
              <a:gdLst/>
              <a:ahLst/>
              <a:rect l="l" t="t" r="r" b="b"/>
              <a:pathLst>
                <a:path w="260" h="43">
                  <a:moveTo>
                    <a:pt x="248" y="42"/>
                  </a:moveTo>
                  <a:lnTo>
                    <a:pt x="0" y="23"/>
                  </a:lnTo>
                  <a:lnTo>
                    <a:pt x="47" y="6"/>
                  </a:lnTo>
                  <a:lnTo>
                    <a:pt x="70" y="18"/>
                  </a:lnTo>
                  <a:lnTo>
                    <a:pt x="123" y="18"/>
                  </a:lnTo>
                  <a:lnTo>
                    <a:pt x="100" y="0"/>
                  </a:lnTo>
                  <a:lnTo>
                    <a:pt x="141" y="6"/>
                  </a:lnTo>
                  <a:lnTo>
                    <a:pt x="153" y="23"/>
                  </a:lnTo>
                  <a:lnTo>
                    <a:pt x="147" y="6"/>
                  </a:lnTo>
                  <a:lnTo>
                    <a:pt x="182" y="23"/>
                  </a:lnTo>
                  <a:lnTo>
                    <a:pt x="170" y="6"/>
                  </a:lnTo>
                  <a:lnTo>
                    <a:pt x="206" y="6"/>
                  </a:lnTo>
                  <a:lnTo>
                    <a:pt x="188" y="23"/>
                  </a:lnTo>
                  <a:lnTo>
                    <a:pt x="248" y="23"/>
                  </a:lnTo>
                  <a:lnTo>
                    <a:pt x="212" y="29"/>
                  </a:lnTo>
                  <a:lnTo>
                    <a:pt x="259" y="29"/>
                  </a:lnTo>
                  <a:lnTo>
                    <a:pt x="248" y="4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096800" y="5621400"/>
              <a:ext cx="18720" cy="1080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3" y="6"/>
                  </a:moveTo>
                  <a:lnTo>
                    <a:pt x="23" y="29"/>
                  </a:lnTo>
                  <a:lnTo>
                    <a:pt x="0" y="18"/>
                  </a:lnTo>
                  <a:lnTo>
                    <a:pt x="17" y="0"/>
                  </a:lnTo>
                  <a:lnTo>
                    <a:pt x="53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36400" y="5626440"/>
              <a:ext cx="26640" cy="1224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59" y="6"/>
                  </a:moveTo>
                  <a:lnTo>
                    <a:pt x="76" y="36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9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18760" y="5554800"/>
              <a:ext cx="101520" cy="68040"/>
            </a:xfrm>
            <a:custGeom>
              <a:avLst/>
              <a:gdLst/>
              <a:ahLst/>
              <a:rect l="l" t="t" r="r" b="b"/>
              <a:pathLst>
                <a:path w="284" h="189">
                  <a:moveTo>
                    <a:pt x="171" y="188"/>
                  </a:moveTo>
                  <a:lnTo>
                    <a:pt x="153" y="170"/>
                  </a:lnTo>
                  <a:lnTo>
                    <a:pt x="212" y="170"/>
                  </a:lnTo>
                  <a:lnTo>
                    <a:pt x="148" y="141"/>
                  </a:lnTo>
                  <a:lnTo>
                    <a:pt x="136" y="153"/>
                  </a:lnTo>
                  <a:lnTo>
                    <a:pt x="95" y="147"/>
                  </a:lnTo>
                  <a:lnTo>
                    <a:pt x="100" y="164"/>
                  </a:lnTo>
                  <a:lnTo>
                    <a:pt x="0" y="130"/>
                  </a:lnTo>
                  <a:lnTo>
                    <a:pt x="42" y="141"/>
                  </a:lnTo>
                  <a:lnTo>
                    <a:pt x="23" y="117"/>
                  </a:lnTo>
                  <a:lnTo>
                    <a:pt x="83" y="130"/>
                  </a:lnTo>
                  <a:lnTo>
                    <a:pt x="53" y="117"/>
                  </a:lnTo>
                  <a:lnTo>
                    <a:pt x="112" y="123"/>
                  </a:lnTo>
                  <a:lnTo>
                    <a:pt x="76" y="112"/>
                  </a:lnTo>
                  <a:lnTo>
                    <a:pt x="89" y="106"/>
                  </a:lnTo>
                  <a:lnTo>
                    <a:pt x="165" y="106"/>
                  </a:lnTo>
                  <a:lnTo>
                    <a:pt x="112" y="77"/>
                  </a:lnTo>
                  <a:lnTo>
                    <a:pt x="165" y="70"/>
                  </a:lnTo>
                  <a:lnTo>
                    <a:pt x="83" y="53"/>
                  </a:lnTo>
                  <a:lnTo>
                    <a:pt x="47" y="12"/>
                  </a:lnTo>
                  <a:lnTo>
                    <a:pt x="100" y="0"/>
                  </a:lnTo>
                  <a:lnTo>
                    <a:pt x="123" y="12"/>
                  </a:lnTo>
                  <a:lnTo>
                    <a:pt x="283" y="141"/>
                  </a:lnTo>
                  <a:lnTo>
                    <a:pt x="271" y="188"/>
                  </a:lnTo>
                  <a:lnTo>
                    <a:pt x="171" y="18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088880" y="5567760"/>
              <a:ext cx="23400" cy="7560"/>
            </a:xfrm>
            <a:custGeom>
              <a:avLst/>
              <a:gdLst/>
              <a:ahLst/>
              <a:rect l="l" t="t" r="r" b="b"/>
              <a:pathLst>
                <a:path w="67" h="24">
                  <a:moveTo>
                    <a:pt x="66" y="23"/>
                  </a:moveTo>
                  <a:lnTo>
                    <a:pt x="19" y="23"/>
                  </a:lnTo>
                  <a:lnTo>
                    <a:pt x="0" y="5"/>
                  </a:lnTo>
                  <a:lnTo>
                    <a:pt x="30" y="0"/>
                  </a:lnTo>
                  <a:lnTo>
                    <a:pt x="66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56920" y="5515200"/>
              <a:ext cx="17280" cy="2016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47"/>
                  </a:moveTo>
                  <a:lnTo>
                    <a:pt x="36" y="0"/>
                  </a:lnTo>
                  <a:lnTo>
                    <a:pt x="47" y="47"/>
                  </a:lnTo>
                  <a:lnTo>
                    <a:pt x="24" y="58"/>
                  </a:lnTo>
                  <a:lnTo>
                    <a:pt x="0" y="4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198320" y="5469120"/>
              <a:ext cx="21960" cy="1080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0" y="24"/>
                  </a:moveTo>
                  <a:lnTo>
                    <a:pt x="36" y="0"/>
                  </a:lnTo>
                  <a:lnTo>
                    <a:pt x="36" y="18"/>
                  </a:lnTo>
                  <a:lnTo>
                    <a:pt x="60" y="18"/>
                  </a:lnTo>
                  <a:lnTo>
                    <a:pt x="30" y="29"/>
                  </a:lnTo>
                  <a:lnTo>
                    <a:pt x="0" y="2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23880" y="5436000"/>
              <a:ext cx="15480" cy="756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0" y="6"/>
                  </a:moveTo>
                  <a:lnTo>
                    <a:pt x="42" y="0"/>
                  </a:lnTo>
                  <a:lnTo>
                    <a:pt x="42" y="19"/>
                  </a:lnTo>
                  <a:lnTo>
                    <a:pt x="0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50520" y="54295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295160" y="5409360"/>
              <a:ext cx="10800" cy="432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5" y="11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5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299840" y="5448600"/>
              <a:ext cx="18720" cy="576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17"/>
                  </a:moveTo>
                  <a:lnTo>
                    <a:pt x="12" y="0"/>
                  </a:lnTo>
                  <a:lnTo>
                    <a:pt x="53" y="6"/>
                  </a:lnTo>
                  <a:lnTo>
                    <a:pt x="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276080" y="5461200"/>
              <a:ext cx="20160" cy="1224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28" y="34"/>
                  </a:moveTo>
                  <a:lnTo>
                    <a:pt x="0" y="11"/>
                  </a:lnTo>
                  <a:lnTo>
                    <a:pt x="17" y="0"/>
                  </a:lnTo>
                  <a:lnTo>
                    <a:pt x="23" y="11"/>
                  </a:lnTo>
                  <a:lnTo>
                    <a:pt x="58" y="17"/>
                  </a:lnTo>
                  <a:lnTo>
                    <a:pt x="28" y="3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134960" y="5696280"/>
              <a:ext cx="99360" cy="15480"/>
            </a:xfrm>
            <a:custGeom>
              <a:avLst/>
              <a:gdLst/>
              <a:ahLst/>
              <a:rect l="l" t="t" r="r" b="b"/>
              <a:pathLst>
                <a:path w="277" h="42">
                  <a:moveTo>
                    <a:pt x="276" y="12"/>
                  </a:moveTo>
                  <a:lnTo>
                    <a:pt x="236" y="41"/>
                  </a:lnTo>
                  <a:lnTo>
                    <a:pt x="88" y="30"/>
                  </a:lnTo>
                  <a:lnTo>
                    <a:pt x="58" y="1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76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277520" y="5715360"/>
              <a:ext cx="44280" cy="18720"/>
            </a:xfrm>
            <a:custGeom>
              <a:avLst/>
              <a:gdLst/>
              <a:ahLst/>
              <a:rect l="l" t="t" r="r" b="b"/>
              <a:pathLst>
                <a:path w="125" h="54">
                  <a:moveTo>
                    <a:pt x="124" y="0"/>
                  </a:moveTo>
                  <a:lnTo>
                    <a:pt x="53" y="41"/>
                  </a:lnTo>
                  <a:lnTo>
                    <a:pt x="71" y="53"/>
                  </a:lnTo>
                  <a:lnTo>
                    <a:pt x="0" y="41"/>
                  </a:lnTo>
                  <a:lnTo>
                    <a:pt x="48" y="11"/>
                  </a:lnTo>
                  <a:lnTo>
                    <a:pt x="12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350600" y="5739120"/>
              <a:ext cx="75960" cy="15480"/>
            </a:xfrm>
            <a:custGeom>
              <a:avLst/>
              <a:gdLst/>
              <a:ahLst/>
              <a:rect l="l" t="t" r="r" b="b"/>
              <a:pathLst>
                <a:path w="213" h="43">
                  <a:moveTo>
                    <a:pt x="200" y="0"/>
                  </a:moveTo>
                  <a:lnTo>
                    <a:pt x="212" y="42"/>
                  </a:lnTo>
                  <a:lnTo>
                    <a:pt x="0" y="13"/>
                  </a:lnTo>
                  <a:lnTo>
                    <a:pt x="136" y="24"/>
                  </a:lnTo>
                  <a:lnTo>
                    <a:pt x="177" y="13"/>
                  </a:lnTo>
                  <a:lnTo>
                    <a:pt x="20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84160" y="5708880"/>
              <a:ext cx="129600" cy="42480"/>
            </a:xfrm>
            <a:custGeom>
              <a:avLst/>
              <a:gdLst/>
              <a:ahLst/>
              <a:rect l="l" t="t" r="r" b="b"/>
              <a:pathLst>
                <a:path w="361" h="118">
                  <a:moveTo>
                    <a:pt x="201" y="0"/>
                  </a:moveTo>
                  <a:lnTo>
                    <a:pt x="289" y="17"/>
                  </a:lnTo>
                  <a:lnTo>
                    <a:pt x="295" y="28"/>
                  </a:lnTo>
                  <a:lnTo>
                    <a:pt x="236" y="41"/>
                  </a:lnTo>
                  <a:lnTo>
                    <a:pt x="313" y="41"/>
                  </a:lnTo>
                  <a:lnTo>
                    <a:pt x="301" y="58"/>
                  </a:lnTo>
                  <a:lnTo>
                    <a:pt x="342" y="58"/>
                  </a:lnTo>
                  <a:lnTo>
                    <a:pt x="360" y="81"/>
                  </a:lnTo>
                  <a:lnTo>
                    <a:pt x="319" y="100"/>
                  </a:lnTo>
                  <a:lnTo>
                    <a:pt x="118" y="117"/>
                  </a:lnTo>
                  <a:lnTo>
                    <a:pt x="35" y="117"/>
                  </a:lnTo>
                  <a:lnTo>
                    <a:pt x="0" y="111"/>
                  </a:lnTo>
                  <a:lnTo>
                    <a:pt x="35" y="41"/>
                  </a:lnTo>
                  <a:lnTo>
                    <a:pt x="136" y="5"/>
                  </a:lnTo>
                  <a:lnTo>
                    <a:pt x="20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Погод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580000" y="4140360"/>
            <a:ext cx="494352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Города Ковров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207080" y="3397320"/>
            <a:ext cx="4992120" cy="2460240"/>
            <a:chOff x="1207080" y="3397320"/>
            <a:chExt cx="4992120" cy="2460240"/>
          </a:xfrm>
        </p:grpSpPr>
        <p:grpSp>
          <p:nvGrpSpPr>
            <p:cNvPr id="884" name=""/>
            <p:cNvGrpSpPr/>
            <p:nvPr/>
          </p:nvGrpSpPr>
          <p:grpSpPr>
            <a:xfrm>
              <a:off x="1372680" y="3459240"/>
              <a:ext cx="532440" cy="2377080"/>
              <a:chOff x="1372680" y="3459240"/>
              <a:chExt cx="532440" cy="2377080"/>
            </a:xfrm>
          </p:grpSpPr>
          <p:sp>
            <p:nvSpPr>
              <p:cNvPr id="885" name=""/>
              <p:cNvSpPr/>
              <p:nvPr/>
            </p:nvSpPr>
            <p:spPr>
              <a:xfrm rot="19740000">
                <a:off x="1656360" y="4829040"/>
                <a:ext cx="61560" cy="315000"/>
              </a:xfrm>
              <a:custGeom>
                <a:avLst/>
                <a:gdLst>
                  <a:gd name="textAreaLeft" fmla="*/ 360 w 61560"/>
                  <a:gd name="textAreaRight" fmla="*/ 61200 w 6156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0009">
                    <a:moveTo>
                      <a:pt x="600" y="0"/>
                    </a:moveTo>
                    <a:arcTo wR="600" hR="600" stAng="16200000" swAng="-5400000"/>
                    <a:lnTo>
                      <a:pt x="0" y="109409"/>
                    </a:lnTo>
                    <a:arcTo wR="600" hR="600" stAng="10800000" swAng="-5400000"/>
                    <a:lnTo>
                      <a:pt x="21000" y="11000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9740000">
                <a:off x="1559880" y="4129920"/>
                <a:ext cx="61560" cy="316800"/>
              </a:xfrm>
              <a:custGeom>
                <a:avLst/>
                <a:gdLst>
                  <a:gd name="textAreaLeft" fmla="*/ 360 w 61560"/>
                  <a:gd name="textAreaRight" fmla="*/ 61200 w 61560"/>
                  <a:gd name="textAreaTop" fmla="*/ 360 h 316800"/>
                  <a:gd name="textAreaBottom" fmla="*/ 316440 h 316800"/>
                </a:gdLst>
                <a:ahLst/>
                <a:rect l="textAreaLeft" t="textAreaTop" r="textAreaRight" b="textAreaBottom"/>
                <a:pathLst>
                  <a:path w="21600" h="110637">
                    <a:moveTo>
                      <a:pt x="600" y="0"/>
                    </a:moveTo>
                    <a:arcTo wR="600" hR="600" stAng="16200000" swAng="-5400000"/>
                    <a:lnTo>
                      <a:pt x="0" y="110037"/>
                    </a:lnTo>
                    <a:arcTo wR="600" hR="600" stAng="10800000" swAng="-5400000"/>
                    <a:lnTo>
                      <a:pt x="21000" y="110637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9740000">
                <a:off x="1766880" y="5527800"/>
                <a:ext cx="61560" cy="315000"/>
              </a:xfrm>
              <a:custGeom>
                <a:avLst/>
                <a:gdLst>
                  <a:gd name="textAreaLeft" fmla="*/ 360 w 61560"/>
                  <a:gd name="textAreaRight" fmla="*/ 61200 w 6156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0009">
                    <a:moveTo>
                      <a:pt x="600" y="0"/>
                    </a:moveTo>
                    <a:arcTo wR="600" hR="600" stAng="16200000" swAng="-5400000"/>
                    <a:lnTo>
                      <a:pt x="0" y="109409"/>
                    </a:lnTo>
                    <a:arcTo wR="600" hR="600" stAng="10800000" swAng="-5400000"/>
                    <a:lnTo>
                      <a:pt x="21000" y="11000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9740000">
                <a:off x="1449360" y="345276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1996560" y="3459240"/>
              <a:ext cx="532440" cy="2377080"/>
              <a:chOff x="1996560" y="3459240"/>
              <a:chExt cx="532440" cy="2377080"/>
            </a:xfrm>
          </p:grpSpPr>
          <p:sp>
            <p:nvSpPr>
              <p:cNvPr id="890" name=""/>
              <p:cNvSpPr/>
              <p:nvPr/>
            </p:nvSpPr>
            <p:spPr>
              <a:xfrm rot="19740000">
                <a:off x="2278440" y="482940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9740000">
                <a:off x="2181960" y="4129560"/>
                <a:ext cx="61920" cy="3168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6800"/>
                  <a:gd name="textAreaBottom" fmla="*/ 316440 h 316800"/>
                </a:gdLst>
                <a:ahLst/>
                <a:rect l="textAreaLeft" t="textAreaTop" r="textAreaRight" b="textAreaBottom"/>
                <a:pathLst>
                  <a:path w="21600" h="109998">
                    <a:moveTo>
                      <a:pt x="600" y="0"/>
                    </a:moveTo>
                    <a:arcTo wR="600" hR="600" stAng="16200000" swAng="-5400000"/>
                    <a:lnTo>
                      <a:pt x="0" y="109398"/>
                    </a:lnTo>
                    <a:arcTo wR="600" hR="600" stAng="10800000" swAng="-5400000"/>
                    <a:lnTo>
                      <a:pt x="21000" y="109998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9740000">
                <a:off x="2390760" y="5527800"/>
                <a:ext cx="61560" cy="315000"/>
              </a:xfrm>
              <a:custGeom>
                <a:avLst/>
                <a:gdLst>
                  <a:gd name="textAreaLeft" fmla="*/ 360 w 61560"/>
                  <a:gd name="textAreaRight" fmla="*/ 61200 w 6156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0009">
                    <a:moveTo>
                      <a:pt x="600" y="0"/>
                    </a:moveTo>
                    <a:arcTo wR="600" hR="600" stAng="16200000" swAng="-5400000"/>
                    <a:lnTo>
                      <a:pt x="0" y="109409"/>
                    </a:lnTo>
                    <a:arcTo wR="600" hR="600" stAng="10800000" swAng="-5400000"/>
                    <a:lnTo>
                      <a:pt x="21000" y="11000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9740000">
                <a:off x="2073240" y="345276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2631600" y="3397320"/>
              <a:ext cx="532440" cy="2377080"/>
              <a:chOff x="2631600" y="3397320"/>
              <a:chExt cx="532440" cy="2377080"/>
            </a:xfrm>
          </p:grpSpPr>
          <p:sp>
            <p:nvSpPr>
              <p:cNvPr id="895" name=""/>
              <p:cNvSpPr/>
              <p:nvPr/>
            </p:nvSpPr>
            <p:spPr>
              <a:xfrm rot="19740000">
                <a:off x="2914920" y="476748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9740000">
                <a:off x="2817000" y="4067640"/>
                <a:ext cx="61920" cy="3168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6800"/>
                  <a:gd name="textAreaBottom" fmla="*/ 316440 h 316800"/>
                </a:gdLst>
                <a:ahLst/>
                <a:rect l="textAreaLeft" t="textAreaTop" r="textAreaRight" b="textAreaBottom"/>
                <a:pathLst>
                  <a:path w="21600" h="109998">
                    <a:moveTo>
                      <a:pt x="600" y="0"/>
                    </a:moveTo>
                    <a:arcTo wR="600" hR="600" stAng="16200000" swAng="-5400000"/>
                    <a:lnTo>
                      <a:pt x="0" y="109398"/>
                    </a:lnTo>
                    <a:arcTo wR="600" hR="600" stAng="10800000" swAng="-5400000"/>
                    <a:lnTo>
                      <a:pt x="21000" y="109998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9740000">
                <a:off x="3025800" y="5465880"/>
                <a:ext cx="61560" cy="315000"/>
              </a:xfrm>
              <a:custGeom>
                <a:avLst/>
                <a:gdLst>
                  <a:gd name="textAreaLeft" fmla="*/ 360 w 61560"/>
                  <a:gd name="textAreaRight" fmla="*/ 61200 w 6156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0009">
                    <a:moveTo>
                      <a:pt x="600" y="0"/>
                    </a:moveTo>
                    <a:arcTo wR="600" hR="600" stAng="16200000" swAng="-5400000"/>
                    <a:lnTo>
                      <a:pt x="0" y="109409"/>
                    </a:lnTo>
                    <a:arcTo wR="600" hR="600" stAng="10800000" swAng="-5400000"/>
                    <a:lnTo>
                      <a:pt x="21000" y="11000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9740000">
                <a:off x="2708280" y="339084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3254040" y="3397320"/>
              <a:ext cx="532440" cy="2377440"/>
              <a:chOff x="3254040" y="3397320"/>
              <a:chExt cx="532440" cy="2377440"/>
            </a:xfrm>
          </p:grpSpPr>
          <p:sp>
            <p:nvSpPr>
              <p:cNvPr id="900" name=""/>
              <p:cNvSpPr/>
              <p:nvPr/>
            </p:nvSpPr>
            <p:spPr>
              <a:xfrm rot="19740000">
                <a:off x="3537360" y="476748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9740000">
                <a:off x="3440880" y="4067640"/>
                <a:ext cx="61920" cy="3168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6800"/>
                  <a:gd name="textAreaBottom" fmla="*/ 316440 h 316800"/>
                </a:gdLst>
                <a:ahLst/>
                <a:rect l="textAreaLeft" t="textAreaTop" r="textAreaRight" b="textAreaBottom"/>
                <a:pathLst>
                  <a:path w="21600" h="109998">
                    <a:moveTo>
                      <a:pt x="600" y="0"/>
                    </a:moveTo>
                    <a:arcTo wR="600" hR="600" stAng="16200000" swAng="-5400000"/>
                    <a:lnTo>
                      <a:pt x="0" y="109398"/>
                    </a:lnTo>
                    <a:arcTo wR="600" hR="600" stAng="10800000" swAng="-5400000"/>
                    <a:lnTo>
                      <a:pt x="21000" y="109998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9740000">
                <a:off x="3647880" y="546624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9740000">
                <a:off x="3330720" y="339084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3950640" y="3459240"/>
              <a:ext cx="532440" cy="2377440"/>
              <a:chOff x="3950640" y="3459240"/>
              <a:chExt cx="532440" cy="2377440"/>
            </a:xfrm>
          </p:grpSpPr>
          <p:sp>
            <p:nvSpPr>
              <p:cNvPr id="905" name=""/>
              <p:cNvSpPr/>
              <p:nvPr/>
            </p:nvSpPr>
            <p:spPr>
              <a:xfrm rot="19740000">
                <a:off x="4233960" y="482940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9740000">
                <a:off x="4137480" y="4129560"/>
                <a:ext cx="61920" cy="3168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6800"/>
                  <a:gd name="textAreaBottom" fmla="*/ 316440 h 316800"/>
                </a:gdLst>
                <a:ahLst/>
                <a:rect l="textAreaLeft" t="textAreaTop" r="textAreaRight" b="textAreaBottom"/>
                <a:pathLst>
                  <a:path w="21600" h="109998">
                    <a:moveTo>
                      <a:pt x="600" y="0"/>
                    </a:moveTo>
                    <a:arcTo wR="600" hR="600" stAng="16200000" swAng="-5400000"/>
                    <a:lnTo>
                      <a:pt x="0" y="109398"/>
                    </a:lnTo>
                    <a:arcTo wR="600" hR="600" stAng="10800000" swAng="-5400000"/>
                    <a:lnTo>
                      <a:pt x="21000" y="109998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9740000">
                <a:off x="4344480" y="552816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9740000">
                <a:off x="4027320" y="3452400"/>
                <a:ext cx="61560" cy="315000"/>
              </a:xfrm>
              <a:custGeom>
                <a:avLst/>
                <a:gdLst>
                  <a:gd name="textAreaLeft" fmla="*/ 360 w 61560"/>
                  <a:gd name="textAreaRight" fmla="*/ 61200 w 6156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0009">
                    <a:moveTo>
                      <a:pt x="600" y="0"/>
                    </a:moveTo>
                    <a:arcTo wR="600" hR="600" stAng="16200000" swAng="-5400000"/>
                    <a:lnTo>
                      <a:pt x="0" y="109409"/>
                    </a:lnTo>
                    <a:arcTo wR="600" hR="600" stAng="10800000" swAng="-5400000"/>
                    <a:lnTo>
                      <a:pt x="21000" y="11000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4574520" y="3459240"/>
              <a:ext cx="532440" cy="2377440"/>
              <a:chOff x="4574520" y="3459240"/>
              <a:chExt cx="532440" cy="2377440"/>
            </a:xfrm>
          </p:grpSpPr>
          <p:sp>
            <p:nvSpPr>
              <p:cNvPr id="910" name=""/>
              <p:cNvSpPr/>
              <p:nvPr/>
            </p:nvSpPr>
            <p:spPr>
              <a:xfrm rot="19740000">
                <a:off x="4857840" y="482940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9740000">
                <a:off x="4761360" y="4129560"/>
                <a:ext cx="61920" cy="3168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6800"/>
                  <a:gd name="textAreaBottom" fmla="*/ 316440 h 316800"/>
                </a:gdLst>
                <a:ahLst/>
                <a:rect l="textAreaLeft" t="textAreaTop" r="textAreaRight" b="textAreaBottom"/>
                <a:pathLst>
                  <a:path w="21600" h="109998">
                    <a:moveTo>
                      <a:pt x="600" y="0"/>
                    </a:moveTo>
                    <a:arcTo wR="600" hR="600" stAng="16200000" swAng="-5400000"/>
                    <a:lnTo>
                      <a:pt x="0" y="109398"/>
                    </a:lnTo>
                    <a:arcTo wR="600" hR="600" stAng="10800000" swAng="-5400000"/>
                    <a:lnTo>
                      <a:pt x="21000" y="109998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19740000">
                <a:off x="4968360" y="552816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9740000">
                <a:off x="4651200" y="3452400"/>
                <a:ext cx="61560" cy="315000"/>
              </a:xfrm>
              <a:custGeom>
                <a:avLst/>
                <a:gdLst>
                  <a:gd name="textAreaLeft" fmla="*/ 360 w 61560"/>
                  <a:gd name="textAreaRight" fmla="*/ 61200 w 6156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0009">
                    <a:moveTo>
                      <a:pt x="600" y="0"/>
                    </a:moveTo>
                    <a:arcTo wR="600" hR="600" stAng="16200000" swAng="-5400000"/>
                    <a:lnTo>
                      <a:pt x="0" y="109409"/>
                    </a:lnTo>
                    <a:arcTo wR="600" hR="600" stAng="10800000" swAng="-5400000"/>
                    <a:lnTo>
                      <a:pt x="21000" y="11000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5209560" y="3397320"/>
              <a:ext cx="532440" cy="2377440"/>
              <a:chOff x="5209560" y="3397320"/>
              <a:chExt cx="532440" cy="2377440"/>
            </a:xfrm>
          </p:grpSpPr>
          <p:sp>
            <p:nvSpPr>
              <p:cNvPr id="915" name=""/>
              <p:cNvSpPr/>
              <p:nvPr/>
            </p:nvSpPr>
            <p:spPr>
              <a:xfrm rot="19740000">
                <a:off x="5492880" y="476748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9740000">
                <a:off x="5396400" y="4067640"/>
                <a:ext cx="61920" cy="3168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6800"/>
                  <a:gd name="textAreaBottom" fmla="*/ 316440 h 316800"/>
                </a:gdLst>
                <a:ahLst/>
                <a:rect l="textAreaLeft" t="textAreaTop" r="textAreaRight" b="textAreaBottom"/>
                <a:pathLst>
                  <a:path w="21600" h="109998">
                    <a:moveTo>
                      <a:pt x="600" y="0"/>
                    </a:moveTo>
                    <a:arcTo wR="600" hR="600" stAng="16200000" swAng="-5400000"/>
                    <a:lnTo>
                      <a:pt x="0" y="109398"/>
                    </a:lnTo>
                    <a:arcTo wR="600" hR="600" stAng="10800000" swAng="-5400000"/>
                    <a:lnTo>
                      <a:pt x="21000" y="109998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9740000">
                <a:off x="5603400" y="546624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9740000">
                <a:off x="5286240" y="3390480"/>
                <a:ext cx="61560" cy="315000"/>
              </a:xfrm>
              <a:custGeom>
                <a:avLst/>
                <a:gdLst>
                  <a:gd name="textAreaLeft" fmla="*/ 360 w 61560"/>
                  <a:gd name="textAreaRight" fmla="*/ 61200 w 6156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0009">
                    <a:moveTo>
                      <a:pt x="600" y="0"/>
                    </a:moveTo>
                    <a:arcTo wR="600" hR="600" stAng="16200000" swAng="-5400000"/>
                    <a:lnTo>
                      <a:pt x="0" y="109409"/>
                    </a:lnTo>
                    <a:arcTo wR="600" hR="600" stAng="10800000" swAng="-5400000"/>
                    <a:lnTo>
                      <a:pt x="21000" y="11000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1207080" y="3398400"/>
              <a:ext cx="4992120" cy="2459160"/>
              <a:chOff x="1207080" y="3398400"/>
              <a:chExt cx="4992120" cy="2459160"/>
            </a:xfrm>
          </p:grpSpPr>
          <p:sp>
            <p:nvSpPr>
              <p:cNvPr id="920" name=""/>
              <p:cNvSpPr/>
              <p:nvPr/>
            </p:nvSpPr>
            <p:spPr>
              <a:xfrm rot="19740000">
                <a:off x="6064560" y="4766760"/>
                <a:ext cx="57240" cy="315000"/>
              </a:xfrm>
              <a:custGeom>
                <a:avLst/>
                <a:gdLst>
                  <a:gd name="textAreaLeft" fmla="*/ 360 w 57240"/>
                  <a:gd name="textAreaRight" fmla="*/ 56880 w 5724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8260">
                    <a:moveTo>
                      <a:pt x="600" y="0"/>
                    </a:moveTo>
                    <a:arcTo wR="600" hR="600" stAng="16200000" swAng="-5400000"/>
                    <a:lnTo>
                      <a:pt x="0" y="117660"/>
                    </a:lnTo>
                    <a:arcTo wR="600" hR="600" stAng="10800000" swAng="-5400000"/>
                    <a:lnTo>
                      <a:pt x="21000" y="118260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9740000">
                <a:off x="5975640" y="4068000"/>
                <a:ext cx="57240" cy="316800"/>
              </a:xfrm>
              <a:custGeom>
                <a:avLst/>
                <a:gdLst>
                  <a:gd name="textAreaLeft" fmla="*/ 360 w 57240"/>
                  <a:gd name="textAreaRight" fmla="*/ 56880 w 57240"/>
                  <a:gd name="textAreaTop" fmla="*/ 360 h 316800"/>
                  <a:gd name="textAreaBottom" fmla="*/ 316440 h 316800"/>
                </a:gdLst>
                <a:ahLst/>
                <a:rect l="textAreaLeft" t="textAreaTop" r="textAreaRight" b="textAreaBottom"/>
                <a:pathLst>
                  <a:path w="21600" h="118935">
                    <a:moveTo>
                      <a:pt x="600" y="0"/>
                    </a:moveTo>
                    <a:arcTo wR="600" hR="600" stAng="16200000" swAng="-5400000"/>
                    <a:lnTo>
                      <a:pt x="0" y="118335"/>
                    </a:lnTo>
                    <a:arcTo wR="600" hR="600" stAng="10800000" swAng="-5400000"/>
                    <a:lnTo>
                      <a:pt x="21000" y="118935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9740000">
                <a:off x="1284120" y="5549760"/>
                <a:ext cx="56880" cy="315360"/>
              </a:xfrm>
              <a:custGeom>
                <a:avLst/>
                <a:gdLst>
                  <a:gd name="textAreaLeft" fmla="*/ 360 w 56880"/>
                  <a:gd name="textAreaRight" fmla="*/ 56520 w 56880"/>
                  <a:gd name="textAreaTop" fmla="*/ 360 h 315360"/>
                  <a:gd name="textAreaBottom" fmla="*/ 315000 h 315360"/>
                </a:gdLst>
                <a:ahLst/>
                <a:rect l="textAreaLeft" t="textAreaTop" r="textAreaRight" b="textAreaBottom"/>
                <a:pathLst>
                  <a:path w="21600" h="119140">
                    <a:moveTo>
                      <a:pt x="600" y="0"/>
                    </a:moveTo>
                    <a:arcTo wR="600" hR="600" stAng="16200000" swAng="-5400000"/>
                    <a:lnTo>
                      <a:pt x="0" y="118540"/>
                    </a:lnTo>
                    <a:arcTo wR="600" hR="600" stAng="10800000" swAng="-5400000"/>
                    <a:lnTo>
                      <a:pt x="21000" y="119140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9740000">
                <a:off x="5873040" y="3390480"/>
                <a:ext cx="57240" cy="315000"/>
              </a:xfrm>
              <a:custGeom>
                <a:avLst/>
                <a:gdLst>
                  <a:gd name="textAreaLeft" fmla="*/ 360 w 57240"/>
                  <a:gd name="textAreaRight" fmla="*/ 56880 w 5724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8260">
                    <a:moveTo>
                      <a:pt x="600" y="0"/>
                    </a:moveTo>
                    <a:arcTo wR="600" hR="600" stAng="16200000" swAng="-5400000"/>
                    <a:lnTo>
                      <a:pt x="0" y="117660"/>
                    </a:lnTo>
                    <a:arcTo wR="600" hR="600" stAng="10800000" swAng="-5400000"/>
                    <a:lnTo>
                      <a:pt x="21000" y="118260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719280" y="1835280"/>
            <a:ext cx="5733720" cy="2126880"/>
            <a:chOff x="719280" y="1835280"/>
            <a:chExt cx="5733720" cy="2126880"/>
          </a:xfrm>
        </p:grpSpPr>
        <p:sp>
          <p:nvSpPr>
            <p:cNvPr id="925" name=""/>
            <p:cNvSpPr/>
            <p:nvPr/>
          </p:nvSpPr>
          <p:spPr>
            <a:xfrm>
              <a:off x="3586680" y="1835280"/>
              <a:ext cx="2071080" cy="835920"/>
            </a:xfrm>
            <a:custGeom>
              <a:avLst/>
              <a:gdLst/>
              <a:ahLst/>
              <a:rect l="l" t="t" r="r" b="b"/>
              <a:pathLst>
                <a:path w="5756" h="2326">
                  <a:moveTo>
                    <a:pt x="0" y="802"/>
                  </a:moveTo>
                  <a:cubicBezTo>
                    <a:pt x="563" y="318"/>
                    <a:pt x="1524" y="0"/>
                    <a:pt x="2615" y="0"/>
                  </a:cubicBezTo>
                  <a:cubicBezTo>
                    <a:pt x="4349" y="0"/>
                    <a:pt x="5755" y="806"/>
                    <a:pt x="5755" y="1799"/>
                  </a:cubicBezTo>
                  <a:cubicBezTo>
                    <a:pt x="5755" y="1982"/>
                    <a:pt x="5707" y="2158"/>
                    <a:pt x="5618" y="2325"/>
                  </a:cubicBezTo>
                  <a:lnTo>
                    <a:pt x="0" y="80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91680" y="2667960"/>
              <a:ext cx="1561320" cy="1284840"/>
            </a:xfrm>
            <a:custGeom>
              <a:avLst/>
              <a:gdLst/>
              <a:ahLst/>
              <a:rect l="l" t="t" r="r" b="b"/>
              <a:pathLst>
                <a:path w="4340" h="3572">
                  <a:moveTo>
                    <a:pt x="1980" y="0"/>
                  </a:moveTo>
                  <a:cubicBezTo>
                    <a:pt x="3380" y="314"/>
                    <a:pt x="4339" y="949"/>
                    <a:pt x="4339" y="1682"/>
                  </a:cubicBezTo>
                  <a:cubicBezTo>
                    <a:pt x="4339" y="2725"/>
                    <a:pt x="2396" y="3571"/>
                    <a:pt x="0" y="3571"/>
                  </a:cubicBezTo>
                  <a:lnTo>
                    <a:pt x="198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19280" y="2658240"/>
              <a:ext cx="1401480" cy="1300680"/>
            </a:xfrm>
            <a:custGeom>
              <a:avLst/>
              <a:gdLst/>
              <a:ahLst/>
              <a:rect l="l" t="t" r="r" b="b"/>
              <a:pathLst>
                <a:path w="3892" h="3616">
                  <a:moveTo>
                    <a:pt x="3891" y="3614"/>
                  </a:moveTo>
                  <a:cubicBezTo>
                    <a:pt x="3870" y="3614"/>
                    <a:pt x="3849" y="3615"/>
                    <a:pt x="3828" y="3615"/>
                  </a:cubicBezTo>
                  <a:cubicBezTo>
                    <a:pt x="1714" y="3615"/>
                    <a:pt x="0" y="2755"/>
                    <a:pt x="0" y="1695"/>
                  </a:cubicBezTo>
                  <a:cubicBezTo>
                    <a:pt x="0" y="961"/>
                    <a:pt x="821" y="323"/>
                    <a:pt x="2028" y="0"/>
                  </a:cubicBezTo>
                  <a:lnTo>
                    <a:pt x="3891" y="361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374480" y="1941120"/>
              <a:ext cx="2234520" cy="721800"/>
            </a:xfrm>
            <a:custGeom>
              <a:avLst/>
              <a:gdLst/>
              <a:ahLst/>
              <a:rect l="l" t="t" r="r" b="b"/>
              <a:pathLst>
                <a:path w="6209" h="2005">
                  <a:moveTo>
                    <a:pt x="206" y="2004"/>
                  </a:moveTo>
                  <a:cubicBezTo>
                    <a:pt x="72" y="1846"/>
                    <a:pt x="0" y="1676"/>
                    <a:pt x="0" y="1499"/>
                  </a:cubicBezTo>
                  <a:cubicBezTo>
                    <a:pt x="0" y="672"/>
                    <a:pt x="1585" y="0"/>
                    <a:pt x="3540" y="0"/>
                  </a:cubicBezTo>
                  <a:cubicBezTo>
                    <a:pt x="4604" y="0"/>
                    <a:pt x="5559" y="199"/>
                    <a:pt x="6208" y="514"/>
                  </a:cubicBezTo>
                  <a:lnTo>
                    <a:pt x="206" y="200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90520" y="3957840"/>
              <a:ext cx="2807640" cy="1080"/>
            </a:xfrm>
            <a:custGeom>
              <a:avLst/>
              <a:gdLst/>
              <a:ahLst/>
              <a:rect l="l" t="t" r="r" b="b"/>
              <a:pathLst>
                <a:path w="7802" h="2">
                  <a:moveTo>
                    <a:pt x="7801" y="0"/>
                  </a:moveTo>
                  <a:lnTo>
                    <a:pt x="0" y="1"/>
                  </a:lnTo>
                  <a:lnTo>
                    <a:pt x="780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441080" y="2125440"/>
              <a:ext cx="4161240" cy="1836720"/>
            </a:xfrm>
            <a:custGeom>
              <a:avLst/>
              <a:gdLst/>
              <a:ahLst/>
              <a:rect l="l" t="t" r="r" b="b"/>
              <a:pathLst>
                <a:path w="11564" h="5107">
                  <a:moveTo>
                    <a:pt x="1866" y="5080"/>
                  </a:moveTo>
                  <a:lnTo>
                    <a:pt x="9631" y="5080"/>
                  </a:lnTo>
                  <a:lnTo>
                    <a:pt x="11563" y="1508"/>
                  </a:lnTo>
                  <a:lnTo>
                    <a:pt x="5967" y="0"/>
                  </a:lnTo>
                  <a:lnTo>
                    <a:pt x="0" y="1508"/>
                  </a:lnTo>
                  <a:lnTo>
                    <a:pt x="1879" y="5106"/>
                  </a:lnTo>
                  <a:lnTo>
                    <a:pt x="1866" y="508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20720" y="7207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Животный мир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Африк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944720" y="3780000"/>
            <a:ext cx="2268360" cy="1392120"/>
            <a:chOff x="1944720" y="3780000"/>
            <a:chExt cx="2268360" cy="1392120"/>
          </a:xfrm>
        </p:grpSpPr>
        <p:sp>
          <p:nvSpPr>
            <p:cNvPr id="934" name=""/>
            <p:cNvSpPr/>
            <p:nvPr/>
          </p:nvSpPr>
          <p:spPr>
            <a:xfrm>
              <a:off x="2196360" y="5012280"/>
              <a:ext cx="248400" cy="120240"/>
            </a:xfrm>
            <a:custGeom>
              <a:avLst/>
              <a:gdLst/>
              <a:ahLst/>
              <a:rect l="l" t="t" r="r" b="b"/>
              <a:pathLst>
                <a:path w="692" h="336">
                  <a:moveTo>
                    <a:pt x="0" y="0"/>
                  </a:moveTo>
                  <a:lnTo>
                    <a:pt x="40" y="166"/>
                  </a:lnTo>
                  <a:lnTo>
                    <a:pt x="218" y="278"/>
                  </a:lnTo>
                  <a:lnTo>
                    <a:pt x="606" y="335"/>
                  </a:lnTo>
                  <a:lnTo>
                    <a:pt x="691" y="201"/>
                  </a:lnTo>
                  <a:lnTo>
                    <a:pt x="432" y="140"/>
                  </a:lnTo>
                  <a:lnTo>
                    <a:pt x="46" y="12"/>
                  </a:lnTo>
                  <a:lnTo>
                    <a:pt x="0" y="0"/>
                  </a:ln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559240" y="5077080"/>
              <a:ext cx="253080" cy="69480"/>
            </a:xfrm>
            <a:custGeom>
              <a:avLst/>
              <a:gdLst/>
              <a:ahLst/>
              <a:rect l="l" t="t" r="r" b="b"/>
              <a:pathLst>
                <a:path w="707" h="194">
                  <a:moveTo>
                    <a:pt x="0" y="34"/>
                  </a:moveTo>
                  <a:lnTo>
                    <a:pt x="116" y="193"/>
                  </a:lnTo>
                  <a:lnTo>
                    <a:pt x="662" y="160"/>
                  </a:lnTo>
                  <a:lnTo>
                    <a:pt x="706" y="0"/>
                  </a:lnTo>
                  <a:lnTo>
                    <a:pt x="69" y="20"/>
                  </a:lnTo>
                  <a:lnTo>
                    <a:pt x="0" y="34"/>
                  </a:ln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56960" y="3800160"/>
              <a:ext cx="2236680" cy="1282680"/>
            </a:xfrm>
            <a:custGeom>
              <a:avLst/>
              <a:gdLst/>
              <a:ahLst/>
              <a:rect l="l" t="t" r="r" b="b"/>
              <a:pathLst>
                <a:path w="6227" h="3573">
                  <a:moveTo>
                    <a:pt x="1343" y="3531"/>
                  </a:moveTo>
                  <a:lnTo>
                    <a:pt x="1029" y="3508"/>
                  </a:lnTo>
                  <a:lnTo>
                    <a:pt x="698" y="3340"/>
                  </a:lnTo>
                  <a:lnTo>
                    <a:pt x="587" y="2409"/>
                  </a:lnTo>
                  <a:lnTo>
                    <a:pt x="488" y="2287"/>
                  </a:lnTo>
                  <a:lnTo>
                    <a:pt x="277" y="2595"/>
                  </a:lnTo>
                  <a:lnTo>
                    <a:pt x="0" y="2278"/>
                  </a:lnTo>
                  <a:lnTo>
                    <a:pt x="27" y="1699"/>
                  </a:lnTo>
                  <a:lnTo>
                    <a:pt x="138" y="1288"/>
                  </a:lnTo>
                  <a:lnTo>
                    <a:pt x="225" y="1219"/>
                  </a:lnTo>
                  <a:lnTo>
                    <a:pt x="411" y="953"/>
                  </a:lnTo>
                  <a:lnTo>
                    <a:pt x="959" y="627"/>
                  </a:lnTo>
                  <a:lnTo>
                    <a:pt x="1395" y="481"/>
                  </a:lnTo>
                  <a:lnTo>
                    <a:pt x="1937" y="423"/>
                  </a:lnTo>
                  <a:lnTo>
                    <a:pt x="3076" y="411"/>
                  </a:lnTo>
                  <a:lnTo>
                    <a:pt x="4329" y="134"/>
                  </a:lnTo>
                  <a:lnTo>
                    <a:pt x="4614" y="36"/>
                  </a:lnTo>
                  <a:lnTo>
                    <a:pt x="4841" y="0"/>
                  </a:lnTo>
                  <a:lnTo>
                    <a:pt x="5016" y="5"/>
                  </a:lnTo>
                  <a:lnTo>
                    <a:pt x="5231" y="63"/>
                  </a:lnTo>
                  <a:lnTo>
                    <a:pt x="5674" y="271"/>
                  </a:lnTo>
                  <a:lnTo>
                    <a:pt x="6035" y="727"/>
                  </a:lnTo>
                  <a:lnTo>
                    <a:pt x="6226" y="1582"/>
                  </a:lnTo>
                  <a:lnTo>
                    <a:pt x="6185" y="1949"/>
                  </a:lnTo>
                  <a:lnTo>
                    <a:pt x="6157" y="3030"/>
                  </a:lnTo>
                  <a:lnTo>
                    <a:pt x="6052" y="3165"/>
                  </a:lnTo>
                  <a:lnTo>
                    <a:pt x="5708" y="3119"/>
                  </a:lnTo>
                  <a:lnTo>
                    <a:pt x="5668" y="2979"/>
                  </a:lnTo>
                  <a:lnTo>
                    <a:pt x="5864" y="2648"/>
                  </a:lnTo>
                  <a:lnTo>
                    <a:pt x="5849" y="2029"/>
                  </a:lnTo>
                  <a:lnTo>
                    <a:pt x="5698" y="1235"/>
                  </a:lnTo>
                  <a:lnTo>
                    <a:pt x="5302" y="1330"/>
                  </a:lnTo>
                  <a:lnTo>
                    <a:pt x="5103" y="1782"/>
                  </a:lnTo>
                  <a:lnTo>
                    <a:pt x="4865" y="1994"/>
                  </a:lnTo>
                  <a:lnTo>
                    <a:pt x="4865" y="2522"/>
                  </a:lnTo>
                  <a:lnTo>
                    <a:pt x="4940" y="2970"/>
                  </a:lnTo>
                  <a:lnTo>
                    <a:pt x="4928" y="3133"/>
                  </a:lnTo>
                  <a:lnTo>
                    <a:pt x="4487" y="3051"/>
                  </a:lnTo>
                  <a:lnTo>
                    <a:pt x="4499" y="3431"/>
                  </a:lnTo>
                  <a:lnTo>
                    <a:pt x="4161" y="3368"/>
                  </a:lnTo>
                  <a:lnTo>
                    <a:pt x="3765" y="3346"/>
                  </a:lnTo>
                  <a:lnTo>
                    <a:pt x="3852" y="2879"/>
                  </a:lnTo>
                  <a:lnTo>
                    <a:pt x="3537" y="2885"/>
                  </a:lnTo>
                  <a:lnTo>
                    <a:pt x="2712" y="2867"/>
                  </a:lnTo>
                  <a:lnTo>
                    <a:pt x="2526" y="2939"/>
                  </a:lnTo>
                  <a:lnTo>
                    <a:pt x="2386" y="3119"/>
                  </a:lnTo>
                  <a:lnTo>
                    <a:pt x="2362" y="3477"/>
                  </a:lnTo>
                  <a:lnTo>
                    <a:pt x="2332" y="3572"/>
                  </a:lnTo>
                  <a:lnTo>
                    <a:pt x="1721" y="3563"/>
                  </a:lnTo>
                  <a:lnTo>
                    <a:pt x="1717" y="3254"/>
                  </a:lnTo>
                  <a:lnTo>
                    <a:pt x="1739" y="3042"/>
                  </a:lnTo>
                  <a:lnTo>
                    <a:pt x="1302" y="2844"/>
                  </a:lnTo>
                  <a:lnTo>
                    <a:pt x="1302" y="3051"/>
                  </a:lnTo>
                  <a:lnTo>
                    <a:pt x="1389" y="3440"/>
                  </a:lnTo>
                  <a:lnTo>
                    <a:pt x="1395" y="3440"/>
                  </a:lnTo>
                  <a:lnTo>
                    <a:pt x="1343" y="3531"/>
                  </a:lnTo>
                </a:path>
              </a:pathLst>
            </a:cu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08400" y="4999320"/>
              <a:ext cx="248400" cy="120600"/>
            </a:xfrm>
            <a:custGeom>
              <a:avLst/>
              <a:gdLst/>
              <a:ahLst/>
              <a:rect l="l" t="t" r="r" b="b"/>
              <a:pathLst>
                <a:path w="692" h="335">
                  <a:moveTo>
                    <a:pt x="0" y="0"/>
                  </a:moveTo>
                  <a:lnTo>
                    <a:pt x="40" y="165"/>
                  </a:lnTo>
                  <a:lnTo>
                    <a:pt x="608" y="334"/>
                  </a:lnTo>
                  <a:lnTo>
                    <a:pt x="691" y="201"/>
                  </a:lnTo>
                  <a:lnTo>
                    <a:pt x="453" y="68"/>
                  </a:lnTo>
                  <a:lnTo>
                    <a:pt x="46" y="11"/>
                  </a:lnTo>
                  <a:lnTo>
                    <a:pt x="0" y="0"/>
                  </a:ln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566520" y="4864680"/>
              <a:ext cx="178560" cy="107280"/>
            </a:xfrm>
            <a:custGeom>
              <a:avLst/>
              <a:gdLst/>
              <a:ahLst/>
              <a:rect l="l" t="t" r="r" b="b"/>
              <a:pathLst>
                <a:path w="498" h="301">
                  <a:moveTo>
                    <a:pt x="0" y="237"/>
                  </a:moveTo>
                  <a:lnTo>
                    <a:pt x="238" y="300"/>
                  </a:lnTo>
                  <a:lnTo>
                    <a:pt x="416" y="161"/>
                  </a:lnTo>
                  <a:lnTo>
                    <a:pt x="497" y="0"/>
                  </a:lnTo>
                  <a:lnTo>
                    <a:pt x="14" y="82"/>
                  </a:lnTo>
                  <a:lnTo>
                    <a:pt x="0" y="237"/>
                  </a:ln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44720" y="3780000"/>
              <a:ext cx="2268360" cy="1392120"/>
            </a:xfrm>
            <a:custGeom>
              <a:avLst/>
              <a:gdLst/>
              <a:ahLst/>
              <a:rect l="l" t="t" r="r" b="b"/>
              <a:pathLst>
                <a:path w="6313" h="3874">
                  <a:moveTo>
                    <a:pt x="4990" y="0"/>
                  </a:moveTo>
                  <a:cubicBezTo>
                    <a:pt x="5196" y="58"/>
                    <a:pt x="5400" y="117"/>
                    <a:pt x="5606" y="177"/>
                  </a:cubicBezTo>
                  <a:cubicBezTo>
                    <a:pt x="5663" y="221"/>
                    <a:pt x="5720" y="266"/>
                    <a:pt x="5780" y="310"/>
                  </a:cubicBezTo>
                  <a:cubicBezTo>
                    <a:pt x="5894" y="489"/>
                    <a:pt x="6009" y="667"/>
                    <a:pt x="6126" y="847"/>
                  </a:cubicBezTo>
                  <a:cubicBezTo>
                    <a:pt x="6183" y="1042"/>
                    <a:pt x="6239" y="1239"/>
                    <a:pt x="6300" y="1435"/>
                  </a:cubicBezTo>
                  <a:cubicBezTo>
                    <a:pt x="6310" y="1605"/>
                    <a:pt x="6312" y="1961"/>
                    <a:pt x="6300" y="1972"/>
                  </a:cubicBezTo>
                  <a:cubicBezTo>
                    <a:pt x="6276" y="2345"/>
                    <a:pt x="6255" y="2720"/>
                    <a:pt x="6229" y="3097"/>
                  </a:cubicBezTo>
                  <a:cubicBezTo>
                    <a:pt x="6219" y="3105"/>
                    <a:pt x="6148" y="3254"/>
                    <a:pt x="6124" y="3274"/>
                  </a:cubicBezTo>
                  <a:cubicBezTo>
                    <a:pt x="6067" y="3274"/>
                    <a:pt x="5978" y="3284"/>
                    <a:pt x="5918" y="3284"/>
                  </a:cubicBezTo>
                  <a:cubicBezTo>
                    <a:pt x="5883" y="3275"/>
                    <a:pt x="5849" y="3267"/>
                    <a:pt x="5815" y="3257"/>
                  </a:cubicBezTo>
                  <a:cubicBezTo>
                    <a:pt x="5782" y="3246"/>
                    <a:pt x="5631" y="3123"/>
                    <a:pt x="5606" y="3097"/>
                  </a:cubicBezTo>
                  <a:cubicBezTo>
                    <a:pt x="5606" y="3088"/>
                    <a:pt x="5629" y="3035"/>
                    <a:pt x="5641" y="3015"/>
                  </a:cubicBezTo>
                  <a:cubicBezTo>
                    <a:pt x="5665" y="2999"/>
                    <a:pt x="5687" y="2980"/>
                    <a:pt x="5710" y="2962"/>
                  </a:cubicBezTo>
                  <a:cubicBezTo>
                    <a:pt x="5744" y="2900"/>
                    <a:pt x="5780" y="2837"/>
                    <a:pt x="5815" y="2774"/>
                  </a:cubicBezTo>
                  <a:cubicBezTo>
                    <a:pt x="5825" y="2730"/>
                    <a:pt x="5835" y="2687"/>
                    <a:pt x="5849" y="2640"/>
                  </a:cubicBezTo>
                  <a:cubicBezTo>
                    <a:pt x="5849" y="2516"/>
                    <a:pt x="5849" y="2391"/>
                    <a:pt x="5849" y="2265"/>
                  </a:cubicBezTo>
                  <a:cubicBezTo>
                    <a:pt x="5839" y="2258"/>
                    <a:pt x="5746" y="1669"/>
                    <a:pt x="5710" y="1382"/>
                  </a:cubicBezTo>
                  <a:cubicBezTo>
                    <a:pt x="5701" y="1374"/>
                    <a:pt x="5689" y="1366"/>
                    <a:pt x="5677" y="1356"/>
                  </a:cubicBezTo>
                  <a:cubicBezTo>
                    <a:pt x="5629" y="1356"/>
                    <a:pt x="5584" y="1356"/>
                    <a:pt x="5538" y="1356"/>
                  </a:cubicBezTo>
                  <a:cubicBezTo>
                    <a:pt x="5457" y="1391"/>
                    <a:pt x="5376" y="1428"/>
                    <a:pt x="5295" y="1463"/>
                  </a:cubicBezTo>
                  <a:cubicBezTo>
                    <a:pt x="5283" y="1489"/>
                    <a:pt x="5273" y="1517"/>
                    <a:pt x="5259" y="1543"/>
                  </a:cubicBezTo>
                  <a:cubicBezTo>
                    <a:pt x="5249" y="1623"/>
                    <a:pt x="5240" y="1703"/>
                    <a:pt x="5226" y="1784"/>
                  </a:cubicBezTo>
                  <a:cubicBezTo>
                    <a:pt x="5204" y="1827"/>
                    <a:pt x="5180" y="1872"/>
                    <a:pt x="5156" y="1918"/>
                  </a:cubicBezTo>
                  <a:cubicBezTo>
                    <a:pt x="5135" y="1944"/>
                    <a:pt x="5113" y="1972"/>
                    <a:pt x="5087" y="1998"/>
                  </a:cubicBezTo>
                  <a:cubicBezTo>
                    <a:pt x="5030" y="2043"/>
                    <a:pt x="4974" y="2087"/>
                    <a:pt x="4915" y="2133"/>
                  </a:cubicBezTo>
                  <a:cubicBezTo>
                    <a:pt x="4915" y="2185"/>
                    <a:pt x="4915" y="2239"/>
                    <a:pt x="4915" y="2293"/>
                  </a:cubicBezTo>
                  <a:cubicBezTo>
                    <a:pt x="4925" y="2382"/>
                    <a:pt x="4935" y="2471"/>
                    <a:pt x="4949" y="2560"/>
                  </a:cubicBezTo>
                  <a:cubicBezTo>
                    <a:pt x="4959" y="2604"/>
                    <a:pt x="4970" y="2648"/>
                    <a:pt x="4982" y="2694"/>
                  </a:cubicBezTo>
                  <a:cubicBezTo>
                    <a:pt x="4994" y="2702"/>
                    <a:pt x="5006" y="2711"/>
                    <a:pt x="5018" y="2720"/>
                  </a:cubicBezTo>
                  <a:cubicBezTo>
                    <a:pt x="5018" y="2846"/>
                    <a:pt x="5018" y="2971"/>
                    <a:pt x="5018" y="3097"/>
                  </a:cubicBezTo>
                  <a:cubicBezTo>
                    <a:pt x="5006" y="3123"/>
                    <a:pt x="4994" y="3149"/>
                    <a:pt x="4982" y="3177"/>
                  </a:cubicBezTo>
                  <a:cubicBezTo>
                    <a:pt x="4972" y="3194"/>
                    <a:pt x="4963" y="3211"/>
                    <a:pt x="4949" y="3229"/>
                  </a:cubicBezTo>
                  <a:cubicBezTo>
                    <a:pt x="4915" y="3257"/>
                    <a:pt x="4879" y="3283"/>
                    <a:pt x="4846" y="3310"/>
                  </a:cubicBezTo>
                  <a:cubicBezTo>
                    <a:pt x="4834" y="3310"/>
                    <a:pt x="4822" y="3310"/>
                    <a:pt x="4810" y="3310"/>
                  </a:cubicBezTo>
                  <a:cubicBezTo>
                    <a:pt x="4788" y="3318"/>
                    <a:pt x="4765" y="3327"/>
                    <a:pt x="4741" y="3337"/>
                  </a:cubicBezTo>
                  <a:cubicBezTo>
                    <a:pt x="4731" y="3346"/>
                    <a:pt x="4721" y="3354"/>
                    <a:pt x="4707" y="3364"/>
                  </a:cubicBezTo>
                  <a:cubicBezTo>
                    <a:pt x="4695" y="3364"/>
                    <a:pt x="4684" y="3364"/>
                    <a:pt x="4672" y="3364"/>
                  </a:cubicBezTo>
                  <a:cubicBezTo>
                    <a:pt x="4662" y="3355"/>
                    <a:pt x="4650" y="3347"/>
                    <a:pt x="4638" y="3337"/>
                  </a:cubicBezTo>
                  <a:cubicBezTo>
                    <a:pt x="4626" y="3337"/>
                    <a:pt x="4616" y="3337"/>
                    <a:pt x="4602" y="3337"/>
                  </a:cubicBezTo>
                  <a:cubicBezTo>
                    <a:pt x="4592" y="3346"/>
                    <a:pt x="4583" y="3354"/>
                    <a:pt x="4569" y="3364"/>
                  </a:cubicBezTo>
                  <a:cubicBezTo>
                    <a:pt x="4569" y="3390"/>
                    <a:pt x="4569" y="3417"/>
                    <a:pt x="4569" y="3444"/>
                  </a:cubicBezTo>
                  <a:cubicBezTo>
                    <a:pt x="4579" y="3452"/>
                    <a:pt x="4591" y="3460"/>
                    <a:pt x="4602" y="3470"/>
                  </a:cubicBezTo>
                  <a:cubicBezTo>
                    <a:pt x="4602" y="3480"/>
                    <a:pt x="4602" y="3489"/>
                    <a:pt x="4602" y="3498"/>
                  </a:cubicBezTo>
                  <a:cubicBezTo>
                    <a:pt x="4581" y="3559"/>
                    <a:pt x="4559" y="3621"/>
                    <a:pt x="4535" y="3685"/>
                  </a:cubicBezTo>
                  <a:cubicBezTo>
                    <a:pt x="4499" y="3712"/>
                    <a:pt x="4466" y="3738"/>
                    <a:pt x="4430" y="3765"/>
                  </a:cubicBezTo>
                  <a:cubicBezTo>
                    <a:pt x="4385" y="3765"/>
                    <a:pt x="4337" y="3765"/>
                    <a:pt x="4292" y="3765"/>
                  </a:cubicBezTo>
                  <a:cubicBezTo>
                    <a:pt x="4256" y="3758"/>
                    <a:pt x="4222" y="3750"/>
                    <a:pt x="4187" y="3739"/>
                  </a:cubicBezTo>
                  <a:cubicBezTo>
                    <a:pt x="4096" y="3704"/>
                    <a:pt x="4005" y="3667"/>
                    <a:pt x="3912" y="3632"/>
                  </a:cubicBezTo>
                  <a:cubicBezTo>
                    <a:pt x="3900" y="3632"/>
                    <a:pt x="3888" y="3632"/>
                    <a:pt x="3876" y="3632"/>
                  </a:cubicBezTo>
                  <a:cubicBezTo>
                    <a:pt x="3864" y="3624"/>
                    <a:pt x="3854" y="3615"/>
                    <a:pt x="3841" y="3606"/>
                  </a:cubicBezTo>
                  <a:cubicBezTo>
                    <a:pt x="3807" y="3552"/>
                    <a:pt x="3773" y="3498"/>
                    <a:pt x="3738" y="3444"/>
                  </a:cubicBezTo>
                  <a:cubicBezTo>
                    <a:pt x="3738" y="3400"/>
                    <a:pt x="3738" y="3355"/>
                    <a:pt x="3738" y="3310"/>
                  </a:cubicBezTo>
                  <a:cubicBezTo>
                    <a:pt x="3750" y="3303"/>
                    <a:pt x="3759" y="3294"/>
                    <a:pt x="3773" y="3284"/>
                  </a:cubicBezTo>
                  <a:cubicBezTo>
                    <a:pt x="3783" y="3214"/>
                    <a:pt x="3793" y="3143"/>
                    <a:pt x="3807" y="3069"/>
                  </a:cubicBezTo>
                  <a:cubicBezTo>
                    <a:pt x="3807" y="3043"/>
                    <a:pt x="3807" y="3017"/>
                    <a:pt x="3807" y="2989"/>
                  </a:cubicBezTo>
                  <a:cubicBezTo>
                    <a:pt x="3797" y="2980"/>
                    <a:pt x="3785" y="2972"/>
                    <a:pt x="3773" y="2962"/>
                  </a:cubicBezTo>
                  <a:cubicBezTo>
                    <a:pt x="3726" y="2962"/>
                    <a:pt x="3680" y="2962"/>
                    <a:pt x="3635" y="2962"/>
                  </a:cubicBezTo>
                  <a:cubicBezTo>
                    <a:pt x="3623" y="2971"/>
                    <a:pt x="3613" y="2979"/>
                    <a:pt x="3599" y="2989"/>
                  </a:cubicBezTo>
                  <a:cubicBezTo>
                    <a:pt x="3544" y="2997"/>
                    <a:pt x="3486" y="3005"/>
                    <a:pt x="3427" y="3015"/>
                  </a:cubicBezTo>
                  <a:cubicBezTo>
                    <a:pt x="3219" y="3015"/>
                    <a:pt x="3012" y="3015"/>
                    <a:pt x="2804" y="3015"/>
                  </a:cubicBezTo>
                  <a:cubicBezTo>
                    <a:pt x="2782" y="2999"/>
                    <a:pt x="2758" y="2980"/>
                    <a:pt x="2735" y="2962"/>
                  </a:cubicBezTo>
                  <a:cubicBezTo>
                    <a:pt x="2711" y="2962"/>
                    <a:pt x="2689" y="2962"/>
                    <a:pt x="2665" y="2962"/>
                  </a:cubicBezTo>
                  <a:cubicBezTo>
                    <a:pt x="2644" y="2980"/>
                    <a:pt x="2620" y="2997"/>
                    <a:pt x="2596" y="3015"/>
                  </a:cubicBezTo>
                  <a:cubicBezTo>
                    <a:pt x="2560" y="3051"/>
                    <a:pt x="2527" y="3088"/>
                    <a:pt x="2493" y="3123"/>
                  </a:cubicBezTo>
                  <a:cubicBezTo>
                    <a:pt x="2481" y="3140"/>
                    <a:pt x="2469" y="3158"/>
                    <a:pt x="2458" y="3177"/>
                  </a:cubicBezTo>
                  <a:cubicBezTo>
                    <a:pt x="2458" y="3327"/>
                    <a:pt x="2458" y="3480"/>
                    <a:pt x="2458" y="3632"/>
                  </a:cubicBezTo>
                  <a:cubicBezTo>
                    <a:pt x="2446" y="3685"/>
                    <a:pt x="2436" y="3738"/>
                    <a:pt x="2422" y="3793"/>
                  </a:cubicBezTo>
                  <a:cubicBezTo>
                    <a:pt x="2388" y="3819"/>
                    <a:pt x="2353" y="3845"/>
                    <a:pt x="2319" y="3873"/>
                  </a:cubicBezTo>
                  <a:cubicBezTo>
                    <a:pt x="2159" y="3864"/>
                    <a:pt x="1996" y="3856"/>
                    <a:pt x="1834" y="3845"/>
                  </a:cubicBezTo>
                  <a:cubicBezTo>
                    <a:pt x="1801" y="3819"/>
                    <a:pt x="1767" y="3793"/>
                    <a:pt x="1731" y="3765"/>
                  </a:cubicBezTo>
                  <a:cubicBezTo>
                    <a:pt x="1719" y="3749"/>
                    <a:pt x="1710" y="3732"/>
                    <a:pt x="1696" y="3713"/>
                  </a:cubicBezTo>
                  <a:cubicBezTo>
                    <a:pt x="1684" y="3685"/>
                    <a:pt x="1672" y="3659"/>
                    <a:pt x="1660" y="3632"/>
                  </a:cubicBezTo>
                  <a:cubicBezTo>
                    <a:pt x="1660" y="3526"/>
                    <a:pt x="1660" y="3418"/>
                    <a:pt x="1660" y="3310"/>
                  </a:cubicBezTo>
                  <a:cubicBezTo>
                    <a:pt x="1672" y="3303"/>
                    <a:pt x="1684" y="3294"/>
                    <a:pt x="1696" y="3284"/>
                  </a:cubicBezTo>
                  <a:cubicBezTo>
                    <a:pt x="1696" y="3240"/>
                    <a:pt x="1696" y="3195"/>
                    <a:pt x="1696" y="3149"/>
                  </a:cubicBezTo>
                  <a:cubicBezTo>
                    <a:pt x="1674" y="3132"/>
                    <a:pt x="1652" y="3115"/>
                    <a:pt x="1626" y="3097"/>
                  </a:cubicBezTo>
                  <a:cubicBezTo>
                    <a:pt x="1617" y="3097"/>
                    <a:pt x="1500" y="3062"/>
                    <a:pt x="1454" y="3043"/>
                  </a:cubicBezTo>
                  <a:cubicBezTo>
                    <a:pt x="1431" y="3026"/>
                    <a:pt x="1361" y="3005"/>
                    <a:pt x="1349" y="3015"/>
                  </a:cubicBezTo>
                  <a:cubicBezTo>
                    <a:pt x="1349" y="3042"/>
                    <a:pt x="1369" y="3078"/>
                    <a:pt x="1369" y="3106"/>
                  </a:cubicBezTo>
                  <a:cubicBezTo>
                    <a:pt x="1417" y="3258"/>
                    <a:pt x="1440" y="3400"/>
                    <a:pt x="1488" y="3552"/>
                  </a:cubicBezTo>
                  <a:cubicBezTo>
                    <a:pt x="1488" y="3569"/>
                    <a:pt x="1488" y="3587"/>
                    <a:pt x="1488" y="3606"/>
                  </a:cubicBezTo>
                  <a:cubicBezTo>
                    <a:pt x="1454" y="3641"/>
                    <a:pt x="1419" y="3676"/>
                    <a:pt x="1385" y="3713"/>
                  </a:cubicBezTo>
                  <a:cubicBezTo>
                    <a:pt x="1373" y="3730"/>
                    <a:pt x="1361" y="3747"/>
                    <a:pt x="1349" y="3765"/>
                  </a:cubicBezTo>
                  <a:cubicBezTo>
                    <a:pt x="1338" y="3775"/>
                    <a:pt x="1328" y="3782"/>
                    <a:pt x="1314" y="3793"/>
                  </a:cubicBezTo>
                  <a:cubicBezTo>
                    <a:pt x="1235" y="3793"/>
                    <a:pt x="1154" y="3793"/>
                    <a:pt x="1072" y="3793"/>
                  </a:cubicBezTo>
                  <a:cubicBezTo>
                    <a:pt x="1027" y="3784"/>
                    <a:pt x="981" y="3776"/>
                    <a:pt x="934" y="3765"/>
                  </a:cubicBezTo>
                  <a:cubicBezTo>
                    <a:pt x="912" y="3758"/>
                    <a:pt x="890" y="3750"/>
                    <a:pt x="865" y="3739"/>
                  </a:cubicBezTo>
                  <a:cubicBezTo>
                    <a:pt x="819" y="3713"/>
                    <a:pt x="776" y="3685"/>
                    <a:pt x="728" y="3658"/>
                  </a:cubicBezTo>
                  <a:cubicBezTo>
                    <a:pt x="716" y="3650"/>
                    <a:pt x="704" y="3642"/>
                    <a:pt x="693" y="3632"/>
                  </a:cubicBezTo>
                  <a:cubicBezTo>
                    <a:pt x="681" y="3621"/>
                    <a:pt x="671" y="3596"/>
                    <a:pt x="657" y="3578"/>
                  </a:cubicBezTo>
                  <a:cubicBezTo>
                    <a:pt x="657" y="3498"/>
                    <a:pt x="657" y="3418"/>
                    <a:pt x="657" y="3337"/>
                  </a:cubicBezTo>
                  <a:cubicBezTo>
                    <a:pt x="669" y="3329"/>
                    <a:pt x="679" y="3321"/>
                    <a:pt x="693" y="3310"/>
                  </a:cubicBezTo>
                  <a:cubicBezTo>
                    <a:pt x="693" y="3240"/>
                    <a:pt x="693" y="3169"/>
                    <a:pt x="693" y="3097"/>
                  </a:cubicBezTo>
                  <a:cubicBezTo>
                    <a:pt x="645" y="2865"/>
                    <a:pt x="600" y="2633"/>
                    <a:pt x="554" y="2401"/>
                  </a:cubicBezTo>
                  <a:cubicBezTo>
                    <a:pt x="542" y="2401"/>
                    <a:pt x="532" y="2401"/>
                    <a:pt x="518" y="2401"/>
                  </a:cubicBezTo>
                  <a:cubicBezTo>
                    <a:pt x="518" y="2418"/>
                    <a:pt x="475" y="2410"/>
                    <a:pt x="475" y="2428"/>
                  </a:cubicBezTo>
                  <a:cubicBezTo>
                    <a:pt x="465" y="2445"/>
                    <a:pt x="439" y="2542"/>
                    <a:pt x="416" y="2560"/>
                  </a:cubicBezTo>
                  <a:cubicBezTo>
                    <a:pt x="394" y="2604"/>
                    <a:pt x="370" y="2648"/>
                    <a:pt x="346" y="2694"/>
                  </a:cubicBezTo>
                  <a:cubicBezTo>
                    <a:pt x="334" y="2774"/>
                    <a:pt x="178" y="2730"/>
                    <a:pt x="119" y="2568"/>
                  </a:cubicBezTo>
                  <a:cubicBezTo>
                    <a:pt x="109" y="2488"/>
                    <a:pt x="14" y="2428"/>
                    <a:pt x="0" y="2345"/>
                  </a:cubicBezTo>
                  <a:cubicBezTo>
                    <a:pt x="0" y="2133"/>
                    <a:pt x="0" y="1920"/>
                    <a:pt x="0" y="1704"/>
                  </a:cubicBezTo>
                  <a:cubicBezTo>
                    <a:pt x="46" y="1578"/>
                    <a:pt x="93" y="1454"/>
                    <a:pt x="139" y="1329"/>
                  </a:cubicBezTo>
                  <a:cubicBezTo>
                    <a:pt x="172" y="1276"/>
                    <a:pt x="208" y="1222"/>
                    <a:pt x="241" y="1168"/>
                  </a:cubicBezTo>
                  <a:cubicBezTo>
                    <a:pt x="263" y="1140"/>
                    <a:pt x="287" y="1114"/>
                    <a:pt x="311" y="1088"/>
                  </a:cubicBezTo>
                  <a:cubicBezTo>
                    <a:pt x="425" y="999"/>
                    <a:pt x="542" y="910"/>
                    <a:pt x="657" y="821"/>
                  </a:cubicBezTo>
                  <a:cubicBezTo>
                    <a:pt x="760" y="767"/>
                    <a:pt x="863" y="713"/>
                    <a:pt x="970" y="659"/>
                  </a:cubicBezTo>
                  <a:cubicBezTo>
                    <a:pt x="1061" y="624"/>
                    <a:pt x="1154" y="587"/>
                    <a:pt x="1247" y="552"/>
                  </a:cubicBezTo>
                  <a:cubicBezTo>
                    <a:pt x="1419" y="516"/>
                    <a:pt x="1593" y="481"/>
                    <a:pt x="1765" y="444"/>
                  </a:cubicBezTo>
                  <a:cubicBezTo>
                    <a:pt x="2283" y="427"/>
                    <a:pt x="2802" y="410"/>
                    <a:pt x="3322" y="392"/>
                  </a:cubicBezTo>
                  <a:cubicBezTo>
                    <a:pt x="3368" y="383"/>
                    <a:pt x="3415" y="375"/>
                    <a:pt x="3461" y="364"/>
                  </a:cubicBezTo>
                  <a:cubicBezTo>
                    <a:pt x="3971" y="244"/>
                    <a:pt x="4480" y="123"/>
                    <a:pt x="4990" y="0"/>
                  </a:cubicBezTo>
                  <a:close/>
                  <a:moveTo>
                    <a:pt x="4879" y="69"/>
                  </a:moveTo>
                  <a:cubicBezTo>
                    <a:pt x="4982" y="97"/>
                    <a:pt x="5085" y="123"/>
                    <a:pt x="5192" y="151"/>
                  </a:cubicBezTo>
                  <a:cubicBezTo>
                    <a:pt x="5319" y="195"/>
                    <a:pt x="5445" y="238"/>
                    <a:pt x="5572" y="284"/>
                  </a:cubicBezTo>
                  <a:cubicBezTo>
                    <a:pt x="5606" y="310"/>
                    <a:pt x="5641" y="337"/>
                    <a:pt x="5677" y="364"/>
                  </a:cubicBezTo>
                  <a:cubicBezTo>
                    <a:pt x="5768" y="489"/>
                    <a:pt x="5861" y="613"/>
                    <a:pt x="5954" y="739"/>
                  </a:cubicBezTo>
                  <a:cubicBezTo>
                    <a:pt x="6021" y="934"/>
                    <a:pt x="6090" y="1131"/>
                    <a:pt x="6160" y="1329"/>
                  </a:cubicBezTo>
                  <a:cubicBezTo>
                    <a:pt x="6171" y="1409"/>
                    <a:pt x="6181" y="1489"/>
                    <a:pt x="6195" y="1569"/>
                  </a:cubicBezTo>
                  <a:cubicBezTo>
                    <a:pt x="6183" y="2007"/>
                    <a:pt x="6164" y="2613"/>
                    <a:pt x="6152" y="3051"/>
                  </a:cubicBezTo>
                  <a:cubicBezTo>
                    <a:pt x="6140" y="3060"/>
                    <a:pt x="6090" y="3112"/>
                    <a:pt x="6090" y="3149"/>
                  </a:cubicBezTo>
                  <a:cubicBezTo>
                    <a:pt x="6080" y="3158"/>
                    <a:pt x="6069" y="3166"/>
                    <a:pt x="6057" y="3177"/>
                  </a:cubicBezTo>
                  <a:cubicBezTo>
                    <a:pt x="6009" y="3177"/>
                    <a:pt x="5964" y="3177"/>
                    <a:pt x="5918" y="3177"/>
                  </a:cubicBezTo>
                  <a:cubicBezTo>
                    <a:pt x="5906" y="3168"/>
                    <a:pt x="5744" y="3080"/>
                    <a:pt x="5744" y="3069"/>
                  </a:cubicBezTo>
                  <a:cubicBezTo>
                    <a:pt x="5768" y="3052"/>
                    <a:pt x="5790" y="3035"/>
                    <a:pt x="5815" y="3015"/>
                  </a:cubicBezTo>
                  <a:cubicBezTo>
                    <a:pt x="5861" y="2900"/>
                    <a:pt x="5906" y="2783"/>
                    <a:pt x="5954" y="2668"/>
                  </a:cubicBezTo>
                  <a:cubicBezTo>
                    <a:pt x="5954" y="2516"/>
                    <a:pt x="5954" y="2364"/>
                    <a:pt x="5954" y="2213"/>
                  </a:cubicBezTo>
                  <a:cubicBezTo>
                    <a:pt x="5906" y="1909"/>
                    <a:pt x="5861" y="1606"/>
                    <a:pt x="5815" y="1302"/>
                  </a:cubicBezTo>
                  <a:cubicBezTo>
                    <a:pt x="5792" y="1285"/>
                    <a:pt x="5770" y="1268"/>
                    <a:pt x="5744" y="1248"/>
                  </a:cubicBezTo>
                  <a:cubicBezTo>
                    <a:pt x="5722" y="1239"/>
                    <a:pt x="5701" y="1230"/>
                    <a:pt x="5677" y="1220"/>
                  </a:cubicBezTo>
                  <a:cubicBezTo>
                    <a:pt x="5629" y="1230"/>
                    <a:pt x="5584" y="1239"/>
                    <a:pt x="5538" y="1248"/>
                  </a:cubicBezTo>
                  <a:cubicBezTo>
                    <a:pt x="5515" y="1266"/>
                    <a:pt x="5493" y="1283"/>
                    <a:pt x="5469" y="1302"/>
                  </a:cubicBezTo>
                  <a:cubicBezTo>
                    <a:pt x="5445" y="1320"/>
                    <a:pt x="5424" y="1319"/>
                    <a:pt x="5400" y="1329"/>
                  </a:cubicBezTo>
                  <a:cubicBezTo>
                    <a:pt x="5352" y="1329"/>
                    <a:pt x="5307" y="1329"/>
                    <a:pt x="5259" y="1329"/>
                  </a:cubicBezTo>
                  <a:cubicBezTo>
                    <a:pt x="5238" y="1320"/>
                    <a:pt x="5216" y="1313"/>
                    <a:pt x="5192" y="1302"/>
                  </a:cubicBezTo>
                  <a:cubicBezTo>
                    <a:pt x="5145" y="1266"/>
                    <a:pt x="5099" y="1230"/>
                    <a:pt x="5054" y="1194"/>
                  </a:cubicBezTo>
                  <a:cubicBezTo>
                    <a:pt x="5054" y="1186"/>
                    <a:pt x="4961" y="1079"/>
                    <a:pt x="4915" y="1034"/>
                  </a:cubicBezTo>
                  <a:cubicBezTo>
                    <a:pt x="4812" y="964"/>
                    <a:pt x="4709" y="893"/>
                    <a:pt x="4602" y="821"/>
                  </a:cubicBezTo>
                  <a:cubicBezTo>
                    <a:pt x="4592" y="828"/>
                    <a:pt x="4583" y="836"/>
                    <a:pt x="4569" y="847"/>
                  </a:cubicBezTo>
                  <a:cubicBezTo>
                    <a:pt x="4569" y="855"/>
                    <a:pt x="4569" y="864"/>
                    <a:pt x="4569" y="873"/>
                  </a:cubicBezTo>
                  <a:cubicBezTo>
                    <a:pt x="4579" y="891"/>
                    <a:pt x="4591" y="908"/>
                    <a:pt x="4602" y="927"/>
                  </a:cubicBezTo>
                  <a:cubicBezTo>
                    <a:pt x="4788" y="1087"/>
                    <a:pt x="4972" y="1246"/>
                    <a:pt x="5156" y="1409"/>
                  </a:cubicBezTo>
                  <a:cubicBezTo>
                    <a:pt x="5168" y="1435"/>
                    <a:pt x="5178" y="1462"/>
                    <a:pt x="5192" y="1489"/>
                  </a:cubicBezTo>
                  <a:cubicBezTo>
                    <a:pt x="5180" y="1560"/>
                    <a:pt x="5170" y="1631"/>
                    <a:pt x="5156" y="1704"/>
                  </a:cubicBezTo>
                  <a:cubicBezTo>
                    <a:pt x="5145" y="1731"/>
                    <a:pt x="5133" y="1757"/>
                    <a:pt x="5121" y="1784"/>
                  </a:cubicBezTo>
                  <a:cubicBezTo>
                    <a:pt x="5099" y="1818"/>
                    <a:pt x="5077" y="1854"/>
                    <a:pt x="5054" y="1890"/>
                  </a:cubicBezTo>
                  <a:cubicBezTo>
                    <a:pt x="5018" y="1926"/>
                    <a:pt x="4984" y="1963"/>
                    <a:pt x="4949" y="1998"/>
                  </a:cubicBezTo>
                  <a:cubicBezTo>
                    <a:pt x="4927" y="2016"/>
                    <a:pt x="4903" y="2033"/>
                    <a:pt x="4879" y="2052"/>
                  </a:cubicBezTo>
                  <a:cubicBezTo>
                    <a:pt x="4846" y="2052"/>
                    <a:pt x="4812" y="2052"/>
                    <a:pt x="4777" y="2052"/>
                  </a:cubicBezTo>
                  <a:cubicBezTo>
                    <a:pt x="4592" y="1998"/>
                    <a:pt x="4408" y="1944"/>
                    <a:pt x="4222" y="1890"/>
                  </a:cubicBezTo>
                  <a:cubicBezTo>
                    <a:pt x="4153" y="1864"/>
                    <a:pt x="4086" y="1837"/>
                    <a:pt x="4015" y="1810"/>
                  </a:cubicBezTo>
                  <a:cubicBezTo>
                    <a:pt x="3967" y="1784"/>
                    <a:pt x="3922" y="1757"/>
                    <a:pt x="3876" y="1731"/>
                  </a:cubicBezTo>
                  <a:cubicBezTo>
                    <a:pt x="3852" y="1723"/>
                    <a:pt x="3831" y="1714"/>
                    <a:pt x="3807" y="1704"/>
                  </a:cubicBezTo>
                  <a:cubicBezTo>
                    <a:pt x="3797" y="1704"/>
                    <a:pt x="3785" y="1704"/>
                    <a:pt x="3773" y="1704"/>
                  </a:cubicBezTo>
                  <a:cubicBezTo>
                    <a:pt x="3680" y="1634"/>
                    <a:pt x="3587" y="1563"/>
                    <a:pt x="3496" y="1489"/>
                  </a:cubicBezTo>
                  <a:cubicBezTo>
                    <a:pt x="3427" y="1365"/>
                    <a:pt x="3358" y="1239"/>
                    <a:pt x="3289" y="1114"/>
                  </a:cubicBezTo>
                  <a:cubicBezTo>
                    <a:pt x="3289" y="981"/>
                    <a:pt x="3289" y="848"/>
                    <a:pt x="3289" y="713"/>
                  </a:cubicBezTo>
                  <a:cubicBezTo>
                    <a:pt x="3310" y="659"/>
                    <a:pt x="3332" y="606"/>
                    <a:pt x="3356" y="552"/>
                  </a:cubicBezTo>
                  <a:cubicBezTo>
                    <a:pt x="3368" y="535"/>
                    <a:pt x="3378" y="516"/>
                    <a:pt x="3391" y="498"/>
                  </a:cubicBezTo>
                  <a:cubicBezTo>
                    <a:pt x="3484" y="463"/>
                    <a:pt x="3575" y="429"/>
                    <a:pt x="3668" y="392"/>
                  </a:cubicBezTo>
                  <a:cubicBezTo>
                    <a:pt x="4072" y="284"/>
                    <a:pt x="4476" y="178"/>
                    <a:pt x="4879" y="69"/>
                  </a:cubicBezTo>
                  <a:close/>
                  <a:moveTo>
                    <a:pt x="3322" y="526"/>
                  </a:moveTo>
                  <a:cubicBezTo>
                    <a:pt x="3281" y="586"/>
                    <a:pt x="3241" y="646"/>
                    <a:pt x="3198" y="709"/>
                  </a:cubicBezTo>
                  <a:cubicBezTo>
                    <a:pt x="3194" y="835"/>
                    <a:pt x="3190" y="961"/>
                    <a:pt x="3184" y="1088"/>
                  </a:cubicBezTo>
                  <a:cubicBezTo>
                    <a:pt x="3194" y="1131"/>
                    <a:pt x="3205" y="1176"/>
                    <a:pt x="3217" y="1220"/>
                  </a:cubicBezTo>
                  <a:cubicBezTo>
                    <a:pt x="3229" y="1248"/>
                    <a:pt x="3241" y="1274"/>
                    <a:pt x="3253" y="1302"/>
                  </a:cubicBezTo>
                  <a:cubicBezTo>
                    <a:pt x="3298" y="1372"/>
                    <a:pt x="3344" y="1443"/>
                    <a:pt x="3391" y="1517"/>
                  </a:cubicBezTo>
                  <a:cubicBezTo>
                    <a:pt x="3413" y="1543"/>
                    <a:pt x="3437" y="1569"/>
                    <a:pt x="3461" y="1597"/>
                  </a:cubicBezTo>
                  <a:cubicBezTo>
                    <a:pt x="3542" y="1658"/>
                    <a:pt x="3623" y="1721"/>
                    <a:pt x="3702" y="1784"/>
                  </a:cubicBezTo>
                  <a:cubicBezTo>
                    <a:pt x="3771" y="1818"/>
                    <a:pt x="3841" y="1854"/>
                    <a:pt x="3912" y="1890"/>
                  </a:cubicBezTo>
                  <a:cubicBezTo>
                    <a:pt x="4003" y="1926"/>
                    <a:pt x="4094" y="1963"/>
                    <a:pt x="4187" y="1998"/>
                  </a:cubicBezTo>
                  <a:cubicBezTo>
                    <a:pt x="4280" y="2026"/>
                    <a:pt x="4373" y="2052"/>
                    <a:pt x="4464" y="2078"/>
                  </a:cubicBezTo>
                  <a:cubicBezTo>
                    <a:pt x="4476" y="2087"/>
                    <a:pt x="4486" y="2095"/>
                    <a:pt x="4499" y="2106"/>
                  </a:cubicBezTo>
                  <a:cubicBezTo>
                    <a:pt x="4488" y="2115"/>
                    <a:pt x="4478" y="2124"/>
                    <a:pt x="4464" y="2133"/>
                  </a:cubicBezTo>
                  <a:cubicBezTo>
                    <a:pt x="4454" y="2167"/>
                    <a:pt x="4444" y="2202"/>
                    <a:pt x="4430" y="2239"/>
                  </a:cubicBezTo>
                  <a:cubicBezTo>
                    <a:pt x="4420" y="2319"/>
                    <a:pt x="4408" y="2399"/>
                    <a:pt x="4397" y="2481"/>
                  </a:cubicBezTo>
                  <a:cubicBezTo>
                    <a:pt x="4397" y="2516"/>
                    <a:pt x="4397" y="2551"/>
                    <a:pt x="4397" y="2588"/>
                  </a:cubicBezTo>
                  <a:cubicBezTo>
                    <a:pt x="4406" y="2614"/>
                    <a:pt x="4416" y="2640"/>
                    <a:pt x="4430" y="2668"/>
                  </a:cubicBezTo>
                  <a:cubicBezTo>
                    <a:pt x="4440" y="2935"/>
                    <a:pt x="4452" y="3203"/>
                    <a:pt x="4464" y="3470"/>
                  </a:cubicBezTo>
                  <a:cubicBezTo>
                    <a:pt x="4454" y="3470"/>
                    <a:pt x="4444" y="3470"/>
                    <a:pt x="4430" y="3470"/>
                  </a:cubicBezTo>
                  <a:cubicBezTo>
                    <a:pt x="4397" y="3463"/>
                    <a:pt x="4361" y="3453"/>
                    <a:pt x="4325" y="3444"/>
                  </a:cubicBezTo>
                  <a:cubicBezTo>
                    <a:pt x="4304" y="3435"/>
                    <a:pt x="4280" y="3427"/>
                    <a:pt x="4256" y="3417"/>
                  </a:cubicBezTo>
                  <a:cubicBezTo>
                    <a:pt x="4246" y="3409"/>
                    <a:pt x="4236" y="3401"/>
                    <a:pt x="4222" y="3390"/>
                  </a:cubicBezTo>
                  <a:cubicBezTo>
                    <a:pt x="4108" y="3390"/>
                    <a:pt x="3977" y="3389"/>
                    <a:pt x="3856" y="3389"/>
                  </a:cubicBezTo>
                  <a:cubicBezTo>
                    <a:pt x="3856" y="3389"/>
                    <a:pt x="3975" y="3386"/>
                    <a:pt x="3856" y="3386"/>
                  </a:cubicBezTo>
                  <a:lnTo>
                    <a:pt x="3868" y="3456"/>
                  </a:lnTo>
                  <a:lnTo>
                    <a:pt x="4015" y="3470"/>
                  </a:lnTo>
                  <a:cubicBezTo>
                    <a:pt x="4015" y="3487"/>
                    <a:pt x="4015" y="3506"/>
                    <a:pt x="4015" y="3526"/>
                  </a:cubicBezTo>
                  <a:cubicBezTo>
                    <a:pt x="4003" y="3533"/>
                    <a:pt x="3993" y="3541"/>
                    <a:pt x="3979" y="3552"/>
                  </a:cubicBezTo>
                  <a:cubicBezTo>
                    <a:pt x="3957" y="3552"/>
                    <a:pt x="3936" y="3552"/>
                    <a:pt x="3912" y="3552"/>
                  </a:cubicBezTo>
                  <a:cubicBezTo>
                    <a:pt x="3900" y="3544"/>
                    <a:pt x="3888" y="3535"/>
                    <a:pt x="3876" y="3526"/>
                  </a:cubicBezTo>
                  <a:cubicBezTo>
                    <a:pt x="3864" y="3498"/>
                    <a:pt x="3870" y="3478"/>
                    <a:pt x="3868" y="3455"/>
                  </a:cubicBezTo>
                  <a:cubicBezTo>
                    <a:pt x="3860" y="3400"/>
                    <a:pt x="3841" y="3337"/>
                    <a:pt x="3841" y="3284"/>
                  </a:cubicBezTo>
                  <a:cubicBezTo>
                    <a:pt x="3852" y="3275"/>
                    <a:pt x="3862" y="3267"/>
                    <a:pt x="3876" y="3257"/>
                  </a:cubicBezTo>
                  <a:cubicBezTo>
                    <a:pt x="3888" y="3204"/>
                    <a:pt x="3900" y="3151"/>
                    <a:pt x="3912" y="3097"/>
                  </a:cubicBezTo>
                  <a:cubicBezTo>
                    <a:pt x="3912" y="3017"/>
                    <a:pt x="3912" y="2937"/>
                    <a:pt x="3912" y="2856"/>
                  </a:cubicBezTo>
                  <a:cubicBezTo>
                    <a:pt x="3888" y="2839"/>
                    <a:pt x="3866" y="2820"/>
                    <a:pt x="3841" y="2802"/>
                  </a:cubicBezTo>
                  <a:cubicBezTo>
                    <a:pt x="3807" y="2748"/>
                    <a:pt x="3773" y="2696"/>
                    <a:pt x="3738" y="2640"/>
                  </a:cubicBezTo>
                  <a:cubicBezTo>
                    <a:pt x="3726" y="2579"/>
                    <a:pt x="3714" y="2516"/>
                    <a:pt x="3702" y="2453"/>
                  </a:cubicBezTo>
                  <a:cubicBezTo>
                    <a:pt x="3702" y="2410"/>
                    <a:pt x="3702" y="2365"/>
                    <a:pt x="3702" y="2319"/>
                  </a:cubicBezTo>
                  <a:cubicBezTo>
                    <a:pt x="3714" y="2312"/>
                    <a:pt x="3726" y="2302"/>
                    <a:pt x="3738" y="2293"/>
                  </a:cubicBezTo>
                  <a:cubicBezTo>
                    <a:pt x="3738" y="2275"/>
                    <a:pt x="3738" y="2258"/>
                    <a:pt x="3738" y="2239"/>
                  </a:cubicBezTo>
                  <a:cubicBezTo>
                    <a:pt x="3726" y="2232"/>
                    <a:pt x="3714" y="2222"/>
                    <a:pt x="3702" y="2213"/>
                  </a:cubicBezTo>
                  <a:cubicBezTo>
                    <a:pt x="3692" y="2213"/>
                    <a:pt x="3682" y="2213"/>
                    <a:pt x="3668" y="2213"/>
                  </a:cubicBezTo>
                  <a:cubicBezTo>
                    <a:pt x="3659" y="2221"/>
                    <a:pt x="3647" y="2229"/>
                    <a:pt x="3635" y="2239"/>
                  </a:cubicBezTo>
                  <a:cubicBezTo>
                    <a:pt x="3623" y="2265"/>
                    <a:pt x="3613" y="2293"/>
                    <a:pt x="3599" y="2319"/>
                  </a:cubicBezTo>
                  <a:cubicBezTo>
                    <a:pt x="3599" y="2382"/>
                    <a:pt x="3599" y="2444"/>
                    <a:pt x="3599" y="2507"/>
                  </a:cubicBezTo>
                  <a:cubicBezTo>
                    <a:pt x="3611" y="2560"/>
                    <a:pt x="3621" y="2613"/>
                    <a:pt x="3635" y="2668"/>
                  </a:cubicBezTo>
                  <a:cubicBezTo>
                    <a:pt x="3645" y="2676"/>
                    <a:pt x="3655" y="2683"/>
                    <a:pt x="3668" y="2694"/>
                  </a:cubicBezTo>
                  <a:cubicBezTo>
                    <a:pt x="3690" y="2730"/>
                    <a:pt x="3714" y="2766"/>
                    <a:pt x="3738" y="2802"/>
                  </a:cubicBezTo>
                  <a:cubicBezTo>
                    <a:pt x="3738" y="2811"/>
                    <a:pt x="3738" y="2819"/>
                    <a:pt x="3738" y="2829"/>
                  </a:cubicBezTo>
                  <a:cubicBezTo>
                    <a:pt x="3726" y="2837"/>
                    <a:pt x="3714" y="2845"/>
                    <a:pt x="3702" y="2856"/>
                  </a:cubicBezTo>
                  <a:cubicBezTo>
                    <a:pt x="3587" y="2872"/>
                    <a:pt x="3473" y="2891"/>
                    <a:pt x="3356" y="2909"/>
                  </a:cubicBezTo>
                  <a:cubicBezTo>
                    <a:pt x="3174" y="2909"/>
                    <a:pt x="2990" y="2909"/>
                    <a:pt x="2804" y="2909"/>
                  </a:cubicBezTo>
                  <a:cubicBezTo>
                    <a:pt x="2792" y="2900"/>
                    <a:pt x="2780" y="2892"/>
                    <a:pt x="2768" y="2882"/>
                  </a:cubicBezTo>
                  <a:cubicBezTo>
                    <a:pt x="2768" y="2874"/>
                    <a:pt x="2826" y="2783"/>
                    <a:pt x="2837" y="2774"/>
                  </a:cubicBezTo>
                  <a:cubicBezTo>
                    <a:pt x="2837" y="2668"/>
                    <a:pt x="2837" y="2560"/>
                    <a:pt x="2837" y="2453"/>
                  </a:cubicBezTo>
                  <a:cubicBezTo>
                    <a:pt x="2792" y="2391"/>
                    <a:pt x="2746" y="2328"/>
                    <a:pt x="2699" y="2265"/>
                  </a:cubicBezTo>
                  <a:cubicBezTo>
                    <a:pt x="2677" y="2222"/>
                    <a:pt x="2655" y="2178"/>
                    <a:pt x="2632" y="2133"/>
                  </a:cubicBezTo>
                  <a:cubicBezTo>
                    <a:pt x="2632" y="2124"/>
                    <a:pt x="2586" y="2070"/>
                    <a:pt x="2560" y="2052"/>
                  </a:cubicBezTo>
                  <a:cubicBezTo>
                    <a:pt x="2551" y="2052"/>
                    <a:pt x="2541" y="2052"/>
                    <a:pt x="2527" y="2052"/>
                  </a:cubicBezTo>
                  <a:cubicBezTo>
                    <a:pt x="2517" y="2059"/>
                    <a:pt x="2505" y="2069"/>
                    <a:pt x="2493" y="2078"/>
                  </a:cubicBezTo>
                  <a:cubicBezTo>
                    <a:pt x="2493" y="2096"/>
                    <a:pt x="2493" y="2113"/>
                    <a:pt x="2493" y="2133"/>
                  </a:cubicBezTo>
                  <a:cubicBezTo>
                    <a:pt x="2527" y="2159"/>
                    <a:pt x="2560" y="2185"/>
                    <a:pt x="2596" y="2213"/>
                  </a:cubicBezTo>
                  <a:cubicBezTo>
                    <a:pt x="2618" y="2247"/>
                    <a:pt x="2640" y="2282"/>
                    <a:pt x="2665" y="2319"/>
                  </a:cubicBezTo>
                  <a:cubicBezTo>
                    <a:pt x="2687" y="2373"/>
                    <a:pt x="2711" y="2425"/>
                    <a:pt x="2735" y="2481"/>
                  </a:cubicBezTo>
                  <a:cubicBezTo>
                    <a:pt x="2735" y="2577"/>
                    <a:pt x="2738" y="2633"/>
                    <a:pt x="2723" y="2702"/>
                  </a:cubicBezTo>
                  <a:cubicBezTo>
                    <a:pt x="2707" y="2771"/>
                    <a:pt x="2644" y="2863"/>
                    <a:pt x="2632" y="2882"/>
                  </a:cubicBezTo>
                  <a:cubicBezTo>
                    <a:pt x="2562" y="2952"/>
                    <a:pt x="2493" y="3023"/>
                    <a:pt x="2422" y="3097"/>
                  </a:cubicBezTo>
                  <a:cubicBezTo>
                    <a:pt x="2400" y="3114"/>
                    <a:pt x="2376" y="3131"/>
                    <a:pt x="2353" y="3149"/>
                  </a:cubicBezTo>
                  <a:cubicBezTo>
                    <a:pt x="2343" y="3177"/>
                    <a:pt x="2333" y="3203"/>
                    <a:pt x="2319" y="3229"/>
                  </a:cubicBezTo>
                  <a:cubicBezTo>
                    <a:pt x="2329" y="3238"/>
                    <a:pt x="2341" y="3247"/>
                    <a:pt x="2353" y="3257"/>
                  </a:cubicBezTo>
                  <a:cubicBezTo>
                    <a:pt x="2353" y="3355"/>
                    <a:pt x="2353" y="3452"/>
                    <a:pt x="2353" y="3552"/>
                  </a:cubicBezTo>
                  <a:cubicBezTo>
                    <a:pt x="2192" y="3569"/>
                    <a:pt x="2032" y="3587"/>
                    <a:pt x="1870" y="3606"/>
                  </a:cubicBezTo>
                  <a:cubicBezTo>
                    <a:pt x="1846" y="3606"/>
                    <a:pt x="1799" y="3593"/>
                    <a:pt x="1775" y="3593"/>
                  </a:cubicBezTo>
                  <a:cubicBezTo>
                    <a:pt x="1763" y="3601"/>
                    <a:pt x="1759" y="3649"/>
                    <a:pt x="1771" y="3658"/>
                  </a:cubicBezTo>
                  <a:cubicBezTo>
                    <a:pt x="1783" y="3658"/>
                    <a:pt x="1822" y="3658"/>
                    <a:pt x="1834" y="3658"/>
                  </a:cubicBezTo>
                  <a:cubicBezTo>
                    <a:pt x="1858" y="3676"/>
                    <a:pt x="1880" y="3693"/>
                    <a:pt x="1903" y="3713"/>
                  </a:cubicBezTo>
                  <a:cubicBezTo>
                    <a:pt x="1903" y="3730"/>
                    <a:pt x="1903" y="3747"/>
                    <a:pt x="1903" y="3765"/>
                  </a:cubicBezTo>
                  <a:cubicBezTo>
                    <a:pt x="1894" y="3765"/>
                    <a:pt x="1882" y="3765"/>
                    <a:pt x="1870" y="3765"/>
                  </a:cubicBezTo>
                  <a:cubicBezTo>
                    <a:pt x="1834" y="3739"/>
                    <a:pt x="1801" y="3713"/>
                    <a:pt x="1765" y="3685"/>
                  </a:cubicBezTo>
                  <a:cubicBezTo>
                    <a:pt x="1765" y="3578"/>
                    <a:pt x="1765" y="3472"/>
                    <a:pt x="1765" y="3364"/>
                  </a:cubicBezTo>
                  <a:cubicBezTo>
                    <a:pt x="1775" y="3355"/>
                    <a:pt x="1787" y="3347"/>
                    <a:pt x="1799" y="3337"/>
                  </a:cubicBezTo>
                  <a:cubicBezTo>
                    <a:pt x="1799" y="3257"/>
                    <a:pt x="1799" y="3177"/>
                    <a:pt x="1799" y="3097"/>
                  </a:cubicBezTo>
                  <a:cubicBezTo>
                    <a:pt x="1753" y="3060"/>
                    <a:pt x="1708" y="3025"/>
                    <a:pt x="1660" y="2989"/>
                  </a:cubicBezTo>
                  <a:cubicBezTo>
                    <a:pt x="1569" y="2945"/>
                    <a:pt x="1361" y="2856"/>
                    <a:pt x="1349" y="2856"/>
                  </a:cubicBezTo>
                  <a:cubicBezTo>
                    <a:pt x="1268" y="2793"/>
                    <a:pt x="1187" y="2730"/>
                    <a:pt x="1108" y="2668"/>
                  </a:cubicBezTo>
                  <a:cubicBezTo>
                    <a:pt x="1084" y="2640"/>
                    <a:pt x="1063" y="2614"/>
                    <a:pt x="1039" y="2588"/>
                  </a:cubicBezTo>
                  <a:cubicBezTo>
                    <a:pt x="1005" y="2534"/>
                    <a:pt x="970" y="2481"/>
                    <a:pt x="934" y="2427"/>
                  </a:cubicBezTo>
                  <a:cubicBezTo>
                    <a:pt x="879" y="2258"/>
                    <a:pt x="821" y="2089"/>
                    <a:pt x="762" y="1918"/>
                  </a:cubicBezTo>
                  <a:cubicBezTo>
                    <a:pt x="752" y="1909"/>
                    <a:pt x="704" y="1890"/>
                    <a:pt x="693" y="1890"/>
                  </a:cubicBezTo>
                  <a:cubicBezTo>
                    <a:pt x="669" y="1907"/>
                    <a:pt x="647" y="1926"/>
                    <a:pt x="623" y="1944"/>
                  </a:cubicBezTo>
                  <a:cubicBezTo>
                    <a:pt x="623" y="1989"/>
                    <a:pt x="623" y="2033"/>
                    <a:pt x="623" y="2078"/>
                  </a:cubicBezTo>
                  <a:cubicBezTo>
                    <a:pt x="602" y="2132"/>
                    <a:pt x="578" y="2185"/>
                    <a:pt x="554" y="2239"/>
                  </a:cubicBezTo>
                  <a:cubicBezTo>
                    <a:pt x="473" y="2355"/>
                    <a:pt x="344" y="2521"/>
                    <a:pt x="338" y="2525"/>
                  </a:cubicBezTo>
                  <a:cubicBezTo>
                    <a:pt x="230" y="2605"/>
                    <a:pt x="224" y="2471"/>
                    <a:pt x="212" y="2490"/>
                  </a:cubicBezTo>
                  <a:cubicBezTo>
                    <a:pt x="202" y="2482"/>
                    <a:pt x="139" y="2481"/>
                    <a:pt x="105" y="2319"/>
                  </a:cubicBezTo>
                  <a:cubicBezTo>
                    <a:pt x="105" y="2106"/>
                    <a:pt x="105" y="1890"/>
                    <a:pt x="105" y="1677"/>
                  </a:cubicBezTo>
                  <a:cubicBezTo>
                    <a:pt x="127" y="1615"/>
                    <a:pt x="148" y="1554"/>
                    <a:pt x="172" y="1489"/>
                  </a:cubicBezTo>
                  <a:cubicBezTo>
                    <a:pt x="241" y="1365"/>
                    <a:pt x="370" y="1199"/>
                    <a:pt x="439" y="1074"/>
                  </a:cubicBezTo>
                  <a:cubicBezTo>
                    <a:pt x="451" y="1067"/>
                    <a:pt x="554" y="981"/>
                    <a:pt x="590" y="953"/>
                  </a:cubicBezTo>
                  <a:cubicBezTo>
                    <a:pt x="726" y="873"/>
                    <a:pt x="863" y="793"/>
                    <a:pt x="1003" y="713"/>
                  </a:cubicBezTo>
                  <a:cubicBezTo>
                    <a:pt x="1152" y="659"/>
                    <a:pt x="1254" y="642"/>
                    <a:pt x="1464" y="573"/>
                  </a:cubicBezTo>
                  <a:cubicBezTo>
                    <a:pt x="2109" y="539"/>
                    <a:pt x="2699" y="535"/>
                    <a:pt x="3322" y="526"/>
                  </a:cubicBezTo>
                  <a:close/>
                  <a:moveTo>
                    <a:pt x="728" y="2078"/>
                  </a:moveTo>
                  <a:cubicBezTo>
                    <a:pt x="738" y="2096"/>
                    <a:pt x="748" y="2113"/>
                    <a:pt x="762" y="2133"/>
                  </a:cubicBezTo>
                  <a:cubicBezTo>
                    <a:pt x="784" y="2213"/>
                    <a:pt x="807" y="2293"/>
                    <a:pt x="831" y="2373"/>
                  </a:cubicBezTo>
                  <a:cubicBezTo>
                    <a:pt x="877" y="2462"/>
                    <a:pt x="922" y="2551"/>
                    <a:pt x="970" y="2640"/>
                  </a:cubicBezTo>
                  <a:cubicBezTo>
                    <a:pt x="991" y="2668"/>
                    <a:pt x="1013" y="2694"/>
                    <a:pt x="1039" y="2720"/>
                  </a:cubicBezTo>
                  <a:cubicBezTo>
                    <a:pt x="1120" y="2783"/>
                    <a:pt x="1199" y="2846"/>
                    <a:pt x="1280" y="2909"/>
                  </a:cubicBezTo>
                  <a:cubicBezTo>
                    <a:pt x="1302" y="3042"/>
                    <a:pt x="1326" y="3175"/>
                    <a:pt x="1349" y="3310"/>
                  </a:cubicBezTo>
                  <a:cubicBezTo>
                    <a:pt x="1349" y="3381"/>
                    <a:pt x="1349" y="3452"/>
                    <a:pt x="1349" y="3526"/>
                  </a:cubicBezTo>
                  <a:cubicBezTo>
                    <a:pt x="1280" y="3533"/>
                    <a:pt x="1211" y="3541"/>
                    <a:pt x="1142" y="3552"/>
                  </a:cubicBezTo>
                  <a:cubicBezTo>
                    <a:pt x="1096" y="3544"/>
                    <a:pt x="1049" y="3535"/>
                    <a:pt x="1003" y="3526"/>
                  </a:cubicBezTo>
                  <a:cubicBezTo>
                    <a:pt x="970" y="3507"/>
                    <a:pt x="934" y="3490"/>
                    <a:pt x="900" y="3470"/>
                  </a:cubicBezTo>
                  <a:cubicBezTo>
                    <a:pt x="879" y="3453"/>
                    <a:pt x="855" y="3435"/>
                    <a:pt x="831" y="3417"/>
                  </a:cubicBezTo>
                  <a:cubicBezTo>
                    <a:pt x="819" y="3417"/>
                    <a:pt x="791" y="3401"/>
                    <a:pt x="780" y="3401"/>
                  </a:cubicBezTo>
                  <a:cubicBezTo>
                    <a:pt x="768" y="3409"/>
                    <a:pt x="762" y="3460"/>
                    <a:pt x="762" y="3470"/>
                  </a:cubicBezTo>
                  <a:cubicBezTo>
                    <a:pt x="807" y="3507"/>
                    <a:pt x="855" y="3543"/>
                    <a:pt x="900" y="3578"/>
                  </a:cubicBezTo>
                  <a:cubicBezTo>
                    <a:pt x="888" y="3596"/>
                    <a:pt x="877" y="3613"/>
                    <a:pt x="865" y="3632"/>
                  </a:cubicBezTo>
                  <a:cubicBezTo>
                    <a:pt x="855" y="3632"/>
                    <a:pt x="843" y="3632"/>
                    <a:pt x="831" y="3632"/>
                  </a:cubicBezTo>
                  <a:cubicBezTo>
                    <a:pt x="819" y="3624"/>
                    <a:pt x="809" y="3615"/>
                    <a:pt x="795" y="3606"/>
                  </a:cubicBezTo>
                  <a:cubicBezTo>
                    <a:pt x="786" y="3578"/>
                    <a:pt x="776" y="3552"/>
                    <a:pt x="762" y="3526"/>
                  </a:cubicBezTo>
                  <a:cubicBezTo>
                    <a:pt x="762" y="3507"/>
                    <a:pt x="762" y="3490"/>
                    <a:pt x="762" y="3470"/>
                  </a:cubicBezTo>
                  <a:cubicBezTo>
                    <a:pt x="772" y="3417"/>
                    <a:pt x="784" y="3364"/>
                    <a:pt x="795" y="3310"/>
                  </a:cubicBezTo>
                  <a:cubicBezTo>
                    <a:pt x="795" y="3240"/>
                    <a:pt x="740" y="2982"/>
                    <a:pt x="728" y="2935"/>
                  </a:cubicBezTo>
                  <a:cubicBezTo>
                    <a:pt x="738" y="2928"/>
                    <a:pt x="693" y="2597"/>
                    <a:pt x="657" y="2453"/>
                  </a:cubicBezTo>
                  <a:cubicBezTo>
                    <a:pt x="657" y="2373"/>
                    <a:pt x="657" y="2293"/>
                    <a:pt x="657" y="2213"/>
                  </a:cubicBezTo>
                  <a:cubicBezTo>
                    <a:pt x="669" y="2176"/>
                    <a:pt x="679" y="2141"/>
                    <a:pt x="728" y="2078"/>
                  </a:cubicBezTo>
                  <a:close/>
                  <a:moveTo>
                    <a:pt x="4602" y="2106"/>
                  </a:moveTo>
                  <a:cubicBezTo>
                    <a:pt x="4650" y="2122"/>
                    <a:pt x="4695" y="2139"/>
                    <a:pt x="4741" y="2159"/>
                  </a:cubicBezTo>
                  <a:cubicBezTo>
                    <a:pt x="4753" y="2167"/>
                    <a:pt x="4763" y="2176"/>
                    <a:pt x="4777" y="2185"/>
                  </a:cubicBezTo>
                  <a:cubicBezTo>
                    <a:pt x="4786" y="2204"/>
                    <a:pt x="4796" y="2221"/>
                    <a:pt x="4810" y="2239"/>
                  </a:cubicBezTo>
                  <a:cubicBezTo>
                    <a:pt x="4810" y="2310"/>
                    <a:pt x="4810" y="2381"/>
                    <a:pt x="4810" y="2453"/>
                  </a:cubicBezTo>
                  <a:cubicBezTo>
                    <a:pt x="4832" y="2533"/>
                    <a:pt x="4856" y="2613"/>
                    <a:pt x="4879" y="2694"/>
                  </a:cubicBezTo>
                  <a:cubicBezTo>
                    <a:pt x="4891" y="2702"/>
                    <a:pt x="4901" y="2711"/>
                    <a:pt x="4915" y="2720"/>
                  </a:cubicBezTo>
                  <a:cubicBezTo>
                    <a:pt x="4915" y="2793"/>
                    <a:pt x="4915" y="2863"/>
                    <a:pt x="4915" y="2935"/>
                  </a:cubicBezTo>
                  <a:cubicBezTo>
                    <a:pt x="4903" y="2943"/>
                    <a:pt x="4893" y="2952"/>
                    <a:pt x="4879" y="2962"/>
                  </a:cubicBezTo>
                  <a:cubicBezTo>
                    <a:pt x="4870" y="2962"/>
                    <a:pt x="4860" y="2962"/>
                    <a:pt x="4846" y="2962"/>
                  </a:cubicBezTo>
                  <a:cubicBezTo>
                    <a:pt x="4824" y="2971"/>
                    <a:pt x="4800" y="2979"/>
                    <a:pt x="4777" y="2989"/>
                  </a:cubicBezTo>
                  <a:cubicBezTo>
                    <a:pt x="4741" y="3015"/>
                    <a:pt x="4707" y="3042"/>
                    <a:pt x="4672" y="3069"/>
                  </a:cubicBezTo>
                  <a:cubicBezTo>
                    <a:pt x="4650" y="3078"/>
                    <a:pt x="4626" y="3086"/>
                    <a:pt x="4602" y="3097"/>
                  </a:cubicBezTo>
                  <a:cubicBezTo>
                    <a:pt x="4592" y="3097"/>
                    <a:pt x="4583" y="3097"/>
                    <a:pt x="4569" y="3097"/>
                  </a:cubicBezTo>
                  <a:cubicBezTo>
                    <a:pt x="4547" y="2945"/>
                    <a:pt x="4555" y="2328"/>
                    <a:pt x="4569" y="2239"/>
                  </a:cubicBezTo>
                  <a:cubicBezTo>
                    <a:pt x="4569" y="2204"/>
                    <a:pt x="4569" y="2170"/>
                    <a:pt x="4602" y="2106"/>
                  </a:cubicBezTo>
                  <a:close/>
                  <a:moveTo>
                    <a:pt x="4846" y="3069"/>
                  </a:moveTo>
                  <a:cubicBezTo>
                    <a:pt x="4856" y="3078"/>
                    <a:pt x="4868" y="3086"/>
                    <a:pt x="4879" y="3097"/>
                  </a:cubicBezTo>
                  <a:cubicBezTo>
                    <a:pt x="4879" y="3123"/>
                    <a:pt x="4879" y="3149"/>
                    <a:pt x="4879" y="3177"/>
                  </a:cubicBezTo>
                  <a:cubicBezTo>
                    <a:pt x="4870" y="3184"/>
                    <a:pt x="4860" y="3192"/>
                    <a:pt x="4846" y="3203"/>
                  </a:cubicBezTo>
                  <a:cubicBezTo>
                    <a:pt x="4834" y="3186"/>
                    <a:pt x="4822" y="3168"/>
                    <a:pt x="4810" y="3149"/>
                  </a:cubicBezTo>
                  <a:cubicBezTo>
                    <a:pt x="4810" y="3132"/>
                    <a:pt x="4810" y="3115"/>
                    <a:pt x="4810" y="3097"/>
                  </a:cubicBezTo>
                  <a:lnTo>
                    <a:pt x="4846" y="3069"/>
                  </a:lnTo>
                  <a:close/>
                  <a:moveTo>
                    <a:pt x="4672" y="3149"/>
                  </a:moveTo>
                  <a:cubicBezTo>
                    <a:pt x="4684" y="3149"/>
                    <a:pt x="4695" y="3149"/>
                    <a:pt x="4707" y="3149"/>
                  </a:cubicBezTo>
                  <a:cubicBezTo>
                    <a:pt x="4717" y="3158"/>
                    <a:pt x="4729" y="3166"/>
                    <a:pt x="4741" y="3177"/>
                  </a:cubicBezTo>
                  <a:cubicBezTo>
                    <a:pt x="4741" y="3203"/>
                    <a:pt x="4741" y="3229"/>
                    <a:pt x="4741" y="3257"/>
                  </a:cubicBezTo>
                  <a:cubicBezTo>
                    <a:pt x="4707" y="3257"/>
                    <a:pt x="4674" y="3257"/>
                    <a:pt x="4638" y="3257"/>
                  </a:cubicBezTo>
                  <a:cubicBezTo>
                    <a:pt x="4614" y="3247"/>
                    <a:pt x="4592" y="3238"/>
                    <a:pt x="4569" y="3229"/>
                  </a:cubicBezTo>
                  <a:lnTo>
                    <a:pt x="4672" y="3149"/>
                  </a:lnTo>
                  <a:close/>
                  <a:moveTo>
                    <a:pt x="4118" y="3526"/>
                  </a:moveTo>
                  <a:cubicBezTo>
                    <a:pt x="4165" y="3526"/>
                    <a:pt x="4211" y="3526"/>
                    <a:pt x="4256" y="3526"/>
                  </a:cubicBezTo>
                  <a:cubicBezTo>
                    <a:pt x="4256" y="3559"/>
                    <a:pt x="4256" y="3595"/>
                    <a:pt x="4256" y="3632"/>
                  </a:cubicBezTo>
                  <a:cubicBezTo>
                    <a:pt x="4246" y="3639"/>
                    <a:pt x="4236" y="3649"/>
                    <a:pt x="4222" y="3658"/>
                  </a:cubicBezTo>
                  <a:cubicBezTo>
                    <a:pt x="4189" y="3650"/>
                    <a:pt x="4153" y="3642"/>
                    <a:pt x="4118" y="3632"/>
                  </a:cubicBezTo>
                  <a:cubicBezTo>
                    <a:pt x="4108" y="3624"/>
                    <a:pt x="4098" y="3615"/>
                    <a:pt x="4084" y="3606"/>
                  </a:cubicBezTo>
                  <a:cubicBezTo>
                    <a:pt x="4084" y="3596"/>
                    <a:pt x="4084" y="3589"/>
                    <a:pt x="4084" y="3578"/>
                  </a:cubicBezTo>
                  <a:lnTo>
                    <a:pt x="4118" y="3526"/>
                  </a:lnTo>
                  <a:close/>
                  <a:moveTo>
                    <a:pt x="4397" y="3578"/>
                  </a:moveTo>
                  <a:cubicBezTo>
                    <a:pt x="4406" y="3587"/>
                    <a:pt x="4416" y="3595"/>
                    <a:pt x="4430" y="3606"/>
                  </a:cubicBezTo>
                  <a:cubicBezTo>
                    <a:pt x="4430" y="3613"/>
                    <a:pt x="4430" y="3621"/>
                    <a:pt x="4430" y="3632"/>
                  </a:cubicBezTo>
                  <a:cubicBezTo>
                    <a:pt x="4420" y="3639"/>
                    <a:pt x="4408" y="3649"/>
                    <a:pt x="4397" y="3658"/>
                  </a:cubicBezTo>
                  <a:cubicBezTo>
                    <a:pt x="4385" y="3658"/>
                    <a:pt x="4375" y="3658"/>
                    <a:pt x="4361" y="3658"/>
                  </a:cubicBezTo>
                  <a:cubicBezTo>
                    <a:pt x="4361" y="3641"/>
                    <a:pt x="4361" y="3624"/>
                    <a:pt x="4361" y="3606"/>
                  </a:cubicBezTo>
                  <a:lnTo>
                    <a:pt x="4397" y="3578"/>
                  </a:lnTo>
                  <a:close/>
                  <a:moveTo>
                    <a:pt x="970" y="3606"/>
                  </a:moveTo>
                  <a:cubicBezTo>
                    <a:pt x="1003" y="3606"/>
                    <a:pt x="1037" y="3606"/>
                    <a:pt x="1072" y="3606"/>
                  </a:cubicBezTo>
                  <a:cubicBezTo>
                    <a:pt x="1096" y="3613"/>
                    <a:pt x="1118" y="3621"/>
                    <a:pt x="1142" y="3632"/>
                  </a:cubicBezTo>
                  <a:cubicBezTo>
                    <a:pt x="1142" y="3649"/>
                    <a:pt x="1142" y="3667"/>
                    <a:pt x="1142" y="3685"/>
                  </a:cubicBezTo>
                  <a:cubicBezTo>
                    <a:pt x="1072" y="3685"/>
                    <a:pt x="1005" y="3685"/>
                    <a:pt x="934" y="3685"/>
                  </a:cubicBezTo>
                  <a:cubicBezTo>
                    <a:pt x="934" y="3676"/>
                    <a:pt x="934" y="3669"/>
                    <a:pt x="934" y="3658"/>
                  </a:cubicBezTo>
                  <a:lnTo>
                    <a:pt x="970" y="3606"/>
                  </a:lnTo>
                  <a:close/>
                  <a:moveTo>
                    <a:pt x="1280" y="3632"/>
                  </a:moveTo>
                  <a:cubicBezTo>
                    <a:pt x="1290" y="3639"/>
                    <a:pt x="1302" y="3649"/>
                    <a:pt x="1314" y="3658"/>
                  </a:cubicBezTo>
                  <a:cubicBezTo>
                    <a:pt x="1304" y="3667"/>
                    <a:pt x="1294" y="3675"/>
                    <a:pt x="1280" y="3685"/>
                  </a:cubicBezTo>
                  <a:cubicBezTo>
                    <a:pt x="1270" y="3685"/>
                    <a:pt x="1258" y="3685"/>
                    <a:pt x="1247" y="3685"/>
                  </a:cubicBezTo>
                  <a:cubicBezTo>
                    <a:pt x="1247" y="3676"/>
                    <a:pt x="1247" y="3669"/>
                    <a:pt x="1247" y="3658"/>
                  </a:cubicBezTo>
                  <a:lnTo>
                    <a:pt x="1280" y="3632"/>
                  </a:lnTo>
                  <a:close/>
                  <a:moveTo>
                    <a:pt x="2008" y="3658"/>
                  </a:moveTo>
                  <a:cubicBezTo>
                    <a:pt x="2054" y="3658"/>
                    <a:pt x="2099" y="3658"/>
                    <a:pt x="2147" y="3658"/>
                  </a:cubicBezTo>
                  <a:cubicBezTo>
                    <a:pt x="2157" y="3667"/>
                    <a:pt x="2167" y="3675"/>
                    <a:pt x="2180" y="3685"/>
                  </a:cubicBezTo>
                  <a:cubicBezTo>
                    <a:pt x="2180" y="3702"/>
                    <a:pt x="2180" y="3719"/>
                    <a:pt x="2180" y="3739"/>
                  </a:cubicBezTo>
                  <a:cubicBezTo>
                    <a:pt x="2147" y="3747"/>
                    <a:pt x="2111" y="3756"/>
                    <a:pt x="2076" y="3765"/>
                  </a:cubicBezTo>
                  <a:cubicBezTo>
                    <a:pt x="2054" y="3765"/>
                    <a:pt x="2032" y="3765"/>
                    <a:pt x="2008" y="3765"/>
                  </a:cubicBezTo>
                  <a:cubicBezTo>
                    <a:pt x="1996" y="3749"/>
                    <a:pt x="1985" y="3732"/>
                    <a:pt x="1973" y="3713"/>
                  </a:cubicBezTo>
                  <a:cubicBezTo>
                    <a:pt x="1973" y="3704"/>
                    <a:pt x="1973" y="3695"/>
                    <a:pt x="1973" y="3685"/>
                  </a:cubicBezTo>
                  <a:lnTo>
                    <a:pt x="2008" y="3658"/>
                  </a:lnTo>
                  <a:close/>
                  <a:moveTo>
                    <a:pt x="2283" y="3658"/>
                  </a:moveTo>
                  <a:cubicBezTo>
                    <a:pt x="2295" y="3658"/>
                    <a:pt x="2307" y="3658"/>
                    <a:pt x="2319" y="3658"/>
                  </a:cubicBezTo>
                  <a:cubicBezTo>
                    <a:pt x="2319" y="3685"/>
                    <a:pt x="2319" y="3712"/>
                    <a:pt x="2319" y="3739"/>
                  </a:cubicBezTo>
                  <a:cubicBezTo>
                    <a:pt x="2307" y="3747"/>
                    <a:pt x="2295" y="3756"/>
                    <a:pt x="2283" y="3765"/>
                  </a:cubicBezTo>
                  <a:lnTo>
                    <a:pt x="2283" y="36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rot="1920000">
              <a:off x="3802320" y="3982320"/>
              <a:ext cx="13428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52400" y="80820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Стран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219640" y="4500720"/>
            <a:ext cx="4022640" cy="230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Определите названия стран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152360" y="2627280"/>
            <a:ext cx="3421080" cy="3613320"/>
          </a:xfrm>
          <a:custGeom>
            <a:avLst/>
            <a:gdLst/>
            <a:ahLst/>
            <a:rect l="l" t="t" r="r" b="b"/>
            <a:pathLst>
              <a:path w="9501" h="10038">
                <a:moveTo>
                  <a:pt x="3612" y="1136"/>
                </a:moveTo>
                <a:lnTo>
                  <a:pt x="3624" y="1108"/>
                </a:lnTo>
                <a:lnTo>
                  <a:pt x="3655" y="1096"/>
                </a:lnTo>
                <a:lnTo>
                  <a:pt x="3686" y="1092"/>
                </a:lnTo>
                <a:lnTo>
                  <a:pt x="3716" y="1078"/>
                </a:lnTo>
                <a:lnTo>
                  <a:pt x="3747" y="1068"/>
                </a:lnTo>
                <a:lnTo>
                  <a:pt x="3777" y="1042"/>
                </a:lnTo>
                <a:lnTo>
                  <a:pt x="3817" y="1009"/>
                </a:lnTo>
                <a:lnTo>
                  <a:pt x="3847" y="994"/>
                </a:lnTo>
                <a:lnTo>
                  <a:pt x="3878" y="973"/>
                </a:lnTo>
                <a:lnTo>
                  <a:pt x="3908" y="948"/>
                </a:lnTo>
                <a:lnTo>
                  <a:pt x="3908" y="917"/>
                </a:lnTo>
                <a:lnTo>
                  <a:pt x="3904" y="883"/>
                </a:lnTo>
                <a:lnTo>
                  <a:pt x="3899" y="855"/>
                </a:lnTo>
                <a:lnTo>
                  <a:pt x="3899" y="826"/>
                </a:lnTo>
                <a:lnTo>
                  <a:pt x="3908" y="798"/>
                </a:lnTo>
                <a:lnTo>
                  <a:pt x="3922" y="770"/>
                </a:lnTo>
                <a:lnTo>
                  <a:pt x="3931" y="741"/>
                </a:lnTo>
                <a:lnTo>
                  <a:pt x="3953" y="712"/>
                </a:lnTo>
                <a:lnTo>
                  <a:pt x="3962" y="683"/>
                </a:lnTo>
                <a:lnTo>
                  <a:pt x="3962" y="656"/>
                </a:lnTo>
                <a:lnTo>
                  <a:pt x="3965" y="622"/>
                </a:lnTo>
                <a:lnTo>
                  <a:pt x="3965" y="594"/>
                </a:lnTo>
                <a:lnTo>
                  <a:pt x="3962" y="561"/>
                </a:lnTo>
                <a:lnTo>
                  <a:pt x="3953" y="533"/>
                </a:lnTo>
                <a:lnTo>
                  <a:pt x="3935" y="504"/>
                </a:lnTo>
                <a:lnTo>
                  <a:pt x="3917" y="472"/>
                </a:lnTo>
                <a:lnTo>
                  <a:pt x="3908" y="442"/>
                </a:lnTo>
                <a:lnTo>
                  <a:pt x="3908" y="415"/>
                </a:lnTo>
                <a:lnTo>
                  <a:pt x="3904" y="386"/>
                </a:lnTo>
                <a:lnTo>
                  <a:pt x="3874" y="386"/>
                </a:lnTo>
                <a:lnTo>
                  <a:pt x="3843" y="395"/>
                </a:lnTo>
                <a:lnTo>
                  <a:pt x="3813" y="399"/>
                </a:lnTo>
                <a:lnTo>
                  <a:pt x="3777" y="395"/>
                </a:lnTo>
                <a:lnTo>
                  <a:pt x="3747" y="395"/>
                </a:lnTo>
                <a:lnTo>
                  <a:pt x="3716" y="395"/>
                </a:lnTo>
                <a:lnTo>
                  <a:pt x="3686" y="395"/>
                </a:lnTo>
                <a:lnTo>
                  <a:pt x="3655" y="395"/>
                </a:lnTo>
                <a:lnTo>
                  <a:pt x="3624" y="406"/>
                </a:lnTo>
                <a:lnTo>
                  <a:pt x="3594" y="415"/>
                </a:lnTo>
                <a:lnTo>
                  <a:pt x="3563" y="415"/>
                </a:lnTo>
                <a:lnTo>
                  <a:pt x="3533" y="415"/>
                </a:lnTo>
                <a:lnTo>
                  <a:pt x="3502" y="420"/>
                </a:lnTo>
                <a:lnTo>
                  <a:pt x="3472" y="431"/>
                </a:lnTo>
                <a:lnTo>
                  <a:pt x="3440" y="455"/>
                </a:lnTo>
                <a:lnTo>
                  <a:pt x="3406" y="472"/>
                </a:lnTo>
                <a:lnTo>
                  <a:pt x="3375" y="485"/>
                </a:lnTo>
                <a:lnTo>
                  <a:pt x="3344" y="500"/>
                </a:lnTo>
                <a:lnTo>
                  <a:pt x="3309" y="516"/>
                </a:lnTo>
                <a:lnTo>
                  <a:pt x="3274" y="520"/>
                </a:lnTo>
                <a:lnTo>
                  <a:pt x="3244" y="533"/>
                </a:lnTo>
                <a:lnTo>
                  <a:pt x="3212" y="520"/>
                </a:lnTo>
                <a:lnTo>
                  <a:pt x="3212" y="491"/>
                </a:lnTo>
                <a:lnTo>
                  <a:pt x="3196" y="464"/>
                </a:lnTo>
                <a:lnTo>
                  <a:pt x="3164" y="464"/>
                </a:lnTo>
                <a:lnTo>
                  <a:pt x="3134" y="464"/>
                </a:lnTo>
                <a:lnTo>
                  <a:pt x="3099" y="464"/>
                </a:lnTo>
                <a:lnTo>
                  <a:pt x="3067" y="464"/>
                </a:lnTo>
                <a:lnTo>
                  <a:pt x="3038" y="460"/>
                </a:lnTo>
                <a:lnTo>
                  <a:pt x="3007" y="442"/>
                </a:lnTo>
                <a:lnTo>
                  <a:pt x="2986" y="415"/>
                </a:lnTo>
                <a:lnTo>
                  <a:pt x="2959" y="381"/>
                </a:lnTo>
                <a:lnTo>
                  <a:pt x="2927" y="354"/>
                </a:lnTo>
                <a:lnTo>
                  <a:pt x="2906" y="325"/>
                </a:lnTo>
                <a:lnTo>
                  <a:pt x="2902" y="295"/>
                </a:lnTo>
                <a:lnTo>
                  <a:pt x="2884" y="268"/>
                </a:lnTo>
                <a:lnTo>
                  <a:pt x="2854" y="252"/>
                </a:lnTo>
                <a:lnTo>
                  <a:pt x="2824" y="236"/>
                </a:lnTo>
                <a:lnTo>
                  <a:pt x="2787" y="216"/>
                </a:lnTo>
                <a:lnTo>
                  <a:pt x="2754" y="187"/>
                </a:lnTo>
                <a:lnTo>
                  <a:pt x="2732" y="160"/>
                </a:lnTo>
                <a:lnTo>
                  <a:pt x="2701" y="130"/>
                </a:lnTo>
                <a:lnTo>
                  <a:pt x="2666" y="98"/>
                </a:lnTo>
                <a:lnTo>
                  <a:pt x="2636" y="69"/>
                </a:lnTo>
                <a:lnTo>
                  <a:pt x="2609" y="35"/>
                </a:lnTo>
                <a:lnTo>
                  <a:pt x="2577" y="16"/>
                </a:lnTo>
                <a:lnTo>
                  <a:pt x="2548" y="12"/>
                </a:lnTo>
                <a:lnTo>
                  <a:pt x="2517" y="25"/>
                </a:lnTo>
                <a:lnTo>
                  <a:pt x="2486" y="40"/>
                </a:lnTo>
                <a:lnTo>
                  <a:pt x="2456" y="49"/>
                </a:lnTo>
                <a:lnTo>
                  <a:pt x="2426" y="57"/>
                </a:lnTo>
                <a:lnTo>
                  <a:pt x="2394" y="65"/>
                </a:lnTo>
                <a:lnTo>
                  <a:pt x="2364" y="69"/>
                </a:lnTo>
                <a:lnTo>
                  <a:pt x="2334" y="69"/>
                </a:lnTo>
                <a:lnTo>
                  <a:pt x="2302" y="69"/>
                </a:lnTo>
                <a:lnTo>
                  <a:pt x="2272" y="69"/>
                </a:lnTo>
                <a:lnTo>
                  <a:pt x="2242" y="69"/>
                </a:lnTo>
                <a:lnTo>
                  <a:pt x="2206" y="69"/>
                </a:lnTo>
                <a:lnTo>
                  <a:pt x="2176" y="65"/>
                </a:lnTo>
                <a:lnTo>
                  <a:pt x="2146" y="52"/>
                </a:lnTo>
                <a:lnTo>
                  <a:pt x="2114" y="35"/>
                </a:lnTo>
                <a:lnTo>
                  <a:pt x="2081" y="16"/>
                </a:lnTo>
                <a:lnTo>
                  <a:pt x="2044" y="0"/>
                </a:lnTo>
                <a:lnTo>
                  <a:pt x="2014" y="4"/>
                </a:lnTo>
                <a:lnTo>
                  <a:pt x="1984" y="25"/>
                </a:lnTo>
                <a:lnTo>
                  <a:pt x="1979" y="52"/>
                </a:lnTo>
                <a:lnTo>
                  <a:pt x="1957" y="81"/>
                </a:lnTo>
                <a:lnTo>
                  <a:pt x="1936" y="109"/>
                </a:lnTo>
                <a:lnTo>
                  <a:pt x="1904" y="130"/>
                </a:lnTo>
                <a:lnTo>
                  <a:pt x="1874" y="151"/>
                </a:lnTo>
                <a:lnTo>
                  <a:pt x="1848" y="179"/>
                </a:lnTo>
                <a:lnTo>
                  <a:pt x="1821" y="208"/>
                </a:lnTo>
                <a:lnTo>
                  <a:pt x="1786" y="231"/>
                </a:lnTo>
                <a:lnTo>
                  <a:pt x="1751" y="252"/>
                </a:lnTo>
                <a:lnTo>
                  <a:pt x="1721" y="276"/>
                </a:lnTo>
                <a:lnTo>
                  <a:pt x="1708" y="304"/>
                </a:lnTo>
                <a:lnTo>
                  <a:pt x="1708" y="333"/>
                </a:lnTo>
                <a:lnTo>
                  <a:pt x="1721" y="361"/>
                </a:lnTo>
                <a:lnTo>
                  <a:pt x="1751" y="386"/>
                </a:lnTo>
                <a:lnTo>
                  <a:pt x="1769" y="415"/>
                </a:lnTo>
                <a:lnTo>
                  <a:pt x="1791" y="442"/>
                </a:lnTo>
                <a:lnTo>
                  <a:pt x="1817" y="472"/>
                </a:lnTo>
                <a:lnTo>
                  <a:pt x="1834" y="500"/>
                </a:lnTo>
                <a:lnTo>
                  <a:pt x="1856" y="529"/>
                </a:lnTo>
                <a:lnTo>
                  <a:pt x="1887" y="546"/>
                </a:lnTo>
                <a:lnTo>
                  <a:pt x="1918" y="570"/>
                </a:lnTo>
                <a:lnTo>
                  <a:pt x="1948" y="577"/>
                </a:lnTo>
                <a:lnTo>
                  <a:pt x="1979" y="577"/>
                </a:lnTo>
                <a:lnTo>
                  <a:pt x="2011" y="586"/>
                </a:lnTo>
                <a:lnTo>
                  <a:pt x="2039" y="611"/>
                </a:lnTo>
                <a:lnTo>
                  <a:pt x="2076" y="635"/>
                </a:lnTo>
                <a:lnTo>
                  <a:pt x="2102" y="663"/>
                </a:lnTo>
                <a:lnTo>
                  <a:pt x="2119" y="691"/>
                </a:lnTo>
                <a:lnTo>
                  <a:pt x="2141" y="721"/>
                </a:lnTo>
                <a:lnTo>
                  <a:pt x="2141" y="748"/>
                </a:lnTo>
                <a:lnTo>
                  <a:pt x="2114" y="777"/>
                </a:lnTo>
                <a:lnTo>
                  <a:pt x="2084" y="798"/>
                </a:lnTo>
                <a:lnTo>
                  <a:pt x="2054" y="817"/>
                </a:lnTo>
                <a:lnTo>
                  <a:pt x="2018" y="847"/>
                </a:lnTo>
                <a:lnTo>
                  <a:pt x="1988" y="872"/>
                </a:lnTo>
                <a:lnTo>
                  <a:pt x="1957" y="872"/>
                </a:lnTo>
                <a:lnTo>
                  <a:pt x="1922" y="883"/>
                </a:lnTo>
                <a:lnTo>
                  <a:pt x="1936" y="912"/>
                </a:lnTo>
                <a:lnTo>
                  <a:pt x="1936" y="940"/>
                </a:lnTo>
                <a:lnTo>
                  <a:pt x="1936" y="973"/>
                </a:lnTo>
                <a:lnTo>
                  <a:pt x="1941" y="1002"/>
                </a:lnTo>
                <a:lnTo>
                  <a:pt x="1948" y="1031"/>
                </a:lnTo>
                <a:lnTo>
                  <a:pt x="1957" y="1063"/>
                </a:lnTo>
                <a:lnTo>
                  <a:pt x="1974" y="1096"/>
                </a:lnTo>
                <a:lnTo>
                  <a:pt x="1992" y="1124"/>
                </a:lnTo>
                <a:lnTo>
                  <a:pt x="1996" y="1152"/>
                </a:lnTo>
                <a:lnTo>
                  <a:pt x="2001" y="1182"/>
                </a:lnTo>
                <a:lnTo>
                  <a:pt x="2001" y="1209"/>
                </a:lnTo>
                <a:lnTo>
                  <a:pt x="2001" y="1243"/>
                </a:lnTo>
                <a:lnTo>
                  <a:pt x="2014" y="1274"/>
                </a:lnTo>
                <a:lnTo>
                  <a:pt x="2027" y="1303"/>
                </a:lnTo>
                <a:lnTo>
                  <a:pt x="2044" y="1332"/>
                </a:lnTo>
                <a:lnTo>
                  <a:pt x="2062" y="1360"/>
                </a:lnTo>
                <a:lnTo>
                  <a:pt x="2092" y="1381"/>
                </a:lnTo>
                <a:lnTo>
                  <a:pt x="2124" y="1393"/>
                </a:lnTo>
                <a:lnTo>
                  <a:pt x="2154" y="1405"/>
                </a:lnTo>
                <a:lnTo>
                  <a:pt x="2184" y="1418"/>
                </a:lnTo>
                <a:lnTo>
                  <a:pt x="2216" y="1430"/>
                </a:lnTo>
                <a:lnTo>
                  <a:pt x="2266" y="1440"/>
                </a:lnTo>
                <a:lnTo>
                  <a:pt x="2297" y="1430"/>
                </a:lnTo>
                <a:lnTo>
                  <a:pt x="2306" y="1462"/>
                </a:lnTo>
                <a:lnTo>
                  <a:pt x="2306" y="1492"/>
                </a:lnTo>
                <a:lnTo>
                  <a:pt x="2322" y="1523"/>
                </a:lnTo>
                <a:lnTo>
                  <a:pt x="2356" y="1537"/>
                </a:lnTo>
                <a:lnTo>
                  <a:pt x="2387" y="1537"/>
                </a:lnTo>
                <a:lnTo>
                  <a:pt x="2422" y="1554"/>
                </a:lnTo>
                <a:lnTo>
                  <a:pt x="2455" y="1585"/>
                </a:lnTo>
                <a:lnTo>
                  <a:pt x="2487" y="1608"/>
                </a:lnTo>
                <a:lnTo>
                  <a:pt x="2512" y="1639"/>
                </a:lnTo>
                <a:lnTo>
                  <a:pt x="2463" y="1670"/>
                </a:lnTo>
                <a:lnTo>
                  <a:pt x="2429" y="1692"/>
                </a:lnTo>
                <a:lnTo>
                  <a:pt x="2397" y="1700"/>
                </a:lnTo>
                <a:lnTo>
                  <a:pt x="2363" y="1700"/>
                </a:lnTo>
                <a:lnTo>
                  <a:pt x="2331" y="1708"/>
                </a:lnTo>
                <a:lnTo>
                  <a:pt x="2297" y="1731"/>
                </a:lnTo>
                <a:lnTo>
                  <a:pt x="2266" y="1763"/>
                </a:lnTo>
                <a:lnTo>
                  <a:pt x="2248" y="1794"/>
                </a:lnTo>
                <a:lnTo>
                  <a:pt x="2255" y="1823"/>
                </a:lnTo>
                <a:lnTo>
                  <a:pt x="2273" y="1855"/>
                </a:lnTo>
                <a:lnTo>
                  <a:pt x="2281" y="1885"/>
                </a:lnTo>
                <a:lnTo>
                  <a:pt x="2255" y="1917"/>
                </a:lnTo>
                <a:lnTo>
                  <a:pt x="2232" y="1947"/>
                </a:lnTo>
                <a:lnTo>
                  <a:pt x="2223" y="1978"/>
                </a:lnTo>
                <a:lnTo>
                  <a:pt x="2232" y="2009"/>
                </a:lnTo>
                <a:lnTo>
                  <a:pt x="2248" y="2040"/>
                </a:lnTo>
                <a:lnTo>
                  <a:pt x="2216" y="2063"/>
                </a:lnTo>
                <a:lnTo>
                  <a:pt x="2182" y="2085"/>
                </a:lnTo>
                <a:lnTo>
                  <a:pt x="2149" y="2118"/>
                </a:lnTo>
                <a:lnTo>
                  <a:pt x="2124" y="2147"/>
                </a:lnTo>
                <a:lnTo>
                  <a:pt x="2100" y="2178"/>
                </a:lnTo>
                <a:lnTo>
                  <a:pt x="2066" y="2208"/>
                </a:lnTo>
                <a:lnTo>
                  <a:pt x="2041" y="2240"/>
                </a:lnTo>
                <a:lnTo>
                  <a:pt x="2016" y="2271"/>
                </a:lnTo>
                <a:lnTo>
                  <a:pt x="2008" y="2301"/>
                </a:lnTo>
                <a:lnTo>
                  <a:pt x="2001" y="2332"/>
                </a:lnTo>
                <a:lnTo>
                  <a:pt x="1974" y="2363"/>
                </a:lnTo>
                <a:lnTo>
                  <a:pt x="1918" y="2363"/>
                </a:lnTo>
                <a:lnTo>
                  <a:pt x="1884" y="2371"/>
                </a:lnTo>
                <a:lnTo>
                  <a:pt x="1868" y="2402"/>
                </a:lnTo>
                <a:lnTo>
                  <a:pt x="1851" y="2434"/>
                </a:lnTo>
                <a:lnTo>
                  <a:pt x="1834" y="2464"/>
                </a:lnTo>
                <a:lnTo>
                  <a:pt x="1817" y="2494"/>
                </a:lnTo>
                <a:lnTo>
                  <a:pt x="1809" y="2525"/>
                </a:lnTo>
                <a:lnTo>
                  <a:pt x="1793" y="2563"/>
                </a:lnTo>
                <a:lnTo>
                  <a:pt x="1777" y="2595"/>
                </a:lnTo>
                <a:lnTo>
                  <a:pt x="1743" y="2625"/>
                </a:lnTo>
                <a:lnTo>
                  <a:pt x="1702" y="2648"/>
                </a:lnTo>
                <a:lnTo>
                  <a:pt x="1668" y="2679"/>
                </a:lnTo>
                <a:lnTo>
                  <a:pt x="1636" y="2702"/>
                </a:lnTo>
                <a:lnTo>
                  <a:pt x="1603" y="2725"/>
                </a:lnTo>
                <a:lnTo>
                  <a:pt x="1569" y="2749"/>
                </a:lnTo>
                <a:lnTo>
                  <a:pt x="1528" y="2772"/>
                </a:lnTo>
                <a:lnTo>
                  <a:pt x="1496" y="2787"/>
                </a:lnTo>
                <a:lnTo>
                  <a:pt x="1471" y="2818"/>
                </a:lnTo>
                <a:lnTo>
                  <a:pt x="1454" y="2848"/>
                </a:lnTo>
                <a:lnTo>
                  <a:pt x="1454" y="2879"/>
                </a:lnTo>
                <a:lnTo>
                  <a:pt x="1429" y="2910"/>
                </a:lnTo>
                <a:lnTo>
                  <a:pt x="1404" y="2940"/>
                </a:lnTo>
                <a:lnTo>
                  <a:pt x="1355" y="3017"/>
                </a:lnTo>
                <a:lnTo>
                  <a:pt x="1330" y="3049"/>
                </a:lnTo>
                <a:lnTo>
                  <a:pt x="1314" y="3079"/>
                </a:lnTo>
                <a:lnTo>
                  <a:pt x="1281" y="3088"/>
                </a:lnTo>
                <a:lnTo>
                  <a:pt x="1247" y="3095"/>
                </a:lnTo>
                <a:lnTo>
                  <a:pt x="1215" y="3095"/>
                </a:lnTo>
                <a:lnTo>
                  <a:pt x="1182" y="3095"/>
                </a:lnTo>
                <a:lnTo>
                  <a:pt x="1148" y="3088"/>
                </a:lnTo>
                <a:lnTo>
                  <a:pt x="1115" y="3088"/>
                </a:lnTo>
                <a:lnTo>
                  <a:pt x="1082" y="3095"/>
                </a:lnTo>
                <a:lnTo>
                  <a:pt x="1050" y="3110"/>
                </a:lnTo>
                <a:lnTo>
                  <a:pt x="1016" y="3142"/>
                </a:lnTo>
                <a:lnTo>
                  <a:pt x="982" y="3156"/>
                </a:lnTo>
                <a:lnTo>
                  <a:pt x="949" y="3149"/>
                </a:lnTo>
                <a:lnTo>
                  <a:pt x="943" y="3118"/>
                </a:lnTo>
                <a:lnTo>
                  <a:pt x="933" y="3088"/>
                </a:lnTo>
                <a:lnTo>
                  <a:pt x="933" y="3056"/>
                </a:lnTo>
                <a:lnTo>
                  <a:pt x="901" y="3026"/>
                </a:lnTo>
                <a:lnTo>
                  <a:pt x="866" y="3034"/>
                </a:lnTo>
                <a:lnTo>
                  <a:pt x="834" y="3040"/>
                </a:lnTo>
                <a:lnTo>
                  <a:pt x="800" y="3056"/>
                </a:lnTo>
                <a:lnTo>
                  <a:pt x="776" y="3088"/>
                </a:lnTo>
                <a:lnTo>
                  <a:pt x="761" y="3118"/>
                </a:lnTo>
                <a:lnTo>
                  <a:pt x="734" y="3149"/>
                </a:lnTo>
                <a:lnTo>
                  <a:pt x="709" y="3181"/>
                </a:lnTo>
                <a:lnTo>
                  <a:pt x="693" y="3212"/>
                </a:lnTo>
                <a:lnTo>
                  <a:pt x="668" y="3241"/>
                </a:lnTo>
                <a:lnTo>
                  <a:pt x="636" y="3264"/>
                </a:lnTo>
                <a:lnTo>
                  <a:pt x="602" y="3279"/>
                </a:lnTo>
                <a:lnTo>
                  <a:pt x="569" y="3296"/>
                </a:lnTo>
                <a:lnTo>
                  <a:pt x="536" y="3325"/>
                </a:lnTo>
                <a:lnTo>
                  <a:pt x="504" y="3349"/>
                </a:lnTo>
                <a:lnTo>
                  <a:pt x="504" y="3380"/>
                </a:lnTo>
                <a:lnTo>
                  <a:pt x="511" y="3418"/>
                </a:lnTo>
                <a:lnTo>
                  <a:pt x="520" y="3449"/>
                </a:lnTo>
                <a:lnTo>
                  <a:pt x="544" y="3481"/>
                </a:lnTo>
                <a:lnTo>
                  <a:pt x="577" y="3503"/>
                </a:lnTo>
                <a:lnTo>
                  <a:pt x="610" y="3511"/>
                </a:lnTo>
                <a:lnTo>
                  <a:pt x="643" y="3511"/>
                </a:lnTo>
                <a:lnTo>
                  <a:pt x="676" y="3511"/>
                </a:lnTo>
                <a:lnTo>
                  <a:pt x="709" y="3526"/>
                </a:lnTo>
                <a:lnTo>
                  <a:pt x="718" y="3557"/>
                </a:lnTo>
                <a:lnTo>
                  <a:pt x="718" y="3587"/>
                </a:lnTo>
                <a:lnTo>
                  <a:pt x="718" y="3619"/>
                </a:lnTo>
                <a:lnTo>
                  <a:pt x="709" y="3649"/>
                </a:lnTo>
                <a:lnTo>
                  <a:pt x="685" y="3718"/>
                </a:lnTo>
                <a:lnTo>
                  <a:pt x="693" y="3750"/>
                </a:lnTo>
                <a:lnTo>
                  <a:pt x="709" y="3781"/>
                </a:lnTo>
                <a:lnTo>
                  <a:pt x="734" y="3812"/>
                </a:lnTo>
                <a:lnTo>
                  <a:pt x="769" y="3835"/>
                </a:lnTo>
                <a:lnTo>
                  <a:pt x="800" y="3843"/>
                </a:lnTo>
                <a:lnTo>
                  <a:pt x="834" y="3851"/>
                </a:lnTo>
                <a:lnTo>
                  <a:pt x="866" y="3865"/>
                </a:lnTo>
                <a:lnTo>
                  <a:pt x="866" y="3896"/>
                </a:lnTo>
                <a:lnTo>
                  <a:pt x="876" y="3927"/>
                </a:lnTo>
                <a:lnTo>
                  <a:pt x="876" y="3958"/>
                </a:lnTo>
                <a:lnTo>
                  <a:pt x="884" y="3988"/>
                </a:lnTo>
                <a:lnTo>
                  <a:pt x="901" y="4019"/>
                </a:lnTo>
                <a:lnTo>
                  <a:pt x="917" y="4049"/>
                </a:lnTo>
                <a:lnTo>
                  <a:pt x="943" y="4082"/>
                </a:lnTo>
                <a:lnTo>
                  <a:pt x="966" y="4111"/>
                </a:lnTo>
                <a:lnTo>
                  <a:pt x="975" y="4143"/>
                </a:lnTo>
                <a:lnTo>
                  <a:pt x="966" y="4172"/>
                </a:lnTo>
                <a:lnTo>
                  <a:pt x="943" y="4205"/>
                </a:lnTo>
                <a:lnTo>
                  <a:pt x="909" y="4228"/>
                </a:lnTo>
                <a:lnTo>
                  <a:pt x="884" y="4258"/>
                </a:lnTo>
                <a:lnTo>
                  <a:pt x="917" y="4274"/>
                </a:lnTo>
                <a:lnTo>
                  <a:pt x="943" y="4305"/>
                </a:lnTo>
                <a:lnTo>
                  <a:pt x="909" y="4328"/>
                </a:lnTo>
                <a:lnTo>
                  <a:pt x="876" y="4359"/>
                </a:lnTo>
                <a:lnTo>
                  <a:pt x="859" y="4389"/>
                </a:lnTo>
                <a:lnTo>
                  <a:pt x="827" y="4389"/>
                </a:lnTo>
                <a:lnTo>
                  <a:pt x="809" y="4359"/>
                </a:lnTo>
                <a:lnTo>
                  <a:pt x="776" y="4328"/>
                </a:lnTo>
                <a:lnTo>
                  <a:pt x="744" y="4305"/>
                </a:lnTo>
                <a:lnTo>
                  <a:pt x="709" y="4296"/>
                </a:lnTo>
                <a:lnTo>
                  <a:pt x="676" y="4296"/>
                </a:lnTo>
                <a:lnTo>
                  <a:pt x="643" y="4312"/>
                </a:lnTo>
                <a:lnTo>
                  <a:pt x="610" y="4335"/>
                </a:lnTo>
                <a:lnTo>
                  <a:pt x="577" y="4350"/>
                </a:lnTo>
                <a:lnTo>
                  <a:pt x="544" y="4344"/>
                </a:lnTo>
                <a:lnTo>
                  <a:pt x="511" y="4335"/>
                </a:lnTo>
                <a:lnTo>
                  <a:pt x="478" y="4320"/>
                </a:lnTo>
                <a:lnTo>
                  <a:pt x="454" y="4290"/>
                </a:lnTo>
                <a:lnTo>
                  <a:pt x="421" y="4290"/>
                </a:lnTo>
                <a:lnTo>
                  <a:pt x="388" y="4305"/>
                </a:lnTo>
                <a:lnTo>
                  <a:pt x="353" y="4312"/>
                </a:lnTo>
                <a:lnTo>
                  <a:pt x="322" y="4312"/>
                </a:lnTo>
                <a:lnTo>
                  <a:pt x="288" y="4281"/>
                </a:lnTo>
                <a:lnTo>
                  <a:pt x="256" y="4266"/>
                </a:lnTo>
                <a:lnTo>
                  <a:pt x="222" y="4266"/>
                </a:lnTo>
                <a:lnTo>
                  <a:pt x="205" y="4296"/>
                </a:lnTo>
                <a:lnTo>
                  <a:pt x="205" y="4328"/>
                </a:lnTo>
                <a:lnTo>
                  <a:pt x="189" y="4359"/>
                </a:lnTo>
                <a:lnTo>
                  <a:pt x="173" y="4389"/>
                </a:lnTo>
                <a:lnTo>
                  <a:pt x="139" y="4389"/>
                </a:lnTo>
                <a:lnTo>
                  <a:pt x="106" y="4389"/>
                </a:lnTo>
                <a:lnTo>
                  <a:pt x="72" y="4382"/>
                </a:lnTo>
                <a:lnTo>
                  <a:pt x="33" y="4367"/>
                </a:lnTo>
                <a:lnTo>
                  <a:pt x="16" y="4397"/>
                </a:lnTo>
                <a:lnTo>
                  <a:pt x="7" y="4429"/>
                </a:lnTo>
                <a:lnTo>
                  <a:pt x="0" y="4458"/>
                </a:lnTo>
                <a:lnTo>
                  <a:pt x="0" y="4498"/>
                </a:lnTo>
                <a:lnTo>
                  <a:pt x="33" y="4514"/>
                </a:lnTo>
                <a:lnTo>
                  <a:pt x="66" y="4498"/>
                </a:lnTo>
                <a:lnTo>
                  <a:pt x="83" y="4529"/>
                </a:lnTo>
                <a:lnTo>
                  <a:pt x="83" y="4560"/>
                </a:lnTo>
                <a:lnTo>
                  <a:pt x="83" y="4591"/>
                </a:lnTo>
                <a:lnTo>
                  <a:pt x="114" y="4614"/>
                </a:lnTo>
                <a:lnTo>
                  <a:pt x="139" y="4644"/>
                </a:lnTo>
                <a:lnTo>
                  <a:pt x="147" y="4675"/>
                </a:lnTo>
                <a:lnTo>
                  <a:pt x="182" y="4699"/>
                </a:lnTo>
                <a:lnTo>
                  <a:pt x="214" y="4715"/>
                </a:lnTo>
                <a:lnTo>
                  <a:pt x="247" y="4738"/>
                </a:lnTo>
                <a:lnTo>
                  <a:pt x="281" y="4759"/>
                </a:lnTo>
                <a:lnTo>
                  <a:pt x="314" y="4776"/>
                </a:lnTo>
                <a:lnTo>
                  <a:pt x="347" y="4791"/>
                </a:lnTo>
                <a:lnTo>
                  <a:pt x="379" y="4791"/>
                </a:lnTo>
                <a:lnTo>
                  <a:pt x="413" y="4806"/>
                </a:lnTo>
                <a:lnTo>
                  <a:pt x="444" y="4823"/>
                </a:lnTo>
                <a:lnTo>
                  <a:pt x="478" y="4838"/>
                </a:lnTo>
                <a:lnTo>
                  <a:pt x="511" y="4838"/>
                </a:lnTo>
                <a:lnTo>
                  <a:pt x="544" y="4806"/>
                </a:lnTo>
                <a:lnTo>
                  <a:pt x="577" y="4798"/>
                </a:lnTo>
                <a:lnTo>
                  <a:pt x="610" y="4798"/>
                </a:lnTo>
                <a:lnTo>
                  <a:pt x="643" y="4782"/>
                </a:lnTo>
                <a:lnTo>
                  <a:pt x="676" y="4767"/>
                </a:lnTo>
                <a:lnTo>
                  <a:pt x="709" y="4782"/>
                </a:lnTo>
                <a:lnTo>
                  <a:pt x="744" y="4767"/>
                </a:lnTo>
                <a:lnTo>
                  <a:pt x="761" y="4798"/>
                </a:lnTo>
                <a:lnTo>
                  <a:pt x="726" y="4823"/>
                </a:lnTo>
                <a:lnTo>
                  <a:pt x="693" y="4845"/>
                </a:lnTo>
                <a:lnTo>
                  <a:pt x="676" y="4875"/>
                </a:lnTo>
                <a:lnTo>
                  <a:pt x="643" y="4883"/>
                </a:lnTo>
                <a:lnTo>
                  <a:pt x="610" y="4883"/>
                </a:lnTo>
                <a:lnTo>
                  <a:pt x="577" y="4914"/>
                </a:lnTo>
                <a:lnTo>
                  <a:pt x="553" y="4945"/>
                </a:lnTo>
                <a:lnTo>
                  <a:pt x="520" y="4961"/>
                </a:lnTo>
                <a:lnTo>
                  <a:pt x="486" y="4952"/>
                </a:lnTo>
                <a:lnTo>
                  <a:pt x="454" y="4968"/>
                </a:lnTo>
                <a:lnTo>
                  <a:pt x="421" y="4952"/>
                </a:lnTo>
                <a:lnTo>
                  <a:pt x="388" y="4976"/>
                </a:lnTo>
                <a:lnTo>
                  <a:pt x="353" y="4991"/>
                </a:lnTo>
                <a:lnTo>
                  <a:pt x="322" y="4983"/>
                </a:lnTo>
                <a:lnTo>
                  <a:pt x="304" y="4952"/>
                </a:lnTo>
                <a:lnTo>
                  <a:pt x="272" y="4936"/>
                </a:lnTo>
                <a:lnTo>
                  <a:pt x="239" y="4961"/>
                </a:lnTo>
                <a:lnTo>
                  <a:pt x="232" y="4991"/>
                </a:lnTo>
                <a:lnTo>
                  <a:pt x="247" y="5021"/>
                </a:lnTo>
                <a:lnTo>
                  <a:pt x="297" y="5085"/>
                </a:lnTo>
                <a:lnTo>
                  <a:pt x="330" y="5114"/>
                </a:lnTo>
                <a:lnTo>
                  <a:pt x="347" y="5147"/>
                </a:lnTo>
                <a:lnTo>
                  <a:pt x="379" y="5161"/>
                </a:lnTo>
                <a:lnTo>
                  <a:pt x="396" y="5192"/>
                </a:lnTo>
                <a:lnTo>
                  <a:pt x="429" y="5215"/>
                </a:lnTo>
                <a:lnTo>
                  <a:pt x="437" y="5244"/>
                </a:lnTo>
                <a:lnTo>
                  <a:pt x="437" y="5276"/>
                </a:lnTo>
                <a:lnTo>
                  <a:pt x="469" y="5323"/>
                </a:lnTo>
                <a:lnTo>
                  <a:pt x="493" y="5353"/>
                </a:lnTo>
                <a:lnTo>
                  <a:pt x="527" y="5384"/>
                </a:lnTo>
                <a:lnTo>
                  <a:pt x="561" y="5414"/>
                </a:lnTo>
                <a:lnTo>
                  <a:pt x="585" y="5446"/>
                </a:lnTo>
                <a:lnTo>
                  <a:pt x="619" y="5468"/>
                </a:lnTo>
                <a:lnTo>
                  <a:pt x="643" y="5501"/>
                </a:lnTo>
                <a:lnTo>
                  <a:pt x="676" y="5523"/>
                </a:lnTo>
                <a:lnTo>
                  <a:pt x="709" y="5545"/>
                </a:lnTo>
                <a:lnTo>
                  <a:pt x="744" y="5562"/>
                </a:lnTo>
                <a:lnTo>
                  <a:pt x="776" y="5568"/>
                </a:lnTo>
                <a:lnTo>
                  <a:pt x="809" y="5568"/>
                </a:lnTo>
                <a:lnTo>
                  <a:pt x="842" y="5568"/>
                </a:lnTo>
                <a:lnTo>
                  <a:pt x="876" y="5576"/>
                </a:lnTo>
                <a:lnTo>
                  <a:pt x="917" y="5562"/>
                </a:lnTo>
                <a:lnTo>
                  <a:pt x="949" y="5553"/>
                </a:lnTo>
                <a:lnTo>
                  <a:pt x="982" y="5545"/>
                </a:lnTo>
                <a:lnTo>
                  <a:pt x="1016" y="5530"/>
                </a:lnTo>
                <a:lnTo>
                  <a:pt x="1050" y="5523"/>
                </a:lnTo>
                <a:lnTo>
                  <a:pt x="1082" y="5501"/>
                </a:lnTo>
                <a:lnTo>
                  <a:pt x="1115" y="5491"/>
                </a:lnTo>
                <a:lnTo>
                  <a:pt x="1148" y="5484"/>
                </a:lnTo>
                <a:lnTo>
                  <a:pt x="1182" y="5477"/>
                </a:lnTo>
                <a:lnTo>
                  <a:pt x="1215" y="5453"/>
                </a:lnTo>
                <a:lnTo>
                  <a:pt x="1247" y="5423"/>
                </a:lnTo>
                <a:lnTo>
                  <a:pt x="1272" y="5392"/>
                </a:lnTo>
                <a:lnTo>
                  <a:pt x="1281" y="5361"/>
                </a:lnTo>
                <a:lnTo>
                  <a:pt x="1314" y="5329"/>
                </a:lnTo>
                <a:lnTo>
                  <a:pt x="1322" y="5300"/>
                </a:lnTo>
                <a:lnTo>
                  <a:pt x="1304" y="5268"/>
                </a:lnTo>
                <a:lnTo>
                  <a:pt x="1314" y="5230"/>
                </a:lnTo>
                <a:lnTo>
                  <a:pt x="1314" y="5199"/>
                </a:lnTo>
                <a:lnTo>
                  <a:pt x="1297" y="5168"/>
                </a:lnTo>
                <a:lnTo>
                  <a:pt x="1346" y="5130"/>
                </a:lnTo>
                <a:lnTo>
                  <a:pt x="1371" y="5099"/>
                </a:lnTo>
                <a:lnTo>
                  <a:pt x="1404" y="5075"/>
                </a:lnTo>
                <a:lnTo>
                  <a:pt x="1436" y="5068"/>
                </a:lnTo>
                <a:lnTo>
                  <a:pt x="1471" y="5068"/>
                </a:lnTo>
                <a:lnTo>
                  <a:pt x="1503" y="5075"/>
                </a:lnTo>
                <a:lnTo>
                  <a:pt x="1536" y="5085"/>
                </a:lnTo>
                <a:lnTo>
                  <a:pt x="1503" y="5085"/>
                </a:lnTo>
                <a:lnTo>
                  <a:pt x="1471" y="5075"/>
                </a:lnTo>
                <a:lnTo>
                  <a:pt x="1436" y="5091"/>
                </a:lnTo>
                <a:lnTo>
                  <a:pt x="1436" y="5122"/>
                </a:lnTo>
                <a:lnTo>
                  <a:pt x="1429" y="5152"/>
                </a:lnTo>
                <a:lnTo>
                  <a:pt x="1447" y="5183"/>
                </a:lnTo>
                <a:lnTo>
                  <a:pt x="1436" y="5215"/>
                </a:lnTo>
                <a:lnTo>
                  <a:pt x="1420" y="5253"/>
                </a:lnTo>
                <a:lnTo>
                  <a:pt x="1454" y="5276"/>
                </a:lnTo>
                <a:lnTo>
                  <a:pt x="1486" y="5261"/>
                </a:lnTo>
                <a:lnTo>
                  <a:pt x="1520" y="5276"/>
                </a:lnTo>
                <a:lnTo>
                  <a:pt x="1486" y="5300"/>
                </a:lnTo>
                <a:lnTo>
                  <a:pt x="1454" y="5315"/>
                </a:lnTo>
                <a:lnTo>
                  <a:pt x="1436" y="5345"/>
                </a:lnTo>
                <a:lnTo>
                  <a:pt x="1436" y="5376"/>
                </a:lnTo>
                <a:lnTo>
                  <a:pt x="1429" y="5408"/>
                </a:lnTo>
                <a:lnTo>
                  <a:pt x="1436" y="5438"/>
                </a:lnTo>
                <a:lnTo>
                  <a:pt x="1454" y="5468"/>
                </a:lnTo>
                <a:lnTo>
                  <a:pt x="1471" y="5501"/>
                </a:lnTo>
                <a:lnTo>
                  <a:pt x="1471" y="5530"/>
                </a:lnTo>
                <a:lnTo>
                  <a:pt x="1478" y="5562"/>
                </a:lnTo>
                <a:lnTo>
                  <a:pt x="1503" y="5591"/>
                </a:lnTo>
                <a:lnTo>
                  <a:pt x="1513" y="5624"/>
                </a:lnTo>
                <a:lnTo>
                  <a:pt x="1520" y="5685"/>
                </a:lnTo>
                <a:lnTo>
                  <a:pt x="1496" y="5715"/>
                </a:lnTo>
                <a:lnTo>
                  <a:pt x="1486" y="5747"/>
                </a:lnTo>
                <a:lnTo>
                  <a:pt x="1471" y="5777"/>
                </a:lnTo>
                <a:lnTo>
                  <a:pt x="1454" y="5808"/>
                </a:lnTo>
                <a:lnTo>
                  <a:pt x="1447" y="5838"/>
                </a:lnTo>
                <a:lnTo>
                  <a:pt x="1436" y="5871"/>
                </a:lnTo>
                <a:lnTo>
                  <a:pt x="1413" y="5900"/>
                </a:lnTo>
                <a:lnTo>
                  <a:pt x="1420" y="5932"/>
                </a:lnTo>
                <a:lnTo>
                  <a:pt x="1447" y="5961"/>
                </a:lnTo>
                <a:lnTo>
                  <a:pt x="1436" y="5994"/>
                </a:lnTo>
                <a:lnTo>
                  <a:pt x="1436" y="6024"/>
                </a:lnTo>
                <a:lnTo>
                  <a:pt x="1436" y="6054"/>
                </a:lnTo>
                <a:lnTo>
                  <a:pt x="1454" y="6085"/>
                </a:lnTo>
                <a:lnTo>
                  <a:pt x="1478" y="6117"/>
                </a:lnTo>
                <a:lnTo>
                  <a:pt x="1503" y="6147"/>
                </a:lnTo>
                <a:lnTo>
                  <a:pt x="1520" y="6177"/>
                </a:lnTo>
                <a:lnTo>
                  <a:pt x="1520" y="6209"/>
                </a:lnTo>
                <a:lnTo>
                  <a:pt x="1503" y="6240"/>
                </a:lnTo>
                <a:lnTo>
                  <a:pt x="1486" y="6270"/>
                </a:lnTo>
                <a:lnTo>
                  <a:pt x="1478" y="6302"/>
                </a:lnTo>
                <a:lnTo>
                  <a:pt x="1471" y="6332"/>
                </a:lnTo>
                <a:lnTo>
                  <a:pt x="1471" y="6363"/>
                </a:lnTo>
                <a:lnTo>
                  <a:pt x="1471" y="6394"/>
                </a:lnTo>
                <a:lnTo>
                  <a:pt x="1471" y="6424"/>
                </a:lnTo>
                <a:lnTo>
                  <a:pt x="1486" y="6456"/>
                </a:lnTo>
                <a:lnTo>
                  <a:pt x="1486" y="6486"/>
                </a:lnTo>
                <a:lnTo>
                  <a:pt x="1496" y="6517"/>
                </a:lnTo>
                <a:lnTo>
                  <a:pt x="1503" y="6548"/>
                </a:lnTo>
                <a:lnTo>
                  <a:pt x="1503" y="6578"/>
                </a:lnTo>
                <a:lnTo>
                  <a:pt x="1520" y="6610"/>
                </a:lnTo>
                <a:lnTo>
                  <a:pt x="1520" y="6640"/>
                </a:lnTo>
                <a:lnTo>
                  <a:pt x="1528" y="6671"/>
                </a:lnTo>
                <a:lnTo>
                  <a:pt x="1536" y="6702"/>
                </a:lnTo>
                <a:lnTo>
                  <a:pt x="1552" y="6733"/>
                </a:lnTo>
                <a:lnTo>
                  <a:pt x="1552" y="6763"/>
                </a:lnTo>
                <a:lnTo>
                  <a:pt x="1562" y="6794"/>
                </a:lnTo>
                <a:lnTo>
                  <a:pt x="1562" y="6826"/>
                </a:lnTo>
                <a:lnTo>
                  <a:pt x="1569" y="6856"/>
                </a:lnTo>
                <a:lnTo>
                  <a:pt x="1569" y="6886"/>
                </a:lnTo>
                <a:lnTo>
                  <a:pt x="1569" y="6918"/>
                </a:lnTo>
                <a:lnTo>
                  <a:pt x="1578" y="6948"/>
                </a:lnTo>
                <a:lnTo>
                  <a:pt x="1587" y="6980"/>
                </a:lnTo>
                <a:lnTo>
                  <a:pt x="1587" y="7010"/>
                </a:lnTo>
                <a:lnTo>
                  <a:pt x="1594" y="7041"/>
                </a:lnTo>
                <a:lnTo>
                  <a:pt x="1603" y="7071"/>
                </a:lnTo>
                <a:lnTo>
                  <a:pt x="1603" y="7103"/>
                </a:lnTo>
                <a:lnTo>
                  <a:pt x="1603" y="7133"/>
                </a:lnTo>
                <a:lnTo>
                  <a:pt x="1603" y="7165"/>
                </a:lnTo>
                <a:lnTo>
                  <a:pt x="1611" y="7195"/>
                </a:lnTo>
                <a:lnTo>
                  <a:pt x="1618" y="7225"/>
                </a:lnTo>
                <a:lnTo>
                  <a:pt x="1636" y="7256"/>
                </a:lnTo>
                <a:lnTo>
                  <a:pt x="1652" y="7287"/>
                </a:lnTo>
                <a:lnTo>
                  <a:pt x="1668" y="7318"/>
                </a:lnTo>
                <a:lnTo>
                  <a:pt x="1694" y="7349"/>
                </a:lnTo>
                <a:lnTo>
                  <a:pt x="1711" y="7379"/>
                </a:lnTo>
                <a:lnTo>
                  <a:pt x="1735" y="7411"/>
                </a:lnTo>
                <a:lnTo>
                  <a:pt x="1751" y="7442"/>
                </a:lnTo>
                <a:lnTo>
                  <a:pt x="1767" y="7471"/>
                </a:lnTo>
                <a:lnTo>
                  <a:pt x="1777" y="7503"/>
                </a:lnTo>
                <a:lnTo>
                  <a:pt x="1784" y="7533"/>
                </a:lnTo>
                <a:lnTo>
                  <a:pt x="1784" y="7564"/>
                </a:lnTo>
                <a:lnTo>
                  <a:pt x="1784" y="7594"/>
                </a:lnTo>
                <a:lnTo>
                  <a:pt x="1802" y="7626"/>
                </a:lnTo>
                <a:lnTo>
                  <a:pt x="1834" y="7656"/>
                </a:lnTo>
                <a:lnTo>
                  <a:pt x="1851" y="7680"/>
                </a:lnTo>
                <a:lnTo>
                  <a:pt x="1858" y="7711"/>
                </a:lnTo>
                <a:lnTo>
                  <a:pt x="1875" y="7742"/>
                </a:lnTo>
                <a:lnTo>
                  <a:pt x="1909" y="7771"/>
                </a:lnTo>
                <a:lnTo>
                  <a:pt x="1935" y="7803"/>
                </a:lnTo>
                <a:lnTo>
                  <a:pt x="1942" y="7835"/>
                </a:lnTo>
                <a:lnTo>
                  <a:pt x="1949" y="7865"/>
                </a:lnTo>
                <a:lnTo>
                  <a:pt x="1959" y="7896"/>
                </a:lnTo>
                <a:lnTo>
                  <a:pt x="1974" y="7926"/>
                </a:lnTo>
                <a:lnTo>
                  <a:pt x="1985" y="7957"/>
                </a:lnTo>
                <a:lnTo>
                  <a:pt x="2001" y="7996"/>
                </a:lnTo>
                <a:lnTo>
                  <a:pt x="2008" y="8027"/>
                </a:lnTo>
                <a:lnTo>
                  <a:pt x="2008" y="8058"/>
                </a:lnTo>
                <a:lnTo>
                  <a:pt x="2008" y="8096"/>
                </a:lnTo>
                <a:lnTo>
                  <a:pt x="2008" y="8126"/>
                </a:lnTo>
                <a:lnTo>
                  <a:pt x="2016" y="8158"/>
                </a:lnTo>
                <a:lnTo>
                  <a:pt x="2025" y="8188"/>
                </a:lnTo>
                <a:lnTo>
                  <a:pt x="2034" y="8219"/>
                </a:lnTo>
                <a:lnTo>
                  <a:pt x="2034" y="8265"/>
                </a:lnTo>
                <a:lnTo>
                  <a:pt x="2041" y="8304"/>
                </a:lnTo>
                <a:lnTo>
                  <a:pt x="2041" y="8343"/>
                </a:lnTo>
                <a:lnTo>
                  <a:pt x="2050" y="8373"/>
                </a:lnTo>
                <a:lnTo>
                  <a:pt x="2058" y="8404"/>
                </a:lnTo>
                <a:lnTo>
                  <a:pt x="2066" y="8435"/>
                </a:lnTo>
                <a:lnTo>
                  <a:pt x="2066" y="8466"/>
                </a:lnTo>
                <a:lnTo>
                  <a:pt x="2083" y="8496"/>
                </a:lnTo>
                <a:lnTo>
                  <a:pt x="2100" y="8529"/>
                </a:lnTo>
                <a:lnTo>
                  <a:pt x="2116" y="8558"/>
                </a:lnTo>
                <a:lnTo>
                  <a:pt x="2140" y="8589"/>
                </a:lnTo>
                <a:lnTo>
                  <a:pt x="2157" y="8620"/>
                </a:lnTo>
                <a:lnTo>
                  <a:pt x="2166" y="8651"/>
                </a:lnTo>
                <a:lnTo>
                  <a:pt x="2174" y="8682"/>
                </a:lnTo>
                <a:lnTo>
                  <a:pt x="2199" y="8712"/>
                </a:lnTo>
                <a:lnTo>
                  <a:pt x="2232" y="8742"/>
                </a:lnTo>
                <a:lnTo>
                  <a:pt x="2266" y="8767"/>
                </a:lnTo>
                <a:lnTo>
                  <a:pt x="2297" y="8790"/>
                </a:lnTo>
                <a:lnTo>
                  <a:pt x="2322" y="8820"/>
                </a:lnTo>
                <a:lnTo>
                  <a:pt x="2339" y="8850"/>
                </a:lnTo>
                <a:lnTo>
                  <a:pt x="2339" y="8882"/>
                </a:lnTo>
                <a:lnTo>
                  <a:pt x="2363" y="8912"/>
                </a:lnTo>
                <a:lnTo>
                  <a:pt x="2380" y="8944"/>
                </a:lnTo>
                <a:lnTo>
                  <a:pt x="2380" y="8973"/>
                </a:lnTo>
                <a:lnTo>
                  <a:pt x="2387" y="9006"/>
                </a:lnTo>
                <a:lnTo>
                  <a:pt x="2397" y="9035"/>
                </a:lnTo>
                <a:lnTo>
                  <a:pt x="2406" y="9067"/>
                </a:lnTo>
                <a:lnTo>
                  <a:pt x="2406" y="9097"/>
                </a:lnTo>
                <a:lnTo>
                  <a:pt x="2406" y="9136"/>
                </a:lnTo>
                <a:lnTo>
                  <a:pt x="2437" y="9198"/>
                </a:lnTo>
                <a:lnTo>
                  <a:pt x="2463" y="9230"/>
                </a:lnTo>
                <a:lnTo>
                  <a:pt x="2487" y="9259"/>
                </a:lnTo>
                <a:lnTo>
                  <a:pt x="2504" y="9291"/>
                </a:lnTo>
                <a:lnTo>
                  <a:pt x="2496" y="9321"/>
                </a:lnTo>
                <a:lnTo>
                  <a:pt x="2504" y="9353"/>
                </a:lnTo>
                <a:lnTo>
                  <a:pt x="2504" y="9382"/>
                </a:lnTo>
                <a:lnTo>
                  <a:pt x="2512" y="9415"/>
                </a:lnTo>
                <a:lnTo>
                  <a:pt x="2528" y="9445"/>
                </a:lnTo>
                <a:lnTo>
                  <a:pt x="2528" y="9475"/>
                </a:lnTo>
                <a:lnTo>
                  <a:pt x="2520" y="9506"/>
                </a:lnTo>
                <a:lnTo>
                  <a:pt x="2520" y="9538"/>
                </a:lnTo>
                <a:lnTo>
                  <a:pt x="2538" y="9568"/>
                </a:lnTo>
                <a:lnTo>
                  <a:pt x="2554" y="9599"/>
                </a:lnTo>
                <a:lnTo>
                  <a:pt x="2561" y="9629"/>
                </a:lnTo>
                <a:lnTo>
                  <a:pt x="2577" y="9661"/>
                </a:lnTo>
                <a:lnTo>
                  <a:pt x="2603" y="9691"/>
                </a:lnTo>
                <a:lnTo>
                  <a:pt x="2621" y="9736"/>
                </a:lnTo>
                <a:lnTo>
                  <a:pt x="2636" y="9769"/>
                </a:lnTo>
                <a:lnTo>
                  <a:pt x="2653" y="9799"/>
                </a:lnTo>
                <a:lnTo>
                  <a:pt x="2678" y="9830"/>
                </a:lnTo>
                <a:lnTo>
                  <a:pt x="2702" y="9860"/>
                </a:lnTo>
                <a:lnTo>
                  <a:pt x="2718" y="9892"/>
                </a:lnTo>
                <a:lnTo>
                  <a:pt x="2744" y="9922"/>
                </a:lnTo>
                <a:lnTo>
                  <a:pt x="2768" y="9953"/>
                </a:lnTo>
                <a:lnTo>
                  <a:pt x="2803" y="9969"/>
                </a:lnTo>
                <a:lnTo>
                  <a:pt x="2834" y="9992"/>
                </a:lnTo>
                <a:lnTo>
                  <a:pt x="2868" y="10015"/>
                </a:lnTo>
                <a:lnTo>
                  <a:pt x="2901" y="10022"/>
                </a:lnTo>
                <a:lnTo>
                  <a:pt x="2935" y="10031"/>
                </a:lnTo>
                <a:lnTo>
                  <a:pt x="2967" y="10037"/>
                </a:lnTo>
                <a:lnTo>
                  <a:pt x="3009" y="10037"/>
                </a:lnTo>
                <a:lnTo>
                  <a:pt x="3042" y="10037"/>
                </a:lnTo>
                <a:lnTo>
                  <a:pt x="3075" y="10022"/>
                </a:lnTo>
                <a:lnTo>
                  <a:pt x="3109" y="9998"/>
                </a:lnTo>
                <a:lnTo>
                  <a:pt x="3141" y="9984"/>
                </a:lnTo>
                <a:lnTo>
                  <a:pt x="3175" y="9969"/>
                </a:lnTo>
                <a:lnTo>
                  <a:pt x="3206" y="9938"/>
                </a:lnTo>
                <a:lnTo>
                  <a:pt x="3206" y="9907"/>
                </a:lnTo>
                <a:lnTo>
                  <a:pt x="3216" y="9876"/>
                </a:lnTo>
                <a:lnTo>
                  <a:pt x="3224" y="9838"/>
                </a:lnTo>
                <a:lnTo>
                  <a:pt x="3242" y="9799"/>
                </a:lnTo>
                <a:lnTo>
                  <a:pt x="3257" y="9769"/>
                </a:lnTo>
                <a:lnTo>
                  <a:pt x="3290" y="9736"/>
                </a:lnTo>
                <a:lnTo>
                  <a:pt x="3322" y="9714"/>
                </a:lnTo>
                <a:lnTo>
                  <a:pt x="3356" y="9698"/>
                </a:lnTo>
                <a:lnTo>
                  <a:pt x="3389" y="9691"/>
                </a:lnTo>
                <a:lnTo>
                  <a:pt x="3422" y="9683"/>
                </a:lnTo>
                <a:lnTo>
                  <a:pt x="3463" y="9683"/>
                </a:lnTo>
                <a:lnTo>
                  <a:pt x="3496" y="9676"/>
                </a:lnTo>
                <a:lnTo>
                  <a:pt x="3529" y="9667"/>
                </a:lnTo>
                <a:lnTo>
                  <a:pt x="3563" y="9667"/>
                </a:lnTo>
                <a:lnTo>
                  <a:pt x="3596" y="9667"/>
                </a:lnTo>
                <a:lnTo>
                  <a:pt x="3580" y="9638"/>
                </a:lnTo>
                <a:lnTo>
                  <a:pt x="3546" y="9614"/>
                </a:lnTo>
                <a:lnTo>
                  <a:pt x="3512" y="9591"/>
                </a:lnTo>
                <a:lnTo>
                  <a:pt x="3496" y="9559"/>
                </a:lnTo>
                <a:lnTo>
                  <a:pt x="3512" y="9529"/>
                </a:lnTo>
                <a:lnTo>
                  <a:pt x="3529" y="9499"/>
                </a:lnTo>
                <a:lnTo>
                  <a:pt x="3563" y="9468"/>
                </a:lnTo>
                <a:lnTo>
                  <a:pt x="3587" y="9436"/>
                </a:lnTo>
                <a:lnTo>
                  <a:pt x="3613" y="9405"/>
                </a:lnTo>
                <a:lnTo>
                  <a:pt x="3613" y="9375"/>
                </a:lnTo>
                <a:lnTo>
                  <a:pt x="3622" y="9343"/>
                </a:lnTo>
                <a:lnTo>
                  <a:pt x="3638" y="9314"/>
                </a:lnTo>
                <a:lnTo>
                  <a:pt x="3653" y="9282"/>
                </a:lnTo>
                <a:lnTo>
                  <a:pt x="3687" y="9282"/>
                </a:lnTo>
                <a:lnTo>
                  <a:pt x="3720" y="9297"/>
                </a:lnTo>
                <a:lnTo>
                  <a:pt x="3754" y="9297"/>
                </a:lnTo>
                <a:lnTo>
                  <a:pt x="3786" y="9306"/>
                </a:lnTo>
                <a:lnTo>
                  <a:pt x="3819" y="9306"/>
                </a:lnTo>
                <a:lnTo>
                  <a:pt x="3852" y="9297"/>
                </a:lnTo>
                <a:lnTo>
                  <a:pt x="3869" y="9268"/>
                </a:lnTo>
                <a:lnTo>
                  <a:pt x="3869" y="9236"/>
                </a:lnTo>
                <a:lnTo>
                  <a:pt x="3861" y="9206"/>
                </a:lnTo>
                <a:lnTo>
                  <a:pt x="3852" y="9174"/>
                </a:lnTo>
                <a:lnTo>
                  <a:pt x="3852" y="9144"/>
                </a:lnTo>
                <a:lnTo>
                  <a:pt x="3861" y="9113"/>
                </a:lnTo>
                <a:lnTo>
                  <a:pt x="3861" y="9082"/>
                </a:lnTo>
                <a:lnTo>
                  <a:pt x="3861" y="9052"/>
                </a:lnTo>
                <a:lnTo>
                  <a:pt x="3861" y="9021"/>
                </a:lnTo>
                <a:lnTo>
                  <a:pt x="3861" y="8973"/>
                </a:lnTo>
                <a:lnTo>
                  <a:pt x="3852" y="8944"/>
                </a:lnTo>
                <a:lnTo>
                  <a:pt x="3827" y="8912"/>
                </a:lnTo>
                <a:lnTo>
                  <a:pt x="3819" y="8875"/>
                </a:lnTo>
                <a:lnTo>
                  <a:pt x="3812" y="8844"/>
                </a:lnTo>
                <a:lnTo>
                  <a:pt x="3812" y="8813"/>
                </a:lnTo>
                <a:lnTo>
                  <a:pt x="3812" y="8782"/>
                </a:lnTo>
                <a:lnTo>
                  <a:pt x="3844" y="8742"/>
                </a:lnTo>
                <a:lnTo>
                  <a:pt x="3861" y="8712"/>
                </a:lnTo>
                <a:lnTo>
                  <a:pt x="3876" y="8682"/>
                </a:lnTo>
                <a:lnTo>
                  <a:pt x="3886" y="8651"/>
                </a:lnTo>
                <a:lnTo>
                  <a:pt x="3893" y="8620"/>
                </a:lnTo>
                <a:lnTo>
                  <a:pt x="3893" y="8589"/>
                </a:lnTo>
                <a:lnTo>
                  <a:pt x="3918" y="8558"/>
                </a:lnTo>
                <a:lnTo>
                  <a:pt x="3943" y="8529"/>
                </a:lnTo>
                <a:lnTo>
                  <a:pt x="3968" y="8496"/>
                </a:lnTo>
                <a:lnTo>
                  <a:pt x="3993" y="8466"/>
                </a:lnTo>
                <a:lnTo>
                  <a:pt x="3993" y="8435"/>
                </a:lnTo>
                <a:lnTo>
                  <a:pt x="3993" y="8404"/>
                </a:lnTo>
                <a:lnTo>
                  <a:pt x="4001" y="8373"/>
                </a:lnTo>
                <a:lnTo>
                  <a:pt x="4008" y="8343"/>
                </a:lnTo>
                <a:lnTo>
                  <a:pt x="4008" y="8312"/>
                </a:lnTo>
                <a:lnTo>
                  <a:pt x="4018" y="8281"/>
                </a:lnTo>
                <a:lnTo>
                  <a:pt x="4024" y="8249"/>
                </a:lnTo>
                <a:lnTo>
                  <a:pt x="4035" y="8219"/>
                </a:lnTo>
                <a:lnTo>
                  <a:pt x="4035" y="8188"/>
                </a:lnTo>
                <a:lnTo>
                  <a:pt x="4024" y="8158"/>
                </a:lnTo>
                <a:lnTo>
                  <a:pt x="4018" y="8126"/>
                </a:lnTo>
                <a:lnTo>
                  <a:pt x="4008" y="8096"/>
                </a:lnTo>
                <a:lnTo>
                  <a:pt x="4001" y="8065"/>
                </a:lnTo>
                <a:lnTo>
                  <a:pt x="3984" y="8033"/>
                </a:lnTo>
                <a:lnTo>
                  <a:pt x="3977" y="8003"/>
                </a:lnTo>
                <a:lnTo>
                  <a:pt x="3968" y="7973"/>
                </a:lnTo>
                <a:lnTo>
                  <a:pt x="3959" y="7942"/>
                </a:lnTo>
                <a:lnTo>
                  <a:pt x="3952" y="7911"/>
                </a:lnTo>
                <a:lnTo>
                  <a:pt x="3959" y="7879"/>
                </a:lnTo>
                <a:lnTo>
                  <a:pt x="3968" y="7850"/>
                </a:lnTo>
                <a:lnTo>
                  <a:pt x="3968" y="7818"/>
                </a:lnTo>
                <a:lnTo>
                  <a:pt x="3959" y="7788"/>
                </a:lnTo>
                <a:lnTo>
                  <a:pt x="3952" y="7756"/>
                </a:lnTo>
                <a:lnTo>
                  <a:pt x="3952" y="7726"/>
                </a:lnTo>
                <a:lnTo>
                  <a:pt x="3943" y="7695"/>
                </a:lnTo>
                <a:lnTo>
                  <a:pt x="3926" y="7664"/>
                </a:lnTo>
                <a:lnTo>
                  <a:pt x="3926" y="7633"/>
                </a:lnTo>
                <a:lnTo>
                  <a:pt x="3943" y="7603"/>
                </a:lnTo>
                <a:lnTo>
                  <a:pt x="3968" y="7573"/>
                </a:lnTo>
                <a:lnTo>
                  <a:pt x="3977" y="7541"/>
                </a:lnTo>
                <a:lnTo>
                  <a:pt x="3984" y="7509"/>
                </a:lnTo>
                <a:lnTo>
                  <a:pt x="3993" y="7480"/>
                </a:lnTo>
                <a:lnTo>
                  <a:pt x="4001" y="7449"/>
                </a:lnTo>
                <a:lnTo>
                  <a:pt x="4018" y="7418"/>
                </a:lnTo>
                <a:lnTo>
                  <a:pt x="4042" y="7387"/>
                </a:lnTo>
                <a:lnTo>
                  <a:pt x="4075" y="7364"/>
                </a:lnTo>
                <a:lnTo>
                  <a:pt x="4108" y="7356"/>
                </a:lnTo>
                <a:lnTo>
                  <a:pt x="4141" y="7341"/>
                </a:lnTo>
                <a:lnTo>
                  <a:pt x="4174" y="7349"/>
                </a:lnTo>
                <a:lnTo>
                  <a:pt x="4208" y="7372"/>
                </a:lnTo>
                <a:lnTo>
                  <a:pt x="4240" y="7402"/>
                </a:lnTo>
                <a:lnTo>
                  <a:pt x="4273" y="7379"/>
                </a:lnTo>
                <a:lnTo>
                  <a:pt x="4289" y="7349"/>
                </a:lnTo>
                <a:lnTo>
                  <a:pt x="4324" y="7333"/>
                </a:lnTo>
                <a:lnTo>
                  <a:pt x="4339" y="7303"/>
                </a:lnTo>
                <a:lnTo>
                  <a:pt x="4349" y="7272"/>
                </a:lnTo>
                <a:lnTo>
                  <a:pt x="4356" y="7241"/>
                </a:lnTo>
                <a:lnTo>
                  <a:pt x="4373" y="7210"/>
                </a:lnTo>
                <a:lnTo>
                  <a:pt x="4405" y="7180"/>
                </a:lnTo>
                <a:lnTo>
                  <a:pt x="4440" y="7165"/>
                </a:lnTo>
                <a:lnTo>
                  <a:pt x="4472" y="7171"/>
                </a:lnTo>
                <a:lnTo>
                  <a:pt x="4505" y="7171"/>
                </a:lnTo>
                <a:lnTo>
                  <a:pt x="4538" y="7195"/>
                </a:lnTo>
                <a:lnTo>
                  <a:pt x="4572" y="7202"/>
                </a:lnTo>
                <a:lnTo>
                  <a:pt x="4604" y="7187"/>
                </a:lnTo>
                <a:lnTo>
                  <a:pt x="4637" y="7165"/>
                </a:lnTo>
                <a:lnTo>
                  <a:pt x="4670" y="7140"/>
                </a:lnTo>
                <a:lnTo>
                  <a:pt x="4704" y="7126"/>
                </a:lnTo>
                <a:lnTo>
                  <a:pt x="4728" y="7094"/>
                </a:lnTo>
                <a:lnTo>
                  <a:pt x="4728" y="7063"/>
                </a:lnTo>
                <a:lnTo>
                  <a:pt x="4721" y="7032"/>
                </a:lnTo>
                <a:lnTo>
                  <a:pt x="4704" y="7003"/>
                </a:lnTo>
                <a:lnTo>
                  <a:pt x="4704" y="6970"/>
                </a:lnTo>
                <a:lnTo>
                  <a:pt x="4721" y="6941"/>
                </a:lnTo>
                <a:lnTo>
                  <a:pt x="4736" y="6909"/>
                </a:lnTo>
                <a:lnTo>
                  <a:pt x="4770" y="6886"/>
                </a:lnTo>
                <a:lnTo>
                  <a:pt x="4812" y="6871"/>
                </a:lnTo>
                <a:lnTo>
                  <a:pt x="4844" y="6856"/>
                </a:lnTo>
                <a:lnTo>
                  <a:pt x="4877" y="6831"/>
                </a:lnTo>
                <a:lnTo>
                  <a:pt x="4912" y="6817"/>
                </a:lnTo>
                <a:lnTo>
                  <a:pt x="4944" y="6794"/>
                </a:lnTo>
                <a:lnTo>
                  <a:pt x="4977" y="6779"/>
                </a:lnTo>
                <a:lnTo>
                  <a:pt x="5017" y="6763"/>
                </a:lnTo>
                <a:lnTo>
                  <a:pt x="5052" y="6741"/>
                </a:lnTo>
                <a:lnTo>
                  <a:pt x="5084" y="6708"/>
                </a:lnTo>
                <a:lnTo>
                  <a:pt x="5118" y="6686"/>
                </a:lnTo>
                <a:lnTo>
                  <a:pt x="5125" y="6656"/>
                </a:lnTo>
                <a:lnTo>
                  <a:pt x="5133" y="6624"/>
                </a:lnTo>
                <a:lnTo>
                  <a:pt x="5149" y="6594"/>
                </a:lnTo>
                <a:lnTo>
                  <a:pt x="5183" y="6564"/>
                </a:lnTo>
                <a:lnTo>
                  <a:pt x="5217" y="6555"/>
                </a:lnTo>
                <a:lnTo>
                  <a:pt x="5249" y="6548"/>
                </a:lnTo>
                <a:lnTo>
                  <a:pt x="5283" y="6532"/>
                </a:lnTo>
                <a:lnTo>
                  <a:pt x="5315" y="6509"/>
                </a:lnTo>
                <a:lnTo>
                  <a:pt x="5349" y="6486"/>
                </a:lnTo>
                <a:lnTo>
                  <a:pt x="5382" y="6461"/>
                </a:lnTo>
                <a:lnTo>
                  <a:pt x="5414" y="6432"/>
                </a:lnTo>
                <a:lnTo>
                  <a:pt x="5440" y="6400"/>
                </a:lnTo>
                <a:lnTo>
                  <a:pt x="5464" y="6370"/>
                </a:lnTo>
                <a:lnTo>
                  <a:pt x="5489" y="6332"/>
                </a:lnTo>
                <a:lnTo>
                  <a:pt x="5523" y="6302"/>
                </a:lnTo>
                <a:lnTo>
                  <a:pt x="5540" y="6270"/>
                </a:lnTo>
                <a:lnTo>
                  <a:pt x="5564" y="6240"/>
                </a:lnTo>
                <a:lnTo>
                  <a:pt x="5589" y="6209"/>
                </a:lnTo>
                <a:lnTo>
                  <a:pt x="5606" y="6177"/>
                </a:lnTo>
                <a:lnTo>
                  <a:pt x="5638" y="6147"/>
                </a:lnTo>
                <a:lnTo>
                  <a:pt x="5672" y="6117"/>
                </a:lnTo>
                <a:lnTo>
                  <a:pt x="5705" y="6101"/>
                </a:lnTo>
                <a:lnTo>
                  <a:pt x="5737" y="6078"/>
                </a:lnTo>
                <a:lnTo>
                  <a:pt x="5770" y="6062"/>
                </a:lnTo>
                <a:lnTo>
                  <a:pt x="5870" y="6008"/>
                </a:lnTo>
                <a:lnTo>
                  <a:pt x="5903" y="5984"/>
                </a:lnTo>
                <a:lnTo>
                  <a:pt x="5937" y="5961"/>
                </a:lnTo>
                <a:lnTo>
                  <a:pt x="5968" y="5946"/>
                </a:lnTo>
                <a:lnTo>
                  <a:pt x="6003" y="5938"/>
                </a:lnTo>
                <a:lnTo>
                  <a:pt x="6036" y="5932"/>
                </a:lnTo>
                <a:lnTo>
                  <a:pt x="6069" y="5923"/>
                </a:lnTo>
                <a:lnTo>
                  <a:pt x="6102" y="5900"/>
                </a:lnTo>
                <a:lnTo>
                  <a:pt x="6126" y="5871"/>
                </a:lnTo>
                <a:lnTo>
                  <a:pt x="6159" y="5838"/>
                </a:lnTo>
                <a:lnTo>
                  <a:pt x="6184" y="5808"/>
                </a:lnTo>
                <a:lnTo>
                  <a:pt x="6192" y="5777"/>
                </a:lnTo>
                <a:lnTo>
                  <a:pt x="6208" y="5747"/>
                </a:lnTo>
                <a:lnTo>
                  <a:pt x="6225" y="5715"/>
                </a:lnTo>
                <a:lnTo>
                  <a:pt x="6258" y="5685"/>
                </a:lnTo>
                <a:lnTo>
                  <a:pt x="6292" y="5661"/>
                </a:lnTo>
                <a:lnTo>
                  <a:pt x="6300" y="5631"/>
                </a:lnTo>
                <a:lnTo>
                  <a:pt x="6284" y="5591"/>
                </a:lnTo>
                <a:lnTo>
                  <a:pt x="6274" y="5562"/>
                </a:lnTo>
                <a:lnTo>
                  <a:pt x="6242" y="5530"/>
                </a:lnTo>
                <a:lnTo>
                  <a:pt x="6225" y="5501"/>
                </a:lnTo>
                <a:lnTo>
                  <a:pt x="6242" y="5468"/>
                </a:lnTo>
                <a:lnTo>
                  <a:pt x="6274" y="5446"/>
                </a:lnTo>
                <a:lnTo>
                  <a:pt x="6300" y="5414"/>
                </a:lnTo>
                <a:lnTo>
                  <a:pt x="6317" y="5384"/>
                </a:lnTo>
                <a:lnTo>
                  <a:pt x="6349" y="5368"/>
                </a:lnTo>
                <a:lnTo>
                  <a:pt x="6383" y="5353"/>
                </a:lnTo>
                <a:lnTo>
                  <a:pt x="6415" y="5338"/>
                </a:lnTo>
                <a:lnTo>
                  <a:pt x="6449" y="5329"/>
                </a:lnTo>
                <a:lnTo>
                  <a:pt x="6482" y="5329"/>
                </a:lnTo>
                <a:lnTo>
                  <a:pt x="6515" y="5315"/>
                </a:lnTo>
                <a:lnTo>
                  <a:pt x="6548" y="5305"/>
                </a:lnTo>
                <a:lnTo>
                  <a:pt x="6581" y="5283"/>
                </a:lnTo>
                <a:lnTo>
                  <a:pt x="6614" y="5261"/>
                </a:lnTo>
                <a:lnTo>
                  <a:pt x="6638" y="5230"/>
                </a:lnTo>
                <a:lnTo>
                  <a:pt x="6655" y="5199"/>
                </a:lnTo>
                <a:lnTo>
                  <a:pt x="6664" y="5230"/>
                </a:lnTo>
                <a:lnTo>
                  <a:pt x="6655" y="5261"/>
                </a:lnTo>
                <a:lnTo>
                  <a:pt x="6655" y="5291"/>
                </a:lnTo>
                <a:lnTo>
                  <a:pt x="6680" y="5323"/>
                </a:lnTo>
                <a:lnTo>
                  <a:pt x="6697" y="5291"/>
                </a:lnTo>
                <a:lnTo>
                  <a:pt x="6730" y="5315"/>
                </a:lnTo>
                <a:lnTo>
                  <a:pt x="6755" y="5283"/>
                </a:lnTo>
                <a:lnTo>
                  <a:pt x="6787" y="5305"/>
                </a:lnTo>
                <a:lnTo>
                  <a:pt x="6820" y="5276"/>
                </a:lnTo>
                <a:lnTo>
                  <a:pt x="6836" y="5244"/>
                </a:lnTo>
                <a:lnTo>
                  <a:pt x="6836" y="5215"/>
                </a:lnTo>
                <a:lnTo>
                  <a:pt x="6870" y="5222"/>
                </a:lnTo>
                <a:lnTo>
                  <a:pt x="6870" y="5253"/>
                </a:lnTo>
                <a:lnTo>
                  <a:pt x="6879" y="5283"/>
                </a:lnTo>
                <a:lnTo>
                  <a:pt x="6887" y="5315"/>
                </a:lnTo>
                <a:lnTo>
                  <a:pt x="6919" y="5305"/>
                </a:lnTo>
                <a:lnTo>
                  <a:pt x="6919" y="5276"/>
                </a:lnTo>
                <a:lnTo>
                  <a:pt x="6919" y="5244"/>
                </a:lnTo>
                <a:lnTo>
                  <a:pt x="6936" y="5276"/>
                </a:lnTo>
                <a:lnTo>
                  <a:pt x="6968" y="5276"/>
                </a:lnTo>
                <a:lnTo>
                  <a:pt x="7003" y="5283"/>
                </a:lnTo>
                <a:lnTo>
                  <a:pt x="7010" y="5253"/>
                </a:lnTo>
                <a:lnTo>
                  <a:pt x="7003" y="5215"/>
                </a:lnTo>
                <a:lnTo>
                  <a:pt x="6995" y="5183"/>
                </a:lnTo>
                <a:lnTo>
                  <a:pt x="6995" y="5152"/>
                </a:lnTo>
                <a:lnTo>
                  <a:pt x="6995" y="5122"/>
                </a:lnTo>
                <a:lnTo>
                  <a:pt x="6986" y="5091"/>
                </a:lnTo>
                <a:lnTo>
                  <a:pt x="6968" y="5059"/>
                </a:lnTo>
                <a:lnTo>
                  <a:pt x="6952" y="5029"/>
                </a:lnTo>
                <a:lnTo>
                  <a:pt x="6962" y="4952"/>
                </a:lnTo>
                <a:lnTo>
                  <a:pt x="6962" y="4922"/>
                </a:lnTo>
                <a:lnTo>
                  <a:pt x="6952" y="4891"/>
                </a:lnTo>
                <a:lnTo>
                  <a:pt x="6929" y="4861"/>
                </a:lnTo>
                <a:lnTo>
                  <a:pt x="6929" y="4828"/>
                </a:lnTo>
                <a:lnTo>
                  <a:pt x="6945" y="4798"/>
                </a:lnTo>
                <a:lnTo>
                  <a:pt x="6952" y="4767"/>
                </a:lnTo>
                <a:lnTo>
                  <a:pt x="6952" y="4738"/>
                </a:lnTo>
                <a:lnTo>
                  <a:pt x="6919" y="4715"/>
                </a:lnTo>
                <a:lnTo>
                  <a:pt x="6887" y="4699"/>
                </a:lnTo>
                <a:lnTo>
                  <a:pt x="6854" y="4699"/>
                </a:lnTo>
                <a:lnTo>
                  <a:pt x="6854" y="4668"/>
                </a:lnTo>
                <a:lnTo>
                  <a:pt x="6854" y="4637"/>
                </a:lnTo>
                <a:lnTo>
                  <a:pt x="6820" y="4614"/>
                </a:lnTo>
                <a:lnTo>
                  <a:pt x="6804" y="4582"/>
                </a:lnTo>
                <a:lnTo>
                  <a:pt x="6796" y="4552"/>
                </a:lnTo>
                <a:lnTo>
                  <a:pt x="6796" y="4520"/>
                </a:lnTo>
                <a:lnTo>
                  <a:pt x="6820" y="4491"/>
                </a:lnTo>
                <a:lnTo>
                  <a:pt x="6836" y="4458"/>
                </a:lnTo>
                <a:lnTo>
                  <a:pt x="6846" y="4429"/>
                </a:lnTo>
                <a:lnTo>
                  <a:pt x="6854" y="4397"/>
                </a:lnTo>
                <a:lnTo>
                  <a:pt x="6854" y="4367"/>
                </a:lnTo>
                <a:lnTo>
                  <a:pt x="6836" y="4335"/>
                </a:lnTo>
                <a:lnTo>
                  <a:pt x="6804" y="4335"/>
                </a:lnTo>
                <a:lnTo>
                  <a:pt x="6770" y="4335"/>
                </a:lnTo>
                <a:lnTo>
                  <a:pt x="6739" y="4328"/>
                </a:lnTo>
                <a:lnTo>
                  <a:pt x="6704" y="4320"/>
                </a:lnTo>
                <a:lnTo>
                  <a:pt x="6671" y="4312"/>
                </a:lnTo>
                <a:lnTo>
                  <a:pt x="6655" y="4281"/>
                </a:lnTo>
                <a:lnTo>
                  <a:pt x="6622" y="4274"/>
                </a:lnTo>
                <a:lnTo>
                  <a:pt x="6606" y="4243"/>
                </a:lnTo>
                <a:lnTo>
                  <a:pt x="6622" y="4212"/>
                </a:lnTo>
                <a:lnTo>
                  <a:pt x="6638" y="4172"/>
                </a:lnTo>
                <a:lnTo>
                  <a:pt x="6638" y="4143"/>
                </a:lnTo>
                <a:lnTo>
                  <a:pt x="6671" y="4143"/>
                </a:lnTo>
                <a:lnTo>
                  <a:pt x="6688" y="4111"/>
                </a:lnTo>
                <a:lnTo>
                  <a:pt x="6720" y="4088"/>
                </a:lnTo>
                <a:lnTo>
                  <a:pt x="6755" y="4105"/>
                </a:lnTo>
                <a:lnTo>
                  <a:pt x="6787" y="4088"/>
                </a:lnTo>
                <a:lnTo>
                  <a:pt x="6812" y="4059"/>
                </a:lnTo>
                <a:lnTo>
                  <a:pt x="6846" y="4043"/>
                </a:lnTo>
                <a:lnTo>
                  <a:pt x="6879" y="4043"/>
                </a:lnTo>
                <a:lnTo>
                  <a:pt x="6895" y="4012"/>
                </a:lnTo>
                <a:lnTo>
                  <a:pt x="6863" y="3996"/>
                </a:lnTo>
                <a:lnTo>
                  <a:pt x="6830" y="3981"/>
                </a:lnTo>
                <a:lnTo>
                  <a:pt x="6796" y="3974"/>
                </a:lnTo>
                <a:lnTo>
                  <a:pt x="6762" y="3951"/>
                </a:lnTo>
                <a:lnTo>
                  <a:pt x="6730" y="3927"/>
                </a:lnTo>
                <a:lnTo>
                  <a:pt x="6697" y="3904"/>
                </a:lnTo>
                <a:lnTo>
                  <a:pt x="6664" y="3881"/>
                </a:lnTo>
                <a:lnTo>
                  <a:pt x="6630" y="3865"/>
                </a:lnTo>
                <a:lnTo>
                  <a:pt x="6599" y="3865"/>
                </a:lnTo>
                <a:lnTo>
                  <a:pt x="6588" y="3835"/>
                </a:lnTo>
                <a:lnTo>
                  <a:pt x="6606" y="3802"/>
                </a:lnTo>
                <a:lnTo>
                  <a:pt x="6630" y="3773"/>
                </a:lnTo>
                <a:lnTo>
                  <a:pt x="6638" y="3742"/>
                </a:lnTo>
                <a:lnTo>
                  <a:pt x="6655" y="3712"/>
                </a:lnTo>
                <a:lnTo>
                  <a:pt x="6688" y="3680"/>
                </a:lnTo>
                <a:lnTo>
                  <a:pt x="6720" y="3667"/>
                </a:lnTo>
                <a:lnTo>
                  <a:pt x="6688" y="3642"/>
                </a:lnTo>
                <a:lnTo>
                  <a:pt x="6655" y="3635"/>
                </a:lnTo>
                <a:lnTo>
                  <a:pt x="6638" y="3604"/>
                </a:lnTo>
                <a:lnTo>
                  <a:pt x="6671" y="3582"/>
                </a:lnTo>
                <a:lnTo>
                  <a:pt x="6704" y="3588"/>
                </a:lnTo>
                <a:lnTo>
                  <a:pt x="6739" y="3611"/>
                </a:lnTo>
                <a:lnTo>
                  <a:pt x="6762" y="3642"/>
                </a:lnTo>
                <a:lnTo>
                  <a:pt x="6787" y="3673"/>
                </a:lnTo>
                <a:lnTo>
                  <a:pt x="6796" y="3705"/>
                </a:lnTo>
                <a:lnTo>
                  <a:pt x="6830" y="3712"/>
                </a:lnTo>
                <a:lnTo>
                  <a:pt x="6846" y="3680"/>
                </a:lnTo>
                <a:lnTo>
                  <a:pt x="6879" y="3689"/>
                </a:lnTo>
                <a:lnTo>
                  <a:pt x="6902" y="3658"/>
                </a:lnTo>
                <a:lnTo>
                  <a:pt x="6936" y="3680"/>
                </a:lnTo>
                <a:lnTo>
                  <a:pt x="6952" y="3712"/>
                </a:lnTo>
                <a:lnTo>
                  <a:pt x="6978" y="3742"/>
                </a:lnTo>
                <a:lnTo>
                  <a:pt x="7020" y="3773"/>
                </a:lnTo>
                <a:lnTo>
                  <a:pt x="7052" y="3788"/>
                </a:lnTo>
                <a:lnTo>
                  <a:pt x="7085" y="3797"/>
                </a:lnTo>
                <a:lnTo>
                  <a:pt x="7100" y="3766"/>
                </a:lnTo>
                <a:lnTo>
                  <a:pt x="7085" y="3735"/>
                </a:lnTo>
                <a:lnTo>
                  <a:pt x="7118" y="3727"/>
                </a:lnTo>
                <a:lnTo>
                  <a:pt x="7152" y="3757"/>
                </a:lnTo>
                <a:lnTo>
                  <a:pt x="7176" y="3788"/>
                </a:lnTo>
                <a:lnTo>
                  <a:pt x="7201" y="3819"/>
                </a:lnTo>
                <a:lnTo>
                  <a:pt x="7209" y="3851"/>
                </a:lnTo>
                <a:lnTo>
                  <a:pt x="7209" y="3881"/>
                </a:lnTo>
                <a:lnTo>
                  <a:pt x="7183" y="3911"/>
                </a:lnTo>
                <a:lnTo>
                  <a:pt x="7193" y="3941"/>
                </a:lnTo>
                <a:lnTo>
                  <a:pt x="7183" y="3974"/>
                </a:lnTo>
                <a:lnTo>
                  <a:pt x="7176" y="4004"/>
                </a:lnTo>
                <a:lnTo>
                  <a:pt x="7201" y="4035"/>
                </a:lnTo>
                <a:lnTo>
                  <a:pt x="7234" y="4043"/>
                </a:lnTo>
                <a:lnTo>
                  <a:pt x="7267" y="4043"/>
                </a:lnTo>
                <a:lnTo>
                  <a:pt x="7300" y="4059"/>
                </a:lnTo>
                <a:lnTo>
                  <a:pt x="7333" y="4066"/>
                </a:lnTo>
                <a:lnTo>
                  <a:pt x="7366" y="4066"/>
                </a:lnTo>
                <a:lnTo>
                  <a:pt x="7399" y="4066"/>
                </a:lnTo>
                <a:lnTo>
                  <a:pt x="7432" y="4066"/>
                </a:lnTo>
                <a:lnTo>
                  <a:pt x="7465" y="4066"/>
                </a:lnTo>
                <a:lnTo>
                  <a:pt x="7498" y="4066"/>
                </a:lnTo>
                <a:lnTo>
                  <a:pt x="7539" y="4066"/>
                </a:lnTo>
                <a:lnTo>
                  <a:pt x="7574" y="4059"/>
                </a:lnTo>
                <a:lnTo>
                  <a:pt x="7606" y="4043"/>
                </a:lnTo>
                <a:lnTo>
                  <a:pt x="7639" y="4043"/>
                </a:lnTo>
                <a:lnTo>
                  <a:pt x="7672" y="4049"/>
                </a:lnTo>
                <a:lnTo>
                  <a:pt x="7713" y="4049"/>
                </a:lnTo>
                <a:lnTo>
                  <a:pt x="7746" y="4049"/>
                </a:lnTo>
                <a:lnTo>
                  <a:pt x="7779" y="4049"/>
                </a:lnTo>
                <a:lnTo>
                  <a:pt x="7822" y="4043"/>
                </a:lnTo>
                <a:lnTo>
                  <a:pt x="7854" y="4043"/>
                </a:lnTo>
                <a:lnTo>
                  <a:pt x="7895" y="4043"/>
                </a:lnTo>
                <a:lnTo>
                  <a:pt x="7929" y="4049"/>
                </a:lnTo>
                <a:lnTo>
                  <a:pt x="7960" y="4066"/>
                </a:lnTo>
                <a:lnTo>
                  <a:pt x="7994" y="4082"/>
                </a:lnTo>
                <a:lnTo>
                  <a:pt x="8027" y="4111"/>
                </a:lnTo>
                <a:lnTo>
                  <a:pt x="7994" y="4120"/>
                </a:lnTo>
                <a:lnTo>
                  <a:pt x="7960" y="4120"/>
                </a:lnTo>
                <a:lnTo>
                  <a:pt x="7960" y="4151"/>
                </a:lnTo>
                <a:lnTo>
                  <a:pt x="7978" y="4182"/>
                </a:lnTo>
                <a:lnTo>
                  <a:pt x="7986" y="4212"/>
                </a:lnTo>
                <a:lnTo>
                  <a:pt x="7986" y="4243"/>
                </a:lnTo>
                <a:lnTo>
                  <a:pt x="7986" y="4274"/>
                </a:lnTo>
                <a:lnTo>
                  <a:pt x="7945" y="4290"/>
                </a:lnTo>
                <a:lnTo>
                  <a:pt x="7911" y="4290"/>
                </a:lnTo>
                <a:lnTo>
                  <a:pt x="7887" y="4320"/>
                </a:lnTo>
                <a:lnTo>
                  <a:pt x="7887" y="4350"/>
                </a:lnTo>
                <a:lnTo>
                  <a:pt x="7854" y="4382"/>
                </a:lnTo>
                <a:lnTo>
                  <a:pt x="7814" y="4382"/>
                </a:lnTo>
                <a:lnTo>
                  <a:pt x="7779" y="4389"/>
                </a:lnTo>
                <a:lnTo>
                  <a:pt x="7771" y="4420"/>
                </a:lnTo>
                <a:lnTo>
                  <a:pt x="7779" y="4453"/>
                </a:lnTo>
                <a:lnTo>
                  <a:pt x="7739" y="4475"/>
                </a:lnTo>
                <a:lnTo>
                  <a:pt x="7706" y="4482"/>
                </a:lnTo>
                <a:lnTo>
                  <a:pt x="7672" y="4505"/>
                </a:lnTo>
                <a:lnTo>
                  <a:pt x="7655" y="4536"/>
                </a:lnTo>
                <a:lnTo>
                  <a:pt x="7648" y="4566"/>
                </a:lnTo>
                <a:lnTo>
                  <a:pt x="7648" y="4597"/>
                </a:lnTo>
                <a:lnTo>
                  <a:pt x="7648" y="4629"/>
                </a:lnTo>
                <a:lnTo>
                  <a:pt x="7648" y="4659"/>
                </a:lnTo>
                <a:lnTo>
                  <a:pt x="7680" y="4690"/>
                </a:lnTo>
                <a:lnTo>
                  <a:pt x="7706" y="4720"/>
                </a:lnTo>
                <a:lnTo>
                  <a:pt x="7739" y="4752"/>
                </a:lnTo>
                <a:lnTo>
                  <a:pt x="7755" y="4782"/>
                </a:lnTo>
                <a:lnTo>
                  <a:pt x="7788" y="4798"/>
                </a:lnTo>
                <a:lnTo>
                  <a:pt x="7822" y="4791"/>
                </a:lnTo>
                <a:lnTo>
                  <a:pt x="7839" y="4759"/>
                </a:lnTo>
                <a:lnTo>
                  <a:pt x="7839" y="4729"/>
                </a:lnTo>
                <a:lnTo>
                  <a:pt x="7822" y="4699"/>
                </a:lnTo>
                <a:lnTo>
                  <a:pt x="7814" y="4668"/>
                </a:lnTo>
                <a:lnTo>
                  <a:pt x="7822" y="4637"/>
                </a:lnTo>
                <a:lnTo>
                  <a:pt x="7828" y="4606"/>
                </a:lnTo>
                <a:lnTo>
                  <a:pt x="7863" y="4591"/>
                </a:lnTo>
                <a:lnTo>
                  <a:pt x="7895" y="4566"/>
                </a:lnTo>
                <a:lnTo>
                  <a:pt x="7929" y="4560"/>
                </a:lnTo>
                <a:lnTo>
                  <a:pt x="7960" y="4552"/>
                </a:lnTo>
                <a:lnTo>
                  <a:pt x="7994" y="4536"/>
                </a:lnTo>
                <a:lnTo>
                  <a:pt x="7994" y="4566"/>
                </a:lnTo>
                <a:lnTo>
                  <a:pt x="7994" y="4597"/>
                </a:lnTo>
                <a:lnTo>
                  <a:pt x="8003" y="4629"/>
                </a:lnTo>
                <a:lnTo>
                  <a:pt x="8020" y="4659"/>
                </a:lnTo>
                <a:lnTo>
                  <a:pt x="8020" y="4690"/>
                </a:lnTo>
                <a:lnTo>
                  <a:pt x="8012" y="4720"/>
                </a:lnTo>
                <a:lnTo>
                  <a:pt x="8012" y="4752"/>
                </a:lnTo>
                <a:lnTo>
                  <a:pt x="8027" y="4782"/>
                </a:lnTo>
                <a:lnTo>
                  <a:pt x="8036" y="4813"/>
                </a:lnTo>
                <a:lnTo>
                  <a:pt x="8051" y="4845"/>
                </a:lnTo>
                <a:lnTo>
                  <a:pt x="8061" y="4875"/>
                </a:lnTo>
                <a:lnTo>
                  <a:pt x="8070" y="4906"/>
                </a:lnTo>
                <a:lnTo>
                  <a:pt x="8076" y="4936"/>
                </a:lnTo>
                <a:lnTo>
                  <a:pt x="8086" y="4968"/>
                </a:lnTo>
                <a:lnTo>
                  <a:pt x="8094" y="4999"/>
                </a:lnTo>
                <a:lnTo>
                  <a:pt x="8094" y="5029"/>
                </a:lnTo>
                <a:lnTo>
                  <a:pt x="8110" y="5059"/>
                </a:lnTo>
                <a:lnTo>
                  <a:pt x="8126" y="5091"/>
                </a:lnTo>
                <a:lnTo>
                  <a:pt x="8126" y="5122"/>
                </a:lnTo>
                <a:lnTo>
                  <a:pt x="8160" y="5122"/>
                </a:lnTo>
                <a:lnTo>
                  <a:pt x="8176" y="5091"/>
                </a:lnTo>
                <a:lnTo>
                  <a:pt x="8209" y="5091"/>
                </a:lnTo>
                <a:lnTo>
                  <a:pt x="8236" y="5122"/>
                </a:lnTo>
                <a:lnTo>
                  <a:pt x="8267" y="5147"/>
                </a:lnTo>
                <a:lnTo>
                  <a:pt x="8292" y="5107"/>
                </a:lnTo>
                <a:lnTo>
                  <a:pt x="8292" y="5075"/>
                </a:lnTo>
                <a:lnTo>
                  <a:pt x="8326" y="5053"/>
                </a:lnTo>
                <a:lnTo>
                  <a:pt x="8351" y="5021"/>
                </a:lnTo>
                <a:lnTo>
                  <a:pt x="8351" y="4991"/>
                </a:lnTo>
                <a:lnTo>
                  <a:pt x="8341" y="4961"/>
                </a:lnTo>
                <a:lnTo>
                  <a:pt x="8308" y="4930"/>
                </a:lnTo>
                <a:lnTo>
                  <a:pt x="8292" y="4899"/>
                </a:lnTo>
                <a:lnTo>
                  <a:pt x="8267" y="4868"/>
                </a:lnTo>
                <a:lnTo>
                  <a:pt x="8260" y="4838"/>
                </a:lnTo>
                <a:lnTo>
                  <a:pt x="8251" y="4806"/>
                </a:lnTo>
                <a:lnTo>
                  <a:pt x="8260" y="4776"/>
                </a:lnTo>
                <a:lnTo>
                  <a:pt x="8284" y="4744"/>
                </a:lnTo>
                <a:lnTo>
                  <a:pt x="8316" y="4720"/>
                </a:lnTo>
                <a:lnTo>
                  <a:pt x="8351" y="4699"/>
                </a:lnTo>
                <a:lnTo>
                  <a:pt x="8368" y="4668"/>
                </a:lnTo>
                <a:lnTo>
                  <a:pt x="8368" y="4629"/>
                </a:lnTo>
                <a:lnTo>
                  <a:pt x="8368" y="4597"/>
                </a:lnTo>
                <a:lnTo>
                  <a:pt x="8368" y="4566"/>
                </a:lnTo>
                <a:lnTo>
                  <a:pt x="8368" y="4529"/>
                </a:lnTo>
                <a:lnTo>
                  <a:pt x="8357" y="4491"/>
                </a:lnTo>
                <a:lnTo>
                  <a:pt x="8341" y="4458"/>
                </a:lnTo>
                <a:lnTo>
                  <a:pt x="8341" y="4429"/>
                </a:lnTo>
                <a:lnTo>
                  <a:pt x="8341" y="4397"/>
                </a:lnTo>
                <a:lnTo>
                  <a:pt x="8375" y="4382"/>
                </a:lnTo>
                <a:lnTo>
                  <a:pt x="8407" y="4382"/>
                </a:lnTo>
                <a:lnTo>
                  <a:pt x="8441" y="4382"/>
                </a:lnTo>
                <a:lnTo>
                  <a:pt x="8473" y="4389"/>
                </a:lnTo>
                <a:lnTo>
                  <a:pt x="8507" y="4397"/>
                </a:lnTo>
                <a:lnTo>
                  <a:pt x="8540" y="4413"/>
                </a:lnTo>
                <a:lnTo>
                  <a:pt x="8573" y="4420"/>
                </a:lnTo>
                <a:lnTo>
                  <a:pt x="8606" y="4429"/>
                </a:lnTo>
                <a:lnTo>
                  <a:pt x="8639" y="4429"/>
                </a:lnTo>
                <a:lnTo>
                  <a:pt x="8657" y="4397"/>
                </a:lnTo>
                <a:lnTo>
                  <a:pt x="8664" y="4367"/>
                </a:lnTo>
                <a:lnTo>
                  <a:pt x="8664" y="4335"/>
                </a:lnTo>
                <a:lnTo>
                  <a:pt x="8672" y="4305"/>
                </a:lnTo>
                <a:lnTo>
                  <a:pt x="8680" y="4274"/>
                </a:lnTo>
                <a:lnTo>
                  <a:pt x="8688" y="4205"/>
                </a:lnTo>
                <a:lnTo>
                  <a:pt x="8698" y="4172"/>
                </a:lnTo>
                <a:lnTo>
                  <a:pt x="8723" y="4143"/>
                </a:lnTo>
                <a:lnTo>
                  <a:pt x="8738" y="4111"/>
                </a:lnTo>
                <a:lnTo>
                  <a:pt x="8754" y="4082"/>
                </a:lnTo>
                <a:lnTo>
                  <a:pt x="8765" y="4049"/>
                </a:lnTo>
                <a:lnTo>
                  <a:pt x="8773" y="4012"/>
                </a:lnTo>
                <a:lnTo>
                  <a:pt x="8773" y="3981"/>
                </a:lnTo>
                <a:lnTo>
                  <a:pt x="8738" y="3958"/>
                </a:lnTo>
                <a:lnTo>
                  <a:pt x="8730" y="3927"/>
                </a:lnTo>
                <a:lnTo>
                  <a:pt x="8738" y="3896"/>
                </a:lnTo>
                <a:lnTo>
                  <a:pt x="8773" y="3873"/>
                </a:lnTo>
                <a:lnTo>
                  <a:pt x="8804" y="3843"/>
                </a:lnTo>
                <a:lnTo>
                  <a:pt x="8830" y="3812"/>
                </a:lnTo>
                <a:lnTo>
                  <a:pt x="8838" y="3781"/>
                </a:lnTo>
                <a:lnTo>
                  <a:pt x="8854" y="3750"/>
                </a:lnTo>
                <a:lnTo>
                  <a:pt x="8880" y="3718"/>
                </a:lnTo>
                <a:lnTo>
                  <a:pt x="8896" y="3689"/>
                </a:lnTo>
                <a:lnTo>
                  <a:pt x="8896" y="3658"/>
                </a:lnTo>
                <a:lnTo>
                  <a:pt x="8880" y="3627"/>
                </a:lnTo>
                <a:lnTo>
                  <a:pt x="8869" y="3587"/>
                </a:lnTo>
                <a:lnTo>
                  <a:pt x="8864" y="3557"/>
                </a:lnTo>
                <a:lnTo>
                  <a:pt x="8864" y="3519"/>
                </a:lnTo>
                <a:lnTo>
                  <a:pt x="8869" y="3488"/>
                </a:lnTo>
                <a:lnTo>
                  <a:pt x="8896" y="3457"/>
                </a:lnTo>
                <a:lnTo>
                  <a:pt x="8929" y="3433"/>
                </a:lnTo>
                <a:lnTo>
                  <a:pt x="8963" y="3410"/>
                </a:lnTo>
                <a:lnTo>
                  <a:pt x="8996" y="3404"/>
                </a:lnTo>
                <a:lnTo>
                  <a:pt x="9029" y="3380"/>
                </a:lnTo>
                <a:lnTo>
                  <a:pt x="9061" y="3358"/>
                </a:lnTo>
                <a:lnTo>
                  <a:pt x="9096" y="3325"/>
                </a:lnTo>
                <a:lnTo>
                  <a:pt x="9119" y="3296"/>
                </a:lnTo>
                <a:lnTo>
                  <a:pt x="9145" y="3264"/>
                </a:lnTo>
                <a:lnTo>
                  <a:pt x="9186" y="3241"/>
                </a:lnTo>
                <a:lnTo>
                  <a:pt x="9218" y="3226"/>
                </a:lnTo>
                <a:lnTo>
                  <a:pt x="9251" y="3212"/>
                </a:lnTo>
                <a:lnTo>
                  <a:pt x="9285" y="3203"/>
                </a:lnTo>
                <a:lnTo>
                  <a:pt x="9318" y="3195"/>
                </a:lnTo>
                <a:lnTo>
                  <a:pt x="9350" y="3189"/>
                </a:lnTo>
                <a:lnTo>
                  <a:pt x="9383" y="3203"/>
                </a:lnTo>
                <a:lnTo>
                  <a:pt x="9400" y="3233"/>
                </a:lnTo>
                <a:lnTo>
                  <a:pt x="9425" y="3264"/>
                </a:lnTo>
                <a:lnTo>
                  <a:pt x="9466" y="3251"/>
                </a:lnTo>
                <a:lnTo>
                  <a:pt x="9466" y="3219"/>
                </a:lnTo>
                <a:lnTo>
                  <a:pt x="9433" y="3189"/>
                </a:lnTo>
                <a:lnTo>
                  <a:pt x="9400" y="3157"/>
                </a:lnTo>
                <a:lnTo>
                  <a:pt x="9400" y="3126"/>
                </a:lnTo>
                <a:lnTo>
                  <a:pt x="9408" y="3096"/>
                </a:lnTo>
                <a:lnTo>
                  <a:pt x="9441" y="3065"/>
                </a:lnTo>
                <a:lnTo>
                  <a:pt x="9466" y="3035"/>
                </a:lnTo>
                <a:lnTo>
                  <a:pt x="9482" y="3003"/>
                </a:lnTo>
                <a:lnTo>
                  <a:pt x="9482" y="2971"/>
                </a:lnTo>
                <a:lnTo>
                  <a:pt x="9482" y="2942"/>
                </a:lnTo>
                <a:lnTo>
                  <a:pt x="9500" y="2911"/>
                </a:lnTo>
                <a:lnTo>
                  <a:pt x="9491" y="2881"/>
                </a:lnTo>
                <a:lnTo>
                  <a:pt x="9466" y="2849"/>
                </a:lnTo>
                <a:lnTo>
                  <a:pt x="9433" y="2834"/>
                </a:lnTo>
                <a:lnTo>
                  <a:pt x="9392" y="2826"/>
                </a:lnTo>
                <a:lnTo>
                  <a:pt x="9359" y="2834"/>
                </a:lnTo>
                <a:lnTo>
                  <a:pt x="9318" y="2826"/>
                </a:lnTo>
                <a:lnTo>
                  <a:pt x="9285" y="2826"/>
                </a:lnTo>
                <a:lnTo>
                  <a:pt x="9251" y="2826"/>
                </a:lnTo>
                <a:lnTo>
                  <a:pt x="9218" y="2849"/>
                </a:lnTo>
                <a:lnTo>
                  <a:pt x="9169" y="2841"/>
                </a:lnTo>
                <a:lnTo>
                  <a:pt x="9161" y="2810"/>
                </a:lnTo>
                <a:lnTo>
                  <a:pt x="9194" y="2779"/>
                </a:lnTo>
                <a:lnTo>
                  <a:pt x="9228" y="2756"/>
                </a:lnTo>
                <a:lnTo>
                  <a:pt x="9243" y="2726"/>
                </a:lnTo>
                <a:lnTo>
                  <a:pt x="9260" y="2696"/>
                </a:lnTo>
                <a:lnTo>
                  <a:pt x="9228" y="2657"/>
                </a:lnTo>
                <a:lnTo>
                  <a:pt x="9210" y="2625"/>
                </a:lnTo>
                <a:lnTo>
                  <a:pt x="9176" y="2633"/>
                </a:lnTo>
                <a:lnTo>
                  <a:pt x="9145" y="2641"/>
                </a:lnTo>
                <a:lnTo>
                  <a:pt x="9111" y="2633"/>
                </a:lnTo>
                <a:lnTo>
                  <a:pt x="9096" y="2602"/>
                </a:lnTo>
                <a:lnTo>
                  <a:pt x="9127" y="2595"/>
                </a:lnTo>
                <a:lnTo>
                  <a:pt x="9161" y="2579"/>
                </a:lnTo>
                <a:lnTo>
                  <a:pt x="9194" y="2557"/>
                </a:lnTo>
                <a:lnTo>
                  <a:pt x="9161" y="2548"/>
                </a:lnTo>
                <a:lnTo>
                  <a:pt x="9127" y="2548"/>
                </a:lnTo>
                <a:lnTo>
                  <a:pt x="9096" y="2533"/>
                </a:lnTo>
                <a:lnTo>
                  <a:pt x="9061" y="2511"/>
                </a:lnTo>
                <a:lnTo>
                  <a:pt x="9029" y="2517"/>
                </a:lnTo>
                <a:lnTo>
                  <a:pt x="8996" y="2533"/>
                </a:lnTo>
                <a:lnTo>
                  <a:pt x="8963" y="2548"/>
                </a:lnTo>
                <a:lnTo>
                  <a:pt x="8945" y="2579"/>
                </a:lnTo>
                <a:lnTo>
                  <a:pt x="8913" y="2609"/>
                </a:lnTo>
                <a:lnTo>
                  <a:pt x="8880" y="2633"/>
                </a:lnTo>
                <a:lnTo>
                  <a:pt x="8846" y="2625"/>
                </a:lnTo>
                <a:lnTo>
                  <a:pt x="8814" y="2618"/>
                </a:lnTo>
                <a:lnTo>
                  <a:pt x="8779" y="2618"/>
                </a:lnTo>
                <a:lnTo>
                  <a:pt x="8748" y="2618"/>
                </a:lnTo>
                <a:lnTo>
                  <a:pt x="8714" y="2595"/>
                </a:lnTo>
                <a:lnTo>
                  <a:pt x="8680" y="2563"/>
                </a:lnTo>
                <a:lnTo>
                  <a:pt x="8648" y="2573"/>
                </a:lnTo>
                <a:lnTo>
                  <a:pt x="8615" y="2587"/>
                </a:lnTo>
                <a:lnTo>
                  <a:pt x="8583" y="2609"/>
                </a:lnTo>
                <a:lnTo>
                  <a:pt x="8573" y="2641"/>
                </a:lnTo>
                <a:lnTo>
                  <a:pt x="8557" y="2670"/>
                </a:lnTo>
                <a:lnTo>
                  <a:pt x="8524" y="2687"/>
                </a:lnTo>
                <a:lnTo>
                  <a:pt x="8507" y="2718"/>
                </a:lnTo>
                <a:lnTo>
                  <a:pt x="8507" y="2749"/>
                </a:lnTo>
                <a:lnTo>
                  <a:pt x="8483" y="2779"/>
                </a:lnTo>
                <a:lnTo>
                  <a:pt x="8449" y="2779"/>
                </a:lnTo>
                <a:lnTo>
                  <a:pt x="8407" y="2794"/>
                </a:lnTo>
                <a:lnTo>
                  <a:pt x="8375" y="2794"/>
                </a:lnTo>
                <a:lnTo>
                  <a:pt x="8341" y="2794"/>
                </a:lnTo>
                <a:lnTo>
                  <a:pt x="8308" y="2810"/>
                </a:lnTo>
                <a:lnTo>
                  <a:pt x="8276" y="2826"/>
                </a:lnTo>
                <a:lnTo>
                  <a:pt x="8251" y="2918"/>
                </a:lnTo>
                <a:lnTo>
                  <a:pt x="8218" y="2932"/>
                </a:lnTo>
                <a:lnTo>
                  <a:pt x="8176" y="2950"/>
                </a:lnTo>
                <a:lnTo>
                  <a:pt x="8143" y="2957"/>
                </a:lnTo>
                <a:lnTo>
                  <a:pt x="8110" y="2965"/>
                </a:lnTo>
                <a:lnTo>
                  <a:pt x="8094" y="2995"/>
                </a:lnTo>
                <a:lnTo>
                  <a:pt x="8110" y="3026"/>
                </a:lnTo>
                <a:lnTo>
                  <a:pt x="8094" y="3056"/>
                </a:lnTo>
                <a:lnTo>
                  <a:pt x="8051" y="3080"/>
                </a:lnTo>
                <a:lnTo>
                  <a:pt x="8020" y="3102"/>
                </a:lnTo>
                <a:lnTo>
                  <a:pt x="7986" y="3126"/>
                </a:lnTo>
                <a:lnTo>
                  <a:pt x="7955" y="3102"/>
                </a:lnTo>
                <a:lnTo>
                  <a:pt x="7919" y="3102"/>
                </a:lnTo>
                <a:lnTo>
                  <a:pt x="7887" y="3134"/>
                </a:lnTo>
                <a:lnTo>
                  <a:pt x="7854" y="3149"/>
                </a:lnTo>
                <a:lnTo>
                  <a:pt x="7822" y="3157"/>
                </a:lnTo>
                <a:lnTo>
                  <a:pt x="7788" y="3143"/>
                </a:lnTo>
                <a:lnTo>
                  <a:pt x="7755" y="3126"/>
                </a:lnTo>
                <a:lnTo>
                  <a:pt x="7729" y="3157"/>
                </a:lnTo>
                <a:lnTo>
                  <a:pt x="7713" y="3189"/>
                </a:lnTo>
                <a:lnTo>
                  <a:pt x="7739" y="3219"/>
                </a:lnTo>
                <a:lnTo>
                  <a:pt x="7771" y="3241"/>
                </a:lnTo>
                <a:lnTo>
                  <a:pt x="7814" y="3251"/>
                </a:lnTo>
                <a:lnTo>
                  <a:pt x="7845" y="3241"/>
                </a:lnTo>
                <a:lnTo>
                  <a:pt x="7870" y="3273"/>
                </a:lnTo>
                <a:lnTo>
                  <a:pt x="7887" y="3303"/>
                </a:lnTo>
                <a:lnTo>
                  <a:pt x="7870" y="3335"/>
                </a:lnTo>
                <a:lnTo>
                  <a:pt x="7870" y="3364"/>
                </a:lnTo>
                <a:lnTo>
                  <a:pt x="7895" y="3396"/>
                </a:lnTo>
                <a:lnTo>
                  <a:pt x="7895" y="3427"/>
                </a:lnTo>
                <a:lnTo>
                  <a:pt x="7863" y="3449"/>
                </a:lnTo>
                <a:lnTo>
                  <a:pt x="7828" y="3443"/>
                </a:lnTo>
                <a:lnTo>
                  <a:pt x="7788" y="3433"/>
                </a:lnTo>
                <a:lnTo>
                  <a:pt x="7755" y="3464"/>
                </a:lnTo>
                <a:lnTo>
                  <a:pt x="7721" y="3488"/>
                </a:lnTo>
                <a:lnTo>
                  <a:pt x="7690" y="3488"/>
                </a:lnTo>
                <a:lnTo>
                  <a:pt x="7655" y="3488"/>
                </a:lnTo>
                <a:lnTo>
                  <a:pt x="7614" y="3488"/>
                </a:lnTo>
                <a:lnTo>
                  <a:pt x="7581" y="3488"/>
                </a:lnTo>
                <a:lnTo>
                  <a:pt x="7548" y="3503"/>
                </a:lnTo>
                <a:lnTo>
                  <a:pt x="7515" y="3519"/>
                </a:lnTo>
                <a:lnTo>
                  <a:pt x="7482" y="3511"/>
                </a:lnTo>
                <a:lnTo>
                  <a:pt x="7448" y="3511"/>
                </a:lnTo>
                <a:lnTo>
                  <a:pt x="7417" y="3519"/>
                </a:lnTo>
                <a:lnTo>
                  <a:pt x="7383" y="3519"/>
                </a:lnTo>
                <a:lnTo>
                  <a:pt x="7349" y="3481"/>
                </a:lnTo>
                <a:lnTo>
                  <a:pt x="7316" y="3481"/>
                </a:lnTo>
                <a:lnTo>
                  <a:pt x="7284" y="3503"/>
                </a:lnTo>
                <a:lnTo>
                  <a:pt x="7251" y="3526"/>
                </a:lnTo>
                <a:lnTo>
                  <a:pt x="7217" y="3541"/>
                </a:lnTo>
                <a:lnTo>
                  <a:pt x="7183" y="3557"/>
                </a:lnTo>
                <a:lnTo>
                  <a:pt x="7152" y="3557"/>
                </a:lnTo>
                <a:lnTo>
                  <a:pt x="7118" y="3535"/>
                </a:lnTo>
                <a:lnTo>
                  <a:pt x="7085" y="3519"/>
                </a:lnTo>
                <a:lnTo>
                  <a:pt x="7052" y="3511"/>
                </a:lnTo>
                <a:lnTo>
                  <a:pt x="7020" y="3511"/>
                </a:lnTo>
                <a:lnTo>
                  <a:pt x="6986" y="3511"/>
                </a:lnTo>
                <a:lnTo>
                  <a:pt x="6952" y="3519"/>
                </a:lnTo>
                <a:lnTo>
                  <a:pt x="6919" y="3519"/>
                </a:lnTo>
                <a:lnTo>
                  <a:pt x="6887" y="3494"/>
                </a:lnTo>
                <a:lnTo>
                  <a:pt x="6863" y="3464"/>
                </a:lnTo>
                <a:lnTo>
                  <a:pt x="6830" y="3443"/>
                </a:lnTo>
                <a:lnTo>
                  <a:pt x="6804" y="3410"/>
                </a:lnTo>
                <a:lnTo>
                  <a:pt x="6796" y="3380"/>
                </a:lnTo>
                <a:lnTo>
                  <a:pt x="6830" y="3349"/>
                </a:lnTo>
                <a:lnTo>
                  <a:pt x="6863" y="3320"/>
                </a:lnTo>
                <a:lnTo>
                  <a:pt x="6863" y="3287"/>
                </a:lnTo>
                <a:lnTo>
                  <a:pt x="6830" y="3279"/>
                </a:lnTo>
                <a:lnTo>
                  <a:pt x="6812" y="3251"/>
                </a:lnTo>
                <a:lnTo>
                  <a:pt x="6804" y="3219"/>
                </a:lnTo>
                <a:lnTo>
                  <a:pt x="6820" y="3189"/>
                </a:lnTo>
                <a:lnTo>
                  <a:pt x="6830" y="3157"/>
                </a:lnTo>
                <a:lnTo>
                  <a:pt x="6820" y="3126"/>
                </a:lnTo>
                <a:lnTo>
                  <a:pt x="6796" y="3088"/>
                </a:lnTo>
                <a:lnTo>
                  <a:pt x="6755" y="3073"/>
                </a:lnTo>
                <a:lnTo>
                  <a:pt x="6720" y="3065"/>
                </a:lnTo>
                <a:lnTo>
                  <a:pt x="6688" y="3088"/>
                </a:lnTo>
                <a:lnTo>
                  <a:pt x="6646" y="3102"/>
                </a:lnTo>
                <a:lnTo>
                  <a:pt x="6614" y="3118"/>
                </a:lnTo>
                <a:lnTo>
                  <a:pt x="6581" y="3134"/>
                </a:lnTo>
                <a:lnTo>
                  <a:pt x="6606" y="3164"/>
                </a:lnTo>
                <a:lnTo>
                  <a:pt x="6606" y="3195"/>
                </a:lnTo>
                <a:lnTo>
                  <a:pt x="6581" y="3226"/>
                </a:lnTo>
                <a:lnTo>
                  <a:pt x="6565" y="3257"/>
                </a:lnTo>
                <a:lnTo>
                  <a:pt x="6556" y="3287"/>
                </a:lnTo>
                <a:lnTo>
                  <a:pt x="6556" y="3320"/>
                </a:lnTo>
                <a:lnTo>
                  <a:pt x="6556" y="3349"/>
                </a:lnTo>
                <a:lnTo>
                  <a:pt x="6556" y="3380"/>
                </a:lnTo>
                <a:lnTo>
                  <a:pt x="6556" y="3410"/>
                </a:lnTo>
                <a:lnTo>
                  <a:pt x="6565" y="3443"/>
                </a:lnTo>
                <a:lnTo>
                  <a:pt x="6599" y="3481"/>
                </a:lnTo>
                <a:lnTo>
                  <a:pt x="6622" y="3511"/>
                </a:lnTo>
                <a:lnTo>
                  <a:pt x="6630" y="3541"/>
                </a:lnTo>
                <a:lnTo>
                  <a:pt x="6630" y="3572"/>
                </a:lnTo>
                <a:lnTo>
                  <a:pt x="6630" y="3604"/>
                </a:lnTo>
                <a:lnTo>
                  <a:pt x="6614" y="3634"/>
                </a:lnTo>
                <a:lnTo>
                  <a:pt x="6599" y="3666"/>
                </a:lnTo>
                <a:lnTo>
                  <a:pt x="6565" y="3673"/>
                </a:lnTo>
                <a:lnTo>
                  <a:pt x="6531" y="3666"/>
                </a:lnTo>
                <a:lnTo>
                  <a:pt x="6498" y="3658"/>
                </a:lnTo>
                <a:lnTo>
                  <a:pt x="6466" y="3673"/>
                </a:lnTo>
                <a:lnTo>
                  <a:pt x="6424" y="3666"/>
                </a:lnTo>
                <a:lnTo>
                  <a:pt x="6390" y="3658"/>
                </a:lnTo>
                <a:lnTo>
                  <a:pt x="6374" y="3689"/>
                </a:lnTo>
                <a:lnTo>
                  <a:pt x="6334" y="3689"/>
                </a:lnTo>
                <a:lnTo>
                  <a:pt x="6300" y="3679"/>
                </a:lnTo>
                <a:lnTo>
                  <a:pt x="6274" y="3649"/>
                </a:lnTo>
                <a:lnTo>
                  <a:pt x="6242" y="3642"/>
                </a:lnTo>
                <a:lnTo>
                  <a:pt x="6208" y="3642"/>
                </a:lnTo>
                <a:lnTo>
                  <a:pt x="6175" y="3666"/>
                </a:lnTo>
                <a:lnTo>
                  <a:pt x="6143" y="3673"/>
                </a:lnTo>
                <a:lnTo>
                  <a:pt x="6108" y="3658"/>
                </a:lnTo>
                <a:lnTo>
                  <a:pt x="6076" y="3658"/>
                </a:lnTo>
                <a:lnTo>
                  <a:pt x="6042" y="3627"/>
                </a:lnTo>
                <a:lnTo>
                  <a:pt x="6010" y="3619"/>
                </a:lnTo>
                <a:lnTo>
                  <a:pt x="5977" y="3627"/>
                </a:lnTo>
                <a:lnTo>
                  <a:pt x="5937" y="3634"/>
                </a:lnTo>
                <a:lnTo>
                  <a:pt x="5903" y="3627"/>
                </a:lnTo>
                <a:lnTo>
                  <a:pt x="5870" y="3627"/>
                </a:lnTo>
                <a:lnTo>
                  <a:pt x="5837" y="3611"/>
                </a:lnTo>
                <a:lnTo>
                  <a:pt x="5820" y="3582"/>
                </a:lnTo>
                <a:lnTo>
                  <a:pt x="5788" y="3557"/>
                </a:lnTo>
                <a:lnTo>
                  <a:pt x="5754" y="3565"/>
                </a:lnTo>
                <a:lnTo>
                  <a:pt x="5721" y="3572"/>
                </a:lnTo>
                <a:lnTo>
                  <a:pt x="5687" y="3582"/>
                </a:lnTo>
                <a:lnTo>
                  <a:pt x="5656" y="3565"/>
                </a:lnTo>
                <a:lnTo>
                  <a:pt x="5621" y="3550"/>
                </a:lnTo>
                <a:lnTo>
                  <a:pt x="5589" y="3526"/>
                </a:lnTo>
                <a:lnTo>
                  <a:pt x="5546" y="3503"/>
                </a:lnTo>
                <a:lnTo>
                  <a:pt x="5515" y="3488"/>
                </a:lnTo>
                <a:lnTo>
                  <a:pt x="5480" y="3488"/>
                </a:lnTo>
                <a:lnTo>
                  <a:pt x="5480" y="3457"/>
                </a:lnTo>
                <a:lnTo>
                  <a:pt x="5480" y="3427"/>
                </a:lnTo>
                <a:lnTo>
                  <a:pt x="5456" y="3396"/>
                </a:lnTo>
                <a:lnTo>
                  <a:pt x="5424" y="3387"/>
                </a:lnTo>
                <a:lnTo>
                  <a:pt x="5390" y="3372"/>
                </a:lnTo>
                <a:lnTo>
                  <a:pt x="5357" y="3358"/>
                </a:lnTo>
                <a:lnTo>
                  <a:pt x="5324" y="3349"/>
                </a:lnTo>
                <a:lnTo>
                  <a:pt x="5290" y="3335"/>
                </a:lnTo>
                <a:lnTo>
                  <a:pt x="5258" y="3335"/>
                </a:lnTo>
                <a:lnTo>
                  <a:pt x="5224" y="3349"/>
                </a:lnTo>
                <a:lnTo>
                  <a:pt x="5193" y="3372"/>
                </a:lnTo>
                <a:lnTo>
                  <a:pt x="5159" y="3358"/>
                </a:lnTo>
                <a:lnTo>
                  <a:pt x="5125" y="3341"/>
                </a:lnTo>
                <a:lnTo>
                  <a:pt x="5092" y="3349"/>
                </a:lnTo>
                <a:lnTo>
                  <a:pt x="5059" y="3358"/>
                </a:lnTo>
                <a:lnTo>
                  <a:pt x="5028" y="3364"/>
                </a:lnTo>
                <a:lnTo>
                  <a:pt x="4993" y="3349"/>
                </a:lnTo>
                <a:lnTo>
                  <a:pt x="4960" y="3335"/>
                </a:lnTo>
                <a:lnTo>
                  <a:pt x="4928" y="3325"/>
                </a:lnTo>
                <a:lnTo>
                  <a:pt x="4895" y="3310"/>
                </a:lnTo>
                <a:lnTo>
                  <a:pt x="4861" y="3296"/>
                </a:lnTo>
                <a:lnTo>
                  <a:pt x="4828" y="3273"/>
                </a:lnTo>
                <a:lnTo>
                  <a:pt x="4796" y="3273"/>
                </a:lnTo>
                <a:lnTo>
                  <a:pt x="4763" y="3264"/>
                </a:lnTo>
                <a:lnTo>
                  <a:pt x="4728" y="3241"/>
                </a:lnTo>
                <a:lnTo>
                  <a:pt x="4697" y="3233"/>
                </a:lnTo>
                <a:lnTo>
                  <a:pt x="4663" y="3202"/>
                </a:lnTo>
                <a:lnTo>
                  <a:pt x="4620" y="3195"/>
                </a:lnTo>
                <a:lnTo>
                  <a:pt x="4588" y="3195"/>
                </a:lnTo>
                <a:lnTo>
                  <a:pt x="4554" y="3202"/>
                </a:lnTo>
                <a:lnTo>
                  <a:pt x="4522" y="3172"/>
                </a:lnTo>
                <a:lnTo>
                  <a:pt x="4489" y="3164"/>
                </a:lnTo>
                <a:lnTo>
                  <a:pt x="4456" y="3142"/>
                </a:lnTo>
                <a:lnTo>
                  <a:pt x="4423" y="3118"/>
                </a:lnTo>
                <a:lnTo>
                  <a:pt x="4399" y="3088"/>
                </a:lnTo>
                <a:lnTo>
                  <a:pt x="4373" y="3056"/>
                </a:lnTo>
                <a:lnTo>
                  <a:pt x="4349" y="3026"/>
                </a:lnTo>
                <a:lnTo>
                  <a:pt x="4315" y="3011"/>
                </a:lnTo>
                <a:lnTo>
                  <a:pt x="4282" y="3011"/>
                </a:lnTo>
                <a:lnTo>
                  <a:pt x="4249" y="2995"/>
                </a:lnTo>
                <a:lnTo>
                  <a:pt x="4224" y="2965"/>
                </a:lnTo>
                <a:lnTo>
                  <a:pt x="4192" y="2940"/>
                </a:lnTo>
                <a:lnTo>
                  <a:pt x="4157" y="2926"/>
                </a:lnTo>
                <a:lnTo>
                  <a:pt x="4141" y="2956"/>
                </a:lnTo>
                <a:lnTo>
                  <a:pt x="4108" y="2965"/>
                </a:lnTo>
                <a:lnTo>
                  <a:pt x="4075" y="2940"/>
                </a:lnTo>
                <a:lnTo>
                  <a:pt x="4067" y="2910"/>
                </a:lnTo>
                <a:lnTo>
                  <a:pt x="4035" y="2894"/>
                </a:lnTo>
                <a:lnTo>
                  <a:pt x="4018" y="2863"/>
                </a:lnTo>
                <a:lnTo>
                  <a:pt x="3993" y="2832"/>
                </a:lnTo>
                <a:lnTo>
                  <a:pt x="4008" y="2802"/>
                </a:lnTo>
                <a:lnTo>
                  <a:pt x="4042" y="2779"/>
                </a:lnTo>
                <a:lnTo>
                  <a:pt x="4042" y="2749"/>
                </a:lnTo>
                <a:lnTo>
                  <a:pt x="4050" y="2718"/>
                </a:lnTo>
                <a:lnTo>
                  <a:pt x="4075" y="2687"/>
                </a:lnTo>
                <a:lnTo>
                  <a:pt x="4059" y="2657"/>
                </a:lnTo>
                <a:lnTo>
                  <a:pt x="4059" y="2625"/>
                </a:lnTo>
                <a:lnTo>
                  <a:pt x="4067" y="2595"/>
                </a:lnTo>
                <a:lnTo>
                  <a:pt x="4100" y="2595"/>
                </a:lnTo>
                <a:lnTo>
                  <a:pt x="4134" y="2595"/>
                </a:lnTo>
                <a:lnTo>
                  <a:pt x="4150" y="2563"/>
                </a:lnTo>
                <a:lnTo>
                  <a:pt x="4150" y="2533"/>
                </a:lnTo>
                <a:lnTo>
                  <a:pt x="4125" y="2502"/>
                </a:lnTo>
                <a:lnTo>
                  <a:pt x="4192" y="2455"/>
                </a:lnTo>
                <a:lnTo>
                  <a:pt x="4192" y="2425"/>
                </a:lnTo>
                <a:lnTo>
                  <a:pt x="4224" y="2425"/>
                </a:lnTo>
                <a:lnTo>
                  <a:pt x="4266" y="2448"/>
                </a:lnTo>
                <a:lnTo>
                  <a:pt x="4289" y="2418"/>
                </a:lnTo>
                <a:lnTo>
                  <a:pt x="4315" y="2379"/>
                </a:lnTo>
                <a:lnTo>
                  <a:pt x="4300" y="2363"/>
                </a:lnTo>
                <a:lnTo>
                  <a:pt x="4266" y="2339"/>
                </a:lnTo>
                <a:lnTo>
                  <a:pt x="4225" y="2332"/>
                </a:lnTo>
                <a:lnTo>
                  <a:pt x="4193" y="2301"/>
                </a:lnTo>
                <a:lnTo>
                  <a:pt x="4167" y="2271"/>
                </a:lnTo>
                <a:lnTo>
                  <a:pt x="4134" y="2263"/>
                </a:lnTo>
                <a:lnTo>
                  <a:pt x="4100" y="2255"/>
                </a:lnTo>
                <a:lnTo>
                  <a:pt x="4067" y="2255"/>
                </a:lnTo>
                <a:lnTo>
                  <a:pt x="4043" y="2225"/>
                </a:lnTo>
                <a:lnTo>
                  <a:pt x="4043" y="2193"/>
                </a:lnTo>
                <a:lnTo>
                  <a:pt x="4026" y="2164"/>
                </a:lnTo>
                <a:lnTo>
                  <a:pt x="3994" y="2140"/>
                </a:lnTo>
                <a:lnTo>
                  <a:pt x="3960" y="2118"/>
                </a:lnTo>
                <a:lnTo>
                  <a:pt x="3927" y="2108"/>
                </a:lnTo>
                <a:lnTo>
                  <a:pt x="3894" y="2118"/>
                </a:lnTo>
                <a:lnTo>
                  <a:pt x="3861" y="2118"/>
                </a:lnTo>
                <a:lnTo>
                  <a:pt x="3828" y="2101"/>
                </a:lnTo>
                <a:lnTo>
                  <a:pt x="3795" y="2078"/>
                </a:lnTo>
                <a:lnTo>
                  <a:pt x="3778" y="2040"/>
                </a:lnTo>
                <a:lnTo>
                  <a:pt x="3746" y="2009"/>
                </a:lnTo>
                <a:lnTo>
                  <a:pt x="3720" y="1978"/>
                </a:lnTo>
                <a:lnTo>
                  <a:pt x="3687" y="1969"/>
                </a:lnTo>
                <a:lnTo>
                  <a:pt x="3653" y="1969"/>
                </a:lnTo>
                <a:lnTo>
                  <a:pt x="3622" y="1978"/>
                </a:lnTo>
                <a:lnTo>
                  <a:pt x="3597" y="1947"/>
                </a:lnTo>
                <a:lnTo>
                  <a:pt x="3587" y="1917"/>
                </a:lnTo>
                <a:lnTo>
                  <a:pt x="3580" y="1885"/>
                </a:lnTo>
                <a:lnTo>
                  <a:pt x="3580" y="1855"/>
                </a:lnTo>
                <a:lnTo>
                  <a:pt x="3587" y="1823"/>
                </a:lnTo>
                <a:lnTo>
                  <a:pt x="3587" y="1794"/>
                </a:lnTo>
                <a:lnTo>
                  <a:pt x="3580" y="1763"/>
                </a:lnTo>
                <a:lnTo>
                  <a:pt x="3580" y="1731"/>
                </a:lnTo>
                <a:lnTo>
                  <a:pt x="3580" y="1700"/>
                </a:lnTo>
                <a:lnTo>
                  <a:pt x="3555" y="1670"/>
                </a:lnTo>
                <a:lnTo>
                  <a:pt x="3522" y="1647"/>
                </a:lnTo>
                <a:lnTo>
                  <a:pt x="3506" y="1617"/>
                </a:lnTo>
                <a:lnTo>
                  <a:pt x="3497" y="1586"/>
                </a:lnTo>
                <a:lnTo>
                  <a:pt x="3522" y="1532"/>
                </a:lnTo>
                <a:lnTo>
                  <a:pt x="3555" y="1508"/>
                </a:lnTo>
                <a:lnTo>
                  <a:pt x="3587" y="1508"/>
                </a:lnTo>
                <a:lnTo>
                  <a:pt x="3614" y="1537"/>
                </a:lnTo>
                <a:lnTo>
                  <a:pt x="3638" y="1570"/>
                </a:lnTo>
                <a:lnTo>
                  <a:pt x="3671" y="1593"/>
                </a:lnTo>
                <a:lnTo>
                  <a:pt x="3704" y="1577"/>
                </a:lnTo>
                <a:lnTo>
                  <a:pt x="3736" y="1547"/>
                </a:lnTo>
                <a:lnTo>
                  <a:pt x="3770" y="1532"/>
                </a:lnTo>
                <a:lnTo>
                  <a:pt x="3803" y="1523"/>
                </a:lnTo>
                <a:lnTo>
                  <a:pt x="3836" y="1492"/>
                </a:lnTo>
                <a:lnTo>
                  <a:pt x="3828" y="1462"/>
                </a:lnTo>
                <a:lnTo>
                  <a:pt x="3803" y="1430"/>
                </a:lnTo>
                <a:lnTo>
                  <a:pt x="3786" y="1400"/>
                </a:lnTo>
                <a:lnTo>
                  <a:pt x="3786" y="1369"/>
                </a:lnTo>
                <a:lnTo>
                  <a:pt x="3813" y="1322"/>
                </a:lnTo>
                <a:lnTo>
                  <a:pt x="3786" y="1292"/>
                </a:lnTo>
                <a:lnTo>
                  <a:pt x="3754" y="1300"/>
                </a:lnTo>
                <a:lnTo>
                  <a:pt x="3720" y="1300"/>
                </a:lnTo>
                <a:lnTo>
                  <a:pt x="3687" y="1300"/>
                </a:lnTo>
                <a:lnTo>
                  <a:pt x="3671" y="1269"/>
                </a:lnTo>
                <a:lnTo>
                  <a:pt x="3663" y="1238"/>
                </a:lnTo>
                <a:lnTo>
                  <a:pt x="3653" y="1207"/>
                </a:lnTo>
                <a:lnTo>
                  <a:pt x="3638" y="1177"/>
                </a:lnTo>
                <a:lnTo>
                  <a:pt x="3612" y="1136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География интересный и познавательный предмет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900000" y="1079640"/>
            <a:ext cx="846000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99284c"/>
                </a:solidFill>
                <a:latin typeface="Arial"/>
              </a:rPr>
              <a:t>Я надеюсь на интересную и увлекательную работу с учащимися класса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 advTm="1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7:07:07Z</dcterms:created>
  <dc:creator>imc</dc:creator>
  <dc:description/>
  <dc:language>en-US</dc:language>
  <cp:lastModifiedBy>imc</cp:lastModifiedBy>
  <dcterms:modified xsi:type="dcterms:W3CDTF">2013-02-13T07:08:12Z</dcterms:modified>
  <cp:revision>1</cp:revision>
  <dc:subject/>
  <dc:title>Учебный план МБОУ ООШ №2</dc:title>
</cp:coreProperties>
</file>