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985-4E24-4FD3-AF17-5CE7C5BD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385-9EEF-413A-BB55-F96EEF4B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7A4-234F-4550-87E2-4C78246B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DF64-AFF4-41D2-AA94-48E92DFE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8C2-10C0-4A99-A702-C2518F9C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86F-B133-428E-9D98-351AEDB7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AB4-2927-45E0-9093-44C90BC0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699-9C92-44EA-AA6F-99F2BA88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B81-5FBA-495E-BD94-C9DF9E24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E60-441B-4F71-A0CF-63E7503D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ECB-B51E-44AB-A4AA-0996F563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151D-9BCE-4BD9-BFE4-1624A775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B817B-3E3E-45EB-80D0-9479126F35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7280" y="2006280"/>
            <a:ext cx="9070920" cy="2268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Развитие творческих способностей учащихся через включение их в исследовательскую деятельность на уроках географии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958920" y="5338800"/>
            <a:ext cx="547668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Солодова Л М — учитель географии ООШ№2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Желаю творческих успехов и побед!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00000" y="3897360"/>
            <a:ext cx="2967120" cy="2943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40360" y="-339840"/>
            <a:ext cx="7337160" cy="735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13478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Дальние цели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22480" y="2076120"/>
            <a:ext cx="8418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Развить интерес школьников к географии  через включение их в исследовательскую деятельность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Ближние цели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79640" y="2519280"/>
            <a:ext cx="809928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Развивать творческие способности учащихся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Вовлекать их в исследовательскую деятельность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едагогические методы и задачи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2160360"/>
            <a:ext cx="410688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Использовать в своей работе метод проектов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72040" y="2166840"/>
            <a:ext cx="41068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2040" y="1987560"/>
            <a:ext cx="41068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Lucida Sans Unicode"/>
              </a:rPr>
              <a:t>Групповая форма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Lucida Sans Unicode"/>
              </a:rPr>
              <a:t>Знакомство учащихся с литерату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Lucida Sans Unicode"/>
              </a:rPr>
              <a:t>Обсуждение плана работы над проек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Трудности и решени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Требуется больше времени на самостоятельный поиск информации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се это ведет к дополнительной нагрузке учащихс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2040" y="2160720"/>
            <a:ext cx="4106880" cy="46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503280" indent="-432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Lucida Sans Unicode"/>
              </a:rPr>
              <a:t>Выбрать интегрированную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Lucida Sans Unicode"/>
              </a:rPr>
              <a:t>Подключить к работе библиотекаря, учителей работающих в этом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Ресурсы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99640" y="1800360"/>
            <a:ext cx="84186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Консультация с учителями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Интернет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Текстовой редактор электронные таблицы и мультимедио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107964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Отчет о работ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60000" y="1963800"/>
            <a:ext cx="8418600" cy="343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Как шла работа над проектом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Плюсы и минусы в работе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Отчет каждой группы о своей работе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Оформление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лан  - график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1979640"/>
            <a:ext cx="8418240" cy="37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Сентябрь — выбор темы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Октябрь — поиск литературы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Ноябрь- работа в группах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Декабрь — поиск в интернете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Январь-март оформление работы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Выступление на школьной конференции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Трудности и решени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98756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Трудност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Требуется больше времени на поиск литературы, оформление рабо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92760" y="1979640"/>
            <a:ext cx="41068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Lucida Sans Unicode"/>
              </a:rPr>
              <a:t>Выбрать интегрированную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Lucida Sans Unicode"/>
              </a:rPr>
              <a:t>Подключить к работе библиотекаря и учителей работающих в этом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1:10:16Z</dcterms:created>
  <dc:creator>школа </dc:creator>
  <dc:description/>
  <dc:language>en-US</dc:language>
  <cp:lastModifiedBy>школа </cp:lastModifiedBy>
  <dcterms:modified xsi:type="dcterms:W3CDTF">2012-11-20T12:01:18Z</dcterms:modified>
  <cp:revision>3</cp:revision>
  <dc:subject/>
  <dc:title/>
</cp:coreProperties>
</file>