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Строка 1</c:v>
                </c:pt>
                <c:pt idx="1">
                  <c:v>Строка 2</c:v>
                </c:pt>
                <c:pt idx="2">
                  <c:v>Строка 3</c:v>
                </c:pt>
                <c:pt idx="3">
                  <c:v>Строка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20474"/>
        <c:axId val="99702138"/>
      </c:barChart>
      <c:catAx>
        <c:axId val="49620474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02138"/>
        <c:crosses val="autoZero"/>
        <c:auto val="1"/>
        <c:lblAlgn val="ctr"/>
        <c:lblOffset val="100"/>
        <c:noMultiLvlLbl val="0"/>
      </c:catAx>
      <c:valAx>
        <c:axId val="99702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20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8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364-A77D-40FD-A482-A60C8955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8AE-48CE-45C6-B2E6-F5791EBF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F34-A92E-40C7-8259-E43885DA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312-DC38-4D36-9548-BD7D2988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7BC-4C68-4CD8-9A7A-200DCA7F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D8E-21B3-4B72-9390-D34E9459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CD6-1124-4272-8766-A7A67C38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CF3-9BCF-4607-A301-6B4D7174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B9F-A54C-49F0-AAF1-4DD73E19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E18-0644-405F-92F6-F6CE63A1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413-00D1-421A-9533-5D1AEAAC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0C2-76CB-4A57-ADB4-BDA06F7A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5BB01-81AE-443B-9562-6DB9E954D3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МБДОУ № 35 «Теремок»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3060360"/>
            <a:ext cx="90709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Arial"/>
              </a:rPr>
              <a:t>Сорокина Ирина Геннадьевна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Arial"/>
              </a:rPr>
              <a:t>2012-2013 учебный год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 advTm="1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Задачи по оздоровлению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оспитание основ здорового образа жизн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иобщение к основам здорового питани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Формирование основ психического здоровь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135400" y="2138400"/>
          <a:ext cx="4106880" cy="4762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p:transition spd="med" advTm="1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480600"/>
            <a:ext cx="86076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Задачи по приобщению родителей к здоровому образу жизн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оспитание у родителей потребности в здоровом образе жизни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Отказ от вредных привыче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60360" y="2519280"/>
            <a:ext cx="3059280" cy="3957120"/>
            <a:chOff x="1260360" y="2519280"/>
            <a:chExt cx="3059280" cy="3957120"/>
          </a:xfrm>
        </p:grpSpPr>
        <p:sp>
          <p:nvSpPr>
            <p:cNvPr id="88" name=""/>
            <p:cNvSpPr/>
            <p:nvPr/>
          </p:nvSpPr>
          <p:spPr>
            <a:xfrm>
              <a:off x="1266840" y="2519280"/>
              <a:ext cx="3052800" cy="3934080"/>
            </a:xfrm>
            <a:custGeom>
              <a:avLst/>
              <a:gdLst>
                <a:gd name="textAreaLeft" fmla="*/ 360 w 3052800"/>
                <a:gd name="textAreaRight" fmla="*/ 3052440 w 3052800"/>
                <a:gd name="textAreaTop" fmla="*/ 360 h 3934080"/>
                <a:gd name="textAreaBottom" fmla="*/ 3933720 h 3934080"/>
              </a:gdLst>
              <a:ahLst/>
              <a:rect l="textAreaLeft" t="textAreaTop" r="textAreaRight" b="textAreaBottom"/>
              <a:pathLst>
                <a:path w="21600" h="27835">
                  <a:moveTo>
                    <a:pt x="11" y="0"/>
                  </a:moveTo>
                  <a:arcTo wR="11" hR="11" stAng="16200000" swAng="-5400000"/>
                  <a:lnTo>
                    <a:pt x="0" y="27824"/>
                  </a:lnTo>
                  <a:arcTo wR="11" hR="11" stAng="10800000" swAng="-5400000"/>
                  <a:lnTo>
                    <a:pt x="21589" y="27835"/>
                  </a:lnTo>
                  <a:arcTo wR="11" hR="11" stAng="5400000" swAng="-5400000"/>
                  <a:lnTo>
                    <a:pt x="21600" y="11"/>
                  </a:lnTo>
                  <a:arcTo wR="11" hR="11" stAng="0" swAng="-5400000"/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679840" y="2591640"/>
              <a:ext cx="1269360" cy="790200"/>
              <a:chOff x="2679840" y="2591640"/>
              <a:chExt cx="1269360" cy="7902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3394440" y="2591640"/>
                <a:ext cx="485280" cy="570240"/>
                <a:chOff x="3394440" y="2591640"/>
                <a:chExt cx="485280" cy="5702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529080" y="2759400"/>
                  <a:ext cx="214200" cy="2458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" name=""/>
                <p:cNvGrpSpPr/>
                <p:nvPr/>
              </p:nvGrpSpPr>
              <p:grpSpPr>
                <a:xfrm>
                  <a:off x="3394440" y="2591640"/>
                  <a:ext cx="485280" cy="570240"/>
                  <a:chOff x="3394440" y="2591640"/>
                  <a:chExt cx="485280" cy="57024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3637080" y="2885400"/>
                    <a:ext cx="242640" cy="14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V="1">
                    <a:off x="3641400" y="2679840"/>
                    <a:ext cx="171720" cy="20232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V="1">
                    <a:off x="3639960" y="2768040"/>
                    <a:ext cx="226800" cy="1094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V="1">
                    <a:off x="3639960" y="2619720"/>
                    <a:ext cx="92880" cy="26388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3638160" y="2876400"/>
                    <a:ext cx="225360" cy="10692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3641400" y="2883960"/>
                    <a:ext cx="94680" cy="2588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639960" y="2885400"/>
                    <a:ext cx="173160" cy="1994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641400" y="2882160"/>
                    <a:ext cx="1440" cy="27972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H="1">
                    <a:off x="3394440" y="2871720"/>
                    <a:ext cx="245520" cy="108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H="1">
                    <a:off x="3458880" y="2876400"/>
                    <a:ext cx="176400" cy="1976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3406320" y="2879280"/>
                    <a:ext cx="228600" cy="10800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3540600" y="2874600"/>
                    <a:ext cx="97200" cy="25920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3408480" y="2770200"/>
                    <a:ext cx="229680" cy="10980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3537360" y="2612160"/>
                    <a:ext cx="96120" cy="2606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3460320" y="2669760"/>
                    <a:ext cx="174960" cy="20124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3633840" y="2591640"/>
                    <a:ext cx="1440" cy="282600"/>
                  </a:xfrm>
                  <a:prstGeom prst="line">
                    <a:avLst/>
                  </a:prstGeom>
                  <a:ln w="720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" name=""/>
              <p:cNvSpPr/>
              <p:nvPr/>
            </p:nvSpPr>
            <p:spPr>
              <a:xfrm>
                <a:off x="3313800" y="2838240"/>
                <a:ext cx="459360" cy="213120"/>
              </a:xfrm>
              <a:custGeom>
                <a:avLst/>
                <a:gdLst/>
                <a:ahLst/>
                <a:rect l="l" t="t" r="r" b="b"/>
                <a:pathLst>
                  <a:path w="1280" h="596">
                    <a:moveTo>
                      <a:pt x="0" y="206"/>
                    </a:moveTo>
                    <a:cubicBezTo>
                      <a:pt x="127" y="84"/>
                      <a:pt x="340" y="0"/>
                      <a:pt x="582" y="0"/>
                    </a:cubicBezTo>
                    <a:cubicBezTo>
                      <a:pt x="965" y="0"/>
                      <a:pt x="1279" y="206"/>
                      <a:pt x="1279" y="462"/>
                    </a:cubicBezTo>
                    <a:cubicBezTo>
                      <a:pt x="1279" y="506"/>
                      <a:pt x="1266" y="555"/>
                      <a:pt x="1245" y="595"/>
                    </a:cubicBezTo>
                    <a:lnTo>
                      <a:pt x="0" y="20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03600" y="3050280"/>
                <a:ext cx="345600" cy="326880"/>
              </a:xfrm>
              <a:custGeom>
                <a:avLst/>
                <a:gdLst/>
                <a:ahLst/>
                <a:rect l="l" t="t" r="r" b="b"/>
                <a:pathLst>
                  <a:path w="962" h="914">
                    <a:moveTo>
                      <a:pt x="438" y="0"/>
                    </a:moveTo>
                    <a:cubicBezTo>
                      <a:pt x="748" y="83"/>
                      <a:pt x="961" y="245"/>
                      <a:pt x="961" y="432"/>
                    </a:cubicBezTo>
                    <a:cubicBezTo>
                      <a:pt x="961" y="697"/>
                      <a:pt x="532" y="913"/>
                      <a:pt x="0" y="913"/>
                    </a:cubicBezTo>
                    <a:lnTo>
                      <a:pt x="43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79840" y="2974320"/>
                <a:ext cx="310320" cy="397800"/>
              </a:xfrm>
              <a:custGeom>
                <a:avLst/>
                <a:gdLst/>
                <a:ahLst/>
                <a:rect l="l" t="t" r="r" b="b"/>
                <a:pathLst>
                  <a:path w="864" h="1111">
                    <a:moveTo>
                      <a:pt x="863" y="1110"/>
                    </a:moveTo>
                    <a:cubicBezTo>
                      <a:pt x="859" y="1110"/>
                      <a:pt x="854" y="1110"/>
                      <a:pt x="846" y="1110"/>
                    </a:cubicBezTo>
                    <a:cubicBezTo>
                      <a:pt x="378" y="1110"/>
                      <a:pt x="0" y="889"/>
                      <a:pt x="0" y="619"/>
                    </a:cubicBezTo>
                    <a:cubicBezTo>
                      <a:pt x="0" y="432"/>
                      <a:pt x="400" y="0"/>
                      <a:pt x="480" y="187"/>
                    </a:cubicBezTo>
                    <a:lnTo>
                      <a:pt x="863" y="111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25280" y="2866680"/>
                <a:ext cx="494640" cy="183240"/>
              </a:xfrm>
              <a:custGeom>
                <a:avLst/>
                <a:gdLst/>
                <a:ahLst/>
                <a:rect l="l" t="t" r="r" b="b"/>
                <a:pathLst>
                  <a:path w="1378" h="512">
                    <a:moveTo>
                      <a:pt x="47" y="511"/>
                    </a:moveTo>
                    <a:cubicBezTo>
                      <a:pt x="17" y="466"/>
                      <a:pt x="0" y="422"/>
                      <a:pt x="0" y="383"/>
                    </a:cubicBezTo>
                    <a:cubicBezTo>
                      <a:pt x="0" y="167"/>
                      <a:pt x="348" y="0"/>
                      <a:pt x="782" y="0"/>
                    </a:cubicBezTo>
                    <a:cubicBezTo>
                      <a:pt x="1020" y="0"/>
                      <a:pt x="1232" y="49"/>
                      <a:pt x="1377" y="127"/>
                    </a:cubicBezTo>
                    <a:lnTo>
                      <a:pt x="47" y="51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983680" y="3378960"/>
                <a:ext cx="622800" cy="1440"/>
              </a:xfrm>
              <a:custGeom>
                <a:avLst/>
                <a:gdLst/>
                <a:ahLst/>
                <a:rect l="l" t="t" r="r" b="b"/>
                <a:pathLst>
                  <a:path w="1731" h="1">
                    <a:moveTo>
                      <a:pt x="1730" y="0"/>
                    </a:moveTo>
                    <a:lnTo>
                      <a:pt x="0" y="0"/>
                    </a:lnTo>
                    <a:lnTo>
                      <a:pt x="173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28520" y="2912400"/>
                <a:ext cx="933480" cy="469440"/>
              </a:xfrm>
              <a:custGeom>
                <a:avLst/>
                <a:gdLst/>
                <a:ahLst/>
                <a:rect l="l" t="t" r="r" b="b"/>
                <a:pathLst>
                  <a:path w="2598" h="1308">
                    <a:moveTo>
                      <a:pt x="447" y="1297"/>
                    </a:moveTo>
                    <a:lnTo>
                      <a:pt x="2168" y="1297"/>
                    </a:lnTo>
                    <a:lnTo>
                      <a:pt x="2597" y="384"/>
                    </a:lnTo>
                    <a:lnTo>
                      <a:pt x="1356" y="0"/>
                    </a:lnTo>
                    <a:lnTo>
                      <a:pt x="0" y="369"/>
                    </a:lnTo>
                    <a:lnTo>
                      <a:pt x="447" y="1307"/>
                    </a:lnTo>
                    <a:lnTo>
                      <a:pt x="447" y="129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293920" y="3777480"/>
              <a:ext cx="1068120" cy="455040"/>
              <a:chOff x="2293920" y="3777480"/>
              <a:chExt cx="1068120" cy="455040"/>
            </a:xfrm>
          </p:grpSpPr>
          <p:sp>
            <p:nvSpPr>
              <p:cNvPr id="116" name=""/>
              <p:cNvSpPr/>
              <p:nvPr/>
            </p:nvSpPr>
            <p:spPr>
              <a:xfrm>
                <a:off x="2829600" y="3777480"/>
                <a:ext cx="396000" cy="185400"/>
              </a:xfrm>
              <a:custGeom>
                <a:avLst/>
                <a:gdLst/>
                <a:ahLst/>
                <a:rect l="l" t="t" r="r" b="b"/>
                <a:pathLst>
                  <a:path w="1101" h="521">
                    <a:moveTo>
                      <a:pt x="0" y="172"/>
                    </a:moveTo>
                    <a:cubicBezTo>
                      <a:pt x="102" y="68"/>
                      <a:pt x="284" y="0"/>
                      <a:pt x="484" y="0"/>
                    </a:cubicBezTo>
                    <a:cubicBezTo>
                      <a:pt x="811" y="0"/>
                      <a:pt x="1071" y="177"/>
                      <a:pt x="1071" y="388"/>
                    </a:cubicBezTo>
                    <a:cubicBezTo>
                      <a:pt x="1071" y="427"/>
                      <a:pt x="1100" y="520"/>
                      <a:pt x="1066" y="511"/>
                    </a:cubicBezTo>
                    <a:lnTo>
                      <a:pt x="0" y="17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72240" y="3953880"/>
                <a:ext cx="289800" cy="275400"/>
              </a:xfrm>
              <a:custGeom>
                <a:avLst/>
                <a:gdLst/>
                <a:ahLst/>
                <a:rect l="l" t="t" r="r" b="b"/>
                <a:pathLst>
                  <a:path w="809" h="772">
                    <a:moveTo>
                      <a:pt x="370" y="0"/>
                    </a:moveTo>
                    <a:cubicBezTo>
                      <a:pt x="629" y="69"/>
                      <a:pt x="808" y="211"/>
                      <a:pt x="808" y="363"/>
                    </a:cubicBezTo>
                    <a:cubicBezTo>
                      <a:pt x="808" y="589"/>
                      <a:pt x="447" y="771"/>
                      <a:pt x="0" y="771"/>
                    </a:cubicBezTo>
                    <a:lnTo>
                      <a:pt x="37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93920" y="3952440"/>
                <a:ext cx="261720" cy="278280"/>
              </a:xfrm>
              <a:custGeom>
                <a:avLst/>
                <a:gdLst/>
                <a:ahLst/>
                <a:rect l="l" t="t" r="r" b="b"/>
                <a:pathLst>
                  <a:path w="728" h="782">
                    <a:moveTo>
                      <a:pt x="727" y="781"/>
                    </a:moveTo>
                    <a:cubicBezTo>
                      <a:pt x="723" y="781"/>
                      <a:pt x="718" y="781"/>
                      <a:pt x="714" y="781"/>
                    </a:cubicBezTo>
                    <a:cubicBezTo>
                      <a:pt x="319" y="781"/>
                      <a:pt x="0" y="594"/>
                      <a:pt x="0" y="368"/>
                    </a:cubicBezTo>
                    <a:cubicBezTo>
                      <a:pt x="0" y="211"/>
                      <a:pt x="153" y="74"/>
                      <a:pt x="374" y="0"/>
                    </a:cubicBezTo>
                    <a:lnTo>
                      <a:pt x="727" y="78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15960" y="3799440"/>
                <a:ext cx="415080" cy="154080"/>
              </a:xfrm>
              <a:custGeom>
                <a:avLst/>
                <a:gdLst/>
                <a:ahLst/>
                <a:rect l="l" t="t" r="r" b="b"/>
                <a:pathLst>
                  <a:path w="1157" h="433">
                    <a:moveTo>
                      <a:pt x="34" y="432"/>
                    </a:moveTo>
                    <a:cubicBezTo>
                      <a:pt x="13" y="397"/>
                      <a:pt x="0" y="363"/>
                      <a:pt x="0" y="324"/>
                    </a:cubicBezTo>
                    <a:cubicBezTo>
                      <a:pt x="0" y="147"/>
                      <a:pt x="293" y="0"/>
                      <a:pt x="659" y="0"/>
                    </a:cubicBezTo>
                    <a:cubicBezTo>
                      <a:pt x="859" y="0"/>
                      <a:pt x="1037" y="44"/>
                      <a:pt x="1156" y="113"/>
                    </a:cubicBezTo>
                    <a:lnTo>
                      <a:pt x="34" y="43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49160" y="4229640"/>
                <a:ext cx="524880" cy="1080"/>
              </a:xfrm>
              <a:custGeom>
                <a:avLst/>
                <a:gdLst/>
                <a:ahLst/>
                <a:rect l="l" t="t" r="r" b="b"/>
                <a:pathLst>
                  <a:path w="1459" h="6">
                    <a:moveTo>
                      <a:pt x="1458" y="0"/>
                    </a:moveTo>
                    <a:lnTo>
                      <a:pt x="0" y="5"/>
                    </a:lnTo>
                    <a:lnTo>
                      <a:pt x="145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28560" y="3840480"/>
                <a:ext cx="798840" cy="392040"/>
              </a:xfrm>
              <a:custGeom>
                <a:avLst/>
                <a:gdLst/>
                <a:ahLst/>
                <a:rect l="l" t="t" r="r" b="b"/>
                <a:pathLst>
                  <a:path w="2224" h="1096">
                    <a:moveTo>
                      <a:pt x="349" y="1090"/>
                    </a:moveTo>
                    <a:lnTo>
                      <a:pt x="1794" y="1090"/>
                    </a:lnTo>
                    <a:lnTo>
                      <a:pt x="2223" y="319"/>
                    </a:lnTo>
                    <a:lnTo>
                      <a:pt x="1114" y="0"/>
                    </a:lnTo>
                    <a:lnTo>
                      <a:pt x="0" y="319"/>
                    </a:lnTo>
                    <a:lnTo>
                      <a:pt x="353" y="1095"/>
                    </a:lnTo>
                    <a:lnTo>
                      <a:pt x="349" y="109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260360" y="3007800"/>
              <a:ext cx="3054600" cy="3468600"/>
              <a:chOff x="1260360" y="3007800"/>
              <a:chExt cx="3054600" cy="3468600"/>
            </a:xfrm>
          </p:grpSpPr>
          <p:sp>
            <p:nvSpPr>
              <p:cNvPr id="123" name=""/>
              <p:cNvSpPr/>
              <p:nvPr/>
            </p:nvSpPr>
            <p:spPr>
              <a:xfrm>
                <a:off x="1410840" y="5720760"/>
                <a:ext cx="339480" cy="250920"/>
              </a:xfrm>
              <a:custGeom>
                <a:avLst/>
                <a:gdLst/>
                <a:ahLst/>
                <a:rect l="l" t="t" r="r" b="b"/>
                <a:pathLst>
                  <a:path w="944" h="724">
                    <a:moveTo>
                      <a:pt x="0" y="40"/>
                    </a:moveTo>
                    <a:lnTo>
                      <a:pt x="914" y="723"/>
                    </a:lnTo>
                    <a:lnTo>
                      <a:pt x="943" y="590"/>
                    </a:lnTo>
                    <a:lnTo>
                      <a:pt x="115" y="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27800" y="5572800"/>
                <a:ext cx="163080" cy="224640"/>
              </a:xfrm>
              <a:custGeom>
                <a:avLst/>
                <a:gdLst/>
                <a:ahLst/>
                <a:rect l="l" t="t" r="r" b="b"/>
                <a:pathLst>
                  <a:path w="452" h="650">
                    <a:moveTo>
                      <a:pt x="362" y="15"/>
                    </a:moveTo>
                    <a:lnTo>
                      <a:pt x="0" y="624"/>
                    </a:lnTo>
                    <a:lnTo>
                      <a:pt x="85" y="649"/>
                    </a:lnTo>
                    <a:lnTo>
                      <a:pt x="451" y="0"/>
                    </a:lnTo>
                    <a:lnTo>
                      <a:pt x="362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68040" y="3129840"/>
                <a:ext cx="602640" cy="2690280"/>
              </a:xfrm>
              <a:custGeom>
                <a:avLst/>
                <a:gdLst/>
                <a:ahLst/>
                <a:rect l="l" t="t" r="r" b="b"/>
                <a:pathLst>
                  <a:path w="1675" h="7757">
                    <a:moveTo>
                      <a:pt x="1521" y="44"/>
                    </a:moveTo>
                    <a:lnTo>
                      <a:pt x="0" y="7722"/>
                    </a:lnTo>
                    <a:lnTo>
                      <a:pt x="208" y="7756"/>
                    </a:lnTo>
                    <a:lnTo>
                      <a:pt x="1674" y="0"/>
                    </a:lnTo>
                    <a:lnTo>
                      <a:pt x="1521" y="44"/>
                    </a:lnTo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42280" y="3007800"/>
                <a:ext cx="1193040" cy="3271320"/>
              </a:xfrm>
              <a:custGeom>
                <a:avLst/>
                <a:gdLst/>
                <a:ahLst/>
                <a:rect l="l" t="t" r="r" b="b"/>
                <a:pathLst>
                  <a:path w="3316" h="9433">
                    <a:moveTo>
                      <a:pt x="1182" y="427"/>
                    </a:moveTo>
                    <a:cubicBezTo>
                      <a:pt x="1381" y="3989"/>
                      <a:pt x="0" y="7472"/>
                      <a:pt x="0" y="7472"/>
                    </a:cubicBezTo>
                    <a:cubicBezTo>
                      <a:pt x="0" y="7472"/>
                      <a:pt x="1700" y="6366"/>
                      <a:pt x="1785" y="6818"/>
                    </a:cubicBezTo>
                    <a:cubicBezTo>
                      <a:pt x="1891" y="7408"/>
                      <a:pt x="655" y="9432"/>
                      <a:pt x="2350" y="6882"/>
                    </a:cubicBezTo>
                    <a:cubicBezTo>
                      <a:pt x="3315" y="5423"/>
                      <a:pt x="2877" y="3168"/>
                      <a:pt x="2775" y="2982"/>
                    </a:cubicBezTo>
                    <a:cubicBezTo>
                      <a:pt x="2333" y="2142"/>
                      <a:pt x="1156" y="0"/>
                      <a:pt x="1182" y="427"/>
                    </a:cubicBezTo>
                  </a:path>
                </a:pathLst>
              </a:custGeom>
              <a:solidFill>
                <a:srgbClr val="e6e6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53320" y="3159000"/>
                <a:ext cx="112320" cy="37800"/>
              </a:xfrm>
              <a:custGeom>
                <a:avLst/>
                <a:gdLst/>
                <a:ahLst/>
                <a:rect l="l" t="t" r="r" b="b"/>
                <a:pathLst>
                  <a:path w="311" h="109">
                    <a:moveTo>
                      <a:pt x="0" y="99"/>
                    </a:moveTo>
                    <a:lnTo>
                      <a:pt x="26" y="35"/>
                    </a:lnTo>
                    <a:lnTo>
                      <a:pt x="310" y="0"/>
                    </a:lnTo>
                    <a:lnTo>
                      <a:pt x="289" y="108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89960" y="3495240"/>
                <a:ext cx="107280" cy="44280"/>
              </a:xfrm>
              <a:custGeom>
                <a:avLst/>
                <a:gdLst/>
                <a:ahLst/>
                <a:rect l="l" t="t" r="r" b="b"/>
                <a:pathLst>
                  <a:path w="302" h="129">
                    <a:moveTo>
                      <a:pt x="0" y="113"/>
                    </a:moveTo>
                    <a:lnTo>
                      <a:pt x="21" y="0"/>
                    </a:lnTo>
                    <a:lnTo>
                      <a:pt x="301" y="20"/>
                    </a:lnTo>
                    <a:lnTo>
                      <a:pt x="276" y="128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32720" y="377064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312" h="124">
                    <a:moveTo>
                      <a:pt x="0" y="113"/>
                    </a:moveTo>
                    <a:lnTo>
                      <a:pt x="26" y="0"/>
                    </a:lnTo>
                    <a:lnTo>
                      <a:pt x="311" y="19"/>
                    </a:lnTo>
                    <a:lnTo>
                      <a:pt x="294" y="123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942280" y="4804560"/>
                <a:ext cx="97920" cy="44280"/>
              </a:xfrm>
              <a:custGeom>
                <a:avLst/>
                <a:gdLst/>
                <a:ahLst/>
                <a:rect l="l" t="t" r="r" b="b"/>
                <a:pathLst>
                  <a:path w="273" h="128">
                    <a:moveTo>
                      <a:pt x="0" y="113"/>
                    </a:moveTo>
                    <a:lnTo>
                      <a:pt x="17" y="0"/>
                    </a:lnTo>
                    <a:lnTo>
                      <a:pt x="272" y="24"/>
                    </a:lnTo>
                    <a:lnTo>
                      <a:pt x="255" y="127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15000" y="4408560"/>
                <a:ext cx="99720" cy="41040"/>
              </a:xfrm>
              <a:custGeom>
                <a:avLst/>
                <a:gdLst/>
                <a:ahLst/>
                <a:rect l="l" t="t" r="r" b="b"/>
                <a:pathLst>
                  <a:path w="277" h="119">
                    <a:moveTo>
                      <a:pt x="0" y="113"/>
                    </a:moveTo>
                    <a:lnTo>
                      <a:pt x="21" y="0"/>
                    </a:lnTo>
                    <a:lnTo>
                      <a:pt x="276" y="20"/>
                    </a:lnTo>
                    <a:lnTo>
                      <a:pt x="268" y="118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31520" y="5774400"/>
                <a:ext cx="2000880" cy="405000"/>
              </a:xfrm>
              <a:custGeom>
                <a:avLst/>
                <a:gdLst/>
                <a:ahLst/>
                <a:rect l="l" t="t" r="r" b="b"/>
                <a:pathLst>
                  <a:path w="5560" h="1170">
                    <a:moveTo>
                      <a:pt x="17" y="520"/>
                    </a:moveTo>
                    <a:cubicBezTo>
                      <a:pt x="72" y="658"/>
                      <a:pt x="272" y="663"/>
                      <a:pt x="234" y="1002"/>
                    </a:cubicBezTo>
                    <a:cubicBezTo>
                      <a:pt x="846" y="1036"/>
                      <a:pt x="1492" y="1085"/>
                      <a:pt x="2104" y="1115"/>
                    </a:cubicBezTo>
                    <a:cubicBezTo>
                      <a:pt x="3090" y="1130"/>
                      <a:pt x="3952" y="1169"/>
                      <a:pt x="5087" y="1085"/>
                    </a:cubicBezTo>
                    <a:cubicBezTo>
                      <a:pt x="5121" y="633"/>
                      <a:pt x="5402" y="511"/>
                      <a:pt x="5559" y="226"/>
                    </a:cubicBezTo>
                    <a:cubicBezTo>
                      <a:pt x="4807" y="147"/>
                      <a:pt x="4292" y="10"/>
                      <a:pt x="3311" y="0"/>
                    </a:cubicBezTo>
                    <a:cubicBezTo>
                      <a:pt x="1449" y="373"/>
                      <a:pt x="0" y="520"/>
                      <a:pt x="17" y="520"/>
                    </a:cubicBezTo>
                  </a:path>
                </a:pathLst>
              </a:custGeom>
              <a:solidFill>
                <a:srgbClr val="9933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777400" y="558612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307" h="124">
                    <a:moveTo>
                      <a:pt x="0" y="113"/>
                    </a:moveTo>
                    <a:lnTo>
                      <a:pt x="21" y="0"/>
                    </a:lnTo>
                    <a:lnTo>
                      <a:pt x="306" y="25"/>
                    </a:lnTo>
                    <a:lnTo>
                      <a:pt x="289" y="123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13400" y="5394960"/>
                <a:ext cx="112680" cy="44280"/>
              </a:xfrm>
              <a:custGeom>
                <a:avLst/>
                <a:gdLst/>
                <a:ahLst/>
                <a:rect l="l" t="t" r="r" b="b"/>
                <a:pathLst>
                  <a:path w="311" h="129">
                    <a:moveTo>
                      <a:pt x="0" y="113"/>
                    </a:moveTo>
                    <a:lnTo>
                      <a:pt x="21" y="0"/>
                    </a:lnTo>
                    <a:lnTo>
                      <a:pt x="310" y="20"/>
                    </a:lnTo>
                    <a:lnTo>
                      <a:pt x="293" y="128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872440" y="5117040"/>
                <a:ext cx="105840" cy="44280"/>
              </a:xfrm>
              <a:custGeom>
                <a:avLst/>
                <a:gdLst/>
                <a:ahLst/>
                <a:rect l="l" t="t" r="r" b="b"/>
                <a:pathLst>
                  <a:path w="294" h="128">
                    <a:moveTo>
                      <a:pt x="0" y="113"/>
                    </a:moveTo>
                    <a:lnTo>
                      <a:pt x="17" y="0"/>
                    </a:lnTo>
                    <a:lnTo>
                      <a:pt x="293" y="19"/>
                    </a:lnTo>
                    <a:lnTo>
                      <a:pt x="276" y="127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69520" y="3157560"/>
                <a:ext cx="1838880" cy="2554200"/>
              </a:xfrm>
              <a:custGeom>
                <a:avLst/>
                <a:gdLst/>
                <a:ahLst/>
                <a:rect l="l" t="t" r="r" b="b"/>
                <a:pathLst>
                  <a:path w="5110" h="7365">
                    <a:moveTo>
                      <a:pt x="4939" y="50"/>
                    </a:moveTo>
                    <a:cubicBezTo>
                      <a:pt x="1858" y="5291"/>
                      <a:pt x="0" y="7315"/>
                      <a:pt x="0" y="7315"/>
                    </a:cubicBezTo>
                    <a:lnTo>
                      <a:pt x="3587" y="7364"/>
                    </a:lnTo>
                    <a:cubicBezTo>
                      <a:pt x="3587" y="7364"/>
                      <a:pt x="5109" y="0"/>
                      <a:pt x="5066" y="0"/>
                    </a:cubicBezTo>
                    <a:lnTo>
                      <a:pt x="4939" y="50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60080" y="5676840"/>
                <a:ext cx="1456560" cy="68400"/>
              </a:xfrm>
              <a:prstGeom prst="roundRect">
                <a:avLst>
                  <a:gd name="adj" fmla="val 2269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755080" y="5671800"/>
                <a:ext cx="112320" cy="81000"/>
              </a:xfrm>
              <a:custGeom>
                <a:avLst/>
                <a:gdLst/>
                <a:ahLst/>
                <a:rect l="l" t="t" r="r" b="b"/>
                <a:pathLst>
                  <a:path w="315" h="232">
                    <a:moveTo>
                      <a:pt x="0" y="211"/>
                    </a:moveTo>
                    <a:lnTo>
                      <a:pt x="12" y="0"/>
                    </a:lnTo>
                    <a:lnTo>
                      <a:pt x="314" y="25"/>
                    </a:lnTo>
                    <a:lnTo>
                      <a:pt x="280" y="231"/>
                    </a:lnTo>
                    <a:lnTo>
                      <a:pt x="0" y="2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05600" y="4386960"/>
                <a:ext cx="475920" cy="4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3429360" y="4547520"/>
                <a:ext cx="228240" cy="237240"/>
              </a:xfrm>
              <a:custGeom>
                <a:avLst/>
                <a:gdLst/>
                <a:ahLst/>
                <a:rect l="l" t="t" r="r" b="b"/>
                <a:pathLst>
                  <a:path w="633" h="684">
                    <a:moveTo>
                      <a:pt x="259" y="458"/>
                    </a:moveTo>
                    <a:cubicBezTo>
                      <a:pt x="402" y="487"/>
                      <a:pt x="526" y="556"/>
                      <a:pt x="632" y="683"/>
                    </a:cubicBezTo>
                    <a:cubicBezTo>
                      <a:pt x="576" y="583"/>
                      <a:pt x="489" y="356"/>
                      <a:pt x="347" y="379"/>
                    </a:cubicBezTo>
                    <a:cubicBezTo>
                      <a:pt x="338" y="289"/>
                      <a:pt x="214" y="0"/>
                      <a:pt x="0" y="7"/>
                    </a:cubicBezTo>
                    <a:cubicBezTo>
                      <a:pt x="130" y="142"/>
                      <a:pt x="240" y="259"/>
                      <a:pt x="259" y="458"/>
                    </a:cubicBezTo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72200" y="4760280"/>
                <a:ext cx="287280" cy="247680"/>
              </a:xfrm>
              <a:custGeom>
                <a:avLst/>
                <a:gdLst/>
                <a:ahLst/>
                <a:rect l="l" t="t" r="r" b="b"/>
                <a:pathLst>
                  <a:path w="798" h="714">
                    <a:moveTo>
                      <a:pt x="352" y="520"/>
                    </a:moveTo>
                    <a:cubicBezTo>
                      <a:pt x="521" y="527"/>
                      <a:pt x="675" y="584"/>
                      <a:pt x="797" y="713"/>
                    </a:cubicBezTo>
                    <a:cubicBezTo>
                      <a:pt x="724" y="608"/>
                      <a:pt x="595" y="368"/>
                      <a:pt x="438" y="398"/>
                    </a:cubicBezTo>
                    <a:cubicBezTo>
                      <a:pt x="429" y="312"/>
                      <a:pt x="236" y="0"/>
                      <a:pt x="0" y="43"/>
                    </a:cubicBezTo>
                    <a:cubicBezTo>
                      <a:pt x="174" y="179"/>
                      <a:pt x="298" y="284"/>
                      <a:pt x="352" y="520"/>
                    </a:cubicBezTo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61800" y="5950440"/>
                <a:ext cx="3030480" cy="331920"/>
              </a:xfrm>
              <a:custGeom>
                <a:avLst/>
                <a:gdLst/>
                <a:ahLst/>
                <a:rect l="l" t="t" r="r" b="b"/>
                <a:pathLst>
                  <a:path w="8421" h="959">
                    <a:moveTo>
                      <a:pt x="26" y="167"/>
                    </a:moveTo>
                    <a:cubicBezTo>
                      <a:pt x="765" y="49"/>
                      <a:pt x="1751" y="0"/>
                      <a:pt x="2733" y="231"/>
                    </a:cubicBezTo>
                    <a:cubicBezTo>
                      <a:pt x="2878" y="300"/>
                      <a:pt x="3082" y="275"/>
                      <a:pt x="3226" y="344"/>
                    </a:cubicBezTo>
                    <a:cubicBezTo>
                      <a:pt x="4170" y="153"/>
                      <a:pt x="5436" y="315"/>
                      <a:pt x="6499" y="280"/>
                    </a:cubicBezTo>
                    <a:cubicBezTo>
                      <a:pt x="7510" y="300"/>
                      <a:pt x="7472" y="354"/>
                      <a:pt x="8420" y="452"/>
                    </a:cubicBezTo>
                    <a:cubicBezTo>
                      <a:pt x="8420" y="614"/>
                      <a:pt x="8420" y="777"/>
                      <a:pt x="8420" y="939"/>
                    </a:cubicBezTo>
                    <a:cubicBezTo>
                      <a:pt x="5530" y="939"/>
                      <a:pt x="2890" y="958"/>
                      <a:pt x="0" y="958"/>
                    </a:cubicBezTo>
                    <a:cubicBezTo>
                      <a:pt x="9" y="693"/>
                      <a:pt x="17" y="428"/>
                      <a:pt x="26" y="167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66480" y="5997960"/>
                <a:ext cx="3033720" cy="349920"/>
              </a:xfrm>
              <a:custGeom>
                <a:avLst/>
                <a:gdLst/>
                <a:ahLst/>
                <a:rect l="l" t="t" r="r" b="b"/>
                <a:pathLst>
                  <a:path w="8433" h="1008">
                    <a:moveTo>
                      <a:pt x="22" y="216"/>
                    </a:moveTo>
                    <a:cubicBezTo>
                      <a:pt x="765" y="98"/>
                      <a:pt x="1042" y="0"/>
                      <a:pt x="2023" y="236"/>
                    </a:cubicBezTo>
                    <a:cubicBezTo>
                      <a:pt x="2168" y="304"/>
                      <a:pt x="2372" y="280"/>
                      <a:pt x="2516" y="349"/>
                    </a:cubicBezTo>
                    <a:cubicBezTo>
                      <a:pt x="3460" y="157"/>
                      <a:pt x="4726" y="319"/>
                      <a:pt x="5785" y="285"/>
                    </a:cubicBezTo>
                    <a:cubicBezTo>
                      <a:pt x="6800" y="304"/>
                      <a:pt x="7480" y="378"/>
                      <a:pt x="8432" y="476"/>
                    </a:cubicBezTo>
                    <a:cubicBezTo>
                      <a:pt x="8432" y="638"/>
                      <a:pt x="8432" y="801"/>
                      <a:pt x="8432" y="963"/>
                    </a:cubicBezTo>
                    <a:cubicBezTo>
                      <a:pt x="5538" y="963"/>
                      <a:pt x="2886" y="1007"/>
                      <a:pt x="0" y="1007"/>
                    </a:cubicBezTo>
                    <a:cubicBezTo>
                      <a:pt x="5" y="742"/>
                      <a:pt x="13" y="481"/>
                      <a:pt x="22" y="216"/>
                    </a:cubicBezTo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61800" y="6077520"/>
                <a:ext cx="3043440" cy="347040"/>
              </a:xfrm>
              <a:custGeom>
                <a:avLst/>
                <a:gdLst/>
                <a:ahLst/>
                <a:rect l="l" t="t" r="r" b="b"/>
                <a:pathLst>
                  <a:path w="8459" h="999">
                    <a:moveTo>
                      <a:pt x="26" y="207"/>
                    </a:moveTo>
                    <a:cubicBezTo>
                      <a:pt x="765" y="94"/>
                      <a:pt x="1790" y="0"/>
                      <a:pt x="2771" y="236"/>
                    </a:cubicBezTo>
                    <a:cubicBezTo>
                      <a:pt x="2916" y="300"/>
                      <a:pt x="3120" y="275"/>
                      <a:pt x="3264" y="344"/>
                    </a:cubicBezTo>
                    <a:cubicBezTo>
                      <a:pt x="4208" y="153"/>
                      <a:pt x="5474" y="315"/>
                      <a:pt x="6537" y="280"/>
                    </a:cubicBezTo>
                    <a:cubicBezTo>
                      <a:pt x="7548" y="305"/>
                      <a:pt x="7510" y="354"/>
                      <a:pt x="8458" y="452"/>
                    </a:cubicBezTo>
                    <a:cubicBezTo>
                      <a:pt x="8458" y="614"/>
                      <a:pt x="8458" y="777"/>
                      <a:pt x="8458" y="939"/>
                    </a:cubicBezTo>
                    <a:cubicBezTo>
                      <a:pt x="5568" y="939"/>
                      <a:pt x="2890" y="998"/>
                      <a:pt x="0" y="998"/>
                    </a:cubicBezTo>
                    <a:cubicBezTo>
                      <a:pt x="9" y="737"/>
                      <a:pt x="17" y="472"/>
                      <a:pt x="26" y="207"/>
                    </a:cubicBez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60360" y="6126120"/>
                <a:ext cx="3054600" cy="350280"/>
              </a:xfrm>
              <a:custGeom>
                <a:avLst/>
                <a:gdLst/>
                <a:ahLst/>
                <a:rect l="l" t="t" r="r" b="b"/>
                <a:pathLst>
                  <a:path w="8488" h="1008">
                    <a:moveTo>
                      <a:pt x="26" y="216"/>
                    </a:moveTo>
                    <a:cubicBezTo>
                      <a:pt x="765" y="99"/>
                      <a:pt x="1101" y="0"/>
                      <a:pt x="2083" y="236"/>
                    </a:cubicBezTo>
                    <a:cubicBezTo>
                      <a:pt x="2227" y="305"/>
                      <a:pt x="2431" y="280"/>
                      <a:pt x="2576" y="349"/>
                    </a:cubicBezTo>
                    <a:cubicBezTo>
                      <a:pt x="3519" y="157"/>
                      <a:pt x="4786" y="320"/>
                      <a:pt x="5844" y="285"/>
                    </a:cubicBezTo>
                    <a:cubicBezTo>
                      <a:pt x="6860" y="305"/>
                      <a:pt x="7540" y="379"/>
                      <a:pt x="8487" y="477"/>
                    </a:cubicBezTo>
                    <a:cubicBezTo>
                      <a:pt x="8487" y="639"/>
                      <a:pt x="8487" y="801"/>
                      <a:pt x="8487" y="963"/>
                    </a:cubicBezTo>
                    <a:cubicBezTo>
                      <a:pt x="5597" y="963"/>
                      <a:pt x="2890" y="1007"/>
                      <a:pt x="0" y="1007"/>
                    </a:cubicBezTo>
                    <a:cubicBezTo>
                      <a:pt x="9" y="742"/>
                      <a:pt x="17" y="482"/>
                      <a:pt x="26" y="216"/>
                    </a:cubicBezTo>
                  </a:path>
                </a:pathLst>
              </a:cu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407960" y="3101760"/>
              <a:ext cx="1068120" cy="454680"/>
              <a:chOff x="1407960" y="3101760"/>
              <a:chExt cx="1068120" cy="454680"/>
            </a:xfrm>
          </p:grpSpPr>
          <p:sp>
            <p:nvSpPr>
              <p:cNvPr id="147" name=""/>
              <p:cNvSpPr/>
              <p:nvPr/>
            </p:nvSpPr>
            <p:spPr>
              <a:xfrm>
                <a:off x="1943640" y="3101760"/>
                <a:ext cx="396000" cy="185400"/>
              </a:xfrm>
              <a:custGeom>
                <a:avLst/>
                <a:gdLst/>
                <a:ahLst/>
                <a:rect l="l" t="t" r="r" b="b"/>
                <a:pathLst>
                  <a:path w="1102" h="522">
                    <a:moveTo>
                      <a:pt x="0" y="172"/>
                    </a:moveTo>
                    <a:cubicBezTo>
                      <a:pt x="102" y="69"/>
                      <a:pt x="280" y="0"/>
                      <a:pt x="484" y="0"/>
                    </a:cubicBezTo>
                    <a:cubicBezTo>
                      <a:pt x="807" y="0"/>
                      <a:pt x="1071" y="172"/>
                      <a:pt x="1071" y="388"/>
                    </a:cubicBezTo>
                    <a:cubicBezTo>
                      <a:pt x="1071" y="428"/>
                      <a:pt x="1101" y="521"/>
                      <a:pt x="1062" y="506"/>
                    </a:cubicBezTo>
                    <a:lnTo>
                      <a:pt x="0" y="172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86280" y="3277800"/>
                <a:ext cx="289800" cy="275400"/>
              </a:xfrm>
              <a:custGeom>
                <a:avLst/>
                <a:gdLst/>
                <a:ahLst/>
                <a:rect l="l" t="t" r="r" b="b"/>
                <a:pathLst>
                  <a:path w="808" h="773">
                    <a:moveTo>
                      <a:pt x="369" y="0"/>
                    </a:moveTo>
                    <a:cubicBezTo>
                      <a:pt x="629" y="69"/>
                      <a:pt x="807" y="207"/>
                      <a:pt x="807" y="364"/>
                    </a:cubicBezTo>
                    <a:cubicBezTo>
                      <a:pt x="807" y="590"/>
                      <a:pt x="446" y="772"/>
                      <a:pt x="0" y="772"/>
                    </a:cubicBezTo>
                    <a:lnTo>
                      <a:pt x="369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07960" y="3276360"/>
                <a:ext cx="259920" cy="278640"/>
              </a:xfrm>
              <a:custGeom>
                <a:avLst/>
                <a:gdLst/>
                <a:ahLst/>
                <a:rect l="l" t="t" r="r" b="b"/>
                <a:pathLst>
                  <a:path w="724" h="782">
                    <a:moveTo>
                      <a:pt x="723" y="781"/>
                    </a:moveTo>
                    <a:cubicBezTo>
                      <a:pt x="723" y="781"/>
                      <a:pt x="719" y="781"/>
                      <a:pt x="714" y="781"/>
                    </a:cubicBezTo>
                    <a:cubicBezTo>
                      <a:pt x="319" y="781"/>
                      <a:pt x="0" y="595"/>
                      <a:pt x="0" y="364"/>
                    </a:cubicBezTo>
                    <a:cubicBezTo>
                      <a:pt x="0" y="207"/>
                      <a:pt x="153" y="69"/>
                      <a:pt x="374" y="0"/>
                    </a:cubicBezTo>
                    <a:lnTo>
                      <a:pt x="723" y="78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30000" y="3123360"/>
                <a:ext cx="415080" cy="152640"/>
              </a:xfrm>
              <a:custGeom>
                <a:avLst/>
                <a:gdLst/>
                <a:ahLst/>
                <a:rect l="l" t="t" r="r" b="b"/>
                <a:pathLst>
                  <a:path w="1157" h="428">
                    <a:moveTo>
                      <a:pt x="34" y="427"/>
                    </a:moveTo>
                    <a:cubicBezTo>
                      <a:pt x="9" y="393"/>
                      <a:pt x="0" y="359"/>
                      <a:pt x="0" y="319"/>
                    </a:cubicBezTo>
                    <a:cubicBezTo>
                      <a:pt x="0" y="142"/>
                      <a:pt x="294" y="0"/>
                      <a:pt x="659" y="0"/>
                    </a:cubicBezTo>
                    <a:cubicBezTo>
                      <a:pt x="855" y="0"/>
                      <a:pt x="1037" y="44"/>
                      <a:pt x="1156" y="108"/>
                    </a:cubicBezTo>
                    <a:lnTo>
                      <a:pt x="34" y="42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62840" y="3553560"/>
                <a:ext cx="524520" cy="1440"/>
              </a:xfrm>
              <a:custGeom>
                <a:avLst/>
                <a:gdLst/>
                <a:ahLst/>
                <a:rect l="l" t="t" r="r" b="b"/>
                <a:pathLst>
                  <a:path w="1459" h="5">
                    <a:moveTo>
                      <a:pt x="1458" y="0"/>
                    </a:moveTo>
                    <a:lnTo>
                      <a:pt x="0" y="4"/>
                    </a:lnTo>
                    <a:lnTo>
                      <a:pt x="145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42600" y="3162960"/>
                <a:ext cx="798840" cy="393480"/>
              </a:xfrm>
              <a:custGeom>
                <a:avLst/>
                <a:gdLst/>
                <a:ahLst/>
                <a:rect l="l" t="t" r="r" b="b"/>
                <a:pathLst>
                  <a:path w="2224" h="1101">
                    <a:moveTo>
                      <a:pt x="349" y="1096"/>
                    </a:moveTo>
                    <a:lnTo>
                      <a:pt x="1794" y="1096"/>
                    </a:lnTo>
                    <a:lnTo>
                      <a:pt x="2223" y="319"/>
                    </a:lnTo>
                    <a:lnTo>
                      <a:pt x="1114" y="0"/>
                    </a:lnTo>
                    <a:lnTo>
                      <a:pt x="0" y="324"/>
                    </a:lnTo>
                    <a:lnTo>
                      <a:pt x="349" y="1100"/>
                    </a:lnTo>
                    <a:lnTo>
                      <a:pt x="349" y="109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 advTm="1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Здоровый малыш-ваше будуще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Любите вашего ребенк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омогайте вашему ребенку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иобщате к спорту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111400" y="2711520"/>
            <a:ext cx="1438200" cy="1438200"/>
            <a:chOff x="2111400" y="2711520"/>
            <a:chExt cx="1438200" cy="1438200"/>
          </a:xfrm>
        </p:grpSpPr>
        <p:grpSp>
          <p:nvGrpSpPr>
            <p:cNvPr id="156" name=""/>
            <p:cNvGrpSpPr/>
            <p:nvPr/>
          </p:nvGrpSpPr>
          <p:grpSpPr>
            <a:xfrm>
              <a:off x="2111400" y="2711520"/>
              <a:ext cx="1438200" cy="1438200"/>
              <a:chOff x="2111400" y="2711520"/>
              <a:chExt cx="1438200" cy="1438200"/>
            </a:xfrm>
          </p:grpSpPr>
          <p:sp>
            <p:nvSpPr>
              <p:cNvPr id="157" name=""/>
              <p:cNvSpPr/>
              <p:nvPr/>
            </p:nvSpPr>
            <p:spPr>
              <a:xfrm>
                <a:off x="2111400" y="2711520"/>
                <a:ext cx="1438200" cy="14382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2396880" y="3195000"/>
                <a:ext cx="275760" cy="275760"/>
                <a:chOff x="2396880" y="3195000"/>
                <a:chExt cx="275760" cy="2757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396880" y="3195000"/>
                  <a:ext cx="275760" cy="275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429640" y="3229560"/>
                  <a:ext cx="206640" cy="20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473920" y="3272040"/>
                  <a:ext cx="120960" cy="120960"/>
                </a:xfrm>
                <a:prstGeom prst="ellipse">
                  <a:avLst/>
                </a:prstGeom>
                <a:solidFill>
                  <a:srgbClr val="23b8d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493000" y="3291120"/>
                  <a:ext cx="83160" cy="8316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956320" y="3195000"/>
                <a:ext cx="276120" cy="275760"/>
                <a:chOff x="2956320" y="3195000"/>
                <a:chExt cx="276120" cy="2757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956320" y="3195000"/>
                  <a:ext cx="276120" cy="275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990880" y="3229560"/>
                  <a:ext cx="206640" cy="20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33360" y="3272040"/>
                  <a:ext cx="121320" cy="120960"/>
                </a:xfrm>
                <a:prstGeom prst="ellipse">
                  <a:avLst/>
                </a:prstGeom>
                <a:solidFill>
                  <a:srgbClr val="23b8d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52440" y="3291120"/>
                  <a:ext cx="83520" cy="8316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423520" y="3677040"/>
                <a:ext cx="811440" cy="271080"/>
                <a:chOff x="2423520" y="3677040"/>
                <a:chExt cx="811440" cy="2710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423520" y="3677040"/>
                  <a:ext cx="811440" cy="271080"/>
                </a:xfrm>
                <a:custGeom>
                  <a:avLst/>
                  <a:gdLst/>
                  <a:ahLst/>
                  <a:rect l="l" t="t" r="r" b="b"/>
                  <a:pathLst>
                    <a:path w="2264" h="763">
                      <a:moveTo>
                        <a:pt x="1107" y="493"/>
                      </a:moveTo>
                      <a:cubicBezTo>
                        <a:pt x="450" y="493"/>
                        <a:pt x="8" y="0"/>
                        <a:pt x="0" y="4"/>
                      </a:cubicBezTo>
                      <a:cubicBezTo>
                        <a:pt x="0" y="184"/>
                        <a:pt x="465" y="762"/>
                        <a:pt x="1124" y="762"/>
                      </a:cubicBezTo>
                      <a:cubicBezTo>
                        <a:pt x="1783" y="762"/>
                        <a:pt x="2263" y="195"/>
                        <a:pt x="2263" y="15"/>
                      </a:cubicBezTo>
                      <a:cubicBezTo>
                        <a:pt x="2216" y="27"/>
                        <a:pt x="1763" y="493"/>
                        <a:pt x="1107" y="493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446920" y="3709800"/>
                  <a:ext cx="763920" cy="223560"/>
                </a:xfrm>
                <a:custGeom>
                  <a:avLst/>
                  <a:gdLst/>
                  <a:ahLst/>
                  <a:rect l="l" t="t" r="r" b="b"/>
                  <a:pathLst>
                    <a:path w="2131" h="630">
                      <a:moveTo>
                        <a:pt x="1083" y="419"/>
                      </a:moveTo>
                      <a:cubicBezTo>
                        <a:pt x="1670" y="419"/>
                        <a:pt x="2122" y="0"/>
                        <a:pt x="2130" y="3"/>
                      </a:cubicBezTo>
                      <a:cubicBezTo>
                        <a:pt x="2130" y="145"/>
                        <a:pt x="1656" y="629"/>
                        <a:pt x="1067" y="629"/>
                      </a:cubicBezTo>
                      <a:cubicBezTo>
                        <a:pt x="478" y="629"/>
                        <a:pt x="0" y="145"/>
                        <a:pt x="0" y="3"/>
                      </a:cubicBezTo>
                      <a:cubicBezTo>
                        <a:pt x="42" y="13"/>
                        <a:pt x="494" y="419"/>
                        <a:pt x="1083" y="419"/>
                      </a:cubicBezTo>
                    </a:path>
                  </a:pathLst>
                </a:custGeom>
                <a:solidFill>
                  <a:srgbClr val="eb613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3090960" y="3672000"/>
              <a:ext cx="425520" cy="423720"/>
              <a:chOff x="3090960" y="3672000"/>
              <a:chExt cx="425520" cy="423720"/>
            </a:xfrm>
          </p:grpSpPr>
          <p:sp>
            <p:nvSpPr>
              <p:cNvPr id="172" name=""/>
              <p:cNvSpPr/>
              <p:nvPr/>
            </p:nvSpPr>
            <p:spPr>
              <a:xfrm>
                <a:off x="3090960" y="3672000"/>
                <a:ext cx="425520" cy="423720"/>
              </a:xfrm>
              <a:custGeom>
                <a:avLst/>
                <a:gdLst/>
                <a:ahLst/>
                <a:rect l="l" t="t" r="r" b="b"/>
                <a:pathLst>
                  <a:path w="1267" h="1248">
                    <a:moveTo>
                      <a:pt x="643" y="385"/>
                    </a:moveTo>
                    <a:cubicBezTo>
                      <a:pt x="653" y="385"/>
                      <a:pt x="645" y="2"/>
                      <a:pt x="960" y="75"/>
                    </a:cubicBezTo>
                    <a:cubicBezTo>
                      <a:pt x="1092" y="105"/>
                      <a:pt x="1232" y="294"/>
                      <a:pt x="1238" y="370"/>
                    </a:cubicBezTo>
                    <a:cubicBezTo>
                      <a:pt x="1266" y="718"/>
                      <a:pt x="658" y="1247"/>
                      <a:pt x="644" y="1247"/>
                    </a:cubicBezTo>
                    <a:cubicBezTo>
                      <a:pt x="636" y="1247"/>
                      <a:pt x="0" y="613"/>
                      <a:pt x="55" y="370"/>
                    </a:cubicBezTo>
                    <a:cubicBezTo>
                      <a:pt x="96" y="197"/>
                      <a:pt x="163" y="114"/>
                      <a:pt x="323" y="83"/>
                    </a:cubicBezTo>
                    <a:cubicBezTo>
                      <a:pt x="557" y="0"/>
                      <a:pt x="636" y="385"/>
                      <a:pt x="643" y="3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93840" y="3674520"/>
                <a:ext cx="420840" cy="419400"/>
              </a:xfrm>
              <a:custGeom>
                <a:avLst/>
                <a:gdLst/>
                <a:ahLst/>
                <a:rect l="l" t="t" r="r" b="b"/>
                <a:pathLst>
                  <a:path w="1252" h="1235">
                    <a:moveTo>
                      <a:pt x="636" y="382"/>
                    </a:moveTo>
                    <a:cubicBezTo>
                      <a:pt x="646" y="382"/>
                      <a:pt x="638" y="4"/>
                      <a:pt x="949" y="76"/>
                    </a:cubicBezTo>
                    <a:cubicBezTo>
                      <a:pt x="1079" y="105"/>
                      <a:pt x="1219" y="292"/>
                      <a:pt x="1225" y="367"/>
                    </a:cubicBezTo>
                    <a:cubicBezTo>
                      <a:pt x="1251" y="710"/>
                      <a:pt x="651" y="1234"/>
                      <a:pt x="637" y="1234"/>
                    </a:cubicBezTo>
                    <a:cubicBezTo>
                      <a:pt x="629" y="1234"/>
                      <a:pt x="0" y="607"/>
                      <a:pt x="56" y="367"/>
                    </a:cubicBezTo>
                    <a:cubicBezTo>
                      <a:pt x="96" y="195"/>
                      <a:pt x="161" y="113"/>
                      <a:pt x="320" y="83"/>
                    </a:cubicBezTo>
                    <a:cubicBezTo>
                      <a:pt x="551" y="0"/>
                      <a:pt x="629" y="382"/>
                      <a:pt x="636" y="382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 advTm="1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Желаем успехов в решении этих задач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ntique Olive Compact"/>
              </a:rPr>
              <a:t>Любви и счастья Вам!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 spd="med" advTm="1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1:24:35Z</dcterms:created>
  <dc:creator/>
  <dc:description/>
  <dc:language>en-US</dc:language>
  <cp:lastModifiedBy>imc</cp:lastModifiedBy>
  <dcterms:modified xsi:type="dcterms:W3CDTF">2013-02-13T07:28:50Z</dcterms:modified>
  <cp:revision>2</cp:revision>
  <dc:subject/>
  <dc:title>МБДОУ № 35 «Теремок»</dc:title>
</cp:coreProperties>
</file>