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EBAC-2E21-4475-A82C-43AD5C5E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79ED-6C63-4E41-89C8-5C1D434D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1D8-A4F7-46ED-85D9-7D61167A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007-1CEE-4C4B-9923-C5BFC650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E05-6F57-4D0C-96F9-CEC83BCB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3C1-91C4-4F93-B4AE-709B5093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BEB-2C8A-4575-A4D8-5E78F8B7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B59C-EC0B-4BC7-B01C-8C3477DE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4D56-95D8-451A-BFEB-5BB70593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E6A-6C6E-445D-8AD0-26851496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2168-1899-43DA-890C-6A3B3543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C0A8-C826-4EE4-B08D-E05E26E2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5463D-39DF-49F7-8616-622BE468C1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Город Владимир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41240" y="200772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Материалы для тематической образовательной ситуации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(старший дошкольный возраст)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Ноябрь 2012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59400" y="2703600"/>
            <a:ext cx="1432080" cy="296640"/>
          </a:xfrm>
          <a:custGeom>
            <a:avLst/>
            <a:gdLst/>
            <a:ahLst/>
            <a:rect l="l" t="t" r="r" b="b"/>
            <a:pathLst>
              <a:path w="3976" h="826">
                <a:moveTo>
                  <a:pt x="0" y="255"/>
                </a:moveTo>
                <a:lnTo>
                  <a:pt x="360" y="105"/>
                </a:lnTo>
                <a:lnTo>
                  <a:pt x="1125" y="75"/>
                </a:lnTo>
                <a:lnTo>
                  <a:pt x="2010" y="0"/>
                </a:lnTo>
                <a:lnTo>
                  <a:pt x="2955" y="120"/>
                </a:lnTo>
                <a:lnTo>
                  <a:pt x="3630" y="90"/>
                </a:lnTo>
                <a:lnTo>
                  <a:pt x="3975" y="195"/>
                </a:lnTo>
                <a:lnTo>
                  <a:pt x="3960" y="480"/>
                </a:lnTo>
                <a:lnTo>
                  <a:pt x="3300" y="765"/>
                </a:lnTo>
                <a:lnTo>
                  <a:pt x="2580" y="825"/>
                </a:lnTo>
                <a:lnTo>
                  <a:pt x="1425" y="750"/>
                </a:lnTo>
                <a:lnTo>
                  <a:pt x="750" y="585"/>
                </a:lnTo>
                <a:lnTo>
                  <a:pt x="135" y="480"/>
                </a:lnTo>
                <a:lnTo>
                  <a:pt x="0" y="255"/>
                </a:lnTo>
              </a:path>
            </a:pathLst>
          </a:custGeom>
          <a:solidFill>
            <a:srgbClr val="a14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40680" y="2703600"/>
            <a:ext cx="1938240" cy="345960"/>
          </a:xfrm>
          <a:custGeom>
            <a:avLst/>
            <a:gdLst/>
            <a:ahLst/>
            <a:rect l="l" t="t" r="r" b="b"/>
            <a:pathLst>
              <a:path w="5386" h="961">
                <a:moveTo>
                  <a:pt x="600" y="60"/>
                </a:moveTo>
                <a:lnTo>
                  <a:pt x="0" y="360"/>
                </a:lnTo>
                <a:lnTo>
                  <a:pt x="450" y="690"/>
                </a:lnTo>
                <a:lnTo>
                  <a:pt x="1050" y="960"/>
                </a:lnTo>
                <a:lnTo>
                  <a:pt x="2325" y="885"/>
                </a:lnTo>
                <a:lnTo>
                  <a:pt x="2925" y="885"/>
                </a:lnTo>
                <a:lnTo>
                  <a:pt x="3735" y="780"/>
                </a:lnTo>
                <a:lnTo>
                  <a:pt x="4620" y="765"/>
                </a:lnTo>
                <a:lnTo>
                  <a:pt x="5385" y="765"/>
                </a:lnTo>
                <a:lnTo>
                  <a:pt x="5205" y="300"/>
                </a:lnTo>
                <a:lnTo>
                  <a:pt x="4455" y="0"/>
                </a:lnTo>
                <a:lnTo>
                  <a:pt x="600" y="60"/>
                </a:lnTo>
              </a:path>
            </a:pathLst>
          </a:custGeom>
          <a:solidFill>
            <a:srgbClr val="a14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84760" y="1833480"/>
            <a:ext cx="1028880" cy="449280"/>
          </a:xfrm>
          <a:custGeom>
            <a:avLst/>
            <a:gdLst/>
            <a:ahLst/>
            <a:rect l="l" t="t" r="r" b="b"/>
            <a:pathLst>
              <a:path w="2859" h="1246">
                <a:moveTo>
                  <a:pt x="0" y="1245"/>
                </a:moveTo>
                <a:lnTo>
                  <a:pt x="60" y="1245"/>
                </a:lnTo>
                <a:lnTo>
                  <a:pt x="1470" y="240"/>
                </a:lnTo>
                <a:lnTo>
                  <a:pt x="2632" y="413"/>
                </a:lnTo>
                <a:lnTo>
                  <a:pt x="2858" y="203"/>
                </a:lnTo>
                <a:lnTo>
                  <a:pt x="1695" y="0"/>
                </a:lnTo>
                <a:lnTo>
                  <a:pt x="0" y="1245"/>
                </a:lnTo>
              </a:path>
            </a:pathLst>
          </a:custGeom>
          <a:solidFill>
            <a:srgbClr val="94949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24560" y="1765440"/>
            <a:ext cx="1571760" cy="463320"/>
          </a:xfrm>
          <a:custGeom>
            <a:avLst/>
            <a:gdLst/>
            <a:ahLst/>
            <a:rect l="l" t="t" r="r" b="b"/>
            <a:pathLst>
              <a:path w="4366" h="1286">
                <a:moveTo>
                  <a:pt x="0" y="385"/>
                </a:moveTo>
                <a:lnTo>
                  <a:pt x="225" y="595"/>
                </a:lnTo>
                <a:lnTo>
                  <a:pt x="1372" y="273"/>
                </a:lnTo>
                <a:lnTo>
                  <a:pt x="4290" y="1285"/>
                </a:lnTo>
                <a:lnTo>
                  <a:pt x="4365" y="1285"/>
                </a:lnTo>
                <a:lnTo>
                  <a:pt x="1125" y="0"/>
                </a:lnTo>
                <a:lnTo>
                  <a:pt x="0" y="393"/>
                </a:lnTo>
                <a:lnTo>
                  <a:pt x="0" y="385"/>
                </a:lnTo>
              </a:path>
            </a:pathLst>
          </a:custGeom>
          <a:solidFill>
            <a:srgbClr val="94949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27520" y="1368360"/>
            <a:ext cx="3356280" cy="654120"/>
          </a:xfrm>
          <a:custGeom>
            <a:avLst/>
            <a:gdLst/>
            <a:ahLst/>
            <a:rect l="l" t="t" r="r" b="b"/>
            <a:pathLst>
              <a:path w="9324" h="1818">
                <a:moveTo>
                  <a:pt x="193" y="1804"/>
                </a:moveTo>
                <a:lnTo>
                  <a:pt x="1755" y="326"/>
                </a:lnTo>
                <a:lnTo>
                  <a:pt x="3943" y="759"/>
                </a:lnTo>
                <a:lnTo>
                  <a:pt x="5645" y="226"/>
                </a:lnTo>
                <a:lnTo>
                  <a:pt x="9018" y="1817"/>
                </a:lnTo>
                <a:lnTo>
                  <a:pt x="9323" y="1817"/>
                </a:lnTo>
                <a:lnTo>
                  <a:pt x="5700" y="0"/>
                </a:lnTo>
                <a:lnTo>
                  <a:pt x="3943" y="592"/>
                </a:lnTo>
                <a:lnTo>
                  <a:pt x="1666" y="114"/>
                </a:lnTo>
                <a:lnTo>
                  <a:pt x="0" y="1804"/>
                </a:lnTo>
                <a:lnTo>
                  <a:pt x="193" y="1804"/>
                </a:lnTo>
              </a:path>
            </a:pathLst>
          </a:custGeom>
          <a:solidFill>
            <a:srgbClr val="94949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92880" y="2603520"/>
            <a:ext cx="250920" cy="212760"/>
          </a:xfrm>
          <a:custGeom>
            <a:avLst/>
            <a:gdLst/>
            <a:ahLst/>
            <a:rect l="l" t="t" r="r" b="b"/>
            <a:pathLst>
              <a:path w="698" h="593">
                <a:moveTo>
                  <a:pt x="697" y="15"/>
                </a:moveTo>
                <a:lnTo>
                  <a:pt x="0" y="0"/>
                </a:lnTo>
                <a:lnTo>
                  <a:pt x="0" y="592"/>
                </a:lnTo>
                <a:lnTo>
                  <a:pt x="690" y="540"/>
                </a:lnTo>
                <a:lnTo>
                  <a:pt x="697" y="15"/>
                </a:lnTo>
              </a:path>
            </a:pathLst>
          </a:custGeom>
          <a:solidFill>
            <a:srgbClr val="a1a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08800" y="2576520"/>
            <a:ext cx="252360" cy="263520"/>
          </a:xfrm>
          <a:custGeom>
            <a:avLst/>
            <a:gdLst/>
            <a:ahLst/>
            <a:rect l="l" t="t" r="r" b="b"/>
            <a:pathLst>
              <a:path w="701" h="731">
                <a:moveTo>
                  <a:pt x="0" y="55"/>
                </a:moveTo>
                <a:lnTo>
                  <a:pt x="0" y="640"/>
                </a:lnTo>
                <a:lnTo>
                  <a:pt x="700" y="730"/>
                </a:lnTo>
                <a:lnTo>
                  <a:pt x="690" y="0"/>
                </a:lnTo>
                <a:lnTo>
                  <a:pt x="0" y="55"/>
                </a:lnTo>
              </a:path>
            </a:pathLst>
          </a:custGeom>
          <a:solidFill>
            <a:srgbClr val="a1a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93000" y="2576520"/>
            <a:ext cx="976320" cy="271440"/>
          </a:xfrm>
          <a:custGeom>
            <a:avLst/>
            <a:gdLst/>
            <a:ahLst/>
            <a:rect l="l" t="t" r="r" b="b"/>
            <a:pathLst>
              <a:path w="2711" h="756">
                <a:moveTo>
                  <a:pt x="0" y="0"/>
                </a:moveTo>
                <a:lnTo>
                  <a:pt x="2710" y="235"/>
                </a:lnTo>
                <a:lnTo>
                  <a:pt x="2710" y="455"/>
                </a:lnTo>
                <a:lnTo>
                  <a:pt x="5" y="755"/>
                </a:lnTo>
                <a:lnTo>
                  <a:pt x="0" y="0"/>
                </a:lnTo>
              </a:path>
            </a:pathLst>
          </a:custGeom>
          <a:solidFill>
            <a:srgbClr val="a1a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53160" y="2600280"/>
            <a:ext cx="430200" cy="192240"/>
          </a:xfrm>
          <a:custGeom>
            <a:avLst/>
            <a:gdLst/>
            <a:ahLst/>
            <a:rect l="l" t="t" r="r" b="b"/>
            <a:pathLst>
              <a:path w="1193" h="534">
                <a:moveTo>
                  <a:pt x="22" y="150"/>
                </a:moveTo>
                <a:lnTo>
                  <a:pt x="0" y="345"/>
                </a:lnTo>
                <a:lnTo>
                  <a:pt x="1192" y="533"/>
                </a:lnTo>
                <a:lnTo>
                  <a:pt x="1192" y="0"/>
                </a:lnTo>
                <a:lnTo>
                  <a:pt x="22" y="150"/>
                </a:lnTo>
              </a:path>
            </a:pathLst>
          </a:custGeom>
          <a:solidFill>
            <a:srgbClr val="a1a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1760" y="2254320"/>
            <a:ext cx="928800" cy="309600"/>
          </a:xfrm>
          <a:custGeom>
            <a:avLst/>
            <a:gdLst/>
            <a:ahLst/>
            <a:rect l="l" t="t" r="r" b="b"/>
            <a:pathLst>
              <a:path w="2581" h="861">
                <a:moveTo>
                  <a:pt x="5" y="645"/>
                </a:moveTo>
                <a:lnTo>
                  <a:pt x="1390" y="0"/>
                </a:lnTo>
                <a:lnTo>
                  <a:pt x="2580" y="125"/>
                </a:lnTo>
                <a:lnTo>
                  <a:pt x="2580" y="520"/>
                </a:lnTo>
                <a:lnTo>
                  <a:pt x="1435" y="445"/>
                </a:lnTo>
                <a:lnTo>
                  <a:pt x="0" y="860"/>
                </a:lnTo>
                <a:lnTo>
                  <a:pt x="5" y="645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07080" y="1920960"/>
            <a:ext cx="930240" cy="450720"/>
          </a:xfrm>
          <a:custGeom>
            <a:avLst/>
            <a:gdLst/>
            <a:ahLst/>
            <a:rect l="l" t="t" r="r" b="b"/>
            <a:pathLst>
              <a:path w="2586" h="1254">
                <a:moveTo>
                  <a:pt x="0" y="1253"/>
                </a:moveTo>
                <a:lnTo>
                  <a:pt x="0" y="998"/>
                </a:lnTo>
                <a:lnTo>
                  <a:pt x="1417" y="0"/>
                </a:lnTo>
                <a:lnTo>
                  <a:pt x="2585" y="173"/>
                </a:lnTo>
                <a:lnTo>
                  <a:pt x="2585" y="555"/>
                </a:lnTo>
                <a:lnTo>
                  <a:pt x="1420" y="430"/>
                </a:lnTo>
                <a:lnTo>
                  <a:pt x="0" y="1253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99160" y="1486080"/>
            <a:ext cx="1352520" cy="661680"/>
          </a:xfrm>
          <a:custGeom>
            <a:avLst/>
            <a:gdLst/>
            <a:ahLst/>
            <a:rect l="l" t="t" r="r" b="b"/>
            <a:pathLst>
              <a:path w="3759" h="1839">
                <a:moveTo>
                  <a:pt x="0" y="1838"/>
                </a:moveTo>
                <a:lnTo>
                  <a:pt x="0" y="1463"/>
                </a:lnTo>
                <a:lnTo>
                  <a:pt x="1553" y="0"/>
                </a:lnTo>
                <a:lnTo>
                  <a:pt x="3750" y="428"/>
                </a:lnTo>
                <a:lnTo>
                  <a:pt x="3758" y="930"/>
                </a:lnTo>
                <a:lnTo>
                  <a:pt x="1665" y="473"/>
                </a:lnTo>
                <a:lnTo>
                  <a:pt x="0" y="1838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08800" y="1859040"/>
            <a:ext cx="1460520" cy="469800"/>
          </a:xfrm>
          <a:custGeom>
            <a:avLst/>
            <a:gdLst/>
            <a:ahLst/>
            <a:rect l="l" t="t" r="r" b="b"/>
            <a:pathLst>
              <a:path w="4059" h="1306">
                <a:moveTo>
                  <a:pt x="0" y="712"/>
                </a:moveTo>
                <a:lnTo>
                  <a:pt x="1170" y="450"/>
                </a:lnTo>
                <a:lnTo>
                  <a:pt x="4058" y="1305"/>
                </a:lnTo>
                <a:lnTo>
                  <a:pt x="4058" y="1027"/>
                </a:lnTo>
                <a:lnTo>
                  <a:pt x="1140" y="0"/>
                </a:lnTo>
                <a:lnTo>
                  <a:pt x="0" y="330"/>
                </a:lnTo>
                <a:lnTo>
                  <a:pt x="0" y="712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02680" y="2195640"/>
            <a:ext cx="1463400" cy="369720"/>
          </a:xfrm>
          <a:custGeom>
            <a:avLst/>
            <a:gdLst/>
            <a:ahLst/>
            <a:rect l="l" t="t" r="r" b="b"/>
            <a:pathLst>
              <a:path w="4066" h="1029">
                <a:moveTo>
                  <a:pt x="0" y="225"/>
                </a:moveTo>
                <a:lnTo>
                  <a:pt x="1178" y="0"/>
                </a:lnTo>
                <a:lnTo>
                  <a:pt x="4065" y="735"/>
                </a:lnTo>
                <a:lnTo>
                  <a:pt x="4058" y="1028"/>
                </a:lnTo>
                <a:lnTo>
                  <a:pt x="1125" y="518"/>
                </a:lnTo>
                <a:lnTo>
                  <a:pt x="0" y="668"/>
                </a:lnTo>
                <a:lnTo>
                  <a:pt x="0" y="225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67520" y="2595600"/>
            <a:ext cx="231840" cy="231840"/>
          </a:xfrm>
          <a:custGeom>
            <a:avLst/>
            <a:gdLst/>
            <a:ahLst/>
            <a:rect l="l" t="t" r="r" b="b"/>
            <a:pathLst>
              <a:path w="646" h="646">
                <a:moveTo>
                  <a:pt x="0" y="15"/>
                </a:moveTo>
                <a:lnTo>
                  <a:pt x="5" y="615"/>
                </a:lnTo>
                <a:lnTo>
                  <a:pt x="190" y="645"/>
                </a:lnTo>
                <a:lnTo>
                  <a:pt x="640" y="630"/>
                </a:lnTo>
                <a:lnTo>
                  <a:pt x="645" y="0"/>
                </a:lnTo>
                <a:lnTo>
                  <a:pt x="0" y="1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61240" y="2606760"/>
            <a:ext cx="168120" cy="187200"/>
          </a:xfrm>
          <a:custGeom>
            <a:avLst/>
            <a:gdLst/>
            <a:ahLst/>
            <a:rect l="l" t="t" r="r" b="b"/>
            <a:pathLst>
              <a:path w="466" h="521">
                <a:moveTo>
                  <a:pt x="5" y="65"/>
                </a:moveTo>
                <a:lnTo>
                  <a:pt x="0" y="488"/>
                </a:lnTo>
                <a:lnTo>
                  <a:pt x="190" y="520"/>
                </a:lnTo>
                <a:lnTo>
                  <a:pt x="455" y="488"/>
                </a:lnTo>
                <a:lnTo>
                  <a:pt x="465" y="0"/>
                </a:lnTo>
                <a:lnTo>
                  <a:pt x="5" y="6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97440" y="2627280"/>
            <a:ext cx="135000" cy="135000"/>
          </a:xfrm>
          <a:custGeom>
            <a:avLst/>
            <a:gdLst/>
            <a:ahLst/>
            <a:rect l="l" t="t" r="r" b="b"/>
            <a:pathLst>
              <a:path w="376" h="376">
                <a:moveTo>
                  <a:pt x="0" y="55"/>
                </a:moveTo>
                <a:lnTo>
                  <a:pt x="0" y="350"/>
                </a:lnTo>
                <a:lnTo>
                  <a:pt x="130" y="375"/>
                </a:lnTo>
                <a:lnTo>
                  <a:pt x="365" y="345"/>
                </a:lnTo>
                <a:lnTo>
                  <a:pt x="375" y="0"/>
                </a:lnTo>
                <a:lnTo>
                  <a:pt x="0" y="5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99160" y="2654280"/>
            <a:ext cx="77760" cy="82440"/>
          </a:xfrm>
          <a:custGeom>
            <a:avLst/>
            <a:gdLst/>
            <a:ahLst/>
            <a:rect l="l" t="t" r="r" b="b"/>
            <a:pathLst>
              <a:path w="216" h="231">
                <a:moveTo>
                  <a:pt x="0" y="35"/>
                </a:moveTo>
                <a:lnTo>
                  <a:pt x="0" y="220"/>
                </a:lnTo>
                <a:lnTo>
                  <a:pt x="70" y="230"/>
                </a:lnTo>
                <a:lnTo>
                  <a:pt x="205" y="210"/>
                </a:lnTo>
                <a:lnTo>
                  <a:pt x="215" y="0"/>
                </a:lnTo>
                <a:lnTo>
                  <a:pt x="0" y="3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16480" y="2255760"/>
            <a:ext cx="1800" cy="158760"/>
          </a:xfrm>
          <a:custGeom>
            <a:avLst/>
            <a:gdLst/>
            <a:ahLst/>
            <a:rect l="l" t="t" r="r" b="b"/>
            <a:pathLst>
              <a:path w="1" h="441">
                <a:moveTo>
                  <a:pt x="0" y="0"/>
                </a:moveTo>
                <a:lnTo>
                  <a:pt x="0" y="440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16480" y="1924200"/>
            <a:ext cx="1800" cy="150840"/>
          </a:xfrm>
          <a:custGeom>
            <a:avLst/>
            <a:gdLst/>
            <a:ahLst/>
            <a:rect l="l" t="t" r="r" b="b"/>
            <a:pathLst>
              <a:path w="1" h="418">
                <a:moveTo>
                  <a:pt x="0" y="0"/>
                </a:moveTo>
                <a:lnTo>
                  <a:pt x="0" y="417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35880" y="1906560"/>
            <a:ext cx="81000" cy="924120"/>
          </a:xfrm>
          <a:custGeom>
            <a:avLst/>
            <a:gdLst/>
            <a:ahLst/>
            <a:rect l="l" t="t" r="r" b="b"/>
            <a:pathLst>
              <a:path w="226" h="2565">
                <a:moveTo>
                  <a:pt x="0" y="217"/>
                </a:moveTo>
                <a:lnTo>
                  <a:pt x="218" y="0"/>
                </a:lnTo>
                <a:lnTo>
                  <a:pt x="225" y="2564"/>
                </a:lnTo>
                <a:lnTo>
                  <a:pt x="15" y="2474"/>
                </a:lnTo>
                <a:lnTo>
                  <a:pt x="0" y="217"/>
                </a:lnTo>
              </a:path>
            </a:pathLst>
          </a:custGeom>
          <a:solidFill>
            <a:srgbClr val="db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62560" y="1486080"/>
            <a:ext cx="1800" cy="196560"/>
          </a:xfrm>
          <a:custGeom>
            <a:avLst/>
            <a:gdLst/>
            <a:ahLst/>
            <a:rect l="l" t="t" r="r" b="b"/>
            <a:pathLst>
              <a:path w="1" h="548">
                <a:moveTo>
                  <a:pt x="0" y="0"/>
                </a:moveTo>
                <a:lnTo>
                  <a:pt x="0" y="547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32480" y="1523880"/>
            <a:ext cx="1800" cy="176400"/>
          </a:xfrm>
          <a:custGeom>
            <a:avLst/>
            <a:gdLst/>
            <a:ahLst/>
            <a:rect l="l" t="t" r="r" b="b"/>
            <a:pathLst>
              <a:path w="1" h="488">
                <a:moveTo>
                  <a:pt x="0" y="0"/>
                </a:moveTo>
                <a:lnTo>
                  <a:pt x="0" y="487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93040" y="1547640"/>
            <a:ext cx="1440" cy="184320"/>
          </a:xfrm>
          <a:custGeom>
            <a:avLst/>
            <a:gdLst/>
            <a:ahLst/>
            <a:rect l="l" t="t" r="r" b="b"/>
            <a:pathLst>
              <a:path w="1" h="511">
                <a:moveTo>
                  <a:pt x="0" y="0"/>
                </a:moveTo>
                <a:lnTo>
                  <a:pt x="0" y="510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62600" y="1585800"/>
            <a:ext cx="1800" cy="184320"/>
          </a:xfrm>
          <a:custGeom>
            <a:avLst/>
            <a:gdLst/>
            <a:ahLst/>
            <a:rect l="l" t="t" r="r" b="b"/>
            <a:pathLst>
              <a:path w="1" h="511">
                <a:moveTo>
                  <a:pt x="0" y="0"/>
                </a:moveTo>
                <a:lnTo>
                  <a:pt x="0" y="510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08760" y="1616040"/>
            <a:ext cx="1800" cy="184320"/>
          </a:xfrm>
          <a:custGeom>
            <a:avLst/>
            <a:gdLst/>
            <a:ahLst/>
            <a:rect l="l" t="t" r="r" b="b"/>
            <a:pathLst>
              <a:path w="1" h="511">
                <a:moveTo>
                  <a:pt x="0" y="0"/>
                </a:moveTo>
                <a:lnTo>
                  <a:pt x="0" y="510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21720" y="1863720"/>
            <a:ext cx="1440" cy="185760"/>
          </a:xfrm>
          <a:custGeom>
            <a:avLst/>
            <a:gdLst/>
            <a:ahLst/>
            <a:rect l="l" t="t" r="r" b="b"/>
            <a:pathLst>
              <a:path w="1" h="518">
                <a:moveTo>
                  <a:pt x="0" y="0"/>
                </a:moveTo>
                <a:lnTo>
                  <a:pt x="0" y="517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21680" y="1906560"/>
            <a:ext cx="83880" cy="924120"/>
          </a:xfrm>
          <a:custGeom>
            <a:avLst/>
            <a:gdLst/>
            <a:ahLst/>
            <a:rect l="l" t="t" r="r" b="b"/>
            <a:pathLst>
              <a:path w="234" h="2565">
                <a:moveTo>
                  <a:pt x="225" y="195"/>
                </a:moveTo>
                <a:lnTo>
                  <a:pt x="7" y="0"/>
                </a:lnTo>
                <a:lnTo>
                  <a:pt x="0" y="2564"/>
                </a:lnTo>
                <a:lnTo>
                  <a:pt x="233" y="2497"/>
                </a:lnTo>
                <a:lnTo>
                  <a:pt x="225" y="195"/>
                </a:lnTo>
              </a:path>
            </a:pathLst>
          </a:custGeom>
          <a:solidFill>
            <a:srgbClr val="db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21720" y="2195640"/>
            <a:ext cx="14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80200" y="2255760"/>
            <a:ext cx="180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50240" y="2225520"/>
            <a:ext cx="1440" cy="17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950240" y="1905120"/>
            <a:ext cx="144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80200" y="1949400"/>
            <a:ext cx="180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10520" y="1995480"/>
            <a:ext cx="144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9960" y="2038320"/>
            <a:ext cx="180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427960" y="2076480"/>
            <a:ext cx="180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523360" y="210672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604360" y="2139840"/>
            <a:ext cx="144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682120" y="2163600"/>
            <a:ext cx="144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747280" y="2185920"/>
            <a:ext cx="144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812080" y="2212920"/>
            <a:ext cx="180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4400" y="1905120"/>
            <a:ext cx="180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35880" y="1944720"/>
            <a:ext cx="144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35880" y="2241720"/>
            <a:ext cx="144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64400" y="2220840"/>
            <a:ext cx="18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27960" y="2344680"/>
            <a:ext cx="180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682120" y="2403360"/>
            <a:ext cx="144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35560" y="2600280"/>
            <a:ext cx="1800" cy="227160"/>
          </a:xfrm>
          <a:custGeom>
            <a:avLst/>
            <a:gdLst/>
            <a:ahLst/>
            <a:rect l="l" t="t" r="r" b="b"/>
            <a:pathLst>
              <a:path w="6" h="631">
                <a:moveTo>
                  <a:pt x="0" y="630"/>
                </a:moveTo>
                <a:lnTo>
                  <a:pt x="5" y="0"/>
                </a:lnTo>
                <a:lnTo>
                  <a:pt x="0" y="63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29280" y="2620800"/>
            <a:ext cx="1800" cy="173160"/>
          </a:xfrm>
          <a:custGeom>
            <a:avLst/>
            <a:gdLst/>
            <a:ahLst/>
            <a:rect l="l" t="t" r="r" b="b"/>
            <a:pathLst>
              <a:path w="1" h="481">
                <a:moveTo>
                  <a:pt x="0" y="480"/>
                </a:moveTo>
                <a:lnTo>
                  <a:pt x="0" y="0"/>
                </a:lnTo>
                <a:lnTo>
                  <a:pt x="0" y="48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46760" y="2646360"/>
            <a:ext cx="1440" cy="11592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320"/>
                </a:moveTo>
                <a:lnTo>
                  <a:pt x="0" y="0"/>
                </a:lnTo>
                <a:lnTo>
                  <a:pt x="0" y="32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22920" y="2660760"/>
            <a:ext cx="1440" cy="77760"/>
          </a:xfrm>
          <a:custGeom>
            <a:avLst/>
            <a:gdLst/>
            <a:ahLst/>
            <a:rect l="l" t="t" r="r" b="b"/>
            <a:pathLst>
              <a:path w="1" h="216">
                <a:moveTo>
                  <a:pt x="0" y="215"/>
                </a:moveTo>
                <a:lnTo>
                  <a:pt x="0" y="0"/>
                </a:lnTo>
                <a:lnTo>
                  <a:pt x="0" y="21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13720" y="2109960"/>
            <a:ext cx="434880" cy="704520"/>
          </a:xfrm>
          <a:custGeom>
            <a:avLst/>
            <a:gdLst/>
            <a:ahLst/>
            <a:rect l="l" t="t" r="r" b="b"/>
            <a:pathLst>
              <a:path w="1209" h="1959">
                <a:moveTo>
                  <a:pt x="30" y="15"/>
                </a:moveTo>
                <a:lnTo>
                  <a:pt x="0" y="1958"/>
                </a:lnTo>
                <a:lnTo>
                  <a:pt x="660" y="1898"/>
                </a:lnTo>
                <a:lnTo>
                  <a:pt x="1208" y="1958"/>
                </a:lnTo>
                <a:lnTo>
                  <a:pt x="1185" y="0"/>
                </a:lnTo>
                <a:lnTo>
                  <a:pt x="653" y="143"/>
                </a:lnTo>
                <a:lnTo>
                  <a:pt x="30" y="15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89440" y="2220840"/>
            <a:ext cx="947880" cy="263520"/>
          </a:xfrm>
          <a:custGeom>
            <a:avLst/>
            <a:gdLst/>
            <a:ahLst/>
            <a:rect l="l" t="t" r="r" b="b"/>
            <a:pathLst>
              <a:path w="2631" h="731">
                <a:moveTo>
                  <a:pt x="0" y="730"/>
                </a:moveTo>
                <a:lnTo>
                  <a:pt x="70" y="730"/>
                </a:lnTo>
                <a:lnTo>
                  <a:pt x="1460" y="85"/>
                </a:lnTo>
                <a:lnTo>
                  <a:pt x="2625" y="215"/>
                </a:lnTo>
                <a:lnTo>
                  <a:pt x="2630" y="150"/>
                </a:lnTo>
                <a:lnTo>
                  <a:pt x="1510" y="0"/>
                </a:lnTo>
                <a:lnTo>
                  <a:pt x="0" y="730"/>
                </a:lnTo>
              </a:path>
            </a:pathLst>
          </a:custGeom>
          <a:solidFill>
            <a:srgbClr val="94949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04120" y="2168640"/>
            <a:ext cx="1487520" cy="288720"/>
          </a:xfrm>
          <a:custGeom>
            <a:avLst/>
            <a:gdLst/>
            <a:ahLst/>
            <a:rect l="l" t="t" r="r" b="b"/>
            <a:pathLst>
              <a:path w="4132" h="804">
                <a:moveTo>
                  <a:pt x="0" y="268"/>
                </a:moveTo>
                <a:lnTo>
                  <a:pt x="0" y="313"/>
                </a:lnTo>
                <a:lnTo>
                  <a:pt x="1176" y="75"/>
                </a:lnTo>
                <a:lnTo>
                  <a:pt x="4056" y="803"/>
                </a:lnTo>
                <a:lnTo>
                  <a:pt x="4131" y="803"/>
                </a:lnTo>
                <a:lnTo>
                  <a:pt x="1138" y="0"/>
                </a:lnTo>
                <a:lnTo>
                  <a:pt x="0" y="268"/>
                </a:lnTo>
              </a:path>
            </a:pathLst>
          </a:custGeom>
          <a:solidFill>
            <a:srgbClr val="94949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23080" y="1770120"/>
            <a:ext cx="230040" cy="392040"/>
          </a:xfrm>
          <a:custGeom>
            <a:avLst/>
            <a:gdLst/>
            <a:ahLst/>
            <a:rect l="l" t="t" r="r" b="b"/>
            <a:pathLst>
              <a:path w="638" h="1089">
                <a:moveTo>
                  <a:pt x="0" y="0"/>
                </a:moveTo>
                <a:lnTo>
                  <a:pt x="637" y="143"/>
                </a:lnTo>
                <a:lnTo>
                  <a:pt x="637" y="1088"/>
                </a:lnTo>
                <a:lnTo>
                  <a:pt x="0" y="960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51680" y="1766880"/>
            <a:ext cx="192240" cy="395280"/>
          </a:xfrm>
          <a:custGeom>
            <a:avLst/>
            <a:gdLst/>
            <a:ahLst/>
            <a:rect l="l" t="t" r="r" b="b"/>
            <a:pathLst>
              <a:path w="534" h="1096">
                <a:moveTo>
                  <a:pt x="0" y="157"/>
                </a:moveTo>
                <a:lnTo>
                  <a:pt x="533" y="0"/>
                </a:lnTo>
                <a:lnTo>
                  <a:pt x="533" y="945"/>
                </a:lnTo>
                <a:lnTo>
                  <a:pt x="0" y="1095"/>
                </a:lnTo>
                <a:lnTo>
                  <a:pt x="0" y="157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51680" y="1444680"/>
            <a:ext cx="1822320" cy="677880"/>
          </a:xfrm>
          <a:custGeom>
            <a:avLst/>
            <a:gdLst/>
            <a:ahLst/>
            <a:rect l="l" t="t" r="r" b="b"/>
            <a:pathLst>
              <a:path w="5064" h="1884">
                <a:moveTo>
                  <a:pt x="0" y="540"/>
                </a:moveTo>
                <a:lnTo>
                  <a:pt x="1688" y="0"/>
                </a:lnTo>
                <a:lnTo>
                  <a:pt x="5063" y="1598"/>
                </a:lnTo>
                <a:lnTo>
                  <a:pt x="5063" y="1883"/>
                </a:lnTo>
                <a:lnTo>
                  <a:pt x="1793" y="488"/>
                </a:lnTo>
                <a:lnTo>
                  <a:pt x="0" y="1058"/>
                </a:lnTo>
                <a:lnTo>
                  <a:pt x="0" y="54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21440" y="2298600"/>
            <a:ext cx="1440" cy="154080"/>
          </a:xfrm>
          <a:custGeom>
            <a:avLst/>
            <a:gdLst/>
            <a:ahLst/>
            <a:rect l="l" t="t" r="r" b="b"/>
            <a:pathLst>
              <a:path w="1" h="426">
                <a:moveTo>
                  <a:pt x="0" y="0"/>
                </a:moveTo>
                <a:lnTo>
                  <a:pt x="0" y="42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29280" y="2340000"/>
            <a:ext cx="1800" cy="139680"/>
          </a:xfrm>
          <a:custGeom>
            <a:avLst/>
            <a:gdLst/>
            <a:ahLst/>
            <a:rect l="l" t="t" r="r" b="b"/>
            <a:pathLst>
              <a:path w="1" h="389">
                <a:moveTo>
                  <a:pt x="0" y="0"/>
                </a:moveTo>
                <a:lnTo>
                  <a:pt x="0" y="388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6840" y="2379600"/>
            <a:ext cx="1440" cy="123840"/>
          </a:xfrm>
          <a:custGeom>
            <a:avLst/>
            <a:gdLst/>
            <a:ahLst/>
            <a:rect l="l" t="t" r="r" b="b"/>
            <a:pathLst>
              <a:path w="1" h="342">
                <a:moveTo>
                  <a:pt x="0" y="0"/>
                </a:moveTo>
                <a:lnTo>
                  <a:pt x="0" y="341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70520" y="2416320"/>
            <a:ext cx="1800" cy="110880"/>
          </a:xfrm>
          <a:custGeom>
            <a:avLst/>
            <a:gdLst/>
            <a:ahLst/>
            <a:rect l="l" t="t" r="r" b="b"/>
            <a:pathLst>
              <a:path w="1" h="308">
                <a:moveTo>
                  <a:pt x="0" y="0"/>
                </a:moveTo>
                <a:lnTo>
                  <a:pt x="0" y="307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05360" y="2444760"/>
            <a:ext cx="1800" cy="96840"/>
          </a:xfrm>
          <a:custGeom>
            <a:avLst/>
            <a:gdLst/>
            <a:ahLst/>
            <a:rect l="l" t="t" r="r" b="b"/>
            <a:pathLst>
              <a:path w="1" h="267">
                <a:moveTo>
                  <a:pt x="0" y="0"/>
                </a:moveTo>
                <a:lnTo>
                  <a:pt x="0" y="266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65880" y="2271600"/>
            <a:ext cx="1440" cy="154080"/>
          </a:xfrm>
          <a:custGeom>
            <a:avLst/>
            <a:gdLst/>
            <a:ahLst/>
            <a:rect l="l" t="t" r="r" b="b"/>
            <a:pathLst>
              <a:path w="1" h="426">
                <a:moveTo>
                  <a:pt x="0" y="0"/>
                </a:moveTo>
                <a:lnTo>
                  <a:pt x="0" y="42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05560" y="2286000"/>
            <a:ext cx="1440" cy="154080"/>
          </a:xfrm>
          <a:custGeom>
            <a:avLst/>
            <a:gdLst/>
            <a:ahLst/>
            <a:rect l="l" t="t" r="r" b="b"/>
            <a:pathLst>
              <a:path w="1" h="426">
                <a:moveTo>
                  <a:pt x="0" y="0"/>
                </a:moveTo>
                <a:lnTo>
                  <a:pt x="0" y="42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57840" y="2463840"/>
            <a:ext cx="1440" cy="90360"/>
          </a:xfrm>
          <a:custGeom>
            <a:avLst/>
            <a:gdLst/>
            <a:ahLst/>
            <a:rect l="l" t="t" r="r" b="b"/>
            <a:pathLst>
              <a:path w="1" h="251">
                <a:moveTo>
                  <a:pt x="0" y="0"/>
                </a:moveTo>
                <a:lnTo>
                  <a:pt x="0" y="250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57840" y="2244600"/>
            <a:ext cx="1440" cy="104760"/>
          </a:xfrm>
          <a:custGeom>
            <a:avLst/>
            <a:gdLst/>
            <a:ahLst/>
            <a:rect l="l" t="t" r="r" b="b"/>
            <a:pathLst>
              <a:path w="1" h="291">
                <a:moveTo>
                  <a:pt x="0" y="0"/>
                </a:moveTo>
                <a:lnTo>
                  <a:pt x="0" y="290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05360" y="2206800"/>
            <a:ext cx="1800" cy="114120"/>
          </a:xfrm>
          <a:custGeom>
            <a:avLst/>
            <a:gdLst/>
            <a:ahLst/>
            <a:rect l="l" t="t" r="r" b="b"/>
            <a:pathLst>
              <a:path w="1" h="319">
                <a:moveTo>
                  <a:pt x="0" y="0"/>
                </a:moveTo>
                <a:lnTo>
                  <a:pt x="0" y="318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70520" y="2157480"/>
            <a:ext cx="1800" cy="125280"/>
          </a:xfrm>
          <a:custGeom>
            <a:avLst/>
            <a:gdLst/>
            <a:ahLst/>
            <a:rect l="l" t="t" r="r" b="b"/>
            <a:pathLst>
              <a:path w="1" h="348">
                <a:moveTo>
                  <a:pt x="0" y="0"/>
                </a:moveTo>
                <a:lnTo>
                  <a:pt x="0" y="347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6840" y="2112840"/>
            <a:ext cx="1440" cy="123840"/>
          </a:xfrm>
          <a:custGeom>
            <a:avLst/>
            <a:gdLst/>
            <a:ahLst/>
            <a:rect l="l" t="t" r="r" b="b"/>
            <a:pathLst>
              <a:path w="1" h="342">
                <a:moveTo>
                  <a:pt x="0" y="0"/>
                </a:moveTo>
                <a:lnTo>
                  <a:pt x="0" y="341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29280" y="2048040"/>
            <a:ext cx="1800" cy="139680"/>
          </a:xfrm>
          <a:custGeom>
            <a:avLst/>
            <a:gdLst/>
            <a:ahLst/>
            <a:rect l="l" t="t" r="r" b="b"/>
            <a:pathLst>
              <a:path w="1" h="389">
                <a:moveTo>
                  <a:pt x="0" y="0"/>
                </a:moveTo>
                <a:lnTo>
                  <a:pt x="0" y="388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21440" y="1990800"/>
            <a:ext cx="1440" cy="142920"/>
          </a:xfrm>
          <a:custGeom>
            <a:avLst/>
            <a:gdLst/>
            <a:ahLst/>
            <a:rect l="l" t="t" r="r" b="b"/>
            <a:pathLst>
              <a:path w="1" h="396">
                <a:moveTo>
                  <a:pt x="0" y="0"/>
                </a:moveTo>
                <a:lnTo>
                  <a:pt x="0" y="39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65880" y="1936800"/>
            <a:ext cx="1440" cy="154080"/>
          </a:xfrm>
          <a:custGeom>
            <a:avLst/>
            <a:gdLst/>
            <a:ahLst/>
            <a:rect l="l" t="t" r="r" b="b"/>
            <a:pathLst>
              <a:path w="1" h="426">
                <a:moveTo>
                  <a:pt x="0" y="0"/>
                </a:moveTo>
                <a:lnTo>
                  <a:pt x="0" y="42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05560" y="1957320"/>
            <a:ext cx="1440" cy="154080"/>
          </a:xfrm>
          <a:custGeom>
            <a:avLst/>
            <a:gdLst/>
            <a:ahLst/>
            <a:rect l="l" t="t" r="r" b="b"/>
            <a:pathLst>
              <a:path w="1" h="426">
                <a:moveTo>
                  <a:pt x="0" y="0"/>
                </a:moveTo>
                <a:lnTo>
                  <a:pt x="0" y="42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57840" y="1952640"/>
            <a:ext cx="1440" cy="142920"/>
          </a:xfrm>
          <a:custGeom>
            <a:avLst/>
            <a:gdLst/>
            <a:ahLst/>
            <a:rect l="l" t="t" r="r" b="b"/>
            <a:pathLst>
              <a:path w="1" h="396">
                <a:moveTo>
                  <a:pt x="0" y="0"/>
                </a:moveTo>
                <a:lnTo>
                  <a:pt x="0" y="39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65720" y="1581120"/>
            <a:ext cx="1800" cy="189000"/>
          </a:xfrm>
          <a:custGeom>
            <a:avLst/>
            <a:gdLst/>
            <a:ahLst/>
            <a:rect l="l" t="t" r="r" b="b"/>
            <a:pathLst>
              <a:path w="1" h="523">
                <a:moveTo>
                  <a:pt x="0" y="0"/>
                </a:moveTo>
                <a:lnTo>
                  <a:pt x="0" y="522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64200" y="1666800"/>
            <a:ext cx="1800" cy="177840"/>
          </a:xfrm>
          <a:custGeom>
            <a:avLst/>
            <a:gdLst/>
            <a:ahLst/>
            <a:rect l="l" t="t" r="r" b="b"/>
            <a:pathLst>
              <a:path w="1" h="496">
                <a:moveTo>
                  <a:pt x="0" y="0"/>
                </a:moveTo>
                <a:lnTo>
                  <a:pt x="0" y="49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69160" y="1751040"/>
            <a:ext cx="1440" cy="179280"/>
          </a:xfrm>
          <a:custGeom>
            <a:avLst/>
            <a:gdLst/>
            <a:ahLst/>
            <a:rect l="l" t="t" r="r" b="b"/>
            <a:pathLst>
              <a:path w="1" h="500">
                <a:moveTo>
                  <a:pt x="0" y="0"/>
                </a:moveTo>
                <a:lnTo>
                  <a:pt x="0" y="499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91040" y="1832040"/>
            <a:ext cx="1800" cy="160200"/>
          </a:xfrm>
          <a:custGeom>
            <a:avLst/>
            <a:gdLst/>
            <a:ahLst/>
            <a:rect l="l" t="t" r="r" b="b"/>
            <a:pathLst>
              <a:path w="1" h="446">
                <a:moveTo>
                  <a:pt x="0" y="0"/>
                </a:moveTo>
                <a:lnTo>
                  <a:pt x="0" y="44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23000" y="1893960"/>
            <a:ext cx="1440" cy="152280"/>
          </a:xfrm>
          <a:custGeom>
            <a:avLst/>
            <a:gdLst/>
            <a:ahLst/>
            <a:rect l="l" t="t" r="r" b="b"/>
            <a:pathLst>
              <a:path w="1" h="423">
                <a:moveTo>
                  <a:pt x="0" y="0"/>
                </a:moveTo>
                <a:lnTo>
                  <a:pt x="0" y="422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48560" y="2584440"/>
            <a:ext cx="254160" cy="279360"/>
          </a:xfrm>
          <a:custGeom>
            <a:avLst/>
            <a:gdLst/>
            <a:ahLst/>
            <a:rect l="l" t="t" r="r" b="b"/>
            <a:pathLst>
              <a:path w="706" h="774">
                <a:moveTo>
                  <a:pt x="0" y="15"/>
                </a:moveTo>
                <a:lnTo>
                  <a:pt x="15" y="713"/>
                </a:lnTo>
                <a:lnTo>
                  <a:pt x="412" y="773"/>
                </a:lnTo>
                <a:lnTo>
                  <a:pt x="697" y="735"/>
                </a:lnTo>
                <a:lnTo>
                  <a:pt x="705" y="15"/>
                </a:lnTo>
                <a:lnTo>
                  <a:pt x="442" y="0"/>
                </a:lnTo>
                <a:lnTo>
                  <a:pt x="0" y="1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05880" y="1515960"/>
            <a:ext cx="288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59720" y="1450800"/>
            <a:ext cx="32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96280" y="1496880"/>
            <a:ext cx="32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50120" y="1544760"/>
            <a:ext cx="32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99280" y="1593720"/>
            <a:ext cx="32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50240" y="1585800"/>
            <a:ext cx="32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86680" y="1650960"/>
            <a:ext cx="32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56600" y="1731960"/>
            <a:ext cx="324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3680" y="1789200"/>
            <a:ext cx="324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483760" y="1843200"/>
            <a:ext cx="2880" cy="12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578800" y="1882800"/>
            <a:ext cx="324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664480" y="1925640"/>
            <a:ext cx="324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734320" y="1959120"/>
            <a:ext cx="3240" cy="12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05960" y="1987560"/>
            <a:ext cx="324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51400" y="2860560"/>
            <a:ext cx="3834000" cy="301680"/>
          </a:xfrm>
          <a:custGeom>
            <a:avLst/>
            <a:gdLst/>
            <a:ahLst/>
            <a:rect l="l" t="t" r="r" b="b"/>
            <a:pathLst>
              <a:path w="10651" h="839">
                <a:moveTo>
                  <a:pt x="9975" y="375"/>
                </a:moveTo>
                <a:lnTo>
                  <a:pt x="9921" y="375"/>
                </a:lnTo>
                <a:lnTo>
                  <a:pt x="9869" y="375"/>
                </a:lnTo>
                <a:lnTo>
                  <a:pt x="9820" y="375"/>
                </a:lnTo>
                <a:lnTo>
                  <a:pt x="9776" y="375"/>
                </a:lnTo>
                <a:lnTo>
                  <a:pt x="9736" y="374"/>
                </a:lnTo>
                <a:lnTo>
                  <a:pt x="9701" y="374"/>
                </a:lnTo>
                <a:lnTo>
                  <a:pt x="9671" y="374"/>
                </a:lnTo>
                <a:lnTo>
                  <a:pt x="9646" y="373"/>
                </a:lnTo>
                <a:lnTo>
                  <a:pt x="9626" y="372"/>
                </a:lnTo>
                <a:lnTo>
                  <a:pt x="9609" y="372"/>
                </a:lnTo>
                <a:lnTo>
                  <a:pt x="9594" y="371"/>
                </a:lnTo>
                <a:lnTo>
                  <a:pt x="9583" y="370"/>
                </a:lnTo>
                <a:lnTo>
                  <a:pt x="9572" y="370"/>
                </a:lnTo>
                <a:lnTo>
                  <a:pt x="9562" y="369"/>
                </a:lnTo>
                <a:lnTo>
                  <a:pt x="9553" y="368"/>
                </a:lnTo>
                <a:lnTo>
                  <a:pt x="9542" y="367"/>
                </a:lnTo>
                <a:lnTo>
                  <a:pt x="9531" y="367"/>
                </a:lnTo>
                <a:lnTo>
                  <a:pt x="9516" y="366"/>
                </a:lnTo>
                <a:lnTo>
                  <a:pt x="9499" y="366"/>
                </a:lnTo>
                <a:lnTo>
                  <a:pt x="9479" y="366"/>
                </a:lnTo>
                <a:lnTo>
                  <a:pt x="9454" y="366"/>
                </a:lnTo>
                <a:lnTo>
                  <a:pt x="9424" y="366"/>
                </a:lnTo>
                <a:lnTo>
                  <a:pt x="9389" y="367"/>
                </a:lnTo>
                <a:lnTo>
                  <a:pt x="9349" y="368"/>
                </a:lnTo>
                <a:lnTo>
                  <a:pt x="9305" y="369"/>
                </a:lnTo>
                <a:lnTo>
                  <a:pt x="9256" y="370"/>
                </a:lnTo>
                <a:lnTo>
                  <a:pt x="9204" y="373"/>
                </a:lnTo>
                <a:lnTo>
                  <a:pt x="9150" y="375"/>
                </a:lnTo>
                <a:lnTo>
                  <a:pt x="9093" y="378"/>
                </a:lnTo>
                <a:lnTo>
                  <a:pt x="9040" y="381"/>
                </a:lnTo>
                <a:lnTo>
                  <a:pt x="8992" y="384"/>
                </a:lnTo>
                <a:lnTo>
                  <a:pt x="8951" y="387"/>
                </a:lnTo>
                <a:lnTo>
                  <a:pt x="8917" y="390"/>
                </a:lnTo>
                <a:lnTo>
                  <a:pt x="8890" y="392"/>
                </a:lnTo>
                <a:lnTo>
                  <a:pt x="8870" y="394"/>
                </a:lnTo>
                <a:lnTo>
                  <a:pt x="8855" y="396"/>
                </a:lnTo>
                <a:lnTo>
                  <a:pt x="8845" y="397"/>
                </a:lnTo>
                <a:lnTo>
                  <a:pt x="8840" y="398"/>
                </a:lnTo>
                <a:lnTo>
                  <a:pt x="8837" y="399"/>
                </a:lnTo>
                <a:lnTo>
                  <a:pt x="8838" y="400"/>
                </a:lnTo>
                <a:lnTo>
                  <a:pt x="8838" y="401"/>
                </a:lnTo>
                <a:lnTo>
                  <a:pt x="8837" y="402"/>
                </a:lnTo>
                <a:lnTo>
                  <a:pt x="8834" y="403"/>
                </a:lnTo>
                <a:lnTo>
                  <a:pt x="8827" y="404"/>
                </a:lnTo>
                <a:lnTo>
                  <a:pt x="8816" y="406"/>
                </a:lnTo>
                <a:lnTo>
                  <a:pt x="8799" y="409"/>
                </a:lnTo>
                <a:lnTo>
                  <a:pt x="8776" y="412"/>
                </a:lnTo>
                <a:lnTo>
                  <a:pt x="8745" y="416"/>
                </a:lnTo>
                <a:lnTo>
                  <a:pt x="8707" y="421"/>
                </a:lnTo>
                <a:lnTo>
                  <a:pt x="8660" y="427"/>
                </a:lnTo>
                <a:lnTo>
                  <a:pt x="8605" y="434"/>
                </a:lnTo>
                <a:lnTo>
                  <a:pt x="8542" y="442"/>
                </a:lnTo>
                <a:lnTo>
                  <a:pt x="8475" y="450"/>
                </a:lnTo>
                <a:lnTo>
                  <a:pt x="8418" y="457"/>
                </a:lnTo>
                <a:lnTo>
                  <a:pt x="8362" y="464"/>
                </a:lnTo>
                <a:lnTo>
                  <a:pt x="8308" y="471"/>
                </a:lnTo>
                <a:lnTo>
                  <a:pt x="8258" y="478"/>
                </a:lnTo>
                <a:lnTo>
                  <a:pt x="8212" y="484"/>
                </a:lnTo>
                <a:lnTo>
                  <a:pt x="8171" y="489"/>
                </a:lnTo>
                <a:lnTo>
                  <a:pt x="8136" y="494"/>
                </a:lnTo>
                <a:lnTo>
                  <a:pt x="8105" y="499"/>
                </a:lnTo>
                <a:lnTo>
                  <a:pt x="8080" y="503"/>
                </a:lnTo>
                <a:lnTo>
                  <a:pt x="8059" y="506"/>
                </a:lnTo>
                <a:lnTo>
                  <a:pt x="8042" y="509"/>
                </a:lnTo>
                <a:lnTo>
                  <a:pt x="8028" y="511"/>
                </a:lnTo>
                <a:lnTo>
                  <a:pt x="8017" y="513"/>
                </a:lnTo>
                <a:lnTo>
                  <a:pt x="8009" y="515"/>
                </a:lnTo>
                <a:lnTo>
                  <a:pt x="8001" y="517"/>
                </a:lnTo>
                <a:lnTo>
                  <a:pt x="7994" y="519"/>
                </a:lnTo>
                <a:lnTo>
                  <a:pt x="7986" y="520"/>
                </a:lnTo>
                <a:lnTo>
                  <a:pt x="7978" y="522"/>
                </a:lnTo>
                <a:lnTo>
                  <a:pt x="7967" y="524"/>
                </a:lnTo>
                <a:lnTo>
                  <a:pt x="7954" y="527"/>
                </a:lnTo>
                <a:lnTo>
                  <a:pt x="7938" y="529"/>
                </a:lnTo>
                <a:lnTo>
                  <a:pt x="7917" y="532"/>
                </a:lnTo>
                <a:lnTo>
                  <a:pt x="7891" y="536"/>
                </a:lnTo>
                <a:lnTo>
                  <a:pt x="7859" y="541"/>
                </a:lnTo>
                <a:lnTo>
                  <a:pt x="7820" y="546"/>
                </a:lnTo>
                <a:lnTo>
                  <a:pt x="7774" y="551"/>
                </a:lnTo>
                <a:lnTo>
                  <a:pt x="7721" y="558"/>
                </a:lnTo>
                <a:lnTo>
                  <a:pt x="7660" y="565"/>
                </a:lnTo>
                <a:lnTo>
                  <a:pt x="7592" y="573"/>
                </a:lnTo>
                <a:lnTo>
                  <a:pt x="7516" y="582"/>
                </a:lnTo>
                <a:lnTo>
                  <a:pt x="7435" y="591"/>
                </a:lnTo>
                <a:lnTo>
                  <a:pt x="7350" y="600"/>
                </a:lnTo>
                <a:lnTo>
                  <a:pt x="7280" y="607"/>
                </a:lnTo>
                <a:lnTo>
                  <a:pt x="7211" y="615"/>
                </a:lnTo>
                <a:lnTo>
                  <a:pt x="7143" y="622"/>
                </a:lnTo>
                <a:lnTo>
                  <a:pt x="7077" y="629"/>
                </a:lnTo>
                <a:lnTo>
                  <a:pt x="7015" y="635"/>
                </a:lnTo>
                <a:lnTo>
                  <a:pt x="6957" y="641"/>
                </a:lnTo>
                <a:lnTo>
                  <a:pt x="6903" y="646"/>
                </a:lnTo>
                <a:lnTo>
                  <a:pt x="6853" y="651"/>
                </a:lnTo>
                <a:lnTo>
                  <a:pt x="6808" y="656"/>
                </a:lnTo>
                <a:lnTo>
                  <a:pt x="6768" y="659"/>
                </a:lnTo>
                <a:lnTo>
                  <a:pt x="6731" y="663"/>
                </a:lnTo>
                <a:lnTo>
                  <a:pt x="6699" y="666"/>
                </a:lnTo>
                <a:lnTo>
                  <a:pt x="6670" y="669"/>
                </a:lnTo>
                <a:lnTo>
                  <a:pt x="6644" y="671"/>
                </a:lnTo>
                <a:lnTo>
                  <a:pt x="6621" y="673"/>
                </a:lnTo>
                <a:lnTo>
                  <a:pt x="6600" y="675"/>
                </a:lnTo>
                <a:lnTo>
                  <a:pt x="6581" y="677"/>
                </a:lnTo>
                <a:lnTo>
                  <a:pt x="6564" y="678"/>
                </a:lnTo>
                <a:lnTo>
                  <a:pt x="6547" y="680"/>
                </a:lnTo>
                <a:lnTo>
                  <a:pt x="6531" y="681"/>
                </a:lnTo>
                <a:lnTo>
                  <a:pt x="6515" y="683"/>
                </a:lnTo>
                <a:lnTo>
                  <a:pt x="6499" y="684"/>
                </a:lnTo>
                <a:lnTo>
                  <a:pt x="6481" y="685"/>
                </a:lnTo>
                <a:lnTo>
                  <a:pt x="6462" y="687"/>
                </a:lnTo>
                <a:lnTo>
                  <a:pt x="6441" y="689"/>
                </a:lnTo>
                <a:lnTo>
                  <a:pt x="6418" y="691"/>
                </a:lnTo>
                <a:lnTo>
                  <a:pt x="6392" y="693"/>
                </a:lnTo>
                <a:lnTo>
                  <a:pt x="6363" y="695"/>
                </a:lnTo>
                <a:lnTo>
                  <a:pt x="6330" y="698"/>
                </a:lnTo>
                <a:lnTo>
                  <a:pt x="6293" y="701"/>
                </a:lnTo>
                <a:lnTo>
                  <a:pt x="6252" y="705"/>
                </a:lnTo>
                <a:lnTo>
                  <a:pt x="6206" y="708"/>
                </a:lnTo>
                <a:lnTo>
                  <a:pt x="6156" y="713"/>
                </a:lnTo>
                <a:lnTo>
                  <a:pt x="6101" y="717"/>
                </a:lnTo>
                <a:lnTo>
                  <a:pt x="6042" y="722"/>
                </a:lnTo>
                <a:lnTo>
                  <a:pt x="5979" y="727"/>
                </a:lnTo>
                <a:lnTo>
                  <a:pt x="5912" y="733"/>
                </a:lnTo>
                <a:lnTo>
                  <a:pt x="5843" y="739"/>
                </a:lnTo>
                <a:lnTo>
                  <a:pt x="5772" y="744"/>
                </a:lnTo>
                <a:lnTo>
                  <a:pt x="5700" y="750"/>
                </a:lnTo>
                <a:lnTo>
                  <a:pt x="5617" y="756"/>
                </a:lnTo>
                <a:lnTo>
                  <a:pt x="5538" y="763"/>
                </a:lnTo>
                <a:lnTo>
                  <a:pt x="5464" y="768"/>
                </a:lnTo>
                <a:lnTo>
                  <a:pt x="5397" y="773"/>
                </a:lnTo>
                <a:lnTo>
                  <a:pt x="5336" y="778"/>
                </a:lnTo>
                <a:lnTo>
                  <a:pt x="5282" y="782"/>
                </a:lnTo>
                <a:lnTo>
                  <a:pt x="5236" y="785"/>
                </a:lnTo>
                <a:lnTo>
                  <a:pt x="5196" y="788"/>
                </a:lnTo>
                <a:lnTo>
                  <a:pt x="5163" y="791"/>
                </a:lnTo>
                <a:lnTo>
                  <a:pt x="5136" y="793"/>
                </a:lnTo>
                <a:lnTo>
                  <a:pt x="5115" y="795"/>
                </a:lnTo>
                <a:lnTo>
                  <a:pt x="5098" y="796"/>
                </a:lnTo>
                <a:lnTo>
                  <a:pt x="5084" y="797"/>
                </a:lnTo>
                <a:lnTo>
                  <a:pt x="5075" y="798"/>
                </a:lnTo>
                <a:lnTo>
                  <a:pt x="5067" y="799"/>
                </a:lnTo>
                <a:lnTo>
                  <a:pt x="5061" y="799"/>
                </a:lnTo>
                <a:lnTo>
                  <a:pt x="5056" y="800"/>
                </a:lnTo>
                <a:lnTo>
                  <a:pt x="5051" y="800"/>
                </a:lnTo>
                <a:lnTo>
                  <a:pt x="5046" y="801"/>
                </a:lnTo>
                <a:lnTo>
                  <a:pt x="5039" y="801"/>
                </a:lnTo>
                <a:lnTo>
                  <a:pt x="5030" y="802"/>
                </a:lnTo>
                <a:lnTo>
                  <a:pt x="5019" y="803"/>
                </a:lnTo>
                <a:lnTo>
                  <a:pt x="5004" y="804"/>
                </a:lnTo>
                <a:lnTo>
                  <a:pt x="4984" y="805"/>
                </a:lnTo>
                <a:lnTo>
                  <a:pt x="4960" y="806"/>
                </a:lnTo>
                <a:lnTo>
                  <a:pt x="4931" y="807"/>
                </a:lnTo>
                <a:lnTo>
                  <a:pt x="4896" y="809"/>
                </a:lnTo>
                <a:lnTo>
                  <a:pt x="4855" y="811"/>
                </a:lnTo>
                <a:lnTo>
                  <a:pt x="4808" y="813"/>
                </a:lnTo>
                <a:lnTo>
                  <a:pt x="4756" y="815"/>
                </a:lnTo>
                <a:lnTo>
                  <a:pt x="4697" y="818"/>
                </a:lnTo>
                <a:lnTo>
                  <a:pt x="4634" y="820"/>
                </a:lnTo>
                <a:lnTo>
                  <a:pt x="4568" y="823"/>
                </a:lnTo>
                <a:lnTo>
                  <a:pt x="4500" y="825"/>
                </a:lnTo>
                <a:lnTo>
                  <a:pt x="4428" y="827"/>
                </a:lnTo>
                <a:lnTo>
                  <a:pt x="4358" y="829"/>
                </a:lnTo>
                <a:lnTo>
                  <a:pt x="4293" y="831"/>
                </a:lnTo>
                <a:lnTo>
                  <a:pt x="4233" y="832"/>
                </a:lnTo>
                <a:lnTo>
                  <a:pt x="4179" y="833"/>
                </a:lnTo>
                <a:lnTo>
                  <a:pt x="4132" y="834"/>
                </a:lnTo>
                <a:lnTo>
                  <a:pt x="4091" y="835"/>
                </a:lnTo>
                <a:lnTo>
                  <a:pt x="4057" y="836"/>
                </a:lnTo>
                <a:lnTo>
                  <a:pt x="4028" y="836"/>
                </a:lnTo>
                <a:lnTo>
                  <a:pt x="4005" y="837"/>
                </a:lnTo>
                <a:lnTo>
                  <a:pt x="3987" y="837"/>
                </a:lnTo>
                <a:lnTo>
                  <a:pt x="3972" y="837"/>
                </a:lnTo>
                <a:lnTo>
                  <a:pt x="3961" y="837"/>
                </a:lnTo>
                <a:lnTo>
                  <a:pt x="3952" y="837"/>
                </a:lnTo>
                <a:lnTo>
                  <a:pt x="3944" y="837"/>
                </a:lnTo>
                <a:lnTo>
                  <a:pt x="3938" y="838"/>
                </a:lnTo>
                <a:lnTo>
                  <a:pt x="3931" y="837"/>
                </a:lnTo>
                <a:lnTo>
                  <a:pt x="3923" y="837"/>
                </a:lnTo>
                <a:lnTo>
                  <a:pt x="3914" y="837"/>
                </a:lnTo>
                <a:lnTo>
                  <a:pt x="3903" y="837"/>
                </a:lnTo>
                <a:lnTo>
                  <a:pt x="3888" y="837"/>
                </a:lnTo>
                <a:lnTo>
                  <a:pt x="3870" y="837"/>
                </a:lnTo>
                <a:lnTo>
                  <a:pt x="3847" y="836"/>
                </a:lnTo>
                <a:lnTo>
                  <a:pt x="3818" y="836"/>
                </a:lnTo>
                <a:lnTo>
                  <a:pt x="3784" y="835"/>
                </a:lnTo>
                <a:lnTo>
                  <a:pt x="3743" y="834"/>
                </a:lnTo>
                <a:lnTo>
                  <a:pt x="3696" y="833"/>
                </a:lnTo>
                <a:lnTo>
                  <a:pt x="3642" y="832"/>
                </a:lnTo>
                <a:lnTo>
                  <a:pt x="3582" y="831"/>
                </a:lnTo>
                <a:lnTo>
                  <a:pt x="3517" y="829"/>
                </a:lnTo>
                <a:lnTo>
                  <a:pt x="3447" y="827"/>
                </a:lnTo>
                <a:lnTo>
                  <a:pt x="3375" y="825"/>
                </a:lnTo>
                <a:lnTo>
                  <a:pt x="3307" y="823"/>
                </a:lnTo>
                <a:lnTo>
                  <a:pt x="3240" y="820"/>
                </a:lnTo>
                <a:lnTo>
                  <a:pt x="3177" y="818"/>
                </a:lnTo>
                <a:lnTo>
                  <a:pt x="3117" y="815"/>
                </a:lnTo>
                <a:lnTo>
                  <a:pt x="3063" y="813"/>
                </a:lnTo>
                <a:lnTo>
                  <a:pt x="3013" y="810"/>
                </a:lnTo>
                <a:lnTo>
                  <a:pt x="2969" y="808"/>
                </a:lnTo>
                <a:lnTo>
                  <a:pt x="2930" y="806"/>
                </a:lnTo>
                <a:lnTo>
                  <a:pt x="2897" y="804"/>
                </a:lnTo>
                <a:lnTo>
                  <a:pt x="2867" y="803"/>
                </a:lnTo>
                <a:lnTo>
                  <a:pt x="2843" y="801"/>
                </a:lnTo>
                <a:lnTo>
                  <a:pt x="2821" y="800"/>
                </a:lnTo>
                <a:lnTo>
                  <a:pt x="2803" y="798"/>
                </a:lnTo>
                <a:lnTo>
                  <a:pt x="2788" y="797"/>
                </a:lnTo>
                <a:lnTo>
                  <a:pt x="2774" y="796"/>
                </a:lnTo>
                <a:lnTo>
                  <a:pt x="2762" y="795"/>
                </a:lnTo>
                <a:lnTo>
                  <a:pt x="2750" y="794"/>
                </a:lnTo>
                <a:lnTo>
                  <a:pt x="2738" y="793"/>
                </a:lnTo>
                <a:lnTo>
                  <a:pt x="2726" y="791"/>
                </a:lnTo>
                <a:lnTo>
                  <a:pt x="2713" y="790"/>
                </a:lnTo>
                <a:lnTo>
                  <a:pt x="2698" y="789"/>
                </a:lnTo>
                <a:lnTo>
                  <a:pt x="2681" y="787"/>
                </a:lnTo>
                <a:lnTo>
                  <a:pt x="2661" y="786"/>
                </a:lnTo>
                <a:lnTo>
                  <a:pt x="2637" y="784"/>
                </a:lnTo>
                <a:lnTo>
                  <a:pt x="2610" y="782"/>
                </a:lnTo>
                <a:lnTo>
                  <a:pt x="2578" y="779"/>
                </a:lnTo>
                <a:lnTo>
                  <a:pt x="2542" y="777"/>
                </a:lnTo>
                <a:lnTo>
                  <a:pt x="2501" y="774"/>
                </a:lnTo>
                <a:lnTo>
                  <a:pt x="2456" y="770"/>
                </a:lnTo>
                <a:lnTo>
                  <a:pt x="2406" y="767"/>
                </a:lnTo>
                <a:lnTo>
                  <a:pt x="2351" y="763"/>
                </a:lnTo>
                <a:lnTo>
                  <a:pt x="2294" y="759"/>
                </a:lnTo>
                <a:lnTo>
                  <a:pt x="2235" y="754"/>
                </a:lnTo>
                <a:lnTo>
                  <a:pt x="2175" y="750"/>
                </a:lnTo>
                <a:lnTo>
                  <a:pt x="2104" y="745"/>
                </a:lnTo>
                <a:lnTo>
                  <a:pt x="2037" y="740"/>
                </a:lnTo>
                <a:lnTo>
                  <a:pt x="1977" y="735"/>
                </a:lnTo>
                <a:lnTo>
                  <a:pt x="1923" y="731"/>
                </a:lnTo>
                <a:lnTo>
                  <a:pt x="1876" y="727"/>
                </a:lnTo>
                <a:lnTo>
                  <a:pt x="1836" y="725"/>
                </a:lnTo>
                <a:lnTo>
                  <a:pt x="1804" y="722"/>
                </a:lnTo>
                <a:lnTo>
                  <a:pt x="1778" y="721"/>
                </a:lnTo>
                <a:lnTo>
                  <a:pt x="1757" y="720"/>
                </a:lnTo>
                <a:lnTo>
                  <a:pt x="1741" y="719"/>
                </a:lnTo>
                <a:lnTo>
                  <a:pt x="1729" y="719"/>
                </a:lnTo>
                <a:lnTo>
                  <a:pt x="1720" y="719"/>
                </a:lnTo>
                <a:lnTo>
                  <a:pt x="1712" y="719"/>
                </a:lnTo>
                <a:lnTo>
                  <a:pt x="1706" y="719"/>
                </a:lnTo>
                <a:lnTo>
                  <a:pt x="1700" y="719"/>
                </a:lnTo>
                <a:lnTo>
                  <a:pt x="1694" y="719"/>
                </a:lnTo>
                <a:lnTo>
                  <a:pt x="1686" y="719"/>
                </a:lnTo>
                <a:lnTo>
                  <a:pt x="1676" y="718"/>
                </a:lnTo>
                <a:lnTo>
                  <a:pt x="1663" y="717"/>
                </a:lnTo>
                <a:lnTo>
                  <a:pt x="1646" y="715"/>
                </a:lnTo>
                <a:lnTo>
                  <a:pt x="1625" y="713"/>
                </a:lnTo>
                <a:lnTo>
                  <a:pt x="1599" y="710"/>
                </a:lnTo>
                <a:lnTo>
                  <a:pt x="1568" y="707"/>
                </a:lnTo>
                <a:lnTo>
                  <a:pt x="1532" y="702"/>
                </a:lnTo>
                <a:lnTo>
                  <a:pt x="1491" y="696"/>
                </a:lnTo>
                <a:lnTo>
                  <a:pt x="1446" y="690"/>
                </a:lnTo>
                <a:lnTo>
                  <a:pt x="1399" y="683"/>
                </a:lnTo>
                <a:lnTo>
                  <a:pt x="1350" y="675"/>
                </a:lnTo>
                <a:lnTo>
                  <a:pt x="1291" y="665"/>
                </a:lnTo>
                <a:lnTo>
                  <a:pt x="1237" y="655"/>
                </a:lnTo>
                <a:lnTo>
                  <a:pt x="1191" y="646"/>
                </a:lnTo>
                <a:lnTo>
                  <a:pt x="1154" y="639"/>
                </a:lnTo>
                <a:lnTo>
                  <a:pt x="1127" y="634"/>
                </a:lnTo>
                <a:lnTo>
                  <a:pt x="1107" y="630"/>
                </a:lnTo>
                <a:lnTo>
                  <a:pt x="1094" y="629"/>
                </a:lnTo>
                <a:lnTo>
                  <a:pt x="1087" y="628"/>
                </a:lnTo>
                <a:lnTo>
                  <a:pt x="1085" y="629"/>
                </a:lnTo>
                <a:lnTo>
                  <a:pt x="1085" y="630"/>
                </a:lnTo>
                <a:lnTo>
                  <a:pt x="1088" y="631"/>
                </a:lnTo>
                <a:lnTo>
                  <a:pt x="1090" y="632"/>
                </a:lnTo>
                <a:lnTo>
                  <a:pt x="1090" y="633"/>
                </a:lnTo>
                <a:lnTo>
                  <a:pt x="1088" y="632"/>
                </a:lnTo>
                <a:lnTo>
                  <a:pt x="1081" y="630"/>
                </a:lnTo>
                <a:lnTo>
                  <a:pt x="1068" y="625"/>
                </a:lnTo>
                <a:lnTo>
                  <a:pt x="1048" y="617"/>
                </a:lnTo>
                <a:lnTo>
                  <a:pt x="1021" y="606"/>
                </a:lnTo>
                <a:lnTo>
                  <a:pt x="984" y="592"/>
                </a:lnTo>
                <a:lnTo>
                  <a:pt x="938" y="573"/>
                </a:lnTo>
                <a:lnTo>
                  <a:pt x="884" y="551"/>
                </a:lnTo>
                <a:lnTo>
                  <a:pt x="825" y="525"/>
                </a:lnTo>
                <a:lnTo>
                  <a:pt x="780" y="504"/>
                </a:lnTo>
                <a:lnTo>
                  <a:pt x="734" y="483"/>
                </a:lnTo>
                <a:lnTo>
                  <a:pt x="689" y="461"/>
                </a:lnTo>
                <a:lnTo>
                  <a:pt x="645" y="440"/>
                </a:lnTo>
                <a:lnTo>
                  <a:pt x="602" y="418"/>
                </a:lnTo>
                <a:lnTo>
                  <a:pt x="560" y="397"/>
                </a:lnTo>
                <a:lnTo>
                  <a:pt x="520" y="376"/>
                </a:lnTo>
                <a:lnTo>
                  <a:pt x="481" y="355"/>
                </a:lnTo>
                <a:lnTo>
                  <a:pt x="443" y="334"/>
                </a:lnTo>
                <a:lnTo>
                  <a:pt x="406" y="314"/>
                </a:lnTo>
                <a:lnTo>
                  <a:pt x="370" y="294"/>
                </a:lnTo>
                <a:lnTo>
                  <a:pt x="335" y="274"/>
                </a:lnTo>
                <a:lnTo>
                  <a:pt x="301" y="254"/>
                </a:lnTo>
                <a:lnTo>
                  <a:pt x="267" y="235"/>
                </a:lnTo>
                <a:lnTo>
                  <a:pt x="234" y="216"/>
                </a:lnTo>
                <a:lnTo>
                  <a:pt x="203" y="197"/>
                </a:lnTo>
                <a:lnTo>
                  <a:pt x="173" y="179"/>
                </a:lnTo>
                <a:lnTo>
                  <a:pt x="144" y="162"/>
                </a:lnTo>
                <a:lnTo>
                  <a:pt x="118" y="146"/>
                </a:lnTo>
                <a:lnTo>
                  <a:pt x="94" y="132"/>
                </a:lnTo>
                <a:lnTo>
                  <a:pt x="72" y="119"/>
                </a:lnTo>
                <a:lnTo>
                  <a:pt x="53" y="107"/>
                </a:lnTo>
                <a:lnTo>
                  <a:pt x="37" y="98"/>
                </a:lnTo>
                <a:lnTo>
                  <a:pt x="25" y="90"/>
                </a:lnTo>
                <a:lnTo>
                  <a:pt x="15" y="84"/>
                </a:lnTo>
                <a:lnTo>
                  <a:pt x="8" y="80"/>
                </a:lnTo>
                <a:lnTo>
                  <a:pt x="3" y="77"/>
                </a:lnTo>
                <a:lnTo>
                  <a:pt x="1" y="76"/>
                </a:lnTo>
                <a:lnTo>
                  <a:pt x="0" y="75"/>
                </a:lnTo>
                <a:lnTo>
                  <a:pt x="0" y="74"/>
                </a:lnTo>
                <a:lnTo>
                  <a:pt x="0" y="68"/>
                </a:lnTo>
                <a:lnTo>
                  <a:pt x="0" y="55"/>
                </a:lnTo>
                <a:lnTo>
                  <a:pt x="0" y="38"/>
                </a:lnTo>
                <a:lnTo>
                  <a:pt x="0" y="20"/>
                </a:lnTo>
                <a:lnTo>
                  <a:pt x="0" y="7"/>
                </a:lnTo>
                <a:lnTo>
                  <a:pt x="0" y="1"/>
                </a:lnTo>
                <a:lnTo>
                  <a:pt x="0" y="0"/>
                </a:lnTo>
                <a:lnTo>
                  <a:pt x="1" y="1"/>
                </a:lnTo>
                <a:lnTo>
                  <a:pt x="3" y="2"/>
                </a:lnTo>
                <a:lnTo>
                  <a:pt x="8" y="5"/>
                </a:lnTo>
                <a:lnTo>
                  <a:pt x="15" y="9"/>
                </a:lnTo>
                <a:lnTo>
                  <a:pt x="25" y="15"/>
                </a:lnTo>
                <a:lnTo>
                  <a:pt x="37" y="23"/>
                </a:lnTo>
                <a:lnTo>
                  <a:pt x="53" y="32"/>
                </a:lnTo>
                <a:lnTo>
                  <a:pt x="72" y="44"/>
                </a:lnTo>
                <a:lnTo>
                  <a:pt x="94" y="57"/>
                </a:lnTo>
                <a:lnTo>
                  <a:pt x="118" y="71"/>
                </a:lnTo>
                <a:lnTo>
                  <a:pt x="144" y="87"/>
                </a:lnTo>
                <a:lnTo>
                  <a:pt x="173" y="104"/>
                </a:lnTo>
                <a:lnTo>
                  <a:pt x="203" y="122"/>
                </a:lnTo>
                <a:lnTo>
                  <a:pt x="234" y="141"/>
                </a:lnTo>
                <a:lnTo>
                  <a:pt x="267" y="160"/>
                </a:lnTo>
                <a:lnTo>
                  <a:pt x="301" y="179"/>
                </a:lnTo>
                <a:lnTo>
                  <a:pt x="335" y="199"/>
                </a:lnTo>
                <a:lnTo>
                  <a:pt x="370" y="219"/>
                </a:lnTo>
                <a:lnTo>
                  <a:pt x="406" y="239"/>
                </a:lnTo>
                <a:lnTo>
                  <a:pt x="443" y="259"/>
                </a:lnTo>
                <a:lnTo>
                  <a:pt x="481" y="280"/>
                </a:lnTo>
                <a:lnTo>
                  <a:pt x="520" y="301"/>
                </a:lnTo>
                <a:lnTo>
                  <a:pt x="560" y="322"/>
                </a:lnTo>
                <a:lnTo>
                  <a:pt x="602" y="343"/>
                </a:lnTo>
                <a:lnTo>
                  <a:pt x="645" y="365"/>
                </a:lnTo>
                <a:lnTo>
                  <a:pt x="689" y="386"/>
                </a:lnTo>
                <a:lnTo>
                  <a:pt x="734" y="408"/>
                </a:lnTo>
                <a:lnTo>
                  <a:pt x="780" y="429"/>
                </a:lnTo>
                <a:lnTo>
                  <a:pt x="825" y="450"/>
                </a:lnTo>
                <a:lnTo>
                  <a:pt x="884" y="476"/>
                </a:lnTo>
                <a:lnTo>
                  <a:pt x="938" y="498"/>
                </a:lnTo>
                <a:lnTo>
                  <a:pt x="984" y="517"/>
                </a:lnTo>
                <a:lnTo>
                  <a:pt x="1021" y="531"/>
                </a:lnTo>
                <a:lnTo>
                  <a:pt x="1048" y="542"/>
                </a:lnTo>
                <a:lnTo>
                  <a:pt x="1068" y="550"/>
                </a:lnTo>
                <a:lnTo>
                  <a:pt x="1081" y="555"/>
                </a:lnTo>
                <a:lnTo>
                  <a:pt x="1088" y="557"/>
                </a:lnTo>
                <a:lnTo>
                  <a:pt x="1090" y="558"/>
                </a:lnTo>
                <a:lnTo>
                  <a:pt x="1090" y="557"/>
                </a:lnTo>
                <a:lnTo>
                  <a:pt x="1087" y="556"/>
                </a:lnTo>
                <a:lnTo>
                  <a:pt x="1085" y="555"/>
                </a:lnTo>
                <a:lnTo>
                  <a:pt x="1085" y="554"/>
                </a:lnTo>
                <a:lnTo>
                  <a:pt x="1087" y="553"/>
                </a:lnTo>
                <a:lnTo>
                  <a:pt x="1094" y="554"/>
                </a:lnTo>
                <a:lnTo>
                  <a:pt x="1107" y="555"/>
                </a:lnTo>
                <a:lnTo>
                  <a:pt x="1127" y="559"/>
                </a:lnTo>
                <a:lnTo>
                  <a:pt x="1154" y="564"/>
                </a:lnTo>
                <a:lnTo>
                  <a:pt x="1191" y="571"/>
                </a:lnTo>
                <a:lnTo>
                  <a:pt x="1237" y="580"/>
                </a:lnTo>
                <a:lnTo>
                  <a:pt x="1291" y="590"/>
                </a:lnTo>
                <a:lnTo>
                  <a:pt x="1350" y="600"/>
                </a:lnTo>
                <a:lnTo>
                  <a:pt x="1399" y="608"/>
                </a:lnTo>
                <a:lnTo>
                  <a:pt x="1446" y="615"/>
                </a:lnTo>
                <a:lnTo>
                  <a:pt x="1491" y="621"/>
                </a:lnTo>
                <a:lnTo>
                  <a:pt x="1532" y="627"/>
                </a:lnTo>
                <a:lnTo>
                  <a:pt x="1568" y="632"/>
                </a:lnTo>
                <a:lnTo>
                  <a:pt x="1599" y="635"/>
                </a:lnTo>
                <a:lnTo>
                  <a:pt x="1625" y="638"/>
                </a:lnTo>
                <a:lnTo>
                  <a:pt x="1646" y="640"/>
                </a:lnTo>
                <a:lnTo>
                  <a:pt x="1663" y="642"/>
                </a:lnTo>
                <a:lnTo>
                  <a:pt x="1676" y="643"/>
                </a:lnTo>
                <a:lnTo>
                  <a:pt x="1686" y="644"/>
                </a:lnTo>
                <a:lnTo>
                  <a:pt x="1694" y="644"/>
                </a:lnTo>
                <a:lnTo>
                  <a:pt x="1700" y="644"/>
                </a:lnTo>
                <a:lnTo>
                  <a:pt x="1706" y="644"/>
                </a:lnTo>
                <a:lnTo>
                  <a:pt x="1712" y="644"/>
                </a:lnTo>
                <a:lnTo>
                  <a:pt x="1720" y="644"/>
                </a:lnTo>
                <a:lnTo>
                  <a:pt x="1729" y="644"/>
                </a:lnTo>
                <a:lnTo>
                  <a:pt x="1741" y="644"/>
                </a:lnTo>
                <a:lnTo>
                  <a:pt x="1757" y="645"/>
                </a:lnTo>
                <a:lnTo>
                  <a:pt x="1778" y="646"/>
                </a:lnTo>
                <a:lnTo>
                  <a:pt x="1804" y="647"/>
                </a:lnTo>
                <a:lnTo>
                  <a:pt x="1836" y="650"/>
                </a:lnTo>
                <a:lnTo>
                  <a:pt x="1876" y="652"/>
                </a:lnTo>
                <a:lnTo>
                  <a:pt x="1923" y="656"/>
                </a:lnTo>
                <a:lnTo>
                  <a:pt x="1977" y="660"/>
                </a:lnTo>
                <a:lnTo>
                  <a:pt x="2037" y="665"/>
                </a:lnTo>
                <a:lnTo>
                  <a:pt x="2104" y="670"/>
                </a:lnTo>
                <a:lnTo>
                  <a:pt x="2175" y="675"/>
                </a:lnTo>
                <a:lnTo>
                  <a:pt x="2235" y="679"/>
                </a:lnTo>
                <a:lnTo>
                  <a:pt x="2294" y="684"/>
                </a:lnTo>
                <a:lnTo>
                  <a:pt x="2351" y="688"/>
                </a:lnTo>
                <a:lnTo>
                  <a:pt x="2406" y="692"/>
                </a:lnTo>
                <a:lnTo>
                  <a:pt x="2456" y="695"/>
                </a:lnTo>
                <a:lnTo>
                  <a:pt x="2501" y="699"/>
                </a:lnTo>
                <a:lnTo>
                  <a:pt x="2542" y="702"/>
                </a:lnTo>
                <a:lnTo>
                  <a:pt x="2578" y="704"/>
                </a:lnTo>
                <a:lnTo>
                  <a:pt x="2610" y="707"/>
                </a:lnTo>
                <a:lnTo>
                  <a:pt x="2637" y="709"/>
                </a:lnTo>
                <a:lnTo>
                  <a:pt x="2661" y="711"/>
                </a:lnTo>
                <a:lnTo>
                  <a:pt x="2681" y="712"/>
                </a:lnTo>
                <a:lnTo>
                  <a:pt x="2698" y="714"/>
                </a:lnTo>
                <a:lnTo>
                  <a:pt x="2713" y="715"/>
                </a:lnTo>
                <a:lnTo>
                  <a:pt x="2726" y="716"/>
                </a:lnTo>
                <a:lnTo>
                  <a:pt x="2738" y="718"/>
                </a:lnTo>
                <a:lnTo>
                  <a:pt x="2750" y="719"/>
                </a:lnTo>
                <a:lnTo>
                  <a:pt x="2762" y="720"/>
                </a:lnTo>
                <a:lnTo>
                  <a:pt x="2774" y="721"/>
                </a:lnTo>
                <a:lnTo>
                  <a:pt x="2788" y="722"/>
                </a:lnTo>
                <a:lnTo>
                  <a:pt x="2803" y="723"/>
                </a:lnTo>
                <a:lnTo>
                  <a:pt x="2821" y="725"/>
                </a:lnTo>
                <a:lnTo>
                  <a:pt x="2843" y="726"/>
                </a:lnTo>
                <a:lnTo>
                  <a:pt x="2867" y="728"/>
                </a:lnTo>
                <a:lnTo>
                  <a:pt x="2897" y="729"/>
                </a:lnTo>
                <a:lnTo>
                  <a:pt x="2930" y="731"/>
                </a:lnTo>
                <a:lnTo>
                  <a:pt x="2969" y="733"/>
                </a:lnTo>
                <a:lnTo>
                  <a:pt x="3013" y="735"/>
                </a:lnTo>
                <a:lnTo>
                  <a:pt x="3063" y="738"/>
                </a:lnTo>
                <a:lnTo>
                  <a:pt x="3117" y="740"/>
                </a:lnTo>
                <a:lnTo>
                  <a:pt x="3177" y="743"/>
                </a:lnTo>
                <a:lnTo>
                  <a:pt x="3240" y="745"/>
                </a:lnTo>
                <a:lnTo>
                  <a:pt x="3307" y="748"/>
                </a:lnTo>
                <a:lnTo>
                  <a:pt x="3375" y="750"/>
                </a:lnTo>
                <a:lnTo>
                  <a:pt x="3447" y="752"/>
                </a:lnTo>
                <a:lnTo>
                  <a:pt x="3517" y="754"/>
                </a:lnTo>
                <a:lnTo>
                  <a:pt x="3582" y="756"/>
                </a:lnTo>
                <a:lnTo>
                  <a:pt x="3642" y="757"/>
                </a:lnTo>
                <a:lnTo>
                  <a:pt x="3696" y="758"/>
                </a:lnTo>
                <a:lnTo>
                  <a:pt x="3743" y="759"/>
                </a:lnTo>
                <a:lnTo>
                  <a:pt x="3784" y="760"/>
                </a:lnTo>
                <a:lnTo>
                  <a:pt x="3818" y="761"/>
                </a:lnTo>
                <a:lnTo>
                  <a:pt x="3847" y="761"/>
                </a:lnTo>
                <a:lnTo>
                  <a:pt x="3870" y="762"/>
                </a:lnTo>
                <a:lnTo>
                  <a:pt x="3888" y="762"/>
                </a:lnTo>
                <a:lnTo>
                  <a:pt x="3903" y="762"/>
                </a:lnTo>
                <a:lnTo>
                  <a:pt x="3914" y="762"/>
                </a:lnTo>
                <a:lnTo>
                  <a:pt x="3923" y="762"/>
                </a:lnTo>
                <a:lnTo>
                  <a:pt x="3931" y="762"/>
                </a:lnTo>
                <a:lnTo>
                  <a:pt x="3938" y="763"/>
                </a:lnTo>
                <a:lnTo>
                  <a:pt x="3944" y="762"/>
                </a:lnTo>
                <a:lnTo>
                  <a:pt x="3952" y="762"/>
                </a:lnTo>
                <a:lnTo>
                  <a:pt x="3961" y="762"/>
                </a:lnTo>
                <a:lnTo>
                  <a:pt x="3972" y="762"/>
                </a:lnTo>
                <a:lnTo>
                  <a:pt x="3987" y="762"/>
                </a:lnTo>
                <a:lnTo>
                  <a:pt x="4005" y="762"/>
                </a:lnTo>
                <a:lnTo>
                  <a:pt x="4028" y="761"/>
                </a:lnTo>
                <a:lnTo>
                  <a:pt x="4057" y="761"/>
                </a:lnTo>
                <a:lnTo>
                  <a:pt x="4091" y="760"/>
                </a:lnTo>
                <a:lnTo>
                  <a:pt x="4132" y="759"/>
                </a:lnTo>
                <a:lnTo>
                  <a:pt x="4179" y="758"/>
                </a:lnTo>
                <a:lnTo>
                  <a:pt x="4233" y="757"/>
                </a:lnTo>
                <a:lnTo>
                  <a:pt x="4293" y="756"/>
                </a:lnTo>
                <a:lnTo>
                  <a:pt x="4358" y="754"/>
                </a:lnTo>
                <a:lnTo>
                  <a:pt x="4428" y="752"/>
                </a:lnTo>
                <a:lnTo>
                  <a:pt x="4500" y="750"/>
                </a:lnTo>
                <a:lnTo>
                  <a:pt x="4568" y="748"/>
                </a:lnTo>
                <a:lnTo>
                  <a:pt x="4634" y="745"/>
                </a:lnTo>
                <a:lnTo>
                  <a:pt x="4697" y="743"/>
                </a:lnTo>
                <a:lnTo>
                  <a:pt x="4756" y="740"/>
                </a:lnTo>
                <a:lnTo>
                  <a:pt x="4808" y="738"/>
                </a:lnTo>
                <a:lnTo>
                  <a:pt x="4855" y="736"/>
                </a:lnTo>
                <a:lnTo>
                  <a:pt x="4896" y="734"/>
                </a:lnTo>
                <a:lnTo>
                  <a:pt x="4931" y="732"/>
                </a:lnTo>
                <a:lnTo>
                  <a:pt x="4960" y="731"/>
                </a:lnTo>
                <a:lnTo>
                  <a:pt x="4984" y="730"/>
                </a:lnTo>
                <a:lnTo>
                  <a:pt x="5004" y="729"/>
                </a:lnTo>
                <a:lnTo>
                  <a:pt x="5019" y="728"/>
                </a:lnTo>
                <a:lnTo>
                  <a:pt x="5030" y="727"/>
                </a:lnTo>
                <a:lnTo>
                  <a:pt x="5039" y="726"/>
                </a:lnTo>
                <a:lnTo>
                  <a:pt x="5046" y="726"/>
                </a:lnTo>
                <a:lnTo>
                  <a:pt x="5051" y="725"/>
                </a:lnTo>
                <a:lnTo>
                  <a:pt x="5056" y="725"/>
                </a:lnTo>
                <a:lnTo>
                  <a:pt x="5061" y="724"/>
                </a:lnTo>
                <a:lnTo>
                  <a:pt x="5067" y="724"/>
                </a:lnTo>
                <a:lnTo>
                  <a:pt x="5075" y="723"/>
                </a:lnTo>
                <a:lnTo>
                  <a:pt x="5084" y="722"/>
                </a:lnTo>
                <a:lnTo>
                  <a:pt x="5098" y="721"/>
                </a:lnTo>
                <a:lnTo>
                  <a:pt x="5115" y="720"/>
                </a:lnTo>
                <a:lnTo>
                  <a:pt x="5136" y="718"/>
                </a:lnTo>
                <a:lnTo>
                  <a:pt x="5163" y="716"/>
                </a:lnTo>
                <a:lnTo>
                  <a:pt x="5196" y="713"/>
                </a:lnTo>
                <a:lnTo>
                  <a:pt x="5236" y="710"/>
                </a:lnTo>
                <a:lnTo>
                  <a:pt x="5282" y="707"/>
                </a:lnTo>
                <a:lnTo>
                  <a:pt x="5336" y="703"/>
                </a:lnTo>
                <a:lnTo>
                  <a:pt x="5397" y="698"/>
                </a:lnTo>
                <a:lnTo>
                  <a:pt x="5464" y="693"/>
                </a:lnTo>
                <a:lnTo>
                  <a:pt x="5538" y="688"/>
                </a:lnTo>
                <a:lnTo>
                  <a:pt x="5617" y="681"/>
                </a:lnTo>
                <a:lnTo>
                  <a:pt x="5700" y="675"/>
                </a:lnTo>
                <a:lnTo>
                  <a:pt x="5772" y="669"/>
                </a:lnTo>
                <a:lnTo>
                  <a:pt x="5843" y="664"/>
                </a:lnTo>
                <a:lnTo>
                  <a:pt x="5912" y="658"/>
                </a:lnTo>
                <a:lnTo>
                  <a:pt x="5979" y="652"/>
                </a:lnTo>
                <a:lnTo>
                  <a:pt x="6042" y="647"/>
                </a:lnTo>
                <a:lnTo>
                  <a:pt x="6101" y="642"/>
                </a:lnTo>
                <a:lnTo>
                  <a:pt x="6156" y="638"/>
                </a:lnTo>
                <a:lnTo>
                  <a:pt x="6206" y="633"/>
                </a:lnTo>
                <a:lnTo>
                  <a:pt x="6252" y="630"/>
                </a:lnTo>
                <a:lnTo>
                  <a:pt x="6293" y="626"/>
                </a:lnTo>
                <a:lnTo>
                  <a:pt x="6330" y="623"/>
                </a:lnTo>
                <a:lnTo>
                  <a:pt x="6363" y="620"/>
                </a:lnTo>
                <a:lnTo>
                  <a:pt x="6392" y="618"/>
                </a:lnTo>
                <a:lnTo>
                  <a:pt x="6418" y="616"/>
                </a:lnTo>
                <a:lnTo>
                  <a:pt x="6441" y="614"/>
                </a:lnTo>
                <a:lnTo>
                  <a:pt x="6462" y="612"/>
                </a:lnTo>
                <a:lnTo>
                  <a:pt x="6481" y="610"/>
                </a:lnTo>
                <a:lnTo>
                  <a:pt x="6499" y="609"/>
                </a:lnTo>
                <a:lnTo>
                  <a:pt x="6515" y="608"/>
                </a:lnTo>
                <a:lnTo>
                  <a:pt x="6531" y="606"/>
                </a:lnTo>
                <a:lnTo>
                  <a:pt x="6547" y="605"/>
                </a:lnTo>
                <a:lnTo>
                  <a:pt x="6564" y="603"/>
                </a:lnTo>
                <a:lnTo>
                  <a:pt x="6581" y="602"/>
                </a:lnTo>
                <a:lnTo>
                  <a:pt x="6600" y="600"/>
                </a:lnTo>
                <a:lnTo>
                  <a:pt x="6621" y="598"/>
                </a:lnTo>
                <a:lnTo>
                  <a:pt x="6644" y="596"/>
                </a:lnTo>
                <a:lnTo>
                  <a:pt x="6670" y="594"/>
                </a:lnTo>
                <a:lnTo>
                  <a:pt x="6699" y="591"/>
                </a:lnTo>
                <a:lnTo>
                  <a:pt x="6731" y="588"/>
                </a:lnTo>
                <a:lnTo>
                  <a:pt x="6768" y="584"/>
                </a:lnTo>
                <a:lnTo>
                  <a:pt x="6808" y="581"/>
                </a:lnTo>
                <a:lnTo>
                  <a:pt x="6853" y="576"/>
                </a:lnTo>
                <a:lnTo>
                  <a:pt x="6903" y="571"/>
                </a:lnTo>
                <a:lnTo>
                  <a:pt x="6957" y="566"/>
                </a:lnTo>
                <a:lnTo>
                  <a:pt x="7015" y="560"/>
                </a:lnTo>
                <a:lnTo>
                  <a:pt x="7077" y="554"/>
                </a:lnTo>
                <a:lnTo>
                  <a:pt x="7143" y="547"/>
                </a:lnTo>
                <a:lnTo>
                  <a:pt x="7211" y="540"/>
                </a:lnTo>
                <a:lnTo>
                  <a:pt x="7280" y="532"/>
                </a:lnTo>
                <a:lnTo>
                  <a:pt x="7350" y="525"/>
                </a:lnTo>
                <a:lnTo>
                  <a:pt x="7435" y="516"/>
                </a:lnTo>
                <a:lnTo>
                  <a:pt x="7516" y="507"/>
                </a:lnTo>
                <a:lnTo>
                  <a:pt x="7592" y="498"/>
                </a:lnTo>
                <a:lnTo>
                  <a:pt x="7660" y="490"/>
                </a:lnTo>
                <a:lnTo>
                  <a:pt x="7721" y="483"/>
                </a:lnTo>
                <a:lnTo>
                  <a:pt x="7774" y="476"/>
                </a:lnTo>
                <a:lnTo>
                  <a:pt x="7820" y="471"/>
                </a:lnTo>
                <a:lnTo>
                  <a:pt x="7859" y="466"/>
                </a:lnTo>
                <a:lnTo>
                  <a:pt x="7891" y="461"/>
                </a:lnTo>
                <a:lnTo>
                  <a:pt x="7917" y="457"/>
                </a:lnTo>
                <a:lnTo>
                  <a:pt x="7938" y="454"/>
                </a:lnTo>
                <a:lnTo>
                  <a:pt x="7954" y="452"/>
                </a:lnTo>
                <a:lnTo>
                  <a:pt x="7967" y="449"/>
                </a:lnTo>
                <a:lnTo>
                  <a:pt x="7978" y="447"/>
                </a:lnTo>
                <a:lnTo>
                  <a:pt x="7986" y="445"/>
                </a:lnTo>
                <a:lnTo>
                  <a:pt x="7994" y="444"/>
                </a:lnTo>
                <a:lnTo>
                  <a:pt x="8001" y="442"/>
                </a:lnTo>
                <a:lnTo>
                  <a:pt x="8009" y="440"/>
                </a:lnTo>
                <a:lnTo>
                  <a:pt x="8017" y="438"/>
                </a:lnTo>
                <a:lnTo>
                  <a:pt x="8028" y="436"/>
                </a:lnTo>
                <a:lnTo>
                  <a:pt x="8042" y="434"/>
                </a:lnTo>
                <a:lnTo>
                  <a:pt x="8059" y="431"/>
                </a:lnTo>
                <a:lnTo>
                  <a:pt x="8080" y="428"/>
                </a:lnTo>
                <a:lnTo>
                  <a:pt x="8105" y="424"/>
                </a:lnTo>
                <a:lnTo>
                  <a:pt x="8136" y="419"/>
                </a:lnTo>
                <a:lnTo>
                  <a:pt x="8171" y="414"/>
                </a:lnTo>
                <a:lnTo>
                  <a:pt x="8212" y="409"/>
                </a:lnTo>
                <a:lnTo>
                  <a:pt x="8258" y="403"/>
                </a:lnTo>
                <a:lnTo>
                  <a:pt x="8308" y="396"/>
                </a:lnTo>
                <a:lnTo>
                  <a:pt x="8362" y="389"/>
                </a:lnTo>
                <a:lnTo>
                  <a:pt x="8418" y="382"/>
                </a:lnTo>
                <a:lnTo>
                  <a:pt x="8475" y="375"/>
                </a:lnTo>
                <a:lnTo>
                  <a:pt x="8542" y="367"/>
                </a:lnTo>
                <a:lnTo>
                  <a:pt x="8605" y="359"/>
                </a:lnTo>
                <a:lnTo>
                  <a:pt x="8660" y="352"/>
                </a:lnTo>
                <a:lnTo>
                  <a:pt x="8707" y="346"/>
                </a:lnTo>
                <a:lnTo>
                  <a:pt x="8745" y="341"/>
                </a:lnTo>
                <a:lnTo>
                  <a:pt x="8776" y="337"/>
                </a:lnTo>
                <a:lnTo>
                  <a:pt x="8799" y="334"/>
                </a:lnTo>
                <a:lnTo>
                  <a:pt x="8816" y="331"/>
                </a:lnTo>
                <a:lnTo>
                  <a:pt x="8827" y="329"/>
                </a:lnTo>
                <a:lnTo>
                  <a:pt x="8834" y="328"/>
                </a:lnTo>
                <a:lnTo>
                  <a:pt x="8837" y="327"/>
                </a:lnTo>
                <a:lnTo>
                  <a:pt x="8838" y="326"/>
                </a:lnTo>
                <a:lnTo>
                  <a:pt x="8837" y="325"/>
                </a:lnTo>
                <a:lnTo>
                  <a:pt x="8837" y="324"/>
                </a:lnTo>
                <a:lnTo>
                  <a:pt x="8840" y="323"/>
                </a:lnTo>
                <a:lnTo>
                  <a:pt x="8845" y="322"/>
                </a:lnTo>
                <a:lnTo>
                  <a:pt x="8855" y="321"/>
                </a:lnTo>
                <a:lnTo>
                  <a:pt x="8870" y="319"/>
                </a:lnTo>
                <a:lnTo>
                  <a:pt x="8890" y="317"/>
                </a:lnTo>
                <a:lnTo>
                  <a:pt x="8917" y="315"/>
                </a:lnTo>
                <a:lnTo>
                  <a:pt x="8951" y="312"/>
                </a:lnTo>
                <a:lnTo>
                  <a:pt x="8992" y="309"/>
                </a:lnTo>
                <a:lnTo>
                  <a:pt x="9040" y="306"/>
                </a:lnTo>
                <a:lnTo>
                  <a:pt x="9093" y="303"/>
                </a:lnTo>
                <a:lnTo>
                  <a:pt x="9150" y="300"/>
                </a:lnTo>
                <a:lnTo>
                  <a:pt x="9204" y="298"/>
                </a:lnTo>
                <a:lnTo>
                  <a:pt x="9256" y="295"/>
                </a:lnTo>
                <a:lnTo>
                  <a:pt x="9305" y="294"/>
                </a:lnTo>
                <a:lnTo>
                  <a:pt x="9349" y="293"/>
                </a:lnTo>
                <a:lnTo>
                  <a:pt x="9389" y="292"/>
                </a:lnTo>
                <a:lnTo>
                  <a:pt x="9424" y="291"/>
                </a:lnTo>
                <a:lnTo>
                  <a:pt x="9454" y="291"/>
                </a:lnTo>
                <a:lnTo>
                  <a:pt x="9479" y="291"/>
                </a:lnTo>
                <a:lnTo>
                  <a:pt x="9499" y="291"/>
                </a:lnTo>
                <a:lnTo>
                  <a:pt x="9516" y="291"/>
                </a:lnTo>
                <a:lnTo>
                  <a:pt x="9531" y="292"/>
                </a:lnTo>
                <a:lnTo>
                  <a:pt x="9542" y="292"/>
                </a:lnTo>
                <a:lnTo>
                  <a:pt x="9553" y="293"/>
                </a:lnTo>
                <a:lnTo>
                  <a:pt x="9563" y="294"/>
                </a:lnTo>
                <a:lnTo>
                  <a:pt x="9572" y="295"/>
                </a:lnTo>
                <a:lnTo>
                  <a:pt x="9583" y="295"/>
                </a:lnTo>
                <a:lnTo>
                  <a:pt x="9594" y="296"/>
                </a:lnTo>
                <a:lnTo>
                  <a:pt x="9609" y="297"/>
                </a:lnTo>
                <a:lnTo>
                  <a:pt x="9626" y="297"/>
                </a:lnTo>
                <a:lnTo>
                  <a:pt x="9646" y="298"/>
                </a:lnTo>
                <a:lnTo>
                  <a:pt x="9671" y="299"/>
                </a:lnTo>
                <a:lnTo>
                  <a:pt x="9701" y="299"/>
                </a:lnTo>
                <a:lnTo>
                  <a:pt x="9736" y="299"/>
                </a:lnTo>
                <a:lnTo>
                  <a:pt x="9776" y="300"/>
                </a:lnTo>
                <a:lnTo>
                  <a:pt x="9820" y="300"/>
                </a:lnTo>
                <a:lnTo>
                  <a:pt x="9869" y="300"/>
                </a:lnTo>
                <a:lnTo>
                  <a:pt x="9921" y="300"/>
                </a:lnTo>
                <a:lnTo>
                  <a:pt x="9975" y="300"/>
                </a:lnTo>
                <a:lnTo>
                  <a:pt x="10037" y="300"/>
                </a:lnTo>
                <a:lnTo>
                  <a:pt x="10095" y="300"/>
                </a:lnTo>
                <a:lnTo>
                  <a:pt x="10150" y="300"/>
                </a:lnTo>
                <a:lnTo>
                  <a:pt x="10201" y="300"/>
                </a:lnTo>
                <a:lnTo>
                  <a:pt x="10248" y="300"/>
                </a:lnTo>
                <a:lnTo>
                  <a:pt x="10291" y="300"/>
                </a:lnTo>
                <a:lnTo>
                  <a:pt x="10331" y="300"/>
                </a:lnTo>
                <a:lnTo>
                  <a:pt x="10368" y="300"/>
                </a:lnTo>
                <a:lnTo>
                  <a:pt x="10403" y="300"/>
                </a:lnTo>
                <a:lnTo>
                  <a:pt x="10435" y="300"/>
                </a:lnTo>
                <a:lnTo>
                  <a:pt x="10466" y="300"/>
                </a:lnTo>
                <a:lnTo>
                  <a:pt x="10495" y="300"/>
                </a:lnTo>
                <a:lnTo>
                  <a:pt x="10522" y="300"/>
                </a:lnTo>
                <a:lnTo>
                  <a:pt x="10547" y="300"/>
                </a:lnTo>
                <a:lnTo>
                  <a:pt x="10570" y="300"/>
                </a:lnTo>
                <a:lnTo>
                  <a:pt x="10590" y="300"/>
                </a:lnTo>
                <a:lnTo>
                  <a:pt x="10608" y="300"/>
                </a:lnTo>
                <a:lnTo>
                  <a:pt x="10622" y="300"/>
                </a:lnTo>
                <a:lnTo>
                  <a:pt x="10633" y="300"/>
                </a:lnTo>
                <a:lnTo>
                  <a:pt x="10641" y="300"/>
                </a:lnTo>
                <a:lnTo>
                  <a:pt x="10646" y="300"/>
                </a:lnTo>
                <a:lnTo>
                  <a:pt x="10649" y="300"/>
                </a:lnTo>
                <a:lnTo>
                  <a:pt x="10650" y="300"/>
                </a:lnTo>
                <a:lnTo>
                  <a:pt x="10650" y="301"/>
                </a:lnTo>
                <a:lnTo>
                  <a:pt x="10650" y="307"/>
                </a:lnTo>
                <a:lnTo>
                  <a:pt x="10650" y="320"/>
                </a:lnTo>
                <a:lnTo>
                  <a:pt x="10650" y="338"/>
                </a:lnTo>
                <a:lnTo>
                  <a:pt x="10650" y="355"/>
                </a:lnTo>
                <a:lnTo>
                  <a:pt x="10650" y="368"/>
                </a:lnTo>
                <a:lnTo>
                  <a:pt x="10650" y="374"/>
                </a:lnTo>
                <a:lnTo>
                  <a:pt x="10650" y="375"/>
                </a:lnTo>
                <a:lnTo>
                  <a:pt x="10649" y="375"/>
                </a:lnTo>
                <a:lnTo>
                  <a:pt x="10646" y="375"/>
                </a:lnTo>
                <a:lnTo>
                  <a:pt x="10641" y="375"/>
                </a:lnTo>
                <a:lnTo>
                  <a:pt x="10633" y="375"/>
                </a:lnTo>
                <a:lnTo>
                  <a:pt x="10622" y="375"/>
                </a:lnTo>
                <a:lnTo>
                  <a:pt x="10608" y="375"/>
                </a:lnTo>
                <a:lnTo>
                  <a:pt x="10590" y="375"/>
                </a:lnTo>
                <a:lnTo>
                  <a:pt x="10570" y="375"/>
                </a:lnTo>
                <a:lnTo>
                  <a:pt x="10547" y="375"/>
                </a:lnTo>
                <a:lnTo>
                  <a:pt x="10522" y="375"/>
                </a:lnTo>
                <a:lnTo>
                  <a:pt x="10495" y="375"/>
                </a:lnTo>
                <a:lnTo>
                  <a:pt x="10466" y="375"/>
                </a:lnTo>
                <a:lnTo>
                  <a:pt x="10435" y="375"/>
                </a:lnTo>
                <a:lnTo>
                  <a:pt x="10403" y="375"/>
                </a:lnTo>
                <a:lnTo>
                  <a:pt x="10368" y="375"/>
                </a:lnTo>
                <a:lnTo>
                  <a:pt x="10331" y="375"/>
                </a:lnTo>
                <a:lnTo>
                  <a:pt x="10291" y="375"/>
                </a:lnTo>
                <a:lnTo>
                  <a:pt x="10248" y="375"/>
                </a:lnTo>
                <a:lnTo>
                  <a:pt x="10201" y="375"/>
                </a:lnTo>
                <a:lnTo>
                  <a:pt x="10150" y="375"/>
                </a:lnTo>
                <a:lnTo>
                  <a:pt x="10095" y="375"/>
                </a:lnTo>
                <a:lnTo>
                  <a:pt x="10037" y="375"/>
                </a:lnTo>
                <a:lnTo>
                  <a:pt x="9975" y="375"/>
                </a:lnTo>
              </a:path>
            </a:pathLst>
          </a:custGeom>
          <a:solidFill>
            <a:srgbClr val="e0e0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51400" y="2789280"/>
            <a:ext cx="2878200" cy="344520"/>
          </a:xfrm>
          <a:custGeom>
            <a:avLst/>
            <a:gdLst/>
            <a:ahLst/>
            <a:rect l="l" t="t" r="r" b="b"/>
            <a:pathLst>
              <a:path w="7995" h="959">
                <a:moveTo>
                  <a:pt x="6600" y="570"/>
                </a:moveTo>
                <a:lnTo>
                  <a:pt x="6526" y="562"/>
                </a:lnTo>
                <a:lnTo>
                  <a:pt x="6456" y="553"/>
                </a:lnTo>
                <a:lnTo>
                  <a:pt x="6391" y="545"/>
                </a:lnTo>
                <a:lnTo>
                  <a:pt x="6332" y="537"/>
                </a:lnTo>
                <a:lnTo>
                  <a:pt x="6278" y="529"/>
                </a:lnTo>
                <a:lnTo>
                  <a:pt x="6229" y="521"/>
                </a:lnTo>
                <a:lnTo>
                  <a:pt x="6184" y="514"/>
                </a:lnTo>
                <a:lnTo>
                  <a:pt x="6144" y="506"/>
                </a:lnTo>
                <a:lnTo>
                  <a:pt x="6107" y="499"/>
                </a:lnTo>
                <a:lnTo>
                  <a:pt x="6073" y="492"/>
                </a:lnTo>
                <a:lnTo>
                  <a:pt x="6042" y="485"/>
                </a:lnTo>
                <a:lnTo>
                  <a:pt x="6013" y="478"/>
                </a:lnTo>
                <a:lnTo>
                  <a:pt x="5986" y="471"/>
                </a:lnTo>
                <a:lnTo>
                  <a:pt x="5962" y="465"/>
                </a:lnTo>
                <a:lnTo>
                  <a:pt x="5939" y="458"/>
                </a:lnTo>
                <a:lnTo>
                  <a:pt x="5918" y="452"/>
                </a:lnTo>
                <a:lnTo>
                  <a:pt x="5899" y="446"/>
                </a:lnTo>
                <a:lnTo>
                  <a:pt x="5882" y="441"/>
                </a:lnTo>
                <a:lnTo>
                  <a:pt x="5867" y="436"/>
                </a:lnTo>
                <a:lnTo>
                  <a:pt x="5855" y="432"/>
                </a:lnTo>
                <a:lnTo>
                  <a:pt x="5844" y="429"/>
                </a:lnTo>
                <a:lnTo>
                  <a:pt x="5836" y="426"/>
                </a:lnTo>
                <a:lnTo>
                  <a:pt x="5829" y="423"/>
                </a:lnTo>
                <a:lnTo>
                  <a:pt x="5825" y="422"/>
                </a:lnTo>
                <a:lnTo>
                  <a:pt x="5822" y="421"/>
                </a:lnTo>
                <a:lnTo>
                  <a:pt x="5821" y="420"/>
                </a:lnTo>
                <a:lnTo>
                  <a:pt x="5820" y="420"/>
                </a:lnTo>
                <a:lnTo>
                  <a:pt x="5819" y="418"/>
                </a:lnTo>
                <a:lnTo>
                  <a:pt x="5816" y="414"/>
                </a:lnTo>
                <a:lnTo>
                  <a:pt x="5810" y="407"/>
                </a:lnTo>
                <a:lnTo>
                  <a:pt x="5803" y="398"/>
                </a:lnTo>
                <a:lnTo>
                  <a:pt x="5793" y="385"/>
                </a:lnTo>
                <a:lnTo>
                  <a:pt x="5782" y="371"/>
                </a:lnTo>
                <a:lnTo>
                  <a:pt x="5770" y="355"/>
                </a:lnTo>
                <a:lnTo>
                  <a:pt x="5757" y="339"/>
                </a:lnTo>
                <a:lnTo>
                  <a:pt x="5744" y="321"/>
                </a:lnTo>
                <a:lnTo>
                  <a:pt x="5730" y="304"/>
                </a:lnTo>
                <a:lnTo>
                  <a:pt x="5716" y="286"/>
                </a:lnTo>
                <a:lnTo>
                  <a:pt x="5701" y="268"/>
                </a:lnTo>
                <a:lnTo>
                  <a:pt x="5686" y="249"/>
                </a:lnTo>
                <a:lnTo>
                  <a:pt x="5670" y="230"/>
                </a:lnTo>
                <a:lnTo>
                  <a:pt x="5655" y="212"/>
                </a:lnTo>
                <a:lnTo>
                  <a:pt x="5634" y="188"/>
                </a:lnTo>
                <a:lnTo>
                  <a:pt x="5620" y="171"/>
                </a:lnTo>
                <a:lnTo>
                  <a:pt x="5614" y="163"/>
                </a:lnTo>
                <a:lnTo>
                  <a:pt x="5612" y="160"/>
                </a:lnTo>
                <a:lnTo>
                  <a:pt x="5614" y="161"/>
                </a:lnTo>
                <a:lnTo>
                  <a:pt x="5615" y="161"/>
                </a:lnTo>
                <a:lnTo>
                  <a:pt x="5610" y="157"/>
                </a:lnTo>
                <a:lnTo>
                  <a:pt x="5599" y="150"/>
                </a:lnTo>
                <a:lnTo>
                  <a:pt x="5583" y="140"/>
                </a:lnTo>
                <a:lnTo>
                  <a:pt x="5566" y="132"/>
                </a:lnTo>
                <a:lnTo>
                  <a:pt x="5549" y="126"/>
                </a:lnTo>
                <a:lnTo>
                  <a:pt x="5535" y="122"/>
                </a:lnTo>
                <a:lnTo>
                  <a:pt x="5522" y="119"/>
                </a:lnTo>
                <a:lnTo>
                  <a:pt x="5509" y="117"/>
                </a:lnTo>
                <a:lnTo>
                  <a:pt x="5498" y="117"/>
                </a:lnTo>
                <a:lnTo>
                  <a:pt x="5490" y="116"/>
                </a:lnTo>
                <a:lnTo>
                  <a:pt x="5484" y="116"/>
                </a:lnTo>
                <a:lnTo>
                  <a:pt x="5481" y="116"/>
                </a:lnTo>
                <a:lnTo>
                  <a:pt x="5479" y="116"/>
                </a:lnTo>
                <a:lnTo>
                  <a:pt x="5473" y="115"/>
                </a:lnTo>
                <a:lnTo>
                  <a:pt x="5463" y="113"/>
                </a:lnTo>
                <a:lnTo>
                  <a:pt x="5448" y="111"/>
                </a:lnTo>
                <a:lnTo>
                  <a:pt x="5427" y="108"/>
                </a:lnTo>
                <a:lnTo>
                  <a:pt x="5399" y="104"/>
                </a:lnTo>
                <a:lnTo>
                  <a:pt x="5365" y="99"/>
                </a:lnTo>
                <a:lnTo>
                  <a:pt x="5324" y="93"/>
                </a:lnTo>
                <a:lnTo>
                  <a:pt x="5278" y="86"/>
                </a:lnTo>
                <a:lnTo>
                  <a:pt x="5227" y="78"/>
                </a:lnTo>
                <a:lnTo>
                  <a:pt x="5174" y="70"/>
                </a:lnTo>
                <a:lnTo>
                  <a:pt x="5118" y="62"/>
                </a:lnTo>
                <a:lnTo>
                  <a:pt x="5062" y="54"/>
                </a:lnTo>
                <a:lnTo>
                  <a:pt x="5009" y="46"/>
                </a:lnTo>
                <a:lnTo>
                  <a:pt x="4958" y="38"/>
                </a:lnTo>
                <a:lnTo>
                  <a:pt x="4912" y="31"/>
                </a:lnTo>
                <a:lnTo>
                  <a:pt x="4871" y="25"/>
                </a:lnTo>
                <a:lnTo>
                  <a:pt x="4837" y="20"/>
                </a:lnTo>
                <a:lnTo>
                  <a:pt x="4809" y="16"/>
                </a:lnTo>
                <a:lnTo>
                  <a:pt x="4788" y="13"/>
                </a:lnTo>
                <a:lnTo>
                  <a:pt x="4773" y="11"/>
                </a:lnTo>
                <a:lnTo>
                  <a:pt x="4763" y="9"/>
                </a:lnTo>
                <a:lnTo>
                  <a:pt x="4757" y="8"/>
                </a:lnTo>
                <a:lnTo>
                  <a:pt x="4755" y="8"/>
                </a:lnTo>
                <a:lnTo>
                  <a:pt x="4752" y="8"/>
                </a:lnTo>
                <a:lnTo>
                  <a:pt x="4746" y="9"/>
                </a:lnTo>
                <a:lnTo>
                  <a:pt x="4735" y="10"/>
                </a:lnTo>
                <a:lnTo>
                  <a:pt x="4718" y="12"/>
                </a:lnTo>
                <a:lnTo>
                  <a:pt x="4694" y="14"/>
                </a:lnTo>
                <a:lnTo>
                  <a:pt x="4663" y="17"/>
                </a:lnTo>
                <a:lnTo>
                  <a:pt x="4625" y="21"/>
                </a:lnTo>
                <a:lnTo>
                  <a:pt x="4581" y="26"/>
                </a:lnTo>
                <a:lnTo>
                  <a:pt x="4532" y="31"/>
                </a:lnTo>
                <a:lnTo>
                  <a:pt x="4480" y="36"/>
                </a:lnTo>
                <a:lnTo>
                  <a:pt x="4425" y="42"/>
                </a:lnTo>
                <a:lnTo>
                  <a:pt x="4370" y="47"/>
                </a:lnTo>
                <a:lnTo>
                  <a:pt x="4318" y="52"/>
                </a:lnTo>
                <a:lnTo>
                  <a:pt x="4269" y="57"/>
                </a:lnTo>
                <a:lnTo>
                  <a:pt x="4225" y="62"/>
                </a:lnTo>
                <a:lnTo>
                  <a:pt x="4187" y="66"/>
                </a:lnTo>
                <a:lnTo>
                  <a:pt x="4156" y="69"/>
                </a:lnTo>
                <a:lnTo>
                  <a:pt x="4132" y="71"/>
                </a:lnTo>
                <a:lnTo>
                  <a:pt x="4115" y="73"/>
                </a:lnTo>
                <a:lnTo>
                  <a:pt x="4104" y="74"/>
                </a:lnTo>
                <a:lnTo>
                  <a:pt x="4098" y="75"/>
                </a:lnTo>
                <a:lnTo>
                  <a:pt x="4095" y="75"/>
                </a:lnTo>
                <a:lnTo>
                  <a:pt x="4092" y="77"/>
                </a:lnTo>
                <a:lnTo>
                  <a:pt x="4087" y="81"/>
                </a:lnTo>
                <a:lnTo>
                  <a:pt x="4077" y="89"/>
                </a:lnTo>
                <a:lnTo>
                  <a:pt x="4062" y="101"/>
                </a:lnTo>
                <a:lnTo>
                  <a:pt x="4042" y="116"/>
                </a:lnTo>
                <a:lnTo>
                  <a:pt x="4018" y="135"/>
                </a:lnTo>
                <a:lnTo>
                  <a:pt x="3990" y="157"/>
                </a:lnTo>
                <a:lnTo>
                  <a:pt x="3960" y="180"/>
                </a:lnTo>
                <a:lnTo>
                  <a:pt x="3930" y="203"/>
                </a:lnTo>
                <a:lnTo>
                  <a:pt x="3902" y="225"/>
                </a:lnTo>
                <a:lnTo>
                  <a:pt x="3878" y="244"/>
                </a:lnTo>
                <a:lnTo>
                  <a:pt x="3858" y="259"/>
                </a:lnTo>
                <a:lnTo>
                  <a:pt x="3843" y="271"/>
                </a:lnTo>
                <a:lnTo>
                  <a:pt x="3833" y="279"/>
                </a:lnTo>
                <a:lnTo>
                  <a:pt x="3828" y="283"/>
                </a:lnTo>
                <a:lnTo>
                  <a:pt x="3825" y="285"/>
                </a:lnTo>
                <a:lnTo>
                  <a:pt x="3824" y="285"/>
                </a:lnTo>
                <a:lnTo>
                  <a:pt x="3822" y="286"/>
                </a:lnTo>
                <a:lnTo>
                  <a:pt x="3818" y="287"/>
                </a:lnTo>
                <a:lnTo>
                  <a:pt x="3812" y="288"/>
                </a:lnTo>
                <a:lnTo>
                  <a:pt x="3804" y="290"/>
                </a:lnTo>
                <a:lnTo>
                  <a:pt x="3794" y="293"/>
                </a:lnTo>
                <a:lnTo>
                  <a:pt x="3781" y="295"/>
                </a:lnTo>
                <a:lnTo>
                  <a:pt x="3766" y="299"/>
                </a:lnTo>
                <a:lnTo>
                  <a:pt x="3749" y="302"/>
                </a:lnTo>
                <a:lnTo>
                  <a:pt x="3729" y="306"/>
                </a:lnTo>
                <a:lnTo>
                  <a:pt x="3705" y="310"/>
                </a:lnTo>
                <a:lnTo>
                  <a:pt x="3678" y="314"/>
                </a:lnTo>
                <a:lnTo>
                  <a:pt x="3646" y="319"/>
                </a:lnTo>
                <a:lnTo>
                  <a:pt x="3608" y="325"/>
                </a:lnTo>
                <a:lnTo>
                  <a:pt x="3562" y="331"/>
                </a:lnTo>
                <a:lnTo>
                  <a:pt x="3510" y="338"/>
                </a:lnTo>
                <a:lnTo>
                  <a:pt x="3450" y="345"/>
                </a:lnTo>
                <a:lnTo>
                  <a:pt x="3406" y="350"/>
                </a:lnTo>
                <a:lnTo>
                  <a:pt x="3362" y="355"/>
                </a:lnTo>
                <a:lnTo>
                  <a:pt x="3321" y="360"/>
                </a:lnTo>
                <a:lnTo>
                  <a:pt x="3283" y="365"/>
                </a:lnTo>
                <a:lnTo>
                  <a:pt x="3249" y="369"/>
                </a:lnTo>
                <a:lnTo>
                  <a:pt x="3220" y="373"/>
                </a:lnTo>
                <a:lnTo>
                  <a:pt x="3196" y="377"/>
                </a:lnTo>
                <a:lnTo>
                  <a:pt x="3175" y="380"/>
                </a:lnTo>
                <a:lnTo>
                  <a:pt x="3158" y="383"/>
                </a:lnTo>
                <a:lnTo>
                  <a:pt x="3144" y="386"/>
                </a:lnTo>
                <a:lnTo>
                  <a:pt x="3132" y="389"/>
                </a:lnTo>
                <a:lnTo>
                  <a:pt x="3122" y="391"/>
                </a:lnTo>
                <a:lnTo>
                  <a:pt x="3112" y="394"/>
                </a:lnTo>
                <a:lnTo>
                  <a:pt x="3103" y="396"/>
                </a:lnTo>
                <a:lnTo>
                  <a:pt x="3092" y="398"/>
                </a:lnTo>
                <a:lnTo>
                  <a:pt x="3079" y="401"/>
                </a:lnTo>
                <a:lnTo>
                  <a:pt x="3063" y="403"/>
                </a:lnTo>
                <a:lnTo>
                  <a:pt x="3044" y="406"/>
                </a:lnTo>
                <a:lnTo>
                  <a:pt x="3020" y="408"/>
                </a:lnTo>
                <a:lnTo>
                  <a:pt x="2991" y="410"/>
                </a:lnTo>
                <a:lnTo>
                  <a:pt x="2957" y="413"/>
                </a:lnTo>
                <a:lnTo>
                  <a:pt x="2916" y="415"/>
                </a:lnTo>
                <a:lnTo>
                  <a:pt x="2869" y="417"/>
                </a:lnTo>
                <a:lnTo>
                  <a:pt x="2817" y="418"/>
                </a:lnTo>
                <a:lnTo>
                  <a:pt x="2760" y="420"/>
                </a:lnTo>
                <a:lnTo>
                  <a:pt x="2700" y="420"/>
                </a:lnTo>
                <a:lnTo>
                  <a:pt x="2644" y="420"/>
                </a:lnTo>
                <a:lnTo>
                  <a:pt x="2590" y="419"/>
                </a:lnTo>
                <a:lnTo>
                  <a:pt x="2539" y="417"/>
                </a:lnTo>
                <a:lnTo>
                  <a:pt x="2493" y="416"/>
                </a:lnTo>
                <a:lnTo>
                  <a:pt x="2452" y="414"/>
                </a:lnTo>
                <a:lnTo>
                  <a:pt x="2416" y="412"/>
                </a:lnTo>
                <a:lnTo>
                  <a:pt x="2386" y="409"/>
                </a:lnTo>
                <a:lnTo>
                  <a:pt x="2360" y="407"/>
                </a:lnTo>
                <a:lnTo>
                  <a:pt x="2339" y="405"/>
                </a:lnTo>
                <a:lnTo>
                  <a:pt x="2322" y="403"/>
                </a:lnTo>
                <a:lnTo>
                  <a:pt x="2307" y="401"/>
                </a:lnTo>
                <a:lnTo>
                  <a:pt x="2295" y="399"/>
                </a:lnTo>
                <a:lnTo>
                  <a:pt x="2285" y="397"/>
                </a:lnTo>
                <a:lnTo>
                  <a:pt x="2275" y="395"/>
                </a:lnTo>
                <a:lnTo>
                  <a:pt x="2265" y="393"/>
                </a:lnTo>
                <a:lnTo>
                  <a:pt x="2255" y="391"/>
                </a:lnTo>
                <a:lnTo>
                  <a:pt x="2243" y="388"/>
                </a:lnTo>
                <a:lnTo>
                  <a:pt x="2229" y="386"/>
                </a:lnTo>
                <a:lnTo>
                  <a:pt x="2213" y="383"/>
                </a:lnTo>
                <a:lnTo>
                  <a:pt x="2192" y="380"/>
                </a:lnTo>
                <a:lnTo>
                  <a:pt x="2168" y="377"/>
                </a:lnTo>
                <a:lnTo>
                  <a:pt x="2139" y="373"/>
                </a:lnTo>
                <a:lnTo>
                  <a:pt x="2105" y="369"/>
                </a:lnTo>
                <a:lnTo>
                  <a:pt x="2067" y="365"/>
                </a:lnTo>
                <a:lnTo>
                  <a:pt x="2023" y="360"/>
                </a:lnTo>
                <a:lnTo>
                  <a:pt x="1976" y="356"/>
                </a:lnTo>
                <a:lnTo>
                  <a:pt x="1926" y="350"/>
                </a:lnTo>
                <a:lnTo>
                  <a:pt x="1875" y="345"/>
                </a:lnTo>
                <a:lnTo>
                  <a:pt x="1817" y="339"/>
                </a:lnTo>
                <a:lnTo>
                  <a:pt x="1763" y="333"/>
                </a:lnTo>
                <a:lnTo>
                  <a:pt x="1715" y="328"/>
                </a:lnTo>
                <a:lnTo>
                  <a:pt x="1674" y="323"/>
                </a:lnTo>
                <a:lnTo>
                  <a:pt x="1641" y="319"/>
                </a:lnTo>
                <a:lnTo>
                  <a:pt x="1614" y="316"/>
                </a:lnTo>
                <a:lnTo>
                  <a:pt x="1593" y="313"/>
                </a:lnTo>
                <a:lnTo>
                  <a:pt x="1578" y="312"/>
                </a:lnTo>
                <a:lnTo>
                  <a:pt x="1567" y="310"/>
                </a:lnTo>
                <a:lnTo>
                  <a:pt x="1559" y="309"/>
                </a:lnTo>
                <a:lnTo>
                  <a:pt x="1554" y="308"/>
                </a:lnTo>
                <a:lnTo>
                  <a:pt x="1550" y="307"/>
                </a:lnTo>
                <a:lnTo>
                  <a:pt x="1546" y="307"/>
                </a:lnTo>
                <a:lnTo>
                  <a:pt x="1541" y="306"/>
                </a:lnTo>
                <a:lnTo>
                  <a:pt x="1535" y="305"/>
                </a:lnTo>
                <a:lnTo>
                  <a:pt x="1525" y="303"/>
                </a:lnTo>
                <a:lnTo>
                  <a:pt x="1512" y="302"/>
                </a:lnTo>
                <a:lnTo>
                  <a:pt x="1494" y="299"/>
                </a:lnTo>
                <a:lnTo>
                  <a:pt x="1470" y="296"/>
                </a:lnTo>
                <a:lnTo>
                  <a:pt x="1441" y="292"/>
                </a:lnTo>
                <a:lnTo>
                  <a:pt x="1406" y="287"/>
                </a:lnTo>
                <a:lnTo>
                  <a:pt x="1366" y="282"/>
                </a:lnTo>
                <a:lnTo>
                  <a:pt x="1322" y="276"/>
                </a:lnTo>
                <a:lnTo>
                  <a:pt x="1275" y="270"/>
                </a:lnTo>
                <a:lnTo>
                  <a:pt x="1225" y="263"/>
                </a:lnTo>
                <a:lnTo>
                  <a:pt x="1178" y="257"/>
                </a:lnTo>
                <a:lnTo>
                  <a:pt x="1136" y="252"/>
                </a:lnTo>
                <a:lnTo>
                  <a:pt x="1101" y="248"/>
                </a:lnTo>
                <a:lnTo>
                  <a:pt x="1073" y="244"/>
                </a:lnTo>
                <a:lnTo>
                  <a:pt x="1050" y="242"/>
                </a:lnTo>
                <a:lnTo>
                  <a:pt x="1033" y="241"/>
                </a:lnTo>
                <a:lnTo>
                  <a:pt x="1020" y="241"/>
                </a:lnTo>
                <a:lnTo>
                  <a:pt x="1011" y="241"/>
                </a:lnTo>
                <a:lnTo>
                  <a:pt x="1003" y="242"/>
                </a:lnTo>
                <a:lnTo>
                  <a:pt x="997" y="243"/>
                </a:lnTo>
                <a:lnTo>
                  <a:pt x="992" y="243"/>
                </a:lnTo>
                <a:lnTo>
                  <a:pt x="985" y="244"/>
                </a:lnTo>
                <a:lnTo>
                  <a:pt x="976" y="243"/>
                </a:lnTo>
                <a:lnTo>
                  <a:pt x="964" y="242"/>
                </a:lnTo>
                <a:lnTo>
                  <a:pt x="948" y="240"/>
                </a:lnTo>
                <a:lnTo>
                  <a:pt x="928" y="237"/>
                </a:lnTo>
                <a:lnTo>
                  <a:pt x="902" y="232"/>
                </a:lnTo>
                <a:lnTo>
                  <a:pt x="870" y="225"/>
                </a:lnTo>
                <a:lnTo>
                  <a:pt x="834" y="217"/>
                </a:lnTo>
                <a:lnTo>
                  <a:pt x="793" y="207"/>
                </a:lnTo>
                <a:lnTo>
                  <a:pt x="750" y="195"/>
                </a:lnTo>
                <a:lnTo>
                  <a:pt x="704" y="181"/>
                </a:lnTo>
                <a:lnTo>
                  <a:pt x="660" y="167"/>
                </a:lnTo>
                <a:lnTo>
                  <a:pt x="620" y="152"/>
                </a:lnTo>
                <a:lnTo>
                  <a:pt x="585" y="138"/>
                </a:lnTo>
                <a:lnTo>
                  <a:pt x="552" y="125"/>
                </a:lnTo>
                <a:lnTo>
                  <a:pt x="522" y="111"/>
                </a:lnTo>
                <a:lnTo>
                  <a:pt x="495" y="98"/>
                </a:lnTo>
                <a:lnTo>
                  <a:pt x="470" y="85"/>
                </a:lnTo>
                <a:lnTo>
                  <a:pt x="447" y="72"/>
                </a:lnTo>
                <a:lnTo>
                  <a:pt x="425" y="60"/>
                </a:lnTo>
                <a:lnTo>
                  <a:pt x="405" y="48"/>
                </a:lnTo>
                <a:lnTo>
                  <a:pt x="387" y="37"/>
                </a:lnTo>
                <a:lnTo>
                  <a:pt x="371" y="27"/>
                </a:lnTo>
                <a:lnTo>
                  <a:pt x="358" y="19"/>
                </a:lnTo>
                <a:lnTo>
                  <a:pt x="347" y="12"/>
                </a:lnTo>
                <a:lnTo>
                  <a:pt x="339" y="6"/>
                </a:lnTo>
                <a:lnTo>
                  <a:pt x="334" y="3"/>
                </a:lnTo>
                <a:lnTo>
                  <a:pt x="331" y="1"/>
                </a:lnTo>
                <a:lnTo>
                  <a:pt x="330" y="0"/>
                </a:lnTo>
                <a:lnTo>
                  <a:pt x="327" y="2"/>
                </a:lnTo>
                <a:lnTo>
                  <a:pt x="320" y="6"/>
                </a:lnTo>
                <a:lnTo>
                  <a:pt x="308" y="13"/>
                </a:lnTo>
                <a:lnTo>
                  <a:pt x="290" y="24"/>
                </a:lnTo>
                <a:lnTo>
                  <a:pt x="265" y="38"/>
                </a:lnTo>
                <a:lnTo>
                  <a:pt x="235" y="56"/>
                </a:lnTo>
                <a:lnTo>
                  <a:pt x="201" y="76"/>
                </a:lnTo>
                <a:lnTo>
                  <a:pt x="165" y="98"/>
                </a:lnTo>
                <a:lnTo>
                  <a:pt x="129" y="119"/>
                </a:lnTo>
                <a:lnTo>
                  <a:pt x="95" y="139"/>
                </a:lnTo>
                <a:lnTo>
                  <a:pt x="65" y="157"/>
                </a:lnTo>
                <a:lnTo>
                  <a:pt x="40" y="171"/>
                </a:lnTo>
                <a:lnTo>
                  <a:pt x="22" y="182"/>
                </a:lnTo>
                <a:lnTo>
                  <a:pt x="10" y="189"/>
                </a:lnTo>
                <a:lnTo>
                  <a:pt x="3" y="193"/>
                </a:lnTo>
                <a:lnTo>
                  <a:pt x="0" y="195"/>
                </a:lnTo>
                <a:lnTo>
                  <a:pt x="1" y="196"/>
                </a:lnTo>
                <a:lnTo>
                  <a:pt x="3" y="197"/>
                </a:lnTo>
                <a:lnTo>
                  <a:pt x="8" y="200"/>
                </a:lnTo>
                <a:lnTo>
                  <a:pt x="15" y="204"/>
                </a:lnTo>
                <a:lnTo>
                  <a:pt x="25" y="210"/>
                </a:lnTo>
                <a:lnTo>
                  <a:pt x="37" y="218"/>
                </a:lnTo>
                <a:lnTo>
                  <a:pt x="53" y="227"/>
                </a:lnTo>
                <a:lnTo>
                  <a:pt x="72" y="239"/>
                </a:lnTo>
                <a:lnTo>
                  <a:pt x="94" y="252"/>
                </a:lnTo>
                <a:lnTo>
                  <a:pt x="118" y="266"/>
                </a:lnTo>
                <a:lnTo>
                  <a:pt x="144" y="282"/>
                </a:lnTo>
                <a:lnTo>
                  <a:pt x="173" y="299"/>
                </a:lnTo>
                <a:lnTo>
                  <a:pt x="203" y="317"/>
                </a:lnTo>
                <a:lnTo>
                  <a:pt x="234" y="336"/>
                </a:lnTo>
                <a:lnTo>
                  <a:pt x="267" y="355"/>
                </a:lnTo>
                <a:lnTo>
                  <a:pt x="301" y="374"/>
                </a:lnTo>
                <a:lnTo>
                  <a:pt x="335" y="394"/>
                </a:lnTo>
                <a:lnTo>
                  <a:pt x="370" y="414"/>
                </a:lnTo>
                <a:lnTo>
                  <a:pt x="406" y="434"/>
                </a:lnTo>
                <a:lnTo>
                  <a:pt x="443" y="454"/>
                </a:lnTo>
                <a:lnTo>
                  <a:pt x="481" y="475"/>
                </a:lnTo>
                <a:lnTo>
                  <a:pt x="520" y="496"/>
                </a:lnTo>
                <a:lnTo>
                  <a:pt x="560" y="517"/>
                </a:lnTo>
                <a:lnTo>
                  <a:pt x="602" y="538"/>
                </a:lnTo>
                <a:lnTo>
                  <a:pt x="645" y="560"/>
                </a:lnTo>
                <a:lnTo>
                  <a:pt x="689" y="581"/>
                </a:lnTo>
                <a:lnTo>
                  <a:pt x="734" y="603"/>
                </a:lnTo>
                <a:lnTo>
                  <a:pt x="780" y="624"/>
                </a:lnTo>
                <a:lnTo>
                  <a:pt x="825" y="645"/>
                </a:lnTo>
                <a:lnTo>
                  <a:pt x="884" y="671"/>
                </a:lnTo>
                <a:lnTo>
                  <a:pt x="938" y="693"/>
                </a:lnTo>
                <a:lnTo>
                  <a:pt x="984" y="712"/>
                </a:lnTo>
                <a:lnTo>
                  <a:pt x="1021" y="726"/>
                </a:lnTo>
                <a:lnTo>
                  <a:pt x="1048" y="737"/>
                </a:lnTo>
                <a:lnTo>
                  <a:pt x="1068" y="745"/>
                </a:lnTo>
                <a:lnTo>
                  <a:pt x="1081" y="750"/>
                </a:lnTo>
                <a:lnTo>
                  <a:pt x="1088" y="752"/>
                </a:lnTo>
                <a:lnTo>
                  <a:pt x="1090" y="753"/>
                </a:lnTo>
                <a:lnTo>
                  <a:pt x="1090" y="752"/>
                </a:lnTo>
                <a:lnTo>
                  <a:pt x="1087" y="751"/>
                </a:lnTo>
                <a:lnTo>
                  <a:pt x="1085" y="750"/>
                </a:lnTo>
                <a:lnTo>
                  <a:pt x="1085" y="749"/>
                </a:lnTo>
                <a:lnTo>
                  <a:pt x="1087" y="748"/>
                </a:lnTo>
                <a:lnTo>
                  <a:pt x="1094" y="749"/>
                </a:lnTo>
                <a:lnTo>
                  <a:pt x="1107" y="750"/>
                </a:lnTo>
                <a:lnTo>
                  <a:pt x="1127" y="754"/>
                </a:lnTo>
                <a:lnTo>
                  <a:pt x="1154" y="759"/>
                </a:lnTo>
                <a:lnTo>
                  <a:pt x="1191" y="766"/>
                </a:lnTo>
                <a:lnTo>
                  <a:pt x="1237" y="775"/>
                </a:lnTo>
                <a:lnTo>
                  <a:pt x="1291" y="785"/>
                </a:lnTo>
                <a:lnTo>
                  <a:pt x="1350" y="795"/>
                </a:lnTo>
                <a:lnTo>
                  <a:pt x="1399" y="803"/>
                </a:lnTo>
                <a:lnTo>
                  <a:pt x="1446" y="810"/>
                </a:lnTo>
                <a:lnTo>
                  <a:pt x="1491" y="816"/>
                </a:lnTo>
                <a:lnTo>
                  <a:pt x="1532" y="822"/>
                </a:lnTo>
                <a:lnTo>
                  <a:pt x="1568" y="827"/>
                </a:lnTo>
                <a:lnTo>
                  <a:pt x="1599" y="830"/>
                </a:lnTo>
                <a:lnTo>
                  <a:pt x="1625" y="833"/>
                </a:lnTo>
                <a:lnTo>
                  <a:pt x="1646" y="835"/>
                </a:lnTo>
                <a:lnTo>
                  <a:pt x="1663" y="837"/>
                </a:lnTo>
                <a:lnTo>
                  <a:pt x="1676" y="838"/>
                </a:lnTo>
                <a:lnTo>
                  <a:pt x="1686" y="839"/>
                </a:lnTo>
                <a:lnTo>
                  <a:pt x="1694" y="839"/>
                </a:lnTo>
                <a:lnTo>
                  <a:pt x="1700" y="839"/>
                </a:lnTo>
                <a:lnTo>
                  <a:pt x="1706" y="839"/>
                </a:lnTo>
                <a:lnTo>
                  <a:pt x="1712" y="839"/>
                </a:lnTo>
                <a:lnTo>
                  <a:pt x="1720" y="839"/>
                </a:lnTo>
                <a:lnTo>
                  <a:pt x="1729" y="839"/>
                </a:lnTo>
                <a:lnTo>
                  <a:pt x="1741" y="839"/>
                </a:lnTo>
                <a:lnTo>
                  <a:pt x="1757" y="840"/>
                </a:lnTo>
                <a:lnTo>
                  <a:pt x="1778" y="841"/>
                </a:lnTo>
                <a:lnTo>
                  <a:pt x="1804" y="842"/>
                </a:lnTo>
                <a:lnTo>
                  <a:pt x="1836" y="845"/>
                </a:lnTo>
                <a:lnTo>
                  <a:pt x="1876" y="847"/>
                </a:lnTo>
                <a:lnTo>
                  <a:pt x="1923" y="851"/>
                </a:lnTo>
                <a:lnTo>
                  <a:pt x="1977" y="855"/>
                </a:lnTo>
                <a:lnTo>
                  <a:pt x="2037" y="860"/>
                </a:lnTo>
                <a:lnTo>
                  <a:pt x="2104" y="865"/>
                </a:lnTo>
                <a:lnTo>
                  <a:pt x="2175" y="870"/>
                </a:lnTo>
                <a:lnTo>
                  <a:pt x="2235" y="874"/>
                </a:lnTo>
                <a:lnTo>
                  <a:pt x="2294" y="879"/>
                </a:lnTo>
                <a:lnTo>
                  <a:pt x="2351" y="883"/>
                </a:lnTo>
                <a:lnTo>
                  <a:pt x="2406" y="887"/>
                </a:lnTo>
                <a:lnTo>
                  <a:pt x="2456" y="890"/>
                </a:lnTo>
                <a:lnTo>
                  <a:pt x="2501" y="894"/>
                </a:lnTo>
                <a:lnTo>
                  <a:pt x="2542" y="897"/>
                </a:lnTo>
                <a:lnTo>
                  <a:pt x="2578" y="899"/>
                </a:lnTo>
                <a:lnTo>
                  <a:pt x="2610" y="902"/>
                </a:lnTo>
                <a:lnTo>
                  <a:pt x="2637" y="904"/>
                </a:lnTo>
                <a:lnTo>
                  <a:pt x="2661" y="906"/>
                </a:lnTo>
                <a:lnTo>
                  <a:pt x="2681" y="907"/>
                </a:lnTo>
                <a:lnTo>
                  <a:pt x="2698" y="909"/>
                </a:lnTo>
                <a:lnTo>
                  <a:pt x="2713" y="910"/>
                </a:lnTo>
                <a:lnTo>
                  <a:pt x="2726" y="911"/>
                </a:lnTo>
                <a:lnTo>
                  <a:pt x="2738" y="913"/>
                </a:lnTo>
                <a:lnTo>
                  <a:pt x="2750" y="914"/>
                </a:lnTo>
                <a:lnTo>
                  <a:pt x="2762" y="915"/>
                </a:lnTo>
                <a:lnTo>
                  <a:pt x="2774" y="916"/>
                </a:lnTo>
                <a:lnTo>
                  <a:pt x="2788" y="917"/>
                </a:lnTo>
                <a:lnTo>
                  <a:pt x="2803" y="918"/>
                </a:lnTo>
                <a:lnTo>
                  <a:pt x="2821" y="920"/>
                </a:lnTo>
                <a:lnTo>
                  <a:pt x="2843" y="921"/>
                </a:lnTo>
                <a:lnTo>
                  <a:pt x="2867" y="923"/>
                </a:lnTo>
                <a:lnTo>
                  <a:pt x="2897" y="924"/>
                </a:lnTo>
                <a:lnTo>
                  <a:pt x="2930" y="926"/>
                </a:lnTo>
                <a:lnTo>
                  <a:pt x="2969" y="928"/>
                </a:lnTo>
                <a:lnTo>
                  <a:pt x="3013" y="930"/>
                </a:lnTo>
                <a:lnTo>
                  <a:pt x="3063" y="933"/>
                </a:lnTo>
                <a:lnTo>
                  <a:pt x="3117" y="935"/>
                </a:lnTo>
                <a:lnTo>
                  <a:pt x="3177" y="938"/>
                </a:lnTo>
                <a:lnTo>
                  <a:pt x="3240" y="940"/>
                </a:lnTo>
                <a:lnTo>
                  <a:pt x="3307" y="943"/>
                </a:lnTo>
                <a:lnTo>
                  <a:pt x="3375" y="945"/>
                </a:lnTo>
                <a:lnTo>
                  <a:pt x="3447" y="947"/>
                </a:lnTo>
                <a:lnTo>
                  <a:pt x="3517" y="949"/>
                </a:lnTo>
                <a:lnTo>
                  <a:pt x="3582" y="951"/>
                </a:lnTo>
                <a:lnTo>
                  <a:pt x="3642" y="952"/>
                </a:lnTo>
                <a:lnTo>
                  <a:pt x="3696" y="953"/>
                </a:lnTo>
                <a:lnTo>
                  <a:pt x="3743" y="954"/>
                </a:lnTo>
                <a:lnTo>
                  <a:pt x="3784" y="955"/>
                </a:lnTo>
                <a:lnTo>
                  <a:pt x="3818" y="956"/>
                </a:lnTo>
                <a:lnTo>
                  <a:pt x="3847" y="956"/>
                </a:lnTo>
                <a:lnTo>
                  <a:pt x="3870" y="957"/>
                </a:lnTo>
                <a:lnTo>
                  <a:pt x="3888" y="957"/>
                </a:lnTo>
                <a:lnTo>
                  <a:pt x="3903" y="957"/>
                </a:lnTo>
                <a:lnTo>
                  <a:pt x="3914" y="957"/>
                </a:lnTo>
                <a:lnTo>
                  <a:pt x="3923" y="957"/>
                </a:lnTo>
                <a:lnTo>
                  <a:pt x="3931" y="957"/>
                </a:lnTo>
                <a:lnTo>
                  <a:pt x="3938" y="958"/>
                </a:lnTo>
                <a:lnTo>
                  <a:pt x="3944" y="957"/>
                </a:lnTo>
                <a:lnTo>
                  <a:pt x="3952" y="957"/>
                </a:lnTo>
                <a:lnTo>
                  <a:pt x="3961" y="957"/>
                </a:lnTo>
                <a:lnTo>
                  <a:pt x="3972" y="957"/>
                </a:lnTo>
                <a:lnTo>
                  <a:pt x="3987" y="957"/>
                </a:lnTo>
                <a:lnTo>
                  <a:pt x="4005" y="957"/>
                </a:lnTo>
                <a:lnTo>
                  <a:pt x="4028" y="956"/>
                </a:lnTo>
                <a:lnTo>
                  <a:pt x="4057" y="956"/>
                </a:lnTo>
                <a:lnTo>
                  <a:pt x="4091" y="955"/>
                </a:lnTo>
                <a:lnTo>
                  <a:pt x="4132" y="954"/>
                </a:lnTo>
                <a:lnTo>
                  <a:pt x="4179" y="953"/>
                </a:lnTo>
                <a:lnTo>
                  <a:pt x="4233" y="952"/>
                </a:lnTo>
                <a:lnTo>
                  <a:pt x="4293" y="951"/>
                </a:lnTo>
                <a:lnTo>
                  <a:pt x="4358" y="949"/>
                </a:lnTo>
                <a:lnTo>
                  <a:pt x="4428" y="947"/>
                </a:lnTo>
                <a:lnTo>
                  <a:pt x="4500" y="945"/>
                </a:lnTo>
                <a:lnTo>
                  <a:pt x="4568" y="943"/>
                </a:lnTo>
                <a:lnTo>
                  <a:pt x="4634" y="940"/>
                </a:lnTo>
                <a:lnTo>
                  <a:pt x="4697" y="938"/>
                </a:lnTo>
                <a:lnTo>
                  <a:pt x="4756" y="935"/>
                </a:lnTo>
                <a:lnTo>
                  <a:pt x="4808" y="933"/>
                </a:lnTo>
                <a:lnTo>
                  <a:pt x="4855" y="931"/>
                </a:lnTo>
                <a:lnTo>
                  <a:pt x="4896" y="929"/>
                </a:lnTo>
                <a:lnTo>
                  <a:pt x="4931" y="927"/>
                </a:lnTo>
                <a:lnTo>
                  <a:pt x="4960" y="926"/>
                </a:lnTo>
                <a:lnTo>
                  <a:pt x="4984" y="925"/>
                </a:lnTo>
                <a:lnTo>
                  <a:pt x="5004" y="924"/>
                </a:lnTo>
                <a:lnTo>
                  <a:pt x="5019" y="923"/>
                </a:lnTo>
                <a:lnTo>
                  <a:pt x="5030" y="922"/>
                </a:lnTo>
                <a:lnTo>
                  <a:pt x="5039" y="921"/>
                </a:lnTo>
                <a:lnTo>
                  <a:pt x="5046" y="921"/>
                </a:lnTo>
                <a:lnTo>
                  <a:pt x="5051" y="920"/>
                </a:lnTo>
                <a:lnTo>
                  <a:pt x="5056" y="920"/>
                </a:lnTo>
                <a:lnTo>
                  <a:pt x="5061" y="919"/>
                </a:lnTo>
                <a:lnTo>
                  <a:pt x="5067" y="919"/>
                </a:lnTo>
                <a:lnTo>
                  <a:pt x="5075" y="918"/>
                </a:lnTo>
                <a:lnTo>
                  <a:pt x="5084" y="917"/>
                </a:lnTo>
                <a:lnTo>
                  <a:pt x="5098" y="916"/>
                </a:lnTo>
                <a:lnTo>
                  <a:pt x="5115" y="915"/>
                </a:lnTo>
                <a:lnTo>
                  <a:pt x="5136" y="913"/>
                </a:lnTo>
                <a:lnTo>
                  <a:pt x="5163" y="911"/>
                </a:lnTo>
                <a:lnTo>
                  <a:pt x="5196" y="908"/>
                </a:lnTo>
                <a:lnTo>
                  <a:pt x="5236" y="905"/>
                </a:lnTo>
                <a:lnTo>
                  <a:pt x="5282" y="902"/>
                </a:lnTo>
                <a:lnTo>
                  <a:pt x="5336" y="898"/>
                </a:lnTo>
                <a:lnTo>
                  <a:pt x="5397" y="893"/>
                </a:lnTo>
                <a:lnTo>
                  <a:pt x="5464" y="888"/>
                </a:lnTo>
                <a:lnTo>
                  <a:pt x="5538" y="883"/>
                </a:lnTo>
                <a:lnTo>
                  <a:pt x="5617" y="876"/>
                </a:lnTo>
                <a:lnTo>
                  <a:pt x="5700" y="870"/>
                </a:lnTo>
                <a:lnTo>
                  <a:pt x="5772" y="864"/>
                </a:lnTo>
                <a:lnTo>
                  <a:pt x="5843" y="859"/>
                </a:lnTo>
                <a:lnTo>
                  <a:pt x="5913" y="853"/>
                </a:lnTo>
                <a:lnTo>
                  <a:pt x="5980" y="847"/>
                </a:lnTo>
                <a:lnTo>
                  <a:pt x="6044" y="842"/>
                </a:lnTo>
                <a:lnTo>
                  <a:pt x="6104" y="837"/>
                </a:lnTo>
                <a:lnTo>
                  <a:pt x="6160" y="832"/>
                </a:lnTo>
                <a:lnTo>
                  <a:pt x="6212" y="828"/>
                </a:lnTo>
                <a:lnTo>
                  <a:pt x="6260" y="824"/>
                </a:lnTo>
                <a:lnTo>
                  <a:pt x="6303" y="820"/>
                </a:lnTo>
                <a:lnTo>
                  <a:pt x="6343" y="816"/>
                </a:lnTo>
                <a:lnTo>
                  <a:pt x="6378" y="813"/>
                </a:lnTo>
                <a:lnTo>
                  <a:pt x="6411" y="810"/>
                </a:lnTo>
                <a:lnTo>
                  <a:pt x="6440" y="808"/>
                </a:lnTo>
                <a:lnTo>
                  <a:pt x="6467" y="805"/>
                </a:lnTo>
                <a:lnTo>
                  <a:pt x="6491" y="803"/>
                </a:lnTo>
                <a:lnTo>
                  <a:pt x="6514" y="801"/>
                </a:lnTo>
                <a:lnTo>
                  <a:pt x="6535" y="799"/>
                </a:lnTo>
                <a:lnTo>
                  <a:pt x="6555" y="797"/>
                </a:lnTo>
                <a:lnTo>
                  <a:pt x="6575" y="795"/>
                </a:lnTo>
                <a:lnTo>
                  <a:pt x="6595" y="793"/>
                </a:lnTo>
                <a:lnTo>
                  <a:pt x="6615" y="791"/>
                </a:lnTo>
                <a:lnTo>
                  <a:pt x="6635" y="789"/>
                </a:lnTo>
                <a:lnTo>
                  <a:pt x="6657" y="787"/>
                </a:lnTo>
                <a:lnTo>
                  <a:pt x="6680" y="785"/>
                </a:lnTo>
                <a:lnTo>
                  <a:pt x="6706" y="782"/>
                </a:lnTo>
                <a:lnTo>
                  <a:pt x="6733" y="780"/>
                </a:lnTo>
                <a:lnTo>
                  <a:pt x="6763" y="777"/>
                </a:lnTo>
                <a:lnTo>
                  <a:pt x="6796" y="774"/>
                </a:lnTo>
                <a:lnTo>
                  <a:pt x="6832" y="770"/>
                </a:lnTo>
                <a:lnTo>
                  <a:pt x="6872" y="766"/>
                </a:lnTo>
                <a:lnTo>
                  <a:pt x="6915" y="762"/>
                </a:lnTo>
                <a:lnTo>
                  <a:pt x="6961" y="758"/>
                </a:lnTo>
                <a:lnTo>
                  <a:pt x="7011" y="753"/>
                </a:lnTo>
                <a:lnTo>
                  <a:pt x="7063" y="748"/>
                </a:lnTo>
                <a:lnTo>
                  <a:pt x="7119" y="743"/>
                </a:lnTo>
                <a:lnTo>
                  <a:pt x="7176" y="737"/>
                </a:lnTo>
                <a:lnTo>
                  <a:pt x="7234" y="731"/>
                </a:lnTo>
                <a:lnTo>
                  <a:pt x="7293" y="726"/>
                </a:lnTo>
                <a:lnTo>
                  <a:pt x="7350" y="720"/>
                </a:lnTo>
                <a:lnTo>
                  <a:pt x="7433" y="712"/>
                </a:lnTo>
                <a:lnTo>
                  <a:pt x="7509" y="704"/>
                </a:lnTo>
                <a:lnTo>
                  <a:pt x="7576" y="697"/>
                </a:lnTo>
                <a:lnTo>
                  <a:pt x="7635" y="692"/>
                </a:lnTo>
                <a:lnTo>
                  <a:pt x="7686" y="687"/>
                </a:lnTo>
                <a:lnTo>
                  <a:pt x="7730" y="683"/>
                </a:lnTo>
                <a:lnTo>
                  <a:pt x="7767" y="680"/>
                </a:lnTo>
                <a:lnTo>
                  <a:pt x="7798" y="679"/>
                </a:lnTo>
                <a:lnTo>
                  <a:pt x="7825" y="677"/>
                </a:lnTo>
                <a:lnTo>
                  <a:pt x="7848" y="676"/>
                </a:lnTo>
                <a:lnTo>
                  <a:pt x="7867" y="676"/>
                </a:lnTo>
                <a:lnTo>
                  <a:pt x="7885" y="676"/>
                </a:lnTo>
                <a:lnTo>
                  <a:pt x="7900" y="676"/>
                </a:lnTo>
                <a:lnTo>
                  <a:pt x="7914" y="676"/>
                </a:lnTo>
                <a:lnTo>
                  <a:pt x="7927" y="676"/>
                </a:lnTo>
                <a:lnTo>
                  <a:pt x="7940" y="676"/>
                </a:lnTo>
                <a:lnTo>
                  <a:pt x="7952" y="676"/>
                </a:lnTo>
                <a:lnTo>
                  <a:pt x="7963" y="675"/>
                </a:lnTo>
                <a:lnTo>
                  <a:pt x="7973" y="674"/>
                </a:lnTo>
                <a:lnTo>
                  <a:pt x="7983" y="671"/>
                </a:lnTo>
                <a:lnTo>
                  <a:pt x="7990" y="669"/>
                </a:lnTo>
                <a:lnTo>
                  <a:pt x="7994" y="665"/>
                </a:lnTo>
                <a:lnTo>
                  <a:pt x="7993" y="661"/>
                </a:lnTo>
                <a:lnTo>
                  <a:pt x="7987" y="656"/>
                </a:lnTo>
                <a:lnTo>
                  <a:pt x="7973" y="651"/>
                </a:lnTo>
                <a:lnTo>
                  <a:pt x="7950" y="645"/>
                </a:lnTo>
                <a:lnTo>
                  <a:pt x="7926" y="641"/>
                </a:lnTo>
                <a:lnTo>
                  <a:pt x="7898" y="637"/>
                </a:lnTo>
                <a:lnTo>
                  <a:pt x="7867" y="633"/>
                </a:lnTo>
                <a:lnTo>
                  <a:pt x="7833" y="630"/>
                </a:lnTo>
                <a:lnTo>
                  <a:pt x="7798" y="626"/>
                </a:lnTo>
                <a:lnTo>
                  <a:pt x="7762" y="624"/>
                </a:lnTo>
                <a:lnTo>
                  <a:pt x="7726" y="621"/>
                </a:lnTo>
                <a:lnTo>
                  <a:pt x="7691" y="619"/>
                </a:lnTo>
                <a:lnTo>
                  <a:pt x="7657" y="617"/>
                </a:lnTo>
                <a:lnTo>
                  <a:pt x="7624" y="616"/>
                </a:lnTo>
                <a:lnTo>
                  <a:pt x="7592" y="615"/>
                </a:lnTo>
                <a:lnTo>
                  <a:pt x="7561" y="614"/>
                </a:lnTo>
                <a:lnTo>
                  <a:pt x="7531" y="614"/>
                </a:lnTo>
                <a:lnTo>
                  <a:pt x="7502" y="614"/>
                </a:lnTo>
                <a:lnTo>
                  <a:pt x="7473" y="614"/>
                </a:lnTo>
                <a:lnTo>
                  <a:pt x="7445" y="614"/>
                </a:lnTo>
                <a:lnTo>
                  <a:pt x="7418" y="614"/>
                </a:lnTo>
                <a:lnTo>
                  <a:pt x="7390" y="614"/>
                </a:lnTo>
                <a:lnTo>
                  <a:pt x="7362" y="614"/>
                </a:lnTo>
                <a:lnTo>
                  <a:pt x="7333" y="614"/>
                </a:lnTo>
                <a:lnTo>
                  <a:pt x="7304" y="614"/>
                </a:lnTo>
                <a:lnTo>
                  <a:pt x="7273" y="614"/>
                </a:lnTo>
                <a:lnTo>
                  <a:pt x="7241" y="613"/>
                </a:lnTo>
                <a:lnTo>
                  <a:pt x="7206" y="612"/>
                </a:lnTo>
                <a:lnTo>
                  <a:pt x="7170" y="611"/>
                </a:lnTo>
                <a:lnTo>
                  <a:pt x="7131" y="610"/>
                </a:lnTo>
                <a:lnTo>
                  <a:pt x="7089" y="608"/>
                </a:lnTo>
                <a:lnTo>
                  <a:pt x="7045" y="606"/>
                </a:lnTo>
                <a:lnTo>
                  <a:pt x="6997" y="603"/>
                </a:lnTo>
                <a:lnTo>
                  <a:pt x="6947" y="600"/>
                </a:lnTo>
                <a:lnTo>
                  <a:pt x="6894" y="596"/>
                </a:lnTo>
                <a:lnTo>
                  <a:pt x="6838" y="592"/>
                </a:lnTo>
                <a:lnTo>
                  <a:pt x="6780" y="587"/>
                </a:lnTo>
                <a:lnTo>
                  <a:pt x="6720" y="582"/>
                </a:lnTo>
                <a:lnTo>
                  <a:pt x="6660" y="576"/>
                </a:lnTo>
                <a:lnTo>
                  <a:pt x="6600" y="570"/>
                </a:lnTo>
              </a:path>
            </a:pathLst>
          </a:custGeom>
          <a:solidFill>
            <a:srgbClr val="edede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54920" y="2155680"/>
            <a:ext cx="1440" cy="640080"/>
          </a:xfrm>
          <a:custGeom>
            <a:avLst/>
            <a:gdLst/>
            <a:ahLst/>
            <a:rect l="l" t="t" r="r" b="b"/>
            <a:pathLst>
              <a:path w="1" h="1778">
                <a:moveTo>
                  <a:pt x="0" y="0"/>
                </a:moveTo>
                <a:lnTo>
                  <a:pt x="0" y="1777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16600" y="2622600"/>
            <a:ext cx="241560" cy="6480"/>
          </a:xfrm>
          <a:custGeom>
            <a:avLst/>
            <a:gdLst/>
            <a:ahLst/>
            <a:rect l="l" t="t" r="r" b="b"/>
            <a:pathLst>
              <a:path w="669" h="16">
                <a:moveTo>
                  <a:pt x="668" y="0"/>
                </a:moveTo>
                <a:lnTo>
                  <a:pt x="0" y="15"/>
                </a:lnTo>
                <a:lnTo>
                  <a:pt x="668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53120" y="2622600"/>
            <a:ext cx="195480" cy="14400"/>
          </a:xfrm>
          <a:custGeom>
            <a:avLst/>
            <a:gdLst/>
            <a:ahLst/>
            <a:rect l="l" t="t" r="r" b="b"/>
            <a:pathLst>
              <a:path w="544" h="39">
                <a:moveTo>
                  <a:pt x="0" y="0"/>
                </a:moveTo>
                <a:lnTo>
                  <a:pt x="543" y="38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88000" y="2411280"/>
            <a:ext cx="968400" cy="260640"/>
          </a:xfrm>
          <a:custGeom>
            <a:avLst/>
            <a:gdLst/>
            <a:ahLst/>
            <a:rect l="l" t="t" r="r" b="b"/>
            <a:pathLst>
              <a:path w="2692" h="723">
                <a:moveTo>
                  <a:pt x="6" y="435"/>
                </a:moveTo>
                <a:lnTo>
                  <a:pt x="1506" y="0"/>
                </a:lnTo>
                <a:lnTo>
                  <a:pt x="2684" y="75"/>
                </a:lnTo>
                <a:lnTo>
                  <a:pt x="2691" y="570"/>
                </a:lnTo>
                <a:lnTo>
                  <a:pt x="1476" y="540"/>
                </a:lnTo>
                <a:lnTo>
                  <a:pt x="0" y="722"/>
                </a:lnTo>
                <a:lnTo>
                  <a:pt x="6" y="43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84760" y="1655640"/>
            <a:ext cx="1139760" cy="1175040"/>
          </a:xfrm>
          <a:custGeom>
            <a:avLst/>
            <a:gdLst/>
            <a:ahLst/>
            <a:rect l="l" t="t" r="r" b="b"/>
            <a:pathLst>
              <a:path w="3166" h="3264">
                <a:moveTo>
                  <a:pt x="0" y="1733"/>
                </a:moveTo>
                <a:lnTo>
                  <a:pt x="1695" y="495"/>
                </a:lnTo>
                <a:lnTo>
                  <a:pt x="2858" y="698"/>
                </a:lnTo>
                <a:lnTo>
                  <a:pt x="2858" y="3263"/>
                </a:lnTo>
                <a:lnTo>
                  <a:pt x="3143" y="3218"/>
                </a:lnTo>
                <a:lnTo>
                  <a:pt x="3165" y="323"/>
                </a:lnTo>
                <a:lnTo>
                  <a:pt x="1695" y="0"/>
                </a:lnTo>
                <a:lnTo>
                  <a:pt x="0" y="1395"/>
                </a:lnTo>
                <a:lnTo>
                  <a:pt x="0" y="1733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88000" y="2066760"/>
            <a:ext cx="969840" cy="416160"/>
          </a:xfrm>
          <a:custGeom>
            <a:avLst/>
            <a:gdLst/>
            <a:ahLst/>
            <a:rect l="l" t="t" r="r" b="b"/>
            <a:pathLst>
              <a:path w="2694" h="1156">
                <a:moveTo>
                  <a:pt x="0" y="1155"/>
                </a:moveTo>
                <a:lnTo>
                  <a:pt x="0" y="885"/>
                </a:lnTo>
                <a:lnTo>
                  <a:pt x="1513" y="0"/>
                </a:lnTo>
                <a:lnTo>
                  <a:pt x="2693" y="150"/>
                </a:lnTo>
                <a:lnTo>
                  <a:pt x="2693" y="580"/>
                </a:lnTo>
                <a:lnTo>
                  <a:pt x="1513" y="430"/>
                </a:lnTo>
                <a:lnTo>
                  <a:pt x="0" y="115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89720" y="2014560"/>
            <a:ext cx="1501920" cy="439560"/>
          </a:xfrm>
          <a:custGeom>
            <a:avLst/>
            <a:gdLst/>
            <a:ahLst/>
            <a:rect l="l" t="t" r="r" b="b"/>
            <a:pathLst>
              <a:path w="4171" h="1223">
                <a:moveTo>
                  <a:pt x="0" y="705"/>
                </a:moveTo>
                <a:lnTo>
                  <a:pt x="1177" y="435"/>
                </a:lnTo>
                <a:lnTo>
                  <a:pt x="4170" y="1222"/>
                </a:lnTo>
                <a:lnTo>
                  <a:pt x="4170" y="892"/>
                </a:lnTo>
                <a:lnTo>
                  <a:pt x="1177" y="0"/>
                </a:lnTo>
                <a:lnTo>
                  <a:pt x="0" y="285"/>
                </a:lnTo>
                <a:lnTo>
                  <a:pt x="0" y="70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7440" y="1617840"/>
            <a:ext cx="1658880" cy="1212840"/>
          </a:xfrm>
          <a:custGeom>
            <a:avLst/>
            <a:gdLst/>
            <a:ahLst/>
            <a:rect l="l" t="t" r="r" b="b"/>
            <a:pathLst>
              <a:path w="4606" h="3369">
                <a:moveTo>
                  <a:pt x="247" y="3368"/>
                </a:moveTo>
                <a:lnTo>
                  <a:pt x="240" y="795"/>
                </a:lnTo>
                <a:lnTo>
                  <a:pt x="1357" y="420"/>
                </a:lnTo>
                <a:lnTo>
                  <a:pt x="4597" y="1680"/>
                </a:lnTo>
                <a:lnTo>
                  <a:pt x="4605" y="1418"/>
                </a:lnTo>
                <a:lnTo>
                  <a:pt x="1290" y="0"/>
                </a:lnTo>
                <a:lnTo>
                  <a:pt x="15" y="413"/>
                </a:lnTo>
                <a:lnTo>
                  <a:pt x="0" y="3323"/>
                </a:lnTo>
                <a:lnTo>
                  <a:pt x="247" y="3368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27520" y="1247760"/>
            <a:ext cx="3356280" cy="774720"/>
          </a:xfrm>
          <a:custGeom>
            <a:avLst/>
            <a:gdLst/>
            <a:ahLst/>
            <a:rect l="l" t="t" r="r" b="b"/>
            <a:pathLst>
              <a:path w="9320" h="2152">
                <a:moveTo>
                  <a:pt x="1683" y="455"/>
                </a:moveTo>
                <a:lnTo>
                  <a:pt x="3946" y="920"/>
                </a:lnTo>
                <a:lnTo>
                  <a:pt x="5713" y="341"/>
                </a:lnTo>
                <a:lnTo>
                  <a:pt x="9319" y="2151"/>
                </a:lnTo>
                <a:lnTo>
                  <a:pt x="9319" y="1942"/>
                </a:lnTo>
                <a:lnTo>
                  <a:pt x="5713" y="0"/>
                </a:lnTo>
                <a:lnTo>
                  <a:pt x="3956" y="620"/>
                </a:lnTo>
                <a:lnTo>
                  <a:pt x="1683" y="114"/>
                </a:lnTo>
                <a:lnTo>
                  <a:pt x="0" y="1856"/>
                </a:lnTo>
                <a:lnTo>
                  <a:pt x="0" y="2136"/>
                </a:lnTo>
                <a:lnTo>
                  <a:pt x="1683" y="45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4760" y="2751120"/>
            <a:ext cx="158400" cy="109440"/>
          </a:xfrm>
          <a:custGeom>
            <a:avLst/>
            <a:gdLst/>
            <a:ahLst/>
            <a:rect l="l" t="t" r="r" b="b"/>
            <a:pathLst>
              <a:path w="439" h="304">
                <a:moveTo>
                  <a:pt x="67" y="51"/>
                </a:moveTo>
                <a:lnTo>
                  <a:pt x="78" y="51"/>
                </a:lnTo>
                <a:lnTo>
                  <a:pt x="88" y="54"/>
                </a:lnTo>
                <a:lnTo>
                  <a:pt x="96" y="59"/>
                </a:lnTo>
                <a:lnTo>
                  <a:pt x="101" y="66"/>
                </a:lnTo>
                <a:lnTo>
                  <a:pt x="106" y="72"/>
                </a:lnTo>
                <a:lnTo>
                  <a:pt x="111" y="79"/>
                </a:lnTo>
                <a:lnTo>
                  <a:pt x="117" y="84"/>
                </a:lnTo>
                <a:lnTo>
                  <a:pt x="127" y="88"/>
                </a:lnTo>
                <a:lnTo>
                  <a:pt x="142" y="90"/>
                </a:lnTo>
                <a:lnTo>
                  <a:pt x="161" y="87"/>
                </a:lnTo>
                <a:lnTo>
                  <a:pt x="180" y="80"/>
                </a:lnTo>
                <a:lnTo>
                  <a:pt x="196" y="71"/>
                </a:lnTo>
                <a:lnTo>
                  <a:pt x="207" y="61"/>
                </a:lnTo>
                <a:lnTo>
                  <a:pt x="214" y="51"/>
                </a:lnTo>
                <a:lnTo>
                  <a:pt x="219" y="42"/>
                </a:lnTo>
                <a:lnTo>
                  <a:pt x="224" y="32"/>
                </a:lnTo>
                <a:lnTo>
                  <a:pt x="231" y="23"/>
                </a:lnTo>
                <a:lnTo>
                  <a:pt x="240" y="13"/>
                </a:lnTo>
                <a:lnTo>
                  <a:pt x="252" y="5"/>
                </a:lnTo>
                <a:lnTo>
                  <a:pt x="265" y="0"/>
                </a:lnTo>
                <a:lnTo>
                  <a:pt x="279" y="2"/>
                </a:lnTo>
                <a:lnTo>
                  <a:pt x="280" y="11"/>
                </a:lnTo>
                <a:lnTo>
                  <a:pt x="274" y="22"/>
                </a:lnTo>
                <a:lnTo>
                  <a:pt x="268" y="33"/>
                </a:lnTo>
                <a:lnTo>
                  <a:pt x="269" y="46"/>
                </a:lnTo>
                <a:lnTo>
                  <a:pt x="283" y="59"/>
                </a:lnTo>
                <a:lnTo>
                  <a:pt x="296" y="64"/>
                </a:lnTo>
                <a:lnTo>
                  <a:pt x="309" y="67"/>
                </a:lnTo>
                <a:lnTo>
                  <a:pt x="321" y="67"/>
                </a:lnTo>
                <a:lnTo>
                  <a:pt x="332" y="65"/>
                </a:lnTo>
                <a:lnTo>
                  <a:pt x="342" y="62"/>
                </a:lnTo>
                <a:lnTo>
                  <a:pt x="351" y="59"/>
                </a:lnTo>
                <a:lnTo>
                  <a:pt x="361" y="57"/>
                </a:lnTo>
                <a:lnTo>
                  <a:pt x="370" y="57"/>
                </a:lnTo>
                <a:lnTo>
                  <a:pt x="379" y="60"/>
                </a:lnTo>
                <a:lnTo>
                  <a:pt x="384" y="66"/>
                </a:lnTo>
                <a:lnTo>
                  <a:pt x="383" y="74"/>
                </a:lnTo>
                <a:lnTo>
                  <a:pt x="377" y="82"/>
                </a:lnTo>
                <a:lnTo>
                  <a:pt x="369" y="88"/>
                </a:lnTo>
                <a:lnTo>
                  <a:pt x="360" y="92"/>
                </a:lnTo>
                <a:lnTo>
                  <a:pt x="350" y="96"/>
                </a:lnTo>
                <a:lnTo>
                  <a:pt x="340" y="100"/>
                </a:lnTo>
                <a:lnTo>
                  <a:pt x="330" y="105"/>
                </a:lnTo>
                <a:lnTo>
                  <a:pt x="320" y="112"/>
                </a:lnTo>
                <a:lnTo>
                  <a:pt x="311" y="122"/>
                </a:lnTo>
                <a:lnTo>
                  <a:pt x="305" y="133"/>
                </a:lnTo>
                <a:lnTo>
                  <a:pt x="303" y="142"/>
                </a:lnTo>
                <a:lnTo>
                  <a:pt x="303" y="150"/>
                </a:lnTo>
                <a:lnTo>
                  <a:pt x="304" y="155"/>
                </a:lnTo>
                <a:lnTo>
                  <a:pt x="305" y="159"/>
                </a:lnTo>
                <a:lnTo>
                  <a:pt x="307" y="161"/>
                </a:lnTo>
                <a:lnTo>
                  <a:pt x="309" y="163"/>
                </a:lnTo>
                <a:lnTo>
                  <a:pt x="311" y="164"/>
                </a:lnTo>
                <a:lnTo>
                  <a:pt x="314" y="166"/>
                </a:lnTo>
                <a:lnTo>
                  <a:pt x="318" y="169"/>
                </a:lnTo>
                <a:lnTo>
                  <a:pt x="324" y="173"/>
                </a:lnTo>
                <a:lnTo>
                  <a:pt x="331" y="178"/>
                </a:lnTo>
                <a:lnTo>
                  <a:pt x="340" y="183"/>
                </a:lnTo>
                <a:lnTo>
                  <a:pt x="355" y="189"/>
                </a:lnTo>
                <a:lnTo>
                  <a:pt x="369" y="190"/>
                </a:lnTo>
                <a:lnTo>
                  <a:pt x="379" y="188"/>
                </a:lnTo>
                <a:lnTo>
                  <a:pt x="388" y="185"/>
                </a:lnTo>
                <a:lnTo>
                  <a:pt x="397" y="181"/>
                </a:lnTo>
                <a:lnTo>
                  <a:pt x="406" y="180"/>
                </a:lnTo>
                <a:lnTo>
                  <a:pt x="416" y="184"/>
                </a:lnTo>
                <a:lnTo>
                  <a:pt x="424" y="194"/>
                </a:lnTo>
                <a:lnTo>
                  <a:pt x="426" y="200"/>
                </a:lnTo>
                <a:lnTo>
                  <a:pt x="427" y="206"/>
                </a:lnTo>
                <a:lnTo>
                  <a:pt x="427" y="212"/>
                </a:lnTo>
                <a:lnTo>
                  <a:pt x="428" y="218"/>
                </a:lnTo>
                <a:lnTo>
                  <a:pt x="429" y="223"/>
                </a:lnTo>
                <a:lnTo>
                  <a:pt x="430" y="228"/>
                </a:lnTo>
                <a:lnTo>
                  <a:pt x="431" y="232"/>
                </a:lnTo>
                <a:lnTo>
                  <a:pt x="433" y="236"/>
                </a:lnTo>
                <a:lnTo>
                  <a:pt x="434" y="240"/>
                </a:lnTo>
                <a:lnTo>
                  <a:pt x="436" y="243"/>
                </a:lnTo>
                <a:lnTo>
                  <a:pt x="437" y="247"/>
                </a:lnTo>
                <a:lnTo>
                  <a:pt x="438" y="251"/>
                </a:lnTo>
                <a:lnTo>
                  <a:pt x="438" y="255"/>
                </a:lnTo>
                <a:lnTo>
                  <a:pt x="437" y="259"/>
                </a:lnTo>
                <a:lnTo>
                  <a:pt x="434" y="264"/>
                </a:lnTo>
                <a:lnTo>
                  <a:pt x="429" y="269"/>
                </a:lnTo>
                <a:lnTo>
                  <a:pt x="422" y="274"/>
                </a:lnTo>
                <a:lnTo>
                  <a:pt x="412" y="280"/>
                </a:lnTo>
                <a:lnTo>
                  <a:pt x="400" y="286"/>
                </a:lnTo>
                <a:lnTo>
                  <a:pt x="384" y="291"/>
                </a:lnTo>
                <a:lnTo>
                  <a:pt x="361" y="296"/>
                </a:lnTo>
                <a:lnTo>
                  <a:pt x="338" y="300"/>
                </a:lnTo>
                <a:lnTo>
                  <a:pt x="316" y="302"/>
                </a:lnTo>
                <a:lnTo>
                  <a:pt x="296" y="303"/>
                </a:lnTo>
                <a:lnTo>
                  <a:pt x="278" y="303"/>
                </a:lnTo>
                <a:lnTo>
                  <a:pt x="263" y="302"/>
                </a:lnTo>
                <a:lnTo>
                  <a:pt x="250" y="301"/>
                </a:lnTo>
                <a:lnTo>
                  <a:pt x="237" y="299"/>
                </a:lnTo>
                <a:lnTo>
                  <a:pt x="224" y="297"/>
                </a:lnTo>
                <a:lnTo>
                  <a:pt x="211" y="296"/>
                </a:lnTo>
                <a:lnTo>
                  <a:pt x="195" y="294"/>
                </a:lnTo>
                <a:lnTo>
                  <a:pt x="177" y="293"/>
                </a:lnTo>
                <a:lnTo>
                  <a:pt x="157" y="292"/>
                </a:lnTo>
                <a:lnTo>
                  <a:pt x="134" y="291"/>
                </a:lnTo>
                <a:lnTo>
                  <a:pt x="109" y="291"/>
                </a:lnTo>
                <a:lnTo>
                  <a:pt x="84" y="291"/>
                </a:lnTo>
                <a:lnTo>
                  <a:pt x="52" y="291"/>
                </a:lnTo>
                <a:lnTo>
                  <a:pt x="32" y="292"/>
                </a:lnTo>
                <a:lnTo>
                  <a:pt x="22" y="293"/>
                </a:lnTo>
                <a:lnTo>
                  <a:pt x="20" y="295"/>
                </a:lnTo>
                <a:lnTo>
                  <a:pt x="22" y="297"/>
                </a:lnTo>
                <a:lnTo>
                  <a:pt x="24" y="299"/>
                </a:lnTo>
                <a:lnTo>
                  <a:pt x="25" y="300"/>
                </a:lnTo>
                <a:lnTo>
                  <a:pt x="23" y="300"/>
                </a:lnTo>
                <a:lnTo>
                  <a:pt x="17" y="297"/>
                </a:lnTo>
                <a:lnTo>
                  <a:pt x="9" y="291"/>
                </a:lnTo>
                <a:lnTo>
                  <a:pt x="2" y="281"/>
                </a:lnTo>
                <a:lnTo>
                  <a:pt x="0" y="271"/>
                </a:lnTo>
                <a:lnTo>
                  <a:pt x="0" y="265"/>
                </a:lnTo>
                <a:lnTo>
                  <a:pt x="3" y="260"/>
                </a:lnTo>
                <a:lnTo>
                  <a:pt x="5" y="254"/>
                </a:lnTo>
                <a:lnTo>
                  <a:pt x="8" y="246"/>
                </a:lnTo>
                <a:lnTo>
                  <a:pt x="9" y="234"/>
                </a:lnTo>
                <a:lnTo>
                  <a:pt x="9" y="216"/>
                </a:lnTo>
                <a:lnTo>
                  <a:pt x="9" y="198"/>
                </a:lnTo>
                <a:lnTo>
                  <a:pt x="8" y="186"/>
                </a:lnTo>
                <a:lnTo>
                  <a:pt x="5" y="178"/>
                </a:lnTo>
                <a:lnTo>
                  <a:pt x="3" y="172"/>
                </a:lnTo>
                <a:lnTo>
                  <a:pt x="0" y="167"/>
                </a:lnTo>
                <a:lnTo>
                  <a:pt x="0" y="161"/>
                </a:lnTo>
                <a:lnTo>
                  <a:pt x="2" y="151"/>
                </a:lnTo>
                <a:lnTo>
                  <a:pt x="9" y="141"/>
                </a:lnTo>
                <a:lnTo>
                  <a:pt x="20" y="134"/>
                </a:lnTo>
                <a:lnTo>
                  <a:pt x="31" y="133"/>
                </a:lnTo>
                <a:lnTo>
                  <a:pt x="40" y="134"/>
                </a:lnTo>
                <a:lnTo>
                  <a:pt x="48" y="138"/>
                </a:lnTo>
                <a:lnTo>
                  <a:pt x="57" y="142"/>
                </a:lnTo>
                <a:lnTo>
                  <a:pt x="66" y="144"/>
                </a:lnTo>
                <a:lnTo>
                  <a:pt x="75" y="144"/>
                </a:lnTo>
                <a:lnTo>
                  <a:pt x="84" y="141"/>
                </a:lnTo>
                <a:lnTo>
                  <a:pt x="88" y="134"/>
                </a:lnTo>
                <a:lnTo>
                  <a:pt x="84" y="128"/>
                </a:lnTo>
                <a:lnTo>
                  <a:pt x="78" y="125"/>
                </a:lnTo>
                <a:lnTo>
                  <a:pt x="71" y="122"/>
                </a:lnTo>
                <a:lnTo>
                  <a:pt x="65" y="114"/>
                </a:lnTo>
                <a:lnTo>
                  <a:pt x="61" y="101"/>
                </a:lnTo>
                <a:lnTo>
                  <a:pt x="60" y="94"/>
                </a:lnTo>
                <a:lnTo>
                  <a:pt x="59" y="87"/>
                </a:lnTo>
                <a:lnTo>
                  <a:pt x="58" y="81"/>
                </a:lnTo>
                <a:lnTo>
                  <a:pt x="57" y="77"/>
                </a:lnTo>
                <a:lnTo>
                  <a:pt x="56" y="73"/>
                </a:lnTo>
                <a:lnTo>
                  <a:pt x="54" y="70"/>
                </a:lnTo>
                <a:lnTo>
                  <a:pt x="53" y="67"/>
                </a:lnTo>
                <a:lnTo>
                  <a:pt x="53" y="63"/>
                </a:lnTo>
                <a:lnTo>
                  <a:pt x="53" y="60"/>
                </a:lnTo>
                <a:lnTo>
                  <a:pt x="56" y="56"/>
                </a:lnTo>
                <a:lnTo>
                  <a:pt x="60" y="53"/>
                </a:lnTo>
                <a:lnTo>
                  <a:pt x="67" y="51"/>
                </a:lnTo>
              </a:path>
            </a:pathLst>
          </a:custGeom>
          <a:solidFill>
            <a:srgbClr val="008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53240" y="2781360"/>
            <a:ext cx="184320" cy="127080"/>
          </a:xfrm>
          <a:custGeom>
            <a:avLst/>
            <a:gdLst/>
            <a:ahLst/>
            <a:rect l="l" t="t" r="r" b="b"/>
            <a:pathLst>
              <a:path w="513" h="353">
                <a:moveTo>
                  <a:pt x="67" y="84"/>
                </a:moveTo>
                <a:lnTo>
                  <a:pt x="81" y="78"/>
                </a:lnTo>
                <a:lnTo>
                  <a:pt x="92" y="76"/>
                </a:lnTo>
                <a:lnTo>
                  <a:pt x="100" y="77"/>
                </a:lnTo>
                <a:lnTo>
                  <a:pt x="105" y="80"/>
                </a:lnTo>
                <a:lnTo>
                  <a:pt x="111" y="83"/>
                </a:lnTo>
                <a:lnTo>
                  <a:pt x="120" y="83"/>
                </a:lnTo>
                <a:lnTo>
                  <a:pt x="138" y="80"/>
                </a:lnTo>
                <a:lnTo>
                  <a:pt x="163" y="72"/>
                </a:lnTo>
                <a:lnTo>
                  <a:pt x="181" y="64"/>
                </a:lnTo>
                <a:lnTo>
                  <a:pt x="197" y="57"/>
                </a:lnTo>
                <a:lnTo>
                  <a:pt x="209" y="49"/>
                </a:lnTo>
                <a:lnTo>
                  <a:pt x="218" y="43"/>
                </a:lnTo>
                <a:lnTo>
                  <a:pt x="224" y="36"/>
                </a:lnTo>
                <a:lnTo>
                  <a:pt x="229" y="31"/>
                </a:lnTo>
                <a:lnTo>
                  <a:pt x="233" y="25"/>
                </a:lnTo>
                <a:lnTo>
                  <a:pt x="239" y="20"/>
                </a:lnTo>
                <a:lnTo>
                  <a:pt x="247" y="14"/>
                </a:lnTo>
                <a:lnTo>
                  <a:pt x="258" y="8"/>
                </a:lnTo>
                <a:lnTo>
                  <a:pt x="273" y="3"/>
                </a:lnTo>
                <a:lnTo>
                  <a:pt x="289" y="0"/>
                </a:lnTo>
                <a:lnTo>
                  <a:pt x="306" y="0"/>
                </a:lnTo>
                <a:lnTo>
                  <a:pt x="318" y="3"/>
                </a:lnTo>
                <a:lnTo>
                  <a:pt x="325" y="6"/>
                </a:lnTo>
                <a:lnTo>
                  <a:pt x="328" y="11"/>
                </a:lnTo>
                <a:lnTo>
                  <a:pt x="330" y="15"/>
                </a:lnTo>
                <a:lnTo>
                  <a:pt x="330" y="20"/>
                </a:lnTo>
                <a:lnTo>
                  <a:pt x="332" y="25"/>
                </a:lnTo>
                <a:lnTo>
                  <a:pt x="337" y="32"/>
                </a:lnTo>
                <a:lnTo>
                  <a:pt x="345" y="40"/>
                </a:lnTo>
                <a:lnTo>
                  <a:pt x="354" y="50"/>
                </a:lnTo>
                <a:lnTo>
                  <a:pt x="363" y="59"/>
                </a:lnTo>
                <a:lnTo>
                  <a:pt x="369" y="66"/>
                </a:lnTo>
                <a:lnTo>
                  <a:pt x="374" y="70"/>
                </a:lnTo>
                <a:lnTo>
                  <a:pt x="378" y="72"/>
                </a:lnTo>
                <a:lnTo>
                  <a:pt x="381" y="73"/>
                </a:lnTo>
                <a:lnTo>
                  <a:pt x="384" y="74"/>
                </a:lnTo>
                <a:lnTo>
                  <a:pt x="386" y="76"/>
                </a:lnTo>
                <a:lnTo>
                  <a:pt x="387" y="80"/>
                </a:lnTo>
                <a:lnTo>
                  <a:pt x="387" y="88"/>
                </a:lnTo>
                <a:lnTo>
                  <a:pt x="384" y="99"/>
                </a:lnTo>
                <a:lnTo>
                  <a:pt x="377" y="110"/>
                </a:lnTo>
                <a:lnTo>
                  <a:pt x="369" y="120"/>
                </a:lnTo>
                <a:lnTo>
                  <a:pt x="360" y="126"/>
                </a:lnTo>
                <a:lnTo>
                  <a:pt x="352" y="130"/>
                </a:lnTo>
                <a:lnTo>
                  <a:pt x="344" y="132"/>
                </a:lnTo>
                <a:lnTo>
                  <a:pt x="336" y="135"/>
                </a:lnTo>
                <a:lnTo>
                  <a:pt x="328" y="139"/>
                </a:lnTo>
                <a:lnTo>
                  <a:pt x="319" y="145"/>
                </a:lnTo>
                <a:lnTo>
                  <a:pt x="311" y="155"/>
                </a:lnTo>
                <a:lnTo>
                  <a:pt x="305" y="166"/>
                </a:lnTo>
                <a:lnTo>
                  <a:pt x="303" y="173"/>
                </a:lnTo>
                <a:lnTo>
                  <a:pt x="302" y="179"/>
                </a:lnTo>
                <a:lnTo>
                  <a:pt x="302" y="185"/>
                </a:lnTo>
                <a:lnTo>
                  <a:pt x="303" y="189"/>
                </a:lnTo>
                <a:lnTo>
                  <a:pt x="303" y="192"/>
                </a:lnTo>
                <a:lnTo>
                  <a:pt x="304" y="195"/>
                </a:lnTo>
                <a:lnTo>
                  <a:pt x="305" y="197"/>
                </a:lnTo>
                <a:lnTo>
                  <a:pt x="306" y="199"/>
                </a:lnTo>
                <a:lnTo>
                  <a:pt x="307" y="201"/>
                </a:lnTo>
                <a:lnTo>
                  <a:pt x="308" y="202"/>
                </a:lnTo>
                <a:lnTo>
                  <a:pt x="311" y="204"/>
                </a:lnTo>
                <a:lnTo>
                  <a:pt x="314" y="206"/>
                </a:lnTo>
                <a:lnTo>
                  <a:pt x="318" y="209"/>
                </a:lnTo>
                <a:lnTo>
                  <a:pt x="324" y="212"/>
                </a:lnTo>
                <a:lnTo>
                  <a:pt x="331" y="214"/>
                </a:lnTo>
                <a:lnTo>
                  <a:pt x="340" y="216"/>
                </a:lnTo>
                <a:lnTo>
                  <a:pt x="357" y="217"/>
                </a:lnTo>
                <a:lnTo>
                  <a:pt x="372" y="214"/>
                </a:lnTo>
                <a:lnTo>
                  <a:pt x="385" y="209"/>
                </a:lnTo>
                <a:lnTo>
                  <a:pt x="395" y="202"/>
                </a:lnTo>
                <a:lnTo>
                  <a:pt x="404" y="194"/>
                </a:lnTo>
                <a:lnTo>
                  <a:pt x="413" y="187"/>
                </a:lnTo>
                <a:lnTo>
                  <a:pt x="422" y="181"/>
                </a:lnTo>
                <a:lnTo>
                  <a:pt x="434" y="178"/>
                </a:lnTo>
                <a:lnTo>
                  <a:pt x="448" y="180"/>
                </a:lnTo>
                <a:lnTo>
                  <a:pt x="462" y="189"/>
                </a:lnTo>
                <a:lnTo>
                  <a:pt x="468" y="196"/>
                </a:lnTo>
                <a:lnTo>
                  <a:pt x="472" y="204"/>
                </a:lnTo>
                <a:lnTo>
                  <a:pt x="476" y="212"/>
                </a:lnTo>
                <a:lnTo>
                  <a:pt x="480" y="220"/>
                </a:lnTo>
                <a:lnTo>
                  <a:pt x="484" y="228"/>
                </a:lnTo>
                <a:lnTo>
                  <a:pt x="488" y="235"/>
                </a:lnTo>
                <a:lnTo>
                  <a:pt x="492" y="242"/>
                </a:lnTo>
                <a:lnTo>
                  <a:pt x="496" y="249"/>
                </a:lnTo>
                <a:lnTo>
                  <a:pt x="500" y="256"/>
                </a:lnTo>
                <a:lnTo>
                  <a:pt x="504" y="262"/>
                </a:lnTo>
                <a:lnTo>
                  <a:pt x="507" y="268"/>
                </a:lnTo>
                <a:lnTo>
                  <a:pt x="510" y="275"/>
                </a:lnTo>
                <a:lnTo>
                  <a:pt x="512" y="281"/>
                </a:lnTo>
                <a:lnTo>
                  <a:pt x="512" y="289"/>
                </a:lnTo>
                <a:lnTo>
                  <a:pt x="511" y="296"/>
                </a:lnTo>
                <a:lnTo>
                  <a:pt x="508" y="304"/>
                </a:lnTo>
                <a:lnTo>
                  <a:pt x="501" y="313"/>
                </a:lnTo>
                <a:lnTo>
                  <a:pt x="492" y="321"/>
                </a:lnTo>
                <a:lnTo>
                  <a:pt x="479" y="330"/>
                </a:lnTo>
                <a:lnTo>
                  <a:pt x="462" y="337"/>
                </a:lnTo>
                <a:lnTo>
                  <a:pt x="439" y="343"/>
                </a:lnTo>
                <a:lnTo>
                  <a:pt x="415" y="348"/>
                </a:lnTo>
                <a:lnTo>
                  <a:pt x="390" y="351"/>
                </a:lnTo>
                <a:lnTo>
                  <a:pt x="367" y="352"/>
                </a:lnTo>
                <a:lnTo>
                  <a:pt x="346" y="351"/>
                </a:lnTo>
                <a:lnTo>
                  <a:pt x="327" y="350"/>
                </a:lnTo>
                <a:lnTo>
                  <a:pt x="310" y="348"/>
                </a:lnTo>
                <a:lnTo>
                  <a:pt x="295" y="346"/>
                </a:lnTo>
                <a:lnTo>
                  <a:pt x="279" y="343"/>
                </a:lnTo>
                <a:lnTo>
                  <a:pt x="264" y="340"/>
                </a:lnTo>
                <a:lnTo>
                  <a:pt x="248" y="337"/>
                </a:lnTo>
                <a:lnTo>
                  <a:pt x="230" y="334"/>
                </a:lnTo>
                <a:lnTo>
                  <a:pt x="211" y="332"/>
                </a:lnTo>
                <a:lnTo>
                  <a:pt x="189" y="329"/>
                </a:lnTo>
                <a:lnTo>
                  <a:pt x="164" y="327"/>
                </a:lnTo>
                <a:lnTo>
                  <a:pt x="138" y="326"/>
                </a:lnTo>
                <a:lnTo>
                  <a:pt x="111" y="325"/>
                </a:lnTo>
                <a:lnTo>
                  <a:pt x="84" y="324"/>
                </a:lnTo>
                <a:lnTo>
                  <a:pt x="51" y="323"/>
                </a:lnTo>
                <a:lnTo>
                  <a:pt x="29" y="323"/>
                </a:lnTo>
                <a:lnTo>
                  <a:pt x="16" y="324"/>
                </a:lnTo>
                <a:lnTo>
                  <a:pt x="11" y="325"/>
                </a:lnTo>
                <a:lnTo>
                  <a:pt x="12" y="327"/>
                </a:lnTo>
                <a:lnTo>
                  <a:pt x="15" y="329"/>
                </a:lnTo>
                <a:lnTo>
                  <a:pt x="19" y="331"/>
                </a:lnTo>
                <a:lnTo>
                  <a:pt x="22" y="333"/>
                </a:lnTo>
                <a:lnTo>
                  <a:pt x="23" y="333"/>
                </a:lnTo>
                <a:lnTo>
                  <a:pt x="21" y="332"/>
                </a:lnTo>
                <a:lnTo>
                  <a:pt x="16" y="329"/>
                </a:lnTo>
                <a:lnTo>
                  <a:pt x="9" y="324"/>
                </a:lnTo>
                <a:lnTo>
                  <a:pt x="2" y="314"/>
                </a:lnTo>
                <a:lnTo>
                  <a:pt x="0" y="304"/>
                </a:lnTo>
                <a:lnTo>
                  <a:pt x="0" y="298"/>
                </a:lnTo>
                <a:lnTo>
                  <a:pt x="3" y="293"/>
                </a:lnTo>
                <a:lnTo>
                  <a:pt x="5" y="287"/>
                </a:lnTo>
                <a:lnTo>
                  <a:pt x="8" y="279"/>
                </a:lnTo>
                <a:lnTo>
                  <a:pt x="9" y="267"/>
                </a:lnTo>
                <a:lnTo>
                  <a:pt x="9" y="249"/>
                </a:lnTo>
                <a:lnTo>
                  <a:pt x="9" y="231"/>
                </a:lnTo>
                <a:lnTo>
                  <a:pt x="8" y="219"/>
                </a:lnTo>
                <a:lnTo>
                  <a:pt x="5" y="211"/>
                </a:lnTo>
                <a:lnTo>
                  <a:pt x="3" y="205"/>
                </a:lnTo>
                <a:lnTo>
                  <a:pt x="0" y="200"/>
                </a:lnTo>
                <a:lnTo>
                  <a:pt x="0" y="194"/>
                </a:lnTo>
                <a:lnTo>
                  <a:pt x="2" y="184"/>
                </a:lnTo>
                <a:lnTo>
                  <a:pt x="9" y="174"/>
                </a:lnTo>
                <a:lnTo>
                  <a:pt x="20" y="167"/>
                </a:lnTo>
                <a:lnTo>
                  <a:pt x="31" y="166"/>
                </a:lnTo>
                <a:lnTo>
                  <a:pt x="40" y="167"/>
                </a:lnTo>
                <a:lnTo>
                  <a:pt x="48" y="171"/>
                </a:lnTo>
                <a:lnTo>
                  <a:pt x="57" y="175"/>
                </a:lnTo>
                <a:lnTo>
                  <a:pt x="66" y="177"/>
                </a:lnTo>
                <a:lnTo>
                  <a:pt x="75" y="177"/>
                </a:lnTo>
                <a:lnTo>
                  <a:pt x="84" y="174"/>
                </a:lnTo>
                <a:lnTo>
                  <a:pt x="88" y="167"/>
                </a:lnTo>
                <a:lnTo>
                  <a:pt x="84" y="161"/>
                </a:lnTo>
                <a:lnTo>
                  <a:pt x="78" y="158"/>
                </a:lnTo>
                <a:lnTo>
                  <a:pt x="71" y="155"/>
                </a:lnTo>
                <a:lnTo>
                  <a:pt x="65" y="147"/>
                </a:lnTo>
                <a:lnTo>
                  <a:pt x="61" y="134"/>
                </a:lnTo>
                <a:lnTo>
                  <a:pt x="60" y="125"/>
                </a:lnTo>
                <a:lnTo>
                  <a:pt x="59" y="118"/>
                </a:lnTo>
                <a:lnTo>
                  <a:pt x="57" y="113"/>
                </a:lnTo>
                <a:lnTo>
                  <a:pt x="56" y="109"/>
                </a:lnTo>
                <a:lnTo>
                  <a:pt x="54" y="107"/>
                </a:lnTo>
                <a:lnTo>
                  <a:pt x="53" y="104"/>
                </a:lnTo>
                <a:lnTo>
                  <a:pt x="53" y="101"/>
                </a:lnTo>
                <a:lnTo>
                  <a:pt x="54" y="96"/>
                </a:lnTo>
                <a:lnTo>
                  <a:pt x="59" y="91"/>
                </a:lnTo>
                <a:lnTo>
                  <a:pt x="67" y="84"/>
                </a:lnTo>
              </a:path>
            </a:pathLst>
          </a:custGeom>
          <a:solidFill>
            <a:srgbClr val="008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96160" y="2585880"/>
            <a:ext cx="1800" cy="277920"/>
          </a:xfrm>
          <a:custGeom>
            <a:avLst/>
            <a:gdLst/>
            <a:ahLst/>
            <a:rect l="l" t="t" r="r" b="b"/>
            <a:pathLst>
              <a:path w="4" h="771">
                <a:moveTo>
                  <a:pt x="0" y="0"/>
                </a:moveTo>
                <a:lnTo>
                  <a:pt x="3" y="770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86480" y="2379600"/>
            <a:ext cx="1486080" cy="289080"/>
          </a:xfrm>
          <a:custGeom>
            <a:avLst/>
            <a:gdLst/>
            <a:ahLst/>
            <a:rect l="l" t="t" r="r" b="b"/>
            <a:pathLst>
              <a:path w="4126" h="801">
                <a:moveTo>
                  <a:pt x="0" y="165"/>
                </a:moveTo>
                <a:lnTo>
                  <a:pt x="1155" y="0"/>
                </a:lnTo>
                <a:lnTo>
                  <a:pt x="4125" y="525"/>
                </a:lnTo>
                <a:lnTo>
                  <a:pt x="4125" y="800"/>
                </a:lnTo>
                <a:lnTo>
                  <a:pt x="1155" y="570"/>
                </a:lnTo>
                <a:lnTo>
                  <a:pt x="0" y="630"/>
                </a:lnTo>
                <a:lnTo>
                  <a:pt x="0" y="16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840800" y="2747880"/>
            <a:ext cx="209520" cy="144720"/>
          </a:xfrm>
          <a:custGeom>
            <a:avLst/>
            <a:gdLst/>
            <a:ahLst/>
            <a:rect l="l" t="t" r="r" b="b"/>
            <a:pathLst>
              <a:path w="583" h="403">
                <a:moveTo>
                  <a:pt x="493" y="67"/>
                </a:moveTo>
                <a:lnTo>
                  <a:pt x="479" y="67"/>
                </a:lnTo>
                <a:lnTo>
                  <a:pt x="465" y="71"/>
                </a:lnTo>
                <a:lnTo>
                  <a:pt x="455" y="78"/>
                </a:lnTo>
                <a:lnTo>
                  <a:pt x="447" y="86"/>
                </a:lnTo>
                <a:lnTo>
                  <a:pt x="441" y="95"/>
                </a:lnTo>
                <a:lnTo>
                  <a:pt x="435" y="104"/>
                </a:lnTo>
                <a:lnTo>
                  <a:pt x="426" y="111"/>
                </a:lnTo>
                <a:lnTo>
                  <a:pt x="413" y="117"/>
                </a:lnTo>
                <a:lnTo>
                  <a:pt x="393" y="119"/>
                </a:lnTo>
                <a:lnTo>
                  <a:pt x="368" y="115"/>
                </a:lnTo>
                <a:lnTo>
                  <a:pt x="347" y="108"/>
                </a:lnTo>
                <a:lnTo>
                  <a:pt x="328" y="98"/>
                </a:lnTo>
                <a:lnTo>
                  <a:pt x="314" y="87"/>
                </a:lnTo>
                <a:lnTo>
                  <a:pt x="304" y="76"/>
                </a:lnTo>
                <a:lnTo>
                  <a:pt x="296" y="65"/>
                </a:lnTo>
                <a:lnTo>
                  <a:pt x="291" y="55"/>
                </a:lnTo>
                <a:lnTo>
                  <a:pt x="285" y="45"/>
                </a:lnTo>
                <a:lnTo>
                  <a:pt x="278" y="34"/>
                </a:lnTo>
                <a:lnTo>
                  <a:pt x="270" y="24"/>
                </a:lnTo>
                <a:lnTo>
                  <a:pt x="258" y="14"/>
                </a:lnTo>
                <a:lnTo>
                  <a:pt x="244" y="5"/>
                </a:lnTo>
                <a:lnTo>
                  <a:pt x="230" y="0"/>
                </a:lnTo>
                <a:lnTo>
                  <a:pt x="214" y="1"/>
                </a:lnTo>
                <a:lnTo>
                  <a:pt x="209" y="8"/>
                </a:lnTo>
                <a:lnTo>
                  <a:pt x="211" y="18"/>
                </a:lnTo>
                <a:lnTo>
                  <a:pt x="218" y="29"/>
                </a:lnTo>
                <a:lnTo>
                  <a:pt x="224" y="40"/>
                </a:lnTo>
                <a:lnTo>
                  <a:pt x="227" y="53"/>
                </a:lnTo>
                <a:lnTo>
                  <a:pt x="221" y="66"/>
                </a:lnTo>
                <a:lnTo>
                  <a:pt x="206" y="78"/>
                </a:lnTo>
                <a:lnTo>
                  <a:pt x="189" y="85"/>
                </a:lnTo>
                <a:lnTo>
                  <a:pt x="171" y="88"/>
                </a:lnTo>
                <a:lnTo>
                  <a:pt x="155" y="88"/>
                </a:lnTo>
                <a:lnTo>
                  <a:pt x="141" y="85"/>
                </a:lnTo>
                <a:lnTo>
                  <a:pt x="128" y="82"/>
                </a:lnTo>
                <a:lnTo>
                  <a:pt x="116" y="78"/>
                </a:lnTo>
                <a:lnTo>
                  <a:pt x="103" y="75"/>
                </a:lnTo>
                <a:lnTo>
                  <a:pt x="90" y="75"/>
                </a:lnTo>
                <a:lnTo>
                  <a:pt x="79" y="79"/>
                </a:lnTo>
                <a:lnTo>
                  <a:pt x="72" y="87"/>
                </a:lnTo>
                <a:lnTo>
                  <a:pt x="73" y="98"/>
                </a:lnTo>
                <a:lnTo>
                  <a:pt x="81" y="108"/>
                </a:lnTo>
                <a:lnTo>
                  <a:pt x="92" y="116"/>
                </a:lnTo>
                <a:lnTo>
                  <a:pt x="104" y="122"/>
                </a:lnTo>
                <a:lnTo>
                  <a:pt x="117" y="127"/>
                </a:lnTo>
                <a:lnTo>
                  <a:pt x="130" y="132"/>
                </a:lnTo>
                <a:lnTo>
                  <a:pt x="144" y="139"/>
                </a:lnTo>
                <a:lnTo>
                  <a:pt x="157" y="148"/>
                </a:lnTo>
                <a:lnTo>
                  <a:pt x="169" y="161"/>
                </a:lnTo>
                <a:lnTo>
                  <a:pt x="177" y="176"/>
                </a:lnTo>
                <a:lnTo>
                  <a:pt x="180" y="187"/>
                </a:lnTo>
                <a:lnTo>
                  <a:pt x="180" y="196"/>
                </a:lnTo>
                <a:lnTo>
                  <a:pt x="180" y="203"/>
                </a:lnTo>
                <a:lnTo>
                  <a:pt x="178" y="208"/>
                </a:lnTo>
                <a:lnTo>
                  <a:pt x="176" y="211"/>
                </a:lnTo>
                <a:lnTo>
                  <a:pt x="174" y="213"/>
                </a:lnTo>
                <a:lnTo>
                  <a:pt x="172" y="215"/>
                </a:lnTo>
                <a:lnTo>
                  <a:pt x="169" y="217"/>
                </a:lnTo>
                <a:lnTo>
                  <a:pt x="166" y="219"/>
                </a:lnTo>
                <a:lnTo>
                  <a:pt x="162" y="221"/>
                </a:lnTo>
                <a:lnTo>
                  <a:pt x="157" y="225"/>
                </a:lnTo>
                <a:lnTo>
                  <a:pt x="150" y="230"/>
                </a:lnTo>
                <a:lnTo>
                  <a:pt x="142" y="236"/>
                </a:lnTo>
                <a:lnTo>
                  <a:pt x="131" y="242"/>
                </a:lnTo>
                <a:lnTo>
                  <a:pt x="115" y="249"/>
                </a:lnTo>
                <a:lnTo>
                  <a:pt x="99" y="252"/>
                </a:lnTo>
                <a:lnTo>
                  <a:pt x="87" y="251"/>
                </a:lnTo>
                <a:lnTo>
                  <a:pt x="76" y="248"/>
                </a:lnTo>
                <a:lnTo>
                  <a:pt x="67" y="244"/>
                </a:lnTo>
                <a:lnTo>
                  <a:pt x="58" y="240"/>
                </a:lnTo>
                <a:lnTo>
                  <a:pt x="48" y="238"/>
                </a:lnTo>
                <a:lnTo>
                  <a:pt x="38" y="239"/>
                </a:lnTo>
                <a:lnTo>
                  <a:pt x="27" y="245"/>
                </a:lnTo>
                <a:lnTo>
                  <a:pt x="19" y="257"/>
                </a:lnTo>
                <a:lnTo>
                  <a:pt x="17" y="265"/>
                </a:lnTo>
                <a:lnTo>
                  <a:pt x="15" y="273"/>
                </a:lnTo>
                <a:lnTo>
                  <a:pt x="15" y="281"/>
                </a:lnTo>
                <a:lnTo>
                  <a:pt x="14" y="288"/>
                </a:lnTo>
                <a:lnTo>
                  <a:pt x="13" y="295"/>
                </a:lnTo>
                <a:lnTo>
                  <a:pt x="11" y="302"/>
                </a:lnTo>
                <a:lnTo>
                  <a:pt x="9" y="308"/>
                </a:lnTo>
                <a:lnTo>
                  <a:pt x="7" y="313"/>
                </a:lnTo>
                <a:lnTo>
                  <a:pt x="5" y="318"/>
                </a:lnTo>
                <a:lnTo>
                  <a:pt x="3" y="323"/>
                </a:lnTo>
                <a:lnTo>
                  <a:pt x="1" y="328"/>
                </a:lnTo>
                <a:lnTo>
                  <a:pt x="0" y="333"/>
                </a:lnTo>
                <a:lnTo>
                  <a:pt x="0" y="338"/>
                </a:lnTo>
                <a:lnTo>
                  <a:pt x="2" y="344"/>
                </a:lnTo>
                <a:lnTo>
                  <a:pt x="6" y="350"/>
                </a:lnTo>
                <a:lnTo>
                  <a:pt x="12" y="357"/>
                </a:lnTo>
                <a:lnTo>
                  <a:pt x="21" y="364"/>
                </a:lnTo>
                <a:lnTo>
                  <a:pt x="34" y="371"/>
                </a:lnTo>
                <a:lnTo>
                  <a:pt x="51" y="379"/>
                </a:lnTo>
                <a:lnTo>
                  <a:pt x="72" y="386"/>
                </a:lnTo>
                <a:lnTo>
                  <a:pt x="99" y="392"/>
                </a:lnTo>
                <a:lnTo>
                  <a:pt x="126" y="397"/>
                </a:lnTo>
                <a:lnTo>
                  <a:pt x="153" y="400"/>
                </a:lnTo>
                <a:lnTo>
                  <a:pt x="178" y="402"/>
                </a:lnTo>
                <a:lnTo>
                  <a:pt x="200" y="402"/>
                </a:lnTo>
                <a:lnTo>
                  <a:pt x="219" y="401"/>
                </a:lnTo>
                <a:lnTo>
                  <a:pt x="236" y="400"/>
                </a:lnTo>
                <a:lnTo>
                  <a:pt x="252" y="399"/>
                </a:lnTo>
                <a:lnTo>
                  <a:pt x="267" y="397"/>
                </a:lnTo>
                <a:lnTo>
                  <a:pt x="282" y="395"/>
                </a:lnTo>
                <a:lnTo>
                  <a:pt x="298" y="393"/>
                </a:lnTo>
                <a:lnTo>
                  <a:pt x="315" y="391"/>
                </a:lnTo>
                <a:lnTo>
                  <a:pt x="335" y="389"/>
                </a:lnTo>
                <a:lnTo>
                  <a:pt x="358" y="388"/>
                </a:lnTo>
                <a:lnTo>
                  <a:pt x="383" y="387"/>
                </a:lnTo>
                <a:lnTo>
                  <a:pt x="411" y="386"/>
                </a:lnTo>
                <a:lnTo>
                  <a:pt x="441" y="386"/>
                </a:lnTo>
                <a:lnTo>
                  <a:pt x="470" y="386"/>
                </a:lnTo>
                <a:lnTo>
                  <a:pt x="507" y="386"/>
                </a:lnTo>
                <a:lnTo>
                  <a:pt x="532" y="387"/>
                </a:lnTo>
                <a:lnTo>
                  <a:pt x="547" y="388"/>
                </a:lnTo>
                <a:lnTo>
                  <a:pt x="554" y="390"/>
                </a:lnTo>
                <a:lnTo>
                  <a:pt x="555" y="392"/>
                </a:lnTo>
                <a:lnTo>
                  <a:pt x="553" y="394"/>
                </a:lnTo>
                <a:lnTo>
                  <a:pt x="550" y="396"/>
                </a:lnTo>
                <a:lnTo>
                  <a:pt x="549" y="398"/>
                </a:lnTo>
                <a:lnTo>
                  <a:pt x="554" y="397"/>
                </a:lnTo>
                <a:lnTo>
                  <a:pt x="561" y="393"/>
                </a:lnTo>
                <a:lnTo>
                  <a:pt x="570" y="386"/>
                </a:lnTo>
                <a:lnTo>
                  <a:pt x="578" y="375"/>
                </a:lnTo>
                <a:lnTo>
                  <a:pt x="582" y="364"/>
                </a:lnTo>
                <a:lnTo>
                  <a:pt x="582" y="356"/>
                </a:lnTo>
                <a:lnTo>
                  <a:pt x="581" y="349"/>
                </a:lnTo>
                <a:lnTo>
                  <a:pt x="578" y="344"/>
                </a:lnTo>
                <a:lnTo>
                  <a:pt x="576" y="339"/>
                </a:lnTo>
                <a:lnTo>
                  <a:pt x="573" y="331"/>
                </a:lnTo>
                <a:lnTo>
                  <a:pt x="571" y="320"/>
                </a:lnTo>
                <a:lnTo>
                  <a:pt x="570" y="305"/>
                </a:lnTo>
                <a:lnTo>
                  <a:pt x="570" y="286"/>
                </a:lnTo>
                <a:lnTo>
                  <a:pt x="570" y="263"/>
                </a:lnTo>
                <a:lnTo>
                  <a:pt x="572" y="246"/>
                </a:lnTo>
                <a:lnTo>
                  <a:pt x="575" y="235"/>
                </a:lnTo>
                <a:lnTo>
                  <a:pt x="578" y="228"/>
                </a:lnTo>
                <a:lnTo>
                  <a:pt x="581" y="222"/>
                </a:lnTo>
                <a:lnTo>
                  <a:pt x="582" y="213"/>
                </a:lnTo>
                <a:lnTo>
                  <a:pt x="579" y="201"/>
                </a:lnTo>
                <a:lnTo>
                  <a:pt x="570" y="187"/>
                </a:lnTo>
                <a:lnTo>
                  <a:pt x="559" y="179"/>
                </a:lnTo>
                <a:lnTo>
                  <a:pt x="547" y="176"/>
                </a:lnTo>
                <a:lnTo>
                  <a:pt x="536" y="176"/>
                </a:lnTo>
                <a:lnTo>
                  <a:pt x="526" y="179"/>
                </a:lnTo>
                <a:lnTo>
                  <a:pt x="517" y="183"/>
                </a:lnTo>
                <a:lnTo>
                  <a:pt x="509" y="187"/>
                </a:lnTo>
                <a:lnTo>
                  <a:pt x="499" y="191"/>
                </a:lnTo>
                <a:lnTo>
                  <a:pt x="489" y="192"/>
                </a:lnTo>
                <a:lnTo>
                  <a:pt x="479" y="191"/>
                </a:lnTo>
                <a:lnTo>
                  <a:pt x="470" y="187"/>
                </a:lnTo>
                <a:lnTo>
                  <a:pt x="465" y="177"/>
                </a:lnTo>
                <a:lnTo>
                  <a:pt x="470" y="170"/>
                </a:lnTo>
                <a:lnTo>
                  <a:pt x="478" y="166"/>
                </a:lnTo>
                <a:lnTo>
                  <a:pt x="487" y="161"/>
                </a:lnTo>
                <a:lnTo>
                  <a:pt x="495" y="151"/>
                </a:lnTo>
                <a:lnTo>
                  <a:pt x="501" y="134"/>
                </a:lnTo>
                <a:lnTo>
                  <a:pt x="502" y="125"/>
                </a:lnTo>
                <a:lnTo>
                  <a:pt x="503" y="118"/>
                </a:lnTo>
                <a:lnTo>
                  <a:pt x="504" y="111"/>
                </a:lnTo>
                <a:lnTo>
                  <a:pt x="506" y="105"/>
                </a:lnTo>
                <a:lnTo>
                  <a:pt x="507" y="100"/>
                </a:lnTo>
                <a:lnTo>
                  <a:pt x="509" y="96"/>
                </a:lnTo>
                <a:lnTo>
                  <a:pt x="510" y="92"/>
                </a:lnTo>
                <a:lnTo>
                  <a:pt x="511" y="88"/>
                </a:lnTo>
                <a:lnTo>
                  <a:pt x="512" y="85"/>
                </a:lnTo>
                <a:lnTo>
                  <a:pt x="512" y="81"/>
                </a:lnTo>
                <a:lnTo>
                  <a:pt x="510" y="77"/>
                </a:lnTo>
                <a:lnTo>
                  <a:pt x="507" y="73"/>
                </a:lnTo>
                <a:lnTo>
                  <a:pt x="501" y="69"/>
                </a:lnTo>
                <a:lnTo>
                  <a:pt x="493" y="67"/>
                </a:lnTo>
              </a:path>
            </a:pathLst>
          </a:custGeom>
          <a:solidFill>
            <a:srgbClr val="008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68880" y="2727360"/>
            <a:ext cx="209520" cy="144360"/>
          </a:xfrm>
          <a:custGeom>
            <a:avLst/>
            <a:gdLst/>
            <a:ahLst/>
            <a:rect l="l" t="t" r="r" b="b"/>
            <a:pathLst>
              <a:path w="583" h="403">
                <a:moveTo>
                  <a:pt x="493" y="67"/>
                </a:moveTo>
                <a:lnTo>
                  <a:pt x="479" y="67"/>
                </a:lnTo>
                <a:lnTo>
                  <a:pt x="465" y="71"/>
                </a:lnTo>
                <a:lnTo>
                  <a:pt x="455" y="78"/>
                </a:lnTo>
                <a:lnTo>
                  <a:pt x="447" y="86"/>
                </a:lnTo>
                <a:lnTo>
                  <a:pt x="441" y="95"/>
                </a:lnTo>
                <a:lnTo>
                  <a:pt x="435" y="104"/>
                </a:lnTo>
                <a:lnTo>
                  <a:pt x="426" y="111"/>
                </a:lnTo>
                <a:lnTo>
                  <a:pt x="413" y="117"/>
                </a:lnTo>
                <a:lnTo>
                  <a:pt x="393" y="119"/>
                </a:lnTo>
                <a:lnTo>
                  <a:pt x="368" y="115"/>
                </a:lnTo>
                <a:lnTo>
                  <a:pt x="347" y="108"/>
                </a:lnTo>
                <a:lnTo>
                  <a:pt x="328" y="98"/>
                </a:lnTo>
                <a:lnTo>
                  <a:pt x="314" y="87"/>
                </a:lnTo>
                <a:lnTo>
                  <a:pt x="304" y="76"/>
                </a:lnTo>
                <a:lnTo>
                  <a:pt x="296" y="65"/>
                </a:lnTo>
                <a:lnTo>
                  <a:pt x="291" y="55"/>
                </a:lnTo>
                <a:lnTo>
                  <a:pt x="285" y="45"/>
                </a:lnTo>
                <a:lnTo>
                  <a:pt x="278" y="34"/>
                </a:lnTo>
                <a:lnTo>
                  <a:pt x="270" y="24"/>
                </a:lnTo>
                <a:lnTo>
                  <a:pt x="258" y="14"/>
                </a:lnTo>
                <a:lnTo>
                  <a:pt x="244" y="5"/>
                </a:lnTo>
                <a:lnTo>
                  <a:pt x="230" y="0"/>
                </a:lnTo>
                <a:lnTo>
                  <a:pt x="214" y="1"/>
                </a:lnTo>
                <a:lnTo>
                  <a:pt x="209" y="8"/>
                </a:lnTo>
                <a:lnTo>
                  <a:pt x="211" y="18"/>
                </a:lnTo>
                <a:lnTo>
                  <a:pt x="218" y="29"/>
                </a:lnTo>
                <a:lnTo>
                  <a:pt x="224" y="40"/>
                </a:lnTo>
                <a:lnTo>
                  <a:pt x="227" y="53"/>
                </a:lnTo>
                <a:lnTo>
                  <a:pt x="221" y="66"/>
                </a:lnTo>
                <a:lnTo>
                  <a:pt x="206" y="78"/>
                </a:lnTo>
                <a:lnTo>
                  <a:pt x="189" y="85"/>
                </a:lnTo>
                <a:lnTo>
                  <a:pt x="171" y="88"/>
                </a:lnTo>
                <a:lnTo>
                  <a:pt x="155" y="88"/>
                </a:lnTo>
                <a:lnTo>
                  <a:pt x="141" y="85"/>
                </a:lnTo>
                <a:lnTo>
                  <a:pt x="128" y="82"/>
                </a:lnTo>
                <a:lnTo>
                  <a:pt x="116" y="78"/>
                </a:lnTo>
                <a:lnTo>
                  <a:pt x="103" y="75"/>
                </a:lnTo>
                <a:lnTo>
                  <a:pt x="90" y="75"/>
                </a:lnTo>
                <a:lnTo>
                  <a:pt x="79" y="79"/>
                </a:lnTo>
                <a:lnTo>
                  <a:pt x="72" y="87"/>
                </a:lnTo>
                <a:lnTo>
                  <a:pt x="73" y="98"/>
                </a:lnTo>
                <a:lnTo>
                  <a:pt x="81" y="108"/>
                </a:lnTo>
                <a:lnTo>
                  <a:pt x="92" y="116"/>
                </a:lnTo>
                <a:lnTo>
                  <a:pt x="104" y="122"/>
                </a:lnTo>
                <a:lnTo>
                  <a:pt x="117" y="127"/>
                </a:lnTo>
                <a:lnTo>
                  <a:pt x="130" y="132"/>
                </a:lnTo>
                <a:lnTo>
                  <a:pt x="144" y="139"/>
                </a:lnTo>
                <a:lnTo>
                  <a:pt x="157" y="148"/>
                </a:lnTo>
                <a:lnTo>
                  <a:pt x="169" y="161"/>
                </a:lnTo>
                <a:lnTo>
                  <a:pt x="177" y="176"/>
                </a:lnTo>
                <a:lnTo>
                  <a:pt x="180" y="187"/>
                </a:lnTo>
                <a:lnTo>
                  <a:pt x="180" y="196"/>
                </a:lnTo>
                <a:lnTo>
                  <a:pt x="180" y="203"/>
                </a:lnTo>
                <a:lnTo>
                  <a:pt x="178" y="208"/>
                </a:lnTo>
                <a:lnTo>
                  <a:pt x="176" y="211"/>
                </a:lnTo>
                <a:lnTo>
                  <a:pt x="174" y="213"/>
                </a:lnTo>
                <a:lnTo>
                  <a:pt x="172" y="215"/>
                </a:lnTo>
                <a:lnTo>
                  <a:pt x="169" y="217"/>
                </a:lnTo>
                <a:lnTo>
                  <a:pt x="166" y="219"/>
                </a:lnTo>
                <a:lnTo>
                  <a:pt x="162" y="221"/>
                </a:lnTo>
                <a:lnTo>
                  <a:pt x="157" y="225"/>
                </a:lnTo>
                <a:lnTo>
                  <a:pt x="150" y="230"/>
                </a:lnTo>
                <a:lnTo>
                  <a:pt x="142" y="236"/>
                </a:lnTo>
                <a:lnTo>
                  <a:pt x="131" y="242"/>
                </a:lnTo>
                <a:lnTo>
                  <a:pt x="115" y="249"/>
                </a:lnTo>
                <a:lnTo>
                  <a:pt x="99" y="252"/>
                </a:lnTo>
                <a:lnTo>
                  <a:pt x="87" y="251"/>
                </a:lnTo>
                <a:lnTo>
                  <a:pt x="76" y="248"/>
                </a:lnTo>
                <a:lnTo>
                  <a:pt x="67" y="244"/>
                </a:lnTo>
                <a:lnTo>
                  <a:pt x="58" y="240"/>
                </a:lnTo>
                <a:lnTo>
                  <a:pt x="48" y="238"/>
                </a:lnTo>
                <a:lnTo>
                  <a:pt x="38" y="239"/>
                </a:lnTo>
                <a:lnTo>
                  <a:pt x="27" y="245"/>
                </a:lnTo>
                <a:lnTo>
                  <a:pt x="19" y="257"/>
                </a:lnTo>
                <a:lnTo>
                  <a:pt x="17" y="265"/>
                </a:lnTo>
                <a:lnTo>
                  <a:pt x="15" y="273"/>
                </a:lnTo>
                <a:lnTo>
                  <a:pt x="15" y="281"/>
                </a:lnTo>
                <a:lnTo>
                  <a:pt x="14" y="288"/>
                </a:lnTo>
                <a:lnTo>
                  <a:pt x="13" y="295"/>
                </a:lnTo>
                <a:lnTo>
                  <a:pt x="11" y="302"/>
                </a:lnTo>
                <a:lnTo>
                  <a:pt x="9" y="308"/>
                </a:lnTo>
                <a:lnTo>
                  <a:pt x="7" y="313"/>
                </a:lnTo>
                <a:lnTo>
                  <a:pt x="5" y="318"/>
                </a:lnTo>
                <a:lnTo>
                  <a:pt x="3" y="323"/>
                </a:lnTo>
                <a:lnTo>
                  <a:pt x="1" y="328"/>
                </a:lnTo>
                <a:lnTo>
                  <a:pt x="0" y="333"/>
                </a:lnTo>
                <a:lnTo>
                  <a:pt x="0" y="338"/>
                </a:lnTo>
                <a:lnTo>
                  <a:pt x="2" y="344"/>
                </a:lnTo>
                <a:lnTo>
                  <a:pt x="6" y="350"/>
                </a:lnTo>
                <a:lnTo>
                  <a:pt x="12" y="357"/>
                </a:lnTo>
                <a:lnTo>
                  <a:pt x="21" y="364"/>
                </a:lnTo>
                <a:lnTo>
                  <a:pt x="34" y="371"/>
                </a:lnTo>
                <a:lnTo>
                  <a:pt x="51" y="379"/>
                </a:lnTo>
                <a:lnTo>
                  <a:pt x="72" y="386"/>
                </a:lnTo>
                <a:lnTo>
                  <a:pt x="99" y="392"/>
                </a:lnTo>
                <a:lnTo>
                  <a:pt x="126" y="397"/>
                </a:lnTo>
                <a:lnTo>
                  <a:pt x="153" y="400"/>
                </a:lnTo>
                <a:lnTo>
                  <a:pt x="178" y="402"/>
                </a:lnTo>
                <a:lnTo>
                  <a:pt x="200" y="402"/>
                </a:lnTo>
                <a:lnTo>
                  <a:pt x="219" y="401"/>
                </a:lnTo>
                <a:lnTo>
                  <a:pt x="236" y="400"/>
                </a:lnTo>
                <a:lnTo>
                  <a:pt x="252" y="399"/>
                </a:lnTo>
                <a:lnTo>
                  <a:pt x="267" y="397"/>
                </a:lnTo>
                <a:lnTo>
                  <a:pt x="282" y="395"/>
                </a:lnTo>
                <a:lnTo>
                  <a:pt x="298" y="393"/>
                </a:lnTo>
                <a:lnTo>
                  <a:pt x="315" y="391"/>
                </a:lnTo>
                <a:lnTo>
                  <a:pt x="335" y="389"/>
                </a:lnTo>
                <a:lnTo>
                  <a:pt x="358" y="388"/>
                </a:lnTo>
                <a:lnTo>
                  <a:pt x="383" y="387"/>
                </a:lnTo>
                <a:lnTo>
                  <a:pt x="411" y="386"/>
                </a:lnTo>
                <a:lnTo>
                  <a:pt x="441" y="386"/>
                </a:lnTo>
                <a:lnTo>
                  <a:pt x="470" y="386"/>
                </a:lnTo>
                <a:lnTo>
                  <a:pt x="507" y="386"/>
                </a:lnTo>
                <a:lnTo>
                  <a:pt x="532" y="387"/>
                </a:lnTo>
                <a:lnTo>
                  <a:pt x="547" y="388"/>
                </a:lnTo>
                <a:lnTo>
                  <a:pt x="554" y="390"/>
                </a:lnTo>
                <a:lnTo>
                  <a:pt x="555" y="392"/>
                </a:lnTo>
                <a:lnTo>
                  <a:pt x="553" y="394"/>
                </a:lnTo>
                <a:lnTo>
                  <a:pt x="550" y="396"/>
                </a:lnTo>
                <a:lnTo>
                  <a:pt x="549" y="398"/>
                </a:lnTo>
                <a:lnTo>
                  <a:pt x="554" y="397"/>
                </a:lnTo>
                <a:lnTo>
                  <a:pt x="561" y="393"/>
                </a:lnTo>
                <a:lnTo>
                  <a:pt x="570" y="386"/>
                </a:lnTo>
                <a:lnTo>
                  <a:pt x="578" y="375"/>
                </a:lnTo>
                <a:lnTo>
                  <a:pt x="582" y="364"/>
                </a:lnTo>
                <a:lnTo>
                  <a:pt x="582" y="356"/>
                </a:lnTo>
                <a:lnTo>
                  <a:pt x="581" y="349"/>
                </a:lnTo>
                <a:lnTo>
                  <a:pt x="578" y="344"/>
                </a:lnTo>
                <a:lnTo>
                  <a:pt x="576" y="339"/>
                </a:lnTo>
                <a:lnTo>
                  <a:pt x="573" y="331"/>
                </a:lnTo>
                <a:lnTo>
                  <a:pt x="571" y="320"/>
                </a:lnTo>
                <a:lnTo>
                  <a:pt x="570" y="305"/>
                </a:lnTo>
                <a:lnTo>
                  <a:pt x="570" y="286"/>
                </a:lnTo>
                <a:lnTo>
                  <a:pt x="570" y="263"/>
                </a:lnTo>
                <a:lnTo>
                  <a:pt x="572" y="246"/>
                </a:lnTo>
                <a:lnTo>
                  <a:pt x="575" y="235"/>
                </a:lnTo>
                <a:lnTo>
                  <a:pt x="578" y="228"/>
                </a:lnTo>
                <a:lnTo>
                  <a:pt x="581" y="222"/>
                </a:lnTo>
                <a:lnTo>
                  <a:pt x="582" y="213"/>
                </a:lnTo>
                <a:lnTo>
                  <a:pt x="579" y="201"/>
                </a:lnTo>
                <a:lnTo>
                  <a:pt x="570" y="187"/>
                </a:lnTo>
                <a:lnTo>
                  <a:pt x="559" y="179"/>
                </a:lnTo>
                <a:lnTo>
                  <a:pt x="547" y="176"/>
                </a:lnTo>
                <a:lnTo>
                  <a:pt x="536" y="176"/>
                </a:lnTo>
                <a:lnTo>
                  <a:pt x="526" y="179"/>
                </a:lnTo>
                <a:lnTo>
                  <a:pt x="517" y="183"/>
                </a:lnTo>
                <a:lnTo>
                  <a:pt x="509" y="187"/>
                </a:lnTo>
                <a:lnTo>
                  <a:pt x="499" y="191"/>
                </a:lnTo>
                <a:lnTo>
                  <a:pt x="489" y="192"/>
                </a:lnTo>
                <a:lnTo>
                  <a:pt x="479" y="191"/>
                </a:lnTo>
                <a:lnTo>
                  <a:pt x="470" y="187"/>
                </a:lnTo>
                <a:lnTo>
                  <a:pt x="465" y="177"/>
                </a:lnTo>
                <a:lnTo>
                  <a:pt x="470" y="170"/>
                </a:lnTo>
                <a:lnTo>
                  <a:pt x="478" y="166"/>
                </a:lnTo>
                <a:lnTo>
                  <a:pt x="487" y="161"/>
                </a:lnTo>
                <a:lnTo>
                  <a:pt x="495" y="151"/>
                </a:lnTo>
                <a:lnTo>
                  <a:pt x="501" y="134"/>
                </a:lnTo>
                <a:lnTo>
                  <a:pt x="502" y="125"/>
                </a:lnTo>
                <a:lnTo>
                  <a:pt x="503" y="118"/>
                </a:lnTo>
                <a:lnTo>
                  <a:pt x="504" y="111"/>
                </a:lnTo>
                <a:lnTo>
                  <a:pt x="506" y="105"/>
                </a:lnTo>
                <a:lnTo>
                  <a:pt x="507" y="100"/>
                </a:lnTo>
                <a:lnTo>
                  <a:pt x="509" y="96"/>
                </a:lnTo>
                <a:lnTo>
                  <a:pt x="510" y="92"/>
                </a:lnTo>
                <a:lnTo>
                  <a:pt x="511" y="88"/>
                </a:lnTo>
                <a:lnTo>
                  <a:pt x="512" y="85"/>
                </a:lnTo>
                <a:lnTo>
                  <a:pt x="512" y="81"/>
                </a:lnTo>
                <a:lnTo>
                  <a:pt x="510" y="77"/>
                </a:lnTo>
                <a:lnTo>
                  <a:pt x="507" y="73"/>
                </a:lnTo>
                <a:lnTo>
                  <a:pt x="501" y="69"/>
                </a:lnTo>
                <a:lnTo>
                  <a:pt x="493" y="67"/>
                </a:lnTo>
              </a:path>
            </a:pathLst>
          </a:custGeom>
          <a:solidFill>
            <a:srgbClr val="008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53160" y="2706840"/>
            <a:ext cx="158760" cy="109440"/>
          </a:xfrm>
          <a:custGeom>
            <a:avLst/>
            <a:gdLst/>
            <a:ahLst/>
            <a:rect l="l" t="t" r="r" b="b"/>
            <a:pathLst>
              <a:path w="439" h="304">
                <a:moveTo>
                  <a:pt x="67" y="51"/>
                </a:moveTo>
                <a:lnTo>
                  <a:pt x="78" y="51"/>
                </a:lnTo>
                <a:lnTo>
                  <a:pt x="88" y="54"/>
                </a:lnTo>
                <a:lnTo>
                  <a:pt x="96" y="59"/>
                </a:lnTo>
                <a:lnTo>
                  <a:pt x="101" y="66"/>
                </a:lnTo>
                <a:lnTo>
                  <a:pt x="106" y="72"/>
                </a:lnTo>
                <a:lnTo>
                  <a:pt x="111" y="79"/>
                </a:lnTo>
                <a:lnTo>
                  <a:pt x="117" y="84"/>
                </a:lnTo>
                <a:lnTo>
                  <a:pt x="127" y="88"/>
                </a:lnTo>
                <a:lnTo>
                  <a:pt x="142" y="90"/>
                </a:lnTo>
                <a:lnTo>
                  <a:pt x="161" y="87"/>
                </a:lnTo>
                <a:lnTo>
                  <a:pt x="180" y="80"/>
                </a:lnTo>
                <a:lnTo>
                  <a:pt x="196" y="71"/>
                </a:lnTo>
                <a:lnTo>
                  <a:pt x="207" y="61"/>
                </a:lnTo>
                <a:lnTo>
                  <a:pt x="214" y="51"/>
                </a:lnTo>
                <a:lnTo>
                  <a:pt x="219" y="42"/>
                </a:lnTo>
                <a:lnTo>
                  <a:pt x="224" y="32"/>
                </a:lnTo>
                <a:lnTo>
                  <a:pt x="231" y="23"/>
                </a:lnTo>
                <a:lnTo>
                  <a:pt x="240" y="13"/>
                </a:lnTo>
                <a:lnTo>
                  <a:pt x="252" y="5"/>
                </a:lnTo>
                <a:lnTo>
                  <a:pt x="265" y="0"/>
                </a:lnTo>
                <a:lnTo>
                  <a:pt x="279" y="2"/>
                </a:lnTo>
                <a:lnTo>
                  <a:pt x="280" y="11"/>
                </a:lnTo>
                <a:lnTo>
                  <a:pt x="274" y="22"/>
                </a:lnTo>
                <a:lnTo>
                  <a:pt x="268" y="33"/>
                </a:lnTo>
                <a:lnTo>
                  <a:pt x="269" y="46"/>
                </a:lnTo>
                <a:lnTo>
                  <a:pt x="283" y="59"/>
                </a:lnTo>
                <a:lnTo>
                  <a:pt x="296" y="64"/>
                </a:lnTo>
                <a:lnTo>
                  <a:pt x="309" y="67"/>
                </a:lnTo>
                <a:lnTo>
                  <a:pt x="321" y="67"/>
                </a:lnTo>
                <a:lnTo>
                  <a:pt x="332" y="65"/>
                </a:lnTo>
                <a:lnTo>
                  <a:pt x="342" y="62"/>
                </a:lnTo>
                <a:lnTo>
                  <a:pt x="351" y="59"/>
                </a:lnTo>
                <a:lnTo>
                  <a:pt x="361" y="57"/>
                </a:lnTo>
                <a:lnTo>
                  <a:pt x="370" y="57"/>
                </a:lnTo>
                <a:lnTo>
                  <a:pt x="379" y="60"/>
                </a:lnTo>
                <a:lnTo>
                  <a:pt x="384" y="66"/>
                </a:lnTo>
                <a:lnTo>
                  <a:pt x="383" y="74"/>
                </a:lnTo>
                <a:lnTo>
                  <a:pt x="377" y="82"/>
                </a:lnTo>
                <a:lnTo>
                  <a:pt x="369" y="88"/>
                </a:lnTo>
                <a:lnTo>
                  <a:pt x="360" y="92"/>
                </a:lnTo>
                <a:lnTo>
                  <a:pt x="350" y="96"/>
                </a:lnTo>
                <a:lnTo>
                  <a:pt x="340" y="100"/>
                </a:lnTo>
                <a:lnTo>
                  <a:pt x="330" y="105"/>
                </a:lnTo>
                <a:lnTo>
                  <a:pt x="320" y="112"/>
                </a:lnTo>
                <a:lnTo>
                  <a:pt x="311" y="122"/>
                </a:lnTo>
                <a:lnTo>
                  <a:pt x="305" y="133"/>
                </a:lnTo>
                <a:lnTo>
                  <a:pt x="303" y="142"/>
                </a:lnTo>
                <a:lnTo>
                  <a:pt x="303" y="150"/>
                </a:lnTo>
                <a:lnTo>
                  <a:pt x="304" y="155"/>
                </a:lnTo>
                <a:lnTo>
                  <a:pt x="305" y="159"/>
                </a:lnTo>
                <a:lnTo>
                  <a:pt x="307" y="161"/>
                </a:lnTo>
                <a:lnTo>
                  <a:pt x="309" y="163"/>
                </a:lnTo>
                <a:lnTo>
                  <a:pt x="311" y="164"/>
                </a:lnTo>
                <a:lnTo>
                  <a:pt x="314" y="166"/>
                </a:lnTo>
                <a:lnTo>
                  <a:pt x="318" y="169"/>
                </a:lnTo>
                <a:lnTo>
                  <a:pt x="324" y="173"/>
                </a:lnTo>
                <a:lnTo>
                  <a:pt x="331" y="178"/>
                </a:lnTo>
                <a:lnTo>
                  <a:pt x="340" y="183"/>
                </a:lnTo>
                <a:lnTo>
                  <a:pt x="355" y="189"/>
                </a:lnTo>
                <a:lnTo>
                  <a:pt x="369" y="190"/>
                </a:lnTo>
                <a:lnTo>
                  <a:pt x="379" y="188"/>
                </a:lnTo>
                <a:lnTo>
                  <a:pt x="388" y="185"/>
                </a:lnTo>
                <a:lnTo>
                  <a:pt x="397" y="181"/>
                </a:lnTo>
                <a:lnTo>
                  <a:pt x="406" y="180"/>
                </a:lnTo>
                <a:lnTo>
                  <a:pt x="416" y="184"/>
                </a:lnTo>
                <a:lnTo>
                  <a:pt x="424" y="194"/>
                </a:lnTo>
                <a:lnTo>
                  <a:pt x="426" y="200"/>
                </a:lnTo>
                <a:lnTo>
                  <a:pt x="427" y="206"/>
                </a:lnTo>
                <a:lnTo>
                  <a:pt x="427" y="212"/>
                </a:lnTo>
                <a:lnTo>
                  <a:pt x="428" y="218"/>
                </a:lnTo>
                <a:lnTo>
                  <a:pt x="429" y="223"/>
                </a:lnTo>
                <a:lnTo>
                  <a:pt x="430" y="228"/>
                </a:lnTo>
                <a:lnTo>
                  <a:pt x="431" y="232"/>
                </a:lnTo>
                <a:lnTo>
                  <a:pt x="433" y="236"/>
                </a:lnTo>
                <a:lnTo>
                  <a:pt x="434" y="240"/>
                </a:lnTo>
                <a:lnTo>
                  <a:pt x="436" y="243"/>
                </a:lnTo>
                <a:lnTo>
                  <a:pt x="437" y="247"/>
                </a:lnTo>
                <a:lnTo>
                  <a:pt x="438" y="251"/>
                </a:lnTo>
                <a:lnTo>
                  <a:pt x="438" y="255"/>
                </a:lnTo>
                <a:lnTo>
                  <a:pt x="437" y="259"/>
                </a:lnTo>
                <a:lnTo>
                  <a:pt x="434" y="264"/>
                </a:lnTo>
                <a:lnTo>
                  <a:pt x="429" y="269"/>
                </a:lnTo>
                <a:lnTo>
                  <a:pt x="422" y="274"/>
                </a:lnTo>
                <a:lnTo>
                  <a:pt x="412" y="280"/>
                </a:lnTo>
                <a:lnTo>
                  <a:pt x="400" y="286"/>
                </a:lnTo>
                <a:lnTo>
                  <a:pt x="384" y="291"/>
                </a:lnTo>
                <a:lnTo>
                  <a:pt x="361" y="296"/>
                </a:lnTo>
                <a:lnTo>
                  <a:pt x="338" y="300"/>
                </a:lnTo>
                <a:lnTo>
                  <a:pt x="316" y="302"/>
                </a:lnTo>
                <a:lnTo>
                  <a:pt x="296" y="303"/>
                </a:lnTo>
                <a:lnTo>
                  <a:pt x="278" y="303"/>
                </a:lnTo>
                <a:lnTo>
                  <a:pt x="263" y="302"/>
                </a:lnTo>
                <a:lnTo>
                  <a:pt x="250" y="301"/>
                </a:lnTo>
                <a:lnTo>
                  <a:pt x="237" y="299"/>
                </a:lnTo>
                <a:lnTo>
                  <a:pt x="224" y="297"/>
                </a:lnTo>
                <a:lnTo>
                  <a:pt x="211" y="296"/>
                </a:lnTo>
                <a:lnTo>
                  <a:pt x="195" y="294"/>
                </a:lnTo>
                <a:lnTo>
                  <a:pt x="177" y="293"/>
                </a:lnTo>
                <a:lnTo>
                  <a:pt x="157" y="292"/>
                </a:lnTo>
                <a:lnTo>
                  <a:pt x="134" y="291"/>
                </a:lnTo>
                <a:lnTo>
                  <a:pt x="109" y="291"/>
                </a:lnTo>
                <a:lnTo>
                  <a:pt x="84" y="291"/>
                </a:lnTo>
                <a:lnTo>
                  <a:pt x="52" y="291"/>
                </a:lnTo>
                <a:lnTo>
                  <a:pt x="32" y="292"/>
                </a:lnTo>
                <a:lnTo>
                  <a:pt x="22" y="293"/>
                </a:lnTo>
                <a:lnTo>
                  <a:pt x="20" y="295"/>
                </a:lnTo>
                <a:lnTo>
                  <a:pt x="22" y="297"/>
                </a:lnTo>
                <a:lnTo>
                  <a:pt x="24" y="299"/>
                </a:lnTo>
                <a:lnTo>
                  <a:pt x="25" y="300"/>
                </a:lnTo>
                <a:lnTo>
                  <a:pt x="23" y="300"/>
                </a:lnTo>
                <a:lnTo>
                  <a:pt x="17" y="297"/>
                </a:lnTo>
                <a:lnTo>
                  <a:pt x="9" y="291"/>
                </a:lnTo>
                <a:lnTo>
                  <a:pt x="2" y="281"/>
                </a:lnTo>
                <a:lnTo>
                  <a:pt x="0" y="271"/>
                </a:lnTo>
                <a:lnTo>
                  <a:pt x="0" y="265"/>
                </a:lnTo>
                <a:lnTo>
                  <a:pt x="3" y="260"/>
                </a:lnTo>
                <a:lnTo>
                  <a:pt x="5" y="254"/>
                </a:lnTo>
                <a:lnTo>
                  <a:pt x="8" y="246"/>
                </a:lnTo>
                <a:lnTo>
                  <a:pt x="9" y="234"/>
                </a:lnTo>
                <a:lnTo>
                  <a:pt x="9" y="216"/>
                </a:lnTo>
                <a:lnTo>
                  <a:pt x="9" y="198"/>
                </a:lnTo>
                <a:lnTo>
                  <a:pt x="8" y="186"/>
                </a:lnTo>
                <a:lnTo>
                  <a:pt x="5" y="178"/>
                </a:lnTo>
                <a:lnTo>
                  <a:pt x="3" y="172"/>
                </a:lnTo>
                <a:lnTo>
                  <a:pt x="0" y="167"/>
                </a:lnTo>
                <a:lnTo>
                  <a:pt x="0" y="161"/>
                </a:lnTo>
                <a:lnTo>
                  <a:pt x="2" y="151"/>
                </a:lnTo>
                <a:lnTo>
                  <a:pt x="9" y="141"/>
                </a:lnTo>
                <a:lnTo>
                  <a:pt x="20" y="134"/>
                </a:lnTo>
                <a:lnTo>
                  <a:pt x="31" y="133"/>
                </a:lnTo>
                <a:lnTo>
                  <a:pt x="40" y="134"/>
                </a:lnTo>
                <a:lnTo>
                  <a:pt x="48" y="138"/>
                </a:lnTo>
                <a:lnTo>
                  <a:pt x="57" y="142"/>
                </a:lnTo>
                <a:lnTo>
                  <a:pt x="66" y="144"/>
                </a:lnTo>
                <a:lnTo>
                  <a:pt x="75" y="144"/>
                </a:lnTo>
                <a:lnTo>
                  <a:pt x="84" y="141"/>
                </a:lnTo>
                <a:lnTo>
                  <a:pt x="88" y="134"/>
                </a:lnTo>
                <a:lnTo>
                  <a:pt x="84" y="128"/>
                </a:lnTo>
                <a:lnTo>
                  <a:pt x="78" y="125"/>
                </a:lnTo>
                <a:lnTo>
                  <a:pt x="71" y="122"/>
                </a:lnTo>
                <a:lnTo>
                  <a:pt x="65" y="114"/>
                </a:lnTo>
                <a:lnTo>
                  <a:pt x="61" y="101"/>
                </a:lnTo>
                <a:lnTo>
                  <a:pt x="60" y="94"/>
                </a:lnTo>
                <a:lnTo>
                  <a:pt x="59" y="87"/>
                </a:lnTo>
                <a:lnTo>
                  <a:pt x="58" y="81"/>
                </a:lnTo>
                <a:lnTo>
                  <a:pt x="57" y="77"/>
                </a:lnTo>
                <a:lnTo>
                  <a:pt x="56" y="73"/>
                </a:lnTo>
                <a:lnTo>
                  <a:pt x="54" y="70"/>
                </a:lnTo>
                <a:lnTo>
                  <a:pt x="53" y="67"/>
                </a:lnTo>
                <a:lnTo>
                  <a:pt x="53" y="63"/>
                </a:lnTo>
                <a:lnTo>
                  <a:pt x="53" y="60"/>
                </a:lnTo>
                <a:lnTo>
                  <a:pt x="56" y="56"/>
                </a:lnTo>
                <a:lnTo>
                  <a:pt x="60" y="53"/>
                </a:lnTo>
                <a:lnTo>
                  <a:pt x="67" y="51"/>
                </a:lnTo>
              </a:path>
            </a:pathLst>
          </a:custGeom>
          <a:solidFill>
            <a:srgbClr val="008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51840" y="2612880"/>
            <a:ext cx="119160" cy="211320"/>
          </a:xfrm>
          <a:custGeom>
            <a:avLst/>
            <a:gdLst/>
            <a:ahLst/>
            <a:rect l="l" t="t" r="r" b="b"/>
            <a:pathLst>
              <a:path w="331" h="586">
                <a:moveTo>
                  <a:pt x="0" y="0"/>
                </a:moveTo>
                <a:lnTo>
                  <a:pt x="330" y="25"/>
                </a:lnTo>
                <a:lnTo>
                  <a:pt x="320" y="585"/>
                </a:lnTo>
                <a:lnTo>
                  <a:pt x="0" y="56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5960" y="2622600"/>
            <a:ext cx="63720" cy="199800"/>
          </a:xfrm>
          <a:custGeom>
            <a:avLst/>
            <a:gdLst/>
            <a:ahLst/>
            <a:rect l="l" t="t" r="r" b="b"/>
            <a:pathLst>
              <a:path w="176" h="556">
                <a:moveTo>
                  <a:pt x="5" y="0"/>
                </a:moveTo>
                <a:lnTo>
                  <a:pt x="175" y="10"/>
                </a:lnTo>
                <a:lnTo>
                  <a:pt x="165" y="530"/>
                </a:lnTo>
                <a:lnTo>
                  <a:pt x="0" y="555"/>
                </a:lnTo>
                <a:lnTo>
                  <a:pt x="5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7803720" y="2384280"/>
            <a:ext cx="468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707320" y="2654280"/>
            <a:ext cx="95400" cy="106560"/>
          </a:xfrm>
          <a:custGeom>
            <a:avLst/>
            <a:gdLst/>
            <a:ahLst/>
            <a:rect l="l" t="t" r="r" b="b"/>
            <a:pathLst>
              <a:path w="266" h="296">
                <a:moveTo>
                  <a:pt x="0" y="0"/>
                </a:moveTo>
                <a:lnTo>
                  <a:pt x="265" y="20"/>
                </a:lnTo>
                <a:lnTo>
                  <a:pt x="265" y="295"/>
                </a:lnTo>
                <a:lnTo>
                  <a:pt x="5" y="28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601120" y="2646360"/>
            <a:ext cx="50760" cy="141120"/>
          </a:xfrm>
          <a:custGeom>
            <a:avLst/>
            <a:gdLst/>
            <a:ahLst/>
            <a:rect l="l" t="t" r="r" b="b"/>
            <a:pathLst>
              <a:path w="141" h="391">
                <a:moveTo>
                  <a:pt x="0" y="0"/>
                </a:moveTo>
                <a:lnTo>
                  <a:pt x="130" y="10"/>
                </a:lnTo>
                <a:lnTo>
                  <a:pt x="140" y="375"/>
                </a:lnTo>
                <a:lnTo>
                  <a:pt x="5" y="390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802720" y="2662200"/>
            <a:ext cx="39600" cy="101520"/>
          </a:xfrm>
          <a:custGeom>
            <a:avLst/>
            <a:gdLst/>
            <a:ahLst/>
            <a:rect l="l" t="t" r="r" b="b"/>
            <a:pathLst>
              <a:path w="111" h="281">
                <a:moveTo>
                  <a:pt x="0" y="0"/>
                </a:moveTo>
                <a:lnTo>
                  <a:pt x="100" y="5"/>
                </a:lnTo>
                <a:lnTo>
                  <a:pt x="110" y="275"/>
                </a:lnTo>
                <a:lnTo>
                  <a:pt x="0" y="280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481960" y="2637000"/>
            <a:ext cx="120600" cy="149040"/>
          </a:xfrm>
          <a:custGeom>
            <a:avLst/>
            <a:gdLst/>
            <a:ahLst/>
            <a:rect l="l" t="t" r="r" b="b"/>
            <a:pathLst>
              <a:path w="336" h="416">
                <a:moveTo>
                  <a:pt x="10" y="0"/>
                </a:moveTo>
                <a:lnTo>
                  <a:pt x="330" y="25"/>
                </a:lnTo>
                <a:lnTo>
                  <a:pt x="335" y="415"/>
                </a:lnTo>
                <a:lnTo>
                  <a:pt x="0" y="405"/>
                </a:lnTo>
                <a:lnTo>
                  <a:pt x="1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27640" y="2416320"/>
            <a:ext cx="1800" cy="18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204040" y="2744640"/>
            <a:ext cx="158760" cy="109800"/>
          </a:xfrm>
          <a:custGeom>
            <a:avLst/>
            <a:gdLst/>
            <a:ahLst/>
            <a:rect l="l" t="t" r="r" b="b"/>
            <a:pathLst>
              <a:path w="439" h="304">
                <a:moveTo>
                  <a:pt x="67" y="51"/>
                </a:moveTo>
                <a:lnTo>
                  <a:pt x="78" y="51"/>
                </a:lnTo>
                <a:lnTo>
                  <a:pt x="88" y="54"/>
                </a:lnTo>
                <a:lnTo>
                  <a:pt x="96" y="59"/>
                </a:lnTo>
                <a:lnTo>
                  <a:pt x="101" y="66"/>
                </a:lnTo>
                <a:lnTo>
                  <a:pt x="106" y="72"/>
                </a:lnTo>
                <a:lnTo>
                  <a:pt x="111" y="79"/>
                </a:lnTo>
                <a:lnTo>
                  <a:pt x="117" y="84"/>
                </a:lnTo>
                <a:lnTo>
                  <a:pt x="127" y="88"/>
                </a:lnTo>
                <a:lnTo>
                  <a:pt x="142" y="90"/>
                </a:lnTo>
                <a:lnTo>
                  <a:pt x="161" y="87"/>
                </a:lnTo>
                <a:lnTo>
                  <a:pt x="180" y="80"/>
                </a:lnTo>
                <a:lnTo>
                  <a:pt x="196" y="71"/>
                </a:lnTo>
                <a:lnTo>
                  <a:pt x="207" y="61"/>
                </a:lnTo>
                <a:lnTo>
                  <a:pt x="214" y="51"/>
                </a:lnTo>
                <a:lnTo>
                  <a:pt x="219" y="42"/>
                </a:lnTo>
                <a:lnTo>
                  <a:pt x="224" y="32"/>
                </a:lnTo>
                <a:lnTo>
                  <a:pt x="231" y="23"/>
                </a:lnTo>
                <a:lnTo>
                  <a:pt x="240" y="13"/>
                </a:lnTo>
                <a:lnTo>
                  <a:pt x="252" y="5"/>
                </a:lnTo>
                <a:lnTo>
                  <a:pt x="265" y="0"/>
                </a:lnTo>
                <a:lnTo>
                  <a:pt x="279" y="2"/>
                </a:lnTo>
                <a:lnTo>
                  <a:pt x="280" y="11"/>
                </a:lnTo>
                <a:lnTo>
                  <a:pt x="274" y="22"/>
                </a:lnTo>
                <a:lnTo>
                  <a:pt x="268" y="33"/>
                </a:lnTo>
                <a:lnTo>
                  <a:pt x="269" y="46"/>
                </a:lnTo>
                <a:lnTo>
                  <a:pt x="283" y="59"/>
                </a:lnTo>
                <a:lnTo>
                  <a:pt x="296" y="64"/>
                </a:lnTo>
                <a:lnTo>
                  <a:pt x="309" y="67"/>
                </a:lnTo>
                <a:lnTo>
                  <a:pt x="321" y="67"/>
                </a:lnTo>
                <a:lnTo>
                  <a:pt x="332" y="65"/>
                </a:lnTo>
                <a:lnTo>
                  <a:pt x="342" y="62"/>
                </a:lnTo>
                <a:lnTo>
                  <a:pt x="351" y="59"/>
                </a:lnTo>
                <a:lnTo>
                  <a:pt x="361" y="57"/>
                </a:lnTo>
                <a:lnTo>
                  <a:pt x="370" y="57"/>
                </a:lnTo>
                <a:lnTo>
                  <a:pt x="379" y="60"/>
                </a:lnTo>
                <a:lnTo>
                  <a:pt x="384" y="66"/>
                </a:lnTo>
                <a:lnTo>
                  <a:pt x="383" y="74"/>
                </a:lnTo>
                <a:lnTo>
                  <a:pt x="377" y="82"/>
                </a:lnTo>
                <a:lnTo>
                  <a:pt x="369" y="88"/>
                </a:lnTo>
                <a:lnTo>
                  <a:pt x="360" y="92"/>
                </a:lnTo>
                <a:lnTo>
                  <a:pt x="350" y="96"/>
                </a:lnTo>
                <a:lnTo>
                  <a:pt x="340" y="100"/>
                </a:lnTo>
                <a:lnTo>
                  <a:pt x="330" y="105"/>
                </a:lnTo>
                <a:lnTo>
                  <a:pt x="320" y="112"/>
                </a:lnTo>
                <a:lnTo>
                  <a:pt x="311" y="122"/>
                </a:lnTo>
                <a:lnTo>
                  <a:pt x="305" y="133"/>
                </a:lnTo>
                <a:lnTo>
                  <a:pt x="303" y="142"/>
                </a:lnTo>
                <a:lnTo>
                  <a:pt x="303" y="150"/>
                </a:lnTo>
                <a:lnTo>
                  <a:pt x="304" y="155"/>
                </a:lnTo>
                <a:lnTo>
                  <a:pt x="305" y="159"/>
                </a:lnTo>
                <a:lnTo>
                  <a:pt x="307" y="161"/>
                </a:lnTo>
                <a:lnTo>
                  <a:pt x="309" y="163"/>
                </a:lnTo>
                <a:lnTo>
                  <a:pt x="311" y="164"/>
                </a:lnTo>
                <a:lnTo>
                  <a:pt x="314" y="166"/>
                </a:lnTo>
                <a:lnTo>
                  <a:pt x="318" y="169"/>
                </a:lnTo>
                <a:lnTo>
                  <a:pt x="324" y="173"/>
                </a:lnTo>
                <a:lnTo>
                  <a:pt x="331" y="178"/>
                </a:lnTo>
                <a:lnTo>
                  <a:pt x="340" y="183"/>
                </a:lnTo>
                <a:lnTo>
                  <a:pt x="355" y="189"/>
                </a:lnTo>
                <a:lnTo>
                  <a:pt x="369" y="190"/>
                </a:lnTo>
                <a:lnTo>
                  <a:pt x="379" y="188"/>
                </a:lnTo>
                <a:lnTo>
                  <a:pt x="388" y="185"/>
                </a:lnTo>
                <a:lnTo>
                  <a:pt x="397" y="181"/>
                </a:lnTo>
                <a:lnTo>
                  <a:pt x="406" y="180"/>
                </a:lnTo>
                <a:lnTo>
                  <a:pt x="416" y="184"/>
                </a:lnTo>
                <a:lnTo>
                  <a:pt x="424" y="194"/>
                </a:lnTo>
                <a:lnTo>
                  <a:pt x="426" y="200"/>
                </a:lnTo>
                <a:lnTo>
                  <a:pt x="427" y="206"/>
                </a:lnTo>
                <a:lnTo>
                  <a:pt x="427" y="212"/>
                </a:lnTo>
                <a:lnTo>
                  <a:pt x="428" y="218"/>
                </a:lnTo>
                <a:lnTo>
                  <a:pt x="429" y="223"/>
                </a:lnTo>
                <a:lnTo>
                  <a:pt x="430" y="228"/>
                </a:lnTo>
                <a:lnTo>
                  <a:pt x="431" y="232"/>
                </a:lnTo>
                <a:lnTo>
                  <a:pt x="433" y="236"/>
                </a:lnTo>
                <a:lnTo>
                  <a:pt x="434" y="240"/>
                </a:lnTo>
                <a:lnTo>
                  <a:pt x="436" y="243"/>
                </a:lnTo>
                <a:lnTo>
                  <a:pt x="437" y="247"/>
                </a:lnTo>
                <a:lnTo>
                  <a:pt x="438" y="251"/>
                </a:lnTo>
                <a:lnTo>
                  <a:pt x="438" y="255"/>
                </a:lnTo>
                <a:lnTo>
                  <a:pt x="437" y="259"/>
                </a:lnTo>
                <a:lnTo>
                  <a:pt x="434" y="264"/>
                </a:lnTo>
                <a:lnTo>
                  <a:pt x="429" y="269"/>
                </a:lnTo>
                <a:lnTo>
                  <a:pt x="422" y="274"/>
                </a:lnTo>
                <a:lnTo>
                  <a:pt x="412" y="280"/>
                </a:lnTo>
                <a:lnTo>
                  <a:pt x="400" y="286"/>
                </a:lnTo>
                <a:lnTo>
                  <a:pt x="384" y="291"/>
                </a:lnTo>
                <a:lnTo>
                  <a:pt x="361" y="296"/>
                </a:lnTo>
                <a:lnTo>
                  <a:pt x="338" y="300"/>
                </a:lnTo>
                <a:lnTo>
                  <a:pt x="316" y="302"/>
                </a:lnTo>
                <a:lnTo>
                  <a:pt x="296" y="303"/>
                </a:lnTo>
                <a:lnTo>
                  <a:pt x="278" y="303"/>
                </a:lnTo>
                <a:lnTo>
                  <a:pt x="263" y="302"/>
                </a:lnTo>
                <a:lnTo>
                  <a:pt x="250" y="301"/>
                </a:lnTo>
                <a:lnTo>
                  <a:pt x="237" y="299"/>
                </a:lnTo>
                <a:lnTo>
                  <a:pt x="224" y="297"/>
                </a:lnTo>
                <a:lnTo>
                  <a:pt x="211" y="296"/>
                </a:lnTo>
                <a:lnTo>
                  <a:pt x="195" y="294"/>
                </a:lnTo>
                <a:lnTo>
                  <a:pt x="177" y="293"/>
                </a:lnTo>
                <a:lnTo>
                  <a:pt x="157" y="292"/>
                </a:lnTo>
                <a:lnTo>
                  <a:pt x="134" y="291"/>
                </a:lnTo>
                <a:lnTo>
                  <a:pt x="109" y="291"/>
                </a:lnTo>
                <a:lnTo>
                  <a:pt x="84" y="291"/>
                </a:lnTo>
                <a:lnTo>
                  <a:pt x="52" y="291"/>
                </a:lnTo>
                <a:lnTo>
                  <a:pt x="32" y="292"/>
                </a:lnTo>
                <a:lnTo>
                  <a:pt x="22" y="293"/>
                </a:lnTo>
                <a:lnTo>
                  <a:pt x="20" y="295"/>
                </a:lnTo>
                <a:lnTo>
                  <a:pt x="22" y="297"/>
                </a:lnTo>
                <a:lnTo>
                  <a:pt x="24" y="299"/>
                </a:lnTo>
                <a:lnTo>
                  <a:pt x="25" y="300"/>
                </a:lnTo>
                <a:lnTo>
                  <a:pt x="23" y="300"/>
                </a:lnTo>
                <a:lnTo>
                  <a:pt x="17" y="297"/>
                </a:lnTo>
                <a:lnTo>
                  <a:pt x="9" y="291"/>
                </a:lnTo>
                <a:lnTo>
                  <a:pt x="2" y="281"/>
                </a:lnTo>
                <a:lnTo>
                  <a:pt x="0" y="271"/>
                </a:lnTo>
                <a:lnTo>
                  <a:pt x="0" y="265"/>
                </a:lnTo>
                <a:lnTo>
                  <a:pt x="3" y="260"/>
                </a:lnTo>
                <a:lnTo>
                  <a:pt x="5" y="254"/>
                </a:lnTo>
                <a:lnTo>
                  <a:pt x="8" y="246"/>
                </a:lnTo>
                <a:lnTo>
                  <a:pt x="9" y="234"/>
                </a:lnTo>
                <a:lnTo>
                  <a:pt x="9" y="216"/>
                </a:lnTo>
                <a:lnTo>
                  <a:pt x="9" y="198"/>
                </a:lnTo>
                <a:lnTo>
                  <a:pt x="8" y="186"/>
                </a:lnTo>
                <a:lnTo>
                  <a:pt x="5" y="178"/>
                </a:lnTo>
                <a:lnTo>
                  <a:pt x="3" y="172"/>
                </a:lnTo>
                <a:lnTo>
                  <a:pt x="0" y="167"/>
                </a:lnTo>
                <a:lnTo>
                  <a:pt x="0" y="161"/>
                </a:lnTo>
                <a:lnTo>
                  <a:pt x="2" y="151"/>
                </a:lnTo>
                <a:lnTo>
                  <a:pt x="9" y="141"/>
                </a:lnTo>
                <a:lnTo>
                  <a:pt x="20" y="134"/>
                </a:lnTo>
                <a:lnTo>
                  <a:pt x="31" y="133"/>
                </a:lnTo>
                <a:lnTo>
                  <a:pt x="40" y="134"/>
                </a:lnTo>
                <a:lnTo>
                  <a:pt x="48" y="138"/>
                </a:lnTo>
                <a:lnTo>
                  <a:pt x="57" y="142"/>
                </a:lnTo>
                <a:lnTo>
                  <a:pt x="66" y="144"/>
                </a:lnTo>
                <a:lnTo>
                  <a:pt x="75" y="144"/>
                </a:lnTo>
                <a:lnTo>
                  <a:pt x="84" y="141"/>
                </a:lnTo>
                <a:lnTo>
                  <a:pt x="88" y="134"/>
                </a:lnTo>
                <a:lnTo>
                  <a:pt x="84" y="128"/>
                </a:lnTo>
                <a:lnTo>
                  <a:pt x="78" y="125"/>
                </a:lnTo>
                <a:lnTo>
                  <a:pt x="71" y="122"/>
                </a:lnTo>
                <a:lnTo>
                  <a:pt x="65" y="114"/>
                </a:lnTo>
                <a:lnTo>
                  <a:pt x="61" y="101"/>
                </a:lnTo>
                <a:lnTo>
                  <a:pt x="60" y="94"/>
                </a:lnTo>
                <a:lnTo>
                  <a:pt x="59" y="87"/>
                </a:lnTo>
                <a:lnTo>
                  <a:pt x="58" y="81"/>
                </a:lnTo>
                <a:lnTo>
                  <a:pt x="57" y="77"/>
                </a:lnTo>
                <a:lnTo>
                  <a:pt x="56" y="73"/>
                </a:lnTo>
                <a:lnTo>
                  <a:pt x="54" y="70"/>
                </a:lnTo>
                <a:lnTo>
                  <a:pt x="53" y="67"/>
                </a:lnTo>
                <a:lnTo>
                  <a:pt x="53" y="63"/>
                </a:lnTo>
                <a:lnTo>
                  <a:pt x="53" y="60"/>
                </a:lnTo>
                <a:lnTo>
                  <a:pt x="56" y="56"/>
                </a:lnTo>
                <a:lnTo>
                  <a:pt x="60" y="53"/>
                </a:lnTo>
                <a:lnTo>
                  <a:pt x="67" y="51"/>
                </a:lnTo>
              </a:path>
            </a:pathLst>
          </a:custGeom>
          <a:solidFill>
            <a:srgbClr val="008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0720" y="36000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Город Владимир основан </a:t>
            </a:r>
            <a:br>
              <a:rPr sz="4000"/>
            </a:b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 в 12 веке.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741240" y="200772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216000" indent="-216000" algn="ctr"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Город Владимир- главный город Владимирской области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 algn="ctr"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Город Владимир расположен на берегу реки Клязьмы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 algn="ctr">
              <a:lnSpc>
                <a:spcPct val="95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В городе Владимире много старинных зданий и храмов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112160" y="1135080"/>
            <a:ext cx="1091880" cy="1092240"/>
            <a:chOff x="7112160" y="1135080"/>
            <a:chExt cx="1091880" cy="1092240"/>
          </a:xfrm>
        </p:grpSpPr>
        <p:grpSp>
          <p:nvGrpSpPr>
            <p:cNvPr id="207" name=""/>
            <p:cNvGrpSpPr/>
            <p:nvPr/>
          </p:nvGrpSpPr>
          <p:grpSpPr>
            <a:xfrm>
              <a:off x="7112160" y="1135080"/>
              <a:ext cx="1091880" cy="1092240"/>
              <a:chOff x="7112160" y="1135080"/>
              <a:chExt cx="1091880" cy="1092240"/>
            </a:xfrm>
          </p:grpSpPr>
          <p:sp>
            <p:nvSpPr>
              <p:cNvPr id="208" name=""/>
              <p:cNvSpPr/>
              <p:nvPr/>
            </p:nvSpPr>
            <p:spPr>
              <a:xfrm>
                <a:off x="7112160" y="1135080"/>
                <a:ext cx="1091880" cy="1092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121160" y="1144080"/>
                <a:ext cx="1074600" cy="107496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7121520" y="1144440"/>
              <a:ext cx="1074600" cy="1076400"/>
              <a:chOff x="7121520" y="1144440"/>
              <a:chExt cx="1074600" cy="1076400"/>
            </a:xfrm>
          </p:grpSpPr>
          <p:sp>
            <p:nvSpPr>
              <p:cNvPr id="211" name=""/>
              <p:cNvSpPr/>
              <p:nvPr/>
            </p:nvSpPr>
            <p:spPr>
              <a:xfrm>
                <a:off x="7642080" y="1144440"/>
                <a:ext cx="36720" cy="3672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899480" y="1212840"/>
                <a:ext cx="3636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093160" y="1405080"/>
                <a:ext cx="3636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159760" y="1666800"/>
                <a:ext cx="36360" cy="3672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093160" y="1924200"/>
                <a:ext cx="3636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900920" y="2117880"/>
                <a:ext cx="3672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639200" y="2184480"/>
                <a:ext cx="3636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383600" y="2117880"/>
                <a:ext cx="3636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88120" y="1924200"/>
                <a:ext cx="3672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21520" y="1663560"/>
                <a:ext cx="36360" cy="3672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189920" y="1406520"/>
                <a:ext cx="3636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81800" y="1214280"/>
                <a:ext cx="36720" cy="3672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7122960" y="1146240"/>
                <a:ext cx="1073160" cy="1073160"/>
                <a:chOff x="7122960" y="1146240"/>
                <a:chExt cx="1073160" cy="10731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7335720" y="2095560"/>
                  <a:ext cx="27000" cy="27000"/>
                </a:xfrm>
                <a:prstGeom prst="ellipse">
                  <a:avLst/>
                </a:prstGeom>
                <a:solidFill>
                  <a:srgbClr val="00b8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40760" y="1244520"/>
                  <a:ext cx="27000" cy="27000"/>
                </a:xfrm>
                <a:prstGeom prst="ellipse">
                  <a:avLst/>
                </a:prstGeom>
                <a:solidFill>
                  <a:srgbClr val="00b8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6" name=""/>
                <p:cNvGrpSpPr/>
                <p:nvPr/>
              </p:nvGrpSpPr>
              <p:grpSpPr>
                <a:xfrm>
                  <a:off x="7122960" y="1146240"/>
                  <a:ext cx="1073160" cy="1073160"/>
                  <a:chOff x="7122960" y="1146240"/>
                  <a:chExt cx="1073160" cy="10731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7589880" y="11476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7701120" y="11462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7756560" y="115560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7807320" y="11714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7856640" y="119052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953480" y="124452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996320" y="12812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8040600" y="13222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8070840" y="13604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124840" y="14590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8143920" y="15080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8158320" y="155736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167680" y="1617840"/>
                    <a:ext cx="27000" cy="2664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8169120" y="17240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8156520" y="17794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8143920" y="18320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8124840" y="1881360"/>
                    <a:ext cx="27000" cy="2664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8072280" y="197496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032680" y="20210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996320" y="20606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950240" y="209556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7859880" y="214956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807320" y="21686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7754760" y="21826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7697880" y="219240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7589880" y="219240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7532640" y="21812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7481880" y="21700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7431120" y="214956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296120" y="20606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7256520" y="20210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7219800" y="19796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7165800" y="18842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7147080" y="182880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7132680" y="17794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7122960" y="17240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7122960" y="161460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7132680" y="155736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7147080" y="150660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7161120" y="146052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7219800" y="13604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250040" y="13240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7292880" y="12812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7540560" y="115416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483320" y="11714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431120" y="119052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3" name=""/>
            <p:cNvGrpSpPr/>
            <p:nvPr/>
          </p:nvGrpSpPr>
          <p:grpSpPr>
            <a:xfrm>
              <a:off x="7182000" y="1200240"/>
              <a:ext cx="952200" cy="963360"/>
              <a:chOff x="7182000" y="1200240"/>
              <a:chExt cx="952200" cy="963360"/>
            </a:xfrm>
          </p:grpSpPr>
          <p:sp>
            <p:nvSpPr>
              <p:cNvPr id="274" name=""/>
              <p:cNvSpPr/>
              <p:nvPr/>
            </p:nvSpPr>
            <p:spPr>
              <a:xfrm>
                <a:off x="7182000" y="1204920"/>
                <a:ext cx="952200" cy="954000"/>
              </a:xfrm>
              <a:custGeom>
                <a:avLst/>
                <a:gdLst/>
                <a:ahLst/>
                <a:rect l="l" t="t" r="r" b="b"/>
                <a:pathLst>
                  <a:path w="2653" h="2652">
                    <a:moveTo>
                      <a:pt x="1326" y="2651"/>
                    </a:moveTo>
                    <a:cubicBezTo>
                      <a:pt x="594" y="2651"/>
                      <a:pt x="0" y="2058"/>
                      <a:pt x="0" y="1326"/>
                    </a:cubicBezTo>
                    <a:cubicBezTo>
                      <a:pt x="0" y="594"/>
                      <a:pt x="594" y="0"/>
                      <a:pt x="1326" y="0"/>
                    </a:cubicBezTo>
                    <a:cubicBezTo>
                      <a:pt x="2058" y="0"/>
                      <a:pt x="2652" y="594"/>
                      <a:pt x="2652" y="1326"/>
                    </a:cubicBezTo>
                    <a:cubicBezTo>
                      <a:pt x="2652" y="2058"/>
                      <a:pt x="2058" y="2651"/>
                      <a:pt x="1326" y="2651"/>
                    </a:cubicBezTo>
                  </a:path>
                </a:pathLst>
              </a:custGeom>
              <a:solidFill>
                <a:srgbClr val="fcf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7611840" y="1200240"/>
                <a:ext cx="104400" cy="87120"/>
                <a:chOff x="7611840" y="1200240"/>
                <a:chExt cx="104400" cy="871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611840" y="1200240"/>
                  <a:ext cx="104400" cy="87120"/>
                </a:xfrm>
                <a:custGeom>
                  <a:avLst/>
                  <a:gdLst/>
                  <a:ahLst/>
                  <a:rect l="l" t="t" r="r" b="b"/>
                  <a:pathLst>
                    <a:path w="298" h="247">
                      <a:moveTo>
                        <a:pt x="0" y="246"/>
                      </a:moveTo>
                      <a:cubicBezTo>
                        <a:pt x="0" y="164"/>
                        <a:pt x="0" y="82"/>
                        <a:pt x="0" y="0"/>
                      </a:cubicBezTo>
                      <a:cubicBezTo>
                        <a:pt x="99" y="0"/>
                        <a:pt x="198" y="0"/>
                        <a:pt x="297" y="0"/>
                      </a:cubicBezTo>
                      <a:cubicBezTo>
                        <a:pt x="297" y="82"/>
                        <a:pt x="297" y="164"/>
                        <a:pt x="297" y="246"/>
                      </a:cubicBezTo>
                      <a:cubicBezTo>
                        <a:pt x="198" y="246"/>
                        <a:pt x="99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617960" y="1215720"/>
                  <a:ext cx="25920" cy="52560"/>
                </a:xfrm>
                <a:custGeom>
                  <a:avLst/>
                  <a:gdLst/>
                  <a:ahLst/>
                  <a:rect l="l" t="t" r="r" b="b"/>
                  <a:pathLst>
                    <a:path w="74" h="148">
                      <a:moveTo>
                        <a:pt x="73" y="147"/>
                      </a:moveTo>
                      <a:cubicBezTo>
                        <a:pt x="51" y="147"/>
                        <a:pt x="29" y="147"/>
                        <a:pt x="6" y="147"/>
                      </a:cubicBezTo>
                      <a:cubicBezTo>
                        <a:pt x="6" y="146"/>
                        <a:pt x="6" y="144"/>
                        <a:pt x="6" y="142"/>
                      </a:cubicBezTo>
                      <a:cubicBezTo>
                        <a:pt x="14" y="142"/>
                        <a:pt x="20" y="141"/>
                        <a:pt x="24" y="141"/>
                      </a:cubicBezTo>
                      <a:cubicBezTo>
                        <a:pt x="28" y="141"/>
                        <a:pt x="29" y="138"/>
                        <a:pt x="30" y="136"/>
                      </a:cubicBezTo>
                      <a:cubicBezTo>
                        <a:pt x="31" y="134"/>
                        <a:pt x="32" y="130"/>
                        <a:pt x="32" y="126"/>
                      </a:cubicBezTo>
                      <a:cubicBezTo>
                        <a:pt x="32" y="93"/>
                        <a:pt x="32" y="61"/>
                        <a:pt x="32" y="27"/>
                      </a:cubicBezTo>
                      <a:cubicBezTo>
                        <a:pt x="32" y="23"/>
                        <a:pt x="31" y="21"/>
                        <a:pt x="30" y="19"/>
                      </a:cubicBezTo>
                      <a:cubicBezTo>
                        <a:pt x="29" y="17"/>
                        <a:pt x="25" y="17"/>
                        <a:pt x="20" y="17"/>
                      </a:cubicBezTo>
                      <a:cubicBezTo>
                        <a:pt x="15" y="17"/>
                        <a:pt x="10" y="17"/>
                        <a:pt x="5" y="17"/>
                      </a:cubicBezTo>
                      <a:cubicBezTo>
                        <a:pt x="0" y="17"/>
                        <a:pt x="5" y="14"/>
                        <a:pt x="5" y="12"/>
                      </a:cubicBezTo>
                      <a:cubicBezTo>
                        <a:pt x="13" y="12"/>
                        <a:pt x="20" y="11"/>
                        <a:pt x="26" y="9"/>
                      </a:cubicBezTo>
                      <a:cubicBezTo>
                        <a:pt x="32" y="7"/>
                        <a:pt x="38" y="4"/>
                        <a:pt x="45" y="0"/>
                      </a:cubicBezTo>
                      <a:cubicBezTo>
                        <a:pt x="47" y="0"/>
                        <a:pt x="49" y="0"/>
                        <a:pt x="50" y="0"/>
                      </a:cubicBezTo>
                      <a:cubicBezTo>
                        <a:pt x="50" y="42"/>
                        <a:pt x="50" y="84"/>
                        <a:pt x="50" y="126"/>
                      </a:cubicBezTo>
                      <a:cubicBezTo>
                        <a:pt x="50" y="130"/>
                        <a:pt x="51" y="134"/>
                        <a:pt x="52" y="136"/>
                      </a:cubicBezTo>
                      <a:cubicBezTo>
                        <a:pt x="53" y="138"/>
                        <a:pt x="54" y="140"/>
                        <a:pt x="58" y="141"/>
                      </a:cubicBezTo>
                      <a:cubicBezTo>
                        <a:pt x="62" y="142"/>
                        <a:pt x="67" y="142"/>
                        <a:pt x="73" y="142"/>
                      </a:cubicBezTo>
                      <a:cubicBezTo>
                        <a:pt x="73" y="144"/>
                        <a:pt x="73" y="145"/>
                        <a:pt x="73" y="147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653240" y="1215720"/>
                  <a:ext cx="32040" cy="52560"/>
                </a:xfrm>
                <a:custGeom>
                  <a:avLst/>
                  <a:gdLst/>
                  <a:ahLst/>
                  <a:rect l="l" t="t" r="r" b="b"/>
                  <a:pathLst>
                    <a:path w="91" h="148">
                      <a:moveTo>
                        <a:pt x="90" y="147"/>
                      </a:moveTo>
                      <a:cubicBezTo>
                        <a:pt x="60" y="147"/>
                        <a:pt x="30" y="147"/>
                        <a:pt x="0" y="147"/>
                      </a:cubicBezTo>
                      <a:cubicBezTo>
                        <a:pt x="0" y="145"/>
                        <a:pt x="0" y="142"/>
                        <a:pt x="0" y="139"/>
                      </a:cubicBezTo>
                      <a:cubicBezTo>
                        <a:pt x="32" y="108"/>
                        <a:pt x="51" y="87"/>
                        <a:pt x="58" y="76"/>
                      </a:cubicBezTo>
                      <a:cubicBezTo>
                        <a:pt x="65" y="65"/>
                        <a:pt x="69" y="54"/>
                        <a:pt x="69" y="45"/>
                      </a:cubicBezTo>
                      <a:cubicBezTo>
                        <a:pt x="69" y="36"/>
                        <a:pt x="66" y="29"/>
                        <a:pt x="61" y="23"/>
                      </a:cubicBezTo>
                      <a:cubicBezTo>
                        <a:pt x="56" y="17"/>
                        <a:pt x="50" y="15"/>
                        <a:pt x="42" y="15"/>
                      </a:cubicBezTo>
                      <a:cubicBezTo>
                        <a:pt x="27" y="15"/>
                        <a:pt x="15" y="23"/>
                        <a:pt x="7" y="39"/>
                      </a:cubicBezTo>
                      <a:cubicBezTo>
                        <a:pt x="5" y="38"/>
                        <a:pt x="4" y="38"/>
                        <a:pt x="2" y="37"/>
                      </a:cubicBezTo>
                      <a:cubicBezTo>
                        <a:pt x="6" y="25"/>
                        <a:pt x="12" y="15"/>
                        <a:pt x="19" y="9"/>
                      </a:cubicBezTo>
                      <a:cubicBezTo>
                        <a:pt x="26" y="3"/>
                        <a:pt x="35" y="0"/>
                        <a:pt x="46" y="0"/>
                      </a:cubicBezTo>
                      <a:cubicBezTo>
                        <a:pt x="57" y="0"/>
                        <a:pt x="70" y="4"/>
                        <a:pt x="78" y="11"/>
                      </a:cubicBezTo>
                      <a:cubicBezTo>
                        <a:pt x="86" y="18"/>
                        <a:pt x="90" y="30"/>
                        <a:pt x="90" y="43"/>
                      </a:cubicBezTo>
                      <a:cubicBezTo>
                        <a:pt x="90" y="51"/>
                        <a:pt x="87" y="61"/>
                        <a:pt x="81" y="69"/>
                      </a:cubicBezTo>
                      <a:cubicBezTo>
                        <a:pt x="75" y="77"/>
                        <a:pt x="66" y="89"/>
                        <a:pt x="52" y="101"/>
                      </a:cubicBezTo>
                      <a:cubicBezTo>
                        <a:pt x="38" y="113"/>
                        <a:pt x="27" y="123"/>
                        <a:pt x="18" y="132"/>
                      </a:cubicBezTo>
                      <a:cubicBezTo>
                        <a:pt x="35" y="132"/>
                        <a:pt x="51" y="132"/>
                        <a:pt x="68" y="132"/>
                      </a:cubicBezTo>
                      <a:cubicBezTo>
                        <a:pt x="74" y="132"/>
                        <a:pt x="79" y="130"/>
                        <a:pt x="81" y="127"/>
                      </a:cubicBezTo>
                      <a:cubicBezTo>
                        <a:pt x="83" y="124"/>
                        <a:pt x="85" y="119"/>
                        <a:pt x="85" y="111"/>
                      </a:cubicBezTo>
                      <a:cubicBezTo>
                        <a:pt x="87" y="111"/>
                        <a:pt x="88" y="111"/>
                        <a:pt x="90" y="111"/>
                      </a:cubicBezTo>
                      <a:cubicBezTo>
                        <a:pt x="90" y="123"/>
                        <a:pt x="90" y="135"/>
                        <a:pt x="90" y="147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395120" y="1260360"/>
                <a:ext cx="105840" cy="87480"/>
                <a:chOff x="7395120" y="1260360"/>
                <a:chExt cx="105840" cy="874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395120" y="1260360"/>
                  <a:ext cx="105840" cy="87480"/>
                </a:xfrm>
                <a:custGeom>
                  <a:avLst/>
                  <a:gdLst/>
                  <a:ahLst/>
                  <a:rect l="l" t="t" r="r" b="b"/>
                  <a:pathLst>
                    <a:path w="299" h="247">
                      <a:moveTo>
                        <a:pt x="0" y="246"/>
                      </a:moveTo>
                      <a:cubicBezTo>
                        <a:pt x="0" y="164"/>
                        <a:pt x="0" y="82"/>
                        <a:pt x="0" y="0"/>
                      </a:cubicBezTo>
                      <a:cubicBezTo>
                        <a:pt x="99" y="0"/>
                        <a:pt x="198" y="0"/>
                        <a:pt x="298" y="0"/>
                      </a:cubicBezTo>
                      <a:cubicBezTo>
                        <a:pt x="298" y="82"/>
                        <a:pt x="298" y="164"/>
                        <a:pt x="298" y="246"/>
                      </a:cubicBezTo>
                      <a:cubicBezTo>
                        <a:pt x="198" y="246"/>
                        <a:pt x="99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401240" y="1277640"/>
                  <a:ext cx="26280" cy="52920"/>
                </a:xfrm>
                <a:custGeom>
                  <a:avLst/>
                  <a:gdLst/>
                  <a:ahLst/>
                  <a:rect l="l" t="t" r="r" b="b"/>
                  <a:pathLst>
                    <a:path w="74" h="148">
                      <a:moveTo>
                        <a:pt x="73" y="147"/>
                      </a:moveTo>
                      <a:cubicBezTo>
                        <a:pt x="51" y="147"/>
                        <a:pt x="29" y="147"/>
                        <a:pt x="6" y="147"/>
                      </a:cubicBezTo>
                      <a:cubicBezTo>
                        <a:pt x="6" y="146"/>
                        <a:pt x="6" y="144"/>
                        <a:pt x="6" y="142"/>
                      </a:cubicBezTo>
                      <a:cubicBezTo>
                        <a:pt x="14" y="142"/>
                        <a:pt x="20" y="142"/>
                        <a:pt x="24" y="141"/>
                      </a:cubicBezTo>
                      <a:cubicBezTo>
                        <a:pt x="28" y="140"/>
                        <a:pt x="29" y="138"/>
                        <a:pt x="31" y="136"/>
                      </a:cubicBezTo>
                      <a:cubicBezTo>
                        <a:pt x="33" y="134"/>
                        <a:pt x="32" y="131"/>
                        <a:pt x="32" y="125"/>
                      </a:cubicBezTo>
                      <a:cubicBezTo>
                        <a:pt x="32" y="93"/>
                        <a:pt x="32" y="60"/>
                        <a:pt x="32" y="28"/>
                      </a:cubicBezTo>
                      <a:cubicBezTo>
                        <a:pt x="32" y="23"/>
                        <a:pt x="31" y="21"/>
                        <a:pt x="30" y="19"/>
                      </a:cubicBezTo>
                      <a:cubicBezTo>
                        <a:pt x="29" y="17"/>
                        <a:pt x="25" y="17"/>
                        <a:pt x="20" y="17"/>
                      </a:cubicBezTo>
                      <a:cubicBezTo>
                        <a:pt x="15" y="17"/>
                        <a:pt x="10" y="17"/>
                        <a:pt x="5" y="17"/>
                      </a:cubicBezTo>
                      <a:cubicBezTo>
                        <a:pt x="0" y="17"/>
                        <a:pt x="5" y="14"/>
                        <a:pt x="5" y="12"/>
                      </a:cubicBezTo>
                      <a:cubicBezTo>
                        <a:pt x="13" y="12"/>
                        <a:pt x="20" y="11"/>
                        <a:pt x="26" y="9"/>
                      </a:cubicBezTo>
                      <a:cubicBezTo>
                        <a:pt x="32" y="7"/>
                        <a:pt x="39" y="5"/>
                        <a:pt x="46" y="0"/>
                      </a:cubicBezTo>
                      <a:cubicBezTo>
                        <a:pt x="47" y="0"/>
                        <a:pt x="49" y="0"/>
                        <a:pt x="50" y="0"/>
                      </a:cubicBezTo>
                      <a:cubicBezTo>
                        <a:pt x="50" y="42"/>
                        <a:pt x="50" y="84"/>
                        <a:pt x="50" y="125"/>
                      </a:cubicBezTo>
                      <a:cubicBezTo>
                        <a:pt x="50" y="131"/>
                        <a:pt x="51" y="134"/>
                        <a:pt x="52" y="136"/>
                      </a:cubicBezTo>
                      <a:cubicBezTo>
                        <a:pt x="53" y="138"/>
                        <a:pt x="54" y="140"/>
                        <a:pt x="58" y="141"/>
                      </a:cubicBezTo>
                      <a:cubicBezTo>
                        <a:pt x="62" y="142"/>
                        <a:pt x="67" y="142"/>
                        <a:pt x="73" y="142"/>
                      </a:cubicBezTo>
                      <a:cubicBezTo>
                        <a:pt x="73" y="143"/>
                        <a:pt x="73" y="145"/>
                        <a:pt x="73" y="147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440120" y="1277640"/>
                  <a:ext cx="26280" cy="52920"/>
                </a:xfrm>
                <a:custGeom>
                  <a:avLst/>
                  <a:gdLst/>
                  <a:ahLst/>
                  <a:rect l="l" t="t" r="r" b="b"/>
                  <a:pathLst>
                    <a:path w="74" h="148">
                      <a:moveTo>
                        <a:pt x="73" y="147"/>
                      </a:moveTo>
                      <a:cubicBezTo>
                        <a:pt x="51" y="147"/>
                        <a:pt x="29" y="147"/>
                        <a:pt x="6" y="147"/>
                      </a:cubicBezTo>
                      <a:cubicBezTo>
                        <a:pt x="6" y="146"/>
                        <a:pt x="6" y="144"/>
                        <a:pt x="6" y="142"/>
                      </a:cubicBezTo>
                      <a:cubicBezTo>
                        <a:pt x="15" y="142"/>
                        <a:pt x="20" y="142"/>
                        <a:pt x="24" y="141"/>
                      </a:cubicBezTo>
                      <a:cubicBezTo>
                        <a:pt x="28" y="140"/>
                        <a:pt x="30" y="138"/>
                        <a:pt x="31" y="136"/>
                      </a:cubicBezTo>
                      <a:cubicBezTo>
                        <a:pt x="32" y="134"/>
                        <a:pt x="32" y="131"/>
                        <a:pt x="32" y="125"/>
                      </a:cubicBezTo>
                      <a:cubicBezTo>
                        <a:pt x="32" y="93"/>
                        <a:pt x="32" y="60"/>
                        <a:pt x="32" y="28"/>
                      </a:cubicBezTo>
                      <a:cubicBezTo>
                        <a:pt x="32" y="23"/>
                        <a:pt x="31" y="21"/>
                        <a:pt x="30" y="19"/>
                      </a:cubicBezTo>
                      <a:cubicBezTo>
                        <a:pt x="29" y="17"/>
                        <a:pt x="25" y="17"/>
                        <a:pt x="20" y="17"/>
                      </a:cubicBezTo>
                      <a:cubicBezTo>
                        <a:pt x="15" y="17"/>
                        <a:pt x="10" y="17"/>
                        <a:pt x="5" y="17"/>
                      </a:cubicBezTo>
                      <a:cubicBezTo>
                        <a:pt x="0" y="17"/>
                        <a:pt x="5" y="14"/>
                        <a:pt x="5" y="12"/>
                      </a:cubicBezTo>
                      <a:cubicBezTo>
                        <a:pt x="13" y="12"/>
                        <a:pt x="20" y="11"/>
                        <a:pt x="26" y="9"/>
                      </a:cubicBezTo>
                      <a:cubicBezTo>
                        <a:pt x="32" y="7"/>
                        <a:pt x="39" y="5"/>
                        <a:pt x="45" y="0"/>
                      </a:cubicBezTo>
                      <a:cubicBezTo>
                        <a:pt x="47" y="0"/>
                        <a:pt x="49" y="0"/>
                        <a:pt x="50" y="0"/>
                      </a:cubicBezTo>
                      <a:cubicBezTo>
                        <a:pt x="50" y="42"/>
                        <a:pt x="50" y="84"/>
                        <a:pt x="50" y="125"/>
                      </a:cubicBezTo>
                      <a:cubicBezTo>
                        <a:pt x="50" y="131"/>
                        <a:pt x="51" y="134"/>
                        <a:pt x="52" y="136"/>
                      </a:cubicBezTo>
                      <a:cubicBezTo>
                        <a:pt x="53" y="138"/>
                        <a:pt x="55" y="140"/>
                        <a:pt x="58" y="141"/>
                      </a:cubicBezTo>
                      <a:cubicBezTo>
                        <a:pt x="61" y="142"/>
                        <a:pt x="67" y="142"/>
                        <a:pt x="73" y="142"/>
                      </a:cubicBezTo>
                      <a:cubicBezTo>
                        <a:pt x="73" y="143"/>
                        <a:pt x="73" y="145"/>
                        <a:pt x="73" y="147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7243560" y="1424160"/>
                <a:ext cx="104400" cy="87120"/>
                <a:chOff x="7243560" y="1424160"/>
                <a:chExt cx="104400" cy="871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7243560" y="1424160"/>
                  <a:ext cx="104400" cy="87120"/>
                </a:xfrm>
                <a:custGeom>
                  <a:avLst/>
                  <a:gdLst/>
                  <a:ahLst/>
                  <a:rect l="l" t="t" r="r" b="b"/>
                  <a:pathLst>
                    <a:path w="298" h="246">
                      <a:moveTo>
                        <a:pt x="0" y="245"/>
                      </a:moveTo>
                      <a:cubicBezTo>
                        <a:pt x="0" y="164"/>
                        <a:pt x="0" y="82"/>
                        <a:pt x="0" y="0"/>
                      </a:cubicBezTo>
                      <a:cubicBezTo>
                        <a:pt x="99" y="0"/>
                        <a:pt x="198" y="0"/>
                        <a:pt x="297" y="0"/>
                      </a:cubicBezTo>
                      <a:cubicBezTo>
                        <a:pt x="297" y="82"/>
                        <a:pt x="297" y="163"/>
                        <a:pt x="297" y="245"/>
                      </a:cubicBezTo>
                      <a:cubicBezTo>
                        <a:pt x="198" y="245"/>
                        <a:pt x="99" y="245"/>
                        <a:pt x="0" y="245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251120" y="1441080"/>
                  <a:ext cx="24120" cy="52920"/>
                </a:xfrm>
                <a:custGeom>
                  <a:avLst/>
                  <a:gdLst/>
                  <a:ahLst/>
                  <a:rect l="l" t="t" r="r" b="b"/>
                  <a:pathLst>
                    <a:path w="70" h="149">
                      <a:moveTo>
                        <a:pt x="69" y="148"/>
                      </a:moveTo>
                      <a:cubicBezTo>
                        <a:pt x="47" y="148"/>
                        <a:pt x="24" y="148"/>
                        <a:pt x="1" y="148"/>
                      </a:cubicBezTo>
                      <a:cubicBezTo>
                        <a:pt x="1" y="146"/>
                        <a:pt x="1" y="144"/>
                        <a:pt x="1" y="142"/>
                      </a:cubicBezTo>
                      <a:cubicBezTo>
                        <a:pt x="10" y="142"/>
                        <a:pt x="15" y="142"/>
                        <a:pt x="19" y="141"/>
                      </a:cubicBezTo>
                      <a:cubicBezTo>
                        <a:pt x="23" y="140"/>
                        <a:pt x="25" y="139"/>
                        <a:pt x="26" y="137"/>
                      </a:cubicBezTo>
                      <a:cubicBezTo>
                        <a:pt x="27" y="135"/>
                        <a:pt x="28" y="131"/>
                        <a:pt x="28" y="126"/>
                      </a:cubicBezTo>
                      <a:cubicBezTo>
                        <a:pt x="28" y="93"/>
                        <a:pt x="28" y="61"/>
                        <a:pt x="28" y="28"/>
                      </a:cubicBezTo>
                      <a:cubicBezTo>
                        <a:pt x="28" y="24"/>
                        <a:pt x="27" y="21"/>
                        <a:pt x="25" y="20"/>
                      </a:cubicBezTo>
                      <a:cubicBezTo>
                        <a:pt x="23" y="19"/>
                        <a:pt x="20" y="18"/>
                        <a:pt x="15" y="18"/>
                      </a:cubicBezTo>
                      <a:cubicBezTo>
                        <a:pt x="10" y="18"/>
                        <a:pt x="6" y="18"/>
                        <a:pt x="0" y="18"/>
                      </a:cubicBezTo>
                      <a:cubicBezTo>
                        <a:pt x="0" y="16"/>
                        <a:pt x="0" y="14"/>
                        <a:pt x="0" y="13"/>
                      </a:cubicBezTo>
                      <a:cubicBezTo>
                        <a:pt x="9" y="13"/>
                        <a:pt x="16" y="12"/>
                        <a:pt x="22" y="10"/>
                      </a:cubicBezTo>
                      <a:cubicBezTo>
                        <a:pt x="28" y="8"/>
                        <a:pt x="34" y="5"/>
                        <a:pt x="41" y="0"/>
                      </a:cubicBezTo>
                      <a:cubicBezTo>
                        <a:pt x="43" y="0"/>
                        <a:pt x="44" y="0"/>
                        <a:pt x="46" y="0"/>
                      </a:cubicBezTo>
                      <a:cubicBezTo>
                        <a:pt x="46" y="42"/>
                        <a:pt x="46" y="85"/>
                        <a:pt x="46" y="126"/>
                      </a:cubicBezTo>
                      <a:cubicBezTo>
                        <a:pt x="46" y="131"/>
                        <a:pt x="46" y="134"/>
                        <a:pt x="47" y="137"/>
                      </a:cubicBezTo>
                      <a:cubicBezTo>
                        <a:pt x="48" y="140"/>
                        <a:pt x="50" y="140"/>
                        <a:pt x="54" y="141"/>
                      </a:cubicBezTo>
                      <a:cubicBezTo>
                        <a:pt x="58" y="142"/>
                        <a:pt x="62" y="142"/>
                        <a:pt x="69" y="142"/>
                      </a:cubicBezTo>
                      <a:cubicBezTo>
                        <a:pt x="69" y="144"/>
                        <a:pt x="69" y="145"/>
                        <a:pt x="69" y="148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284960" y="1441080"/>
                  <a:ext cx="32040" cy="52920"/>
                </a:xfrm>
                <a:custGeom>
                  <a:avLst/>
                  <a:gdLst/>
                  <a:ahLst/>
                  <a:rect l="l" t="t" r="r" b="b"/>
                  <a:pathLst>
                    <a:path w="94" h="152">
                      <a:moveTo>
                        <a:pt x="46" y="143"/>
                      </a:moveTo>
                      <a:cubicBezTo>
                        <a:pt x="55" y="143"/>
                        <a:pt x="61" y="138"/>
                        <a:pt x="65" y="126"/>
                      </a:cubicBezTo>
                      <a:cubicBezTo>
                        <a:pt x="69" y="114"/>
                        <a:pt x="72" y="98"/>
                        <a:pt x="72" y="75"/>
                      </a:cubicBezTo>
                      <a:cubicBezTo>
                        <a:pt x="72" y="52"/>
                        <a:pt x="70" y="36"/>
                        <a:pt x="66" y="25"/>
                      </a:cubicBezTo>
                      <a:cubicBezTo>
                        <a:pt x="62" y="14"/>
                        <a:pt x="55" y="8"/>
                        <a:pt x="46" y="8"/>
                      </a:cubicBezTo>
                      <a:cubicBezTo>
                        <a:pt x="37" y="8"/>
                        <a:pt x="31" y="13"/>
                        <a:pt x="27" y="25"/>
                      </a:cubicBezTo>
                      <a:cubicBezTo>
                        <a:pt x="23" y="37"/>
                        <a:pt x="20" y="54"/>
                        <a:pt x="20" y="75"/>
                      </a:cubicBezTo>
                      <a:cubicBezTo>
                        <a:pt x="20" y="96"/>
                        <a:pt x="23" y="114"/>
                        <a:pt x="27" y="126"/>
                      </a:cubicBezTo>
                      <a:cubicBezTo>
                        <a:pt x="31" y="138"/>
                        <a:pt x="38" y="143"/>
                        <a:pt x="46" y="143"/>
                      </a:cubicBezTo>
                      <a:close/>
                      <a:moveTo>
                        <a:pt x="46" y="0"/>
                      </a:moveTo>
                      <a:cubicBezTo>
                        <a:pt x="60" y="0"/>
                        <a:pt x="72" y="7"/>
                        <a:pt x="80" y="20"/>
                      </a:cubicBezTo>
                      <a:cubicBezTo>
                        <a:pt x="88" y="33"/>
                        <a:pt x="93" y="52"/>
                        <a:pt x="93" y="75"/>
                      </a:cubicBezTo>
                      <a:cubicBezTo>
                        <a:pt x="93" y="98"/>
                        <a:pt x="89" y="118"/>
                        <a:pt x="80" y="131"/>
                      </a:cubicBezTo>
                      <a:cubicBezTo>
                        <a:pt x="71" y="144"/>
                        <a:pt x="60" y="151"/>
                        <a:pt x="46" y="151"/>
                      </a:cubicBezTo>
                      <a:cubicBezTo>
                        <a:pt x="32" y="151"/>
                        <a:pt x="21" y="144"/>
                        <a:pt x="13" y="131"/>
                      </a:cubicBezTo>
                      <a:cubicBezTo>
                        <a:pt x="5" y="118"/>
                        <a:pt x="0" y="99"/>
                        <a:pt x="0" y="75"/>
                      </a:cubicBezTo>
                      <a:cubicBezTo>
                        <a:pt x="0" y="51"/>
                        <a:pt x="4" y="33"/>
                        <a:pt x="13" y="20"/>
                      </a:cubicBezTo>
                      <a:cubicBezTo>
                        <a:pt x="22" y="7"/>
                        <a:pt x="32" y="0"/>
                        <a:pt x="46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7189560" y="1639800"/>
                <a:ext cx="56520" cy="87480"/>
                <a:chOff x="7189560" y="1639800"/>
                <a:chExt cx="56520" cy="874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7189560" y="1639800"/>
                  <a:ext cx="56520" cy="87480"/>
                </a:xfrm>
                <a:custGeom>
                  <a:avLst/>
                  <a:gdLst/>
                  <a:ahLst/>
                  <a:rect l="l" t="t" r="r" b="b"/>
                  <a:pathLst>
                    <a:path w="162" h="247">
                      <a:moveTo>
                        <a:pt x="0" y="246"/>
                      </a:moveTo>
                      <a:cubicBezTo>
                        <a:pt x="0" y="164"/>
                        <a:pt x="0" y="82"/>
                        <a:pt x="0" y="0"/>
                      </a:cubicBezTo>
                      <a:cubicBezTo>
                        <a:pt x="54" y="0"/>
                        <a:pt x="108" y="0"/>
                        <a:pt x="161" y="0"/>
                      </a:cubicBezTo>
                      <a:cubicBezTo>
                        <a:pt x="161" y="82"/>
                        <a:pt x="161" y="163"/>
                        <a:pt x="161" y="246"/>
                      </a:cubicBezTo>
                      <a:cubicBezTo>
                        <a:pt x="108" y="246"/>
                        <a:pt x="54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190640" y="1657080"/>
                  <a:ext cx="33480" cy="52920"/>
                </a:xfrm>
                <a:custGeom>
                  <a:avLst/>
                  <a:gdLst/>
                  <a:ahLst/>
                  <a:rect l="l" t="t" r="r" b="b"/>
                  <a:pathLst>
                    <a:path w="95" h="151">
                      <a:moveTo>
                        <a:pt x="44" y="88"/>
                      </a:moveTo>
                      <a:cubicBezTo>
                        <a:pt x="47" y="88"/>
                        <a:pt x="50" y="87"/>
                        <a:pt x="53" y="86"/>
                      </a:cubicBezTo>
                      <a:cubicBezTo>
                        <a:pt x="56" y="85"/>
                        <a:pt x="59" y="83"/>
                        <a:pt x="62" y="81"/>
                      </a:cubicBezTo>
                      <a:cubicBezTo>
                        <a:pt x="65" y="79"/>
                        <a:pt x="67" y="76"/>
                        <a:pt x="70" y="73"/>
                      </a:cubicBezTo>
                      <a:cubicBezTo>
                        <a:pt x="73" y="70"/>
                        <a:pt x="73" y="68"/>
                        <a:pt x="73" y="67"/>
                      </a:cubicBezTo>
                      <a:cubicBezTo>
                        <a:pt x="73" y="66"/>
                        <a:pt x="73" y="64"/>
                        <a:pt x="74" y="63"/>
                      </a:cubicBezTo>
                      <a:cubicBezTo>
                        <a:pt x="74" y="45"/>
                        <a:pt x="71" y="32"/>
                        <a:pt x="65" y="22"/>
                      </a:cubicBezTo>
                      <a:cubicBezTo>
                        <a:pt x="59" y="12"/>
                        <a:pt x="53" y="6"/>
                        <a:pt x="44" y="6"/>
                      </a:cubicBezTo>
                      <a:cubicBezTo>
                        <a:pt x="35" y="6"/>
                        <a:pt x="31" y="10"/>
                        <a:pt x="27" y="17"/>
                      </a:cubicBezTo>
                      <a:cubicBezTo>
                        <a:pt x="23" y="24"/>
                        <a:pt x="21" y="35"/>
                        <a:pt x="21" y="48"/>
                      </a:cubicBezTo>
                      <a:cubicBezTo>
                        <a:pt x="21" y="61"/>
                        <a:pt x="22" y="70"/>
                        <a:pt x="27" y="77"/>
                      </a:cubicBezTo>
                      <a:cubicBezTo>
                        <a:pt x="32" y="84"/>
                        <a:pt x="36" y="88"/>
                        <a:pt x="44" y="88"/>
                      </a:cubicBezTo>
                      <a:close/>
                      <a:moveTo>
                        <a:pt x="73" y="80"/>
                      </a:moveTo>
                      <a:cubicBezTo>
                        <a:pt x="69" y="85"/>
                        <a:pt x="65" y="89"/>
                        <a:pt x="58" y="93"/>
                      </a:cubicBezTo>
                      <a:cubicBezTo>
                        <a:pt x="51" y="97"/>
                        <a:pt x="47" y="98"/>
                        <a:pt x="40" y="98"/>
                      </a:cubicBezTo>
                      <a:cubicBezTo>
                        <a:pt x="33" y="98"/>
                        <a:pt x="19" y="93"/>
                        <a:pt x="11" y="85"/>
                      </a:cubicBezTo>
                      <a:cubicBezTo>
                        <a:pt x="3" y="77"/>
                        <a:pt x="0" y="66"/>
                        <a:pt x="0" y="53"/>
                      </a:cubicBezTo>
                      <a:cubicBezTo>
                        <a:pt x="0" y="40"/>
                        <a:pt x="4" y="23"/>
                        <a:pt x="12" y="14"/>
                      </a:cubicBezTo>
                      <a:cubicBezTo>
                        <a:pt x="20" y="5"/>
                        <a:pt x="31" y="0"/>
                        <a:pt x="44" y="0"/>
                      </a:cubicBezTo>
                      <a:cubicBezTo>
                        <a:pt x="57" y="0"/>
                        <a:pt x="72" y="5"/>
                        <a:pt x="81" y="16"/>
                      </a:cubicBezTo>
                      <a:cubicBezTo>
                        <a:pt x="90" y="27"/>
                        <a:pt x="94" y="43"/>
                        <a:pt x="94" y="63"/>
                      </a:cubicBezTo>
                      <a:cubicBezTo>
                        <a:pt x="94" y="83"/>
                        <a:pt x="87" y="108"/>
                        <a:pt x="71" y="125"/>
                      </a:cubicBezTo>
                      <a:cubicBezTo>
                        <a:pt x="55" y="142"/>
                        <a:pt x="36" y="150"/>
                        <a:pt x="13" y="150"/>
                      </a:cubicBezTo>
                      <a:cubicBezTo>
                        <a:pt x="13" y="148"/>
                        <a:pt x="13" y="146"/>
                        <a:pt x="13" y="145"/>
                      </a:cubicBezTo>
                      <a:cubicBezTo>
                        <a:pt x="31" y="144"/>
                        <a:pt x="45" y="136"/>
                        <a:pt x="55" y="123"/>
                      </a:cubicBezTo>
                      <a:cubicBezTo>
                        <a:pt x="65" y="110"/>
                        <a:pt x="72" y="96"/>
                        <a:pt x="73" y="8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7249680" y="1866960"/>
                <a:ext cx="56880" cy="87120"/>
                <a:chOff x="7249680" y="1866960"/>
                <a:chExt cx="56880" cy="871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7249680" y="1866960"/>
                  <a:ext cx="56880" cy="87120"/>
                </a:xfrm>
                <a:custGeom>
                  <a:avLst/>
                  <a:gdLst/>
                  <a:ahLst/>
                  <a:rect l="l" t="t" r="r" b="b"/>
                  <a:pathLst>
                    <a:path w="162" h="246">
                      <a:moveTo>
                        <a:pt x="0" y="245"/>
                      </a:moveTo>
                      <a:cubicBezTo>
                        <a:pt x="0" y="163"/>
                        <a:pt x="0" y="82"/>
                        <a:pt x="0" y="0"/>
                      </a:cubicBezTo>
                      <a:cubicBezTo>
                        <a:pt x="54" y="0"/>
                        <a:pt x="107" y="0"/>
                        <a:pt x="161" y="0"/>
                      </a:cubicBezTo>
                      <a:cubicBezTo>
                        <a:pt x="161" y="81"/>
                        <a:pt x="161" y="163"/>
                        <a:pt x="161" y="245"/>
                      </a:cubicBezTo>
                      <a:cubicBezTo>
                        <a:pt x="107" y="245"/>
                        <a:pt x="54" y="245"/>
                        <a:pt x="0" y="245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252560" y="1882440"/>
                  <a:ext cx="33840" cy="52560"/>
                </a:xfrm>
                <a:custGeom>
                  <a:avLst/>
                  <a:gdLst/>
                  <a:ahLst/>
                  <a:rect l="l" t="t" r="r" b="b"/>
                  <a:pathLst>
                    <a:path w="97" h="152">
                      <a:moveTo>
                        <a:pt x="56" y="63"/>
                      </a:moveTo>
                      <a:cubicBezTo>
                        <a:pt x="63" y="60"/>
                        <a:pt x="68" y="57"/>
                        <a:pt x="71" y="51"/>
                      </a:cubicBezTo>
                      <a:cubicBezTo>
                        <a:pt x="74" y="45"/>
                        <a:pt x="76" y="41"/>
                        <a:pt x="76" y="35"/>
                      </a:cubicBezTo>
                      <a:cubicBezTo>
                        <a:pt x="76" y="29"/>
                        <a:pt x="73" y="21"/>
                        <a:pt x="68" y="16"/>
                      </a:cubicBezTo>
                      <a:cubicBezTo>
                        <a:pt x="63" y="11"/>
                        <a:pt x="55" y="8"/>
                        <a:pt x="47" y="8"/>
                      </a:cubicBezTo>
                      <a:cubicBezTo>
                        <a:pt x="39" y="8"/>
                        <a:pt x="34" y="10"/>
                        <a:pt x="29" y="15"/>
                      </a:cubicBezTo>
                      <a:cubicBezTo>
                        <a:pt x="24" y="20"/>
                        <a:pt x="21" y="24"/>
                        <a:pt x="21" y="31"/>
                      </a:cubicBezTo>
                      <a:cubicBezTo>
                        <a:pt x="21" y="38"/>
                        <a:pt x="23" y="41"/>
                        <a:pt x="27" y="46"/>
                      </a:cubicBezTo>
                      <a:cubicBezTo>
                        <a:pt x="31" y="51"/>
                        <a:pt x="41" y="57"/>
                        <a:pt x="56" y="63"/>
                      </a:cubicBezTo>
                      <a:close/>
                      <a:moveTo>
                        <a:pt x="78" y="115"/>
                      </a:moveTo>
                      <a:cubicBezTo>
                        <a:pt x="78" y="106"/>
                        <a:pt x="75" y="99"/>
                        <a:pt x="70" y="93"/>
                      </a:cubicBezTo>
                      <a:cubicBezTo>
                        <a:pt x="65" y="87"/>
                        <a:pt x="54" y="82"/>
                        <a:pt x="39" y="76"/>
                      </a:cubicBezTo>
                      <a:cubicBezTo>
                        <a:pt x="32" y="80"/>
                        <a:pt x="26" y="85"/>
                        <a:pt x="23" y="90"/>
                      </a:cubicBezTo>
                      <a:cubicBezTo>
                        <a:pt x="20" y="95"/>
                        <a:pt x="17" y="104"/>
                        <a:pt x="17" y="110"/>
                      </a:cubicBezTo>
                      <a:cubicBezTo>
                        <a:pt x="17" y="116"/>
                        <a:pt x="20" y="127"/>
                        <a:pt x="26" y="133"/>
                      </a:cubicBezTo>
                      <a:cubicBezTo>
                        <a:pt x="32" y="139"/>
                        <a:pt x="40" y="142"/>
                        <a:pt x="50" y="142"/>
                      </a:cubicBezTo>
                      <a:cubicBezTo>
                        <a:pt x="60" y="142"/>
                        <a:pt x="65" y="139"/>
                        <a:pt x="70" y="134"/>
                      </a:cubicBezTo>
                      <a:cubicBezTo>
                        <a:pt x="75" y="129"/>
                        <a:pt x="78" y="123"/>
                        <a:pt x="78" y="115"/>
                      </a:cubicBezTo>
                      <a:close/>
                      <a:moveTo>
                        <a:pt x="65" y="67"/>
                      </a:moveTo>
                      <a:cubicBezTo>
                        <a:pt x="85" y="77"/>
                        <a:pt x="96" y="91"/>
                        <a:pt x="96" y="109"/>
                      </a:cubicBezTo>
                      <a:cubicBezTo>
                        <a:pt x="96" y="121"/>
                        <a:pt x="91" y="131"/>
                        <a:pt x="82" y="138"/>
                      </a:cubicBezTo>
                      <a:cubicBezTo>
                        <a:pt x="73" y="145"/>
                        <a:pt x="62" y="149"/>
                        <a:pt x="48" y="150"/>
                      </a:cubicBezTo>
                      <a:cubicBezTo>
                        <a:pt x="34" y="151"/>
                        <a:pt x="23" y="146"/>
                        <a:pt x="14" y="139"/>
                      </a:cubicBezTo>
                      <a:cubicBezTo>
                        <a:pt x="5" y="132"/>
                        <a:pt x="0" y="122"/>
                        <a:pt x="0" y="112"/>
                      </a:cubicBezTo>
                      <a:cubicBezTo>
                        <a:pt x="0" y="95"/>
                        <a:pt x="11" y="81"/>
                        <a:pt x="31" y="73"/>
                      </a:cubicBezTo>
                      <a:cubicBezTo>
                        <a:pt x="22" y="68"/>
                        <a:pt x="15" y="62"/>
                        <a:pt x="11" y="57"/>
                      </a:cubicBezTo>
                      <a:cubicBezTo>
                        <a:pt x="7" y="52"/>
                        <a:pt x="4" y="45"/>
                        <a:pt x="4" y="37"/>
                      </a:cubicBezTo>
                      <a:cubicBezTo>
                        <a:pt x="4" y="29"/>
                        <a:pt x="8" y="18"/>
                        <a:pt x="17" y="11"/>
                      </a:cubicBezTo>
                      <a:cubicBezTo>
                        <a:pt x="26" y="4"/>
                        <a:pt x="37" y="0"/>
                        <a:pt x="49" y="0"/>
                      </a:cubicBezTo>
                      <a:cubicBezTo>
                        <a:pt x="61" y="0"/>
                        <a:pt x="71" y="3"/>
                        <a:pt x="79" y="10"/>
                      </a:cubicBezTo>
                      <a:cubicBezTo>
                        <a:pt x="87" y="17"/>
                        <a:pt x="92" y="24"/>
                        <a:pt x="92" y="34"/>
                      </a:cubicBezTo>
                      <a:cubicBezTo>
                        <a:pt x="92" y="44"/>
                        <a:pt x="83" y="60"/>
                        <a:pt x="65" y="6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7415640" y="2019240"/>
                <a:ext cx="56880" cy="87480"/>
                <a:chOff x="7415640" y="2019240"/>
                <a:chExt cx="56880" cy="874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7415640" y="2019240"/>
                  <a:ext cx="56880" cy="87480"/>
                </a:xfrm>
                <a:custGeom>
                  <a:avLst/>
                  <a:gdLst/>
                  <a:ahLst/>
                  <a:rect l="l" t="t" r="r" b="b"/>
                  <a:pathLst>
                    <a:path w="162" h="247">
                      <a:moveTo>
                        <a:pt x="0" y="246"/>
                      </a:moveTo>
                      <a:cubicBezTo>
                        <a:pt x="0" y="164"/>
                        <a:pt x="0" y="83"/>
                        <a:pt x="0" y="0"/>
                      </a:cubicBezTo>
                      <a:cubicBezTo>
                        <a:pt x="54" y="0"/>
                        <a:pt x="107" y="0"/>
                        <a:pt x="161" y="0"/>
                      </a:cubicBezTo>
                      <a:cubicBezTo>
                        <a:pt x="161" y="82"/>
                        <a:pt x="161" y="164"/>
                        <a:pt x="161" y="246"/>
                      </a:cubicBezTo>
                      <a:cubicBezTo>
                        <a:pt x="107" y="246"/>
                        <a:pt x="54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418520" y="2036520"/>
                  <a:ext cx="30600" cy="52920"/>
                </a:xfrm>
                <a:custGeom>
                  <a:avLst/>
                  <a:gdLst/>
                  <a:ahLst/>
                  <a:rect l="l" t="t" r="r" b="b"/>
                  <a:pathLst>
                    <a:path w="89" h="148">
                      <a:moveTo>
                        <a:pt x="88" y="4"/>
                      </a:moveTo>
                      <a:cubicBezTo>
                        <a:pt x="72" y="51"/>
                        <a:pt x="56" y="99"/>
                        <a:pt x="39" y="147"/>
                      </a:cubicBezTo>
                      <a:cubicBezTo>
                        <a:pt x="33" y="147"/>
                        <a:pt x="27" y="147"/>
                        <a:pt x="20" y="147"/>
                      </a:cubicBezTo>
                      <a:cubicBezTo>
                        <a:pt x="38" y="104"/>
                        <a:pt x="56" y="60"/>
                        <a:pt x="74" y="16"/>
                      </a:cubicBezTo>
                      <a:cubicBezTo>
                        <a:pt x="57" y="16"/>
                        <a:pt x="39" y="16"/>
                        <a:pt x="22" y="16"/>
                      </a:cubicBezTo>
                      <a:cubicBezTo>
                        <a:pt x="15" y="16"/>
                        <a:pt x="10" y="17"/>
                        <a:pt x="8" y="21"/>
                      </a:cubicBezTo>
                      <a:cubicBezTo>
                        <a:pt x="6" y="25"/>
                        <a:pt x="5" y="31"/>
                        <a:pt x="5" y="39"/>
                      </a:cubicBezTo>
                      <a:cubicBezTo>
                        <a:pt x="3" y="39"/>
                        <a:pt x="2" y="39"/>
                        <a:pt x="0" y="39"/>
                      </a:cubicBezTo>
                      <a:cubicBezTo>
                        <a:pt x="0" y="26"/>
                        <a:pt x="0" y="13"/>
                        <a:pt x="0" y="0"/>
                      </a:cubicBezTo>
                      <a:cubicBezTo>
                        <a:pt x="29" y="0"/>
                        <a:pt x="58" y="0"/>
                        <a:pt x="88" y="0"/>
                      </a:cubicBezTo>
                      <a:cubicBezTo>
                        <a:pt x="88" y="1"/>
                        <a:pt x="88" y="3"/>
                        <a:pt x="88" y="4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7634160" y="2076480"/>
                <a:ext cx="56880" cy="87120"/>
                <a:chOff x="7634160" y="2076480"/>
                <a:chExt cx="56880" cy="871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7634160" y="2076480"/>
                  <a:ext cx="56880" cy="87120"/>
                </a:xfrm>
                <a:custGeom>
                  <a:avLst/>
                  <a:gdLst/>
                  <a:ahLst/>
                  <a:rect l="l" t="t" r="r" b="b"/>
                  <a:pathLst>
                    <a:path w="163" h="247">
                      <a:moveTo>
                        <a:pt x="0" y="246"/>
                      </a:moveTo>
                      <a:cubicBezTo>
                        <a:pt x="0" y="164"/>
                        <a:pt x="0" y="82"/>
                        <a:pt x="0" y="0"/>
                      </a:cubicBezTo>
                      <a:cubicBezTo>
                        <a:pt x="54" y="0"/>
                        <a:pt x="108" y="0"/>
                        <a:pt x="162" y="0"/>
                      </a:cubicBezTo>
                      <a:cubicBezTo>
                        <a:pt x="162" y="82"/>
                        <a:pt x="162" y="164"/>
                        <a:pt x="162" y="246"/>
                      </a:cubicBezTo>
                      <a:cubicBezTo>
                        <a:pt x="108" y="246"/>
                        <a:pt x="54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637040" y="2093400"/>
                  <a:ext cx="33840" cy="52560"/>
                </a:xfrm>
                <a:custGeom>
                  <a:avLst/>
                  <a:gdLst/>
                  <a:ahLst/>
                  <a:rect l="l" t="t" r="r" b="b"/>
                  <a:pathLst>
                    <a:path w="95" h="151">
                      <a:moveTo>
                        <a:pt x="49" y="143"/>
                      </a:moveTo>
                      <a:cubicBezTo>
                        <a:pt x="57" y="143"/>
                        <a:pt x="62" y="139"/>
                        <a:pt x="67" y="132"/>
                      </a:cubicBezTo>
                      <a:cubicBezTo>
                        <a:pt x="72" y="125"/>
                        <a:pt x="73" y="115"/>
                        <a:pt x="73" y="102"/>
                      </a:cubicBezTo>
                      <a:cubicBezTo>
                        <a:pt x="73" y="89"/>
                        <a:pt x="71" y="80"/>
                        <a:pt x="67" y="73"/>
                      </a:cubicBezTo>
                      <a:cubicBezTo>
                        <a:pt x="63" y="66"/>
                        <a:pt x="57" y="62"/>
                        <a:pt x="50" y="62"/>
                      </a:cubicBezTo>
                      <a:cubicBezTo>
                        <a:pt x="43" y="62"/>
                        <a:pt x="43" y="63"/>
                        <a:pt x="41" y="64"/>
                      </a:cubicBezTo>
                      <a:cubicBezTo>
                        <a:pt x="39" y="65"/>
                        <a:pt x="35" y="66"/>
                        <a:pt x="32" y="68"/>
                      </a:cubicBezTo>
                      <a:cubicBezTo>
                        <a:pt x="29" y="70"/>
                        <a:pt x="27" y="73"/>
                        <a:pt x="24" y="76"/>
                      </a:cubicBezTo>
                      <a:cubicBezTo>
                        <a:pt x="21" y="79"/>
                        <a:pt x="20" y="81"/>
                        <a:pt x="20" y="83"/>
                      </a:cubicBezTo>
                      <a:cubicBezTo>
                        <a:pt x="20" y="85"/>
                        <a:pt x="20" y="85"/>
                        <a:pt x="20" y="87"/>
                      </a:cubicBezTo>
                      <a:cubicBezTo>
                        <a:pt x="20" y="104"/>
                        <a:pt x="23" y="118"/>
                        <a:pt x="28" y="128"/>
                      </a:cubicBezTo>
                      <a:cubicBezTo>
                        <a:pt x="33" y="138"/>
                        <a:pt x="41" y="143"/>
                        <a:pt x="49" y="143"/>
                      </a:cubicBezTo>
                      <a:close/>
                      <a:moveTo>
                        <a:pt x="21" y="70"/>
                      </a:moveTo>
                      <a:cubicBezTo>
                        <a:pt x="25" y="64"/>
                        <a:pt x="29" y="60"/>
                        <a:pt x="35" y="57"/>
                      </a:cubicBezTo>
                      <a:cubicBezTo>
                        <a:pt x="41" y="54"/>
                        <a:pt x="47" y="52"/>
                        <a:pt x="54" y="52"/>
                      </a:cubicBezTo>
                      <a:cubicBezTo>
                        <a:pt x="61" y="52"/>
                        <a:pt x="74" y="56"/>
                        <a:pt x="82" y="65"/>
                      </a:cubicBezTo>
                      <a:cubicBezTo>
                        <a:pt x="90" y="74"/>
                        <a:pt x="94" y="84"/>
                        <a:pt x="94" y="97"/>
                      </a:cubicBezTo>
                      <a:cubicBezTo>
                        <a:pt x="94" y="110"/>
                        <a:pt x="89" y="126"/>
                        <a:pt x="82" y="136"/>
                      </a:cubicBezTo>
                      <a:cubicBezTo>
                        <a:pt x="75" y="146"/>
                        <a:pt x="62" y="150"/>
                        <a:pt x="49" y="150"/>
                      </a:cubicBezTo>
                      <a:cubicBezTo>
                        <a:pt x="36" y="150"/>
                        <a:pt x="22" y="145"/>
                        <a:pt x="13" y="134"/>
                      </a:cubicBezTo>
                      <a:cubicBezTo>
                        <a:pt x="4" y="123"/>
                        <a:pt x="0" y="107"/>
                        <a:pt x="0" y="86"/>
                      </a:cubicBezTo>
                      <a:cubicBezTo>
                        <a:pt x="0" y="65"/>
                        <a:pt x="7" y="41"/>
                        <a:pt x="23" y="25"/>
                      </a:cubicBezTo>
                      <a:cubicBezTo>
                        <a:pt x="39" y="9"/>
                        <a:pt x="57" y="0"/>
                        <a:pt x="81" y="0"/>
                      </a:cubicBezTo>
                      <a:cubicBezTo>
                        <a:pt x="81" y="2"/>
                        <a:pt x="81" y="4"/>
                        <a:pt x="81" y="5"/>
                      </a:cubicBezTo>
                      <a:cubicBezTo>
                        <a:pt x="63" y="6"/>
                        <a:pt x="49" y="13"/>
                        <a:pt x="38" y="26"/>
                      </a:cubicBezTo>
                      <a:cubicBezTo>
                        <a:pt x="27" y="39"/>
                        <a:pt x="21" y="54"/>
                        <a:pt x="21" y="7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7858800" y="2025720"/>
                <a:ext cx="56880" cy="87120"/>
                <a:chOff x="7858800" y="2025720"/>
                <a:chExt cx="56880" cy="871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858800" y="2025720"/>
                  <a:ext cx="56880" cy="87120"/>
                </a:xfrm>
                <a:custGeom>
                  <a:avLst/>
                  <a:gdLst/>
                  <a:ahLst/>
                  <a:rect l="l" t="t" r="r" b="b"/>
                  <a:pathLst>
                    <a:path w="162" h="247">
                      <a:moveTo>
                        <a:pt x="0" y="246"/>
                      </a:moveTo>
                      <a:cubicBezTo>
                        <a:pt x="0" y="164"/>
                        <a:pt x="0" y="82"/>
                        <a:pt x="0" y="0"/>
                      </a:cubicBezTo>
                      <a:cubicBezTo>
                        <a:pt x="54" y="0"/>
                        <a:pt x="108" y="0"/>
                        <a:pt x="161" y="0"/>
                      </a:cubicBezTo>
                      <a:cubicBezTo>
                        <a:pt x="161" y="81"/>
                        <a:pt x="161" y="164"/>
                        <a:pt x="161" y="246"/>
                      </a:cubicBezTo>
                      <a:cubicBezTo>
                        <a:pt x="108" y="246"/>
                        <a:pt x="54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861680" y="2042640"/>
                  <a:ext cx="30600" cy="52560"/>
                </a:xfrm>
                <a:custGeom>
                  <a:avLst/>
                  <a:gdLst/>
                  <a:ahLst/>
                  <a:rect l="l" t="t" r="r" b="b"/>
                  <a:pathLst>
                    <a:path w="90" h="149">
                      <a:moveTo>
                        <a:pt x="15" y="59"/>
                      </a:moveTo>
                      <a:cubicBezTo>
                        <a:pt x="22" y="55"/>
                        <a:pt x="31" y="52"/>
                        <a:pt x="42" y="52"/>
                      </a:cubicBezTo>
                      <a:cubicBezTo>
                        <a:pt x="53" y="52"/>
                        <a:pt x="68" y="57"/>
                        <a:pt x="76" y="64"/>
                      </a:cubicBezTo>
                      <a:cubicBezTo>
                        <a:pt x="84" y="71"/>
                        <a:pt x="89" y="83"/>
                        <a:pt x="89" y="97"/>
                      </a:cubicBezTo>
                      <a:cubicBezTo>
                        <a:pt x="89" y="111"/>
                        <a:pt x="84" y="124"/>
                        <a:pt x="73" y="134"/>
                      </a:cubicBezTo>
                      <a:cubicBezTo>
                        <a:pt x="62" y="144"/>
                        <a:pt x="48" y="148"/>
                        <a:pt x="31" y="148"/>
                      </a:cubicBezTo>
                      <a:cubicBezTo>
                        <a:pt x="21" y="148"/>
                        <a:pt x="10" y="146"/>
                        <a:pt x="0" y="142"/>
                      </a:cubicBezTo>
                      <a:cubicBezTo>
                        <a:pt x="1" y="139"/>
                        <a:pt x="1" y="137"/>
                        <a:pt x="2" y="134"/>
                      </a:cubicBezTo>
                      <a:cubicBezTo>
                        <a:pt x="11" y="138"/>
                        <a:pt x="19" y="140"/>
                        <a:pt x="28" y="140"/>
                      </a:cubicBezTo>
                      <a:cubicBezTo>
                        <a:pt x="37" y="140"/>
                        <a:pt x="50" y="136"/>
                        <a:pt x="58" y="128"/>
                      </a:cubicBezTo>
                      <a:cubicBezTo>
                        <a:pt x="66" y="120"/>
                        <a:pt x="69" y="111"/>
                        <a:pt x="69" y="98"/>
                      </a:cubicBezTo>
                      <a:cubicBezTo>
                        <a:pt x="69" y="85"/>
                        <a:pt x="66" y="78"/>
                        <a:pt x="61" y="72"/>
                      </a:cubicBezTo>
                      <a:cubicBezTo>
                        <a:pt x="56" y="66"/>
                        <a:pt x="47" y="62"/>
                        <a:pt x="38" y="62"/>
                      </a:cubicBezTo>
                      <a:cubicBezTo>
                        <a:pt x="29" y="62"/>
                        <a:pt x="19" y="66"/>
                        <a:pt x="10" y="72"/>
                      </a:cubicBezTo>
                      <a:cubicBezTo>
                        <a:pt x="8" y="71"/>
                        <a:pt x="6" y="71"/>
                        <a:pt x="4" y="71"/>
                      </a:cubicBezTo>
                      <a:cubicBezTo>
                        <a:pt x="7" y="48"/>
                        <a:pt x="10" y="24"/>
                        <a:pt x="12" y="0"/>
                      </a:cubicBezTo>
                      <a:cubicBezTo>
                        <a:pt x="34" y="0"/>
                        <a:pt x="57" y="0"/>
                        <a:pt x="79" y="0"/>
                      </a:cubicBezTo>
                      <a:cubicBezTo>
                        <a:pt x="79" y="6"/>
                        <a:pt x="79" y="11"/>
                        <a:pt x="79" y="16"/>
                      </a:cubicBezTo>
                      <a:cubicBezTo>
                        <a:pt x="59" y="16"/>
                        <a:pt x="39" y="16"/>
                        <a:pt x="19" y="16"/>
                      </a:cubicBezTo>
                      <a:cubicBezTo>
                        <a:pt x="18" y="30"/>
                        <a:pt x="16" y="44"/>
                        <a:pt x="15" y="59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8013960" y="1854360"/>
                <a:ext cx="56880" cy="87120"/>
                <a:chOff x="8013960" y="1854360"/>
                <a:chExt cx="56880" cy="871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8013960" y="1854360"/>
                  <a:ext cx="56880" cy="87120"/>
                </a:xfrm>
                <a:custGeom>
                  <a:avLst/>
                  <a:gdLst/>
                  <a:ahLst/>
                  <a:rect l="l" t="t" r="r" b="b"/>
                  <a:pathLst>
                    <a:path w="163" h="247">
                      <a:moveTo>
                        <a:pt x="0" y="246"/>
                      </a:moveTo>
                      <a:cubicBezTo>
                        <a:pt x="0" y="164"/>
                        <a:pt x="0" y="83"/>
                        <a:pt x="0" y="0"/>
                      </a:cubicBezTo>
                      <a:cubicBezTo>
                        <a:pt x="54" y="0"/>
                        <a:pt x="108" y="0"/>
                        <a:pt x="162" y="0"/>
                      </a:cubicBezTo>
                      <a:cubicBezTo>
                        <a:pt x="162" y="82"/>
                        <a:pt x="162" y="164"/>
                        <a:pt x="162" y="246"/>
                      </a:cubicBezTo>
                      <a:cubicBezTo>
                        <a:pt x="108" y="246"/>
                        <a:pt x="54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15400" y="1871280"/>
                  <a:ext cx="34920" cy="52560"/>
                </a:xfrm>
                <a:custGeom>
                  <a:avLst/>
                  <a:gdLst/>
                  <a:ahLst/>
                  <a:rect l="l" t="t" r="r" b="b"/>
                  <a:pathLst>
                    <a:path w="101" h="148">
                      <a:moveTo>
                        <a:pt x="59" y="92"/>
                      </a:moveTo>
                      <a:cubicBezTo>
                        <a:pt x="59" y="69"/>
                        <a:pt x="59" y="47"/>
                        <a:pt x="59" y="23"/>
                      </a:cubicBezTo>
                      <a:cubicBezTo>
                        <a:pt x="43" y="46"/>
                        <a:pt x="27" y="69"/>
                        <a:pt x="10" y="92"/>
                      </a:cubicBezTo>
                      <a:cubicBezTo>
                        <a:pt x="26" y="92"/>
                        <a:pt x="43" y="92"/>
                        <a:pt x="59" y="92"/>
                      </a:cubicBezTo>
                      <a:close/>
                      <a:moveTo>
                        <a:pt x="100" y="108"/>
                      </a:moveTo>
                      <a:cubicBezTo>
                        <a:pt x="92" y="108"/>
                        <a:pt x="85" y="108"/>
                        <a:pt x="77" y="108"/>
                      </a:cubicBezTo>
                      <a:cubicBezTo>
                        <a:pt x="77" y="113"/>
                        <a:pt x="77" y="120"/>
                        <a:pt x="77" y="125"/>
                      </a:cubicBezTo>
                      <a:cubicBezTo>
                        <a:pt x="77" y="130"/>
                        <a:pt x="78" y="137"/>
                        <a:pt x="81" y="139"/>
                      </a:cubicBezTo>
                      <a:cubicBezTo>
                        <a:pt x="84" y="141"/>
                        <a:pt x="89" y="142"/>
                        <a:pt x="98" y="142"/>
                      </a:cubicBezTo>
                      <a:cubicBezTo>
                        <a:pt x="98" y="144"/>
                        <a:pt x="98" y="145"/>
                        <a:pt x="98" y="147"/>
                      </a:cubicBezTo>
                      <a:cubicBezTo>
                        <a:pt x="77" y="147"/>
                        <a:pt x="55" y="147"/>
                        <a:pt x="33" y="147"/>
                      </a:cubicBezTo>
                      <a:cubicBezTo>
                        <a:pt x="33" y="145"/>
                        <a:pt x="33" y="144"/>
                        <a:pt x="33" y="142"/>
                      </a:cubicBezTo>
                      <a:cubicBezTo>
                        <a:pt x="42" y="142"/>
                        <a:pt x="47" y="142"/>
                        <a:pt x="51" y="141"/>
                      </a:cubicBezTo>
                      <a:cubicBezTo>
                        <a:pt x="55" y="140"/>
                        <a:pt x="57" y="138"/>
                        <a:pt x="58" y="136"/>
                      </a:cubicBezTo>
                      <a:cubicBezTo>
                        <a:pt x="59" y="134"/>
                        <a:pt x="59" y="131"/>
                        <a:pt x="59" y="125"/>
                      </a:cubicBezTo>
                      <a:cubicBezTo>
                        <a:pt x="59" y="119"/>
                        <a:pt x="59" y="114"/>
                        <a:pt x="59" y="108"/>
                      </a:cubicBezTo>
                      <a:cubicBezTo>
                        <a:pt x="39" y="108"/>
                        <a:pt x="19" y="108"/>
                        <a:pt x="0" y="108"/>
                      </a:cubicBezTo>
                      <a:cubicBezTo>
                        <a:pt x="0" y="103"/>
                        <a:pt x="0" y="99"/>
                        <a:pt x="0" y="94"/>
                      </a:cubicBezTo>
                      <a:cubicBezTo>
                        <a:pt x="21" y="63"/>
                        <a:pt x="44" y="31"/>
                        <a:pt x="66" y="0"/>
                      </a:cubicBezTo>
                      <a:cubicBezTo>
                        <a:pt x="70" y="0"/>
                        <a:pt x="74" y="0"/>
                        <a:pt x="77" y="0"/>
                      </a:cubicBezTo>
                      <a:cubicBezTo>
                        <a:pt x="77" y="31"/>
                        <a:pt x="77" y="61"/>
                        <a:pt x="77" y="92"/>
                      </a:cubicBezTo>
                      <a:cubicBezTo>
                        <a:pt x="85" y="92"/>
                        <a:pt x="92" y="92"/>
                        <a:pt x="100" y="92"/>
                      </a:cubicBezTo>
                      <a:cubicBezTo>
                        <a:pt x="100" y="97"/>
                        <a:pt x="100" y="103"/>
                        <a:pt x="100" y="10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8072280" y="1636560"/>
                <a:ext cx="56880" cy="87480"/>
                <a:chOff x="8072280" y="1636560"/>
                <a:chExt cx="56880" cy="87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8072280" y="1636560"/>
                  <a:ext cx="56880" cy="87480"/>
                </a:xfrm>
                <a:custGeom>
                  <a:avLst/>
                  <a:gdLst/>
                  <a:ahLst/>
                  <a:rect l="l" t="t" r="r" b="b"/>
                  <a:pathLst>
                    <a:path w="162" h="247">
                      <a:moveTo>
                        <a:pt x="0" y="246"/>
                      </a:moveTo>
                      <a:cubicBezTo>
                        <a:pt x="0" y="164"/>
                        <a:pt x="0" y="83"/>
                        <a:pt x="0" y="0"/>
                      </a:cubicBezTo>
                      <a:cubicBezTo>
                        <a:pt x="53" y="0"/>
                        <a:pt x="107" y="0"/>
                        <a:pt x="161" y="0"/>
                      </a:cubicBezTo>
                      <a:cubicBezTo>
                        <a:pt x="161" y="82"/>
                        <a:pt x="161" y="164"/>
                        <a:pt x="161" y="246"/>
                      </a:cubicBezTo>
                      <a:cubicBezTo>
                        <a:pt x="107" y="246"/>
                        <a:pt x="53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073720" y="1653840"/>
                  <a:ext cx="33840" cy="52920"/>
                </a:xfrm>
                <a:custGeom>
                  <a:avLst/>
                  <a:gdLst/>
                  <a:ahLst/>
                  <a:rect l="l" t="t" r="r" b="b"/>
                  <a:pathLst>
                    <a:path w="97" h="151">
                      <a:moveTo>
                        <a:pt x="59" y="61"/>
                      </a:moveTo>
                      <a:cubicBezTo>
                        <a:pt x="71" y="62"/>
                        <a:pt x="80" y="67"/>
                        <a:pt x="86" y="73"/>
                      </a:cubicBezTo>
                      <a:cubicBezTo>
                        <a:pt x="92" y="79"/>
                        <a:pt x="96" y="90"/>
                        <a:pt x="96" y="100"/>
                      </a:cubicBezTo>
                      <a:cubicBezTo>
                        <a:pt x="96" y="116"/>
                        <a:pt x="90" y="128"/>
                        <a:pt x="79" y="137"/>
                      </a:cubicBezTo>
                      <a:cubicBezTo>
                        <a:pt x="68" y="146"/>
                        <a:pt x="54" y="150"/>
                        <a:pt x="36" y="150"/>
                      </a:cubicBezTo>
                      <a:cubicBezTo>
                        <a:pt x="23" y="150"/>
                        <a:pt x="11" y="147"/>
                        <a:pt x="0" y="141"/>
                      </a:cubicBezTo>
                      <a:cubicBezTo>
                        <a:pt x="1" y="139"/>
                        <a:pt x="3" y="137"/>
                        <a:pt x="4" y="135"/>
                      </a:cubicBezTo>
                      <a:cubicBezTo>
                        <a:pt x="14" y="139"/>
                        <a:pt x="24" y="142"/>
                        <a:pt x="35" y="142"/>
                      </a:cubicBezTo>
                      <a:cubicBezTo>
                        <a:pt x="46" y="142"/>
                        <a:pt x="57" y="138"/>
                        <a:pt x="64" y="131"/>
                      </a:cubicBezTo>
                      <a:cubicBezTo>
                        <a:pt x="71" y="124"/>
                        <a:pt x="75" y="115"/>
                        <a:pt x="75" y="103"/>
                      </a:cubicBezTo>
                      <a:cubicBezTo>
                        <a:pt x="75" y="91"/>
                        <a:pt x="72" y="85"/>
                        <a:pt x="67" y="80"/>
                      </a:cubicBezTo>
                      <a:cubicBezTo>
                        <a:pt x="62" y="75"/>
                        <a:pt x="55" y="71"/>
                        <a:pt x="46" y="71"/>
                      </a:cubicBezTo>
                      <a:cubicBezTo>
                        <a:pt x="43" y="71"/>
                        <a:pt x="38" y="72"/>
                        <a:pt x="33" y="73"/>
                      </a:cubicBezTo>
                      <a:cubicBezTo>
                        <a:pt x="33" y="71"/>
                        <a:pt x="33" y="68"/>
                        <a:pt x="33" y="66"/>
                      </a:cubicBezTo>
                      <a:cubicBezTo>
                        <a:pt x="43" y="63"/>
                        <a:pt x="51" y="59"/>
                        <a:pt x="57" y="53"/>
                      </a:cubicBezTo>
                      <a:cubicBezTo>
                        <a:pt x="63" y="47"/>
                        <a:pt x="66" y="40"/>
                        <a:pt x="66" y="34"/>
                      </a:cubicBezTo>
                      <a:cubicBezTo>
                        <a:pt x="66" y="28"/>
                        <a:pt x="64" y="24"/>
                        <a:pt x="60" y="20"/>
                      </a:cubicBezTo>
                      <a:cubicBezTo>
                        <a:pt x="56" y="16"/>
                        <a:pt x="52" y="14"/>
                        <a:pt x="46" y="14"/>
                      </a:cubicBezTo>
                      <a:cubicBezTo>
                        <a:pt x="33" y="14"/>
                        <a:pt x="22" y="21"/>
                        <a:pt x="12" y="32"/>
                      </a:cubicBezTo>
                      <a:cubicBezTo>
                        <a:pt x="11" y="32"/>
                        <a:pt x="9" y="31"/>
                        <a:pt x="7" y="30"/>
                      </a:cubicBezTo>
                      <a:cubicBezTo>
                        <a:pt x="13" y="20"/>
                        <a:pt x="19" y="12"/>
                        <a:pt x="27" y="7"/>
                      </a:cubicBezTo>
                      <a:cubicBezTo>
                        <a:pt x="35" y="2"/>
                        <a:pt x="43" y="0"/>
                        <a:pt x="53" y="0"/>
                      </a:cubicBezTo>
                      <a:cubicBezTo>
                        <a:pt x="63" y="0"/>
                        <a:pt x="70" y="3"/>
                        <a:pt x="76" y="9"/>
                      </a:cubicBezTo>
                      <a:cubicBezTo>
                        <a:pt x="82" y="15"/>
                        <a:pt x="86" y="21"/>
                        <a:pt x="86" y="29"/>
                      </a:cubicBezTo>
                      <a:cubicBezTo>
                        <a:pt x="86" y="37"/>
                        <a:pt x="84" y="42"/>
                        <a:pt x="79" y="48"/>
                      </a:cubicBezTo>
                      <a:cubicBezTo>
                        <a:pt x="74" y="54"/>
                        <a:pt x="68" y="58"/>
                        <a:pt x="59" y="61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8007480" y="1419120"/>
                <a:ext cx="56880" cy="87480"/>
                <a:chOff x="8007480" y="1419120"/>
                <a:chExt cx="56880" cy="87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8007480" y="1419120"/>
                  <a:ext cx="56880" cy="87480"/>
                </a:xfrm>
                <a:custGeom>
                  <a:avLst/>
                  <a:gdLst/>
                  <a:ahLst/>
                  <a:rect l="l" t="t" r="r" b="b"/>
                  <a:pathLst>
                    <a:path w="162" h="246">
                      <a:moveTo>
                        <a:pt x="0" y="245"/>
                      </a:moveTo>
                      <a:cubicBezTo>
                        <a:pt x="0" y="163"/>
                        <a:pt x="0" y="82"/>
                        <a:pt x="0" y="0"/>
                      </a:cubicBezTo>
                      <a:cubicBezTo>
                        <a:pt x="54" y="0"/>
                        <a:pt x="108" y="0"/>
                        <a:pt x="161" y="0"/>
                      </a:cubicBezTo>
                      <a:cubicBezTo>
                        <a:pt x="161" y="81"/>
                        <a:pt x="161" y="163"/>
                        <a:pt x="161" y="245"/>
                      </a:cubicBezTo>
                      <a:cubicBezTo>
                        <a:pt x="108" y="245"/>
                        <a:pt x="54" y="245"/>
                        <a:pt x="0" y="245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8008920" y="1434600"/>
                  <a:ext cx="31680" cy="52920"/>
                </a:xfrm>
                <a:custGeom>
                  <a:avLst/>
                  <a:gdLst/>
                  <a:ahLst/>
                  <a:rect l="l" t="t" r="r" b="b"/>
                  <a:pathLst>
                    <a:path w="91" h="148">
                      <a:moveTo>
                        <a:pt x="90" y="147"/>
                      </a:moveTo>
                      <a:cubicBezTo>
                        <a:pt x="60" y="147"/>
                        <a:pt x="30" y="147"/>
                        <a:pt x="0" y="147"/>
                      </a:cubicBezTo>
                      <a:cubicBezTo>
                        <a:pt x="0" y="144"/>
                        <a:pt x="0" y="142"/>
                        <a:pt x="0" y="139"/>
                      </a:cubicBezTo>
                      <a:cubicBezTo>
                        <a:pt x="32" y="109"/>
                        <a:pt x="51" y="87"/>
                        <a:pt x="59" y="76"/>
                      </a:cubicBezTo>
                      <a:cubicBezTo>
                        <a:pt x="67" y="65"/>
                        <a:pt x="69" y="54"/>
                        <a:pt x="69" y="45"/>
                      </a:cubicBezTo>
                      <a:cubicBezTo>
                        <a:pt x="69" y="36"/>
                        <a:pt x="66" y="29"/>
                        <a:pt x="62" y="24"/>
                      </a:cubicBezTo>
                      <a:cubicBezTo>
                        <a:pt x="58" y="19"/>
                        <a:pt x="50" y="15"/>
                        <a:pt x="42" y="15"/>
                      </a:cubicBezTo>
                      <a:cubicBezTo>
                        <a:pt x="27" y="15"/>
                        <a:pt x="15" y="23"/>
                        <a:pt x="6" y="39"/>
                      </a:cubicBezTo>
                      <a:cubicBezTo>
                        <a:pt x="5" y="39"/>
                        <a:pt x="3" y="38"/>
                        <a:pt x="2" y="37"/>
                      </a:cubicBezTo>
                      <a:cubicBezTo>
                        <a:pt x="6" y="25"/>
                        <a:pt x="12" y="15"/>
                        <a:pt x="19" y="9"/>
                      </a:cubicBezTo>
                      <a:cubicBezTo>
                        <a:pt x="26" y="3"/>
                        <a:pt x="35" y="0"/>
                        <a:pt x="46" y="0"/>
                      </a:cubicBezTo>
                      <a:cubicBezTo>
                        <a:pt x="57" y="0"/>
                        <a:pt x="70" y="4"/>
                        <a:pt x="78" y="12"/>
                      </a:cubicBezTo>
                      <a:cubicBezTo>
                        <a:pt x="86" y="20"/>
                        <a:pt x="90" y="30"/>
                        <a:pt x="90" y="43"/>
                      </a:cubicBezTo>
                      <a:cubicBezTo>
                        <a:pt x="90" y="56"/>
                        <a:pt x="87" y="60"/>
                        <a:pt x="82" y="70"/>
                      </a:cubicBezTo>
                      <a:cubicBezTo>
                        <a:pt x="77" y="80"/>
                        <a:pt x="66" y="89"/>
                        <a:pt x="52" y="101"/>
                      </a:cubicBezTo>
                      <a:cubicBezTo>
                        <a:pt x="38" y="113"/>
                        <a:pt x="26" y="124"/>
                        <a:pt x="19" y="131"/>
                      </a:cubicBezTo>
                      <a:cubicBezTo>
                        <a:pt x="35" y="131"/>
                        <a:pt x="51" y="131"/>
                        <a:pt x="67" y="131"/>
                      </a:cubicBezTo>
                      <a:cubicBezTo>
                        <a:pt x="74" y="131"/>
                        <a:pt x="78" y="130"/>
                        <a:pt x="81" y="127"/>
                      </a:cubicBezTo>
                      <a:cubicBezTo>
                        <a:pt x="84" y="124"/>
                        <a:pt x="85" y="119"/>
                        <a:pt x="85" y="111"/>
                      </a:cubicBezTo>
                      <a:cubicBezTo>
                        <a:pt x="87" y="111"/>
                        <a:pt x="88" y="111"/>
                        <a:pt x="90" y="111"/>
                      </a:cubicBezTo>
                      <a:cubicBezTo>
                        <a:pt x="90" y="123"/>
                        <a:pt x="90" y="135"/>
                        <a:pt x="90" y="147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7855560" y="1262160"/>
                <a:ext cx="56880" cy="87120"/>
                <a:chOff x="7855560" y="1262160"/>
                <a:chExt cx="56880" cy="871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7855560" y="1262160"/>
                  <a:ext cx="56880" cy="87120"/>
                </a:xfrm>
                <a:custGeom>
                  <a:avLst/>
                  <a:gdLst/>
                  <a:ahLst/>
                  <a:rect l="l" t="t" r="r" b="b"/>
                  <a:pathLst>
                    <a:path w="162" h="247">
                      <a:moveTo>
                        <a:pt x="0" y="246"/>
                      </a:moveTo>
                      <a:cubicBezTo>
                        <a:pt x="0" y="164"/>
                        <a:pt x="0" y="82"/>
                        <a:pt x="0" y="0"/>
                      </a:cubicBezTo>
                      <a:cubicBezTo>
                        <a:pt x="53" y="0"/>
                        <a:pt x="107" y="0"/>
                        <a:pt x="161" y="0"/>
                      </a:cubicBezTo>
                      <a:cubicBezTo>
                        <a:pt x="161" y="82"/>
                        <a:pt x="161" y="164"/>
                        <a:pt x="161" y="246"/>
                      </a:cubicBezTo>
                      <a:cubicBezTo>
                        <a:pt x="107" y="246"/>
                        <a:pt x="53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863120" y="1277640"/>
                  <a:ext cx="24480" cy="52560"/>
                </a:xfrm>
                <a:custGeom>
                  <a:avLst/>
                  <a:gdLst/>
                  <a:ahLst/>
                  <a:rect l="l" t="t" r="r" b="b"/>
                  <a:pathLst>
                    <a:path w="70" h="148">
                      <a:moveTo>
                        <a:pt x="69" y="147"/>
                      </a:moveTo>
                      <a:cubicBezTo>
                        <a:pt x="46" y="147"/>
                        <a:pt x="24" y="147"/>
                        <a:pt x="1" y="147"/>
                      </a:cubicBezTo>
                      <a:cubicBezTo>
                        <a:pt x="1" y="145"/>
                        <a:pt x="1" y="144"/>
                        <a:pt x="1" y="142"/>
                      </a:cubicBezTo>
                      <a:cubicBezTo>
                        <a:pt x="10" y="142"/>
                        <a:pt x="15" y="141"/>
                        <a:pt x="19" y="140"/>
                      </a:cubicBezTo>
                      <a:cubicBezTo>
                        <a:pt x="23" y="139"/>
                        <a:pt x="25" y="138"/>
                        <a:pt x="26" y="136"/>
                      </a:cubicBezTo>
                      <a:cubicBezTo>
                        <a:pt x="27" y="134"/>
                        <a:pt x="27" y="130"/>
                        <a:pt x="27" y="125"/>
                      </a:cubicBezTo>
                      <a:cubicBezTo>
                        <a:pt x="27" y="93"/>
                        <a:pt x="27" y="60"/>
                        <a:pt x="27" y="27"/>
                      </a:cubicBezTo>
                      <a:cubicBezTo>
                        <a:pt x="27" y="23"/>
                        <a:pt x="27" y="21"/>
                        <a:pt x="25" y="19"/>
                      </a:cubicBezTo>
                      <a:cubicBezTo>
                        <a:pt x="23" y="17"/>
                        <a:pt x="20" y="17"/>
                        <a:pt x="15" y="17"/>
                      </a:cubicBezTo>
                      <a:cubicBezTo>
                        <a:pt x="10" y="17"/>
                        <a:pt x="6" y="17"/>
                        <a:pt x="0" y="17"/>
                      </a:cubicBezTo>
                      <a:cubicBezTo>
                        <a:pt x="0" y="15"/>
                        <a:pt x="0" y="14"/>
                        <a:pt x="0" y="12"/>
                      </a:cubicBezTo>
                      <a:cubicBezTo>
                        <a:pt x="8" y="12"/>
                        <a:pt x="15" y="11"/>
                        <a:pt x="21" y="9"/>
                      </a:cubicBezTo>
                      <a:cubicBezTo>
                        <a:pt x="27" y="7"/>
                        <a:pt x="34" y="4"/>
                        <a:pt x="41" y="0"/>
                      </a:cubicBezTo>
                      <a:cubicBezTo>
                        <a:pt x="42" y="0"/>
                        <a:pt x="43" y="0"/>
                        <a:pt x="45" y="0"/>
                      </a:cubicBezTo>
                      <a:cubicBezTo>
                        <a:pt x="45" y="41"/>
                        <a:pt x="45" y="83"/>
                        <a:pt x="45" y="125"/>
                      </a:cubicBezTo>
                      <a:cubicBezTo>
                        <a:pt x="45" y="130"/>
                        <a:pt x="46" y="134"/>
                        <a:pt x="47" y="136"/>
                      </a:cubicBezTo>
                      <a:cubicBezTo>
                        <a:pt x="48" y="138"/>
                        <a:pt x="50" y="139"/>
                        <a:pt x="53" y="140"/>
                      </a:cubicBezTo>
                      <a:cubicBezTo>
                        <a:pt x="56" y="141"/>
                        <a:pt x="61" y="142"/>
                        <a:pt x="69" y="142"/>
                      </a:cubicBezTo>
                      <a:cubicBezTo>
                        <a:pt x="69" y="143"/>
                        <a:pt x="69" y="145"/>
                        <a:pt x="69" y="147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4" name=""/>
            <p:cNvSpPr/>
            <p:nvPr/>
          </p:nvSpPr>
          <p:spPr>
            <a:xfrm>
              <a:off x="7658280" y="1305000"/>
              <a:ext cx="385560" cy="382680"/>
            </a:xfrm>
            <a:custGeom>
              <a:avLst/>
              <a:gdLst/>
              <a:ahLst/>
              <a:rect l="l" t="t" r="r" b="b"/>
              <a:pathLst>
                <a:path w="1073" h="1061">
                  <a:moveTo>
                    <a:pt x="0" y="1060"/>
                  </a:moveTo>
                  <a:lnTo>
                    <a:pt x="1072" y="1060"/>
                  </a:lnTo>
                  <a:lnTo>
                    <a:pt x="1071" y="1005"/>
                  </a:lnTo>
                  <a:lnTo>
                    <a:pt x="1066" y="950"/>
                  </a:lnTo>
                  <a:lnTo>
                    <a:pt x="1059" y="895"/>
                  </a:lnTo>
                  <a:lnTo>
                    <a:pt x="1049" y="841"/>
                  </a:lnTo>
                  <a:lnTo>
                    <a:pt x="1036" y="787"/>
                  </a:lnTo>
                  <a:lnTo>
                    <a:pt x="1020" y="734"/>
                  </a:lnTo>
                  <a:lnTo>
                    <a:pt x="1002" y="682"/>
                  </a:lnTo>
                  <a:lnTo>
                    <a:pt x="980" y="631"/>
                  </a:lnTo>
                  <a:lnTo>
                    <a:pt x="957" y="582"/>
                  </a:lnTo>
                  <a:lnTo>
                    <a:pt x="930" y="533"/>
                  </a:lnTo>
                  <a:lnTo>
                    <a:pt x="901" y="486"/>
                  </a:lnTo>
                  <a:lnTo>
                    <a:pt x="870" y="440"/>
                  </a:lnTo>
                  <a:lnTo>
                    <a:pt x="836" y="396"/>
                  </a:lnTo>
                  <a:lnTo>
                    <a:pt x="800" y="354"/>
                  </a:lnTo>
                  <a:lnTo>
                    <a:pt x="762" y="314"/>
                  </a:lnTo>
                  <a:lnTo>
                    <a:pt x="722" y="276"/>
                  </a:lnTo>
                  <a:lnTo>
                    <a:pt x="679" y="240"/>
                  </a:lnTo>
                  <a:lnTo>
                    <a:pt x="635" y="206"/>
                  </a:lnTo>
                  <a:lnTo>
                    <a:pt x="590" y="175"/>
                  </a:lnTo>
                  <a:lnTo>
                    <a:pt x="542" y="146"/>
                  </a:lnTo>
                  <a:lnTo>
                    <a:pt x="493" y="119"/>
                  </a:lnTo>
                  <a:lnTo>
                    <a:pt x="443" y="95"/>
                  </a:lnTo>
                  <a:lnTo>
                    <a:pt x="392" y="73"/>
                  </a:lnTo>
                  <a:lnTo>
                    <a:pt x="339" y="55"/>
                  </a:lnTo>
                  <a:lnTo>
                    <a:pt x="286" y="38"/>
                  </a:lnTo>
                  <a:lnTo>
                    <a:pt x="232" y="25"/>
                  </a:lnTo>
                  <a:lnTo>
                    <a:pt x="177" y="15"/>
                  </a:lnTo>
                  <a:lnTo>
                    <a:pt x="122" y="7"/>
                  </a:lnTo>
                  <a:lnTo>
                    <a:pt x="66" y="2"/>
                  </a:lnTo>
                  <a:lnTo>
                    <a:pt x="11" y="0"/>
                  </a:lnTo>
                  <a:lnTo>
                    <a:pt x="0" y="1060"/>
                  </a:lnTo>
                </a:path>
              </a:pathLst>
            </a:custGeom>
            <a:solidFill>
              <a:srgbClr val="affd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72360" y="1305000"/>
              <a:ext cx="390600" cy="382680"/>
            </a:xfrm>
            <a:custGeom>
              <a:avLst/>
              <a:gdLst/>
              <a:ahLst/>
              <a:rect l="l" t="t" r="r" b="b"/>
              <a:pathLst>
                <a:path w="1084" h="1061">
                  <a:moveTo>
                    <a:pt x="1072" y="1060"/>
                  </a:moveTo>
                  <a:lnTo>
                    <a:pt x="1083" y="0"/>
                  </a:lnTo>
                  <a:lnTo>
                    <a:pt x="1028" y="1"/>
                  </a:lnTo>
                  <a:lnTo>
                    <a:pt x="974" y="4"/>
                  </a:lnTo>
                  <a:lnTo>
                    <a:pt x="919" y="11"/>
                  </a:lnTo>
                  <a:lnTo>
                    <a:pt x="865" y="20"/>
                  </a:lnTo>
                  <a:lnTo>
                    <a:pt x="812" y="32"/>
                  </a:lnTo>
                  <a:lnTo>
                    <a:pt x="759" y="46"/>
                  </a:lnTo>
                  <a:lnTo>
                    <a:pt x="707" y="63"/>
                  </a:lnTo>
                  <a:lnTo>
                    <a:pt x="657" y="83"/>
                  </a:lnTo>
                  <a:lnTo>
                    <a:pt x="607" y="105"/>
                  </a:lnTo>
                  <a:lnTo>
                    <a:pt x="558" y="130"/>
                  </a:lnTo>
                  <a:lnTo>
                    <a:pt x="511" y="157"/>
                  </a:lnTo>
                  <a:lnTo>
                    <a:pt x="465" y="186"/>
                  </a:lnTo>
                  <a:lnTo>
                    <a:pt x="421" y="218"/>
                  </a:lnTo>
                  <a:lnTo>
                    <a:pt x="378" y="252"/>
                  </a:lnTo>
                  <a:lnTo>
                    <a:pt x="337" y="288"/>
                  </a:lnTo>
                  <a:lnTo>
                    <a:pt x="299" y="326"/>
                  </a:lnTo>
                  <a:lnTo>
                    <a:pt x="262" y="366"/>
                  </a:lnTo>
                  <a:lnTo>
                    <a:pt x="227" y="408"/>
                  </a:lnTo>
                  <a:lnTo>
                    <a:pt x="195" y="451"/>
                  </a:lnTo>
                  <a:lnTo>
                    <a:pt x="164" y="496"/>
                  </a:lnTo>
                  <a:lnTo>
                    <a:pt x="136" y="543"/>
                  </a:lnTo>
                  <a:lnTo>
                    <a:pt x="111" y="590"/>
                  </a:lnTo>
                  <a:lnTo>
                    <a:pt x="88" y="639"/>
                  </a:lnTo>
                  <a:lnTo>
                    <a:pt x="68" y="690"/>
                  </a:lnTo>
                  <a:lnTo>
                    <a:pt x="50" y="741"/>
                  </a:lnTo>
                  <a:lnTo>
                    <a:pt x="35" y="793"/>
                  </a:lnTo>
                  <a:lnTo>
                    <a:pt x="22" y="845"/>
                  </a:lnTo>
                  <a:lnTo>
                    <a:pt x="13" y="898"/>
                  </a:lnTo>
                  <a:lnTo>
                    <a:pt x="6" y="952"/>
                  </a:lnTo>
                  <a:lnTo>
                    <a:pt x="1" y="1006"/>
                  </a:lnTo>
                  <a:lnTo>
                    <a:pt x="0" y="1060"/>
                  </a:lnTo>
                  <a:lnTo>
                    <a:pt x="1072" y="1060"/>
                  </a:ln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72360" y="1305000"/>
              <a:ext cx="390600" cy="382680"/>
            </a:xfrm>
            <a:custGeom>
              <a:avLst/>
              <a:gdLst/>
              <a:ahLst/>
              <a:rect l="l" t="t" r="r" b="b"/>
              <a:pathLst>
                <a:path w="1084" h="1061">
                  <a:moveTo>
                    <a:pt x="1072" y="1060"/>
                  </a:moveTo>
                  <a:lnTo>
                    <a:pt x="1083" y="0"/>
                  </a:lnTo>
                  <a:lnTo>
                    <a:pt x="1028" y="1"/>
                  </a:lnTo>
                  <a:lnTo>
                    <a:pt x="974" y="4"/>
                  </a:lnTo>
                  <a:lnTo>
                    <a:pt x="919" y="11"/>
                  </a:lnTo>
                  <a:lnTo>
                    <a:pt x="865" y="20"/>
                  </a:lnTo>
                  <a:lnTo>
                    <a:pt x="812" y="32"/>
                  </a:lnTo>
                  <a:lnTo>
                    <a:pt x="759" y="46"/>
                  </a:lnTo>
                  <a:lnTo>
                    <a:pt x="707" y="63"/>
                  </a:lnTo>
                  <a:lnTo>
                    <a:pt x="657" y="83"/>
                  </a:lnTo>
                  <a:lnTo>
                    <a:pt x="607" y="105"/>
                  </a:lnTo>
                  <a:lnTo>
                    <a:pt x="558" y="130"/>
                  </a:lnTo>
                  <a:lnTo>
                    <a:pt x="511" y="157"/>
                  </a:lnTo>
                  <a:lnTo>
                    <a:pt x="465" y="186"/>
                  </a:lnTo>
                  <a:lnTo>
                    <a:pt x="421" y="218"/>
                  </a:lnTo>
                  <a:lnTo>
                    <a:pt x="378" y="252"/>
                  </a:lnTo>
                  <a:lnTo>
                    <a:pt x="337" y="288"/>
                  </a:lnTo>
                  <a:lnTo>
                    <a:pt x="299" y="326"/>
                  </a:lnTo>
                  <a:lnTo>
                    <a:pt x="262" y="366"/>
                  </a:lnTo>
                  <a:lnTo>
                    <a:pt x="227" y="408"/>
                  </a:lnTo>
                  <a:lnTo>
                    <a:pt x="195" y="451"/>
                  </a:lnTo>
                  <a:lnTo>
                    <a:pt x="164" y="496"/>
                  </a:lnTo>
                  <a:lnTo>
                    <a:pt x="136" y="543"/>
                  </a:lnTo>
                  <a:lnTo>
                    <a:pt x="111" y="590"/>
                  </a:lnTo>
                  <a:lnTo>
                    <a:pt x="88" y="639"/>
                  </a:lnTo>
                  <a:lnTo>
                    <a:pt x="68" y="690"/>
                  </a:lnTo>
                  <a:lnTo>
                    <a:pt x="50" y="741"/>
                  </a:lnTo>
                  <a:lnTo>
                    <a:pt x="35" y="793"/>
                  </a:lnTo>
                  <a:lnTo>
                    <a:pt x="22" y="845"/>
                  </a:lnTo>
                  <a:lnTo>
                    <a:pt x="13" y="898"/>
                  </a:lnTo>
                  <a:lnTo>
                    <a:pt x="6" y="952"/>
                  </a:lnTo>
                  <a:lnTo>
                    <a:pt x="1" y="1006"/>
                  </a:lnTo>
                  <a:lnTo>
                    <a:pt x="0" y="1060"/>
                  </a:lnTo>
                  <a:lnTo>
                    <a:pt x="1072" y="1060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55040" y="1679400"/>
              <a:ext cx="390240" cy="382680"/>
            </a:xfrm>
            <a:custGeom>
              <a:avLst/>
              <a:gdLst/>
              <a:ahLst/>
              <a:rect l="l" t="t" r="r" b="b"/>
              <a:pathLst>
                <a:path w="1084" h="1061">
                  <a:moveTo>
                    <a:pt x="11" y="0"/>
                  </a:moveTo>
                  <a:lnTo>
                    <a:pt x="0" y="1060"/>
                  </a:lnTo>
                  <a:lnTo>
                    <a:pt x="55" y="1059"/>
                  </a:lnTo>
                  <a:lnTo>
                    <a:pt x="109" y="1056"/>
                  </a:lnTo>
                  <a:lnTo>
                    <a:pt x="164" y="1049"/>
                  </a:lnTo>
                  <a:lnTo>
                    <a:pt x="218" y="1040"/>
                  </a:lnTo>
                  <a:lnTo>
                    <a:pt x="271" y="1028"/>
                  </a:lnTo>
                  <a:lnTo>
                    <a:pt x="324" y="1014"/>
                  </a:lnTo>
                  <a:lnTo>
                    <a:pt x="376" y="997"/>
                  </a:lnTo>
                  <a:lnTo>
                    <a:pt x="426" y="977"/>
                  </a:lnTo>
                  <a:lnTo>
                    <a:pt x="476" y="955"/>
                  </a:lnTo>
                  <a:lnTo>
                    <a:pt x="525" y="930"/>
                  </a:lnTo>
                  <a:lnTo>
                    <a:pt x="572" y="903"/>
                  </a:lnTo>
                  <a:lnTo>
                    <a:pt x="618" y="874"/>
                  </a:lnTo>
                  <a:lnTo>
                    <a:pt x="662" y="842"/>
                  </a:lnTo>
                  <a:lnTo>
                    <a:pt x="705" y="808"/>
                  </a:lnTo>
                  <a:lnTo>
                    <a:pt x="746" y="772"/>
                  </a:lnTo>
                  <a:lnTo>
                    <a:pt x="784" y="734"/>
                  </a:lnTo>
                  <a:lnTo>
                    <a:pt x="821" y="694"/>
                  </a:lnTo>
                  <a:lnTo>
                    <a:pt x="856" y="652"/>
                  </a:lnTo>
                  <a:lnTo>
                    <a:pt x="888" y="609"/>
                  </a:lnTo>
                  <a:lnTo>
                    <a:pt x="919" y="564"/>
                  </a:lnTo>
                  <a:lnTo>
                    <a:pt x="947" y="517"/>
                  </a:lnTo>
                  <a:lnTo>
                    <a:pt x="972" y="470"/>
                  </a:lnTo>
                  <a:lnTo>
                    <a:pt x="995" y="421"/>
                  </a:lnTo>
                  <a:lnTo>
                    <a:pt x="1015" y="370"/>
                  </a:lnTo>
                  <a:lnTo>
                    <a:pt x="1033" y="319"/>
                  </a:lnTo>
                  <a:lnTo>
                    <a:pt x="1048" y="267"/>
                  </a:lnTo>
                  <a:lnTo>
                    <a:pt x="1061" y="215"/>
                  </a:lnTo>
                  <a:lnTo>
                    <a:pt x="1070" y="162"/>
                  </a:lnTo>
                  <a:lnTo>
                    <a:pt x="1077" y="108"/>
                  </a:lnTo>
                  <a:lnTo>
                    <a:pt x="1082" y="54"/>
                  </a:lnTo>
                  <a:lnTo>
                    <a:pt x="1083" y="0"/>
                  </a:lnTo>
                  <a:lnTo>
                    <a:pt x="11" y="0"/>
                  </a:lnTo>
                </a:path>
              </a:pathLst>
            </a:custGeom>
            <a:solidFill>
              <a:srgbClr val="e2fd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73800" y="1679400"/>
              <a:ext cx="385920" cy="382680"/>
            </a:xfrm>
            <a:custGeom>
              <a:avLst/>
              <a:gdLst/>
              <a:ahLst/>
              <a:rect l="l" t="t" r="r" b="b"/>
              <a:pathLst>
                <a:path w="1073" h="1061">
                  <a:moveTo>
                    <a:pt x="1072" y="0"/>
                  </a:moveTo>
                  <a:lnTo>
                    <a:pt x="0" y="0"/>
                  </a:lnTo>
                  <a:lnTo>
                    <a:pt x="1" y="55"/>
                  </a:lnTo>
                  <a:lnTo>
                    <a:pt x="6" y="110"/>
                  </a:lnTo>
                  <a:lnTo>
                    <a:pt x="13" y="165"/>
                  </a:lnTo>
                  <a:lnTo>
                    <a:pt x="23" y="219"/>
                  </a:lnTo>
                  <a:lnTo>
                    <a:pt x="36" y="273"/>
                  </a:lnTo>
                  <a:lnTo>
                    <a:pt x="52" y="326"/>
                  </a:lnTo>
                  <a:lnTo>
                    <a:pt x="70" y="378"/>
                  </a:lnTo>
                  <a:lnTo>
                    <a:pt x="92" y="429"/>
                  </a:lnTo>
                  <a:lnTo>
                    <a:pt x="115" y="478"/>
                  </a:lnTo>
                  <a:lnTo>
                    <a:pt x="142" y="527"/>
                  </a:lnTo>
                  <a:lnTo>
                    <a:pt x="171" y="574"/>
                  </a:lnTo>
                  <a:lnTo>
                    <a:pt x="202" y="620"/>
                  </a:lnTo>
                  <a:lnTo>
                    <a:pt x="236" y="664"/>
                  </a:lnTo>
                  <a:lnTo>
                    <a:pt x="272" y="706"/>
                  </a:lnTo>
                  <a:lnTo>
                    <a:pt x="310" y="746"/>
                  </a:lnTo>
                  <a:lnTo>
                    <a:pt x="350" y="784"/>
                  </a:lnTo>
                  <a:lnTo>
                    <a:pt x="393" y="820"/>
                  </a:lnTo>
                  <a:lnTo>
                    <a:pt x="437" y="854"/>
                  </a:lnTo>
                  <a:lnTo>
                    <a:pt x="482" y="885"/>
                  </a:lnTo>
                  <a:lnTo>
                    <a:pt x="530" y="914"/>
                  </a:lnTo>
                  <a:lnTo>
                    <a:pt x="579" y="941"/>
                  </a:lnTo>
                  <a:lnTo>
                    <a:pt x="629" y="965"/>
                  </a:lnTo>
                  <a:lnTo>
                    <a:pt x="680" y="987"/>
                  </a:lnTo>
                  <a:lnTo>
                    <a:pt x="733" y="1005"/>
                  </a:lnTo>
                  <a:lnTo>
                    <a:pt x="786" y="1022"/>
                  </a:lnTo>
                  <a:lnTo>
                    <a:pt x="840" y="1035"/>
                  </a:lnTo>
                  <a:lnTo>
                    <a:pt x="895" y="1045"/>
                  </a:lnTo>
                  <a:lnTo>
                    <a:pt x="950" y="1053"/>
                  </a:lnTo>
                  <a:lnTo>
                    <a:pt x="1006" y="1058"/>
                  </a:lnTo>
                  <a:lnTo>
                    <a:pt x="1061" y="1060"/>
                  </a:lnTo>
                  <a:lnTo>
                    <a:pt x="1072" y="0"/>
                  </a:ln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73800" y="1679400"/>
              <a:ext cx="385920" cy="382680"/>
            </a:xfrm>
            <a:custGeom>
              <a:avLst/>
              <a:gdLst/>
              <a:ahLst/>
              <a:rect l="l" t="t" r="r" b="b"/>
              <a:pathLst>
                <a:path w="1073" h="1061">
                  <a:moveTo>
                    <a:pt x="1072" y="0"/>
                  </a:moveTo>
                  <a:lnTo>
                    <a:pt x="0" y="0"/>
                  </a:lnTo>
                  <a:lnTo>
                    <a:pt x="1" y="55"/>
                  </a:lnTo>
                  <a:lnTo>
                    <a:pt x="6" y="110"/>
                  </a:lnTo>
                  <a:lnTo>
                    <a:pt x="13" y="165"/>
                  </a:lnTo>
                  <a:lnTo>
                    <a:pt x="23" y="219"/>
                  </a:lnTo>
                  <a:lnTo>
                    <a:pt x="36" y="273"/>
                  </a:lnTo>
                  <a:lnTo>
                    <a:pt x="52" y="326"/>
                  </a:lnTo>
                  <a:lnTo>
                    <a:pt x="70" y="378"/>
                  </a:lnTo>
                  <a:lnTo>
                    <a:pt x="92" y="429"/>
                  </a:lnTo>
                  <a:lnTo>
                    <a:pt x="115" y="478"/>
                  </a:lnTo>
                  <a:lnTo>
                    <a:pt x="142" y="527"/>
                  </a:lnTo>
                  <a:lnTo>
                    <a:pt x="171" y="574"/>
                  </a:lnTo>
                  <a:lnTo>
                    <a:pt x="202" y="620"/>
                  </a:lnTo>
                  <a:lnTo>
                    <a:pt x="236" y="664"/>
                  </a:lnTo>
                  <a:lnTo>
                    <a:pt x="272" y="706"/>
                  </a:lnTo>
                  <a:lnTo>
                    <a:pt x="310" y="746"/>
                  </a:lnTo>
                  <a:lnTo>
                    <a:pt x="350" y="784"/>
                  </a:lnTo>
                  <a:lnTo>
                    <a:pt x="393" y="820"/>
                  </a:lnTo>
                  <a:lnTo>
                    <a:pt x="437" y="854"/>
                  </a:lnTo>
                  <a:lnTo>
                    <a:pt x="482" y="885"/>
                  </a:lnTo>
                  <a:lnTo>
                    <a:pt x="530" y="914"/>
                  </a:lnTo>
                  <a:lnTo>
                    <a:pt x="579" y="941"/>
                  </a:lnTo>
                  <a:lnTo>
                    <a:pt x="629" y="965"/>
                  </a:lnTo>
                  <a:lnTo>
                    <a:pt x="680" y="987"/>
                  </a:lnTo>
                  <a:lnTo>
                    <a:pt x="733" y="1005"/>
                  </a:lnTo>
                  <a:lnTo>
                    <a:pt x="786" y="1022"/>
                  </a:lnTo>
                  <a:lnTo>
                    <a:pt x="840" y="1035"/>
                  </a:lnTo>
                  <a:lnTo>
                    <a:pt x="895" y="1045"/>
                  </a:lnTo>
                  <a:lnTo>
                    <a:pt x="950" y="1053"/>
                  </a:lnTo>
                  <a:lnTo>
                    <a:pt x="1006" y="1058"/>
                  </a:lnTo>
                  <a:lnTo>
                    <a:pt x="1061" y="1060"/>
                  </a:lnTo>
                  <a:lnTo>
                    <a:pt x="1072" y="0"/>
                  </a:lnTo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659720" y="1282680"/>
              <a:ext cx="1440" cy="801720"/>
            </a:xfrm>
            <a:prstGeom prst="line">
              <a:avLst/>
            </a:prstGeom>
            <a:ln w="9360">
              <a:solidFill>
                <a:srgbClr val="23f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59720" y="1282680"/>
              <a:ext cx="1440" cy="801720"/>
            </a:xfrm>
            <a:prstGeom prst="line">
              <a:avLst/>
            </a:prstGeom>
            <a:ln w="9360">
              <a:solidFill>
                <a:srgbClr val="23f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53280" y="1682640"/>
              <a:ext cx="811080" cy="1800"/>
            </a:xfrm>
            <a:prstGeom prst="line">
              <a:avLst/>
            </a:prstGeom>
            <a:ln w="9360">
              <a:solidFill>
                <a:srgbClr val="23f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45320" y="1322280"/>
              <a:ext cx="227160" cy="365400"/>
            </a:xfrm>
            <a:custGeom>
              <a:avLst/>
              <a:gdLst/>
              <a:ahLst/>
              <a:rect l="l" t="t" r="r" b="b"/>
              <a:pathLst>
                <a:path w="631" h="1015">
                  <a:moveTo>
                    <a:pt x="96" y="1014"/>
                  </a:moveTo>
                  <a:cubicBezTo>
                    <a:pt x="64" y="995"/>
                    <a:pt x="32" y="977"/>
                    <a:pt x="0" y="958"/>
                  </a:cubicBezTo>
                  <a:cubicBezTo>
                    <a:pt x="148" y="700"/>
                    <a:pt x="297" y="443"/>
                    <a:pt x="445" y="185"/>
                  </a:cubicBezTo>
                  <a:cubicBezTo>
                    <a:pt x="478" y="204"/>
                    <a:pt x="600" y="0"/>
                    <a:pt x="615" y="10"/>
                  </a:cubicBezTo>
                  <a:cubicBezTo>
                    <a:pt x="630" y="20"/>
                    <a:pt x="509" y="222"/>
                    <a:pt x="541" y="241"/>
                  </a:cubicBezTo>
                  <a:cubicBezTo>
                    <a:pt x="392" y="499"/>
                    <a:pt x="244" y="756"/>
                    <a:pt x="96" y="1014"/>
                  </a:cubicBez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40640" y="1449360"/>
              <a:ext cx="166680" cy="243000"/>
            </a:xfrm>
            <a:custGeom>
              <a:avLst/>
              <a:gdLst/>
              <a:ahLst/>
              <a:rect l="l" t="t" r="r" b="b"/>
              <a:pathLst>
                <a:path w="463" h="674">
                  <a:moveTo>
                    <a:pt x="113" y="673"/>
                  </a:moveTo>
                  <a:cubicBezTo>
                    <a:pt x="77" y="650"/>
                    <a:pt x="38" y="625"/>
                    <a:pt x="0" y="603"/>
                  </a:cubicBezTo>
                  <a:cubicBezTo>
                    <a:pt x="103" y="438"/>
                    <a:pt x="205" y="276"/>
                    <a:pt x="308" y="111"/>
                  </a:cubicBezTo>
                  <a:cubicBezTo>
                    <a:pt x="344" y="134"/>
                    <a:pt x="422" y="0"/>
                    <a:pt x="442" y="15"/>
                  </a:cubicBezTo>
                  <a:cubicBezTo>
                    <a:pt x="462" y="30"/>
                    <a:pt x="382" y="156"/>
                    <a:pt x="419" y="182"/>
                  </a:cubicBezTo>
                  <a:cubicBezTo>
                    <a:pt x="317" y="347"/>
                    <a:pt x="215" y="507"/>
                    <a:pt x="113" y="673"/>
                  </a:cubicBezTo>
                </a:path>
              </a:pathLst>
            </a:custGeom>
            <a:solidFill>
              <a:srgbClr val="ff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613640" y="1636560"/>
              <a:ext cx="92160" cy="92160"/>
            </a:xfrm>
            <a:prstGeom prst="ellipse">
              <a:avLst/>
            </a:prstGeom>
            <a:solidFill>
              <a:srgbClr val="e6e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000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Памятники города Владимир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39280" y="2879280"/>
            <a:ext cx="6993000" cy="34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216000" indent="-216000" algn="ctr"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Золотые ворота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 algn="ctr"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Дмитриевский собор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 algn="ctr">
              <a:lnSpc>
                <a:spcPct val="95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Успенский собор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 algn="ctr">
              <a:lnSpc>
                <a:spcPct val="95000"/>
              </a:lnSpc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Краеведческий музей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6840360" y="4094280"/>
            <a:ext cx="3013200" cy="25668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0" y="1260360"/>
            <a:ext cx="4677840" cy="1798560"/>
            <a:chOff x="0" y="1260360"/>
            <a:chExt cx="4677840" cy="1798560"/>
          </a:xfrm>
        </p:grpSpPr>
        <p:sp>
          <p:nvSpPr>
            <p:cNvPr id="330" name=""/>
            <p:cNvSpPr/>
            <p:nvPr/>
          </p:nvSpPr>
          <p:spPr>
            <a:xfrm>
              <a:off x="0" y="1366560"/>
              <a:ext cx="4647960" cy="1384200"/>
            </a:xfrm>
            <a:custGeom>
              <a:avLst/>
              <a:gdLst/>
              <a:ahLst/>
              <a:rect l="l" t="t" r="r" b="b"/>
              <a:pathLst>
                <a:path w="12918" h="3849">
                  <a:moveTo>
                    <a:pt x="7802" y="3848"/>
                  </a:moveTo>
                  <a:lnTo>
                    <a:pt x="7782" y="3828"/>
                  </a:lnTo>
                  <a:lnTo>
                    <a:pt x="7751" y="3811"/>
                  </a:lnTo>
                  <a:lnTo>
                    <a:pt x="7706" y="3791"/>
                  </a:lnTo>
                  <a:lnTo>
                    <a:pt x="7653" y="3776"/>
                  </a:lnTo>
                  <a:lnTo>
                    <a:pt x="7589" y="3758"/>
                  </a:lnTo>
                  <a:lnTo>
                    <a:pt x="7517" y="3744"/>
                  </a:lnTo>
                  <a:lnTo>
                    <a:pt x="7436" y="3732"/>
                  </a:lnTo>
                  <a:lnTo>
                    <a:pt x="7347" y="3720"/>
                  </a:lnTo>
                  <a:lnTo>
                    <a:pt x="7250" y="3710"/>
                  </a:lnTo>
                  <a:lnTo>
                    <a:pt x="7149" y="3700"/>
                  </a:lnTo>
                  <a:lnTo>
                    <a:pt x="7040" y="3693"/>
                  </a:lnTo>
                  <a:lnTo>
                    <a:pt x="6931" y="3685"/>
                  </a:lnTo>
                  <a:lnTo>
                    <a:pt x="6814" y="3680"/>
                  </a:lnTo>
                  <a:lnTo>
                    <a:pt x="6697" y="3678"/>
                  </a:lnTo>
                  <a:lnTo>
                    <a:pt x="6579" y="3675"/>
                  </a:lnTo>
                  <a:lnTo>
                    <a:pt x="6459" y="3673"/>
                  </a:lnTo>
                  <a:lnTo>
                    <a:pt x="6338" y="3675"/>
                  </a:lnTo>
                  <a:lnTo>
                    <a:pt x="6220" y="3678"/>
                  </a:lnTo>
                  <a:lnTo>
                    <a:pt x="6103" y="3680"/>
                  </a:lnTo>
                  <a:lnTo>
                    <a:pt x="5986" y="3685"/>
                  </a:lnTo>
                  <a:lnTo>
                    <a:pt x="5877" y="3693"/>
                  </a:lnTo>
                  <a:lnTo>
                    <a:pt x="5768" y="3700"/>
                  </a:lnTo>
                  <a:lnTo>
                    <a:pt x="5667" y="3710"/>
                  </a:lnTo>
                  <a:lnTo>
                    <a:pt x="5570" y="3720"/>
                  </a:lnTo>
                  <a:lnTo>
                    <a:pt x="5481" y="3732"/>
                  </a:lnTo>
                  <a:lnTo>
                    <a:pt x="5400" y="3744"/>
                  </a:lnTo>
                  <a:lnTo>
                    <a:pt x="5328" y="3758"/>
                  </a:lnTo>
                  <a:lnTo>
                    <a:pt x="5263" y="3776"/>
                  </a:lnTo>
                  <a:lnTo>
                    <a:pt x="5211" y="3791"/>
                  </a:lnTo>
                  <a:lnTo>
                    <a:pt x="5166" y="3811"/>
                  </a:lnTo>
                  <a:lnTo>
                    <a:pt x="5135" y="3828"/>
                  </a:lnTo>
                  <a:lnTo>
                    <a:pt x="5114" y="3848"/>
                  </a:lnTo>
                  <a:lnTo>
                    <a:pt x="4408" y="3789"/>
                  </a:lnTo>
                  <a:lnTo>
                    <a:pt x="3730" y="3707"/>
                  </a:lnTo>
                  <a:lnTo>
                    <a:pt x="3084" y="3602"/>
                  </a:lnTo>
                  <a:lnTo>
                    <a:pt x="2482" y="3474"/>
                  </a:lnTo>
                  <a:lnTo>
                    <a:pt x="1933" y="3326"/>
                  </a:lnTo>
                  <a:lnTo>
                    <a:pt x="1441" y="3161"/>
                  </a:lnTo>
                  <a:lnTo>
                    <a:pt x="1013" y="2980"/>
                  </a:lnTo>
                  <a:lnTo>
                    <a:pt x="654" y="2785"/>
                  </a:lnTo>
                  <a:lnTo>
                    <a:pt x="371" y="2581"/>
                  </a:lnTo>
                  <a:lnTo>
                    <a:pt x="165" y="2365"/>
                  </a:lnTo>
                  <a:lnTo>
                    <a:pt x="40" y="2146"/>
                  </a:lnTo>
                  <a:lnTo>
                    <a:pt x="0" y="1922"/>
                  </a:lnTo>
                  <a:lnTo>
                    <a:pt x="40" y="1701"/>
                  </a:lnTo>
                  <a:lnTo>
                    <a:pt x="165" y="1482"/>
                  </a:lnTo>
                  <a:lnTo>
                    <a:pt x="371" y="1265"/>
                  </a:lnTo>
                  <a:lnTo>
                    <a:pt x="654" y="1061"/>
                  </a:lnTo>
                  <a:lnTo>
                    <a:pt x="1013" y="868"/>
                  </a:lnTo>
                  <a:lnTo>
                    <a:pt x="1441" y="685"/>
                  </a:lnTo>
                  <a:lnTo>
                    <a:pt x="1933" y="521"/>
                  </a:lnTo>
                  <a:lnTo>
                    <a:pt x="2482" y="373"/>
                  </a:lnTo>
                  <a:lnTo>
                    <a:pt x="3084" y="245"/>
                  </a:lnTo>
                  <a:lnTo>
                    <a:pt x="3730" y="140"/>
                  </a:lnTo>
                  <a:lnTo>
                    <a:pt x="4408" y="58"/>
                  </a:lnTo>
                  <a:lnTo>
                    <a:pt x="5114" y="0"/>
                  </a:lnTo>
                  <a:lnTo>
                    <a:pt x="5135" y="19"/>
                  </a:lnTo>
                  <a:lnTo>
                    <a:pt x="5166" y="36"/>
                  </a:lnTo>
                  <a:lnTo>
                    <a:pt x="5211" y="56"/>
                  </a:lnTo>
                  <a:lnTo>
                    <a:pt x="5263" y="71"/>
                  </a:lnTo>
                  <a:lnTo>
                    <a:pt x="5328" y="88"/>
                  </a:lnTo>
                  <a:lnTo>
                    <a:pt x="5400" y="103"/>
                  </a:lnTo>
                  <a:lnTo>
                    <a:pt x="5481" y="115"/>
                  </a:lnTo>
                  <a:lnTo>
                    <a:pt x="5570" y="128"/>
                  </a:lnTo>
                  <a:lnTo>
                    <a:pt x="5667" y="137"/>
                  </a:lnTo>
                  <a:lnTo>
                    <a:pt x="5768" y="147"/>
                  </a:lnTo>
                  <a:lnTo>
                    <a:pt x="5877" y="154"/>
                  </a:lnTo>
                  <a:lnTo>
                    <a:pt x="5986" y="162"/>
                  </a:lnTo>
                  <a:lnTo>
                    <a:pt x="6103" y="166"/>
                  </a:lnTo>
                  <a:lnTo>
                    <a:pt x="6220" y="169"/>
                  </a:lnTo>
                  <a:lnTo>
                    <a:pt x="6338" y="172"/>
                  </a:lnTo>
                  <a:lnTo>
                    <a:pt x="6459" y="172"/>
                  </a:lnTo>
                  <a:lnTo>
                    <a:pt x="6579" y="172"/>
                  </a:lnTo>
                  <a:lnTo>
                    <a:pt x="6697" y="169"/>
                  </a:lnTo>
                  <a:lnTo>
                    <a:pt x="6814" y="166"/>
                  </a:lnTo>
                  <a:lnTo>
                    <a:pt x="6931" y="162"/>
                  </a:lnTo>
                  <a:lnTo>
                    <a:pt x="7040" y="154"/>
                  </a:lnTo>
                  <a:lnTo>
                    <a:pt x="7149" y="147"/>
                  </a:lnTo>
                  <a:lnTo>
                    <a:pt x="7250" y="137"/>
                  </a:lnTo>
                  <a:lnTo>
                    <a:pt x="7347" y="128"/>
                  </a:lnTo>
                  <a:lnTo>
                    <a:pt x="7436" y="115"/>
                  </a:lnTo>
                  <a:lnTo>
                    <a:pt x="7517" y="103"/>
                  </a:lnTo>
                  <a:lnTo>
                    <a:pt x="7589" y="88"/>
                  </a:lnTo>
                  <a:lnTo>
                    <a:pt x="7653" y="71"/>
                  </a:lnTo>
                  <a:lnTo>
                    <a:pt x="7706" y="56"/>
                  </a:lnTo>
                  <a:lnTo>
                    <a:pt x="7751" y="36"/>
                  </a:lnTo>
                  <a:lnTo>
                    <a:pt x="7782" y="19"/>
                  </a:lnTo>
                  <a:lnTo>
                    <a:pt x="7802" y="0"/>
                  </a:lnTo>
                  <a:lnTo>
                    <a:pt x="8509" y="58"/>
                  </a:lnTo>
                  <a:lnTo>
                    <a:pt x="9187" y="140"/>
                  </a:lnTo>
                  <a:lnTo>
                    <a:pt x="9833" y="245"/>
                  </a:lnTo>
                  <a:lnTo>
                    <a:pt x="10435" y="373"/>
                  </a:lnTo>
                  <a:lnTo>
                    <a:pt x="10984" y="521"/>
                  </a:lnTo>
                  <a:lnTo>
                    <a:pt x="11477" y="685"/>
                  </a:lnTo>
                  <a:lnTo>
                    <a:pt x="11904" y="868"/>
                  </a:lnTo>
                  <a:lnTo>
                    <a:pt x="12264" y="1061"/>
                  </a:lnTo>
                  <a:lnTo>
                    <a:pt x="12546" y="1265"/>
                  </a:lnTo>
                  <a:lnTo>
                    <a:pt x="12751" y="1482"/>
                  </a:lnTo>
                  <a:lnTo>
                    <a:pt x="12877" y="1701"/>
                  </a:lnTo>
                  <a:lnTo>
                    <a:pt x="12917" y="1922"/>
                  </a:lnTo>
                  <a:lnTo>
                    <a:pt x="12877" y="2146"/>
                  </a:lnTo>
                  <a:lnTo>
                    <a:pt x="12751" y="2365"/>
                  </a:lnTo>
                  <a:lnTo>
                    <a:pt x="12546" y="2581"/>
                  </a:lnTo>
                  <a:lnTo>
                    <a:pt x="12264" y="2785"/>
                  </a:lnTo>
                  <a:lnTo>
                    <a:pt x="11904" y="2980"/>
                  </a:lnTo>
                  <a:lnTo>
                    <a:pt x="11477" y="3161"/>
                  </a:lnTo>
                  <a:lnTo>
                    <a:pt x="10984" y="3326"/>
                  </a:lnTo>
                  <a:lnTo>
                    <a:pt x="10435" y="3474"/>
                  </a:lnTo>
                  <a:lnTo>
                    <a:pt x="9833" y="3602"/>
                  </a:lnTo>
                  <a:lnTo>
                    <a:pt x="9187" y="3707"/>
                  </a:lnTo>
                  <a:lnTo>
                    <a:pt x="8509" y="3789"/>
                  </a:lnTo>
                  <a:lnTo>
                    <a:pt x="7802" y="3848"/>
                  </a:lnTo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1366560"/>
              <a:ext cx="4647960" cy="1384200"/>
            </a:xfrm>
            <a:custGeom>
              <a:avLst/>
              <a:gdLst/>
              <a:ahLst/>
              <a:rect l="l" t="t" r="r" b="b"/>
              <a:pathLst>
                <a:path w="12918" h="3849">
                  <a:moveTo>
                    <a:pt x="7802" y="3848"/>
                  </a:moveTo>
                  <a:lnTo>
                    <a:pt x="7782" y="3828"/>
                  </a:lnTo>
                  <a:lnTo>
                    <a:pt x="7751" y="3811"/>
                  </a:lnTo>
                  <a:lnTo>
                    <a:pt x="7706" y="3791"/>
                  </a:lnTo>
                  <a:lnTo>
                    <a:pt x="7653" y="3776"/>
                  </a:lnTo>
                  <a:lnTo>
                    <a:pt x="7589" y="3758"/>
                  </a:lnTo>
                  <a:lnTo>
                    <a:pt x="7517" y="3744"/>
                  </a:lnTo>
                  <a:lnTo>
                    <a:pt x="7436" y="3732"/>
                  </a:lnTo>
                  <a:lnTo>
                    <a:pt x="7347" y="3720"/>
                  </a:lnTo>
                  <a:lnTo>
                    <a:pt x="7250" y="3710"/>
                  </a:lnTo>
                  <a:lnTo>
                    <a:pt x="7149" y="3700"/>
                  </a:lnTo>
                  <a:lnTo>
                    <a:pt x="7040" y="3693"/>
                  </a:lnTo>
                  <a:lnTo>
                    <a:pt x="6931" y="3685"/>
                  </a:lnTo>
                  <a:lnTo>
                    <a:pt x="6814" y="3680"/>
                  </a:lnTo>
                  <a:lnTo>
                    <a:pt x="6697" y="3678"/>
                  </a:lnTo>
                  <a:lnTo>
                    <a:pt x="6579" y="3675"/>
                  </a:lnTo>
                  <a:lnTo>
                    <a:pt x="6459" y="3673"/>
                  </a:lnTo>
                  <a:lnTo>
                    <a:pt x="6338" y="3675"/>
                  </a:lnTo>
                  <a:lnTo>
                    <a:pt x="6220" y="3678"/>
                  </a:lnTo>
                  <a:lnTo>
                    <a:pt x="6103" y="3680"/>
                  </a:lnTo>
                  <a:lnTo>
                    <a:pt x="5986" y="3685"/>
                  </a:lnTo>
                  <a:lnTo>
                    <a:pt x="5877" y="3693"/>
                  </a:lnTo>
                  <a:lnTo>
                    <a:pt x="5768" y="3700"/>
                  </a:lnTo>
                  <a:lnTo>
                    <a:pt x="5667" y="3710"/>
                  </a:lnTo>
                  <a:lnTo>
                    <a:pt x="5570" y="3720"/>
                  </a:lnTo>
                  <a:lnTo>
                    <a:pt x="5481" y="3732"/>
                  </a:lnTo>
                  <a:lnTo>
                    <a:pt x="5400" y="3744"/>
                  </a:lnTo>
                  <a:lnTo>
                    <a:pt x="5328" y="3758"/>
                  </a:lnTo>
                  <a:lnTo>
                    <a:pt x="5263" y="3776"/>
                  </a:lnTo>
                  <a:lnTo>
                    <a:pt x="5211" y="3791"/>
                  </a:lnTo>
                  <a:lnTo>
                    <a:pt x="5166" y="3811"/>
                  </a:lnTo>
                  <a:lnTo>
                    <a:pt x="5135" y="3828"/>
                  </a:lnTo>
                  <a:lnTo>
                    <a:pt x="5114" y="3848"/>
                  </a:lnTo>
                  <a:lnTo>
                    <a:pt x="4408" y="3789"/>
                  </a:lnTo>
                  <a:lnTo>
                    <a:pt x="3730" y="3707"/>
                  </a:lnTo>
                  <a:lnTo>
                    <a:pt x="3084" y="3602"/>
                  </a:lnTo>
                  <a:lnTo>
                    <a:pt x="2482" y="3474"/>
                  </a:lnTo>
                  <a:lnTo>
                    <a:pt x="1933" y="3326"/>
                  </a:lnTo>
                  <a:lnTo>
                    <a:pt x="1441" y="3161"/>
                  </a:lnTo>
                  <a:lnTo>
                    <a:pt x="1013" y="2980"/>
                  </a:lnTo>
                  <a:lnTo>
                    <a:pt x="654" y="2785"/>
                  </a:lnTo>
                  <a:lnTo>
                    <a:pt x="371" y="2581"/>
                  </a:lnTo>
                  <a:lnTo>
                    <a:pt x="165" y="2365"/>
                  </a:lnTo>
                  <a:lnTo>
                    <a:pt x="40" y="2146"/>
                  </a:lnTo>
                  <a:lnTo>
                    <a:pt x="0" y="1922"/>
                  </a:lnTo>
                  <a:lnTo>
                    <a:pt x="40" y="1701"/>
                  </a:lnTo>
                  <a:lnTo>
                    <a:pt x="165" y="1482"/>
                  </a:lnTo>
                  <a:lnTo>
                    <a:pt x="371" y="1265"/>
                  </a:lnTo>
                  <a:lnTo>
                    <a:pt x="654" y="1061"/>
                  </a:lnTo>
                  <a:lnTo>
                    <a:pt x="1013" y="868"/>
                  </a:lnTo>
                  <a:lnTo>
                    <a:pt x="1441" y="685"/>
                  </a:lnTo>
                  <a:lnTo>
                    <a:pt x="1933" y="521"/>
                  </a:lnTo>
                  <a:lnTo>
                    <a:pt x="2482" y="373"/>
                  </a:lnTo>
                  <a:lnTo>
                    <a:pt x="3084" y="245"/>
                  </a:lnTo>
                  <a:lnTo>
                    <a:pt x="3730" y="140"/>
                  </a:lnTo>
                  <a:lnTo>
                    <a:pt x="4408" y="58"/>
                  </a:lnTo>
                  <a:lnTo>
                    <a:pt x="5114" y="0"/>
                  </a:lnTo>
                  <a:lnTo>
                    <a:pt x="5135" y="19"/>
                  </a:lnTo>
                  <a:lnTo>
                    <a:pt x="5166" y="36"/>
                  </a:lnTo>
                  <a:lnTo>
                    <a:pt x="5211" y="56"/>
                  </a:lnTo>
                  <a:lnTo>
                    <a:pt x="5263" y="71"/>
                  </a:lnTo>
                  <a:lnTo>
                    <a:pt x="5328" y="88"/>
                  </a:lnTo>
                  <a:lnTo>
                    <a:pt x="5400" y="103"/>
                  </a:lnTo>
                  <a:lnTo>
                    <a:pt x="5481" y="115"/>
                  </a:lnTo>
                  <a:lnTo>
                    <a:pt x="5570" y="128"/>
                  </a:lnTo>
                  <a:lnTo>
                    <a:pt x="5667" y="137"/>
                  </a:lnTo>
                  <a:lnTo>
                    <a:pt x="5768" y="147"/>
                  </a:lnTo>
                  <a:lnTo>
                    <a:pt x="5877" y="154"/>
                  </a:lnTo>
                  <a:lnTo>
                    <a:pt x="5986" y="162"/>
                  </a:lnTo>
                  <a:lnTo>
                    <a:pt x="6103" y="166"/>
                  </a:lnTo>
                  <a:lnTo>
                    <a:pt x="6220" y="169"/>
                  </a:lnTo>
                  <a:lnTo>
                    <a:pt x="6338" y="172"/>
                  </a:lnTo>
                  <a:lnTo>
                    <a:pt x="6459" y="172"/>
                  </a:lnTo>
                  <a:lnTo>
                    <a:pt x="6579" y="172"/>
                  </a:lnTo>
                  <a:lnTo>
                    <a:pt x="6697" y="169"/>
                  </a:lnTo>
                  <a:lnTo>
                    <a:pt x="6814" y="166"/>
                  </a:lnTo>
                  <a:lnTo>
                    <a:pt x="6931" y="162"/>
                  </a:lnTo>
                  <a:lnTo>
                    <a:pt x="7040" y="154"/>
                  </a:lnTo>
                  <a:lnTo>
                    <a:pt x="7149" y="147"/>
                  </a:lnTo>
                  <a:lnTo>
                    <a:pt x="7250" y="137"/>
                  </a:lnTo>
                  <a:lnTo>
                    <a:pt x="7347" y="128"/>
                  </a:lnTo>
                  <a:lnTo>
                    <a:pt x="7436" y="115"/>
                  </a:lnTo>
                  <a:lnTo>
                    <a:pt x="7517" y="103"/>
                  </a:lnTo>
                  <a:lnTo>
                    <a:pt x="7589" y="88"/>
                  </a:lnTo>
                  <a:lnTo>
                    <a:pt x="7653" y="71"/>
                  </a:lnTo>
                  <a:lnTo>
                    <a:pt x="7706" y="56"/>
                  </a:lnTo>
                  <a:lnTo>
                    <a:pt x="7751" y="36"/>
                  </a:lnTo>
                  <a:lnTo>
                    <a:pt x="7782" y="19"/>
                  </a:lnTo>
                  <a:lnTo>
                    <a:pt x="7802" y="0"/>
                  </a:lnTo>
                  <a:lnTo>
                    <a:pt x="8509" y="58"/>
                  </a:lnTo>
                  <a:lnTo>
                    <a:pt x="9187" y="140"/>
                  </a:lnTo>
                  <a:lnTo>
                    <a:pt x="9833" y="245"/>
                  </a:lnTo>
                  <a:lnTo>
                    <a:pt x="10435" y="373"/>
                  </a:lnTo>
                  <a:lnTo>
                    <a:pt x="10984" y="521"/>
                  </a:lnTo>
                  <a:lnTo>
                    <a:pt x="11477" y="685"/>
                  </a:lnTo>
                  <a:lnTo>
                    <a:pt x="11904" y="868"/>
                  </a:lnTo>
                  <a:lnTo>
                    <a:pt x="12264" y="1061"/>
                  </a:lnTo>
                  <a:lnTo>
                    <a:pt x="12546" y="1265"/>
                  </a:lnTo>
                  <a:lnTo>
                    <a:pt x="12751" y="1482"/>
                  </a:lnTo>
                  <a:lnTo>
                    <a:pt x="12877" y="1701"/>
                  </a:lnTo>
                  <a:lnTo>
                    <a:pt x="12917" y="1922"/>
                  </a:lnTo>
                  <a:lnTo>
                    <a:pt x="12877" y="2146"/>
                  </a:lnTo>
                  <a:lnTo>
                    <a:pt x="12751" y="2365"/>
                  </a:lnTo>
                  <a:lnTo>
                    <a:pt x="12546" y="2581"/>
                  </a:lnTo>
                  <a:lnTo>
                    <a:pt x="12264" y="2785"/>
                  </a:lnTo>
                  <a:lnTo>
                    <a:pt x="11904" y="2980"/>
                  </a:lnTo>
                  <a:lnTo>
                    <a:pt x="11477" y="3161"/>
                  </a:lnTo>
                  <a:lnTo>
                    <a:pt x="10984" y="3326"/>
                  </a:lnTo>
                  <a:lnTo>
                    <a:pt x="10435" y="3474"/>
                  </a:lnTo>
                  <a:lnTo>
                    <a:pt x="9833" y="3602"/>
                  </a:lnTo>
                  <a:lnTo>
                    <a:pt x="9187" y="3707"/>
                  </a:lnTo>
                  <a:lnTo>
                    <a:pt x="8509" y="3789"/>
                  </a:lnTo>
                  <a:lnTo>
                    <a:pt x="7802" y="38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06920" y="1366560"/>
              <a:ext cx="1840680" cy="1384200"/>
            </a:xfrm>
            <a:custGeom>
              <a:avLst/>
              <a:gdLst/>
              <a:ahLst/>
              <a:rect l="l" t="t" r="r" b="b"/>
              <a:pathLst>
                <a:path w="5116" h="3849">
                  <a:moveTo>
                    <a:pt x="0" y="3848"/>
                  </a:moveTo>
                  <a:lnTo>
                    <a:pt x="707" y="3789"/>
                  </a:lnTo>
                  <a:lnTo>
                    <a:pt x="1385" y="3707"/>
                  </a:lnTo>
                  <a:lnTo>
                    <a:pt x="2031" y="3602"/>
                  </a:lnTo>
                  <a:lnTo>
                    <a:pt x="2633" y="3474"/>
                  </a:lnTo>
                  <a:lnTo>
                    <a:pt x="3182" y="3326"/>
                  </a:lnTo>
                  <a:lnTo>
                    <a:pt x="3675" y="3161"/>
                  </a:lnTo>
                  <a:lnTo>
                    <a:pt x="4102" y="2980"/>
                  </a:lnTo>
                  <a:lnTo>
                    <a:pt x="4462" y="2785"/>
                  </a:lnTo>
                  <a:lnTo>
                    <a:pt x="4744" y="2581"/>
                  </a:lnTo>
                  <a:lnTo>
                    <a:pt x="4949" y="2365"/>
                  </a:lnTo>
                  <a:lnTo>
                    <a:pt x="5075" y="2146"/>
                  </a:lnTo>
                  <a:lnTo>
                    <a:pt x="5115" y="1922"/>
                  </a:lnTo>
                  <a:lnTo>
                    <a:pt x="5075" y="1701"/>
                  </a:lnTo>
                  <a:lnTo>
                    <a:pt x="4949" y="1482"/>
                  </a:lnTo>
                  <a:lnTo>
                    <a:pt x="4744" y="1265"/>
                  </a:lnTo>
                  <a:lnTo>
                    <a:pt x="4462" y="1061"/>
                  </a:lnTo>
                  <a:lnTo>
                    <a:pt x="4102" y="868"/>
                  </a:lnTo>
                  <a:lnTo>
                    <a:pt x="3675" y="685"/>
                  </a:lnTo>
                  <a:lnTo>
                    <a:pt x="3182" y="521"/>
                  </a:lnTo>
                  <a:lnTo>
                    <a:pt x="2633" y="373"/>
                  </a:lnTo>
                  <a:lnTo>
                    <a:pt x="2031" y="245"/>
                  </a:lnTo>
                  <a:lnTo>
                    <a:pt x="1385" y="140"/>
                  </a:lnTo>
                  <a:lnTo>
                    <a:pt x="707" y="58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3280" y="1391760"/>
              <a:ext cx="1396080" cy="1332360"/>
            </a:xfrm>
            <a:custGeom>
              <a:avLst/>
              <a:gdLst/>
              <a:ahLst/>
              <a:rect l="l" t="t" r="r" b="b"/>
              <a:pathLst>
                <a:path w="3881" h="3706">
                  <a:moveTo>
                    <a:pt x="0" y="3705"/>
                  </a:moveTo>
                  <a:lnTo>
                    <a:pt x="593" y="3614"/>
                  </a:lnTo>
                  <a:lnTo>
                    <a:pt x="1146" y="3506"/>
                  </a:lnTo>
                  <a:lnTo>
                    <a:pt x="1651" y="3383"/>
                  </a:lnTo>
                  <a:lnTo>
                    <a:pt x="2112" y="3248"/>
                  </a:lnTo>
                  <a:lnTo>
                    <a:pt x="2519" y="3098"/>
                  </a:lnTo>
                  <a:lnTo>
                    <a:pt x="2878" y="2938"/>
                  </a:lnTo>
                  <a:lnTo>
                    <a:pt x="3182" y="2771"/>
                  </a:lnTo>
                  <a:lnTo>
                    <a:pt x="3431" y="2596"/>
                  </a:lnTo>
                  <a:lnTo>
                    <a:pt x="3629" y="2415"/>
                  </a:lnTo>
                  <a:lnTo>
                    <a:pt x="3767" y="2230"/>
                  </a:lnTo>
                  <a:lnTo>
                    <a:pt x="3851" y="2043"/>
                  </a:lnTo>
                  <a:lnTo>
                    <a:pt x="3880" y="1851"/>
                  </a:lnTo>
                  <a:lnTo>
                    <a:pt x="3851" y="1662"/>
                  </a:lnTo>
                  <a:lnTo>
                    <a:pt x="3767" y="1475"/>
                  </a:lnTo>
                  <a:lnTo>
                    <a:pt x="3629" y="1291"/>
                  </a:lnTo>
                  <a:lnTo>
                    <a:pt x="3431" y="1109"/>
                  </a:lnTo>
                  <a:lnTo>
                    <a:pt x="3182" y="934"/>
                  </a:lnTo>
                  <a:lnTo>
                    <a:pt x="2878" y="764"/>
                  </a:lnTo>
                  <a:lnTo>
                    <a:pt x="2519" y="607"/>
                  </a:lnTo>
                  <a:lnTo>
                    <a:pt x="2112" y="457"/>
                  </a:lnTo>
                  <a:lnTo>
                    <a:pt x="1651" y="321"/>
                  </a:lnTo>
                  <a:lnTo>
                    <a:pt x="1146" y="199"/>
                  </a:lnTo>
                  <a:lnTo>
                    <a:pt x="593" y="91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43840" y="1412640"/>
              <a:ext cx="937440" cy="1292760"/>
            </a:xfrm>
            <a:custGeom>
              <a:avLst/>
              <a:gdLst/>
              <a:ahLst/>
              <a:rect l="l" t="t" r="r" b="b"/>
              <a:pathLst>
                <a:path w="2608" h="3593">
                  <a:moveTo>
                    <a:pt x="0" y="3592"/>
                  </a:moveTo>
                  <a:lnTo>
                    <a:pt x="419" y="3481"/>
                  </a:lnTo>
                  <a:lnTo>
                    <a:pt x="807" y="3361"/>
                  </a:lnTo>
                  <a:lnTo>
                    <a:pt x="1150" y="3228"/>
                  </a:lnTo>
                  <a:lnTo>
                    <a:pt x="1456" y="3090"/>
                  </a:lnTo>
                  <a:lnTo>
                    <a:pt x="1727" y="2943"/>
                  </a:lnTo>
                  <a:lnTo>
                    <a:pt x="1962" y="2790"/>
                  </a:lnTo>
                  <a:lnTo>
                    <a:pt x="2158" y="2633"/>
                  </a:lnTo>
                  <a:lnTo>
                    <a:pt x="2320" y="2470"/>
                  </a:lnTo>
                  <a:lnTo>
                    <a:pt x="2446" y="2303"/>
                  </a:lnTo>
                  <a:lnTo>
                    <a:pt x="2535" y="2136"/>
                  </a:lnTo>
                  <a:lnTo>
                    <a:pt x="2587" y="1966"/>
                  </a:lnTo>
                  <a:lnTo>
                    <a:pt x="2607" y="1794"/>
                  </a:lnTo>
                  <a:lnTo>
                    <a:pt x="2587" y="1625"/>
                  </a:lnTo>
                  <a:lnTo>
                    <a:pt x="2535" y="1455"/>
                  </a:lnTo>
                  <a:lnTo>
                    <a:pt x="2446" y="1288"/>
                  </a:lnTo>
                  <a:lnTo>
                    <a:pt x="2320" y="1121"/>
                  </a:lnTo>
                  <a:lnTo>
                    <a:pt x="2158" y="958"/>
                  </a:lnTo>
                  <a:lnTo>
                    <a:pt x="1962" y="801"/>
                  </a:lnTo>
                  <a:lnTo>
                    <a:pt x="1727" y="648"/>
                  </a:lnTo>
                  <a:lnTo>
                    <a:pt x="1456" y="501"/>
                  </a:lnTo>
                  <a:lnTo>
                    <a:pt x="1150" y="363"/>
                  </a:lnTo>
                  <a:lnTo>
                    <a:pt x="807" y="230"/>
                  </a:lnTo>
                  <a:lnTo>
                    <a:pt x="419" y="110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94440" y="1425240"/>
              <a:ext cx="471240" cy="1267200"/>
            </a:xfrm>
            <a:custGeom>
              <a:avLst/>
              <a:gdLst/>
              <a:ahLst/>
              <a:rect l="l" t="t" r="r" b="b"/>
              <a:pathLst>
                <a:path w="1309" h="3524">
                  <a:moveTo>
                    <a:pt x="0" y="3523"/>
                  </a:moveTo>
                  <a:lnTo>
                    <a:pt x="218" y="3403"/>
                  </a:lnTo>
                  <a:lnTo>
                    <a:pt x="412" y="3272"/>
                  </a:lnTo>
                  <a:lnTo>
                    <a:pt x="589" y="3140"/>
                  </a:lnTo>
                  <a:lnTo>
                    <a:pt x="743" y="2999"/>
                  </a:lnTo>
                  <a:lnTo>
                    <a:pt x="876" y="2854"/>
                  </a:lnTo>
                  <a:lnTo>
                    <a:pt x="992" y="2707"/>
                  </a:lnTo>
                  <a:lnTo>
                    <a:pt x="1089" y="2554"/>
                  </a:lnTo>
                  <a:lnTo>
                    <a:pt x="1170" y="2399"/>
                  </a:lnTo>
                  <a:lnTo>
                    <a:pt x="1231" y="2243"/>
                  </a:lnTo>
                  <a:lnTo>
                    <a:pt x="1276" y="2082"/>
                  </a:lnTo>
                  <a:lnTo>
                    <a:pt x="1300" y="1922"/>
                  </a:lnTo>
                  <a:lnTo>
                    <a:pt x="1308" y="1760"/>
                  </a:lnTo>
                  <a:lnTo>
                    <a:pt x="1300" y="1600"/>
                  </a:lnTo>
                  <a:lnTo>
                    <a:pt x="1276" y="1441"/>
                  </a:lnTo>
                  <a:lnTo>
                    <a:pt x="1231" y="1281"/>
                  </a:lnTo>
                  <a:lnTo>
                    <a:pt x="1170" y="1123"/>
                  </a:lnTo>
                  <a:lnTo>
                    <a:pt x="1089" y="968"/>
                  </a:lnTo>
                  <a:lnTo>
                    <a:pt x="992" y="816"/>
                  </a:lnTo>
                  <a:lnTo>
                    <a:pt x="876" y="668"/>
                  </a:lnTo>
                  <a:lnTo>
                    <a:pt x="743" y="523"/>
                  </a:lnTo>
                  <a:lnTo>
                    <a:pt x="589" y="383"/>
                  </a:lnTo>
                  <a:lnTo>
                    <a:pt x="412" y="250"/>
                  </a:lnTo>
                  <a:lnTo>
                    <a:pt x="218" y="120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24520" y="1428480"/>
              <a:ext cx="1440" cy="1259280"/>
            </a:xfrm>
            <a:custGeom>
              <a:avLst/>
              <a:gdLst/>
              <a:ahLst/>
              <a:rect l="l" t="t" r="r" b="b"/>
              <a:pathLst>
                <a:path w="1" h="3502">
                  <a:moveTo>
                    <a:pt x="0" y="3501"/>
                  </a:moveTo>
                  <a:lnTo>
                    <a:pt x="0" y="3376"/>
                  </a:lnTo>
                  <a:lnTo>
                    <a:pt x="0" y="3245"/>
                  </a:lnTo>
                  <a:lnTo>
                    <a:pt x="0" y="3110"/>
                  </a:lnTo>
                  <a:lnTo>
                    <a:pt x="0" y="2969"/>
                  </a:lnTo>
                  <a:lnTo>
                    <a:pt x="0" y="2827"/>
                  </a:lnTo>
                  <a:lnTo>
                    <a:pt x="0" y="2680"/>
                  </a:lnTo>
                  <a:lnTo>
                    <a:pt x="0" y="2530"/>
                  </a:lnTo>
                  <a:lnTo>
                    <a:pt x="0" y="2378"/>
                  </a:lnTo>
                  <a:lnTo>
                    <a:pt x="0" y="2222"/>
                  </a:lnTo>
                  <a:lnTo>
                    <a:pt x="0" y="2067"/>
                  </a:lnTo>
                  <a:lnTo>
                    <a:pt x="0" y="1910"/>
                  </a:lnTo>
                  <a:lnTo>
                    <a:pt x="0" y="1750"/>
                  </a:lnTo>
                  <a:lnTo>
                    <a:pt x="0" y="1593"/>
                  </a:lnTo>
                  <a:lnTo>
                    <a:pt x="0" y="1435"/>
                  </a:lnTo>
                  <a:lnTo>
                    <a:pt x="0" y="1280"/>
                  </a:lnTo>
                  <a:lnTo>
                    <a:pt x="0" y="1126"/>
                  </a:lnTo>
                  <a:lnTo>
                    <a:pt x="0" y="973"/>
                  </a:lnTo>
                  <a:lnTo>
                    <a:pt x="0" y="823"/>
                  </a:lnTo>
                  <a:lnTo>
                    <a:pt x="0" y="676"/>
                  </a:lnTo>
                  <a:lnTo>
                    <a:pt x="0" y="533"/>
                  </a:lnTo>
                  <a:lnTo>
                    <a:pt x="0" y="393"/>
                  </a:lnTo>
                  <a:lnTo>
                    <a:pt x="0" y="258"/>
                  </a:lnTo>
                  <a:lnTo>
                    <a:pt x="0" y="125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83720" y="1425240"/>
              <a:ext cx="470880" cy="1267200"/>
            </a:xfrm>
            <a:custGeom>
              <a:avLst/>
              <a:gdLst/>
              <a:ahLst/>
              <a:rect l="l" t="t" r="r" b="b"/>
              <a:pathLst>
                <a:path w="1308" h="3524">
                  <a:moveTo>
                    <a:pt x="1307" y="3523"/>
                  </a:moveTo>
                  <a:lnTo>
                    <a:pt x="1089" y="3403"/>
                  </a:lnTo>
                  <a:lnTo>
                    <a:pt x="895" y="3272"/>
                  </a:lnTo>
                  <a:lnTo>
                    <a:pt x="718" y="3140"/>
                  </a:lnTo>
                  <a:lnTo>
                    <a:pt x="564" y="2999"/>
                  </a:lnTo>
                  <a:lnTo>
                    <a:pt x="431" y="2854"/>
                  </a:lnTo>
                  <a:lnTo>
                    <a:pt x="314" y="2707"/>
                  </a:lnTo>
                  <a:lnTo>
                    <a:pt x="217" y="2554"/>
                  </a:lnTo>
                  <a:lnTo>
                    <a:pt x="137" y="2399"/>
                  </a:lnTo>
                  <a:lnTo>
                    <a:pt x="76" y="2243"/>
                  </a:lnTo>
                  <a:lnTo>
                    <a:pt x="31" y="2082"/>
                  </a:lnTo>
                  <a:lnTo>
                    <a:pt x="7" y="1922"/>
                  </a:lnTo>
                  <a:lnTo>
                    <a:pt x="0" y="1760"/>
                  </a:lnTo>
                  <a:lnTo>
                    <a:pt x="7" y="1600"/>
                  </a:lnTo>
                  <a:lnTo>
                    <a:pt x="31" y="1441"/>
                  </a:lnTo>
                  <a:lnTo>
                    <a:pt x="76" y="1281"/>
                  </a:lnTo>
                  <a:lnTo>
                    <a:pt x="137" y="1123"/>
                  </a:lnTo>
                  <a:lnTo>
                    <a:pt x="217" y="968"/>
                  </a:lnTo>
                  <a:lnTo>
                    <a:pt x="314" y="816"/>
                  </a:lnTo>
                  <a:lnTo>
                    <a:pt x="431" y="668"/>
                  </a:lnTo>
                  <a:lnTo>
                    <a:pt x="564" y="523"/>
                  </a:lnTo>
                  <a:lnTo>
                    <a:pt x="718" y="383"/>
                  </a:lnTo>
                  <a:lnTo>
                    <a:pt x="895" y="250"/>
                  </a:lnTo>
                  <a:lnTo>
                    <a:pt x="1089" y="120"/>
                  </a:lnTo>
                  <a:lnTo>
                    <a:pt x="1307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65960" y="1412640"/>
              <a:ext cx="937440" cy="1292760"/>
            </a:xfrm>
            <a:custGeom>
              <a:avLst/>
              <a:gdLst/>
              <a:ahLst/>
              <a:rect l="l" t="t" r="r" b="b"/>
              <a:pathLst>
                <a:path w="2608" h="3593">
                  <a:moveTo>
                    <a:pt x="2607" y="3592"/>
                  </a:moveTo>
                  <a:lnTo>
                    <a:pt x="2188" y="3481"/>
                  </a:lnTo>
                  <a:lnTo>
                    <a:pt x="1801" y="3361"/>
                  </a:lnTo>
                  <a:lnTo>
                    <a:pt x="1457" y="3228"/>
                  </a:lnTo>
                  <a:lnTo>
                    <a:pt x="1150" y="3090"/>
                  </a:lnTo>
                  <a:lnTo>
                    <a:pt x="880" y="2943"/>
                  </a:lnTo>
                  <a:lnTo>
                    <a:pt x="645" y="2790"/>
                  </a:lnTo>
                  <a:lnTo>
                    <a:pt x="448" y="2633"/>
                  </a:lnTo>
                  <a:lnTo>
                    <a:pt x="287" y="2470"/>
                  </a:lnTo>
                  <a:lnTo>
                    <a:pt x="161" y="2303"/>
                  </a:lnTo>
                  <a:lnTo>
                    <a:pt x="72" y="2136"/>
                  </a:lnTo>
                  <a:lnTo>
                    <a:pt x="20" y="1966"/>
                  </a:lnTo>
                  <a:lnTo>
                    <a:pt x="0" y="1794"/>
                  </a:lnTo>
                  <a:lnTo>
                    <a:pt x="20" y="1625"/>
                  </a:lnTo>
                  <a:lnTo>
                    <a:pt x="72" y="1455"/>
                  </a:lnTo>
                  <a:lnTo>
                    <a:pt x="161" y="1288"/>
                  </a:lnTo>
                  <a:lnTo>
                    <a:pt x="287" y="1121"/>
                  </a:lnTo>
                  <a:lnTo>
                    <a:pt x="448" y="958"/>
                  </a:lnTo>
                  <a:lnTo>
                    <a:pt x="645" y="801"/>
                  </a:lnTo>
                  <a:lnTo>
                    <a:pt x="880" y="648"/>
                  </a:lnTo>
                  <a:lnTo>
                    <a:pt x="1150" y="501"/>
                  </a:lnTo>
                  <a:lnTo>
                    <a:pt x="1457" y="363"/>
                  </a:lnTo>
                  <a:lnTo>
                    <a:pt x="1801" y="230"/>
                  </a:lnTo>
                  <a:lnTo>
                    <a:pt x="2188" y="110"/>
                  </a:lnTo>
                  <a:lnTo>
                    <a:pt x="2607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8240" y="1391760"/>
              <a:ext cx="1396080" cy="1332360"/>
            </a:xfrm>
            <a:custGeom>
              <a:avLst/>
              <a:gdLst/>
              <a:ahLst/>
              <a:rect l="l" t="t" r="r" b="b"/>
              <a:pathLst>
                <a:path w="3880" h="3706">
                  <a:moveTo>
                    <a:pt x="3879" y="3705"/>
                  </a:moveTo>
                  <a:lnTo>
                    <a:pt x="3286" y="3614"/>
                  </a:lnTo>
                  <a:lnTo>
                    <a:pt x="2733" y="3506"/>
                  </a:lnTo>
                  <a:lnTo>
                    <a:pt x="2229" y="3383"/>
                  </a:lnTo>
                  <a:lnTo>
                    <a:pt x="1768" y="3248"/>
                  </a:lnTo>
                  <a:lnTo>
                    <a:pt x="1361" y="3098"/>
                  </a:lnTo>
                  <a:lnTo>
                    <a:pt x="1002" y="2938"/>
                  </a:lnTo>
                  <a:lnTo>
                    <a:pt x="698" y="2771"/>
                  </a:lnTo>
                  <a:lnTo>
                    <a:pt x="449" y="2596"/>
                  </a:lnTo>
                  <a:lnTo>
                    <a:pt x="250" y="2415"/>
                  </a:lnTo>
                  <a:lnTo>
                    <a:pt x="113" y="2230"/>
                  </a:lnTo>
                  <a:lnTo>
                    <a:pt x="28" y="2043"/>
                  </a:lnTo>
                  <a:lnTo>
                    <a:pt x="0" y="1851"/>
                  </a:lnTo>
                  <a:lnTo>
                    <a:pt x="28" y="1662"/>
                  </a:lnTo>
                  <a:lnTo>
                    <a:pt x="113" y="1475"/>
                  </a:lnTo>
                  <a:lnTo>
                    <a:pt x="250" y="1291"/>
                  </a:lnTo>
                  <a:lnTo>
                    <a:pt x="449" y="1109"/>
                  </a:lnTo>
                  <a:lnTo>
                    <a:pt x="698" y="934"/>
                  </a:lnTo>
                  <a:lnTo>
                    <a:pt x="1002" y="764"/>
                  </a:lnTo>
                  <a:lnTo>
                    <a:pt x="1361" y="607"/>
                  </a:lnTo>
                  <a:lnTo>
                    <a:pt x="1768" y="457"/>
                  </a:lnTo>
                  <a:lnTo>
                    <a:pt x="2229" y="321"/>
                  </a:lnTo>
                  <a:lnTo>
                    <a:pt x="2733" y="199"/>
                  </a:lnTo>
                  <a:lnTo>
                    <a:pt x="3286" y="91"/>
                  </a:lnTo>
                  <a:lnTo>
                    <a:pt x="3879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1366560"/>
              <a:ext cx="1840680" cy="1384200"/>
            </a:xfrm>
            <a:custGeom>
              <a:avLst/>
              <a:gdLst/>
              <a:ahLst/>
              <a:rect l="l" t="t" r="r" b="b"/>
              <a:pathLst>
                <a:path w="5115" h="3849">
                  <a:moveTo>
                    <a:pt x="5114" y="3848"/>
                  </a:moveTo>
                  <a:lnTo>
                    <a:pt x="4408" y="3789"/>
                  </a:lnTo>
                  <a:lnTo>
                    <a:pt x="3730" y="3707"/>
                  </a:lnTo>
                  <a:lnTo>
                    <a:pt x="3084" y="3602"/>
                  </a:lnTo>
                  <a:lnTo>
                    <a:pt x="2482" y="3474"/>
                  </a:lnTo>
                  <a:lnTo>
                    <a:pt x="1933" y="3326"/>
                  </a:lnTo>
                  <a:lnTo>
                    <a:pt x="1441" y="3161"/>
                  </a:lnTo>
                  <a:lnTo>
                    <a:pt x="1013" y="2980"/>
                  </a:lnTo>
                  <a:lnTo>
                    <a:pt x="654" y="2785"/>
                  </a:lnTo>
                  <a:lnTo>
                    <a:pt x="371" y="2581"/>
                  </a:lnTo>
                  <a:lnTo>
                    <a:pt x="165" y="2365"/>
                  </a:lnTo>
                  <a:lnTo>
                    <a:pt x="40" y="2146"/>
                  </a:lnTo>
                  <a:lnTo>
                    <a:pt x="0" y="1922"/>
                  </a:lnTo>
                  <a:lnTo>
                    <a:pt x="40" y="1701"/>
                  </a:lnTo>
                  <a:lnTo>
                    <a:pt x="165" y="1482"/>
                  </a:lnTo>
                  <a:lnTo>
                    <a:pt x="371" y="1265"/>
                  </a:lnTo>
                  <a:lnTo>
                    <a:pt x="654" y="1061"/>
                  </a:lnTo>
                  <a:lnTo>
                    <a:pt x="1013" y="868"/>
                  </a:lnTo>
                  <a:lnTo>
                    <a:pt x="1441" y="685"/>
                  </a:lnTo>
                  <a:lnTo>
                    <a:pt x="1933" y="521"/>
                  </a:lnTo>
                  <a:lnTo>
                    <a:pt x="2482" y="373"/>
                  </a:lnTo>
                  <a:lnTo>
                    <a:pt x="3084" y="245"/>
                  </a:lnTo>
                  <a:lnTo>
                    <a:pt x="3730" y="140"/>
                  </a:lnTo>
                  <a:lnTo>
                    <a:pt x="4408" y="58"/>
                  </a:lnTo>
                  <a:lnTo>
                    <a:pt x="5114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93520" y="2495880"/>
              <a:ext cx="2862360" cy="120600"/>
            </a:xfrm>
            <a:custGeom>
              <a:avLst/>
              <a:gdLst/>
              <a:ahLst/>
              <a:rect l="l" t="t" r="r" b="b"/>
              <a:pathLst>
                <a:path w="7954" h="334">
                  <a:moveTo>
                    <a:pt x="0" y="333"/>
                  </a:moveTo>
                  <a:lnTo>
                    <a:pt x="133" y="288"/>
                  </a:lnTo>
                  <a:lnTo>
                    <a:pt x="292" y="247"/>
                  </a:lnTo>
                  <a:lnTo>
                    <a:pt x="472" y="210"/>
                  </a:lnTo>
                  <a:lnTo>
                    <a:pt x="670" y="178"/>
                  </a:lnTo>
                  <a:lnTo>
                    <a:pt x="888" y="146"/>
                  </a:lnTo>
                  <a:lnTo>
                    <a:pt x="1122" y="122"/>
                  </a:lnTo>
                  <a:lnTo>
                    <a:pt x="1368" y="97"/>
                  </a:lnTo>
                  <a:lnTo>
                    <a:pt x="1631" y="77"/>
                  </a:lnTo>
                  <a:lnTo>
                    <a:pt x="1901" y="57"/>
                  </a:lnTo>
                  <a:lnTo>
                    <a:pt x="2180" y="42"/>
                  </a:lnTo>
                  <a:lnTo>
                    <a:pt x="2467" y="31"/>
                  </a:lnTo>
                  <a:lnTo>
                    <a:pt x="2761" y="20"/>
                  </a:lnTo>
                  <a:lnTo>
                    <a:pt x="3061" y="13"/>
                  </a:lnTo>
                  <a:lnTo>
                    <a:pt x="3363" y="6"/>
                  </a:lnTo>
                  <a:lnTo>
                    <a:pt x="3670" y="3"/>
                  </a:lnTo>
                  <a:lnTo>
                    <a:pt x="3977" y="0"/>
                  </a:lnTo>
                  <a:lnTo>
                    <a:pt x="4283" y="3"/>
                  </a:lnTo>
                  <a:lnTo>
                    <a:pt x="4589" y="6"/>
                  </a:lnTo>
                  <a:lnTo>
                    <a:pt x="4892" y="13"/>
                  </a:lnTo>
                  <a:lnTo>
                    <a:pt x="5192" y="20"/>
                  </a:lnTo>
                  <a:lnTo>
                    <a:pt x="5486" y="31"/>
                  </a:lnTo>
                  <a:lnTo>
                    <a:pt x="5772" y="42"/>
                  </a:lnTo>
                  <a:lnTo>
                    <a:pt x="6052" y="57"/>
                  </a:lnTo>
                  <a:lnTo>
                    <a:pt x="6321" y="77"/>
                  </a:lnTo>
                  <a:lnTo>
                    <a:pt x="6584" y="97"/>
                  </a:lnTo>
                  <a:lnTo>
                    <a:pt x="6830" y="122"/>
                  </a:lnTo>
                  <a:lnTo>
                    <a:pt x="7065" y="146"/>
                  </a:lnTo>
                  <a:lnTo>
                    <a:pt x="7283" y="178"/>
                  </a:lnTo>
                  <a:lnTo>
                    <a:pt x="7481" y="210"/>
                  </a:lnTo>
                  <a:lnTo>
                    <a:pt x="7661" y="247"/>
                  </a:lnTo>
                  <a:lnTo>
                    <a:pt x="7819" y="288"/>
                  </a:lnTo>
                  <a:lnTo>
                    <a:pt x="7953" y="333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4720" y="2283480"/>
              <a:ext cx="4177800" cy="85320"/>
            </a:xfrm>
            <a:custGeom>
              <a:avLst/>
              <a:gdLst/>
              <a:ahLst/>
              <a:rect l="l" t="t" r="r" b="b"/>
              <a:pathLst>
                <a:path w="11611" h="236">
                  <a:moveTo>
                    <a:pt x="0" y="235"/>
                  </a:moveTo>
                  <a:lnTo>
                    <a:pt x="266" y="200"/>
                  </a:lnTo>
                  <a:lnTo>
                    <a:pt x="553" y="169"/>
                  </a:lnTo>
                  <a:lnTo>
                    <a:pt x="856" y="142"/>
                  </a:lnTo>
                  <a:lnTo>
                    <a:pt x="1179" y="117"/>
                  </a:lnTo>
                  <a:lnTo>
                    <a:pt x="1513" y="95"/>
                  </a:lnTo>
                  <a:lnTo>
                    <a:pt x="1860" y="78"/>
                  </a:lnTo>
                  <a:lnTo>
                    <a:pt x="2224" y="61"/>
                  </a:lnTo>
                  <a:lnTo>
                    <a:pt x="2596" y="48"/>
                  </a:lnTo>
                  <a:lnTo>
                    <a:pt x="2975" y="36"/>
                  </a:lnTo>
                  <a:lnTo>
                    <a:pt x="3367" y="26"/>
                  </a:lnTo>
                  <a:lnTo>
                    <a:pt x="3762" y="16"/>
                  </a:lnTo>
                  <a:lnTo>
                    <a:pt x="4162" y="11"/>
                  </a:lnTo>
                  <a:lnTo>
                    <a:pt x="4570" y="7"/>
                  </a:lnTo>
                  <a:lnTo>
                    <a:pt x="4977" y="1"/>
                  </a:lnTo>
                  <a:lnTo>
                    <a:pt x="5392" y="0"/>
                  </a:lnTo>
                  <a:lnTo>
                    <a:pt x="5805" y="0"/>
                  </a:lnTo>
                  <a:lnTo>
                    <a:pt x="6217" y="0"/>
                  </a:lnTo>
                  <a:lnTo>
                    <a:pt x="6632" y="1"/>
                  </a:lnTo>
                  <a:lnTo>
                    <a:pt x="7039" y="7"/>
                  </a:lnTo>
                  <a:lnTo>
                    <a:pt x="7447" y="11"/>
                  </a:lnTo>
                  <a:lnTo>
                    <a:pt x="7847" y="16"/>
                  </a:lnTo>
                  <a:lnTo>
                    <a:pt x="8242" y="26"/>
                  </a:lnTo>
                  <a:lnTo>
                    <a:pt x="8634" y="36"/>
                  </a:lnTo>
                  <a:lnTo>
                    <a:pt x="9013" y="48"/>
                  </a:lnTo>
                  <a:lnTo>
                    <a:pt x="9385" y="61"/>
                  </a:lnTo>
                  <a:lnTo>
                    <a:pt x="9748" y="78"/>
                  </a:lnTo>
                  <a:lnTo>
                    <a:pt x="10095" y="95"/>
                  </a:lnTo>
                  <a:lnTo>
                    <a:pt x="10430" y="117"/>
                  </a:lnTo>
                  <a:lnTo>
                    <a:pt x="10753" y="142"/>
                  </a:lnTo>
                  <a:lnTo>
                    <a:pt x="11056" y="169"/>
                  </a:lnTo>
                  <a:lnTo>
                    <a:pt x="11343" y="200"/>
                  </a:lnTo>
                  <a:lnTo>
                    <a:pt x="11610" y="235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2058120"/>
              <a:ext cx="4647960" cy="1440"/>
            </a:xfrm>
            <a:custGeom>
              <a:avLst/>
              <a:gdLst/>
              <a:ahLst/>
              <a:rect l="l" t="t" r="r" b="b"/>
              <a:pathLst>
                <a:path w="12918" h="1">
                  <a:moveTo>
                    <a:pt x="0" y="0"/>
                  </a:moveTo>
                  <a:lnTo>
                    <a:pt x="323" y="0"/>
                  </a:lnTo>
                  <a:lnTo>
                    <a:pt x="666" y="0"/>
                  </a:lnTo>
                  <a:lnTo>
                    <a:pt x="1017" y="0"/>
                  </a:lnTo>
                  <a:lnTo>
                    <a:pt x="1384" y="0"/>
                  </a:lnTo>
                  <a:lnTo>
                    <a:pt x="1764" y="0"/>
                  </a:lnTo>
                  <a:lnTo>
                    <a:pt x="2152" y="0"/>
                  </a:lnTo>
                  <a:lnTo>
                    <a:pt x="2555" y="0"/>
                  </a:lnTo>
                  <a:lnTo>
                    <a:pt x="2963" y="0"/>
                  </a:lnTo>
                  <a:lnTo>
                    <a:pt x="3382" y="0"/>
                  </a:lnTo>
                  <a:lnTo>
                    <a:pt x="3807" y="0"/>
                  </a:lnTo>
                  <a:lnTo>
                    <a:pt x="4238" y="0"/>
                  </a:lnTo>
                  <a:lnTo>
                    <a:pt x="4679" y="0"/>
                  </a:lnTo>
                  <a:lnTo>
                    <a:pt x="5118" y="0"/>
                  </a:lnTo>
                  <a:lnTo>
                    <a:pt x="5562" y="0"/>
                  </a:lnTo>
                  <a:lnTo>
                    <a:pt x="6010" y="0"/>
                  </a:lnTo>
                  <a:lnTo>
                    <a:pt x="6459" y="0"/>
                  </a:lnTo>
                  <a:lnTo>
                    <a:pt x="6906" y="0"/>
                  </a:lnTo>
                  <a:lnTo>
                    <a:pt x="7355" y="0"/>
                  </a:lnTo>
                  <a:lnTo>
                    <a:pt x="7798" y="0"/>
                  </a:lnTo>
                  <a:lnTo>
                    <a:pt x="8239" y="0"/>
                  </a:lnTo>
                  <a:lnTo>
                    <a:pt x="8679" y="0"/>
                  </a:lnTo>
                  <a:lnTo>
                    <a:pt x="9110" y="0"/>
                  </a:lnTo>
                  <a:lnTo>
                    <a:pt x="9534" y="0"/>
                  </a:lnTo>
                  <a:lnTo>
                    <a:pt x="9954" y="0"/>
                  </a:lnTo>
                  <a:lnTo>
                    <a:pt x="10362" y="0"/>
                  </a:lnTo>
                  <a:lnTo>
                    <a:pt x="10766" y="0"/>
                  </a:lnTo>
                  <a:lnTo>
                    <a:pt x="11153" y="0"/>
                  </a:lnTo>
                  <a:lnTo>
                    <a:pt x="11533" y="0"/>
                  </a:lnTo>
                  <a:lnTo>
                    <a:pt x="11899" y="0"/>
                  </a:lnTo>
                  <a:lnTo>
                    <a:pt x="12251" y="0"/>
                  </a:lnTo>
                  <a:lnTo>
                    <a:pt x="12594" y="0"/>
                  </a:lnTo>
                  <a:lnTo>
                    <a:pt x="12917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4720" y="1748880"/>
              <a:ext cx="4177800" cy="85320"/>
            </a:xfrm>
            <a:custGeom>
              <a:avLst/>
              <a:gdLst/>
              <a:ahLst/>
              <a:rect l="l" t="t" r="r" b="b"/>
              <a:pathLst>
                <a:path w="11611" h="238">
                  <a:moveTo>
                    <a:pt x="0" y="0"/>
                  </a:moveTo>
                  <a:lnTo>
                    <a:pt x="266" y="35"/>
                  </a:lnTo>
                  <a:lnTo>
                    <a:pt x="553" y="67"/>
                  </a:lnTo>
                  <a:lnTo>
                    <a:pt x="856" y="94"/>
                  </a:lnTo>
                  <a:lnTo>
                    <a:pt x="1179" y="119"/>
                  </a:lnTo>
                  <a:lnTo>
                    <a:pt x="1513" y="141"/>
                  </a:lnTo>
                  <a:lnTo>
                    <a:pt x="1860" y="158"/>
                  </a:lnTo>
                  <a:lnTo>
                    <a:pt x="2224" y="175"/>
                  </a:lnTo>
                  <a:lnTo>
                    <a:pt x="2596" y="188"/>
                  </a:lnTo>
                  <a:lnTo>
                    <a:pt x="2975" y="200"/>
                  </a:lnTo>
                  <a:lnTo>
                    <a:pt x="3367" y="210"/>
                  </a:lnTo>
                  <a:lnTo>
                    <a:pt x="3762" y="220"/>
                  </a:lnTo>
                  <a:lnTo>
                    <a:pt x="4162" y="224"/>
                  </a:lnTo>
                  <a:lnTo>
                    <a:pt x="4570" y="229"/>
                  </a:lnTo>
                  <a:lnTo>
                    <a:pt x="4977" y="234"/>
                  </a:lnTo>
                  <a:lnTo>
                    <a:pt x="5392" y="237"/>
                  </a:lnTo>
                  <a:lnTo>
                    <a:pt x="5805" y="237"/>
                  </a:lnTo>
                  <a:lnTo>
                    <a:pt x="6217" y="237"/>
                  </a:lnTo>
                  <a:lnTo>
                    <a:pt x="6632" y="234"/>
                  </a:lnTo>
                  <a:lnTo>
                    <a:pt x="7039" y="229"/>
                  </a:lnTo>
                  <a:lnTo>
                    <a:pt x="7447" y="224"/>
                  </a:lnTo>
                  <a:lnTo>
                    <a:pt x="7847" y="220"/>
                  </a:lnTo>
                  <a:lnTo>
                    <a:pt x="8242" y="210"/>
                  </a:lnTo>
                  <a:lnTo>
                    <a:pt x="8634" y="200"/>
                  </a:lnTo>
                  <a:lnTo>
                    <a:pt x="9013" y="188"/>
                  </a:lnTo>
                  <a:lnTo>
                    <a:pt x="9385" y="175"/>
                  </a:lnTo>
                  <a:lnTo>
                    <a:pt x="9748" y="158"/>
                  </a:lnTo>
                  <a:lnTo>
                    <a:pt x="10095" y="141"/>
                  </a:lnTo>
                  <a:lnTo>
                    <a:pt x="10430" y="119"/>
                  </a:lnTo>
                  <a:lnTo>
                    <a:pt x="10753" y="94"/>
                  </a:lnTo>
                  <a:lnTo>
                    <a:pt x="11056" y="67"/>
                  </a:lnTo>
                  <a:lnTo>
                    <a:pt x="11343" y="35"/>
                  </a:lnTo>
                  <a:lnTo>
                    <a:pt x="11610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93520" y="1501560"/>
              <a:ext cx="2862360" cy="120240"/>
            </a:xfrm>
            <a:custGeom>
              <a:avLst/>
              <a:gdLst/>
              <a:ahLst/>
              <a:rect l="l" t="t" r="r" b="b"/>
              <a:pathLst>
                <a:path w="7954" h="333">
                  <a:moveTo>
                    <a:pt x="0" y="0"/>
                  </a:moveTo>
                  <a:lnTo>
                    <a:pt x="133" y="45"/>
                  </a:lnTo>
                  <a:lnTo>
                    <a:pt x="292" y="86"/>
                  </a:lnTo>
                  <a:lnTo>
                    <a:pt x="472" y="123"/>
                  </a:lnTo>
                  <a:lnTo>
                    <a:pt x="670" y="155"/>
                  </a:lnTo>
                  <a:lnTo>
                    <a:pt x="888" y="184"/>
                  </a:lnTo>
                  <a:lnTo>
                    <a:pt x="1122" y="211"/>
                  </a:lnTo>
                  <a:lnTo>
                    <a:pt x="1368" y="237"/>
                  </a:lnTo>
                  <a:lnTo>
                    <a:pt x="1631" y="256"/>
                  </a:lnTo>
                  <a:lnTo>
                    <a:pt x="1901" y="275"/>
                  </a:lnTo>
                  <a:lnTo>
                    <a:pt x="2180" y="291"/>
                  </a:lnTo>
                  <a:lnTo>
                    <a:pt x="2467" y="303"/>
                  </a:lnTo>
                  <a:lnTo>
                    <a:pt x="2761" y="312"/>
                  </a:lnTo>
                  <a:lnTo>
                    <a:pt x="3061" y="320"/>
                  </a:lnTo>
                  <a:lnTo>
                    <a:pt x="3363" y="327"/>
                  </a:lnTo>
                  <a:lnTo>
                    <a:pt x="3670" y="330"/>
                  </a:lnTo>
                  <a:lnTo>
                    <a:pt x="3977" y="332"/>
                  </a:lnTo>
                  <a:lnTo>
                    <a:pt x="4283" y="330"/>
                  </a:lnTo>
                  <a:lnTo>
                    <a:pt x="4589" y="327"/>
                  </a:lnTo>
                  <a:lnTo>
                    <a:pt x="4892" y="320"/>
                  </a:lnTo>
                  <a:lnTo>
                    <a:pt x="5192" y="312"/>
                  </a:lnTo>
                  <a:lnTo>
                    <a:pt x="5486" y="303"/>
                  </a:lnTo>
                  <a:lnTo>
                    <a:pt x="5772" y="291"/>
                  </a:lnTo>
                  <a:lnTo>
                    <a:pt x="6052" y="275"/>
                  </a:lnTo>
                  <a:lnTo>
                    <a:pt x="6321" y="256"/>
                  </a:lnTo>
                  <a:lnTo>
                    <a:pt x="6584" y="237"/>
                  </a:lnTo>
                  <a:lnTo>
                    <a:pt x="6830" y="211"/>
                  </a:lnTo>
                  <a:lnTo>
                    <a:pt x="7065" y="184"/>
                  </a:lnTo>
                  <a:lnTo>
                    <a:pt x="7283" y="155"/>
                  </a:lnTo>
                  <a:lnTo>
                    <a:pt x="7481" y="123"/>
                  </a:lnTo>
                  <a:lnTo>
                    <a:pt x="7661" y="86"/>
                  </a:lnTo>
                  <a:lnTo>
                    <a:pt x="7819" y="45"/>
                  </a:lnTo>
                  <a:lnTo>
                    <a:pt x="7953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40680" y="1366560"/>
              <a:ext cx="967680" cy="61560"/>
            </a:xfrm>
            <a:custGeom>
              <a:avLst/>
              <a:gdLst/>
              <a:ahLst/>
              <a:rect l="l" t="t" r="r" b="b"/>
              <a:pathLst>
                <a:path w="2689" h="173">
                  <a:moveTo>
                    <a:pt x="0" y="0"/>
                  </a:moveTo>
                  <a:lnTo>
                    <a:pt x="21" y="19"/>
                  </a:lnTo>
                  <a:lnTo>
                    <a:pt x="52" y="36"/>
                  </a:lnTo>
                  <a:lnTo>
                    <a:pt x="97" y="56"/>
                  </a:lnTo>
                  <a:lnTo>
                    <a:pt x="149" y="71"/>
                  </a:lnTo>
                  <a:lnTo>
                    <a:pt x="214" y="88"/>
                  </a:lnTo>
                  <a:lnTo>
                    <a:pt x="286" y="103"/>
                  </a:lnTo>
                  <a:lnTo>
                    <a:pt x="367" y="115"/>
                  </a:lnTo>
                  <a:lnTo>
                    <a:pt x="456" y="128"/>
                  </a:lnTo>
                  <a:lnTo>
                    <a:pt x="553" y="137"/>
                  </a:lnTo>
                  <a:lnTo>
                    <a:pt x="654" y="147"/>
                  </a:lnTo>
                  <a:lnTo>
                    <a:pt x="763" y="154"/>
                  </a:lnTo>
                  <a:lnTo>
                    <a:pt x="872" y="162"/>
                  </a:lnTo>
                  <a:lnTo>
                    <a:pt x="989" y="166"/>
                  </a:lnTo>
                  <a:lnTo>
                    <a:pt x="1106" y="169"/>
                  </a:lnTo>
                  <a:lnTo>
                    <a:pt x="1224" y="172"/>
                  </a:lnTo>
                  <a:lnTo>
                    <a:pt x="1345" y="172"/>
                  </a:lnTo>
                  <a:lnTo>
                    <a:pt x="1465" y="172"/>
                  </a:lnTo>
                  <a:lnTo>
                    <a:pt x="1583" y="169"/>
                  </a:lnTo>
                  <a:lnTo>
                    <a:pt x="1700" y="166"/>
                  </a:lnTo>
                  <a:lnTo>
                    <a:pt x="1817" y="162"/>
                  </a:lnTo>
                  <a:lnTo>
                    <a:pt x="1926" y="154"/>
                  </a:lnTo>
                  <a:lnTo>
                    <a:pt x="2035" y="147"/>
                  </a:lnTo>
                  <a:lnTo>
                    <a:pt x="2136" y="137"/>
                  </a:lnTo>
                  <a:lnTo>
                    <a:pt x="2233" y="128"/>
                  </a:lnTo>
                  <a:lnTo>
                    <a:pt x="2322" y="115"/>
                  </a:lnTo>
                  <a:lnTo>
                    <a:pt x="2403" y="103"/>
                  </a:lnTo>
                  <a:lnTo>
                    <a:pt x="2475" y="88"/>
                  </a:lnTo>
                  <a:lnTo>
                    <a:pt x="2539" y="71"/>
                  </a:lnTo>
                  <a:lnTo>
                    <a:pt x="2592" y="56"/>
                  </a:lnTo>
                  <a:lnTo>
                    <a:pt x="2637" y="36"/>
                  </a:lnTo>
                  <a:lnTo>
                    <a:pt x="2668" y="19"/>
                  </a:lnTo>
                  <a:lnTo>
                    <a:pt x="2688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40680" y="2687760"/>
              <a:ext cx="967680" cy="63000"/>
            </a:xfrm>
            <a:custGeom>
              <a:avLst/>
              <a:gdLst/>
              <a:ahLst/>
              <a:rect l="l" t="t" r="r" b="b"/>
              <a:pathLst>
                <a:path w="2689" h="176">
                  <a:moveTo>
                    <a:pt x="0" y="175"/>
                  </a:moveTo>
                  <a:lnTo>
                    <a:pt x="21" y="155"/>
                  </a:lnTo>
                  <a:lnTo>
                    <a:pt x="52" y="138"/>
                  </a:lnTo>
                  <a:lnTo>
                    <a:pt x="97" y="118"/>
                  </a:lnTo>
                  <a:lnTo>
                    <a:pt x="149" y="103"/>
                  </a:lnTo>
                  <a:lnTo>
                    <a:pt x="214" y="85"/>
                  </a:lnTo>
                  <a:lnTo>
                    <a:pt x="286" y="71"/>
                  </a:lnTo>
                  <a:lnTo>
                    <a:pt x="367" y="59"/>
                  </a:lnTo>
                  <a:lnTo>
                    <a:pt x="456" y="47"/>
                  </a:lnTo>
                  <a:lnTo>
                    <a:pt x="553" y="37"/>
                  </a:lnTo>
                  <a:lnTo>
                    <a:pt x="654" y="27"/>
                  </a:lnTo>
                  <a:lnTo>
                    <a:pt x="763" y="20"/>
                  </a:lnTo>
                  <a:lnTo>
                    <a:pt x="872" y="12"/>
                  </a:lnTo>
                  <a:lnTo>
                    <a:pt x="989" y="7"/>
                  </a:lnTo>
                  <a:lnTo>
                    <a:pt x="1106" y="5"/>
                  </a:lnTo>
                  <a:lnTo>
                    <a:pt x="1224" y="2"/>
                  </a:lnTo>
                  <a:lnTo>
                    <a:pt x="1345" y="0"/>
                  </a:lnTo>
                  <a:lnTo>
                    <a:pt x="1465" y="2"/>
                  </a:lnTo>
                  <a:lnTo>
                    <a:pt x="1583" y="5"/>
                  </a:lnTo>
                  <a:lnTo>
                    <a:pt x="1700" y="7"/>
                  </a:lnTo>
                  <a:lnTo>
                    <a:pt x="1817" y="12"/>
                  </a:lnTo>
                  <a:lnTo>
                    <a:pt x="1926" y="20"/>
                  </a:lnTo>
                  <a:lnTo>
                    <a:pt x="2035" y="27"/>
                  </a:lnTo>
                  <a:lnTo>
                    <a:pt x="2136" y="37"/>
                  </a:lnTo>
                  <a:lnTo>
                    <a:pt x="2233" y="47"/>
                  </a:lnTo>
                  <a:lnTo>
                    <a:pt x="2322" y="59"/>
                  </a:lnTo>
                  <a:lnTo>
                    <a:pt x="2403" y="71"/>
                  </a:lnTo>
                  <a:lnTo>
                    <a:pt x="2475" y="85"/>
                  </a:lnTo>
                  <a:lnTo>
                    <a:pt x="2539" y="103"/>
                  </a:lnTo>
                  <a:lnTo>
                    <a:pt x="2592" y="118"/>
                  </a:lnTo>
                  <a:lnTo>
                    <a:pt x="2637" y="138"/>
                  </a:lnTo>
                  <a:lnTo>
                    <a:pt x="2668" y="155"/>
                  </a:lnTo>
                  <a:lnTo>
                    <a:pt x="2688" y="175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320" y="1402920"/>
              <a:ext cx="4152600" cy="1578240"/>
            </a:xfrm>
            <a:custGeom>
              <a:avLst/>
              <a:gdLst/>
              <a:ahLst/>
              <a:rect l="l" t="t" r="r" b="b"/>
              <a:pathLst>
                <a:path w="11542" h="4386">
                  <a:moveTo>
                    <a:pt x="5450" y="29"/>
                  </a:moveTo>
                  <a:lnTo>
                    <a:pt x="5502" y="34"/>
                  </a:lnTo>
                  <a:lnTo>
                    <a:pt x="5527" y="37"/>
                  </a:lnTo>
                  <a:lnTo>
                    <a:pt x="5527" y="37"/>
                  </a:lnTo>
                  <a:lnTo>
                    <a:pt x="5502" y="37"/>
                  </a:lnTo>
                  <a:lnTo>
                    <a:pt x="5486" y="42"/>
                  </a:lnTo>
                  <a:lnTo>
                    <a:pt x="5462" y="46"/>
                  </a:lnTo>
                  <a:lnTo>
                    <a:pt x="5446" y="44"/>
                  </a:lnTo>
                  <a:lnTo>
                    <a:pt x="5454" y="37"/>
                  </a:lnTo>
                  <a:lnTo>
                    <a:pt x="5426" y="46"/>
                  </a:lnTo>
                  <a:lnTo>
                    <a:pt x="5450" y="49"/>
                  </a:lnTo>
                  <a:lnTo>
                    <a:pt x="5434" y="54"/>
                  </a:lnTo>
                  <a:lnTo>
                    <a:pt x="5450" y="51"/>
                  </a:lnTo>
                  <a:lnTo>
                    <a:pt x="5421" y="61"/>
                  </a:lnTo>
                  <a:lnTo>
                    <a:pt x="5369" y="63"/>
                  </a:lnTo>
                  <a:lnTo>
                    <a:pt x="5390" y="59"/>
                  </a:lnTo>
                  <a:lnTo>
                    <a:pt x="5392" y="51"/>
                  </a:lnTo>
                  <a:lnTo>
                    <a:pt x="5373" y="59"/>
                  </a:lnTo>
                  <a:lnTo>
                    <a:pt x="5385" y="51"/>
                  </a:lnTo>
                  <a:lnTo>
                    <a:pt x="5365" y="56"/>
                  </a:lnTo>
                  <a:lnTo>
                    <a:pt x="5357" y="56"/>
                  </a:lnTo>
                  <a:lnTo>
                    <a:pt x="5341" y="56"/>
                  </a:lnTo>
                  <a:lnTo>
                    <a:pt x="5345" y="49"/>
                  </a:lnTo>
                  <a:lnTo>
                    <a:pt x="5329" y="54"/>
                  </a:lnTo>
                  <a:lnTo>
                    <a:pt x="5336" y="49"/>
                  </a:lnTo>
                  <a:lnTo>
                    <a:pt x="5320" y="54"/>
                  </a:lnTo>
                  <a:lnTo>
                    <a:pt x="5312" y="51"/>
                  </a:lnTo>
                  <a:lnTo>
                    <a:pt x="5341" y="44"/>
                  </a:lnTo>
                  <a:lnTo>
                    <a:pt x="5312" y="51"/>
                  </a:lnTo>
                  <a:lnTo>
                    <a:pt x="5309" y="51"/>
                  </a:lnTo>
                  <a:lnTo>
                    <a:pt x="5312" y="46"/>
                  </a:lnTo>
                  <a:lnTo>
                    <a:pt x="5357" y="39"/>
                  </a:lnTo>
                  <a:lnTo>
                    <a:pt x="5381" y="42"/>
                  </a:lnTo>
                  <a:lnTo>
                    <a:pt x="5414" y="29"/>
                  </a:lnTo>
                  <a:lnTo>
                    <a:pt x="5426" y="32"/>
                  </a:lnTo>
                  <a:lnTo>
                    <a:pt x="5405" y="37"/>
                  </a:lnTo>
                  <a:lnTo>
                    <a:pt x="5421" y="42"/>
                  </a:lnTo>
                  <a:lnTo>
                    <a:pt x="5470" y="32"/>
                  </a:lnTo>
                  <a:lnTo>
                    <a:pt x="5426" y="39"/>
                  </a:lnTo>
                  <a:lnTo>
                    <a:pt x="5426" y="34"/>
                  </a:lnTo>
                  <a:lnTo>
                    <a:pt x="5450" y="32"/>
                  </a:lnTo>
                  <a:lnTo>
                    <a:pt x="5438" y="29"/>
                  </a:lnTo>
                  <a:lnTo>
                    <a:pt x="5450" y="29"/>
                  </a:lnTo>
                  <a:close/>
                  <a:moveTo>
                    <a:pt x="5365" y="19"/>
                  </a:moveTo>
                  <a:lnTo>
                    <a:pt x="5361" y="19"/>
                  </a:lnTo>
                  <a:lnTo>
                    <a:pt x="5336" y="19"/>
                  </a:lnTo>
                  <a:lnTo>
                    <a:pt x="5345" y="16"/>
                  </a:lnTo>
                  <a:lnTo>
                    <a:pt x="5365" y="19"/>
                  </a:lnTo>
                  <a:close/>
                  <a:moveTo>
                    <a:pt x="5333" y="14"/>
                  </a:moveTo>
                  <a:lnTo>
                    <a:pt x="5320" y="17"/>
                  </a:lnTo>
                  <a:lnTo>
                    <a:pt x="5324" y="13"/>
                  </a:lnTo>
                  <a:lnTo>
                    <a:pt x="5333" y="14"/>
                  </a:lnTo>
                  <a:close/>
                  <a:moveTo>
                    <a:pt x="5253" y="3"/>
                  </a:moveTo>
                  <a:lnTo>
                    <a:pt x="5220" y="7"/>
                  </a:lnTo>
                  <a:lnTo>
                    <a:pt x="5183" y="9"/>
                  </a:lnTo>
                  <a:lnTo>
                    <a:pt x="5224" y="0"/>
                  </a:lnTo>
                  <a:lnTo>
                    <a:pt x="5237" y="0"/>
                  </a:lnTo>
                  <a:lnTo>
                    <a:pt x="5253" y="3"/>
                  </a:lnTo>
                  <a:close/>
                  <a:moveTo>
                    <a:pt x="4905" y="358"/>
                  </a:moveTo>
                  <a:lnTo>
                    <a:pt x="4893" y="364"/>
                  </a:lnTo>
                  <a:lnTo>
                    <a:pt x="4893" y="356"/>
                  </a:lnTo>
                  <a:lnTo>
                    <a:pt x="4905" y="358"/>
                  </a:lnTo>
                  <a:close/>
                  <a:moveTo>
                    <a:pt x="5135" y="223"/>
                  </a:moveTo>
                  <a:lnTo>
                    <a:pt x="5127" y="223"/>
                  </a:lnTo>
                  <a:lnTo>
                    <a:pt x="5131" y="229"/>
                  </a:lnTo>
                  <a:lnTo>
                    <a:pt x="5143" y="226"/>
                  </a:lnTo>
                  <a:lnTo>
                    <a:pt x="5127" y="233"/>
                  </a:lnTo>
                  <a:lnTo>
                    <a:pt x="5151" y="226"/>
                  </a:lnTo>
                  <a:lnTo>
                    <a:pt x="5127" y="236"/>
                  </a:lnTo>
                  <a:lnTo>
                    <a:pt x="5147" y="231"/>
                  </a:lnTo>
                  <a:lnTo>
                    <a:pt x="5139" y="238"/>
                  </a:lnTo>
                  <a:lnTo>
                    <a:pt x="5151" y="231"/>
                  </a:lnTo>
                  <a:lnTo>
                    <a:pt x="5163" y="231"/>
                  </a:lnTo>
                  <a:lnTo>
                    <a:pt x="5143" y="238"/>
                  </a:lnTo>
                  <a:lnTo>
                    <a:pt x="5159" y="233"/>
                  </a:lnTo>
                  <a:lnTo>
                    <a:pt x="5159" y="238"/>
                  </a:lnTo>
                  <a:lnTo>
                    <a:pt x="5147" y="245"/>
                  </a:lnTo>
                  <a:lnTo>
                    <a:pt x="5135" y="243"/>
                  </a:lnTo>
                  <a:lnTo>
                    <a:pt x="5143" y="245"/>
                  </a:lnTo>
                  <a:lnTo>
                    <a:pt x="5147" y="245"/>
                  </a:lnTo>
                  <a:lnTo>
                    <a:pt x="5123" y="250"/>
                  </a:lnTo>
                  <a:lnTo>
                    <a:pt x="5147" y="245"/>
                  </a:lnTo>
                  <a:lnTo>
                    <a:pt x="5139" y="250"/>
                  </a:lnTo>
                  <a:lnTo>
                    <a:pt x="5163" y="245"/>
                  </a:lnTo>
                  <a:lnTo>
                    <a:pt x="5131" y="255"/>
                  </a:lnTo>
                  <a:lnTo>
                    <a:pt x="5151" y="253"/>
                  </a:lnTo>
                  <a:lnTo>
                    <a:pt x="5139" y="260"/>
                  </a:lnTo>
                  <a:lnTo>
                    <a:pt x="5155" y="253"/>
                  </a:lnTo>
                  <a:lnTo>
                    <a:pt x="5151" y="258"/>
                  </a:lnTo>
                  <a:lnTo>
                    <a:pt x="5163" y="253"/>
                  </a:lnTo>
                  <a:lnTo>
                    <a:pt x="5171" y="253"/>
                  </a:lnTo>
                  <a:lnTo>
                    <a:pt x="5167" y="260"/>
                  </a:lnTo>
                  <a:lnTo>
                    <a:pt x="5151" y="260"/>
                  </a:lnTo>
                  <a:lnTo>
                    <a:pt x="5151" y="268"/>
                  </a:lnTo>
                  <a:lnTo>
                    <a:pt x="5127" y="266"/>
                  </a:lnTo>
                  <a:lnTo>
                    <a:pt x="5131" y="273"/>
                  </a:lnTo>
                  <a:lnTo>
                    <a:pt x="5115" y="270"/>
                  </a:lnTo>
                  <a:lnTo>
                    <a:pt x="5115" y="278"/>
                  </a:lnTo>
                  <a:lnTo>
                    <a:pt x="5107" y="275"/>
                  </a:lnTo>
                  <a:lnTo>
                    <a:pt x="5098" y="280"/>
                  </a:lnTo>
                  <a:lnTo>
                    <a:pt x="5098" y="273"/>
                  </a:lnTo>
                  <a:lnTo>
                    <a:pt x="5054" y="295"/>
                  </a:lnTo>
                  <a:lnTo>
                    <a:pt x="5062" y="287"/>
                  </a:lnTo>
                  <a:lnTo>
                    <a:pt x="5050" y="287"/>
                  </a:lnTo>
                  <a:lnTo>
                    <a:pt x="5066" y="283"/>
                  </a:lnTo>
                  <a:lnTo>
                    <a:pt x="5046" y="287"/>
                  </a:lnTo>
                  <a:lnTo>
                    <a:pt x="5050" y="283"/>
                  </a:lnTo>
                  <a:lnTo>
                    <a:pt x="5066" y="280"/>
                  </a:lnTo>
                  <a:lnTo>
                    <a:pt x="5050" y="283"/>
                  </a:lnTo>
                  <a:lnTo>
                    <a:pt x="5066" y="278"/>
                  </a:lnTo>
                  <a:lnTo>
                    <a:pt x="5066" y="275"/>
                  </a:lnTo>
                  <a:lnTo>
                    <a:pt x="5059" y="275"/>
                  </a:lnTo>
                  <a:lnTo>
                    <a:pt x="5102" y="263"/>
                  </a:lnTo>
                  <a:lnTo>
                    <a:pt x="5059" y="270"/>
                  </a:lnTo>
                  <a:lnTo>
                    <a:pt x="5082" y="263"/>
                  </a:lnTo>
                  <a:lnTo>
                    <a:pt x="5062" y="268"/>
                  </a:lnTo>
                  <a:lnTo>
                    <a:pt x="5066" y="255"/>
                  </a:lnTo>
                  <a:lnTo>
                    <a:pt x="5050" y="255"/>
                  </a:lnTo>
                  <a:lnTo>
                    <a:pt x="5046" y="263"/>
                  </a:lnTo>
                  <a:lnTo>
                    <a:pt x="5046" y="255"/>
                  </a:lnTo>
                  <a:lnTo>
                    <a:pt x="5042" y="260"/>
                  </a:lnTo>
                  <a:lnTo>
                    <a:pt x="5034" y="268"/>
                  </a:lnTo>
                  <a:lnTo>
                    <a:pt x="5022" y="270"/>
                  </a:lnTo>
                  <a:lnTo>
                    <a:pt x="5026" y="260"/>
                  </a:lnTo>
                  <a:lnTo>
                    <a:pt x="5001" y="278"/>
                  </a:lnTo>
                  <a:lnTo>
                    <a:pt x="5014" y="278"/>
                  </a:lnTo>
                  <a:lnTo>
                    <a:pt x="4997" y="285"/>
                  </a:lnTo>
                  <a:lnTo>
                    <a:pt x="4994" y="292"/>
                  </a:lnTo>
                  <a:lnTo>
                    <a:pt x="5006" y="287"/>
                  </a:lnTo>
                  <a:lnTo>
                    <a:pt x="4997" y="295"/>
                  </a:lnTo>
                  <a:lnTo>
                    <a:pt x="5014" y="292"/>
                  </a:lnTo>
                  <a:lnTo>
                    <a:pt x="5009" y="300"/>
                  </a:lnTo>
                  <a:lnTo>
                    <a:pt x="4994" y="302"/>
                  </a:lnTo>
                  <a:lnTo>
                    <a:pt x="5001" y="309"/>
                  </a:lnTo>
                  <a:lnTo>
                    <a:pt x="4974" y="324"/>
                  </a:lnTo>
                  <a:lnTo>
                    <a:pt x="4982" y="315"/>
                  </a:lnTo>
                  <a:lnTo>
                    <a:pt x="4958" y="332"/>
                  </a:lnTo>
                  <a:lnTo>
                    <a:pt x="4945" y="332"/>
                  </a:lnTo>
                  <a:lnTo>
                    <a:pt x="4933" y="339"/>
                  </a:lnTo>
                  <a:lnTo>
                    <a:pt x="4945" y="332"/>
                  </a:lnTo>
                  <a:lnTo>
                    <a:pt x="4933" y="327"/>
                  </a:lnTo>
                  <a:lnTo>
                    <a:pt x="4929" y="329"/>
                  </a:lnTo>
                  <a:lnTo>
                    <a:pt x="4937" y="322"/>
                  </a:lnTo>
                  <a:lnTo>
                    <a:pt x="4925" y="329"/>
                  </a:lnTo>
                  <a:lnTo>
                    <a:pt x="4929" y="312"/>
                  </a:lnTo>
                  <a:lnTo>
                    <a:pt x="4916" y="320"/>
                  </a:lnTo>
                  <a:lnTo>
                    <a:pt x="4909" y="309"/>
                  </a:lnTo>
                  <a:lnTo>
                    <a:pt x="4905" y="344"/>
                  </a:lnTo>
                  <a:lnTo>
                    <a:pt x="4889" y="351"/>
                  </a:lnTo>
                  <a:lnTo>
                    <a:pt x="4852" y="341"/>
                  </a:lnTo>
                  <a:lnTo>
                    <a:pt x="4860" y="329"/>
                  </a:lnTo>
                  <a:lnTo>
                    <a:pt x="4837" y="322"/>
                  </a:lnTo>
                  <a:lnTo>
                    <a:pt x="4848" y="320"/>
                  </a:lnTo>
                  <a:lnTo>
                    <a:pt x="4832" y="322"/>
                  </a:lnTo>
                  <a:lnTo>
                    <a:pt x="4837" y="312"/>
                  </a:lnTo>
                  <a:lnTo>
                    <a:pt x="4860" y="309"/>
                  </a:lnTo>
                  <a:lnTo>
                    <a:pt x="4844" y="307"/>
                  </a:lnTo>
                  <a:lnTo>
                    <a:pt x="4857" y="302"/>
                  </a:lnTo>
                  <a:lnTo>
                    <a:pt x="4852" y="295"/>
                  </a:lnTo>
                  <a:lnTo>
                    <a:pt x="4869" y="287"/>
                  </a:lnTo>
                  <a:lnTo>
                    <a:pt x="4844" y="292"/>
                  </a:lnTo>
                  <a:lnTo>
                    <a:pt x="4857" y="280"/>
                  </a:lnTo>
                  <a:lnTo>
                    <a:pt x="4837" y="289"/>
                  </a:lnTo>
                  <a:lnTo>
                    <a:pt x="4828" y="287"/>
                  </a:lnTo>
                  <a:lnTo>
                    <a:pt x="4812" y="289"/>
                  </a:lnTo>
                  <a:lnTo>
                    <a:pt x="4788" y="292"/>
                  </a:lnTo>
                  <a:lnTo>
                    <a:pt x="4776" y="285"/>
                  </a:lnTo>
                  <a:lnTo>
                    <a:pt x="4784" y="280"/>
                  </a:lnTo>
                  <a:lnTo>
                    <a:pt x="4837" y="266"/>
                  </a:lnTo>
                  <a:lnTo>
                    <a:pt x="4852" y="273"/>
                  </a:lnTo>
                  <a:lnTo>
                    <a:pt x="4837" y="283"/>
                  </a:lnTo>
                  <a:lnTo>
                    <a:pt x="4857" y="275"/>
                  </a:lnTo>
                  <a:lnTo>
                    <a:pt x="4852" y="270"/>
                  </a:lnTo>
                  <a:lnTo>
                    <a:pt x="4905" y="270"/>
                  </a:lnTo>
                  <a:lnTo>
                    <a:pt x="4916" y="255"/>
                  </a:lnTo>
                  <a:lnTo>
                    <a:pt x="4970" y="245"/>
                  </a:lnTo>
                  <a:lnTo>
                    <a:pt x="4990" y="250"/>
                  </a:lnTo>
                  <a:lnTo>
                    <a:pt x="4965" y="263"/>
                  </a:lnTo>
                  <a:lnTo>
                    <a:pt x="4994" y="258"/>
                  </a:lnTo>
                  <a:lnTo>
                    <a:pt x="5006" y="260"/>
                  </a:lnTo>
                  <a:lnTo>
                    <a:pt x="5022" y="258"/>
                  </a:lnTo>
                  <a:lnTo>
                    <a:pt x="5026" y="253"/>
                  </a:lnTo>
                  <a:lnTo>
                    <a:pt x="5018" y="243"/>
                  </a:lnTo>
                  <a:lnTo>
                    <a:pt x="4994" y="250"/>
                  </a:lnTo>
                  <a:lnTo>
                    <a:pt x="4974" y="245"/>
                  </a:lnTo>
                  <a:lnTo>
                    <a:pt x="5009" y="236"/>
                  </a:lnTo>
                  <a:lnTo>
                    <a:pt x="5042" y="216"/>
                  </a:lnTo>
                  <a:lnTo>
                    <a:pt x="5034" y="213"/>
                  </a:lnTo>
                  <a:lnTo>
                    <a:pt x="5054" y="209"/>
                  </a:lnTo>
                  <a:lnTo>
                    <a:pt x="5042" y="204"/>
                  </a:lnTo>
                  <a:lnTo>
                    <a:pt x="5059" y="199"/>
                  </a:lnTo>
                  <a:lnTo>
                    <a:pt x="5009" y="204"/>
                  </a:lnTo>
                  <a:lnTo>
                    <a:pt x="5026" y="199"/>
                  </a:lnTo>
                  <a:lnTo>
                    <a:pt x="5054" y="194"/>
                  </a:lnTo>
                  <a:lnTo>
                    <a:pt x="5054" y="187"/>
                  </a:lnTo>
                  <a:lnTo>
                    <a:pt x="5066" y="187"/>
                  </a:lnTo>
                  <a:lnTo>
                    <a:pt x="5050" y="187"/>
                  </a:lnTo>
                  <a:lnTo>
                    <a:pt x="5071" y="179"/>
                  </a:lnTo>
                  <a:lnTo>
                    <a:pt x="5050" y="182"/>
                  </a:lnTo>
                  <a:lnTo>
                    <a:pt x="5071" y="174"/>
                  </a:lnTo>
                  <a:lnTo>
                    <a:pt x="5078" y="165"/>
                  </a:lnTo>
                  <a:lnTo>
                    <a:pt x="5059" y="167"/>
                  </a:lnTo>
                  <a:lnTo>
                    <a:pt x="5042" y="179"/>
                  </a:lnTo>
                  <a:lnTo>
                    <a:pt x="5014" y="169"/>
                  </a:lnTo>
                  <a:lnTo>
                    <a:pt x="5001" y="179"/>
                  </a:lnTo>
                  <a:lnTo>
                    <a:pt x="5006" y="165"/>
                  </a:lnTo>
                  <a:lnTo>
                    <a:pt x="5001" y="174"/>
                  </a:lnTo>
                  <a:lnTo>
                    <a:pt x="4986" y="177"/>
                  </a:lnTo>
                  <a:lnTo>
                    <a:pt x="4958" y="169"/>
                  </a:lnTo>
                  <a:lnTo>
                    <a:pt x="4949" y="167"/>
                  </a:lnTo>
                  <a:lnTo>
                    <a:pt x="4970" y="157"/>
                  </a:lnTo>
                  <a:lnTo>
                    <a:pt x="4933" y="159"/>
                  </a:lnTo>
                  <a:lnTo>
                    <a:pt x="4965" y="142"/>
                  </a:lnTo>
                  <a:lnTo>
                    <a:pt x="4990" y="147"/>
                  </a:lnTo>
                  <a:lnTo>
                    <a:pt x="4974" y="138"/>
                  </a:lnTo>
                  <a:lnTo>
                    <a:pt x="5006" y="128"/>
                  </a:lnTo>
                  <a:lnTo>
                    <a:pt x="5107" y="105"/>
                  </a:lnTo>
                  <a:lnTo>
                    <a:pt x="5175" y="98"/>
                  </a:lnTo>
                  <a:lnTo>
                    <a:pt x="5183" y="100"/>
                  </a:lnTo>
                  <a:lnTo>
                    <a:pt x="5111" y="115"/>
                  </a:lnTo>
                  <a:lnTo>
                    <a:pt x="5059" y="130"/>
                  </a:lnTo>
                  <a:lnTo>
                    <a:pt x="5034" y="145"/>
                  </a:lnTo>
                  <a:lnTo>
                    <a:pt x="4994" y="147"/>
                  </a:lnTo>
                  <a:lnTo>
                    <a:pt x="5030" y="147"/>
                  </a:lnTo>
                  <a:lnTo>
                    <a:pt x="5022" y="150"/>
                  </a:lnTo>
                  <a:lnTo>
                    <a:pt x="5062" y="138"/>
                  </a:lnTo>
                  <a:lnTo>
                    <a:pt x="5066" y="130"/>
                  </a:lnTo>
                  <a:lnTo>
                    <a:pt x="5086" y="128"/>
                  </a:lnTo>
                  <a:lnTo>
                    <a:pt x="5086" y="132"/>
                  </a:lnTo>
                  <a:lnTo>
                    <a:pt x="5095" y="128"/>
                  </a:lnTo>
                  <a:lnTo>
                    <a:pt x="5107" y="125"/>
                  </a:lnTo>
                  <a:lnTo>
                    <a:pt x="5123" y="115"/>
                  </a:lnTo>
                  <a:lnTo>
                    <a:pt x="5135" y="120"/>
                  </a:lnTo>
                  <a:lnTo>
                    <a:pt x="5139" y="110"/>
                  </a:lnTo>
                  <a:lnTo>
                    <a:pt x="5151" y="115"/>
                  </a:lnTo>
                  <a:lnTo>
                    <a:pt x="5151" y="108"/>
                  </a:lnTo>
                  <a:lnTo>
                    <a:pt x="5175" y="108"/>
                  </a:lnTo>
                  <a:lnTo>
                    <a:pt x="5171" y="110"/>
                  </a:lnTo>
                  <a:lnTo>
                    <a:pt x="5179" y="105"/>
                  </a:lnTo>
                  <a:lnTo>
                    <a:pt x="5216" y="105"/>
                  </a:lnTo>
                  <a:lnTo>
                    <a:pt x="5179" y="125"/>
                  </a:lnTo>
                  <a:lnTo>
                    <a:pt x="5135" y="132"/>
                  </a:lnTo>
                  <a:lnTo>
                    <a:pt x="5155" y="130"/>
                  </a:lnTo>
                  <a:lnTo>
                    <a:pt x="5123" y="140"/>
                  </a:lnTo>
                  <a:lnTo>
                    <a:pt x="5155" y="132"/>
                  </a:lnTo>
                  <a:lnTo>
                    <a:pt x="5151" y="135"/>
                  </a:lnTo>
                  <a:lnTo>
                    <a:pt x="5171" y="130"/>
                  </a:lnTo>
                  <a:lnTo>
                    <a:pt x="5155" y="135"/>
                  </a:lnTo>
                  <a:lnTo>
                    <a:pt x="5167" y="135"/>
                  </a:lnTo>
                  <a:lnTo>
                    <a:pt x="5147" y="140"/>
                  </a:lnTo>
                  <a:lnTo>
                    <a:pt x="5163" y="138"/>
                  </a:lnTo>
                  <a:lnTo>
                    <a:pt x="5159" y="145"/>
                  </a:lnTo>
                  <a:lnTo>
                    <a:pt x="5171" y="135"/>
                  </a:lnTo>
                  <a:lnTo>
                    <a:pt x="5187" y="140"/>
                  </a:lnTo>
                  <a:lnTo>
                    <a:pt x="5183" y="132"/>
                  </a:lnTo>
                  <a:lnTo>
                    <a:pt x="5220" y="128"/>
                  </a:lnTo>
                  <a:lnTo>
                    <a:pt x="5220" y="140"/>
                  </a:lnTo>
                  <a:lnTo>
                    <a:pt x="5196" y="142"/>
                  </a:lnTo>
                  <a:lnTo>
                    <a:pt x="5179" y="145"/>
                  </a:lnTo>
                  <a:lnTo>
                    <a:pt x="5204" y="142"/>
                  </a:lnTo>
                  <a:lnTo>
                    <a:pt x="5175" y="147"/>
                  </a:lnTo>
                  <a:lnTo>
                    <a:pt x="5212" y="142"/>
                  </a:lnTo>
                  <a:lnTo>
                    <a:pt x="5216" y="145"/>
                  </a:lnTo>
                  <a:lnTo>
                    <a:pt x="5183" y="150"/>
                  </a:lnTo>
                  <a:lnTo>
                    <a:pt x="5175" y="152"/>
                  </a:lnTo>
                  <a:lnTo>
                    <a:pt x="5192" y="150"/>
                  </a:lnTo>
                  <a:lnTo>
                    <a:pt x="5159" y="159"/>
                  </a:lnTo>
                  <a:lnTo>
                    <a:pt x="5199" y="150"/>
                  </a:lnTo>
                  <a:lnTo>
                    <a:pt x="5192" y="154"/>
                  </a:lnTo>
                  <a:lnTo>
                    <a:pt x="5212" y="150"/>
                  </a:lnTo>
                  <a:lnTo>
                    <a:pt x="5171" y="159"/>
                  </a:lnTo>
                  <a:lnTo>
                    <a:pt x="5199" y="152"/>
                  </a:lnTo>
                  <a:lnTo>
                    <a:pt x="5196" y="157"/>
                  </a:lnTo>
                  <a:lnTo>
                    <a:pt x="5171" y="162"/>
                  </a:lnTo>
                  <a:lnTo>
                    <a:pt x="5192" y="159"/>
                  </a:lnTo>
                  <a:lnTo>
                    <a:pt x="5175" y="165"/>
                  </a:lnTo>
                  <a:lnTo>
                    <a:pt x="5220" y="152"/>
                  </a:lnTo>
                  <a:lnTo>
                    <a:pt x="5224" y="154"/>
                  </a:lnTo>
                  <a:lnTo>
                    <a:pt x="5220" y="162"/>
                  </a:lnTo>
                  <a:lnTo>
                    <a:pt x="5183" y="169"/>
                  </a:lnTo>
                  <a:lnTo>
                    <a:pt x="5167" y="172"/>
                  </a:lnTo>
                  <a:lnTo>
                    <a:pt x="5216" y="165"/>
                  </a:lnTo>
                  <a:lnTo>
                    <a:pt x="5212" y="169"/>
                  </a:lnTo>
                  <a:lnTo>
                    <a:pt x="5167" y="177"/>
                  </a:lnTo>
                  <a:lnTo>
                    <a:pt x="5175" y="177"/>
                  </a:lnTo>
                  <a:lnTo>
                    <a:pt x="5151" y="185"/>
                  </a:lnTo>
                  <a:lnTo>
                    <a:pt x="5192" y="174"/>
                  </a:lnTo>
                  <a:lnTo>
                    <a:pt x="5220" y="169"/>
                  </a:lnTo>
                  <a:lnTo>
                    <a:pt x="5192" y="177"/>
                  </a:lnTo>
                  <a:lnTo>
                    <a:pt x="5220" y="172"/>
                  </a:lnTo>
                  <a:lnTo>
                    <a:pt x="5224" y="179"/>
                  </a:lnTo>
                  <a:lnTo>
                    <a:pt x="5159" y="189"/>
                  </a:lnTo>
                  <a:lnTo>
                    <a:pt x="5196" y="185"/>
                  </a:lnTo>
                  <a:lnTo>
                    <a:pt x="5187" y="189"/>
                  </a:lnTo>
                  <a:lnTo>
                    <a:pt x="5155" y="194"/>
                  </a:lnTo>
                  <a:lnTo>
                    <a:pt x="5216" y="182"/>
                  </a:lnTo>
                  <a:lnTo>
                    <a:pt x="5212" y="191"/>
                  </a:lnTo>
                  <a:lnTo>
                    <a:pt x="5204" y="194"/>
                  </a:lnTo>
                  <a:lnTo>
                    <a:pt x="5151" y="196"/>
                  </a:lnTo>
                  <a:lnTo>
                    <a:pt x="5192" y="204"/>
                  </a:lnTo>
                  <a:lnTo>
                    <a:pt x="5183" y="206"/>
                  </a:lnTo>
                  <a:lnTo>
                    <a:pt x="5155" y="201"/>
                  </a:lnTo>
                  <a:lnTo>
                    <a:pt x="5167" y="204"/>
                  </a:lnTo>
                  <a:lnTo>
                    <a:pt x="5151" y="204"/>
                  </a:lnTo>
                  <a:lnTo>
                    <a:pt x="5159" y="204"/>
                  </a:lnTo>
                  <a:lnTo>
                    <a:pt x="5139" y="209"/>
                  </a:lnTo>
                  <a:lnTo>
                    <a:pt x="5159" y="204"/>
                  </a:lnTo>
                  <a:lnTo>
                    <a:pt x="5147" y="209"/>
                  </a:lnTo>
                  <a:lnTo>
                    <a:pt x="5143" y="209"/>
                  </a:lnTo>
                  <a:lnTo>
                    <a:pt x="5151" y="213"/>
                  </a:lnTo>
                  <a:lnTo>
                    <a:pt x="5131" y="209"/>
                  </a:lnTo>
                  <a:lnTo>
                    <a:pt x="5143" y="213"/>
                  </a:lnTo>
                  <a:lnTo>
                    <a:pt x="5123" y="213"/>
                  </a:lnTo>
                  <a:lnTo>
                    <a:pt x="5131" y="219"/>
                  </a:lnTo>
                  <a:lnTo>
                    <a:pt x="5135" y="221"/>
                  </a:lnTo>
                  <a:lnTo>
                    <a:pt x="5151" y="221"/>
                  </a:lnTo>
                  <a:lnTo>
                    <a:pt x="5131" y="221"/>
                  </a:lnTo>
                  <a:lnTo>
                    <a:pt x="5135" y="223"/>
                  </a:lnTo>
                  <a:close/>
                  <a:moveTo>
                    <a:pt x="5006" y="216"/>
                  </a:moveTo>
                  <a:lnTo>
                    <a:pt x="4958" y="231"/>
                  </a:lnTo>
                  <a:lnTo>
                    <a:pt x="4933" y="231"/>
                  </a:lnTo>
                  <a:lnTo>
                    <a:pt x="4949" y="221"/>
                  </a:lnTo>
                  <a:lnTo>
                    <a:pt x="4990" y="211"/>
                  </a:lnTo>
                  <a:lnTo>
                    <a:pt x="5006" y="216"/>
                  </a:lnTo>
                  <a:close/>
                  <a:moveTo>
                    <a:pt x="4651" y="324"/>
                  </a:moveTo>
                  <a:lnTo>
                    <a:pt x="4606" y="339"/>
                  </a:lnTo>
                  <a:lnTo>
                    <a:pt x="4622" y="329"/>
                  </a:lnTo>
                  <a:lnTo>
                    <a:pt x="4651" y="324"/>
                  </a:lnTo>
                  <a:close/>
                  <a:moveTo>
                    <a:pt x="5232" y="105"/>
                  </a:moveTo>
                  <a:lnTo>
                    <a:pt x="5260" y="115"/>
                  </a:lnTo>
                  <a:lnTo>
                    <a:pt x="5232" y="128"/>
                  </a:lnTo>
                  <a:lnTo>
                    <a:pt x="5187" y="125"/>
                  </a:lnTo>
                  <a:lnTo>
                    <a:pt x="5232" y="105"/>
                  </a:lnTo>
                  <a:close/>
                  <a:moveTo>
                    <a:pt x="4630" y="307"/>
                  </a:moveTo>
                  <a:lnTo>
                    <a:pt x="4622" y="315"/>
                  </a:lnTo>
                  <a:lnTo>
                    <a:pt x="4570" y="322"/>
                  </a:lnTo>
                  <a:lnTo>
                    <a:pt x="4562" y="322"/>
                  </a:lnTo>
                  <a:lnTo>
                    <a:pt x="4570" y="317"/>
                  </a:lnTo>
                  <a:lnTo>
                    <a:pt x="4606" y="307"/>
                  </a:lnTo>
                  <a:lnTo>
                    <a:pt x="4630" y="307"/>
                  </a:lnTo>
                  <a:close/>
                  <a:moveTo>
                    <a:pt x="4711" y="268"/>
                  </a:moveTo>
                  <a:lnTo>
                    <a:pt x="4711" y="278"/>
                  </a:lnTo>
                  <a:lnTo>
                    <a:pt x="4683" y="287"/>
                  </a:lnTo>
                  <a:lnTo>
                    <a:pt x="4707" y="295"/>
                  </a:lnTo>
                  <a:lnTo>
                    <a:pt x="4675" y="300"/>
                  </a:lnTo>
                  <a:lnTo>
                    <a:pt x="4658" y="292"/>
                  </a:lnTo>
                  <a:lnTo>
                    <a:pt x="4663" y="287"/>
                  </a:lnTo>
                  <a:lnTo>
                    <a:pt x="4675" y="283"/>
                  </a:lnTo>
                  <a:lnTo>
                    <a:pt x="4642" y="289"/>
                  </a:lnTo>
                  <a:lnTo>
                    <a:pt x="4582" y="300"/>
                  </a:lnTo>
                  <a:lnTo>
                    <a:pt x="4606" y="287"/>
                  </a:lnTo>
                  <a:lnTo>
                    <a:pt x="4570" y="287"/>
                  </a:lnTo>
                  <a:lnTo>
                    <a:pt x="4613" y="280"/>
                  </a:lnTo>
                  <a:lnTo>
                    <a:pt x="4723" y="245"/>
                  </a:lnTo>
                  <a:lnTo>
                    <a:pt x="4694" y="260"/>
                  </a:lnTo>
                  <a:lnTo>
                    <a:pt x="4715" y="255"/>
                  </a:lnTo>
                  <a:lnTo>
                    <a:pt x="4711" y="268"/>
                  </a:lnTo>
                  <a:close/>
                  <a:moveTo>
                    <a:pt x="5297" y="44"/>
                  </a:moveTo>
                  <a:lnTo>
                    <a:pt x="5300" y="49"/>
                  </a:lnTo>
                  <a:lnTo>
                    <a:pt x="5288" y="49"/>
                  </a:lnTo>
                  <a:lnTo>
                    <a:pt x="5297" y="54"/>
                  </a:lnTo>
                  <a:lnTo>
                    <a:pt x="5276" y="51"/>
                  </a:lnTo>
                  <a:lnTo>
                    <a:pt x="5276" y="56"/>
                  </a:lnTo>
                  <a:lnTo>
                    <a:pt x="5252" y="59"/>
                  </a:lnTo>
                  <a:lnTo>
                    <a:pt x="5272" y="56"/>
                  </a:lnTo>
                  <a:lnTo>
                    <a:pt x="5268" y="61"/>
                  </a:lnTo>
                  <a:lnTo>
                    <a:pt x="5244" y="69"/>
                  </a:lnTo>
                  <a:lnTo>
                    <a:pt x="5264" y="63"/>
                  </a:lnTo>
                  <a:lnTo>
                    <a:pt x="5276" y="71"/>
                  </a:lnTo>
                  <a:lnTo>
                    <a:pt x="5276" y="69"/>
                  </a:lnTo>
                  <a:lnTo>
                    <a:pt x="5320" y="66"/>
                  </a:lnTo>
                  <a:lnTo>
                    <a:pt x="5345" y="74"/>
                  </a:lnTo>
                  <a:lnTo>
                    <a:pt x="5333" y="81"/>
                  </a:lnTo>
                  <a:lnTo>
                    <a:pt x="5309" y="83"/>
                  </a:lnTo>
                  <a:lnTo>
                    <a:pt x="5312" y="88"/>
                  </a:lnTo>
                  <a:lnTo>
                    <a:pt x="5300" y="86"/>
                  </a:lnTo>
                  <a:lnTo>
                    <a:pt x="5284" y="91"/>
                  </a:lnTo>
                  <a:lnTo>
                    <a:pt x="5256" y="88"/>
                  </a:lnTo>
                  <a:lnTo>
                    <a:pt x="5268" y="83"/>
                  </a:lnTo>
                  <a:lnTo>
                    <a:pt x="5235" y="88"/>
                  </a:lnTo>
                  <a:lnTo>
                    <a:pt x="5240" y="83"/>
                  </a:lnTo>
                  <a:lnTo>
                    <a:pt x="5224" y="88"/>
                  </a:lnTo>
                  <a:lnTo>
                    <a:pt x="5232" y="83"/>
                  </a:lnTo>
                  <a:lnTo>
                    <a:pt x="5220" y="88"/>
                  </a:lnTo>
                  <a:lnTo>
                    <a:pt x="5192" y="83"/>
                  </a:lnTo>
                  <a:lnTo>
                    <a:pt x="5216" y="76"/>
                  </a:lnTo>
                  <a:lnTo>
                    <a:pt x="5183" y="81"/>
                  </a:lnTo>
                  <a:lnTo>
                    <a:pt x="5175" y="78"/>
                  </a:lnTo>
                  <a:lnTo>
                    <a:pt x="5192" y="74"/>
                  </a:lnTo>
                  <a:lnTo>
                    <a:pt x="5167" y="78"/>
                  </a:lnTo>
                  <a:lnTo>
                    <a:pt x="5232" y="61"/>
                  </a:lnTo>
                  <a:lnTo>
                    <a:pt x="5268" y="46"/>
                  </a:lnTo>
                  <a:lnTo>
                    <a:pt x="5248" y="44"/>
                  </a:lnTo>
                  <a:lnTo>
                    <a:pt x="5260" y="37"/>
                  </a:lnTo>
                  <a:lnTo>
                    <a:pt x="5293" y="32"/>
                  </a:lnTo>
                  <a:lnTo>
                    <a:pt x="5300" y="37"/>
                  </a:lnTo>
                  <a:lnTo>
                    <a:pt x="5264" y="46"/>
                  </a:lnTo>
                  <a:lnTo>
                    <a:pt x="5297" y="44"/>
                  </a:lnTo>
                  <a:close/>
                  <a:moveTo>
                    <a:pt x="5204" y="56"/>
                  </a:moveTo>
                  <a:lnTo>
                    <a:pt x="5187" y="66"/>
                  </a:lnTo>
                  <a:lnTo>
                    <a:pt x="5143" y="76"/>
                  </a:lnTo>
                  <a:lnTo>
                    <a:pt x="5139" y="66"/>
                  </a:lnTo>
                  <a:lnTo>
                    <a:pt x="5204" y="56"/>
                  </a:lnTo>
                  <a:close/>
                  <a:moveTo>
                    <a:pt x="5090" y="83"/>
                  </a:moveTo>
                  <a:lnTo>
                    <a:pt x="5135" y="93"/>
                  </a:lnTo>
                  <a:lnTo>
                    <a:pt x="5038" y="110"/>
                  </a:lnTo>
                  <a:lnTo>
                    <a:pt x="5014" y="105"/>
                  </a:lnTo>
                  <a:lnTo>
                    <a:pt x="5001" y="113"/>
                  </a:lnTo>
                  <a:lnTo>
                    <a:pt x="4965" y="120"/>
                  </a:lnTo>
                  <a:lnTo>
                    <a:pt x="4953" y="118"/>
                  </a:lnTo>
                  <a:lnTo>
                    <a:pt x="5001" y="103"/>
                  </a:lnTo>
                  <a:lnTo>
                    <a:pt x="5059" y="88"/>
                  </a:lnTo>
                  <a:lnTo>
                    <a:pt x="5071" y="91"/>
                  </a:lnTo>
                  <a:lnTo>
                    <a:pt x="5090" y="83"/>
                  </a:lnTo>
                  <a:close/>
                  <a:moveTo>
                    <a:pt x="4779" y="152"/>
                  </a:moveTo>
                  <a:lnTo>
                    <a:pt x="4748" y="169"/>
                  </a:lnTo>
                  <a:lnTo>
                    <a:pt x="4752" y="174"/>
                  </a:lnTo>
                  <a:lnTo>
                    <a:pt x="4736" y="179"/>
                  </a:lnTo>
                  <a:lnTo>
                    <a:pt x="4707" y="179"/>
                  </a:lnTo>
                  <a:lnTo>
                    <a:pt x="4694" y="167"/>
                  </a:lnTo>
                  <a:lnTo>
                    <a:pt x="4711" y="165"/>
                  </a:lnTo>
                  <a:lnTo>
                    <a:pt x="4736" y="162"/>
                  </a:lnTo>
                  <a:lnTo>
                    <a:pt x="4752" y="157"/>
                  </a:lnTo>
                  <a:lnTo>
                    <a:pt x="4752" y="159"/>
                  </a:lnTo>
                  <a:lnTo>
                    <a:pt x="4779" y="152"/>
                  </a:lnTo>
                  <a:close/>
                  <a:moveTo>
                    <a:pt x="5034" y="78"/>
                  </a:moveTo>
                  <a:lnTo>
                    <a:pt x="5022" y="83"/>
                  </a:lnTo>
                  <a:lnTo>
                    <a:pt x="5054" y="81"/>
                  </a:lnTo>
                  <a:lnTo>
                    <a:pt x="5050" y="86"/>
                  </a:lnTo>
                  <a:lnTo>
                    <a:pt x="4982" y="96"/>
                  </a:lnTo>
                  <a:lnTo>
                    <a:pt x="4994" y="98"/>
                  </a:lnTo>
                  <a:lnTo>
                    <a:pt x="4970" y="105"/>
                  </a:lnTo>
                  <a:lnTo>
                    <a:pt x="4986" y="103"/>
                  </a:lnTo>
                  <a:lnTo>
                    <a:pt x="4925" y="120"/>
                  </a:lnTo>
                  <a:lnTo>
                    <a:pt x="4901" y="123"/>
                  </a:lnTo>
                  <a:lnTo>
                    <a:pt x="4901" y="118"/>
                  </a:lnTo>
                  <a:lnTo>
                    <a:pt x="4889" y="123"/>
                  </a:lnTo>
                  <a:lnTo>
                    <a:pt x="4860" y="128"/>
                  </a:lnTo>
                  <a:lnTo>
                    <a:pt x="4885" y="115"/>
                  </a:lnTo>
                  <a:lnTo>
                    <a:pt x="4916" y="96"/>
                  </a:lnTo>
                  <a:lnTo>
                    <a:pt x="4949" y="91"/>
                  </a:lnTo>
                  <a:lnTo>
                    <a:pt x="4933" y="98"/>
                  </a:lnTo>
                  <a:lnTo>
                    <a:pt x="4965" y="93"/>
                  </a:lnTo>
                  <a:lnTo>
                    <a:pt x="4958" y="96"/>
                  </a:lnTo>
                  <a:lnTo>
                    <a:pt x="4977" y="91"/>
                  </a:lnTo>
                  <a:lnTo>
                    <a:pt x="4982" y="91"/>
                  </a:lnTo>
                  <a:lnTo>
                    <a:pt x="4982" y="83"/>
                  </a:lnTo>
                  <a:lnTo>
                    <a:pt x="4994" y="86"/>
                  </a:lnTo>
                  <a:lnTo>
                    <a:pt x="5006" y="81"/>
                  </a:lnTo>
                  <a:lnTo>
                    <a:pt x="5018" y="83"/>
                  </a:lnTo>
                  <a:lnTo>
                    <a:pt x="5034" y="78"/>
                  </a:lnTo>
                  <a:close/>
                  <a:moveTo>
                    <a:pt x="5224" y="34"/>
                  </a:moveTo>
                  <a:lnTo>
                    <a:pt x="5240" y="37"/>
                  </a:lnTo>
                  <a:lnTo>
                    <a:pt x="5235" y="39"/>
                  </a:lnTo>
                  <a:lnTo>
                    <a:pt x="5163" y="59"/>
                  </a:lnTo>
                  <a:lnTo>
                    <a:pt x="5139" y="61"/>
                  </a:lnTo>
                  <a:lnTo>
                    <a:pt x="5111" y="59"/>
                  </a:lnTo>
                  <a:lnTo>
                    <a:pt x="5131" y="54"/>
                  </a:lnTo>
                  <a:lnTo>
                    <a:pt x="5167" y="51"/>
                  </a:lnTo>
                  <a:lnTo>
                    <a:pt x="5123" y="49"/>
                  </a:lnTo>
                  <a:lnTo>
                    <a:pt x="5151" y="44"/>
                  </a:lnTo>
                  <a:lnTo>
                    <a:pt x="5159" y="46"/>
                  </a:lnTo>
                  <a:lnTo>
                    <a:pt x="5196" y="37"/>
                  </a:lnTo>
                  <a:lnTo>
                    <a:pt x="5183" y="46"/>
                  </a:lnTo>
                  <a:lnTo>
                    <a:pt x="5187" y="42"/>
                  </a:lnTo>
                  <a:lnTo>
                    <a:pt x="5208" y="37"/>
                  </a:lnTo>
                  <a:lnTo>
                    <a:pt x="5224" y="34"/>
                  </a:lnTo>
                  <a:close/>
                  <a:moveTo>
                    <a:pt x="4958" y="78"/>
                  </a:moveTo>
                  <a:lnTo>
                    <a:pt x="4901" y="88"/>
                  </a:lnTo>
                  <a:lnTo>
                    <a:pt x="4929" y="76"/>
                  </a:lnTo>
                  <a:lnTo>
                    <a:pt x="4965" y="74"/>
                  </a:lnTo>
                  <a:lnTo>
                    <a:pt x="4958" y="78"/>
                  </a:lnTo>
                  <a:close/>
                  <a:moveTo>
                    <a:pt x="5086" y="27"/>
                  </a:moveTo>
                  <a:lnTo>
                    <a:pt x="5046" y="37"/>
                  </a:lnTo>
                  <a:lnTo>
                    <a:pt x="5062" y="42"/>
                  </a:lnTo>
                  <a:lnTo>
                    <a:pt x="5082" y="34"/>
                  </a:lnTo>
                  <a:lnTo>
                    <a:pt x="5123" y="25"/>
                  </a:lnTo>
                  <a:lnTo>
                    <a:pt x="5171" y="19"/>
                  </a:lnTo>
                  <a:lnTo>
                    <a:pt x="5111" y="34"/>
                  </a:lnTo>
                  <a:lnTo>
                    <a:pt x="5095" y="39"/>
                  </a:lnTo>
                  <a:lnTo>
                    <a:pt x="5107" y="39"/>
                  </a:lnTo>
                  <a:lnTo>
                    <a:pt x="5127" y="37"/>
                  </a:lnTo>
                  <a:lnTo>
                    <a:pt x="5107" y="44"/>
                  </a:lnTo>
                  <a:lnTo>
                    <a:pt x="5054" y="51"/>
                  </a:lnTo>
                  <a:lnTo>
                    <a:pt x="5026" y="49"/>
                  </a:lnTo>
                  <a:lnTo>
                    <a:pt x="4949" y="54"/>
                  </a:lnTo>
                  <a:lnTo>
                    <a:pt x="4953" y="46"/>
                  </a:lnTo>
                  <a:lnTo>
                    <a:pt x="5026" y="42"/>
                  </a:lnTo>
                  <a:lnTo>
                    <a:pt x="4986" y="42"/>
                  </a:lnTo>
                  <a:lnTo>
                    <a:pt x="5001" y="39"/>
                  </a:lnTo>
                  <a:lnTo>
                    <a:pt x="5022" y="37"/>
                  </a:lnTo>
                  <a:lnTo>
                    <a:pt x="5018" y="34"/>
                  </a:lnTo>
                  <a:lnTo>
                    <a:pt x="4997" y="37"/>
                  </a:lnTo>
                  <a:lnTo>
                    <a:pt x="4970" y="42"/>
                  </a:lnTo>
                  <a:lnTo>
                    <a:pt x="4986" y="37"/>
                  </a:lnTo>
                  <a:lnTo>
                    <a:pt x="4965" y="39"/>
                  </a:lnTo>
                  <a:lnTo>
                    <a:pt x="4970" y="32"/>
                  </a:lnTo>
                  <a:lnTo>
                    <a:pt x="5026" y="29"/>
                  </a:lnTo>
                  <a:lnTo>
                    <a:pt x="5001" y="27"/>
                  </a:lnTo>
                  <a:lnTo>
                    <a:pt x="5046" y="27"/>
                  </a:lnTo>
                  <a:lnTo>
                    <a:pt x="5034" y="25"/>
                  </a:lnTo>
                  <a:lnTo>
                    <a:pt x="5059" y="19"/>
                  </a:lnTo>
                  <a:lnTo>
                    <a:pt x="5071" y="22"/>
                  </a:lnTo>
                  <a:lnTo>
                    <a:pt x="5066" y="19"/>
                  </a:lnTo>
                  <a:lnTo>
                    <a:pt x="5086" y="17"/>
                  </a:lnTo>
                  <a:lnTo>
                    <a:pt x="5098" y="19"/>
                  </a:lnTo>
                  <a:lnTo>
                    <a:pt x="5086" y="27"/>
                  </a:lnTo>
                  <a:close/>
                  <a:moveTo>
                    <a:pt x="4784" y="78"/>
                  </a:moveTo>
                  <a:lnTo>
                    <a:pt x="4796" y="81"/>
                  </a:lnTo>
                  <a:lnTo>
                    <a:pt x="4832" y="74"/>
                  </a:lnTo>
                  <a:lnTo>
                    <a:pt x="4828" y="83"/>
                  </a:lnTo>
                  <a:lnTo>
                    <a:pt x="4784" y="91"/>
                  </a:lnTo>
                  <a:lnTo>
                    <a:pt x="4808" y="86"/>
                  </a:lnTo>
                  <a:lnTo>
                    <a:pt x="4828" y="88"/>
                  </a:lnTo>
                  <a:lnTo>
                    <a:pt x="4860" y="78"/>
                  </a:lnTo>
                  <a:lnTo>
                    <a:pt x="4840" y="91"/>
                  </a:lnTo>
                  <a:lnTo>
                    <a:pt x="4779" y="105"/>
                  </a:lnTo>
                  <a:lnTo>
                    <a:pt x="4808" y="103"/>
                  </a:lnTo>
                  <a:lnTo>
                    <a:pt x="4909" y="76"/>
                  </a:lnTo>
                  <a:lnTo>
                    <a:pt x="4909" y="86"/>
                  </a:lnTo>
                  <a:lnTo>
                    <a:pt x="4864" y="98"/>
                  </a:lnTo>
                  <a:lnTo>
                    <a:pt x="4763" y="128"/>
                  </a:lnTo>
                  <a:lnTo>
                    <a:pt x="4759" y="142"/>
                  </a:lnTo>
                  <a:lnTo>
                    <a:pt x="4727" y="152"/>
                  </a:lnTo>
                  <a:lnTo>
                    <a:pt x="4740" y="147"/>
                  </a:lnTo>
                  <a:lnTo>
                    <a:pt x="4715" y="150"/>
                  </a:lnTo>
                  <a:lnTo>
                    <a:pt x="4727" y="145"/>
                  </a:lnTo>
                  <a:lnTo>
                    <a:pt x="4694" y="152"/>
                  </a:lnTo>
                  <a:lnTo>
                    <a:pt x="4694" y="147"/>
                  </a:lnTo>
                  <a:lnTo>
                    <a:pt x="4663" y="157"/>
                  </a:lnTo>
                  <a:lnTo>
                    <a:pt x="4699" y="152"/>
                  </a:lnTo>
                  <a:lnTo>
                    <a:pt x="4683" y="159"/>
                  </a:lnTo>
                  <a:lnTo>
                    <a:pt x="4642" y="165"/>
                  </a:lnTo>
                  <a:lnTo>
                    <a:pt x="4622" y="157"/>
                  </a:lnTo>
                  <a:lnTo>
                    <a:pt x="4635" y="154"/>
                  </a:lnTo>
                  <a:lnTo>
                    <a:pt x="4626" y="150"/>
                  </a:lnTo>
                  <a:lnTo>
                    <a:pt x="4647" y="145"/>
                  </a:lnTo>
                  <a:lnTo>
                    <a:pt x="4602" y="152"/>
                  </a:lnTo>
                  <a:lnTo>
                    <a:pt x="4554" y="154"/>
                  </a:lnTo>
                  <a:lnTo>
                    <a:pt x="4485" y="152"/>
                  </a:lnTo>
                  <a:lnTo>
                    <a:pt x="4538" y="138"/>
                  </a:lnTo>
                  <a:lnTo>
                    <a:pt x="4518" y="130"/>
                  </a:lnTo>
                  <a:lnTo>
                    <a:pt x="4554" y="118"/>
                  </a:lnTo>
                  <a:lnTo>
                    <a:pt x="4647" y="123"/>
                  </a:lnTo>
                  <a:lnTo>
                    <a:pt x="4647" y="110"/>
                  </a:lnTo>
                  <a:lnTo>
                    <a:pt x="4599" y="108"/>
                  </a:lnTo>
                  <a:lnTo>
                    <a:pt x="4622" y="98"/>
                  </a:lnTo>
                  <a:lnTo>
                    <a:pt x="4699" y="96"/>
                  </a:lnTo>
                  <a:lnTo>
                    <a:pt x="4683" y="88"/>
                  </a:lnTo>
                  <a:lnTo>
                    <a:pt x="4667" y="86"/>
                  </a:lnTo>
                  <a:lnTo>
                    <a:pt x="4723" y="78"/>
                  </a:lnTo>
                  <a:lnTo>
                    <a:pt x="4784" y="69"/>
                  </a:lnTo>
                  <a:lnTo>
                    <a:pt x="4848" y="66"/>
                  </a:lnTo>
                  <a:lnTo>
                    <a:pt x="4812" y="76"/>
                  </a:lnTo>
                  <a:lnTo>
                    <a:pt x="4784" y="78"/>
                  </a:lnTo>
                  <a:close/>
                  <a:moveTo>
                    <a:pt x="5143" y="0"/>
                  </a:moveTo>
                  <a:lnTo>
                    <a:pt x="5171" y="0"/>
                  </a:lnTo>
                  <a:lnTo>
                    <a:pt x="5163" y="4"/>
                  </a:lnTo>
                  <a:lnTo>
                    <a:pt x="5139" y="7"/>
                  </a:lnTo>
                  <a:lnTo>
                    <a:pt x="5102" y="14"/>
                  </a:lnTo>
                  <a:lnTo>
                    <a:pt x="5059" y="17"/>
                  </a:lnTo>
                  <a:lnTo>
                    <a:pt x="5098" y="9"/>
                  </a:lnTo>
                  <a:lnTo>
                    <a:pt x="5082" y="9"/>
                  </a:lnTo>
                  <a:lnTo>
                    <a:pt x="5050" y="12"/>
                  </a:lnTo>
                  <a:lnTo>
                    <a:pt x="4997" y="19"/>
                  </a:lnTo>
                  <a:lnTo>
                    <a:pt x="5026" y="14"/>
                  </a:lnTo>
                  <a:lnTo>
                    <a:pt x="4997" y="17"/>
                  </a:lnTo>
                  <a:lnTo>
                    <a:pt x="4990" y="14"/>
                  </a:lnTo>
                  <a:lnTo>
                    <a:pt x="5001" y="12"/>
                  </a:lnTo>
                  <a:lnTo>
                    <a:pt x="5143" y="0"/>
                  </a:lnTo>
                  <a:close/>
                  <a:moveTo>
                    <a:pt x="4852" y="49"/>
                  </a:moveTo>
                  <a:lnTo>
                    <a:pt x="4889" y="46"/>
                  </a:lnTo>
                  <a:lnTo>
                    <a:pt x="4877" y="54"/>
                  </a:lnTo>
                  <a:lnTo>
                    <a:pt x="4848" y="63"/>
                  </a:lnTo>
                  <a:lnTo>
                    <a:pt x="4703" y="74"/>
                  </a:lnTo>
                  <a:lnTo>
                    <a:pt x="4639" y="86"/>
                  </a:lnTo>
                  <a:lnTo>
                    <a:pt x="4582" y="88"/>
                  </a:lnTo>
                  <a:lnTo>
                    <a:pt x="4635" y="71"/>
                  </a:lnTo>
                  <a:lnTo>
                    <a:pt x="4626" y="69"/>
                  </a:lnTo>
                  <a:lnTo>
                    <a:pt x="4796" y="44"/>
                  </a:lnTo>
                  <a:lnTo>
                    <a:pt x="4837" y="34"/>
                  </a:lnTo>
                  <a:lnTo>
                    <a:pt x="4880" y="37"/>
                  </a:lnTo>
                  <a:lnTo>
                    <a:pt x="4869" y="44"/>
                  </a:lnTo>
                  <a:lnTo>
                    <a:pt x="4852" y="49"/>
                  </a:lnTo>
                  <a:close/>
                  <a:moveTo>
                    <a:pt x="4392" y="447"/>
                  </a:moveTo>
                  <a:lnTo>
                    <a:pt x="4365" y="460"/>
                  </a:lnTo>
                  <a:lnTo>
                    <a:pt x="4388" y="450"/>
                  </a:lnTo>
                  <a:lnTo>
                    <a:pt x="4360" y="460"/>
                  </a:lnTo>
                  <a:lnTo>
                    <a:pt x="4380" y="452"/>
                  </a:lnTo>
                  <a:lnTo>
                    <a:pt x="4356" y="460"/>
                  </a:lnTo>
                  <a:lnTo>
                    <a:pt x="4368" y="454"/>
                  </a:lnTo>
                  <a:lnTo>
                    <a:pt x="4348" y="457"/>
                  </a:lnTo>
                  <a:lnTo>
                    <a:pt x="4365" y="454"/>
                  </a:lnTo>
                  <a:lnTo>
                    <a:pt x="4392" y="447"/>
                  </a:lnTo>
                  <a:close/>
                  <a:moveTo>
                    <a:pt x="4206" y="516"/>
                  </a:moveTo>
                  <a:lnTo>
                    <a:pt x="4199" y="526"/>
                  </a:lnTo>
                  <a:lnTo>
                    <a:pt x="4179" y="516"/>
                  </a:lnTo>
                  <a:lnTo>
                    <a:pt x="4206" y="516"/>
                  </a:lnTo>
                  <a:close/>
                  <a:moveTo>
                    <a:pt x="4663" y="504"/>
                  </a:moveTo>
                  <a:lnTo>
                    <a:pt x="4667" y="504"/>
                  </a:lnTo>
                  <a:lnTo>
                    <a:pt x="4663" y="504"/>
                  </a:lnTo>
                  <a:close/>
                  <a:moveTo>
                    <a:pt x="4655" y="683"/>
                  </a:moveTo>
                  <a:lnTo>
                    <a:pt x="4647" y="688"/>
                  </a:lnTo>
                  <a:lnTo>
                    <a:pt x="4642" y="688"/>
                  </a:lnTo>
                  <a:lnTo>
                    <a:pt x="4647" y="686"/>
                  </a:lnTo>
                  <a:lnTo>
                    <a:pt x="4655" y="683"/>
                  </a:lnTo>
                  <a:close/>
                  <a:moveTo>
                    <a:pt x="4437" y="673"/>
                  </a:moveTo>
                  <a:lnTo>
                    <a:pt x="4425" y="688"/>
                  </a:lnTo>
                  <a:lnTo>
                    <a:pt x="4477" y="691"/>
                  </a:lnTo>
                  <a:lnTo>
                    <a:pt x="4441" y="700"/>
                  </a:lnTo>
                  <a:lnTo>
                    <a:pt x="4444" y="693"/>
                  </a:lnTo>
                  <a:lnTo>
                    <a:pt x="4417" y="688"/>
                  </a:lnTo>
                  <a:lnTo>
                    <a:pt x="4417" y="680"/>
                  </a:lnTo>
                  <a:lnTo>
                    <a:pt x="4437" y="673"/>
                  </a:lnTo>
                  <a:close/>
                  <a:moveTo>
                    <a:pt x="4525" y="664"/>
                  </a:moveTo>
                  <a:lnTo>
                    <a:pt x="4518" y="666"/>
                  </a:lnTo>
                  <a:lnTo>
                    <a:pt x="4502" y="673"/>
                  </a:lnTo>
                  <a:lnTo>
                    <a:pt x="4525" y="664"/>
                  </a:lnTo>
                  <a:close/>
                  <a:moveTo>
                    <a:pt x="4533" y="683"/>
                  </a:moveTo>
                  <a:lnTo>
                    <a:pt x="4518" y="696"/>
                  </a:lnTo>
                  <a:lnTo>
                    <a:pt x="4502" y="700"/>
                  </a:lnTo>
                  <a:lnTo>
                    <a:pt x="4481" y="708"/>
                  </a:lnTo>
                  <a:lnTo>
                    <a:pt x="4493" y="708"/>
                  </a:lnTo>
                  <a:lnTo>
                    <a:pt x="4509" y="703"/>
                  </a:lnTo>
                  <a:lnTo>
                    <a:pt x="4505" y="700"/>
                  </a:lnTo>
                  <a:lnTo>
                    <a:pt x="4518" y="696"/>
                  </a:lnTo>
                  <a:lnTo>
                    <a:pt x="4525" y="703"/>
                  </a:lnTo>
                  <a:lnTo>
                    <a:pt x="4473" y="713"/>
                  </a:lnTo>
                  <a:lnTo>
                    <a:pt x="4477" y="703"/>
                  </a:lnTo>
                  <a:lnTo>
                    <a:pt x="4529" y="678"/>
                  </a:lnTo>
                  <a:lnTo>
                    <a:pt x="4533" y="683"/>
                  </a:lnTo>
                  <a:close/>
                  <a:moveTo>
                    <a:pt x="4533" y="612"/>
                  </a:moveTo>
                  <a:lnTo>
                    <a:pt x="4562" y="624"/>
                  </a:lnTo>
                  <a:lnTo>
                    <a:pt x="4554" y="631"/>
                  </a:lnTo>
                  <a:lnTo>
                    <a:pt x="4518" y="622"/>
                  </a:lnTo>
                  <a:lnTo>
                    <a:pt x="4505" y="610"/>
                  </a:lnTo>
                  <a:lnTo>
                    <a:pt x="4533" y="612"/>
                  </a:lnTo>
                  <a:close/>
                  <a:moveTo>
                    <a:pt x="4792" y="582"/>
                  </a:moveTo>
                  <a:lnTo>
                    <a:pt x="4784" y="587"/>
                  </a:lnTo>
                  <a:lnTo>
                    <a:pt x="4772" y="587"/>
                  </a:lnTo>
                  <a:lnTo>
                    <a:pt x="4772" y="592"/>
                  </a:lnTo>
                  <a:lnTo>
                    <a:pt x="4703" y="626"/>
                  </a:lnTo>
                  <a:lnTo>
                    <a:pt x="4740" y="615"/>
                  </a:lnTo>
                  <a:lnTo>
                    <a:pt x="4731" y="620"/>
                  </a:lnTo>
                  <a:lnTo>
                    <a:pt x="4752" y="620"/>
                  </a:lnTo>
                  <a:lnTo>
                    <a:pt x="4731" y="624"/>
                  </a:lnTo>
                  <a:lnTo>
                    <a:pt x="4719" y="629"/>
                  </a:lnTo>
                  <a:lnTo>
                    <a:pt x="4748" y="629"/>
                  </a:lnTo>
                  <a:lnTo>
                    <a:pt x="4727" y="639"/>
                  </a:lnTo>
                  <a:lnTo>
                    <a:pt x="4763" y="629"/>
                  </a:lnTo>
                  <a:lnTo>
                    <a:pt x="4759" y="634"/>
                  </a:lnTo>
                  <a:lnTo>
                    <a:pt x="4776" y="629"/>
                  </a:lnTo>
                  <a:lnTo>
                    <a:pt x="4788" y="634"/>
                  </a:lnTo>
                  <a:lnTo>
                    <a:pt x="4756" y="646"/>
                  </a:lnTo>
                  <a:lnTo>
                    <a:pt x="4767" y="649"/>
                  </a:lnTo>
                  <a:lnTo>
                    <a:pt x="4743" y="654"/>
                  </a:lnTo>
                  <a:lnTo>
                    <a:pt x="4784" y="651"/>
                  </a:lnTo>
                  <a:lnTo>
                    <a:pt x="4748" y="659"/>
                  </a:lnTo>
                  <a:lnTo>
                    <a:pt x="4752" y="661"/>
                  </a:lnTo>
                  <a:lnTo>
                    <a:pt x="4752" y="664"/>
                  </a:lnTo>
                  <a:lnTo>
                    <a:pt x="4740" y="666"/>
                  </a:lnTo>
                  <a:lnTo>
                    <a:pt x="4740" y="673"/>
                  </a:lnTo>
                  <a:lnTo>
                    <a:pt x="4776" y="661"/>
                  </a:lnTo>
                  <a:lnTo>
                    <a:pt x="4752" y="673"/>
                  </a:lnTo>
                  <a:lnTo>
                    <a:pt x="4752" y="678"/>
                  </a:lnTo>
                  <a:lnTo>
                    <a:pt x="4772" y="669"/>
                  </a:lnTo>
                  <a:lnTo>
                    <a:pt x="4767" y="676"/>
                  </a:lnTo>
                  <a:lnTo>
                    <a:pt x="4736" y="696"/>
                  </a:lnTo>
                  <a:lnTo>
                    <a:pt x="4719" y="693"/>
                  </a:lnTo>
                  <a:lnTo>
                    <a:pt x="4736" y="680"/>
                  </a:lnTo>
                  <a:lnTo>
                    <a:pt x="4707" y="691"/>
                  </a:lnTo>
                  <a:lnTo>
                    <a:pt x="4731" y="676"/>
                  </a:lnTo>
                  <a:lnTo>
                    <a:pt x="4731" y="666"/>
                  </a:lnTo>
                  <a:lnTo>
                    <a:pt x="4715" y="676"/>
                  </a:lnTo>
                  <a:lnTo>
                    <a:pt x="4703" y="676"/>
                  </a:lnTo>
                  <a:lnTo>
                    <a:pt x="4675" y="688"/>
                  </a:lnTo>
                  <a:lnTo>
                    <a:pt x="4658" y="683"/>
                  </a:lnTo>
                  <a:lnTo>
                    <a:pt x="4711" y="671"/>
                  </a:lnTo>
                  <a:lnTo>
                    <a:pt x="4691" y="669"/>
                  </a:lnTo>
                  <a:lnTo>
                    <a:pt x="4683" y="676"/>
                  </a:lnTo>
                  <a:lnTo>
                    <a:pt x="4671" y="673"/>
                  </a:lnTo>
                  <a:lnTo>
                    <a:pt x="4667" y="673"/>
                  </a:lnTo>
                  <a:lnTo>
                    <a:pt x="4679" y="669"/>
                  </a:lnTo>
                  <a:lnTo>
                    <a:pt x="4691" y="664"/>
                  </a:lnTo>
                  <a:lnTo>
                    <a:pt x="4651" y="671"/>
                  </a:lnTo>
                  <a:lnTo>
                    <a:pt x="4613" y="664"/>
                  </a:lnTo>
                  <a:lnTo>
                    <a:pt x="4582" y="666"/>
                  </a:lnTo>
                  <a:lnTo>
                    <a:pt x="4590" y="661"/>
                  </a:lnTo>
                  <a:lnTo>
                    <a:pt x="4635" y="646"/>
                  </a:lnTo>
                  <a:lnTo>
                    <a:pt x="4610" y="646"/>
                  </a:lnTo>
                  <a:lnTo>
                    <a:pt x="4630" y="642"/>
                  </a:lnTo>
                  <a:lnTo>
                    <a:pt x="4626" y="646"/>
                  </a:lnTo>
                  <a:lnTo>
                    <a:pt x="4651" y="634"/>
                  </a:lnTo>
                  <a:lnTo>
                    <a:pt x="4658" y="639"/>
                  </a:lnTo>
                  <a:lnTo>
                    <a:pt x="4655" y="634"/>
                  </a:lnTo>
                  <a:lnTo>
                    <a:pt x="4658" y="629"/>
                  </a:lnTo>
                  <a:lnTo>
                    <a:pt x="4671" y="624"/>
                  </a:lnTo>
                  <a:lnTo>
                    <a:pt x="4675" y="626"/>
                  </a:lnTo>
                  <a:lnTo>
                    <a:pt x="4683" y="620"/>
                  </a:lnTo>
                  <a:lnTo>
                    <a:pt x="4723" y="602"/>
                  </a:lnTo>
                  <a:lnTo>
                    <a:pt x="4752" y="587"/>
                  </a:lnTo>
                  <a:lnTo>
                    <a:pt x="4784" y="580"/>
                  </a:lnTo>
                  <a:lnTo>
                    <a:pt x="4792" y="582"/>
                  </a:lnTo>
                  <a:close/>
                  <a:moveTo>
                    <a:pt x="4663" y="504"/>
                  </a:moveTo>
                  <a:lnTo>
                    <a:pt x="4667" y="504"/>
                  </a:lnTo>
                  <a:lnTo>
                    <a:pt x="4658" y="511"/>
                  </a:lnTo>
                  <a:lnTo>
                    <a:pt x="4658" y="514"/>
                  </a:lnTo>
                  <a:lnTo>
                    <a:pt x="4658" y="519"/>
                  </a:lnTo>
                  <a:lnTo>
                    <a:pt x="4663" y="521"/>
                  </a:lnTo>
                  <a:lnTo>
                    <a:pt x="4671" y="519"/>
                  </a:lnTo>
                  <a:lnTo>
                    <a:pt x="4675" y="519"/>
                  </a:lnTo>
                  <a:lnTo>
                    <a:pt x="4671" y="521"/>
                  </a:lnTo>
                  <a:lnTo>
                    <a:pt x="4658" y="521"/>
                  </a:lnTo>
                  <a:lnTo>
                    <a:pt x="4658" y="524"/>
                  </a:lnTo>
                  <a:lnTo>
                    <a:pt x="4651" y="524"/>
                  </a:lnTo>
                  <a:lnTo>
                    <a:pt x="4647" y="524"/>
                  </a:lnTo>
                  <a:lnTo>
                    <a:pt x="4642" y="524"/>
                  </a:lnTo>
                  <a:lnTo>
                    <a:pt x="4647" y="521"/>
                  </a:lnTo>
                  <a:lnTo>
                    <a:pt x="4639" y="516"/>
                  </a:lnTo>
                  <a:lnTo>
                    <a:pt x="4635" y="519"/>
                  </a:lnTo>
                  <a:lnTo>
                    <a:pt x="4630" y="521"/>
                  </a:lnTo>
                  <a:lnTo>
                    <a:pt x="4618" y="521"/>
                  </a:lnTo>
                  <a:lnTo>
                    <a:pt x="4618" y="524"/>
                  </a:lnTo>
                  <a:lnTo>
                    <a:pt x="4613" y="524"/>
                  </a:lnTo>
                  <a:lnTo>
                    <a:pt x="4610" y="524"/>
                  </a:lnTo>
                  <a:lnTo>
                    <a:pt x="4606" y="528"/>
                  </a:lnTo>
                  <a:lnTo>
                    <a:pt x="4606" y="530"/>
                  </a:lnTo>
                  <a:lnTo>
                    <a:pt x="4606" y="528"/>
                  </a:lnTo>
                  <a:lnTo>
                    <a:pt x="4602" y="530"/>
                  </a:lnTo>
                  <a:lnTo>
                    <a:pt x="4606" y="530"/>
                  </a:lnTo>
                  <a:lnTo>
                    <a:pt x="4599" y="530"/>
                  </a:lnTo>
                  <a:lnTo>
                    <a:pt x="4594" y="528"/>
                  </a:lnTo>
                  <a:lnTo>
                    <a:pt x="4606" y="528"/>
                  </a:lnTo>
                  <a:lnTo>
                    <a:pt x="4606" y="526"/>
                  </a:lnTo>
                  <a:lnTo>
                    <a:pt x="4606" y="524"/>
                  </a:lnTo>
                  <a:lnTo>
                    <a:pt x="4610" y="524"/>
                  </a:lnTo>
                  <a:lnTo>
                    <a:pt x="4613" y="521"/>
                  </a:lnTo>
                  <a:lnTo>
                    <a:pt x="4610" y="521"/>
                  </a:lnTo>
                  <a:lnTo>
                    <a:pt x="4613" y="516"/>
                  </a:lnTo>
                  <a:lnTo>
                    <a:pt x="4610" y="516"/>
                  </a:lnTo>
                  <a:lnTo>
                    <a:pt x="4610" y="511"/>
                  </a:lnTo>
                  <a:lnTo>
                    <a:pt x="4610" y="507"/>
                  </a:lnTo>
                  <a:lnTo>
                    <a:pt x="4606" y="511"/>
                  </a:lnTo>
                  <a:lnTo>
                    <a:pt x="4602" y="511"/>
                  </a:lnTo>
                  <a:lnTo>
                    <a:pt x="4599" y="514"/>
                  </a:lnTo>
                  <a:lnTo>
                    <a:pt x="4606" y="508"/>
                  </a:lnTo>
                  <a:lnTo>
                    <a:pt x="4602" y="507"/>
                  </a:lnTo>
                  <a:lnTo>
                    <a:pt x="4606" y="507"/>
                  </a:lnTo>
                  <a:lnTo>
                    <a:pt x="4606" y="504"/>
                  </a:lnTo>
                  <a:lnTo>
                    <a:pt x="4618" y="501"/>
                  </a:lnTo>
                  <a:lnTo>
                    <a:pt x="4618" y="496"/>
                  </a:lnTo>
                  <a:lnTo>
                    <a:pt x="4622" y="494"/>
                  </a:lnTo>
                  <a:lnTo>
                    <a:pt x="4626" y="496"/>
                  </a:lnTo>
                  <a:lnTo>
                    <a:pt x="4626" y="494"/>
                  </a:lnTo>
                  <a:lnTo>
                    <a:pt x="4626" y="496"/>
                  </a:lnTo>
                  <a:lnTo>
                    <a:pt x="4622" y="496"/>
                  </a:lnTo>
                  <a:lnTo>
                    <a:pt x="4618" y="499"/>
                  </a:lnTo>
                  <a:lnTo>
                    <a:pt x="4613" y="504"/>
                  </a:lnTo>
                  <a:lnTo>
                    <a:pt x="4618" y="504"/>
                  </a:lnTo>
                  <a:lnTo>
                    <a:pt x="4613" y="504"/>
                  </a:lnTo>
                  <a:lnTo>
                    <a:pt x="4613" y="508"/>
                  </a:lnTo>
                  <a:lnTo>
                    <a:pt x="4626" y="519"/>
                  </a:lnTo>
                  <a:lnTo>
                    <a:pt x="4622" y="519"/>
                  </a:lnTo>
                  <a:lnTo>
                    <a:pt x="4622" y="516"/>
                  </a:lnTo>
                  <a:lnTo>
                    <a:pt x="4630" y="516"/>
                  </a:lnTo>
                  <a:lnTo>
                    <a:pt x="4635" y="508"/>
                  </a:lnTo>
                  <a:lnTo>
                    <a:pt x="4639" y="507"/>
                  </a:lnTo>
                  <a:lnTo>
                    <a:pt x="4642" y="507"/>
                  </a:lnTo>
                  <a:lnTo>
                    <a:pt x="4642" y="504"/>
                  </a:lnTo>
                  <a:lnTo>
                    <a:pt x="4639" y="514"/>
                  </a:lnTo>
                  <a:lnTo>
                    <a:pt x="4635" y="516"/>
                  </a:lnTo>
                  <a:lnTo>
                    <a:pt x="4639" y="516"/>
                  </a:lnTo>
                  <a:lnTo>
                    <a:pt x="4647" y="516"/>
                  </a:lnTo>
                  <a:lnTo>
                    <a:pt x="4651" y="514"/>
                  </a:lnTo>
                  <a:lnTo>
                    <a:pt x="4658" y="508"/>
                  </a:lnTo>
                  <a:lnTo>
                    <a:pt x="4663" y="504"/>
                  </a:lnTo>
                  <a:close/>
                  <a:moveTo>
                    <a:pt x="4287" y="96"/>
                  </a:moveTo>
                  <a:lnTo>
                    <a:pt x="4303" y="91"/>
                  </a:lnTo>
                  <a:lnTo>
                    <a:pt x="4332" y="93"/>
                  </a:lnTo>
                  <a:lnTo>
                    <a:pt x="4356" y="88"/>
                  </a:lnTo>
                  <a:lnTo>
                    <a:pt x="4348" y="93"/>
                  </a:lnTo>
                  <a:lnTo>
                    <a:pt x="4291" y="98"/>
                  </a:lnTo>
                  <a:lnTo>
                    <a:pt x="4271" y="105"/>
                  </a:lnTo>
                  <a:lnTo>
                    <a:pt x="4287" y="98"/>
                  </a:lnTo>
                  <a:lnTo>
                    <a:pt x="4287" y="96"/>
                  </a:lnTo>
                  <a:close/>
                  <a:moveTo>
                    <a:pt x="3787" y="617"/>
                  </a:moveTo>
                  <a:lnTo>
                    <a:pt x="3762" y="610"/>
                  </a:lnTo>
                  <a:lnTo>
                    <a:pt x="3738" y="612"/>
                  </a:lnTo>
                  <a:lnTo>
                    <a:pt x="3726" y="597"/>
                  </a:lnTo>
                  <a:lnTo>
                    <a:pt x="3690" y="592"/>
                  </a:lnTo>
                  <a:lnTo>
                    <a:pt x="3694" y="587"/>
                  </a:lnTo>
                  <a:lnTo>
                    <a:pt x="3698" y="585"/>
                  </a:lnTo>
                  <a:lnTo>
                    <a:pt x="3706" y="577"/>
                  </a:lnTo>
                  <a:lnTo>
                    <a:pt x="3706" y="575"/>
                  </a:lnTo>
                  <a:lnTo>
                    <a:pt x="3698" y="580"/>
                  </a:lnTo>
                  <a:lnTo>
                    <a:pt x="3690" y="585"/>
                  </a:lnTo>
                  <a:lnTo>
                    <a:pt x="3685" y="585"/>
                  </a:lnTo>
                  <a:lnTo>
                    <a:pt x="3670" y="582"/>
                  </a:lnTo>
                  <a:lnTo>
                    <a:pt x="3650" y="582"/>
                  </a:lnTo>
                  <a:lnTo>
                    <a:pt x="3638" y="580"/>
                  </a:lnTo>
                  <a:lnTo>
                    <a:pt x="3622" y="580"/>
                  </a:lnTo>
                  <a:lnTo>
                    <a:pt x="3600" y="577"/>
                  </a:lnTo>
                  <a:lnTo>
                    <a:pt x="3584" y="577"/>
                  </a:lnTo>
                  <a:lnTo>
                    <a:pt x="3565" y="575"/>
                  </a:lnTo>
                  <a:lnTo>
                    <a:pt x="3544" y="573"/>
                  </a:lnTo>
                  <a:lnTo>
                    <a:pt x="3537" y="573"/>
                  </a:lnTo>
                  <a:lnTo>
                    <a:pt x="3520" y="570"/>
                  </a:lnTo>
                  <a:lnTo>
                    <a:pt x="3499" y="570"/>
                  </a:lnTo>
                  <a:lnTo>
                    <a:pt x="3484" y="568"/>
                  </a:lnTo>
                  <a:lnTo>
                    <a:pt x="3476" y="568"/>
                  </a:lnTo>
                  <a:lnTo>
                    <a:pt x="3456" y="565"/>
                  </a:lnTo>
                  <a:lnTo>
                    <a:pt x="3439" y="565"/>
                  </a:lnTo>
                  <a:lnTo>
                    <a:pt x="3419" y="563"/>
                  </a:lnTo>
                  <a:lnTo>
                    <a:pt x="3404" y="561"/>
                  </a:lnTo>
                  <a:lnTo>
                    <a:pt x="3383" y="561"/>
                  </a:lnTo>
                  <a:lnTo>
                    <a:pt x="3367" y="558"/>
                  </a:lnTo>
                  <a:lnTo>
                    <a:pt x="3346" y="555"/>
                  </a:lnTo>
                  <a:lnTo>
                    <a:pt x="3335" y="555"/>
                  </a:lnTo>
                  <a:lnTo>
                    <a:pt x="3319" y="553"/>
                  </a:lnTo>
                  <a:lnTo>
                    <a:pt x="3298" y="550"/>
                  </a:lnTo>
                  <a:lnTo>
                    <a:pt x="3282" y="550"/>
                  </a:lnTo>
                  <a:lnTo>
                    <a:pt x="3265" y="548"/>
                  </a:lnTo>
                  <a:lnTo>
                    <a:pt x="3246" y="545"/>
                  </a:lnTo>
                  <a:lnTo>
                    <a:pt x="3242" y="545"/>
                  </a:lnTo>
                  <a:lnTo>
                    <a:pt x="3226" y="543"/>
                  </a:lnTo>
                  <a:lnTo>
                    <a:pt x="3205" y="543"/>
                  </a:lnTo>
                  <a:lnTo>
                    <a:pt x="3197" y="541"/>
                  </a:lnTo>
                  <a:lnTo>
                    <a:pt x="3181" y="541"/>
                  </a:lnTo>
                  <a:lnTo>
                    <a:pt x="3173" y="538"/>
                  </a:lnTo>
                  <a:lnTo>
                    <a:pt x="3161" y="538"/>
                  </a:lnTo>
                  <a:lnTo>
                    <a:pt x="3157" y="538"/>
                  </a:lnTo>
                  <a:lnTo>
                    <a:pt x="3141" y="536"/>
                  </a:lnTo>
                  <a:lnTo>
                    <a:pt x="3124" y="533"/>
                  </a:lnTo>
                  <a:lnTo>
                    <a:pt x="3108" y="530"/>
                  </a:lnTo>
                  <a:lnTo>
                    <a:pt x="3088" y="530"/>
                  </a:lnTo>
                  <a:lnTo>
                    <a:pt x="3072" y="528"/>
                  </a:lnTo>
                  <a:lnTo>
                    <a:pt x="3056" y="526"/>
                  </a:lnTo>
                  <a:lnTo>
                    <a:pt x="3048" y="526"/>
                  </a:lnTo>
                  <a:lnTo>
                    <a:pt x="3043" y="526"/>
                  </a:lnTo>
                  <a:lnTo>
                    <a:pt x="3039" y="524"/>
                  </a:lnTo>
                  <a:lnTo>
                    <a:pt x="3048" y="521"/>
                  </a:lnTo>
                  <a:lnTo>
                    <a:pt x="3072" y="516"/>
                  </a:lnTo>
                  <a:lnTo>
                    <a:pt x="3065" y="514"/>
                  </a:lnTo>
                  <a:lnTo>
                    <a:pt x="3081" y="508"/>
                  </a:lnTo>
                  <a:lnTo>
                    <a:pt x="3056" y="516"/>
                  </a:lnTo>
                  <a:lnTo>
                    <a:pt x="3052" y="511"/>
                  </a:lnTo>
                  <a:lnTo>
                    <a:pt x="3065" y="507"/>
                  </a:lnTo>
                  <a:lnTo>
                    <a:pt x="3056" y="511"/>
                  </a:lnTo>
                  <a:lnTo>
                    <a:pt x="3072" y="508"/>
                  </a:lnTo>
                  <a:lnTo>
                    <a:pt x="3068" y="507"/>
                  </a:lnTo>
                  <a:lnTo>
                    <a:pt x="3093" y="496"/>
                  </a:lnTo>
                  <a:lnTo>
                    <a:pt x="3060" y="504"/>
                  </a:lnTo>
                  <a:lnTo>
                    <a:pt x="3065" y="499"/>
                  </a:lnTo>
                  <a:lnTo>
                    <a:pt x="3104" y="487"/>
                  </a:lnTo>
                  <a:lnTo>
                    <a:pt x="3081" y="491"/>
                  </a:lnTo>
                  <a:lnTo>
                    <a:pt x="3088" y="487"/>
                  </a:lnTo>
                  <a:lnTo>
                    <a:pt x="3116" y="477"/>
                  </a:lnTo>
                  <a:lnTo>
                    <a:pt x="3081" y="487"/>
                  </a:lnTo>
                  <a:lnTo>
                    <a:pt x="3077" y="484"/>
                  </a:lnTo>
                  <a:lnTo>
                    <a:pt x="3093" y="479"/>
                  </a:lnTo>
                  <a:lnTo>
                    <a:pt x="3072" y="487"/>
                  </a:lnTo>
                  <a:lnTo>
                    <a:pt x="3065" y="481"/>
                  </a:lnTo>
                  <a:lnTo>
                    <a:pt x="3081" y="481"/>
                  </a:lnTo>
                  <a:lnTo>
                    <a:pt x="3093" y="479"/>
                  </a:lnTo>
                  <a:lnTo>
                    <a:pt x="3112" y="472"/>
                  </a:lnTo>
                  <a:lnTo>
                    <a:pt x="3093" y="479"/>
                  </a:lnTo>
                  <a:lnTo>
                    <a:pt x="3077" y="479"/>
                  </a:lnTo>
                  <a:lnTo>
                    <a:pt x="3077" y="474"/>
                  </a:lnTo>
                  <a:lnTo>
                    <a:pt x="3093" y="474"/>
                  </a:lnTo>
                  <a:lnTo>
                    <a:pt x="3093" y="470"/>
                  </a:lnTo>
                  <a:lnTo>
                    <a:pt x="3068" y="474"/>
                  </a:lnTo>
                  <a:lnTo>
                    <a:pt x="3072" y="465"/>
                  </a:lnTo>
                  <a:lnTo>
                    <a:pt x="3097" y="462"/>
                  </a:lnTo>
                  <a:lnTo>
                    <a:pt x="3085" y="460"/>
                  </a:lnTo>
                  <a:lnTo>
                    <a:pt x="3108" y="454"/>
                  </a:lnTo>
                  <a:lnTo>
                    <a:pt x="3128" y="454"/>
                  </a:lnTo>
                  <a:lnTo>
                    <a:pt x="3112" y="454"/>
                  </a:lnTo>
                  <a:lnTo>
                    <a:pt x="3124" y="450"/>
                  </a:lnTo>
                  <a:lnTo>
                    <a:pt x="3108" y="452"/>
                  </a:lnTo>
                  <a:lnTo>
                    <a:pt x="3093" y="457"/>
                  </a:lnTo>
                  <a:lnTo>
                    <a:pt x="3104" y="452"/>
                  </a:lnTo>
                  <a:lnTo>
                    <a:pt x="3124" y="447"/>
                  </a:lnTo>
                  <a:lnTo>
                    <a:pt x="3157" y="440"/>
                  </a:lnTo>
                  <a:lnTo>
                    <a:pt x="3149" y="450"/>
                  </a:lnTo>
                  <a:lnTo>
                    <a:pt x="3169" y="440"/>
                  </a:lnTo>
                  <a:lnTo>
                    <a:pt x="3161" y="440"/>
                  </a:lnTo>
                  <a:lnTo>
                    <a:pt x="3161" y="437"/>
                  </a:lnTo>
                  <a:lnTo>
                    <a:pt x="3197" y="428"/>
                  </a:lnTo>
                  <a:lnTo>
                    <a:pt x="3166" y="437"/>
                  </a:lnTo>
                  <a:lnTo>
                    <a:pt x="3149" y="440"/>
                  </a:lnTo>
                  <a:lnTo>
                    <a:pt x="3141" y="440"/>
                  </a:lnTo>
                  <a:lnTo>
                    <a:pt x="3157" y="435"/>
                  </a:lnTo>
                  <a:lnTo>
                    <a:pt x="3141" y="437"/>
                  </a:lnTo>
                  <a:lnTo>
                    <a:pt x="3161" y="432"/>
                  </a:lnTo>
                  <a:lnTo>
                    <a:pt x="3141" y="435"/>
                  </a:lnTo>
                  <a:lnTo>
                    <a:pt x="3181" y="425"/>
                  </a:lnTo>
                  <a:lnTo>
                    <a:pt x="3169" y="425"/>
                  </a:lnTo>
                  <a:lnTo>
                    <a:pt x="3169" y="423"/>
                  </a:lnTo>
                  <a:lnTo>
                    <a:pt x="3185" y="418"/>
                  </a:lnTo>
                  <a:lnTo>
                    <a:pt x="3189" y="415"/>
                  </a:lnTo>
                  <a:lnTo>
                    <a:pt x="3205" y="408"/>
                  </a:lnTo>
                  <a:lnTo>
                    <a:pt x="3205" y="418"/>
                  </a:lnTo>
                  <a:lnTo>
                    <a:pt x="3209" y="408"/>
                  </a:lnTo>
                  <a:lnTo>
                    <a:pt x="3242" y="398"/>
                  </a:lnTo>
                  <a:lnTo>
                    <a:pt x="3185" y="410"/>
                  </a:lnTo>
                  <a:lnTo>
                    <a:pt x="3197" y="403"/>
                  </a:lnTo>
                  <a:lnTo>
                    <a:pt x="3205" y="398"/>
                  </a:lnTo>
                  <a:lnTo>
                    <a:pt x="3222" y="393"/>
                  </a:lnTo>
                  <a:lnTo>
                    <a:pt x="3226" y="393"/>
                  </a:lnTo>
                  <a:lnTo>
                    <a:pt x="3238" y="393"/>
                  </a:lnTo>
                  <a:lnTo>
                    <a:pt x="3229" y="388"/>
                  </a:lnTo>
                  <a:lnTo>
                    <a:pt x="3250" y="381"/>
                  </a:lnTo>
                  <a:lnTo>
                    <a:pt x="3238" y="388"/>
                  </a:lnTo>
                  <a:lnTo>
                    <a:pt x="3254" y="381"/>
                  </a:lnTo>
                  <a:lnTo>
                    <a:pt x="3270" y="379"/>
                  </a:lnTo>
                  <a:lnTo>
                    <a:pt x="3286" y="376"/>
                  </a:lnTo>
                  <a:lnTo>
                    <a:pt x="3282" y="374"/>
                  </a:lnTo>
                  <a:lnTo>
                    <a:pt x="3323" y="366"/>
                  </a:lnTo>
                  <a:lnTo>
                    <a:pt x="3327" y="361"/>
                  </a:lnTo>
                  <a:lnTo>
                    <a:pt x="3282" y="374"/>
                  </a:lnTo>
                  <a:lnTo>
                    <a:pt x="3342" y="356"/>
                  </a:lnTo>
                  <a:lnTo>
                    <a:pt x="3359" y="337"/>
                  </a:lnTo>
                  <a:lnTo>
                    <a:pt x="3468" y="295"/>
                  </a:lnTo>
                  <a:lnTo>
                    <a:pt x="3537" y="263"/>
                  </a:lnTo>
                  <a:lnTo>
                    <a:pt x="3472" y="273"/>
                  </a:lnTo>
                  <a:lnTo>
                    <a:pt x="3439" y="275"/>
                  </a:lnTo>
                  <a:lnTo>
                    <a:pt x="3504" y="248"/>
                  </a:lnTo>
                  <a:lnTo>
                    <a:pt x="3508" y="248"/>
                  </a:lnTo>
                  <a:lnTo>
                    <a:pt x="3528" y="243"/>
                  </a:lnTo>
                  <a:lnTo>
                    <a:pt x="3499" y="238"/>
                  </a:lnTo>
                  <a:lnTo>
                    <a:pt x="3537" y="229"/>
                  </a:lnTo>
                  <a:lnTo>
                    <a:pt x="3577" y="219"/>
                  </a:lnTo>
                  <a:lnTo>
                    <a:pt x="3617" y="211"/>
                  </a:lnTo>
                  <a:lnTo>
                    <a:pt x="3657" y="201"/>
                  </a:lnTo>
                  <a:lnTo>
                    <a:pt x="3698" y="191"/>
                  </a:lnTo>
                  <a:lnTo>
                    <a:pt x="3738" y="182"/>
                  </a:lnTo>
                  <a:lnTo>
                    <a:pt x="3779" y="174"/>
                  </a:lnTo>
                  <a:lnTo>
                    <a:pt x="3822" y="165"/>
                  </a:lnTo>
                  <a:lnTo>
                    <a:pt x="3860" y="157"/>
                  </a:lnTo>
                  <a:lnTo>
                    <a:pt x="3863" y="157"/>
                  </a:lnTo>
                  <a:lnTo>
                    <a:pt x="3907" y="147"/>
                  </a:lnTo>
                  <a:lnTo>
                    <a:pt x="3948" y="138"/>
                  </a:lnTo>
                  <a:lnTo>
                    <a:pt x="3993" y="130"/>
                  </a:lnTo>
                  <a:lnTo>
                    <a:pt x="4033" y="123"/>
                  </a:lnTo>
                  <a:lnTo>
                    <a:pt x="4078" y="113"/>
                  </a:lnTo>
                  <a:lnTo>
                    <a:pt x="4122" y="105"/>
                  </a:lnTo>
                  <a:lnTo>
                    <a:pt x="4166" y="98"/>
                  </a:lnTo>
                  <a:lnTo>
                    <a:pt x="4210" y="88"/>
                  </a:lnTo>
                  <a:lnTo>
                    <a:pt x="4255" y="81"/>
                  </a:lnTo>
                  <a:lnTo>
                    <a:pt x="4291" y="74"/>
                  </a:lnTo>
                  <a:lnTo>
                    <a:pt x="4267" y="96"/>
                  </a:lnTo>
                  <a:lnTo>
                    <a:pt x="4255" y="103"/>
                  </a:lnTo>
                  <a:lnTo>
                    <a:pt x="4271" y="98"/>
                  </a:lnTo>
                  <a:lnTo>
                    <a:pt x="4267" y="105"/>
                  </a:lnTo>
                  <a:lnTo>
                    <a:pt x="4271" y="105"/>
                  </a:lnTo>
                  <a:lnTo>
                    <a:pt x="4283" y="100"/>
                  </a:lnTo>
                  <a:lnTo>
                    <a:pt x="4348" y="96"/>
                  </a:lnTo>
                  <a:lnTo>
                    <a:pt x="4449" y="88"/>
                  </a:lnTo>
                  <a:lnTo>
                    <a:pt x="4429" y="93"/>
                  </a:lnTo>
                  <a:lnTo>
                    <a:pt x="4295" y="103"/>
                  </a:lnTo>
                  <a:lnTo>
                    <a:pt x="4280" y="108"/>
                  </a:lnTo>
                  <a:lnTo>
                    <a:pt x="4291" y="105"/>
                  </a:lnTo>
                  <a:lnTo>
                    <a:pt x="4303" y="105"/>
                  </a:lnTo>
                  <a:lnTo>
                    <a:pt x="4316" y="103"/>
                  </a:lnTo>
                  <a:lnTo>
                    <a:pt x="4360" y="98"/>
                  </a:lnTo>
                  <a:lnTo>
                    <a:pt x="4352" y="100"/>
                  </a:lnTo>
                  <a:lnTo>
                    <a:pt x="4376" y="98"/>
                  </a:lnTo>
                  <a:lnTo>
                    <a:pt x="4356" y="100"/>
                  </a:lnTo>
                  <a:lnTo>
                    <a:pt x="4380" y="96"/>
                  </a:lnTo>
                  <a:lnTo>
                    <a:pt x="4360" y="100"/>
                  </a:lnTo>
                  <a:lnTo>
                    <a:pt x="4392" y="96"/>
                  </a:lnTo>
                  <a:lnTo>
                    <a:pt x="4429" y="96"/>
                  </a:lnTo>
                  <a:lnTo>
                    <a:pt x="4408" y="100"/>
                  </a:lnTo>
                  <a:lnTo>
                    <a:pt x="4465" y="93"/>
                  </a:lnTo>
                  <a:lnTo>
                    <a:pt x="4489" y="88"/>
                  </a:lnTo>
                  <a:lnTo>
                    <a:pt x="4413" y="113"/>
                  </a:lnTo>
                  <a:lnTo>
                    <a:pt x="4477" y="103"/>
                  </a:lnTo>
                  <a:lnTo>
                    <a:pt x="4489" y="100"/>
                  </a:lnTo>
                  <a:lnTo>
                    <a:pt x="4429" y="115"/>
                  </a:lnTo>
                  <a:lnTo>
                    <a:pt x="4444" y="115"/>
                  </a:lnTo>
                  <a:lnTo>
                    <a:pt x="4481" y="110"/>
                  </a:lnTo>
                  <a:lnTo>
                    <a:pt x="4473" y="138"/>
                  </a:lnTo>
                  <a:lnTo>
                    <a:pt x="4497" y="142"/>
                  </a:lnTo>
                  <a:lnTo>
                    <a:pt x="4473" y="152"/>
                  </a:lnTo>
                  <a:lnTo>
                    <a:pt x="4441" y="152"/>
                  </a:lnTo>
                  <a:lnTo>
                    <a:pt x="4417" y="159"/>
                  </a:lnTo>
                  <a:lnTo>
                    <a:pt x="4461" y="167"/>
                  </a:lnTo>
                  <a:lnTo>
                    <a:pt x="4493" y="165"/>
                  </a:lnTo>
                  <a:lnTo>
                    <a:pt x="4465" y="179"/>
                  </a:lnTo>
                  <a:lnTo>
                    <a:pt x="4485" y="174"/>
                  </a:lnTo>
                  <a:lnTo>
                    <a:pt x="4473" y="182"/>
                  </a:lnTo>
                  <a:lnTo>
                    <a:pt x="4456" y="187"/>
                  </a:lnTo>
                  <a:lnTo>
                    <a:pt x="4449" y="187"/>
                  </a:lnTo>
                  <a:lnTo>
                    <a:pt x="4420" y="201"/>
                  </a:lnTo>
                  <a:lnTo>
                    <a:pt x="4465" y="187"/>
                  </a:lnTo>
                  <a:lnTo>
                    <a:pt x="4452" y="191"/>
                  </a:lnTo>
                  <a:lnTo>
                    <a:pt x="4529" y="167"/>
                  </a:lnTo>
                  <a:lnTo>
                    <a:pt x="4554" y="169"/>
                  </a:lnTo>
                  <a:lnTo>
                    <a:pt x="4599" y="162"/>
                  </a:lnTo>
                  <a:lnTo>
                    <a:pt x="4562" y="167"/>
                  </a:lnTo>
                  <a:lnTo>
                    <a:pt x="4545" y="165"/>
                  </a:lnTo>
                  <a:lnTo>
                    <a:pt x="4529" y="165"/>
                  </a:lnTo>
                  <a:lnTo>
                    <a:pt x="4557" y="157"/>
                  </a:lnTo>
                  <a:lnTo>
                    <a:pt x="4610" y="154"/>
                  </a:lnTo>
                  <a:lnTo>
                    <a:pt x="4570" y="174"/>
                  </a:lnTo>
                  <a:lnTo>
                    <a:pt x="4578" y="185"/>
                  </a:lnTo>
                  <a:lnTo>
                    <a:pt x="4626" y="191"/>
                  </a:lnTo>
                  <a:lnTo>
                    <a:pt x="4639" y="189"/>
                  </a:lnTo>
                  <a:lnTo>
                    <a:pt x="4655" y="185"/>
                  </a:lnTo>
                  <a:lnTo>
                    <a:pt x="4647" y="194"/>
                  </a:lnTo>
                  <a:lnTo>
                    <a:pt x="4663" y="189"/>
                  </a:lnTo>
                  <a:lnTo>
                    <a:pt x="4658" y="185"/>
                  </a:lnTo>
                  <a:lnTo>
                    <a:pt x="4671" y="179"/>
                  </a:lnTo>
                  <a:lnTo>
                    <a:pt x="4683" y="179"/>
                  </a:lnTo>
                  <a:lnTo>
                    <a:pt x="4694" y="177"/>
                  </a:lnTo>
                  <a:lnTo>
                    <a:pt x="4699" y="185"/>
                  </a:lnTo>
                  <a:lnTo>
                    <a:pt x="4675" y="189"/>
                  </a:lnTo>
                  <a:lnTo>
                    <a:pt x="4707" y="185"/>
                  </a:lnTo>
                  <a:lnTo>
                    <a:pt x="4667" y="194"/>
                  </a:lnTo>
                  <a:lnTo>
                    <a:pt x="4635" y="204"/>
                  </a:lnTo>
                  <a:lnTo>
                    <a:pt x="4635" y="209"/>
                  </a:lnTo>
                  <a:lnTo>
                    <a:pt x="4618" y="206"/>
                  </a:lnTo>
                  <a:lnTo>
                    <a:pt x="4602" y="216"/>
                  </a:lnTo>
                  <a:lnTo>
                    <a:pt x="4618" y="209"/>
                  </a:lnTo>
                  <a:lnTo>
                    <a:pt x="4635" y="211"/>
                  </a:lnTo>
                  <a:lnTo>
                    <a:pt x="4671" y="196"/>
                  </a:lnTo>
                  <a:lnTo>
                    <a:pt x="4699" y="189"/>
                  </a:lnTo>
                  <a:lnTo>
                    <a:pt x="4707" y="191"/>
                  </a:lnTo>
                  <a:lnTo>
                    <a:pt x="4763" y="182"/>
                  </a:lnTo>
                  <a:lnTo>
                    <a:pt x="4784" y="174"/>
                  </a:lnTo>
                  <a:lnTo>
                    <a:pt x="4752" y="177"/>
                  </a:lnTo>
                  <a:lnTo>
                    <a:pt x="4792" y="167"/>
                  </a:lnTo>
                  <a:lnTo>
                    <a:pt x="4812" y="167"/>
                  </a:lnTo>
                  <a:lnTo>
                    <a:pt x="4800" y="157"/>
                  </a:lnTo>
                  <a:lnTo>
                    <a:pt x="4816" y="150"/>
                  </a:lnTo>
                  <a:lnTo>
                    <a:pt x="4848" y="145"/>
                  </a:lnTo>
                  <a:lnTo>
                    <a:pt x="4857" y="138"/>
                  </a:lnTo>
                  <a:lnTo>
                    <a:pt x="4889" y="130"/>
                  </a:lnTo>
                  <a:lnTo>
                    <a:pt x="4901" y="130"/>
                  </a:lnTo>
                  <a:lnTo>
                    <a:pt x="4920" y="125"/>
                  </a:lnTo>
                  <a:lnTo>
                    <a:pt x="4949" y="123"/>
                  </a:lnTo>
                  <a:lnTo>
                    <a:pt x="4961" y="120"/>
                  </a:lnTo>
                  <a:lnTo>
                    <a:pt x="4953" y="125"/>
                  </a:lnTo>
                  <a:lnTo>
                    <a:pt x="4905" y="142"/>
                  </a:lnTo>
                  <a:lnTo>
                    <a:pt x="4880" y="157"/>
                  </a:lnTo>
                  <a:lnTo>
                    <a:pt x="4869" y="154"/>
                  </a:lnTo>
                  <a:lnTo>
                    <a:pt x="4869" y="159"/>
                  </a:lnTo>
                  <a:lnTo>
                    <a:pt x="4832" y="165"/>
                  </a:lnTo>
                  <a:lnTo>
                    <a:pt x="4837" y="169"/>
                  </a:lnTo>
                  <a:lnTo>
                    <a:pt x="4840" y="169"/>
                  </a:lnTo>
                  <a:lnTo>
                    <a:pt x="4857" y="172"/>
                  </a:lnTo>
                  <a:lnTo>
                    <a:pt x="4832" y="172"/>
                  </a:lnTo>
                  <a:lnTo>
                    <a:pt x="4784" y="194"/>
                  </a:lnTo>
                  <a:lnTo>
                    <a:pt x="4860" y="177"/>
                  </a:lnTo>
                  <a:lnTo>
                    <a:pt x="4828" y="194"/>
                  </a:lnTo>
                  <a:lnTo>
                    <a:pt x="4812" y="196"/>
                  </a:lnTo>
                  <a:lnTo>
                    <a:pt x="4788" y="206"/>
                  </a:lnTo>
                  <a:lnTo>
                    <a:pt x="4759" y="219"/>
                  </a:lnTo>
                  <a:lnTo>
                    <a:pt x="4772" y="216"/>
                  </a:lnTo>
                  <a:lnTo>
                    <a:pt x="4877" y="191"/>
                  </a:lnTo>
                  <a:lnTo>
                    <a:pt x="4893" y="191"/>
                  </a:lnTo>
                  <a:lnTo>
                    <a:pt x="4897" y="189"/>
                  </a:lnTo>
                  <a:lnTo>
                    <a:pt x="4909" y="187"/>
                  </a:lnTo>
                  <a:lnTo>
                    <a:pt x="4913" y="182"/>
                  </a:lnTo>
                  <a:lnTo>
                    <a:pt x="4945" y="169"/>
                  </a:lnTo>
                  <a:lnTo>
                    <a:pt x="4977" y="179"/>
                  </a:lnTo>
                  <a:lnTo>
                    <a:pt x="4958" y="179"/>
                  </a:lnTo>
                  <a:lnTo>
                    <a:pt x="4965" y="189"/>
                  </a:lnTo>
                  <a:lnTo>
                    <a:pt x="4937" y="194"/>
                  </a:lnTo>
                  <a:lnTo>
                    <a:pt x="4937" y="199"/>
                  </a:lnTo>
                  <a:lnTo>
                    <a:pt x="4905" y="201"/>
                  </a:lnTo>
                  <a:lnTo>
                    <a:pt x="4877" y="221"/>
                  </a:lnTo>
                  <a:lnTo>
                    <a:pt x="4848" y="231"/>
                  </a:lnTo>
                  <a:lnTo>
                    <a:pt x="4779" y="241"/>
                  </a:lnTo>
                  <a:lnTo>
                    <a:pt x="4804" y="229"/>
                  </a:lnTo>
                  <a:lnTo>
                    <a:pt x="4788" y="231"/>
                  </a:lnTo>
                  <a:lnTo>
                    <a:pt x="4800" y="226"/>
                  </a:lnTo>
                  <a:lnTo>
                    <a:pt x="4784" y="226"/>
                  </a:lnTo>
                  <a:lnTo>
                    <a:pt x="4792" y="229"/>
                  </a:lnTo>
                  <a:lnTo>
                    <a:pt x="4767" y="243"/>
                  </a:lnTo>
                  <a:lnTo>
                    <a:pt x="4767" y="238"/>
                  </a:lnTo>
                  <a:lnTo>
                    <a:pt x="4756" y="243"/>
                  </a:lnTo>
                  <a:lnTo>
                    <a:pt x="4748" y="238"/>
                  </a:lnTo>
                  <a:lnTo>
                    <a:pt x="4759" y="233"/>
                  </a:lnTo>
                  <a:lnTo>
                    <a:pt x="4740" y="231"/>
                  </a:lnTo>
                  <a:lnTo>
                    <a:pt x="4727" y="236"/>
                  </a:lnTo>
                  <a:lnTo>
                    <a:pt x="4723" y="243"/>
                  </a:lnTo>
                  <a:lnTo>
                    <a:pt x="4658" y="253"/>
                  </a:lnTo>
                  <a:lnTo>
                    <a:pt x="4658" y="238"/>
                  </a:lnTo>
                  <a:lnTo>
                    <a:pt x="4630" y="236"/>
                  </a:lnTo>
                  <a:lnTo>
                    <a:pt x="4647" y="241"/>
                  </a:lnTo>
                  <a:lnTo>
                    <a:pt x="4635" y="250"/>
                  </a:lnTo>
                  <a:lnTo>
                    <a:pt x="4663" y="255"/>
                  </a:lnTo>
                  <a:lnTo>
                    <a:pt x="4590" y="275"/>
                  </a:lnTo>
                  <a:lnTo>
                    <a:pt x="4566" y="278"/>
                  </a:lnTo>
                  <a:lnTo>
                    <a:pt x="4566" y="273"/>
                  </a:lnTo>
                  <a:lnTo>
                    <a:pt x="4557" y="278"/>
                  </a:lnTo>
                  <a:lnTo>
                    <a:pt x="4554" y="273"/>
                  </a:lnTo>
                  <a:lnTo>
                    <a:pt x="4521" y="283"/>
                  </a:lnTo>
                  <a:lnTo>
                    <a:pt x="4505" y="283"/>
                  </a:lnTo>
                  <a:lnTo>
                    <a:pt x="4489" y="266"/>
                  </a:lnTo>
                  <a:lnTo>
                    <a:pt x="4477" y="273"/>
                  </a:lnTo>
                  <a:lnTo>
                    <a:pt x="4493" y="278"/>
                  </a:lnTo>
                  <a:lnTo>
                    <a:pt x="4477" y="280"/>
                  </a:lnTo>
                  <a:lnTo>
                    <a:pt x="4497" y="278"/>
                  </a:lnTo>
                  <a:lnTo>
                    <a:pt x="4481" y="292"/>
                  </a:lnTo>
                  <a:lnTo>
                    <a:pt x="4452" y="297"/>
                  </a:lnTo>
                  <a:lnTo>
                    <a:pt x="4437" y="295"/>
                  </a:lnTo>
                  <a:lnTo>
                    <a:pt x="4437" y="300"/>
                  </a:lnTo>
                  <a:lnTo>
                    <a:pt x="4420" y="300"/>
                  </a:lnTo>
                  <a:lnTo>
                    <a:pt x="4401" y="309"/>
                  </a:lnTo>
                  <a:lnTo>
                    <a:pt x="4396" y="302"/>
                  </a:lnTo>
                  <a:lnTo>
                    <a:pt x="4396" y="307"/>
                  </a:lnTo>
                  <a:lnTo>
                    <a:pt x="4368" y="309"/>
                  </a:lnTo>
                  <a:lnTo>
                    <a:pt x="4365" y="315"/>
                  </a:lnTo>
                  <a:lnTo>
                    <a:pt x="4267" y="337"/>
                  </a:lnTo>
                  <a:lnTo>
                    <a:pt x="4239" y="349"/>
                  </a:lnTo>
                  <a:lnTo>
                    <a:pt x="4182" y="366"/>
                  </a:lnTo>
                  <a:lnTo>
                    <a:pt x="4186" y="374"/>
                  </a:lnTo>
                  <a:lnTo>
                    <a:pt x="4166" y="381"/>
                  </a:lnTo>
                  <a:lnTo>
                    <a:pt x="4186" y="374"/>
                  </a:lnTo>
                  <a:lnTo>
                    <a:pt x="4203" y="376"/>
                  </a:lnTo>
                  <a:lnTo>
                    <a:pt x="4191" y="383"/>
                  </a:lnTo>
                  <a:lnTo>
                    <a:pt x="4146" y="408"/>
                  </a:lnTo>
                  <a:lnTo>
                    <a:pt x="4114" y="415"/>
                  </a:lnTo>
                  <a:lnTo>
                    <a:pt x="4174" y="410"/>
                  </a:lnTo>
                  <a:lnTo>
                    <a:pt x="4195" y="423"/>
                  </a:lnTo>
                  <a:lnTo>
                    <a:pt x="4199" y="425"/>
                  </a:lnTo>
                  <a:lnTo>
                    <a:pt x="4182" y="445"/>
                  </a:lnTo>
                  <a:lnTo>
                    <a:pt x="4206" y="462"/>
                  </a:lnTo>
                  <a:lnTo>
                    <a:pt x="4186" y="470"/>
                  </a:lnTo>
                  <a:lnTo>
                    <a:pt x="4210" y="462"/>
                  </a:lnTo>
                  <a:lnTo>
                    <a:pt x="4263" y="472"/>
                  </a:lnTo>
                  <a:lnTo>
                    <a:pt x="4170" y="519"/>
                  </a:lnTo>
                  <a:lnTo>
                    <a:pt x="4162" y="533"/>
                  </a:lnTo>
                  <a:lnTo>
                    <a:pt x="4150" y="536"/>
                  </a:lnTo>
                  <a:lnTo>
                    <a:pt x="4162" y="548"/>
                  </a:lnTo>
                  <a:lnTo>
                    <a:pt x="4150" y="555"/>
                  </a:lnTo>
                  <a:lnTo>
                    <a:pt x="4122" y="563"/>
                  </a:lnTo>
                  <a:lnTo>
                    <a:pt x="4150" y="558"/>
                  </a:lnTo>
                  <a:lnTo>
                    <a:pt x="4158" y="565"/>
                  </a:lnTo>
                  <a:lnTo>
                    <a:pt x="4170" y="555"/>
                  </a:lnTo>
                  <a:lnTo>
                    <a:pt x="4179" y="555"/>
                  </a:lnTo>
                  <a:lnTo>
                    <a:pt x="4191" y="550"/>
                  </a:lnTo>
                  <a:lnTo>
                    <a:pt x="4182" y="563"/>
                  </a:lnTo>
                  <a:lnTo>
                    <a:pt x="4199" y="555"/>
                  </a:lnTo>
                  <a:lnTo>
                    <a:pt x="4203" y="548"/>
                  </a:lnTo>
                  <a:lnTo>
                    <a:pt x="4235" y="541"/>
                  </a:lnTo>
                  <a:lnTo>
                    <a:pt x="4251" y="521"/>
                  </a:lnTo>
                  <a:lnTo>
                    <a:pt x="4287" y="504"/>
                  </a:lnTo>
                  <a:lnTo>
                    <a:pt x="4295" y="496"/>
                  </a:lnTo>
                  <a:lnTo>
                    <a:pt x="4300" y="484"/>
                  </a:lnTo>
                  <a:lnTo>
                    <a:pt x="4401" y="467"/>
                  </a:lnTo>
                  <a:lnTo>
                    <a:pt x="4441" y="454"/>
                  </a:lnTo>
                  <a:lnTo>
                    <a:pt x="4477" y="435"/>
                  </a:lnTo>
                  <a:lnTo>
                    <a:pt x="4502" y="418"/>
                  </a:lnTo>
                  <a:lnTo>
                    <a:pt x="4497" y="403"/>
                  </a:lnTo>
                  <a:lnTo>
                    <a:pt x="4509" y="395"/>
                  </a:lnTo>
                  <a:lnTo>
                    <a:pt x="4562" y="381"/>
                  </a:lnTo>
                  <a:lnTo>
                    <a:pt x="4586" y="376"/>
                  </a:lnTo>
                  <a:lnTo>
                    <a:pt x="4578" y="374"/>
                  </a:lnTo>
                  <a:lnTo>
                    <a:pt x="4606" y="364"/>
                  </a:lnTo>
                  <a:lnTo>
                    <a:pt x="4613" y="358"/>
                  </a:lnTo>
                  <a:lnTo>
                    <a:pt x="4602" y="358"/>
                  </a:lnTo>
                  <a:lnTo>
                    <a:pt x="4651" y="344"/>
                  </a:lnTo>
                  <a:lnTo>
                    <a:pt x="4647" y="339"/>
                  </a:lnTo>
                  <a:lnTo>
                    <a:pt x="4675" y="327"/>
                  </a:lnTo>
                  <a:lnTo>
                    <a:pt x="4699" y="322"/>
                  </a:lnTo>
                  <a:lnTo>
                    <a:pt x="4719" y="332"/>
                  </a:lnTo>
                  <a:lnTo>
                    <a:pt x="4707" y="334"/>
                  </a:lnTo>
                  <a:lnTo>
                    <a:pt x="4731" y="334"/>
                  </a:lnTo>
                  <a:lnTo>
                    <a:pt x="4763" y="329"/>
                  </a:lnTo>
                  <a:lnTo>
                    <a:pt x="4763" y="334"/>
                  </a:lnTo>
                  <a:lnTo>
                    <a:pt x="4767" y="339"/>
                  </a:lnTo>
                  <a:lnTo>
                    <a:pt x="4752" y="344"/>
                  </a:lnTo>
                  <a:lnTo>
                    <a:pt x="4763" y="346"/>
                  </a:lnTo>
                  <a:lnTo>
                    <a:pt x="4752" y="351"/>
                  </a:lnTo>
                  <a:lnTo>
                    <a:pt x="4767" y="351"/>
                  </a:lnTo>
                  <a:lnTo>
                    <a:pt x="4748" y="358"/>
                  </a:lnTo>
                  <a:lnTo>
                    <a:pt x="4776" y="364"/>
                  </a:lnTo>
                  <a:lnTo>
                    <a:pt x="4784" y="364"/>
                  </a:lnTo>
                  <a:lnTo>
                    <a:pt x="4784" y="369"/>
                  </a:lnTo>
                  <a:lnTo>
                    <a:pt x="4743" y="385"/>
                  </a:lnTo>
                  <a:lnTo>
                    <a:pt x="4715" y="383"/>
                  </a:lnTo>
                  <a:lnTo>
                    <a:pt x="4740" y="385"/>
                  </a:lnTo>
                  <a:lnTo>
                    <a:pt x="4711" y="401"/>
                  </a:lnTo>
                  <a:lnTo>
                    <a:pt x="4723" y="401"/>
                  </a:lnTo>
                  <a:lnTo>
                    <a:pt x="4694" y="410"/>
                  </a:lnTo>
                  <a:lnTo>
                    <a:pt x="4699" y="405"/>
                  </a:lnTo>
                  <a:lnTo>
                    <a:pt x="4679" y="410"/>
                  </a:lnTo>
                  <a:lnTo>
                    <a:pt x="4683" y="415"/>
                  </a:lnTo>
                  <a:lnTo>
                    <a:pt x="4707" y="410"/>
                  </a:lnTo>
                  <a:lnTo>
                    <a:pt x="4719" y="413"/>
                  </a:lnTo>
                  <a:lnTo>
                    <a:pt x="4715" y="418"/>
                  </a:lnTo>
                  <a:lnTo>
                    <a:pt x="4691" y="428"/>
                  </a:lnTo>
                  <a:lnTo>
                    <a:pt x="4658" y="432"/>
                  </a:lnTo>
                  <a:lnTo>
                    <a:pt x="4691" y="428"/>
                  </a:lnTo>
                  <a:lnTo>
                    <a:pt x="4719" y="418"/>
                  </a:lnTo>
                  <a:lnTo>
                    <a:pt x="4699" y="428"/>
                  </a:lnTo>
                  <a:lnTo>
                    <a:pt x="4719" y="420"/>
                  </a:lnTo>
                  <a:lnTo>
                    <a:pt x="4703" y="432"/>
                  </a:lnTo>
                  <a:lnTo>
                    <a:pt x="4763" y="415"/>
                  </a:lnTo>
                  <a:lnTo>
                    <a:pt x="4752" y="425"/>
                  </a:lnTo>
                  <a:lnTo>
                    <a:pt x="4784" y="410"/>
                  </a:lnTo>
                  <a:lnTo>
                    <a:pt x="4796" y="410"/>
                  </a:lnTo>
                  <a:lnTo>
                    <a:pt x="4792" y="408"/>
                  </a:lnTo>
                  <a:lnTo>
                    <a:pt x="4808" y="403"/>
                  </a:lnTo>
                  <a:lnTo>
                    <a:pt x="4816" y="405"/>
                  </a:lnTo>
                  <a:lnTo>
                    <a:pt x="4816" y="395"/>
                  </a:lnTo>
                  <a:lnTo>
                    <a:pt x="4828" y="395"/>
                  </a:lnTo>
                  <a:lnTo>
                    <a:pt x="4857" y="383"/>
                  </a:lnTo>
                  <a:lnTo>
                    <a:pt x="4860" y="385"/>
                  </a:lnTo>
                  <a:lnTo>
                    <a:pt x="4860" y="388"/>
                  </a:lnTo>
                  <a:lnTo>
                    <a:pt x="4857" y="388"/>
                  </a:lnTo>
                  <a:lnTo>
                    <a:pt x="4840" y="393"/>
                  </a:lnTo>
                  <a:lnTo>
                    <a:pt x="4844" y="395"/>
                  </a:lnTo>
                  <a:lnTo>
                    <a:pt x="4857" y="393"/>
                  </a:lnTo>
                  <a:lnTo>
                    <a:pt x="4840" y="403"/>
                  </a:lnTo>
                  <a:lnTo>
                    <a:pt x="4848" y="403"/>
                  </a:lnTo>
                  <a:lnTo>
                    <a:pt x="4837" y="405"/>
                  </a:lnTo>
                  <a:lnTo>
                    <a:pt x="4848" y="408"/>
                  </a:lnTo>
                  <a:lnTo>
                    <a:pt x="4824" y="413"/>
                  </a:lnTo>
                  <a:lnTo>
                    <a:pt x="4840" y="420"/>
                  </a:lnTo>
                  <a:lnTo>
                    <a:pt x="4808" y="430"/>
                  </a:lnTo>
                  <a:lnTo>
                    <a:pt x="4837" y="425"/>
                  </a:lnTo>
                  <a:lnTo>
                    <a:pt x="4821" y="432"/>
                  </a:lnTo>
                  <a:lnTo>
                    <a:pt x="4800" y="435"/>
                  </a:lnTo>
                  <a:lnTo>
                    <a:pt x="4828" y="432"/>
                  </a:lnTo>
                  <a:lnTo>
                    <a:pt x="4816" y="437"/>
                  </a:lnTo>
                  <a:lnTo>
                    <a:pt x="4828" y="437"/>
                  </a:lnTo>
                  <a:lnTo>
                    <a:pt x="4821" y="445"/>
                  </a:lnTo>
                  <a:lnTo>
                    <a:pt x="4804" y="447"/>
                  </a:lnTo>
                  <a:lnTo>
                    <a:pt x="4816" y="457"/>
                  </a:lnTo>
                  <a:lnTo>
                    <a:pt x="4792" y="462"/>
                  </a:lnTo>
                  <a:lnTo>
                    <a:pt x="4792" y="467"/>
                  </a:lnTo>
                  <a:lnTo>
                    <a:pt x="4784" y="465"/>
                  </a:lnTo>
                  <a:lnTo>
                    <a:pt x="4779" y="462"/>
                  </a:lnTo>
                  <a:lnTo>
                    <a:pt x="4792" y="470"/>
                  </a:lnTo>
                  <a:lnTo>
                    <a:pt x="4776" y="470"/>
                  </a:lnTo>
                  <a:lnTo>
                    <a:pt x="4784" y="474"/>
                  </a:lnTo>
                  <a:lnTo>
                    <a:pt x="4772" y="474"/>
                  </a:lnTo>
                  <a:lnTo>
                    <a:pt x="4788" y="477"/>
                  </a:lnTo>
                  <a:lnTo>
                    <a:pt x="4776" y="479"/>
                  </a:lnTo>
                  <a:lnTo>
                    <a:pt x="4779" y="487"/>
                  </a:lnTo>
                  <a:lnTo>
                    <a:pt x="4792" y="484"/>
                  </a:lnTo>
                  <a:lnTo>
                    <a:pt x="4779" y="491"/>
                  </a:lnTo>
                  <a:lnTo>
                    <a:pt x="4796" y="487"/>
                  </a:lnTo>
                  <a:lnTo>
                    <a:pt x="4779" y="496"/>
                  </a:lnTo>
                  <a:lnTo>
                    <a:pt x="4763" y="504"/>
                  </a:lnTo>
                  <a:lnTo>
                    <a:pt x="4784" y="496"/>
                  </a:lnTo>
                  <a:lnTo>
                    <a:pt x="4796" y="496"/>
                  </a:lnTo>
                  <a:lnTo>
                    <a:pt x="4784" y="501"/>
                  </a:lnTo>
                  <a:lnTo>
                    <a:pt x="4796" y="501"/>
                  </a:lnTo>
                  <a:lnTo>
                    <a:pt x="4772" y="508"/>
                  </a:lnTo>
                  <a:lnTo>
                    <a:pt x="4808" y="499"/>
                  </a:lnTo>
                  <a:lnTo>
                    <a:pt x="4792" y="504"/>
                  </a:lnTo>
                  <a:lnTo>
                    <a:pt x="4800" y="508"/>
                  </a:lnTo>
                  <a:lnTo>
                    <a:pt x="4832" y="516"/>
                  </a:lnTo>
                  <a:lnTo>
                    <a:pt x="4759" y="524"/>
                  </a:lnTo>
                  <a:lnTo>
                    <a:pt x="4796" y="521"/>
                  </a:lnTo>
                  <a:lnTo>
                    <a:pt x="4740" y="528"/>
                  </a:lnTo>
                  <a:lnTo>
                    <a:pt x="4731" y="536"/>
                  </a:lnTo>
                  <a:lnTo>
                    <a:pt x="4723" y="528"/>
                  </a:lnTo>
                  <a:lnTo>
                    <a:pt x="4731" y="536"/>
                  </a:lnTo>
                  <a:lnTo>
                    <a:pt x="4715" y="541"/>
                  </a:lnTo>
                  <a:lnTo>
                    <a:pt x="4804" y="526"/>
                  </a:lnTo>
                  <a:lnTo>
                    <a:pt x="4792" y="524"/>
                  </a:lnTo>
                  <a:lnTo>
                    <a:pt x="4804" y="521"/>
                  </a:lnTo>
                  <a:lnTo>
                    <a:pt x="4816" y="528"/>
                  </a:lnTo>
                  <a:lnTo>
                    <a:pt x="4796" y="541"/>
                  </a:lnTo>
                  <a:lnTo>
                    <a:pt x="4816" y="533"/>
                  </a:lnTo>
                  <a:lnTo>
                    <a:pt x="4832" y="538"/>
                  </a:lnTo>
                  <a:lnTo>
                    <a:pt x="4828" y="548"/>
                  </a:lnTo>
                  <a:lnTo>
                    <a:pt x="4816" y="550"/>
                  </a:lnTo>
                  <a:lnTo>
                    <a:pt x="4821" y="555"/>
                  </a:lnTo>
                  <a:lnTo>
                    <a:pt x="4808" y="555"/>
                  </a:lnTo>
                  <a:lnTo>
                    <a:pt x="4816" y="561"/>
                  </a:lnTo>
                  <a:lnTo>
                    <a:pt x="4796" y="561"/>
                  </a:lnTo>
                  <a:lnTo>
                    <a:pt x="4812" y="563"/>
                  </a:lnTo>
                  <a:lnTo>
                    <a:pt x="4796" y="563"/>
                  </a:lnTo>
                  <a:lnTo>
                    <a:pt x="4808" y="568"/>
                  </a:lnTo>
                  <a:lnTo>
                    <a:pt x="4752" y="585"/>
                  </a:lnTo>
                  <a:lnTo>
                    <a:pt x="4748" y="585"/>
                  </a:lnTo>
                  <a:lnTo>
                    <a:pt x="4699" y="587"/>
                  </a:lnTo>
                  <a:lnTo>
                    <a:pt x="4679" y="597"/>
                  </a:lnTo>
                  <a:lnTo>
                    <a:pt x="4630" y="607"/>
                  </a:lnTo>
                  <a:lnTo>
                    <a:pt x="4521" y="600"/>
                  </a:lnTo>
                  <a:lnTo>
                    <a:pt x="4469" y="600"/>
                  </a:lnTo>
                  <a:lnTo>
                    <a:pt x="4413" y="620"/>
                  </a:lnTo>
                  <a:lnTo>
                    <a:pt x="4380" y="622"/>
                  </a:lnTo>
                  <a:lnTo>
                    <a:pt x="4316" y="644"/>
                  </a:lnTo>
                  <a:lnTo>
                    <a:pt x="4287" y="634"/>
                  </a:lnTo>
                  <a:lnTo>
                    <a:pt x="4311" y="644"/>
                  </a:lnTo>
                  <a:lnTo>
                    <a:pt x="4227" y="671"/>
                  </a:lnTo>
                  <a:lnTo>
                    <a:pt x="4255" y="666"/>
                  </a:lnTo>
                  <a:lnTo>
                    <a:pt x="4368" y="634"/>
                  </a:lnTo>
                  <a:lnTo>
                    <a:pt x="4461" y="622"/>
                  </a:lnTo>
                  <a:lnTo>
                    <a:pt x="4485" y="631"/>
                  </a:lnTo>
                  <a:lnTo>
                    <a:pt x="4481" y="636"/>
                  </a:lnTo>
                  <a:lnTo>
                    <a:pt x="4477" y="631"/>
                  </a:lnTo>
                  <a:lnTo>
                    <a:pt x="4473" y="642"/>
                  </a:lnTo>
                  <a:lnTo>
                    <a:pt x="4429" y="651"/>
                  </a:lnTo>
                  <a:lnTo>
                    <a:pt x="4420" y="646"/>
                  </a:lnTo>
                  <a:lnTo>
                    <a:pt x="4388" y="649"/>
                  </a:lnTo>
                  <a:lnTo>
                    <a:pt x="4413" y="654"/>
                  </a:lnTo>
                  <a:lnTo>
                    <a:pt x="4408" y="659"/>
                  </a:lnTo>
                  <a:lnTo>
                    <a:pt x="4437" y="659"/>
                  </a:lnTo>
                  <a:lnTo>
                    <a:pt x="4401" y="671"/>
                  </a:lnTo>
                  <a:lnTo>
                    <a:pt x="4417" y="673"/>
                  </a:lnTo>
                  <a:lnTo>
                    <a:pt x="4396" y="691"/>
                  </a:lnTo>
                  <a:lnTo>
                    <a:pt x="4417" y="696"/>
                  </a:lnTo>
                  <a:lnTo>
                    <a:pt x="4404" y="698"/>
                  </a:lnTo>
                  <a:lnTo>
                    <a:pt x="4408" y="703"/>
                  </a:lnTo>
                  <a:lnTo>
                    <a:pt x="4433" y="708"/>
                  </a:lnTo>
                  <a:lnTo>
                    <a:pt x="4465" y="703"/>
                  </a:lnTo>
                  <a:lnTo>
                    <a:pt x="4473" y="713"/>
                  </a:lnTo>
                  <a:lnTo>
                    <a:pt x="4461" y="715"/>
                  </a:lnTo>
                  <a:lnTo>
                    <a:pt x="4473" y="717"/>
                  </a:lnTo>
                  <a:lnTo>
                    <a:pt x="4404" y="727"/>
                  </a:lnTo>
                  <a:lnTo>
                    <a:pt x="4384" y="727"/>
                  </a:lnTo>
                  <a:lnTo>
                    <a:pt x="4376" y="735"/>
                  </a:lnTo>
                  <a:lnTo>
                    <a:pt x="4376" y="727"/>
                  </a:lnTo>
                  <a:lnTo>
                    <a:pt x="4360" y="730"/>
                  </a:lnTo>
                  <a:lnTo>
                    <a:pt x="4352" y="737"/>
                  </a:lnTo>
                  <a:lnTo>
                    <a:pt x="4316" y="750"/>
                  </a:lnTo>
                  <a:lnTo>
                    <a:pt x="4295" y="755"/>
                  </a:lnTo>
                  <a:lnTo>
                    <a:pt x="4287" y="745"/>
                  </a:lnTo>
                  <a:lnTo>
                    <a:pt x="4316" y="727"/>
                  </a:lnTo>
                  <a:lnTo>
                    <a:pt x="4300" y="732"/>
                  </a:lnTo>
                  <a:lnTo>
                    <a:pt x="4332" y="725"/>
                  </a:lnTo>
                  <a:lnTo>
                    <a:pt x="4376" y="713"/>
                  </a:lnTo>
                  <a:lnTo>
                    <a:pt x="4376" y="720"/>
                  </a:lnTo>
                  <a:lnTo>
                    <a:pt x="4380" y="715"/>
                  </a:lnTo>
                  <a:lnTo>
                    <a:pt x="4408" y="713"/>
                  </a:lnTo>
                  <a:lnTo>
                    <a:pt x="4365" y="713"/>
                  </a:lnTo>
                  <a:lnTo>
                    <a:pt x="4392" y="703"/>
                  </a:lnTo>
                  <a:lnTo>
                    <a:pt x="4396" y="700"/>
                  </a:lnTo>
                  <a:lnTo>
                    <a:pt x="4388" y="696"/>
                  </a:lnTo>
                  <a:lnTo>
                    <a:pt x="4376" y="706"/>
                  </a:lnTo>
                  <a:lnTo>
                    <a:pt x="4340" y="713"/>
                  </a:lnTo>
                  <a:lnTo>
                    <a:pt x="4328" y="711"/>
                  </a:lnTo>
                  <a:lnTo>
                    <a:pt x="4336" y="708"/>
                  </a:lnTo>
                  <a:lnTo>
                    <a:pt x="4311" y="715"/>
                  </a:lnTo>
                  <a:lnTo>
                    <a:pt x="4295" y="713"/>
                  </a:lnTo>
                  <a:lnTo>
                    <a:pt x="4291" y="700"/>
                  </a:lnTo>
                  <a:lnTo>
                    <a:pt x="4332" y="669"/>
                  </a:lnTo>
                  <a:lnTo>
                    <a:pt x="4307" y="666"/>
                  </a:lnTo>
                  <a:lnTo>
                    <a:pt x="4303" y="664"/>
                  </a:lnTo>
                  <a:lnTo>
                    <a:pt x="4303" y="659"/>
                  </a:lnTo>
                  <a:lnTo>
                    <a:pt x="4203" y="703"/>
                  </a:lnTo>
                  <a:lnTo>
                    <a:pt x="4186" y="706"/>
                  </a:lnTo>
                  <a:lnTo>
                    <a:pt x="4166" y="711"/>
                  </a:lnTo>
                  <a:lnTo>
                    <a:pt x="4146" y="711"/>
                  </a:lnTo>
                  <a:lnTo>
                    <a:pt x="4126" y="711"/>
                  </a:lnTo>
                  <a:lnTo>
                    <a:pt x="4114" y="708"/>
                  </a:lnTo>
                  <a:lnTo>
                    <a:pt x="4078" y="708"/>
                  </a:lnTo>
                  <a:lnTo>
                    <a:pt x="4073" y="708"/>
                  </a:lnTo>
                  <a:lnTo>
                    <a:pt x="4069" y="708"/>
                  </a:lnTo>
                  <a:lnTo>
                    <a:pt x="4029" y="717"/>
                  </a:lnTo>
                  <a:lnTo>
                    <a:pt x="3969" y="725"/>
                  </a:lnTo>
                  <a:lnTo>
                    <a:pt x="3988" y="725"/>
                  </a:lnTo>
                  <a:lnTo>
                    <a:pt x="3972" y="730"/>
                  </a:lnTo>
                  <a:lnTo>
                    <a:pt x="3961" y="725"/>
                  </a:lnTo>
                  <a:lnTo>
                    <a:pt x="3916" y="727"/>
                  </a:lnTo>
                  <a:lnTo>
                    <a:pt x="3880" y="740"/>
                  </a:lnTo>
                  <a:lnTo>
                    <a:pt x="3899" y="742"/>
                  </a:lnTo>
                  <a:lnTo>
                    <a:pt x="3891" y="745"/>
                  </a:lnTo>
                  <a:lnTo>
                    <a:pt x="3884" y="752"/>
                  </a:lnTo>
                  <a:lnTo>
                    <a:pt x="3815" y="752"/>
                  </a:lnTo>
                  <a:lnTo>
                    <a:pt x="3754" y="769"/>
                  </a:lnTo>
                  <a:lnTo>
                    <a:pt x="3742" y="765"/>
                  </a:lnTo>
                  <a:lnTo>
                    <a:pt x="3754" y="757"/>
                  </a:lnTo>
                  <a:lnTo>
                    <a:pt x="3771" y="760"/>
                  </a:lnTo>
                  <a:lnTo>
                    <a:pt x="3771" y="752"/>
                  </a:lnTo>
                  <a:lnTo>
                    <a:pt x="3795" y="742"/>
                  </a:lnTo>
                  <a:lnTo>
                    <a:pt x="3822" y="735"/>
                  </a:lnTo>
                  <a:lnTo>
                    <a:pt x="3851" y="717"/>
                  </a:lnTo>
                  <a:lnTo>
                    <a:pt x="3880" y="708"/>
                  </a:lnTo>
                  <a:lnTo>
                    <a:pt x="3891" y="691"/>
                  </a:lnTo>
                  <a:lnTo>
                    <a:pt x="3904" y="700"/>
                  </a:lnTo>
                  <a:lnTo>
                    <a:pt x="3888" y="708"/>
                  </a:lnTo>
                  <a:lnTo>
                    <a:pt x="3904" y="706"/>
                  </a:lnTo>
                  <a:lnTo>
                    <a:pt x="3907" y="713"/>
                  </a:lnTo>
                  <a:lnTo>
                    <a:pt x="3916" y="706"/>
                  </a:lnTo>
                  <a:lnTo>
                    <a:pt x="3928" y="706"/>
                  </a:lnTo>
                  <a:lnTo>
                    <a:pt x="3940" y="691"/>
                  </a:lnTo>
                  <a:lnTo>
                    <a:pt x="3940" y="678"/>
                  </a:lnTo>
                  <a:lnTo>
                    <a:pt x="3924" y="673"/>
                  </a:lnTo>
                  <a:lnTo>
                    <a:pt x="3860" y="659"/>
                  </a:lnTo>
                  <a:lnTo>
                    <a:pt x="3880" y="651"/>
                  </a:lnTo>
                  <a:lnTo>
                    <a:pt x="3872" y="649"/>
                  </a:lnTo>
                  <a:lnTo>
                    <a:pt x="3888" y="631"/>
                  </a:lnTo>
                  <a:lnTo>
                    <a:pt x="3904" y="626"/>
                  </a:lnTo>
                  <a:lnTo>
                    <a:pt x="3884" y="624"/>
                  </a:lnTo>
                  <a:lnTo>
                    <a:pt x="3899" y="605"/>
                  </a:lnTo>
                  <a:lnTo>
                    <a:pt x="3867" y="597"/>
                  </a:lnTo>
                  <a:lnTo>
                    <a:pt x="3847" y="605"/>
                  </a:lnTo>
                  <a:lnTo>
                    <a:pt x="3831" y="610"/>
                  </a:lnTo>
                  <a:lnTo>
                    <a:pt x="3847" y="600"/>
                  </a:lnTo>
                  <a:lnTo>
                    <a:pt x="3822" y="610"/>
                  </a:lnTo>
                  <a:lnTo>
                    <a:pt x="3818" y="607"/>
                  </a:lnTo>
                  <a:lnTo>
                    <a:pt x="3787" y="617"/>
                  </a:lnTo>
                  <a:close/>
                  <a:moveTo>
                    <a:pt x="10548" y="3204"/>
                  </a:moveTo>
                  <a:lnTo>
                    <a:pt x="10523" y="3214"/>
                  </a:lnTo>
                  <a:lnTo>
                    <a:pt x="10499" y="3216"/>
                  </a:lnTo>
                  <a:lnTo>
                    <a:pt x="10548" y="3204"/>
                  </a:lnTo>
                  <a:close/>
                  <a:moveTo>
                    <a:pt x="11020" y="3103"/>
                  </a:moveTo>
                  <a:lnTo>
                    <a:pt x="11057" y="3093"/>
                  </a:lnTo>
                  <a:lnTo>
                    <a:pt x="11049" y="3093"/>
                  </a:lnTo>
                  <a:lnTo>
                    <a:pt x="11073" y="3088"/>
                  </a:lnTo>
                  <a:lnTo>
                    <a:pt x="11057" y="3090"/>
                  </a:lnTo>
                  <a:lnTo>
                    <a:pt x="11045" y="3093"/>
                  </a:lnTo>
                  <a:lnTo>
                    <a:pt x="11073" y="3085"/>
                  </a:lnTo>
                  <a:lnTo>
                    <a:pt x="11033" y="3090"/>
                  </a:lnTo>
                  <a:lnTo>
                    <a:pt x="11053" y="3083"/>
                  </a:lnTo>
                  <a:lnTo>
                    <a:pt x="11069" y="3071"/>
                  </a:lnTo>
                  <a:lnTo>
                    <a:pt x="11081" y="3071"/>
                  </a:lnTo>
                  <a:lnTo>
                    <a:pt x="11081" y="3069"/>
                  </a:lnTo>
                  <a:lnTo>
                    <a:pt x="11045" y="3075"/>
                  </a:lnTo>
                  <a:lnTo>
                    <a:pt x="10984" y="3095"/>
                  </a:lnTo>
                  <a:lnTo>
                    <a:pt x="10972" y="3095"/>
                  </a:lnTo>
                  <a:lnTo>
                    <a:pt x="10919" y="3113"/>
                  </a:lnTo>
                  <a:lnTo>
                    <a:pt x="10936" y="3110"/>
                  </a:lnTo>
                  <a:lnTo>
                    <a:pt x="10916" y="3113"/>
                  </a:lnTo>
                  <a:lnTo>
                    <a:pt x="10875" y="3125"/>
                  </a:lnTo>
                  <a:lnTo>
                    <a:pt x="10891" y="3118"/>
                  </a:lnTo>
                  <a:lnTo>
                    <a:pt x="10863" y="3125"/>
                  </a:lnTo>
                  <a:lnTo>
                    <a:pt x="10855" y="3125"/>
                  </a:lnTo>
                  <a:lnTo>
                    <a:pt x="10842" y="3129"/>
                  </a:lnTo>
                  <a:lnTo>
                    <a:pt x="10782" y="3137"/>
                  </a:lnTo>
                  <a:lnTo>
                    <a:pt x="10774" y="3142"/>
                  </a:lnTo>
                  <a:lnTo>
                    <a:pt x="10754" y="3140"/>
                  </a:lnTo>
                  <a:lnTo>
                    <a:pt x="10697" y="3154"/>
                  </a:lnTo>
                  <a:lnTo>
                    <a:pt x="10685" y="3154"/>
                  </a:lnTo>
                  <a:lnTo>
                    <a:pt x="10661" y="3160"/>
                  </a:lnTo>
                  <a:lnTo>
                    <a:pt x="10629" y="3171"/>
                  </a:lnTo>
                  <a:lnTo>
                    <a:pt x="10637" y="3164"/>
                  </a:lnTo>
                  <a:lnTo>
                    <a:pt x="10620" y="3169"/>
                  </a:lnTo>
                  <a:lnTo>
                    <a:pt x="10613" y="3171"/>
                  </a:lnTo>
                  <a:lnTo>
                    <a:pt x="10608" y="3176"/>
                  </a:lnTo>
                  <a:lnTo>
                    <a:pt x="10593" y="3176"/>
                  </a:lnTo>
                  <a:lnTo>
                    <a:pt x="10577" y="3181"/>
                  </a:lnTo>
                  <a:lnTo>
                    <a:pt x="10589" y="3181"/>
                  </a:lnTo>
                  <a:lnTo>
                    <a:pt x="10572" y="3184"/>
                  </a:lnTo>
                  <a:lnTo>
                    <a:pt x="10589" y="3181"/>
                  </a:lnTo>
                  <a:lnTo>
                    <a:pt x="10564" y="3186"/>
                  </a:lnTo>
                  <a:lnTo>
                    <a:pt x="10581" y="3191"/>
                  </a:lnTo>
                  <a:lnTo>
                    <a:pt x="10564" y="3206"/>
                  </a:lnTo>
                  <a:lnTo>
                    <a:pt x="10653" y="3194"/>
                  </a:lnTo>
                  <a:lnTo>
                    <a:pt x="10730" y="3174"/>
                  </a:lnTo>
                  <a:lnTo>
                    <a:pt x="10734" y="3167"/>
                  </a:lnTo>
                  <a:lnTo>
                    <a:pt x="10734" y="3174"/>
                  </a:lnTo>
                  <a:lnTo>
                    <a:pt x="10750" y="3169"/>
                  </a:lnTo>
                  <a:lnTo>
                    <a:pt x="10782" y="3160"/>
                  </a:lnTo>
                  <a:lnTo>
                    <a:pt x="10790" y="3152"/>
                  </a:lnTo>
                  <a:lnTo>
                    <a:pt x="10786" y="3160"/>
                  </a:lnTo>
                  <a:lnTo>
                    <a:pt x="10802" y="3152"/>
                  </a:lnTo>
                  <a:lnTo>
                    <a:pt x="10827" y="3152"/>
                  </a:lnTo>
                  <a:lnTo>
                    <a:pt x="10851" y="3132"/>
                  </a:lnTo>
                  <a:lnTo>
                    <a:pt x="10859" y="3135"/>
                  </a:lnTo>
                  <a:lnTo>
                    <a:pt x="10875" y="3127"/>
                  </a:lnTo>
                  <a:lnTo>
                    <a:pt x="10859" y="3135"/>
                  </a:lnTo>
                  <a:lnTo>
                    <a:pt x="10831" y="3152"/>
                  </a:lnTo>
                  <a:lnTo>
                    <a:pt x="10838" y="3157"/>
                  </a:lnTo>
                  <a:lnTo>
                    <a:pt x="10855" y="3147"/>
                  </a:lnTo>
                  <a:lnTo>
                    <a:pt x="10871" y="3142"/>
                  </a:lnTo>
                  <a:lnTo>
                    <a:pt x="10867" y="3137"/>
                  </a:lnTo>
                  <a:lnTo>
                    <a:pt x="10879" y="3140"/>
                  </a:lnTo>
                  <a:lnTo>
                    <a:pt x="10875" y="3137"/>
                  </a:lnTo>
                  <a:lnTo>
                    <a:pt x="10883" y="3140"/>
                  </a:lnTo>
                  <a:lnTo>
                    <a:pt x="11012" y="3108"/>
                  </a:lnTo>
                  <a:lnTo>
                    <a:pt x="11020" y="3103"/>
                  </a:lnTo>
                  <a:close/>
                  <a:moveTo>
                    <a:pt x="11210" y="3064"/>
                  </a:moveTo>
                  <a:lnTo>
                    <a:pt x="11093" y="3098"/>
                  </a:lnTo>
                  <a:lnTo>
                    <a:pt x="11045" y="3108"/>
                  </a:lnTo>
                  <a:lnTo>
                    <a:pt x="11066" y="3095"/>
                  </a:lnTo>
                  <a:lnTo>
                    <a:pt x="11061" y="3095"/>
                  </a:lnTo>
                  <a:lnTo>
                    <a:pt x="11150" y="3071"/>
                  </a:lnTo>
                  <a:lnTo>
                    <a:pt x="11174" y="3044"/>
                  </a:lnTo>
                  <a:lnTo>
                    <a:pt x="11194" y="3036"/>
                  </a:lnTo>
                  <a:lnTo>
                    <a:pt x="11230" y="3031"/>
                  </a:lnTo>
                  <a:lnTo>
                    <a:pt x="11278" y="3015"/>
                  </a:lnTo>
                  <a:lnTo>
                    <a:pt x="11287" y="3015"/>
                  </a:lnTo>
                  <a:lnTo>
                    <a:pt x="11347" y="2984"/>
                  </a:lnTo>
                  <a:lnTo>
                    <a:pt x="11339" y="2989"/>
                  </a:lnTo>
                  <a:lnTo>
                    <a:pt x="11356" y="2984"/>
                  </a:lnTo>
                  <a:lnTo>
                    <a:pt x="11347" y="2982"/>
                  </a:lnTo>
                  <a:lnTo>
                    <a:pt x="11380" y="2968"/>
                  </a:lnTo>
                  <a:lnTo>
                    <a:pt x="11372" y="2973"/>
                  </a:lnTo>
                  <a:lnTo>
                    <a:pt x="11384" y="2968"/>
                  </a:lnTo>
                  <a:lnTo>
                    <a:pt x="11404" y="2958"/>
                  </a:lnTo>
                  <a:lnTo>
                    <a:pt x="11395" y="2958"/>
                  </a:lnTo>
                  <a:lnTo>
                    <a:pt x="11412" y="2948"/>
                  </a:lnTo>
                  <a:lnTo>
                    <a:pt x="11388" y="2963"/>
                  </a:lnTo>
                  <a:lnTo>
                    <a:pt x="11392" y="2958"/>
                  </a:lnTo>
                  <a:lnTo>
                    <a:pt x="11420" y="2938"/>
                  </a:lnTo>
                  <a:lnTo>
                    <a:pt x="11440" y="2933"/>
                  </a:lnTo>
                  <a:lnTo>
                    <a:pt x="11420" y="2938"/>
                  </a:lnTo>
                  <a:lnTo>
                    <a:pt x="11432" y="2930"/>
                  </a:lnTo>
                  <a:lnTo>
                    <a:pt x="11477" y="2903"/>
                  </a:lnTo>
                  <a:lnTo>
                    <a:pt x="11484" y="2906"/>
                  </a:lnTo>
                  <a:lnTo>
                    <a:pt x="11452" y="2923"/>
                  </a:lnTo>
                  <a:lnTo>
                    <a:pt x="11469" y="2919"/>
                  </a:lnTo>
                  <a:lnTo>
                    <a:pt x="11464" y="2926"/>
                  </a:lnTo>
                  <a:lnTo>
                    <a:pt x="11449" y="2935"/>
                  </a:lnTo>
                  <a:lnTo>
                    <a:pt x="11461" y="2933"/>
                  </a:lnTo>
                  <a:lnTo>
                    <a:pt x="11424" y="2950"/>
                  </a:lnTo>
                  <a:lnTo>
                    <a:pt x="11420" y="2950"/>
                  </a:lnTo>
                  <a:lnTo>
                    <a:pt x="11399" y="2965"/>
                  </a:lnTo>
                  <a:lnTo>
                    <a:pt x="11359" y="2980"/>
                  </a:lnTo>
                  <a:lnTo>
                    <a:pt x="11356" y="2992"/>
                  </a:lnTo>
                  <a:lnTo>
                    <a:pt x="11372" y="2984"/>
                  </a:lnTo>
                  <a:lnTo>
                    <a:pt x="11399" y="2973"/>
                  </a:lnTo>
                  <a:lnTo>
                    <a:pt x="11384" y="2984"/>
                  </a:lnTo>
                  <a:lnTo>
                    <a:pt x="11335" y="3004"/>
                  </a:lnTo>
                  <a:lnTo>
                    <a:pt x="11331" y="3019"/>
                  </a:lnTo>
                  <a:lnTo>
                    <a:pt x="11380" y="3012"/>
                  </a:lnTo>
                  <a:lnTo>
                    <a:pt x="11380" y="3017"/>
                  </a:lnTo>
                  <a:lnTo>
                    <a:pt x="11314" y="3038"/>
                  </a:lnTo>
                  <a:lnTo>
                    <a:pt x="11258" y="3056"/>
                  </a:lnTo>
                  <a:lnTo>
                    <a:pt x="11262" y="3049"/>
                  </a:lnTo>
                  <a:lnTo>
                    <a:pt x="11242" y="3054"/>
                  </a:lnTo>
                  <a:lnTo>
                    <a:pt x="11210" y="3064"/>
                  </a:lnTo>
                  <a:close/>
                  <a:moveTo>
                    <a:pt x="10544" y="2948"/>
                  </a:moveTo>
                  <a:lnTo>
                    <a:pt x="10512" y="2963"/>
                  </a:lnTo>
                  <a:lnTo>
                    <a:pt x="10544" y="2948"/>
                  </a:lnTo>
                  <a:close/>
                  <a:moveTo>
                    <a:pt x="10379" y="3041"/>
                  </a:moveTo>
                  <a:lnTo>
                    <a:pt x="10411" y="3022"/>
                  </a:lnTo>
                  <a:lnTo>
                    <a:pt x="10423" y="3017"/>
                  </a:lnTo>
                  <a:lnTo>
                    <a:pt x="10423" y="3022"/>
                  </a:lnTo>
                  <a:lnTo>
                    <a:pt x="10471" y="2989"/>
                  </a:lnTo>
                  <a:lnTo>
                    <a:pt x="10504" y="2977"/>
                  </a:lnTo>
                  <a:lnTo>
                    <a:pt x="10512" y="2997"/>
                  </a:lnTo>
                  <a:lnTo>
                    <a:pt x="10523" y="2992"/>
                  </a:lnTo>
                  <a:lnTo>
                    <a:pt x="10512" y="3002"/>
                  </a:lnTo>
                  <a:lnTo>
                    <a:pt x="10528" y="2992"/>
                  </a:lnTo>
                  <a:lnTo>
                    <a:pt x="10572" y="2987"/>
                  </a:lnTo>
                  <a:lnTo>
                    <a:pt x="10564" y="2994"/>
                  </a:lnTo>
                  <a:lnTo>
                    <a:pt x="10496" y="3024"/>
                  </a:lnTo>
                  <a:lnTo>
                    <a:pt x="10504" y="3019"/>
                  </a:lnTo>
                  <a:lnTo>
                    <a:pt x="10463" y="3031"/>
                  </a:lnTo>
                  <a:lnTo>
                    <a:pt x="10423" y="3049"/>
                  </a:lnTo>
                  <a:lnTo>
                    <a:pt x="10423" y="3044"/>
                  </a:lnTo>
                  <a:lnTo>
                    <a:pt x="10435" y="3036"/>
                  </a:lnTo>
                  <a:lnTo>
                    <a:pt x="10403" y="3046"/>
                  </a:lnTo>
                  <a:lnTo>
                    <a:pt x="10370" y="3056"/>
                  </a:lnTo>
                  <a:lnTo>
                    <a:pt x="10362" y="3051"/>
                  </a:lnTo>
                  <a:lnTo>
                    <a:pt x="10370" y="3046"/>
                  </a:lnTo>
                  <a:lnTo>
                    <a:pt x="10382" y="3046"/>
                  </a:lnTo>
                  <a:lnTo>
                    <a:pt x="10379" y="3041"/>
                  </a:lnTo>
                  <a:close/>
                  <a:moveTo>
                    <a:pt x="10625" y="2965"/>
                  </a:moveTo>
                  <a:lnTo>
                    <a:pt x="10604" y="2977"/>
                  </a:lnTo>
                  <a:lnTo>
                    <a:pt x="10617" y="2965"/>
                  </a:lnTo>
                  <a:lnTo>
                    <a:pt x="10625" y="2965"/>
                  </a:lnTo>
                  <a:close/>
                  <a:moveTo>
                    <a:pt x="10802" y="2910"/>
                  </a:moveTo>
                  <a:lnTo>
                    <a:pt x="10904" y="2865"/>
                  </a:lnTo>
                  <a:lnTo>
                    <a:pt x="10952" y="2849"/>
                  </a:lnTo>
                  <a:lnTo>
                    <a:pt x="10960" y="2845"/>
                  </a:lnTo>
                  <a:lnTo>
                    <a:pt x="11028" y="2818"/>
                  </a:lnTo>
                  <a:lnTo>
                    <a:pt x="11040" y="2810"/>
                  </a:lnTo>
                  <a:lnTo>
                    <a:pt x="11101" y="2790"/>
                  </a:lnTo>
                  <a:lnTo>
                    <a:pt x="11101" y="2788"/>
                  </a:lnTo>
                  <a:lnTo>
                    <a:pt x="11126" y="2783"/>
                  </a:lnTo>
                  <a:lnTo>
                    <a:pt x="11323" y="2685"/>
                  </a:lnTo>
                  <a:lnTo>
                    <a:pt x="11350" y="2667"/>
                  </a:lnTo>
                  <a:lnTo>
                    <a:pt x="11363" y="2658"/>
                  </a:lnTo>
                  <a:lnTo>
                    <a:pt x="11372" y="2643"/>
                  </a:lnTo>
                  <a:lnTo>
                    <a:pt x="11432" y="2604"/>
                  </a:lnTo>
                  <a:lnTo>
                    <a:pt x="11452" y="2584"/>
                  </a:lnTo>
                  <a:lnTo>
                    <a:pt x="11444" y="2579"/>
                  </a:lnTo>
                  <a:lnTo>
                    <a:pt x="11464" y="2549"/>
                  </a:lnTo>
                  <a:lnTo>
                    <a:pt x="11457" y="2527"/>
                  </a:lnTo>
                  <a:lnTo>
                    <a:pt x="11461" y="2527"/>
                  </a:lnTo>
                  <a:lnTo>
                    <a:pt x="11493" y="2500"/>
                  </a:lnTo>
                  <a:lnTo>
                    <a:pt x="11493" y="2493"/>
                  </a:lnTo>
                  <a:lnTo>
                    <a:pt x="11484" y="2503"/>
                  </a:lnTo>
                  <a:lnTo>
                    <a:pt x="11484" y="2486"/>
                  </a:lnTo>
                  <a:lnTo>
                    <a:pt x="11469" y="2497"/>
                  </a:lnTo>
                  <a:lnTo>
                    <a:pt x="11461" y="2497"/>
                  </a:lnTo>
                  <a:lnTo>
                    <a:pt x="11488" y="2468"/>
                  </a:lnTo>
                  <a:lnTo>
                    <a:pt x="11496" y="2454"/>
                  </a:lnTo>
                  <a:lnTo>
                    <a:pt x="11493" y="2441"/>
                  </a:lnTo>
                  <a:lnTo>
                    <a:pt x="11509" y="2429"/>
                  </a:lnTo>
                  <a:lnTo>
                    <a:pt x="11488" y="2412"/>
                  </a:lnTo>
                  <a:lnTo>
                    <a:pt x="11496" y="2399"/>
                  </a:lnTo>
                  <a:lnTo>
                    <a:pt x="11484" y="2402"/>
                  </a:lnTo>
                  <a:lnTo>
                    <a:pt x="11472" y="2385"/>
                  </a:lnTo>
                  <a:lnTo>
                    <a:pt x="11517" y="2326"/>
                  </a:lnTo>
                  <a:lnTo>
                    <a:pt x="11509" y="2311"/>
                  </a:lnTo>
                  <a:lnTo>
                    <a:pt x="11541" y="2269"/>
                  </a:lnTo>
                  <a:lnTo>
                    <a:pt x="11533" y="2249"/>
                  </a:lnTo>
                  <a:lnTo>
                    <a:pt x="11533" y="2245"/>
                  </a:lnTo>
                  <a:lnTo>
                    <a:pt x="11505" y="2249"/>
                  </a:lnTo>
                  <a:lnTo>
                    <a:pt x="11529" y="2205"/>
                  </a:lnTo>
                  <a:lnTo>
                    <a:pt x="11522" y="2205"/>
                  </a:lnTo>
                  <a:lnTo>
                    <a:pt x="11525" y="2183"/>
                  </a:lnTo>
                  <a:lnTo>
                    <a:pt x="11533" y="2178"/>
                  </a:lnTo>
                  <a:lnTo>
                    <a:pt x="11525" y="2176"/>
                  </a:lnTo>
                  <a:lnTo>
                    <a:pt x="11533" y="2149"/>
                  </a:lnTo>
                  <a:lnTo>
                    <a:pt x="11529" y="2149"/>
                  </a:lnTo>
                  <a:lnTo>
                    <a:pt x="11533" y="2141"/>
                  </a:lnTo>
                  <a:lnTo>
                    <a:pt x="11517" y="2149"/>
                  </a:lnTo>
                  <a:lnTo>
                    <a:pt x="11496" y="2178"/>
                  </a:lnTo>
                  <a:lnTo>
                    <a:pt x="11488" y="2178"/>
                  </a:lnTo>
                  <a:lnTo>
                    <a:pt x="11472" y="2193"/>
                  </a:lnTo>
                  <a:lnTo>
                    <a:pt x="11484" y="2193"/>
                  </a:lnTo>
                  <a:lnTo>
                    <a:pt x="11480" y="2198"/>
                  </a:lnTo>
                  <a:lnTo>
                    <a:pt x="11464" y="2205"/>
                  </a:lnTo>
                  <a:lnTo>
                    <a:pt x="11457" y="2225"/>
                  </a:lnTo>
                  <a:lnTo>
                    <a:pt x="11461" y="2217"/>
                  </a:lnTo>
                  <a:lnTo>
                    <a:pt x="11444" y="2230"/>
                  </a:lnTo>
                  <a:lnTo>
                    <a:pt x="11424" y="2271"/>
                  </a:lnTo>
                  <a:lnTo>
                    <a:pt x="11347" y="2333"/>
                  </a:lnTo>
                  <a:lnTo>
                    <a:pt x="11319" y="2340"/>
                  </a:lnTo>
                  <a:lnTo>
                    <a:pt x="11303" y="2331"/>
                  </a:lnTo>
                  <a:lnTo>
                    <a:pt x="11303" y="2316"/>
                  </a:lnTo>
                  <a:lnTo>
                    <a:pt x="11278" y="2304"/>
                  </a:lnTo>
                  <a:lnTo>
                    <a:pt x="11266" y="2286"/>
                  </a:lnTo>
                  <a:lnTo>
                    <a:pt x="11255" y="2284"/>
                  </a:lnTo>
                  <a:lnTo>
                    <a:pt x="11234" y="2255"/>
                  </a:lnTo>
                  <a:lnTo>
                    <a:pt x="11234" y="2249"/>
                  </a:lnTo>
                  <a:lnTo>
                    <a:pt x="11275" y="2220"/>
                  </a:lnTo>
                  <a:lnTo>
                    <a:pt x="11271" y="2215"/>
                  </a:lnTo>
                  <a:lnTo>
                    <a:pt x="11278" y="2208"/>
                  </a:lnTo>
                  <a:lnTo>
                    <a:pt x="11295" y="2203"/>
                  </a:lnTo>
                  <a:lnTo>
                    <a:pt x="11300" y="2208"/>
                  </a:lnTo>
                  <a:lnTo>
                    <a:pt x="11307" y="2200"/>
                  </a:lnTo>
                  <a:lnTo>
                    <a:pt x="11307" y="2195"/>
                  </a:lnTo>
                  <a:lnTo>
                    <a:pt x="11331" y="2183"/>
                  </a:lnTo>
                  <a:lnTo>
                    <a:pt x="11319" y="2181"/>
                  </a:lnTo>
                  <a:lnTo>
                    <a:pt x="11323" y="2171"/>
                  </a:lnTo>
                  <a:lnTo>
                    <a:pt x="11307" y="2176"/>
                  </a:lnTo>
                  <a:lnTo>
                    <a:pt x="11312" y="2181"/>
                  </a:lnTo>
                  <a:lnTo>
                    <a:pt x="11303" y="2186"/>
                  </a:lnTo>
                  <a:lnTo>
                    <a:pt x="11303" y="2173"/>
                  </a:lnTo>
                  <a:lnTo>
                    <a:pt x="11291" y="2178"/>
                  </a:lnTo>
                  <a:lnTo>
                    <a:pt x="11300" y="2171"/>
                  </a:lnTo>
                  <a:lnTo>
                    <a:pt x="11275" y="2178"/>
                  </a:lnTo>
                  <a:lnTo>
                    <a:pt x="11242" y="2173"/>
                  </a:lnTo>
                  <a:lnTo>
                    <a:pt x="11238" y="2161"/>
                  </a:lnTo>
                  <a:lnTo>
                    <a:pt x="11227" y="2166"/>
                  </a:lnTo>
                  <a:lnTo>
                    <a:pt x="11214" y="2151"/>
                  </a:lnTo>
                  <a:lnTo>
                    <a:pt x="11202" y="2154"/>
                  </a:lnTo>
                  <a:lnTo>
                    <a:pt x="11194" y="2144"/>
                  </a:lnTo>
                  <a:lnTo>
                    <a:pt x="11186" y="2151"/>
                  </a:lnTo>
                  <a:lnTo>
                    <a:pt x="11186" y="2144"/>
                  </a:lnTo>
                  <a:lnTo>
                    <a:pt x="11177" y="2149"/>
                  </a:lnTo>
                  <a:lnTo>
                    <a:pt x="11182" y="2154"/>
                  </a:lnTo>
                  <a:lnTo>
                    <a:pt x="11202" y="2156"/>
                  </a:lnTo>
                  <a:lnTo>
                    <a:pt x="11194" y="2173"/>
                  </a:lnTo>
                  <a:lnTo>
                    <a:pt x="11182" y="2178"/>
                  </a:lnTo>
                  <a:lnTo>
                    <a:pt x="11150" y="2168"/>
                  </a:lnTo>
                  <a:lnTo>
                    <a:pt x="11141" y="2171"/>
                  </a:lnTo>
                  <a:lnTo>
                    <a:pt x="11129" y="2183"/>
                  </a:lnTo>
                  <a:lnTo>
                    <a:pt x="11121" y="2176"/>
                  </a:lnTo>
                  <a:lnTo>
                    <a:pt x="11117" y="2186"/>
                  </a:lnTo>
                  <a:lnTo>
                    <a:pt x="11101" y="2191"/>
                  </a:lnTo>
                  <a:lnTo>
                    <a:pt x="11097" y="2203"/>
                  </a:lnTo>
                  <a:lnTo>
                    <a:pt x="11081" y="2208"/>
                  </a:lnTo>
                  <a:lnTo>
                    <a:pt x="11069" y="2217"/>
                  </a:lnTo>
                  <a:lnTo>
                    <a:pt x="11049" y="2232"/>
                  </a:lnTo>
                  <a:lnTo>
                    <a:pt x="11057" y="2235"/>
                  </a:lnTo>
                  <a:lnTo>
                    <a:pt x="11066" y="2242"/>
                  </a:lnTo>
                  <a:lnTo>
                    <a:pt x="11045" y="2252"/>
                  </a:lnTo>
                  <a:lnTo>
                    <a:pt x="11057" y="2259"/>
                  </a:lnTo>
                  <a:lnTo>
                    <a:pt x="11045" y="2262"/>
                  </a:lnTo>
                  <a:lnTo>
                    <a:pt x="11037" y="2245"/>
                  </a:lnTo>
                  <a:lnTo>
                    <a:pt x="11028" y="2255"/>
                  </a:lnTo>
                  <a:lnTo>
                    <a:pt x="11028" y="2245"/>
                  </a:lnTo>
                  <a:lnTo>
                    <a:pt x="11012" y="2242"/>
                  </a:lnTo>
                  <a:lnTo>
                    <a:pt x="10996" y="2249"/>
                  </a:lnTo>
                  <a:lnTo>
                    <a:pt x="10996" y="2262"/>
                  </a:lnTo>
                  <a:lnTo>
                    <a:pt x="10993" y="2252"/>
                  </a:lnTo>
                  <a:lnTo>
                    <a:pt x="10976" y="2264"/>
                  </a:lnTo>
                  <a:lnTo>
                    <a:pt x="10988" y="2257"/>
                  </a:lnTo>
                  <a:lnTo>
                    <a:pt x="10993" y="2255"/>
                  </a:lnTo>
                  <a:lnTo>
                    <a:pt x="11004" y="2240"/>
                  </a:lnTo>
                  <a:lnTo>
                    <a:pt x="10993" y="2217"/>
                  </a:lnTo>
                  <a:lnTo>
                    <a:pt x="10980" y="2210"/>
                  </a:lnTo>
                  <a:lnTo>
                    <a:pt x="10972" y="2213"/>
                  </a:lnTo>
                  <a:lnTo>
                    <a:pt x="10960" y="2225"/>
                  </a:lnTo>
                  <a:lnTo>
                    <a:pt x="10964" y="2215"/>
                  </a:lnTo>
                  <a:lnTo>
                    <a:pt x="10948" y="2222"/>
                  </a:lnTo>
                  <a:lnTo>
                    <a:pt x="10948" y="2215"/>
                  </a:lnTo>
                  <a:lnTo>
                    <a:pt x="10931" y="2235"/>
                  </a:lnTo>
                  <a:lnTo>
                    <a:pt x="10923" y="2232"/>
                  </a:lnTo>
                  <a:lnTo>
                    <a:pt x="10927" y="2222"/>
                  </a:lnTo>
                  <a:lnTo>
                    <a:pt x="10923" y="2232"/>
                  </a:lnTo>
                  <a:lnTo>
                    <a:pt x="10904" y="2237"/>
                  </a:lnTo>
                  <a:lnTo>
                    <a:pt x="10907" y="2247"/>
                  </a:lnTo>
                  <a:lnTo>
                    <a:pt x="10887" y="2247"/>
                  </a:lnTo>
                  <a:lnTo>
                    <a:pt x="10887" y="2252"/>
                  </a:lnTo>
                  <a:lnTo>
                    <a:pt x="10891" y="2259"/>
                  </a:lnTo>
                  <a:lnTo>
                    <a:pt x="10879" y="2249"/>
                  </a:lnTo>
                  <a:lnTo>
                    <a:pt x="10859" y="2262"/>
                  </a:lnTo>
                  <a:lnTo>
                    <a:pt x="10871" y="2264"/>
                  </a:lnTo>
                  <a:lnTo>
                    <a:pt x="10851" y="2279"/>
                  </a:lnTo>
                  <a:lnTo>
                    <a:pt x="10867" y="2282"/>
                  </a:lnTo>
                  <a:lnTo>
                    <a:pt x="10851" y="2279"/>
                  </a:lnTo>
                  <a:lnTo>
                    <a:pt x="10847" y="2286"/>
                  </a:lnTo>
                  <a:lnTo>
                    <a:pt x="10838" y="2276"/>
                  </a:lnTo>
                  <a:lnTo>
                    <a:pt x="10831" y="2274"/>
                  </a:lnTo>
                  <a:lnTo>
                    <a:pt x="10827" y="2282"/>
                  </a:lnTo>
                  <a:lnTo>
                    <a:pt x="10815" y="2284"/>
                  </a:lnTo>
                  <a:lnTo>
                    <a:pt x="10827" y="2294"/>
                  </a:lnTo>
                  <a:lnTo>
                    <a:pt x="10811" y="2296"/>
                  </a:lnTo>
                  <a:lnTo>
                    <a:pt x="10799" y="2323"/>
                  </a:lnTo>
                  <a:lnTo>
                    <a:pt x="10799" y="2284"/>
                  </a:lnTo>
                  <a:lnTo>
                    <a:pt x="10802" y="2279"/>
                  </a:lnTo>
                  <a:lnTo>
                    <a:pt x="10790" y="2289"/>
                  </a:lnTo>
                  <a:lnTo>
                    <a:pt x="10758" y="2302"/>
                  </a:lnTo>
                  <a:lnTo>
                    <a:pt x="10750" y="2326"/>
                  </a:lnTo>
                  <a:lnTo>
                    <a:pt x="10721" y="2333"/>
                  </a:lnTo>
                  <a:lnTo>
                    <a:pt x="10673" y="2365"/>
                  </a:lnTo>
                  <a:lnTo>
                    <a:pt x="10600" y="2372"/>
                  </a:lnTo>
                  <a:lnTo>
                    <a:pt x="10552" y="2387"/>
                  </a:lnTo>
                  <a:lnTo>
                    <a:pt x="10523" y="2392"/>
                  </a:lnTo>
                  <a:lnTo>
                    <a:pt x="10516" y="2385"/>
                  </a:lnTo>
                  <a:lnTo>
                    <a:pt x="10415" y="2417"/>
                  </a:lnTo>
                  <a:lnTo>
                    <a:pt x="10379" y="2434"/>
                  </a:lnTo>
                  <a:lnTo>
                    <a:pt x="10395" y="2417"/>
                  </a:lnTo>
                  <a:lnTo>
                    <a:pt x="10343" y="2458"/>
                  </a:lnTo>
                  <a:lnTo>
                    <a:pt x="10314" y="2478"/>
                  </a:lnTo>
                  <a:lnTo>
                    <a:pt x="10285" y="2530"/>
                  </a:lnTo>
                  <a:lnTo>
                    <a:pt x="10274" y="2537"/>
                  </a:lnTo>
                  <a:lnTo>
                    <a:pt x="10270" y="2530"/>
                  </a:lnTo>
                  <a:lnTo>
                    <a:pt x="10282" y="2512"/>
                  </a:lnTo>
                  <a:lnTo>
                    <a:pt x="10270" y="2535"/>
                  </a:lnTo>
                  <a:lnTo>
                    <a:pt x="10254" y="2542"/>
                  </a:lnTo>
                  <a:lnTo>
                    <a:pt x="10262" y="2530"/>
                  </a:lnTo>
                  <a:lnTo>
                    <a:pt x="10249" y="2532"/>
                  </a:lnTo>
                  <a:lnTo>
                    <a:pt x="10225" y="2582"/>
                  </a:lnTo>
                  <a:lnTo>
                    <a:pt x="10213" y="2611"/>
                  </a:lnTo>
                  <a:lnTo>
                    <a:pt x="10173" y="2645"/>
                  </a:lnTo>
                  <a:lnTo>
                    <a:pt x="10148" y="2682"/>
                  </a:lnTo>
                  <a:lnTo>
                    <a:pt x="10096" y="2719"/>
                  </a:lnTo>
                  <a:lnTo>
                    <a:pt x="10060" y="2729"/>
                  </a:lnTo>
                  <a:lnTo>
                    <a:pt x="10040" y="2746"/>
                  </a:lnTo>
                  <a:lnTo>
                    <a:pt x="10051" y="2763"/>
                  </a:lnTo>
                  <a:lnTo>
                    <a:pt x="10088" y="2771"/>
                  </a:lnTo>
                  <a:lnTo>
                    <a:pt x="10140" y="2756"/>
                  </a:lnTo>
                  <a:lnTo>
                    <a:pt x="10197" y="2743"/>
                  </a:lnTo>
                  <a:lnTo>
                    <a:pt x="10290" y="2751"/>
                  </a:lnTo>
                  <a:lnTo>
                    <a:pt x="10346" y="2729"/>
                  </a:lnTo>
                  <a:lnTo>
                    <a:pt x="10427" y="2714"/>
                  </a:lnTo>
                  <a:lnTo>
                    <a:pt x="10463" y="2717"/>
                  </a:lnTo>
                  <a:lnTo>
                    <a:pt x="10536" y="2704"/>
                  </a:lnTo>
                  <a:lnTo>
                    <a:pt x="10540" y="2704"/>
                  </a:lnTo>
                  <a:lnTo>
                    <a:pt x="10608" y="2704"/>
                  </a:lnTo>
                  <a:lnTo>
                    <a:pt x="10613" y="2719"/>
                  </a:lnTo>
                  <a:lnTo>
                    <a:pt x="10649" y="2729"/>
                  </a:lnTo>
                  <a:lnTo>
                    <a:pt x="10637" y="2736"/>
                  </a:lnTo>
                  <a:lnTo>
                    <a:pt x="10641" y="2741"/>
                  </a:lnTo>
                  <a:lnTo>
                    <a:pt x="10633" y="2743"/>
                  </a:lnTo>
                  <a:lnTo>
                    <a:pt x="10625" y="2751"/>
                  </a:lnTo>
                  <a:lnTo>
                    <a:pt x="10629" y="2756"/>
                  </a:lnTo>
                  <a:lnTo>
                    <a:pt x="10613" y="2778"/>
                  </a:lnTo>
                  <a:lnTo>
                    <a:pt x="10589" y="2795"/>
                  </a:lnTo>
                  <a:lnTo>
                    <a:pt x="10581" y="2795"/>
                  </a:lnTo>
                  <a:lnTo>
                    <a:pt x="10584" y="2808"/>
                  </a:lnTo>
                  <a:lnTo>
                    <a:pt x="10597" y="2798"/>
                  </a:lnTo>
                  <a:lnTo>
                    <a:pt x="10678" y="2776"/>
                  </a:lnTo>
                  <a:lnTo>
                    <a:pt x="10721" y="2759"/>
                  </a:lnTo>
                  <a:lnTo>
                    <a:pt x="10742" y="2746"/>
                  </a:lnTo>
                  <a:lnTo>
                    <a:pt x="10701" y="2774"/>
                  </a:lnTo>
                  <a:lnTo>
                    <a:pt x="10661" y="2788"/>
                  </a:lnTo>
                  <a:lnTo>
                    <a:pt x="10625" y="2808"/>
                  </a:lnTo>
                  <a:lnTo>
                    <a:pt x="10613" y="2808"/>
                  </a:lnTo>
                  <a:lnTo>
                    <a:pt x="10593" y="2818"/>
                  </a:lnTo>
                  <a:lnTo>
                    <a:pt x="10625" y="2815"/>
                  </a:lnTo>
                  <a:lnTo>
                    <a:pt x="10678" y="2790"/>
                  </a:lnTo>
                  <a:lnTo>
                    <a:pt x="10661" y="2808"/>
                  </a:lnTo>
                  <a:lnTo>
                    <a:pt x="10608" y="2830"/>
                  </a:lnTo>
                  <a:lnTo>
                    <a:pt x="10637" y="2830"/>
                  </a:lnTo>
                  <a:lnTo>
                    <a:pt x="10637" y="2828"/>
                  </a:lnTo>
                  <a:lnTo>
                    <a:pt x="10653" y="2825"/>
                  </a:lnTo>
                  <a:lnTo>
                    <a:pt x="10645" y="2828"/>
                  </a:lnTo>
                  <a:lnTo>
                    <a:pt x="10637" y="2834"/>
                  </a:lnTo>
                  <a:lnTo>
                    <a:pt x="10633" y="2830"/>
                  </a:lnTo>
                  <a:lnTo>
                    <a:pt x="10572" y="2874"/>
                  </a:lnTo>
                  <a:lnTo>
                    <a:pt x="10548" y="2896"/>
                  </a:lnTo>
                  <a:lnTo>
                    <a:pt x="10556" y="2899"/>
                  </a:lnTo>
                  <a:lnTo>
                    <a:pt x="10548" y="2909"/>
                  </a:lnTo>
                  <a:lnTo>
                    <a:pt x="10577" y="2928"/>
                  </a:lnTo>
                  <a:lnTo>
                    <a:pt x="10633" y="2911"/>
                  </a:lnTo>
                  <a:lnTo>
                    <a:pt x="10661" y="2906"/>
                  </a:lnTo>
                  <a:lnTo>
                    <a:pt x="10653" y="2913"/>
                  </a:lnTo>
                  <a:lnTo>
                    <a:pt x="10633" y="2916"/>
                  </a:lnTo>
                  <a:lnTo>
                    <a:pt x="10629" y="2923"/>
                  </a:lnTo>
                  <a:lnTo>
                    <a:pt x="10653" y="2916"/>
                  </a:lnTo>
                  <a:lnTo>
                    <a:pt x="10637" y="2923"/>
                  </a:lnTo>
                  <a:lnTo>
                    <a:pt x="10641" y="2933"/>
                  </a:lnTo>
                  <a:lnTo>
                    <a:pt x="10625" y="2943"/>
                  </a:lnTo>
                  <a:lnTo>
                    <a:pt x="10649" y="2930"/>
                  </a:lnTo>
                  <a:lnTo>
                    <a:pt x="10665" y="2930"/>
                  </a:lnTo>
                  <a:lnTo>
                    <a:pt x="10678" y="2928"/>
                  </a:lnTo>
                  <a:lnTo>
                    <a:pt x="10714" y="2919"/>
                  </a:lnTo>
                  <a:lnTo>
                    <a:pt x="10730" y="2916"/>
                  </a:lnTo>
                  <a:lnTo>
                    <a:pt x="10730" y="2913"/>
                  </a:lnTo>
                  <a:lnTo>
                    <a:pt x="10782" y="2916"/>
                  </a:lnTo>
                  <a:lnTo>
                    <a:pt x="10802" y="2910"/>
                  </a:lnTo>
                  <a:close/>
                  <a:moveTo>
                    <a:pt x="3315" y="337"/>
                  </a:moveTo>
                  <a:lnTo>
                    <a:pt x="3277" y="358"/>
                  </a:lnTo>
                  <a:lnTo>
                    <a:pt x="3265" y="358"/>
                  </a:lnTo>
                  <a:lnTo>
                    <a:pt x="3265" y="364"/>
                  </a:lnTo>
                  <a:lnTo>
                    <a:pt x="3226" y="376"/>
                  </a:lnTo>
                  <a:lnTo>
                    <a:pt x="3254" y="364"/>
                  </a:lnTo>
                  <a:lnTo>
                    <a:pt x="3246" y="361"/>
                  </a:lnTo>
                  <a:lnTo>
                    <a:pt x="3274" y="354"/>
                  </a:lnTo>
                  <a:lnTo>
                    <a:pt x="3265" y="351"/>
                  </a:lnTo>
                  <a:lnTo>
                    <a:pt x="3286" y="349"/>
                  </a:lnTo>
                  <a:lnTo>
                    <a:pt x="3315" y="337"/>
                  </a:lnTo>
                  <a:close/>
                  <a:moveTo>
                    <a:pt x="3327" y="351"/>
                  </a:moveTo>
                  <a:lnTo>
                    <a:pt x="3274" y="369"/>
                  </a:lnTo>
                  <a:lnTo>
                    <a:pt x="3286" y="364"/>
                  </a:lnTo>
                  <a:lnTo>
                    <a:pt x="3303" y="358"/>
                  </a:lnTo>
                  <a:lnTo>
                    <a:pt x="3274" y="364"/>
                  </a:lnTo>
                  <a:lnTo>
                    <a:pt x="3282" y="361"/>
                  </a:lnTo>
                  <a:lnTo>
                    <a:pt x="3327" y="351"/>
                  </a:lnTo>
                  <a:close/>
                  <a:moveTo>
                    <a:pt x="3367" y="324"/>
                  </a:moveTo>
                  <a:lnTo>
                    <a:pt x="3342" y="334"/>
                  </a:lnTo>
                  <a:lnTo>
                    <a:pt x="3327" y="337"/>
                  </a:lnTo>
                  <a:lnTo>
                    <a:pt x="3319" y="334"/>
                  </a:lnTo>
                  <a:lnTo>
                    <a:pt x="3355" y="322"/>
                  </a:lnTo>
                  <a:lnTo>
                    <a:pt x="3367" y="324"/>
                  </a:lnTo>
                  <a:close/>
                  <a:moveTo>
                    <a:pt x="3342" y="324"/>
                  </a:moveTo>
                  <a:lnTo>
                    <a:pt x="3331" y="332"/>
                  </a:lnTo>
                  <a:lnTo>
                    <a:pt x="3277" y="344"/>
                  </a:lnTo>
                  <a:lnTo>
                    <a:pt x="3335" y="324"/>
                  </a:lnTo>
                  <a:lnTo>
                    <a:pt x="3342" y="324"/>
                  </a:lnTo>
                  <a:close/>
                  <a:moveTo>
                    <a:pt x="3367" y="309"/>
                  </a:moveTo>
                  <a:lnTo>
                    <a:pt x="3282" y="339"/>
                  </a:lnTo>
                  <a:lnTo>
                    <a:pt x="3350" y="309"/>
                  </a:lnTo>
                  <a:lnTo>
                    <a:pt x="3367" y="309"/>
                  </a:lnTo>
                  <a:close/>
                  <a:moveTo>
                    <a:pt x="3419" y="292"/>
                  </a:moveTo>
                  <a:lnTo>
                    <a:pt x="3395" y="297"/>
                  </a:lnTo>
                  <a:lnTo>
                    <a:pt x="3416" y="300"/>
                  </a:lnTo>
                  <a:lnTo>
                    <a:pt x="3395" y="304"/>
                  </a:lnTo>
                  <a:lnTo>
                    <a:pt x="3395" y="297"/>
                  </a:lnTo>
                  <a:lnTo>
                    <a:pt x="3375" y="309"/>
                  </a:lnTo>
                  <a:lnTo>
                    <a:pt x="3379" y="302"/>
                  </a:lnTo>
                  <a:lnTo>
                    <a:pt x="3362" y="309"/>
                  </a:lnTo>
                  <a:lnTo>
                    <a:pt x="3359" y="307"/>
                  </a:lnTo>
                  <a:lnTo>
                    <a:pt x="3375" y="300"/>
                  </a:lnTo>
                  <a:lnTo>
                    <a:pt x="3383" y="300"/>
                  </a:lnTo>
                  <a:lnTo>
                    <a:pt x="3407" y="292"/>
                  </a:lnTo>
                  <a:lnTo>
                    <a:pt x="3419" y="292"/>
                  </a:lnTo>
                  <a:close/>
                  <a:moveTo>
                    <a:pt x="3439" y="292"/>
                  </a:moveTo>
                  <a:lnTo>
                    <a:pt x="3435" y="297"/>
                  </a:lnTo>
                  <a:lnTo>
                    <a:pt x="3400" y="312"/>
                  </a:lnTo>
                  <a:lnTo>
                    <a:pt x="3427" y="300"/>
                  </a:lnTo>
                  <a:lnTo>
                    <a:pt x="3379" y="315"/>
                  </a:lnTo>
                  <a:lnTo>
                    <a:pt x="3342" y="322"/>
                  </a:lnTo>
                  <a:lnTo>
                    <a:pt x="3371" y="315"/>
                  </a:lnTo>
                  <a:lnTo>
                    <a:pt x="3439" y="292"/>
                  </a:lnTo>
                  <a:close/>
                  <a:moveTo>
                    <a:pt x="3193" y="388"/>
                  </a:moveTo>
                  <a:lnTo>
                    <a:pt x="3128" y="408"/>
                  </a:lnTo>
                  <a:lnTo>
                    <a:pt x="3116" y="405"/>
                  </a:lnTo>
                  <a:lnTo>
                    <a:pt x="3124" y="403"/>
                  </a:lnTo>
                  <a:lnTo>
                    <a:pt x="3128" y="398"/>
                  </a:lnTo>
                  <a:lnTo>
                    <a:pt x="3169" y="383"/>
                  </a:lnTo>
                  <a:lnTo>
                    <a:pt x="3173" y="391"/>
                  </a:lnTo>
                  <a:lnTo>
                    <a:pt x="3141" y="398"/>
                  </a:lnTo>
                  <a:lnTo>
                    <a:pt x="3178" y="391"/>
                  </a:lnTo>
                  <a:lnTo>
                    <a:pt x="3193" y="388"/>
                  </a:lnTo>
                  <a:close/>
                  <a:moveTo>
                    <a:pt x="3128" y="408"/>
                  </a:moveTo>
                  <a:lnTo>
                    <a:pt x="3121" y="413"/>
                  </a:lnTo>
                  <a:lnTo>
                    <a:pt x="3112" y="410"/>
                  </a:lnTo>
                  <a:lnTo>
                    <a:pt x="3112" y="415"/>
                  </a:lnTo>
                  <a:lnTo>
                    <a:pt x="3104" y="415"/>
                  </a:lnTo>
                  <a:lnTo>
                    <a:pt x="3077" y="432"/>
                  </a:lnTo>
                  <a:lnTo>
                    <a:pt x="3104" y="408"/>
                  </a:lnTo>
                  <a:lnTo>
                    <a:pt x="3128" y="408"/>
                  </a:lnTo>
                  <a:close/>
                  <a:moveTo>
                    <a:pt x="3185" y="413"/>
                  </a:moveTo>
                  <a:lnTo>
                    <a:pt x="3185" y="418"/>
                  </a:lnTo>
                  <a:lnTo>
                    <a:pt x="3149" y="430"/>
                  </a:lnTo>
                  <a:lnTo>
                    <a:pt x="3157" y="423"/>
                  </a:lnTo>
                  <a:lnTo>
                    <a:pt x="3185" y="413"/>
                  </a:lnTo>
                  <a:close/>
                  <a:moveTo>
                    <a:pt x="3205" y="398"/>
                  </a:moveTo>
                  <a:lnTo>
                    <a:pt x="3185" y="410"/>
                  </a:lnTo>
                  <a:lnTo>
                    <a:pt x="3173" y="415"/>
                  </a:lnTo>
                  <a:lnTo>
                    <a:pt x="3197" y="398"/>
                  </a:lnTo>
                  <a:lnTo>
                    <a:pt x="3205" y="398"/>
                  </a:lnTo>
                  <a:close/>
                  <a:moveTo>
                    <a:pt x="3181" y="403"/>
                  </a:moveTo>
                  <a:lnTo>
                    <a:pt x="3169" y="413"/>
                  </a:lnTo>
                  <a:lnTo>
                    <a:pt x="3161" y="415"/>
                  </a:lnTo>
                  <a:lnTo>
                    <a:pt x="3181" y="403"/>
                  </a:lnTo>
                  <a:close/>
                  <a:moveTo>
                    <a:pt x="6887" y="2508"/>
                  </a:moveTo>
                  <a:lnTo>
                    <a:pt x="6911" y="2496"/>
                  </a:lnTo>
                  <a:lnTo>
                    <a:pt x="6919" y="2512"/>
                  </a:lnTo>
                  <a:lnTo>
                    <a:pt x="6979" y="2517"/>
                  </a:lnTo>
                  <a:lnTo>
                    <a:pt x="7016" y="2505"/>
                  </a:lnTo>
                  <a:lnTo>
                    <a:pt x="7016" y="2496"/>
                  </a:lnTo>
                  <a:lnTo>
                    <a:pt x="7020" y="2483"/>
                  </a:lnTo>
                  <a:lnTo>
                    <a:pt x="7024" y="2473"/>
                  </a:lnTo>
                  <a:lnTo>
                    <a:pt x="7024" y="2461"/>
                  </a:lnTo>
                  <a:lnTo>
                    <a:pt x="7029" y="2448"/>
                  </a:lnTo>
                  <a:lnTo>
                    <a:pt x="7029" y="2437"/>
                  </a:lnTo>
                  <a:lnTo>
                    <a:pt x="7032" y="2424"/>
                  </a:lnTo>
                  <a:lnTo>
                    <a:pt x="7032" y="2419"/>
                  </a:lnTo>
                  <a:lnTo>
                    <a:pt x="7056" y="2447"/>
                  </a:lnTo>
                  <a:lnTo>
                    <a:pt x="7048" y="2468"/>
                  </a:lnTo>
                  <a:lnTo>
                    <a:pt x="7085" y="2468"/>
                  </a:lnTo>
                  <a:lnTo>
                    <a:pt x="7121" y="2454"/>
                  </a:lnTo>
                  <a:lnTo>
                    <a:pt x="7133" y="2441"/>
                  </a:lnTo>
                  <a:lnTo>
                    <a:pt x="7149" y="2432"/>
                  </a:lnTo>
                  <a:lnTo>
                    <a:pt x="7178" y="2441"/>
                  </a:lnTo>
                  <a:lnTo>
                    <a:pt x="7230" y="2441"/>
                  </a:lnTo>
                  <a:lnTo>
                    <a:pt x="7251" y="2419"/>
                  </a:lnTo>
                  <a:lnTo>
                    <a:pt x="7290" y="2409"/>
                  </a:lnTo>
                  <a:lnTo>
                    <a:pt x="7302" y="2392"/>
                  </a:lnTo>
                  <a:lnTo>
                    <a:pt x="7352" y="2370"/>
                  </a:lnTo>
                  <a:lnTo>
                    <a:pt x="7395" y="2360"/>
                  </a:lnTo>
                  <a:lnTo>
                    <a:pt x="7464" y="2365"/>
                  </a:lnTo>
                  <a:lnTo>
                    <a:pt x="7468" y="2385"/>
                  </a:lnTo>
                  <a:lnTo>
                    <a:pt x="7468" y="2390"/>
                  </a:lnTo>
                  <a:lnTo>
                    <a:pt x="7476" y="2414"/>
                  </a:lnTo>
                  <a:lnTo>
                    <a:pt x="7464" y="2452"/>
                  </a:lnTo>
                  <a:lnTo>
                    <a:pt x="7464" y="2471"/>
                  </a:lnTo>
                  <a:lnTo>
                    <a:pt x="7492" y="2473"/>
                  </a:lnTo>
                  <a:lnTo>
                    <a:pt x="7485" y="2481"/>
                  </a:lnTo>
                  <a:lnTo>
                    <a:pt x="7476" y="2488"/>
                  </a:lnTo>
                  <a:lnTo>
                    <a:pt x="7472" y="2497"/>
                  </a:lnTo>
                  <a:lnTo>
                    <a:pt x="7460" y="2512"/>
                  </a:lnTo>
                  <a:lnTo>
                    <a:pt x="7432" y="2523"/>
                  </a:lnTo>
                  <a:lnTo>
                    <a:pt x="7399" y="2542"/>
                  </a:lnTo>
                  <a:lnTo>
                    <a:pt x="7352" y="2577"/>
                  </a:lnTo>
                  <a:lnTo>
                    <a:pt x="7263" y="2616"/>
                  </a:lnTo>
                  <a:lnTo>
                    <a:pt x="7209" y="2633"/>
                  </a:lnTo>
                  <a:lnTo>
                    <a:pt x="7182" y="2633"/>
                  </a:lnTo>
                  <a:lnTo>
                    <a:pt x="7178" y="2638"/>
                  </a:lnTo>
                  <a:lnTo>
                    <a:pt x="7157" y="2638"/>
                  </a:lnTo>
                  <a:lnTo>
                    <a:pt x="7149" y="2643"/>
                  </a:lnTo>
                  <a:lnTo>
                    <a:pt x="7072" y="2638"/>
                  </a:lnTo>
                  <a:lnTo>
                    <a:pt x="7045" y="2645"/>
                  </a:lnTo>
                  <a:lnTo>
                    <a:pt x="6996" y="2647"/>
                  </a:lnTo>
                  <a:lnTo>
                    <a:pt x="6979" y="2655"/>
                  </a:lnTo>
                  <a:lnTo>
                    <a:pt x="6939" y="2645"/>
                  </a:lnTo>
                  <a:lnTo>
                    <a:pt x="6943" y="2640"/>
                  </a:lnTo>
                  <a:lnTo>
                    <a:pt x="6931" y="2638"/>
                  </a:lnTo>
                  <a:lnTo>
                    <a:pt x="6928" y="2645"/>
                  </a:lnTo>
                  <a:lnTo>
                    <a:pt x="6923" y="2640"/>
                  </a:lnTo>
                  <a:lnTo>
                    <a:pt x="6931" y="2628"/>
                  </a:lnTo>
                  <a:lnTo>
                    <a:pt x="6915" y="2608"/>
                  </a:lnTo>
                  <a:lnTo>
                    <a:pt x="6931" y="2604"/>
                  </a:lnTo>
                  <a:lnTo>
                    <a:pt x="6935" y="2587"/>
                  </a:lnTo>
                  <a:lnTo>
                    <a:pt x="6887" y="2508"/>
                  </a:lnTo>
                  <a:close/>
                  <a:moveTo>
                    <a:pt x="7327" y="2512"/>
                  </a:moveTo>
                  <a:lnTo>
                    <a:pt x="7290" y="2520"/>
                  </a:lnTo>
                  <a:lnTo>
                    <a:pt x="7258" y="2537"/>
                  </a:lnTo>
                  <a:lnTo>
                    <a:pt x="7266" y="2552"/>
                  </a:lnTo>
                  <a:lnTo>
                    <a:pt x="7275" y="2554"/>
                  </a:lnTo>
                  <a:lnTo>
                    <a:pt x="7290" y="2562"/>
                  </a:lnTo>
                  <a:lnTo>
                    <a:pt x="7302" y="2549"/>
                  </a:lnTo>
                  <a:lnTo>
                    <a:pt x="7335" y="2544"/>
                  </a:lnTo>
                  <a:lnTo>
                    <a:pt x="7347" y="2530"/>
                  </a:lnTo>
                  <a:lnTo>
                    <a:pt x="7327" y="2512"/>
                  </a:lnTo>
                  <a:close/>
                  <a:moveTo>
                    <a:pt x="10254" y="2530"/>
                  </a:moveTo>
                  <a:lnTo>
                    <a:pt x="10262" y="2515"/>
                  </a:lnTo>
                  <a:lnTo>
                    <a:pt x="10265" y="2512"/>
                  </a:lnTo>
                  <a:lnTo>
                    <a:pt x="10258" y="2527"/>
                  </a:lnTo>
                  <a:lnTo>
                    <a:pt x="10254" y="2530"/>
                  </a:lnTo>
                  <a:close/>
                  <a:moveTo>
                    <a:pt x="11141" y="2163"/>
                  </a:moveTo>
                  <a:lnTo>
                    <a:pt x="11129" y="2156"/>
                  </a:lnTo>
                  <a:lnTo>
                    <a:pt x="11134" y="2141"/>
                  </a:lnTo>
                  <a:lnTo>
                    <a:pt x="11141" y="2151"/>
                  </a:lnTo>
                  <a:lnTo>
                    <a:pt x="11165" y="2146"/>
                  </a:lnTo>
                  <a:lnTo>
                    <a:pt x="11161" y="2156"/>
                  </a:lnTo>
                  <a:lnTo>
                    <a:pt x="11141" y="2163"/>
                  </a:lnTo>
                  <a:close/>
                  <a:moveTo>
                    <a:pt x="11134" y="2161"/>
                  </a:moveTo>
                  <a:lnTo>
                    <a:pt x="11113" y="2159"/>
                  </a:lnTo>
                  <a:lnTo>
                    <a:pt x="11129" y="2146"/>
                  </a:lnTo>
                  <a:lnTo>
                    <a:pt x="11134" y="2161"/>
                  </a:lnTo>
                  <a:close/>
                  <a:moveTo>
                    <a:pt x="11314" y="2311"/>
                  </a:moveTo>
                  <a:lnTo>
                    <a:pt x="11319" y="2306"/>
                  </a:lnTo>
                  <a:lnTo>
                    <a:pt x="11331" y="2302"/>
                  </a:lnTo>
                  <a:lnTo>
                    <a:pt x="11314" y="2311"/>
                  </a:lnTo>
                  <a:close/>
                  <a:moveTo>
                    <a:pt x="11291" y="2237"/>
                  </a:moveTo>
                  <a:lnTo>
                    <a:pt x="11275" y="2235"/>
                  </a:lnTo>
                  <a:lnTo>
                    <a:pt x="11300" y="2220"/>
                  </a:lnTo>
                  <a:lnTo>
                    <a:pt x="11303" y="2225"/>
                  </a:lnTo>
                  <a:lnTo>
                    <a:pt x="11295" y="2227"/>
                  </a:lnTo>
                  <a:lnTo>
                    <a:pt x="11287" y="2235"/>
                  </a:lnTo>
                  <a:lnTo>
                    <a:pt x="11291" y="2237"/>
                  </a:lnTo>
                  <a:close/>
                  <a:moveTo>
                    <a:pt x="0" y="4240"/>
                  </a:moveTo>
                  <a:lnTo>
                    <a:pt x="472" y="4240"/>
                  </a:lnTo>
                  <a:lnTo>
                    <a:pt x="472" y="4385"/>
                  </a:lnTo>
                  <a:lnTo>
                    <a:pt x="0" y="4385"/>
                  </a:lnTo>
                  <a:lnTo>
                    <a:pt x="0" y="4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320" y="2928960"/>
              <a:ext cx="169560" cy="52200"/>
            </a:xfrm>
            <a:custGeom>
              <a:avLst/>
              <a:gdLst/>
              <a:ahLst/>
              <a:rect l="l" t="t" r="r" b="b"/>
              <a:pathLst>
                <a:path w="473" h="146">
                  <a:moveTo>
                    <a:pt x="0" y="0"/>
                  </a:moveTo>
                  <a:lnTo>
                    <a:pt x="472" y="0"/>
                  </a:lnTo>
                  <a:lnTo>
                    <a:pt x="472" y="145"/>
                  </a:lnTo>
                  <a:lnTo>
                    <a:pt x="0" y="14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68840" y="1414080"/>
              <a:ext cx="79200" cy="12240"/>
            </a:xfrm>
            <a:custGeom>
              <a:avLst/>
              <a:gdLst/>
              <a:ahLst/>
              <a:rect l="l" t="t" r="r" b="b"/>
              <a:pathLst>
                <a:path w="219" h="35">
                  <a:moveTo>
                    <a:pt x="141" y="0"/>
                  </a:moveTo>
                  <a:lnTo>
                    <a:pt x="193" y="5"/>
                  </a:lnTo>
                  <a:lnTo>
                    <a:pt x="218" y="8"/>
                  </a:lnTo>
                  <a:lnTo>
                    <a:pt x="218" y="8"/>
                  </a:lnTo>
                  <a:lnTo>
                    <a:pt x="193" y="8"/>
                  </a:lnTo>
                  <a:lnTo>
                    <a:pt x="177" y="13"/>
                  </a:lnTo>
                  <a:lnTo>
                    <a:pt x="153" y="17"/>
                  </a:lnTo>
                  <a:lnTo>
                    <a:pt x="137" y="15"/>
                  </a:lnTo>
                  <a:lnTo>
                    <a:pt x="145" y="8"/>
                  </a:lnTo>
                  <a:lnTo>
                    <a:pt x="117" y="17"/>
                  </a:lnTo>
                  <a:lnTo>
                    <a:pt x="141" y="20"/>
                  </a:lnTo>
                  <a:lnTo>
                    <a:pt x="125" y="25"/>
                  </a:lnTo>
                  <a:lnTo>
                    <a:pt x="141" y="22"/>
                  </a:lnTo>
                  <a:lnTo>
                    <a:pt x="112" y="32"/>
                  </a:lnTo>
                  <a:lnTo>
                    <a:pt x="60" y="34"/>
                  </a:lnTo>
                  <a:lnTo>
                    <a:pt x="81" y="30"/>
                  </a:lnTo>
                  <a:lnTo>
                    <a:pt x="83" y="22"/>
                  </a:lnTo>
                  <a:lnTo>
                    <a:pt x="64" y="30"/>
                  </a:lnTo>
                  <a:lnTo>
                    <a:pt x="76" y="22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32" y="27"/>
                  </a:lnTo>
                  <a:lnTo>
                    <a:pt x="36" y="20"/>
                  </a:lnTo>
                  <a:lnTo>
                    <a:pt x="20" y="25"/>
                  </a:lnTo>
                  <a:lnTo>
                    <a:pt x="27" y="20"/>
                  </a:lnTo>
                  <a:lnTo>
                    <a:pt x="11" y="25"/>
                  </a:lnTo>
                  <a:lnTo>
                    <a:pt x="3" y="22"/>
                  </a:lnTo>
                  <a:lnTo>
                    <a:pt x="32" y="15"/>
                  </a:lnTo>
                  <a:lnTo>
                    <a:pt x="3" y="22"/>
                  </a:lnTo>
                  <a:lnTo>
                    <a:pt x="0" y="22"/>
                  </a:lnTo>
                  <a:lnTo>
                    <a:pt x="3" y="17"/>
                  </a:lnTo>
                  <a:lnTo>
                    <a:pt x="48" y="10"/>
                  </a:lnTo>
                  <a:lnTo>
                    <a:pt x="72" y="13"/>
                  </a:lnTo>
                  <a:lnTo>
                    <a:pt x="105" y="0"/>
                  </a:lnTo>
                  <a:lnTo>
                    <a:pt x="117" y="3"/>
                  </a:lnTo>
                  <a:lnTo>
                    <a:pt x="96" y="8"/>
                  </a:lnTo>
                  <a:lnTo>
                    <a:pt x="112" y="13"/>
                  </a:lnTo>
                  <a:lnTo>
                    <a:pt x="161" y="3"/>
                  </a:lnTo>
                  <a:lnTo>
                    <a:pt x="117" y="10"/>
                  </a:lnTo>
                  <a:lnTo>
                    <a:pt x="117" y="5"/>
                  </a:lnTo>
                  <a:lnTo>
                    <a:pt x="141" y="3"/>
                  </a:lnTo>
                  <a:lnTo>
                    <a:pt x="129" y="0"/>
                  </a:lnTo>
                  <a:lnTo>
                    <a:pt x="141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78560" y="1409400"/>
              <a:ext cx="10800" cy="1080"/>
            </a:xfrm>
            <a:custGeom>
              <a:avLst/>
              <a:gdLst/>
              <a:ahLst/>
              <a:rect l="l" t="t" r="r" b="b"/>
              <a:pathLst>
                <a:path w="30" h="4">
                  <a:moveTo>
                    <a:pt x="29" y="3"/>
                  </a:moveTo>
                  <a:lnTo>
                    <a:pt x="25" y="3"/>
                  </a:lnTo>
                  <a:lnTo>
                    <a:pt x="0" y="3"/>
                  </a:lnTo>
                  <a:lnTo>
                    <a:pt x="9" y="0"/>
                  </a:lnTo>
                  <a:lnTo>
                    <a:pt x="29" y="3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73880" y="1407600"/>
              <a:ext cx="4320" cy="144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1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3" y="1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24560" y="1402920"/>
              <a:ext cx="25200" cy="2880"/>
            </a:xfrm>
            <a:custGeom>
              <a:avLst/>
              <a:gdLst/>
              <a:ahLst/>
              <a:rect l="l" t="t" r="r" b="b"/>
              <a:pathLst>
                <a:path w="71" h="10">
                  <a:moveTo>
                    <a:pt x="70" y="3"/>
                  </a:moveTo>
                  <a:lnTo>
                    <a:pt x="37" y="7"/>
                  </a:lnTo>
                  <a:lnTo>
                    <a:pt x="0" y="9"/>
                  </a:lnTo>
                  <a:lnTo>
                    <a:pt x="41" y="0"/>
                  </a:lnTo>
                  <a:lnTo>
                    <a:pt x="54" y="0"/>
                  </a:lnTo>
                  <a:lnTo>
                    <a:pt x="70" y="3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20160" y="1531440"/>
              <a:ext cx="4320" cy="2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2" y="2"/>
                  </a:moveTo>
                  <a:lnTo>
                    <a:pt x="12" y="2"/>
                  </a:lnTo>
                  <a:lnTo>
                    <a:pt x="0" y="8"/>
                  </a:lnTo>
                  <a:lnTo>
                    <a:pt x="0" y="0"/>
                  </a:lnTo>
                  <a:lnTo>
                    <a:pt x="12" y="2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77320" y="1439640"/>
              <a:ext cx="161640" cy="91440"/>
            </a:xfrm>
            <a:custGeom>
              <a:avLst/>
              <a:gdLst/>
              <a:ahLst/>
              <a:rect l="l" t="t" r="r" b="b"/>
              <a:pathLst>
                <a:path w="449" h="254">
                  <a:moveTo>
                    <a:pt x="359" y="125"/>
                  </a:moveTo>
                  <a:lnTo>
                    <a:pt x="359" y="125"/>
                  </a:lnTo>
                  <a:lnTo>
                    <a:pt x="351" y="125"/>
                  </a:lnTo>
                  <a:lnTo>
                    <a:pt x="355" y="131"/>
                  </a:lnTo>
                  <a:lnTo>
                    <a:pt x="367" y="128"/>
                  </a:lnTo>
                  <a:lnTo>
                    <a:pt x="351" y="135"/>
                  </a:lnTo>
                  <a:lnTo>
                    <a:pt x="375" y="128"/>
                  </a:lnTo>
                  <a:lnTo>
                    <a:pt x="351" y="138"/>
                  </a:lnTo>
                  <a:lnTo>
                    <a:pt x="371" y="133"/>
                  </a:lnTo>
                  <a:lnTo>
                    <a:pt x="363" y="140"/>
                  </a:lnTo>
                  <a:lnTo>
                    <a:pt x="375" y="133"/>
                  </a:lnTo>
                  <a:lnTo>
                    <a:pt x="387" y="133"/>
                  </a:lnTo>
                  <a:lnTo>
                    <a:pt x="367" y="140"/>
                  </a:lnTo>
                  <a:lnTo>
                    <a:pt x="383" y="135"/>
                  </a:lnTo>
                  <a:lnTo>
                    <a:pt x="383" y="140"/>
                  </a:lnTo>
                  <a:lnTo>
                    <a:pt x="371" y="147"/>
                  </a:lnTo>
                  <a:lnTo>
                    <a:pt x="359" y="145"/>
                  </a:lnTo>
                  <a:lnTo>
                    <a:pt x="367" y="147"/>
                  </a:lnTo>
                  <a:lnTo>
                    <a:pt x="371" y="147"/>
                  </a:lnTo>
                  <a:lnTo>
                    <a:pt x="347" y="152"/>
                  </a:lnTo>
                  <a:lnTo>
                    <a:pt x="371" y="147"/>
                  </a:lnTo>
                  <a:lnTo>
                    <a:pt x="363" y="152"/>
                  </a:lnTo>
                  <a:lnTo>
                    <a:pt x="387" y="147"/>
                  </a:lnTo>
                  <a:lnTo>
                    <a:pt x="355" y="157"/>
                  </a:lnTo>
                  <a:lnTo>
                    <a:pt x="375" y="155"/>
                  </a:lnTo>
                  <a:lnTo>
                    <a:pt x="363" y="162"/>
                  </a:lnTo>
                  <a:lnTo>
                    <a:pt x="379" y="155"/>
                  </a:lnTo>
                  <a:lnTo>
                    <a:pt x="375" y="160"/>
                  </a:lnTo>
                  <a:lnTo>
                    <a:pt x="387" y="155"/>
                  </a:lnTo>
                  <a:lnTo>
                    <a:pt x="395" y="155"/>
                  </a:lnTo>
                  <a:lnTo>
                    <a:pt x="391" y="162"/>
                  </a:lnTo>
                  <a:lnTo>
                    <a:pt x="375" y="162"/>
                  </a:lnTo>
                  <a:lnTo>
                    <a:pt x="375" y="170"/>
                  </a:lnTo>
                  <a:lnTo>
                    <a:pt x="351" y="168"/>
                  </a:lnTo>
                  <a:lnTo>
                    <a:pt x="355" y="175"/>
                  </a:lnTo>
                  <a:lnTo>
                    <a:pt x="339" y="172"/>
                  </a:lnTo>
                  <a:lnTo>
                    <a:pt x="339" y="180"/>
                  </a:lnTo>
                  <a:lnTo>
                    <a:pt x="331" y="177"/>
                  </a:lnTo>
                  <a:lnTo>
                    <a:pt x="322" y="182"/>
                  </a:lnTo>
                  <a:lnTo>
                    <a:pt x="322" y="175"/>
                  </a:lnTo>
                  <a:lnTo>
                    <a:pt x="278" y="197"/>
                  </a:lnTo>
                  <a:lnTo>
                    <a:pt x="286" y="189"/>
                  </a:lnTo>
                  <a:lnTo>
                    <a:pt x="274" y="189"/>
                  </a:lnTo>
                  <a:lnTo>
                    <a:pt x="290" y="185"/>
                  </a:lnTo>
                  <a:lnTo>
                    <a:pt x="270" y="189"/>
                  </a:lnTo>
                  <a:lnTo>
                    <a:pt x="274" y="185"/>
                  </a:lnTo>
                  <a:lnTo>
                    <a:pt x="290" y="182"/>
                  </a:lnTo>
                  <a:lnTo>
                    <a:pt x="274" y="185"/>
                  </a:lnTo>
                  <a:lnTo>
                    <a:pt x="290" y="180"/>
                  </a:lnTo>
                  <a:lnTo>
                    <a:pt x="290" y="177"/>
                  </a:lnTo>
                  <a:lnTo>
                    <a:pt x="283" y="177"/>
                  </a:lnTo>
                  <a:lnTo>
                    <a:pt x="326" y="165"/>
                  </a:lnTo>
                  <a:lnTo>
                    <a:pt x="283" y="172"/>
                  </a:lnTo>
                  <a:lnTo>
                    <a:pt x="306" y="165"/>
                  </a:lnTo>
                  <a:lnTo>
                    <a:pt x="286" y="170"/>
                  </a:lnTo>
                  <a:lnTo>
                    <a:pt x="290" y="157"/>
                  </a:lnTo>
                  <a:lnTo>
                    <a:pt x="274" y="157"/>
                  </a:lnTo>
                  <a:lnTo>
                    <a:pt x="270" y="165"/>
                  </a:lnTo>
                  <a:lnTo>
                    <a:pt x="270" y="157"/>
                  </a:lnTo>
                  <a:lnTo>
                    <a:pt x="266" y="162"/>
                  </a:lnTo>
                  <a:lnTo>
                    <a:pt x="258" y="170"/>
                  </a:lnTo>
                  <a:lnTo>
                    <a:pt x="246" y="172"/>
                  </a:lnTo>
                  <a:lnTo>
                    <a:pt x="250" y="162"/>
                  </a:lnTo>
                  <a:lnTo>
                    <a:pt x="225" y="180"/>
                  </a:lnTo>
                  <a:lnTo>
                    <a:pt x="238" y="180"/>
                  </a:lnTo>
                  <a:lnTo>
                    <a:pt x="221" y="187"/>
                  </a:lnTo>
                  <a:lnTo>
                    <a:pt x="218" y="194"/>
                  </a:lnTo>
                  <a:lnTo>
                    <a:pt x="230" y="189"/>
                  </a:lnTo>
                  <a:lnTo>
                    <a:pt x="221" y="197"/>
                  </a:lnTo>
                  <a:lnTo>
                    <a:pt x="238" y="194"/>
                  </a:lnTo>
                  <a:lnTo>
                    <a:pt x="233" y="202"/>
                  </a:lnTo>
                  <a:lnTo>
                    <a:pt x="218" y="204"/>
                  </a:lnTo>
                  <a:lnTo>
                    <a:pt x="225" y="211"/>
                  </a:lnTo>
                  <a:lnTo>
                    <a:pt x="198" y="226"/>
                  </a:lnTo>
                  <a:lnTo>
                    <a:pt x="206" y="217"/>
                  </a:lnTo>
                  <a:lnTo>
                    <a:pt x="182" y="234"/>
                  </a:lnTo>
                  <a:lnTo>
                    <a:pt x="169" y="234"/>
                  </a:lnTo>
                  <a:lnTo>
                    <a:pt x="157" y="241"/>
                  </a:lnTo>
                  <a:lnTo>
                    <a:pt x="169" y="234"/>
                  </a:lnTo>
                  <a:lnTo>
                    <a:pt x="157" y="229"/>
                  </a:lnTo>
                  <a:lnTo>
                    <a:pt x="153" y="231"/>
                  </a:lnTo>
                  <a:lnTo>
                    <a:pt x="161" y="224"/>
                  </a:lnTo>
                  <a:lnTo>
                    <a:pt x="149" y="231"/>
                  </a:lnTo>
                  <a:lnTo>
                    <a:pt x="153" y="214"/>
                  </a:lnTo>
                  <a:lnTo>
                    <a:pt x="140" y="222"/>
                  </a:lnTo>
                  <a:lnTo>
                    <a:pt x="133" y="211"/>
                  </a:lnTo>
                  <a:lnTo>
                    <a:pt x="129" y="246"/>
                  </a:lnTo>
                  <a:lnTo>
                    <a:pt x="113" y="253"/>
                  </a:lnTo>
                  <a:lnTo>
                    <a:pt x="76" y="243"/>
                  </a:lnTo>
                  <a:lnTo>
                    <a:pt x="84" y="231"/>
                  </a:lnTo>
                  <a:lnTo>
                    <a:pt x="61" y="224"/>
                  </a:lnTo>
                  <a:lnTo>
                    <a:pt x="72" y="222"/>
                  </a:lnTo>
                  <a:lnTo>
                    <a:pt x="56" y="224"/>
                  </a:lnTo>
                  <a:lnTo>
                    <a:pt x="61" y="214"/>
                  </a:lnTo>
                  <a:lnTo>
                    <a:pt x="84" y="211"/>
                  </a:lnTo>
                  <a:lnTo>
                    <a:pt x="68" y="209"/>
                  </a:lnTo>
                  <a:lnTo>
                    <a:pt x="81" y="204"/>
                  </a:lnTo>
                  <a:lnTo>
                    <a:pt x="76" y="197"/>
                  </a:lnTo>
                  <a:lnTo>
                    <a:pt x="93" y="189"/>
                  </a:lnTo>
                  <a:lnTo>
                    <a:pt x="68" y="194"/>
                  </a:lnTo>
                  <a:lnTo>
                    <a:pt x="81" y="182"/>
                  </a:lnTo>
                  <a:lnTo>
                    <a:pt x="61" y="191"/>
                  </a:lnTo>
                  <a:lnTo>
                    <a:pt x="52" y="189"/>
                  </a:lnTo>
                  <a:lnTo>
                    <a:pt x="36" y="191"/>
                  </a:lnTo>
                  <a:lnTo>
                    <a:pt x="12" y="194"/>
                  </a:lnTo>
                  <a:lnTo>
                    <a:pt x="0" y="187"/>
                  </a:lnTo>
                  <a:lnTo>
                    <a:pt x="8" y="182"/>
                  </a:lnTo>
                  <a:lnTo>
                    <a:pt x="61" y="168"/>
                  </a:lnTo>
                  <a:lnTo>
                    <a:pt x="76" y="175"/>
                  </a:lnTo>
                  <a:lnTo>
                    <a:pt x="61" y="185"/>
                  </a:lnTo>
                  <a:lnTo>
                    <a:pt x="81" y="177"/>
                  </a:lnTo>
                  <a:lnTo>
                    <a:pt x="76" y="172"/>
                  </a:lnTo>
                  <a:lnTo>
                    <a:pt x="129" y="172"/>
                  </a:lnTo>
                  <a:lnTo>
                    <a:pt x="140" y="157"/>
                  </a:lnTo>
                  <a:lnTo>
                    <a:pt x="194" y="147"/>
                  </a:lnTo>
                  <a:lnTo>
                    <a:pt x="214" y="152"/>
                  </a:lnTo>
                  <a:lnTo>
                    <a:pt x="189" y="165"/>
                  </a:lnTo>
                  <a:lnTo>
                    <a:pt x="218" y="160"/>
                  </a:lnTo>
                  <a:lnTo>
                    <a:pt x="230" y="162"/>
                  </a:lnTo>
                  <a:lnTo>
                    <a:pt x="246" y="160"/>
                  </a:lnTo>
                  <a:lnTo>
                    <a:pt x="250" y="155"/>
                  </a:lnTo>
                  <a:lnTo>
                    <a:pt x="242" y="145"/>
                  </a:lnTo>
                  <a:lnTo>
                    <a:pt x="218" y="152"/>
                  </a:lnTo>
                  <a:lnTo>
                    <a:pt x="198" y="147"/>
                  </a:lnTo>
                  <a:lnTo>
                    <a:pt x="233" y="138"/>
                  </a:lnTo>
                  <a:lnTo>
                    <a:pt x="266" y="118"/>
                  </a:lnTo>
                  <a:lnTo>
                    <a:pt x="258" y="115"/>
                  </a:lnTo>
                  <a:lnTo>
                    <a:pt x="278" y="111"/>
                  </a:lnTo>
                  <a:lnTo>
                    <a:pt x="266" y="106"/>
                  </a:lnTo>
                  <a:lnTo>
                    <a:pt x="283" y="101"/>
                  </a:lnTo>
                  <a:lnTo>
                    <a:pt x="233" y="106"/>
                  </a:lnTo>
                  <a:lnTo>
                    <a:pt x="250" y="101"/>
                  </a:lnTo>
                  <a:lnTo>
                    <a:pt x="278" y="96"/>
                  </a:lnTo>
                  <a:lnTo>
                    <a:pt x="278" y="89"/>
                  </a:lnTo>
                  <a:lnTo>
                    <a:pt x="290" y="89"/>
                  </a:lnTo>
                  <a:lnTo>
                    <a:pt x="274" y="89"/>
                  </a:lnTo>
                  <a:lnTo>
                    <a:pt x="295" y="81"/>
                  </a:lnTo>
                  <a:lnTo>
                    <a:pt x="274" y="84"/>
                  </a:lnTo>
                  <a:lnTo>
                    <a:pt x="295" y="76"/>
                  </a:lnTo>
                  <a:lnTo>
                    <a:pt x="302" y="67"/>
                  </a:lnTo>
                  <a:lnTo>
                    <a:pt x="283" y="69"/>
                  </a:lnTo>
                  <a:lnTo>
                    <a:pt x="266" y="81"/>
                  </a:lnTo>
                  <a:lnTo>
                    <a:pt x="238" y="71"/>
                  </a:lnTo>
                  <a:lnTo>
                    <a:pt x="225" y="81"/>
                  </a:lnTo>
                  <a:lnTo>
                    <a:pt x="230" y="67"/>
                  </a:lnTo>
                  <a:lnTo>
                    <a:pt x="225" y="76"/>
                  </a:lnTo>
                  <a:lnTo>
                    <a:pt x="210" y="79"/>
                  </a:lnTo>
                  <a:lnTo>
                    <a:pt x="182" y="71"/>
                  </a:lnTo>
                  <a:lnTo>
                    <a:pt x="173" y="69"/>
                  </a:lnTo>
                  <a:lnTo>
                    <a:pt x="194" y="59"/>
                  </a:lnTo>
                  <a:lnTo>
                    <a:pt x="157" y="61"/>
                  </a:lnTo>
                  <a:lnTo>
                    <a:pt x="189" y="44"/>
                  </a:lnTo>
                  <a:lnTo>
                    <a:pt x="214" y="49"/>
                  </a:lnTo>
                  <a:lnTo>
                    <a:pt x="198" y="40"/>
                  </a:lnTo>
                  <a:lnTo>
                    <a:pt x="230" y="30"/>
                  </a:lnTo>
                  <a:lnTo>
                    <a:pt x="331" y="7"/>
                  </a:lnTo>
                  <a:lnTo>
                    <a:pt x="399" y="0"/>
                  </a:lnTo>
                  <a:lnTo>
                    <a:pt x="407" y="2"/>
                  </a:lnTo>
                  <a:lnTo>
                    <a:pt x="335" y="17"/>
                  </a:lnTo>
                  <a:lnTo>
                    <a:pt x="283" y="32"/>
                  </a:lnTo>
                  <a:lnTo>
                    <a:pt x="258" y="47"/>
                  </a:lnTo>
                  <a:lnTo>
                    <a:pt x="218" y="49"/>
                  </a:lnTo>
                  <a:lnTo>
                    <a:pt x="254" y="49"/>
                  </a:lnTo>
                  <a:lnTo>
                    <a:pt x="246" y="52"/>
                  </a:lnTo>
                  <a:lnTo>
                    <a:pt x="286" y="40"/>
                  </a:lnTo>
                  <a:lnTo>
                    <a:pt x="290" y="32"/>
                  </a:lnTo>
                  <a:lnTo>
                    <a:pt x="310" y="30"/>
                  </a:lnTo>
                  <a:lnTo>
                    <a:pt x="310" y="34"/>
                  </a:lnTo>
                  <a:lnTo>
                    <a:pt x="319" y="30"/>
                  </a:lnTo>
                  <a:lnTo>
                    <a:pt x="331" y="27"/>
                  </a:lnTo>
                  <a:lnTo>
                    <a:pt x="347" y="17"/>
                  </a:lnTo>
                  <a:lnTo>
                    <a:pt x="359" y="22"/>
                  </a:lnTo>
                  <a:lnTo>
                    <a:pt x="363" y="12"/>
                  </a:lnTo>
                  <a:lnTo>
                    <a:pt x="375" y="17"/>
                  </a:lnTo>
                  <a:lnTo>
                    <a:pt x="375" y="10"/>
                  </a:lnTo>
                  <a:lnTo>
                    <a:pt x="399" y="10"/>
                  </a:lnTo>
                  <a:lnTo>
                    <a:pt x="395" y="12"/>
                  </a:lnTo>
                  <a:lnTo>
                    <a:pt x="403" y="7"/>
                  </a:lnTo>
                  <a:lnTo>
                    <a:pt x="440" y="7"/>
                  </a:lnTo>
                  <a:lnTo>
                    <a:pt x="403" y="27"/>
                  </a:lnTo>
                  <a:lnTo>
                    <a:pt x="359" y="34"/>
                  </a:lnTo>
                  <a:lnTo>
                    <a:pt x="379" y="32"/>
                  </a:lnTo>
                  <a:lnTo>
                    <a:pt x="347" y="42"/>
                  </a:lnTo>
                  <a:lnTo>
                    <a:pt x="379" y="34"/>
                  </a:lnTo>
                  <a:lnTo>
                    <a:pt x="375" y="37"/>
                  </a:lnTo>
                  <a:lnTo>
                    <a:pt x="395" y="32"/>
                  </a:lnTo>
                  <a:lnTo>
                    <a:pt x="379" y="37"/>
                  </a:lnTo>
                  <a:lnTo>
                    <a:pt x="391" y="37"/>
                  </a:lnTo>
                  <a:lnTo>
                    <a:pt x="371" y="42"/>
                  </a:lnTo>
                  <a:lnTo>
                    <a:pt x="387" y="40"/>
                  </a:lnTo>
                  <a:lnTo>
                    <a:pt x="383" y="47"/>
                  </a:lnTo>
                  <a:lnTo>
                    <a:pt x="395" y="37"/>
                  </a:lnTo>
                  <a:lnTo>
                    <a:pt x="411" y="42"/>
                  </a:lnTo>
                  <a:lnTo>
                    <a:pt x="407" y="34"/>
                  </a:lnTo>
                  <a:lnTo>
                    <a:pt x="444" y="30"/>
                  </a:lnTo>
                  <a:lnTo>
                    <a:pt x="444" y="42"/>
                  </a:lnTo>
                  <a:lnTo>
                    <a:pt x="420" y="44"/>
                  </a:lnTo>
                  <a:lnTo>
                    <a:pt x="403" y="47"/>
                  </a:lnTo>
                  <a:lnTo>
                    <a:pt x="428" y="44"/>
                  </a:lnTo>
                  <a:lnTo>
                    <a:pt x="399" y="49"/>
                  </a:lnTo>
                  <a:lnTo>
                    <a:pt x="436" y="44"/>
                  </a:lnTo>
                  <a:lnTo>
                    <a:pt x="440" y="47"/>
                  </a:lnTo>
                  <a:lnTo>
                    <a:pt x="407" y="52"/>
                  </a:lnTo>
                  <a:lnTo>
                    <a:pt x="399" y="54"/>
                  </a:lnTo>
                  <a:lnTo>
                    <a:pt x="416" y="52"/>
                  </a:lnTo>
                  <a:lnTo>
                    <a:pt x="383" y="61"/>
                  </a:lnTo>
                  <a:lnTo>
                    <a:pt x="423" y="52"/>
                  </a:lnTo>
                  <a:lnTo>
                    <a:pt x="416" y="56"/>
                  </a:lnTo>
                  <a:lnTo>
                    <a:pt x="436" y="52"/>
                  </a:lnTo>
                  <a:lnTo>
                    <a:pt x="395" y="61"/>
                  </a:lnTo>
                  <a:lnTo>
                    <a:pt x="423" y="54"/>
                  </a:lnTo>
                  <a:lnTo>
                    <a:pt x="420" y="59"/>
                  </a:lnTo>
                  <a:lnTo>
                    <a:pt x="395" y="64"/>
                  </a:lnTo>
                  <a:lnTo>
                    <a:pt x="416" y="61"/>
                  </a:lnTo>
                  <a:lnTo>
                    <a:pt x="399" y="67"/>
                  </a:lnTo>
                  <a:lnTo>
                    <a:pt x="444" y="54"/>
                  </a:lnTo>
                  <a:lnTo>
                    <a:pt x="448" y="56"/>
                  </a:lnTo>
                  <a:lnTo>
                    <a:pt x="444" y="64"/>
                  </a:lnTo>
                  <a:lnTo>
                    <a:pt x="407" y="71"/>
                  </a:lnTo>
                  <a:lnTo>
                    <a:pt x="391" y="74"/>
                  </a:lnTo>
                  <a:lnTo>
                    <a:pt x="440" y="67"/>
                  </a:lnTo>
                  <a:lnTo>
                    <a:pt x="436" y="71"/>
                  </a:lnTo>
                  <a:lnTo>
                    <a:pt x="391" y="79"/>
                  </a:lnTo>
                  <a:lnTo>
                    <a:pt x="399" y="79"/>
                  </a:lnTo>
                  <a:lnTo>
                    <a:pt x="375" y="87"/>
                  </a:lnTo>
                  <a:lnTo>
                    <a:pt x="416" y="76"/>
                  </a:lnTo>
                  <a:lnTo>
                    <a:pt x="444" y="71"/>
                  </a:lnTo>
                  <a:lnTo>
                    <a:pt x="416" y="79"/>
                  </a:lnTo>
                  <a:lnTo>
                    <a:pt x="444" y="74"/>
                  </a:lnTo>
                  <a:lnTo>
                    <a:pt x="448" y="81"/>
                  </a:lnTo>
                  <a:lnTo>
                    <a:pt x="383" y="91"/>
                  </a:lnTo>
                  <a:lnTo>
                    <a:pt x="420" y="87"/>
                  </a:lnTo>
                  <a:lnTo>
                    <a:pt x="411" y="91"/>
                  </a:lnTo>
                  <a:lnTo>
                    <a:pt x="379" y="96"/>
                  </a:lnTo>
                  <a:lnTo>
                    <a:pt x="440" y="84"/>
                  </a:lnTo>
                  <a:lnTo>
                    <a:pt x="436" y="93"/>
                  </a:lnTo>
                  <a:lnTo>
                    <a:pt x="428" y="96"/>
                  </a:lnTo>
                  <a:lnTo>
                    <a:pt x="375" y="98"/>
                  </a:lnTo>
                  <a:lnTo>
                    <a:pt x="416" y="106"/>
                  </a:lnTo>
                  <a:lnTo>
                    <a:pt x="407" y="108"/>
                  </a:lnTo>
                  <a:lnTo>
                    <a:pt x="379" y="103"/>
                  </a:lnTo>
                  <a:lnTo>
                    <a:pt x="391" y="106"/>
                  </a:lnTo>
                  <a:lnTo>
                    <a:pt x="375" y="106"/>
                  </a:lnTo>
                  <a:lnTo>
                    <a:pt x="383" y="106"/>
                  </a:lnTo>
                  <a:lnTo>
                    <a:pt x="363" y="111"/>
                  </a:lnTo>
                  <a:lnTo>
                    <a:pt x="383" y="106"/>
                  </a:lnTo>
                  <a:lnTo>
                    <a:pt x="371" y="111"/>
                  </a:lnTo>
                  <a:lnTo>
                    <a:pt x="367" y="111"/>
                  </a:lnTo>
                  <a:lnTo>
                    <a:pt x="375" y="115"/>
                  </a:lnTo>
                  <a:lnTo>
                    <a:pt x="355" y="111"/>
                  </a:lnTo>
                  <a:lnTo>
                    <a:pt x="367" y="115"/>
                  </a:lnTo>
                  <a:lnTo>
                    <a:pt x="347" y="115"/>
                  </a:lnTo>
                  <a:lnTo>
                    <a:pt x="355" y="121"/>
                  </a:lnTo>
                  <a:lnTo>
                    <a:pt x="359" y="123"/>
                  </a:lnTo>
                  <a:lnTo>
                    <a:pt x="375" y="123"/>
                  </a:lnTo>
                  <a:lnTo>
                    <a:pt x="355" y="123"/>
                  </a:lnTo>
                  <a:lnTo>
                    <a:pt x="359" y="125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86680" y="1539360"/>
              <a:ext cx="1440" cy="1440"/>
            </a:xfrm>
            <a:prstGeom prst="line">
              <a:avLst/>
            </a:prstGeom>
            <a:ln w="4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34560" y="1479240"/>
              <a:ext cx="26640" cy="7560"/>
            </a:xfrm>
            <a:custGeom>
              <a:avLst/>
              <a:gdLst/>
              <a:ahLst/>
              <a:rect l="l" t="t" r="r" b="b"/>
              <a:pathLst>
                <a:path w="74" h="21">
                  <a:moveTo>
                    <a:pt x="73" y="5"/>
                  </a:moveTo>
                  <a:lnTo>
                    <a:pt x="73" y="5"/>
                  </a:lnTo>
                  <a:lnTo>
                    <a:pt x="25" y="20"/>
                  </a:lnTo>
                  <a:lnTo>
                    <a:pt x="0" y="20"/>
                  </a:lnTo>
                  <a:lnTo>
                    <a:pt x="16" y="10"/>
                  </a:lnTo>
                  <a:lnTo>
                    <a:pt x="57" y="0"/>
                  </a:lnTo>
                  <a:lnTo>
                    <a:pt x="73" y="5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16840" y="1520640"/>
              <a:ext cx="15480" cy="5760"/>
            </a:xfrm>
            <a:custGeom>
              <a:avLst/>
              <a:gdLst/>
              <a:ahLst/>
              <a:rect l="l" t="t" r="r" b="b"/>
              <a:pathLst>
                <a:path w="46" h="16">
                  <a:moveTo>
                    <a:pt x="45" y="0"/>
                  </a:moveTo>
                  <a:lnTo>
                    <a:pt x="45" y="0"/>
                  </a:lnTo>
                  <a:lnTo>
                    <a:pt x="0" y="15"/>
                  </a:lnTo>
                  <a:lnTo>
                    <a:pt x="16" y="5"/>
                  </a:lnTo>
                  <a:lnTo>
                    <a:pt x="45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26000" y="1441080"/>
              <a:ext cx="26640" cy="756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45" y="0"/>
                  </a:moveTo>
                  <a:lnTo>
                    <a:pt x="45" y="0"/>
                  </a:lnTo>
                  <a:lnTo>
                    <a:pt x="73" y="10"/>
                  </a:lnTo>
                  <a:lnTo>
                    <a:pt x="45" y="23"/>
                  </a:lnTo>
                  <a:lnTo>
                    <a:pt x="0" y="20"/>
                  </a:lnTo>
                  <a:lnTo>
                    <a:pt x="45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01000" y="1514160"/>
              <a:ext cx="25200" cy="612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68" y="0"/>
                  </a:moveTo>
                  <a:lnTo>
                    <a:pt x="68" y="0"/>
                  </a:lnTo>
                  <a:lnTo>
                    <a:pt x="60" y="8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8" y="10"/>
                  </a:lnTo>
                  <a:lnTo>
                    <a:pt x="44" y="0"/>
                  </a:lnTo>
                  <a:lnTo>
                    <a:pt x="68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04240" y="1491840"/>
              <a:ext cx="55080" cy="20160"/>
            </a:xfrm>
            <a:custGeom>
              <a:avLst/>
              <a:gdLst/>
              <a:ahLst/>
              <a:rect l="l" t="t" r="r" b="b"/>
              <a:pathLst>
                <a:path w="154" h="56">
                  <a:moveTo>
                    <a:pt x="141" y="23"/>
                  </a:moveTo>
                  <a:lnTo>
                    <a:pt x="141" y="23"/>
                  </a:lnTo>
                  <a:lnTo>
                    <a:pt x="141" y="33"/>
                  </a:lnTo>
                  <a:lnTo>
                    <a:pt x="113" y="42"/>
                  </a:lnTo>
                  <a:lnTo>
                    <a:pt x="137" y="50"/>
                  </a:lnTo>
                  <a:lnTo>
                    <a:pt x="105" y="55"/>
                  </a:lnTo>
                  <a:lnTo>
                    <a:pt x="88" y="47"/>
                  </a:lnTo>
                  <a:lnTo>
                    <a:pt x="93" y="42"/>
                  </a:lnTo>
                  <a:lnTo>
                    <a:pt x="105" y="38"/>
                  </a:lnTo>
                  <a:lnTo>
                    <a:pt x="72" y="44"/>
                  </a:lnTo>
                  <a:lnTo>
                    <a:pt x="12" y="55"/>
                  </a:lnTo>
                  <a:lnTo>
                    <a:pt x="36" y="42"/>
                  </a:lnTo>
                  <a:lnTo>
                    <a:pt x="0" y="42"/>
                  </a:lnTo>
                  <a:lnTo>
                    <a:pt x="43" y="35"/>
                  </a:lnTo>
                  <a:lnTo>
                    <a:pt x="153" y="0"/>
                  </a:lnTo>
                  <a:lnTo>
                    <a:pt x="124" y="15"/>
                  </a:lnTo>
                  <a:lnTo>
                    <a:pt x="145" y="10"/>
                  </a:lnTo>
                  <a:lnTo>
                    <a:pt x="141" y="23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18080" y="1415520"/>
              <a:ext cx="64800" cy="21960"/>
            </a:xfrm>
            <a:custGeom>
              <a:avLst/>
              <a:gdLst/>
              <a:ahLst/>
              <a:rect l="l" t="t" r="r" b="b"/>
              <a:pathLst>
                <a:path w="179" h="60">
                  <a:moveTo>
                    <a:pt x="130" y="12"/>
                  </a:moveTo>
                  <a:lnTo>
                    <a:pt x="130" y="12"/>
                  </a:lnTo>
                  <a:lnTo>
                    <a:pt x="133" y="17"/>
                  </a:lnTo>
                  <a:lnTo>
                    <a:pt x="121" y="17"/>
                  </a:lnTo>
                  <a:lnTo>
                    <a:pt x="130" y="22"/>
                  </a:lnTo>
                  <a:lnTo>
                    <a:pt x="109" y="19"/>
                  </a:lnTo>
                  <a:lnTo>
                    <a:pt x="109" y="24"/>
                  </a:lnTo>
                  <a:lnTo>
                    <a:pt x="85" y="27"/>
                  </a:lnTo>
                  <a:lnTo>
                    <a:pt x="105" y="24"/>
                  </a:lnTo>
                  <a:lnTo>
                    <a:pt x="101" y="29"/>
                  </a:lnTo>
                  <a:lnTo>
                    <a:pt x="77" y="37"/>
                  </a:lnTo>
                  <a:lnTo>
                    <a:pt x="97" y="31"/>
                  </a:lnTo>
                  <a:lnTo>
                    <a:pt x="109" y="39"/>
                  </a:lnTo>
                  <a:lnTo>
                    <a:pt x="109" y="37"/>
                  </a:lnTo>
                  <a:lnTo>
                    <a:pt x="153" y="34"/>
                  </a:lnTo>
                  <a:lnTo>
                    <a:pt x="178" y="42"/>
                  </a:lnTo>
                  <a:lnTo>
                    <a:pt x="166" y="49"/>
                  </a:lnTo>
                  <a:lnTo>
                    <a:pt x="142" y="51"/>
                  </a:lnTo>
                  <a:lnTo>
                    <a:pt x="145" y="56"/>
                  </a:lnTo>
                  <a:lnTo>
                    <a:pt x="133" y="54"/>
                  </a:lnTo>
                  <a:lnTo>
                    <a:pt x="117" y="59"/>
                  </a:lnTo>
                  <a:lnTo>
                    <a:pt x="89" y="56"/>
                  </a:lnTo>
                  <a:lnTo>
                    <a:pt x="101" y="51"/>
                  </a:lnTo>
                  <a:lnTo>
                    <a:pt x="68" y="56"/>
                  </a:lnTo>
                  <a:lnTo>
                    <a:pt x="73" y="51"/>
                  </a:lnTo>
                  <a:lnTo>
                    <a:pt x="57" y="56"/>
                  </a:lnTo>
                  <a:lnTo>
                    <a:pt x="65" y="51"/>
                  </a:lnTo>
                  <a:lnTo>
                    <a:pt x="53" y="56"/>
                  </a:lnTo>
                  <a:lnTo>
                    <a:pt x="25" y="51"/>
                  </a:lnTo>
                  <a:lnTo>
                    <a:pt x="49" y="44"/>
                  </a:lnTo>
                  <a:lnTo>
                    <a:pt x="16" y="49"/>
                  </a:lnTo>
                  <a:lnTo>
                    <a:pt x="8" y="46"/>
                  </a:lnTo>
                  <a:lnTo>
                    <a:pt x="25" y="42"/>
                  </a:lnTo>
                  <a:lnTo>
                    <a:pt x="0" y="46"/>
                  </a:lnTo>
                  <a:lnTo>
                    <a:pt x="65" y="29"/>
                  </a:lnTo>
                  <a:lnTo>
                    <a:pt x="101" y="14"/>
                  </a:lnTo>
                  <a:lnTo>
                    <a:pt x="81" y="12"/>
                  </a:lnTo>
                  <a:lnTo>
                    <a:pt x="93" y="5"/>
                  </a:lnTo>
                  <a:lnTo>
                    <a:pt x="126" y="0"/>
                  </a:lnTo>
                  <a:lnTo>
                    <a:pt x="133" y="5"/>
                  </a:lnTo>
                  <a:lnTo>
                    <a:pt x="97" y="14"/>
                  </a:lnTo>
                  <a:lnTo>
                    <a:pt x="130" y="12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08720" y="1423800"/>
              <a:ext cx="23400" cy="756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65" y="0"/>
                  </a:moveTo>
                  <a:lnTo>
                    <a:pt x="65" y="0"/>
                  </a:lnTo>
                  <a:lnTo>
                    <a:pt x="48" y="10"/>
                  </a:lnTo>
                  <a:lnTo>
                    <a:pt x="4" y="20"/>
                  </a:lnTo>
                  <a:lnTo>
                    <a:pt x="0" y="10"/>
                  </a:lnTo>
                  <a:lnTo>
                    <a:pt x="65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42480" y="1433160"/>
              <a:ext cx="64440" cy="1404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37" y="0"/>
                  </a:moveTo>
                  <a:lnTo>
                    <a:pt x="137" y="0"/>
                  </a:lnTo>
                  <a:lnTo>
                    <a:pt x="182" y="10"/>
                  </a:lnTo>
                  <a:lnTo>
                    <a:pt x="85" y="27"/>
                  </a:lnTo>
                  <a:lnTo>
                    <a:pt x="61" y="22"/>
                  </a:lnTo>
                  <a:lnTo>
                    <a:pt x="48" y="30"/>
                  </a:lnTo>
                  <a:lnTo>
                    <a:pt x="12" y="37"/>
                  </a:lnTo>
                  <a:lnTo>
                    <a:pt x="0" y="35"/>
                  </a:lnTo>
                  <a:lnTo>
                    <a:pt x="48" y="20"/>
                  </a:lnTo>
                  <a:lnTo>
                    <a:pt x="106" y="5"/>
                  </a:lnTo>
                  <a:lnTo>
                    <a:pt x="118" y="8"/>
                  </a:lnTo>
                  <a:lnTo>
                    <a:pt x="137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48880" y="1458720"/>
              <a:ext cx="31320" cy="9000"/>
            </a:xfrm>
            <a:custGeom>
              <a:avLst/>
              <a:gdLst/>
              <a:ahLst/>
              <a:rect l="l" t="t" r="r" b="b"/>
              <a:pathLst>
                <a:path w="86" h="28">
                  <a:moveTo>
                    <a:pt x="85" y="0"/>
                  </a:moveTo>
                  <a:lnTo>
                    <a:pt x="85" y="0"/>
                  </a:lnTo>
                  <a:lnTo>
                    <a:pt x="54" y="17"/>
                  </a:lnTo>
                  <a:lnTo>
                    <a:pt x="58" y="22"/>
                  </a:lnTo>
                  <a:lnTo>
                    <a:pt x="42" y="27"/>
                  </a:lnTo>
                  <a:lnTo>
                    <a:pt x="13" y="27"/>
                  </a:lnTo>
                  <a:lnTo>
                    <a:pt x="0" y="15"/>
                  </a:lnTo>
                  <a:lnTo>
                    <a:pt x="17" y="13"/>
                  </a:lnTo>
                  <a:lnTo>
                    <a:pt x="42" y="10"/>
                  </a:lnTo>
                  <a:lnTo>
                    <a:pt x="58" y="5"/>
                  </a:lnTo>
                  <a:lnTo>
                    <a:pt x="58" y="7"/>
                  </a:lnTo>
                  <a:lnTo>
                    <a:pt x="85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09000" y="1431720"/>
              <a:ext cx="69480" cy="18360"/>
            </a:xfrm>
            <a:custGeom>
              <a:avLst/>
              <a:gdLst/>
              <a:ahLst/>
              <a:rect l="l" t="t" r="r" b="b"/>
              <a:pathLst>
                <a:path w="195" h="51">
                  <a:moveTo>
                    <a:pt x="174" y="0"/>
                  </a:moveTo>
                  <a:lnTo>
                    <a:pt x="174" y="0"/>
                  </a:lnTo>
                  <a:lnTo>
                    <a:pt x="162" y="5"/>
                  </a:lnTo>
                  <a:lnTo>
                    <a:pt x="194" y="3"/>
                  </a:lnTo>
                  <a:lnTo>
                    <a:pt x="190" y="8"/>
                  </a:lnTo>
                  <a:lnTo>
                    <a:pt x="122" y="18"/>
                  </a:lnTo>
                  <a:lnTo>
                    <a:pt x="134" y="20"/>
                  </a:lnTo>
                  <a:lnTo>
                    <a:pt x="110" y="27"/>
                  </a:lnTo>
                  <a:lnTo>
                    <a:pt x="126" y="25"/>
                  </a:lnTo>
                  <a:lnTo>
                    <a:pt x="65" y="42"/>
                  </a:lnTo>
                  <a:lnTo>
                    <a:pt x="41" y="45"/>
                  </a:lnTo>
                  <a:lnTo>
                    <a:pt x="41" y="40"/>
                  </a:lnTo>
                  <a:lnTo>
                    <a:pt x="29" y="45"/>
                  </a:lnTo>
                  <a:lnTo>
                    <a:pt x="0" y="50"/>
                  </a:lnTo>
                  <a:lnTo>
                    <a:pt x="25" y="37"/>
                  </a:lnTo>
                  <a:lnTo>
                    <a:pt x="56" y="18"/>
                  </a:lnTo>
                  <a:lnTo>
                    <a:pt x="89" y="13"/>
                  </a:lnTo>
                  <a:lnTo>
                    <a:pt x="73" y="20"/>
                  </a:lnTo>
                  <a:lnTo>
                    <a:pt x="105" y="15"/>
                  </a:lnTo>
                  <a:lnTo>
                    <a:pt x="98" y="18"/>
                  </a:lnTo>
                  <a:lnTo>
                    <a:pt x="117" y="13"/>
                  </a:lnTo>
                  <a:lnTo>
                    <a:pt x="122" y="13"/>
                  </a:lnTo>
                  <a:lnTo>
                    <a:pt x="122" y="5"/>
                  </a:lnTo>
                  <a:lnTo>
                    <a:pt x="134" y="8"/>
                  </a:lnTo>
                  <a:lnTo>
                    <a:pt x="146" y="3"/>
                  </a:lnTo>
                  <a:lnTo>
                    <a:pt x="158" y="5"/>
                  </a:lnTo>
                  <a:lnTo>
                    <a:pt x="174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97560" y="1415520"/>
              <a:ext cx="45720" cy="9360"/>
            </a:xfrm>
            <a:custGeom>
              <a:avLst/>
              <a:gdLst/>
              <a:ahLst/>
              <a:rect l="l" t="t" r="r" b="b"/>
              <a:pathLst>
                <a:path w="130" h="28">
                  <a:moveTo>
                    <a:pt x="113" y="0"/>
                  </a:moveTo>
                  <a:lnTo>
                    <a:pt x="113" y="0"/>
                  </a:lnTo>
                  <a:lnTo>
                    <a:pt x="129" y="3"/>
                  </a:lnTo>
                  <a:lnTo>
                    <a:pt x="124" y="5"/>
                  </a:lnTo>
                  <a:lnTo>
                    <a:pt x="52" y="25"/>
                  </a:lnTo>
                  <a:lnTo>
                    <a:pt x="28" y="27"/>
                  </a:lnTo>
                  <a:lnTo>
                    <a:pt x="0" y="25"/>
                  </a:lnTo>
                  <a:lnTo>
                    <a:pt x="20" y="20"/>
                  </a:lnTo>
                  <a:lnTo>
                    <a:pt x="56" y="17"/>
                  </a:lnTo>
                  <a:lnTo>
                    <a:pt x="12" y="15"/>
                  </a:lnTo>
                  <a:lnTo>
                    <a:pt x="40" y="10"/>
                  </a:lnTo>
                  <a:lnTo>
                    <a:pt x="48" y="12"/>
                  </a:lnTo>
                  <a:lnTo>
                    <a:pt x="85" y="3"/>
                  </a:lnTo>
                  <a:lnTo>
                    <a:pt x="72" y="12"/>
                  </a:lnTo>
                  <a:lnTo>
                    <a:pt x="76" y="8"/>
                  </a:lnTo>
                  <a:lnTo>
                    <a:pt x="97" y="3"/>
                  </a:lnTo>
                  <a:lnTo>
                    <a:pt x="113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3400" y="1429920"/>
              <a:ext cx="23400" cy="4320"/>
            </a:xfrm>
            <a:custGeom>
              <a:avLst/>
              <a:gdLst/>
              <a:ahLst/>
              <a:rect l="l" t="t" r="r" b="b"/>
              <a:pathLst>
                <a:path w="65" h="15">
                  <a:moveTo>
                    <a:pt x="57" y="4"/>
                  </a:moveTo>
                  <a:lnTo>
                    <a:pt x="57" y="4"/>
                  </a:lnTo>
                  <a:lnTo>
                    <a:pt x="0" y="14"/>
                  </a:lnTo>
                  <a:lnTo>
                    <a:pt x="28" y="2"/>
                  </a:lnTo>
                  <a:lnTo>
                    <a:pt x="64" y="0"/>
                  </a:lnTo>
                  <a:lnTo>
                    <a:pt x="57" y="4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40680" y="1409400"/>
              <a:ext cx="80640" cy="14040"/>
            </a:xfrm>
            <a:custGeom>
              <a:avLst/>
              <a:gdLst/>
              <a:ahLst/>
              <a:rect l="l" t="t" r="r" b="b"/>
              <a:pathLst>
                <a:path w="223" h="38">
                  <a:moveTo>
                    <a:pt x="137" y="10"/>
                  </a:moveTo>
                  <a:lnTo>
                    <a:pt x="137" y="10"/>
                  </a:lnTo>
                  <a:lnTo>
                    <a:pt x="97" y="20"/>
                  </a:lnTo>
                  <a:lnTo>
                    <a:pt x="113" y="25"/>
                  </a:lnTo>
                  <a:lnTo>
                    <a:pt x="133" y="17"/>
                  </a:lnTo>
                  <a:lnTo>
                    <a:pt x="174" y="8"/>
                  </a:lnTo>
                  <a:lnTo>
                    <a:pt x="222" y="2"/>
                  </a:lnTo>
                  <a:lnTo>
                    <a:pt x="162" y="17"/>
                  </a:lnTo>
                  <a:lnTo>
                    <a:pt x="146" y="22"/>
                  </a:lnTo>
                  <a:lnTo>
                    <a:pt x="158" y="22"/>
                  </a:lnTo>
                  <a:lnTo>
                    <a:pt x="178" y="20"/>
                  </a:lnTo>
                  <a:lnTo>
                    <a:pt x="158" y="27"/>
                  </a:lnTo>
                  <a:lnTo>
                    <a:pt x="105" y="34"/>
                  </a:lnTo>
                  <a:lnTo>
                    <a:pt x="77" y="32"/>
                  </a:lnTo>
                  <a:lnTo>
                    <a:pt x="0" y="37"/>
                  </a:lnTo>
                  <a:lnTo>
                    <a:pt x="4" y="29"/>
                  </a:lnTo>
                  <a:lnTo>
                    <a:pt x="77" y="25"/>
                  </a:lnTo>
                  <a:lnTo>
                    <a:pt x="37" y="25"/>
                  </a:lnTo>
                  <a:lnTo>
                    <a:pt x="52" y="22"/>
                  </a:lnTo>
                  <a:lnTo>
                    <a:pt x="73" y="20"/>
                  </a:lnTo>
                  <a:lnTo>
                    <a:pt x="69" y="17"/>
                  </a:lnTo>
                  <a:lnTo>
                    <a:pt x="48" y="20"/>
                  </a:lnTo>
                  <a:lnTo>
                    <a:pt x="21" y="25"/>
                  </a:lnTo>
                  <a:lnTo>
                    <a:pt x="37" y="20"/>
                  </a:lnTo>
                  <a:lnTo>
                    <a:pt x="16" y="22"/>
                  </a:lnTo>
                  <a:lnTo>
                    <a:pt x="21" y="15"/>
                  </a:lnTo>
                  <a:lnTo>
                    <a:pt x="77" y="12"/>
                  </a:lnTo>
                  <a:lnTo>
                    <a:pt x="52" y="10"/>
                  </a:lnTo>
                  <a:lnTo>
                    <a:pt x="97" y="10"/>
                  </a:lnTo>
                  <a:lnTo>
                    <a:pt x="85" y="8"/>
                  </a:lnTo>
                  <a:lnTo>
                    <a:pt x="110" y="2"/>
                  </a:lnTo>
                  <a:lnTo>
                    <a:pt x="122" y="5"/>
                  </a:lnTo>
                  <a:lnTo>
                    <a:pt x="117" y="2"/>
                  </a:lnTo>
                  <a:lnTo>
                    <a:pt x="137" y="0"/>
                  </a:lnTo>
                  <a:lnTo>
                    <a:pt x="149" y="2"/>
                  </a:lnTo>
                  <a:lnTo>
                    <a:pt x="137" y="1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72560" y="1426680"/>
              <a:ext cx="151920" cy="36360"/>
            </a:xfrm>
            <a:custGeom>
              <a:avLst/>
              <a:gdLst/>
              <a:ahLst/>
              <a:rect l="l" t="t" r="r" b="b"/>
              <a:pathLst>
                <a:path w="425" h="100">
                  <a:moveTo>
                    <a:pt x="299" y="12"/>
                  </a:moveTo>
                  <a:lnTo>
                    <a:pt x="299" y="12"/>
                  </a:lnTo>
                  <a:lnTo>
                    <a:pt x="311" y="15"/>
                  </a:lnTo>
                  <a:lnTo>
                    <a:pt x="347" y="8"/>
                  </a:lnTo>
                  <a:lnTo>
                    <a:pt x="343" y="17"/>
                  </a:lnTo>
                  <a:lnTo>
                    <a:pt x="299" y="25"/>
                  </a:lnTo>
                  <a:lnTo>
                    <a:pt x="323" y="20"/>
                  </a:lnTo>
                  <a:lnTo>
                    <a:pt x="343" y="22"/>
                  </a:lnTo>
                  <a:lnTo>
                    <a:pt x="375" y="12"/>
                  </a:lnTo>
                  <a:lnTo>
                    <a:pt x="355" y="25"/>
                  </a:lnTo>
                  <a:lnTo>
                    <a:pt x="294" y="39"/>
                  </a:lnTo>
                  <a:lnTo>
                    <a:pt x="323" y="37"/>
                  </a:lnTo>
                  <a:lnTo>
                    <a:pt x="424" y="10"/>
                  </a:lnTo>
                  <a:lnTo>
                    <a:pt x="424" y="20"/>
                  </a:lnTo>
                  <a:lnTo>
                    <a:pt x="379" y="32"/>
                  </a:lnTo>
                  <a:lnTo>
                    <a:pt x="278" y="62"/>
                  </a:lnTo>
                  <a:lnTo>
                    <a:pt x="274" y="76"/>
                  </a:lnTo>
                  <a:lnTo>
                    <a:pt x="242" y="86"/>
                  </a:lnTo>
                  <a:lnTo>
                    <a:pt x="255" y="81"/>
                  </a:lnTo>
                  <a:lnTo>
                    <a:pt x="230" y="84"/>
                  </a:lnTo>
                  <a:lnTo>
                    <a:pt x="242" y="79"/>
                  </a:lnTo>
                  <a:lnTo>
                    <a:pt x="209" y="86"/>
                  </a:lnTo>
                  <a:lnTo>
                    <a:pt x="209" y="81"/>
                  </a:lnTo>
                  <a:lnTo>
                    <a:pt x="178" y="91"/>
                  </a:lnTo>
                  <a:lnTo>
                    <a:pt x="214" y="86"/>
                  </a:lnTo>
                  <a:lnTo>
                    <a:pt x="198" y="93"/>
                  </a:lnTo>
                  <a:lnTo>
                    <a:pt x="157" y="99"/>
                  </a:lnTo>
                  <a:lnTo>
                    <a:pt x="137" y="91"/>
                  </a:lnTo>
                  <a:lnTo>
                    <a:pt x="150" y="88"/>
                  </a:lnTo>
                  <a:lnTo>
                    <a:pt x="141" y="84"/>
                  </a:lnTo>
                  <a:lnTo>
                    <a:pt x="162" y="79"/>
                  </a:lnTo>
                  <a:lnTo>
                    <a:pt x="117" y="86"/>
                  </a:lnTo>
                  <a:lnTo>
                    <a:pt x="69" y="88"/>
                  </a:lnTo>
                  <a:lnTo>
                    <a:pt x="0" y="86"/>
                  </a:lnTo>
                  <a:lnTo>
                    <a:pt x="53" y="72"/>
                  </a:lnTo>
                  <a:lnTo>
                    <a:pt x="33" y="64"/>
                  </a:lnTo>
                  <a:lnTo>
                    <a:pt x="69" y="52"/>
                  </a:lnTo>
                  <a:lnTo>
                    <a:pt x="162" y="57"/>
                  </a:lnTo>
                  <a:lnTo>
                    <a:pt x="162" y="44"/>
                  </a:lnTo>
                  <a:lnTo>
                    <a:pt x="114" y="42"/>
                  </a:lnTo>
                  <a:lnTo>
                    <a:pt x="137" y="32"/>
                  </a:lnTo>
                  <a:lnTo>
                    <a:pt x="214" y="30"/>
                  </a:lnTo>
                  <a:lnTo>
                    <a:pt x="198" y="22"/>
                  </a:lnTo>
                  <a:lnTo>
                    <a:pt x="182" y="20"/>
                  </a:lnTo>
                  <a:lnTo>
                    <a:pt x="238" y="12"/>
                  </a:lnTo>
                  <a:lnTo>
                    <a:pt x="299" y="3"/>
                  </a:lnTo>
                  <a:lnTo>
                    <a:pt x="363" y="0"/>
                  </a:lnTo>
                  <a:lnTo>
                    <a:pt x="327" y="10"/>
                  </a:lnTo>
                  <a:lnTo>
                    <a:pt x="299" y="12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5080" y="1402920"/>
              <a:ext cx="64800" cy="7560"/>
            </a:xfrm>
            <a:custGeom>
              <a:avLst/>
              <a:gdLst/>
              <a:ahLst/>
              <a:rect l="l" t="t" r="r" b="b"/>
              <a:pathLst>
                <a:path w="182" h="20">
                  <a:moveTo>
                    <a:pt x="153" y="0"/>
                  </a:moveTo>
                  <a:lnTo>
                    <a:pt x="153" y="0"/>
                  </a:lnTo>
                  <a:lnTo>
                    <a:pt x="181" y="0"/>
                  </a:lnTo>
                  <a:lnTo>
                    <a:pt x="173" y="4"/>
                  </a:lnTo>
                  <a:lnTo>
                    <a:pt x="149" y="7"/>
                  </a:lnTo>
                  <a:lnTo>
                    <a:pt x="112" y="14"/>
                  </a:lnTo>
                  <a:lnTo>
                    <a:pt x="69" y="17"/>
                  </a:lnTo>
                  <a:lnTo>
                    <a:pt x="108" y="9"/>
                  </a:lnTo>
                  <a:lnTo>
                    <a:pt x="92" y="9"/>
                  </a:lnTo>
                  <a:lnTo>
                    <a:pt x="60" y="12"/>
                  </a:lnTo>
                  <a:lnTo>
                    <a:pt x="7" y="19"/>
                  </a:lnTo>
                  <a:lnTo>
                    <a:pt x="36" y="14"/>
                  </a:lnTo>
                  <a:lnTo>
                    <a:pt x="7" y="17"/>
                  </a:lnTo>
                  <a:lnTo>
                    <a:pt x="0" y="14"/>
                  </a:lnTo>
                  <a:lnTo>
                    <a:pt x="11" y="12"/>
                  </a:lnTo>
                  <a:lnTo>
                    <a:pt x="153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07480" y="1415520"/>
              <a:ext cx="110880" cy="18720"/>
            </a:xfrm>
            <a:custGeom>
              <a:avLst/>
              <a:gdLst/>
              <a:ahLst/>
              <a:rect l="l" t="t" r="r" b="b"/>
              <a:pathLst>
                <a:path w="308" h="55">
                  <a:moveTo>
                    <a:pt x="270" y="15"/>
                  </a:moveTo>
                  <a:lnTo>
                    <a:pt x="270" y="15"/>
                  </a:lnTo>
                  <a:lnTo>
                    <a:pt x="270" y="15"/>
                  </a:lnTo>
                  <a:lnTo>
                    <a:pt x="307" y="12"/>
                  </a:lnTo>
                  <a:lnTo>
                    <a:pt x="295" y="20"/>
                  </a:lnTo>
                  <a:lnTo>
                    <a:pt x="266" y="29"/>
                  </a:lnTo>
                  <a:lnTo>
                    <a:pt x="121" y="40"/>
                  </a:lnTo>
                  <a:lnTo>
                    <a:pt x="57" y="52"/>
                  </a:lnTo>
                  <a:lnTo>
                    <a:pt x="0" y="54"/>
                  </a:lnTo>
                  <a:lnTo>
                    <a:pt x="53" y="37"/>
                  </a:lnTo>
                  <a:lnTo>
                    <a:pt x="44" y="35"/>
                  </a:lnTo>
                  <a:lnTo>
                    <a:pt x="214" y="10"/>
                  </a:lnTo>
                  <a:lnTo>
                    <a:pt x="255" y="0"/>
                  </a:lnTo>
                  <a:lnTo>
                    <a:pt x="298" y="3"/>
                  </a:lnTo>
                  <a:lnTo>
                    <a:pt x="287" y="10"/>
                  </a:lnTo>
                  <a:lnTo>
                    <a:pt x="270" y="15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23240" y="1564920"/>
              <a:ext cx="15480" cy="432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44" y="0"/>
                  </a:moveTo>
                  <a:lnTo>
                    <a:pt x="44" y="0"/>
                  </a:lnTo>
                  <a:lnTo>
                    <a:pt x="17" y="13"/>
                  </a:lnTo>
                  <a:lnTo>
                    <a:pt x="40" y="3"/>
                  </a:lnTo>
                  <a:lnTo>
                    <a:pt x="12" y="13"/>
                  </a:lnTo>
                  <a:lnTo>
                    <a:pt x="32" y="5"/>
                  </a:lnTo>
                  <a:lnTo>
                    <a:pt x="8" y="13"/>
                  </a:lnTo>
                  <a:lnTo>
                    <a:pt x="20" y="7"/>
                  </a:lnTo>
                  <a:lnTo>
                    <a:pt x="0" y="10"/>
                  </a:lnTo>
                  <a:lnTo>
                    <a:pt x="17" y="7"/>
                  </a:lnTo>
                  <a:lnTo>
                    <a:pt x="44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63120" y="1588680"/>
              <a:ext cx="9000" cy="288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27" y="0"/>
                  </a:moveTo>
                  <a:lnTo>
                    <a:pt x="27" y="0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37720" y="1585440"/>
              <a:ext cx="1080" cy="1440"/>
            </a:xfrm>
            <a:prstGeom prst="line">
              <a:avLst/>
            </a:prstGeom>
            <a:ln w="4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29800" y="1649160"/>
              <a:ext cx="4320" cy="10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3" y="0"/>
                  </a:moveTo>
                  <a:lnTo>
                    <a:pt x="13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3"/>
                  </a:lnTo>
                  <a:lnTo>
                    <a:pt x="13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48800" y="1645920"/>
              <a:ext cx="21600" cy="9000"/>
            </a:xfrm>
            <a:custGeom>
              <a:avLst/>
              <a:gdLst/>
              <a:ahLst/>
              <a:rect l="l" t="t" r="r" b="b"/>
              <a:pathLst>
                <a:path w="61" h="28">
                  <a:moveTo>
                    <a:pt x="20" y="0"/>
                  </a:moveTo>
                  <a:lnTo>
                    <a:pt x="20" y="0"/>
                  </a:lnTo>
                  <a:lnTo>
                    <a:pt x="8" y="15"/>
                  </a:lnTo>
                  <a:lnTo>
                    <a:pt x="60" y="18"/>
                  </a:lnTo>
                  <a:lnTo>
                    <a:pt x="24" y="27"/>
                  </a:lnTo>
                  <a:lnTo>
                    <a:pt x="27" y="20"/>
                  </a:lnTo>
                  <a:lnTo>
                    <a:pt x="0" y="15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8680" y="1642680"/>
              <a:ext cx="7920" cy="28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3" y="0"/>
                  </a:moveTo>
                  <a:lnTo>
                    <a:pt x="23" y="0"/>
                  </a:lnTo>
                  <a:lnTo>
                    <a:pt x="16" y="2"/>
                  </a:lnTo>
                  <a:lnTo>
                    <a:pt x="0" y="9"/>
                  </a:lnTo>
                  <a:lnTo>
                    <a:pt x="23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669320" y="1647360"/>
              <a:ext cx="21960" cy="126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0" y="5"/>
                  </a:moveTo>
                  <a:lnTo>
                    <a:pt x="60" y="5"/>
                  </a:lnTo>
                  <a:lnTo>
                    <a:pt x="45" y="18"/>
                  </a:lnTo>
                  <a:lnTo>
                    <a:pt x="29" y="22"/>
                  </a:lnTo>
                  <a:lnTo>
                    <a:pt x="8" y="30"/>
                  </a:lnTo>
                  <a:lnTo>
                    <a:pt x="20" y="30"/>
                  </a:lnTo>
                  <a:lnTo>
                    <a:pt x="36" y="25"/>
                  </a:lnTo>
                  <a:lnTo>
                    <a:pt x="32" y="22"/>
                  </a:lnTo>
                  <a:lnTo>
                    <a:pt x="45" y="18"/>
                  </a:lnTo>
                  <a:lnTo>
                    <a:pt x="52" y="25"/>
                  </a:lnTo>
                  <a:lnTo>
                    <a:pt x="0" y="35"/>
                  </a:lnTo>
                  <a:lnTo>
                    <a:pt x="4" y="25"/>
                  </a:lnTo>
                  <a:lnTo>
                    <a:pt x="56" y="0"/>
                  </a:lnTo>
                  <a:lnTo>
                    <a:pt x="60" y="5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80480" y="1623600"/>
              <a:ext cx="20160" cy="7560"/>
            </a:xfrm>
            <a:custGeom>
              <a:avLst/>
              <a:gdLst/>
              <a:ahLst/>
              <a:rect l="l" t="t" r="r" b="b"/>
              <a:pathLst>
                <a:path w="58" h="22">
                  <a:moveTo>
                    <a:pt x="28" y="2"/>
                  </a:moveTo>
                  <a:lnTo>
                    <a:pt x="28" y="2"/>
                  </a:lnTo>
                  <a:lnTo>
                    <a:pt x="57" y="14"/>
                  </a:lnTo>
                  <a:lnTo>
                    <a:pt x="49" y="21"/>
                  </a:lnTo>
                  <a:lnTo>
                    <a:pt x="13" y="12"/>
                  </a:lnTo>
                  <a:lnTo>
                    <a:pt x="0" y="0"/>
                  </a:lnTo>
                  <a:lnTo>
                    <a:pt x="28" y="2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07480" y="1612440"/>
              <a:ext cx="75960" cy="42480"/>
            </a:xfrm>
            <a:custGeom>
              <a:avLst/>
              <a:gdLst/>
              <a:ahLst/>
              <a:rect l="l" t="t" r="r" b="b"/>
              <a:pathLst>
                <a:path w="211" h="117">
                  <a:moveTo>
                    <a:pt x="210" y="2"/>
                  </a:moveTo>
                  <a:lnTo>
                    <a:pt x="210" y="2"/>
                  </a:lnTo>
                  <a:lnTo>
                    <a:pt x="202" y="7"/>
                  </a:lnTo>
                  <a:lnTo>
                    <a:pt x="190" y="7"/>
                  </a:lnTo>
                  <a:lnTo>
                    <a:pt x="190" y="12"/>
                  </a:lnTo>
                  <a:lnTo>
                    <a:pt x="121" y="46"/>
                  </a:lnTo>
                  <a:lnTo>
                    <a:pt x="158" y="35"/>
                  </a:lnTo>
                  <a:lnTo>
                    <a:pt x="149" y="40"/>
                  </a:lnTo>
                  <a:lnTo>
                    <a:pt x="170" y="40"/>
                  </a:lnTo>
                  <a:lnTo>
                    <a:pt x="149" y="44"/>
                  </a:lnTo>
                  <a:lnTo>
                    <a:pt x="137" y="49"/>
                  </a:lnTo>
                  <a:lnTo>
                    <a:pt x="166" y="49"/>
                  </a:lnTo>
                  <a:lnTo>
                    <a:pt x="145" y="59"/>
                  </a:lnTo>
                  <a:lnTo>
                    <a:pt x="181" y="49"/>
                  </a:lnTo>
                  <a:lnTo>
                    <a:pt x="177" y="54"/>
                  </a:lnTo>
                  <a:lnTo>
                    <a:pt x="194" y="49"/>
                  </a:lnTo>
                  <a:lnTo>
                    <a:pt x="206" y="54"/>
                  </a:lnTo>
                  <a:lnTo>
                    <a:pt x="174" y="66"/>
                  </a:lnTo>
                  <a:lnTo>
                    <a:pt x="185" y="69"/>
                  </a:lnTo>
                  <a:lnTo>
                    <a:pt x="161" y="74"/>
                  </a:lnTo>
                  <a:lnTo>
                    <a:pt x="202" y="71"/>
                  </a:lnTo>
                  <a:lnTo>
                    <a:pt x="166" y="79"/>
                  </a:lnTo>
                  <a:lnTo>
                    <a:pt x="170" y="81"/>
                  </a:lnTo>
                  <a:lnTo>
                    <a:pt x="170" y="84"/>
                  </a:lnTo>
                  <a:lnTo>
                    <a:pt x="158" y="86"/>
                  </a:lnTo>
                  <a:lnTo>
                    <a:pt x="158" y="93"/>
                  </a:lnTo>
                  <a:lnTo>
                    <a:pt x="194" y="81"/>
                  </a:lnTo>
                  <a:lnTo>
                    <a:pt x="170" y="93"/>
                  </a:lnTo>
                  <a:lnTo>
                    <a:pt x="170" y="98"/>
                  </a:lnTo>
                  <a:lnTo>
                    <a:pt x="190" y="89"/>
                  </a:lnTo>
                  <a:lnTo>
                    <a:pt x="185" y="96"/>
                  </a:lnTo>
                  <a:lnTo>
                    <a:pt x="154" y="116"/>
                  </a:lnTo>
                  <a:lnTo>
                    <a:pt x="137" y="113"/>
                  </a:lnTo>
                  <a:lnTo>
                    <a:pt x="154" y="100"/>
                  </a:lnTo>
                  <a:lnTo>
                    <a:pt x="125" y="111"/>
                  </a:lnTo>
                  <a:lnTo>
                    <a:pt x="149" y="96"/>
                  </a:lnTo>
                  <a:lnTo>
                    <a:pt x="149" y="86"/>
                  </a:lnTo>
                  <a:lnTo>
                    <a:pt x="133" y="96"/>
                  </a:lnTo>
                  <a:lnTo>
                    <a:pt x="121" y="96"/>
                  </a:lnTo>
                  <a:lnTo>
                    <a:pt x="93" y="108"/>
                  </a:lnTo>
                  <a:lnTo>
                    <a:pt x="76" y="103"/>
                  </a:lnTo>
                  <a:lnTo>
                    <a:pt x="129" y="91"/>
                  </a:lnTo>
                  <a:lnTo>
                    <a:pt x="109" y="89"/>
                  </a:lnTo>
                  <a:lnTo>
                    <a:pt x="101" y="96"/>
                  </a:lnTo>
                  <a:lnTo>
                    <a:pt x="89" y="93"/>
                  </a:lnTo>
                  <a:lnTo>
                    <a:pt x="85" y="93"/>
                  </a:lnTo>
                  <a:lnTo>
                    <a:pt x="97" y="89"/>
                  </a:lnTo>
                  <a:lnTo>
                    <a:pt x="109" y="84"/>
                  </a:lnTo>
                  <a:lnTo>
                    <a:pt x="69" y="91"/>
                  </a:lnTo>
                  <a:lnTo>
                    <a:pt x="31" y="84"/>
                  </a:lnTo>
                  <a:lnTo>
                    <a:pt x="0" y="86"/>
                  </a:lnTo>
                  <a:lnTo>
                    <a:pt x="8" y="81"/>
                  </a:lnTo>
                  <a:lnTo>
                    <a:pt x="53" y="66"/>
                  </a:lnTo>
                  <a:lnTo>
                    <a:pt x="28" y="66"/>
                  </a:lnTo>
                  <a:lnTo>
                    <a:pt x="48" y="62"/>
                  </a:lnTo>
                  <a:lnTo>
                    <a:pt x="44" y="66"/>
                  </a:lnTo>
                  <a:lnTo>
                    <a:pt x="69" y="54"/>
                  </a:lnTo>
                  <a:lnTo>
                    <a:pt x="76" y="59"/>
                  </a:lnTo>
                  <a:lnTo>
                    <a:pt x="73" y="54"/>
                  </a:lnTo>
                  <a:lnTo>
                    <a:pt x="76" y="49"/>
                  </a:lnTo>
                  <a:lnTo>
                    <a:pt x="89" y="44"/>
                  </a:lnTo>
                  <a:lnTo>
                    <a:pt x="93" y="46"/>
                  </a:lnTo>
                  <a:lnTo>
                    <a:pt x="101" y="40"/>
                  </a:lnTo>
                  <a:lnTo>
                    <a:pt x="141" y="22"/>
                  </a:lnTo>
                  <a:lnTo>
                    <a:pt x="170" y="7"/>
                  </a:lnTo>
                  <a:lnTo>
                    <a:pt x="202" y="0"/>
                  </a:lnTo>
                  <a:lnTo>
                    <a:pt x="210" y="2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12160" y="1580760"/>
              <a:ext cx="29880" cy="12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69" y="10"/>
                  </a:moveTo>
                  <a:lnTo>
                    <a:pt x="73" y="10"/>
                  </a:lnTo>
                  <a:lnTo>
                    <a:pt x="64" y="17"/>
                  </a:lnTo>
                  <a:lnTo>
                    <a:pt x="64" y="20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9" y="27"/>
                  </a:lnTo>
                  <a:lnTo>
                    <a:pt x="77" y="25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77" y="27"/>
                  </a:lnTo>
                  <a:lnTo>
                    <a:pt x="77" y="27"/>
                  </a:lnTo>
                  <a:lnTo>
                    <a:pt x="64" y="27"/>
                  </a:lnTo>
                  <a:lnTo>
                    <a:pt x="64" y="30"/>
                  </a:lnTo>
                  <a:lnTo>
                    <a:pt x="57" y="30"/>
                  </a:lnTo>
                  <a:lnTo>
                    <a:pt x="53" y="30"/>
                  </a:lnTo>
                  <a:lnTo>
                    <a:pt x="48" y="30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1" y="25"/>
                  </a:lnTo>
                  <a:lnTo>
                    <a:pt x="36" y="27"/>
                  </a:lnTo>
                  <a:lnTo>
                    <a:pt x="24" y="27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6" y="30"/>
                  </a:lnTo>
                  <a:lnTo>
                    <a:pt x="12" y="34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8" y="36"/>
                  </a:lnTo>
                  <a:lnTo>
                    <a:pt x="12" y="36"/>
                  </a:lnTo>
                  <a:lnTo>
                    <a:pt x="5" y="36"/>
                  </a:lnTo>
                  <a:lnTo>
                    <a:pt x="0" y="34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9" y="22"/>
                  </a:lnTo>
                  <a:lnTo>
                    <a:pt x="16" y="22"/>
                  </a:lnTo>
                  <a:lnTo>
                    <a:pt x="16" y="17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12" y="14"/>
                  </a:lnTo>
                  <a:lnTo>
                    <a:pt x="8" y="13"/>
                  </a:lnTo>
                  <a:lnTo>
                    <a:pt x="12" y="13"/>
                  </a:lnTo>
                  <a:lnTo>
                    <a:pt x="12" y="10"/>
                  </a:lnTo>
                  <a:lnTo>
                    <a:pt x="24" y="7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10"/>
                  </a:lnTo>
                  <a:lnTo>
                    <a:pt x="24" y="10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32" y="25"/>
                  </a:lnTo>
                  <a:lnTo>
                    <a:pt x="28" y="25"/>
                  </a:lnTo>
                  <a:lnTo>
                    <a:pt x="28" y="22"/>
                  </a:lnTo>
                  <a:lnTo>
                    <a:pt x="36" y="22"/>
                  </a:lnTo>
                  <a:lnTo>
                    <a:pt x="41" y="14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20"/>
                  </a:lnTo>
                  <a:lnTo>
                    <a:pt x="41" y="22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57" y="20"/>
                  </a:lnTo>
                  <a:lnTo>
                    <a:pt x="64" y="14"/>
                  </a:lnTo>
                  <a:lnTo>
                    <a:pt x="69" y="1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96240" y="1434600"/>
              <a:ext cx="31320" cy="6120"/>
            </a:xfrm>
            <a:custGeom>
              <a:avLst/>
              <a:gdLst/>
              <a:ahLst/>
              <a:rect l="l" t="t" r="r" b="b"/>
              <a:pathLst>
                <a:path w="86" h="18">
                  <a:moveTo>
                    <a:pt x="16" y="8"/>
                  </a:moveTo>
                  <a:lnTo>
                    <a:pt x="16" y="8"/>
                  </a:lnTo>
                  <a:lnTo>
                    <a:pt x="32" y="3"/>
                  </a:lnTo>
                  <a:lnTo>
                    <a:pt x="61" y="5"/>
                  </a:lnTo>
                  <a:lnTo>
                    <a:pt x="85" y="0"/>
                  </a:lnTo>
                  <a:lnTo>
                    <a:pt x="77" y="5"/>
                  </a:lnTo>
                  <a:lnTo>
                    <a:pt x="20" y="10"/>
                  </a:lnTo>
                  <a:lnTo>
                    <a:pt x="0" y="17"/>
                  </a:lnTo>
                  <a:lnTo>
                    <a:pt x="16" y="10"/>
                  </a:lnTo>
                  <a:lnTo>
                    <a:pt x="16" y="8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53440" y="1429920"/>
              <a:ext cx="698040" cy="250560"/>
            </a:xfrm>
            <a:custGeom>
              <a:avLst/>
              <a:gdLst/>
              <a:ahLst/>
              <a:rect l="l" t="t" r="r" b="b"/>
              <a:pathLst>
                <a:path w="1939" h="696">
                  <a:moveTo>
                    <a:pt x="748" y="543"/>
                  </a:moveTo>
                  <a:lnTo>
                    <a:pt x="723" y="536"/>
                  </a:lnTo>
                  <a:lnTo>
                    <a:pt x="699" y="538"/>
                  </a:lnTo>
                  <a:lnTo>
                    <a:pt x="687" y="523"/>
                  </a:lnTo>
                  <a:lnTo>
                    <a:pt x="651" y="518"/>
                  </a:lnTo>
                  <a:lnTo>
                    <a:pt x="655" y="513"/>
                  </a:lnTo>
                  <a:lnTo>
                    <a:pt x="659" y="511"/>
                  </a:lnTo>
                  <a:lnTo>
                    <a:pt x="667" y="503"/>
                  </a:lnTo>
                  <a:lnTo>
                    <a:pt x="667" y="501"/>
                  </a:lnTo>
                  <a:lnTo>
                    <a:pt x="659" y="506"/>
                  </a:lnTo>
                  <a:lnTo>
                    <a:pt x="651" y="511"/>
                  </a:lnTo>
                  <a:lnTo>
                    <a:pt x="646" y="511"/>
                  </a:lnTo>
                  <a:lnTo>
                    <a:pt x="631" y="508"/>
                  </a:lnTo>
                  <a:lnTo>
                    <a:pt x="611" y="508"/>
                  </a:lnTo>
                  <a:lnTo>
                    <a:pt x="599" y="506"/>
                  </a:lnTo>
                  <a:lnTo>
                    <a:pt x="583" y="506"/>
                  </a:lnTo>
                  <a:lnTo>
                    <a:pt x="561" y="503"/>
                  </a:lnTo>
                  <a:lnTo>
                    <a:pt x="545" y="503"/>
                  </a:lnTo>
                  <a:lnTo>
                    <a:pt x="526" y="501"/>
                  </a:lnTo>
                  <a:lnTo>
                    <a:pt x="505" y="499"/>
                  </a:lnTo>
                  <a:lnTo>
                    <a:pt x="498" y="499"/>
                  </a:lnTo>
                  <a:lnTo>
                    <a:pt x="481" y="496"/>
                  </a:lnTo>
                  <a:lnTo>
                    <a:pt x="460" y="496"/>
                  </a:lnTo>
                  <a:lnTo>
                    <a:pt x="445" y="494"/>
                  </a:lnTo>
                  <a:lnTo>
                    <a:pt x="437" y="494"/>
                  </a:lnTo>
                  <a:lnTo>
                    <a:pt x="417" y="491"/>
                  </a:lnTo>
                  <a:lnTo>
                    <a:pt x="400" y="491"/>
                  </a:lnTo>
                  <a:lnTo>
                    <a:pt x="380" y="489"/>
                  </a:lnTo>
                  <a:lnTo>
                    <a:pt x="365" y="487"/>
                  </a:lnTo>
                  <a:lnTo>
                    <a:pt x="344" y="487"/>
                  </a:lnTo>
                  <a:lnTo>
                    <a:pt x="328" y="484"/>
                  </a:lnTo>
                  <a:lnTo>
                    <a:pt x="307" y="481"/>
                  </a:lnTo>
                  <a:lnTo>
                    <a:pt x="296" y="481"/>
                  </a:lnTo>
                  <a:lnTo>
                    <a:pt x="280" y="479"/>
                  </a:lnTo>
                  <a:lnTo>
                    <a:pt x="259" y="476"/>
                  </a:lnTo>
                  <a:lnTo>
                    <a:pt x="243" y="476"/>
                  </a:lnTo>
                  <a:lnTo>
                    <a:pt x="226" y="474"/>
                  </a:lnTo>
                  <a:lnTo>
                    <a:pt x="207" y="471"/>
                  </a:lnTo>
                  <a:lnTo>
                    <a:pt x="203" y="471"/>
                  </a:lnTo>
                  <a:lnTo>
                    <a:pt x="187" y="469"/>
                  </a:lnTo>
                  <a:lnTo>
                    <a:pt x="166" y="469"/>
                  </a:lnTo>
                  <a:lnTo>
                    <a:pt x="158" y="467"/>
                  </a:lnTo>
                  <a:lnTo>
                    <a:pt x="142" y="467"/>
                  </a:lnTo>
                  <a:lnTo>
                    <a:pt x="134" y="464"/>
                  </a:lnTo>
                  <a:lnTo>
                    <a:pt x="122" y="464"/>
                  </a:lnTo>
                  <a:lnTo>
                    <a:pt x="118" y="464"/>
                  </a:lnTo>
                  <a:lnTo>
                    <a:pt x="102" y="462"/>
                  </a:lnTo>
                  <a:lnTo>
                    <a:pt x="85" y="459"/>
                  </a:lnTo>
                  <a:lnTo>
                    <a:pt x="69" y="456"/>
                  </a:lnTo>
                  <a:lnTo>
                    <a:pt x="49" y="456"/>
                  </a:lnTo>
                  <a:lnTo>
                    <a:pt x="33" y="454"/>
                  </a:lnTo>
                  <a:lnTo>
                    <a:pt x="17" y="452"/>
                  </a:lnTo>
                  <a:lnTo>
                    <a:pt x="9" y="452"/>
                  </a:lnTo>
                  <a:lnTo>
                    <a:pt x="4" y="452"/>
                  </a:lnTo>
                  <a:lnTo>
                    <a:pt x="0" y="450"/>
                  </a:lnTo>
                  <a:lnTo>
                    <a:pt x="9" y="447"/>
                  </a:lnTo>
                  <a:lnTo>
                    <a:pt x="33" y="442"/>
                  </a:lnTo>
                  <a:lnTo>
                    <a:pt x="26" y="440"/>
                  </a:lnTo>
                  <a:lnTo>
                    <a:pt x="42" y="434"/>
                  </a:lnTo>
                  <a:lnTo>
                    <a:pt x="17" y="442"/>
                  </a:lnTo>
                  <a:lnTo>
                    <a:pt x="13" y="437"/>
                  </a:lnTo>
                  <a:lnTo>
                    <a:pt x="26" y="433"/>
                  </a:lnTo>
                  <a:lnTo>
                    <a:pt x="17" y="437"/>
                  </a:lnTo>
                  <a:lnTo>
                    <a:pt x="33" y="434"/>
                  </a:lnTo>
                  <a:lnTo>
                    <a:pt x="29" y="433"/>
                  </a:lnTo>
                  <a:lnTo>
                    <a:pt x="54" y="422"/>
                  </a:lnTo>
                  <a:lnTo>
                    <a:pt x="21" y="430"/>
                  </a:lnTo>
                  <a:lnTo>
                    <a:pt x="26" y="425"/>
                  </a:lnTo>
                  <a:lnTo>
                    <a:pt x="65" y="413"/>
                  </a:lnTo>
                  <a:lnTo>
                    <a:pt x="42" y="417"/>
                  </a:lnTo>
                  <a:lnTo>
                    <a:pt x="49" y="413"/>
                  </a:lnTo>
                  <a:lnTo>
                    <a:pt x="77" y="403"/>
                  </a:lnTo>
                  <a:lnTo>
                    <a:pt x="42" y="413"/>
                  </a:lnTo>
                  <a:lnTo>
                    <a:pt x="38" y="410"/>
                  </a:lnTo>
                  <a:lnTo>
                    <a:pt x="54" y="405"/>
                  </a:lnTo>
                  <a:lnTo>
                    <a:pt x="33" y="413"/>
                  </a:lnTo>
                  <a:lnTo>
                    <a:pt x="26" y="407"/>
                  </a:lnTo>
                  <a:lnTo>
                    <a:pt x="42" y="407"/>
                  </a:lnTo>
                  <a:lnTo>
                    <a:pt x="54" y="405"/>
                  </a:lnTo>
                  <a:lnTo>
                    <a:pt x="73" y="398"/>
                  </a:lnTo>
                  <a:lnTo>
                    <a:pt x="54" y="405"/>
                  </a:lnTo>
                  <a:lnTo>
                    <a:pt x="38" y="405"/>
                  </a:lnTo>
                  <a:lnTo>
                    <a:pt x="38" y="400"/>
                  </a:lnTo>
                  <a:lnTo>
                    <a:pt x="54" y="400"/>
                  </a:lnTo>
                  <a:lnTo>
                    <a:pt x="54" y="396"/>
                  </a:lnTo>
                  <a:lnTo>
                    <a:pt x="29" y="400"/>
                  </a:lnTo>
                  <a:lnTo>
                    <a:pt x="33" y="391"/>
                  </a:lnTo>
                  <a:lnTo>
                    <a:pt x="58" y="388"/>
                  </a:lnTo>
                  <a:lnTo>
                    <a:pt x="46" y="386"/>
                  </a:lnTo>
                  <a:lnTo>
                    <a:pt x="69" y="380"/>
                  </a:lnTo>
                  <a:lnTo>
                    <a:pt x="89" y="380"/>
                  </a:lnTo>
                  <a:lnTo>
                    <a:pt x="73" y="380"/>
                  </a:lnTo>
                  <a:lnTo>
                    <a:pt x="85" y="376"/>
                  </a:lnTo>
                  <a:lnTo>
                    <a:pt x="69" y="378"/>
                  </a:lnTo>
                  <a:lnTo>
                    <a:pt x="54" y="383"/>
                  </a:lnTo>
                  <a:lnTo>
                    <a:pt x="65" y="378"/>
                  </a:lnTo>
                  <a:lnTo>
                    <a:pt x="85" y="373"/>
                  </a:lnTo>
                  <a:lnTo>
                    <a:pt x="118" y="366"/>
                  </a:lnTo>
                  <a:lnTo>
                    <a:pt x="110" y="376"/>
                  </a:lnTo>
                  <a:lnTo>
                    <a:pt x="130" y="366"/>
                  </a:lnTo>
                  <a:lnTo>
                    <a:pt x="122" y="366"/>
                  </a:lnTo>
                  <a:lnTo>
                    <a:pt x="122" y="363"/>
                  </a:lnTo>
                  <a:lnTo>
                    <a:pt x="158" y="354"/>
                  </a:lnTo>
                  <a:lnTo>
                    <a:pt x="127" y="363"/>
                  </a:lnTo>
                  <a:lnTo>
                    <a:pt x="110" y="366"/>
                  </a:lnTo>
                  <a:lnTo>
                    <a:pt x="102" y="366"/>
                  </a:lnTo>
                  <a:lnTo>
                    <a:pt x="118" y="361"/>
                  </a:lnTo>
                  <a:lnTo>
                    <a:pt x="102" y="363"/>
                  </a:lnTo>
                  <a:lnTo>
                    <a:pt x="122" y="358"/>
                  </a:lnTo>
                  <a:lnTo>
                    <a:pt x="102" y="361"/>
                  </a:lnTo>
                  <a:lnTo>
                    <a:pt x="142" y="351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46" y="344"/>
                  </a:lnTo>
                  <a:lnTo>
                    <a:pt x="150" y="341"/>
                  </a:lnTo>
                  <a:lnTo>
                    <a:pt x="166" y="334"/>
                  </a:lnTo>
                  <a:lnTo>
                    <a:pt x="166" y="344"/>
                  </a:lnTo>
                  <a:lnTo>
                    <a:pt x="170" y="334"/>
                  </a:lnTo>
                  <a:lnTo>
                    <a:pt x="203" y="324"/>
                  </a:lnTo>
                  <a:lnTo>
                    <a:pt x="146" y="336"/>
                  </a:lnTo>
                  <a:lnTo>
                    <a:pt x="146" y="336"/>
                  </a:lnTo>
                  <a:lnTo>
                    <a:pt x="158" y="329"/>
                  </a:lnTo>
                  <a:lnTo>
                    <a:pt x="166" y="324"/>
                  </a:lnTo>
                  <a:lnTo>
                    <a:pt x="183" y="319"/>
                  </a:lnTo>
                  <a:lnTo>
                    <a:pt x="187" y="319"/>
                  </a:lnTo>
                  <a:lnTo>
                    <a:pt x="199" y="319"/>
                  </a:lnTo>
                  <a:lnTo>
                    <a:pt x="190" y="314"/>
                  </a:lnTo>
                  <a:lnTo>
                    <a:pt x="211" y="307"/>
                  </a:lnTo>
                  <a:lnTo>
                    <a:pt x="199" y="314"/>
                  </a:lnTo>
                  <a:lnTo>
                    <a:pt x="215" y="307"/>
                  </a:lnTo>
                  <a:lnTo>
                    <a:pt x="231" y="305"/>
                  </a:lnTo>
                  <a:lnTo>
                    <a:pt x="247" y="302"/>
                  </a:lnTo>
                  <a:lnTo>
                    <a:pt x="243" y="300"/>
                  </a:lnTo>
                  <a:lnTo>
                    <a:pt x="284" y="292"/>
                  </a:lnTo>
                  <a:lnTo>
                    <a:pt x="288" y="287"/>
                  </a:lnTo>
                  <a:lnTo>
                    <a:pt x="243" y="300"/>
                  </a:lnTo>
                  <a:lnTo>
                    <a:pt x="303" y="282"/>
                  </a:lnTo>
                  <a:lnTo>
                    <a:pt x="320" y="263"/>
                  </a:lnTo>
                  <a:lnTo>
                    <a:pt x="429" y="221"/>
                  </a:lnTo>
                  <a:lnTo>
                    <a:pt x="498" y="189"/>
                  </a:lnTo>
                  <a:lnTo>
                    <a:pt x="433" y="199"/>
                  </a:lnTo>
                  <a:lnTo>
                    <a:pt x="400" y="201"/>
                  </a:lnTo>
                  <a:lnTo>
                    <a:pt x="465" y="174"/>
                  </a:lnTo>
                  <a:lnTo>
                    <a:pt x="469" y="174"/>
                  </a:lnTo>
                  <a:lnTo>
                    <a:pt x="489" y="169"/>
                  </a:lnTo>
                  <a:lnTo>
                    <a:pt x="460" y="164"/>
                  </a:lnTo>
                  <a:lnTo>
                    <a:pt x="498" y="155"/>
                  </a:lnTo>
                  <a:lnTo>
                    <a:pt x="538" y="145"/>
                  </a:lnTo>
                  <a:lnTo>
                    <a:pt x="578" y="137"/>
                  </a:lnTo>
                  <a:lnTo>
                    <a:pt x="618" y="127"/>
                  </a:lnTo>
                  <a:lnTo>
                    <a:pt x="659" y="117"/>
                  </a:lnTo>
                  <a:lnTo>
                    <a:pt x="699" y="108"/>
                  </a:lnTo>
                  <a:lnTo>
                    <a:pt x="740" y="100"/>
                  </a:lnTo>
                  <a:lnTo>
                    <a:pt x="783" y="91"/>
                  </a:lnTo>
                  <a:lnTo>
                    <a:pt x="821" y="83"/>
                  </a:lnTo>
                  <a:lnTo>
                    <a:pt x="824" y="83"/>
                  </a:lnTo>
                  <a:lnTo>
                    <a:pt x="868" y="73"/>
                  </a:lnTo>
                  <a:lnTo>
                    <a:pt x="909" y="64"/>
                  </a:lnTo>
                  <a:lnTo>
                    <a:pt x="954" y="56"/>
                  </a:lnTo>
                  <a:lnTo>
                    <a:pt x="994" y="49"/>
                  </a:lnTo>
                  <a:lnTo>
                    <a:pt x="1039" y="39"/>
                  </a:lnTo>
                  <a:lnTo>
                    <a:pt x="1083" y="31"/>
                  </a:lnTo>
                  <a:lnTo>
                    <a:pt x="1127" y="24"/>
                  </a:lnTo>
                  <a:lnTo>
                    <a:pt x="1171" y="14"/>
                  </a:lnTo>
                  <a:lnTo>
                    <a:pt x="1216" y="7"/>
                  </a:lnTo>
                  <a:lnTo>
                    <a:pt x="1252" y="0"/>
                  </a:lnTo>
                  <a:lnTo>
                    <a:pt x="1228" y="22"/>
                  </a:lnTo>
                  <a:lnTo>
                    <a:pt x="1216" y="29"/>
                  </a:lnTo>
                  <a:lnTo>
                    <a:pt x="1232" y="24"/>
                  </a:lnTo>
                  <a:lnTo>
                    <a:pt x="1228" y="31"/>
                  </a:lnTo>
                  <a:lnTo>
                    <a:pt x="1232" y="31"/>
                  </a:lnTo>
                  <a:lnTo>
                    <a:pt x="1244" y="26"/>
                  </a:lnTo>
                  <a:lnTo>
                    <a:pt x="1309" y="22"/>
                  </a:lnTo>
                  <a:lnTo>
                    <a:pt x="1410" y="14"/>
                  </a:lnTo>
                  <a:lnTo>
                    <a:pt x="1390" y="19"/>
                  </a:lnTo>
                  <a:lnTo>
                    <a:pt x="1256" y="29"/>
                  </a:lnTo>
                  <a:lnTo>
                    <a:pt x="1241" y="34"/>
                  </a:lnTo>
                  <a:lnTo>
                    <a:pt x="1252" y="31"/>
                  </a:lnTo>
                  <a:lnTo>
                    <a:pt x="1264" y="31"/>
                  </a:lnTo>
                  <a:lnTo>
                    <a:pt x="1277" y="29"/>
                  </a:lnTo>
                  <a:lnTo>
                    <a:pt x="1321" y="24"/>
                  </a:lnTo>
                  <a:lnTo>
                    <a:pt x="1313" y="26"/>
                  </a:lnTo>
                  <a:lnTo>
                    <a:pt x="1337" y="24"/>
                  </a:lnTo>
                  <a:lnTo>
                    <a:pt x="1317" y="26"/>
                  </a:lnTo>
                  <a:lnTo>
                    <a:pt x="1341" y="22"/>
                  </a:lnTo>
                  <a:lnTo>
                    <a:pt x="1321" y="26"/>
                  </a:lnTo>
                  <a:lnTo>
                    <a:pt x="1353" y="22"/>
                  </a:lnTo>
                  <a:lnTo>
                    <a:pt x="1390" y="22"/>
                  </a:lnTo>
                  <a:lnTo>
                    <a:pt x="1369" y="26"/>
                  </a:lnTo>
                  <a:lnTo>
                    <a:pt x="1426" y="19"/>
                  </a:lnTo>
                  <a:lnTo>
                    <a:pt x="1450" y="14"/>
                  </a:lnTo>
                  <a:lnTo>
                    <a:pt x="1374" y="39"/>
                  </a:lnTo>
                  <a:lnTo>
                    <a:pt x="1438" y="29"/>
                  </a:lnTo>
                  <a:lnTo>
                    <a:pt x="1450" y="26"/>
                  </a:lnTo>
                  <a:lnTo>
                    <a:pt x="1390" y="41"/>
                  </a:lnTo>
                  <a:lnTo>
                    <a:pt x="1405" y="41"/>
                  </a:lnTo>
                  <a:lnTo>
                    <a:pt x="1442" y="36"/>
                  </a:lnTo>
                  <a:lnTo>
                    <a:pt x="1434" y="64"/>
                  </a:lnTo>
                  <a:lnTo>
                    <a:pt x="1458" y="68"/>
                  </a:lnTo>
                  <a:lnTo>
                    <a:pt x="1434" y="78"/>
                  </a:lnTo>
                  <a:lnTo>
                    <a:pt x="1402" y="78"/>
                  </a:lnTo>
                  <a:lnTo>
                    <a:pt x="1378" y="85"/>
                  </a:lnTo>
                  <a:lnTo>
                    <a:pt x="1422" y="93"/>
                  </a:lnTo>
                  <a:lnTo>
                    <a:pt x="1454" y="91"/>
                  </a:lnTo>
                  <a:lnTo>
                    <a:pt x="1426" y="105"/>
                  </a:lnTo>
                  <a:lnTo>
                    <a:pt x="1446" y="100"/>
                  </a:lnTo>
                  <a:lnTo>
                    <a:pt x="1434" y="108"/>
                  </a:lnTo>
                  <a:lnTo>
                    <a:pt x="1417" y="113"/>
                  </a:lnTo>
                  <a:lnTo>
                    <a:pt x="1410" y="113"/>
                  </a:lnTo>
                  <a:lnTo>
                    <a:pt x="1381" y="127"/>
                  </a:lnTo>
                  <a:lnTo>
                    <a:pt x="1426" y="113"/>
                  </a:lnTo>
                  <a:lnTo>
                    <a:pt x="1413" y="117"/>
                  </a:lnTo>
                  <a:lnTo>
                    <a:pt x="1490" y="93"/>
                  </a:lnTo>
                  <a:lnTo>
                    <a:pt x="1515" y="95"/>
                  </a:lnTo>
                  <a:lnTo>
                    <a:pt x="1560" y="88"/>
                  </a:lnTo>
                  <a:lnTo>
                    <a:pt x="1523" y="93"/>
                  </a:lnTo>
                  <a:lnTo>
                    <a:pt x="1506" y="91"/>
                  </a:lnTo>
                  <a:lnTo>
                    <a:pt x="1490" y="91"/>
                  </a:lnTo>
                  <a:lnTo>
                    <a:pt x="1518" y="83"/>
                  </a:lnTo>
                  <a:lnTo>
                    <a:pt x="1571" y="80"/>
                  </a:lnTo>
                  <a:lnTo>
                    <a:pt x="1531" y="100"/>
                  </a:lnTo>
                  <a:lnTo>
                    <a:pt x="1539" y="111"/>
                  </a:lnTo>
                  <a:lnTo>
                    <a:pt x="1587" y="117"/>
                  </a:lnTo>
                  <a:lnTo>
                    <a:pt x="1600" y="115"/>
                  </a:lnTo>
                  <a:lnTo>
                    <a:pt x="1616" y="111"/>
                  </a:lnTo>
                  <a:lnTo>
                    <a:pt x="1608" y="120"/>
                  </a:lnTo>
                  <a:lnTo>
                    <a:pt x="1624" y="115"/>
                  </a:lnTo>
                  <a:lnTo>
                    <a:pt x="1619" y="111"/>
                  </a:lnTo>
                  <a:lnTo>
                    <a:pt x="1632" y="105"/>
                  </a:lnTo>
                  <a:lnTo>
                    <a:pt x="1644" y="105"/>
                  </a:lnTo>
                  <a:lnTo>
                    <a:pt x="1655" y="103"/>
                  </a:lnTo>
                  <a:lnTo>
                    <a:pt x="1660" y="111"/>
                  </a:lnTo>
                  <a:lnTo>
                    <a:pt x="1636" y="115"/>
                  </a:lnTo>
                  <a:lnTo>
                    <a:pt x="1668" y="111"/>
                  </a:lnTo>
                  <a:lnTo>
                    <a:pt x="1628" y="120"/>
                  </a:lnTo>
                  <a:lnTo>
                    <a:pt x="1596" y="130"/>
                  </a:lnTo>
                  <a:lnTo>
                    <a:pt x="1596" y="135"/>
                  </a:lnTo>
                  <a:lnTo>
                    <a:pt x="1579" y="132"/>
                  </a:lnTo>
                  <a:lnTo>
                    <a:pt x="1563" y="142"/>
                  </a:lnTo>
                  <a:lnTo>
                    <a:pt x="1579" y="135"/>
                  </a:lnTo>
                  <a:lnTo>
                    <a:pt x="1596" y="137"/>
                  </a:lnTo>
                  <a:lnTo>
                    <a:pt x="1632" y="122"/>
                  </a:lnTo>
                  <a:lnTo>
                    <a:pt x="1660" y="115"/>
                  </a:lnTo>
                  <a:lnTo>
                    <a:pt x="1668" y="117"/>
                  </a:lnTo>
                  <a:lnTo>
                    <a:pt x="1724" y="108"/>
                  </a:lnTo>
                  <a:lnTo>
                    <a:pt x="1745" y="100"/>
                  </a:lnTo>
                  <a:lnTo>
                    <a:pt x="1713" y="103"/>
                  </a:lnTo>
                  <a:lnTo>
                    <a:pt x="1753" y="93"/>
                  </a:lnTo>
                  <a:lnTo>
                    <a:pt x="1773" y="93"/>
                  </a:lnTo>
                  <a:lnTo>
                    <a:pt x="1761" y="83"/>
                  </a:lnTo>
                  <a:lnTo>
                    <a:pt x="1777" y="76"/>
                  </a:lnTo>
                  <a:lnTo>
                    <a:pt x="1809" y="71"/>
                  </a:lnTo>
                  <a:lnTo>
                    <a:pt x="1818" y="64"/>
                  </a:lnTo>
                  <a:lnTo>
                    <a:pt x="1850" y="56"/>
                  </a:lnTo>
                  <a:lnTo>
                    <a:pt x="1862" y="56"/>
                  </a:lnTo>
                  <a:lnTo>
                    <a:pt x="1881" y="51"/>
                  </a:lnTo>
                  <a:lnTo>
                    <a:pt x="1910" y="49"/>
                  </a:lnTo>
                  <a:lnTo>
                    <a:pt x="1922" y="46"/>
                  </a:lnTo>
                  <a:lnTo>
                    <a:pt x="1914" y="51"/>
                  </a:lnTo>
                  <a:lnTo>
                    <a:pt x="1866" y="68"/>
                  </a:lnTo>
                  <a:lnTo>
                    <a:pt x="1841" y="83"/>
                  </a:lnTo>
                  <a:lnTo>
                    <a:pt x="1830" y="80"/>
                  </a:lnTo>
                  <a:lnTo>
                    <a:pt x="1830" y="85"/>
                  </a:lnTo>
                  <a:lnTo>
                    <a:pt x="1793" y="91"/>
                  </a:lnTo>
                  <a:lnTo>
                    <a:pt x="1798" y="95"/>
                  </a:lnTo>
                  <a:lnTo>
                    <a:pt x="1801" y="95"/>
                  </a:lnTo>
                  <a:lnTo>
                    <a:pt x="1818" y="98"/>
                  </a:lnTo>
                  <a:lnTo>
                    <a:pt x="1793" y="98"/>
                  </a:lnTo>
                  <a:lnTo>
                    <a:pt x="1745" y="120"/>
                  </a:lnTo>
                  <a:lnTo>
                    <a:pt x="1821" y="103"/>
                  </a:lnTo>
                  <a:lnTo>
                    <a:pt x="1789" y="120"/>
                  </a:lnTo>
                  <a:lnTo>
                    <a:pt x="1773" y="122"/>
                  </a:lnTo>
                  <a:lnTo>
                    <a:pt x="1749" y="132"/>
                  </a:lnTo>
                  <a:lnTo>
                    <a:pt x="1720" y="145"/>
                  </a:lnTo>
                  <a:lnTo>
                    <a:pt x="1733" y="142"/>
                  </a:lnTo>
                  <a:lnTo>
                    <a:pt x="1838" y="117"/>
                  </a:lnTo>
                  <a:lnTo>
                    <a:pt x="1854" y="117"/>
                  </a:lnTo>
                  <a:lnTo>
                    <a:pt x="1858" y="115"/>
                  </a:lnTo>
                  <a:lnTo>
                    <a:pt x="1870" y="113"/>
                  </a:lnTo>
                  <a:lnTo>
                    <a:pt x="1874" y="108"/>
                  </a:lnTo>
                  <a:lnTo>
                    <a:pt x="1906" y="95"/>
                  </a:lnTo>
                  <a:lnTo>
                    <a:pt x="1938" y="105"/>
                  </a:lnTo>
                  <a:lnTo>
                    <a:pt x="1919" y="105"/>
                  </a:lnTo>
                  <a:lnTo>
                    <a:pt x="1926" y="115"/>
                  </a:lnTo>
                  <a:lnTo>
                    <a:pt x="1898" y="120"/>
                  </a:lnTo>
                  <a:lnTo>
                    <a:pt x="1898" y="125"/>
                  </a:lnTo>
                  <a:lnTo>
                    <a:pt x="1866" y="127"/>
                  </a:lnTo>
                  <a:lnTo>
                    <a:pt x="1838" y="147"/>
                  </a:lnTo>
                  <a:lnTo>
                    <a:pt x="1809" y="157"/>
                  </a:lnTo>
                  <a:lnTo>
                    <a:pt x="1740" y="167"/>
                  </a:lnTo>
                  <a:lnTo>
                    <a:pt x="1765" y="155"/>
                  </a:lnTo>
                  <a:lnTo>
                    <a:pt x="1749" y="157"/>
                  </a:lnTo>
                  <a:lnTo>
                    <a:pt x="1761" y="152"/>
                  </a:lnTo>
                  <a:lnTo>
                    <a:pt x="1745" y="152"/>
                  </a:lnTo>
                  <a:lnTo>
                    <a:pt x="1753" y="155"/>
                  </a:lnTo>
                  <a:lnTo>
                    <a:pt x="1728" y="169"/>
                  </a:lnTo>
                  <a:lnTo>
                    <a:pt x="1728" y="164"/>
                  </a:lnTo>
                  <a:lnTo>
                    <a:pt x="1717" y="169"/>
                  </a:lnTo>
                  <a:lnTo>
                    <a:pt x="1709" y="164"/>
                  </a:lnTo>
                  <a:lnTo>
                    <a:pt x="1720" y="159"/>
                  </a:lnTo>
                  <a:lnTo>
                    <a:pt x="1701" y="157"/>
                  </a:lnTo>
                  <a:lnTo>
                    <a:pt x="1688" y="162"/>
                  </a:lnTo>
                  <a:lnTo>
                    <a:pt x="1684" y="169"/>
                  </a:lnTo>
                  <a:lnTo>
                    <a:pt x="1619" y="179"/>
                  </a:lnTo>
                  <a:lnTo>
                    <a:pt x="1619" y="164"/>
                  </a:lnTo>
                  <a:lnTo>
                    <a:pt x="1591" y="162"/>
                  </a:lnTo>
                  <a:lnTo>
                    <a:pt x="1608" y="167"/>
                  </a:lnTo>
                  <a:lnTo>
                    <a:pt x="1596" y="176"/>
                  </a:lnTo>
                  <a:lnTo>
                    <a:pt x="1624" y="181"/>
                  </a:lnTo>
                  <a:lnTo>
                    <a:pt x="1551" y="201"/>
                  </a:lnTo>
                  <a:lnTo>
                    <a:pt x="1527" y="204"/>
                  </a:lnTo>
                  <a:lnTo>
                    <a:pt x="1527" y="199"/>
                  </a:lnTo>
                  <a:lnTo>
                    <a:pt x="1518" y="204"/>
                  </a:lnTo>
                  <a:lnTo>
                    <a:pt x="1515" y="199"/>
                  </a:lnTo>
                  <a:lnTo>
                    <a:pt x="1482" y="209"/>
                  </a:lnTo>
                  <a:lnTo>
                    <a:pt x="1466" y="209"/>
                  </a:lnTo>
                  <a:lnTo>
                    <a:pt x="1450" y="192"/>
                  </a:lnTo>
                  <a:lnTo>
                    <a:pt x="1438" y="199"/>
                  </a:lnTo>
                  <a:lnTo>
                    <a:pt x="1454" y="204"/>
                  </a:lnTo>
                  <a:lnTo>
                    <a:pt x="1438" y="206"/>
                  </a:lnTo>
                  <a:lnTo>
                    <a:pt x="1458" y="204"/>
                  </a:lnTo>
                  <a:lnTo>
                    <a:pt x="1442" y="218"/>
                  </a:lnTo>
                  <a:lnTo>
                    <a:pt x="1413" y="223"/>
                  </a:lnTo>
                  <a:lnTo>
                    <a:pt x="1398" y="221"/>
                  </a:lnTo>
                  <a:lnTo>
                    <a:pt x="1398" y="226"/>
                  </a:lnTo>
                  <a:lnTo>
                    <a:pt x="1381" y="226"/>
                  </a:lnTo>
                  <a:lnTo>
                    <a:pt x="1362" y="235"/>
                  </a:lnTo>
                  <a:lnTo>
                    <a:pt x="1357" y="228"/>
                  </a:lnTo>
                  <a:lnTo>
                    <a:pt x="1357" y="233"/>
                  </a:lnTo>
                  <a:lnTo>
                    <a:pt x="1329" y="235"/>
                  </a:lnTo>
                  <a:lnTo>
                    <a:pt x="1326" y="241"/>
                  </a:lnTo>
                  <a:lnTo>
                    <a:pt x="1228" y="263"/>
                  </a:lnTo>
                  <a:lnTo>
                    <a:pt x="1200" y="275"/>
                  </a:lnTo>
                  <a:lnTo>
                    <a:pt x="1143" y="292"/>
                  </a:lnTo>
                  <a:lnTo>
                    <a:pt x="1147" y="300"/>
                  </a:lnTo>
                  <a:lnTo>
                    <a:pt x="1127" y="307"/>
                  </a:lnTo>
                  <a:lnTo>
                    <a:pt x="1147" y="300"/>
                  </a:lnTo>
                  <a:lnTo>
                    <a:pt x="1164" y="302"/>
                  </a:lnTo>
                  <a:lnTo>
                    <a:pt x="1152" y="309"/>
                  </a:lnTo>
                  <a:lnTo>
                    <a:pt x="1107" y="334"/>
                  </a:lnTo>
                  <a:lnTo>
                    <a:pt x="1075" y="341"/>
                  </a:lnTo>
                  <a:lnTo>
                    <a:pt x="1135" y="336"/>
                  </a:lnTo>
                  <a:lnTo>
                    <a:pt x="1156" y="349"/>
                  </a:lnTo>
                  <a:lnTo>
                    <a:pt x="1160" y="351"/>
                  </a:lnTo>
                  <a:lnTo>
                    <a:pt x="1143" y="371"/>
                  </a:lnTo>
                  <a:lnTo>
                    <a:pt x="1167" y="388"/>
                  </a:lnTo>
                  <a:lnTo>
                    <a:pt x="1147" y="396"/>
                  </a:lnTo>
                  <a:lnTo>
                    <a:pt x="1171" y="388"/>
                  </a:lnTo>
                  <a:lnTo>
                    <a:pt x="1224" y="398"/>
                  </a:lnTo>
                  <a:lnTo>
                    <a:pt x="1131" y="445"/>
                  </a:lnTo>
                  <a:lnTo>
                    <a:pt x="1123" y="459"/>
                  </a:lnTo>
                  <a:lnTo>
                    <a:pt x="1111" y="462"/>
                  </a:lnTo>
                  <a:lnTo>
                    <a:pt x="1123" y="474"/>
                  </a:lnTo>
                  <a:lnTo>
                    <a:pt x="1111" y="481"/>
                  </a:lnTo>
                  <a:lnTo>
                    <a:pt x="1083" y="489"/>
                  </a:lnTo>
                  <a:lnTo>
                    <a:pt x="1111" y="484"/>
                  </a:lnTo>
                  <a:lnTo>
                    <a:pt x="1119" y="491"/>
                  </a:lnTo>
                  <a:lnTo>
                    <a:pt x="1131" y="481"/>
                  </a:lnTo>
                  <a:lnTo>
                    <a:pt x="1140" y="481"/>
                  </a:lnTo>
                  <a:lnTo>
                    <a:pt x="1152" y="476"/>
                  </a:lnTo>
                  <a:lnTo>
                    <a:pt x="1143" y="489"/>
                  </a:lnTo>
                  <a:lnTo>
                    <a:pt x="1160" y="481"/>
                  </a:lnTo>
                  <a:lnTo>
                    <a:pt x="1164" y="474"/>
                  </a:lnTo>
                  <a:lnTo>
                    <a:pt x="1196" y="467"/>
                  </a:lnTo>
                  <a:lnTo>
                    <a:pt x="1212" y="447"/>
                  </a:lnTo>
                  <a:lnTo>
                    <a:pt x="1248" y="430"/>
                  </a:lnTo>
                  <a:lnTo>
                    <a:pt x="1256" y="422"/>
                  </a:lnTo>
                  <a:lnTo>
                    <a:pt x="1261" y="410"/>
                  </a:lnTo>
                  <a:lnTo>
                    <a:pt x="1362" y="393"/>
                  </a:lnTo>
                  <a:lnTo>
                    <a:pt x="1402" y="380"/>
                  </a:lnTo>
                  <a:lnTo>
                    <a:pt x="1438" y="361"/>
                  </a:lnTo>
                  <a:lnTo>
                    <a:pt x="1463" y="344"/>
                  </a:lnTo>
                  <a:lnTo>
                    <a:pt x="1458" y="329"/>
                  </a:lnTo>
                  <a:lnTo>
                    <a:pt x="1470" y="321"/>
                  </a:lnTo>
                  <a:lnTo>
                    <a:pt x="1523" y="307"/>
                  </a:lnTo>
                  <a:lnTo>
                    <a:pt x="1547" y="302"/>
                  </a:lnTo>
                  <a:lnTo>
                    <a:pt x="1539" y="300"/>
                  </a:lnTo>
                  <a:lnTo>
                    <a:pt x="1567" y="290"/>
                  </a:lnTo>
                  <a:lnTo>
                    <a:pt x="1574" y="284"/>
                  </a:lnTo>
                  <a:lnTo>
                    <a:pt x="1563" y="284"/>
                  </a:lnTo>
                  <a:lnTo>
                    <a:pt x="1612" y="270"/>
                  </a:lnTo>
                  <a:lnTo>
                    <a:pt x="1608" y="265"/>
                  </a:lnTo>
                  <a:lnTo>
                    <a:pt x="1636" y="253"/>
                  </a:lnTo>
                  <a:lnTo>
                    <a:pt x="1660" y="248"/>
                  </a:lnTo>
                  <a:lnTo>
                    <a:pt x="1680" y="258"/>
                  </a:lnTo>
                  <a:lnTo>
                    <a:pt x="1668" y="260"/>
                  </a:lnTo>
                  <a:lnTo>
                    <a:pt x="1692" y="260"/>
                  </a:lnTo>
                  <a:lnTo>
                    <a:pt x="1724" y="255"/>
                  </a:lnTo>
                  <a:lnTo>
                    <a:pt x="1724" y="260"/>
                  </a:lnTo>
                  <a:lnTo>
                    <a:pt x="1728" y="265"/>
                  </a:lnTo>
                  <a:lnTo>
                    <a:pt x="1713" y="270"/>
                  </a:lnTo>
                  <a:lnTo>
                    <a:pt x="1724" y="272"/>
                  </a:lnTo>
                  <a:lnTo>
                    <a:pt x="1713" y="277"/>
                  </a:lnTo>
                  <a:lnTo>
                    <a:pt x="1728" y="277"/>
                  </a:lnTo>
                  <a:lnTo>
                    <a:pt x="1709" y="284"/>
                  </a:lnTo>
                  <a:lnTo>
                    <a:pt x="1737" y="290"/>
                  </a:lnTo>
                  <a:lnTo>
                    <a:pt x="1745" y="290"/>
                  </a:lnTo>
                  <a:lnTo>
                    <a:pt x="1745" y="295"/>
                  </a:lnTo>
                  <a:lnTo>
                    <a:pt x="1704" y="311"/>
                  </a:lnTo>
                  <a:lnTo>
                    <a:pt x="1676" y="309"/>
                  </a:lnTo>
                  <a:lnTo>
                    <a:pt x="1701" y="311"/>
                  </a:lnTo>
                  <a:lnTo>
                    <a:pt x="1672" y="327"/>
                  </a:lnTo>
                  <a:lnTo>
                    <a:pt x="1684" y="327"/>
                  </a:lnTo>
                  <a:lnTo>
                    <a:pt x="1655" y="336"/>
                  </a:lnTo>
                  <a:lnTo>
                    <a:pt x="1660" y="331"/>
                  </a:lnTo>
                  <a:lnTo>
                    <a:pt x="1640" y="336"/>
                  </a:lnTo>
                  <a:lnTo>
                    <a:pt x="1644" y="341"/>
                  </a:lnTo>
                  <a:lnTo>
                    <a:pt x="1668" y="336"/>
                  </a:lnTo>
                  <a:lnTo>
                    <a:pt x="1680" y="339"/>
                  </a:lnTo>
                  <a:lnTo>
                    <a:pt x="1676" y="344"/>
                  </a:lnTo>
                  <a:lnTo>
                    <a:pt x="1652" y="354"/>
                  </a:lnTo>
                  <a:lnTo>
                    <a:pt x="1619" y="358"/>
                  </a:lnTo>
                  <a:lnTo>
                    <a:pt x="1652" y="354"/>
                  </a:lnTo>
                  <a:lnTo>
                    <a:pt x="1680" y="344"/>
                  </a:lnTo>
                  <a:lnTo>
                    <a:pt x="1660" y="354"/>
                  </a:lnTo>
                  <a:lnTo>
                    <a:pt x="1680" y="346"/>
                  </a:lnTo>
                  <a:lnTo>
                    <a:pt x="1664" y="358"/>
                  </a:lnTo>
                  <a:lnTo>
                    <a:pt x="1724" y="341"/>
                  </a:lnTo>
                  <a:lnTo>
                    <a:pt x="1713" y="351"/>
                  </a:lnTo>
                  <a:lnTo>
                    <a:pt x="1745" y="336"/>
                  </a:lnTo>
                  <a:lnTo>
                    <a:pt x="1757" y="336"/>
                  </a:lnTo>
                  <a:lnTo>
                    <a:pt x="1753" y="334"/>
                  </a:lnTo>
                  <a:lnTo>
                    <a:pt x="1769" y="329"/>
                  </a:lnTo>
                  <a:lnTo>
                    <a:pt x="1777" y="331"/>
                  </a:lnTo>
                  <a:lnTo>
                    <a:pt x="1777" y="321"/>
                  </a:lnTo>
                  <a:lnTo>
                    <a:pt x="1789" y="321"/>
                  </a:lnTo>
                  <a:lnTo>
                    <a:pt x="1818" y="309"/>
                  </a:lnTo>
                  <a:lnTo>
                    <a:pt x="1821" y="311"/>
                  </a:lnTo>
                  <a:lnTo>
                    <a:pt x="1821" y="314"/>
                  </a:lnTo>
                  <a:lnTo>
                    <a:pt x="1818" y="314"/>
                  </a:lnTo>
                  <a:lnTo>
                    <a:pt x="1801" y="319"/>
                  </a:lnTo>
                  <a:lnTo>
                    <a:pt x="1805" y="321"/>
                  </a:lnTo>
                  <a:lnTo>
                    <a:pt x="1818" y="319"/>
                  </a:lnTo>
                  <a:lnTo>
                    <a:pt x="1801" y="329"/>
                  </a:lnTo>
                  <a:lnTo>
                    <a:pt x="1809" y="329"/>
                  </a:lnTo>
                  <a:lnTo>
                    <a:pt x="1798" y="331"/>
                  </a:lnTo>
                  <a:lnTo>
                    <a:pt x="1809" y="334"/>
                  </a:lnTo>
                  <a:lnTo>
                    <a:pt x="1785" y="339"/>
                  </a:lnTo>
                  <a:lnTo>
                    <a:pt x="1801" y="346"/>
                  </a:lnTo>
                  <a:lnTo>
                    <a:pt x="1769" y="356"/>
                  </a:lnTo>
                  <a:lnTo>
                    <a:pt x="1798" y="351"/>
                  </a:lnTo>
                  <a:lnTo>
                    <a:pt x="1782" y="358"/>
                  </a:lnTo>
                  <a:lnTo>
                    <a:pt x="1761" y="361"/>
                  </a:lnTo>
                  <a:lnTo>
                    <a:pt x="1789" y="358"/>
                  </a:lnTo>
                  <a:lnTo>
                    <a:pt x="1777" y="363"/>
                  </a:lnTo>
                  <a:lnTo>
                    <a:pt x="1789" y="363"/>
                  </a:lnTo>
                  <a:lnTo>
                    <a:pt x="1782" y="371"/>
                  </a:lnTo>
                  <a:lnTo>
                    <a:pt x="1765" y="373"/>
                  </a:lnTo>
                  <a:lnTo>
                    <a:pt x="1777" y="383"/>
                  </a:lnTo>
                  <a:lnTo>
                    <a:pt x="1753" y="388"/>
                  </a:lnTo>
                  <a:lnTo>
                    <a:pt x="1753" y="393"/>
                  </a:lnTo>
                  <a:lnTo>
                    <a:pt x="1745" y="391"/>
                  </a:lnTo>
                  <a:lnTo>
                    <a:pt x="1740" y="388"/>
                  </a:lnTo>
                  <a:lnTo>
                    <a:pt x="1740" y="388"/>
                  </a:lnTo>
                  <a:lnTo>
                    <a:pt x="1753" y="396"/>
                  </a:lnTo>
                  <a:lnTo>
                    <a:pt x="1737" y="396"/>
                  </a:lnTo>
                  <a:lnTo>
                    <a:pt x="1745" y="400"/>
                  </a:lnTo>
                  <a:lnTo>
                    <a:pt x="1733" y="400"/>
                  </a:lnTo>
                  <a:lnTo>
                    <a:pt x="1749" y="403"/>
                  </a:lnTo>
                  <a:lnTo>
                    <a:pt x="1737" y="405"/>
                  </a:lnTo>
                  <a:lnTo>
                    <a:pt x="1740" y="413"/>
                  </a:lnTo>
                  <a:lnTo>
                    <a:pt x="1753" y="410"/>
                  </a:lnTo>
                  <a:lnTo>
                    <a:pt x="1740" y="417"/>
                  </a:lnTo>
                  <a:lnTo>
                    <a:pt x="1757" y="413"/>
                  </a:lnTo>
                  <a:lnTo>
                    <a:pt x="1740" y="422"/>
                  </a:lnTo>
                  <a:lnTo>
                    <a:pt x="1724" y="430"/>
                  </a:lnTo>
                  <a:lnTo>
                    <a:pt x="1745" y="422"/>
                  </a:lnTo>
                  <a:lnTo>
                    <a:pt x="1757" y="422"/>
                  </a:lnTo>
                  <a:lnTo>
                    <a:pt x="1745" y="427"/>
                  </a:lnTo>
                  <a:lnTo>
                    <a:pt x="1757" y="427"/>
                  </a:lnTo>
                  <a:lnTo>
                    <a:pt x="1733" y="434"/>
                  </a:lnTo>
                  <a:lnTo>
                    <a:pt x="1769" y="425"/>
                  </a:lnTo>
                  <a:lnTo>
                    <a:pt x="1753" y="430"/>
                  </a:lnTo>
                  <a:lnTo>
                    <a:pt x="1761" y="434"/>
                  </a:lnTo>
                  <a:lnTo>
                    <a:pt x="1793" y="442"/>
                  </a:lnTo>
                  <a:lnTo>
                    <a:pt x="1720" y="450"/>
                  </a:lnTo>
                  <a:lnTo>
                    <a:pt x="1757" y="447"/>
                  </a:lnTo>
                  <a:lnTo>
                    <a:pt x="1701" y="454"/>
                  </a:lnTo>
                  <a:lnTo>
                    <a:pt x="1692" y="462"/>
                  </a:lnTo>
                  <a:lnTo>
                    <a:pt x="1684" y="454"/>
                  </a:lnTo>
                  <a:lnTo>
                    <a:pt x="1692" y="462"/>
                  </a:lnTo>
                  <a:lnTo>
                    <a:pt x="1676" y="467"/>
                  </a:lnTo>
                  <a:lnTo>
                    <a:pt x="1765" y="452"/>
                  </a:lnTo>
                  <a:lnTo>
                    <a:pt x="1753" y="450"/>
                  </a:lnTo>
                  <a:lnTo>
                    <a:pt x="1765" y="447"/>
                  </a:lnTo>
                  <a:lnTo>
                    <a:pt x="1777" y="454"/>
                  </a:lnTo>
                  <a:lnTo>
                    <a:pt x="1757" y="467"/>
                  </a:lnTo>
                  <a:lnTo>
                    <a:pt x="1777" y="459"/>
                  </a:lnTo>
                  <a:lnTo>
                    <a:pt x="1793" y="464"/>
                  </a:lnTo>
                  <a:lnTo>
                    <a:pt x="1789" y="474"/>
                  </a:lnTo>
                  <a:lnTo>
                    <a:pt x="1777" y="476"/>
                  </a:lnTo>
                  <a:lnTo>
                    <a:pt x="1782" y="481"/>
                  </a:lnTo>
                  <a:lnTo>
                    <a:pt x="1769" y="481"/>
                  </a:lnTo>
                  <a:lnTo>
                    <a:pt x="1777" y="487"/>
                  </a:lnTo>
                  <a:lnTo>
                    <a:pt x="1757" y="487"/>
                  </a:lnTo>
                  <a:lnTo>
                    <a:pt x="1773" y="489"/>
                  </a:lnTo>
                  <a:lnTo>
                    <a:pt x="1757" y="489"/>
                  </a:lnTo>
                  <a:lnTo>
                    <a:pt x="1769" y="494"/>
                  </a:lnTo>
                  <a:lnTo>
                    <a:pt x="1713" y="511"/>
                  </a:lnTo>
                  <a:lnTo>
                    <a:pt x="1709" y="511"/>
                  </a:lnTo>
                  <a:lnTo>
                    <a:pt x="1660" y="513"/>
                  </a:lnTo>
                  <a:lnTo>
                    <a:pt x="1640" y="523"/>
                  </a:lnTo>
                  <a:lnTo>
                    <a:pt x="1591" y="533"/>
                  </a:lnTo>
                  <a:lnTo>
                    <a:pt x="1482" y="526"/>
                  </a:lnTo>
                  <a:lnTo>
                    <a:pt x="1430" y="526"/>
                  </a:lnTo>
                  <a:lnTo>
                    <a:pt x="1374" y="546"/>
                  </a:lnTo>
                  <a:lnTo>
                    <a:pt x="1341" y="548"/>
                  </a:lnTo>
                  <a:lnTo>
                    <a:pt x="1277" y="570"/>
                  </a:lnTo>
                  <a:lnTo>
                    <a:pt x="1248" y="560"/>
                  </a:lnTo>
                  <a:lnTo>
                    <a:pt x="1272" y="570"/>
                  </a:lnTo>
                  <a:lnTo>
                    <a:pt x="1188" y="597"/>
                  </a:lnTo>
                  <a:lnTo>
                    <a:pt x="1216" y="592"/>
                  </a:lnTo>
                  <a:lnTo>
                    <a:pt x="1329" y="560"/>
                  </a:lnTo>
                  <a:lnTo>
                    <a:pt x="1422" y="548"/>
                  </a:lnTo>
                  <a:lnTo>
                    <a:pt x="1446" y="557"/>
                  </a:lnTo>
                  <a:lnTo>
                    <a:pt x="1442" y="562"/>
                  </a:lnTo>
                  <a:lnTo>
                    <a:pt x="1438" y="557"/>
                  </a:lnTo>
                  <a:lnTo>
                    <a:pt x="1434" y="568"/>
                  </a:lnTo>
                  <a:lnTo>
                    <a:pt x="1390" y="577"/>
                  </a:lnTo>
                  <a:lnTo>
                    <a:pt x="1381" y="572"/>
                  </a:lnTo>
                  <a:lnTo>
                    <a:pt x="1349" y="575"/>
                  </a:lnTo>
                  <a:lnTo>
                    <a:pt x="1374" y="580"/>
                  </a:lnTo>
                  <a:lnTo>
                    <a:pt x="1369" y="585"/>
                  </a:lnTo>
                  <a:lnTo>
                    <a:pt x="1398" y="585"/>
                  </a:lnTo>
                  <a:lnTo>
                    <a:pt x="1362" y="597"/>
                  </a:lnTo>
                  <a:lnTo>
                    <a:pt x="1378" y="599"/>
                  </a:lnTo>
                  <a:lnTo>
                    <a:pt x="1357" y="617"/>
                  </a:lnTo>
                  <a:lnTo>
                    <a:pt x="1378" y="622"/>
                  </a:lnTo>
                  <a:lnTo>
                    <a:pt x="1365" y="624"/>
                  </a:lnTo>
                  <a:lnTo>
                    <a:pt x="1365" y="624"/>
                  </a:lnTo>
                  <a:lnTo>
                    <a:pt x="1369" y="629"/>
                  </a:lnTo>
                  <a:lnTo>
                    <a:pt x="1394" y="634"/>
                  </a:lnTo>
                  <a:lnTo>
                    <a:pt x="1426" y="629"/>
                  </a:lnTo>
                  <a:lnTo>
                    <a:pt x="1434" y="639"/>
                  </a:lnTo>
                  <a:lnTo>
                    <a:pt x="1422" y="641"/>
                  </a:lnTo>
                  <a:lnTo>
                    <a:pt x="1434" y="643"/>
                  </a:lnTo>
                  <a:lnTo>
                    <a:pt x="1365" y="653"/>
                  </a:lnTo>
                  <a:lnTo>
                    <a:pt x="1345" y="653"/>
                  </a:lnTo>
                  <a:lnTo>
                    <a:pt x="1337" y="661"/>
                  </a:lnTo>
                  <a:lnTo>
                    <a:pt x="1337" y="653"/>
                  </a:lnTo>
                  <a:lnTo>
                    <a:pt x="1321" y="656"/>
                  </a:lnTo>
                  <a:lnTo>
                    <a:pt x="1313" y="663"/>
                  </a:lnTo>
                  <a:lnTo>
                    <a:pt x="1277" y="676"/>
                  </a:lnTo>
                  <a:lnTo>
                    <a:pt x="1256" y="681"/>
                  </a:lnTo>
                  <a:lnTo>
                    <a:pt x="1248" y="671"/>
                  </a:lnTo>
                  <a:lnTo>
                    <a:pt x="1277" y="653"/>
                  </a:lnTo>
                  <a:lnTo>
                    <a:pt x="1261" y="658"/>
                  </a:lnTo>
                  <a:lnTo>
                    <a:pt x="1293" y="651"/>
                  </a:lnTo>
                  <a:lnTo>
                    <a:pt x="1337" y="639"/>
                  </a:lnTo>
                  <a:lnTo>
                    <a:pt x="1337" y="646"/>
                  </a:lnTo>
                  <a:lnTo>
                    <a:pt x="1341" y="641"/>
                  </a:lnTo>
                  <a:lnTo>
                    <a:pt x="1369" y="639"/>
                  </a:lnTo>
                  <a:lnTo>
                    <a:pt x="1326" y="639"/>
                  </a:lnTo>
                  <a:lnTo>
                    <a:pt x="1353" y="629"/>
                  </a:lnTo>
                  <a:lnTo>
                    <a:pt x="1357" y="626"/>
                  </a:lnTo>
                  <a:lnTo>
                    <a:pt x="1349" y="622"/>
                  </a:lnTo>
                  <a:lnTo>
                    <a:pt x="1337" y="632"/>
                  </a:lnTo>
                  <a:lnTo>
                    <a:pt x="1301" y="639"/>
                  </a:lnTo>
                  <a:lnTo>
                    <a:pt x="1289" y="637"/>
                  </a:lnTo>
                  <a:lnTo>
                    <a:pt x="1297" y="634"/>
                  </a:lnTo>
                  <a:lnTo>
                    <a:pt x="1272" y="641"/>
                  </a:lnTo>
                  <a:lnTo>
                    <a:pt x="1256" y="639"/>
                  </a:lnTo>
                  <a:lnTo>
                    <a:pt x="1252" y="626"/>
                  </a:lnTo>
                  <a:lnTo>
                    <a:pt x="1293" y="595"/>
                  </a:lnTo>
                  <a:lnTo>
                    <a:pt x="1268" y="592"/>
                  </a:lnTo>
                  <a:lnTo>
                    <a:pt x="1264" y="590"/>
                  </a:lnTo>
                  <a:lnTo>
                    <a:pt x="1264" y="585"/>
                  </a:lnTo>
                  <a:lnTo>
                    <a:pt x="1164" y="629"/>
                  </a:lnTo>
                  <a:lnTo>
                    <a:pt x="1147" y="632"/>
                  </a:lnTo>
                  <a:lnTo>
                    <a:pt x="1127" y="637"/>
                  </a:lnTo>
                  <a:lnTo>
                    <a:pt x="1107" y="637"/>
                  </a:lnTo>
                  <a:lnTo>
                    <a:pt x="1087" y="637"/>
                  </a:lnTo>
                  <a:lnTo>
                    <a:pt x="1075" y="634"/>
                  </a:lnTo>
                  <a:lnTo>
                    <a:pt x="1039" y="634"/>
                  </a:lnTo>
                  <a:lnTo>
                    <a:pt x="1034" y="634"/>
                  </a:lnTo>
                  <a:lnTo>
                    <a:pt x="1030" y="634"/>
                  </a:lnTo>
                  <a:lnTo>
                    <a:pt x="990" y="643"/>
                  </a:lnTo>
                  <a:lnTo>
                    <a:pt x="930" y="651"/>
                  </a:lnTo>
                  <a:lnTo>
                    <a:pt x="949" y="651"/>
                  </a:lnTo>
                  <a:lnTo>
                    <a:pt x="933" y="656"/>
                  </a:lnTo>
                  <a:lnTo>
                    <a:pt x="922" y="651"/>
                  </a:lnTo>
                  <a:lnTo>
                    <a:pt x="877" y="653"/>
                  </a:lnTo>
                  <a:lnTo>
                    <a:pt x="841" y="666"/>
                  </a:lnTo>
                  <a:lnTo>
                    <a:pt x="860" y="668"/>
                  </a:lnTo>
                  <a:lnTo>
                    <a:pt x="852" y="671"/>
                  </a:lnTo>
                  <a:lnTo>
                    <a:pt x="845" y="678"/>
                  </a:lnTo>
                  <a:lnTo>
                    <a:pt x="776" y="678"/>
                  </a:lnTo>
                  <a:lnTo>
                    <a:pt x="715" y="695"/>
                  </a:lnTo>
                  <a:lnTo>
                    <a:pt x="703" y="691"/>
                  </a:lnTo>
                  <a:lnTo>
                    <a:pt x="715" y="683"/>
                  </a:lnTo>
                  <a:lnTo>
                    <a:pt x="732" y="686"/>
                  </a:lnTo>
                  <a:lnTo>
                    <a:pt x="732" y="678"/>
                  </a:lnTo>
                  <a:lnTo>
                    <a:pt x="756" y="668"/>
                  </a:lnTo>
                  <a:lnTo>
                    <a:pt x="783" y="661"/>
                  </a:lnTo>
                  <a:lnTo>
                    <a:pt x="812" y="643"/>
                  </a:lnTo>
                  <a:lnTo>
                    <a:pt x="841" y="634"/>
                  </a:lnTo>
                  <a:lnTo>
                    <a:pt x="852" y="617"/>
                  </a:lnTo>
                  <a:lnTo>
                    <a:pt x="865" y="626"/>
                  </a:lnTo>
                  <a:lnTo>
                    <a:pt x="849" y="634"/>
                  </a:lnTo>
                  <a:lnTo>
                    <a:pt x="865" y="632"/>
                  </a:lnTo>
                  <a:lnTo>
                    <a:pt x="868" y="639"/>
                  </a:lnTo>
                  <a:lnTo>
                    <a:pt x="877" y="632"/>
                  </a:lnTo>
                  <a:lnTo>
                    <a:pt x="889" y="632"/>
                  </a:lnTo>
                  <a:lnTo>
                    <a:pt x="901" y="617"/>
                  </a:lnTo>
                  <a:lnTo>
                    <a:pt x="901" y="604"/>
                  </a:lnTo>
                  <a:lnTo>
                    <a:pt x="885" y="599"/>
                  </a:lnTo>
                  <a:lnTo>
                    <a:pt x="821" y="585"/>
                  </a:lnTo>
                  <a:lnTo>
                    <a:pt x="841" y="577"/>
                  </a:lnTo>
                  <a:lnTo>
                    <a:pt x="833" y="575"/>
                  </a:lnTo>
                  <a:lnTo>
                    <a:pt x="849" y="557"/>
                  </a:lnTo>
                  <a:lnTo>
                    <a:pt x="865" y="552"/>
                  </a:lnTo>
                  <a:lnTo>
                    <a:pt x="845" y="550"/>
                  </a:lnTo>
                  <a:lnTo>
                    <a:pt x="860" y="531"/>
                  </a:lnTo>
                  <a:lnTo>
                    <a:pt x="828" y="523"/>
                  </a:lnTo>
                  <a:lnTo>
                    <a:pt x="808" y="531"/>
                  </a:lnTo>
                  <a:lnTo>
                    <a:pt x="792" y="536"/>
                  </a:lnTo>
                  <a:lnTo>
                    <a:pt x="808" y="526"/>
                  </a:lnTo>
                  <a:lnTo>
                    <a:pt x="783" y="536"/>
                  </a:lnTo>
                  <a:lnTo>
                    <a:pt x="779" y="533"/>
                  </a:lnTo>
                  <a:lnTo>
                    <a:pt x="748" y="543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36880" y="2556360"/>
              <a:ext cx="16920" cy="4320"/>
            </a:xfrm>
            <a:custGeom>
              <a:avLst/>
              <a:gdLst/>
              <a:ahLst/>
              <a:rect l="l" t="t" r="r" b="b"/>
              <a:pathLst>
                <a:path w="50" h="13">
                  <a:moveTo>
                    <a:pt x="49" y="0"/>
                  </a:moveTo>
                  <a:lnTo>
                    <a:pt x="49" y="0"/>
                  </a:lnTo>
                  <a:lnTo>
                    <a:pt x="24" y="10"/>
                  </a:lnTo>
                  <a:lnTo>
                    <a:pt x="0" y="12"/>
                  </a:lnTo>
                  <a:lnTo>
                    <a:pt x="49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60640" y="2507040"/>
              <a:ext cx="185400" cy="48960"/>
            </a:xfrm>
            <a:custGeom>
              <a:avLst/>
              <a:gdLst/>
              <a:ahLst/>
              <a:rect l="l" t="t" r="r" b="b"/>
              <a:pathLst>
                <a:path w="518" h="138">
                  <a:moveTo>
                    <a:pt x="456" y="34"/>
                  </a:moveTo>
                  <a:lnTo>
                    <a:pt x="493" y="24"/>
                  </a:lnTo>
                  <a:lnTo>
                    <a:pt x="485" y="24"/>
                  </a:lnTo>
                  <a:lnTo>
                    <a:pt x="509" y="19"/>
                  </a:lnTo>
                  <a:lnTo>
                    <a:pt x="493" y="21"/>
                  </a:lnTo>
                  <a:lnTo>
                    <a:pt x="481" y="24"/>
                  </a:lnTo>
                  <a:lnTo>
                    <a:pt x="509" y="16"/>
                  </a:lnTo>
                  <a:lnTo>
                    <a:pt x="469" y="21"/>
                  </a:lnTo>
                  <a:lnTo>
                    <a:pt x="489" y="14"/>
                  </a:lnTo>
                  <a:lnTo>
                    <a:pt x="505" y="2"/>
                  </a:lnTo>
                  <a:lnTo>
                    <a:pt x="517" y="2"/>
                  </a:lnTo>
                  <a:lnTo>
                    <a:pt x="517" y="0"/>
                  </a:lnTo>
                  <a:lnTo>
                    <a:pt x="481" y="6"/>
                  </a:lnTo>
                  <a:lnTo>
                    <a:pt x="420" y="26"/>
                  </a:lnTo>
                  <a:lnTo>
                    <a:pt x="408" y="26"/>
                  </a:lnTo>
                  <a:lnTo>
                    <a:pt x="355" y="44"/>
                  </a:lnTo>
                  <a:lnTo>
                    <a:pt x="372" y="41"/>
                  </a:lnTo>
                  <a:lnTo>
                    <a:pt x="352" y="44"/>
                  </a:lnTo>
                  <a:lnTo>
                    <a:pt x="311" y="56"/>
                  </a:lnTo>
                  <a:lnTo>
                    <a:pt x="327" y="49"/>
                  </a:lnTo>
                  <a:lnTo>
                    <a:pt x="299" y="56"/>
                  </a:lnTo>
                  <a:lnTo>
                    <a:pt x="291" y="56"/>
                  </a:lnTo>
                  <a:lnTo>
                    <a:pt x="278" y="60"/>
                  </a:lnTo>
                  <a:lnTo>
                    <a:pt x="218" y="68"/>
                  </a:lnTo>
                  <a:lnTo>
                    <a:pt x="210" y="73"/>
                  </a:lnTo>
                  <a:lnTo>
                    <a:pt x="190" y="71"/>
                  </a:lnTo>
                  <a:lnTo>
                    <a:pt x="133" y="85"/>
                  </a:lnTo>
                  <a:lnTo>
                    <a:pt x="121" y="85"/>
                  </a:lnTo>
                  <a:lnTo>
                    <a:pt x="97" y="91"/>
                  </a:lnTo>
                  <a:lnTo>
                    <a:pt x="65" y="102"/>
                  </a:lnTo>
                  <a:lnTo>
                    <a:pt x="73" y="95"/>
                  </a:lnTo>
                  <a:lnTo>
                    <a:pt x="56" y="100"/>
                  </a:lnTo>
                  <a:lnTo>
                    <a:pt x="49" y="102"/>
                  </a:lnTo>
                  <a:lnTo>
                    <a:pt x="44" y="107"/>
                  </a:lnTo>
                  <a:lnTo>
                    <a:pt x="29" y="107"/>
                  </a:lnTo>
                  <a:lnTo>
                    <a:pt x="13" y="112"/>
                  </a:lnTo>
                  <a:lnTo>
                    <a:pt x="25" y="112"/>
                  </a:lnTo>
                  <a:lnTo>
                    <a:pt x="8" y="115"/>
                  </a:lnTo>
                  <a:lnTo>
                    <a:pt x="25" y="112"/>
                  </a:lnTo>
                  <a:lnTo>
                    <a:pt x="0" y="117"/>
                  </a:lnTo>
                  <a:lnTo>
                    <a:pt x="17" y="122"/>
                  </a:lnTo>
                  <a:lnTo>
                    <a:pt x="0" y="137"/>
                  </a:lnTo>
                  <a:lnTo>
                    <a:pt x="89" y="125"/>
                  </a:lnTo>
                  <a:lnTo>
                    <a:pt x="166" y="105"/>
                  </a:lnTo>
                  <a:lnTo>
                    <a:pt x="170" y="98"/>
                  </a:lnTo>
                  <a:lnTo>
                    <a:pt x="170" y="105"/>
                  </a:lnTo>
                  <a:lnTo>
                    <a:pt x="186" y="100"/>
                  </a:lnTo>
                  <a:lnTo>
                    <a:pt x="218" y="91"/>
                  </a:lnTo>
                  <a:lnTo>
                    <a:pt x="226" y="83"/>
                  </a:lnTo>
                  <a:lnTo>
                    <a:pt x="222" y="91"/>
                  </a:lnTo>
                  <a:lnTo>
                    <a:pt x="238" y="83"/>
                  </a:lnTo>
                  <a:lnTo>
                    <a:pt x="263" y="83"/>
                  </a:lnTo>
                  <a:lnTo>
                    <a:pt x="287" y="63"/>
                  </a:lnTo>
                  <a:lnTo>
                    <a:pt x="295" y="66"/>
                  </a:lnTo>
                  <a:lnTo>
                    <a:pt x="311" y="58"/>
                  </a:lnTo>
                  <a:lnTo>
                    <a:pt x="295" y="66"/>
                  </a:lnTo>
                  <a:lnTo>
                    <a:pt x="267" y="83"/>
                  </a:lnTo>
                  <a:lnTo>
                    <a:pt x="274" y="88"/>
                  </a:lnTo>
                  <a:lnTo>
                    <a:pt x="291" y="78"/>
                  </a:lnTo>
                  <a:lnTo>
                    <a:pt x="307" y="73"/>
                  </a:lnTo>
                  <a:lnTo>
                    <a:pt x="303" y="68"/>
                  </a:lnTo>
                  <a:lnTo>
                    <a:pt x="315" y="71"/>
                  </a:lnTo>
                  <a:lnTo>
                    <a:pt x="311" y="68"/>
                  </a:lnTo>
                  <a:lnTo>
                    <a:pt x="319" y="71"/>
                  </a:lnTo>
                  <a:lnTo>
                    <a:pt x="448" y="39"/>
                  </a:lnTo>
                  <a:lnTo>
                    <a:pt x="456" y="34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3800" y="2448360"/>
              <a:ext cx="158040" cy="74160"/>
            </a:xfrm>
            <a:custGeom>
              <a:avLst/>
              <a:gdLst/>
              <a:ahLst/>
              <a:rect l="l" t="t" r="r" b="b"/>
              <a:pathLst>
                <a:path w="440" h="206">
                  <a:moveTo>
                    <a:pt x="165" y="161"/>
                  </a:moveTo>
                  <a:lnTo>
                    <a:pt x="48" y="195"/>
                  </a:lnTo>
                  <a:lnTo>
                    <a:pt x="0" y="205"/>
                  </a:lnTo>
                  <a:lnTo>
                    <a:pt x="21" y="192"/>
                  </a:lnTo>
                  <a:lnTo>
                    <a:pt x="16" y="192"/>
                  </a:lnTo>
                  <a:lnTo>
                    <a:pt x="105" y="168"/>
                  </a:lnTo>
                  <a:lnTo>
                    <a:pt x="129" y="141"/>
                  </a:lnTo>
                  <a:lnTo>
                    <a:pt x="149" y="133"/>
                  </a:lnTo>
                  <a:lnTo>
                    <a:pt x="185" y="128"/>
                  </a:lnTo>
                  <a:lnTo>
                    <a:pt x="233" y="112"/>
                  </a:lnTo>
                  <a:lnTo>
                    <a:pt x="242" y="112"/>
                  </a:lnTo>
                  <a:lnTo>
                    <a:pt x="302" y="81"/>
                  </a:lnTo>
                  <a:lnTo>
                    <a:pt x="294" y="86"/>
                  </a:lnTo>
                  <a:lnTo>
                    <a:pt x="311" y="81"/>
                  </a:lnTo>
                  <a:lnTo>
                    <a:pt x="302" y="79"/>
                  </a:lnTo>
                  <a:lnTo>
                    <a:pt x="335" y="65"/>
                  </a:lnTo>
                  <a:lnTo>
                    <a:pt x="327" y="70"/>
                  </a:lnTo>
                  <a:lnTo>
                    <a:pt x="339" y="65"/>
                  </a:lnTo>
                  <a:lnTo>
                    <a:pt x="359" y="55"/>
                  </a:lnTo>
                  <a:lnTo>
                    <a:pt x="350" y="55"/>
                  </a:lnTo>
                  <a:lnTo>
                    <a:pt x="367" y="45"/>
                  </a:lnTo>
                  <a:lnTo>
                    <a:pt x="343" y="60"/>
                  </a:lnTo>
                  <a:lnTo>
                    <a:pt x="347" y="55"/>
                  </a:lnTo>
                  <a:lnTo>
                    <a:pt x="375" y="35"/>
                  </a:lnTo>
                  <a:lnTo>
                    <a:pt x="395" y="30"/>
                  </a:lnTo>
                  <a:lnTo>
                    <a:pt x="375" y="35"/>
                  </a:lnTo>
                  <a:lnTo>
                    <a:pt x="387" y="27"/>
                  </a:lnTo>
                  <a:lnTo>
                    <a:pt x="432" y="0"/>
                  </a:lnTo>
                  <a:lnTo>
                    <a:pt x="439" y="3"/>
                  </a:lnTo>
                  <a:lnTo>
                    <a:pt x="407" y="20"/>
                  </a:lnTo>
                  <a:lnTo>
                    <a:pt x="424" y="16"/>
                  </a:lnTo>
                  <a:lnTo>
                    <a:pt x="419" y="23"/>
                  </a:lnTo>
                  <a:lnTo>
                    <a:pt x="404" y="32"/>
                  </a:lnTo>
                  <a:lnTo>
                    <a:pt x="416" y="30"/>
                  </a:lnTo>
                  <a:lnTo>
                    <a:pt x="379" y="47"/>
                  </a:lnTo>
                  <a:lnTo>
                    <a:pt x="375" y="47"/>
                  </a:lnTo>
                  <a:lnTo>
                    <a:pt x="354" y="62"/>
                  </a:lnTo>
                  <a:lnTo>
                    <a:pt x="314" y="77"/>
                  </a:lnTo>
                  <a:lnTo>
                    <a:pt x="311" y="89"/>
                  </a:lnTo>
                  <a:lnTo>
                    <a:pt x="327" y="81"/>
                  </a:lnTo>
                  <a:lnTo>
                    <a:pt x="354" y="70"/>
                  </a:lnTo>
                  <a:lnTo>
                    <a:pt x="339" y="81"/>
                  </a:lnTo>
                  <a:lnTo>
                    <a:pt x="290" y="101"/>
                  </a:lnTo>
                  <a:lnTo>
                    <a:pt x="286" y="116"/>
                  </a:lnTo>
                  <a:lnTo>
                    <a:pt x="335" y="109"/>
                  </a:lnTo>
                  <a:lnTo>
                    <a:pt x="335" y="114"/>
                  </a:lnTo>
                  <a:lnTo>
                    <a:pt x="269" y="135"/>
                  </a:lnTo>
                  <a:lnTo>
                    <a:pt x="213" y="153"/>
                  </a:lnTo>
                  <a:lnTo>
                    <a:pt x="217" y="146"/>
                  </a:lnTo>
                  <a:lnTo>
                    <a:pt x="197" y="151"/>
                  </a:lnTo>
                  <a:lnTo>
                    <a:pt x="165" y="161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41560" y="2464200"/>
              <a:ext cx="10800" cy="6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32" y="0"/>
                  </a:moveTo>
                  <a:lnTo>
                    <a:pt x="32" y="0"/>
                  </a:lnTo>
                  <a:lnTo>
                    <a:pt x="0" y="15"/>
                  </a:lnTo>
                  <a:lnTo>
                    <a:pt x="32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560" y="2475360"/>
              <a:ext cx="75960" cy="28440"/>
            </a:xfrm>
            <a:custGeom>
              <a:avLst/>
              <a:gdLst/>
              <a:ahLst/>
              <a:rect l="l" t="t" r="r" b="b"/>
              <a:pathLst>
                <a:path w="211" h="80">
                  <a:moveTo>
                    <a:pt x="17" y="64"/>
                  </a:moveTo>
                  <a:lnTo>
                    <a:pt x="17" y="64"/>
                  </a:lnTo>
                  <a:lnTo>
                    <a:pt x="49" y="45"/>
                  </a:lnTo>
                  <a:lnTo>
                    <a:pt x="61" y="40"/>
                  </a:lnTo>
                  <a:lnTo>
                    <a:pt x="61" y="45"/>
                  </a:lnTo>
                  <a:lnTo>
                    <a:pt x="109" y="12"/>
                  </a:lnTo>
                  <a:lnTo>
                    <a:pt x="142" y="0"/>
                  </a:lnTo>
                  <a:lnTo>
                    <a:pt x="150" y="20"/>
                  </a:lnTo>
                  <a:lnTo>
                    <a:pt x="161" y="15"/>
                  </a:lnTo>
                  <a:lnTo>
                    <a:pt x="150" y="25"/>
                  </a:lnTo>
                  <a:lnTo>
                    <a:pt x="166" y="15"/>
                  </a:lnTo>
                  <a:lnTo>
                    <a:pt x="210" y="10"/>
                  </a:lnTo>
                  <a:lnTo>
                    <a:pt x="202" y="17"/>
                  </a:lnTo>
                  <a:lnTo>
                    <a:pt x="134" y="47"/>
                  </a:lnTo>
                  <a:lnTo>
                    <a:pt x="142" y="42"/>
                  </a:lnTo>
                  <a:lnTo>
                    <a:pt x="101" y="54"/>
                  </a:lnTo>
                  <a:lnTo>
                    <a:pt x="61" y="72"/>
                  </a:lnTo>
                  <a:lnTo>
                    <a:pt x="61" y="67"/>
                  </a:lnTo>
                  <a:lnTo>
                    <a:pt x="73" y="59"/>
                  </a:lnTo>
                  <a:lnTo>
                    <a:pt x="41" y="69"/>
                  </a:lnTo>
                  <a:lnTo>
                    <a:pt x="8" y="79"/>
                  </a:lnTo>
                  <a:lnTo>
                    <a:pt x="0" y="74"/>
                  </a:lnTo>
                  <a:lnTo>
                    <a:pt x="8" y="69"/>
                  </a:lnTo>
                  <a:lnTo>
                    <a:pt x="20" y="69"/>
                  </a:lnTo>
                  <a:lnTo>
                    <a:pt x="17" y="64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75040" y="2470680"/>
              <a:ext cx="7560" cy="43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1" y="0"/>
                  </a:moveTo>
                  <a:lnTo>
                    <a:pt x="21" y="0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21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72000" y="2173680"/>
              <a:ext cx="541080" cy="288720"/>
            </a:xfrm>
            <a:custGeom>
              <a:avLst/>
              <a:gdLst/>
              <a:ahLst/>
              <a:rect l="l" t="t" r="r" b="b"/>
              <a:pathLst>
                <a:path w="1502" h="803">
                  <a:moveTo>
                    <a:pt x="762" y="769"/>
                  </a:moveTo>
                  <a:lnTo>
                    <a:pt x="864" y="724"/>
                  </a:lnTo>
                  <a:lnTo>
                    <a:pt x="912" y="708"/>
                  </a:lnTo>
                  <a:lnTo>
                    <a:pt x="920" y="704"/>
                  </a:lnTo>
                  <a:lnTo>
                    <a:pt x="988" y="677"/>
                  </a:lnTo>
                  <a:lnTo>
                    <a:pt x="1000" y="669"/>
                  </a:lnTo>
                  <a:lnTo>
                    <a:pt x="1061" y="649"/>
                  </a:lnTo>
                  <a:lnTo>
                    <a:pt x="1061" y="647"/>
                  </a:lnTo>
                  <a:lnTo>
                    <a:pt x="1086" y="642"/>
                  </a:lnTo>
                  <a:lnTo>
                    <a:pt x="1283" y="544"/>
                  </a:lnTo>
                  <a:lnTo>
                    <a:pt x="1310" y="526"/>
                  </a:lnTo>
                  <a:lnTo>
                    <a:pt x="1323" y="517"/>
                  </a:lnTo>
                  <a:lnTo>
                    <a:pt x="1332" y="502"/>
                  </a:lnTo>
                  <a:lnTo>
                    <a:pt x="1392" y="463"/>
                  </a:lnTo>
                  <a:lnTo>
                    <a:pt x="1412" y="443"/>
                  </a:lnTo>
                  <a:lnTo>
                    <a:pt x="1404" y="438"/>
                  </a:lnTo>
                  <a:lnTo>
                    <a:pt x="1424" y="408"/>
                  </a:lnTo>
                  <a:lnTo>
                    <a:pt x="1417" y="386"/>
                  </a:lnTo>
                  <a:lnTo>
                    <a:pt x="1421" y="386"/>
                  </a:lnTo>
                  <a:lnTo>
                    <a:pt x="1453" y="359"/>
                  </a:lnTo>
                  <a:lnTo>
                    <a:pt x="1453" y="352"/>
                  </a:lnTo>
                  <a:lnTo>
                    <a:pt x="1444" y="362"/>
                  </a:lnTo>
                  <a:lnTo>
                    <a:pt x="1444" y="345"/>
                  </a:lnTo>
                  <a:lnTo>
                    <a:pt x="1429" y="356"/>
                  </a:lnTo>
                  <a:lnTo>
                    <a:pt x="1421" y="356"/>
                  </a:lnTo>
                  <a:lnTo>
                    <a:pt x="1448" y="327"/>
                  </a:lnTo>
                  <a:lnTo>
                    <a:pt x="1456" y="313"/>
                  </a:lnTo>
                  <a:lnTo>
                    <a:pt x="1453" y="300"/>
                  </a:lnTo>
                  <a:lnTo>
                    <a:pt x="1469" y="288"/>
                  </a:lnTo>
                  <a:lnTo>
                    <a:pt x="1448" y="271"/>
                  </a:lnTo>
                  <a:lnTo>
                    <a:pt x="1456" y="258"/>
                  </a:lnTo>
                  <a:lnTo>
                    <a:pt x="1444" y="261"/>
                  </a:lnTo>
                  <a:lnTo>
                    <a:pt x="1432" y="244"/>
                  </a:lnTo>
                  <a:lnTo>
                    <a:pt x="1477" y="185"/>
                  </a:lnTo>
                  <a:lnTo>
                    <a:pt x="1469" y="170"/>
                  </a:lnTo>
                  <a:lnTo>
                    <a:pt x="1501" y="128"/>
                  </a:lnTo>
                  <a:lnTo>
                    <a:pt x="1493" y="108"/>
                  </a:lnTo>
                  <a:lnTo>
                    <a:pt x="1493" y="104"/>
                  </a:lnTo>
                  <a:lnTo>
                    <a:pt x="1465" y="108"/>
                  </a:lnTo>
                  <a:lnTo>
                    <a:pt x="1489" y="64"/>
                  </a:lnTo>
                  <a:lnTo>
                    <a:pt x="1482" y="64"/>
                  </a:lnTo>
                  <a:lnTo>
                    <a:pt x="1485" y="42"/>
                  </a:lnTo>
                  <a:lnTo>
                    <a:pt x="1493" y="37"/>
                  </a:lnTo>
                  <a:lnTo>
                    <a:pt x="1485" y="35"/>
                  </a:lnTo>
                  <a:lnTo>
                    <a:pt x="1493" y="8"/>
                  </a:lnTo>
                  <a:lnTo>
                    <a:pt x="1489" y="8"/>
                  </a:lnTo>
                  <a:lnTo>
                    <a:pt x="1493" y="0"/>
                  </a:lnTo>
                  <a:lnTo>
                    <a:pt x="1477" y="8"/>
                  </a:lnTo>
                  <a:lnTo>
                    <a:pt x="1456" y="37"/>
                  </a:lnTo>
                  <a:lnTo>
                    <a:pt x="1448" y="37"/>
                  </a:lnTo>
                  <a:lnTo>
                    <a:pt x="1432" y="52"/>
                  </a:lnTo>
                  <a:lnTo>
                    <a:pt x="1444" y="52"/>
                  </a:lnTo>
                  <a:lnTo>
                    <a:pt x="1440" y="57"/>
                  </a:lnTo>
                  <a:lnTo>
                    <a:pt x="1424" y="64"/>
                  </a:lnTo>
                  <a:lnTo>
                    <a:pt x="1417" y="84"/>
                  </a:lnTo>
                  <a:lnTo>
                    <a:pt x="1421" y="76"/>
                  </a:lnTo>
                  <a:lnTo>
                    <a:pt x="1404" y="89"/>
                  </a:lnTo>
                  <a:lnTo>
                    <a:pt x="1384" y="130"/>
                  </a:lnTo>
                  <a:lnTo>
                    <a:pt x="1307" y="192"/>
                  </a:lnTo>
                  <a:lnTo>
                    <a:pt x="1279" y="199"/>
                  </a:lnTo>
                  <a:lnTo>
                    <a:pt x="1263" y="190"/>
                  </a:lnTo>
                  <a:lnTo>
                    <a:pt x="1263" y="175"/>
                  </a:lnTo>
                  <a:lnTo>
                    <a:pt x="1238" y="163"/>
                  </a:lnTo>
                  <a:lnTo>
                    <a:pt x="1226" y="145"/>
                  </a:lnTo>
                  <a:lnTo>
                    <a:pt x="1215" y="143"/>
                  </a:lnTo>
                  <a:lnTo>
                    <a:pt x="1194" y="114"/>
                  </a:lnTo>
                  <a:lnTo>
                    <a:pt x="1194" y="108"/>
                  </a:lnTo>
                  <a:lnTo>
                    <a:pt x="1235" y="79"/>
                  </a:lnTo>
                  <a:lnTo>
                    <a:pt x="1231" y="74"/>
                  </a:lnTo>
                  <a:lnTo>
                    <a:pt x="1238" y="67"/>
                  </a:lnTo>
                  <a:lnTo>
                    <a:pt x="1255" y="62"/>
                  </a:lnTo>
                  <a:lnTo>
                    <a:pt x="1260" y="67"/>
                  </a:lnTo>
                  <a:lnTo>
                    <a:pt x="1267" y="59"/>
                  </a:lnTo>
                  <a:lnTo>
                    <a:pt x="1267" y="54"/>
                  </a:lnTo>
                  <a:lnTo>
                    <a:pt x="1291" y="42"/>
                  </a:lnTo>
                  <a:lnTo>
                    <a:pt x="1279" y="40"/>
                  </a:lnTo>
                  <a:lnTo>
                    <a:pt x="1283" y="30"/>
                  </a:lnTo>
                  <a:lnTo>
                    <a:pt x="1267" y="35"/>
                  </a:lnTo>
                  <a:lnTo>
                    <a:pt x="1272" y="40"/>
                  </a:lnTo>
                  <a:lnTo>
                    <a:pt x="1263" y="45"/>
                  </a:lnTo>
                  <a:lnTo>
                    <a:pt x="1263" y="32"/>
                  </a:lnTo>
                  <a:lnTo>
                    <a:pt x="1251" y="37"/>
                  </a:lnTo>
                  <a:lnTo>
                    <a:pt x="1260" y="30"/>
                  </a:lnTo>
                  <a:lnTo>
                    <a:pt x="1235" y="37"/>
                  </a:lnTo>
                  <a:lnTo>
                    <a:pt x="1202" y="32"/>
                  </a:lnTo>
                  <a:lnTo>
                    <a:pt x="1198" y="20"/>
                  </a:lnTo>
                  <a:lnTo>
                    <a:pt x="1187" y="25"/>
                  </a:lnTo>
                  <a:lnTo>
                    <a:pt x="1174" y="10"/>
                  </a:lnTo>
                  <a:lnTo>
                    <a:pt x="1162" y="13"/>
                  </a:lnTo>
                  <a:lnTo>
                    <a:pt x="1154" y="3"/>
                  </a:lnTo>
                  <a:lnTo>
                    <a:pt x="1146" y="10"/>
                  </a:lnTo>
                  <a:lnTo>
                    <a:pt x="1146" y="3"/>
                  </a:lnTo>
                  <a:lnTo>
                    <a:pt x="1137" y="8"/>
                  </a:lnTo>
                  <a:lnTo>
                    <a:pt x="1142" y="13"/>
                  </a:lnTo>
                  <a:lnTo>
                    <a:pt x="1162" y="15"/>
                  </a:lnTo>
                  <a:lnTo>
                    <a:pt x="1154" y="32"/>
                  </a:lnTo>
                  <a:lnTo>
                    <a:pt x="1142" y="37"/>
                  </a:lnTo>
                  <a:lnTo>
                    <a:pt x="1110" y="27"/>
                  </a:lnTo>
                  <a:lnTo>
                    <a:pt x="1101" y="30"/>
                  </a:lnTo>
                  <a:lnTo>
                    <a:pt x="1089" y="42"/>
                  </a:lnTo>
                  <a:lnTo>
                    <a:pt x="1081" y="35"/>
                  </a:lnTo>
                  <a:lnTo>
                    <a:pt x="1077" y="45"/>
                  </a:lnTo>
                  <a:lnTo>
                    <a:pt x="1061" y="50"/>
                  </a:lnTo>
                  <a:lnTo>
                    <a:pt x="1057" y="62"/>
                  </a:lnTo>
                  <a:lnTo>
                    <a:pt x="1041" y="67"/>
                  </a:lnTo>
                  <a:lnTo>
                    <a:pt x="1029" y="76"/>
                  </a:lnTo>
                  <a:lnTo>
                    <a:pt x="1009" y="91"/>
                  </a:lnTo>
                  <a:lnTo>
                    <a:pt x="1017" y="94"/>
                  </a:lnTo>
                  <a:lnTo>
                    <a:pt x="1026" y="101"/>
                  </a:lnTo>
                  <a:lnTo>
                    <a:pt x="1005" y="111"/>
                  </a:lnTo>
                  <a:lnTo>
                    <a:pt x="1017" y="118"/>
                  </a:lnTo>
                  <a:lnTo>
                    <a:pt x="1005" y="121"/>
                  </a:lnTo>
                  <a:lnTo>
                    <a:pt x="997" y="104"/>
                  </a:lnTo>
                  <a:lnTo>
                    <a:pt x="988" y="114"/>
                  </a:lnTo>
                  <a:lnTo>
                    <a:pt x="988" y="104"/>
                  </a:lnTo>
                  <a:lnTo>
                    <a:pt x="988" y="104"/>
                  </a:lnTo>
                  <a:lnTo>
                    <a:pt x="972" y="101"/>
                  </a:lnTo>
                  <a:lnTo>
                    <a:pt x="956" y="108"/>
                  </a:lnTo>
                  <a:lnTo>
                    <a:pt x="956" y="121"/>
                  </a:lnTo>
                  <a:lnTo>
                    <a:pt x="953" y="111"/>
                  </a:lnTo>
                  <a:lnTo>
                    <a:pt x="936" y="123"/>
                  </a:lnTo>
                  <a:lnTo>
                    <a:pt x="948" y="116"/>
                  </a:lnTo>
                  <a:lnTo>
                    <a:pt x="953" y="114"/>
                  </a:lnTo>
                  <a:lnTo>
                    <a:pt x="964" y="99"/>
                  </a:lnTo>
                  <a:lnTo>
                    <a:pt x="953" y="76"/>
                  </a:lnTo>
                  <a:lnTo>
                    <a:pt x="940" y="69"/>
                  </a:lnTo>
                  <a:lnTo>
                    <a:pt x="932" y="72"/>
                  </a:lnTo>
                  <a:lnTo>
                    <a:pt x="920" y="84"/>
                  </a:lnTo>
                  <a:lnTo>
                    <a:pt x="924" y="74"/>
                  </a:lnTo>
                  <a:lnTo>
                    <a:pt x="908" y="81"/>
                  </a:lnTo>
                  <a:lnTo>
                    <a:pt x="908" y="74"/>
                  </a:lnTo>
                  <a:lnTo>
                    <a:pt x="891" y="94"/>
                  </a:lnTo>
                  <a:lnTo>
                    <a:pt x="883" y="91"/>
                  </a:lnTo>
                  <a:lnTo>
                    <a:pt x="887" y="81"/>
                  </a:lnTo>
                  <a:lnTo>
                    <a:pt x="883" y="91"/>
                  </a:lnTo>
                  <a:lnTo>
                    <a:pt x="864" y="96"/>
                  </a:lnTo>
                  <a:lnTo>
                    <a:pt x="867" y="106"/>
                  </a:lnTo>
                  <a:lnTo>
                    <a:pt x="847" y="106"/>
                  </a:lnTo>
                  <a:lnTo>
                    <a:pt x="847" y="111"/>
                  </a:lnTo>
                  <a:lnTo>
                    <a:pt x="851" y="118"/>
                  </a:lnTo>
                  <a:lnTo>
                    <a:pt x="839" y="108"/>
                  </a:lnTo>
                  <a:lnTo>
                    <a:pt x="819" y="121"/>
                  </a:lnTo>
                  <a:lnTo>
                    <a:pt x="831" y="123"/>
                  </a:lnTo>
                  <a:lnTo>
                    <a:pt x="811" y="138"/>
                  </a:lnTo>
                  <a:lnTo>
                    <a:pt x="827" y="141"/>
                  </a:lnTo>
                  <a:lnTo>
                    <a:pt x="811" y="138"/>
                  </a:lnTo>
                  <a:lnTo>
                    <a:pt x="807" y="145"/>
                  </a:lnTo>
                  <a:lnTo>
                    <a:pt x="798" y="135"/>
                  </a:lnTo>
                  <a:lnTo>
                    <a:pt x="791" y="133"/>
                  </a:lnTo>
                  <a:lnTo>
                    <a:pt x="787" y="141"/>
                  </a:lnTo>
                  <a:lnTo>
                    <a:pt x="775" y="143"/>
                  </a:lnTo>
                  <a:lnTo>
                    <a:pt x="787" y="153"/>
                  </a:lnTo>
                  <a:lnTo>
                    <a:pt x="771" y="155"/>
                  </a:lnTo>
                  <a:lnTo>
                    <a:pt x="759" y="182"/>
                  </a:lnTo>
                  <a:lnTo>
                    <a:pt x="759" y="143"/>
                  </a:lnTo>
                  <a:lnTo>
                    <a:pt x="762" y="138"/>
                  </a:lnTo>
                  <a:lnTo>
                    <a:pt x="750" y="148"/>
                  </a:lnTo>
                  <a:lnTo>
                    <a:pt x="718" y="161"/>
                  </a:lnTo>
                  <a:lnTo>
                    <a:pt x="710" y="185"/>
                  </a:lnTo>
                  <a:lnTo>
                    <a:pt x="681" y="192"/>
                  </a:lnTo>
                  <a:lnTo>
                    <a:pt x="633" y="224"/>
                  </a:lnTo>
                  <a:lnTo>
                    <a:pt x="560" y="231"/>
                  </a:lnTo>
                  <a:lnTo>
                    <a:pt x="512" y="246"/>
                  </a:lnTo>
                  <a:lnTo>
                    <a:pt x="483" y="251"/>
                  </a:lnTo>
                  <a:lnTo>
                    <a:pt x="476" y="244"/>
                  </a:lnTo>
                  <a:lnTo>
                    <a:pt x="375" y="276"/>
                  </a:lnTo>
                  <a:lnTo>
                    <a:pt x="339" y="293"/>
                  </a:lnTo>
                  <a:lnTo>
                    <a:pt x="355" y="276"/>
                  </a:lnTo>
                  <a:lnTo>
                    <a:pt x="303" y="317"/>
                  </a:lnTo>
                  <a:lnTo>
                    <a:pt x="274" y="337"/>
                  </a:lnTo>
                  <a:lnTo>
                    <a:pt x="245" y="389"/>
                  </a:lnTo>
                  <a:lnTo>
                    <a:pt x="234" y="396"/>
                  </a:lnTo>
                  <a:lnTo>
                    <a:pt x="230" y="389"/>
                  </a:lnTo>
                  <a:lnTo>
                    <a:pt x="242" y="371"/>
                  </a:lnTo>
                  <a:lnTo>
                    <a:pt x="230" y="394"/>
                  </a:lnTo>
                  <a:lnTo>
                    <a:pt x="214" y="401"/>
                  </a:lnTo>
                  <a:lnTo>
                    <a:pt x="222" y="389"/>
                  </a:lnTo>
                  <a:lnTo>
                    <a:pt x="209" y="391"/>
                  </a:lnTo>
                  <a:lnTo>
                    <a:pt x="185" y="441"/>
                  </a:lnTo>
                  <a:lnTo>
                    <a:pt x="173" y="470"/>
                  </a:lnTo>
                  <a:lnTo>
                    <a:pt x="133" y="504"/>
                  </a:lnTo>
                  <a:lnTo>
                    <a:pt x="108" y="541"/>
                  </a:lnTo>
                  <a:lnTo>
                    <a:pt x="56" y="578"/>
                  </a:lnTo>
                  <a:lnTo>
                    <a:pt x="20" y="588"/>
                  </a:lnTo>
                  <a:lnTo>
                    <a:pt x="0" y="605"/>
                  </a:lnTo>
                  <a:lnTo>
                    <a:pt x="11" y="622"/>
                  </a:lnTo>
                  <a:lnTo>
                    <a:pt x="48" y="630"/>
                  </a:lnTo>
                  <a:lnTo>
                    <a:pt x="100" y="615"/>
                  </a:lnTo>
                  <a:lnTo>
                    <a:pt x="157" y="602"/>
                  </a:lnTo>
                  <a:lnTo>
                    <a:pt x="250" y="610"/>
                  </a:lnTo>
                  <a:lnTo>
                    <a:pt x="306" y="588"/>
                  </a:lnTo>
                  <a:lnTo>
                    <a:pt x="387" y="573"/>
                  </a:lnTo>
                  <a:lnTo>
                    <a:pt x="423" y="576"/>
                  </a:lnTo>
                  <a:lnTo>
                    <a:pt x="496" y="563"/>
                  </a:lnTo>
                  <a:lnTo>
                    <a:pt x="500" y="563"/>
                  </a:lnTo>
                  <a:lnTo>
                    <a:pt x="568" y="563"/>
                  </a:lnTo>
                  <a:lnTo>
                    <a:pt x="573" y="578"/>
                  </a:lnTo>
                  <a:lnTo>
                    <a:pt x="609" y="588"/>
                  </a:lnTo>
                  <a:lnTo>
                    <a:pt x="597" y="595"/>
                  </a:lnTo>
                  <a:lnTo>
                    <a:pt x="601" y="600"/>
                  </a:lnTo>
                  <a:lnTo>
                    <a:pt x="593" y="602"/>
                  </a:lnTo>
                  <a:lnTo>
                    <a:pt x="585" y="610"/>
                  </a:lnTo>
                  <a:lnTo>
                    <a:pt x="589" y="615"/>
                  </a:lnTo>
                  <a:lnTo>
                    <a:pt x="573" y="637"/>
                  </a:lnTo>
                  <a:lnTo>
                    <a:pt x="549" y="654"/>
                  </a:lnTo>
                  <a:lnTo>
                    <a:pt x="541" y="654"/>
                  </a:lnTo>
                  <a:lnTo>
                    <a:pt x="544" y="667"/>
                  </a:lnTo>
                  <a:lnTo>
                    <a:pt x="557" y="657"/>
                  </a:lnTo>
                  <a:lnTo>
                    <a:pt x="638" y="635"/>
                  </a:lnTo>
                  <a:lnTo>
                    <a:pt x="681" y="618"/>
                  </a:lnTo>
                  <a:lnTo>
                    <a:pt x="702" y="605"/>
                  </a:lnTo>
                  <a:lnTo>
                    <a:pt x="661" y="633"/>
                  </a:lnTo>
                  <a:lnTo>
                    <a:pt x="621" y="647"/>
                  </a:lnTo>
                  <a:lnTo>
                    <a:pt x="585" y="667"/>
                  </a:lnTo>
                  <a:lnTo>
                    <a:pt x="573" y="667"/>
                  </a:lnTo>
                  <a:lnTo>
                    <a:pt x="553" y="677"/>
                  </a:lnTo>
                  <a:lnTo>
                    <a:pt x="585" y="674"/>
                  </a:lnTo>
                  <a:lnTo>
                    <a:pt x="638" y="649"/>
                  </a:lnTo>
                  <a:lnTo>
                    <a:pt x="621" y="667"/>
                  </a:lnTo>
                  <a:lnTo>
                    <a:pt x="568" y="689"/>
                  </a:lnTo>
                  <a:lnTo>
                    <a:pt x="597" y="689"/>
                  </a:lnTo>
                  <a:lnTo>
                    <a:pt x="597" y="687"/>
                  </a:lnTo>
                  <a:lnTo>
                    <a:pt x="613" y="684"/>
                  </a:lnTo>
                  <a:lnTo>
                    <a:pt x="605" y="687"/>
                  </a:lnTo>
                  <a:lnTo>
                    <a:pt x="597" y="693"/>
                  </a:lnTo>
                  <a:lnTo>
                    <a:pt x="593" y="689"/>
                  </a:lnTo>
                  <a:lnTo>
                    <a:pt x="593" y="689"/>
                  </a:lnTo>
                  <a:lnTo>
                    <a:pt x="532" y="733"/>
                  </a:lnTo>
                  <a:lnTo>
                    <a:pt x="508" y="755"/>
                  </a:lnTo>
                  <a:lnTo>
                    <a:pt x="516" y="758"/>
                  </a:lnTo>
                  <a:lnTo>
                    <a:pt x="508" y="768"/>
                  </a:lnTo>
                  <a:lnTo>
                    <a:pt x="537" y="787"/>
                  </a:lnTo>
                  <a:lnTo>
                    <a:pt x="593" y="770"/>
                  </a:lnTo>
                  <a:lnTo>
                    <a:pt x="621" y="765"/>
                  </a:lnTo>
                  <a:lnTo>
                    <a:pt x="613" y="772"/>
                  </a:lnTo>
                  <a:lnTo>
                    <a:pt x="593" y="775"/>
                  </a:lnTo>
                  <a:lnTo>
                    <a:pt x="589" y="782"/>
                  </a:lnTo>
                  <a:lnTo>
                    <a:pt x="613" y="775"/>
                  </a:lnTo>
                  <a:lnTo>
                    <a:pt x="597" y="782"/>
                  </a:lnTo>
                  <a:lnTo>
                    <a:pt x="601" y="792"/>
                  </a:lnTo>
                  <a:lnTo>
                    <a:pt x="585" y="802"/>
                  </a:lnTo>
                  <a:lnTo>
                    <a:pt x="609" y="789"/>
                  </a:lnTo>
                  <a:lnTo>
                    <a:pt x="625" y="789"/>
                  </a:lnTo>
                  <a:lnTo>
                    <a:pt x="638" y="787"/>
                  </a:lnTo>
                  <a:lnTo>
                    <a:pt x="674" y="778"/>
                  </a:lnTo>
                  <a:lnTo>
                    <a:pt x="690" y="775"/>
                  </a:lnTo>
                  <a:lnTo>
                    <a:pt x="690" y="772"/>
                  </a:lnTo>
                  <a:lnTo>
                    <a:pt x="742" y="775"/>
                  </a:lnTo>
                  <a:lnTo>
                    <a:pt x="762" y="769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27960" y="1533240"/>
              <a:ext cx="1440" cy="1080"/>
            </a:xfrm>
            <a:prstGeom prst="line">
              <a:avLst/>
            </a:prstGeom>
            <a:ln w="4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20040" y="1525320"/>
              <a:ext cx="31320" cy="1368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89" y="0"/>
                  </a:moveTo>
                  <a:lnTo>
                    <a:pt x="89" y="0"/>
                  </a:lnTo>
                  <a:lnTo>
                    <a:pt x="51" y="21"/>
                  </a:lnTo>
                  <a:lnTo>
                    <a:pt x="39" y="21"/>
                  </a:lnTo>
                  <a:lnTo>
                    <a:pt x="39" y="27"/>
                  </a:lnTo>
                  <a:lnTo>
                    <a:pt x="0" y="39"/>
                  </a:lnTo>
                  <a:lnTo>
                    <a:pt x="28" y="27"/>
                  </a:lnTo>
                  <a:lnTo>
                    <a:pt x="20" y="24"/>
                  </a:lnTo>
                  <a:lnTo>
                    <a:pt x="48" y="17"/>
                  </a:lnTo>
                  <a:lnTo>
                    <a:pt x="39" y="14"/>
                  </a:lnTo>
                  <a:lnTo>
                    <a:pt x="60" y="12"/>
                  </a:lnTo>
                  <a:lnTo>
                    <a:pt x="89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37680" y="1530000"/>
              <a:ext cx="18720" cy="6120"/>
            </a:xfrm>
            <a:custGeom>
              <a:avLst/>
              <a:gdLst/>
              <a:ahLst/>
              <a:rect l="l" t="t" r="r" b="b"/>
              <a:pathLst>
                <a:path w="54" h="19">
                  <a:moveTo>
                    <a:pt x="53" y="0"/>
                  </a:moveTo>
                  <a:lnTo>
                    <a:pt x="53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29" y="7"/>
                  </a:lnTo>
                  <a:lnTo>
                    <a:pt x="0" y="13"/>
                  </a:lnTo>
                  <a:lnTo>
                    <a:pt x="8" y="10"/>
                  </a:lnTo>
                  <a:lnTo>
                    <a:pt x="53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53520" y="1518840"/>
              <a:ext cx="16920" cy="6120"/>
            </a:xfrm>
            <a:custGeom>
              <a:avLst/>
              <a:gdLst/>
              <a:ahLst/>
              <a:rect l="l" t="t" r="r" b="b"/>
              <a:pathLst>
                <a:path w="49" h="16">
                  <a:moveTo>
                    <a:pt x="48" y="2"/>
                  </a:moveTo>
                  <a:lnTo>
                    <a:pt x="48" y="2"/>
                  </a:lnTo>
                  <a:lnTo>
                    <a:pt x="23" y="12"/>
                  </a:lnTo>
                  <a:lnTo>
                    <a:pt x="8" y="15"/>
                  </a:lnTo>
                  <a:lnTo>
                    <a:pt x="0" y="12"/>
                  </a:lnTo>
                  <a:lnTo>
                    <a:pt x="36" y="0"/>
                  </a:lnTo>
                  <a:lnTo>
                    <a:pt x="48" y="2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39120" y="1520640"/>
              <a:ext cx="23400" cy="756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65" y="0"/>
                  </a:moveTo>
                  <a:lnTo>
                    <a:pt x="65" y="0"/>
                  </a:lnTo>
                  <a:lnTo>
                    <a:pt x="54" y="8"/>
                  </a:lnTo>
                  <a:lnTo>
                    <a:pt x="0" y="20"/>
                  </a:lnTo>
                  <a:lnTo>
                    <a:pt x="58" y="0"/>
                  </a:lnTo>
                  <a:lnTo>
                    <a:pt x="65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40560" y="1514160"/>
              <a:ext cx="31680" cy="1080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85" y="0"/>
                  </a:moveTo>
                  <a:lnTo>
                    <a:pt x="85" y="0"/>
                  </a:lnTo>
                  <a:lnTo>
                    <a:pt x="0" y="30"/>
                  </a:lnTo>
                  <a:lnTo>
                    <a:pt x="68" y="0"/>
                  </a:lnTo>
                  <a:lnTo>
                    <a:pt x="85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67560" y="1509480"/>
              <a:ext cx="21960" cy="5760"/>
            </a:xfrm>
            <a:custGeom>
              <a:avLst/>
              <a:gdLst/>
              <a:ahLst/>
              <a:rect l="l" t="t" r="r" b="b"/>
              <a:pathLst>
                <a:path w="61" h="18">
                  <a:moveTo>
                    <a:pt x="60" y="0"/>
                  </a:moveTo>
                  <a:lnTo>
                    <a:pt x="60" y="0"/>
                  </a:lnTo>
                  <a:lnTo>
                    <a:pt x="36" y="5"/>
                  </a:lnTo>
                  <a:lnTo>
                    <a:pt x="57" y="8"/>
                  </a:lnTo>
                  <a:lnTo>
                    <a:pt x="36" y="12"/>
                  </a:lnTo>
                  <a:lnTo>
                    <a:pt x="36" y="5"/>
                  </a:lnTo>
                  <a:lnTo>
                    <a:pt x="16" y="17"/>
                  </a:lnTo>
                  <a:lnTo>
                    <a:pt x="20" y="10"/>
                  </a:lnTo>
                  <a:lnTo>
                    <a:pt x="3" y="17"/>
                  </a:lnTo>
                  <a:lnTo>
                    <a:pt x="0" y="15"/>
                  </a:lnTo>
                  <a:lnTo>
                    <a:pt x="16" y="8"/>
                  </a:lnTo>
                  <a:lnTo>
                    <a:pt x="24" y="8"/>
                  </a:lnTo>
                  <a:lnTo>
                    <a:pt x="48" y="0"/>
                  </a:lnTo>
                  <a:lnTo>
                    <a:pt x="60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61440" y="1509480"/>
              <a:ext cx="34560" cy="10800"/>
            </a:xfrm>
            <a:custGeom>
              <a:avLst/>
              <a:gdLst/>
              <a:ahLst/>
              <a:rect l="l" t="t" r="r" b="b"/>
              <a:pathLst>
                <a:path w="98" h="31">
                  <a:moveTo>
                    <a:pt x="97" y="0"/>
                  </a:moveTo>
                  <a:lnTo>
                    <a:pt x="97" y="0"/>
                  </a:lnTo>
                  <a:lnTo>
                    <a:pt x="93" y="5"/>
                  </a:lnTo>
                  <a:lnTo>
                    <a:pt x="58" y="20"/>
                  </a:lnTo>
                  <a:lnTo>
                    <a:pt x="85" y="8"/>
                  </a:lnTo>
                  <a:lnTo>
                    <a:pt x="37" y="23"/>
                  </a:lnTo>
                  <a:lnTo>
                    <a:pt x="0" y="30"/>
                  </a:lnTo>
                  <a:lnTo>
                    <a:pt x="29" y="23"/>
                  </a:lnTo>
                  <a:lnTo>
                    <a:pt x="97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80440" y="1541160"/>
              <a:ext cx="28080" cy="9000"/>
            </a:xfrm>
            <a:custGeom>
              <a:avLst/>
              <a:gdLst/>
              <a:ahLst/>
              <a:rect l="l" t="t" r="r" b="b"/>
              <a:pathLst>
                <a:path w="78" h="26">
                  <a:moveTo>
                    <a:pt x="77" y="5"/>
                  </a:moveTo>
                  <a:lnTo>
                    <a:pt x="77" y="5"/>
                  </a:lnTo>
                  <a:lnTo>
                    <a:pt x="12" y="25"/>
                  </a:lnTo>
                  <a:lnTo>
                    <a:pt x="0" y="22"/>
                  </a:lnTo>
                  <a:lnTo>
                    <a:pt x="8" y="20"/>
                  </a:lnTo>
                  <a:lnTo>
                    <a:pt x="12" y="15"/>
                  </a:lnTo>
                  <a:lnTo>
                    <a:pt x="53" y="0"/>
                  </a:lnTo>
                  <a:lnTo>
                    <a:pt x="57" y="8"/>
                  </a:lnTo>
                  <a:lnTo>
                    <a:pt x="25" y="15"/>
                  </a:lnTo>
                  <a:lnTo>
                    <a:pt x="62" y="8"/>
                  </a:lnTo>
                  <a:lnTo>
                    <a:pt x="77" y="5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66040" y="1550520"/>
              <a:ext cx="18720" cy="9360"/>
            </a:xfrm>
            <a:custGeom>
              <a:avLst/>
              <a:gdLst/>
              <a:ahLst/>
              <a:rect l="l" t="t" r="r" b="b"/>
              <a:pathLst>
                <a:path w="52" h="25">
                  <a:moveTo>
                    <a:pt x="51" y="0"/>
                  </a:moveTo>
                  <a:lnTo>
                    <a:pt x="51" y="0"/>
                  </a:lnTo>
                  <a:lnTo>
                    <a:pt x="44" y="5"/>
                  </a:lnTo>
                  <a:lnTo>
                    <a:pt x="35" y="2"/>
                  </a:lnTo>
                  <a:lnTo>
                    <a:pt x="35" y="7"/>
                  </a:lnTo>
                  <a:lnTo>
                    <a:pt x="27" y="7"/>
                  </a:lnTo>
                  <a:lnTo>
                    <a:pt x="0" y="24"/>
                  </a:lnTo>
                  <a:lnTo>
                    <a:pt x="27" y="0"/>
                  </a:lnTo>
                  <a:lnTo>
                    <a:pt x="51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93040" y="1552320"/>
              <a:ext cx="12240" cy="57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6" y="0"/>
                  </a:moveTo>
                  <a:lnTo>
                    <a:pt x="36" y="0"/>
                  </a:lnTo>
                  <a:lnTo>
                    <a:pt x="36" y="5"/>
                  </a:lnTo>
                  <a:lnTo>
                    <a:pt x="0" y="17"/>
                  </a:lnTo>
                  <a:lnTo>
                    <a:pt x="8" y="10"/>
                  </a:lnTo>
                  <a:lnTo>
                    <a:pt x="36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00960" y="1547280"/>
              <a:ext cx="10800" cy="61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32" y="0"/>
                  </a:moveTo>
                  <a:lnTo>
                    <a:pt x="32" y="0"/>
                  </a:lnTo>
                  <a:lnTo>
                    <a:pt x="12" y="12"/>
                  </a:lnTo>
                  <a:lnTo>
                    <a:pt x="0" y="17"/>
                  </a:lnTo>
                  <a:lnTo>
                    <a:pt x="24" y="0"/>
                  </a:lnTo>
                  <a:lnTo>
                    <a:pt x="32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96280" y="1549080"/>
              <a:ext cx="7560" cy="43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0" y="0"/>
                  </a:moveTo>
                  <a:lnTo>
                    <a:pt x="20" y="0"/>
                  </a:lnTo>
                  <a:lnTo>
                    <a:pt x="8" y="10"/>
                  </a:lnTo>
                  <a:lnTo>
                    <a:pt x="0" y="12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97720" y="1561680"/>
              <a:ext cx="1440" cy="1440"/>
            </a:xfrm>
            <a:prstGeom prst="line">
              <a:avLst/>
            </a:prstGeom>
            <a:ln w="4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37280" y="2253240"/>
              <a:ext cx="217080" cy="105840"/>
            </a:xfrm>
            <a:custGeom>
              <a:avLst/>
              <a:gdLst/>
              <a:ahLst/>
              <a:rect l="l" t="t" r="r" b="b"/>
              <a:pathLst>
                <a:path w="606" h="296">
                  <a:moveTo>
                    <a:pt x="0" y="148"/>
                  </a:moveTo>
                  <a:lnTo>
                    <a:pt x="24" y="136"/>
                  </a:lnTo>
                  <a:lnTo>
                    <a:pt x="32" y="152"/>
                  </a:lnTo>
                  <a:lnTo>
                    <a:pt x="92" y="157"/>
                  </a:lnTo>
                  <a:lnTo>
                    <a:pt x="129" y="145"/>
                  </a:lnTo>
                  <a:lnTo>
                    <a:pt x="129" y="136"/>
                  </a:lnTo>
                  <a:lnTo>
                    <a:pt x="133" y="123"/>
                  </a:lnTo>
                  <a:lnTo>
                    <a:pt x="137" y="113"/>
                  </a:lnTo>
                  <a:lnTo>
                    <a:pt x="137" y="101"/>
                  </a:lnTo>
                  <a:lnTo>
                    <a:pt x="142" y="88"/>
                  </a:lnTo>
                  <a:lnTo>
                    <a:pt x="142" y="77"/>
                  </a:lnTo>
                  <a:lnTo>
                    <a:pt x="145" y="64"/>
                  </a:lnTo>
                  <a:lnTo>
                    <a:pt x="145" y="59"/>
                  </a:lnTo>
                  <a:lnTo>
                    <a:pt x="169" y="87"/>
                  </a:lnTo>
                  <a:lnTo>
                    <a:pt x="161" y="108"/>
                  </a:lnTo>
                  <a:lnTo>
                    <a:pt x="198" y="108"/>
                  </a:lnTo>
                  <a:lnTo>
                    <a:pt x="234" y="94"/>
                  </a:lnTo>
                  <a:lnTo>
                    <a:pt x="246" y="81"/>
                  </a:lnTo>
                  <a:lnTo>
                    <a:pt x="262" y="72"/>
                  </a:lnTo>
                  <a:lnTo>
                    <a:pt x="291" y="81"/>
                  </a:lnTo>
                  <a:lnTo>
                    <a:pt x="343" y="81"/>
                  </a:lnTo>
                  <a:lnTo>
                    <a:pt x="364" y="59"/>
                  </a:lnTo>
                  <a:lnTo>
                    <a:pt x="403" y="49"/>
                  </a:lnTo>
                  <a:lnTo>
                    <a:pt x="415" y="32"/>
                  </a:lnTo>
                  <a:lnTo>
                    <a:pt x="465" y="10"/>
                  </a:lnTo>
                  <a:lnTo>
                    <a:pt x="508" y="0"/>
                  </a:lnTo>
                  <a:lnTo>
                    <a:pt x="577" y="5"/>
                  </a:lnTo>
                  <a:lnTo>
                    <a:pt x="581" y="25"/>
                  </a:lnTo>
                  <a:lnTo>
                    <a:pt x="581" y="30"/>
                  </a:lnTo>
                  <a:lnTo>
                    <a:pt x="589" y="54"/>
                  </a:lnTo>
                  <a:lnTo>
                    <a:pt x="577" y="92"/>
                  </a:lnTo>
                  <a:lnTo>
                    <a:pt x="577" y="111"/>
                  </a:lnTo>
                  <a:lnTo>
                    <a:pt x="605" y="113"/>
                  </a:lnTo>
                  <a:lnTo>
                    <a:pt x="598" y="121"/>
                  </a:lnTo>
                  <a:lnTo>
                    <a:pt x="589" y="128"/>
                  </a:lnTo>
                  <a:lnTo>
                    <a:pt x="585" y="137"/>
                  </a:lnTo>
                  <a:lnTo>
                    <a:pt x="573" y="152"/>
                  </a:lnTo>
                  <a:lnTo>
                    <a:pt x="545" y="163"/>
                  </a:lnTo>
                  <a:lnTo>
                    <a:pt x="512" y="182"/>
                  </a:lnTo>
                  <a:lnTo>
                    <a:pt x="465" y="217"/>
                  </a:lnTo>
                  <a:lnTo>
                    <a:pt x="376" y="256"/>
                  </a:lnTo>
                  <a:lnTo>
                    <a:pt x="322" y="273"/>
                  </a:lnTo>
                  <a:lnTo>
                    <a:pt x="295" y="273"/>
                  </a:lnTo>
                  <a:lnTo>
                    <a:pt x="291" y="278"/>
                  </a:lnTo>
                  <a:lnTo>
                    <a:pt x="270" y="278"/>
                  </a:lnTo>
                  <a:lnTo>
                    <a:pt x="262" y="283"/>
                  </a:lnTo>
                  <a:lnTo>
                    <a:pt x="185" y="278"/>
                  </a:lnTo>
                  <a:lnTo>
                    <a:pt x="158" y="285"/>
                  </a:lnTo>
                  <a:lnTo>
                    <a:pt x="109" y="287"/>
                  </a:lnTo>
                  <a:lnTo>
                    <a:pt x="92" y="295"/>
                  </a:lnTo>
                  <a:lnTo>
                    <a:pt x="52" y="285"/>
                  </a:lnTo>
                  <a:lnTo>
                    <a:pt x="56" y="280"/>
                  </a:lnTo>
                  <a:lnTo>
                    <a:pt x="44" y="278"/>
                  </a:lnTo>
                  <a:lnTo>
                    <a:pt x="41" y="285"/>
                  </a:lnTo>
                  <a:lnTo>
                    <a:pt x="36" y="280"/>
                  </a:lnTo>
                  <a:lnTo>
                    <a:pt x="44" y="268"/>
                  </a:lnTo>
                  <a:lnTo>
                    <a:pt x="28" y="248"/>
                  </a:lnTo>
                  <a:lnTo>
                    <a:pt x="44" y="244"/>
                  </a:lnTo>
                  <a:lnTo>
                    <a:pt x="48" y="227"/>
                  </a:lnTo>
                  <a:lnTo>
                    <a:pt x="0" y="148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70840" y="2307240"/>
              <a:ext cx="31320" cy="18720"/>
            </a:xfrm>
            <a:custGeom>
              <a:avLst/>
              <a:gdLst/>
              <a:ahLst/>
              <a:rect l="l" t="t" r="r" b="b"/>
              <a:pathLst>
                <a:path w="90" h="51">
                  <a:moveTo>
                    <a:pt x="69" y="0"/>
                  </a:moveTo>
                  <a:lnTo>
                    <a:pt x="69" y="0"/>
                  </a:lnTo>
                  <a:lnTo>
                    <a:pt x="32" y="8"/>
                  </a:lnTo>
                  <a:lnTo>
                    <a:pt x="0" y="25"/>
                  </a:lnTo>
                  <a:lnTo>
                    <a:pt x="8" y="40"/>
                  </a:lnTo>
                  <a:lnTo>
                    <a:pt x="17" y="42"/>
                  </a:lnTo>
                  <a:lnTo>
                    <a:pt x="32" y="50"/>
                  </a:lnTo>
                  <a:lnTo>
                    <a:pt x="44" y="37"/>
                  </a:lnTo>
                  <a:lnTo>
                    <a:pt x="77" y="32"/>
                  </a:lnTo>
                  <a:lnTo>
                    <a:pt x="89" y="18"/>
                  </a:lnTo>
                  <a:lnTo>
                    <a:pt x="69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49400" y="2307240"/>
              <a:ext cx="4320" cy="576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0" y="18"/>
                  </a:moveTo>
                  <a:lnTo>
                    <a:pt x="8" y="3"/>
                  </a:lnTo>
                  <a:lnTo>
                    <a:pt x="11" y="0"/>
                  </a:lnTo>
                  <a:lnTo>
                    <a:pt x="4" y="15"/>
                  </a:lnTo>
                  <a:lnTo>
                    <a:pt x="0" y="18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63680" y="2173680"/>
              <a:ext cx="12600" cy="75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12" y="22"/>
                  </a:moveTo>
                  <a:lnTo>
                    <a:pt x="12" y="22"/>
                  </a:lnTo>
                  <a:lnTo>
                    <a:pt x="0" y="15"/>
                  </a:lnTo>
                  <a:lnTo>
                    <a:pt x="5" y="0"/>
                  </a:lnTo>
                  <a:lnTo>
                    <a:pt x="12" y="10"/>
                  </a:lnTo>
                  <a:lnTo>
                    <a:pt x="36" y="5"/>
                  </a:lnTo>
                  <a:lnTo>
                    <a:pt x="32" y="15"/>
                  </a:lnTo>
                  <a:lnTo>
                    <a:pt x="12" y="22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59000" y="2175480"/>
              <a:ext cx="7560" cy="57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15"/>
                  </a:moveTo>
                  <a:lnTo>
                    <a:pt x="21" y="15"/>
                  </a:lnTo>
                  <a:lnTo>
                    <a:pt x="0" y="13"/>
                  </a:lnTo>
                  <a:lnTo>
                    <a:pt x="16" y="0"/>
                  </a:lnTo>
                  <a:lnTo>
                    <a:pt x="21" y="15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30640" y="2230920"/>
              <a:ext cx="5760" cy="28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9"/>
                  </a:moveTo>
                  <a:lnTo>
                    <a:pt x="0" y="9"/>
                  </a:lnTo>
                  <a:lnTo>
                    <a:pt x="5" y="4"/>
                  </a:lnTo>
                  <a:lnTo>
                    <a:pt x="17" y="0"/>
                  </a:lnTo>
                  <a:lnTo>
                    <a:pt x="0" y="9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16240" y="2202480"/>
              <a:ext cx="10800" cy="576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16" y="17"/>
                  </a:moveTo>
                  <a:lnTo>
                    <a:pt x="16" y="17"/>
                  </a:lnTo>
                  <a:lnTo>
                    <a:pt x="0" y="15"/>
                  </a:lnTo>
                  <a:lnTo>
                    <a:pt x="25" y="0"/>
                  </a:lnTo>
                  <a:lnTo>
                    <a:pt x="28" y="5"/>
                  </a:lnTo>
                  <a:lnTo>
                    <a:pt x="20" y="7"/>
                  </a:lnTo>
                  <a:lnTo>
                    <a:pt x="12" y="15"/>
                  </a:lnTo>
                  <a:lnTo>
                    <a:pt x="16" y="17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26040" y="1623600"/>
              <a:ext cx="187200" cy="71280"/>
            </a:xfrm>
            <a:custGeom>
              <a:avLst/>
              <a:gdLst/>
              <a:ahLst/>
              <a:rect l="l" t="t" r="r" b="b"/>
              <a:pathLst>
                <a:path w="520" h="200">
                  <a:moveTo>
                    <a:pt x="213" y="24"/>
                  </a:moveTo>
                  <a:lnTo>
                    <a:pt x="190" y="29"/>
                  </a:lnTo>
                  <a:lnTo>
                    <a:pt x="177" y="26"/>
                  </a:lnTo>
                  <a:lnTo>
                    <a:pt x="174" y="16"/>
                  </a:lnTo>
                  <a:lnTo>
                    <a:pt x="138" y="10"/>
                  </a:lnTo>
                  <a:lnTo>
                    <a:pt x="130" y="14"/>
                  </a:lnTo>
                  <a:lnTo>
                    <a:pt x="113" y="10"/>
                  </a:lnTo>
                  <a:lnTo>
                    <a:pt x="113" y="14"/>
                  </a:lnTo>
                  <a:lnTo>
                    <a:pt x="80" y="24"/>
                  </a:lnTo>
                  <a:lnTo>
                    <a:pt x="57" y="26"/>
                  </a:lnTo>
                  <a:lnTo>
                    <a:pt x="77" y="47"/>
                  </a:lnTo>
                  <a:lnTo>
                    <a:pt x="117" y="61"/>
                  </a:lnTo>
                  <a:lnTo>
                    <a:pt x="113" y="66"/>
                  </a:lnTo>
                  <a:lnTo>
                    <a:pt x="109" y="63"/>
                  </a:lnTo>
                  <a:lnTo>
                    <a:pt x="89" y="76"/>
                  </a:lnTo>
                  <a:lnTo>
                    <a:pt x="101" y="88"/>
                  </a:lnTo>
                  <a:lnTo>
                    <a:pt x="77" y="83"/>
                  </a:lnTo>
                  <a:lnTo>
                    <a:pt x="24" y="88"/>
                  </a:lnTo>
                  <a:lnTo>
                    <a:pt x="16" y="96"/>
                  </a:lnTo>
                  <a:lnTo>
                    <a:pt x="4" y="88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28" y="103"/>
                  </a:lnTo>
                  <a:lnTo>
                    <a:pt x="77" y="98"/>
                  </a:lnTo>
                  <a:lnTo>
                    <a:pt x="125" y="110"/>
                  </a:lnTo>
                  <a:lnTo>
                    <a:pt x="117" y="115"/>
                  </a:lnTo>
                  <a:lnTo>
                    <a:pt x="121" y="122"/>
                  </a:lnTo>
                  <a:lnTo>
                    <a:pt x="133" y="130"/>
                  </a:lnTo>
                  <a:lnTo>
                    <a:pt x="130" y="132"/>
                  </a:lnTo>
                  <a:lnTo>
                    <a:pt x="125" y="132"/>
                  </a:lnTo>
                  <a:lnTo>
                    <a:pt x="141" y="150"/>
                  </a:lnTo>
                  <a:lnTo>
                    <a:pt x="150" y="137"/>
                  </a:lnTo>
                  <a:lnTo>
                    <a:pt x="161" y="137"/>
                  </a:lnTo>
                  <a:lnTo>
                    <a:pt x="193" y="159"/>
                  </a:lnTo>
                  <a:lnTo>
                    <a:pt x="186" y="161"/>
                  </a:lnTo>
                  <a:lnTo>
                    <a:pt x="214" y="176"/>
                  </a:lnTo>
                  <a:lnTo>
                    <a:pt x="242" y="179"/>
                  </a:lnTo>
                  <a:lnTo>
                    <a:pt x="266" y="189"/>
                  </a:lnTo>
                  <a:lnTo>
                    <a:pt x="273" y="188"/>
                  </a:lnTo>
                  <a:lnTo>
                    <a:pt x="266" y="189"/>
                  </a:lnTo>
                  <a:lnTo>
                    <a:pt x="270" y="192"/>
                  </a:lnTo>
                  <a:lnTo>
                    <a:pt x="273" y="188"/>
                  </a:lnTo>
                  <a:lnTo>
                    <a:pt x="275" y="192"/>
                  </a:lnTo>
                  <a:lnTo>
                    <a:pt x="294" y="196"/>
                  </a:lnTo>
                  <a:lnTo>
                    <a:pt x="299" y="199"/>
                  </a:lnTo>
                  <a:lnTo>
                    <a:pt x="298" y="196"/>
                  </a:lnTo>
                  <a:lnTo>
                    <a:pt x="297" y="193"/>
                  </a:lnTo>
                  <a:lnTo>
                    <a:pt x="287" y="191"/>
                  </a:lnTo>
                  <a:lnTo>
                    <a:pt x="290" y="182"/>
                  </a:lnTo>
                  <a:lnTo>
                    <a:pt x="293" y="175"/>
                  </a:lnTo>
                  <a:lnTo>
                    <a:pt x="297" y="173"/>
                  </a:lnTo>
                  <a:lnTo>
                    <a:pt x="302" y="173"/>
                  </a:lnTo>
                  <a:lnTo>
                    <a:pt x="308" y="176"/>
                  </a:lnTo>
                  <a:lnTo>
                    <a:pt x="311" y="174"/>
                  </a:lnTo>
                  <a:lnTo>
                    <a:pt x="302" y="170"/>
                  </a:lnTo>
                  <a:lnTo>
                    <a:pt x="302" y="168"/>
                  </a:lnTo>
                  <a:lnTo>
                    <a:pt x="321" y="167"/>
                  </a:lnTo>
                  <a:lnTo>
                    <a:pt x="321" y="164"/>
                  </a:lnTo>
                  <a:lnTo>
                    <a:pt x="312" y="160"/>
                  </a:lnTo>
                  <a:lnTo>
                    <a:pt x="316" y="158"/>
                  </a:lnTo>
                  <a:lnTo>
                    <a:pt x="321" y="158"/>
                  </a:lnTo>
                  <a:lnTo>
                    <a:pt x="326" y="159"/>
                  </a:lnTo>
                  <a:lnTo>
                    <a:pt x="326" y="156"/>
                  </a:lnTo>
                  <a:lnTo>
                    <a:pt x="318" y="154"/>
                  </a:lnTo>
                  <a:lnTo>
                    <a:pt x="316" y="151"/>
                  </a:lnTo>
                  <a:lnTo>
                    <a:pt x="302" y="150"/>
                  </a:lnTo>
                  <a:lnTo>
                    <a:pt x="300" y="142"/>
                  </a:lnTo>
                  <a:lnTo>
                    <a:pt x="305" y="139"/>
                  </a:lnTo>
                  <a:lnTo>
                    <a:pt x="312" y="139"/>
                  </a:lnTo>
                  <a:lnTo>
                    <a:pt x="317" y="142"/>
                  </a:lnTo>
                  <a:lnTo>
                    <a:pt x="330" y="143"/>
                  </a:lnTo>
                  <a:lnTo>
                    <a:pt x="344" y="140"/>
                  </a:lnTo>
                  <a:lnTo>
                    <a:pt x="345" y="140"/>
                  </a:lnTo>
                  <a:lnTo>
                    <a:pt x="346" y="140"/>
                  </a:lnTo>
                  <a:lnTo>
                    <a:pt x="350" y="140"/>
                  </a:lnTo>
                  <a:lnTo>
                    <a:pt x="352" y="141"/>
                  </a:lnTo>
                  <a:lnTo>
                    <a:pt x="355" y="141"/>
                  </a:lnTo>
                  <a:lnTo>
                    <a:pt x="359" y="141"/>
                  </a:lnTo>
                  <a:lnTo>
                    <a:pt x="361" y="141"/>
                  </a:lnTo>
                  <a:lnTo>
                    <a:pt x="362" y="141"/>
                  </a:lnTo>
                  <a:lnTo>
                    <a:pt x="363" y="141"/>
                  </a:lnTo>
                  <a:lnTo>
                    <a:pt x="364" y="140"/>
                  </a:lnTo>
                  <a:lnTo>
                    <a:pt x="366" y="139"/>
                  </a:lnTo>
                  <a:lnTo>
                    <a:pt x="367" y="138"/>
                  </a:lnTo>
                  <a:lnTo>
                    <a:pt x="370" y="137"/>
                  </a:lnTo>
                  <a:lnTo>
                    <a:pt x="372" y="137"/>
                  </a:lnTo>
                  <a:lnTo>
                    <a:pt x="372" y="136"/>
                  </a:lnTo>
                  <a:lnTo>
                    <a:pt x="373" y="136"/>
                  </a:lnTo>
                  <a:lnTo>
                    <a:pt x="399" y="143"/>
                  </a:lnTo>
                  <a:lnTo>
                    <a:pt x="400" y="139"/>
                  </a:lnTo>
                  <a:lnTo>
                    <a:pt x="408" y="137"/>
                  </a:lnTo>
                  <a:lnTo>
                    <a:pt x="415" y="125"/>
                  </a:lnTo>
                  <a:lnTo>
                    <a:pt x="421" y="122"/>
                  </a:lnTo>
                  <a:lnTo>
                    <a:pt x="436" y="123"/>
                  </a:lnTo>
                  <a:lnTo>
                    <a:pt x="444" y="117"/>
                  </a:lnTo>
                  <a:lnTo>
                    <a:pt x="462" y="114"/>
                  </a:lnTo>
                  <a:lnTo>
                    <a:pt x="484" y="114"/>
                  </a:lnTo>
                  <a:lnTo>
                    <a:pt x="490" y="116"/>
                  </a:lnTo>
                  <a:lnTo>
                    <a:pt x="506" y="114"/>
                  </a:lnTo>
                  <a:lnTo>
                    <a:pt x="519" y="109"/>
                  </a:lnTo>
                  <a:lnTo>
                    <a:pt x="518" y="98"/>
                  </a:lnTo>
                  <a:lnTo>
                    <a:pt x="493" y="79"/>
                  </a:lnTo>
                  <a:lnTo>
                    <a:pt x="474" y="76"/>
                  </a:lnTo>
                  <a:lnTo>
                    <a:pt x="472" y="71"/>
                  </a:lnTo>
                  <a:lnTo>
                    <a:pt x="492" y="72"/>
                  </a:lnTo>
                  <a:lnTo>
                    <a:pt x="496" y="66"/>
                  </a:lnTo>
                  <a:lnTo>
                    <a:pt x="500" y="63"/>
                  </a:lnTo>
                  <a:lnTo>
                    <a:pt x="491" y="50"/>
                  </a:lnTo>
                  <a:lnTo>
                    <a:pt x="490" y="47"/>
                  </a:lnTo>
                  <a:lnTo>
                    <a:pt x="489" y="42"/>
                  </a:lnTo>
                  <a:lnTo>
                    <a:pt x="471" y="37"/>
                  </a:lnTo>
                  <a:lnTo>
                    <a:pt x="474" y="18"/>
                  </a:lnTo>
                  <a:lnTo>
                    <a:pt x="453" y="4"/>
                  </a:lnTo>
                  <a:lnTo>
                    <a:pt x="439" y="2"/>
                  </a:lnTo>
                  <a:lnTo>
                    <a:pt x="424" y="0"/>
                  </a:lnTo>
                  <a:lnTo>
                    <a:pt x="412" y="1"/>
                  </a:lnTo>
                  <a:lnTo>
                    <a:pt x="409" y="5"/>
                  </a:lnTo>
                  <a:lnTo>
                    <a:pt x="376" y="12"/>
                  </a:lnTo>
                  <a:lnTo>
                    <a:pt x="371" y="11"/>
                  </a:lnTo>
                  <a:lnTo>
                    <a:pt x="370" y="7"/>
                  </a:lnTo>
                  <a:lnTo>
                    <a:pt x="352" y="7"/>
                  </a:lnTo>
                  <a:lnTo>
                    <a:pt x="332" y="17"/>
                  </a:lnTo>
                  <a:lnTo>
                    <a:pt x="323" y="17"/>
                  </a:lnTo>
                  <a:lnTo>
                    <a:pt x="318" y="21"/>
                  </a:lnTo>
                  <a:lnTo>
                    <a:pt x="296" y="25"/>
                  </a:lnTo>
                  <a:lnTo>
                    <a:pt x="278" y="21"/>
                  </a:lnTo>
                  <a:lnTo>
                    <a:pt x="273" y="23"/>
                  </a:lnTo>
                  <a:lnTo>
                    <a:pt x="272" y="27"/>
                  </a:lnTo>
                  <a:lnTo>
                    <a:pt x="269" y="28"/>
                  </a:lnTo>
                  <a:lnTo>
                    <a:pt x="266" y="26"/>
                  </a:lnTo>
                  <a:lnTo>
                    <a:pt x="264" y="26"/>
                  </a:lnTo>
                  <a:lnTo>
                    <a:pt x="257" y="29"/>
                  </a:lnTo>
                  <a:lnTo>
                    <a:pt x="249" y="29"/>
                  </a:lnTo>
                  <a:lnTo>
                    <a:pt x="243" y="24"/>
                  </a:lnTo>
                  <a:lnTo>
                    <a:pt x="217" y="23"/>
                  </a:lnTo>
                  <a:lnTo>
                    <a:pt x="213" y="2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26040" y="1623600"/>
              <a:ext cx="187200" cy="71280"/>
            </a:xfrm>
            <a:custGeom>
              <a:avLst/>
              <a:gdLst/>
              <a:ahLst/>
              <a:rect l="l" t="t" r="r" b="b"/>
              <a:pathLst>
                <a:path w="520" h="200">
                  <a:moveTo>
                    <a:pt x="213" y="24"/>
                  </a:moveTo>
                  <a:lnTo>
                    <a:pt x="190" y="29"/>
                  </a:lnTo>
                  <a:lnTo>
                    <a:pt x="177" y="26"/>
                  </a:lnTo>
                  <a:lnTo>
                    <a:pt x="174" y="16"/>
                  </a:lnTo>
                  <a:lnTo>
                    <a:pt x="138" y="10"/>
                  </a:lnTo>
                  <a:lnTo>
                    <a:pt x="130" y="14"/>
                  </a:lnTo>
                  <a:lnTo>
                    <a:pt x="113" y="10"/>
                  </a:lnTo>
                  <a:lnTo>
                    <a:pt x="113" y="14"/>
                  </a:lnTo>
                  <a:lnTo>
                    <a:pt x="80" y="24"/>
                  </a:lnTo>
                  <a:lnTo>
                    <a:pt x="57" y="26"/>
                  </a:lnTo>
                  <a:lnTo>
                    <a:pt x="77" y="47"/>
                  </a:lnTo>
                  <a:lnTo>
                    <a:pt x="117" y="61"/>
                  </a:lnTo>
                  <a:lnTo>
                    <a:pt x="113" y="66"/>
                  </a:lnTo>
                  <a:lnTo>
                    <a:pt x="109" y="63"/>
                  </a:lnTo>
                  <a:lnTo>
                    <a:pt x="89" y="76"/>
                  </a:lnTo>
                  <a:lnTo>
                    <a:pt x="101" y="88"/>
                  </a:lnTo>
                  <a:lnTo>
                    <a:pt x="77" y="83"/>
                  </a:lnTo>
                  <a:lnTo>
                    <a:pt x="24" y="88"/>
                  </a:lnTo>
                  <a:lnTo>
                    <a:pt x="16" y="96"/>
                  </a:lnTo>
                  <a:lnTo>
                    <a:pt x="4" y="88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28" y="103"/>
                  </a:lnTo>
                  <a:lnTo>
                    <a:pt x="77" y="98"/>
                  </a:lnTo>
                  <a:lnTo>
                    <a:pt x="125" y="110"/>
                  </a:lnTo>
                  <a:lnTo>
                    <a:pt x="117" y="115"/>
                  </a:lnTo>
                  <a:lnTo>
                    <a:pt x="121" y="122"/>
                  </a:lnTo>
                  <a:lnTo>
                    <a:pt x="133" y="130"/>
                  </a:lnTo>
                  <a:lnTo>
                    <a:pt x="130" y="132"/>
                  </a:lnTo>
                  <a:lnTo>
                    <a:pt x="125" y="132"/>
                  </a:lnTo>
                  <a:lnTo>
                    <a:pt x="141" y="150"/>
                  </a:lnTo>
                  <a:lnTo>
                    <a:pt x="150" y="137"/>
                  </a:lnTo>
                  <a:lnTo>
                    <a:pt x="161" y="137"/>
                  </a:lnTo>
                  <a:lnTo>
                    <a:pt x="193" y="159"/>
                  </a:lnTo>
                  <a:lnTo>
                    <a:pt x="186" y="161"/>
                  </a:lnTo>
                  <a:lnTo>
                    <a:pt x="214" y="176"/>
                  </a:lnTo>
                  <a:lnTo>
                    <a:pt x="242" y="179"/>
                  </a:lnTo>
                  <a:lnTo>
                    <a:pt x="266" y="189"/>
                  </a:lnTo>
                  <a:lnTo>
                    <a:pt x="273" y="188"/>
                  </a:lnTo>
                  <a:lnTo>
                    <a:pt x="273" y="188"/>
                  </a:lnTo>
                  <a:lnTo>
                    <a:pt x="273" y="188"/>
                  </a:lnTo>
                  <a:lnTo>
                    <a:pt x="266" y="189"/>
                  </a:lnTo>
                  <a:lnTo>
                    <a:pt x="270" y="192"/>
                  </a:lnTo>
                  <a:lnTo>
                    <a:pt x="273" y="188"/>
                  </a:lnTo>
                  <a:lnTo>
                    <a:pt x="275" y="192"/>
                  </a:lnTo>
                  <a:lnTo>
                    <a:pt x="294" y="196"/>
                  </a:lnTo>
                  <a:lnTo>
                    <a:pt x="299" y="199"/>
                  </a:lnTo>
                  <a:lnTo>
                    <a:pt x="298" y="196"/>
                  </a:lnTo>
                  <a:lnTo>
                    <a:pt x="297" y="193"/>
                  </a:lnTo>
                  <a:lnTo>
                    <a:pt x="287" y="191"/>
                  </a:lnTo>
                  <a:lnTo>
                    <a:pt x="290" y="182"/>
                  </a:lnTo>
                  <a:lnTo>
                    <a:pt x="293" y="175"/>
                  </a:lnTo>
                  <a:lnTo>
                    <a:pt x="297" y="173"/>
                  </a:lnTo>
                  <a:lnTo>
                    <a:pt x="302" y="173"/>
                  </a:lnTo>
                  <a:lnTo>
                    <a:pt x="308" y="176"/>
                  </a:lnTo>
                  <a:lnTo>
                    <a:pt x="311" y="174"/>
                  </a:lnTo>
                  <a:lnTo>
                    <a:pt x="302" y="170"/>
                  </a:lnTo>
                  <a:lnTo>
                    <a:pt x="302" y="168"/>
                  </a:lnTo>
                  <a:lnTo>
                    <a:pt x="321" y="167"/>
                  </a:lnTo>
                  <a:lnTo>
                    <a:pt x="321" y="164"/>
                  </a:lnTo>
                  <a:lnTo>
                    <a:pt x="312" y="160"/>
                  </a:lnTo>
                  <a:lnTo>
                    <a:pt x="316" y="158"/>
                  </a:lnTo>
                  <a:lnTo>
                    <a:pt x="321" y="158"/>
                  </a:lnTo>
                  <a:lnTo>
                    <a:pt x="326" y="159"/>
                  </a:lnTo>
                  <a:lnTo>
                    <a:pt x="326" y="156"/>
                  </a:lnTo>
                  <a:lnTo>
                    <a:pt x="318" y="154"/>
                  </a:lnTo>
                  <a:lnTo>
                    <a:pt x="316" y="151"/>
                  </a:lnTo>
                  <a:lnTo>
                    <a:pt x="302" y="150"/>
                  </a:lnTo>
                  <a:lnTo>
                    <a:pt x="300" y="142"/>
                  </a:lnTo>
                  <a:lnTo>
                    <a:pt x="305" y="139"/>
                  </a:lnTo>
                  <a:lnTo>
                    <a:pt x="312" y="139"/>
                  </a:lnTo>
                  <a:lnTo>
                    <a:pt x="317" y="142"/>
                  </a:lnTo>
                  <a:lnTo>
                    <a:pt x="330" y="143"/>
                  </a:lnTo>
                  <a:lnTo>
                    <a:pt x="344" y="140"/>
                  </a:lnTo>
                  <a:lnTo>
                    <a:pt x="345" y="140"/>
                  </a:lnTo>
                  <a:lnTo>
                    <a:pt x="346" y="140"/>
                  </a:lnTo>
                  <a:lnTo>
                    <a:pt x="350" y="140"/>
                  </a:lnTo>
                  <a:lnTo>
                    <a:pt x="352" y="141"/>
                  </a:lnTo>
                  <a:lnTo>
                    <a:pt x="355" y="141"/>
                  </a:lnTo>
                  <a:lnTo>
                    <a:pt x="359" y="141"/>
                  </a:lnTo>
                  <a:lnTo>
                    <a:pt x="361" y="141"/>
                  </a:lnTo>
                  <a:lnTo>
                    <a:pt x="362" y="141"/>
                  </a:lnTo>
                  <a:lnTo>
                    <a:pt x="363" y="141"/>
                  </a:lnTo>
                  <a:lnTo>
                    <a:pt x="364" y="140"/>
                  </a:lnTo>
                  <a:lnTo>
                    <a:pt x="366" y="139"/>
                  </a:lnTo>
                  <a:lnTo>
                    <a:pt x="367" y="138"/>
                  </a:lnTo>
                  <a:lnTo>
                    <a:pt x="370" y="137"/>
                  </a:lnTo>
                  <a:lnTo>
                    <a:pt x="372" y="137"/>
                  </a:lnTo>
                  <a:lnTo>
                    <a:pt x="372" y="136"/>
                  </a:lnTo>
                  <a:lnTo>
                    <a:pt x="373" y="136"/>
                  </a:lnTo>
                  <a:lnTo>
                    <a:pt x="399" y="143"/>
                  </a:lnTo>
                  <a:lnTo>
                    <a:pt x="400" y="139"/>
                  </a:lnTo>
                  <a:lnTo>
                    <a:pt x="408" y="137"/>
                  </a:lnTo>
                  <a:lnTo>
                    <a:pt x="415" y="125"/>
                  </a:lnTo>
                  <a:lnTo>
                    <a:pt x="421" y="122"/>
                  </a:lnTo>
                  <a:lnTo>
                    <a:pt x="436" y="123"/>
                  </a:lnTo>
                  <a:lnTo>
                    <a:pt x="444" y="117"/>
                  </a:lnTo>
                  <a:lnTo>
                    <a:pt x="462" y="114"/>
                  </a:lnTo>
                  <a:lnTo>
                    <a:pt x="484" y="114"/>
                  </a:lnTo>
                  <a:lnTo>
                    <a:pt x="490" y="116"/>
                  </a:lnTo>
                  <a:lnTo>
                    <a:pt x="506" y="114"/>
                  </a:lnTo>
                  <a:lnTo>
                    <a:pt x="519" y="109"/>
                  </a:lnTo>
                  <a:lnTo>
                    <a:pt x="518" y="98"/>
                  </a:lnTo>
                  <a:lnTo>
                    <a:pt x="493" y="79"/>
                  </a:lnTo>
                  <a:lnTo>
                    <a:pt x="474" y="76"/>
                  </a:lnTo>
                  <a:lnTo>
                    <a:pt x="472" y="71"/>
                  </a:lnTo>
                  <a:lnTo>
                    <a:pt x="492" y="72"/>
                  </a:lnTo>
                  <a:lnTo>
                    <a:pt x="496" y="66"/>
                  </a:lnTo>
                  <a:lnTo>
                    <a:pt x="500" y="63"/>
                  </a:lnTo>
                  <a:lnTo>
                    <a:pt x="491" y="50"/>
                  </a:lnTo>
                  <a:lnTo>
                    <a:pt x="490" y="47"/>
                  </a:lnTo>
                  <a:lnTo>
                    <a:pt x="489" y="42"/>
                  </a:lnTo>
                  <a:lnTo>
                    <a:pt x="471" y="37"/>
                  </a:lnTo>
                  <a:lnTo>
                    <a:pt x="474" y="18"/>
                  </a:lnTo>
                  <a:lnTo>
                    <a:pt x="453" y="4"/>
                  </a:lnTo>
                  <a:lnTo>
                    <a:pt x="439" y="2"/>
                  </a:lnTo>
                  <a:lnTo>
                    <a:pt x="424" y="0"/>
                  </a:lnTo>
                  <a:lnTo>
                    <a:pt x="412" y="1"/>
                  </a:lnTo>
                  <a:lnTo>
                    <a:pt x="409" y="5"/>
                  </a:lnTo>
                  <a:lnTo>
                    <a:pt x="376" y="12"/>
                  </a:lnTo>
                  <a:lnTo>
                    <a:pt x="371" y="11"/>
                  </a:lnTo>
                  <a:lnTo>
                    <a:pt x="370" y="7"/>
                  </a:lnTo>
                  <a:lnTo>
                    <a:pt x="352" y="7"/>
                  </a:lnTo>
                  <a:lnTo>
                    <a:pt x="332" y="17"/>
                  </a:lnTo>
                  <a:lnTo>
                    <a:pt x="323" y="17"/>
                  </a:lnTo>
                  <a:lnTo>
                    <a:pt x="318" y="21"/>
                  </a:lnTo>
                  <a:lnTo>
                    <a:pt x="296" y="25"/>
                  </a:lnTo>
                  <a:lnTo>
                    <a:pt x="278" y="21"/>
                  </a:lnTo>
                  <a:lnTo>
                    <a:pt x="273" y="23"/>
                  </a:lnTo>
                  <a:lnTo>
                    <a:pt x="272" y="27"/>
                  </a:lnTo>
                  <a:lnTo>
                    <a:pt x="269" y="28"/>
                  </a:lnTo>
                  <a:lnTo>
                    <a:pt x="266" y="26"/>
                  </a:lnTo>
                  <a:lnTo>
                    <a:pt x="264" y="26"/>
                  </a:lnTo>
                  <a:lnTo>
                    <a:pt x="257" y="29"/>
                  </a:lnTo>
                  <a:lnTo>
                    <a:pt x="249" y="29"/>
                  </a:lnTo>
                  <a:lnTo>
                    <a:pt x="243" y="24"/>
                  </a:lnTo>
                  <a:lnTo>
                    <a:pt x="217" y="23"/>
                  </a:lnTo>
                  <a:lnTo>
                    <a:pt x="213" y="2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72200" y="1645920"/>
              <a:ext cx="75960" cy="39240"/>
            </a:xfrm>
            <a:custGeom>
              <a:avLst/>
              <a:gdLst/>
              <a:ahLst/>
              <a:rect l="l" t="t" r="r" b="b"/>
              <a:pathLst>
                <a:path w="211" h="110">
                  <a:moveTo>
                    <a:pt x="7" y="96"/>
                  </a:moveTo>
                  <a:lnTo>
                    <a:pt x="20" y="98"/>
                  </a:lnTo>
                  <a:lnTo>
                    <a:pt x="16" y="103"/>
                  </a:lnTo>
                  <a:lnTo>
                    <a:pt x="61" y="109"/>
                  </a:lnTo>
                  <a:lnTo>
                    <a:pt x="105" y="106"/>
                  </a:lnTo>
                  <a:lnTo>
                    <a:pt x="141" y="96"/>
                  </a:lnTo>
                  <a:lnTo>
                    <a:pt x="149" y="96"/>
                  </a:lnTo>
                  <a:lnTo>
                    <a:pt x="194" y="103"/>
                  </a:lnTo>
                  <a:lnTo>
                    <a:pt x="186" y="77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198" y="67"/>
                  </a:lnTo>
                  <a:lnTo>
                    <a:pt x="181" y="72"/>
                  </a:lnTo>
                  <a:lnTo>
                    <a:pt x="177" y="72"/>
                  </a:lnTo>
                  <a:lnTo>
                    <a:pt x="161" y="67"/>
                  </a:lnTo>
                  <a:lnTo>
                    <a:pt x="169" y="64"/>
                  </a:lnTo>
                  <a:lnTo>
                    <a:pt x="173" y="57"/>
                  </a:lnTo>
                  <a:lnTo>
                    <a:pt x="177" y="52"/>
                  </a:lnTo>
                  <a:lnTo>
                    <a:pt x="177" y="40"/>
                  </a:lnTo>
                  <a:lnTo>
                    <a:pt x="181" y="42"/>
                  </a:lnTo>
                  <a:lnTo>
                    <a:pt x="206" y="42"/>
                  </a:lnTo>
                  <a:lnTo>
                    <a:pt x="198" y="40"/>
                  </a:lnTo>
                  <a:lnTo>
                    <a:pt x="189" y="33"/>
                  </a:lnTo>
                  <a:lnTo>
                    <a:pt x="177" y="23"/>
                  </a:lnTo>
                  <a:lnTo>
                    <a:pt x="165" y="20"/>
                  </a:lnTo>
                  <a:lnTo>
                    <a:pt x="157" y="7"/>
                  </a:lnTo>
                  <a:lnTo>
                    <a:pt x="149" y="7"/>
                  </a:lnTo>
                  <a:lnTo>
                    <a:pt x="141" y="5"/>
                  </a:lnTo>
                  <a:lnTo>
                    <a:pt x="137" y="5"/>
                  </a:lnTo>
                  <a:lnTo>
                    <a:pt x="125" y="3"/>
                  </a:lnTo>
                  <a:lnTo>
                    <a:pt x="101" y="0"/>
                  </a:lnTo>
                  <a:lnTo>
                    <a:pt x="88" y="4"/>
                  </a:lnTo>
                  <a:lnTo>
                    <a:pt x="84" y="9"/>
                  </a:lnTo>
                  <a:lnTo>
                    <a:pt x="64" y="7"/>
                  </a:lnTo>
                  <a:lnTo>
                    <a:pt x="66" y="13"/>
                  </a:lnTo>
                  <a:lnTo>
                    <a:pt x="84" y="16"/>
                  </a:lnTo>
                  <a:lnTo>
                    <a:pt x="110" y="34"/>
                  </a:lnTo>
                  <a:lnTo>
                    <a:pt x="111" y="45"/>
                  </a:lnTo>
                  <a:lnTo>
                    <a:pt x="98" y="51"/>
                  </a:lnTo>
                  <a:lnTo>
                    <a:pt x="82" y="53"/>
                  </a:lnTo>
                  <a:lnTo>
                    <a:pt x="76" y="51"/>
                  </a:lnTo>
                  <a:lnTo>
                    <a:pt x="54" y="51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13" y="59"/>
                  </a:lnTo>
                  <a:lnTo>
                    <a:pt x="6" y="62"/>
                  </a:lnTo>
                  <a:lnTo>
                    <a:pt x="0" y="74"/>
                  </a:lnTo>
                  <a:lnTo>
                    <a:pt x="5" y="74"/>
                  </a:lnTo>
                  <a:lnTo>
                    <a:pt x="10" y="76"/>
                  </a:lnTo>
                  <a:lnTo>
                    <a:pt x="10" y="78"/>
                  </a:lnTo>
                  <a:lnTo>
                    <a:pt x="5" y="79"/>
                  </a:lnTo>
                  <a:lnTo>
                    <a:pt x="6" y="82"/>
                  </a:lnTo>
                  <a:lnTo>
                    <a:pt x="4" y="84"/>
                  </a:lnTo>
                  <a:lnTo>
                    <a:pt x="0" y="86"/>
                  </a:lnTo>
                  <a:lnTo>
                    <a:pt x="7" y="9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72200" y="1645920"/>
              <a:ext cx="75960" cy="39240"/>
            </a:xfrm>
            <a:custGeom>
              <a:avLst/>
              <a:gdLst/>
              <a:ahLst/>
              <a:rect l="l" t="t" r="r" b="b"/>
              <a:pathLst>
                <a:path w="211" h="110">
                  <a:moveTo>
                    <a:pt x="7" y="96"/>
                  </a:moveTo>
                  <a:lnTo>
                    <a:pt x="20" y="98"/>
                  </a:lnTo>
                  <a:lnTo>
                    <a:pt x="16" y="103"/>
                  </a:lnTo>
                  <a:lnTo>
                    <a:pt x="61" y="109"/>
                  </a:lnTo>
                  <a:lnTo>
                    <a:pt x="105" y="106"/>
                  </a:lnTo>
                  <a:lnTo>
                    <a:pt x="141" y="96"/>
                  </a:lnTo>
                  <a:lnTo>
                    <a:pt x="149" y="96"/>
                  </a:lnTo>
                  <a:lnTo>
                    <a:pt x="194" y="103"/>
                  </a:lnTo>
                  <a:lnTo>
                    <a:pt x="186" y="77"/>
                  </a:lnTo>
                  <a:lnTo>
                    <a:pt x="210" y="79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72"/>
                  </a:lnTo>
                  <a:lnTo>
                    <a:pt x="198" y="67"/>
                  </a:lnTo>
                  <a:lnTo>
                    <a:pt x="181" y="72"/>
                  </a:lnTo>
                  <a:lnTo>
                    <a:pt x="177" y="72"/>
                  </a:lnTo>
                  <a:lnTo>
                    <a:pt x="161" y="67"/>
                  </a:lnTo>
                  <a:lnTo>
                    <a:pt x="161" y="67"/>
                  </a:lnTo>
                  <a:lnTo>
                    <a:pt x="161" y="67"/>
                  </a:lnTo>
                  <a:lnTo>
                    <a:pt x="169" y="64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7" y="52"/>
                  </a:lnTo>
                  <a:lnTo>
                    <a:pt x="177" y="40"/>
                  </a:lnTo>
                  <a:lnTo>
                    <a:pt x="181" y="42"/>
                  </a:lnTo>
                  <a:lnTo>
                    <a:pt x="206" y="42"/>
                  </a:lnTo>
                  <a:lnTo>
                    <a:pt x="198" y="40"/>
                  </a:lnTo>
                  <a:lnTo>
                    <a:pt x="189" y="33"/>
                  </a:lnTo>
                  <a:lnTo>
                    <a:pt x="177" y="23"/>
                  </a:lnTo>
                  <a:lnTo>
                    <a:pt x="165" y="20"/>
                  </a:lnTo>
                  <a:lnTo>
                    <a:pt x="157" y="7"/>
                  </a:lnTo>
                  <a:lnTo>
                    <a:pt x="149" y="7"/>
                  </a:lnTo>
                  <a:lnTo>
                    <a:pt x="141" y="5"/>
                  </a:lnTo>
                  <a:lnTo>
                    <a:pt x="137" y="5"/>
                  </a:lnTo>
                  <a:lnTo>
                    <a:pt x="125" y="3"/>
                  </a:lnTo>
                  <a:lnTo>
                    <a:pt x="101" y="0"/>
                  </a:lnTo>
                  <a:lnTo>
                    <a:pt x="88" y="4"/>
                  </a:lnTo>
                  <a:lnTo>
                    <a:pt x="84" y="9"/>
                  </a:lnTo>
                  <a:lnTo>
                    <a:pt x="64" y="7"/>
                  </a:lnTo>
                  <a:lnTo>
                    <a:pt x="66" y="13"/>
                  </a:lnTo>
                  <a:lnTo>
                    <a:pt x="84" y="16"/>
                  </a:lnTo>
                  <a:lnTo>
                    <a:pt x="110" y="34"/>
                  </a:lnTo>
                  <a:lnTo>
                    <a:pt x="111" y="45"/>
                  </a:lnTo>
                  <a:lnTo>
                    <a:pt x="98" y="51"/>
                  </a:lnTo>
                  <a:lnTo>
                    <a:pt x="82" y="53"/>
                  </a:lnTo>
                  <a:lnTo>
                    <a:pt x="76" y="51"/>
                  </a:lnTo>
                  <a:lnTo>
                    <a:pt x="54" y="51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13" y="59"/>
                  </a:lnTo>
                  <a:lnTo>
                    <a:pt x="6" y="62"/>
                  </a:lnTo>
                  <a:lnTo>
                    <a:pt x="0" y="74"/>
                  </a:lnTo>
                  <a:lnTo>
                    <a:pt x="5" y="74"/>
                  </a:lnTo>
                  <a:lnTo>
                    <a:pt x="10" y="76"/>
                  </a:lnTo>
                  <a:lnTo>
                    <a:pt x="10" y="78"/>
                  </a:lnTo>
                  <a:lnTo>
                    <a:pt x="5" y="79"/>
                  </a:lnTo>
                  <a:lnTo>
                    <a:pt x="6" y="82"/>
                  </a:lnTo>
                  <a:lnTo>
                    <a:pt x="4" y="84"/>
                  </a:lnTo>
                  <a:lnTo>
                    <a:pt x="0" y="86"/>
                  </a:lnTo>
                  <a:lnTo>
                    <a:pt x="7" y="9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79960" y="1739160"/>
              <a:ext cx="279000" cy="69480"/>
            </a:xfrm>
            <a:custGeom>
              <a:avLst/>
              <a:gdLst/>
              <a:ahLst/>
              <a:rect l="l" t="t" r="r" b="b"/>
              <a:pathLst>
                <a:path w="778" h="196">
                  <a:moveTo>
                    <a:pt x="772" y="149"/>
                  </a:moveTo>
                  <a:lnTo>
                    <a:pt x="739" y="139"/>
                  </a:lnTo>
                  <a:lnTo>
                    <a:pt x="743" y="149"/>
                  </a:lnTo>
                  <a:lnTo>
                    <a:pt x="703" y="144"/>
                  </a:lnTo>
                  <a:lnTo>
                    <a:pt x="703" y="134"/>
                  </a:lnTo>
                  <a:lnTo>
                    <a:pt x="695" y="126"/>
                  </a:lnTo>
                  <a:lnTo>
                    <a:pt x="687" y="131"/>
                  </a:lnTo>
                  <a:lnTo>
                    <a:pt x="687" y="124"/>
                  </a:lnTo>
                  <a:lnTo>
                    <a:pt x="671" y="119"/>
                  </a:lnTo>
                  <a:lnTo>
                    <a:pt x="658" y="129"/>
                  </a:lnTo>
                  <a:lnTo>
                    <a:pt x="642" y="126"/>
                  </a:lnTo>
                  <a:lnTo>
                    <a:pt x="642" y="129"/>
                  </a:lnTo>
                  <a:lnTo>
                    <a:pt x="626" y="124"/>
                  </a:lnTo>
                  <a:lnTo>
                    <a:pt x="615" y="141"/>
                  </a:lnTo>
                  <a:lnTo>
                    <a:pt x="598" y="144"/>
                  </a:lnTo>
                  <a:lnTo>
                    <a:pt x="594" y="164"/>
                  </a:lnTo>
                  <a:lnTo>
                    <a:pt x="569" y="165"/>
                  </a:lnTo>
                  <a:lnTo>
                    <a:pt x="594" y="178"/>
                  </a:lnTo>
                  <a:lnTo>
                    <a:pt x="598" y="191"/>
                  </a:lnTo>
                  <a:lnTo>
                    <a:pt x="546" y="191"/>
                  </a:lnTo>
                  <a:lnTo>
                    <a:pt x="534" y="195"/>
                  </a:lnTo>
                  <a:lnTo>
                    <a:pt x="497" y="191"/>
                  </a:lnTo>
                  <a:lnTo>
                    <a:pt x="489" y="181"/>
                  </a:lnTo>
                  <a:lnTo>
                    <a:pt x="472" y="169"/>
                  </a:lnTo>
                  <a:lnTo>
                    <a:pt x="461" y="161"/>
                  </a:lnTo>
                  <a:lnTo>
                    <a:pt x="449" y="169"/>
                  </a:lnTo>
                  <a:lnTo>
                    <a:pt x="424" y="171"/>
                  </a:lnTo>
                  <a:lnTo>
                    <a:pt x="380" y="164"/>
                  </a:lnTo>
                  <a:lnTo>
                    <a:pt x="376" y="169"/>
                  </a:lnTo>
                  <a:lnTo>
                    <a:pt x="368" y="164"/>
                  </a:lnTo>
                  <a:lnTo>
                    <a:pt x="340" y="161"/>
                  </a:lnTo>
                  <a:lnTo>
                    <a:pt x="332" y="151"/>
                  </a:lnTo>
                  <a:lnTo>
                    <a:pt x="296" y="149"/>
                  </a:lnTo>
                  <a:lnTo>
                    <a:pt x="283" y="139"/>
                  </a:lnTo>
                  <a:lnTo>
                    <a:pt x="275" y="144"/>
                  </a:lnTo>
                  <a:lnTo>
                    <a:pt x="198" y="119"/>
                  </a:lnTo>
                  <a:lnTo>
                    <a:pt x="174" y="112"/>
                  </a:lnTo>
                  <a:lnTo>
                    <a:pt x="162" y="119"/>
                  </a:lnTo>
                  <a:lnTo>
                    <a:pt x="77" y="94"/>
                  </a:lnTo>
                  <a:lnTo>
                    <a:pt x="61" y="94"/>
                  </a:lnTo>
                  <a:lnTo>
                    <a:pt x="45" y="77"/>
                  </a:lnTo>
                  <a:lnTo>
                    <a:pt x="21" y="65"/>
                  </a:lnTo>
                  <a:lnTo>
                    <a:pt x="29" y="63"/>
                  </a:lnTo>
                  <a:lnTo>
                    <a:pt x="45" y="68"/>
                  </a:lnTo>
                  <a:lnTo>
                    <a:pt x="53" y="60"/>
                  </a:lnTo>
                  <a:lnTo>
                    <a:pt x="37" y="48"/>
                  </a:lnTo>
                  <a:lnTo>
                    <a:pt x="16" y="43"/>
                  </a:lnTo>
                  <a:lnTo>
                    <a:pt x="0" y="30"/>
                  </a:lnTo>
                  <a:lnTo>
                    <a:pt x="16" y="28"/>
                  </a:lnTo>
                  <a:lnTo>
                    <a:pt x="8" y="19"/>
                  </a:lnTo>
                  <a:lnTo>
                    <a:pt x="13" y="1"/>
                  </a:lnTo>
                  <a:lnTo>
                    <a:pt x="127" y="8"/>
                  </a:lnTo>
                  <a:lnTo>
                    <a:pt x="180" y="0"/>
                  </a:lnTo>
                  <a:lnTo>
                    <a:pt x="468" y="6"/>
                  </a:lnTo>
                  <a:lnTo>
                    <a:pt x="745" y="68"/>
                  </a:lnTo>
                  <a:lnTo>
                    <a:pt x="756" y="113"/>
                  </a:lnTo>
                  <a:lnTo>
                    <a:pt x="777" y="120"/>
                  </a:lnTo>
                  <a:lnTo>
                    <a:pt x="772" y="14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79960" y="1739160"/>
              <a:ext cx="279000" cy="69480"/>
            </a:xfrm>
            <a:custGeom>
              <a:avLst/>
              <a:gdLst/>
              <a:ahLst/>
              <a:rect l="l" t="t" r="r" b="b"/>
              <a:pathLst>
                <a:path w="778" h="196">
                  <a:moveTo>
                    <a:pt x="772" y="149"/>
                  </a:moveTo>
                  <a:lnTo>
                    <a:pt x="739" y="139"/>
                  </a:lnTo>
                  <a:lnTo>
                    <a:pt x="743" y="149"/>
                  </a:lnTo>
                  <a:lnTo>
                    <a:pt x="703" y="144"/>
                  </a:lnTo>
                  <a:lnTo>
                    <a:pt x="703" y="134"/>
                  </a:lnTo>
                  <a:lnTo>
                    <a:pt x="695" y="126"/>
                  </a:lnTo>
                  <a:lnTo>
                    <a:pt x="687" y="131"/>
                  </a:lnTo>
                  <a:lnTo>
                    <a:pt x="687" y="124"/>
                  </a:lnTo>
                  <a:lnTo>
                    <a:pt x="671" y="119"/>
                  </a:lnTo>
                  <a:lnTo>
                    <a:pt x="658" y="129"/>
                  </a:lnTo>
                  <a:lnTo>
                    <a:pt x="642" y="126"/>
                  </a:lnTo>
                  <a:lnTo>
                    <a:pt x="642" y="129"/>
                  </a:lnTo>
                  <a:lnTo>
                    <a:pt x="626" y="124"/>
                  </a:lnTo>
                  <a:lnTo>
                    <a:pt x="615" y="141"/>
                  </a:lnTo>
                  <a:lnTo>
                    <a:pt x="598" y="144"/>
                  </a:lnTo>
                  <a:lnTo>
                    <a:pt x="594" y="164"/>
                  </a:lnTo>
                  <a:lnTo>
                    <a:pt x="569" y="165"/>
                  </a:lnTo>
                  <a:lnTo>
                    <a:pt x="594" y="178"/>
                  </a:lnTo>
                  <a:lnTo>
                    <a:pt x="598" y="191"/>
                  </a:lnTo>
                  <a:lnTo>
                    <a:pt x="546" y="191"/>
                  </a:lnTo>
                  <a:lnTo>
                    <a:pt x="534" y="195"/>
                  </a:lnTo>
                  <a:lnTo>
                    <a:pt x="497" y="191"/>
                  </a:lnTo>
                  <a:lnTo>
                    <a:pt x="489" y="181"/>
                  </a:lnTo>
                  <a:lnTo>
                    <a:pt x="472" y="169"/>
                  </a:lnTo>
                  <a:lnTo>
                    <a:pt x="461" y="161"/>
                  </a:lnTo>
                  <a:lnTo>
                    <a:pt x="449" y="169"/>
                  </a:lnTo>
                  <a:lnTo>
                    <a:pt x="424" y="171"/>
                  </a:lnTo>
                  <a:lnTo>
                    <a:pt x="380" y="164"/>
                  </a:lnTo>
                  <a:lnTo>
                    <a:pt x="376" y="169"/>
                  </a:lnTo>
                  <a:lnTo>
                    <a:pt x="368" y="164"/>
                  </a:lnTo>
                  <a:lnTo>
                    <a:pt x="340" y="161"/>
                  </a:lnTo>
                  <a:lnTo>
                    <a:pt x="332" y="151"/>
                  </a:lnTo>
                  <a:lnTo>
                    <a:pt x="296" y="149"/>
                  </a:lnTo>
                  <a:lnTo>
                    <a:pt x="283" y="139"/>
                  </a:lnTo>
                  <a:lnTo>
                    <a:pt x="275" y="144"/>
                  </a:lnTo>
                  <a:lnTo>
                    <a:pt x="198" y="119"/>
                  </a:lnTo>
                  <a:lnTo>
                    <a:pt x="174" y="112"/>
                  </a:lnTo>
                  <a:lnTo>
                    <a:pt x="162" y="119"/>
                  </a:lnTo>
                  <a:lnTo>
                    <a:pt x="77" y="94"/>
                  </a:lnTo>
                  <a:lnTo>
                    <a:pt x="61" y="94"/>
                  </a:lnTo>
                  <a:lnTo>
                    <a:pt x="45" y="77"/>
                  </a:lnTo>
                  <a:lnTo>
                    <a:pt x="21" y="65"/>
                  </a:lnTo>
                  <a:lnTo>
                    <a:pt x="29" y="63"/>
                  </a:lnTo>
                  <a:lnTo>
                    <a:pt x="45" y="68"/>
                  </a:lnTo>
                  <a:lnTo>
                    <a:pt x="53" y="60"/>
                  </a:lnTo>
                  <a:lnTo>
                    <a:pt x="37" y="48"/>
                  </a:lnTo>
                  <a:lnTo>
                    <a:pt x="16" y="43"/>
                  </a:lnTo>
                  <a:lnTo>
                    <a:pt x="0" y="30"/>
                  </a:lnTo>
                  <a:lnTo>
                    <a:pt x="16" y="28"/>
                  </a:lnTo>
                  <a:lnTo>
                    <a:pt x="8" y="19"/>
                  </a:lnTo>
                  <a:lnTo>
                    <a:pt x="13" y="1"/>
                  </a:lnTo>
                  <a:lnTo>
                    <a:pt x="127" y="8"/>
                  </a:lnTo>
                  <a:lnTo>
                    <a:pt x="180" y="0"/>
                  </a:lnTo>
                  <a:lnTo>
                    <a:pt x="468" y="6"/>
                  </a:lnTo>
                  <a:lnTo>
                    <a:pt x="745" y="68"/>
                  </a:lnTo>
                  <a:lnTo>
                    <a:pt x="756" y="113"/>
                  </a:lnTo>
                  <a:lnTo>
                    <a:pt x="777" y="120"/>
                  </a:lnTo>
                  <a:lnTo>
                    <a:pt x="772" y="14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59640" y="1983600"/>
              <a:ext cx="58320" cy="37800"/>
            </a:xfrm>
            <a:custGeom>
              <a:avLst/>
              <a:gdLst/>
              <a:ahLst/>
              <a:rect l="l" t="t" r="r" b="b"/>
              <a:pathLst>
                <a:path w="163" h="104">
                  <a:moveTo>
                    <a:pt x="158" y="103"/>
                  </a:moveTo>
                  <a:lnTo>
                    <a:pt x="93" y="86"/>
                  </a:lnTo>
                  <a:lnTo>
                    <a:pt x="0" y="39"/>
                  </a:lnTo>
                  <a:lnTo>
                    <a:pt x="36" y="19"/>
                  </a:lnTo>
                  <a:lnTo>
                    <a:pt x="53" y="2"/>
                  </a:lnTo>
                  <a:lnTo>
                    <a:pt x="69" y="0"/>
                  </a:lnTo>
                  <a:lnTo>
                    <a:pt x="81" y="5"/>
                  </a:lnTo>
                  <a:lnTo>
                    <a:pt x="85" y="24"/>
                  </a:lnTo>
                  <a:lnTo>
                    <a:pt x="81" y="29"/>
                  </a:lnTo>
                  <a:lnTo>
                    <a:pt x="98" y="32"/>
                  </a:lnTo>
                  <a:lnTo>
                    <a:pt x="121" y="24"/>
                  </a:lnTo>
                  <a:lnTo>
                    <a:pt x="129" y="37"/>
                  </a:lnTo>
                  <a:lnTo>
                    <a:pt x="117" y="49"/>
                  </a:lnTo>
                  <a:lnTo>
                    <a:pt x="162" y="66"/>
                  </a:lnTo>
                  <a:lnTo>
                    <a:pt x="158" y="10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59640" y="1983600"/>
              <a:ext cx="58320" cy="37800"/>
            </a:xfrm>
            <a:custGeom>
              <a:avLst/>
              <a:gdLst/>
              <a:ahLst/>
              <a:rect l="l" t="t" r="r" b="b"/>
              <a:pathLst>
                <a:path w="163" h="104">
                  <a:moveTo>
                    <a:pt x="158" y="103"/>
                  </a:moveTo>
                  <a:lnTo>
                    <a:pt x="93" y="86"/>
                  </a:lnTo>
                  <a:lnTo>
                    <a:pt x="0" y="39"/>
                  </a:lnTo>
                  <a:lnTo>
                    <a:pt x="36" y="19"/>
                  </a:lnTo>
                  <a:lnTo>
                    <a:pt x="53" y="2"/>
                  </a:lnTo>
                  <a:lnTo>
                    <a:pt x="69" y="0"/>
                  </a:lnTo>
                  <a:lnTo>
                    <a:pt x="81" y="5"/>
                  </a:lnTo>
                  <a:lnTo>
                    <a:pt x="85" y="24"/>
                  </a:lnTo>
                  <a:lnTo>
                    <a:pt x="81" y="29"/>
                  </a:lnTo>
                  <a:lnTo>
                    <a:pt x="98" y="32"/>
                  </a:lnTo>
                  <a:lnTo>
                    <a:pt x="121" y="24"/>
                  </a:lnTo>
                  <a:lnTo>
                    <a:pt x="129" y="37"/>
                  </a:lnTo>
                  <a:lnTo>
                    <a:pt x="117" y="49"/>
                  </a:lnTo>
                  <a:lnTo>
                    <a:pt x="162" y="66"/>
                  </a:lnTo>
                  <a:lnTo>
                    <a:pt x="158" y="10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18200" y="2254680"/>
              <a:ext cx="4320" cy="61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3"/>
                  </a:moveTo>
                  <a:lnTo>
                    <a:pt x="12" y="16"/>
                  </a:lnTo>
                  <a:lnTo>
                    <a:pt x="4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18200" y="2254680"/>
              <a:ext cx="4320" cy="61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3"/>
                  </a:moveTo>
                  <a:lnTo>
                    <a:pt x="12" y="16"/>
                  </a:lnTo>
                  <a:lnTo>
                    <a:pt x="4" y="0"/>
                  </a:lnTo>
                  <a:lnTo>
                    <a:pt x="0" y="1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70840" y="2307240"/>
              <a:ext cx="31320" cy="18720"/>
            </a:xfrm>
            <a:custGeom>
              <a:avLst/>
              <a:gdLst/>
              <a:ahLst/>
              <a:rect l="l" t="t" r="r" b="b"/>
              <a:pathLst>
                <a:path w="90" h="51">
                  <a:moveTo>
                    <a:pt x="69" y="0"/>
                  </a:moveTo>
                  <a:lnTo>
                    <a:pt x="32" y="8"/>
                  </a:lnTo>
                  <a:lnTo>
                    <a:pt x="0" y="25"/>
                  </a:lnTo>
                  <a:lnTo>
                    <a:pt x="8" y="40"/>
                  </a:lnTo>
                  <a:lnTo>
                    <a:pt x="17" y="42"/>
                  </a:lnTo>
                  <a:lnTo>
                    <a:pt x="32" y="50"/>
                  </a:lnTo>
                  <a:lnTo>
                    <a:pt x="44" y="37"/>
                  </a:lnTo>
                  <a:lnTo>
                    <a:pt x="77" y="32"/>
                  </a:lnTo>
                  <a:lnTo>
                    <a:pt x="89" y="18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670840" y="2307240"/>
              <a:ext cx="31320" cy="18720"/>
            </a:xfrm>
            <a:custGeom>
              <a:avLst/>
              <a:gdLst/>
              <a:ahLst/>
              <a:rect l="l" t="t" r="r" b="b"/>
              <a:pathLst>
                <a:path w="90" h="51">
                  <a:moveTo>
                    <a:pt x="69" y="0"/>
                  </a:moveTo>
                  <a:lnTo>
                    <a:pt x="69" y="0"/>
                  </a:lnTo>
                  <a:lnTo>
                    <a:pt x="32" y="8"/>
                  </a:lnTo>
                  <a:lnTo>
                    <a:pt x="0" y="25"/>
                  </a:lnTo>
                  <a:lnTo>
                    <a:pt x="8" y="40"/>
                  </a:lnTo>
                  <a:lnTo>
                    <a:pt x="17" y="42"/>
                  </a:lnTo>
                  <a:lnTo>
                    <a:pt x="32" y="50"/>
                  </a:lnTo>
                  <a:lnTo>
                    <a:pt x="44" y="37"/>
                  </a:lnTo>
                  <a:lnTo>
                    <a:pt x="77" y="32"/>
                  </a:lnTo>
                  <a:lnTo>
                    <a:pt x="89" y="18"/>
                  </a:lnTo>
                  <a:lnTo>
                    <a:pt x="69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81720" y="2142360"/>
              <a:ext cx="42480" cy="68040"/>
            </a:xfrm>
            <a:custGeom>
              <a:avLst/>
              <a:gdLst/>
              <a:ahLst/>
              <a:rect l="l" t="t" r="r" b="b"/>
              <a:pathLst>
                <a:path w="118" h="188">
                  <a:moveTo>
                    <a:pt x="93" y="52"/>
                  </a:moveTo>
                  <a:lnTo>
                    <a:pt x="84" y="39"/>
                  </a:lnTo>
                  <a:lnTo>
                    <a:pt x="77" y="8"/>
                  </a:lnTo>
                  <a:lnTo>
                    <a:pt x="64" y="0"/>
                  </a:lnTo>
                  <a:lnTo>
                    <a:pt x="61" y="5"/>
                  </a:lnTo>
                  <a:lnTo>
                    <a:pt x="25" y="0"/>
                  </a:lnTo>
                  <a:lnTo>
                    <a:pt x="48" y="27"/>
                  </a:lnTo>
                  <a:lnTo>
                    <a:pt x="33" y="34"/>
                  </a:lnTo>
                  <a:lnTo>
                    <a:pt x="28" y="64"/>
                  </a:lnTo>
                  <a:lnTo>
                    <a:pt x="36" y="71"/>
                  </a:lnTo>
                  <a:lnTo>
                    <a:pt x="16" y="76"/>
                  </a:lnTo>
                  <a:lnTo>
                    <a:pt x="12" y="91"/>
                  </a:lnTo>
                  <a:lnTo>
                    <a:pt x="0" y="101"/>
                  </a:lnTo>
                  <a:lnTo>
                    <a:pt x="16" y="110"/>
                  </a:lnTo>
                  <a:lnTo>
                    <a:pt x="33" y="123"/>
                  </a:lnTo>
                  <a:lnTo>
                    <a:pt x="64" y="125"/>
                  </a:lnTo>
                  <a:lnTo>
                    <a:pt x="64" y="140"/>
                  </a:lnTo>
                  <a:lnTo>
                    <a:pt x="48" y="157"/>
                  </a:lnTo>
                  <a:lnTo>
                    <a:pt x="77" y="179"/>
                  </a:lnTo>
                  <a:lnTo>
                    <a:pt x="81" y="187"/>
                  </a:lnTo>
                  <a:lnTo>
                    <a:pt x="81" y="172"/>
                  </a:lnTo>
                  <a:lnTo>
                    <a:pt x="109" y="160"/>
                  </a:lnTo>
                  <a:lnTo>
                    <a:pt x="117" y="133"/>
                  </a:lnTo>
                  <a:lnTo>
                    <a:pt x="93" y="103"/>
                  </a:lnTo>
                  <a:lnTo>
                    <a:pt x="84" y="98"/>
                  </a:lnTo>
                  <a:lnTo>
                    <a:pt x="72" y="93"/>
                  </a:lnTo>
                  <a:lnTo>
                    <a:pt x="68" y="66"/>
                  </a:lnTo>
                  <a:lnTo>
                    <a:pt x="81" y="52"/>
                  </a:lnTo>
                  <a:lnTo>
                    <a:pt x="93" y="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81720" y="2142360"/>
              <a:ext cx="42480" cy="68040"/>
            </a:xfrm>
            <a:custGeom>
              <a:avLst/>
              <a:gdLst/>
              <a:ahLst/>
              <a:rect l="l" t="t" r="r" b="b"/>
              <a:pathLst>
                <a:path w="118" h="188">
                  <a:moveTo>
                    <a:pt x="93" y="52"/>
                  </a:moveTo>
                  <a:lnTo>
                    <a:pt x="84" y="39"/>
                  </a:lnTo>
                  <a:lnTo>
                    <a:pt x="77" y="8"/>
                  </a:lnTo>
                  <a:lnTo>
                    <a:pt x="64" y="0"/>
                  </a:lnTo>
                  <a:lnTo>
                    <a:pt x="61" y="5"/>
                  </a:lnTo>
                  <a:lnTo>
                    <a:pt x="25" y="0"/>
                  </a:lnTo>
                  <a:lnTo>
                    <a:pt x="48" y="27"/>
                  </a:lnTo>
                  <a:lnTo>
                    <a:pt x="33" y="34"/>
                  </a:lnTo>
                  <a:lnTo>
                    <a:pt x="28" y="64"/>
                  </a:lnTo>
                  <a:lnTo>
                    <a:pt x="36" y="71"/>
                  </a:lnTo>
                  <a:lnTo>
                    <a:pt x="16" y="76"/>
                  </a:lnTo>
                  <a:lnTo>
                    <a:pt x="12" y="91"/>
                  </a:lnTo>
                  <a:lnTo>
                    <a:pt x="0" y="101"/>
                  </a:lnTo>
                  <a:lnTo>
                    <a:pt x="16" y="110"/>
                  </a:lnTo>
                  <a:lnTo>
                    <a:pt x="33" y="123"/>
                  </a:lnTo>
                  <a:lnTo>
                    <a:pt x="64" y="125"/>
                  </a:lnTo>
                  <a:lnTo>
                    <a:pt x="64" y="140"/>
                  </a:lnTo>
                  <a:lnTo>
                    <a:pt x="48" y="157"/>
                  </a:lnTo>
                  <a:lnTo>
                    <a:pt x="77" y="179"/>
                  </a:lnTo>
                  <a:lnTo>
                    <a:pt x="81" y="187"/>
                  </a:lnTo>
                  <a:lnTo>
                    <a:pt x="81" y="172"/>
                  </a:lnTo>
                  <a:lnTo>
                    <a:pt x="109" y="160"/>
                  </a:lnTo>
                  <a:lnTo>
                    <a:pt x="117" y="133"/>
                  </a:lnTo>
                  <a:lnTo>
                    <a:pt x="93" y="103"/>
                  </a:lnTo>
                  <a:lnTo>
                    <a:pt x="84" y="98"/>
                  </a:lnTo>
                  <a:lnTo>
                    <a:pt x="72" y="93"/>
                  </a:lnTo>
                  <a:lnTo>
                    <a:pt x="68" y="66"/>
                  </a:lnTo>
                  <a:lnTo>
                    <a:pt x="81" y="52"/>
                  </a:lnTo>
                  <a:lnTo>
                    <a:pt x="93" y="5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91440" y="1928160"/>
              <a:ext cx="210600" cy="99720"/>
            </a:xfrm>
            <a:custGeom>
              <a:avLst/>
              <a:gdLst/>
              <a:ahLst/>
              <a:rect l="l" t="t" r="r" b="b"/>
              <a:pathLst>
                <a:path w="586" h="278">
                  <a:moveTo>
                    <a:pt x="359" y="263"/>
                  </a:moveTo>
                  <a:lnTo>
                    <a:pt x="424" y="241"/>
                  </a:lnTo>
                  <a:lnTo>
                    <a:pt x="440" y="241"/>
                  </a:lnTo>
                  <a:lnTo>
                    <a:pt x="473" y="241"/>
                  </a:lnTo>
                  <a:lnTo>
                    <a:pt x="488" y="231"/>
                  </a:lnTo>
                  <a:lnTo>
                    <a:pt x="505" y="219"/>
                  </a:lnTo>
                  <a:lnTo>
                    <a:pt x="509" y="216"/>
                  </a:lnTo>
                  <a:lnTo>
                    <a:pt x="521" y="209"/>
                  </a:lnTo>
                  <a:lnTo>
                    <a:pt x="533" y="199"/>
                  </a:lnTo>
                  <a:lnTo>
                    <a:pt x="541" y="194"/>
                  </a:lnTo>
                  <a:lnTo>
                    <a:pt x="545" y="189"/>
                  </a:lnTo>
                  <a:lnTo>
                    <a:pt x="561" y="179"/>
                  </a:lnTo>
                  <a:lnTo>
                    <a:pt x="573" y="172"/>
                  </a:lnTo>
                  <a:lnTo>
                    <a:pt x="577" y="170"/>
                  </a:lnTo>
                  <a:lnTo>
                    <a:pt x="585" y="165"/>
                  </a:lnTo>
                  <a:lnTo>
                    <a:pt x="565" y="165"/>
                  </a:lnTo>
                  <a:lnTo>
                    <a:pt x="545" y="165"/>
                  </a:lnTo>
                  <a:lnTo>
                    <a:pt x="525" y="160"/>
                  </a:lnTo>
                  <a:lnTo>
                    <a:pt x="505" y="155"/>
                  </a:lnTo>
                  <a:lnTo>
                    <a:pt x="496" y="155"/>
                  </a:lnTo>
                  <a:lnTo>
                    <a:pt x="484" y="152"/>
                  </a:lnTo>
                  <a:lnTo>
                    <a:pt x="465" y="147"/>
                  </a:lnTo>
                  <a:lnTo>
                    <a:pt x="449" y="145"/>
                  </a:lnTo>
                  <a:lnTo>
                    <a:pt x="444" y="142"/>
                  </a:lnTo>
                  <a:lnTo>
                    <a:pt x="428" y="140"/>
                  </a:lnTo>
                  <a:lnTo>
                    <a:pt x="380" y="111"/>
                  </a:lnTo>
                  <a:lnTo>
                    <a:pt x="368" y="101"/>
                  </a:lnTo>
                  <a:lnTo>
                    <a:pt x="380" y="91"/>
                  </a:lnTo>
                  <a:lnTo>
                    <a:pt x="335" y="91"/>
                  </a:lnTo>
                  <a:lnTo>
                    <a:pt x="331" y="78"/>
                  </a:lnTo>
                  <a:lnTo>
                    <a:pt x="351" y="57"/>
                  </a:lnTo>
                  <a:lnTo>
                    <a:pt x="343" y="51"/>
                  </a:lnTo>
                  <a:lnTo>
                    <a:pt x="327" y="42"/>
                  </a:lnTo>
                  <a:lnTo>
                    <a:pt x="311" y="31"/>
                  </a:lnTo>
                  <a:lnTo>
                    <a:pt x="295" y="22"/>
                  </a:lnTo>
                  <a:lnTo>
                    <a:pt x="287" y="20"/>
                  </a:lnTo>
                  <a:lnTo>
                    <a:pt x="275" y="12"/>
                  </a:lnTo>
                  <a:lnTo>
                    <a:pt x="250" y="7"/>
                  </a:lnTo>
                  <a:lnTo>
                    <a:pt x="239" y="7"/>
                  </a:lnTo>
                  <a:lnTo>
                    <a:pt x="231" y="5"/>
                  </a:lnTo>
                  <a:lnTo>
                    <a:pt x="218" y="7"/>
                  </a:lnTo>
                  <a:lnTo>
                    <a:pt x="218" y="5"/>
                  </a:lnTo>
                  <a:lnTo>
                    <a:pt x="210" y="2"/>
                  </a:lnTo>
                  <a:lnTo>
                    <a:pt x="210" y="5"/>
                  </a:lnTo>
                  <a:lnTo>
                    <a:pt x="190" y="10"/>
                  </a:lnTo>
                  <a:lnTo>
                    <a:pt x="186" y="7"/>
                  </a:lnTo>
                  <a:lnTo>
                    <a:pt x="186" y="5"/>
                  </a:lnTo>
                  <a:lnTo>
                    <a:pt x="182" y="2"/>
                  </a:lnTo>
                  <a:lnTo>
                    <a:pt x="165" y="0"/>
                  </a:lnTo>
                  <a:lnTo>
                    <a:pt x="165" y="2"/>
                  </a:lnTo>
                  <a:lnTo>
                    <a:pt x="162" y="5"/>
                  </a:lnTo>
                  <a:lnTo>
                    <a:pt x="162" y="10"/>
                  </a:lnTo>
                  <a:lnTo>
                    <a:pt x="154" y="17"/>
                  </a:lnTo>
                  <a:lnTo>
                    <a:pt x="154" y="15"/>
                  </a:lnTo>
                  <a:lnTo>
                    <a:pt x="150" y="12"/>
                  </a:lnTo>
                  <a:lnTo>
                    <a:pt x="146" y="10"/>
                  </a:lnTo>
                  <a:lnTo>
                    <a:pt x="142" y="7"/>
                  </a:lnTo>
                  <a:lnTo>
                    <a:pt x="137" y="10"/>
                  </a:lnTo>
                  <a:lnTo>
                    <a:pt x="117" y="12"/>
                  </a:lnTo>
                  <a:lnTo>
                    <a:pt x="109" y="51"/>
                  </a:lnTo>
                  <a:lnTo>
                    <a:pt x="92" y="51"/>
                  </a:lnTo>
                  <a:lnTo>
                    <a:pt x="73" y="71"/>
                  </a:lnTo>
                  <a:lnTo>
                    <a:pt x="69" y="86"/>
                  </a:lnTo>
                  <a:lnTo>
                    <a:pt x="65" y="98"/>
                  </a:lnTo>
                  <a:lnTo>
                    <a:pt x="56" y="96"/>
                  </a:lnTo>
                  <a:lnTo>
                    <a:pt x="44" y="103"/>
                  </a:lnTo>
                  <a:lnTo>
                    <a:pt x="40" y="127"/>
                  </a:lnTo>
                  <a:lnTo>
                    <a:pt x="44" y="152"/>
                  </a:lnTo>
                  <a:lnTo>
                    <a:pt x="8" y="155"/>
                  </a:lnTo>
                  <a:lnTo>
                    <a:pt x="0" y="167"/>
                  </a:lnTo>
                  <a:lnTo>
                    <a:pt x="28" y="174"/>
                  </a:lnTo>
                  <a:lnTo>
                    <a:pt x="73" y="199"/>
                  </a:lnTo>
                  <a:lnTo>
                    <a:pt x="97" y="231"/>
                  </a:lnTo>
                  <a:lnTo>
                    <a:pt x="117" y="231"/>
                  </a:lnTo>
                  <a:lnTo>
                    <a:pt x="121" y="248"/>
                  </a:lnTo>
                  <a:lnTo>
                    <a:pt x="125" y="250"/>
                  </a:lnTo>
                  <a:lnTo>
                    <a:pt x="129" y="253"/>
                  </a:lnTo>
                  <a:lnTo>
                    <a:pt x="134" y="253"/>
                  </a:lnTo>
                  <a:lnTo>
                    <a:pt x="142" y="253"/>
                  </a:lnTo>
                  <a:lnTo>
                    <a:pt x="158" y="253"/>
                  </a:lnTo>
                  <a:lnTo>
                    <a:pt x="165" y="256"/>
                  </a:lnTo>
                  <a:lnTo>
                    <a:pt x="186" y="263"/>
                  </a:lnTo>
                  <a:lnTo>
                    <a:pt x="206" y="270"/>
                  </a:lnTo>
                  <a:lnTo>
                    <a:pt x="210" y="272"/>
                  </a:lnTo>
                  <a:lnTo>
                    <a:pt x="266" y="277"/>
                  </a:lnTo>
                  <a:lnTo>
                    <a:pt x="266" y="275"/>
                  </a:lnTo>
                  <a:lnTo>
                    <a:pt x="275" y="272"/>
                  </a:lnTo>
                  <a:lnTo>
                    <a:pt x="291" y="263"/>
                  </a:lnTo>
                  <a:lnTo>
                    <a:pt x="316" y="258"/>
                  </a:lnTo>
                  <a:lnTo>
                    <a:pt x="331" y="265"/>
                  </a:lnTo>
                  <a:lnTo>
                    <a:pt x="359" y="26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91440" y="1928160"/>
              <a:ext cx="210600" cy="99720"/>
            </a:xfrm>
            <a:custGeom>
              <a:avLst/>
              <a:gdLst/>
              <a:ahLst/>
              <a:rect l="l" t="t" r="r" b="b"/>
              <a:pathLst>
                <a:path w="586" h="278">
                  <a:moveTo>
                    <a:pt x="359" y="263"/>
                  </a:moveTo>
                  <a:lnTo>
                    <a:pt x="424" y="241"/>
                  </a:lnTo>
                  <a:lnTo>
                    <a:pt x="440" y="241"/>
                  </a:lnTo>
                  <a:lnTo>
                    <a:pt x="473" y="241"/>
                  </a:lnTo>
                  <a:lnTo>
                    <a:pt x="488" y="231"/>
                  </a:lnTo>
                  <a:lnTo>
                    <a:pt x="505" y="219"/>
                  </a:lnTo>
                  <a:lnTo>
                    <a:pt x="509" y="216"/>
                  </a:lnTo>
                  <a:lnTo>
                    <a:pt x="521" y="209"/>
                  </a:lnTo>
                  <a:lnTo>
                    <a:pt x="533" y="199"/>
                  </a:lnTo>
                  <a:lnTo>
                    <a:pt x="541" y="194"/>
                  </a:lnTo>
                  <a:lnTo>
                    <a:pt x="545" y="189"/>
                  </a:lnTo>
                  <a:lnTo>
                    <a:pt x="561" y="179"/>
                  </a:lnTo>
                  <a:lnTo>
                    <a:pt x="573" y="172"/>
                  </a:lnTo>
                  <a:lnTo>
                    <a:pt x="577" y="170"/>
                  </a:lnTo>
                  <a:lnTo>
                    <a:pt x="585" y="165"/>
                  </a:lnTo>
                  <a:lnTo>
                    <a:pt x="565" y="165"/>
                  </a:lnTo>
                  <a:lnTo>
                    <a:pt x="545" y="165"/>
                  </a:lnTo>
                  <a:lnTo>
                    <a:pt x="525" y="160"/>
                  </a:lnTo>
                  <a:lnTo>
                    <a:pt x="505" y="155"/>
                  </a:lnTo>
                  <a:lnTo>
                    <a:pt x="496" y="155"/>
                  </a:lnTo>
                  <a:lnTo>
                    <a:pt x="484" y="152"/>
                  </a:lnTo>
                  <a:lnTo>
                    <a:pt x="465" y="147"/>
                  </a:lnTo>
                  <a:lnTo>
                    <a:pt x="449" y="145"/>
                  </a:lnTo>
                  <a:lnTo>
                    <a:pt x="444" y="142"/>
                  </a:lnTo>
                  <a:lnTo>
                    <a:pt x="428" y="140"/>
                  </a:lnTo>
                  <a:lnTo>
                    <a:pt x="380" y="111"/>
                  </a:lnTo>
                  <a:lnTo>
                    <a:pt x="368" y="101"/>
                  </a:lnTo>
                  <a:lnTo>
                    <a:pt x="380" y="91"/>
                  </a:lnTo>
                  <a:lnTo>
                    <a:pt x="335" y="91"/>
                  </a:lnTo>
                  <a:lnTo>
                    <a:pt x="331" y="78"/>
                  </a:lnTo>
                  <a:lnTo>
                    <a:pt x="351" y="57"/>
                  </a:lnTo>
                  <a:lnTo>
                    <a:pt x="343" y="51"/>
                  </a:lnTo>
                  <a:lnTo>
                    <a:pt x="327" y="42"/>
                  </a:lnTo>
                  <a:lnTo>
                    <a:pt x="311" y="31"/>
                  </a:lnTo>
                  <a:lnTo>
                    <a:pt x="295" y="22"/>
                  </a:lnTo>
                  <a:lnTo>
                    <a:pt x="287" y="20"/>
                  </a:lnTo>
                  <a:lnTo>
                    <a:pt x="275" y="12"/>
                  </a:lnTo>
                  <a:lnTo>
                    <a:pt x="250" y="7"/>
                  </a:lnTo>
                  <a:lnTo>
                    <a:pt x="239" y="7"/>
                  </a:lnTo>
                  <a:lnTo>
                    <a:pt x="231" y="5"/>
                  </a:lnTo>
                  <a:lnTo>
                    <a:pt x="218" y="7"/>
                  </a:lnTo>
                  <a:lnTo>
                    <a:pt x="218" y="5"/>
                  </a:lnTo>
                  <a:lnTo>
                    <a:pt x="210" y="2"/>
                  </a:lnTo>
                  <a:lnTo>
                    <a:pt x="210" y="5"/>
                  </a:lnTo>
                  <a:lnTo>
                    <a:pt x="190" y="10"/>
                  </a:lnTo>
                  <a:lnTo>
                    <a:pt x="186" y="7"/>
                  </a:lnTo>
                  <a:lnTo>
                    <a:pt x="186" y="5"/>
                  </a:lnTo>
                  <a:lnTo>
                    <a:pt x="182" y="2"/>
                  </a:lnTo>
                  <a:lnTo>
                    <a:pt x="165" y="0"/>
                  </a:lnTo>
                  <a:lnTo>
                    <a:pt x="165" y="2"/>
                  </a:lnTo>
                  <a:lnTo>
                    <a:pt x="162" y="5"/>
                  </a:lnTo>
                  <a:lnTo>
                    <a:pt x="162" y="10"/>
                  </a:lnTo>
                  <a:lnTo>
                    <a:pt x="154" y="17"/>
                  </a:lnTo>
                  <a:lnTo>
                    <a:pt x="154" y="15"/>
                  </a:lnTo>
                  <a:lnTo>
                    <a:pt x="154" y="15"/>
                  </a:lnTo>
                  <a:lnTo>
                    <a:pt x="150" y="12"/>
                  </a:lnTo>
                  <a:lnTo>
                    <a:pt x="146" y="10"/>
                  </a:lnTo>
                  <a:lnTo>
                    <a:pt x="142" y="7"/>
                  </a:lnTo>
                  <a:lnTo>
                    <a:pt x="137" y="10"/>
                  </a:lnTo>
                  <a:lnTo>
                    <a:pt x="137" y="10"/>
                  </a:lnTo>
                  <a:lnTo>
                    <a:pt x="117" y="12"/>
                  </a:lnTo>
                  <a:lnTo>
                    <a:pt x="109" y="51"/>
                  </a:lnTo>
                  <a:lnTo>
                    <a:pt x="92" y="51"/>
                  </a:lnTo>
                  <a:lnTo>
                    <a:pt x="73" y="71"/>
                  </a:lnTo>
                  <a:lnTo>
                    <a:pt x="69" y="86"/>
                  </a:lnTo>
                  <a:lnTo>
                    <a:pt x="65" y="98"/>
                  </a:lnTo>
                  <a:lnTo>
                    <a:pt x="56" y="96"/>
                  </a:lnTo>
                  <a:lnTo>
                    <a:pt x="44" y="103"/>
                  </a:lnTo>
                  <a:lnTo>
                    <a:pt x="40" y="127"/>
                  </a:lnTo>
                  <a:lnTo>
                    <a:pt x="44" y="152"/>
                  </a:lnTo>
                  <a:lnTo>
                    <a:pt x="8" y="155"/>
                  </a:lnTo>
                  <a:lnTo>
                    <a:pt x="0" y="167"/>
                  </a:lnTo>
                  <a:lnTo>
                    <a:pt x="28" y="174"/>
                  </a:lnTo>
                  <a:lnTo>
                    <a:pt x="73" y="199"/>
                  </a:lnTo>
                  <a:lnTo>
                    <a:pt x="97" y="231"/>
                  </a:lnTo>
                  <a:lnTo>
                    <a:pt x="117" y="231"/>
                  </a:lnTo>
                  <a:lnTo>
                    <a:pt x="121" y="248"/>
                  </a:lnTo>
                  <a:lnTo>
                    <a:pt x="125" y="250"/>
                  </a:lnTo>
                  <a:lnTo>
                    <a:pt x="129" y="253"/>
                  </a:lnTo>
                  <a:lnTo>
                    <a:pt x="134" y="253"/>
                  </a:lnTo>
                  <a:lnTo>
                    <a:pt x="142" y="253"/>
                  </a:lnTo>
                  <a:lnTo>
                    <a:pt x="158" y="253"/>
                  </a:lnTo>
                  <a:lnTo>
                    <a:pt x="165" y="256"/>
                  </a:lnTo>
                  <a:lnTo>
                    <a:pt x="165" y="256"/>
                  </a:lnTo>
                  <a:lnTo>
                    <a:pt x="186" y="263"/>
                  </a:lnTo>
                  <a:lnTo>
                    <a:pt x="206" y="270"/>
                  </a:lnTo>
                  <a:lnTo>
                    <a:pt x="210" y="272"/>
                  </a:lnTo>
                  <a:lnTo>
                    <a:pt x="266" y="277"/>
                  </a:lnTo>
                  <a:lnTo>
                    <a:pt x="266" y="275"/>
                  </a:lnTo>
                  <a:lnTo>
                    <a:pt x="275" y="272"/>
                  </a:lnTo>
                  <a:lnTo>
                    <a:pt x="291" y="263"/>
                  </a:lnTo>
                  <a:lnTo>
                    <a:pt x="316" y="258"/>
                  </a:lnTo>
                  <a:lnTo>
                    <a:pt x="331" y="265"/>
                  </a:lnTo>
                  <a:lnTo>
                    <a:pt x="359" y="26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09880" y="1945440"/>
              <a:ext cx="21960" cy="1548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20" y="8"/>
                  </a:moveTo>
                  <a:lnTo>
                    <a:pt x="20" y="5"/>
                  </a:lnTo>
                  <a:lnTo>
                    <a:pt x="45" y="0"/>
                  </a:lnTo>
                  <a:lnTo>
                    <a:pt x="61" y="17"/>
                  </a:lnTo>
                  <a:lnTo>
                    <a:pt x="28" y="29"/>
                  </a:lnTo>
                  <a:lnTo>
                    <a:pt x="57" y="29"/>
                  </a:lnTo>
                  <a:lnTo>
                    <a:pt x="49" y="42"/>
                  </a:lnTo>
                  <a:lnTo>
                    <a:pt x="4" y="42"/>
                  </a:lnTo>
                  <a:lnTo>
                    <a:pt x="0" y="29"/>
                  </a:lnTo>
                  <a:lnTo>
                    <a:pt x="2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09880" y="1945440"/>
              <a:ext cx="21960" cy="1548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20" y="8"/>
                  </a:moveTo>
                  <a:lnTo>
                    <a:pt x="20" y="5"/>
                  </a:lnTo>
                  <a:lnTo>
                    <a:pt x="45" y="0"/>
                  </a:lnTo>
                  <a:lnTo>
                    <a:pt x="61" y="17"/>
                  </a:lnTo>
                  <a:lnTo>
                    <a:pt x="28" y="29"/>
                  </a:lnTo>
                  <a:lnTo>
                    <a:pt x="57" y="29"/>
                  </a:lnTo>
                  <a:lnTo>
                    <a:pt x="49" y="42"/>
                  </a:lnTo>
                  <a:lnTo>
                    <a:pt x="4" y="42"/>
                  </a:lnTo>
                  <a:lnTo>
                    <a:pt x="0" y="29"/>
                  </a:lnTo>
                  <a:lnTo>
                    <a:pt x="20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88240" y="1653840"/>
              <a:ext cx="47160" cy="1548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31" y="42"/>
                  </a:moveTo>
                  <a:lnTo>
                    <a:pt x="60" y="42"/>
                  </a:lnTo>
                  <a:lnTo>
                    <a:pt x="72" y="29"/>
                  </a:lnTo>
                  <a:lnTo>
                    <a:pt x="96" y="42"/>
                  </a:lnTo>
                  <a:lnTo>
                    <a:pt x="101" y="29"/>
                  </a:lnTo>
                  <a:lnTo>
                    <a:pt x="124" y="34"/>
                  </a:lnTo>
                  <a:lnTo>
                    <a:pt x="124" y="24"/>
                  </a:lnTo>
                  <a:lnTo>
                    <a:pt x="132" y="27"/>
                  </a:lnTo>
                  <a:lnTo>
                    <a:pt x="132" y="20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104" y="13"/>
                  </a:lnTo>
                  <a:lnTo>
                    <a:pt x="104" y="10"/>
                  </a:lnTo>
                  <a:lnTo>
                    <a:pt x="104" y="7"/>
                  </a:lnTo>
                  <a:lnTo>
                    <a:pt x="104" y="5"/>
                  </a:lnTo>
                  <a:lnTo>
                    <a:pt x="92" y="3"/>
                  </a:lnTo>
                  <a:lnTo>
                    <a:pt x="88" y="3"/>
                  </a:lnTo>
                  <a:lnTo>
                    <a:pt x="84" y="3"/>
                  </a:lnTo>
                  <a:lnTo>
                    <a:pt x="80" y="3"/>
                  </a:lnTo>
                  <a:lnTo>
                    <a:pt x="76" y="3"/>
                  </a:lnTo>
                  <a:lnTo>
                    <a:pt x="72" y="0"/>
                  </a:lnTo>
                  <a:lnTo>
                    <a:pt x="76" y="3"/>
                  </a:lnTo>
                  <a:lnTo>
                    <a:pt x="72" y="5"/>
                  </a:lnTo>
                  <a:lnTo>
                    <a:pt x="47" y="5"/>
                  </a:lnTo>
                  <a:lnTo>
                    <a:pt x="43" y="5"/>
                  </a:lnTo>
                  <a:lnTo>
                    <a:pt x="27" y="7"/>
                  </a:lnTo>
                  <a:lnTo>
                    <a:pt x="0" y="34"/>
                  </a:lnTo>
                  <a:lnTo>
                    <a:pt x="24" y="29"/>
                  </a:lnTo>
                  <a:lnTo>
                    <a:pt x="31" y="4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88240" y="1653840"/>
              <a:ext cx="47160" cy="1548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31" y="42"/>
                  </a:moveTo>
                  <a:lnTo>
                    <a:pt x="60" y="42"/>
                  </a:lnTo>
                  <a:lnTo>
                    <a:pt x="72" y="29"/>
                  </a:lnTo>
                  <a:lnTo>
                    <a:pt x="96" y="42"/>
                  </a:lnTo>
                  <a:lnTo>
                    <a:pt x="101" y="29"/>
                  </a:lnTo>
                  <a:lnTo>
                    <a:pt x="124" y="34"/>
                  </a:lnTo>
                  <a:lnTo>
                    <a:pt x="124" y="24"/>
                  </a:lnTo>
                  <a:lnTo>
                    <a:pt x="132" y="27"/>
                  </a:lnTo>
                  <a:lnTo>
                    <a:pt x="132" y="20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104" y="13"/>
                  </a:lnTo>
                  <a:lnTo>
                    <a:pt x="104" y="10"/>
                  </a:lnTo>
                  <a:lnTo>
                    <a:pt x="104" y="7"/>
                  </a:lnTo>
                  <a:lnTo>
                    <a:pt x="104" y="7"/>
                  </a:lnTo>
                  <a:lnTo>
                    <a:pt x="104" y="5"/>
                  </a:lnTo>
                  <a:lnTo>
                    <a:pt x="92" y="3"/>
                  </a:lnTo>
                  <a:lnTo>
                    <a:pt x="88" y="3"/>
                  </a:lnTo>
                  <a:lnTo>
                    <a:pt x="84" y="3"/>
                  </a:lnTo>
                  <a:lnTo>
                    <a:pt x="80" y="3"/>
                  </a:lnTo>
                  <a:lnTo>
                    <a:pt x="76" y="3"/>
                  </a:lnTo>
                  <a:lnTo>
                    <a:pt x="72" y="0"/>
                  </a:lnTo>
                  <a:lnTo>
                    <a:pt x="76" y="3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47" y="5"/>
                  </a:lnTo>
                  <a:lnTo>
                    <a:pt x="43" y="5"/>
                  </a:lnTo>
                  <a:lnTo>
                    <a:pt x="27" y="7"/>
                  </a:lnTo>
                  <a:lnTo>
                    <a:pt x="0" y="34"/>
                  </a:lnTo>
                  <a:lnTo>
                    <a:pt x="24" y="29"/>
                  </a:lnTo>
                  <a:lnTo>
                    <a:pt x="31" y="4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83200" y="1634760"/>
              <a:ext cx="7560" cy="61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6" y="15"/>
                  </a:moveTo>
                  <a:lnTo>
                    <a:pt x="0" y="12"/>
                  </a:lnTo>
                  <a:lnTo>
                    <a:pt x="8" y="0"/>
                  </a:lnTo>
                  <a:lnTo>
                    <a:pt x="20" y="7"/>
                  </a:lnTo>
                  <a:lnTo>
                    <a:pt x="16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83200" y="1634760"/>
              <a:ext cx="7560" cy="61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6" y="15"/>
                  </a:moveTo>
                  <a:lnTo>
                    <a:pt x="0" y="12"/>
                  </a:lnTo>
                  <a:lnTo>
                    <a:pt x="8" y="0"/>
                  </a:lnTo>
                  <a:lnTo>
                    <a:pt x="20" y="7"/>
                  </a:lnTo>
                  <a:lnTo>
                    <a:pt x="16" y="1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21240" y="1864440"/>
              <a:ext cx="124920" cy="139320"/>
            </a:xfrm>
            <a:custGeom>
              <a:avLst/>
              <a:gdLst/>
              <a:ahLst/>
              <a:rect l="l" t="t" r="r" b="b"/>
              <a:pathLst>
                <a:path w="348" h="389">
                  <a:moveTo>
                    <a:pt x="162" y="263"/>
                  </a:moveTo>
                  <a:lnTo>
                    <a:pt x="178" y="223"/>
                  </a:lnTo>
                  <a:lnTo>
                    <a:pt x="145" y="192"/>
                  </a:lnTo>
                  <a:lnTo>
                    <a:pt x="134" y="169"/>
                  </a:lnTo>
                  <a:lnTo>
                    <a:pt x="85" y="138"/>
                  </a:lnTo>
                  <a:lnTo>
                    <a:pt x="93" y="132"/>
                  </a:lnTo>
                  <a:lnTo>
                    <a:pt x="85" y="113"/>
                  </a:lnTo>
                  <a:lnTo>
                    <a:pt x="93" y="103"/>
                  </a:lnTo>
                  <a:lnTo>
                    <a:pt x="80" y="103"/>
                  </a:lnTo>
                  <a:lnTo>
                    <a:pt x="0" y="49"/>
                  </a:lnTo>
                  <a:lnTo>
                    <a:pt x="16" y="49"/>
                  </a:lnTo>
                  <a:lnTo>
                    <a:pt x="4" y="15"/>
                  </a:lnTo>
                  <a:lnTo>
                    <a:pt x="37" y="15"/>
                  </a:lnTo>
                  <a:lnTo>
                    <a:pt x="32" y="7"/>
                  </a:lnTo>
                  <a:lnTo>
                    <a:pt x="49" y="5"/>
                  </a:lnTo>
                  <a:lnTo>
                    <a:pt x="41" y="0"/>
                  </a:lnTo>
                  <a:lnTo>
                    <a:pt x="61" y="0"/>
                  </a:lnTo>
                  <a:lnTo>
                    <a:pt x="85" y="5"/>
                  </a:lnTo>
                  <a:lnTo>
                    <a:pt x="93" y="19"/>
                  </a:lnTo>
                  <a:lnTo>
                    <a:pt x="117" y="19"/>
                  </a:lnTo>
                  <a:lnTo>
                    <a:pt x="142" y="59"/>
                  </a:lnTo>
                  <a:lnTo>
                    <a:pt x="142" y="71"/>
                  </a:lnTo>
                  <a:lnTo>
                    <a:pt x="158" y="63"/>
                  </a:lnTo>
                  <a:lnTo>
                    <a:pt x="170" y="54"/>
                  </a:lnTo>
                  <a:lnTo>
                    <a:pt x="198" y="63"/>
                  </a:lnTo>
                  <a:lnTo>
                    <a:pt x="206" y="54"/>
                  </a:lnTo>
                  <a:lnTo>
                    <a:pt x="210" y="47"/>
                  </a:lnTo>
                  <a:lnTo>
                    <a:pt x="234" y="49"/>
                  </a:lnTo>
                  <a:lnTo>
                    <a:pt x="275" y="68"/>
                  </a:lnTo>
                  <a:lnTo>
                    <a:pt x="291" y="96"/>
                  </a:lnTo>
                  <a:lnTo>
                    <a:pt x="335" y="118"/>
                  </a:lnTo>
                  <a:lnTo>
                    <a:pt x="339" y="125"/>
                  </a:lnTo>
                  <a:lnTo>
                    <a:pt x="347" y="147"/>
                  </a:lnTo>
                  <a:lnTo>
                    <a:pt x="339" y="152"/>
                  </a:lnTo>
                  <a:lnTo>
                    <a:pt x="323" y="150"/>
                  </a:lnTo>
                  <a:lnTo>
                    <a:pt x="271" y="155"/>
                  </a:lnTo>
                  <a:lnTo>
                    <a:pt x="250" y="177"/>
                  </a:lnTo>
                  <a:lnTo>
                    <a:pt x="266" y="199"/>
                  </a:lnTo>
                  <a:lnTo>
                    <a:pt x="295" y="226"/>
                  </a:lnTo>
                  <a:lnTo>
                    <a:pt x="266" y="214"/>
                  </a:lnTo>
                  <a:lnTo>
                    <a:pt x="254" y="201"/>
                  </a:lnTo>
                  <a:lnTo>
                    <a:pt x="210" y="201"/>
                  </a:lnTo>
                  <a:lnTo>
                    <a:pt x="206" y="179"/>
                  </a:lnTo>
                  <a:lnTo>
                    <a:pt x="178" y="179"/>
                  </a:lnTo>
                  <a:lnTo>
                    <a:pt x="170" y="184"/>
                  </a:lnTo>
                  <a:lnTo>
                    <a:pt x="186" y="214"/>
                  </a:lnTo>
                  <a:lnTo>
                    <a:pt x="174" y="263"/>
                  </a:lnTo>
                  <a:lnTo>
                    <a:pt x="186" y="292"/>
                  </a:lnTo>
                  <a:lnTo>
                    <a:pt x="210" y="290"/>
                  </a:lnTo>
                  <a:lnTo>
                    <a:pt x="230" y="314"/>
                  </a:lnTo>
                  <a:lnTo>
                    <a:pt x="250" y="347"/>
                  </a:lnTo>
                  <a:lnTo>
                    <a:pt x="234" y="332"/>
                  </a:lnTo>
                  <a:lnTo>
                    <a:pt x="246" y="347"/>
                  </a:lnTo>
                  <a:lnTo>
                    <a:pt x="287" y="356"/>
                  </a:lnTo>
                  <a:lnTo>
                    <a:pt x="311" y="371"/>
                  </a:lnTo>
                  <a:lnTo>
                    <a:pt x="308" y="386"/>
                  </a:lnTo>
                  <a:lnTo>
                    <a:pt x="295" y="381"/>
                  </a:lnTo>
                  <a:lnTo>
                    <a:pt x="283" y="388"/>
                  </a:lnTo>
                  <a:lnTo>
                    <a:pt x="279" y="371"/>
                  </a:lnTo>
                  <a:lnTo>
                    <a:pt x="242" y="358"/>
                  </a:lnTo>
                  <a:lnTo>
                    <a:pt x="238" y="369"/>
                  </a:lnTo>
                  <a:lnTo>
                    <a:pt x="214" y="342"/>
                  </a:lnTo>
                  <a:lnTo>
                    <a:pt x="210" y="344"/>
                  </a:lnTo>
                  <a:lnTo>
                    <a:pt x="194" y="329"/>
                  </a:lnTo>
                  <a:lnTo>
                    <a:pt x="174" y="314"/>
                  </a:lnTo>
                  <a:lnTo>
                    <a:pt x="162" y="319"/>
                  </a:lnTo>
                  <a:lnTo>
                    <a:pt x="153" y="295"/>
                  </a:lnTo>
                  <a:lnTo>
                    <a:pt x="162" y="26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621240" y="1864440"/>
              <a:ext cx="124920" cy="139320"/>
            </a:xfrm>
            <a:custGeom>
              <a:avLst/>
              <a:gdLst/>
              <a:ahLst/>
              <a:rect l="l" t="t" r="r" b="b"/>
              <a:pathLst>
                <a:path w="348" h="389">
                  <a:moveTo>
                    <a:pt x="162" y="263"/>
                  </a:moveTo>
                  <a:lnTo>
                    <a:pt x="178" y="223"/>
                  </a:lnTo>
                  <a:lnTo>
                    <a:pt x="145" y="192"/>
                  </a:lnTo>
                  <a:lnTo>
                    <a:pt x="134" y="169"/>
                  </a:lnTo>
                  <a:lnTo>
                    <a:pt x="85" y="138"/>
                  </a:lnTo>
                  <a:lnTo>
                    <a:pt x="93" y="132"/>
                  </a:lnTo>
                  <a:lnTo>
                    <a:pt x="85" y="113"/>
                  </a:lnTo>
                  <a:lnTo>
                    <a:pt x="93" y="103"/>
                  </a:lnTo>
                  <a:lnTo>
                    <a:pt x="80" y="103"/>
                  </a:lnTo>
                  <a:lnTo>
                    <a:pt x="0" y="49"/>
                  </a:lnTo>
                  <a:lnTo>
                    <a:pt x="16" y="49"/>
                  </a:lnTo>
                  <a:lnTo>
                    <a:pt x="4" y="15"/>
                  </a:lnTo>
                  <a:lnTo>
                    <a:pt x="37" y="15"/>
                  </a:lnTo>
                  <a:lnTo>
                    <a:pt x="32" y="7"/>
                  </a:lnTo>
                  <a:lnTo>
                    <a:pt x="49" y="5"/>
                  </a:lnTo>
                  <a:lnTo>
                    <a:pt x="41" y="0"/>
                  </a:lnTo>
                  <a:lnTo>
                    <a:pt x="61" y="0"/>
                  </a:lnTo>
                  <a:lnTo>
                    <a:pt x="85" y="5"/>
                  </a:lnTo>
                  <a:lnTo>
                    <a:pt x="93" y="19"/>
                  </a:lnTo>
                  <a:lnTo>
                    <a:pt x="117" y="19"/>
                  </a:lnTo>
                  <a:lnTo>
                    <a:pt x="142" y="59"/>
                  </a:lnTo>
                  <a:lnTo>
                    <a:pt x="142" y="71"/>
                  </a:lnTo>
                  <a:lnTo>
                    <a:pt x="158" y="63"/>
                  </a:lnTo>
                  <a:lnTo>
                    <a:pt x="170" y="54"/>
                  </a:lnTo>
                  <a:lnTo>
                    <a:pt x="198" y="63"/>
                  </a:lnTo>
                  <a:lnTo>
                    <a:pt x="206" y="54"/>
                  </a:lnTo>
                  <a:lnTo>
                    <a:pt x="210" y="47"/>
                  </a:lnTo>
                  <a:lnTo>
                    <a:pt x="234" y="49"/>
                  </a:lnTo>
                  <a:lnTo>
                    <a:pt x="275" y="68"/>
                  </a:lnTo>
                  <a:lnTo>
                    <a:pt x="291" y="96"/>
                  </a:lnTo>
                  <a:lnTo>
                    <a:pt x="335" y="118"/>
                  </a:lnTo>
                  <a:lnTo>
                    <a:pt x="339" y="125"/>
                  </a:lnTo>
                  <a:lnTo>
                    <a:pt x="347" y="147"/>
                  </a:lnTo>
                  <a:lnTo>
                    <a:pt x="339" y="152"/>
                  </a:lnTo>
                  <a:lnTo>
                    <a:pt x="323" y="150"/>
                  </a:lnTo>
                  <a:lnTo>
                    <a:pt x="271" y="155"/>
                  </a:lnTo>
                  <a:lnTo>
                    <a:pt x="250" y="177"/>
                  </a:lnTo>
                  <a:lnTo>
                    <a:pt x="266" y="199"/>
                  </a:lnTo>
                  <a:lnTo>
                    <a:pt x="295" y="226"/>
                  </a:lnTo>
                  <a:lnTo>
                    <a:pt x="266" y="214"/>
                  </a:lnTo>
                  <a:lnTo>
                    <a:pt x="254" y="201"/>
                  </a:lnTo>
                  <a:lnTo>
                    <a:pt x="210" y="201"/>
                  </a:lnTo>
                  <a:lnTo>
                    <a:pt x="206" y="179"/>
                  </a:lnTo>
                  <a:lnTo>
                    <a:pt x="178" y="179"/>
                  </a:lnTo>
                  <a:lnTo>
                    <a:pt x="170" y="184"/>
                  </a:lnTo>
                  <a:lnTo>
                    <a:pt x="186" y="214"/>
                  </a:lnTo>
                  <a:lnTo>
                    <a:pt x="174" y="263"/>
                  </a:lnTo>
                  <a:lnTo>
                    <a:pt x="186" y="292"/>
                  </a:lnTo>
                  <a:lnTo>
                    <a:pt x="210" y="290"/>
                  </a:lnTo>
                  <a:lnTo>
                    <a:pt x="230" y="314"/>
                  </a:lnTo>
                  <a:lnTo>
                    <a:pt x="250" y="347"/>
                  </a:lnTo>
                  <a:lnTo>
                    <a:pt x="234" y="332"/>
                  </a:lnTo>
                  <a:lnTo>
                    <a:pt x="246" y="347"/>
                  </a:lnTo>
                  <a:lnTo>
                    <a:pt x="287" y="356"/>
                  </a:lnTo>
                  <a:lnTo>
                    <a:pt x="311" y="371"/>
                  </a:lnTo>
                  <a:lnTo>
                    <a:pt x="308" y="386"/>
                  </a:lnTo>
                  <a:lnTo>
                    <a:pt x="295" y="381"/>
                  </a:lnTo>
                  <a:lnTo>
                    <a:pt x="283" y="388"/>
                  </a:lnTo>
                  <a:lnTo>
                    <a:pt x="279" y="371"/>
                  </a:lnTo>
                  <a:lnTo>
                    <a:pt x="242" y="358"/>
                  </a:lnTo>
                  <a:lnTo>
                    <a:pt x="238" y="369"/>
                  </a:lnTo>
                  <a:lnTo>
                    <a:pt x="214" y="342"/>
                  </a:lnTo>
                  <a:lnTo>
                    <a:pt x="210" y="344"/>
                  </a:lnTo>
                  <a:lnTo>
                    <a:pt x="194" y="329"/>
                  </a:lnTo>
                  <a:lnTo>
                    <a:pt x="174" y="314"/>
                  </a:lnTo>
                  <a:lnTo>
                    <a:pt x="162" y="319"/>
                  </a:lnTo>
                  <a:lnTo>
                    <a:pt x="153" y="295"/>
                  </a:lnTo>
                  <a:lnTo>
                    <a:pt x="162" y="26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333960" y="1778760"/>
              <a:ext cx="118800" cy="34560"/>
            </a:xfrm>
            <a:custGeom>
              <a:avLst/>
              <a:gdLst/>
              <a:ahLst/>
              <a:rect l="l" t="t" r="r" b="b"/>
              <a:pathLst>
                <a:path w="331" h="97">
                  <a:moveTo>
                    <a:pt x="299" y="57"/>
                  </a:moveTo>
                  <a:lnTo>
                    <a:pt x="274" y="59"/>
                  </a:lnTo>
                  <a:lnTo>
                    <a:pt x="230" y="52"/>
                  </a:lnTo>
                  <a:lnTo>
                    <a:pt x="226" y="57"/>
                  </a:lnTo>
                  <a:lnTo>
                    <a:pt x="218" y="52"/>
                  </a:lnTo>
                  <a:lnTo>
                    <a:pt x="190" y="49"/>
                  </a:lnTo>
                  <a:lnTo>
                    <a:pt x="182" y="39"/>
                  </a:lnTo>
                  <a:lnTo>
                    <a:pt x="146" y="37"/>
                  </a:lnTo>
                  <a:lnTo>
                    <a:pt x="133" y="27"/>
                  </a:lnTo>
                  <a:lnTo>
                    <a:pt x="125" y="32"/>
                  </a:lnTo>
                  <a:lnTo>
                    <a:pt x="48" y="7"/>
                  </a:lnTo>
                  <a:lnTo>
                    <a:pt x="24" y="0"/>
                  </a:lnTo>
                  <a:lnTo>
                    <a:pt x="12" y="7"/>
                  </a:lnTo>
                  <a:lnTo>
                    <a:pt x="0" y="19"/>
                  </a:lnTo>
                  <a:lnTo>
                    <a:pt x="12" y="42"/>
                  </a:lnTo>
                  <a:lnTo>
                    <a:pt x="93" y="63"/>
                  </a:lnTo>
                  <a:lnTo>
                    <a:pt x="129" y="71"/>
                  </a:lnTo>
                  <a:lnTo>
                    <a:pt x="173" y="71"/>
                  </a:lnTo>
                  <a:lnTo>
                    <a:pt x="202" y="81"/>
                  </a:lnTo>
                  <a:lnTo>
                    <a:pt x="226" y="88"/>
                  </a:lnTo>
                  <a:lnTo>
                    <a:pt x="286" y="93"/>
                  </a:lnTo>
                  <a:lnTo>
                    <a:pt x="295" y="91"/>
                  </a:lnTo>
                  <a:lnTo>
                    <a:pt x="307" y="96"/>
                  </a:lnTo>
                  <a:lnTo>
                    <a:pt x="330" y="93"/>
                  </a:lnTo>
                  <a:lnTo>
                    <a:pt x="299" y="5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333960" y="1778760"/>
              <a:ext cx="118800" cy="34560"/>
            </a:xfrm>
            <a:custGeom>
              <a:avLst/>
              <a:gdLst/>
              <a:ahLst/>
              <a:rect l="l" t="t" r="r" b="b"/>
              <a:pathLst>
                <a:path w="331" h="97">
                  <a:moveTo>
                    <a:pt x="299" y="57"/>
                  </a:moveTo>
                  <a:lnTo>
                    <a:pt x="274" y="59"/>
                  </a:lnTo>
                  <a:lnTo>
                    <a:pt x="230" y="52"/>
                  </a:lnTo>
                  <a:lnTo>
                    <a:pt x="226" y="57"/>
                  </a:lnTo>
                  <a:lnTo>
                    <a:pt x="218" y="52"/>
                  </a:lnTo>
                  <a:lnTo>
                    <a:pt x="190" y="49"/>
                  </a:lnTo>
                  <a:lnTo>
                    <a:pt x="182" y="39"/>
                  </a:lnTo>
                  <a:lnTo>
                    <a:pt x="146" y="37"/>
                  </a:lnTo>
                  <a:lnTo>
                    <a:pt x="133" y="27"/>
                  </a:lnTo>
                  <a:lnTo>
                    <a:pt x="125" y="32"/>
                  </a:lnTo>
                  <a:lnTo>
                    <a:pt x="48" y="7"/>
                  </a:lnTo>
                  <a:lnTo>
                    <a:pt x="24" y="0"/>
                  </a:lnTo>
                  <a:lnTo>
                    <a:pt x="12" y="7"/>
                  </a:lnTo>
                  <a:lnTo>
                    <a:pt x="0" y="19"/>
                  </a:lnTo>
                  <a:lnTo>
                    <a:pt x="12" y="42"/>
                  </a:lnTo>
                  <a:lnTo>
                    <a:pt x="93" y="63"/>
                  </a:lnTo>
                  <a:lnTo>
                    <a:pt x="129" y="71"/>
                  </a:lnTo>
                  <a:lnTo>
                    <a:pt x="173" y="71"/>
                  </a:lnTo>
                  <a:lnTo>
                    <a:pt x="202" y="81"/>
                  </a:lnTo>
                  <a:lnTo>
                    <a:pt x="226" y="88"/>
                  </a:lnTo>
                  <a:lnTo>
                    <a:pt x="286" y="93"/>
                  </a:lnTo>
                  <a:lnTo>
                    <a:pt x="295" y="91"/>
                  </a:lnTo>
                  <a:lnTo>
                    <a:pt x="307" y="96"/>
                  </a:lnTo>
                  <a:lnTo>
                    <a:pt x="330" y="93"/>
                  </a:lnTo>
                  <a:lnTo>
                    <a:pt x="299" y="5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92480" y="1585440"/>
              <a:ext cx="322200" cy="83880"/>
            </a:xfrm>
            <a:custGeom>
              <a:avLst/>
              <a:gdLst/>
              <a:ahLst/>
              <a:rect l="l" t="t" r="r" b="b"/>
              <a:pathLst>
                <a:path w="897" h="234">
                  <a:moveTo>
                    <a:pt x="0" y="85"/>
                  </a:moveTo>
                  <a:lnTo>
                    <a:pt x="33" y="100"/>
                  </a:lnTo>
                  <a:lnTo>
                    <a:pt x="53" y="103"/>
                  </a:lnTo>
                  <a:lnTo>
                    <a:pt x="81" y="113"/>
                  </a:lnTo>
                  <a:lnTo>
                    <a:pt x="114" y="113"/>
                  </a:lnTo>
                  <a:lnTo>
                    <a:pt x="170" y="132"/>
                  </a:lnTo>
                  <a:lnTo>
                    <a:pt x="231" y="169"/>
                  </a:lnTo>
                  <a:lnTo>
                    <a:pt x="315" y="171"/>
                  </a:lnTo>
                  <a:lnTo>
                    <a:pt x="396" y="186"/>
                  </a:lnTo>
                  <a:lnTo>
                    <a:pt x="485" y="220"/>
                  </a:lnTo>
                  <a:lnTo>
                    <a:pt x="586" y="215"/>
                  </a:lnTo>
                  <a:lnTo>
                    <a:pt x="606" y="213"/>
                  </a:lnTo>
                  <a:lnTo>
                    <a:pt x="630" y="215"/>
                  </a:lnTo>
                  <a:lnTo>
                    <a:pt x="642" y="215"/>
                  </a:lnTo>
                  <a:lnTo>
                    <a:pt x="662" y="223"/>
                  </a:lnTo>
                  <a:lnTo>
                    <a:pt x="739" y="225"/>
                  </a:lnTo>
                  <a:lnTo>
                    <a:pt x="763" y="233"/>
                  </a:lnTo>
                  <a:lnTo>
                    <a:pt x="763" y="228"/>
                  </a:lnTo>
                  <a:lnTo>
                    <a:pt x="792" y="206"/>
                  </a:lnTo>
                  <a:lnTo>
                    <a:pt x="852" y="196"/>
                  </a:lnTo>
                  <a:lnTo>
                    <a:pt x="852" y="166"/>
                  </a:lnTo>
                  <a:lnTo>
                    <a:pt x="808" y="152"/>
                  </a:lnTo>
                  <a:lnTo>
                    <a:pt x="788" y="135"/>
                  </a:lnTo>
                  <a:lnTo>
                    <a:pt x="844" y="139"/>
                  </a:lnTo>
                  <a:lnTo>
                    <a:pt x="844" y="129"/>
                  </a:lnTo>
                  <a:lnTo>
                    <a:pt x="836" y="119"/>
                  </a:lnTo>
                  <a:lnTo>
                    <a:pt x="860" y="117"/>
                  </a:lnTo>
                  <a:lnTo>
                    <a:pt x="840" y="95"/>
                  </a:lnTo>
                  <a:lnTo>
                    <a:pt x="844" y="88"/>
                  </a:lnTo>
                  <a:lnTo>
                    <a:pt x="896" y="78"/>
                  </a:lnTo>
                  <a:lnTo>
                    <a:pt x="824" y="56"/>
                  </a:lnTo>
                  <a:lnTo>
                    <a:pt x="792" y="51"/>
                  </a:lnTo>
                  <a:lnTo>
                    <a:pt x="776" y="54"/>
                  </a:lnTo>
                  <a:lnTo>
                    <a:pt x="788" y="63"/>
                  </a:lnTo>
                  <a:lnTo>
                    <a:pt x="759" y="58"/>
                  </a:lnTo>
                  <a:lnTo>
                    <a:pt x="731" y="61"/>
                  </a:lnTo>
                  <a:lnTo>
                    <a:pt x="691" y="38"/>
                  </a:lnTo>
                  <a:lnTo>
                    <a:pt x="671" y="26"/>
                  </a:lnTo>
                  <a:lnTo>
                    <a:pt x="650" y="14"/>
                  </a:lnTo>
                  <a:lnTo>
                    <a:pt x="618" y="17"/>
                  </a:lnTo>
                  <a:lnTo>
                    <a:pt x="574" y="9"/>
                  </a:lnTo>
                  <a:lnTo>
                    <a:pt x="582" y="31"/>
                  </a:lnTo>
                  <a:lnTo>
                    <a:pt x="553" y="43"/>
                  </a:lnTo>
                  <a:lnTo>
                    <a:pt x="493" y="43"/>
                  </a:lnTo>
                  <a:lnTo>
                    <a:pt x="449" y="31"/>
                  </a:lnTo>
                  <a:lnTo>
                    <a:pt x="416" y="29"/>
                  </a:lnTo>
                  <a:lnTo>
                    <a:pt x="364" y="23"/>
                  </a:lnTo>
                  <a:lnTo>
                    <a:pt x="331" y="34"/>
                  </a:lnTo>
                  <a:lnTo>
                    <a:pt x="287" y="29"/>
                  </a:lnTo>
                  <a:lnTo>
                    <a:pt x="246" y="12"/>
                  </a:lnTo>
                  <a:lnTo>
                    <a:pt x="134" y="0"/>
                  </a:lnTo>
                  <a:lnTo>
                    <a:pt x="162" y="29"/>
                  </a:lnTo>
                  <a:lnTo>
                    <a:pt x="206" y="43"/>
                  </a:lnTo>
                  <a:lnTo>
                    <a:pt x="210" y="56"/>
                  </a:lnTo>
                  <a:lnTo>
                    <a:pt x="134" y="56"/>
                  </a:lnTo>
                  <a:lnTo>
                    <a:pt x="101" y="43"/>
                  </a:lnTo>
                  <a:lnTo>
                    <a:pt x="65" y="43"/>
                  </a:lnTo>
                  <a:lnTo>
                    <a:pt x="41" y="41"/>
                  </a:lnTo>
                  <a:lnTo>
                    <a:pt x="16" y="66"/>
                  </a:lnTo>
                  <a:lnTo>
                    <a:pt x="24" y="75"/>
                  </a:lnTo>
                  <a:lnTo>
                    <a:pt x="0" y="78"/>
                  </a:lnTo>
                  <a:lnTo>
                    <a:pt x="0" y="8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92480" y="1585440"/>
              <a:ext cx="322200" cy="83880"/>
            </a:xfrm>
            <a:custGeom>
              <a:avLst/>
              <a:gdLst/>
              <a:ahLst/>
              <a:rect l="l" t="t" r="r" b="b"/>
              <a:pathLst>
                <a:path w="897" h="234">
                  <a:moveTo>
                    <a:pt x="0" y="85"/>
                  </a:moveTo>
                  <a:lnTo>
                    <a:pt x="33" y="100"/>
                  </a:lnTo>
                  <a:lnTo>
                    <a:pt x="53" y="103"/>
                  </a:lnTo>
                  <a:lnTo>
                    <a:pt x="81" y="113"/>
                  </a:lnTo>
                  <a:lnTo>
                    <a:pt x="114" y="113"/>
                  </a:lnTo>
                  <a:lnTo>
                    <a:pt x="170" y="132"/>
                  </a:lnTo>
                  <a:lnTo>
                    <a:pt x="231" y="169"/>
                  </a:lnTo>
                  <a:lnTo>
                    <a:pt x="315" y="171"/>
                  </a:lnTo>
                  <a:lnTo>
                    <a:pt x="396" y="186"/>
                  </a:lnTo>
                  <a:lnTo>
                    <a:pt x="485" y="220"/>
                  </a:lnTo>
                  <a:lnTo>
                    <a:pt x="586" y="215"/>
                  </a:lnTo>
                  <a:lnTo>
                    <a:pt x="606" y="213"/>
                  </a:lnTo>
                  <a:lnTo>
                    <a:pt x="630" y="215"/>
                  </a:lnTo>
                  <a:lnTo>
                    <a:pt x="642" y="215"/>
                  </a:lnTo>
                  <a:lnTo>
                    <a:pt x="662" y="223"/>
                  </a:lnTo>
                  <a:lnTo>
                    <a:pt x="739" y="225"/>
                  </a:lnTo>
                  <a:lnTo>
                    <a:pt x="763" y="233"/>
                  </a:lnTo>
                  <a:lnTo>
                    <a:pt x="763" y="228"/>
                  </a:lnTo>
                  <a:lnTo>
                    <a:pt x="792" y="206"/>
                  </a:lnTo>
                  <a:lnTo>
                    <a:pt x="852" y="196"/>
                  </a:lnTo>
                  <a:lnTo>
                    <a:pt x="852" y="166"/>
                  </a:lnTo>
                  <a:lnTo>
                    <a:pt x="808" y="152"/>
                  </a:lnTo>
                  <a:lnTo>
                    <a:pt x="788" y="135"/>
                  </a:lnTo>
                  <a:lnTo>
                    <a:pt x="844" y="139"/>
                  </a:lnTo>
                  <a:lnTo>
                    <a:pt x="844" y="129"/>
                  </a:lnTo>
                  <a:lnTo>
                    <a:pt x="836" y="119"/>
                  </a:lnTo>
                  <a:lnTo>
                    <a:pt x="860" y="117"/>
                  </a:lnTo>
                  <a:lnTo>
                    <a:pt x="840" y="95"/>
                  </a:lnTo>
                  <a:lnTo>
                    <a:pt x="844" y="88"/>
                  </a:lnTo>
                  <a:lnTo>
                    <a:pt x="896" y="78"/>
                  </a:lnTo>
                  <a:lnTo>
                    <a:pt x="824" y="56"/>
                  </a:lnTo>
                  <a:lnTo>
                    <a:pt x="792" y="51"/>
                  </a:lnTo>
                  <a:lnTo>
                    <a:pt x="776" y="54"/>
                  </a:lnTo>
                  <a:lnTo>
                    <a:pt x="788" y="63"/>
                  </a:lnTo>
                  <a:lnTo>
                    <a:pt x="759" y="58"/>
                  </a:lnTo>
                  <a:lnTo>
                    <a:pt x="731" y="61"/>
                  </a:lnTo>
                  <a:lnTo>
                    <a:pt x="691" y="38"/>
                  </a:lnTo>
                  <a:lnTo>
                    <a:pt x="671" y="26"/>
                  </a:lnTo>
                  <a:lnTo>
                    <a:pt x="650" y="14"/>
                  </a:lnTo>
                  <a:lnTo>
                    <a:pt x="618" y="17"/>
                  </a:lnTo>
                  <a:lnTo>
                    <a:pt x="574" y="9"/>
                  </a:lnTo>
                  <a:lnTo>
                    <a:pt x="582" y="31"/>
                  </a:lnTo>
                  <a:lnTo>
                    <a:pt x="553" y="43"/>
                  </a:lnTo>
                  <a:lnTo>
                    <a:pt x="493" y="43"/>
                  </a:lnTo>
                  <a:lnTo>
                    <a:pt x="449" y="31"/>
                  </a:lnTo>
                  <a:lnTo>
                    <a:pt x="416" y="29"/>
                  </a:lnTo>
                  <a:lnTo>
                    <a:pt x="364" y="23"/>
                  </a:lnTo>
                  <a:lnTo>
                    <a:pt x="331" y="34"/>
                  </a:lnTo>
                  <a:lnTo>
                    <a:pt x="287" y="29"/>
                  </a:lnTo>
                  <a:lnTo>
                    <a:pt x="246" y="12"/>
                  </a:lnTo>
                  <a:lnTo>
                    <a:pt x="134" y="0"/>
                  </a:lnTo>
                  <a:lnTo>
                    <a:pt x="162" y="29"/>
                  </a:lnTo>
                  <a:lnTo>
                    <a:pt x="206" y="43"/>
                  </a:lnTo>
                  <a:lnTo>
                    <a:pt x="210" y="56"/>
                  </a:lnTo>
                  <a:lnTo>
                    <a:pt x="134" y="56"/>
                  </a:lnTo>
                  <a:lnTo>
                    <a:pt x="101" y="43"/>
                  </a:lnTo>
                  <a:lnTo>
                    <a:pt x="65" y="43"/>
                  </a:lnTo>
                  <a:lnTo>
                    <a:pt x="65" y="43"/>
                  </a:lnTo>
                  <a:lnTo>
                    <a:pt x="41" y="41"/>
                  </a:lnTo>
                  <a:lnTo>
                    <a:pt x="16" y="66"/>
                  </a:lnTo>
                  <a:lnTo>
                    <a:pt x="24" y="75"/>
                  </a:lnTo>
                  <a:lnTo>
                    <a:pt x="0" y="78"/>
                  </a:lnTo>
                  <a:lnTo>
                    <a:pt x="0" y="8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63960" y="1715400"/>
              <a:ext cx="141120" cy="80640"/>
            </a:xfrm>
            <a:custGeom>
              <a:avLst/>
              <a:gdLst/>
              <a:ahLst/>
              <a:rect l="l" t="t" r="r" b="b"/>
              <a:pathLst>
                <a:path w="393" h="225">
                  <a:moveTo>
                    <a:pt x="392" y="25"/>
                  </a:moveTo>
                  <a:lnTo>
                    <a:pt x="372" y="20"/>
                  </a:lnTo>
                  <a:lnTo>
                    <a:pt x="356" y="25"/>
                  </a:lnTo>
                  <a:lnTo>
                    <a:pt x="352" y="20"/>
                  </a:lnTo>
                  <a:lnTo>
                    <a:pt x="340" y="20"/>
                  </a:lnTo>
                  <a:lnTo>
                    <a:pt x="307" y="40"/>
                  </a:lnTo>
                  <a:lnTo>
                    <a:pt x="286" y="33"/>
                  </a:lnTo>
                  <a:lnTo>
                    <a:pt x="275" y="13"/>
                  </a:lnTo>
                  <a:lnTo>
                    <a:pt x="263" y="13"/>
                  </a:lnTo>
                  <a:lnTo>
                    <a:pt x="259" y="2"/>
                  </a:lnTo>
                  <a:lnTo>
                    <a:pt x="239" y="0"/>
                  </a:lnTo>
                  <a:lnTo>
                    <a:pt x="226" y="13"/>
                  </a:lnTo>
                  <a:lnTo>
                    <a:pt x="239" y="20"/>
                  </a:lnTo>
                  <a:lnTo>
                    <a:pt x="218" y="22"/>
                  </a:lnTo>
                  <a:lnTo>
                    <a:pt x="222" y="30"/>
                  </a:lnTo>
                  <a:lnTo>
                    <a:pt x="201" y="27"/>
                  </a:lnTo>
                  <a:lnTo>
                    <a:pt x="186" y="40"/>
                  </a:lnTo>
                  <a:lnTo>
                    <a:pt x="170" y="33"/>
                  </a:lnTo>
                  <a:lnTo>
                    <a:pt x="129" y="30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77" y="37"/>
                  </a:lnTo>
                  <a:lnTo>
                    <a:pt x="89" y="54"/>
                  </a:lnTo>
                  <a:lnTo>
                    <a:pt x="80" y="64"/>
                  </a:lnTo>
                  <a:lnTo>
                    <a:pt x="52" y="69"/>
                  </a:lnTo>
                  <a:lnTo>
                    <a:pt x="60" y="79"/>
                  </a:lnTo>
                  <a:lnTo>
                    <a:pt x="41" y="87"/>
                  </a:lnTo>
                  <a:lnTo>
                    <a:pt x="0" y="76"/>
                  </a:lnTo>
                  <a:lnTo>
                    <a:pt x="0" y="103"/>
                  </a:lnTo>
                  <a:lnTo>
                    <a:pt x="12" y="109"/>
                  </a:lnTo>
                  <a:lnTo>
                    <a:pt x="0" y="113"/>
                  </a:lnTo>
                  <a:lnTo>
                    <a:pt x="12" y="126"/>
                  </a:lnTo>
                  <a:lnTo>
                    <a:pt x="29" y="128"/>
                  </a:lnTo>
                  <a:lnTo>
                    <a:pt x="24" y="138"/>
                  </a:lnTo>
                  <a:lnTo>
                    <a:pt x="37" y="148"/>
                  </a:lnTo>
                  <a:lnTo>
                    <a:pt x="48" y="157"/>
                  </a:lnTo>
                  <a:lnTo>
                    <a:pt x="52" y="160"/>
                  </a:lnTo>
                  <a:lnTo>
                    <a:pt x="60" y="175"/>
                  </a:lnTo>
                  <a:lnTo>
                    <a:pt x="77" y="177"/>
                  </a:lnTo>
                  <a:lnTo>
                    <a:pt x="93" y="177"/>
                  </a:lnTo>
                  <a:lnTo>
                    <a:pt x="105" y="187"/>
                  </a:lnTo>
                  <a:lnTo>
                    <a:pt x="105" y="189"/>
                  </a:lnTo>
                  <a:lnTo>
                    <a:pt x="102" y="204"/>
                  </a:lnTo>
                  <a:lnTo>
                    <a:pt x="93" y="214"/>
                  </a:lnTo>
                  <a:lnTo>
                    <a:pt x="102" y="217"/>
                  </a:lnTo>
                  <a:lnTo>
                    <a:pt x="125" y="219"/>
                  </a:lnTo>
                  <a:lnTo>
                    <a:pt x="129" y="222"/>
                  </a:lnTo>
                  <a:lnTo>
                    <a:pt x="150" y="224"/>
                  </a:lnTo>
                  <a:lnTo>
                    <a:pt x="153" y="224"/>
                  </a:lnTo>
                  <a:lnTo>
                    <a:pt x="170" y="224"/>
                  </a:lnTo>
                  <a:lnTo>
                    <a:pt x="182" y="222"/>
                  </a:lnTo>
                  <a:lnTo>
                    <a:pt x="194" y="222"/>
                  </a:lnTo>
                  <a:lnTo>
                    <a:pt x="210" y="224"/>
                  </a:lnTo>
                  <a:lnTo>
                    <a:pt x="213" y="219"/>
                  </a:lnTo>
                  <a:lnTo>
                    <a:pt x="239" y="219"/>
                  </a:lnTo>
                  <a:lnTo>
                    <a:pt x="259" y="214"/>
                  </a:lnTo>
                  <a:lnTo>
                    <a:pt x="275" y="209"/>
                  </a:lnTo>
                  <a:lnTo>
                    <a:pt x="259" y="185"/>
                  </a:lnTo>
                  <a:lnTo>
                    <a:pt x="267" y="177"/>
                  </a:lnTo>
                  <a:lnTo>
                    <a:pt x="299" y="172"/>
                  </a:lnTo>
                  <a:lnTo>
                    <a:pt x="286" y="168"/>
                  </a:lnTo>
                  <a:lnTo>
                    <a:pt x="302" y="160"/>
                  </a:lnTo>
                  <a:lnTo>
                    <a:pt x="327" y="165"/>
                  </a:lnTo>
                  <a:lnTo>
                    <a:pt x="340" y="157"/>
                  </a:lnTo>
                  <a:lnTo>
                    <a:pt x="319" y="131"/>
                  </a:lnTo>
                  <a:lnTo>
                    <a:pt x="340" y="123"/>
                  </a:lnTo>
                  <a:lnTo>
                    <a:pt x="311" y="106"/>
                  </a:lnTo>
                  <a:lnTo>
                    <a:pt x="347" y="103"/>
                  </a:lnTo>
                  <a:lnTo>
                    <a:pt x="335" y="91"/>
                  </a:lnTo>
                  <a:lnTo>
                    <a:pt x="343" y="76"/>
                  </a:lnTo>
                  <a:lnTo>
                    <a:pt x="307" y="56"/>
                  </a:lnTo>
                  <a:lnTo>
                    <a:pt x="311" y="47"/>
                  </a:lnTo>
                  <a:lnTo>
                    <a:pt x="331" y="37"/>
                  </a:lnTo>
                  <a:lnTo>
                    <a:pt x="388" y="30"/>
                  </a:lnTo>
                  <a:lnTo>
                    <a:pt x="379" y="25"/>
                  </a:lnTo>
                  <a:lnTo>
                    <a:pt x="392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63960" y="1715400"/>
              <a:ext cx="141120" cy="80640"/>
            </a:xfrm>
            <a:custGeom>
              <a:avLst/>
              <a:gdLst/>
              <a:ahLst/>
              <a:rect l="l" t="t" r="r" b="b"/>
              <a:pathLst>
                <a:path w="393" h="225">
                  <a:moveTo>
                    <a:pt x="392" y="25"/>
                  </a:moveTo>
                  <a:lnTo>
                    <a:pt x="372" y="20"/>
                  </a:lnTo>
                  <a:lnTo>
                    <a:pt x="356" y="25"/>
                  </a:lnTo>
                  <a:lnTo>
                    <a:pt x="352" y="20"/>
                  </a:lnTo>
                  <a:lnTo>
                    <a:pt x="340" y="20"/>
                  </a:lnTo>
                  <a:lnTo>
                    <a:pt x="307" y="40"/>
                  </a:lnTo>
                  <a:lnTo>
                    <a:pt x="286" y="33"/>
                  </a:lnTo>
                  <a:lnTo>
                    <a:pt x="275" y="13"/>
                  </a:lnTo>
                  <a:lnTo>
                    <a:pt x="263" y="13"/>
                  </a:lnTo>
                  <a:lnTo>
                    <a:pt x="259" y="2"/>
                  </a:lnTo>
                  <a:lnTo>
                    <a:pt x="239" y="0"/>
                  </a:lnTo>
                  <a:lnTo>
                    <a:pt x="226" y="13"/>
                  </a:lnTo>
                  <a:lnTo>
                    <a:pt x="239" y="20"/>
                  </a:lnTo>
                  <a:lnTo>
                    <a:pt x="218" y="22"/>
                  </a:lnTo>
                  <a:lnTo>
                    <a:pt x="222" y="30"/>
                  </a:lnTo>
                  <a:lnTo>
                    <a:pt x="201" y="27"/>
                  </a:lnTo>
                  <a:lnTo>
                    <a:pt x="186" y="40"/>
                  </a:lnTo>
                  <a:lnTo>
                    <a:pt x="170" y="33"/>
                  </a:lnTo>
                  <a:lnTo>
                    <a:pt x="129" y="30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77" y="37"/>
                  </a:lnTo>
                  <a:lnTo>
                    <a:pt x="89" y="54"/>
                  </a:lnTo>
                  <a:lnTo>
                    <a:pt x="80" y="64"/>
                  </a:lnTo>
                  <a:lnTo>
                    <a:pt x="52" y="69"/>
                  </a:lnTo>
                  <a:lnTo>
                    <a:pt x="60" y="79"/>
                  </a:lnTo>
                  <a:lnTo>
                    <a:pt x="41" y="87"/>
                  </a:lnTo>
                  <a:lnTo>
                    <a:pt x="0" y="76"/>
                  </a:lnTo>
                  <a:lnTo>
                    <a:pt x="0" y="103"/>
                  </a:lnTo>
                  <a:lnTo>
                    <a:pt x="12" y="109"/>
                  </a:lnTo>
                  <a:lnTo>
                    <a:pt x="0" y="113"/>
                  </a:lnTo>
                  <a:lnTo>
                    <a:pt x="12" y="126"/>
                  </a:lnTo>
                  <a:lnTo>
                    <a:pt x="29" y="128"/>
                  </a:lnTo>
                  <a:lnTo>
                    <a:pt x="24" y="138"/>
                  </a:lnTo>
                  <a:lnTo>
                    <a:pt x="37" y="148"/>
                  </a:lnTo>
                  <a:lnTo>
                    <a:pt x="48" y="157"/>
                  </a:lnTo>
                  <a:lnTo>
                    <a:pt x="52" y="160"/>
                  </a:lnTo>
                  <a:lnTo>
                    <a:pt x="60" y="175"/>
                  </a:lnTo>
                  <a:lnTo>
                    <a:pt x="77" y="177"/>
                  </a:lnTo>
                  <a:lnTo>
                    <a:pt x="93" y="177"/>
                  </a:lnTo>
                  <a:lnTo>
                    <a:pt x="105" y="187"/>
                  </a:lnTo>
                  <a:lnTo>
                    <a:pt x="105" y="189"/>
                  </a:lnTo>
                  <a:lnTo>
                    <a:pt x="102" y="204"/>
                  </a:lnTo>
                  <a:lnTo>
                    <a:pt x="93" y="214"/>
                  </a:lnTo>
                  <a:lnTo>
                    <a:pt x="102" y="217"/>
                  </a:lnTo>
                  <a:lnTo>
                    <a:pt x="125" y="219"/>
                  </a:lnTo>
                  <a:lnTo>
                    <a:pt x="129" y="222"/>
                  </a:lnTo>
                  <a:lnTo>
                    <a:pt x="150" y="224"/>
                  </a:lnTo>
                  <a:lnTo>
                    <a:pt x="153" y="224"/>
                  </a:lnTo>
                  <a:lnTo>
                    <a:pt x="170" y="224"/>
                  </a:lnTo>
                  <a:lnTo>
                    <a:pt x="182" y="222"/>
                  </a:lnTo>
                  <a:lnTo>
                    <a:pt x="194" y="222"/>
                  </a:lnTo>
                  <a:lnTo>
                    <a:pt x="210" y="224"/>
                  </a:lnTo>
                  <a:lnTo>
                    <a:pt x="213" y="219"/>
                  </a:lnTo>
                  <a:lnTo>
                    <a:pt x="239" y="219"/>
                  </a:lnTo>
                  <a:lnTo>
                    <a:pt x="239" y="219"/>
                  </a:lnTo>
                  <a:lnTo>
                    <a:pt x="259" y="214"/>
                  </a:lnTo>
                  <a:lnTo>
                    <a:pt x="275" y="209"/>
                  </a:lnTo>
                  <a:lnTo>
                    <a:pt x="259" y="185"/>
                  </a:lnTo>
                  <a:lnTo>
                    <a:pt x="267" y="177"/>
                  </a:lnTo>
                  <a:lnTo>
                    <a:pt x="299" y="172"/>
                  </a:lnTo>
                  <a:lnTo>
                    <a:pt x="286" y="168"/>
                  </a:lnTo>
                  <a:lnTo>
                    <a:pt x="302" y="160"/>
                  </a:lnTo>
                  <a:lnTo>
                    <a:pt x="327" y="165"/>
                  </a:lnTo>
                  <a:lnTo>
                    <a:pt x="340" y="157"/>
                  </a:lnTo>
                  <a:lnTo>
                    <a:pt x="319" y="131"/>
                  </a:lnTo>
                  <a:lnTo>
                    <a:pt x="340" y="123"/>
                  </a:lnTo>
                  <a:lnTo>
                    <a:pt x="311" y="106"/>
                  </a:lnTo>
                  <a:lnTo>
                    <a:pt x="347" y="103"/>
                  </a:lnTo>
                  <a:lnTo>
                    <a:pt x="335" y="91"/>
                  </a:lnTo>
                  <a:lnTo>
                    <a:pt x="343" y="76"/>
                  </a:lnTo>
                  <a:lnTo>
                    <a:pt x="307" y="56"/>
                  </a:lnTo>
                  <a:lnTo>
                    <a:pt x="311" y="47"/>
                  </a:lnTo>
                  <a:lnTo>
                    <a:pt x="331" y="37"/>
                  </a:lnTo>
                  <a:lnTo>
                    <a:pt x="388" y="30"/>
                  </a:lnTo>
                  <a:lnTo>
                    <a:pt x="379" y="25"/>
                  </a:lnTo>
                  <a:lnTo>
                    <a:pt x="392" y="2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838600" y="1712160"/>
              <a:ext cx="306000" cy="120240"/>
            </a:xfrm>
            <a:custGeom>
              <a:avLst/>
              <a:gdLst/>
              <a:ahLst/>
              <a:rect l="l" t="t" r="r" b="b"/>
              <a:pathLst>
                <a:path w="853" h="335">
                  <a:moveTo>
                    <a:pt x="61" y="34"/>
                  </a:moveTo>
                  <a:lnTo>
                    <a:pt x="69" y="47"/>
                  </a:lnTo>
                  <a:lnTo>
                    <a:pt x="93" y="56"/>
                  </a:lnTo>
                  <a:lnTo>
                    <a:pt x="81" y="61"/>
                  </a:lnTo>
                  <a:lnTo>
                    <a:pt x="73" y="56"/>
                  </a:lnTo>
                  <a:lnTo>
                    <a:pt x="48" y="37"/>
                  </a:lnTo>
                  <a:lnTo>
                    <a:pt x="61" y="34"/>
                  </a:lnTo>
                  <a:close/>
                  <a:moveTo>
                    <a:pt x="77" y="20"/>
                  </a:moveTo>
                  <a:lnTo>
                    <a:pt x="48" y="17"/>
                  </a:lnTo>
                  <a:lnTo>
                    <a:pt x="21" y="3"/>
                  </a:lnTo>
                  <a:lnTo>
                    <a:pt x="13" y="0"/>
                  </a:lnTo>
                  <a:lnTo>
                    <a:pt x="0" y="9"/>
                  </a:lnTo>
                  <a:lnTo>
                    <a:pt x="33" y="34"/>
                  </a:lnTo>
                  <a:lnTo>
                    <a:pt x="29" y="44"/>
                  </a:lnTo>
                  <a:lnTo>
                    <a:pt x="44" y="47"/>
                  </a:lnTo>
                  <a:lnTo>
                    <a:pt x="61" y="61"/>
                  </a:lnTo>
                  <a:lnTo>
                    <a:pt x="98" y="88"/>
                  </a:lnTo>
                  <a:lnTo>
                    <a:pt x="133" y="91"/>
                  </a:lnTo>
                  <a:lnTo>
                    <a:pt x="121" y="94"/>
                  </a:lnTo>
                  <a:lnTo>
                    <a:pt x="137" y="108"/>
                  </a:lnTo>
                  <a:lnTo>
                    <a:pt x="121" y="120"/>
                  </a:lnTo>
                  <a:lnTo>
                    <a:pt x="125" y="135"/>
                  </a:lnTo>
                  <a:lnTo>
                    <a:pt x="162" y="152"/>
                  </a:lnTo>
                  <a:lnTo>
                    <a:pt x="166" y="157"/>
                  </a:lnTo>
                  <a:lnTo>
                    <a:pt x="218" y="172"/>
                  </a:lnTo>
                  <a:lnTo>
                    <a:pt x="243" y="184"/>
                  </a:lnTo>
                  <a:lnTo>
                    <a:pt x="247" y="204"/>
                  </a:lnTo>
                  <a:lnTo>
                    <a:pt x="259" y="204"/>
                  </a:lnTo>
                  <a:lnTo>
                    <a:pt x="267" y="216"/>
                  </a:lnTo>
                  <a:lnTo>
                    <a:pt x="291" y="229"/>
                  </a:lnTo>
                  <a:lnTo>
                    <a:pt x="303" y="226"/>
                  </a:lnTo>
                  <a:lnTo>
                    <a:pt x="299" y="214"/>
                  </a:lnTo>
                  <a:lnTo>
                    <a:pt x="308" y="219"/>
                  </a:lnTo>
                  <a:lnTo>
                    <a:pt x="311" y="224"/>
                  </a:lnTo>
                  <a:lnTo>
                    <a:pt x="344" y="224"/>
                  </a:lnTo>
                  <a:lnTo>
                    <a:pt x="348" y="229"/>
                  </a:lnTo>
                  <a:lnTo>
                    <a:pt x="388" y="248"/>
                  </a:lnTo>
                  <a:lnTo>
                    <a:pt x="412" y="273"/>
                  </a:lnTo>
                  <a:lnTo>
                    <a:pt x="461" y="283"/>
                  </a:lnTo>
                  <a:lnTo>
                    <a:pt x="517" y="302"/>
                  </a:lnTo>
                  <a:lnTo>
                    <a:pt x="578" y="300"/>
                  </a:lnTo>
                  <a:lnTo>
                    <a:pt x="602" y="290"/>
                  </a:lnTo>
                  <a:lnTo>
                    <a:pt x="618" y="290"/>
                  </a:lnTo>
                  <a:lnTo>
                    <a:pt x="634" y="302"/>
                  </a:lnTo>
                  <a:lnTo>
                    <a:pt x="655" y="322"/>
                  </a:lnTo>
                  <a:lnTo>
                    <a:pt x="674" y="327"/>
                  </a:lnTo>
                  <a:lnTo>
                    <a:pt x="776" y="334"/>
                  </a:lnTo>
                  <a:lnTo>
                    <a:pt x="776" y="329"/>
                  </a:lnTo>
                  <a:lnTo>
                    <a:pt x="816" y="334"/>
                  </a:lnTo>
                  <a:lnTo>
                    <a:pt x="812" y="307"/>
                  </a:lnTo>
                  <a:lnTo>
                    <a:pt x="852" y="297"/>
                  </a:lnTo>
                  <a:lnTo>
                    <a:pt x="848" y="285"/>
                  </a:lnTo>
                  <a:lnTo>
                    <a:pt x="827" y="283"/>
                  </a:lnTo>
                  <a:lnTo>
                    <a:pt x="812" y="258"/>
                  </a:lnTo>
                  <a:lnTo>
                    <a:pt x="776" y="253"/>
                  </a:lnTo>
                  <a:lnTo>
                    <a:pt x="740" y="233"/>
                  </a:lnTo>
                  <a:lnTo>
                    <a:pt x="719" y="221"/>
                  </a:lnTo>
                  <a:lnTo>
                    <a:pt x="728" y="211"/>
                  </a:lnTo>
                  <a:lnTo>
                    <a:pt x="731" y="196"/>
                  </a:lnTo>
                  <a:lnTo>
                    <a:pt x="731" y="194"/>
                  </a:lnTo>
                  <a:lnTo>
                    <a:pt x="719" y="184"/>
                  </a:lnTo>
                  <a:lnTo>
                    <a:pt x="703" y="184"/>
                  </a:lnTo>
                  <a:lnTo>
                    <a:pt x="686" y="182"/>
                  </a:lnTo>
                  <a:lnTo>
                    <a:pt x="678" y="167"/>
                  </a:lnTo>
                  <a:lnTo>
                    <a:pt x="674" y="164"/>
                  </a:lnTo>
                  <a:lnTo>
                    <a:pt x="663" y="155"/>
                  </a:lnTo>
                  <a:lnTo>
                    <a:pt x="650" y="145"/>
                  </a:lnTo>
                  <a:lnTo>
                    <a:pt x="655" y="135"/>
                  </a:lnTo>
                  <a:lnTo>
                    <a:pt x="638" y="133"/>
                  </a:lnTo>
                  <a:lnTo>
                    <a:pt x="626" y="120"/>
                  </a:lnTo>
                  <a:lnTo>
                    <a:pt x="638" y="116"/>
                  </a:lnTo>
                  <a:lnTo>
                    <a:pt x="626" y="110"/>
                  </a:lnTo>
                  <a:lnTo>
                    <a:pt x="626" y="83"/>
                  </a:lnTo>
                  <a:lnTo>
                    <a:pt x="598" y="59"/>
                  </a:lnTo>
                  <a:lnTo>
                    <a:pt x="574" y="61"/>
                  </a:lnTo>
                  <a:lnTo>
                    <a:pt x="537" y="47"/>
                  </a:lnTo>
                  <a:lnTo>
                    <a:pt x="520" y="40"/>
                  </a:lnTo>
                  <a:lnTo>
                    <a:pt x="452" y="32"/>
                  </a:lnTo>
                  <a:lnTo>
                    <a:pt x="440" y="25"/>
                  </a:lnTo>
                  <a:lnTo>
                    <a:pt x="388" y="32"/>
                  </a:lnTo>
                  <a:lnTo>
                    <a:pt x="376" y="47"/>
                  </a:lnTo>
                  <a:lnTo>
                    <a:pt x="352" y="49"/>
                  </a:lnTo>
                  <a:lnTo>
                    <a:pt x="364" y="61"/>
                  </a:lnTo>
                  <a:lnTo>
                    <a:pt x="352" y="61"/>
                  </a:lnTo>
                  <a:lnTo>
                    <a:pt x="272" y="66"/>
                  </a:lnTo>
                  <a:lnTo>
                    <a:pt x="230" y="51"/>
                  </a:lnTo>
                  <a:lnTo>
                    <a:pt x="194" y="47"/>
                  </a:lnTo>
                  <a:lnTo>
                    <a:pt x="171" y="29"/>
                  </a:lnTo>
                  <a:lnTo>
                    <a:pt x="137" y="20"/>
                  </a:lnTo>
                  <a:lnTo>
                    <a:pt x="142" y="14"/>
                  </a:lnTo>
                  <a:lnTo>
                    <a:pt x="133" y="9"/>
                  </a:lnTo>
                  <a:lnTo>
                    <a:pt x="125" y="3"/>
                  </a:lnTo>
                  <a:lnTo>
                    <a:pt x="114" y="0"/>
                  </a:lnTo>
                  <a:lnTo>
                    <a:pt x="89" y="20"/>
                  </a:lnTo>
                  <a:lnTo>
                    <a:pt x="77" y="22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38600" y="1712160"/>
              <a:ext cx="306000" cy="120240"/>
            </a:xfrm>
            <a:custGeom>
              <a:avLst/>
              <a:gdLst/>
              <a:ahLst/>
              <a:rect l="l" t="t" r="r" b="b"/>
              <a:pathLst>
                <a:path w="853" h="335">
                  <a:moveTo>
                    <a:pt x="77" y="20"/>
                  </a:moveTo>
                  <a:lnTo>
                    <a:pt x="48" y="17"/>
                  </a:lnTo>
                  <a:lnTo>
                    <a:pt x="21" y="3"/>
                  </a:lnTo>
                  <a:lnTo>
                    <a:pt x="13" y="0"/>
                  </a:lnTo>
                  <a:lnTo>
                    <a:pt x="0" y="9"/>
                  </a:lnTo>
                  <a:lnTo>
                    <a:pt x="33" y="34"/>
                  </a:lnTo>
                  <a:lnTo>
                    <a:pt x="29" y="44"/>
                  </a:lnTo>
                  <a:lnTo>
                    <a:pt x="44" y="47"/>
                  </a:lnTo>
                  <a:lnTo>
                    <a:pt x="61" y="61"/>
                  </a:lnTo>
                  <a:lnTo>
                    <a:pt x="98" y="88"/>
                  </a:lnTo>
                  <a:lnTo>
                    <a:pt x="133" y="91"/>
                  </a:lnTo>
                  <a:lnTo>
                    <a:pt x="121" y="94"/>
                  </a:lnTo>
                  <a:lnTo>
                    <a:pt x="137" y="108"/>
                  </a:lnTo>
                  <a:lnTo>
                    <a:pt x="121" y="120"/>
                  </a:lnTo>
                  <a:lnTo>
                    <a:pt x="125" y="135"/>
                  </a:lnTo>
                  <a:lnTo>
                    <a:pt x="162" y="152"/>
                  </a:lnTo>
                  <a:lnTo>
                    <a:pt x="166" y="157"/>
                  </a:lnTo>
                  <a:lnTo>
                    <a:pt x="218" y="172"/>
                  </a:lnTo>
                  <a:lnTo>
                    <a:pt x="243" y="184"/>
                  </a:lnTo>
                  <a:lnTo>
                    <a:pt x="247" y="204"/>
                  </a:lnTo>
                  <a:lnTo>
                    <a:pt x="259" y="204"/>
                  </a:lnTo>
                  <a:lnTo>
                    <a:pt x="267" y="216"/>
                  </a:lnTo>
                  <a:lnTo>
                    <a:pt x="291" y="229"/>
                  </a:lnTo>
                  <a:lnTo>
                    <a:pt x="303" y="226"/>
                  </a:lnTo>
                  <a:lnTo>
                    <a:pt x="299" y="214"/>
                  </a:lnTo>
                  <a:lnTo>
                    <a:pt x="308" y="219"/>
                  </a:lnTo>
                  <a:lnTo>
                    <a:pt x="311" y="224"/>
                  </a:lnTo>
                  <a:lnTo>
                    <a:pt x="344" y="224"/>
                  </a:lnTo>
                  <a:lnTo>
                    <a:pt x="348" y="229"/>
                  </a:lnTo>
                  <a:lnTo>
                    <a:pt x="388" y="248"/>
                  </a:lnTo>
                  <a:lnTo>
                    <a:pt x="412" y="273"/>
                  </a:lnTo>
                  <a:lnTo>
                    <a:pt x="461" y="283"/>
                  </a:lnTo>
                  <a:lnTo>
                    <a:pt x="517" y="302"/>
                  </a:lnTo>
                  <a:lnTo>
                    <a:pt x="578" y="300"/>
                  </a:lnTo>
                  <a:lnTo>
                    <a:pt x="602" y="290"/>
                  </a:lnTo>
                  <a:lnTo>
                    <a:pt x="618" y="290"/>
                  </a:lnTo>
                  <a:lnTo>
                    <a:pt x="634" y="302"/>
                  </a:lnTo>
                  <a:lnTo>
                    <a:pt x="655" y="322"/>
                  </a:lnTo>
                  <a:lnTo>
                    <a:pt x="674" y="327"/>
                  </a:lnTo>
                  <a:lnTo>
                    <a:pt x="776" y="334"/>
                  </a:lnTo>
                  <a:lnTo>
                    <a:pt x="776" y="329"/>
                  </a:lnTo>
                  <a:lnTo>
                    <a:pt x="816" y="334"/>
                  </a:lnTo>
                  <a:lnTo>
                    <a:pt x="812" y="307"/>
                  </a:lnTo>
                  <a:lnTo>
                    <a:pt x="852" y="297"/>
                  </a:lnTo>
                  <a:lnTo>
                    <a:pt x="848" y="285"/>
                  </a:lnTo>
                  <a:lnTo>
                    <a:pt x="827" y="283"/>
                  </a:lnTo>
                  <a:lnTo>
                    <a:pt x="812" y="258"/>
                  </a:lnTo>
                  <a:lnTo>
                    <a:pt x="776" y="253"/>
                  </a:lnTo>
                  <a:lnTo>
                    <a:pt x="740" y="233"/>
                  </a:lnTo>
                  <a:lnTo>
                    <a:pt x="719" y="221"/>
                  </a:lnTo>
                  <a:lnTo>
                    <a:pt x="728" y="211"/>
                  </a:lnTo>
                  <a:lnTo>
                    <a:pt x="731" y="196"/>
                  </a:lnTo>
                  <a:lnTo>
                    <a:pt x="731" y="194"/>
                  </a:lnTo>
                  <a:lnTo>
                    <a:pt x="719" y="184"/>
                  </a:lnTo>
                  <a:lnTo>
                    <a:pt x="703" y="184"/>
                  </a:lnTo>
                  <a:lnTo>
                    <a:pt x="686" y="182"/>
                  </a:lnTo>
                  <a:lnTo>
                    <a:pt x="678" y="167"/>
                  </a:lnTo>
                  <a:lnTo>
                    <a:pt x="674" y="164"/>
                  </a:lnTo>
                  <a:lnTo>
                    <a:pt x="663" y="155"/>
                  </a:lnTo>
                  <a:lnTo>
                    <a:pt x="650" y="145"/>
                  </a:lnTo>
                  <a:lnTo>
                    <a:pt x="655" y="135"/>
                  </a:lnTo>
                  <a:lnTo>
                    <a:pt x="638" y="133"/>
                  </a:lnTo>
                  <a:lnTo>
                    <a:pt x="626" y="120"/>
                  </a:lnTo>
                  <a:lnTo>
                    <a:pt x="638" y="116"/>
                  </a:lnTo>
                  <a:lnTo>
                    <a:pt x="626" y="110"/>
                  </a:lnTo>
                  <a:lnTo>
                    <a:pt x="626" y="83"/>
                  </a:lnTo>
                  <a:lnTo>
                    <a:pt x="598" y="59"/>
                  </a:lnTo>
                  <a:lnTo>
                    <a:pt x="574" y="61"/>
                  </a:lnTo>
                  <a:lnTo>
                    <a:pt x="537" y="47"/>
                  </a:lnTo>
                  <a:lnTo>
                    <a:pt x="520" y="40"/>
                  </a:lnTo>
                  <a:lnTo>
                    <a:pt x="452" y="32"/>
                  </a:lnTo>
                  <a:lnTo>
                    <a:pt x="440" y="25"/>
                  </a:lnTo>
                  <a:lnTo>
                    <a:pt x="388" y="32"/>
                  </a:lnTo>
                  <a:lnTo>
                    <a:pt x="376" y="47"/>
                  </a:lnTo>
                  <a:lnTo>
                    <a:pt x="352" y="49"/>
                  </a:lnTo>
                  <a:lnTo>
                    <a:pt x="364" y="61"/>
                  </a:lnTo>
                  <a:lnTo>
                    <a:pt x="352" y="61"/>
                  </a:lnTo>
                  <a:lnTo>
                    <a:pt x="272" y="66"/>
                  </a:lnTo>
                  <a:lnTo>
                    <a:pt x="230" y="51"/>
                  </a:lnTo>
                  <a:lnTo>
                    <a:pt x="194" y="47"/>
                  </a:lnTo>
                  <a:lnTo>
                    <a:pt x="171" y="29"/>
                  </a:lnTo>
                  <a:lnTo>
                    <a:pt x="137" y="20"/>
                  </a:lnTo>
                  <a:lnTo>
                    <a:pt x="142" y="14"/>
                  </a:lnTo>
                  <a:lnTo>
                    <a:pt x="133" y="9"/>
                  </a:lnTo>
                  <a:lnTo>
                    <a:pt x="125" y="3"/>
                  </a:lnTo>
                  <a:lnTo>
                    <a:pt x="114" y="0"/>
                  </a:lnTo>
                  <a:lnTo>
                    <a:pt x="89" y="20"/>
                  </a:lnTo>
                  <a:lnTo>
                    <a:pt x="77" y="22"/>
                  </a:lnTo>
                  <a:lnTo>
                    <a:pt x="77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54440" y="1724760"/>
              <a:ext cx="15480" cy="936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13" y="0"/>
                  </a:moveTo>
                  <a:lnTo>
                    <a:pt x="13" y="0"/>
                  </a:lnTo>
                  <a:lnTo>
                    <a:pt x="21" y="13"/>
                  </a:lnTo>
                  <a:lnTo>
                    <a:pt x="45" y="22"/>
                  </a:lnTo>
                  <a:lnTo>
                    <a:pt x="33" y="27"/>
                  </a:lnTo>
                  <a:lnTo>
                    <a:pt x="25" y="22"/>
                  </a:lnTo>
                  <a:lnTo>
                    <a:pt x="0" y="3"/>
                  </a:lnTo>
                  <a:lnTo>
                    <a:pt x="1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15240" y="1490400"/>
              <a:ext cx="77400" cy="102600"/>
            </a:xfrm>
            <a:custGeom>
              <a:avLst/>
              <a:gdLst/>
              <a:ahLst/>
              <a:rect l="l" t="t" r="r" b="b"/>
              <a:pathLst>
                <a:path w="215" h="288">
                  <a:moveTo>
                    <a:pt x="101" y="211"/>
                  </a:moveTo>
                  <a:lnTo>
                    <a:pt x="101" y="216"/>
                  </a:lnTo>
                  <a:lnTo>
                    <a:pt x="97" y="221"/>
                  </a:lnTo>
                  <a:lnTo>
                    <a:pt x="93" y="229"/>
                  </a:lnTo>
                  <a:lnTo>
                    <a:pt x="93" y="233"/>
                  </a:lnTo>
                  <a:lnTo>
                    <a:pt x="88" y="233"/>
                  </a:lnTo>
                  <a:lnTo>
                    <a:pt x="85" y="231"/>
                  </a:lnTo>
                  <a:lnTo>
                    <a:pt x="88" y="229"/>
                  </a:lnTo>
                  <a:lnTo>
                    <a:pt x="88" y="221"/>
                  </a:lnTo>
                  <a:lnTo>
                    <a:pt x="93" y="216"/>
                  </a:lnTo>
                  <a:lnTo>
                    <a:pt x="97" y="211"/>
                  </a:lnTo>
                  <a:lnTo>
                    <a:pt x="101" y="211"/>
                  </a:lnTo>
                  <a:close/>
                  <a:moveTo>
                    <a:pt x="72" y="201"/>
                  </a:moveTo>
                  <a:lnTo>
                    <a:pt x="72" y="206"/>
                  </a:lnTo>
                  <a:lnTo>
                    <a:pt x="76" y="206"/>
                  </a:lnTo>
                  <a:lnTo>
                    <a:pt x="76" y="209"/>
                  </a:lnTo>
                  <a:lnTo>
                    <a:pt x="76" y="211"/>
                  </a:lnTo>
                  <a:lnTo>
                    <a:pt x="72" y="213"/>
                  </a:lnTo>
                  <a:lnTo>
                    <a:pt x="65" y="216"/>
                  </a:lnTo>
                  <a:lnTo>
                    <a:pt x="60" y="219"/>
                  </a:lnTo>
                  <a:lnTo>
                    <a:pt x="60" y="216"/>
                  </a:lnTo>
                  <a:lnTo>
                    <a:pt x="56" y="216"/>
                  </a:lnTo>
                  <a:lnTo>
                    <a:pt x="48" y="221"/>
                  </a:lnTo>
                  <a:lnTo>
                    <a:pt x="44" y="221"/>
                  </a:lnTo>
                  <a:lnTo>
                    <a:pt x="40" y="221"/>
                  </a:lnTo>
                  <a:lnTo>
                    <a:pt x="44" y="216"/>
                  </a:lnTo>
                  <a:lnTo>
                    <a:pt x="40" y="213"/>
                  </a:lnTo>
                  <a:lnTo>
                    <a:pt x="40" y="211"/>
                  </a:lnTo>
                  <a:lnTo>
                    <a:pt x="44" y="211"/>
                  </a:lnTo>
                  <a:lnTo>
                    <a:pt x="44" y="206"/>
                  </a:lnTo>
                  <a:lnTo>
                    <a:pt x="48" y="206"/>
                  </a:lnTo>
                  <a:lnTo>
                    <a:pt x="56" y="211"/>
                  </a:lnTo>
                  <a:lnTo>
                    <a:pt x="60" y="211"/>
                  </a:lnTo>
                  <a:lnTo>
                    <a:pt x="52" y="204"/>
                  </a:lnTo>
                  <a:lnTo>
                    <a:pt x="52" y="201"/>
                  </a:lnTo>
                  <a:lnTo>
                    <a:pt x="56" y="201"/>
                  </a:lnTo>
                  <a:lnTo>
                    <a:pt x="68" y="199"/>
                  </a:lnTo>
                  <a:lnTo>
                    <a:pt x="68" y="201"/>
                  </a:lnTo>
                  <a:lnTo>
                    <a:pt x="72" y="201"/>
                  </a:lnTo>
                  <a:close/>
                  <a:moveTo>
                    <a:pt x="214" y="63"/>
                  </a:moveTo>
                  <a:lnTo>
                    <a:pt x="178" y="63"/>
                  </a:lnTo>
                  <a:lnTo>
                    <a:pt x="169" y="66"/>
                  </a:lnTo>
                  <a:lnTo>
                    <a:pt x="182" y="68"/>
                  </a:lnTo>
                  <a:lnTo>
                    <a:pt x="166" y="74"/>
                  </a:lnTo>
                  <a:lnTo>
                    <a:pt x="174" y="79"/>
                  </a:lnTo>
                  <a:lnTo>
                    <a:pt x="166" y="83"/>
                  </a:lnTo>
                  <a:lnTo>
                    <a:pt x="182" y="93"/>
                  </a:lnTo>
                  <a:lnTo>
                    <a:pt x="174" y="105"/>
                  </a:lnTo>
                  <a:lnTo>
                    <a:pt x="149" y="110"/>
                  </a:lnTo>
                  <a:lnTo>
                    <a:pt x="137" y="123"/>
                  </a:lnTo>
                  <a:lnTo>
                    <a:pt x="133" y="128"/>
                  </a:lnTo>
                  <a:lnTo>
                    <a:pt x="121" y="123"/>
                  </a:lnTo>
                  <a:lnTo>
                    <a:pt x="133" y="133"/>
                  </a:lnTo>
                  <a:lnTo>
                    <a:pt x="117" y="135"/>
                  </a:lnTo>
                  <a:lnTo>
                    <a:pt x="129" y="152"/>
                  </a:lnTo>
                  <a:lnTo>
                    <a:pt x="121" y="152"/>
                  </a:lnTo>
                  <a:lnTo>
                    <a:pt x="133" y="172"/>
                  </a:lnTo>
                  <a:lnTo>
                    <a:pt x="153" y="174"/>
                  </a:lnTo>
                  <a:lnTo>
                    <a:pt x="185" y="187"/>
                  </a:lnTo>
                  <a:lnTo>
                    <a:pt x="185" y="191"/>
                  </a:lnTo>
                  <a:lnTo>
                    <a:pt x="174" y="196"/>
                  </a:lnTo>
                  <a:lnTo>
                    <a:pt x="161" y="199"/>
                  </a:lnTo>
                  <a:lnTo>
                    <a:pt x="153" y="189"/>
                  </a:lnTo>
                  <a:lnTo>
                    <a:pt x="158" y="196"/>
                  </a:lnTo>
                  <a:lnTo>
                    <a:pt x="149" y="196"/>
                  </a:lnTo>
                  <a:lnTo>
                    <a:pt x="117" y="196"/>
                  </a:lnTo>
                  <a:lnTo>
                    <a:pt x="166" y="201"/>
                  </a:lnTo>
                  <a:lnTo>
                    <a:pt x="178" y="196"/>
                  </a:lnTo>
                  <a:lnTo>
                    <a:pt x="178" y="204"/>
                  </a:lnTo>
                  <a:lnTo>
                    <a:pt x="169" y="209"/>
                  </a:lnTo>
                  <a:lnTo>
                    <a:pt x="161" y="204"/>
                  </a:lnTo>
                  <a:lnTo>
                    <a:pt x="158" y="211"/>
                  </a:lnTo>
                  <a:lnTo>
                    <a:pt x="129" y="216"/>
                  </a:lnTo>
                  <a:lnTo>
                    <a:pt x="149" y="219"/>
                  </a:lnTo>
                  <a:lnTo>
                    <a:pt x="137" y="219"/>
                  </a:lnTo>
                  <a:lnTo>
                    <a:pt x="149" y="221"/>
                  </a:lnTo>
                  <a:lnTo>
                    <a:pt x="149" y="231"/>
                  </a:lnTo>
                  <a:lnTo>
                    <a:pt x="141" y="231"/>
                  </a:lnTo>
                  <a:lnTo>
                    <a:pt x="153" y="240"/>
                  </a:lnTo>
                  <a:lnTo>
                    <a:pt x="145" y="270"/>
                  </a:lnTo>
                  <a:lnTo>
                    <a:pt x="113" y="267"/>
                  </a:lnTo>
                  <a:lnTo>
                    <a:pt x="108" y="285"/>
                  </a:lnTo>
                  <a:lnTo>
                    <a:pt x="85" y="287"/>
                  </a:lnTo>
                  <a:lnTo>
                    <a:pt x="72" y="285"/>
                  </a:lnTo>
                  <a:lnTo>
                    <a:pt x="76" y="280"/>
                  </a:lnTo>
                  <a:lnTo>
                    <a:pt x="56" y="266"/>
                  </a:lnTo>
                  <a:lnTo>
                    <a:pt x="68" y="267"/>
                  </a:lnTo>
                  <a:lnTo>
                    <a:pt x="65" y="258"/>
                  </a:lnTo>
                  <a:lnTo>
                    <a:pt x="28" y="236"/>
                  </a:lnTo>
                  <a:lnTo>
                    <a:pt x="28" y="224"/>
                  </a:lnTo>
                  <a:lnTo>
                    <a:pt x="20" y="224"/>
                  </a:lnTo>
                  <a:lnTo>
                    <a:pt x="16" y="224"/>
                  </a:lnTo>
                  <a:lnTo>
                    <a:pt x="16" y="209"/>
                  </a:lnTo>
                  <a:lnTo>
                    <a:pt x="20" y="191"/>
                  </a:lnTo>
                  <a:lnTo>
                    <a:pt x="32" y="187"/>
                  </a:lnTo>
                  <a:lnTo>
                    <a:pt x="20" y="167"/>
                  </a:lnTo>
                  <a:lnTo>
                    <a:pt x="32" y="160"/>
                  </a:lnTo>
                  <a:lnTo>
                    <a:pt x="20" y="154"/>
                  </a:lnTo>
                  <a:lnTo>
                    <a:pt x="12" y="152"/>
                  </a:lnTo>
                  <a:lnTo>
                    <a:pt x="4" y="133"/>
                  </a:lnTo>
                  <a:lnTo>
                    <a:pt x="0" y="113"/>
                  </a:lnTo>
                  <a:lnTo>
                    <a:pt x="12" y="103"/>
                  </a:lnTo>
                  <a:lnTo>
                    <a:pt x="36" y="100"/>
                  </a:lnTo>
                  <a:lnTo>
                    <a:pt x="20" y="91"/>
                  </a:lnTo>
                  <a:lnTo>
                    <a:pt x="32" y="76"/>
                  </a:lnTo>
                  <a:lnTo>
                    <a:pt x="25" y="59"/>
                  </a:lnTo>
                  <a:lnTo>
                    <a:pt x="40" y="56"/>
                  </a:lnTo>
                  <a:lnTo>
                    <a:pt x="48" y="25"/>
                  </a:lnTo>
                  <a:lnTo>
                    <a:pt x="68" y="22"/>
                  </a:lnTo>
                  <a:lnTo>
                    <a:pt x="65" y="14"/>
                  </a:lnTo>
                  <a:lnTo>
                    <a:pt x="68" y="9"/>
                  </a:lnTo>
                  <a:lnTo>
                    <a:pt x="101" y="14"/>
                  </a:lnTo>
                  <a:lnTo>
                    <a:pt x="101" y="0"/>
                  </a:lnTo>
                  <a:lnTo>
                    <a:pt x="169" y="19"/>
                  </a:lnTo>
                  <a:lnTo>
                    <a:pt x="214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15240" y="1490400"/>
              <a:ext cx="77400" cy="102600"/>
            </a:xfrm>
            <a:custGeom>
              <a:avLst/>
              <a:gdLst/>
              <a:ahLst/>
              <a:rect l="l" t="t" r="r" b="b"/>
              <a:pathLst>
                <a:path w="215" h="288">
                  <a:moveTo>
                    <a:pt x="214" y="63"/>
                  </a:moveTo>
                  <a:lnTo>
                    <a:pt x="178" y="63"/>
                  </a:lnTo>
                  <a:lnTo>
                    <a:pt x="169" y="66"/>
                  </a:lnTo>
                  <a:lnTo>
                    <a:pt x="182" y="68"/>
                  </a:lnTo>
                  <a:lnTo>
                    <a:pt x="166" y="74"/>
                  </a:lnTo>
                  <a:lnTo>
                    <a:pt x="174" y="79"/>
                  </a:lnTo>
                  <a:lnTo>
                    <a:pt x="166" y="83"/>
                  </a:lnTo>
                  <a:lnTo>
                    <a:pt x="182" y="93"/>
                  </a:lnTo>
                  <a:lnTo>
                    <a:pt x="174" y="105"/>
                  </a:lnTo>
                  <a:lnTo>
                    <a:pt x="149" y="110"/>
                  </a:lnTo>
                  <a:lnTo>
                    <a:pt x="137" y="123"/>
                  </a:lnTo>
                  <a:lnTo>
                    <a:pt x="133" y="128"/>
                  </a:lnTo>
                  <a:lnTo>
                    <a:pt x="121" y="123"/>
                  </a:lnTo>
                  <a:lnTo>
                    <a:pt x="133" y="133"/>
                  </a:lnTo>
                  <a:lnTo>
                    <a:pt x="117" y="135"/>
                  </a:lnTo>
                  <a:lnTo>
                    <a:pt x="129" y="152"/>
                  </a:lnTo>
                  <a:lnTo>
                    <a:pt x="121" y="152"/>
                  </a:lnTo>
                  <a:lnTo>
                    <a:pt x="133" y="172"/>
                  </a:lnTo>
                  <a:lnTo>
                    <a:pt x="153" y="174"/>
                  </a:lnTo>
                  <a:lnTo>
                    <a:pt x="185" y="187"/>
                  </a:lnTo>
                  <a:lnTo>
                    <a:pt x="185" y="191"/>
                  </a:lnTo>
                  <a:lnTo>
                    <a:pt x="174" y="196"/>
                  </a:lnTo>
                  <a:lnTo>
                    <a:pt x="161" y="199"/>
                  </a:lnTo>
                  <a:lnTo>
                    <a:pt x="153" y="189"/>
                  </a:lnTo>
                  <a:lnTo>
                    <a:pt x="158" y="196"/>
                  </a:lnTo>
                  <a:lnTo>
                    <a:pt x="149" y="196"/>
                  </a:lnTo>
                  <a:lnTo>
                    <a:pt x="117" y="196"/>
                  </a:lnTo>
                  <a:lnTo>
                    <a:pt x="166" y="201"/>
                  </a:lnTo>
                  <a:lnTo>
                    <a:pt x="178" y="196"/>
                  </a:lnTo>
                  <a:lnTo>
                    <a:pt x="178" y="204"/>
                  </a:lnTo>
                  <a:lnTo>
                    <a:pt x="169" y="209"/>
                  </a:lnTo>
                  <a:lnTo>
                    <a:pt x="161" y="204"/>
                  </a:lnTo>
                  <a:lnTo>
                    <a:pt x="158" y="211"/>
                  </a:lnTo>
                  <a:lnTo>
                    <a:pt x="129" y="216"/>
                  </a:lnTo>
                  <a:lnTo>
                    <a:pt x="149" y="219"/>
                  </a:lnTo>
                  <a:lnTo>
                    <a:pt x="137" y="219"/>
                  </a:lnTo>
                  <a:lnTo>
                    <a:pt x="149" y="221"/>
                  </a:lnTo>
                  <a:lnTo>
                    <a:pt x="149" y="231"/>
                  </a:lnTo>
                  <a:lnTo>
                    <a:pt x="141" y="231"/>
                  </a:lnTo>
                  <a:lnTo>
                    <a:pt x="153" y="240"/>
                  </a:lnTo>
                  <a:lnTo>
                    <a:pt x="145" y="270"/>
                  </a:lnTo>
                  <a:lnTo>
                    <a:pt x="113" y="267"/>
                  </a:lnTo>
                  <a:lnTo>
                    <a:pt x="108" y="285"/>
                  </a:lnTo>
                  <a:lnTo>
                    <a:pt x="85" y="287"/>
                  </a:lnTo>
                  <a:lnTo>
                    <a:pt x="72" y="285"/>
                  </a:lnTo>
                  <a:lnTo>
                    <a:pt x="76" y="280"/>
                  </a:lnTo>
                  <a:lnTo>
                    <a:pt x="56" y="266"/>
                  </a:lnTo>
                  <a:lnTo>
                    <a:pt x="68" y="267"/>
                  </a:lnTo>
                  <a:lnTo>
                    <a:pt x="65" y="258"/>
                  </a:lnTo>
                  <a:lnTo>
                    <a:pt x="28" y="236"/>
                  </a:lnTo>
                  <a:lnTo>
                    <a:pt x="28" y="224"/>
                  </a:lnTo>
                  <a:lnTo>
                    <a:pt x="20" y="224"/>
                  </a:lnTo>
                  <a:lnTo>
                    <a:pt x="16" y="224"/>
                  </a:lnTo>
                  <a:lnTo>
                    <a:pt x="16" y="209"/>
                  </a:lnTo>
                  <a:lnTo>
                    <a:pt x="20" y="191"/>
                  </a:lnTo>
                  <a:lnTo>
                    <a:pt x="32" y="187"/>
                  </a:lnTo>
                  <a:lnTo>
                    <a:pt x="20" y="167"/>
                  </a:lnTo>
                  <a:lnTo>
                    <a:pt x="32" y="160"/>
                  </a:lnTo>
                  <a:lnTo>
                    <a:pt x="20" y="154"/>
                  </a:lnTo>
                  <a:lnTo>
                    <a:pt x="12" y="152"/>
                  </a:lnTo>
                  <a:lnTo>
                    <a:pt x="4" y="133"/>
                  </a:lnTo>
                  <a:lnTo>
                    <a:pt x="0" y="113"/>
                  </a:lnTo>
                  <a:lnTo>
                    <a:pt x="12" y="103"/>
                  </a:lnTo>
                  <a:lnTo>
                    <a:pt x="36" y="100"/>
                  </a:lnTo>
                  <a:lnTo>
                    <a:pt x="20" y="91"/>
                  </a:lnTo>
                  <a:lnTo>
                    <a:pt x="32" y="76"/>
                  </a:lnTo>
                  <a:lnTo>
                    <a:pt x="25" y="59"/>
                  </a:lnTo>
                  <a:lnTo>
                    <a:pt x="40" y="56"/>
                  </a:lnTo>
                  <a:lnTo>
                    <a:pt x="48" y="25"/>
                  </a:lnTo>
                  <a:lnTo>
                    <a:pt x="68" y="22"/>
                  </a:lnTo>
                  <a:lnTo>
                    <a:pt x="65" y="14"/>
                  </a:lnTo>
                  <a:lnTo>
                    <a:pt x="68" y="9"/>
                  </a:lnTo>
                  <a:lnTo>
                    <a:pt x="101" y="14"/>
                  </a:lnTo>
                  <a:lnTo>
                    <a:pt x="101" y="0"/>
                  </a:lnTo>
                  <a:lnTo>
                    <a:pt x="169" y="19"/>
                  </a:lnTo>
                  <a:lnTo>
                    <a:pt x="214" y="6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46920" y="1566360"/>
              <a:ext cx="5760" cy="75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12" y="10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3" y="22"/>
                  </a:lnTo>
                  <a:lnTo>
                    <a:pt x="0" y="20"/>
                  </a:lnTo>
                  <a:lnTo>
                    <a:pt x="3" y="18"/>
                  </a:lnTo>
                  <a:lnTo>
                    <a:pt x="3" y="10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29280" y="1561680"/>
              <a:ext cx="12600" cy="75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32" y="2"/>
                  </a:moveTo>
                  <a:lnTo>
                    <a:pt x="32" y="2"/>
                  </a:lnTo>
                  <a:lnTo>
                    <a:pt x="32" y="7"/>
                  </a:lnTo>
                  <a:lnTo>
                    <a:pt x="36" y="7"/>
                  </a:lnTo>
                  <a:lnTo>
                    <a:pt x="36" y="10"/>
                  </a:lnTo>
                  <a:lnTo>
                    <a:pt x="36" y="12"/>
                  </a:lnTo>
                  <a:lnTo>
                    <a:pt x="32" y="14"/>
                  </a:lnTo>
                  <a:lnTo>
                    <a:pt x="25" y="17"/>
                  </a:lnTo>
                  <a:lnTo>
                    <a:pt x="20" y="20"/>
                  </a:lnTo>
                  <a:lnTo>
                    <a:pt x="20" y="17"/>
                  </a:lnTo>
                  <a:lnTo>
                    <a:pt x="16" y="17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7"/>
                  </a:lnTo>
                  <a:lnTo>
                    <a:pt x="8" y="7"/>
                  </a:lnTo>
                  <a:lnTo>
                    <a:pt x="16" y="12"/>
                  </a:lnTo>
                  <a:lnTo>
                    <a:pt x="20" y="12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32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55040" y="2147040"/>
              <a:ext cx="186840" cy="118800"/>
            </a:xfrm>
            <a:custGeom>
              <a:avLst/>
              <a:gdLst/>
              <a:ahLst/>
              <a:rect l="l" t="t" r="r" b="b"/>
              <a:pathLst>
                <a:path w="519" h="331">
                  <a:moveTo>
                    <a:pt x="70" y="175"/>
                  </a:moveTo>
                  <a:lnTo>
                    <a:pt x="57" y="190"/>
                  </a:lnTo>
                  <a:lnTo>
                    <a:pt x="65" y="199"/>
                  </a:lnTo>
                  <a:lnTo>
                    <a:pt x="85" y="211"/>
                  </a:lnTo>
                  <a:lnTo>
                    <a:pt x="102" y="234"/>
                  </a:lnTo>
                  <a:lnTo>
                    <a:pt x="126" y="246"/>
                  </a:lnTo>
                  <a:lnTo>
                    <a:pt x="130" y="258"/>
                  </a:lnTo>
                  <a:lnTo>
                    <a:pt x="126" y="271"/>
                  </a:lnTo>
                  <a:lnTo>
                    <a:pt x="142" y="283"/>
                  </a:lnTo>
                  <a:lnTo>
                    <a:pt x="159" y="293"/>
                  </a:lnTo>
                  <a:lnTo>
                    <a:pt x="191" y="330"/>
                  </a:lnTo>
                  <a:lnTo>
                    <a:pt x="215" y="330"/>
                  </a:lnTo>
                  <a:lnTo>
                    <a:pt x="222" y="315"/>
                  </a:lnTo>
                  <a:lnTo>
                    <a:pt x="235" y="302"/>
                  </a:lnTo>
                  <a:lnTo>
                    <a:pt x="260" y="310"/>
                  </a:lnTo>
                  <a:lnTo>
                    <a:pt x="299" y="312"/>
                  </a:lnTo>
                  <a:lnTo>
                    <a:pt x="320" y="327"/>
                  </a:lnTo>
                  <a:lnTo>
                    <a:pt x="320" y="307"/>
                  </a:lnTo>
                  <a:lnTo>
                    <a:pt x="361" y="305"/>
                  </a:lnTo>
                  <a:lnTo>
                    <a:pt x="372" y="312"/>
                  </a:lnTo>
                  <a:lnTo>
                    <a:pt x="364" y="271"/>
                  </a:lnTo>
                  <a:lnTo>
                    <a:pt x="372" y="248"/>
                  </a:lnTo>
                  <a:lnTo>
                    <a:pt x="433" y="239"/>
                  </a:lnTo>
                  <a:lnTo>
                    <a:pt x="489" y="243"/>
                  </a:lnTo>
                  <a:lnTo>
                    <a:pt x="506" y="251"/>
                  </a:lnTo>
                  <a:lnTo>
                    <a:pt x="510" y="258"/>
                  </a:lnTo>
                  <a:lnTo>
                    <a:pt x="518" y="253"/>
                  </a:lnTo>
                  <a:lnTo>
                    <a:pt x="506" y="248"/>
                  </a:lnTo>
                  <a:lnTo>
                    <a:pt x="506" y="246"/>
                  </a:lnTo>
                  <a:lnTo>
                    <a:pt x="510" y="241"/>
                  </a:lnTo>
                  <a:lnTo>
                    <a:pt x="510" y="234"/>
                  </a:lnTo>
                  <a:lnTo>
                    <a:pt x="510" y="231"/>
                  </a:lnTo>
                  <a:lnTo>
                    <a:pt x="510" y="226"/>
                  </a:lnTo>
                  <a:lnTo>
                    <a:pt x="510" y="221"/>
                  </a:lnTo>
                  <a:lnTo>
                    <a:pt x="514" y="209"/>
                  </a:lnTo>
                  <a:lnTo>
                    <a:pt x="498" y="194"/>
                  </a:lnTo>
                  <a:lnTo>
                    <a:pt x="469" y="187"/>
                  </a:lnTo>
                  <a:lnTo>
                    <a:pt x="465" y="162"/>
                  </a:lnTo>
                  <a:lnTo>
                    <a:pt x="461" y="162"/>
                  </a:lnTo>
                  <a:lnTo>
                    <a:pt x="433" y="162"/>
                  </a:lnTo>
                  <a:lnTo>
                    <a:pt x="413" y="162"/>
                  </a:lnTo>
                  <a:lnTo>
                    <a:pt x="396" y="162"/>
                  </a:lnTo>
                  <a:lnTo>
                    <a:pt x="388" y="150"/>
                  </a:lnTo>
                  <a:lnTo>
                    <a:pt x="388" y="143"/>
                  </a:lnTo>
                  <a:lnTo>
                    <a:pt x="376" y="138"/>
                  </a:lnTo>
                  <a:lnTo>
                    <a:pt x="372" y="133"/>
                  </a:lnTo>
                  <a:lnTo>
                    <a:pt x="376" y="133"/>
                  </a:lnTo>
                  <a:lnTo>
                    <a:pt x="376" y="118"/>
                  </a:lnTo>
                  <a:lnTo>
                    <a:pt x="364" y="101"/>
                  </a:lnTo>
                  <a:lnTo>
                    <a:pt x="312" y="96"/>
                  </a:lnTo>
                  <a:lnTo>
                    <a:pt x="272" y="84"/>
                  </a:lnTo>
                  <a:lnTo>
                    <a:pt x="260" y="74"/>
                  </a:lnTo>
                  <a:lnTo>
                    <a:pt x="207" y="69"/>
                  </a:lnTo>
                  <a:lnTo>
                    <a:pt x="171" y="52"/>
                  </a:lnTo>
                  <a:lnTo>
                    <a:pt x="162" y="32"/>
                  </a:lnTo>
                  <a:lnTo>
                    <a:pt x="150" y="0"/>
                  </a:lnTo>
                  <a:lnTo>
                    <a:pt x="106" y="5"/>
                  </a:lnTo>
                  <a:lnTo>
                    <a:pt x="70" y="27"/>
                  </a:lnTo>
                  <a:lnTo>
                    <a:pt x="50" y="32"/>
                  </a:lnTo>
                  <a:lnTo>
                    <a:pt x="34" y="37"/>
                  </a:lnTo>
                  <a:lnTo>
                    <a:pt x="0" y="34"/>
                  </a:lnTo>
                  <a:lnTo>
                    <a:pt x="46" y="71"/>
                  </a:lnTo>
                  <a:lnTo>
                    <a:pt x="42" y="101"/>
                  </a:lnTo>
                  <a:lnTo>
                    <a:pt x="53" y="116"/>
                  </a:lnTo>
                  <a:lnTo>
                    <a:pt x="42" y="130"/>
                  </a:lnTo>
                  <a:lnTo>
                    <a:pt x="53" y="143"/>
                  </a:lnTo>
                  <a:lnTo>
                    <a:pt x="50" y="150"/>
                  </a:lnTo>
                  <a:lnTo>
                    <a:pt x="73" y="160"/>
                  </a:lnTo>
                  <a:lnTo>
                    <a:pt x="85" y="167"/>
                  </a:lnTo>
                  <a:lnTo>
                    <a:pt x="73" y="172"/>
                  </a:lnTo>
                  <a:lnTo>
                    <a:pt x="70" y="17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55040" y="2147040"/>
              <a:ext cx="186840" cy="118800"/>
            </a:xfrm>
            <a:custGeom>
              <a:avLst/>
              <a:gdLst/>
              <a:ahLst/>
              <a:rect l="l" t="t" r="r" b="b"/>
              <a:pathLst>
                <a:path w="519" h="331">
                  <a:moveTo>
                    <a:pt x="70" y="175"/>
                  </a:moveTo>
                  <a:lnTo>
                    <a:pt x="57" y="190"/>
                  </a:lnTo>
                  <a:lnTo>
                    <a:pt x="65" y="199"/>
                  </a:lnTo>
                  <a:lnTo>
                    <a:pt x="85" y="211"/>
                  </a:lnTo>
                  <a:lnTo>
                    <a:pt x="102" y="234"/>
                  </a:lnTo>
                  <a:lnTo>
                    <a:pt x="126" y="246"/>
                  </a:lnTo>
                  <a:lnTo>
                    <a:pt x="130" y="258"/>
                  </a:lnTo>
                  <a:lnTo>
                    <a:pt x="126" y="271"/>
                  </a:lnTo>
                  <a:lnTo>
                    <a:pt x="142" y="283"/>
                  </a:lnTo>
                  <a:lnTo>
                    <a:pt x="159" y="293"/>
                  </a:lnTo>
                  <a:lnTo>
                    <a:pt x="191" y="330"/>
                  </a:lnTo>
                  <a:lnTo>
                    <a:pt x="215" y="330"/>
                  </a:lnTo>
                  <a:lnTo>
                    <a:pt x="222" y="315"/>
                  </a:lnTo>
                  <a:lnTo>
                    <a:pt x="235" y="302"/>
                  </a:lnTo>
                  <a:lnTo>
                    <a:pt x="260" y="310"/>
                  </a:lnTo>
                  <a:lnTo>
                    <a:pt x="299" y="312"/>
                  </a:lnTo>
                  <a:lnTo>
                    <a:pt x="320" y="327"/>
                  </a:lnTo>
                  <a:lnTo>
                    <a:pt x="320" y="307"/>
                  </a:lnTo>
                  <a:lnTo>
                    <a:pt x="361" y="305"/>
                  </a:lnTo>
                  <a:lnTo>
                    <a:pt x="372" y="312"/>
                  </a:lnTo>
                  <a:lnTo>
                    <a:pt x="364" y="271"/>
                  </a:lnTo>
                  <a:lnTo>
                    <a:pt x="372" y="248"/>
                  </a:lnTo>
                  <a:lnTo>
                    <a:pt x="433" y="239"/>
                  </a:lnTo>
                  <a:lnTo>
                    <a:pt x="489" y="243"/>
                  </a:lnTo>
                  <a:lnTo>
                    <a:pt x="506" y="251"/>
                  </a:lnTo>
                  <a:lnTo>
                    <a:pt x="510" y="258"/>
                  </a:lnTo>
                  <a:lnTo>
                    <a:pt x="518" y="253"/>
                  </a:lnTo>
                  <a:lnTo>
                    <a:pt x="506" y="248"/>
                  </a:lnTo>
                  <a:lnTo>
                    <a:pt x="506" y="246"/>
                  </a:lnTo>
                  <a:lnTo>
                    <a:pt x="510" y="241"/>
                  </a:lnTo>
                  <a:lnTo>
                    <a:pt x="510" y="234"/>
                  </a:lnTo>
                  <a:lnTo>
                    <a:pt x="510" y="231"/>
                  </a:lnTo>
                  <a:lnTo>
                    <a:pt x="510" y="226"/>
                  </a:lnTo>
                  <a:lnTo>
                    <a:pt x="510" y="221"/>
                  </a:lnTo>
                  <a:lnTo>
                    <a:pt x="514" y="209"/>
                  </a:lnTo>
                  <a:lnTo>
                    <a:pt x="514" y="209"/>
                  </a:lnTo>
                  <a:lnTo>
                    <a:pt x="498" y="194"/>
                  </a:lnTo>
                  <a:lnTo>
                    <a:pt x="469" y="187"/>
                  </a:lnTo>
                  <a:lnTo>
                    <a:pt x="465" y="162"/>
                  </a:lnTo>
                  <a:lnTo>
                    <a:pt x="461" y="162"/>
                  </a:lnTo>
                  <a:lnTo>
                    <a:pt x="433" y="162"/>
                  </a:lnTo>
                  <a:lnTo>
                    <a:pt x="413" y="162"/>
                  </a:lnTo>
                  <a:lnTo>
                    <a:pt x="396" y="162"/>
                  </a:lnTo>
                  <a:lnTo>
                    <a:pt x="388" y="150"/>
                  </a:lnTo>
                  <a:lnTo>
                    <a:pt x="388" y="143"/>
                  </a:lnTo>
                  <a:lnTo>
                    <a:pt x="376" y="138"/>
                  </a:lnTo>
                  <a:lnTo>
                    <a:pt x="372" y="133"/>
                  </a:lnTo>
                  <a:lnTo>
                    <a:pt x="376" y="133"/>
                  </a:lnTo>
                  <a:lnTo>
                    <a:pt x="376" y="118"/>
                  </a:lnTo>
                  <a:lnTo>
                    <a:pt x="364" y="101"/>
                  </a:lnTo>
                  <a:lnTo>
                    <a:pt x="312" y="96"/>
                  </a:lnTo>
                  <a:lnTo>
                    <a:pt x="272" y="84"/>
                  </a:lnTo>
                  <a:lnTo>
                    <a:pt x="260" y="74"/>
                  </a:lnTo>
                  <a:lnTo>
                    <a:pt x="207" y="69"/>
                  </a:lnTo>
                  <a:lnTo>
                    <a:pt x="171" y="52"/>
                  </a:lnTo>
                  <a:lnTo>
                    <a:pt x="162" y="32"/>
                  </a:lnTo>
                  <a:lnTo>
                    <a:pt x="150" y="0"/>
                  </a:lnTo>
                  <a:lnTo>
                    <a:pt x="106" y="5"/>
                  </a:lnTo>
                  <a:lnTo>
                    <a:pt x="70" y="27"/>
                  </a:lnTo>
                  <a:lnTo>
                    <a:pt x="50" y="32"/>
                  </a:lnTo>
                  <a:lnTo>
                    <a:pt x="34" y="37"/>
                  </a:lnTo>
                  <a:lnTo>
                    <a:pt x="0" y="34"/>
                  </a:lnTo>
                  <a:lnTo>
                    <a:pt x="46" y="71"/>
                  </a:lnTo>
                  <a:lnTo>
                    <a:pt x="42" y="101"/>
                  </a:lnTo>
                  <a:lnTo>
                    <a:pt x="53" y="116"/>
                  </a:lnTo>
                  <a:lnTo>
                    <a:pt x="42" y="130"/>
                  </a:lnTo>
                  <a:lnTo>
                    <a:pt x="53" y="143"/>
                  </a:lnTo>
                  <a:lnTo>
                    <a:pt x="50" y="150"/>
                  </a:lnTo>
                  <a:lnTo>
                    <a:pt x="73" y="160"/>
                  </a:lnTo>
                  <a:lnTo>
                    <a:pt x="85" y="167"/>
                  </a:lnTo>
                  <a:lnTo>
                    <a:pt x="73" y="172"/>
                  </a:lnTo>
                  <a:lnTo>
                    <a:pt x="70" y="17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85120" y="2059920"/>
              <a:ext cx="194760" cy="166320"/>
            </a:xfrm>
            <a:custGeom>
              <a:avLst/>
              <a:gdLst/>
              <a:ahLst/>
              <a:rect l="l" t="t" r="r" b="b"/>
              <a:pathLst>
                <a:path w="543" h="461">
                  <a:moveTo>
                    <a:pt x="542" y="416"/>
                  </a:moveTo>
                  <a:lnTo>
                    <a:pt x="529" y="431"/>
                  </a:lnTo>
                  <a:lnTo>
                    <a:pt x="537" y="440"/>
                  </a:lnTo>
                  <a:lnTo>
                    <a:pt x="525" y="445"/>
                  </a:lnTo>
                  <a:lnTo>
                    <a:pt x="529" y="458"/>
                  </a:lnTo>
                  <a:lnTo>
                    <a:pt x="514" y="460"/>
                  </a:lnTo>
                  <a:lnTo>
                    <a:pt x="469" y="445"/>
                  </a:lnTo>
                  <a:lnTo>
                    <a:pt x="425" y="423"/>
                  </a:lnTo>
                  <a:lnTo>
                    <a:pt x="303" y="389"/>
                  </a:lnTo>
                  <a:lnTo>
                    <a:pt x="251" y="359"/>
                  </a:lnTo>
                  <a:lnTo>
                    <a:pt x="247" y="339"/>
                  </a:lnTo>
                  <a:lnTo>
                    <a:pt x="199" y="305"/>
                  </a:lnTo>
                  <a:lnTo>
                    <a:pt x="175" y="288"/>
                  </a:lnTo>
                  <a:lnTo>
                    <a:pt x="114" y="217"/>
                  </a:lnTo>
                  <a:lnTo>
                    <a:pt x="57" y="172"/>
                  </a:lnTo>
                  <a:lnTo>
                    <a:pt x="13" y="152"/>
                  </a:lnTo>
                  <a:lnTo>
                    <a:pt x="21" y="143"/>
                  </a:lnTo>
                  <a:lnTo>
                    <a:pt x="9" y="130"/>
                  </a:lnTo>
                  <a:lnTo>
                    <a:pt x="0" y="118"/>
                  </a:lnTo>
                  <a:lnTo>
                    <a:pt x="0" y="108"/>
                  </a:lnTo>
                  <a:lnTo>
                    <a:pt x="33" y="84"/>
                  </a:lnTo>
                  <a:lnTo>
                    <a:pt x="41" y="96"/>
                  </a:lnTo>
                  <a:lnTo>
                    <a:pt x="29" y="98"/>
                  </a:lnTo>
                  <a:lnTo>
                    <a:pt x="29" y="111"/>
                  </a:lnTo>
                  <a:lnTo>
                    <a:pt x="61" y="111"/>
                  </a:lnTo>
                  <a:lnTo>
                    <a:pt x="86" y="126"/>
                  </a:lnTo>
                  <a:lnTo>
                    <a:pt x="110" y="84"/>
                  </a:lnTo>
                  <a:lnTo>
                    <a:pt x="126" y="74"/>
                  </a:lnTo>
                  <a:lnTo>
                    <a:pt x="170" y="62"/>
                  </a:lnTo>
                  <a:lnTo>
                    <a:pt x="210" y="37"/>
                  </a:lnTo>
                  <a:lnTo>
                    <a:pt x="214" y="22"/>
                  </a:lnTo>
                  <a:lnTo>
                    <a:pt x="222" y="22"/>
                  </a:lnTo>
                  <a:lnTo>
                    <a:pt x="207" y="0"/>
                  </a:lnTo>
                  <a:lnTo>
                    <a:pt x="218" y="0"/>
                  </a:lnTo>
                  <a:lnTo>
                    <a:pt x="234" y="0"/>
                  </a:lnTo>
                  <a:lnTo>
                    <a:pt x="259" y="22"/>
                  </a:lnTo>
                  <a:lnTo>
                    <a:pt x="284" y="30"/>
                  </a:lnTo>
                  <a:lnTo>
                    <a:pt x="299" y="42"/>
                  </a:lnTo>
                  <a:lnTo>
                    <a:pt x="311" y="59"/>
                  </a:lnTo>
                  <a:lnTo>
                    <a:pt x="340" y="59"/>
                  </a:lnTo>
                  <a:lnTo>
                    <a:pt x="356" y="52"/>
                  </a:lnTo>
                  <a:lnTo>
                    <a:pt x="368" y="56"/>
                  </a:lnTo>
                  <a:lnTo>
                    <a:pt x="416" y="64"/>
                  </a:lnTo>
                  <a:lnTo>
                    <a:pt x="396" y="94"/>
                  </a:lnTo>
                  <a:lnTo>
                    <a:pt x="400" y="94"/>
                  </a:lnTo>
                  <a:lnTo>
                    <a:pt x="413" y="94"/>
                  </a:lnTo>
                  <a:lnTo>
                    <a:pt x="425" y="103"/>
                  </a:lnTo>
                  <a:lnTo>
                    <a:pt x="425" y="106"/>
                  </a:lnTo>
                  <a:lnTo>
                    <a:pt x="356" y="111"/>
                  </a:lnTo>
                  <a:lnTo>
                    <a:pt x="320" y="128"/>
                  </a:lnTo>
                  <a:lnTo>
                    <a:pt x="311" y="162"/>
                  </a:lnTo>
                  <a:lnTo>
                    <a:pt x="291" y="172"/>
                  </a:lnTo>
                  <a:lnTo>
                    <a:pt x="295" y="183"/>
                  </a:lnTo>
                  <a:lnTo>
                    <a:pt x="288" y="190"/>
                  </a:lnTo>
                  <a:lnTo>
                    <a:pt x="332" y="226"/>
                  </a:lnTo>
                  <a:lnTo>
                    <a:pt x="328" y="237"/>
                  </a:lnTo>
                  <a:lnTo>
                    <a:pt x="360" y="239"/>
                  </a:lnTo>
                  <a:lnTo>
                    <a:pt x="371" y="251"/>
                  </a:lnTo>
                  <a:lnTo>
                    <a:pt x="404" y="251"/>
                  </a:lnTo>
                  <a:lnTo>
                    <a:pt x="429" y="237"/>
                  </a:lnTo>
                  <a:lnTo>
                    <a:pt x="433" y="275"/>
                  </a:lnTo>
                  <a:lnTo>
                    <a:pt x="472" y="275"/>
                  </a:lnTo>
                  <a:lnTo>
                    <a:pt x="518" y="312"/>
                  </a:lnTo>
                  <a:lnTo>
                    <a:pt x="514" y="342"/>
                  </a:lnTo>
                  <a:lnTo>
                    <a:pt x="525" y="357"/>
                  </a:lnTo>
                  <a:lnTo>
                    <a:pt x="514" y="371"/>
                  </a:lnTo>
                  <a:lnTo>
                    <a:pt x="525" y="384"/>
                  </a:lnTo>
                  <a:lnTo>
                    <a:pt x="522" y="391"/>
                  </a:lnTo>
                  <a:lnTo>
                    <a:pt x="497" y="384"/>
                  </a:lnTo>
                  <a:lnTo>
                    <a:pt x="510" y="396"/>
                  </a:lnTo>
                  <a:lnTo>
                    <a:pt x="501" y="391"/>
                  </a:lnTo>
                  <a:lnTo>
                    <a:pt x="501" y="398"/>
                  </a:lnTo>
                  <a:lnTo>
                    <a:pt x="537" y="406"/>
                  </a:lnTo>
                  <a:lnTo>
                    <a:pt x="537" y="403"/>
                  </a:lnTo>
                  <a:lnTo>
                    <a:pt x="542" y="406"/>
                  </a:lnTo>
                  <a:lnTo>
                    <a:pt x="537" y="408"/>
                  </a:lnTo>
                  <a:lnTo>
                    <a:pt x="542" y="4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85120" y="2059920"/>
              <a:ext cx="194760" cy="166320"/>
            </a:xfrm>
            <a:custGeom>
              <a:avLst/>
              <a:gdLst/>
              <a:ahLst/>
              <a:rect l="l" t="t" r="r" b="b"/>
              <a:pathLst>
                <a:path w="543" h="461">
                  <a:moveTo>
                    <a:pt x="542" y="416"/>
                  </a:moveTo>
                  <a:lnTo>
                    <a:pt x="529" y="431"/>
                  </a:lnTo>
                  <a:lnTo>
                    <a:pt x="537" y="440"/>
                  </a:lnTo>
                  <a:lnTo>
                    <a:pt x="525" y="445"/>
                  </a:lnTo>
                  <a:lnTo>
                    <a:pt x="529" y="458"/>
                  </a:lnTo>
                  <a:lnTo>
                    <a:pt x="514" y="460"/>
                  </a:lnTo>
                  <a:lnTo>
                    <a:pt x="469" y="445"/>
                  </a:lnTo>
                  <a:lnTo>
                    <a:pt x="425" y="423"/>
                  </a:lnTo>
                  <a:lnTo>
                    <a:pt x="303" y="389"/>
                  </a:lnTo>
                  <a:lnTo>
                    <a:pt x="251" y="359"/>
                  </a:lnTo>
                  <a:lnTo>
                    <a:pt x="247" y="339"/>
                  </a:lnTo>
                  <a:lnTo>
                    <a:pt x="199" y="305"/>
                  </a:lnTo>
                  <a:lnTo>
                    <a:pt x="175" y="288"/>
                  </a:lnTo>
                  <a:lnTo>
                    <a:pt x="114" y="217"/>
                  </a:lnTo>
                  <a:lnTo>
                    <a:pt x="57" y="172"/>
                  </a:lnTo>
                  <a:lnTo>
                    <a:pt x="13" y="152"/>
                  </a:lnTo>
                  <a:lnTo>
                    <a:pt x="21" y="143"/>
                  </a:lnTo>
                  <a:lnTo>
                    <a:pt x="9" y="130"/>
                  </a:lnTo>
                  <a:lnTo>
                    <a:pt x="0" y="118"/>
                  </a:lnTo>
                  <a:lnTo>
                    <a:pt x="0" y="108"/>
                  </a:lnTo>
                  <a:lnTo>
                    <a:pt x="33" y="84"/>
                  </a:lnTo>
                  <a:lnTo>
                    <a:pt x="41" y="96"/>
                  </a:lnTo>
                  <a:lnTo>
                    <a:pt x="29" y="98"/>
                  </a:lnTo>
                  <a:lnTo>
                    <a:pt x="29" y="111"/>
                  </a:lnTo>
                  <a:lnTo>
                    <a:pt x="61" y="111"/>
                  </a:lnTo>
                  <a:lnTo>
                    <a:pt x="86" y="126"/>
                  </a:lnTo>
                  <a:lnTo>
                    <a:pt x="110" y="84"/>
                  </a:lnTo>
                  <a:lnTo>
                    <a:pt x="126" y="74"/>
                  </a:lnTo>
                  <a:lnTo>
                    <a:pt x="170" y="62"/>
                  </a:lnTo>
                  <a:lnTo>
                    <a:pt x="210" y="37"/>
                  </a:lnTo>
                  <a:lnTo>
                    <a:pt x="214" y="22"/>
                  </a:lnTo>
                  <a:lnTo>
                    <a:pt x="222" y="22"/>
                  </a:lnTo>
                  <a:lnTo>
                    <a:pt x="207" y="0"/>
                  </a:lnTo>
                  <a:lnTo>
                    <a:pt x="218" y="0"/>
                  </a:lnTo>
                  <a:lnTo>
                    <a:pt x="234" y="0"/>
                  </a:lnTo>
                  <a:lnTo>
                    <a:pt x="259" y="22"/>
                  </a:lnTo>
                  <a:lnTo>
                    <a:pt x="284" y="30"/>
                  </a:lnTo>
                  <a:lnTo>
                    <a:pt x="299" y="42"/>
                  </a:lnTo>
                  <a:lnTo>
                    <a:pt x="311" y="59"/>
                  </a:lnTo>
                  <a:lnTo>
                    <a:pt x="340" y="59"/>
                  </a:lnTo>
                  <a:lnTo>
                    <a:pt x="356" y="52"/>
                  </a:lnTo>
                  <a:lnTo>
                    <a:pt x="368" y="56"/>
                  </a:lnTo>
                  <a:lnTo>
                    <a:pt x="416" y="64"/>
                  </a:lnTo>
                  <a:lnTo>
                    <a:pt x="396" y="94"/>
                  </a:lnTo>
                  <a:lnTo>
                    <a:pt x="400" y="94"/>
                  </a:lnTo>
                  <a:lnTo>
                    <a:pt x="400" y="94"/>
                  </a:lnTo>
                  <a:lnTo>
                    <a:pt x="413" y="94"/>
                  </a:lnTo>
                  <a:lnTo>
                    <a:pt x="425" y="103"/>
                  </a:lnTo>
                  <a:lnTo>
                    <a:pt x="425" y="106"/>
                  </a:lnTo>
                  <a:lnTo>
                    <a:pt x="356" y="111"/>
                  </a:lnTo>
                  <a:lnTo>
                    <a:pt x="320" y="128"/>
                  </a:lnTo>
                  <a:lnTo>
                    <a:pt x="311" y="162"/>
                  </a:lnTo>
                  <a:lnTo>
                    <a:pt x="291" y="172"/>
                  </a:lnTo>
                  <a:lnTo>
                    <a:pt x="295" y="183"/>
                  </a:lnTo>
                  <a:lnTo>
                    <a:pt x="288" y="190"/>
                  </a:lnTo>
                  <a:lnTo>
                    <a:pt x="332" y="226"/>
                  </a:lnTo>
                  <a:lnTo>
                    <a:pt x="328" y="237"/>
                  </a:lnTo>
                  <a:lnTo>
                    <a:pt x="360" y="239"/>
                  </a:lnTo>
                  <a:lnTo>
                    <a:pt x="371" y="251"/>
                  </a:lnTo>
                  <a:lnTo>
                    <a:pt x="404" y="251"/>
                  </a:lnTo>
                  <a:lnTo>
                    <a:pt x="429" y="237"/>
                  </a:lnTo>
                  <a:lnTo>
                    <a:pt x="433" y="275"/>
                  </a:lnTo>
                  <a:lnTo>
                    <a:pt x="472" y="275"/>
                  </a:lnTo>
                  <a:lnTo>
                    <a:pt x="518" y="312"/>
                  </a:lnTo>
                  <a:lnTo>
                    <a:pt x="514" y="342"/>
                  </a:lnTo>
                  <a:lnTo>
                    <a:pt x="525" y="357"/>
                  </a:lnTo>
                  <a:lnTo>
                    <a:pt x="514" y="371"/>
                  </a:lnTo>
                  <a:lnTo>
                    <a:pt x="525" y="384"/>
                  </a:lnTo>
                  <a:lnTo>
                    <a:pt x="522" y="391"/>
                  </a:lnTo>
                  <a:lnTo>
                    <a:pt x="497" y="384"/>
                  </a:lnTo>
                  <a:lnTo>
                    <a:pt x="510" y="396"/>
                  </a:lnTo>
                  <a:lnTo>
                    <a:pt x="501" y="391"/>
                  </a:lnTo>
                  <a:lnTo>
                    <a:pt x="501" y="398"/>
                  </a:lnTo>
                  <a:lnTo>
                    <a:pt x="537" y="406"/>
                  </a:lnTo>
                  <a:lnTo>
                    <a:pt x="537" y="403"/>
                  </a:lnTo>
                  <a:lnTo>
                    <a:pt x="542" y="406"/>
                  </a:lnTo>
                  <a:lnTo>
                    <a:pt x="537" y="408"/>
                  </a:lnTo>
                  <a:lnTo>
                    <a:pt x="542" y="41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20960" y="1699920"/>
              <a:ext cx="48960" cy="20160"/>
            </a:xfrm>
            <a:custGeom>
              <a:avLst/>
              <a:gdLst/>
              <a:ahLst/>
              <a:rect l="l" t="t" r="r" b="b"/>
              <a:pathLst>
                <a:path w="138" h="58">
                  <a:moveTo>
                    <a:pt x="0" y="5"/>
                  </a:moveTo>
                  <a:lnTo>
                    <a:pt x="11" y="10"/>
                  </a:lnTo>
                  <a:lnTo>
                    <a:pt x="24" y="27"/>
                  </a:lnTo>
                  <a:lnTo>
                    <a:pt x="48" y="30"/>
                  </a:lnTo>
                  <a:lnTo>
                    <a:pt x="65" y="38"/>
                  </a:lnTo>
                  <a:lnTo>
                    <a:pt x="73" y="35"/>
                  </a:lnTo>
                  <a:lnTo>
                    <a:pt x="81" y="40"/>
                  </a:lnTo>
                  <a:lnTo>
                    <a:pt x="96" y="40"/>
                  </a:lnTo>
                  <a:lnTo>
                    <a:pt x="101" y="40"/>
                  </a:lnTo>
                  <a:lnTo>
                    <a:pt x="117" y="49"/>
                  </a:lnTo>
                  <a:lnTo>
                    <a:pt x="125" y="55"/>
                  </a:lnTo>
                  <a:lnTo>
                    <a:pt x="125" y="57"/>
                  </a:lnTo>
                  <a:lnTo>
                    <a:pt x="137" y="55"/>
                  </a:lnTo>
                  <a:lnTo>
                    <a:pt x="134" y="49"/>
                  </a:lnTo>
                  <a:lnTo>
                    <a:pt x="125" y="40"/>
                  </a:lnTo>
                  <a:lnTo>
                    <a:pt x="121" y="38"/>
                  </a:lnTo>
                  <a:lnTo>
                    <a:pt x="117" y="38"/>
                  </a:lnTo>
                  <a:lnTo>
                    <a:pt x="113" y="38"/>
                  </a:lnTo>
                  <a:lnTo>
                    <a:pt x="89" y="30"/>
                  </a:lnTo>
                  <a:lnTo>
                    <a:pt x="96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69" y="15"/>
                  </a:lnTo>
                  <a:lnTo>
                    <a:pt x="73" y="8"/>
                  </a:lnTo>
                  <a:lnTo>
                    <a:pt x="61" y="8"/>
                  </a:lnTo>
                  <a:lnTo>
                    <a:pt x="53" y="5"/>
                  </a:lnTo>
                  <a:lnTo>
                    <a:pt x="44" y="0"/>
                  </a:lnTo>
                  <a:lnTo>
                    <a:pt x="24" y="3"/>
                  </a:lnTo>
                  <a:lnTo>
                    <a:pt x="4" y="5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20960" y="1699920"/>
              <a:ext cx="48960" cy="20160"/>
            </a:xfrm>
            <a:custGeom>
              <a:avLst/>
              <a:gdLst/>
              <a:ahLst/>
              <a:rect l="l" t="t" r="r" b="b"/>
              <a:pathLst>
                <a:path w="138" h="58">
                  <a:moveTo>
                    <a:pt x="0" y="5"/>
                  </a:moveTo>
                  <a:lnTo>
                    <a:pt x="11" y="10"/>
                  </a:lnTo>
                  <a:lnTo>
                    <a:pt x="24" y="27"/>
                  </a:lnTo>
                  <a:lnTo>
                    <a:pt x="48" y="30"/>
                  </a:lnTo>
                  <a:lnTo>
                    <a:pt x="65" y="38"/>
                  </a:lnTo>
                  <a:lnTo>
                    <a:pt x="73" y="35"/>
                  </a:lnTo>
                  <a:lnTo>
                    <a:pt x="81" y="40"/>
                  </a:lnTo>
                  <a:lnTo>
                    <a:pt x="96" y="40"/>
                  </a:lnTo>
                  <a:lnTo>
                    <a:pt x="101" y="40"/>
                  </a:lnTo>
                  <a:lnTo>
                    <a:pt x="117" y="49"/>
                  </a:lnTo>
                  <a:lnTo>
                    <a:pt x="117" y="49"/>
                  </a:lnTo>
                  <a:lnTo>
                    <a:pt x="125" y="55"/>
                  </a:lnTo>
                  <a:lnTo>
                    <a:pt x="125" y="57"/>
                  </a:lnTo>
                  <a:lnTo>
                    <a:pt x="137" y="55"/>
                  </a:lnTo>
                  <a:lnTo>
                    <a:pt x="134" y="49"/>
                  </a:lnTo>
                  <a:lnTo>
                    <a:pt x="134" y="49"/>
                  </a:lnTo>
                  <a:lnTo>
                    <a:pt x="125" y="40"/>
                  </a:lnTo>
                  <a:lnTo>
                    <a:pt x="121" y="38"/>
                  </a:lnTo>
                  <a:lnTo>
                    <a:pt x="117" y="38"/>
                  </a:lnTo>
                  <a:lnTo>
                    <a:pt x="113" y="38"/>
                  </a:lnTo>
                  <a:lnTo>
                    <a:pt x="89" y="30"/>
                  </a:lnTo>
                  <a:lnTo>
                    <a:pt x="96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2" y="23"/>
                  </a:lnTo>
                  <a:lnTo>
                    <a:pt x="69" y="15"/>
                  </a:lnTo>
                  <a:lnTo>
                    <a:pt x="73" y="8"/>
                  </a:lnTo>
                  <a:lnTo>
                    <a:pt x="61" y="8"/>
                  </a:lnTo>
                  <a:lnTo>
                    <a:pt x="53" y="5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24" y="3"/>
                  </a:lnTo>
                  <a:lnTo>
                    <a:pt x="4" y="5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843280" y="1712160"/>
              <a:ext cx="21960" cy="7560"/>
            </a:xfrm>
            <a:custGeom>
              <a:avLst/>
              <a:gdLst/>
              <a:ahLst/>
              <a:rect l="l" t="t" r="r" b="b"/>
              <a:pathLst>
                <a:path w="61" h="21">
                  <a:moveTo>
                    <a:pt x="60" y="20"/>
                  </a:moveTo>
                  <a:lnTo>
                    <a:pt x="31" y="17"/>
                  </a:lnTo>
                  <a:lnTo>
                    <a:pt x="4" y="3"/>
                  </a:lnTo>
                  <a:lnTo>
                    <a:pt x="0" y="3"/>
                  </a:lnTo>
                  <a:lnTo>
                    <a:pt x="8" y="0"/>
                  </a:lnTo>
                  <a:lnTo>
                    <a:pt x="16" y="5"/>
                  </a:lnTo>
                  <a:lnTo>
                    <a:pt x="31" y="5"/>
                  </a:lnTo>
                  <a:lnTo>
                    <a:pt x="36" y="5"/>
                  </a:lnTo>
                  <a:lnTo>
                    <a:pt x="52" y="14"/>
                  </a:lnTo>
                  <a:lnTo>
                    <a:pt x="6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43280" y="1712160"/>
              <a:ext cx="21960" cy="7560"/>
            </a:xfrm>
            <a:custGeom>
              <a:avLst/>
              <a:gdLst/>
              <a:ahLst/>
              <a:rect l="l" t="t" r="r" b="b"/>
              <a:pathLst>
                <a:path w="61" h="21">
                  <a:moveTo>
                    <a:pt x="60" y="20"/>
                  </a:moveTo>
                  <a:lnTo>
                    <a:pt x="31" y="17"/>
                  </a:lnTo>
                  <a:lnTo>
                    <a:pt x="4" y="3"/>
                  </a:lnTo>
                  <a:lnTo>
                    <a:pt x="0" y="3"/>
                  </a:lnTo>
                  <a:lnTo>
                    <a:pt x="8" y="0"/>
                  </a:lnTo>
                  <a:lnTo>
                    <a:pt x="16" y="5"/>
                  </a:lnTo>
                  <a:lnTo>
                    <a:pt x="31" y="5"/>
                  </a:lnTo>
                  <a:lnTo>
                    <a:pt x="36" y="5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60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837160" y="1693440"/>
              <a:ext cx="69480" cy="29880"/>
            </a:xfrm>
            <a:custGeom>
              <a:avLst/>
              <a:gdLst/>
              <a:ahLst/>
              <a:rect l="l" t="t" r="r" b="b"/>
              <a:pathLst>
                <a:path w="192" h="82">
                  <a:moveTo>
                    <a:pt x="102" y="0"/>
                  </a:moveTo>
                  <a:lnTo>
                    <a:pt x="97" y="10"/>
                  </a:lnTo>
                  <a:lnTo>
                    <a:pt x="93" y="10"/>
                  </a:lnTo>
                  <a:lnTo>
                    <a:pt x="93" y="15"/>
                  </a:lnTo>
                  <a:lnTo>
                    <a:pt x="93" y="17"/>
                  </a:lnTo>
                  <a:lnTo>
                    <a:pt x="90" y="17"/>
                  </a:lnTo>
                  <a:lnTo>
                    <a:pt x="65" y="10"/>
                  </a:lnTo>
                  <a:lnTo>
                    <a:pt x="40" y="5"/>
                  </a:lnTo>
                  <a:lnTo>
                    <a:pt x="37" y="3"/>
                  </a:lnTo>
                  <a:lnTo>
                    <a:pt x="48" y="15"/>
                  </a:lnTo>
                  <a:lnTo>
                    <a:pt x="57" y="22"/>
                  </a:lnTo>
                  <a:lnTo>
                    <a:pt x="52" y="22"/>
                  </a:lnTo>
                  <a:lnTo>
                    <a:pt x="48" y="20"/>
                  </a:lnTo>
                  <a:lnTo>
                    <a:pt x="25" y="17"/>
                  </a:lnTo>
                  <a:lnTo>
                    <a:pt x="9" y="12"/>
                  </a:lnTo>
                  <a:lnTo>
                    <a:pt x="0" y="17"/>
                  </a:lnTo>
                  <a:lnTo>
                    <a:pt x="9" y="22"/>
                  </a:lnTo>
                  <a:lnTo>
                    <a:pt x="17" y="25"/>
                  </a:lnTo>
                  <a:lnTo>
                    <a:pt x="29" y="25"/>
                  </a:lnTo>
                  <a:lnTo>
                    <a:pt x="25" y="32"/>
                  </a:lnTo>
                  <a:lnTo>
                    <a:pt x="48" y="40"/>
                  </a:lnTo>
                  <a:lnTo>
                    <a:pt x="48" y="42"/>
                  </a:lnTo>
                  <a:lnTo>
                    <a:pt x="52" y="42"/>
                  </a:lnTo>
                  <a:lnTo>
                    <a:pt x="45" y="47"/>
                  </a:lnTo>
                  <a:lnTo>
                    <a:pt x="69" y="55"/>
                  </a:lnTo>
                  <a:lnTo>
                    <a:pt x="73" y="55"/>
                  </a:lnTo>
                  <a:lnTo>
                    <a:pt x="77" y="55"/>
                  </a:lnTo>
                  <a:lnTo>
                    <a:pt x="81" y="57"/>
                  </a:lnTo>
                  <a:lnTo>
                    <a:pt x="90" y="66"/>
                  </a:lnTo>
                  <a:lnTo>
                    <a:pt x="93" y="72"/>
                  </a:lnTo>
                  <a:lnTo>
                    <a:pt x="118" y="52"/>
                  </a:lnTo>
                  <a:lnTo>
                    <a:pt x="129" y="55"/>
                  </a:lnTo>
                  <a:lnTo>
                    <a:pt x="137" y="61"/>
                  </a:lnTo>
                  <a:lnTo>
                    <a:pt x="146" y="66"/>
                  </a:lnTo>
                  <a:lnTo>
                    <a:pt x="141" y="72"/>
                  </a:lnTo>
                  <a:lnTo>
                    <a:pt x="175" y="81"/>
                  </a:lnTo>
                  <a:lnTo>
                    <a:pt x="166" y="64"/>
                  </a:lnTo>
                  <a:lnTo>
                    <a:pt x="170" y="66"/>
                  </a:lnTo>
                  <a:lnTo>
                    <a:pt x="178" y="59"/>
                  </a:lnTo>
                  <a:lnTo>
                    <a:pt x="162" y="40"/>
                  </a:lnTo>
                  <a:lnTo>
                    <a:pt x="170" y="35"/>
                  </a:lnTo>
                  <a:lnTo>
                    <a:pt x="191" y="37"/>
                  </a:lnTo>
                  <a:lnTo>
                    <a:pt x="153" y="27"/>
                  </a:lnTo>
                  <a:lnTo>
                    <a:pt x="102" y="3"/>
                  </a:lnTo>
                  <a:lnTo>
                    <a:pt x="10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837160" y="1693440"/>
              <a:ext cx="69480" cy="29880"/>
            </a:xfrm>
            <a:custGeom>
              <a:avLst/>
              <a:gdLst/>
              <a:ahLst/>
              <a:rect l="l" t="t" r="r" b="b"/>
              <a:pathLst>
                <a:path w="192" h="82">
                  <a:moveTo>
                    <a:pt x="102" y="0"/>
                  </a:moveTo>
                  <a:lnTo>
                    <a:pt x="97" y="10"/>
                  </a:lnTo>
                  <a:lnTo>
                    <a:pt x="93" y="10"/>
                  </a:lnTo>
                  <a:lnTo>
                    <a:pt x="93" y="15"/>
                  </a:lnTo>
                  <a:lnTo>
                    <a:pt x="93" y="17"/>
                  </a:lnTo>
                  <a:lnTo>
                    <a:pt x="90" y="17"/>
                  </a:lnTo>
                  <a:lnTo>
                    <a:pt x="65" y="10"/>
                  </a:lnTo>
                  <a:lnTo>
                    <a:pt x="40" y="5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48" y="15"/>
                  </a:lnTo>
                  <a:lnTo>
                    <a:pt x="57" y="22"/>
                  </a:lnTo>
                  <a:lnTo>
                    <a:pt x="52" y="22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25" y="17"/>
                  </a:lnTo>
                  <a:lnTo>
                    <a:pt x="9" y="12"/>
                  </a:lnTo>
                  <a:lnTo>
                    <a:pt x="0" y="17"/>
                  </a:lnTo>
                  <a:lnTo>
                    <a:pt x="9" y="22"/>
                  </a:lnTo>
                  <a:lnTo>
                    <a:pt x="17" y="25"/>
                  </a:lnTo>
                  <a:lnTo>
                    <a:pt x="29" y="25"/>
                  </a:lnTo>
                  <a:lnTo>
                    <a:pt x="25" y="32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48" y="42"/>
                  </a:lnTo>
                  <a:lnTo>
                    <a:pt x="52" y="42"/>
                  </a:lnTo>
                  <a:lnTo>
                    <a:pt x="45" y="47"/>
                  </a:lnTo>
                  <a:lnTo>
                    <a:pt x="69" y="55"/>
                  </a:lnTo>
                  <a:lnTo>
                    <a:pt x="73" y="55"/>
                  </a:lnTo>
                  <a:lnTo>
                    <a:pt x="77" y="55"/>
                  </a:lnTo>
                  <a:lnTo>
                    <a:pt x="81" y="57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93" y="72"/>
                  </a:lnTo>
                  <a:lnTo>
                    <a:pt x="118" y="52"/>
                  </a:lnTo>
                  <a:lnTo>
                    <a:pt x="129" y="55"/>
                  </a:lnTo>
                  <a:lnTo>
                    <a:pt x="137" y="61"/>
                  </a:lnTo>
                  <a:lnTo>
                    <a:pt x="146" y="66"/>
                  </a:lnTo>
                  <a:lnTo>
                    <a:pt x="141" y="72"/>
                  </a:lnTo>
                  <a:lnTo>
                    <a:pt x="175" y="81"/>
                  </a:lnTo>
                  <a:lnTo>
                    <a:pt x="166" y="64"/>
                  </a:lnTo>
                  <a:lnTo>
                    <a:pt x="170" y="66"/>
                  </a:lnTo>
                  <a:lnTo>
                    <a:pt x="178" y="59"/>
                  </a:lnTo>
                  <a:lnTo>
                    <a:pt x="162" y="40"/>
                  </a:lnTo>
                  <a:lnTo>
                    <a:pt x="170" y="35"/>
                  </a:lnTo>
                  <a:lnTo>
                    <a:pt x="191" y="37"/>
                  </a:lnTo>
                  <a:lnTo>
                    <a:pt x="153" y="27"/>
                  </a:lnTo>
                  <a:lnTo>
                    <a:pt x="102" y="3"/>
                  </a:lnTo>
                  <a:lnTo>
                    <a:pt x="10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69120" y="1682280"/>
              <a:ext cx="87120" cy="18720"/>
            </a:xfrm>
            <a:custGeom>
              <a:avLst/>
              <a:gdLst/>
              <a:ahLst/>
              <a:rect l="l" t="t" r="r" b="b"/>
              <a:pathLst>
                <a:path w="244" h="55">
                  <a:moveTo>
                    <a:pt x="0" y="5"/>
                  </a:moveTo>
                  <a:lnTo>
                    <a:pt x="9" y="0"/>
                  </a:lnTo>
                  <a:lnTo>
                    <a:pt x="33" y="5"/>
                  </a:lnTo>
                  <a:lnTo>
                    <a:pt x="49" y="8"/>
                  </a:lnTo>
                  <a:lnTo>
                    <a:pt x="58" y="8"/>
                  </a:lnTo>
                  <a:lnTo>
                    <a:pt x="81" y="8"/>
                  </a:lnTo>
                  <a:lnTo>
                    <a:pt x="105" y="12"/>
                  </a:lnTo>
                  <a:lnTo>
                    <a:pt x="130" y="20"/>
                  </a:lnTo>
                  <a:lnTo>
                    <a:pt x="139" y="20"/>
                  </a:lnTo>
                  <a:lnTo>
                    <a:pt x="142" y="18"/>
                  </a:lnTo>
                  <a:lnTo>
                    <a:pt x="162" y="15"/>
                  </a:lnTo>
                  <a:lnTo>
                    <a:pt x="166" y="18"/>
                  </a:lnTo>
                  <a:lnTo>
                    <a:pt x="190" y="22"/>
                  </a:lnTo>
                  <a:lnTo>
                    <a:pt x="195" y="30"/>
                  </a:lnTo>
                  <a:lnTo>
                    <a:pt x="223" y="35"/>
                  </a:lnTo>
                  <a:lnTo>
                    <a:pt x="234" y="47"/>
                  </a:lnTo>
                  <a:lnTo>
                    <a:pt x="243" y="54"/>
                  </a:lnTo>
                  <a:lnTo>
                    <a:pt x="238" y="54"/>
                  </a:lnTo>
                  <a:lnTo>
                    <a:pt x="234" y="52"/>
                  </a:lnTo>
                  <a:lnTo>
                    <a:pt x="211" y="49"/>
                  </a:lnTo>
                  <a:lnTo>
                    <a:pt x="195" y="44"/>
                  </a:lnTo>
                  <a:lnTo>
                    <a:pt x="186" y="49"/>
                  </a:lnTo>
                  <a:lnTo>
                    <a:pt x="166" y="52"/>
                  </a:lnTo>
                  <a:lnTo>
                    <a:pt x="146" y="54"/>
                  </a:lnTo>
                  <a:lnTo>
                    <a:pt x="142" y="54"/>
                  </a:lnTo>
                  <a:lnTo>
                    <a:pt x="117" y="47"/>
                  </a:lnTo>
                  <a:lnTo>
                    <a:pt x="77" y="47"/>
                  </a:lnTo>
                  <a:lnTo>
                    <a:pt x="77" y="39"/>
                  </a:lnTo>
                  <a:lnTo>
                    <a:pt x="54" y="2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69120" y="1682280"/>
              <a:ext cx="87120" cy="18720"/>
            </a:xfrm>
            <a:custGeom>
              <a:avLst/>
              <a:gdLst/>
              <a:ahLst/>
              <a:rect l="l" t="t" r="r" b="b"/>
              <a:pathLst>
                <a:path w="244" h="55">
                  <a:moveTo>
                    <a:pt x="0" y="5"/>
                  </a:moveTo>
                  <a:lnTo>
                    <a:pt x="9" y="0"/>
                  </a:lnTo>
                  <a:lnTo>
                    <a:pt x="33" y="5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58" y="8"/>
                  </a:lnTo>
                  <a:lnTo>
                    <a:pt x="81" y="8"/>
                  </a:lnTo>
                  <a:lnTo>
                    <a:pt x="105" y="12"/>
                  </a:lnTo>
                  <a:lnTo>
                    <a:pt x="105" y="12"/>
                  </a:lnTo>
                  <a:lnTo>
                    <a:pt x="130" y="20"/>
                  </a:lnTo>
                  <a:lnTo>
                    <a:pt x="139" y="20"/>
                  </a:lnTo>
                  <a:lnTo>
                    <a:pt x="142" y="18"/>
                  </a:lnTo>
                  <a:lnTo>
                    <a:pt x="162" y="15"/>
                  </a:lnTo>
                  <a:lnTo>
                    <a:pt x="166" y="18"/>
                  </a:lnTo>
                  <a:lnTo>
                    <a:pt x="190" y="22"/>
                  </a:lnTo>
                  <a:lnTo>
                    <a:pt x="195" y="30"/>
                  </a:lnTo>
                  <a:lnTo>
                    <a:pt x="223" y="35"/>
                  </a:lnTo>
                  <a:lnTo>
                    <a:pt x="223" y="35"/>
                  </a:lnTo>
                  <a:lnTo>
                    <a:pt x="234" y="47"/>
                  </a:lnTo>
                  <a:lnTo>
                    <a:pt x="243" y="54"/>
                  </a:lnTo>
                  <a:lnTo>
                    <a:pt x="238" y="54"/>
                  </a:lnTo>
                  <a:lnTo>
                    <a:pt x="234" y="52"/>
                  </a:lnTo>
                  <a:lnTo>
                    <a:pt x="234" y="52"/>
                  </a:lnTo>
                  <a:lnTo>
                    <a:pt x="211" y="49"/>
                  </a:lnTo>
                  <a:lnTo>
                    <a:pt x="195" y="44"/>
                  </a:lnTo>
                  <a:lnTo>
                    <a:pt x="186" y="49"/>
                  </a:lnTo>
                  <a:lnTo>
                    <a:pt x="186" y="49"/>
                  </a:lnTo>
                  <a:lnTo>
                    <a:pt x="166" y="52"/>
                  </a:lnTo>
                  <a:lnTo>
                    <a:pt x="146" y="54"/>
                  </a:lnTo>
                  <a:lnTo>
                    <a:pt x="142" y="54"/>
                  </a:lnTo>
                  <a:lnTo>
                    <a:pt x="142" y="54"/>
                  </a:lnTo>
                  <a:lnTo>
                    <a:pt x="117" y="47"/>
                  </a:lnTo>
                  <a:lnTo>
                    <a:pt x="77" y="47"/>
                  </a:lnTo>
                  <a:lnTo>
                    <a:pt x="77" y="39"/>
                  </a:lnTo>
                  <a:lnTo>
                    <a:pt x="54" y="2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24760" y="1696680"/>
              <a:ext cx="34560" cy="17280"/>
            </a:xfrm>
            <a:custGeom>
              <a:avLst/>
              <a:gdLst/>
              <a:ahLst/>
              <a:rect l="l" t="t" r="r" b="b"/>
              <a:pathLst>
                <a:path w="95" h="48">
                  <a:moveTo>
                    <a:pt x="0" y="7"/>
                  </a:moveTo>
                  <a:lnTo>
                    <a:pt x="13" y="17"/>
                  </a:lnTo>
                  <a:lnTo>
                    <a:pt x="0" y="32"/>
                  </a:lnTo>
                  <a:lnTo>
                    <a:pt x="29" y="34"/>
                  </a:lnTo>
                  <a:lnTo>
                    <a:pt x="13" y="40"/>
                  </a:lnTo>
                  <a:lnTo>
                    <a:pt x="13" y="47"/>
                  </a:lnTo>
                  <a:lnTo>
                    <a:pt x="45" y="25"/>
                  </a:lnTo>
                  <a:lnTo>
                    <a:pt x="94" y="25"/>
                  </a:lnTo>
                  <a:lnTo>
                    <a:pt x="94" y="17"/>
                  </a:lnTo>
                  <a:lnTo>
                    <a:pt x="62" y="12"/>
                  </a:lnTo>
                  <a:lnTo>
                    <a:pt x="50" y="2"/>
                  </a:lnTo>
                  <a:lnTo>
                    <a:pt x="21" y="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24760" y="1696680"/>
              <a:ext cx="34560" cy="17280"/>
            </a:xfrm>
            <a:custGeom>
              <a:avLst/>
              <a:gdLst/>
              <a:ahLst/>
              <a:rect l="l" t="t" r="r" b="b"/>
              <a:pathLst>
                <a:path w="95" h="48">
                  <a:moveTo>
                    <a:pt x="0" y="7"/>
                  </a:moveTo>
                  <a:lnTo>
                    <a:pt x="13" y="17"/>
                  </a:lnTo>
                  <a:lnTo>
                    <a:pt x="0" y="32"/>
                  </a:lnTo>
                  <a:lnTo>
                    <a:pt x="29" y="34"/>
                  </a:lnTo>
                  <a:lnTo>
                    <a:pt x="13" y="40"/>
                  </a:lnTo>
                  <a:lnTo>
                    <a:pt x="13" y="47"/>
                  </a:lnTo>
                  <a:lnTo>
                    <a:pt x="45" y="25"/>
                  </a:lnTo>
                  <a:lnTo>
                    <a:pt x="94" y="25"/>
                  </a:lnTo>
                  <a:lnTo>
                    <a:pt x="94" y="17"/>
                  </a:lnTo>
                  <a:lnTo>
                    <a:pt x="62" y="12"/>
                  </a:lnTo>
                  <a:lnTo>
                    <a:pt x="50" y="2"/>
                  </a:lnTo>
                  <a:lnTo>
                    <a:pt x="21" y="0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72200" y="1680840"/>
              <a:ext cx="69480" cy="23400"/>
            </a:xfrm>
            <a:custGeom>
              <a:avLst/>
              <a:gdLst/>
              <a:ahLst/>
              <a:rect l="l" t="t" r="r" b="b"/>
              <a:pathLst>
                <a:path w="195" h="68">
                  <a:moveTo>
                    <a:pt x="16" y="42"/>
                  </a:moveTo>
                  <a:lnTo>
                    <a:pt x="32" y="49"/>
                  </a:lnTo>
                  <a:lnTo>
                    <a:pt x="40" y="64"/>
                  </a:lnTo>
                  <a:lnTo>
                    <a:pt x="88" y="59"/>
                  </a:lnTo>
                  <a:lnTo>
                    <a:pt x="117" y="67"/>
                  </a:lnTo>
                  <a:lnTo>
                    <a:pt x="137" y="64"/>
                  </a:lnTo>
                  <a:lnTo>
                    <a:pt x="144" y="62"/>
                  </a:lnTo>
                  <a:lnTo>
                    <a:pt x="144" y="54"/>
                  </a:lnTo>
                  <a:lnTo>
                    <a:pt x="165" y="47"/>
                  </a:lnTo>
                  <a:lnTo>
                    <a:pt x="194" y="49"/>
                  </a:lnTo>
                  <a:lnTo>
                    <a:pt x="173" y="37"/>
                  </a:lnTo>
                  <a:lnTo>
                    <a:pt x="177" y="20"/>
                  </a:lnTo>
                  <a:lnTo>
                    <a:pt x="194" y="17"/>
                  </a:lnTo>
                  <a:lnTo>
                    <a:pt x="194" y="7"/>
                  </a:lnTo>
                  <a:lnTo>
                    <a:pt x="149" y="0"/>
                  </a:lnTo>
                  <a:lnTo>
                    <a:pt x="141" y="0"/>
                  </a:lnTo>
                  <a:lnTo>
                    <a:pt x="105" y="10"/>
                  </a:lnTo>
                  <a:lnTo>
                    <a:pt x="61" y="13"/>
                  </a:lnTo>
                  <a:lnTo>
                    <a:pt x="16" y="7"/>
                  </a:lnTo>
                  <a:lnTo>
                    <a:pt x="20" y="2"/>
                  </a:lnTo>
                  <a:lnTo>
                    <a:pt x="7" y="0"/>
                  </a:lnTo>
                  <a:lnTo>
                    <a:pt x="0" y="10"/>
                  </a:lnTo>
                  <a:lnTo>
                    <a:pt x="28" y="23"/>
                  </a:lnTo>
                  <a:lnTo>
                    <a:pt x="12" y="33"/>
                  </a:lnTo>
                  <a:lnTo>
                    <a:pt x="16" y="4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72200" y="1680840"/>
              <a:ext cx="69480" cy="23400"/>
            </a:xfrm>
            <a:custGeom>
              <a:avLst/>
              <a:gdLst/>
              <a:ahLst/>
              <a:rect l="l" t="t" r="r" b="b"/>
              <a:pathLst>
                <a:path w="195" h="68">
                  <a:moveTo>
                    <a:pt x="16" y="42"/>
                  </a:moveTo>
                  <a:lnTo>
                    <a:pt x="32" y="49"/>
                  </a:lnTo>
                  <a:lnTo>
                    <a:pt x="40" y="64"/>
                  </a:lnTo>
                  <a:lnTo>
                    <a:pt x="88" y="59"/>
                  </a:lnTo>
                  <a:lnTo>
                    <a:pt x="117" y="67"/>
                  </a:lnTo>
                  <a:lnTo>
                    <a:pt x="137" y="64"/>
                  </a:lnTo>
                  <a:lnTo>
                    <a:pt x="144" y="62"/>
                  </a:lnTo>
                  <a:lnTo>
                    <a:pt x="144" y="54"/>
                  </a:lnTo>
                  <a:lnTo>
                    <a:pt x="165" y="47"/>
                  </a:lnTo>
                  <a:lnTo>
                    <a:pt x="194" y="49"/>
                  </a:lnTo>
                  <a:lnTo>
                    <a:pt x="173" y="37"/>
                  </a:lnTo>
                  <a:lnTo>
                    <a:pt x="177" y="20"/>
                  </a:lnTo>
                  <a:lnTo>
                    <a:pt x="194" y="17"/>
                  </a:lnTo>
                  <a:lnTo>
                    <a:pt x="194" y="7"/>
                  </a:lnTo>
                  <a:lnTo>
                    <a:pt x="149" y="0"/>
                  </a:lnTo>
                  <a:lnTo>
                    <a:pt x="141" y="0"/>
                  </a:lnTo>
                  <a:lnTo>
                    <a:pt x="105" y="10"/>
                  </a:lnTo>
                  <a:lnTo>
                    <a:pt x="61" y="13"/>
                  </a:lnTo>
                  <a:lnTo>
                    <a:pt x="16" y="7"/>
                  </a:lnTo>
                  <a:lnTo>
                    <a:pt x="20" y="2"/>
                  </a:lnTo>
                  <a:lnTo>
                    <a:pt x="7" y="0"/>
                  </a:lnTo>
                  <a:lnTo>
                    <a:pt x="0" y="10"/>
                  </a:lnTo>
                  <a:lnTo>
                    <a:pt x="28" y="23"/>
                  </a:lnTo>
                  <a:lnTo>
                    <a:pt x="12" y="33"/>
                  </a:lnTo>
                  <a:lnTo>
                    <a:pt x="16" y="4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45200" y="1695240"/>
              <a:ext cx="21960" cy="2340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37" y="63"/>
                  </a:moveTo>
                  <a:lnTo>
                    <a:pt x="58" y="54"/>
                  </a:lnTo>
                  <a:lnTo>
                    <a:pt x="62" y="37"/>
                  </a:lnTo>
                  <a:lnTo>
                    <a:pt x="42" y="29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3" y="19"/>
                  </a:lnTo>
                  <a:lnTo>
                    <a:pt x="9" y="47"/>
                  </a:lnTo>
                  <a:lnTo>
                    <a:pt x="37" y="6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45200" y="1695240"/>
              <a:ext cx="21960" cy="2340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37" y="63"/>
                  </a:moveTo>
                  <a:lnTo>
                    <a:pt x="58" y="54"/>
                  </a:lnTo>
                  <a:lnTo>
                    <a:pt x="62" y="37"/>
                  </a:lnTo>
                  <a:lnTo>
                    <a:pt x="42" y="29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3" y="19"/>
                  </a:lnTo>
                  <a:lnTo>
                    <a:pt x="9" y="47"/>
                  </a:lnTo>
                  <a:lnTo>
                    <a:pt x="37" y="6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14960" y="1692000"/>
              <a:ext cx="17280" cy="4320"/>
            </a:xfrm>
            <a:custGeom>
              <a:avLst/>
              <a:gdLst/>
              <a:ahLst/>
              <a:rect l="l" t="t" r="r" b="b"/>
              <a:pathLst>
                <a:path w="50" h="13">
                  <a:moveTo>
                    <a:pt x="20" y="3"/>
                  </a:moveTo>
                  <a:lnTo>
                    <a:pt x="20" y="0"/>
                  </a:lnTo>
                  <a:lnTo>
                    <a:pt x="25" y="3"/>
                  </a:lnTo>
                  <a:lnTo>
                    <a:pt x="44" y="7"/>
                  </a:lnTo>
                  <a:lnTo>
                    <a:pt x="49" y="10"/>
                  </a:lnTo>
                  <a:lnTo>
                    <a:pt x="49" y="12"/>
                  </a:lnTo>
                  <a:lnTo>
                    <a:pt x="0" y="0"/>
                  </a:lnTo>
                  <a:lnTo>
                    <a:pt x="25" y="3"/>
                  </a:lnTo>
                  <a:lnTo>
                    <a:pt x="2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14960" y="1692000"/>
              <a:ext cx="17280" cy="4320"/>
            </a:xfrm>
            <a:custGeom>
              <a:avLst/>
              <a:gdLst/>
              <a:ahLst/>
              <a:rect l="l" t="t" r="r" b="b"/>
              <a:pathLst>
                <a:path w="50" h="13">
                  <a:moveTo>
                    <a:pt x="20" y="3"/>
                  </a:moveTo>
                  <a:lnTo>
                    <a:pt x="20" y="3"/>
                  </a:lnTo>
                  <a:lnTo>
                    <a:pt x="20" y="0"/>
                  </a:lnTo>
                  <a:lnTo>
                    <a:pt x="25" y="3"/>
                  </a:lnTo>
                  <a:lnTo>
                    <a:pt x="44" y="7"/>
                  </a:lnTo>
                  <a:lnTo>
                    <a:pt x="49" y="10"/>
                  </a:lnTo>
                  <a:lnTo>
                    <a:pt x="49" y="10"/>
                  </a:lnTo>
                  <a:lnTo>
                    <a:pt x="49" y="12"/>
                  </a:lnTo>
                  <a:lnTo>
                    <a:pt x="0" y="0"/>
                  </a:lnTo>
                  <a:lnTo>
                    <a:pt x="25" y="3"/>
                  </a:lnTo>
                  <a:lnTo>
                    <a:pt x="20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24600" y="1658520"/>
              <a:ext cx="1080" cy="14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2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24600" y="1658520"/>
              <a:ext cx="1080" cy="14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2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362680" y="1474560"/>
              <a:ext cx="147240" cy="97920"/>
            </a:xfrm>
            <a:custGeom>
              <a:avLst/>
              <a:gdLst/>
              <a:ahLst/>
              <a:rect l="l" t="t" r="r" b="b"/>
              <a:pathLst>
                <a:path w="412" h="275">
                  <a:moveTo>
                    <a:pt x="161" y="254"/>
                  </a:moveTo>
                  <a:lnTo>
                    <a:pt x="141" y="249"/>
                  </a:lnTo>
                  <a:lnTo>
                    <a:pt x="132" y="234"/>
                  </a:lnTo>
                  <a:lnTo>
                    <a:pt x="132" y="244"/>
                  </a:lnTo>
                  <a:lnTo>
                    <a:pt x="132" y="254"/>
                  </a:lnTo>
                  <a:lnTo>
                    <a:pt x="116" y="251"/>
                  </a:lnTo>
                  <a:lnTo>
                    <a:pt x="89" y="274"/>
                  </a:lnTo>
                  <a:lnTo>
                    <a:pt x="47" y="274"/>
                  </a:lnTo>
                  <a:lnTo>
                    <a:pt x="56" y="271"/>
                  </a:lnTo>
                  <a:lnTo>
                    <a:pt x="19" y="258"/>
                  </a:lnTo>
                  <a:lnTo>
                    <a:pt x="19" y="254"/>
                  </a:lnTo>
                  <a:lnTo>
                    <a:pt x="36" y="258"/>
                  </a:lnTo>
                  <a:lnTo>
                    <a:pt x="47" y="254"/>
                  </a:lnTo>
                  <a:lnTo>
                    <a:pt x="31" y="256"/>
                  </a:lnTo>
                  <a:lnTo>
                    <a:pt x="28" y="254"/>
                  </a:lnTo>
                  <a:lnTo>
                    <a:pt x="31" y="246"/>
                  </a:lnTo>
                  <a:lnTo>
                    <a:pt x="44" y="241"/>
                  </a:lnTo>
                  <a:lnTo>
                    <a:pt x="28" y="246"/>
                  </a:lnTo>
                  <a:lnTo>
                    <a:pt x="19" y="249"/>
                  </a:lnTo>
                  <a:lnTo>
                    <a:pt x="11" y="244"/>
                  </a:lnTo>
                  <a:lnTo>
                    <a:pt x="15" y="244"/>
                  </a:lnTo>
                  <a:lnTo>
                    <a:pt x="36" y="236"/>
                  </a:lnTo>
                  <a:lnTo>
                    <a:pt x="19" y="236"/>
                  </a:lnTo>
                  <a:lnTo>
                    <a:pt x="36" y="227"/>
                  </a:lnTo>
                  <a:lnTo>
                    <a:pt x="40" y="232"/>
                  </a:lnTo>
                  <a:lnTo>
                    <a:pt x="52" y="222"/>
                  </a:lnTo>
                  <a:lnTo>
                    <a:pt x="31" y="224"/>
                  </a:lnTo>
                  <a:lnTo>
                    <a:pt x="24" y="234"/>
                  </a:lnTo>
                  <a:lnTo>
                    <a:pt x="19" y="227"/>
                  </a:lnTo>
                  <a:lnTo>
                    <a:pt x="15" y="232"/>
                  </a:lnTo>
                  <a:lnTo>
                    <a:pt x="8" y="227"/>
                  </a:lnTo>
                  <a:lnTo>
                    <a:pt x="19" y="219"/>
                  </a:lnTo>
                  <a:lnTo>
                    <a:pt x="8" y="219"/>
                  </a:lnTo>
                  <a:lnTo>
                    <a:pt x="4" y="217"/>
                  </a:lnTo>
                  <a:lnTo>
                    <a:pt x="11" y="219"/>
                  </a:lnTo>
                  <a:lnTo>
                    <a:pt x="15" y="214"/>
                  </a:lnTo>
                  <a:lnTo>
                    <a:pt x="4" y="217"/>
                  </a:lnTo>
                  <a:lnTo>
                    <a:pt x="4" y="212"/>
                  </a:lnTo>
                  <a:lnTo>
                    <a:pt x="40" y="209"/>
                  </a:lnTo>
                  <a:lnTo>
                    <a:pt x="52" y="214"/>
                  </a:lnTo>
                  <a:lnTo>
                    <a:pt x="47" y="209"/>
                  </a:lnTo>
                  <a:lnTo>
                    <a:pt x="60" y="207"/>
                  </a:lnTo>
                  <a:lnTo>
                    <a:pt x="52" y="207"/>
                  </a:lnTo>
                  <a:lnTo>
                    <a:pt x="56" y="202"/>
                  </a:lnTo>
                  <a:lnTo>
                    <a:pt x="52" y="209"/>
                  </a:lnTo>
                  <a:lnTo>
                    <a:pt x="36" y="207"/>
                  </a:lnTo>
                  <a:lnTo>
                    <a:pt x="40" y="205"/>
                  </a:lnTo>
                  <a:lnTo>
                    <a:pt x="36" y="209"/>
                  </a:lnTo>
                  <a:lnTo>
                    <a:pt x="8" y="209"/>
                  </a:lnTo>
                  <a:lnTo>
                    <a:pt x="0" y="207"/>
                  </a:lnTo>
                  <a:lnTo>
                    <a:pt x="15" y="205"/>
                  </a:lnTo>
                  <a:lnTo>
                    <a:pt x="0" y="205"/>
                  </a:lnTo>
                  <a:lnTo>
                    <a:pt x="19" y="202"/>
                  </a:lnTo>
                  <a:lnTo>
                    <a:pt x="0" y="197"/>
                  </a:lnTo>
                  <a:lnTo>
                    <a:pt x="40" y="195"/>
                  </a:lnTo>
                  <a:lnTo>
                    <a:pt x="4" y="195"/>
                  </a:lnTo>
                  <a:lnTo>
                    <a:pt x="0" y="187"/>
                  </a:lnTo>
                  <a:lnTo>
                    <a:pt x="28" y="189"/>
                  </a:lnTo>
                  <a:lnTo>
                    <a:pt x="19" y="187"/>
                  </a:lnTo>
                  <a:lnTo>
                    <a:pt x="28" y="185"/>
                  </a:lnTo>
                  <a:lnTo>
                    <a:pt x="31" y="189"/>
                  </a:lnTo>
                  <a:lnTo>
                    <a:pt x="36" y="183"/>
                  </a:lnTo>
                  <a:lnTo>
                    <a:pt x="47" y="189"/>
                  </a:lnTo>
                  <a:lnTo>
                    <a:pt x="52" y="185"/>
                  </a:lnTo>
                  <a:lnTo>
                    <a:pt x="36" y="183"/>
                  </a:lnTo>
                  <a:lnTo>
                    <a:pt x="24" y="180"/>
                  </a:lnTo>
                  <a:lnTo>
                    <a:pt x="64" y="178"/>
                  </a:lnTo>
                  <a:lnTo>
                    <a:pt x="40" y="178"/>
                  </a:lnTo>
                  <a:lnTo>
                    <a:pt x="36" y="173"/>
                  </a:lnTo>
                  <a:lnTo>
                    <a:pt x="60" y="170"/>
                  </a:lnTo>
                  <a:lnTo>
                    <a:pt x="72" y="178"/>
                  </a:lnTo>
                  <a:lnTo>
                    <a:pt x="56" y="170"/>
                  </a:lnTo>
                  <a:lnTo>
                    <a:pt x="76" y="175"/>
                  </a:lnTo>
                  <a:lnTo>
                    <a:pt x="64" y="168"/>
                  </a:lnTo>
                  <a:lnTo>
                    <a:pt x="81" y="165"/>
                  </a:lnTo>
                  <a:lnTo>
                    <a:pt x="72" y="162"/>
                  </a:lnTo>
                  <a:lnTo>
                    <a:pt x="81" y="165"/>
                  </a:lnTo>
                  <a:lnTo>
                    <a:pt x="93" y="158"/>
                  </a:lnTo>
                  <a:lnTo>
                    <a:pt x="108" y="165"/>
                  </a:lnTo>
                  <a:lnTo>
                    <a:pt x="100" y="160"/>
                  </a:lnTo>
                  <a:lnTo>
                    <a:pt x="116" y="160"/>
                  </a:lnTo>
                  <a:lnTo>
                    <a:pt x="129" y="153"/>
                  </a:lnTo>
                  <a:lnTo>
                    <a:pt x="120" y="148"/>
                  </a:lnTo>
                  <a:lnTo>
                    <a:pt x="108" y="153"/>
                  </a:lnTo>
                  <a:lnTo>
                    <a:pt x="116" y="155"/>
                  </a:lnTo>
                  <a:lnTo>
                    <a:pt x="100" y="160"/>
                  </a:lnTo>
                  <a:lnTo>
                    <a:pt x="100" y="155"/>
                  </a:lnTo>
                  <a:lnTo>
                    <a:pt x="89" y="155"/>
                  </a:lnTo>
                  <a:lnTo>
                    <a:pt x="104" y="141"/>
                  </a:lnTo>
                  <a:lnTo>
                    <a:pt x="112" y="138"/>
                  </a:lnTo>
                  <a:lnTo>
                    <a:pt x="129" y="141"/>
                  </a:lnTo>
                  <a:lnTo>
                    <a:pt x="120" y="136"/>
                  </a:lnTo>
                  <a:lnTo>
                    <a:pt x="137" y="131"/>
                  </a:lnTo>
                  <a:lnTo>
                    <a:pt x="125" y="131"/>
                  </a:lnTo>
                  <a:lnTo>
                    <a:pt x="116" y="131"/>
                  </a:lnTo>
                  <a:lnTo>
                    <a:pt x="145" y="124"/>
                  </a:lnTo>
                  <a:lnTo>
                    <a:pt x="132" y="124"/>
                  </a:lnTo>
                  <a:lnTo>
                    <a:pt x="137" y="111"/>
                  </a:lnTo>
                  <a:lnTo>
                    <a:pt x="145" y="111"/>
                  </a:lnTo>
                  <a:lnTo>
                    <a:pt x="132" y="106"/>
                  </a:lnTo>
                  <a:lnTo>
                    <a:pt x="161" y="101"/>
                  </a:lnTo>
                  <a:lnTo>
                    <a:pt x="141" y="104"/>
                  </a:lnTo>
                  <a:lnTo>
                    <a:pt x="149" y="101"/>
                  </a:lnTo>
                  <a:lnTo>
                    <a:pt x="137" y="96"/>
                  </a:lnTo>
                  <a:lnTo>
                    <a:pt x="149" y="96"/>
                  </a:lnTo>
                  <a:lnTo>
                    <a:pt x="141" y="93"/>
                  </a:lnTo>
                  <a:lnTo>
                    <a:pt x="153" y="91"/>
                  </a:lnTo>
                  <a:lnTo>
                    <a:pt x="145" y="89"/>
                  </a:lnTo>
                  <a:lnTo>
                    <a:pt x="157" y="84"/>
                  </a:lnTo>
                  <a:lnTo>
                    <a:pt x="181" y="84"/>
                  </a:lnTo>
                  <a:lnTo>
                    <a:pt x="157" y="82"/>
                  </a:lnTo>
                  <a:lnTo>
                    <a:pt x="165" y="77"/>
                  </a:lnTo>
                  <a:lnTo>
                    <a:pt x="181" y="82"/>
                  </a:lnTo>
                  <a:lnTo>
                    <a:pt x="181" y="77"/>
                  </a:lnTo>
                  <a:lnTo>
                    <a:pt x="170" y="74"/>
                  </a:lnTo>
                  <a:lnTo>
                    <a:pt x="173" y="72"/>
                  </a:lnTo>
                  <a:lnTo>
                    <a:pt x="157" y="72"/>
                  </a:lnTo>
                  <a:lnTo>
                    <a:pt x="177" y="70"/>
                  </a:lnTo>
                  <a:lnTo>
                    <a:pt x="165" y="67"/>
                  </a:lnTo>
                  <a:lnTo>
                    <a:pt x="173" y="62"/>
                  </a:lnTo>
                  <a:lnTo>
                    <a:pt x="189" y="72"/>
                  </a:lnTo>
                  <a:lnTo>
                    <a:pt x="177" y="62"/>
                  </a:lnTo>
                  <a:lnTo>
                    <a:pt x="189" y="64"/>
                  </a:lnTo>
                  <a:lnTo>
                    <a:pt x="177" y="59"/>
                  </a:lnTo>
                  <a:lnTo>
                    <a:pt x="201" y="62"/>
                  </a:lnTo>
                  <a:lnTo>
                    <a:pt x="197" y="59"/>
                  </a:lnTo>
                  <a:lnTo>
                    <a:pt x="205" y="59"/>
                  </a:lnTo>
                  <a:lnTo>
                    <a:pt x="181" y="57"/>
                  </a:lnTo>
                  <a:lnTo>
                    <a:pt x="201" y="54"/>
                  </a:lnTo>
                  <a:lnTo>
                    <a:pt x="193" y="52"/>
                  </a:lnTo>
                  <a:lnTo>
                    <a:pt x="201" y="52"/>
                  </a:lnTo>
                  <a:lnTo>
                    <a:pt x="201" y="40"/>
                  </a:lnTo>
                  <a:lnTo>
                    <a:pt x="201" y="37"/>
                  </a:lnTo>
                  <a:lnTo>
                    <a:pt x="213" y="40"/>
                  </a:lnTo>
                  <a:lnTo>
                    <a:pt x="210" y="35"/>
                  </a:lnTo>
                  <a:lnTo>
                    <a:pt x="226" y="42"/>
                  </a:lnTo>
                  <a:lnTo>
                    <a:pt x="210" y="35"/>
                  </a:lnTo>
                  <a:lnTo>
                    <a:pt x="221" y="30"/>
                  </a:lnTo>
                  <a:lnTo>
                    <a:pt x="221" y="37"/>
                  </a:lnTo>
                  <a:lnTo>
                    <a:pt x="226" y="27"/>
                  </a:lnTo>
                  <a:lnTo>
                    <a:pt x="233" y="40"/>
                  </a:lnTo>
                  <a:lnTo>
                    <a:pt x="246" y="35"/>
                  </a:lnTo>
                  <a:lnTo>
                    <a:pt x="238" y="27"/>
                  </a:lnTo>
                  <a:lnTo>
                    <a:pt x="246" y="25"/>
                  </a:lnTo>
                  <a:lnTo>
                    <a:pt x="262" y="30"/>
                  </a:lnTo>
                  <a:lnTo>
                    <a:pt x="253" y="23"/>
                  </a:lnTo>
                  <a:lnTo>
                    <a:pt x="238" y="23"/>
                  </a:lnTo>
                  <a:lnTo>
                    <a:pt x="250" y="17"/>
                  </a:lnTo>
                  <a:lnTo>
                    <a:pt x="266" y="20"/>
                  </a:lnTo>
                  <a:lnTo>
                    <a:pt x="269" y="23"/>
                  </a:lnTo>
                  <a:lnTo>
                    <a:pt x="278" y="25"/>
                  </a:lnTo>
                  <a:lnTo>
                    <a:pt x="274" y="17"/>
                  </a:lnTo>
                  <a:lnTo>
                    <a:pt x="290" y="13"/>
                  </a:lnTo>
                  <a:lnTo>
                    <a:pt x="278" y="8"/>
                  </a:lnTo>
                  <a:lnTo>
                    <a:pt x="286" y="5"/>
                  </a:lnTo>
                  <a:lnTo>
                    <a:pt x="294" y="5"/>
                  </a:lnTo>
                  <a:lnTo>
                    <a:pt x="303" y="5"/>
                  </a:lnTo>
                  <a:lnTo>
                    <a:pt x="298" y="15"/>
                  </a:lnTo>
                  <a:lnTo>
                    <a:pt x="306" y="23"/>
                  </a:lnTo>
                  <a:lnTo>
                    <a:pt x="314" y="5"/>
                  </a:lnTo>
                  <a:lnTo>
                    <a:pt x="314" y="10"/>
                  </a:lnTo>
                  <a:lnTo>
                    <a:pt x="330" y="13"/>
                  </a:lnTo>
                  <a:lnTo>
                    <a:pt x="327" y="0"/>
                  </a:lnTo>
                  <a:lnTo>
                    <a:pt x="342" y="3"/>
                  </a:lnTo>
                  <a:lnTo>
                    <a:pt x="334" y="10"/>
                  </a:lnTo>
                  <a:lnTo>
                    <a:pt x="342" y="8"/>
                  </a:lnTo>
                  <a:lnTo>
                    <a:pt x="350" y="23"/>
                  </a:lnTo>
                  <a:lnTo>
                    <a:pt x="354" y="5"/>
                  </a:lnTo>
                  <a:lnTo>
                    <a:pt x="371" y="8"/>
                  </a:lnTo>
                  <a:lnTo>
                    <a:pt x="399" y="15"/>
                  </a:lnTo>
                  <a:lnTo>
                    <a:pt x="363" y="20"/>
                  </a:lnTo>
                  <a:lnTo>
                    <a:pt x="395" y="25"/>
                  </a:lnTo>
                  <a:lnTo>
                    <a:pt x="404" y="25"/>
                  </a:lnTo>
                  <a:lnTo>
                    <a:pt x="411" y="30"/>
                  </a:lnTo>
                  <a:lnTo>
                    <a:pt x="392" y="42"/>
                  </a:lnTo>
                  <a:lnTo>
                    <a:pt x="379" y="27"/>
                  </a:lnTo>
                  <a:lnTo>
                    <a:pt x="350" y="20"/>
                  </a:lnTo>
                  <a:lnTo>
                    <a:pt x="327" y="30"/>
                  </a:lnTo>
                  <a:lnTo>
                    <a:pt x="334" y="45"/>
                  </a:lnTo>
                  <a:lnTo>
                    <a:pt x="327" y="52"/>
                  </a:lnTo>
                  <a:lnTo>
                    <a:pt x="282" y="49"/>
                  </a:lnTo>
                  <a:lnTo>
                    <a:pt x="253" y="40"/>
                  </a:lnTo>
                  <a:lnTo>
                    <a:pt x="246" y="45"/>
                  </a:lnTo>
                  <a:lnTo>
                    <a:pt x="246" y="59"/>
                  </a:lnTo>
                  <a:lnTo>
                    <a:pt x="213" y="54"/>
                  </a:lnTo>
                  <a:lnTo>
                    <a:pt x="210" y="59"/>
                  </a:lnTo>
                  <a:lnTo>
                    <a:pt x="213" y="67"/>
                  </a:lnTo>
                  <a:lnTo>
                    <a:pt x="193" y="70"/>
                  </a:lnTo>
                  <a:lnTo>
                    <a:pt x="185" y="101"/>
                  </a:lnTo>
                  <a:lnTo>
                    <a:pt x="170" y="104"/>
                  </a:lnTo>
                  <a:lnTo>
                    <a:pt x="177" y="121"/>
                  </a:lnTo>
                  <a:lnTo>
                    <a:pt x="165" y="136"/>
                  </a:lnTo>
                  <a:lnTo>
                    <a:pt x="181" y="145"/>
                  </a:lnTo>
                  <a:lnTo>
                    <a:pt x="157" y="148"/>
                  </a:lnTo>
                  <a:lnTo>
                    <a:pt x="145" y="158"/>
                  </a:lnTo>
                  <a:lnTo>
                    <a:pt x="149" y="178"/>
                  </a:lnTo>
                  <a:lnTo>
                    <a:pt x="157" y="197"/>
                  </a:lnTo>
                  <a:lnTo>
                    <a:pt x="165" y="199"/>
                  </a:lnTo>
                  <a:lnTo>
                    <a:pt x="177" y="205"/>
                  </a:lnTo>
                  <a:lnTo>
                    <a:pt x="165" y="212"/>
                  </a:lnTo>
                  <a:lnTo>
                    <a:pt x="177" y="232"/>
                  </a:lnTo>
                  <a:lnTo>
                    <a:pt x="165" y="236"/>
                  </a:lnTo>
                  <a:lnTo>
                    <a:pt x="161" y="25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680" y="1474560"/>
              <a:ext cx="147240" cy="97920"/>
            </a:xfrm>
            <a:custGeom>
              <a:avLst/>
              <a:gdLst/>
              <a:ahLst/>
              <a:rect l="l" t="t" r="r" b="b"/>
              <a:pathLst>
                <a:path w="412" h="275">
                  <a:moveTo>
                    <a:pt x="161" y="254"/>
                  </a:moveTo>
                  <a:lnTo>
                    <a:pt x="141" y="249"/>
                  </a:lnTo>
                  <a:lnTo>
                    <a:pt x="132" y="234"/>
                  </a:lnTo>
                  <a:lnTo>
                    <a:pt x="132" y="244"/>
                  </a:lnTo>
                  <a:lnTo>
                    <a:pt x="132" y="254"/>
                  </a:lnTo>
                  <a:lnTo>
                    <a:pt x="116" y="251"/>
                  </a:lnTo>
                  <a:lnTo>
                    <a:pt x="89" y="274"/>
                  </a:lnTo>
                  <a:lnTo>
                    <a:pt x="47" y="274"/>
                  </a:lnTo>
                  <a:lnTo>
                    <a:pt x="56" y="271"/>
                  </a:lnTo>
                  <a:lnTo>
                    <a:pt x="19" y="258"/>
                  </a:lnTo>
                  <a:lnTo>
                    <a:pt x="19" y="254"/>
                  </a:lnTo>
                  <a:lnTo>
                    <a:pt x="36" y="258"/>
                  </a:lnTo>
                  <a:lnTo>
                    <a:pt x="47" y="254"/>
                  </a:lnTo>
                  <a:lnTo>
                    <a:pt x="31" y="256"/>
                  </a:lnTo>
                  <a:lnTo>
                    <a:pt x="28" y="254"/>
                  </a:lnTo>
                  <a:lnTo>
                    <a:pt x="31" y="246"/>
                  </a:lnTo>
                  <a:lnTo>
                    <a:pt x="44" y="241"/>
                  </a:lnTo>
                  <a:lnTo>
                    <a:pt x="28" y="246"/>
                  </a:lnTo>
                  <a:lnTo>
                    <a:pt x="19" y="249"/>
                  </a:lnTo>
                  <a:lnTo>
                    <a:pt x="11" y="244"/>
                  </a:lnTo>
                  <a:lnTo>
                    <a:pt x="15" y="244"/>
                  </a:lnTo>
                  <a:lnTo>
                    <a:pt x="36" y="236"/>
                  </a:lnTo>
                  <a:lnTo>
                    <a:pt x="19" y="236"/>
                  </a:lnTo>
                  <a:lnTo>
                    <a:pt x="36" y="227"/>
                  </a:lnTo>
                  <a:lnTo>
                    <a:pt x="40" y="232"/>
                  </a:lnTo>
                  <a:lnTo>
                    <a:pt x="52" y="222"/>
                  </a:lnTo>
                  <a:lnTo>
                    <a:pt x="31" y="224"/>
                  </a:lnTo>
                  <a:lnTo>
                    <a:pt x="24" y="234"/>
                  </a:lnTo>
                  <a:lnTo>
                    <a:pt x="19" y="227"/>
                  </a:lnTo>
                  <a:lnTo>
                    <a:pt x="15" y="232"/>
                  </a:lnTo>
                  <a:lnTo>
                    <a:pt x="8" y="227"/>
                  </a:lnTo>
                  <a:lnTo>
                    <a:pt x="19" y="219"/>
                  </a:lnTo>
                  <a:lnTo>
                    <a:pt x="8" y="219"/>
                  </a:lnTo>
                  <a:lnTo>
                    <a:pt x="4" y="217"/>
                  </a:lnTo>
                  <a:lnTo>
                    <a:pt x="11" y="219"/>
                  </a:lnTo>
                  <a:lnTo>
                    <a:pt x="15" y="214"/>
                  </a:lnTo>
                  <a:lnTo>
                    <a:pt x="4" y="217"/>
                  </a:lnTo>
                  <a:lnTo>
                    <a:pt x="4" y="212"/>
                  </a:lnTo>
                  <a:lnTo>
                    <a:pt x="40" y="209"/>
                  </a:lnTo>
                  <a:lnTo>
                    <a:pt x="52" y="214"/>
                  </a:lnTo>
                  <a:lnTo>
                    <a:pt x="47" y="209"/>
                  </a:lnTo>
                  <a:lnTo>
                    <a:pt x="60" y="207"/>
                  </a:lnTo>
                  <a:lnTo>
                    <a:pt x="52" y="207"/>
                  </a:lnTo>
                  <a:lnTo>
                    <a:pt x="56" y="202"/>
                  </a:lnTo>
                  <a:lnTo>
                    <a:pt x="52" y="209"/>
                  </a:lnTo>
                  <a:lnTo>
                    <a:pt x="36" y="207"/>
                  </a:lnTo>
                  <a:lnTo>
                    <a:pt x="40" y="205"/>
                  </a:lnTo>
                  <a:lnTo>
                    <a:pt x="36" y="209"/>
                  </a:lnTo>
                  <a:lnTo>
                    <a:pt x="8" y="209"/>
                  </a:lnTo>
                  <a:lnTo>
                    <a:pt x="0" y="207"/>
                  </a:lnTo>
                  <a:lnTo>
                    <a:pt x="15" y="205"/>
                  </a:lnTo>
                  <a:lnTo>
                    <a:pt x="0" y="205"/>
                  </a:lnTo>
                  <a:lnTo>
                    <a:pt x="19" y="202"/>
                  </a:lnTo>
                  <a:lnTo>
                    <a:pt x="0" y="197"/>
                  </a:lnTo>
                  <a:lnTo>
                    <a:pt x="40" y="195"/>
                  </a:lnTo>
                  <a:lnTo>
                    <a:pt x="4" y="195"/>
                  </a:lnTo>
                  <a:lnTo>
                    <a:pt x="0" y="187"/>
                  </a:lnTo>
                  <a:lnTo>
                    <a:pt x="28" y="189"/>
                  </a:lnTo>
                  <a:lnTo>
                    <a:pt x="19" y="187"/>
                  </a:lnTo>
                  <a:lnTo>
                    <a:pt x="28" y="185"/>
                  </a:lnTo>
                  <a:lnTo>
                    <a:pt x="31" y="189"/>
                  </a:lnTo>
                  <a:lnTo>
                    <a:pt x="36" y="183"/>
                  </a:lnTo>
                  <a:lnTo>
                    <a:pt x="47" y="189"/>
                  </a:lnTo>
                  <a:lnTo>
                    <a:pt x="52" y="185"/>
                  </a:lnTo>
                  <a:lnTo>
                    <a:pt x="36" y="183"/>
                  </a:lnTo>
                  <a:lnTo>
                    <a:pt x="24" y="180"/>
                  </a:lnTo>
                  <a:lnTo>
                    <a:pt x="64" y="178"/>
                  </a:lnTo>
                  <a:lnTo>
                    <a:pt x="40" y="178"/>
                  </a:lnTo>
                  <a:lnTo>
                    <a:pt x="36" y="173"/>
                  </a:lnTo>
                  <a:lnTo>
                    <a:pt x="60" y="170"/>
                  </a:lnTo>
                  <a:lnTo>
                    <a:pt x="72" y="178"/>
                  </a:lnTo>
                  <a:lnTo>
                    <a:pt x="56" y="170"/>
                  </a:lnTo>
                  <a:lnTo>
                    <a:pt x="76" y="175"/>
                  </a:lnTo>
                  <a:lnTo>
                    <a:pt x="64" y="168"/>
                  </a:lnTo>
                  <a:lnTo>
                    <a:pt x="81" y="165"/>
                  </a:lnTo>
                  <a:lnTo>
                    <a:pt x="72" y="162"/>
                  </a:lnTo>
                  <a:lnTo>
                    <a:pt x="81" y="165"/>
                  </a:lnTo>
                  <a:lnTo>
                    <a:pt x="93" y="158"/>
                  </a:lnTo>
                  <a:lnTo>
                    <a:pt x="108" y="165"/>
                  </a:lnTo>
                  <a:lnTo>
                    <a:pt x="100" y="160"/>
                  </a:lnTo>
                  <a:lnTo>
                    <a:pt x="116" y="160"/>
                  </a:lnTo>
                  <a:lnTo>
                    <a:pt x="129" y="153"/>
                  </a:lnTo>
                  <a:lnTo>
                    <a:pt x="120" y="148"/>
                  </a:lnTo>
                  <a:lnTo>
                    <a:pt x="108" y="153"/>
                  </a:lnTo>
                  <a:lnTo>
                    <a:pt x="116" y="155"/>
                  </a:lnTo>
                  <a:lnTo>
                    <a:pt x="100" y="160"/>
                  </a:lnTo>
                  <a:lnTo>
                    <a:pt x="100" y="155"/>
                  </a:lnTo>
                  <a:lnTo>
                    <a:pt x="89" y="155"/>
                  </a:lnTo>
                  <a:lnTo>
                    <a:pt x="104" y="141"/>
                  </a:lnTo>
                  <a:lnTo>
                    <a:pt x="112" y="138"/>
                  </a:lnTo>
                  <a:lnTo>
                    <a:pt x="129" y="141"/>
                  </a:lnTo>
                  <a:lnTo>
                    <a:pt x="120" y="136"/>
                  </a:lnTo>
                  <a:lnTo>
                    <a:pt x="137" y="131"/>
                  </a:lnTo>
                  <a:lnTo>
                    <a:pt x="125" y="131"/>
                  </a:lnTo>
                  <a:lnTo>
                    <a:pt x="116" y="131"/>
                  </a:lnTo>
                  <a:lnTo>
                    <a:pt x="145" y="124"/>
                  </a:lnTo>
                  <a:lnTo>
                    <a:pt x="132" y="124"/>
                  </a:lnTo>
                  <a:lnTo>
                    <a:pt x="137" y="111"/>
                  </a:lnTo>
                  <a:lnTo>
                    <a:pt x="145" y="111"/>
                  </a:lnTo>
                  <a:lnTo>
                    <a:pt x="132" y="106"/>
                  </a:lnTo>
                  <a:lnTo>
                    <a:pt x="161" y="101"/>
                  </a:lnTo>
                  <a:lnTo>
                    <a:pt x="141" y="104"/>
                  </a:lnTo>
                  <a:lnTo>
                    <a:pt x="149" y="101"/>
                  </a:lnTo>
                  <a:lnTo>
                    <a:pt x="137" y="96"/>
                  </a:lnTo>
                  <a:lnTo>
                    <a:pt x="149" y="96"/>
                  </a:lnTo>
                  <a:lnTo>
                    <a:pt x="141" y="93"/>
                  </a:lnTo>
                  <a:lnTo>
                    <a:pt x="153" y="91"/>
                  </a:lnTo>
                  <a:lnTo>
                    <a:pt x="145" y="89"/>
                  </a:lnTo>
                  <a:lnTo>
                    <a:pt x="157" y="84"/>
                  </a:lnTo>
                  <a:lnTo>
                    <a:pt x="181" y="84"/>
                  </a:lnTo>
                  <a:lnTo>
                    <a:pt x="157" y="82"/>
                  </a:lnTo>
                  <a:lnTo>
                    <a:pt x="165" y="77"/>
                  </a:lnTo>
                  <a:lnTo>
                    <a:pt x="181" y="82"/>
                  </a:lnTo>
                  <a:lnTo>
                    <a:pt x="181" y="77"/>
                  </a:lnTo>
                  <a:lnTo>
                    <a:pt x="170" y="74"/>
                  </a:lnTo>
                  <a:lnTo>
                    <a:pt x="173" y="72"/>
                  </a:lnTo>
                  <a:lnTo>
                    <a:pt x="157" y="72"/>
                  </a:lnTo>
                  <a:lnTo>
                    <a:pt x="177" y="70"/>
                  </a:lnTo>
                  <a:lnTo>
                    <a:pt x="165" y="67"/>
                  </a:lnTo>
                  <a:lnTo>
                    <a:pt x="173" y="62"/>
                  </a:lnTo>
                  <a:lnTo>
                    <a:pt x="189" y="72"/>
                  </a:lnTo>
                  <a:lnTo>
                    <a:pt x="177" y="62"/>
                  </a:lnTo>
                  <a:lnTo>
                    <a:pt x="189" y="64"/>
                  </a:lnTo>
                  <a:lnTo>
                    <a:pt x="177" y="59"/>
                  </a:lnTo>
                  <a:lnTo>
                    <a:pt x="201" y="62"/>
                  </a:lnTo>
                  <a:lnTo>
                    <a:pt x="197" y="59"/>
                  </a:lnTo>
                  <a:lnTo>
                    <a:pt x="205" y="59"/>
                  </a:lnTo>
                  <a:lnTo>
                    <a:pt x="181" y="57"/>
                  </a:lnTo>
                  <a:lnTo>
                    <a:pt x="201" y="54"/>
                  </a:lnTo>
                  <a:lnTo>
                    <a:pt x="193" y="52"/>
                  </a:lnTo>
                  <a:lnTo>
                    <a:pt x="201" y="52"/>
                  </a:lnTo>
                  <a:lnTo>
                    <a:pt x="201" y="40"/>
                  </a:lnTo>
                  <a:lnTo>
                    <a:pt x="201" y="37"/>
                  </a:lnTo>
                  <a:lnTo>
                    <a:pt x="213" y="40"/>
                  </a:lnTo>
                  <a:lnTo>
                    <a:pt x="210" y="35"/>
                  </a:lnTo>
                  <a:lnTo>
                    <a:pt x="226" y="42"/>
                  </a:lnTo>
                  <a:lnTo>
                    <a:pt x="210" y="35"/>
                  </a:lnTo>
                  <a:lnTo>
                    <a:pt x="221" y="30"/>
                  </a:lnTo>
                  <a:lnTo>
                    <a:pt x="221" y="37"/>
                  </a:lnTo>
                  <a:lnTo>
                    <a:pt x="226" y="27"/>
                  </a:lnTo>
                  <a:lnTo>
                    <a:pt x="233" y="40"/>
                  </a:lnTo>
                  <a:lnTo>
                    <a:pt x="246" y="35"/>
                  </a:lnTo>
                  <a:lnTo>
                    <a:pt x="238" y="27"/>
                  </a:lnTo>
                  <a:lnTo>
                    <a:pt x="246" y="25"/>
                  </a:lnTo>
                  <a:lnTo>
                    <a:pt x="262" y="30"/>
                  </a:lnTo>
                  <a:lnTo>
                    <a:pt x="253" y="23"/>
                  </a:lnTo>
                  <a:lnTo>
                    <a:pt x="238" y="23"/>
                  </a:lnTo>
                  <a:lnTo>
                    <a:pt x="250" y="17"/>
                  </a:lnTo>
                  <a:lnTo>
                    <a:pt x="266" y="20"/>
                  </a:lnTo>
                  <a:lnTo>
                    <a:pt x="269" y="23"/>
                  </a:lnTo>
                  <a:lnTo>
                    <a:pt x="278" y="25"/>
                  </a:lnTo>
                  <a:lnTo>
                    <a:pt x="274" y="17"/>
                  </a:lnTo>
                  <a:lnTo>
                    <a:pt x="290" y="13"/>
                  </a:lnTo>
                  <a:lnTo>
                    <a:pt x="278" y="8"/>
                  </a:lnTo>
                  <a:lnTo>
                    <a:pt x="286" y="5"/>
                  </a:lnTo>
                  <a:lnTo>
                    <a:pt x="294" y="5"/>
                  </a:lnTo>
                  <a:lnTo>
                    <a:pt x="303" y="5"/>
                  </a:lnTo>
                  <a:lnTo>
                    <a:pt x="298" y="15"/>
                  </a:lnTo>
                  <a:lnTo>
                    <a:pt x="306" y="23"/>
                  </a:lnTo>
                  <a:lnTo>
                    <a:pt x="314" y="5"/>
                  </a:lnTo>
                  <a:lnTo>
                    <a:pt x="314" y="10"/>
                  </a:lnTo>
                  <a:lnTo>
                    <a:pt x="330" y="13"/>
                  </a:lnTo>
                  <a:lnTo>
                    <a:pt x="327" y="0"/>
                  </a:lnTo>
                  <a:lnTo>
                    <a:pt x="342" y="3"/>
                  </a:lnTo>
                  <a:lnTo>
                    <a:pt x="334" y="10"/>
                  </a:lnTo>
                  <a:lnTo>
                    <a:pt x="342" y="8"/>
                  </a:lnTo>
                  <a:lnTo>
                    <a:pt x="350" y="23"/>
                  </a:lnTo>
                  <a:lnTo>
                    <a:pt x="354" y="5"/>
                  </a:lnTo>
                  <a:lnTo>
                    <a:pt x="371" y="8"/>
                  </a:lnTo>
                  <a:lnTo>
                    <a:pt x="399" y="15"/>
                  </a:lnTo>
                  <a:lnTo>
                    <a:pt x="363" y="20"/>
                  </a:lnTo>
                  <a:lnTo>
                    <a:pt x="395" y="25"/>
                  </a:lnTo>
                  <a:lnTo>
                    <a:pt x="404" y="25"/>
                  </a:lnTo>
                  <a:lnTo>
                    <a:pt x="411" y="30"/>
                  </a:lnTo>
                  <a:lnTo>
                    <a:pt x="392" y="42"/>
                  </a:lnTo>
                  <a:lnTo>
                    <a:pt x="379" y="27"/>
                  </a:lnTo>
                  <a:lnTo>
                    <a:pt x="350" y="20"/>
                  </a:lnTo>
                  <a:lnTo>
                    <a:pt x="327" y="30"/>
                  </a:lnTo>
                  <a:lnTo>
                    <a:pt x="334" y="45"/>
                  </a:lnTo>
                  <a:lnTo>
                    <a:pt x="327" y="52"/>
                  </a:lnTo>
                  <a:lnTo>
                    <a:pt x="282" y="49"/>
                  </a:lnTo>
                  <a:lnTo>
                    <a:pt x="253" y="40"/>
                  </a:lnTo>
                  <a:lnTo>
                    <a:pt x="246" y="45"/>
                  </a:lnTo>
                  <a:lnTo>
                    <a:pt x="246" y="59"/>
                  </a:lnTo>
                  <a:lnTo>
                    <a:pt x="213" y="54"/>
                  </a:lnTo>
                  <a:lnTo>
                    <a:pt x="210" y="59"/>
                  </a:lnTo>
                  <a:lnTo>
                    <a:pt x="213" y="67"/>
                  </a:lnTo>
                  <a:lnTo>
                    <a:pt x="193" y="70"/>
                  </a:lnTo>
                  <a:lnTo>
                    <a:pt x="185" y="101"/>
                  </a:lnTo>
                  <a:lnTo>
                    <a:pt x="170" y="104"/>
                  </a:lnTo>
                  <a:lnTo>
                    <a:pt x="177" y="121"/>
                  </a:lnTo>
                  <a:lnTo>
                    <a:pt x="165" y="136"/>
                  </a:lnTo>
                  <a:lnTo>
                    <a:pt x="181" y="145"/>
                  </a:lnTo>
                  <a:lnTo>
                    <a:pt x="157" y="148"/>
                  </a:lnTo>
                  <a:lnTo>
                    <a:pt x="145" y="158"/>
                  </a:lnTo>
                  <a:lnTo>
                    <a:pt x="149" y="178"/>
                  </a:lnTo>
                  <a:lnTo>
                    <a:pt x="157" y="197"/>
                  </a:lnTo>
                  <a:lnTo>
                    <a:pt x="165" y="199"/>
                  </a:lnTo>
                  <a:lnTo>
                    <a:pt x="177" y="205"/>
                  </a:lnTo>
                  <a:lnTo>
                    <a:pt x="165" y="212"/>
                  </a:lnTo>
                  <a:lnTo>
                    <a:pt x="177" y="232"/>
                  </a:lnTo>
                  <a:lnTo>
                    <a:pt x="165" y="236"/>
                  </a:lnTo>
                  <a:lnTo>
                    <a:pt x="161" y="25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48560" y="1877400"/>
              <a:ext cx="50400" cy="216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5" y="47"/>
                  </a:moveTo>
                  <a:lnTo>
                    <a:pt x="13" y="59"/>
                  </a:lnTo>
                  <a:lnTo>
                    <a:pt x="33" y="42"/>
                  </a:lnTo>
                  <a:lnTo>
                    <a:pt x="50" y="39"/>
                  </a:lnTo>
                  <a:lnTo>
                    <a:pt x="54" y="44"/>
                  </a:lnTo>
                  <a:lnTo>
                    <a:pt x="77" y="37"/>
                  </a:lnTo>
                  <a:lnTo>
                    <a:pt x="118" y="44"/>
                  </a:lnTo>
                  <a:lnTo>
                    <a:pt x="139" y="34"/>
                  </a:lnTo>
                  <a:lnTo>
                    <a:pt x="126" y="25"/>
                  </a:lnTo>
                  <a:lnTo>
                    <a:pt x="94" y="22"/>
                  </a:lnTo>
                  <a:lnTo>
                    <a:pt x="114" y="17"/>
                  </a:lnTo>
                  <a:lnTo>
                    <a:pt x="94" y="17"/>
                  </a:lnTo>
                  <a:lnTo>
                    <a:pt x="89" y="8"/>
                  </a:lnTo>
                  <a:lnTo>
                    <a:pt x="58" y="0"/>
                  </a:lnTo>
                  <a:lnTo>
                    <a:pt x="25" y="5"/>
                  </a:lnTo>
                  <a:lnTo>
                    <a:pt x="21" y="20"/>
                  </a:lnTo>
                  <a:lnTo>
                    <a:pt x="13" y="29"/>
                  </a:lnTo>
                  <a:lnTo>
                    <a:pt x="0" y="34"/>
                  </a:lnTo>
                  <a:lnTo>
                    <a:pt x="9" y="39"/>
                  </a:lnTo>
                  <a:lnTo>
                    <a:pt x="5" y="4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348560" y="1877400"/>
              <a:ext cx="50400" cy="216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5" y="47"/>
                  </a:moveTo>
                  <a:lnTo>
                    <a:pt x="13" y="59"/>
                  </a:lnTo>
                  <a:lnTo>
                    <a:pt x="33" y="42"/>
                  </a:lnTo>
                  <a:lnTo>
                    <a:pt x="50" y="39"/>
                  </a:lnTo>
                  <a:lnTo>
                    <a:pt x="54" y="44"/>
                  </a:lnTo>
                  <a:lnTo>
                    <a:pt x="77" y="37"/>
                  </a:lnTo>
                  <a:lnTo>
                    <a:pt x="118" y="44"/>
                  </a:lnTo>
                  <a:lnTo>
                    <a:pt x="139" y="34"/>
                  </a:lnTo>
                  <a:lnTo>
                    <a:pt x="126" y="25"/>
                  </a:lnTo>
                  <a:lnTo>
                    <a:pt x="94" y="22"/>
                  </a:lnTo>
                  <a:lnTo>
                    <a:pt x="114" y="17"/>
                  </a:lnTo>
                  <a:lnTo>
                    <a:pt x="94" y="17"/>
                  </a:lnTo>
                  <a:lnTo>
                    <a:pt x="89" y="8"/>
                  </a:lnTo>
                  <a:lnTo>
                    <a:pt x="58" y="0"/>
                  </a:lnTo>
                  <a:lnTo>
                    <a:pt x="25" y="5"/>
                  </a:lnTo>
                  <a:lnTo>
                    <a:pt x="21" y="20"/>
                  </a:lnTo>
                  <a:lnTo>
                    <a:pt x="13" y="29"/>
                  </a:lnTo>
                  <a:lnTo>
                    <a:pt x="0" y="34"/>
                  </a:lnTo>
                  <a:lnTo>
                    <a:pt x="9" y="39"/>
                  </a:lnTo>
                  <a:lnTo>
                    <a:pt x="5" y="4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59960" y="2516760"/>
              <a:ext cx="43920" cy="1872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121" y="51"/>
                  </a:moveTo>
                  <a:lnTo>
                    <a:pt x="80" y="49"/>
                  </a:lnTo>
                  <a:lnTo>
                    <a:pt x="69" y="54"/>
                  </a:lnTo>
                  <a:lnTo>
                    <a:pt x="69" y="49"/>
                  </a:lnTo>
                  <a:lnTo>
                    <a:pt x="44" y="51"/>
                  </a:lnTo>
                  <a:lnTo>
                    <a:pt x="28" y="49"/>
                  </a:lnTo>
                  <a:lnTo>
                    <a:pt x="48" y="47"/>
                  </a:lnTo>
                  <a:lnTo>
                    <a:pt x="48" y="42"/>
                  </a:lnTo>
                  <a:lnTo>
                    <a:pt x="60" y="49"/>
                  </a:lnTo>
                  <a:lnTo>
                    <a:pt x="56" y="44"/>
                  </a:lnTo>
                  <a:lnTo>
                    <a:pt x="69" y="47"/>
                  </a:lnTo>
                  <a:lnTo>
                    <a:pt x="36" y="39"/>
                  </a:lnTo>
                  <a:lnTo>
                    <a:pt x="69" y="44"/>
                  </a:lnTo>
                  <a:lnTo>
                    <a:pt x="65" y="39"/>
                  </a:lnTo>
                  <a:lnTo>
                    <a:pt x="80" y="47"/>
                  </a:lnTo>
                  <a:lnTo>
                    <a:pt x="69" y="42"/>
                  </a:lnTo>
                  <a:lnTo>
                    <a:pt x="80" y="42"/>
                  </a:lnTo>
                  <a:lnTo>
                    <a:pt x="96" y="49"/>
                  </a:lnTo>
                  <a:lnTo>
                    <a:pt x="96" y="44"/>
                  </a:lnTo>
                  <a:lnTo>
                    <a:pt x="56" y="36"/>
                  </a:lnTo>
                  <a:lnTo>
                    <a:pt x="44" y="29"/>
                  </a:lnTo>
                  <a:lnTo>
                    <a:pt x="48" y="20"/>
                  </a:lnTo>
                  <a:lnTo>
                    <a:pt x="20" y="22"/>
                  </a:lnTo>
                  <a:lnTo>
                    <a:pt x="16" y="12"/>
                  </a:lnTo>
                  <a:lnTo>
                    <a:pt x="0" y="10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40" y="5"/>
                  </a:lnTo>
                  <a:lnTo>
                    <a:pt x="60" y="15"/>
                  </a:lnTo>
                  <a:lnTo>
                    <a:pt x="84" y="29"/>
                  </a:lnTo>
                  <a:lnTo>
                    <a:pt x="101" y="42"/>
                  </a:lnTo>
                  <a:lnTo>
                    <a:pt x="121" y="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659960" y="2516760"/>
              <a:ext cx="43920" cy="1872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121" y="51"/>
                  </a:moveTo>
                  <a:lnTo>
                    <a:pt x="80" y="49"/>
                  </a:lnTo>
                  <a:lnTo>
                    <a:pt x="69" y="54"/>
                  </a:lnTo>
                  <a:lnTo>
                    <a:pt x="69" y="49"/>
                  </a:lnTo>
                  <a:lnTo>
                    <a:pt x="44" y="51"/>
                  </a:lnTo>
                  <a:lnTo>
                    <a:pt x="28" y="49"/>
                  </a:lnTo>
                  <a:lnTo>
                    <a:pt x="48" y="47"/>
                  </a:lnTo>
                  <a:lnTo>
                    <a:pt x="48" y="42"/>
                  </a:lnTo>
                  <a:lnTo>
                    <a:pt x="60" y="49"/>
                  </a:lnTo>
                  <a:lnTo>
                    <a:pt x="56" y="44"/>
                  </a:lnTo>
                  <a:lnTo>
                    <a:pt x="69" y="47"/>
                  </a:lnTo>
                  <a:lnTo>
                    <a:pt x="36" y="39"/>
                  </a:lnTo>
                  <a:lnTo>
                    <a:pt x="69" y="44"/>
                  </a:lnTo>
                  <a:lnTo>
                    <a:pt x="65" y="39"/>
                  </a:lnTo>
                  <a:lnTo>
                    <a:pt x="80" y="47"/>
                  </a:lnTo>
                  <a:lnTo>
                    <a:pt x="69" y="42"/>
                  </a:lnTo>
                  <a:lnTo>
                    <a:pt x="80" y="42"/>
                  </a:lnTo>
                  <a:lnTo>
                    <a:pt x="96" y="49"/>
                  </a:lnTo>
                  <a:lnTo>
                    <a:pt x="96" y="44"/>
                  </a:lnTo>
                  <a:lnTo>
                    <a:pt x="56" y="36"/>
                  </a:lnTo>
                  <a:lnTo>
                    <a:pt x="44" y="29"/>
                  </a:lnTo>
                  <a:lnTo>
                    <a:pt x="48" y="20"/>
                  </a:lnTo>
                  <a:lnTo>
                    <a:pt x="20" y="22"/>
                  </a:lnTo>
                  <a:lnTo>
                    <a:pt x="16" y="12"/>
                  </a:lnTo>
                  <a:lnTo>
                    <a:pt x="0" y="10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40" y="5"/>
                  </a:lnTo>
                  <a:lnTo>
                    <a:pt x="60" y="15"/>
                  </a:lnTo>
                  <a:lnTo>
                    <a:pt x="84" y="29"/>
                  </a:lnTo>
                  <a:lnTo>
                    <a:pt x="101" y="42"/>
                  </a:lnTo>
                  <a:lnTo>
                    <a:pt x="121" y="5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24880" y="2254680"/>
              <a:ext cx="248760" cy="259920"/>
            </a:xfrm>
            <a:custGeom>
              <a:avLst/>
              <a:gdLst/>
              <a:ahLst/>
              <a:rect l="l" t="t" r="r" b="b"/>
              <a:pathLst>
                <a:path w="691" h="724">
                  <a:moveTo>
                    <a:pt x="690" y="723"/>
                  </a:moveTo>
                  <a:lnTo>
                    <a:pt x="638" y="716"/>
                  </a:lnTo>
                  <a:lnTo>
                    <a:pt x="589" y="718"/>
                  </a:lnTo>
                  <a:lnTo>
                    <a:pt x="561" y="711"/>
                  </a:lnTo>
                  <a:lnTo>
                    <a:pt x="533" y="691"/>
                  </a:lnTo>
                  <a:lnTo>
                    <a:pt x="516" y="694"/>
                  </a:lnTo>
                  <a:lnTo>
                    <a:pt x="464" y="667"/>
                  </a:lnTo>
                  <a:lnTo>
                    <a:pt x="464" y="650"/>
                  </a:lnTo>
                  <a:lnTo>
                    <a:pt x="423" y="620"/>
                  </a:lnTo>
                  <a:lnTo>
                    <a:pt x="420" y="601"/>
                  </a:lnTo>
                  <a:lnTo>
                    <a:pt x="415" y="598"/>
                  </a:lnTo>
                  <a:lnTo>
                    <a:pt x="408" y="593"/>
                  </a:lnTo>
                  <a:lnTo>
                    <a:pt x="400" y="583"/>
                  </a:lnTo>
                  <a:lnTo>
                    <a:pt x="384" y="578"/>
                  </a:lnTo>
                  <a:lnTo>
                    <a:pt x="387" y="568"/>
                  </a:lnTo>
                  <a:lnTo>
                    <a:pt x="346" y="559"/>
                  </a:lnTo>
                  <a:lnTo>
                    <a:pt x="371" y="556"/>
                  </a:lnTo>
                  <a:lnTo>
                    <a:pt x="367" y="552"/>
                  </a:lnTo>
                  <a:lnTo>
                    <a:pt x="342" y="549"/>
                  </a:lnTo>
                  <a:lnTo>
                    <a:pt x="334" y="536"/>
                  </a:lnTo>
                  <a:lnTo>
                    <a:pt x="311" y="521"/>
                  </a:lnTo>
                  <a:lnTo>
                    <a:pt x="294" y="517"/>
                  </a:lnTo>
                  <a:lnTo>
                    <a:pt x="274" y="499"/>
                  </a:lnTo>
                  <a:lnTo>
                    <a:pt x="278" y="495"/>
                  </a:lnTo>
                  <a:lnTo>
                    <a:pt x="234" y="463"/>
                  </a:lnTo>
                  <a:lnTo>
                    <a:pt x="210" y="436"/>
                  </a:lnTo>
                  <a:lnTo>
                    <a:pt x="201" y="421"/>
                  </a:lnTo>
                  <a:lnTo>
                    <a:pt x="214" y="411"/>
                  </a:lnTo>
                  <a:lnTo>
                    <a:pt x="157" y="372"/>
                  </a:lnTo>
                  <a:lnTo>
                    <a:pt x="166" y="352"/>
                  </a:lnTo>
                  <a:lnTo>
                    <a:pt x="137" y="332"/>
                  </a:lnTo>
                  <a:lnTo>
                    <a:pt x="141" y="308"/>
                  </a:lnTo>
                  <a:lnTo>
                    <a:pt x="121" y="286"/>
                  </a:lnTo>
                  <a:lnTo>
                    <a:pt x="109" y="283"/>
                  </a:lnTo>
                  <a:lnTo>
                    <a:pt x="52" y="239"/>
                  </a:lnTo>
                  <a:lnTo>
                    <a:pt x="52" y="210"/>
                  </a:lnTo>
                  <a:lnTo>
                    <a:pt x="27" y="190"/>
                  </a:lnTo>
                  <a:lnTo>
                    <a:pt x="27" y="165"/>
                  </a:lnTo>
                  <a:lnTo>
                    <a:pt x="32" y="133"/>
                  </a:lnTo>
                  <a:lnTo>
                    <a:pt x="49" y="133"/>
                  </a:lnTo>
                  <a:lnTo>
                    <a:pt x="27" y="119"/>
                  </a:lnTo>
                  <a:lnTo>
                    <a:pt x="27" y="111"/>
                  </a:lnTo>
                  <a:lnTo>
                    <a:pt x="12" y="94"/>
                  </a:lnTo>
                  <a:lnTo>
                    <a:pt x="16" y="84"/>
                  </a:lnTo>
                  <a:lnTo>
                    <a:pt x="0" y="77"/>
                  </a:lnTo>
                  <a:lnTo>
                    <a:pt x="32" y="57"/>
                  </a:lnTo>
                  <a:lnTo>
                    <a:pt x="32" y="32"/>
                  </a:lnTo>
                  <a:lnTo>
                    <a:pt x="20" y="28"/>
                  </a:lnTo>
                  <a:lnTo>
                    <a:pt x="27" y="13"/>
                  </a:lnTo>
                  <a:lnTo>
                    <a:pt x="40" y="0"/>
                  </a:lnTo>
                  <a:lnTo>
                    <a:pt x="65" y="8"/>
                  </a:lnTo>
                  <a:lnTo>
                    <a:pt x="104" y="10"/>
                  </a:lnTo>
                  <a:lnTo>
                    <a:pt x="125" y="25"/>
                  </a:lnTo>
                  <a:lnTo>
                    <a:pt x="125" y="5"/>
                  </a:lnTo>
                  <a:lnTo>
                    <a:pt x="166" y="3"/>
                  </a:lnTo>
                  <a:lnTo>
                    <a:pt x="177" y="10"/>
                  </a:lnTo>
                  <a:lnTo>
                    <a:pt x="254" y="47"/>
                  </a:lnTo>
                  <a:lnTo>
                    <a:pt x="294" y="52"/>
                  </a:lnTo>
                  <a:lnTo>
                    <a:pt x="311" y="57"/>
                  </a:lnTo>
                  <a:lnTo>
                    <a:pt x="391" y="80"/>
                  </a:lnTo>
                  <a:lnTo>
                    <a:pt x="396" y="81"/>
                  </a:lnTo>
                  <a:lnTo>
                    <a:pt x="404" y="87"/>
                  </a:lnTo>
                  <a:lnTo>
                    <a:pt x="391" y="104"/>
                  </a:lnTo>
                  <a:lnTo>
                    <a:pt x="391" y="130"/>
                  </a:lnTo>
                  <a:lnTo>
                    <a:pt x="472" y="136"/>
                  </a:lnTo>
                  <a:lnTo>
                    <a:pt x="476" y="129"/>
                  </a:lnTo>
                  <a:lnTo>
                    <a:pt x="492" y="130"/>
                  </a:lnTo>
                  <a:lnTo>
                    <a:pt x="496" y="129"/>
                  </a:lnTo>
                  <a:lnTo>
                    <a:pt x="516" y="111"/>
                  </a:lnTo>
                  <a:lnTo>
                    <a:pt x="508" y="87"/>
                  </a:lnTo>
                  <a:lnTo>
                    <a:pt x="524" y="84"/>
                  </a:lnTo>
                  <a:lnTo>
                    <a:pt x="537" y="89"/>
                  </a:lnTo>
                  <a:lnTo>
                    <a:pt x="549" y="101"/>
                  </a:lnTo>
                  <a:lnTo>
                    <a:pt x="557" y="123"/>
                  </a:lnTo>
                  <a:lnTo>
                    <a:pt x="505" y="150"/>
                  </a:lnTo>
                  <a:lnTo>
                    <a:pt x="468" y="200"/>
                  </a:lnTo>
                  <a:lnTo>
                    <a:pt x="488" y="254"/>
                  </a:lnTo>
                  <a:lnTo>
                    <a:pt x="500" y="269"/>
                  </a:lnTo>
                  <a:lnTo>
                    <a:pt x="492" y="271"/>
                  </a:lnTo>
                  <a:lnTo>
                    <a:pt x="508" y="291"/>
                  </a:lnTo>
                  <a:lnTo>
                    <a:pt x="512" y="303"/>
                  </a:lnTo>
                  <a:lnTo>
                    <a:pt x="573" y="320"/>
                  </a:lnTo>
                  <a:lnTo>
                    <a:pt x="581" y="337"/>
                  </a:lnTo>
                  <a:lnTo>
                    <a:pt x="606" y="345"/>
                  </a:lnTo>
                  <a:lnTo>
                    <a:pt x="622" y="357"/>
                  </a:lnTo>
                  <a:lnTo>
                    <a:pt x="618" y="389"/>
                  </a:lnTo>
                  <a:lnTo>
                    <a:pt x="601" y="396"/>
                  </a:lnTo>
                  <a:lnTo>
                    <a:pt x="589" y="399"/>
                  </a:lnTo>
                  <a:lnTo>
                    <a:pt x="573" y="404"/>
                  </a:lnTo>
                  <a:lnTo>
                    <a:pt x="561" y="407"/>
                  </a:lnTo>
                  <a:lnTo>
                    <a:pt x="545" y="409"/>
                  </a:lnTo>
                  <a:lnTo>
                    <a:pt x="533" y="411"/>
                  </a:lnTo>
                  <a:lnTo>
                    <a:pt x="508" y="411"/>
                  </a:lnTo>
                  <a:lnTo>
                    <a:pt x="480" y="409"/>
                  </a:lnTo>
                  <a:lnTo>
                    <a:pt x="505" y="421"/>
                  </a:lnTo>
                  <a:lnTo>
                    <a:pt x="492" y="421"/>
                  </a:lnTo>
                  <a:lnTo>
                    <a:pt x="512" y="431"/>
                  </a:lnTo>
                  <a:lnTo>
                    <a:pt x="512" y="443"/>
                  </a:lnTo>
                  <a:lnTo>
                    <a:pt x="528" y="456"/>
                  </a:lnTo>
                  <a:lnTo>
                    <a:pt x="505" y="465"/>
                  </a:lnTo>
                  <a:lnTo>
                    <a:pt x="444" y="458"/>
                  </a:lnTo>
                  <a:lnTo>
                    <a:pt x="480" y="487"/>
                  </a:lnTo>
                  <a:lnTo>
                    <a:pt x="505" y="495"/>
                  </a:lnTo>
                  <a:lnTo>
                    <a:pt x="505" y="490"/>
                  </a:lnTo>
                  <a:lnTo>
                    <a:pt x="516" y="485"/>
                  </a:lnTo>
                  <a:lnTo>
                    <a:pt x="533" y="498"/>
                  </a:lnTo>
                  <a:lnTo>
                    <a:pt x="524" y="505"/>
                  </a:lnTo>
                  <a:lnTo>
                    <a:pt x="516" y="499"/>
                  </a:lnTo>
                  <a:lnTo>
                    <a:pt x="496" y="499"/>
                  </a:lnTo>
                  <a:lnTo>
                    <a:pt x="524" y="507"/>
                  </a:lnTo>
                  <a:lnTo>
                    <a:pt x="512" y="524"/>
                  </a:lnTo>
                  <a:lnTo>
                    <a:pt x="528" y="549"/>
                  </a:lnTo>
                  <a:lnTo>
                    <a:pt x="541" y="556"/>
                  </a:lnTo>
                  <a:lnTo>
                    <a:pt x="508" y="561"/>
                  </a:lnTo>
                  <a:lnTo>
                    <a:pt x="512" y="581"/>
                  </a:lnTo>
                  <a:lnTo>
                    <a:pt x="537" y="593"/>
                  </a:lnTo>
                  <a:lnTo>
                    <a:pt x="565" y="603"/>
                  </a:lnTo>
                  <a:lnTo>
                    <a:pt x="589" y="603"/>
                  </a:lnTo>
                  <a:lnTo>
                    <a:pt x="606" y="610"/>
                  </a:lnTo>
                  <a:lnTo>
                    <a:pt x="609" y="617"/>
                  </a:lnTo>
                  <a:lnTo>
                    <a:pt x="601" y="620"/>
                  </a:lnTo>
                  <a:lnTo>
                    <a:pt x="609" y="617"/>
                  </a:lnTo>
                  <a:lnTo>
                    <a:pt x="622" y="625"/>
                  </a:lnTo>
                  <a:lnTo>
                    <a:pt x="606" y="650"/>
                  </a:lnTo>
                  <a:lnTo>
                    <a:pt x="625" y="669"/>
                  </a:lnTo>
                  <a:lnTo>
                    <a:pt x="618" y="674"/>
                  </a:lnTo>
                  <a:lnTo>
                    <a:pt x="597" y="664"/>
                  </a:lnTo>
                  <a:lnTo>
                    <a:pt x="606" y="669"/>
                  </a:lnTo>
                  <a:lnTo>
                    <a:pt x="597" y="671"/>
                  </a:lnTo>
                  <a:lnTo>
                    <a:pt x="618" y="674"/>
                  </a:lnTo>
                  <a:lnTo>
                    <a:pt x="622" y="697"/>
                  </a:lnTo>
                  <a:lnTo>
                    <a:pt x="625" y="694"/>
                  </a:lnTo>
                  <a:lnTo>
                    <a:pt x="649" y="706"/>
                  </a:lnTo>
                  <a:lnTo>
                    <a:pt x="638" y="708"/>
                  </a:lnTo>
                  <a:lnTo>
                    <a:pt x="649" y="708"/>
                  </a:lnTo>
                  <a:lnTo>
                    <a:pt x="690" y="7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424880" y="2254680"/>
              <a:ext cx="248760" cy="259920"/>
            </a:xfrm>
            <a:custGeom>
              <a:avLst/>
              <a:gdLst/>
              <a:ahLst/>
              <a:rect l="l" t="t" r="r" b="b"/>
              <a:pathLst>
                <a:path w="691" h="724">
                  <a:moveTo>
                    <a:pt x="690" y="723"/>
                  </a:moveTo>
                  <a:lnTo>
                    <a:pt x="638" y="716"/>
                  </a:lnTo>
                  <a:lnTo>
                    <a:pt x="589" y="718"/>
                  </a:lnTo>
                  <a:lnTo>
                    <a:pt x="561" y="711"/>
                  </a:lnTo>
                  <a:lnTo>
                    <a:pt x="533" y="691"/>
                  </a:lnTo>
                  <a:lnTo>
                    <a:pt x="516" y="694"/>
                  </a:lnTo>
                  <a:lnTo>
                    <a:pt x="464" y="667"/>
                  </a:lnTo>
                  <a:lnTo>
                    <a:pt x="464" y="650"/>
                  </a:lnTo>
                  <a:lnTo>
                    <a:pt x="423" y="620"/>
                  </a:lnTo>
                  <a:lnTo>
                    <a:pt x="420" y="601"/>
                  </a:lnTo>
                  <a:lnTo>
                    <a:pt x="415" y="598"/>
                  </a:lnTo>
                  <a:lnTo>
                    <a:pt x="408" y="593"/>
                  </a:lnTo>
                  <a:lnTo>
                    <a:pt x="400" y="583"/>
                  </a:lnTo>
                  <a:lnTo>
                    <a:pt x="384" y="578"/>
                  </a:lnTo>
                  <a:lnTo>
                    <a:pt x="387" y="568"/>
                  </a:lnTo>
                  <a:lnTo>
                    <a:pt x="346" y="559"/>
                  </a:lnTo>
                  <a:lnTo>
                    <a:pt x="371" y="556"/>
                  </a:lnTo>
                  <a:lnTo>
                    <a:pt x="367" y="552"/>
                  </a:lnTo>
                  <a:lnTo>
                    <a:pt x="342" y="549"/>
                  </a:lnTo>
                  <a:lnTo>
                    <a:pt x="334" y="536"/>
                  </a:lnTo>
                  <a:lnTo>
                    <a:pt x="311" y="521"/>
                  </a:lnTo>
                  <a:lnTo>
                    <a:pt x="294" y="517"/>
                  </a:lnTo>
                  <a:lnTo>
                    <a:pt x="274" y="499"/>
                  </a:lnTo>
                  <a:lnTo>
                    <a:pt x="278" y="495"/>
                  </a:lnTo>
                  <a:lnTo>
                    <a:pt x="234" y="463"/>
                  </a:lnTo>
                  <a:lnTo>
                    <a:pt x="210" y="436"/>
                  </a:lnTo>
                  <a:lnTo>
                    <a:pt x="201" y="421"/>
                  </a:lnTo>
                  <a:lnTo>
                    <a:pt x="214" y="411"/>
                  </a:lnTo>
                  <a:lnTo>
                    <a:pt x="157" y="372"/>
                  </a:lnTo>
                  <a:lnTo>
                    <a:pt x="166" y="352"/>
                  </a:lnTo>
                  <a:lnTo>
                    <a:pt x="137" y="332"/>
                  </a:lnTo>
                  <a:lnTo>
                    <a:pt x="141" y="308"/>
                  </a:lnTo>
                  <a:lnTo>
                    <a:pt x="121" y="286"/>
                  </a:lnTo>
                  <a:lnTo>
                    <a:pt x="109" y="283"/>
                  </a:lnTo>
                  <a:lnTo>
                    <a:pt x="52" y="239"/>
                  </a:lnTo>
                  <a:lnTo>
                    <a:pt x="52" y="210"/>
                  </a:lnTo>
                  <a:lnTo>
                    <a:pt x="27" y="190"/>
                  </a:lnTo>
                  <a:lnTo>
                    <a:pt x="27" y="165"/>
                  </a:lnTo>
                  <a:lnTo>
                    <a:pt x="32" y="133"/>
                  </a:lnTo>
                  <a:lnTo>
                    <a:pt x="49" y="133"/>
                  </a:lnTo>
                  <a:lnTo>
                    <a:pt x="27" y="119"/>
                  </a:lnTo>
                  <a:lnTo>
                    <a:pt x="27" y="111"/>
                  </a:lnTo>
                  <a:lnTo>
                    <a:pt x="12" y="94"/>
                  </a:lnTo>
                  <a:lnTo>
                    <a:pt x="16" y="84"/>
                  </a:lnTo>
                  <a:lnTo>
                    <a:pt x="0" y="77"/>
                  </a:lnTo>
                  <a:lnTo>
                    <a:pt x="32" y="57"/>
                  </a:lnTo>
                  <a:lnTo>
                    <a:pt x="32" y="32"/>
                  </a:lnTo>
                  <a:lnTo>
                    <a:pt x="20" y="28"/>
                  </a:lnTo>
                  <a:lnTo>
                    <a:pt x="27" y="13"/>
                  </a:lnTo>
                  <a:lnTo>
                    <a:pt x="40" y="0"/>
                  </a:lnTo>
                  <a:lnTo>
                    <a:pt x="65" y="8"/>
                  </a:lnTo>
                  <a:lnTo>
                    <a:pt x="104" y="10"/>
                  </a:lnTo>
                  <a:lnTo>
                    <a:pt x="125" y="25"/>
                  </a:lnTo>
                  <a:lnTo>
                    <a:pt x="125" y="5"/>
                  </a:lnTo>
                  <a:lnTo>
                    <a:pt x="166" y="3"/>
                  </a:lnTo>
                  <a:lnTo>
                    <a:pt x="177" y="10"/>
                  </a:lnTo>
                  <a:lnTo>
                    <a:pt x="254" y="47"/>
                  </a:lnTo>
                  <a:lnTo>
                    <a:pt x="294" y="52"/>
                  </a:lnTo>
                  <a:lnTo>
                    <a:pt x="311" y="57"/>
                  </a:lnTo>
                  <a:lnTo>
                    <a:pt x="391" y="80"/>
                  </a:lnTo>
                  <a:lnTo>
                    <a:pt x="396" y="81"/>
                  </a:lnTo>
                  <a:lnTo>
                    <a:pt x="404" y="87"/>
                  </a:lnTo>
                  <a:lnTo>
                    <a:pt x="391" y="104"/>
                  </a:lnTo>
                  <a:lnTo>
                    <a:pt x="391" y="130"/>
                  </a:lnTo>
                  <a:lnTo>
                    <a:pt x="391" y="130"/>
                  </a:lnTo>
                  <a:lnTo>
                    <a:pt x="472" y="136"/>
                  </a:lnTo>
                  <a:lnTo>
                    <a:pt x="476" y="129"/>
                  </a:lnTo>
                  <a:lnTo>
                    <a:pt x="492" y="130"/>
                  </a:lnTo>
                  <a:lnTo>
                    <a:pt x="496" y="129"/>
                  </a:lnTo>
                  <a:lnTo>
                    <a:pt x="516" y="111"/>
                  </a:lnTo>
                  <a:lnTo>
                    <a:pt x="508" y="87"/>
                  </a:lnTo>
                  <a:lnTo>
                    <a:pt x="524" y="84"/>
                  </a:lnTo>
                  <a:lnTo>
                    <a:pt x="537" y="89"/>
                  </a:lnTo>
                  <a:lnTo>
                    <a:pt x="549" y="101"/>
                  </a:lnTo>
                  <a:lnTo>
                    <a:pt x="557" y="123"/>
                  </a:lnTo>
                  <a:lnTo>
                    <a:pt x="505" y="150"/>
                  </a:lnTo>
                  <a:lnTo>
                    <a:pt x="468" y="200"/>
                  </a:lnTo>
                  <a:lnTo>
                    <a:pt x="488" y="254"/>
                  </a:lnTo>
                  <a:lnTo>
                    <a:pt x="500" y="269"/>
                  </a:lnTo>
                  <a:lnTo>
                    <a:pt x="492" y="271"/>
                  </a:lnTo>
                  <a:lnTo>
                    <a:pt x="508" y="291"/>
                  </a:lnTo>
                  <a:lnTo>
                    <a:pt x="512" y="303"/>
                  </a:lnTo>
                  <a:lnTo>
                    <a:pt x="573" y="320"/>
                  </a:lnTo>
                  <a:lnTo>
                    <a:pt x="581" y="337"/>
                  </a:lnTo>
                  <a:lnTo>
                    <a:pt x="606" y="345"/>
                  </a:lnTo>
                  <a:lnTo>
                    <a:pt x="622" y="357"/>
                  </a:lnTo>
                  <a:lnTo>
                    <a:pt x="618" y="389"/>
                  </a:lnTo>
                  <a:lnTo>
                    <a:pt x="601" y="396"/>
                  </a:lnTo>
                  <a:lnTo>
                    <a:pt x="589" y="399"/>
                  </a:lnTo>
                  <a:lnTo>
                    <a:pt x="573" y="404"/>
                  </a:lnTo>
                  <a:lnTo>
                    <a:pt x="561" y="407"/>
                  </a:lnTo>
                  <a:lnTo>
                    <a:pt x="545" y="409"/>
                  </a:lnTo>
                  <a:lnTo>
                    <a:pt x="533" y="411"/>
                  </a:lnTo>
                  <a:lnTo>
                    <a:pt x="508" y="411"/>
                  </a:lnTo>
                  <a:lnTo>
                    <a:pt x="480" y="409"/>
                  </a:lnTo>
                  <a:lnTo>
                    <a:pt x="505" y="421"/>
                  </a:lnTo>
                  <a:lnTo>
                    <a:pt x="492" y="421"/>
                  </a:lnTo>
                  <a:lnTo>
                    <a:pt x="512" y="431"/>
                  </a:lnTo>
                  <a:lnTo>
                    <a:pt x="512" y="443"/>
                  </a:lnTo>
                  <a:lnTo>
                    <a:pt x="528" y="456"/>
                  </a:lnTo>
                  <a:lnTo>
                    <a:pt x="505" y="465"/>
                  </a:lnTo>
                  <a:lnTo>
                    <a:pt x="444" y="458"/>
                  </a:lnTo>
                  <a:lnTo>
                    <a:pt x="480" y="487"/>
                  </a:lnTo>
                  <a:lnTo>
                    <a:pt x="505" y="495"/>
                  </a:lnTo>
                  <a:lnTo>
                    <a:pt x="505" y="490"/>
                  </a:lnTo>
                  <a:lnTo>
                    <a:pt x="516" y="485"/>
                  </a:lnTo>
                  <a:lnTo>
                    <a:pt x="533" y="498"/>
                  </a:lnTo>
                  <a:lnTo>
                    <a:pt x="524" y="505"/>
                  </a:lnTo>
                  <a:lnTo>
                    <a:pt x="516" y="499"/>
                  </a:lnTo>
                  <a:lnTo>
                    <a:pt x="496" y="499"/>
                  </a:lnTo>
                  <a:lnTo>
                    <a:pt x="524" y="507"/>
                  </a:lnTo>
                  <a:lnTo>
                    <a:pt x="512" y="524"/>
                  </a:lnTo>
                  <a:lnTo>
                    <a:pt x="528" y="549"/>
                  </a:lnTo>
                  <a:lnTo>
                    <a:pt x="541" y="556"/>
                  </a:lnTo>
                  <a:lnTo>
                    <a:pt x="508" y="561"/>
                  </a:lnTo>
                  <a:lnTo>
                    <a:pt x="512" y="581"/>
                  </a:lnTo>
                  <a:lnTo>
                    <a:pt x="537" y="593"/>
                  </a:lnTo>
                  <a:lnTo>
                    <a:pt x="565" y="603"/>
                  </a:lnTo>
                  <a:lnTo>
                    <a:pt x="589" y="603"/>
                  </a:lnTo>
                  <a:lnTo>
                    <a:pt x="606" y="610"/>
                  </a:lnTo>
                  <a:lnTo>
                    <a:pt x="609" y="617"/>
                  </a:lnTo>
                  <a:lnTo>
                    <a:pt x="601" y="620"/>
                  </a:lnTo>
                  <a:lnTo>
                    <a:pt x="609" y="617"/>
                  </a:lnTo>
                  <a:lnTo>
                    <a:pt x="622" y="625"/>
                  </a:lnTo>
                  <a:lnTo>
                    <a:pt x="606" y="650"/>
                  </a:lnTo>
                  <a:lnTo>
                    <a:pt x="625" y="669"/>
                  </a:lnTo>
                  <a:lnTo>
                    <a:pt x="618" y="674"/>
                  </a:lnTo>
                  <a:lnTo>
                    <a:pt x="597" y="664"/>
                  </a:lnTo>
                  <a:lnTo>
                    <a:pt x="606" y="669"/>
                  </a:lnTo>
                  <a:lnTo>
                    <a:pt x="597" y="671"/>
                  </a:lnTo>
                  <a:lnTo>
                    <a:pt x="618" y="674"/>
                  </a:lnTo>
                  <a:lnTo>
                    <a:pt x="622" y="697"/>
                  </a:lnTo>
                  <a:lnTo>
                    <a:pt x="625" y="694"/>
                  </a:lnTo>
                  <a:lnTo>
                    <a:pt x="649" y="706"/>
                  </a:lnTo>
                  <a:lnTo>
                    <a:pt x="638" y="708"/>
                  </a:lnTo>
                  <a:lnTo>
                    <a:pt x="649" y="708"/>
                  </a:lnTo>
                  <a:lnTo>
                    <a:pt x="690" y="72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485360" y="2232360"/>
              <a:ext cx="124920" cy="71280"/>
            </a:xfrm>
            <a:custGeom>
              <a:avLst/>
              <a:gdLst/>
              <a:ahLst/>
              <a:rect l="l" t="t" r="r" b="b"/>
              <a:pathLst>
                <a:path w="348" h="200">
                  <a:moveTo>
                    <a:pt x="339" y="150"/>
                  </a:moveTo>
                  <a:lnTo>
                    <a:pt x="347" y="174"/>
                  </a:lnTo>
                  <a:lnTo>
                    <a:pt x="327" y="192"/>
                  </a:lnTo>
                  <a:lnTo>
                    <a:pt x="323" y="193"/>
                  </a:lnTo>
                  <a:lnTo>
                    <a:pt x="307" y="192"/>
                  </a:lnTo>
                  <a:lnTo>
                    <a:pt x="303" y="199"/>
                  </a:lnTo>
                  <a:lnTo>
                    <a:pt x="222" y="193"/>
                  </a:lnTo>
                  <a:lnTo>
                    <a:pt x="222" y="167"/>
                  </a:lnTo>
                  <a:lnTo>
                    <a:pt x="235" y="150"/>
                  </a:lnTo>
                  <a:lnTo>
                    <a:pt x="227" y="144"/>
                  </a:lnTo>
                  <a:lnTo>
                    <a:pt x="222" y="143"/>
                  </a:lnTo>
                  <a:lnTo>
                    <a:pt x="142" y="120"/>
                  </a:lnTo>
                  <a:lnTo>
                    <a:pt x="125" y="115"/>
                  </a:lnTo>
                  <a:lnTo>
                    <a:pt x="85" y="110"/>
                  </a:lnTo>
                  <a:lnTo>
                    <a:pt x="8" y="73"/>
                  </a:lnTo>
                  <a:lnTo>
                    <a:pt x="0" y="32"/>
                  </a:lnTo>
                  <a:lnTo>
                    <a:pt x="8" y="9"/>
                  </a:lnTo>
                  <a:lnTo>
                    <a:pt x="69" y="0"/>
                  </a:lnTo>
                  <a:lnTo>
                    <a:pt x="125" y="4"/>
                  </a:lnTo>
                  <a:lnTo>
                    <a:pt x="142" y="12"/>
                  </a:lnTo>
                  <a:lnTo>
                    <a:pt x="146" y="19"/>
                  </a:lnTo>
                  <a:lnTo>
                    <a:pt x="165" y="39"/>
                  </a:lnTo>
                  <a:lnTo>
                    <a:pt x="173" y="66"/>
                  </a:lnTo>
                  <a:lnTo>
                    <a:pt x="218" y="71"/>
                  </a:lnTo>
                  <a:lnTo>
                    <a:pt x="254" y="68"/>
                  </a:lnTo>
                  <a:lnTo>
                    <a:pt x="291" y="110"/>
                  </a:lnTo>
                  <a:lnTo>
                    <a:pt x="331" y="113"/>
                  </a:lnTo>
                  <a:lnTo>
                    <a:pt x="339" y="15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85360" y="2232360"/>
              <a:ext cx="124920" cy="71280"/>
            </a:xfrm>
            <a:custGeom>
              <a:avLst/>
              <a:gdLst/>
              <a:ahLst/>
              <a:rect l="l" t="t" r="r" b="b"/>
              <a:pathLst>
                <a:path w="348" h="200">
                  <a:moveTo>
                    <a:pt x="339" y="150"/>
                  </a:moveTo>
                  <a:lnTo>
                    <a:pt x="347" y="174"/>
                  </a:lnTo>
                  <a:lnTo>
                    <a:pt x="327" y="192"/>
                  </a:lnTo>
                  <a:lnTo>
                    <a:pt x="323" y="193"/>
                  </a:lnTo>
                  <a:lnTo>
                    <a:pt x="307" y="192"/>
                  </a:lnTo>
                  <a:lnTo>
                    <a:pt x="303" y="199"/>
                  </a:lnTo>
                  <a:lnTo>
                    <a:pt x="222" y="193"/>
                  </a:lnTo>
                  <a:lnTo>
                    <a:pt x="222" y="193"/>
                  </a:lnTo>
                  <a:lnTo>
                    <a:pt x="222" y="167"/>
                  </a:lnTo>
                  <a:lnTo>
                    <a:pt x="235" y="150"/>
                  </a:lnTo>
                  <a:lnTo>
                    <a:pt x="227" y="144"/>
                  </a:lnTo>
                  <a:lnTo>
                    <a:pt x="222" y="143"/>
                  </a:lnTo>
                  <a:lnTo>
                    <a:pt x="142" y="120"/>
                  </a:lnTo>
                  <a:lnTo>
                    <a:pt x="125" y="115"/>
                  </a:lnTo>
                  <a:lnTo>
                    <a:pt x="85" y="110"/>
                  </a:lnTo>
                  <a:lnTo>
                    <a:pt x="8" y="73"/>
                  </a:lnTo>
                  <a:lnTo>
                    <a:pt x="0" y="32"/>
                  </a:lnTo>
                  <a:lnTo>
                    <a:pt x="8" y="9"/>
                  </a:lnTo>
                  <a:lnTo>
                    <a:pt x="69" y="0"/>
                  </a:lnTo>
                  <a:lnTo>
                    <a:pt x="125" y="4"/>
                  </a:lnTo>
                  <a:lnTo>
                    <a:pt x="142" y="12"/>
                  </a:lnTo>
                  <a:lnTo>
                    <a:pt x="146" y="19"/>
                  </a:lnTo>
                  <a:lnTo>
                    <a:pt x="165" y="39"/>
                  </a:lnTo>
                  <a:lnTo>
                    <a:pt x="173" y="66"/>
                  </a:lnTo>
                  <a:lnTo>
                    <a:pt x="218" y="71"/>
                  </a:lnTo>
                  <a:lnTo>
                    <a:pt x="254" y="68"/>
                  </a:lnTo>
                  <a:lnTo>
                    <a:pt x="291" y="110"/>
                  </a:lnTo>
                  <a:lnTo>
                    <a:pt x="331" y="113"/>
                  </a:lnTo>
                  <a:lnTo>
                    <a:pt x="339" y="15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69440" y="2218320"/>
              <a:ext cx="302760" cy="310680"/>
            </a:xfrm>
            <a:custGeom>
              <a:avLst/>
              <a:gdLst/>
              <a:ahLst/>
              <a:rect l="l" t="t" r="r" b="b"/>
              <a:pathLst>
                <a:path w="844" h="864">
                  <a:moveTo>
                    <a:pt x="0" y="20"/>
                  </a:moveTo>
                  <a:lnTo>
                    <a:pt x="15" y="18"/>
                  </a:lnTo>
                  <a:lnTo>
                    <a:pt x="11" y="5"/>
                  </a:lnTo>
                  <a:lnTo>
                    <a:pt x="23" y="0"/>
                  </a:lnTo>
                  <a:lnTo>
                    <a:pt x="43" y="12"/>
                  </a:lnTo>
                  <a:lnTo>
                    <a:pt x="60" y="35"/>
                  </a:lnTo>
                  <a:lnTo>
                    <a:pt x="84" y="47"/>
                  </a:lnTo>
                  <a:lnTo>
                    <a:pt x="88" y="59"/>
                  </a:lnTo>
                  <a:lnTo>
                    <a:pt x="84" y="72"/>
                  </a:lnTo>
                  <a:lnTo>
                    <a:pt x="100" y="84"/>
                  </a:lnTo>
                  <a:lnTo>
                    <a:pt x="117" y="94"/>
                  </a:lnTo>
                  <a:lnTo>
                    <a:pt x="149" y="131"/>
                  </a:lnTo>
                  <a:lnTo>
                    <a:pt x="173" y="131"/>
                  </a:lnTo>
                  <a:lnTo>
                    <a:pt x="185" y="135"/>
                  </a:lnTo>
                  <a:lnTo>
                    <a:pt x="185" y="160"/>
                  </a:lnTo>
                  <a:lnTo>
                    <a:pt x="153" y="180"/>
                  </a:lnTo>
                  <a:lnTo>
                    <a:pt x="169" y="187"/>
                  </a:lnTo>
                  <a:lnTo>
                    <a:pt x="165" y="197"/>
                  </a:lnTo>
                  <a:lnTo>
                    <a:pt x="180" y="214"/>
                  </a:lnTo>
                  <a:lnTo>
                    <a:pt x="180" y="222"/>
                  </a:lnTo>
                  <a:lnTo>
                    <a:pt x="202" y="236"/>
                  </a:lnTo>
                  <a:lnTo>
                    <a:pt x="185" y="236"/>
                  </a:lnTo>
                  <a:lnTo>
                    <a:pt x="180" y="268"/>
                  </a:lnTo>
                  <a:lnTo>
                    <a:pt x="180" y="293"/>
                  </a:lnTo>
                  <a:lnTo>
                    <a:pt x="205" y="313"/>
                  </a:lnTo>
                  <a:lnTo>
                    <a:pt x="205" y="342"/>
                  </a:lnTo>
                  <a:lnTo>
                    <a:pt x="262" y="386"/>
                  </a:lnTo>
                  <a:lnTo>
                    <a:pt x="274" y="389"/>
                  </a:lnTo>
                  <a:lnTo>
                    <a:pt x="294" y="411"/>
                  </a:lnTo>
                  <a:lnTo>
                    <a:pt x="290" y="435"/>
                  </a:lnTo>
                  <a:lnTo>
                    <a:pt x="319" y="455"/>
                  </a:lnTo>
                  <a:lnTo>
                    <a:pt x="310" y="475"/>
                  </a:lnTo>
                  <a:lnTo>
                    <a:pt x="367" y="514"/>
                  </a:lnTo>
                  <a:lnTo>
                    <a:pt x="354" y="524"/>
                  </a:lnTo>
                  <a:lnTo>
                    <a:pt x="363" y="539"/>
                  </a:lnTo>
                  <a:lnTo>
                    <a:pt x="387" y="566"/>
                  </a:lnTo>
                  <a:lnTo>
                    <a:pt x="431" y="598"/>
                  </a:lnTo>
                  <a:lnTo>
                    <a:pt x="427" y="602"/>
                  </a:lnTo>
                  <a:lnTo>
                    <a:pt x="447" y="620"/>
                  </a:lnTo>
                  <a:lnTo>
                    <a:pt x="464" y="624"/>
                  </a:lnTo>
                  <a:lnTo>
                    <a:pt x="487" y="639"/>
                  </a:lnTo>
                  <a:lnTo>
                    <a:pt x="495" y="652"/>
                  </a:lnTo>
                  <a:lnTo>
                    <a:pt x="520" y="655"/>
                  </a:lnTo>
                  <a:lnTo>
                    <a:pt x="524" y="659"/>
                  </a:lnTo>
                  <a:lnTo>
                    <a:pt x="499" y="662"/>
                  </a:lnTo>
                  <a:lnTo>
                    <a:pt x="540" y="671"/>
                  </a:lnTo>
                  <a:lnTo>
                    <a:pt x="537" y="681"/>
                  </a:lnTo>
                  <a:lnTo>
                    <a:pt x="553" y="686"/>
                  </a:lnTo>
                  <a:lnTo>
                    <a:pt x="561" y="696"/>
                  </a:lnTo>
                  <a:lnTo>
                    <a:pt x="568" y="701"/>
                  </a:lnTo>
                  <a:lnTo>
                    <a:pt x="573" y="704"/>
                  </a:lnTo>
                  <a:lnTo>
                    <a:pt x="576" y="723"/>
                  </a:lnTo>
                  <a:lnTo>
                    <a:pt x="617" y="753"/>
                  </a:lnTo>
                  <a:lnTo>
                    <a:pt x="617" y="770"/>
                  </a:lnTo>
                  <a:lnTo>
                    <a:pt x="669" y="797"/>
                  </a:lnTo>
                  <a:lnTo>
                    <a:pt x="686" y="794"/>
                  </a:lnTo>
                  <a:lnTo>
                    <a:pt x="714" y="814"/>
                  </a:lnTo>
                  <a:lnTo>
                    <a:pt x="742" y="821"/>
                  </a:lnTo>
                  <a:lnTo>
                    <a:pt x="791" y="819"/>
                  </a:lnTo>
                  <a:lnTo>
                    <a:pt x="843" y="826"/>
                  </a:lnTo>
                  <a:lnTo>
                    <a:pt x="814" y="824"/>
                  </a:lnTo>
                  <a:lnTo>
                    <a:pt x="819" y="831"/>
                  </a:lnTo>
                  <a:lnTo>
                    <a:pt x="795" y="836"/>
                  </a:lnTo>
                  <a:lnTo>
                    <a:pt x="814" y="851"/>
                  </a:lnTo>
                  <a:lnTo>
                    <a:pt x="827" y="863"/>
                  </a:lnTo>
                  <a:lnTo>
                    <a:pt x="799" y="861"/>
                  </a:lnTo>
                  <a:lnTo>
                    <a:pt x="783" y="854"/>
                  </a:lnTo>
                  <a:lnTo>
                    <a:pt x="791" y="854"/>
                  </a:lnTo>
                  <a:lnTo>
                    <a:pt x="791" y="849"/>
                  </a:lnTo>
                  <a:lnTo>
                    <a:pt x="802" y="856"/>
                  </a:lnTo>
                  <a:lnTo>
                    <a:pt x="795" y="841"/>
                  </a:lnTo>
                  <a:lnTo>
                    <a:pt x="766" y="846"/>
                  </a:lnTo>
                  <a:lnTo>
                    <a:pt x="778" y="849"/>
                  </a:lnTo>
                  <a:lnTo>
                    <a:pt x="775" y="854"/>
                  </a:lnTo>
                  <a:lnTo>
                    <a:pt x="787" y="858"/>
                  </a:lnTo>
                  <a:lnTo>
                    <a:pt x="759" y="851"/>
                  </a:lnTo>
                  <a:lnTo>
                    <a:pt x="771" y="851"/>
                  </a:lnTo>
                  <a:lnTo>
                    <a:pt x="750" y="844"/>
                  </a:lnTo>
                  <a:lnTo>
                    <a:pt x="750" y="839"/>
                  </a:lnTo>
                  <a:lnTo>
                    <a:pt x="754" y="844"/>
                  </a:lnTo>
                  <a:lnTo>
                    <a:pt x="778" y="836"/>
                  </a:lnTo>
                  <a:lnTo>
                    <a:pt x="738" y="834"/>
                  </a:lnTo>
                  <a:lnTo>
                    <a:pt x="754" y="846"/>
                  </a:lnTo>
                  <a:lnTo>
                    <a:pt x="742" y="846"/>
                  </a:lnTo>
                  <a:lnTo>
                    <a:pt x="746" y="844"/>
                  </a:lnTo>
                  <a:lnTo>
                    <a:pt x="734" y="844"/>
                  </a:lnTo>
                  <a:lnTo>
                    <a:pt x="738" y="836"/>
                  </a:lnTo>
                  <a:lnTo>
                    <a:pt x="726" y="841"/>
                  </a:lnTo>
                  <a:lnTo>
                    <a:pt x="702" y="826"/>
                  </a:lnTo>
                  <a:lnTo>
                    <a:pt x="730" y="829"/>
                  </a:lnTo>
                  <a:lnTo>
                    <a:pt x="723" y="824"/>
                  </a:lnTo>
                  <a:lnTo>
                    <a:pt x="738" y="829"/>
                  </a:lnTo>
                  <a:lnTo>
                    <a:pt x="734" y="834"/>
                  </a:lnTo>
                  <a:lnTo>
                    <a:pt x="746" y="834"/>
                  </a:lnTo>
                  <a:lnTo>
                    <a:pt x="723" y="819"/>
                  </a:lnTo>
                  <a:lnTo>
                    <a:pt x="694" y="811"/>
                  </a:lnTo>
                  <a:lnTo>
                    <a:pt x="723" y="819"/>
                  </a:lnTo>
                  <a:lnTo>
                    <a:pt x="698" y="816"/>
                  </a:lnTo>
                  <a:lnTo>
                    <a:pt x="714" y="821"/>
                  </a:lnTo>
                  <a:lnTo>
                    <a:pt x="714" y="826"/>
                  </a:lnTo>
                  <a:lnTo>
                    <a:pt x="694" y="816"/>
                  </a:lnTo>
                  <a:lnTo>
                    <a:pt x="706" y="826"/>
                  </a:lnTo>
                  <a:lnTo>
                    <a:pt x="706" y="824"/>
                  </a:lnTo>
                  <a:lnTo>
                    <a:pt x="694" y="819"/>
                  </a:lnTo>
                  <a:lnTo>
                    <a:pt x="681" y="816"/>
                  </a:lnTo>
                  <a:lnTo>
                    <a:pt x="674" y="811"/>
                  </a:lnTo>
                  <a:lnTo>
                    <a:pt x="690" y="816"/>
                  </a:lnTo>
                  <a:lnTo>
                    <a:pt x="669" y="807"/>
                  </a:lnTo>
                  <a:lnTo>
                    <a:pt x="661" y="809"/>
                  </a:lnTo>
                  <a:lnTo>
                    <a:pt x="645" y="802"/>
                  </a:lnTo>
                  <a:lnTo>
                    <a:pt x="661" y="802"/>
                  </a:lnTo>
                  <a:lnTo>
                    <a:pt x="645" y="790"/>
                  </a:lnTo>
                  <a:lnTo>
                    <a:pt x="649" y="800"/>
                  </a:lnTo>
                  <a:lnTo>
                    <a:pt x="629" y="792"/>
                  </a:lnTo>
                  <a:lnTo>
                    <a:pt x="641" y="794"/>
                  </a:lnTo>
                  <a:lnTo>
                    <a:pt x="633" y="790"/>
                  </a:lnTo>
                  <a:lnTo>
                    <a:pt x="609" y="787"/>
                  </a:lnTo>
                  <a:lnTo>
                    <a:pt x="633" y="787"/>
                  </a:lnTo>
                  <a:lnTo>
                    <a:pt x="609" y="782"/>
                  </a:lnTo>
                  <a:lnTo>
                    <a:pt x="625" y="782"/>
                  </a:lnTo>
                  <a:lnTo>
                    <a:pt x="617" y="777"/>
                  </a:lnTo>
                  <a:lnTo>
                    <a:pt x="605" y="777"/>
                  </a:lnTo>
                  <a:lnTo>
                    <a:pt x="621" y="774"/>
                  </a:lnTo>
                  <a:lnTo>
                    <a:pt x="601" y="770"/>
                  </a:lnTo>
                  <a:lnTo>
                    <a:pt x="601" y="767"/>
                  </a:lnTo>
                  <a:lnTo>
                    <a:pt x="588" y="760"/>
                  </a:lnTo>
                  <a:lnTo>
                    <a:pt x="588" y="767"/>
                  </a:lnTo>
                  <a:lnTo>
                    <a:pt x="568" y="755"/>
                  </a:lnTo>
                  <a:lnTo>
                    <a:pt x="576" y="753"/>
                  </a:lnTo>
                  <a:lnTo>
                    <a:pt x="561" y="751"/>
                  </a:lnTo>
                  <a:lnTo>
                    <a:pt x="568" y="745"/>
                  </a:lnTo>
                  <a:lnTo>
                    <a:pt x="537" y="738"/>
                  </a:lnTo>
                  <a:lnTo>
                    <a:pt x="553" y="743"/>
                  </a:lnTo>
                  <a:lnTo>
                    <a:pt x="544" y="738"/>
                  </a:lnTo>
                  <a:lnTo>
                    <a:pt x="573" y="740"/>
                  </a:lnTo>
                  <a:lnTo>
                    <a:pt x="573" y="738"/>
                  </a:lnTo>
                  <a:lnTo>
                    <a:pt x="561" y="736"/>
                  </a:lnTo>
                  <a:lnTo>
                    <a:pt x="573" y="736"/>
                  </a:lnTo>
                  <a:lnTo>
                    <a:pt x="549" y="730"/>
                  </a:lnTo>
                  <a:lnTo>
                    <a:pt x="544" y="725"/>
                  </a:lnTo>
                  <a:lnTo>
                    <a:pt x="524" y="730"/>
                  </a:lnTo>
                  <a:lnTo>
                    <a:pt x="524" y="728"/>
                  </a:lnTo>
                  <a:lnTo>
                    <a:pt x="537" y="728"/>
                  </a:lnTo>
                  <a:lnTo>
                    <a:pt x="520" y="725"/>
                  </a:lnTo>
                  <a:lnTo>
                    <a:pt x="520" y="716"/>
                  </a:lnTo>
                  <a:lnTo>
                    <a:pt x="499" y="711"/>
                  </a:lnTo>
                  <a:lnTo>
                    <a:pt x="484" y="709"/>
                  </a:lnTo>
                  <a:lnTo>
                    <a:pt x="476" y="704"/>
                  </a:lnTo>
                  <a:lnTo>
                    <a:pt x="464" y="709"/>
                  </a:lnTo>
                  <a:lnTo>
                    <a:pt x="476" y="716"/>
                  </a:lnTo>
                  <a:lnTo>
                    <a:pt x="459" y="709"/>
                  </a:lnTo>
                  <a:lnTo>
                    <a:pt x="472" y="696"/>
                  </a:lnTo>
                  <a:lnTo>
                    <a:pt x="464" y="689"/>
                  </a:lnTo>
                  <a:lnTo>
                    <a:pt x="476" y="694"/>
                  </a:lnTo>
                  <a:lnTo>
                    <a:pt x="476" y="686"/>
                  </a:lnTo>
                  <a:lnTo>
                    <a:pt x="487" y="694"/>
                  </a:lnTo>
                  <a:lnTo>
                    <a:pt x="480" y="696"/>
                  </a:lnTo>
                  <a:lnTo>
                    <a:pt x="499" y="699"/>
                  </a:lnTo>
                  <a:lnTo>
                    <a:pt x="492" y="694"/>
                  </a:lnTo>
                  <a:lnTo>
                    <a:pt x="512" y="704"/>
                  </a:lnTo>
                  <a:lnTo>
                    <a:pt x="504" y="691"/>
                  </a:lnTo>
                  <a:lnTo>
                    <a:pt x="504" y="699"/>
                  </a:lnTo>
                  <a:lnTo>
                    <a:pt x="495" y="691"/>
                  </a:lnTo>
                  <a:lnTo>
                    <a:pt x="499" y="681"/>
                  </a:lnTo>
                  <a:lnTo>
                    <a:pt x="492" y="686"/>
                  </a:lnTo>
                  <a:lnTo>
                    <a:pt x="484" y="679"/>
                  </a:lnTo>
                  <a:lnTo>
                    <a:pt x="499" y="676"/>
                  </a:lnTo>
                  <a:lnTo>
                    <a:pt x="480" y="674"/>
                  </a:lnTo>
                  <a:lnTo>
                    <a:pt x="472" y="666"/>
                  </a:lnTo>
                  <a:lnTo>
                    <a:pt x="484" y="662"/>
                  </a:lnTo>
                  <a:lnTo>
                    <a:pt x="480" y="655"/>
                  </a:lnTo>
                  <a:lnTo>
                    <a:pt x="476" y="655"/>
                  </a:lnTo>
                  <a:lnTo>
                    <a:pt x="447" y="647"/>
                  </a:lnTo>
                  <a:lnTo>
                    <a:pt x="452" y="639"/>
                  </a:lnTo>
                  <a:lnTo>
                    <a:pt x="431" y="632"/>
                  </a:lnTo>
                  <a:lnTo>
                    <a:pt x="431" y="622"/>
                  </a:lnTo>
                  <a:lnTo>
                    <a:pt x="414" y="610"/>
                  </a:lnTo>
                  <a:lnTo>
                    <a:pt x="423" y="610"/>
                  </a:lnTo>
                  <a:lnTo>
                    <a:pt x="407" y="605"/>
                  </a:lnTo>
                  <a:lnTo>
                    <a:pt x="411" y="602"/>
                  </a:lnTo>
                  <a:lnTo>
                    <a:pt x="423" y="608"/>
                  </a:lnTo>
                  <a:lnTo>
                    <a:pt x="407" y="595"/>
                  </a:lnTo>
                  <a:lnTo>
                    <a:pt x="395" y="595"/>
                  </a:lnTo>
                  <a:lnTo>
                    <a:pt x="395" y="583"/>
                  </a:lnTo>
                  <a:lnTo>
                    <a:pt x="400" y="590"/>
                  </a:lnTo>
                  <a:lnTo>
                    <a:pt x="379" y="585"/>
                  </a:lnTo>
                  <a:lnTo>
                    <a:pt x="371" y="593"/>
                  </a:lnTo>
                  <a:lnTo>
                    <a:pt x="363" y="593"/>
                  </a:lnTo>
                  <a:lnTo>
                    <a:pt x="354" y="588"/>
                  </a:lnTo>
                  <a:lnTo>
                    <a:pt x="338" y="578"/>
                  </a:lnTo>
                  <a:lnTo>
                    <a:pt x="322" y="549"/>
                  </a:lnTo>
                  <a:lnTo>
                    <a:pt x="310" y="534"/>
                  </a:lnTo>
                  <a:lnTo>
                    <a:pt x="246" y="489"/>
                  </a:lnTo>
                  <a:lnTo>
                    <a:pt x="253" y="485"/>
                  </a:lnTo>
                  <a:lnTo>
                    <a:pt x="205" y="386"/>
                  </a:lnTo>
                  <a:lnTo>
                    <a:pt x="205" y="374"/>
                  </a:lnTo>
                  <a:lnTo>
                    <a:pt x="153" y="325"/>
                  </a:lnTo>
                  <a:lnTo>
                    <a:pt x="153" y="307"/>
                  </a:lnTo>
                  <a:lnTo>
                    <a:pt x="124" y="285"/>
                  </a:lnTo>
                  <a:lnTo>
                    <a:pt x="108" y="219"/>
                  </a:lnTo>
                  <a:lnTo>
                    <a:pt x="96" y="194"/>
                  </a:lnTo>
                  <a:lnTo>
                    <a:pt x="72" y="153"/>
                  </a:lnTo>
                  <a:lnTo>
                    <a:pt x="64" y="150"/>
                  </a:lnTo>
                  <a:lnTo>
                    <a:pt x="56" y="138"/>
                  </a:lnTo>
                  <a:lnTo>
                    <a:pt x="64" y="135"/>
                  </a:lnTo>
                  <a:lnTo>
                    <a:pt x="52" y="98"/>
                  </a:ln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69440" y="2218320"/>
              <a:ext cx="302760" cy="310680"/>
            </a:xfrm>
            <a:custGeom>
              <a:avLst/>
              <a:gdLst/>
              <a:ahLst/>
              <a:rect l="l" t="t" r="r" b="b"/>
              <a:pathLst>
                <a:path w="844" h="864">
                  <a:moveTo>
                    <a:pt x="0" y="20"/>
                  </a:moveTo>
                  <a:lnTo>
                    <a:pt x="15" y="18"/>
                  </a:lnTo>
                  <a:lnTo>
                    <a:pt x="11" y="5"/>
                  </a:lnTo>
                  <a:lnTo>
                    <a:pt x="23" y="0"/>
                  </a:lnTo>
                  <a:lnTo>
                    <a:pt x="43" y="12"/>
                  </a:lnTo>
                  <a:lnTo>
                    <a:pt x="60" y="35"/>
                  </a:lnTo>
                  <a:lnTo>
                    <a:pt x="84" y="47"/>
                  </a:lnTo>
                  <a:lnTo>
                    <a:pt x="88" y="59"/>
                  </a:lnTo>
                  <a:lnTo>
                    <a:pt x="84" y="72"/>
                  </a:lnTo>
                  <a:lnTo>
                    <a:pt x="100" y="84"/>
                  </a:lnTo>
                  <a:lnTo>
                    <a:pt x="117" y="94"/>
                  </a:lnTo>
                  <a:lnTo>
                    <a:pt x="149" y="131"/>
                  </a:lnTo>
                  <a:lnTo>
                    <a:pt x="173" y="131"/>
                  </a:lnTo>
                  <a:lnTo>
                    <a:pt x="185" y="135"/>
                  </a:lnTo>
                  <a:lnTo>
                    <a:pt x="185" y="160"/>
                  </a:lnTo>
                  <a:lnTo>
                    <a:pt x="153" y="180"/>
                  </a:lnTo>
                  <a:lnTo>
                    <a:pt x="169" y="187"/>
                  </a:lnTo>
                  <a:lnTo>
                    <a:pt x="165" y="197"/>
                  </a:lnTo>
                  <a:lnTo>
                    <a:pt x="180" y="214"/>
                  </a:lnTo>
                  <a:lnTo>
                    <a:pt x="180" y="222"/>
                  </a:lnTo>
                  <a:lnTo>
                    <a:pt x="202" y="236"/>
                  </a:lnTo>
                  <a:lnTo>
                    <a:pt x="185" y="236"/>
                  </a:lnTo>
                  <a:lnTo>
                    <a:pt x="180" y="268"/>
                  </a:lnTo>
                  <a:lnTo>
                    <a:pt x="180" y="293"/>
                  </a:lnTo>
                  <a:lnTo>
                    <a:pt x="205" y="313"/>
                  </a:lnTo>
                  <a:lnTo>
                    <a:pt x="205" y="342"/>
                  </a:lnTo>
                  <a:lnTo>
                    <a:pt x="262" y="386"/>
                  </a:lnTo>
                  <a:lnTo>
                    <a:pt x="274" y="389"/>
                  </a:lnTo>
                  <a:lnTo>
                    <a:pt x="294" y="411"/>
                  </a:lnTo>
                  <a:lnTo>
                    <a:pt x="290" y="435"/>
                  </a:lnTo>
                  <a:lnTo>
                    <a:pt x="319" y="455"/>
                  </a:lnTo>
                  <a:lnTo>
                    <a:pt x="310" y="475"/>
                  </a:lnTo>
                  <a:lnTo>
                    <a:pt x="367" y="514"/>
                  </a:lnTo>
                  <a:lnTo>
                    <a:pt x="354" y="524"/>
                  </a:lnTo>
                  <a:lnTo>
                    <a:pt x="363" y="539"/>
                  </a:lnTo>
                  <a:lnTo>
                    <a:pt x="387" y="566"/>
                  </a:lnTo>
                  <a:lnTo>
                    <a:pt x="431" y="598"/>
                  </a:lnTo>
                  <a:lnTo>
                    <a:pt x="427" y="602"/>
                  </a:lnTo>
                  <a:lnTo>
                    <a:pt x="447" y="620"/>
                  </a:lnTo>
                  <a:lnTo>
                    <a:pt x="464" y="624"/>
                  </a:lnTo>
                  <a:lnTo>
                    <a:pt x="487" y="639"/>
                  </a:lnTo>
                  <a:lnTo>
                    <a:pt x="495" y="652"/>
                  </a:lnTo>
                  <a:lnTo>
                    <a:pt x="520" y="655"/>
                  </a:lnTo>
                  <a:lnTo>
                    <a:pt x="524" y="659"/>
                  </a:lnTo>
                  <a:lnTo>
                    <a:pt x="499" y="662"/>
                  </a:lnTo>
                  <a:lnTo>
                    <a:pt x="540" y="671"/>
                  </a:lnTo>
                  <a:lnTo>
                    <a:pt x="537" y="681"/>
                  </a:lnTo>
                  <a:lnTo>
                    <a:pt x="553" y="686"/>
                  </a:lnTo>
                  <a:lnTo>
                    <a:pt x="561" y="696"/>
                  </a:lnTo>
                  <a:lnTo>
                    <a:pt x="568" y="701"/>
                  </a:lnTo>
                  <a:lnTo>
                    <a:pt x="573" y="704"/>
                  </a:lnTo>
                  <a:lnTo>
                    <a:pt x="576" y="723"/>
                  </a:lnTo>
                  <a:lnTo>
                    <a:pt x="617" y="753"/>
                  </a:lnTo>
                  <a:lnTo>
                    <a:pt x="617" y="770"/>
                  </a:lnTo>
                  <a:lnTo>
                    <a:pt x="669" y="797"/>
                  </a:lnTo>
                  <a:lnTo>
                    <a:pt x="686" y="794"/>
                  </a:lnTo>
                  <a:lnTo>
                    <a:pt x="714" y="814"/>
                  </a:lnTo>
                  <a:lnTo>
                    <a:pt x="742" y="821"/>
                  </a:lnTo>
                  <a:lnTo>
                    <a:pt x="791" y="819"/>
                  </a:lnTo>
                  <a:lnTo>
                    <a:pt x="843" y="826"/>
                  </a:lnTo>
                  <a:lnTo>
                    <a:pt x="814" y="824"/>
                  </a:lnTo>
                  <a:lnTo>
                    <a:pt x="819" y="831"/>
                  </a:lnTo>
                  <a:lnTo>
                    <a:pt x="795" y="836"/>
                  </a:lnTo>
                  <a:lnTo>
                    <a:pt x="814" y="851"/>
                  </a:lnTo>
                  <a:lnTo>
                    <a:pt x="827" y="863"/>
                  </a:lnTo>
                  <a:lnTo>
                    <a:pt x="799" y="861"/>
                  </a:lnTo>
                  <a:lnTo>
                    <a:pt x="783" y="854"/>
                  </a:lnTo>
                  <a:lnTo>
                    <a:pt x="791" y="854"/>
                  </a:lnTo>
                  <a:lnTo>
                    <a:pt x="791" y="849"/>
                  </a:lnTo>
                  <a:lnTo>
                    <a:pt x="802" y="856"/>
                  </a:lnTo>
                  <a:lnTo>
                    <a:pt x="795" y="841"/>
                  </a:lnTo>
                  <a:lnTo>
                    <a:pt x="766" y="846"/>
                  </a:lnTo>
                  <a:lnTo>
                    <a:pt x="778" y="849"/>
                  </a:lnTo>
                  <a:lnTo>
                    <a:pt x="775" y="854"/>
                  </a:lnTo>
                  <a:lnTo>
                    <a:pt x="787" y="858"/>
                  </a:lnTo>
                  <a:lnTo>
                    <a:pt x="759" y="851"/>
                  </a:lnTo>
                  <a:lnTo>
                    <a:pt x="771" y="851"/>
                  </a:lnTo>
                  <a:lnTo>
                    <a:pt x="750" y="844"/>
                  </a:lnTo>
                  <a:lnTo>
                    <a:pt x="750" y="839"/>
                  </a:lnTo>
                  <a:lnTo>
                    <a:pt x="754" y="844"/>
                  </a:lnTo>
                  <a:lnTo>
                    <a:pt x="778" y="836"/>
                  </a:lnTo>
                  <a:lnTo>
                    <a:pt x="738" y="834"/>
                  </a:lnTo>
                  <a:lnTo>
                    <a:pt x="754" y="846"/>
                  </a:lnTo>
                  <a:lnTo>
                    <a:pt x="742" y="846"/>
                  </a:lnTo>
                  <a:lnTo>
                    <a:pt x="746" y="844"/>
                  </a:lnTo>
                  <a:lnTo>
                    <a:pt x="734" y="844"/>
                  </a:lnTo>
                  <a:lnTo>
                    <a:pt x="738" y="836"/>
                  </a:lnTo>
                  <a:lnTo>
                    <a:pt x="726" y="841"/>
                  </a:lnTo>
                  <a:lnTo>
                    <a:pt x="702" y="826"/>
                  </a:lnTo>
                  <a:lnTo>
                    <a:pt x="730" y="829"/>
                  </a:lnTo>
                  <a:lnTo>
                    <a:pt x="723" y="824"/>
                  </a:lnTo>
                  <a:lnTo>
                    <a:pt x="738" y="829"/>
                  </a:lnTo>
                  <a:lnTo>
                    <a:pt x="734" y="834"/>
                  </a:lnTo>
                  <a:lnTo>
                    <a:pt x="746" y="834"/>
                  </a:lnTo>
                  <a:lnTo>
                    <a:pt x="723" y="819"/>
                  </a:lnTo>
                  <a:lnTo>
                    <a:pt x="694" y="811"/>
                  </a:lnTo>
                  <a:lnTo>
                    <a:pt x="723" y="819"/>
                  </a:lnTo>
                  <a:lnTo>
                    <a:pt x="698" y="816"/>
                  </a:lnTo>
                  <a:lnTo>
                    <a:pt x="714" y="821"/>
                  </a:lnTo>
                  <a:lnTo>
                    <a:pt x="714" y="826"/>
                  </a:lnTo>
                  <a:lnTo>
                    <a:pt x="694" y="816"/>
                  </a:lnTo>
                  <a:lnTo>
                    <a:pt x="706" y="826"/>
                  </a:lnTo>
                  <a:lnTo>
                    <a:pt x="706" y="824"/>
                  </a:lnTo>
                  <a:lnTo>
                    <a:pt x="694" y="819"/>
                  </a:lnTo>
                  <a:lnTo>
                    <a:pt x="681" y="816"/>
                  </a:lnTo>
                  <a:lnTo>
                    <a:pt x="674" y="811"/>
                  </a:lnTo>
                  <a:lnTo>
                    <a:pt x="690" y="816"/>
                  </a:lnTo>
                  <a:lnTo>
                    <a:pt x="669" y="807"/>
                  </a:lnTo>
                  <a:lnTo>
                    <a:pt x="661" y="809"/>
                  </a:lnTo>
                  <a:lnTo>
                    <a:pt x="645" y="802"/>
                  </a:lnTo>
                  <a:lnTo>
                    <a:pt x="661" y="802"/>
                  </a:lnTo>
                  <a:lnTo>
                    <a:pt x="645" y="790"/>
                  </a:lnTo>
                  <a:lnTo>
                    <a:pt x="649" y="800"/>
                  </a:lnTo>
                  <a:lnTo>
                    <a:pt x="629" y="792"/>
                  </a:lnTo>
                  <a:lnTo>
                    <a:pt x="641" y="794"/>
                  </a:lnTo>
                  <a:lnTo>
                    <a:pt x="633" y="790"/>
                  </a:lnTo>
                  <a:lnTo>
                    <a:pt x="609" y="787"/>
                  </a:lnTo>
                  <a:lnTo>
                    <a:pt x="633" y="787"/>
                  </a:lnTo>
                  <a:lnTo>
                    <a:pt x="609" y="782"/>
                  </a:lnTo>
                  <a:lnTo>
                    <a:pt x="625" y="782"/>
                  </a:lnTo>
                  <a:lnTo>
                    <a:pt x="617" y="777"/>
                  </a:lnTo>
                  <a:lnTo>
                    <a:pt x="605" y="777"/>
                  </a:lnTo>
                  <a:lnTo>
                    <a:pt x="621" y="774"/>
                  </a:lnTo>
                  <a:lnTo>
                    <a:pt x="601" y="770"/>
                  </a:lnTo>
                  <a:lnTo>
                    <a:pt x="601" y="767"/>
                  </a:lnTo>
                  <a:lnTo>
                    <a:pt x="588" y="760"/>
                  </a:lnTo>
                  <a:lnTo>
                    <a:pt x="588" y="767"/>
                  </a:lnTo>
                  <a:lnTo>
                    <a:pt x="568" y="755"/>
                  </a:lnTo>
                  <a:lnTo>
                    <a:pt x="576" y="753"/>
                  </a:lnTo>
                  <a:lnTo>
                    <a:pt x="561" y="751"/>
                  </a:lnTo>
                  <a:lnTo>
                    <a:pt x="568" y="745"/>
                  </a:lnTo>
                  <a:lnTo>
                    <a:pt x="537" y="738"/>
                  </a:lnTo>
                  <a:lnTo>
                    <a:pt x="553" y="743"/>
                  </a:lnTo>
                  <a:lnTo>
                    <a:pt x="544" y="738"/>
                  </a:lnTo>
                  <a:lnTo>
                    <a:pt x="573" y="740"/>
                  </a:lnTo>
                  <a:lnTo>
                    <a:pt x="573" y="738"/>
                  </a:lnTo>
                  <a:lnTo>
                    <a:pt x="561" y="736"/>
                  </a:lnTo>
                  <a:lnTo>
                    <a:pt x="573" y="736"/>
                  </a:lnTo>
                  <a:lnTo>
                    <a:pt x="549" y="730"/>
                  </a:lnTo>
                  <a:lnTo>
                    <a:pt x="544" y="725"/>
                  </a:lnTo>
                  <a:lnTo>
                    <a:pt x="524" y="730"/>
                  </a:lnTo>
                  <a:lnTo>
                    <a:pt x="524" y="728"/>
                  </a:lnTo>
                  <a:lnTo>
                    <a:pt x="537" y="728"/>
                  </a:lnTo>
                  <a:lnTo>
                    <a:pt x="520" y="725"/>
                  </a:lnTo>
                  <a:lnTo>
                    <a:pt x="520" y="716"/>
                  </a:lnTo>
                  <a:lnTo>
                    <a:pt x="499" y="711"/>
                  </a:lnTo>
                  <a:lnTo>
                    <a:pt x="484" y="709"/>
                  </a:lnTo>
                  <a:lnTo>
                    <a:pt x="476" y="704"/>
                  </a:lnTo>
                  <a:lnTo>
                    <a:pt x="464" y="709"/>
                  </a:lnTo>
                  <a:lnTo>
                    <a:pt x="476" y="716"/>
                  </a:lnTo>
                  <a:lnTo>
                    <a:pt x="459" y="709"/>
                  </a:lnTo>
                  <a:lnTo>
                    <a:pt x="472" y="696"/>
                  </a:lnTo>
                  <a:lnTo>
                    <a:pt x="464" y="689"/>
                  </a:lnTo>
                  <a:lnTo>
                    <a:pt x="476" y="694"/>
                  </a:lnTo>
                  <a:lnTo>
                    <a:pt x="476" y="686"/>
                  </a:lnTo>
                  <a:lnTo>
                    <a:pt x="487" y="694"/>
                  </a:lnTo>
                  <a:lnTo>
                    <a:pt x="480" y="696"/>
                  </a:lnTo>
                  <a:lnTo>
                    <a:pt x="499" y="699"/>
                  </a:lnTo>
                  <a:lnTo>
                    <a:pt x="492" y="694"/>
                  </a:lnTo>
                  <a:lnTo>
                    <a:pt x="512" y="704"/>
                  </a:lnTo>
                  <a:lnTo>
                    <a:pt x="504" y="691"/>
                  </a:lnTo>
                  <a:lnTo>
                    <a:pt x="504" y="699"/>
                  </a:lnTo>
                  <a:lnTo>
                    <a:pt x="495" y="691"/>
                  </a:lnTo>
                  <a:lnTo>
                    <a:pt x="499" y="681"/>
                  </a:lnTo>
                  <a:lnTo>
                    <a:pt x="492" y="686"/>
                  </a:lnTo>
                  <a:lnTo>
                    <a:pt x="484" y="679"/>
                  </a:lnTo>
                  <a:lnTo>
                    <a:pt x="499" y="676"/>
                  </a:lnTo>
                  <a:lnTo>
                    <a:pt x="480" y="674"/>
                  </a:lnTo>
                  <a:lnTo>
                    <a:pt x="472" y="666"/>
                  </a:lnTo>
                  <a:lnTo>
                    <a:pt x="484" y="662"/>
                  </a:lnTo>
                  <a:lnTo>
                    <a:pt x="480" y="655"/>
                  </a:lnTo>
                  <a:lnTo>
                    <a:pt x="476" y="655"/>
                  </a:lnTo>
                  <a:lnTo>
                    <a:pt x="447" y="647"/>
                  </a:lnTo>
                  <a:lnTo>
                    <a:pt x="452" y="639"/>
                  </a:lnTo>
                  <a:lnTo>
                    <a:pt x="431" y="632"/>
                  </a:lnTo>
                  <a:lnTo>
                    <a:pt x="431" y="622"/>
                  </a:lnTo>
                  <a:lnTo>
                    <a:pt x="414" y="610"/>
                  </a:lnTo>
                  <a:lnTo>
                    <a:pt x="423" y="610"/>
                  </a:lnTo>
                  <a:lnTo>
                    <a:pt x="407" y="605"/>
                  </a:lnTo>
                  <a:lnTo>
                    <a:pt x="411" y="602"/>
                  </a:lnTo>
                  <a:lnTo>
                    <a:pt x="423" y="608"/>
                  </a:lnTo>
                  <a:lnTo>
                    <a:pt x="407" y="595"/>
                  </a:lnTo>
                  <a:lnTo>
                    <a:pt x="395" y="595"/>
                  </a:lnTo>
                  <a:lnTo>
                    <a:pt x="395" y="583"/>
                  </a:lnTo>
                  <a:lnTo>
                    <a:pt x="400" y="590"/>
                  </a:lnTo>
                  <a:lnTo>
                    <a:pt x="379" y="585"/>
                  </a:lnTo>
                  <a:lnTo>
                    <a:pt x="371" y="593"/>
                  </a:lnTo>
                  <a:lnTo>
                    <a:pt x="363" y="593"/>
                  </a:lnTo>
                  <a:lnTo>
                    <a:pt x="354" y="588"/>
                  </a:lnTo>
                  <a:lnTo>
                    <a:pt x="338" y="578"/>
                  </a:lnTo>
                  <a:lnTo>
                    <a:pt x="322" y="549"/>
                  </a:lnTo>
                  <a:lnTo>
                    <a:pt x="310" y="534"/>
                  </a:lnTo>
                  <a:lnTo>
                    <a:pt x="246" y="489"/>
                  </a:lnTo>
                  <a:lnTo>
                    <a:pt x="253" y="485"/>
                  </a:lnTo>
                  <a:lnTo>
                    <a:pt x="205" y="386"/>
                  </a:lnTo>
                  <a:lnTo>
                    <a:pt x="205" y="374"/>
                  </a:lnTo>
                  <a:lnTo>
                    <a:pt x="153" y="325"/>
                  </a:lnTo>
                  <a:lnTo>
                    <a:pt x="153" y="307"/>
                  </a:lnTo>
                  <a:lnTo>
                    <a:pt x="124" y="285"/>
                  </a:lnTo>
                  <a:lnTo>
                    <a:pt x="108" y="219"/>
                  </a:lnTo>
                  <a:lnTo>
                    <a:pt x="96" y="194"/>
                  </a:lnTo>
                  <a:lnTo>
                    <a:pt x="72" y="153"/>
                  </a:lnTo>
                  <a:lnTo>
                    <a:pt x="64" y="150"/>
                  </a:lnTo>
                  <a:lnTo>
                    <a:pt x="56" y="138"/>
                  </a:lnTo>
                  <a:lnTo>
                    <a:pt x="64" y="135"/>
                  </a:lnTo>
                  <a:lnTo>
                    <a:pt x="52" y="98"/>
                  </a:lnTo>
                  <a:lnTo>
                    <a:pt x="0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288440" y="2010600"/>
              <a:ext cx="540720" cy="344160"/>
            </a:xfrm>
            <a:custGeom>
              <a:avLst/>
              <a:gdLst/>
              <a:ahLst/>
              <a:rect l="l" t="t" r="r" b="b"/>
              <a:pathLst>
                <a:path w="1505" h="959">
                  <a:moveTo>
                    <a:pt x="839" y="32"/>
                  </a:moveTo>
                  <a:lnTo>
                    <a:pt x="843" y="27"/>
                  </a:lnTo>
                  <a:lnTo>
                    <a:pt x="847" y="34"/>
                  </a:lnTo>
                  <a:lnTo>
                    <a:pt x="847" y="22"/>
                  </a:lnTo>
                  <a:lnTo>
                    <a:pt x="864" y="34"/>
                  </a:lnTo>
                  <a:lnTo>
                    <a:pt x="864" y="49"/>
                  </a:lnTo>
                  <a:lnTo>
                    <a:pt x="871" y="81"/>
                  </a:lnTo>
                  <a:lnTo>
                    <a:pt x="903" y="91"/>
                  </a:lnTo>
                  <a:lnTo>
                    <a:pt x="903" y="103"/>
                  </a:lnTo>
                  <a:lnTo>
                    <a:pt x="847" y="133"/>
                  </a:lnTo>
                  <a:lnTo>
                    <a:pt x="827" y="165"/>
                  </a:lnTo>
                  <a:lnTo>
                    <a:pt x="794" y="169"/>
                  </a:lnTo>
                  <a:lnTo>
                    <a:pt x="794" y="172"/>
                  </a:lnTo>
                  <a:lnTo>
                    <a:pt x="814" y="175"/>
                  </a:lnTo>
                  <a:lnTo>
                    <a:pt x="867" y="155"/>
                  </a:lnTo>
                  <a:lnTo>
                    <a:pt x="875" y="177"/>
                  </a:lnTo>
                  <a:lnTo>
                    <a:pt x="884" y="184"/>
                  </a:lnTo>
                  <a:lnTo>
                    <a:pt x="903" y="177"/>
                  </a:lnTo>
                  <a:lnTo>
                    <a:pt x="907" y="184"/>
                  </a:lnTo>
                  <a:lnTo>
                    <a:pt x="907" y="180"/>
                  </a:lnTo>
                  <a:lnTo>
                    <a:pt x="916" y="182"/>
                  </a:lnTo>
                  <a:lnTo>
                    <a:pt x="924" y="177"/>
                  </a:lnTo>
                  <a:lnTo>
                    <a:pt x="916" y="199"/>
                  </a:lnTo>
                  <a:lnTo>
                    <a:pt x="944" y="175"/>
                  </a:lnTo>
                  <a:lnTo>
                    <a:pt x="964" y="172"/>
                  </a:lnTo>
                  <a:lnTo>
                    <a:pt x="960" y="165"/>
                  </a:lnTo>
                  <a:lnTo>
                    <a:pt x="976" y="150"/>
                  </a:lnTo>
                  <a:lnTo>
                    <a:pt x="1001" y="152"/>
                  </a:lnTo>
                  <a:lnTo>
                    <a:pt x="1004" y="148"/>
                  </a:lnTo>
                  <a:lnTo>
                    <a:pt x="1021" y="155"/>
                  </a:lnTo>
                  <a:lnTo>
                    <a:pt x="1025" y="150"/>
                  </a:lnTo>
                  <a:lnTo>
                    <a:pt x="1033" y="152"/>
                  </a:lnTo>
                  <a:lnTo>
                    <a:pt x="1028" y="157"/>
                  </a:lnTo>
                  <a:lnTo>
                    <a:pt x="1049" y="155"/>
                  </a:lnTo>
                  <a:lnTo>
                    <a:pt x="1045" y="160"/>
                  </a:lnTo>
                  <a:lnTo>
                    <a:pt x="1057" y="157"/>
                  </a:lnTo>
                  <a:lnTo>
                    <a:pt x="1065" y="165"/>
                  </a:lnTo>
                  <a:lnTo>
                    <a:pt x="1069" y="160"/>
                  </a:lnTo>
                  <a:lnTo>
                    <a:pt x="1081" y="165"/>
                  </a:lnTo>
                  <a:lnTo>
                    <a:pt x="1077" y="169"/>
                  </a:lnTo>
                  <a:lnTo>
                    <a:pt x="1081" y="165"/>
                  </a:lnTo>
                  <a:lnTo>
                    <a:pt x="1081" y="175"/>
                  </a:lnTo>
                  <a:lnTo>
                    <a:pt x="1102" y="167"/>
                  </a:lnTo>
                  <a:lnTo>
                    <a:pt x="1098" y="172"/>
                  </a:lnTo>
                  <a:lnTo>
                    <a:pt x="1113" y="175"/>
                  </a:lnTo>
                  <a:lnTo>
                    <a:pt x="1117" y="182"/>
                  </a:lnTo>
                  <a:lnTo>
                    <a:pt x="1105" y="189"/>
                  </a:lnTo>
                  <a:lnTo>
                    <a:pt x="1109" y="191"/>
                  </a:lnTo>
                  <a:lnTo>
                    <a:pt x="1117" y="184"/>
                  </a:lnTo>
                  <a:lnTo>
                    <a:pt x="1122" y="189"/>
                  </a:lnTo>
                  <a:lnTo>
                    <a:pt x="1109" y="197"/>
                  </a:lnTo>
                  <a:lnTo>
                    <a:pt x="1105" y="214"/>
                  </a:lnTo>
                  <a:lnTo>
                    <a:pt x="1122" y="202"/>
                  </a:lnTo>
                  <a:lnTo>
                    <a:pt x="1125" y="191"/>
                  </a:lnTo>
                  <a:lnTo>
                    <a:pt x="1134" y="191"/>
                  </a:lnTo>
                  <a:lnTo>
                    <a:pt x="1129" y="202"/>
                  </a:lnTo>
                  <a:lnTo>
                    <a:pt x="1162" y="189"/>
                  </a:lnTo>
                  <a:lnTo>
                    <a:pt x="1206" y="202"/>
                  </a:lnTo>
                  <a:lnTo>
                    <a:pt x="1223" y="199"/>
                  </a:lnTo>
                  <a:lnTo>
                    <a:pt x="1247" y="206"/>
                  </a:lnTo>
                  <a:lnTo>
                    <a:pt x="1291" y="202"/>
                  </a:lnTo>
                  <a:lnTo>
                    <a:pt x="1356" y="224"/>
                  </a:lnTo>
                  <a:lnTo>
                    <a:pt x="1408" y="253"/>
                  </a:lnTo>
                  <a:lnTo>
                    <a:pt x="1477" y="261"/>
                  </a:lnTo>
                  <a:lnTo>
                    <a:pt x="1500" y="302"/>
                  </a:lnTo>
                  <a:lnTo>
                    <a:pt x="1504" y="307"/>
                  </a:lnTo>
                  <a:lnTo>
                    <a:pt x="1500" y="337"/>
                  </a:lnTo>
                  <a:lnTo>
                    <a:pt x="1489" y="356"/>
                  </a:lnTo>
                  <a:lnTo>
                    <a:pt x="1464" y="367"/>
                  </a:lnTo>
                  <a:lnTo>
                    <a:pt x="1473" y="372"/>
                  </a:lnTo>
                  <a:lnTo>
                    <a:pt x="1453" y="388"/>
                  </a:lnTo>
                  <a:lnTo>
                    <a:pt x="1421" y="403"/>
                  </a:lnTo>
                  <a:lnTo>
                    <a:pt x="1424" y="406"/>
                  </a:lnTo>
                  <a:lnTo>
                    <a:pt x="1416" y="413"/>
                  </a:lnTo>
                  <a:lnTo>
                    <a:pt x="1412" y="410"/>
                  </a:lnTo>
                  <a:lnTo>
                    <a:pt x="1392" y="445"/>
                  </a:lnTo>
                  <a:lnTo>
                    <a:pt x="1380" y="452"/>
                  </a:lnTo>
                  <a:lnTo>
                    <a:pt x="1380" y="445"/>
                  </a:lnTo>
                  <a:lnTo>
                    <a:pt x="1363" y="445"/>
                  </a:lnTo>
                  <a:lnTo>
                    <a:pt x="1372" y="447"/>
                  </a:lnTo>
                  <a:lnTo>
                    <a:pt x="1360" y="460"/>
                  </a:lnTo>
                  <a:lnTo>
                    <a:pt x="1363" y="470"/>
                  </a:lnTo>
                  <a:lnTo>
                    <a:pt x="1360" y="470"/>
                  </a:lnTo>
                  <a:lnTo>
                    <a:pt x="1368" y="474"/>
                  </a:lnTo>
                  <a:lnTo>
                    <a:pt x="1380" y="521"/>
                  </a:lnTo>
                  <a:lnTo>
                    <a:pt x="1380" y="566"/>
                  </a:lnTo>
                  <a:lnTo>
                    <a:pt x="1363" y="578"/>
                  </a:lnTo>
                  <a:lnTo>
                    <a:pt x="1368" y="613"/>
                  </a:lnTo>
                  <a:lnTo>
                    <a:pt x="1340" y="651"/>
                  </a:lnTo>
                  <a:lnTo>
                    <a:pt x="1343" y="671"/>
                  </a:lnTo>
                  <a:lnTo>
                    <a:pt x="1320" y="678"/>
                  </a:lnTo>
                  <a:lnTo>
                    <a:pt x="1311" y="694"/>
                  </a:lnTo>
                  <a:lnTo>
                    <a:pt x="1275" y="696"/>
                  </a:lnTo>
                  <a:lnTo>
                    <a:pt x="1270" y="688"/>
                  </a:lnTo>
                  <a:lnTo>
                    <a:pt x="1270" y="694"/>
                  </a:lnTo>
                  <a:lnTo>
                    <a:pt x="1251" y="694"/>
                  </a:lnTo>
                  <a:lnTo>
                    <a:pt x="1226" y="696"/>
                  </a:lnTo>
                  <a:lnTo>
                    <a:pt x="1219" y="698"/>
                  </a:lnTo>
                  <a:lnTo>
                    <a:pt x="1226" y="703"/>
                  </a:lnTo>
                  <a:lnTo>
                    <a:pt x="1194" y="710"/>
                  </a:lnTo>
                  <a:lnTo>
                    <a:pt x="1197" y="718"/>
                  </a:lnTo>
                  <a:lnTo>
                    <a:pt x="1162" y="718"/>
                  </a:lnTo>
                  <a:lnTo>
                    <a:pt x="1117" y="748"/>
                  </a:lnTo>
                  <a:lnTo>
                    <a:pt x="1117" y="755"/>
                  </a:lnTo>
                  <a:lnTo>
                    <a:pt x="1113" y="752"/>
                  </a:lnTo>
                  <a:lnTo>
                    <a:pt x="1105" y="752"/>
                  </a:lnTo>
                  <a:lnTo>
                    <a:pt x="1093" y="755"/>
                  </a:lnTo>
                  <a:lnTo>
                    <a:pt x="1109" y="759"/>
                  </a:lnTo>
                  <a:lnTo>
                    <a:pt x="1098" y="767"/>
                  </a:lnTo>
                  <a:lnTo>
                    <a:pt x="1105" y="777"/>
                  </a:lnTo>
                  <a:lnTo>
                    <a:pt x="1102" y="772"/>
                  </a:lnTo>
                  <a:lnTo>
                    <a:pt x="1125" y="799"/>
                  </a:lnTo>
                  <a:lnTo>
                    <a:pt x="1134" y="823"/>
                  </a:lnTo>
                  <a:lnTo>
                    <a:pt x="1134" y="831"/>
                  </a:lnTo>
                  <a:lnTo>
                    <a:pt x="1109" y="853"/>
                  </a:lnTo>
                  <a:lnTo>
                    <a:pt x="1105" y="863"/>
                  </a:lnTo>
                  <a:lnTo>
                    <a:pt x="1105" y="865"/>
                  </a:lnTo>
                  <a:lnTo>
                    <a:pt x="1105" y="880"/>
                  </a:lnTo>
                  <a:lnTo>
                    <a:pt x="1098" y="890"/>
                  </a:lnTo>
                  <a:lnTo>
                    <a:pt x="1098" y="893"/>
                  </a:lnTo>
                  <a:lnTo>
                    <a:pt x="1098" y="898"/>
                  </a:lnTo>
                  <a:lnTo>
                    <a:pt x="1069" y="919"/>
                  </a:lnTo>
                  <a:lnTo>
                    <a:pt x="1065" y="912"/>
                  </a:lnTo>
                  <a:lnTo>
                    <a:pt x="1086" y="902"/>
                  </a:lnTo>
                  <a:lnTo>
                    <a:pt x="1093" y="878"/>
                  </a:lnTo>
                  <a:lnTo>
                    <a:pt x="1089" y="873"/>
                  </a:lnTo>
                  <a:lnTo>
                    <a:pt x="1081" y="878"/>
                  </a:lnTo>
                  <a:lnTo>
                    <a:pt x="1065" y="868"/>
                  </a:lnTo>
                  <a:lnTo>
                    <a:pt x="1077" y="888"/>
                  </a:lnTo>
                  <a:lnTo>
                    <a:pt x="1069" y="885"/>
                  </a:lnTo>
                  <a:lnTo>
                    <a:pt x="1073" y="895"/>
                  </a:lnTo>
                  <a:lnTo>
                    <a:pt x="1061" y="900"/>
                  </a:lnTo>
                  <a:lnTo>
                    <a:pt x="1057" y="912"/>
                  </a:lnTo>
                  <a:lnTo>
                    <a:pt x="1065" y="944"/>
                  </a:lnTo>
                  <a:lnTo>
                    <a:pt x="1049" y="958"/>
                  </a:lnTo>
                  <a:lnTo>
                    <a:pt x="1040" y="956"/>
                  </a:lnTo>
                  <a:lnTo>
                    <a:pt x="1036" y="944"/>
                  </a:lnTo>
                  <a:lnTo>
                    <a:pt x="1040" y="935"/>
                  </a:lnTo>
                  <a:lnTo>
                    <a:pt x="1040" y="932"/>
                  </a:lnTo>
                  <a:lnTo>
                    <a:pt x="1009" y="919"/>
                  </a:lnTo>
                  <a:lnTo>
                    <a:pt x="940" y="898"/>
                  </a:lnTo>
                  <a:lnTo>
                    <a:pt x="928" y="893"/>
                  </a:lnTo>
                  <a:lnTo>
                    <a:pt x="920" y="898"/>
                  </a:lnTo>
                  <a:lnTo>
                    <a:pt x="884" y="878"/>
                  </a:lnTo>
                  <a:lnTo>
                    <a:pt x="847" y="878"/>
                  </a:lnTo>
                  <a:lnTo>
                    <a:pt x="884" y="828"/>
                  </a:lnTo>
                  <a:lnTo>
                    <a:pt x="936" y="801"/>
                  </a:lnTo>
                  <a:lnTo>
                    <a:pt x="928" y="779"/>
                  </a:lnTo>
                  <a:lnTo>
                    <a:pt x="916" y="767"/>
                  </a:lnTo>
                  <a:lnTo>
                    <a:pt x="903" y="762"/>
                  </a:lnTo>
                  <a:lnTo>
                    <a:pt x="887" y="765"/>
                  </a:lnTo>
                  <a:lnTo>
                    <a:pt x="879" y="728"/>
                  </a:lnTo>
                  <a:lnTo>
                    <a:pt x="839" y="725"/>
                  </a:lnTo>
                  <a:lnTo>
                    <a:pt x="802" y="683"/>
                  </a:lnTo>
                  <a:lnTo>
                    <a:pt x="766" y="686"/>
                  </a:lnTo>
                  <a:lnTo>
                    <a:pt x="721" y="681"/>
                  </a:lnTo>
                  <a:lnTo>
                    <a:pt x="713" y="654"/>
                  </a:lnTo>
                  <a:lnTo>
                    <a:pt x="694" y="634"/>
                  </a:lnTo>
                  <a:lnTo>
                    <a:pt x="702" y="629"/>
                  </a:lnTo>
                  <a:lnTo>
                    <a:pt x="690" y="624"/>
                  </a:lnTo>
                  <a:lnTo>
                    <a:pt x="690" y="622"/>
                  </a:lnTo>
                  <a:lnTo>
                    <a:pt x="694" y="617"/>
                  </a:lnTo>
                  <a:lnTo>
                    <a:pt x="694" y="610"/>
                  </a:lnTo>
                  <a:lnTo>
                    <a:pt x="694" y="607"/>
                  </a:lnTo>
                  <a:lnTo>
                    <a:pt x="694" y="602"/>
                  </a:lnTo>
                  <a:lnTo>
                    <a:pt x="694" y="597"/>
                  </a:lnTo>
                  <a:lnTo>
                    <a:pt x="698" y="585"/>
                  </a:lnTo>
                  <a:lnTo>
                    <a:pt x="682" y="570"/>
                  </a:lnTo>
                  <a:lnTo>
                    <a:pt x="653" y="563"/>
                  </a:lnTo>
                  <a:lnTo>
                    <a:pt x="649" y="538"/>
                  </a:lnTo>
                  <a:lnTo>
                    <a:pt x="645" y="538"/>
                  </a:lnTo>
                  <a:lnTo>
                    <a:pt x="617" y="538"/>
                  </a:lnTo>
                  <a:lnTo>
                    <a:pt x="597" y="538"/>
                  </a:lnTo>
                  <a:lnTo>
                    <a:pt x="580" y="538"/>
                  </a:lnTo>
                  <a:lnTo>
                    <a:pt x="572" y="526"/>
                  </a:lnTo>
                  <a:lnTo>
                    <a:pt x="572" y="519"/>
                  </a:lnTo>
                  <a:lnTo>
                    <a:pt x="560" y="514"/>
                  </a:lnTo>
                  <a:lnTo>
                    <a:pt x="556" y="509"/>
                  </a:lnTo>
                  <a:lnTo>
                    <a:pt x="560" y="509"/>
                  </a:lnTo>
                  <a:lnTo>
                    <a:pt x="560" y="494"/>
                  </a:lnTo>
                  <a:lnTo>
                    <a:pt x="548" y="477"/>
                  </a:lnTo>
                  <a:lnTo>
                    <a:pt x="496" y="472"/>
                  </a:lnTo>
                  <a:lnTo>
                    <a:pt x="456" y="460"/>
                  </a:lnTo>
                  <a:lnTo>
                    <a:pt x="444" y="450"/>
                  </a:lnTo>
                  <a:lnTo>
                    <a:pt x="391" y="445"/>
                  </a:lnTo>
                  <a:lnTo>
                    <a:pt x="355" y="428"/>
                  </a:lnTo>
                  <a:lnTo>
                    <a:pt x="346" y="408"/>
                  </a:lnTo>
                  <a:lnTo>
                    <a:pt x="334" y="376"/>
                  </a:lnTo>
                  <a:lnTo>
                    <a:pt x="290" y="381"/>
                  </a:lnTo>
                  <a:lnTo>
                    <a:pt x="254" y="403"/>
                  </a:lnTo>
                  <a:lnTo>
                    <a:pt x="234" y="408"/>
                  </a:lnTo>
                  <a:lnTo>
                    <a:pt x="218" y="413"/>
                  </a:lnTo>
                  <a:lnTo>
                    <a:pt x="184" y="410"/>
                  </a:lnTo>
                  <a:lnTo>
                    <a:pt x="145" y="410"/>
                  </a:lnTo>
                  <a:lnTo>
                    <a:pt x="141" y="372"/>
                  </a:lnTo>
                  <a:lnTo>
                    <a:pt x="116" y="386"/>
                  </a:lnTo>
                  <a:lnTo>
                    <a:pt x="83" y="386"/>
                  </a:lnTo>
                  <a:lnTo>
                    <a:pt x="72" y="374"/>
                  </a:lnTo>
                  <a:lnTo>
                    <a:pt x="40" y="372"/>
                  </a:lnTo>
                  <a:lnTo>
                    <a:pt x="44" y="361"/>
                  </a:lnTo>
                  <a:lnTo>
                    <a:pt x="0" y="325"/>
                  </a:lnTo>
                  <a:lnTo>
                    <a:pt x="7" y="318"/>
                  </a:lnTo>
                  <a:lnTo>
                    <a:pt x="3" y="307"/>
                  </a:lnTo>
                  <a:lnTo>
                    <a:pt x="23" y="297"/>
                  </a:lnTo>
                  <a:lnTo>
                    <a:pt x="32" y="263"/>
                  </a:lnTo>
                  <a:lnTo>
                    <a:pt x="68" y="246"/>
                  </a:lnTo>
                  <a:lnTo>
                    <a:pt x="137" y="241"/>
                  </a:lnTo>
                  <a:lnTo>
                    <a:pt x="137" y="238"/>
                  </a:lnTo>
                  <a:lnTo>
                    <a:pt x="141" y="224"/>
                  </a:lnTo>
                  <a:lnTo>
                    <a:pt x="145" y="211"/>
                  </a:lnTo>
                  <a:lnTo>
                    <a:pt x="145" y="204"/>
                  </a:lnTo>
                  <a:lnTo>
                    <a:pt x="145" y="197"/>
                  </a:lnTo>
                  <a:lnTo>
                    <a:pt x="149" y="184"/>
                  </a:lnTo>
                  <a:lnTo>
                    <a:pt x="153" y="169"/>
                  </a:lnTo>
                  <a:lnTo>
                    <a:pt x="157" y="162"/>
                  </a:lnTo>
                  <a:lnTo>
                    <a:pt x="145" y="145"/>
                  </a:lnTo>
                  <a:lnTo>
                    <a:pt x="128" y="135"/>
                  </a:lnTo>
                  <a:lnTo>
                    <a:pt x="128" y="115"/>
                  </a:lnTo>
                  <a:lnTo>
                    <a:pt x="164" y="115"/>
                  </a:lnTo>
                  <a:lnTo>
                    <a:pt x="161" y="106"/>
                  </a:lnTo>
                  <a:lnTo>
                    <a:pt x="137" y="103"/>
                  </a:lnTo>
                  <a:lnTo>
                    <a:pt x="137" y="88"/>
                  </a:lnTo>
                  <a:lnTo>
                    <a:pt x="201" y="88"/>
                  </a:lnTo>
                  <a:lnTo>
                    <a:pt x="201" y="81"/>
                  </a:lnTo>
                  <a:lnTo>
                    <a:pt x="209" y="86"/>
                  </a:lnTo>
                  <a:lnTo>
                    <a:pt x="230" y="76"/>
                  </a:lnTo>
                  <a:lnTo>
                    <a:pt x="241" y="88"/>
                  </a:lnTo>
                  <a:lnTo>
                    <a:pt x="241" y="101"/>
                  </a:lnTo>
                  <a:lnTo>
                    <a:pt x="249" y="101"/>
                  </a:lnTo>
                  <a:lnTo>
                    <a:pt x="269" y="113"/>
                  </a:lnTo>
                  <a:lnTo>
                    <a:pt x="298" y="106"/>
                  </a:lnTo>
                  <a:lnTo>
                    <a:pt x="302" y="115"/>
                  </a:lnTo>
                  <a:lnTo>
                    <a:pt x="330" y="101"/>
                  </a:lnTo>
                  <a:lnTo>
                    <a:pt x="355" y="91"/>
                  </a:lnTo>
                  <a:lnTo>
                    <a:pt x="363" y="81"/>
                  </a:lnTo>
                  <a:lnTo>
                    <a:pt x="383" y="76"/>
                  </a:lnTo>
                  <a:lnTo>
                    <a:pt x="387" y="71"/>
                  </a:lnTo>
                  <a:lnTo>
                    <a:pt x="359" y="69"/>
                  </a:lnTo>
                  <a:lnTo>
                    <a:pt x="359" y="41"/>
                  </a:lnTo>
                  <a:lnTo>
                    <a:pt x="334" y="22"/>
                  </a:lnTo>
                  <a:lnTo>
                    <a:pt x="363" y="34"/>
                  </a:lnTo>
                  <a:lnTo>
                    <a:pt x="391" y="32"/>
                  </a:lnTo>
                  <a:lnTo>
                    <a:pt x="406" y="41"/>
                  </a:lnTo>
                  <a:lnTo>
                    <a:pt x="411" y="30"/>
                  </a:lnTo>
                  <a:lnTo>
                    <a:pt x="460" y="25"/>
                  </a:lnTo>
                  <a:lnTo>
                    <a:pt x="496" y="10"/>
                  </a:lnTo>
                  <a:lnTo>
                    <a:pt x="491" y="0"/>
                  </a:lnTo>
                  <a:lnTo>
                    <a:pt x="516" y="0"/>
                  </a:lnTo>
                  <a:lnTo>
                    <a:pt x="512" y="17"/>
                  </a:lnTo>
                  <a:lnTo>
                    <a:pt x="532" y="22"/>
                  </a:lnTo>
                  <a:lnTo>
                    <a:pt x="536" y="32"/>
                  </a:lnTo>
                  <a:lnTo>
                    <a:pt x="524" y="41"/>
                  </a:lnTo>
                  <a:lnTo>
                    <a:pt x="516" y="64"/>
                  </a:lnTo>
                  <a:lnTo>
                    <a:pt x="524" y="84"/>
                  </a:lnTo>
                  <a:lnTo>
                    <a:pt x="545" y="96"/>
                  </a:lnTo>
                  <a:lnTo>
                    <a:pt x="580" y="91"/>
                  </a:lnTo>
                  <a:lnTo>
                    <a:pt x="593" y="93"/>
                  </a:lnTo>
                  <a:lnTo>
                    <a:pt x="626" y="81"/>
                  </a:lnTo>
                  <a:lnTo>
                    <a:pt x="649" y="84"/>
                  </a:lnTo>
                  <a:lnTo>
                    <a:pt x="673" y="84"/>
                  </a:lnTo>
                  <a:lnTo>
                    <a:pt x="665" y="74"/>
                  </a:lnTo>
                  <a:lnTo>
                    <a:pt x="669" y="69"/>
                  </a:lnTo>
                  <a:lnTo>
                    <a:pt x="721" y="74"/>
                  </a:lnTo>
                  <a:lnTo>
                    <a:pt x="742" y="79"/>
                  </a:lnTo>
                  <a:lnTo>
                    <a:pt x="758" y="71"/>
                  </a:lnTo>
                  <a:lnTo>
                    <a:pt x="787" y="79"/>
                  </a:lnTo>
                  <a:lnTo>
                    <a:pt x="794" y="74"/>
                  </a:lnTo>
                  <a:lnTo>
                    <a:pt x="839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88440" y="2010600"/>
              <a:ext cx="540720" cy="344160"/>
            </a:xfrm>
            <a:custGeom>
              <a:avLst/>
              <a:gdLst/>
              <a:ahLst/>
              <a:rect l="l" t="t" r="r" b="b"/>
              <a:pathLst>
                <a:path w="1505" h="959">
                  <a:moveTo>
                    <a:pt x="839" y="32"/>
                  </a:moveTo>
                  <a:lnTo>
                    <a:pt x="843" y="27"/>
                  </a:lnTo>
                  <a:lnTo>
                    <a:pt x="847" y="34"/>
                  </a:lnTo>
                  <a:lnTo>
                    <a:pt x="847" y="22"/>
                  </a:lnTo>
                  <a:lnTo>
                    <a:pt x="864" y="34"/>
                  </a:lnTo>
                  <a:lnTo>
                    <a:pt x="864" y="49"/>
                  </a:lnTo>
                  <a:lnTo>
                    <a:pt x="871" y="81"/>
                  </a:lnTo>
                  <a:lnTo>
                    <a:pt x="903" y="91"/>
                  </a:lnTo>
                  <a:lnTo>
                    <a:pt x="903" y="103"/>
                  </a:lnTo>
                  <a:lnTo>
                    <a:pt x="847" y="133"/>
                  </a:lnTo>
                  <a:lnTo>
                    <a:pt x="827" y="165"/>
                  </a:lnTo>
                  <a:lnTo>
                    <a:pt x="794" y="169"/>
                  </a:lnTo>
                  <a:lnTo>
                    <a:pt x="794" y="172"/>
                  </a:lnTo>
                  <a:lnTo>
                    <a:pt x="814" y="175"/>
                  </a:lnTo>
                  <a:lnTo>
                    <a:pt x="814" y="175"/>
                  </a:lnTo>
                  <a:lnTo>
                    <a:pt x="814" y="175"/>
                  </a:lnTo>
                  <a:lnTo>
                    <a:pt x="867" y="155"/>
                  </a:lnTo>
                  <a:lnTo>
                    <a:pt x="875" y="177"/>
                  </a:lnTo>
                  <a:lnTo>
                    <a:pt x="875" y="177"/>
                  </a:lnTo>
                  <a:lnTo>
                    <a:pt x="884" y="184"/>
                  </a:lnTo>
                  <a:lnTo>
                    <a:pt x="903" y="177"/>
                  </a:lnTo>
                  <a:lnTo>
                    <a:pt x="907" y="184"/>
                  </a:lnTo>
                  <a:lnTo>
                    <a:pt x="907" y="180"/>
                  </a:lnTo>
                  <a:lnTo>
                    <a:pt x="916" y="182"/>
                  </a:lnTo>
                  <a:lnTo>
                    <a:pt x="924" y="177"/>
                  </a:lnTo>
                  <a:lnTo>
                    <a:pt x="916" y="199"/>
                  </a:lnTo>
                  <a:lnTo>
                    <a:pt x="944" y="175"/>
                  </a:lnTo>
                  <a:lnTo>
                    <a:pt x="964" y="172"/>
                  </a:lnTo>
                  <a:lnTo>
                    <a:pt x="960" y="165"/>
                  </a:lnTo>
                  <a:lnTo>
                    <a:pt x="976" y="150"/>
                  </a:lnTo>
                  <a:lnTo>
                    <a:pt x="1001" y="152"/>
                  </a:lnTo>
                  <a:lnTo>
                    <a:pt x="1004" y="148"/>
                  </a:lnTo>
                  <a:lnTo>
                    <a:pt x="1021" y="155"/>
                  </a:lnTo>
                  <a:lnTo>
                    <a:pt x="1025" y="150"/>
                  </a:lnTo>
                  <a:lnTo>
                    <a:pt x="1033" y="152"/>
                  </a:lnTo>
                  <a:lnTo>
                    <a:pt x="1028" y="157"/>
                  </a:lnTo>
                  <a:lnTo>
                    <a:pt x="1049" y="155"/>
                  </a:lnTo>
                  <a:lnTo>
                    <a:pt x="1045" y="160"/>
                  </a:lnTo>
                  <a:lnTo>
                    <a:pt x="1057" y="157"/>
                  </a:lnTo>
                  <a:lnTo>
                    <a:pt x="1065" y="165"/>
                  </a:lnTo>
                  <a:lnTo>
                    <a:pt x="1069" y="160"/>
                  </a:lnTo>
                  <a:lnTo>
                    <a:pt x="1081" y="165"/>
                  </a:lnTo>
                  <a:lnTo>
                    <a:pt x="1077" y="169"/>
                  </a:lnTo>
                  <a:lnTo>
                    <a:pt x="1081" y="165"/>
                  </a:lnTo>
                  <a:lnTo>
                    <a:pt x="1081" y="175"/>
                  </a:lnTo>
                  <a:lnTo>
                    <a:pt x="1102" y="167"/>
                  </a:lnTo>
                  <a:lnTo>
                    <a:pt x="1098" y="172"/>
                  </a:lnTo>
                  <a:lnTo>
                    <a:pt x="1113" y="175"/>
                  </a:lnTo>
                  <a:lnTo>
                    <a:pt x="1117" y="182"/>
                  </a:lnTo>
                  <a:lnTo>
                    <a:pt x="1105" y="189"/>
                  </a:lnTo>
                  <a:lnTo>
                    <a:pt x="1109" y="191"/>
                  </a:lnTo>
                  <a:lnTo>
                    <a:pt x="1117" y="184"/>
                  </a:lnTo>
                  <a:lnTo>
                    <a:pt x="1122" y="189"/>
                  </a:lnTo>
                  <a:lnTo>
                    <a:pt x="1109" y="197"/>
                  </a:lnTo>
                  <a:lnTo>
                    <a:pt x="1105" y="214"/>
                  </a:lnTo>
                  <a:lnTo>
                    <a:pt x="1122" y="202"/>
                  </a:lnTo>
                  <a:lnTo>
                    <a:pt x="1125" y="191"/>
                  </a:lnTo>
                  <a:lnTo>
                    <a:pt x="1134" y="191"/>
                  </a:lnTo>
                  <a:lnTo>
                    <a:pt x="1129" y="202"/>
                  </a:lnTo>
                  <a:lnTo>
                    <a:pt x="1162" y="189"/>
                  </a:lnTo>
                  <a:lnTo>
                    <a:pt x="1206" y="202"/>
                  </a:lnTo>
                  <a:lnTo>
                    <a:pt x="1223" y="199"/>
                  </a:lnTo>
                  <a:lnTo>
                    <a:pt x="1247" y="206"/>
                  </a:lnTo>
                  <a:lnTo>
                    <a:pt x="1291" y="202"/>
                  </a:lnTo>
                  <a:lnTo>
                    <a:pt x="1356" y="224"/>
                  </a:lnTo>
                  <a:lnTo>
                    <a:pt x="1408" y="253"/>
                  </a:lnTo>
                  <a:lnTo>
                    <a:pt x="1477" y="261"/>
                  </a:lnTo>
                  <a:lnTo>
                    <a:pt x="1500" y="302"/>
                  </a:lnTo>
                  <a:lnTo>
                    <a:pt x="1504" y="307"/>
                  </a:lnTo>
                  <a:lnTo>
                    <a:pt x="1500" y="337"/>
                  </a:lnTo>
                  <a:lnTo>
                    <a:pt x="1489" y="356"/>
                  </a:lnTo>
                  <a:lnTo>
                    <a:pt x="1464" y="367"/>
                  </a:lnTo>
                  <a:lnTo>
                    <a:pt x="1473" y="372"/>
                  </a:lnTo>
                  <a:lnTo>
                    <a:pt x="1453" y="388"/>
                  </a:lnTo>
                  <a:lnTo>
                    <a:pt x="1421" y="403"/>
                  </a:lnTo>
                  <a:lnTo>
                    <a:pt x="1424" y="406"/>
                  </a:lnTo>
                  <a:lnTo>
                    <a:pt x="1416" y="413"/>
                  </a:lnTo>
                  <a:lnTo>
                    <a:pt x="1412" y="410"/>
                  </a:lnTo>
                  <a:lnTo>
                    <a:pt x="1392" y="445"/>
                  </a:lnTo>
                  <a:lnTo>
                    <a:pt x="1380" y="452"/>
                  </a:lnTo>
                  <a:lnTo>
                    <a:pt x="1380" y="445"/>
                  </a:lnTo>
                  <a:lnTo>
                    <a:pt x="1363" y="445"/>
                  </a:lnTo>
                  <a:lnTo>
                    <a:pt x="1372" y="447"/>
                  </a:lnTo>
                  <a:lnTo>
                    <a:pt x="1360" y="460"/>
                  </a:lnTo>
                  <a:lnTo>
                    <a:pt x="1363" y="470"/>
                  </a:lnTo>
                  <a:lnTo>
                    <a:pt x="1360" y="470"/>
                  </a:lnTo>
                  <a:lnTo>
                    <a:pt x="1368" y="474"/>
                  </a:lnTo>
                  <a:lnTo>
                    <a:pt x="1380" y="521"/>
                  </a:lnTo>
                  <a:lnTo>
                    <a:pt x="1380" y="566"/>
                  </a:lnTo>
                  <a:lnTo>
                    <a:pt x="1363" y="578"/>
                  </a:lnTo>
                  <a:lnTo>
                    <a:pt x="1368" y="613"/>
                  </a:lnTo>
                  <a:lnTo>
                    <a:pt x="1340" y="651"/>
                  </a:lnTo>
                  <a:lnTo>
                    <a:pt x="1343" y="671"/>
                  </a:lnTo>
                  <a:lnTo>
                    <a:pt x="1320" y="678"/>
                  </a:lnTo>
                  <a:lnTo>
                    <a:pt x="1311" y="694"/>
                  </a:lnTo>
                  <a:lnTo>
                    <a:pt x="1275" y="696"/>
                  </a:lnTo>
                  <a:lnTo>
                    <a:pt x="1270" y="688"/>
                  </a:lnTo>
                  <a:lnTo>
                    <a:pt x="1270" y="694"/>
                  </a:lnTo>
                  <a:lnTo>
                    <a:pt x="1251" y="694"/>
                  </a:lnTo>
                  <a:lnTo>
                    <a:pt x="1226" y="696"/>
                  </a:lnTo>
                  <a:lnTo>
                    <a:pt x="1219" y="698"/>
                  </a:lnTo>
                  <a:lnTo>
                    <a:pt x="1226" y="703"/>
                  </a:lnTo>
                  <a:lnTo>
                    <a:pt x="1194" y="710"/>
                  </a:lnTo>
                  <a:lnTo>
                    <a:pt x="1197" y="718"/>
                  </a:lnTo>
                  <a:lnTo>
                    <a:pt x="1162" y="718"/>
                  </a:lnTo>
                  <a:lnTo>
                    <a:pt x="1117" y="748"/>
                  </a:lnTo>
                  <a:lnTo>
                    <a:pt x="1117" y="755"/>
                  </a:lnTo>
                  <a:lnTo>
                    <a:pt x="1113" y="752"/>
                  </a:lnTo>
                  <a:lnTo>
                    <a:pt x="1105" y="752"/>
                  </a:lnTo>
                  <a:lnTo>
                    <a:pt x="1093" y="755"/>
                  </a:lnTo>
                  <a:lnTo>
                    <a:pt x="1109" y="759"/>
                  </a:lnTo>
                  <a:lnTo>
                    <a:pt x="1098" y="767"/>
                  </a:lnTo>
                  <a:lnTo>
                    <a:pt x="1105" y="777"/>
                  </a:lnTo>
                  <a:lnTo>
                    <a:pt x="1102" y="772"/>
                  </a:lnTo>
                  <a:lnTo>
                    <a:pt x="1125" y="799"/>
                  </a:lnTo>
                  <a:lnTo>
                    <a:pt x="1134" y="823"/>
                  </a:lnTo>
                  <a:lnTo>
                    <a:pt x="1134" y="831"/>
                  </a:lnTo>
                  <a:lnTo>
                    <a:pt x="1109" y="853"/>
                  </a:lnTo>
                  <a:lnTo>
                    <a:pt x="1105" y="863"/>
                  </a:lnTo>
                  <a:lnTo>
                    <a:pt x="1105" y="865"/>
                  </a:lnTo>
                  <a:lnTo>
                    <a:pt x="1105" y="880"/>
                  </a:lnTo>
                  <a:lnTo>
                    <a:pt x="1098" y="890"/>
                  </a:lnTo>
                  <a:lnTo>
                    <a:pt x="1098" y="893"/>
                  </a:lnTo>
                  <a:lnTo>
                    <a:pt x="1098" y="898"/>
                  </a:lnTo>
                  <a:lnTo>
                    <a:pt x="1069" y="919"/>
                  </a:lnTo>
                  <a:lnTo>
                    <a:pt x="1065" y="912"/>
                  </a:lnTo>
                  <a:lnTo>
                    <a:pt x="1086" y="902"/>
                  </a:lnTo>
                  <a:lnTo>
                    <a:pt x="1093" y="878"/>
                  </a:lnTo>
                  <a:lnTo>
                    <a:pt x="1089" y="873"/>
                  </a:lnTo>
                  <a:lnTo>
                    <a:pt x="1081" y="878"/>
                  </a:lnTo>
                  <a:lnTo>
                    <a:pt x="1065" y="868"/>
                  </a:lnTo>
                  <a:lnTo>
                    <a:pt x="1077" y="888"/>
                  </a:lnTo>
                  <a:lnTo>
                    <a:pt x="1069" y="885"/>
                  </a:lnTo>
                  <a:lnTo>
                    <a:pt x="1073" y="895"/>
                  </a:lnTo>
                  <a:lnTo>
                    <a:pt x="1061" y="900"/>
                  </a:lnTo>
                  <a:lnTo>
                    <a:pt x="1057" y="912"/>
                  </a:lnTo>
                  <a:lnTo>
                    <a:pt x="1065" y="944"/>
                  </a:lnTo>
                  <a:lnTo>
                    <a:pt x="1049" y="958"/>
                  </a:lnTo>
                  <a:lnTo>
                    <a:pt x="1040" y="956"/>
                  </a:lnTo>
                  <a:lnTo>
                    <a:pt x="1036" y="944"/>
                  </a:lnTo>
                  <a:lnTo>
                    <a:pt x="1040" y="935"/>
                  </a:lnTo>
                  <a:lnTo>
                    <a:pt x="1040" y="932"/>
                  </a:lnTo>
                  <a:lnTo>
                    <a:pt x="1009" y="919"/>
                  </a:lnTo>
                  <a:lnTo>
                    <a:pt x="940" y="898"/>
                  </a:lnTo>
                  <a:lnTo>
                    <a:pt x="928" y="893"/>
                  </a:lnTo>
                  <a:lnTo>
                    <a:pt x="920" y="898"/>
                  </a:lnTo>
                  <a:lnTo>
                    <a:pt x="884" y="878"/>
                  </a:lnTo>
                  <a:lnTo>
                    <a:pt x="847" y="878"/>
                  </a:lnTo>
                  <a:lnTo>
                    <a:pt x="884" y="828"/>
                  </a:lnTo>
                  <a:lnTo>
                    <a:pt x="936" y="801"/>
                  </a:lnTo>
                  <a:lnTo>
                    <a:pt x="928" y="779"/>
                  </a:lnTo>
                  <a:lnTo>
                    <a:pt x="916" y="767"/>
                  </a:lnTo>
                  <a:lnTo>
                    <a:pt x="903" y="762"/>
                  </a:lnTo>
                  <a:lnTo>
                    <a:pt x="887" y="765"/>
                  </a:lnTo>
                  <a:lnTo>
                    <a:pt x="879" y="728"/>
                  </a:lnTo>
                  <a:lnTo>
                    <a:pt x="839" y="725"/>
                  </a:lnTo>
                  <a:lnTo>
                    <a:pt x="802" y="683"/>
                  </a:lnTo>
                  <a:lnTo>
                    <a:pt x="766" y="686"/>
                  </a:lnTo>
                  <a:lnTo>
                    <a:pt x="721" y="681"/>
                  </a:lnTo>
                  <a:lnTo>
                    <a:pt x="713" y="654"/>
                  </a:lnTo>
                  <a:lnTo>
                    <a:pt x="694" y="634"/>
                  </a:lnTo>
                  <a:lnTo>
                    <a:pt x="702" y="629"/>
                  </a:lnTo>
                  <a:lnTo>
                    <a:pt x="690" y="624"/>
                  </a:lnTo>
                  <a:lnTo>
                    <a:pt x="690" y="622"/>
                  </a:lnTo>
                  <a:lnTo>
                    <a:pt x="694" y="617"/>
                  </a:lnTo>
                  <a:lnTo>
                    <a:pt x="694" y="610"/>
                  </a:lnTo>
                  <a:lnTo>
                    <a:pt x="694" y="607"/>
                  </a:lnTo>
                  <a:lnTo>
                    <a:pt x="694" y="602"/>
                  </a:lnTo>
                  <a:lnTo>
                    <a:pt x="694" y="597"/>
                  </a:lnTo>
                  <a:lnTo>
                    <a:pt x="698" y="585"/>
                  </a:lnTo>
                  <a:lnTo>
                    <a:pt x="698" y="585"/>
                  </a:lnTo>
                  <a:lnTo>
                    <a:pt x="682" y="570"/>
                  </a:lnTo>
                  <a:lnTo>
                    <a:pt x="653" y="563"/>
                  </a:lnTo>
                  <a:lnTo>
                    <a:pt x="649" y="538"/>
                  </a:lnTo>
                  <a:lnTo>
                    <a:pt x="645" y="538"/>
                  </a:lnTo>
                  <a:lnTo>
                    <a:pt x="617" y="538"/>
                  </a:lnTo>
                  <a:lnTo>
                    <a:pt x="597" y="538"/>
                  </a:lnTo>
                  <a:lnTo>
                    <a:pt x="580" y="538"/>
                  </a:lnTo>
                  <a:lnTo>
                    <a:pt x="572" y="526"/>
                  </a:lnTo>
                  <a:lnTo>
                    <a:pt x="572" y="519"/>
                  </a:lnTo>
                  <a:lnTo>
                    <a:pt x="560" y="514"/>
                  </a:lnTo>
                  <a:lnTo>
                    <a:pt x="556" y="509"/>
                  </a:lnTo>
                  <a:lnTo>
                    <a:pt x="560" y="509"/>
                  </a:lnTo>
                  <a:lnTo>
                    <a:pt x="560" y="494"/>
                  </a:lnTo>
                  <a:lnTo>
                    <a:pt x="548" y="477"/>
                  </a:lnTo>
                  <a:lnTo>
                    <a:pt x="496" y="472"/>
                  </a:lnTo>
                  <a:lnTo>
                    <a:pt x="456" y="460"/>
                  </a:lnTo>
                  <a:lnTo>
                    <a:pt x="444" y="450"/>
                  </a:lnTo>
                  <a:lnTo>
                    <a:pt x="391" y="445"/>
                  </a:lnTo>
                  <a:lnTo>
                    <a:pt x="355" y="428"/>
                  </a:lnTo>
                  <a:lnTo>
                    <a:pt x="346" y="408"/>
                  </a:lnTo>
                  <a:lnTo>
                    <a:pt x="334" y="376"/>
                  </a:lnTo>
                  <a:lnTo>
                    <a:pt x="290" y="381"/>
                  </a:lnTo>
                  <a:lnTo>
                    <a:pt x="254" y="403"/>
                  </a:lnTo>
                  <a:lnTo>
                    <a:pt x="234" y="408"/>
                  </a:lnTo>
                  <a:lnTo>
                    <a:pt x="218" y="413"/>
                  </a:lnTo>
                  <a:lnTo>
                    <a:pt x="184" y="410"/>
                  </a:lnTo>
                  <a:lnTo>
                    <a:pt x="145" y="410"/>
                  </a:lnTo>
                  <a:lnTo>
                    <a:pt x="141" y="372"/>
                  </a:lnTo>
                  <a:lnTo>
                    <a:pt x="116" y="386"/>
                  </a:lnTo>
                  <a:lnTo>
                    <a:pt x="83" y="386"/>
                  </a:lnTo>
                  <a:lnTo>
                    <a:pt x="72" y="374"/>
                  </a:lnTo>
                  <a:lnTo>
                    <a:pt x="40" y="372"/>
                  </a:lnTo>
                  <a:lnTo>
                    <a:pt x="44" y="361"/>
                  </a:lnTo>
                  <a:lnTo>
                    <a:pt x="0" y="325"/>
                  </a:lnTo>
                  <a:lnTo>
                    <a:pt x="7" y="318"/>
                  </a:lnTo>
                  <a:lnTo>
                    <a:pt x="3" y="307"/>
                  </a:lnTo>
                  <a:lnTo>
                    <a:pt x="23" y="297"/>
                  </a:lnTo>
                  <a:lnTo>
                    <a:pt x="32" y="263"/>
                  </a:lnTo>
                  <a:lnTo>
                    <a:pt x="68" y="246"/>
                  </a:lnTo>
                  <a:lnTo>
                    <a:pt x="137" y="241"/>
                  </a:lnTo>
                  <a:lnTo>
                    <a:pt x="137" y="238"/>
                  </a:lnTo>
                  <a:lnTo>
                    <a:pt x="141" y="224"/>
                  </a:lnTo>
                  <a:lnTo>
                    <a:pt x="145" y="211"/>
                  </a:lnTo>
                  <a:lnTo>
                    <a:pt x="145" y="204"/>
                  </a:lnTo>
                  <a:lnTo>
                    <a:pt x="145" y="197"/>
                  </a:lnTo>
                  <a:lnTo>
                    <a:pt x="149" y="184"/>
                  </a:lnTo>
                  <a:lnTo>
                    <a:pt x="153" y="169"/>
                  </a:lnTo>
                  <a:lnTo>
                    <a:pt x="157" y="162"/>
                  </a:lnTo>
                  <a:lnTo>
                    <a:pt x="145" y="145"/>
                  </a:lnTo>
                  <a:lnTo>
                    <a:pt x="128" y="135"/>
                  </a:lnTo>
                  <a:lnTo>
                    <a:pt x="128" y="115"/>
                  </a:lnTo>
                  <a:lnTo>
                    <a:pt x="164" y="115"/>
                  </a:lnTo>
                  <a:lnTo>
                    <a:pt x="161" y="106"/>
                  </a:lnTo>
                  <a:lnTo>
                    <a:pt x="137" y="103"/>
                  </a:lnTo>
                  <a:lnTo>
                    <a:pt x="137" y="88"/>
                  </a:lnTo>
                  <a:lnTo>
                    <a:pt x="201" y="88"/>
                  </a:lnTo>
                  <a:lnTo>
                    <a:pt x="201" y="81"/>
                  </a:lnTo>
                  <a:lnTo>
                    <a:pt x="209" y="86"/>
                  </a:lnTo>
                  <a:lnTo>
                    <a:pt x="230" y="76"/>
                  </a:lnTo>
                  <a:lnTo>
                    <a:pt x="241" y="88"/>
                  </a:lnTo>
                  <a:lnTo>
                    <a:pt x="241" y="101"/>
                  </a:lnTo>
                  <a:lnTo>
                    <a:pt x="249" y="101"/>
                  </a:lnTo>
                  <a:lnTo>
                    <a:pt x="269" y="113"/>
                  </a:lnTo>
                  <a:lnTo>
                    <a:pt x="298" y="106"/>
                  </a:lnTo>
                  <a:lnTo>
                    <a:pt x="302" y="115"/>
                  </a:lnTo>
                  <a:lnTo>
                    <a:pt x="330" y="101"/>
                  </a:lnTo>
                  <a:lnTo>
                    <a:pt x="355" y="91"/>
                  </a:lnTo>
                  <a:lnTo>
                    <a:pt x="363" y="81"/>
                  </a:lnTo>
                  <a:lnTo>
                    <a:pt x="383" y="76"/>
                  </a:lnTo>
                  <a:lnTo>
                    <a:pt x="387" y="71"/>
                  </a:lnTo>
                  <a:lnTo>
                    <a:pt x="359" y="69"/>
                  </a:lnTo>
                  <a:lnTo>
                    <a:pt x="359" y="41"/>
                  </a:lnTo>
                  <a:lnTo>
                    <a:pt x="334" y="22"/>
                  </a:lnTo>
                  <a:lnTo>
                    <a:pt x="363" y="34"/>
                  </a:lnTo>
                  <a:lnTo>
                    <a:pt x="391" y="32"/>
                  </a:lnTo>
                  <a:lnTo>
                    <a:pt x="406" y="41"/>
                  </a:lnTo>
                  <a:lnTo>
                    <a:pt x="411" y="30"/>
                  </a:lnTo>
                  <a:lnTo>
                    <a:pt x="460" y="25"/>
                  </a:lnTo>
                  <a:lnTo>
                    <a:pt x="496" y="10"/>
                  </a:lnTo>
                  <a:lnTo>
                    <a:pt x="491" y="0"/>
                  </a:lnTo>
                  <a:lnTo>
                    <a:pt x="516" y="0"/>
                  </a:lnTo>
                  <a:lnTo>
                    <a:pt x="512" y="17"/>
                  </a:lnTo>
                  <a:lnTo>
                    <a:pt x="532" y="22"/>
                  </a:lnTo>
                  <a:lnTo>
                    <a:pt x="536" y="32"/>
                  </a:lnTo>
                  <a:lnTo>
                    <a:pt x="524" y="41"/>
                  </a:lnTo>
                  <a:lnTo>
                    <a:pt x="516" y="64"/>
                  </a:lnTo>
                  <a:lnTo>
                    <a:pt x="524" y="84"/>
                  </a:lnTo>
                  <a:lnTo>
                    <a:pt x="545" y="96"/>
                  </a:lnTo>
                  <a:lnTo>
                    <a:pt x="580" y="91"/>
                  </a:lnTo>
                  <a:lnTo>
                    <a:pt x="593" y="93"/>
                  </a:lnTo>
                  <a:lnTo>
                    <a:pt x="626" y="81"/>
                  </a:lnTo>
                  <a:lnTo>
                    <a:pt x="649" y="84"/>
                  </a:lnTo>
                  <a:lnTo>
                    <a:pt x="673" y="84"/>
                  </a:lnTo>
                  <a:lnTo>
                    <a:pt x="665" y="74"/>
                  </a:lnTo>
                  <a:lnTo>
                    <a:pt x="669" y="69"/>
                  </a:lnTo>
                  <a:lnTo>
                    <a:pt x="721" y="74"/>
                  </a:lnTo>
                  <a:lnTo>
                    <a:pt x="742" y="79"/>
                  </a:lnTo>
                  <a:lnTo>
                    <a:pt x="758" y="71"/>
                  </a:lnTo>
                  <a:lnTo>
                    <a:pt x="787" y="79"/>
                  </a:lnTo>
                  <a:lnTo>
                    <a:pt x="794" y="74"/>
                  </a:lnTo>
                  <a:lnTo>
                    <a:pt x="839" y="3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99600" y="1947240"/>
              <a:ext cx="183600" cy="105840"/>
            </a:xfrm>
            <a:custGeom>
              <a:avLst/>
              <a:gdLst/>
              <a:ahLst/>
              <a:rect l="l" t="t" r="r" b="b"/>
              <a:pathLst>
                <a:path w="510" h="296">
                  <a:moveTo>
                    <a:pt x="459" y="180"/>
                  </a:moveTo>
                  <a:lnTo>
                    <a:pt x="464" y="190"/>
                  </a:lnTo>
                  <a:lnTo>
                    <a:pt x="428" y="205"/>
                  </a:lnTo>
                  <a:lnTo>
                    <a:pt x="379" y="210"/>
                  </a:lnTo>
                  <a:lnTo>
                    <a:pt x="374" y="221"/>
                  </a:lnTo>
                  <a:lnTo>
                    <a:pt x="359" y="212"/>
                  </a:lnTo>
                  <a:lnTo>
                    <a:pt x="331" y="214"/>
                  </a:lnTo>
                  <a:lnTo>
                    <a:pt x="302" y="202"/>
                  </a:lnTo>
                  <a:lnTo>
                    <a:pt x="327" y="221"/>
                  </a:lnTo>
                  <a:lnTo>
                    <a:pt x="327" y="249"/>
                  </a:lnTo>
                  <a:lnTo>
                    <a:pt x="355" y="251"/>
                  </a:lnTo>
                  <a:lnTo>
                    <a:pt x="351" y="256"/>
                  </a:lnTo>
                  <a:lnTo>
                    <a:pt x="331" y="261"/>
                  </a:lnTo>
                  <a:lnTo>
                    <a:pt x="323" y="271"/>
                  </a:lnTo>
                  <a:lnTo>
                    <a:pt x="298" y="281"/>
                  </a:lnTo>
                  <a:lnTo>
                    <a:pt x="270" y="295"/>
                  </a:lnTo>
                  <a:lnTo>
                    <a:pt x="266" y="286"/>
                  </a:lnTo>
                  <a:lnTo>
                    <a:pt x="237" y="293"/>
                  </a:lnTo>
                  <a:lnTo>
                    <a:pt x="217" y="281"/>
                  </a:lnTo>
                  <a:lnTo>
                    <a:pt x="205" y="251"/>
                  </a:lnTo>
                  <a:lnTo>
                    <a:pt x="181" y="241"/>
                  </a:lnTo>
                  <a:lnTo>
                    <a:pt x="205" y="224"/>
                  </a:lnTo>
                  <a:lnTo>
                    <a:pt x="190" y="207"/>
                  </a:lnTo>
                  <a:lnTo>
                    <a:pt x="186" y="197"/>
                  </a:lnTo>
                  <a:lnTo>
                    <a:pt x="209" y="156"/>
                  </a:lnTo>
                  <a:lnTo>
                    <a:pt x="141" y="158"/>
                  </a:lnTo>
                  <a:lnTo>
                    <a:pt x="109" y="133"/>
                  </a:lnTo>
                  <a:lnTo>
                    <a:pt x="40" y="133"/>
                  </a:lnTo>
                  <a:lnTo>
                    <a:pt x="24" y="121"/>
                  </a:lnTo>
                  <a:lnTo>
                    <a:pt x="32" y="104"/>
                  </a:lnTo>
                  <a:lnTo>
                    <a:pt x="24" y="79"/>
                  </a:lnTo>
                  <a:lnTo>
                    <a:pt x="0" y="76"/>
                  </a:lnTo>
                  <a:lnTo>
                    <a:pt x="44" y="27"/>
                  </a:lnTo>
                  <a:lnTo>
                    <a:pt x="68" y="15"/>
                  </a:lnTo>
                  <a:lnTo>
                    <a:pt x="96" y="10"/>
                  </a:lnTo>
                  <a:lnTo>
                    <a:pt x="68" y="18"/>
                  </a:lnTo>
                  <a:lnTo>
                    <a:pt x="76" y="40"/>
                  </a:lnTo>
                  <a:lnTo>
                    <a:pt x="51" y="62"/>
                  </a:lnTo>
                  <a:lnTo>
                    <a:pt x="64" y="82"/>
                  </a:lnTo>
                  <a:lnTo>
                    <a:pt x="89" y="74"/>
                  </a:lnTo>
                  <a:lnTo>
                    <a:pt x="93" y="64"/>
                  </a:lnTo>
                  <a:lnTo>
                    <a:pt x="76" y="37"/>
                  </a:lnTo>
                  <a:lnTo>
                    <a:pt x="149" y="20"/>
                  </a:lnTo>
                  <a:lnTo>
                    <a:pt x="149" y="15"/>
                  </a:lnTo>
                  <a:lnTo>
                    <a:pt x="132" y="18"/>
                  </a:lnTo>
                  <a:lnTo>
                    <a:pt x="132" y="10"/>
                  </a:lnTo>
                  <a:lnTo>
                    <a:pt x="145" y="0"/>
                  </a:lnTo>
                  <a:lnTo>
                    <a:pt x="157" y="20"/>
                  </a:lnTo>
                  <a:lnTo>
                    <a:pt x="202" y="27"/>
                  </a:lnTo>
                  <a:lnTo>
                    <a:pt x="202" y="40"/>
                  </a:lnTo>
                  <a:lnTo>
                    <a:pt x="278" y="42"/>
                  </a:lnTo>
                  <a:lnTo>
                    <a:pt x="286" y="52"/>
                  </a:lnTo>
                  <a:lnTo>
                    <a:pt x="318" y="57"/>
                  </a:lnTo>
                  <a:lnTo>
                    <a:pt x="370" y="47"/>
                  </a:lnTo>
                  <a:lnTo>
                    <a:pt x="351" y="42"/>
                  </a:lnTo>
                  <a:lnTo>
                    <a:pt x="443" y="42"/>
                  </a:lnTo>
                  <a:lnTo>
                    <a:pt x="403" y="47"/>
                  </a:lnTo>
                  <a:lnTo>
                    <a:pt x="396" y="52"/>
                  </a:lnTo>
                  <a:lnTo>
                    <a:pt x="408" y="50"/>
                  </a:lnTo>
                  <a:lnTo>
                    <a:pt x="412" y="57"/>
                  </a:lnTo>
                  <a:lnTo>
                    <a:pt x="396" y="57"/>
                  </a:lnTo>
                  <a:lnTo>
                    <a:pt x="412" y="54"/>
                  </a:lnTo>
                  <a:lnTo>
                    <a:pt x="419" y="67"/>
                  </a:lnTo>
                  <a:lnTo>
                    <a:pt x="424" y="69"/>
                  </a:lnTo>
                  <a:lnTo>
                    <a:pt x="428" y="60"/>
                  </a:lnTo>
                  <a:lnTo>
                    <a:pt x="440" y="69"/>
                  </a:lnTo>
                  <a:lnTo>
                    <a:pt x="447" y="62"/>
                  </a:lnTo>
                  <a:lnTo>
                    <a:pt x="472" y="74"/>
                  </a:lnTo>
                  <a:lnTo>
                    <a:pt x="456" y="96"/>
                  </a:lnTo>
                  <a:lnTo>
                    <a:pt x="440" y="94"/>
                  </a:lnTo>
                  <a:lnTo>
                    <a:pt x="440" y="96"/>
                  </a:lnTo>
                  <a:lnTo>
                    <a:pt x="504" y="96"/>
                  </a:lnTo>
                  <a:lnTo>
                    <a:pt x="509" y="104"/>
                  </a:lnTo>
                  <a:lnTo>
                    <a:pt x="468" y="121"/>
                  </a:lnTo>
                  <a:lnTo>
                    <a:pt x="484" y="133"/>
                  </a:lnTo>
                  <a:lnTo>
                    <a:pt x="451" y="143"/>
                  </a:lnTo>
                  <a:lnTo>
                    <a:pt x="447" y="156"/>
                  </a:lnTo>
                  <a:lnTo>
                    <a:pt x="440" y="163"/>
                  </a:lnTo>
                  <a:lnTo>
                    <a:pt x="459" y="1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99600" y="1947240"/>
              <a:ext cx="183600" cy="105840"/>
            </a:xfrm>
            <a:custGeom>
              <a:avLst/>
              <a:gdLst/>
              <a:ahLst/>
              <a:rect l="l" t="t" r="r" b="b"/>
              <a:pathLst>
                <a:path w="510" h="296">
                  <a:moveTo>
                    <a:pt x="459" y="180"/>
                  </a:moveTo>
                  <a:lnTo>
                    <a:pt x="464" y="190"/>
                  </a:lnTo>
                  <a:lnTo>
                    <a:pt x="428" y="205"/>
                  </a:lnTo>
                  <a:lnTo>
                    <a:pt x="379" y="210"/>
                  </a:lnTo>
                  <a:lnTo>
                    <a:pt x="374" y="221"/>
                  </a:lnTo>
                  <a:lnTo>
                    <a:pt x="359" y="212"/>
                  </a:lnTo>
                  <a:lnTo>
                    <a:pt x="331" y="214"/>
                  </a:lnTo>
                  <a:lnTo>
                    <a:pt x="302" y="202"/>
                  </a:lnTo>
                  <a:lnTo>
                    <a:pt x="327" y="221"/>
                  </a:lnTo>
                  <a:lnTo>
                    <a:pt x="327" y="249"/>
                  </a:lnTo>
                  <a:lnTo>
                    <a:pt x="355" y="251"/>
                  </a:lnTo>
                  <a:lnTo>
                    <a:pt x="351" y="256"/>
                  </a:lnTo>
                  <a:lnTo>
                    <a:pt x="331" y="261"/>
                  </a:lnTo>
                  <a:lnTo>
                    <a:pt x="323" y="271"/>
                  </a:lnTo>
                  <a:lnTo>
                    <a:pt x="298" y="281"/>
                  </a:lnTo>
                  <a:lnTo>
                    <a:pt x="270" y="295"/>
                  </a:lnTo>
                  <a:lnTo>
                    <a:pt x="266" y="286"/>
                  </a:lnTo>
                  <a:lnTo>
                    <a:pt x="237" y="293"/>
                  </a:lnTo>
                  <a:lnTo>
                    <a:pt x="217" y="281"/>
                  </a:lnTo>
                  <a:lnTo>
                    <a:pt x="205" y="251"/>
                  </a:lnTo>
                  <a:lnTo>
                    <a:pt x="181" y="241"/>
                  </a:lnTo>
                  <a:lnTo>
                    <a:pt x="205" y="224"/>
                  </a:lnTo>
                  <a:lnTo>
                    <a:pt x="190" y="207"/>
                  </a:lnTo>
                  <a:lnTo>
                    <a:pt x="186" y="197"/>
                  </a:lnTo>
                  <a:lnTo>
                    <a:pt x="209" y="156"/>
                  </a:lnTo>
                  <a:lnTo>
                    <a:pt x="141" y="158"/>
                  </a:lnTo>
                  <a:lnTo>
                    <a:pt x="109" y="133"/>
                  </a:lnTo>
                  <a:lnTo>
                    <a:pt x="40" y="133"/>
                  </a:lnTo>
                  <a:lnTo>
                    <a:pt x="24" y="121"/>
                  </a:lnTo>
                  <a:lnTo>
                    <a:pt x="32" y="104"/>
                  </a:lnTo>
                  <a:lnTo>
                    <a:pt x="24" y="79"/>
                  </a:lnTo>
                  <a:lnTo>
                    <a:pt x="0" y="76"/>
                  </a:lnTo>
                  <a:lnTo>
                    <a:pt x="44" y="27"/>
                  </a:lnTo>
                  <a:lnTo>
                    <a:pt x="68" y="15"/>
                  </a:lnTo>
                  <a:lnTo>
                    <a:pt x="96" y="10"/>
                  </a:lnTo>
                  <a:lnTo>
                    <a:pt x="68" y="18"/>
                  </a:lnTo>
                  <a:lnTo>
                    <a:pt x="76" y="40"/>
                  </a:lnTo>
                  <a:lnTo>
                    <a:pt x="51" y="62"/>
                  </a:lnTo>
                  <a:lnTo>
                    <a:pt x="64" y="82"/>
                  </a:lnTo>
                  <a:lnTo>
                    <a:pt x="89" y="74"/>
                  </a:lnTo>
                  <a:lnTo>
                    <a:pt x="93" y="64"/>
                  </a:lnTo>
                  <a:lnTo>
                    <a:pt x="76" y="37"/>
                  </a:lnTo>
                  <a:lnTo>
                    <a:pt x="149" y="20"/>
                  </a:lnTo>
                  <a:lnTo>
                    <a:pt x="149" y="15"/>
                  </a:lnTo>
                  <a:lnTo>
                    <a:pt x="132" y="18"/>
                  </a:lnTo>
                  <a:lnTo>
                    <a:pt x="132" y="10"/>
                  </a:lnTo>
                  <a:lnTo>
                    <a:pt x="145" y="0"/>
                  </a:lnTo>
                  <a:lnTo>
                    <a:pt x="157" y="20"/>
                  </a:lnTo>
                  <a:lnTo>
                    <a:pt x="202" y="27"/>
                  </a:lnTo>
                  <a:lnTo>
                    <a:pt x="202" y="40"/>
                  </a:lnTo>
                  <a:lnTo>
                    <a:pt x="278" y="42"/>
                  </a:lnTo>
                  <a:lnTo>
                    <a:pt x="286" y="52"/>
                  </a:lnTo>
                  <a:lnTo>
                    <a:pt x="318" y="57"/>
                  </a:lnTo>
                  <a:lnTo>
                    <a:pt x="370" y="47"/>
                  </a:lnTo>
                  <a:lnTo>
                    <a:pt x="351" y="42"/>
                  </a:lnTo>
                  <a:lnTo>
                    <a:pt x="443" y="42"/>
                  </a:lnTo>
                  <a:lnTo>
                    <a:pt x="403" y="47"/>
                  </a:lnTo>
                  <a:lnTo>
                    <a:pt x="396" y="52"/>
                  </a:lnTo>
                  <a:lnTo>
                    <a:pt x="408" y="50"/>
                  </a:lnTo>
                  <a:lnTo>
                    <a:pt x="412" y="57"/>
                  </a:lnTo>
                  <a:lnTo>
                    <a:pt x="396" y="57"/>
                  </a:lnTo>
                  <a:lnTo>
                    <a:pt x="412" y="54"/>
                  </a:lnTo>
                  <a:lnTo>
                    <a:pt x="419" y="67"/>
                  </a:lnTo>
                  <a:lnTo>
                    <a:pt x="419" y="67"/>
                  </a:lnTo>
                  <a:lnTo>
                    <a:pt x="424" y="69"/>
                  </a:lnTo>
                  <a:lnTo>
                    <a:pt x="428" y="60"/>
                  </a:lnTo>
                  <a:lnTo>
                    <a:pt x="440" y="69"/>
                  </a:lnTo>
                  <a:lnTo>
                    <a:pt x="447" y="62"/>
                  </a:lnTo>
                  <a:lnTo>
                    <a:pt x="472" y="74"/>
                  </a:lnTo>
                  <a:lnTo>
                    <a:pt x="456" y="96"/>
                  </a:lnTo>
                  <a:lnTo>
                    <a:pt x="440" y="94"/>
                  </a:lnTo>
                  <a:lnTo>
                    <a:pt x="440" y="96"/>
                  </a:lnTo>
                  <a:lnTo>
                    <a:pt x="440" y="96"/>
                  </a:lnTo>
                  <a:lnTo>
                    <a:pt x="504" y="96"/>
                  </a:lnTo>
                  <a:lnTo>
                    <a:pt x="509" y="104"/>
                  </a:lnTo>
                  <a:lnTo>
                    <a:pt x="468" y="121"/>
                  </a:lnTo>
                  <a:lnTo>
                    <a:pt x="484" y="133"/>
                  </a:lnTo>
                  <a:lnTo>
                    <a:pt x="451" y="143"/>
                  </a:lnTo>
                  <a:lnTo>
                    <a:pt x="447" y="156"/>
                  </a:lnTo>
                  <a:lnTo>
                    <a:pt x="440" y="163"/>
                  </a:lnTo>
                  <a:lnTo>
                    <a:pt x="459" y="18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88360" y="2045520"/>
              <a:ext cx="77400" cy="60120"/>
            </a:xfrm>
            <a:custGeom>
              <a:avLst/>
              <a:gdLst/>
              <a:ahLst/>
              <a:rect l="l" t="t" r="r" b="b"/>
              <a:pathLst>
                <a:path w="214" h="169">
                  <a:moveTo>
                    <a:pt x="24" y="126"/>
                  </a:moveTo>
                  <a:lnTo>
                    <a:pt x="32" y="138"/>
                  </a:lnTo>
                  <a:lnTo>
                    <a:pt x="20" y="140"/>
                  </a:lnTo>
                  <a:lnTo>
                    <a:pt x="20" y="153"/>
                  </a:lnTo>
                  <a:lnTo>
                    <a:pt x="52" y="153"/>
                  </a:lnTo>
                  <a:lnTo>
                    <a:pt x="77" y="168"/>
                  </a:lnTo>
                  <a:lnTo>
                    <a:pt x="101" y="126"/>
                  </a:lnTo>
                  <a:lnTo>
                    <a:pt x="117" y="116"/>
                  </a:lnTo>
                  <a:lnTo>
                    <a:pt x="161" y="104"/>
                  </a:lnTo>
                  <a:lnTo>
                    <a:pt x="201" y="79"/>
                  </a:lnTo>
                  <a:lnTo>
                    <a:pt x="205" y="64"/>
                  </a:lnTo>
                  <a:lnTo>
                    <a:pt x="213" y="64"/>
                  </a:lnTo>
                  <a:lnTo>
                    <a:pt x="198" y="42"/>
                  </a:lnTo>
                  <a:lnTo>
                    <a:pt x="209" y="42"/>
                  </a:lnTo>
                  <a:lnTo>
                    <a:pt x="178" y="28"/>
                  </a:lnTo>
                  <a:lnTo>
                    <a:pt x="133" y="28"/>
                  </a:lnTo>
                  <a:lnTo>
                    <a:pt x="121" y="18"/>
                  </a:lnTo>
                  <a:lnTo>
                    <a:pt x="77" y="0"/>
                  </a:lnTo>
                  <a:lnTo>
                    <a:pt x="72" y="10"/>
                  </a:lnTo>
                  <a:lnTo>
                    <a:pt x="32" y="18"/>
                  </a:lnTo>
                  <a:lnTo>
                    <a:pt x="29" y="37"/>
                  </a:lnTo>
                  <a:lnTo>
                    <a:pt x="12" y="47"/>
                  </a:lnTo>
                  <a:lnTo>
                    <a:pt x="24" y="55"/>
                  </a:lnTo>
                  <a:lnTo>
                    <a:pt x="0" y="64"/>
                  </a:lnTo>
                  <a:lnTo>
                    <a:pt x="8" y="89"/>
                  </a:lnTo>
                  <a:lnTo>
                    <a:pt x="0" y="98"/>
                  </a:lnTo>
                  <a:lnTo>
                    <a:pt x="24" y="109"/>
                  </a:lnTo>
                  <a:lnTo>
                    <a:pt x="32" y="98"/>
                  </a:lnTo>
                  <a:lnTo>
                    <a:pt x="41" y="98"/>
                  </a:lnTo>
                  <a:lnTo>
                    <a:pt x="44" y="91"/>
                  </a:lnTo>
                  <a:lnTo>
                    <a:pt x="41" y="121"/>
                  </a:lnTo>
                  <a:lnTo>
                    <a:pt x="24" y="12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88360" y="2045520"/>
              <a:ext cx="77400" cy="60120"/>
            </a:xfrm>
            <a:custGeom>
              <a:avLst/>
              <a:gdLst/>
              <a:ahLst/>
              <a:rect l="l" t="t" r="r" b="b"/>
              <a:pathLst>
                <a:path w="214" h="169">
                  <a:moveTo>
                    <a:pt x="24" y="126"/>
                  </a:moveTo>
                  <a:lnTo>
                    <a:pt x="32" y="138"/>
                  </a:lnTo>
                  <a:lnTo>
                    <a:pt x="20" y="140"/>
                  </a:lnTo>
                  <a:lnTo>
                    <a:pt x="20" y="153"/>
                  </a:lnTo>
                  <a:lnTo>
                    <a:pt x="52" y="153"/>
                  </a:lnTo>
                  <a:lnTo>
                    <a:pt x="77" y="168"/>
                  </a:lnTo>
                  <a:lnTo>
                    <a:pt x="101" y="126"/>
                  </a:lnTo>
                  <a:lnTo>
                    <a:pt x="117" y="116"/>
                  </a:lnTo>
                  <a:lnTo>
                    <a:pt x="161" y="104"/>
                  </a:lnTo>
                  <a:lnTo>
                    <a:pt x="201" y="79"/>
                  </a:lnTo>
                  <a:lnTo>
                    <a:pt x="205" y="64"/>
                  </a:lnTo>
                  <a:lnTo>
                    <a:pt x="213" y="64"/>
                  </a:lnTo>
                  <a:lnTo>
                    <a:pt x="198" y="42"/>
                  </a:lnTo>
                  <a:lnTo>
                    <a:pt x="209" y="42"/>
                  </a:lnTo>
                  <a:lnTo>
                    <a:pt x="178" y="28"/>
                  </a:lnTo>
                  <a:lnTo>
                    <a:pt x="133" y="28"/>
                  </a:lnTo>
                  <a:lnTo>
                    <a:pt x="121" y="18"/>
                  </a:lnTo>
                  <a:lnTo>
                    <a:pt x="77" y="0"/>
                  </a:lnTo>
                  <a:lnTo>
                    <a:pt x="72" y="10"/>
                  </a:lnTo>
                  <a:lnTo>
                    <a:pt x="32" y="18"/>
                  </a:lnTo>
                  <a:lnTo>
                    <a:pt x="29" y="37"/>
                  </a:lnTo>
                  <a:lnTo>
                    <a:pt x="12" y="47"/>
                  </a:lnTo>
                  <a:lnTo>
                    <a:pt x="24" y="55"/>
                  </a:lnTo>
                  <a:lnTo>
                    <a:pt x="0" y="64"/>
                  </a:lnTo>
                  <a:lnTo>
                    <a:pt x="8" y="89"/>
                  </a:lnTo>
                  <a:lnTo>
                    <a:pt x="0" y="98"/>
                  </a:lnTo>
                  <a:lnTo>
                    <a:pt x="24" y="109"/>
                  </a:lnTo>
                  <a:lnTo>
                    <a:pt x="32" y="98"/>
                  </a:lnTo>
                  <a:lnTo>
                    <a:pt x="41" y="98"/>
                  </a:lnTo>
                  <a:lnTo>
                    <a:pt x="44" y="91"/>
                  </a:lnTo>
                  <a:lnTo>
                    <a:pt x="41" y="121"/>
                  </a:lnTo>
                  <a:lnTo>
                    <a:pt x="24" y="12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212120" y="1944000"/>
              <a:ext cx="166320" cy="151920"/>
            </a:xfrm>
            <a:custGeom>
              <a:avLst/>
              <a:gdLst/>
              <a:ahLst/>
              <a:rect l="l" t="t" r="r" b="b"/>
              <a:pathLst>
                <a:path w="461" h="424">
                  <a:moveTo>
                    <a:pt x="460" y="286"/>
                  </a:moveTo>
                  <a:lnTo>
                    <a:pt x="448" y="256"/>
                  </a:lnTo>
                  <a:lnTo>
                    <a:pt x="424" y="246"/>
                  </a:lnTo>
                  <a:lnTo>
                    <a:pt x="448" y="229"/>
                  </a:lnTo>
                  <a:lnTo>
                    <a:pt x="433" y="212"/>
                  </a:lnTo>
                  <a:lnTo>
                    <a:pt x="429" y="202"/>
                  </a:lnTo>
                  <a:lnTo>
                    <a:pt x="452" y="161"/>
                  </a:lnTo>
                  <a:lnTo>
                    <a:pt x="384" y="163"/>
                  </a:lnTo>
                  <a:lnTo>
                    <a:pt x="352" y="138"/>
                  </a:lnTo>
                  <a:lnTo>
                    <a:pt x="283" y="138"/>
                  </a:lnTo>
                  <a:lnTo>
                    <a:pt x="267" y="126"/>
                  </a:lnTo>
                  <a:lnTo>
                    <a:pt x="275" y="109"/>
                  </a:lnTo>
                  <a:lnTo>
                    <a:pt x="267" y="84"/>
                  </a:lnTo>
                  <a:lnTo>
                    <a:pt x="243" y="81"/>
                  </a:lnTo>
                  <a:lnTo>
                    <a:pt x="287" y="32"/>
                  </a:lnTo>
                  <a:lnTo>
                    <a:pt x="311" y="20"/>
                  </a:lnTo>
                  <a:lnTo>
                    <a:pt x="339" y="15"/>
                  </a:lnTo>
                  <a:lnTo>
                    <a:pt x="348" y="8"/>
                  </a:lnTo>
                  <a:lnTo>
                    <a:pt x="336" y="0"/>
                  </a:lnTo>
                  <a:lnTo>
                    <a:pt x="303" y="13"/>
                  </a:lnTo>
                  <a:lnTo>
                    <a:pt x="259" y="28"/>
                  </a:lnTo>
                  <a:lnTo>
                    <a:pt x="230" y="28"/>
                  </a:lnTo>
                  <a:lnTo>
                    <a:pt x="214" y="42"/>
                  </a:lnTo>
                  <a:lnTo>
                    <a:pt x="211" y="37"/>
                  </a:lnTo>
                  <a:lnTo>
                    <a:pt x="222" y="34"/>
                  </a:lnTo>
                  <a:lnTo>
                    <a:pt x="202" y="32"/>
                  </a:lnTo>
                  <a:lnTo>
                    <a:pt x="170" y="45"/>
                  </a:lnTo>
                  <a:lnTo>
                    <a:pt x="170" y="55"/>
                  </a:lnTo>
                  <a:lnTo>
                    <a:pt x="162" y="74"/>
                  </a:lnTo>
                  <a:lnTo>
                    <a:pt x="105" y="96"/>
                  </a:lnTo>
                  <a:lnTo>
                    <a:pt x="110" y="114"/>
                  </a:lnTo>
                  <a:lnTo>
                    <a:pt x="105" y="109"/>
                  </a:lnTo>
                  <a:lnTo>
                    <a:pt x="89" y="94"/>
                  </a:lnTo>
                  <a:lnTo>
                    <a:pt x="93" y="111"/>
                  </a:lnTo>
                  <a:lnTo>
                    <a:pt x="77" y="124"/>
                  </a:lnTo>
                  <a:lnTo>
                    <a:pt x="69" y="119"/>
                  </a:lnTo>
                  <a:lnTo>
                    <a:pt x="60" y="131"/>
                  </a:lnTo>
                  <a:lnTo>
                    <a:pt x="81" y="148"/>
                  </a:lnTo>
                  <a:lnTo>
                    <a:pt x="72" y="158"/>
                  </a:lnTo>
                  <a:lnTo>
                    <a:pt x="81" y="170"/>
                  </a:lnTo>
                  <a:lnTo>
                    <a:pt x="69" y="175"/>
                  </a:lnTo>
                  <a:lnTo>
                    <a:pt x="72" y="207"/>
                  </a:lnTo>
                  <a:lnTo>
                    <a:pt x="65" y="212"/>
                  </a:lnTo>
                  <a:lnTo>
                    <a:pt x="81" y="217"/>
                  </a:lnTo>
                  <a:lnTo>
                    <a:pt x="53" y="239"/>
                  </a:lnTo>
                  <a:lnTo>
                    <a:pt x="53" y="249"/>
                  </a:lnTo>
                  <a:lnTo>
                    <a:pt x="21" y="254"/>
                  </a:lnTo>
                  <a:lnTo>
                    <a:pt x="21" y="271"/>
                  </a:lnTo>
                  <a:lnTo>
                    <a:pt x="0" y="273"/>
                  </a:lnTo>
                  <a:lnTo>
                    <a:pt x="9" y="278"/>
                  </a:lnTo>
                  <a:lnTo>
                    <a:pt x="53" y="296"/>
                  </a:lnTo>
                  <a:lnTo>
                    <a:pt x="65" y="306"/>
                  </a:lnTo>
                  <a:lnTo>
                    <a:pt x="110" y="306"/>
                  </a:lnTo>
                  <a:lnTo>
                    <a:pt x="141" y="320"/>
                  </a:lnTo>
                  <a:lnTo>
                    <a:pt x="157" y="320"/>
                  </a:lnTo>
                  <a:lnTo>
                    <a:pt x="182" y="342"/>
                  </a:lnTo>
                  <a:lnTo>
                    <a:pt x="207" y="350"/>
                  </a:lnTo>
                  <a:lnTo>
                    <a:pt x="222" y="362"/>
                  </a:lnTo>
                  <a:lnTo>
                    <a:pt x="234" y="379"/>
                  </a:lnTo>
                  <a:lnTo>
                    <a:pt x="263" y="379"/>
                  </a:lnTo>
                  <a:lnTo>
                    <a:pt x="279" y="372"/>
                  </a:lnTo>
                  <a:lnTo>
                    <a:pt x="291" y="376"/>
                  </a:lnTo>
                  <a:lnTo>
                    <a:pt x="339" y="384"/>
                  </a:lnTo>
                  <a:lnTo>
                    <a:pt x="319" y="414"/>
                  </a:lnTo>
                  <a:lnTo>
                    <a:pt x="323" y="414"/>
                  </a:lnTo>
                  <a:lnTo>
                    <a:pt x="336" y="414"/>
                  </a:lnTo>
                  <a:lnTo>
                    <a:pt x="348" y="423"/>
                  </a:lnTo>
                  <a:lnTo>
                    <a:pt x="352" y="409"/>
                  </a:lnTo>
                  <a:lnTo>
                    <a:pt x="356" y="396"/>
                  </a:lnTo>
                  <a:lnTo>
                    <a:pt x="356" y="389"/>
                  </a:lnTo>
                  <a:lnTo>
                    <a:pt x="356" y="382"/>
                  </a:lnTo>
                  <a:lnTo>
                    <a:pt x="360" y="369"/>
                  </a:lnTo>
                  <a:lnTo>
                    <a:pt x="364" y="354"/>
                  </a:lnTo>
                  <a:lnTo>
                    <a:pt x="368" y="347"/>
                  </a:lnTo>
                  <a:lnTo>
                    <a:pt x="356" y="330"/>
                  </a:lnTo>
                  <a:lnTo>
                    <a:pt x="339" y="320"/>
                  </a:lnTo>
                  <a:lnTo>
                    <a:pt x="339" y="300"/>
                  </a:lnTo>
                  <a:lnTo>
                    <a:pt x="375" y="300"/>
                  </a:lnTo>
                  <a:lnTo>
                    <a:pt x="372" y="291"/>
                  </a:lnTo>
                  <a:lnTo>
                    <a:pt x="348" y="288"/>
                  </a:lnTo>
                  <a:lnTo>
                    <a:pt x="348" y="273"/>
                  </a:lnTo>
                  <a:lnTo>
                    <a:pt x="412" y="273"/>
                  </a:lnTo>
                  <a:lnTo>
                    <a:pt x="412" y="266"/>
                  </a:lnTo>
                  <a:lnTo>
                    <a:pt x="420" y="271"/>
                  </a:lnTo>
                  <a:lnTo>
                    <a:pt x="441" y="261"/>
                  </a:lnTo>
                  <a:lnTo>
                    <a:pt x="452" y="273"/>
                  </a:lnTo>
                  <a:lnTo>
                    <a:pt x="452" y="286"/>
                  </a:lnTo>
                  <a:lnTo>
                    <a:pt x="460" y="28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12120" y="1944000"/>
              <a:ext cx="166320" cy="151920"/>
            </a:xfrm>
            <a:custGeom>
              <a:avLst/>
              <a:gdLst/>
              <a:ahLst/>
              <a:rect l="l" t="t" r="r" b="b"/>
              <a:pathLst>
                <a:path w="461" h="424">
                  <a:moveTo>
                    <a:pt x="460" y="286"/>
                  </a:moveTo>
                  <a:lnTo>
                    <a:pt x="448" y="256"/>
                  </a:lnTo>
                  <a:lnTo>
                    <a:pt x="424" y="246"/>
                  </a:lnTo>
                  <a:lnTo>
                    <a:pt x="448" y="229"/>
                  </a:lnTo>
                  <a:lnTo>
                    <a:pt x="433" y="212"/>
                  </a:lnTo>
                  <a:lnTo>
                    <a:pt x="429" y="202"/>
                  </a:lnTo>
                  <a:lnTo>
                    <a:pt x="452" y="161"/>
                  </a:lnTo>
                  <a:lnTo>
                    <a:pt x="384" y="163"/>
                  </a:lnTo>
                  <a:lnTo>
                    <a:pt x="352" y="138"/>
                  </a:lnTo>
                  <a:lnTo>
                    <a:pt x="283" y="138"/>
                  </a:lnTo>
                  <a:lnTo>
                    <a:pt x="267" y="126"/>
                  </a:lnTo>
                  <a:lnTo>
                    <a:pt x="275" y="109"/>
                  </a:lnTo>
                  <a:lnTo>
                    <a:pt x="267" y="84"/>
                  </a:lnTo>
                  <a:lnTo>
                    <a:pt x="243" y="81"/>
                  </a:lnTo>
                  <a:lnTo>
                    <a:pt x="287" y="32"/>
                  </a:lnTo>
                  <a:lnTo>
                    <a:pt x="311" y="20"/>
                  </a:lnTo>
                  <a:lnTo>
                    <a:pt x="339" y="15"/>
                  </a:lnTo>
                  <a:lnTo>
                    <a:pt x="348" y="8"/>
                  </a:lnTo>
                  <a:lnTo>
                    <a:pt x="336" y="0"/>
                  </a:lnTo>
                  <a:lnTo>
                    <a:pt x="303" y="13"/>
                  </a:lnTo>
                  <a:lnTo>
                    <a:pt x="259" y="28"/>
                  </a:lnTo>
                  <a:lnTo>
                    <a:pt x="230" y="28"/>
                  </a:lnTo>
                  <a:lnTo>
                    <a:pt x="214" y="42"/>
                  </a:lnTo>
                  <a:lnTo>
                    <a:pt x="211" y="37"/>
                  </a:lnTo>
                  <a:lnTo>
                    <a:pt x="222" y="34"/>
                  </a:lnTo>
                  <a:lnTo>
                    <a:pt x="202" y="32"/>
                  </a:lnTo>
                  <a:lnTo>
                    <a:pt x="170" y="45"/>
                  </a:lnTo>
                  <a:lnTo>
                    <a:pt x="170" y="55"/>
                  </a:lnTo>
                  <a:lnTo>
                    <a:pt x="162" y="74"/>
                  </a:lnTo>
                  <a:lnTo>
                    <a:pt x="105" y="96"/>
                  </a:lnTo>
                  <a:lnTo>
                    <a:pt x="110" y="114"/>
                  </a:lnTo>
                  <a:lnTo>
                    <a:pt x="105" y="109"/>
                  </a:lnTo>
                  <a:lnTo>
                    <a:pt x="89" y="94"/>
                  </a:lnTo>
                  <a:lnTo>
                    <a:pt x="93" y="111"/>
                  </a:lnTo>
                  <a:lnTo>
                    <a:pt x="77" y="124"/>
                  </a:lnTo>
                  <a:lnTo>
                    <a:pt x="69" y="119"/>
                  </a:lnTo>
                  <a:lnTo>
                    <a:pt x="60" y="131"/>
                  </a:lnTo>
                  <a:lnTo>
                    <a:pt x="81" y="148"/>
                  </a:lnTo>
                  <a:lnTo>
                    <a:pt x="72" y="158"/>
                  </a:lnTo>
                  <a:lnTo>
                    <a:pt x="81" y="170"/>
                  </a:lnTo>
                  <a:lnTo>
                    <a:pt x="69" y="175"/>
                  </a:lnTo>
                  <a:lnTo>
                    <a:pt x="72" y="207"/>
                  </a:lnTo>
                  <a:lnTo>
                    <a:pt x="65" y="212"/>
                  </a:lnTo>
                  <a:lnTo>
                    <a:pt x="81" y="217"/>
                  </a:lnTo>
                  <a:lnTo>
                    <a:pt x="53" y="239"/>
                  </a:lnTo>
                  <a:lnTo>
                    <a:pt x="53" y="249"/>
                  </a:lnTo>
                  <a:lnTo>
                    <a:pt x="21" y="254"/>
                  </a:lnTo>
                  <a:lnTo>
                    <a:pt x="21" y="271"/>
                  </a:lnTo>
                  <a:lnTo>
                    <a:pt x="0" y="273"/>
                  </a:lnTo>
                  <a:lnTo>
                    <a:pt x="9" y="278"/>
                  </a:lnTo>
                  <a:lnTo>
                    <a:pt x="53" y="296"/>
                  </a:lnTo>
                  <a:lnTo>
                    <a:pt x="65" y="306"/>
                  </a:lnTo>
                  <a:lnTo>
                    <a:pt x="110" y="306"/>
                  </a:lnTo>
                  <a:lnTo>
                    <a:pt x="141" y="320"/>
                  </a:lnTo>
                  <a:lnTo>
                    <a:pt x="157" y="320"/>
                  </a:lnTo>
                  <a:lnTo>
                    <a:pt x="182" y="342"/>
                  </a:lnTo>
                  <a:lnTo>
                    <a:pt x="207" y="350"/>
                  </a:lnTo>
                  <a:lnTo>
                    <a:pt x="222" y="362"/>
                  </a:lnTo>
                  <a:lnTo>
                    <a:pt x="234" y="379"/>
                  </a:lnTo>
                  <a:lnTo>
                    <a:pt x="263" y="379"/>
                  </a:lnTo>
                  <a:lnTo>
                    <a:pt x="279" y="372"/>
                  </a:lnTo>
                  <a:lnTo>
                    <a:pt x="291" y="376"/>
                  </a:lnTo>
                  <a:lnTo>
                    <a:pt x="339" y="384"/>
                  </a:lnTo>
                  <a:lnTo>
                    <a:pt x="319" y="414"/>
                  </a:lnTo>
                  <a:lnTo>
                    <a:pt x="323" y="414"/>
                  </a:lnTo>
                  <a:lnTo>
                    <a:pt x="323" y="414"/>
                  </a:lnTo>
                  <a:lnTo>
                    <a:pt x="336" y="414"/>
                  </a:lnTo>
                  <a:lnTo>
                    <a:pt x="348" y="423"/>
                  </a:lnTo>
                  <a:lnTo>
                    <a:pt x="352" y="409"/>
                  </a:lnTo>
                  <a:lnTo>
                    <a:pt x="356" y="396"/>
                  </a:lnTo>
                  <a:lnTo>
                    <a:pt x="356" y="389"/>
                  </a:lnTo>
                  <a:lnTo>
                    <a:pt x="356" y="382"/>
                  </a:lnTo>
                  <a:lnTo>
                    <a:pt x="360" y="369"/>
                  </a:lnTo>
                  <a:lnTo>
                    <a:pt x="364" y="354"/>
                  </a:lnTo>
                  <a:lnTo>
                    <a:pt x="368" y="347"/>
                  </a:lnTo>
                  <a:lnTo>
                    <a:pt x="356" y="330"/>
                  </a:lnTo>
                  <a:lnTo>
                    <a:pt x="339" y="320"/>
                  </a:lnTo>
                  <a:lnTo>
                    <a:pt x="339" y="300"/>
                  </a:lnTo>
                  <a:lnTo>
                    <a:pt x="375" y="300"/>
                  </a:lnTo>
                  <a:lnTo>
                    <a:pt x="372" y="291"/>
                  </a:lnTo>
                  <a:lnTo>
                    <a:pt x="348" y="288"/>
                  </a:lnTo>
                  <a:lnTo>
                    <a:pt x="348" y="273"/>
                  </a:lnTo>
                  <a:lnTo>
                    <a:pt x="412" y="273"/>
                  </a:lnTo>
                  <a:lnTo>
                    <a:pt x="412" y="266"/>
                  </a:lnTo>
                  <a:lnTo>
                    <a:pt x="420" y="271"/>
                  </a:lnTo>
                  <a:lnTo>
                    <a:pt x="441" y="261"/>
                  </a:lnTo>
                  <a:lnTo>
                    <a:pt x="452" y="273"/>
                  </a:lnTo>
                  <a:lnTo>
                    <a:pt x="452" y="286"/>
                  </a:lnTo>
                  <a:lnTo>
                    <a:pt x="460" y="28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69280" y="1969200"/>
              <a:ext cx="77400" cy="21960"/>
            </a:xfrm>
            <a:custGeom>
              <a:avLst/>
              <a:gdLst/>
              <a:ahLst/>
              <a:rect l="l" t="t" r="r" b="b"/>
              <a:pathLst>
                <a:path w="214" h="63">
                  <a:moveTo>
                    <a:pt x="129" y="18"/>
                  </a:moveTo>
                  <a:lnTo>
                    <a:pt x="93" y="35"/>
                  </a:lnTo>
                  <a:lnTo>
                    <a:pt x="104" y="55"/>
                  </a:lnTo>
                  <a:lnTo>
                    <a:pt x="88" y="59"/>
                  </a:lnTo>
                  <a:lnTo>
                    <a:pt x="68" y="59"/>
                  </a:lnTo>
                  <a:lnTo>
                    <a:pt x="68" y="42"/>
                  </a:lnTo>
                  <a:lnTo>
                    <a:pt x="60" y="52"/>
                  </a:lnTo>
                  <a:lnTo>
                    <a:pt x="27" y="32"/>
                  </a:lnTo>
                  <a:lnTo>
                    <a:pt x="8" y="32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16" y="15"/>
                  </a:lnTo>
                  <a:lnTo>
                    <a:pt x="12" y="3"/>
                  </a:lnTo>
                  <a:lnTo>
                    <a:pt x="23" y="0"/>
                  </a:lnTo>
                  <a:lnTo>
                    <a:pt x="31" y="15"/>
                  </a:lnTo>
                  <a:lnTo>
                    <a:pt x="48" y="15"/>
                  </a:lnTo>
                  <a:lnTo>
                    <a:pt x="56" y="20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4" y="5"/>
                  </a:lnTo>
                  <a:lnTo>
                    <a:pt x="137" y="0"/>
                  </a:lnTo>
                  <a:lnTo>
                    <a:pt x="176" y="5"/>
                  </a:lnTo>
                  <a:lnTo>
                    <a:pt x="209" y="25"/>
                  </a:lnTo>
                  <a:lnTo>
                    <a:pt x="213" y="42"/>
                  </a:lnTo>
                  <a:lnTo>
                    <a:pt x="197" y="55"/>
                  </a:lnTo>
                  <a:lnTo>
                    <a:pt x="189" y="50"/>
                  </a:lnTo>
                  <a:lnTo>
                    <a:pt x="180" y="62"/>
                  </a:lnTo>
                  <a:lnTo>
                    <a:pt x="169" y="40"/>
                  </a:lnTo>
                  <a:lnTo>
                    <a:pt x="180" y="32"/>
                  </a:lnTo>
                  <a:lnTo>
                    <a:pt x="192" y="40"/>
                  </a:lnTo>
                  <a:lnTo>
                    <a:pt x="180" y="27"/>
                  </a:lnTo>
                  <a:lnTo>
                    <a:pt x="176" y="32"/>
                  </a:lnTo>
                  <a:lnTo>
                    <a:pt x="173" y="27"/>
                  </a:lnTo>
                  <a:lnTo>
                    <a:pt x="169" y="32"/>
                  </a:lnTo>
                  <a:lnTo>
                    <a:pt x="165" y="27"/>
                  </a:lnTo>
                  <a:lnTo>
                    <a:pt x="149" y="15"/>
                  </a:lnTo>
                  <a:lnTo>
                    <a:pt x="153" y="12"/>
                  </a:lnTo>
                  <a:lnTo>
                    <a:pt x="132" y="18"/>
                  </a:lnTo>
                  <a:lnTo>
                    <a:pt x="129" y="1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169280" y="1969200"/>
              <a:ext cx="77400" cy="21960"/>
            </a:xfrm>
            <a:custGeom>
              <a:avLst/>
              <a:gdLst/>
              <a:ahLst/>
              <a:rect l="l" t="t" r="r" b="b"/>
              <a:pathLst>
                <a:path w="214" h="63">
                  <a:moveTo>
                    <a:pt x="129" y="18"/>
                  </a:moveTo>
                  <a:lnTo>
                    <a:pt x="93" y="35"/>
                  </a:lnTo>
                  <a:lnTo>
                    <a:pt x="104" y="55"/>
                  </a:lnTo>
                  <a:lnTo>
                    <a:pt x="88" y="59"/>
                  </a:lnTo>
                  <a:lnTo>
                    <a:pt x="68" y="59"/>
                  </a:lnTo>
                  <a:lnTo>
                    <a:pt x="68" y="42"/>
                  </a:lnTo>
                  <a:lnTo>
                    <a:pt x="60" y="52"/>
                  </a:lnTo>
                  <a:lnTo>
                    <a:pt x="27" y="32"/>
                  </a:lnTo>
                  <a:lnTo>
                    <a:pt x="8" y="32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16" y="15"/>
                  </a:lnTo>
                  <a:lnTo>
                    <a:pt x="12" y="3"/>
                  </a:lnTo>
                  <a:lnTo>
                    <a:pt x="23" y="0"/>
                  </a:lnTo>
                  <a:lnTo>
                    <a:pt x="31" y="15"/>
                  </a:lnTo>
                  <a:lnTo>
                    <a:pt x="48" y="15"/>
                  </a:lnTo>
                  <a:lnTo>
                    <a:pt x="56" y="20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4" y="5"/>
                  </a:lnTo>
                  <a:lnTo>
                    <a:pt x="137" y="0"/>
                  </a:lnTo>
                  <a:lnTo>
                    <a:pt x="176" y="5"/>
                  </a:lnTo>
                  <a:lnTo>
                    <a:pt x="209" y="25"/>
                  </a:lnTo>
                  <a:lnTo>
                    <a:pt x="213" y="42"/>
                  </a:lnTo>
                  <a:lnTo>
                    <a:pt x="197" y="55"/>
                  </a:lnTo>
                  <a:lnTo>
                    <a:pt x="189" y="50"/>
                  </a:lnTo>
                  <a:lnTo>
                    <a:pt x="180" y="62"/>
                  </a:lnTo>
                  <a:lnTo>
                    <a:pt x="169" y="40"/>
                  </a:lnTo>
                  <a:lnTo>
                    <a:pt x="180" y="32"/>
                  </a:lnTo>
                  <a:lnTo>
                    <a:pt x="192" y="40"/>
                  </a:lnTo>
                  <a:lnTo>
                    <a:pt x="180" y="27"/>
                  </a:lnTo>
                  <a:lnTo>
                    <a:pt x="176" y="32"/>
                  </a:lnTo>
                  <a:lnTo>
                    <a:pt x="173" y="27"/>
                  </a:lnTo>
                  <a:lnTo>
                    <a:pt x="169" y="32"/>
                  </a:lnTo>
                  <a:lnTo>
                    <a:pt x="165" y="27"/>
                  </a:lnTo>
                  <a:lnTo>
                    <a:pt x="149" y="15"/>
                  </a:lnTo>
                  <a:lnTo>
                    <a:pt x="153" y="12"/>
                  </a:lnTo>
                  <a:lnTo>
                    <a:pt x="132" y="18"/>
                  </a:lnTo>
                  <a:lnTo>
                    <a:pt x="129" y="1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137600" y="1955160"/>
              <a:ext cx="40680" cy="29880"/>
            </a:xfrm>
            <a:custGeom>
              <a:avLst/>
              <a:gdLst/>
              <a:ahLst/>
              <a:rect l="l" t="t" r="r" b="b"/>
              <a:pathLst>
                <a:path w="114" h="82">
                  <a:moveTo>
                    <a:pt x="113" y="41"/>
                  </a:moveTo>
                  <a:lnTo>
                    <a:pt x="102" y="44"/>
                  </a:lnTo>
                  <a:lnTo>
                    <a:pt x="106" y="56"/>
                  </a:lnTo>
                  <a:lnTo>
                    <a:pt x="90" y="73"/>
                  </a:lnTo>
                  <a:lnTo>
                    <a:pt x="90" y="81"/>
                  </a:lnTo>
                  <a:lnTo>
                    <a:pt x="86" y="63"/>
                  </a:lnTo>
                  <a:lnTo>
                    <a:pt x="73" y="63"/>
                  </a:lnTo>
                  <a:lnTo>
                    <a:pt x="77" y="71"/>
                  </a:lnTo>
                  <a:lnTo>
                    <a:pt x="65" y="66"/>
                  </a:lnTo>
                  <a:lnTo>
                    <a:pt x="70" y="53"/>
                  </a:lnTo>
                  <a:lnTo>
                    <a:pt x="36" y="39"/>
                  </a:lnTo>
                  <a:lnTo>
                    <a:pt x="36" y="29"/>
                  </a:lnTo>
                  <a:lnTo>
                    <a:pt x="21" y="22"/>
                  </a:lnTo>
                  <a:lnTo>
                    <a:pt x="21" y="27"/>
                  </a:lnTo>
                  <a:lnTo>
                    <a:pt x="32" y="34"/>
                  </a:lnTo>
                  <a:lnTo>
                    <a:pt x="21" y="39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9" y="9"/>
                  </a:lnTo>
                  <a:lnTo>
                    <a:pt x="0" y="4"/>
                  </a:lnTo>
                  <a:lnTo>
                    <a:pt x="13" y="0"/>
                  </a:lnTo>
                  <a:lnTo>
                    <a:pt x="41" y="4"/>
                  </a:lnTo>
                  <a:lnTo>
                    <a:pt x="48" y="2"/>
                  </a:lnTo>
                  <a:lnTo>
                    <a:pt x="73" y="12"/>
                  </a:lnTo>
                  <a:lnTo>
                    <a:pt x="86" y="4"/>
                  </a:lnTo>
                  <a:lnTo>
                    <a:pt x="113" y="4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137600" y="1955160"/>
              <a:ext cx="40680" cy="29880"/>
            </a:xfrm>
            <a:custGeom>
              <a:avLst/>
              <a:gdLst/>
              <a:ahLst/>
              <a:rect l="l" t="t" r="r" b="b"/>
              <a:pathLst>
                <a:path w="114" h="82">
                  <a:moveTo>
                    <a:pt x="113" y="41"/>
                  </a:moveTo>
                  <a:lnTo>
                    <a:pt x="102" y="44"/>
                  </a:lnTo>
                  <a:lnTo>
                    <a:pt x="106" y="56"/>
                  </a:lnTo>
                  <a:lnTo>
                    <a:pt x="90" y="73"/>
                  </a:lnTo>
                  <a:lnTo>
                    <a:pt x="90" y="81"/>
                  </a:lnTo>
                  <a:lnTo>
                    <a:pt x="86" y="63"/>
                  </a:lnTo>
                  <a:lnTo>
                    <a:pt x="73" y="63"/>
                  </a:lnTo>
                  <a:lnTo>
                    <a:pt x="77" y="71"/>
                  </a:lnTo>
                  <a:lnTo>
                    <a:pt x="65" y="66"/>
                  </a:lnTo>
                  <a:lnTo>
                    <a:pt x="70" y="53"/>
                  </a:lnTo>
                  <a:lnTo>
                    <a:pt x="36" y="39"/>
                  </a:lnTo>
                  <a:lnTo>
                    <a:pt x="36" y="29"/>
                  </a:lnTo>
                  <a:lnTo>
                    <a:pt x="21" y="22"/>
                  </a:lnTo>
                  <a:lnTo>
                    <a:pt x="21" y="27"/>
                  </a:lnTo>
                  <a:lnTo>
                    <a:pt x="32" y="34"/>
                  </a:lnTo>
                  <a:lnTo>
                    <a:pt x="21" y="39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9" y="9"/>
                  </a:lnTo>
                  <a:lnTo>
                    <a:pt x="0" y="4"/>
                  </a:lnTo>
                  <a:lnTo>
                    <a:pt x="13" y="0"/>
                  </a:lnTo>
                  <a:lnTo>
                    <a:pt x="41" y="4"/>
                  </a:lnTo>
                  <a:lnTo>
                    <a:pt x="48" y="2"/>
                  </a:lnTo>
                  <a:lnTo>
                    <a:pt x="73" y="12"/>
                  </a:lnTo>
                  <a:lnTo>
                    <a:pt x="86" y="4"/>
                  </a:lnTo>
                  <a:lnTo>
                    <a:pt x="113" y="4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107360" y="1909080"/>
              <a:ext cx="82080" cy="28080"/>
            </a:xfrm>
            <a:custGeom>
              <a:avLst/>
              <a:gdLst/>
              <a:ahLst/>
              <a:rect l="l" t="t" r="r" b="b"/>
              <a:pathLst>
                <a:path w="231" h="80">
                  <a:moveTo>
                    <a:pt x="230" y="30"/>
                  </a:moveTo>
                  <a:lnTo>
                    <a:pt x="161" y="33"/>
                  </a:lnTo>
                  <a:lnTo>
                    <a:pt x="120" y="57"/>
                  </a:lnTo>
                  <a:lnTo>
                    <a:pt x="112" y="52"/>
                  </a:lnTo>
                  <a:lnTo>
                    <a:pt x="84" y="60"/>
                  </a:lnTo>
                  <a:lnTo>
                    <a:pt x="81" y="72"/>
                  </a:lnTo>
                  <a:lnTo>
                    <a:pt x="56" y="79"/>
                  </a:lnTo>
                  <a:lnTo>
                    <a:pt x="56" y="67"/>
                  </a:lnTo>
                  <a:lnTo>
                    <a:pt x="40" y="67"/>
                  </a:lnTo>
                  <a:lnTo>
                    <a:pt x="48" y="55"/>
                  </a:lnTo>
                  <a:lnTo>
                    <a:pt x="24" y="55"/>
                  </a:lnTo>
                  <a:lnTo>
                    <a:pt x="0" y="40"/>
                  </a:lnTo>
                  <a:lnTo>
                    <a:pt x="12" y="23"/>
                  </a:lnTo>
                  <a:lnTo>
                    <a:pt x="56" y="8"/>
                  </a:lnTo>
                  <a:lnTo>
                    <a:pt x="81" y="3"/>
                  </a:lnTo>
                  <a:lnTo>
                    <a:pt x="120" y="8"/>
                  </a:lnTo>
                  <a:lnTo>
                    <a:pt x="137" y="0"/>
                  </a:lnTo>
                  <a:lnTo>
                    <a:pt x="193" y="8"/>
                  </a:lnTo>
                  <a:lnTo>
                    <a:pt x="201" y="10"/>
                  </a:lnTo>
                  <a:lnTo>
                    <a:pt x="213" y="18"/>
                  </a:lnTo>
                  <a:lnTo>
                    <a:pt x="197" y="21"/>
                  </a:lnTo>
                  <a:lnTo>
                    <a:pt x="201" y="18"/>
                  </a:lnTo>
                  <a:lnTo>
                    <a:pt x="213" y="25"/>
                  </a:lnTo>
                  <a:lnTo>
                    <a:pt x="230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07360" y="1909080"/>
              <a:ext cx="82080" cy="28080"/>
            </a:xfrm>
            <a:custGeom>
              <a:avLst/>
              <a:gdLst/>
              <a:ahLst/>
              <a:rect l="l" t="t" r="r" b="b"/>
              <a:pathLst>
                <a:path w="231" h="80">
                  <a:moveTo>
                    <a:pt x="230" y="30"/>
                  </a:moveTo>
                  <a:lnTo>
                    <a:pt x="161" y="33"/>
                  </a:lnTo>
                  <a:lnTo>
                    <a:pt x="120" y="57"/>
                  </a:lnTo>
                  <a:lnTo>
                    <a:pt x="112" y="52"/>
                  </a:lnTo>
                  <a:lnTo>
                    <a:pt x="84" y="60"/>
                  </a:lnTo>
                  <a:lnTo>
                    <a:pt x="81" y="72"/>
                  </a:lnTo>
                  <a:lnTo>
                    <a:pt x="56" y="79"/>
                  </a:lnTo>
                  <a:lnTo>
                    <a:pt x="56" y="67"/>
                  </a:lnTo>
                  <a:lnTo>
                    <a:pt x="40" y="67"/>
                  </a:lnTo>
                  <a:lnTo>
                    <a:pt x="48" y="55"/>
                  </a:lnTo>
                  <a:lnTo>
                    <a:pt x="24" y="55"/>
                  </a:lnTo>
                  <a:lnTo>
                    <a:pt x="0" y="40"/>
                  </a:lnTo>
                  <a:lnTo>
                    <a:pt x="12" y="23"/>
                  </a:lnTo>
                  <a:lnTo>
                    <a:pt x="56" y="8"/>
                  </a:lnTo>
                  <a:lnTo>
                    <a:pt x="81" y="3"/>
                  </a:lnTo>
                  <a:lnTo>
                    <a:pt x="120" y="8"/>
                  </a:lnTo>
                  <a:lnTo>
                    <a:pt x="137" y="0"/>
                  </a:lnTo>
                  <a:lnTo>
                    <a:pt x="193" y="8"/>
                  </a:lnTo>
                  <a:lnTo>
                    <a:pt x="201" y="10"/>
                  </a:lnTo>
                  <a:lnTo>
                    <a:pt x="213" y="18"/>
                  </a:lnTo>
                  <a:lnTo>
                    <a:pt x="197" y="21"/>
                  </a:lnTo>
                  <a:lnTo>
                    <a:pt x="201" y="18"/>
                  </a:lnTo>
                  <a:lnTo>
                    <a:pt x="213" y="25"/>
                  </a:lnTo>
                  <a:lnTo>
                    <a:pt x="230" y="3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92960" y="1923480"/>
              <a:ext cx="31320" cy="12240"/>
            </a:xfrm>
            <a:custGeom>
              <a:avLst/>
              <a:gdLst/>
              <a:ahLst/>
              <a:rect l="l" t="t" r="r" b="b"/>
              <a:pathLst>
                <a:path w="86" h="36">
                  <a:moveTo>
                    <a:pt x="77" y="27"/>
                  </a:moveTo>
                  <a:lnTo>
                    <a:pt x="73" y="35"/>
                  </a:lnTo>
                  <a:lnTo>
                    <a:pt x="0" y="17"/>
                  </a:lnTo>
                  <a:lnTo>
                    <a:pt x="37" y="0"/>
                  </a:lnTo>
                  <a:lnTo>
                    <a:pt x="61" y="15"/>
                  </a:lnTo>
                  <a:lnTo>
                    <a:pt x="85" y="15"/>
                  </a:lnTo>
                  <a:lnTo>
                    <a:pt x="77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092960" y="1923480"/>
              <a:ext cx="31320" cy="12240"/>
            </a:xfrm>
            <a:custGeom>
              <a:avLst/>
              <a:gdLst/>
              <a:ahLst/>
              <a:rect l="l" t="t" r="r" b="b"/>
              <a:pathLst>
                <a:path w="86" h="36">
                  <a:moveTo>
                    <a:pt x="77" y="27"/>
                  </a:moveTo>
                  <a:lnTo>
                    <a:pt x="73" y="35"/>
                  </a:lnTo>
                  <a:lnTo>
                    <a:pt x="0" y="17"/>
                  </a:lnTo>
                  <a:lnTo>
                    <a:pt x="37" y="0"/>
                  </a:lnTo>
                  <a:lnTo>
                    <a:pt x="61" y="15"/>
                  </a:lnTo>
                  <a:lnTo>
                    <a:pt x="85" y="15"/>
                  </a:lnTo>
                  <a:lnTo>
                    <a:pt x="77" y="2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069200" y="1890000"/>
              <a:ext cx="58320" cy="37800"/>
            </a:xfrm>
            <a:custGeom>
              <a:avLst/>
              <a:gdLst/>
              <a:ahLst/>
              <a:rect l="l" t="t" r="r" b="b"/>
              <a:pathLst>
                <a:path w="163" h="107">
                  <a:moveTo>
                    <a:pt x="162" y="57"/>
                  </a:moveTo>
                  <a:lnTo>
                    <a:pt x="118" y="72"/>
                  </a:lnTo>
                  <a:lnTo>
                    <a:pt x="106" y="89"/>
                  </a:lnTo>
                  <a:lnTo>
                    <a:pt x="69" y="106"/>
                  </a:lnTo>
                  <a:lnTo>
                    <a:pt x="54" y="101"/>
                  </a:lnTo>
                  <a:lnTo>
                    <a:pt x="29" y="101"/>
                  </a:lnTo>
                  <a:lnTo>
                    <a:pt x="25" y="99"/>
                  </a:lnTo>
                  <a:lnTo>
                    <a:pt x="16" y="9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16" y="70"/>
                  </a:lnTo>
                  <a:lnTo>
                    <a:pt x="25" y="57"/>
                  </a:lnTo>
                  <a:lnTo>
                    <a:pt x="33" y="49"/>
                  </a:lnTo>
                  <a:lnTo>
                    <a:pt x="42" y="45"/>
                  </a:lnTo>
                  <a:lnTo>
                    <a:pt x="61" y="45"/>
                  </a:lnTo>
                  <a:lnTo>
                    <a:pt x="86" y="45"/>
                  </a:lnTo>
                  <a:lnTo>
                    <a:pt x="94" y="37"/>
                  </a:lnTo>
                  <a:lnTo>
                    <a:pt x="69" y="15"/>
                  </a:lnTo>
                  <a:lnTo>
                    <a:pt x="86" y="15"/>
                  </a:lnTo>
                  <a:lnTo>
                    <a:pt x="94" y="0"/>
                  </a:lnTo>
                  <a:lnTo>
                    <a:pt x="118" y="0"/>
                  </a:lnTo>
                  <a:lnTo>
                    <a:pt x="137" y="0"/>
                  </a:lnTo>
                  <a:lnTo>
                    <a:pt x="158" y="3"/>
                  </a:lnTo>
                  <a:lnTo>
                    <a:pt x="126" y="52"/>
                  </a:lnTo>
                  <a:lnTo>
                    <a:pt x="137" y="52"/>
                  </a:lnTo>
                  <a:lnTo>
                    <a:pt x="150" y="49"/>
                  </a:lnTo>
                  <a:lnTo>
                    <a:pt x="162" y="5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69200" y="1890000"/>
              <a:ext cx="58320" cy="37800"/>
            </a:xfrm>
            <a:custGeom>
              <a:avLst/>
              <a:gdLst/>
              <a:ahLst/>
              <a:rect l="l" t="t" r="r" b="b"/>
              <a:pathLst>
                <a:path w="163" h="107">
                  <a:moveTo>
                    <a:pt x="162" y="57"/>
                  </a:moveTo>
                  <a:lnTo>
                    <a:pt x="118" y="72"/>
                  </a:lnTo>
                  <a:lnTo>
                    <a:pt x="106" y="89"/>
                  </a:lnTo>
                  <a:lnTo>
                    <a:pt x="69" y="106"/>
                  </a:lnTo>
                  <a:lnTo>
                    <a:pt x="54" y="101"/>
                  </a:lnTo>
                  <a:lnTo>
                    <a:pt x="29" y="101"/>
                  </a:lnTo>
                  <a:lnTo>
                    <a:pt x="25" y="99"/>
                  </a:lnTo>
                  <a:lnTo>
                    <a:pt x="16" y="9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16" y="70"/>
                  </a:lnTo>
                  <a:lnTo>
                    <a:pt x="25" y="57"/>
                  </a:lnTo>
                  <a:lnTo>
                    <a:pt x="33" y="49"/>
                  </a:lnTo>
                  <a:lnTo>
                    <a:pt x="42" y="45"/>
                  </a:lnTo>
                  <a:lnTo>
                    <a:pt x="61" y="45"/>
                  </a:lnTo>
                  <a:lnTo>
                    <a:pt x="86" y="45"/>
                  </a:lnTo>
                  <a:lnTo>
                    <a:pt x="94" y="37"/>
                  </a:lnTo>
                  <a:lnTo>
                    <a:pt x="69" y="15"/>
                  </a:lnTo>
                  <a:lnTo>
                    <a:pt x="69" y="15"/>
                  </a:lnTo>
                  <a:lnTo>
                    <a:pt x="86" y="15"/>
                  </a:lnTo>
                  <a:lnTo>
                    <a:pt x="94" y="0"/>
                  </a:lnTo>
                  <a:lnTo>
                    <a:pt x="118" y="0"/>
                  </a:lnTo>
                  <a:lnTo>
                    <a:pt x="137" y="0"/>
                  </a:lnTo>
                  <a:lnTo>
                    <a:pt x="158" y="3"/>
                  </a:lnTo>
                  <a:lnTo>
                    <a:pt x="126" y="52"/>
                  </a:lnTo>
                  <a:lnTo>
                    <a:pt x="137" y="52"/>
                  </a:lnTo>
                  <a:lnTo>
                    <a:pt x="150" y="49"/>
                  </a:lnTo>
                  <a:lnTo>
                    <a:pt x="162" y="5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13840" y="1885320"/>
              <a:ext cx="28080" cy="2340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73" y="0"/>
                  </a:moveTo>
                  <a:lnTo>
                    <a:pt x="64" y="4"/>
                  </a:lnTo>
                  <a:lnTo>
                    <a:pt x="77" y="7"/>
                  </a:lnTo>
                  <a:lnTo>
                    <a:pt x="53" y="39"/>
                  </a:lnTo>
                  <a:lnTo>
                    <a:pt x="11" y="66"/>
                  </a:lnTo>
                  <a:lnTo>
                    <a:pt x="0" y="66"/>
                  </a:lnTo>
                  <a:lnTo>
                    <a:pt x="32" y="17"/>
                  </a:lnTo>
                  <a:lnTo>
                    <a:pt x="7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113840" y="1885320"/>
              <a:ext cx="28080" cy="2340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73" y="0"/>
                  </a:moveTo>
                  <a:lnTo>
                    <a:pt x="64" y="4"/>
                  </a:lnTo>
                  <a:lnTo>
                    <a:pt x="77" y="7"/>
                  </a:lnTo>
                  <a:lnTo>
                    <a:pt x="53" y="39"/>
                  </a:lnTo>
                  <a:lnTo>
                    <a:pt x="11" y="66"/>
                  </a:lnTo>
                  <a:lnTo>
                    <a:pt x="0" y="66"/>
                  </a:lnTo>
                  <a:lnTo>
                    <a:pt x="32" y="17"/>
                  </a:lnTo>
                  <a:lnTo>
                    <a:pt x="7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96400" y="1740600"/>
              <a:ext cx="279360" cy="179280"/>
            </a:xfrm>
            <a:custGeom>
              <a:avLst/>
              <a:gdLst/>
              <a:ahLst/>
              <a:rect l="l" t="t" r="r" b="b"/>
              <a:pathLst>
                <a:path w="777" h="500">
                  <a:moveTo>
                    <a:pt x="679" y="401"/>
                  </a:moveTo>
                  <a:lnTo>
                    <a:pt x="638" y="418"/>
                  </a:lnTo>
                  <a:lnTo>
                    <a:pt x="617" y="415"/>
                  </a:lnTo>
                  <a:lnTo>
                    <a:pt x="598" y="415"/>
                  </a:lnTo>
                  <a:lnTo>
                    <a:pt x="574" y="415"/>
                  </a:lnTo>
                  <a:lnTo>
                    <a:pt x="566" y="430"/>
                  </a:lnTo>
                  <a:lnTo>
                    <a:pt x="549" y="430"/>
                  </a:lnTo>
                  <a:lnTo>
                    <a:pt x="574" y="452"/>
                  </a:lnTo>
                  <a:lnTo>
                    <a:pt x="566" y="460"/>
                  </a:lnTo>
                  <a:lnTo>
                    <a:pt x="541" y="460"/>
                  </a:lnTo>
                  <a:lnTo>
                    <a:pt x="522" y="460"/>
                  </a:lnTo>
                  <a:lnTo>
                    <a:pt x="513" y="464"/>
                  </a:lnTo>
                  <a:lnTo>
                    <a:pt x="505" y="472"/>
                  </a:lnTo>
                  <a:lnTo>
                    <a:pt x="496" y="485"/>
                  </a:lnTo>
                  <a:lnTo>
                    <a:pt x="480" y="499"/>
                  </a:lnTo>
                  <a:lnTo>
                    <a:pt x="473" y="489"/>
                  </a:lnTo>
                  <a:lnTo>
                    <a:pt x="468" y="485"/>
                  </a:lnTo>
                  <a:lnTo>
                    <a:pt x="445" y="457"/>
                  </a:lnTo>
                  <a:lnTo>
                    <a:pt x="440" y="460"/>
                  </a:lnTo>
                  <a:lnTo>
                    <a:pt x="416" y="455"/>
                  </a:lnTo>
                  <a:lnTo>
                    <a:pt x="424" y="452"/>
                  </a:lnTo>
                  <a:lnTo>
                    <a:pt x="416" y="448"/>
                  </a:lnTo>
                  <a:lnTo>
                    <a:pt x="404" y="452"/>
                  </a:lnTo>
                  <a:lnTo>
                    <a:pt x="416" y="455"/>
                  </a:lnTo>
                  <a:lnTo>
                    <a:pt x="347" y="467"/>
                  </a:lnTo>
                  <a:lnTo>
                    <a:pt x="307" y="457"/>
                  </a:lnTo>
                  <a:lnTo>
                    <a:pt x="215" y="420"/>
                  </a:lnTo>
                  <a:lnTo>
                    <a:pt x="194" y="401"/>
                  </a:lnTo>
                  <a:lnTo>
                    <a:pt x="149" y="391"/>
                  </a:lnTo>
                  <a:lnTo>
                    <a:pt x="142" y="376"/>
                  </a:lnTo>
                  <a:lnTo>
                    <a:pt x="110" y="347"/>
                  </a:lnTo>
                  <a:lnTo>
                    <a:pt x="113" y="335"/>
                  </a:lnTo>
                  <a:lnTo>
                    <a:pt x="130" y="329"/>
                  </a:lnTo>
                  <a:lnTo>
                    <a:pt x="125" y="324"/>
                  </a:lnTo>
                  <a:lnTo>
                    <a:pt x="154" y="307"/>
                  </a:lnTo>
                  <a:lnTo>
                    <a:pt x="149" y="293"/>
                  </a:lnTo>
                  <a:lnTo>
                    <a:pt x="157" y="278"/>
                  </a:lnTo>
                  <a:lnTo>
                    <a:pt x="138" y="223"/>
                  </a:lnTo>
                  <a:lnTo>
                    <a:pt x="145" y="223"/>
                  </a:lnTo>
                  <a:lnTo>
                    <a:pt x="134" y="219"/>
                  </a:lnTo>
                  <a:lnTo>
                    <a:pt x="142" y="211"/>
                  </a:lnTo>
                  <a:lnTo>
                    <a:pt x="134" y="207"/>
                  </a:lnTo>
                  <a:lnTo>
                    <a:pt x="145" y="207"/>
                  </a:lnTo>
                  <a:lnTo>
                    <a:pt x="122" y="194"/>
                  </a:lnTo>
                  <a:lnTo>
                    <a:pt x="138" y="187"/>
                  </a:lnTo>
                  <a:lnTo>
                    <a:pt x="113" y="192"/>
                  </a:lnTo>
                  <a:lnTo>
                    <a:pt x="125" y="182"/>
                  </a:lnTo>
                  <a:lnTo>
                    <a:pt x="142" y="174"/>
                  </a:lnTo>
                  <a:lnTo>
                    <a:pt x="142" y="163"/>
                  </a:lnTo>
                  <a:lnTo>
                    <a:pt x="125" y="148"/>
                  </a:lnTo>
                  <a:lnTo>
                    <a:pt x="142" y="133"/>
                  </a:lnTo>
                  <a:lnTo>
                    <a:pt x="125" y="128"/>
                  </a:lnTo>
                  <a:lnTo>
                    <a:pt x="125" y="101"/>
                  </a:lnTo>
                  <a:lnTo>
                    <a:pt x="134" y="91"/>
                  </a:lnTo>
                  <a:lnTo>
                    <a:pt x="130" y="91"/>
                  </a:lnTo>
                  <a:lnTo>
                    <a:pt x="154" y="54"/>
                  </a:lnTo>
                  <a:lnTo>
                    <a:pt x="170" y="42"/>
                  </a:lnTo>
                  <a:lnTo>
                    <a:pt x="157" y="27"/>
                  </a:lnTo>
                  <a:lnTo>
                    <a:pt x="138" y="17"/>
                  </a:lnTo>
                  <a:lnTo>
                    <a:pt x="85" y="66"/>
                  </a:lnTo>
                  <a:lnTo>
                    <a:pt x="81" y="118"/>
                  </a:lnTo>
                  <a:lnTo>
                    <a:pt x="69" y="133"/>
                  </a:lnTo>
                  <a:lnTo>
                    <a:pt x="65" y="160"/>
                  </a:lnTo>
                  <a:lnTo>
                    <a:pt x="73" y="155"/>
                  </a:lnTo>
                  <a:lnTo>
                    <a:pt x="73" y="165"/>
                  </a:lnTo>
                  <a:lnTo>
                    <a:pt x="57" y="185"/>
                  </a:lnTo>
                  <a:lnTo>
                    <a:pt x="41" y="221"/>
                  </a:lnTo>
                  <a:lnTo>
                    <a:pt x="45" y="229"/>
                  </a:lnTo>
                  <a:lnTo>
                    <a:pt x="62" y="231"/>
                  </a:lnTo>
                  <a:lnTo>
                    <a:pt x="62" y="248"/>
                  </a:lnTo>
                  <a:lnTo>
                    <a:pt x="49" y="256"/>
                  </a:lnTo>
                  <a:lnTo>
                    <a:pt x="29" y="263"/>
                  </a:lnTo>
                  <a:lnTo>
                    <a:pt x="29" y="256"/>
                  </a:lnTo>
                  <a:lnTo>
                    <a:pt x="33" y="243"/>
                  </a:lnTo>
                  <a:lnTo>
                    <a:pt x="8" y="216"/>
                  </a:lnTo>
                  <a:lnTo>
                    <a:pt x="12" y="207"/>
                  </a:lnTo>
                  <a:lnTo>
                    <a:pt x="4" y="211"/>
                  </a:lnTo>
                  <a:lnTo>
                    <a:pt x="33" y="185"/>
                  </a:lnTo>
                  <a:lnTo>
                    <a:pt x="37" y="169"/>
                  </a:lnTo>
                  <a:lnTo>
                    <a:pt x="24" y="158"/>
                  </a:lnTo>
                  <a:lnTo>
                    <a:pt x="33" y="150"/>
                  </a:lnTo>
                  <a:lnTo>
                    <a:pt x="24" y="158"/>
                  </a:lnTo>
                  <a:lnTo>
                    <a:pt x="8" y="150"/>
                  </a:lnTo>
                  <a:lnTo>
                    <a:pt x="0" y="128"/>
                  </a:lnTo>
                  <a:lnTo>
                    <a:pt x="33" y="130"/>
                  </a:lnTo>
                  <a:lnTo>
                    <a:pt x="24" y="125"/>
                  </a:lnTo>
                  <a:lnTo>
                    <a:pt x="53" y="108"/>
                  </a:lnTo>
                  <a:lnTo>
                    <a:pt x="41" y="74"/>
                  </a:lnTo>
                  <a:lnTo>
                    <a:pt x="97" y="0"/>
                  </a:lnTo>
                  <a:lnTo>
                    <a:pt x="118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4" y="0"/>
                  </a:lnTo>
                  <a:lnTo>
                    <a:pt x="161" y="5"/>
                  </a:lnTo>
                  <a:lnTo>
                    <a:pt x="174" y="13"/>
                  </a:lnTo>
                  <a:lnTo>
                    <a:pt x="186" y="17"/>
                  </a:lnTo>
                  <a:lnTo>
                    <a:pt x="190" y="19"/>
                  </a:lnTo>
                  <a:lnTo>
                    <a:pt x="199" y="24"/>
                  </a:lnTo>
                  <a:lnTo>
                    <a:pt x="215" y="29"/>
                  </a:lnTo>
                  <a:lnTo>
                    <a:pt x="219" y="32"/>
                  </a:lnTo>
                  <a:lnTo>
                    <a:pt x="226" y="37"/>
                  </a:lnTo>
                  <a:lnTo>
                    <a:pt x="234" y="42"/>
                  </a:lnTo>
                  <a:lnTo>
                    <a:pt x="251" y="42"/>
                  </a:lnTo>
                  <a:lnTo>
                    <a:pt x="263" y="44"/>
                  </a:lnTo>
                  <a:lnTo>
                    <a:pt x="279" y="44"/>
                  </a:lnTo>
                  <a:lnTo>
                    <a:pt x="296" y="44"/>
                  </a:lnTo>
                  <a:lnTo>
                    <a:pt x="319" y="47"/>
                  </a:lnTo>
                  <a:lnTo>
                    <a:pt x="335" y="35"/>
                  </a:lnTo>
                  <a:lnTo>
                    <a:pt x="352" y="37"/>
                  </a:lnTo>
                  <a:lnTo>
                    <a:pt x="368" y="37"/>
                  </a:lnTo>
                  <a:lnTo>
                    <a:pt x="388" y="37"/>
                  </a:lnTo>
                  <a:lnTo>
                    <a:pt x="400" y="69"/>
                  </a:lnTo>
                  <a:lnTo>
                    <a:pt x="383" y="94"/>
                  </a:lnTo>
                  <a:lnTo>
                    <a:pt x="383" y="96"/>
                  </a:lnTo>
                  <a:lnTo>
                    <a:pt x="388" y="103"/>
                  </a:lnTo>
                  <a:lnTo>
                    <a:pt x="404" y="113"/>
                  </a:lnTo>
                  <a:lnTo>
                    <a:pt x="424" y="106"/>
                  </a:lnTo>
                  <a:lnTo>
                    <a:pt x="457" y="94"/>
                  </a:lnTo>
                  <a:lnTo>
                    <a:pt x="485" y="96"/>
                  </a:lnTo>
                  <a:lnTo>
                    <a:pt x="489" y="111"/>
                  </a:lnTo>
                  <a:lnTo>
                    <a:pt x="477" y="135"/>
                  </a:lnTo>
                  <a:lnTo>
                    <a:pt x="485" y="155"/>
                  </a:lnTo>
                  <a:lnTo>
                    <a:pt x="473" y="169"/>
                  </a:lnTo>
                  <a:lnTo>
                    <a:pt x="468" y="182"/>
                  </a:lnTo>
                  <a:lnTo>
                    <a:pt x="468" y="187"/>
                  </a:lnTo>
                  <a:lnTo>
                    <a:pt x="509" y="202"/>
                  </a:lnTo>
                  <a:lnTo>
                    <a:pt x="522" y="199"/>
                  </a:lnTo>
                  <a:lnTo>
                    <a:pt x="453" y="256"/>
                  </a:lnTo>
                  <a:lnTo>
                    <a:pt x="420" y="285"/>
                  </a:lnTo>
                  <a:lnTo>
                    <a:pt x="412" y="298"/>
                  </a:lnTo>
                  <a:lnTo>
                    <a:pt x="408" y="335"/>
                  </a:lnTo>
                  <a:lnTo>
                    <a:pt x="416" y="389"/>
                  </a:lnTo>
                  <a:lnTo>
                    <a:pt x="440" y="389"/>
                  </a:lnTo>
                  <a:lnTo>
                    <a:pt x="457" y="403"/>
                  </a:lnTo>
                  <a:lnTo>
                    <a:pt x="493" y="398"/>
                  </a:lnTo>
                  <a:lnTo>
                    <a:pt x="525" y="398"/>
                  </a:lnTo>
                  <a:lnTo>
                    <a:pt x="538" y="391"/>
                  </a:lnTo>
                  <a:lnTo>
                    <a:pt x="553" y="391"/>
                  </a:lnTo>
                  <a:lnTo>
                    <a:pt x="553" y="401"/>
                  </a:lnTo>
                  <a:lnTo>
                    <a:pt x="577" y="393"/>
                  </a:lnTo>
                  <a:lnTo>
                    <a:pt x="574" y="389"/>
                  </a:lnTo>
                  <a:lnTo>
                    <a:pt x="581" y="386"/>
                  </a:lnTo>
                  <a:lnTo>
                    <a:pt x="569" y="389"/>
                  </a:lnTo>
                  <a:lnTo>
                    <a:pt x="606" y="376"/>
                  </a:lnTo>
                  <a:lnTo>
                    <a:pt x="650" y="332"/>
                  </a:lnTo>
                  <a:lnTo>
                    <a:pt x="723" y="322"/>
                  </a:lnTo>
                  <a:lnTo>
                    <a:pt x="760" y="322"/>
                  </a:lnTo>
                  <a:lnTo>
                    <a:pt x="772" y="322"/>
                  </a:lnTo>
                  <a:lnTo>
                    <a:pt x="776" y="335"/>
                  </a:lnTo>
                  <a:lnTo>
                    <a:pt x="731" y="364"/>
                  </a:lnTo>
                  <a:lnTo>
                    <a:pt x="714" y="371"/>
                  </a:lnTo>
                  <a:lnTo>
                    <a:pt x="727" y="374"/>
                  </a:lnTo>
                  <a:lnTo>
                    <a:pt x="711" y="379"/>
                  </a:lnTo>
                  <a:lnTo>
                    <a:pt x="718" y="379"/>
                  </a:lnTo>
                  <a:lnTo>
                    <a:pt x="695" y="403"/>
                  </a:lnTo>
                  <a:lnTo>
                    <a:pt x="687" y="408"/>
                  </a:lnTo>
                  <a:lnTo>
                    <a:pt x="687" y="401"/>
                  </a:lnTo>
                  <a:lnTo>
                    <a:pt x="691" y="391"/>
                  </a:lnTo>
                  <a:lnTo>
                    <a:pt x="679" y="40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96400" y="1740600"/>
              <a:ext cx="279360" cy="179280"/>
            </a:xfrm>
            <a:custGeom>
              <a:avLst/>
              <a:gdLst/>
              <a:ahLst/>
              <a:rect l="l" t="t" r="r" b="b"/>
              <a:pathLst>
                <a:path w="777" h="500">
                  <a:moveTo>
                    <a:pt x="679" y="401"/>
                  </a:moveTo>
                  <a:lnTo>
                    <a:pt x="638" y="418"/>
                  </a:lnTo>
                  <a:lnTo>
                    <a:pt x="617" y="415"/>
                  </a:lnTo>
                  <a:lnTo>
                    <a:pt x="598" y="415"/>
                  </a:lnTo>
                  <a:lnTo>
                    <a:pt x="574" y="415"/>
                  </a:lnTo>
                  <a:lnTo>
                    <a:pt x="566" y="430"/>
                  </a:lnTo>
                  <a:lnTo>
                    <a:pt x="549" y="430"/>
                  </a:lnTo>
                  <a:lnTo>
                    <a:pt x="549" y="430"/>
                  </a:lnTo>
                  <a:lnTo>
                    <a:pt x="574" y="452"/>
                  </a:lnTo>
                  <a:lnTo>
                    <a:pt x="566" y="460"/>
                  </a:lnTo>
                  <a:lnTo>
                    <a:pt x="541" y="460"/>
                  </a:lnTo>
                  <a:lnTo>
                    <a:pt x="522" y="460"/>
                  </a:lnTo>
                  <a:lnTo>
                    <a:pt x="513" y="464"/>
                  </a:lnTo>
                  <a:lnTo>
                    <a:pt x="505" y="472"/>
                  </a:lnTo>
                  <a:lnTo>
                    <a:pt x="496" y="485"/>
                  </a:lnTo>
                  <a:lnTo>
                    <a:pt x="480" y="499"/>
                  </a:lnTo>
                  <a:lnTo>
                    <a:pt x="473" y="489"/>
                  </a:lnTo>
                  <a:lnTo>
                    <a:pt x="468" y="485"/>
                  </a:lnTo>
                  <a:lnTo>
                    <a:pt x="445" y="457"/>
                  </a:lnTo>
                  <a:lnTo>
                    <a:pt x="440" y="460"/>
                  </a:lnTo>
                  <a:lnTo>
                    <a:pt x="416" y="455"/>
                  </a:lnTo>
                  <a:lnTo>
                    <a:pt x="424" y="452"/>
                  </a:lnTo>
                  <a:lnTo>
                    <a:pt x="416" y="448"/>
                  </a:lnTo>
                  <a:lnTo>
                    <a:pt x="404" y="452"/>
                  </a:lnTo>
                  <a:lnTo>
                    <a:pt x="416" y="455"/>
                  </a:lnTo>
                  <a:lnTo>
                    <a:pt x="347" y="467"/>
                  </a:lnTo>
                  <a:lnTo>
                    <a:pt x="307" y="457"/>
                  </a:lnTo>
                  <a:lnTo>
                    <a:pt x="215" y="420"/>
                  </a:lnTo>
                  <a:lnTo>
                    <a:pt x="194" y="401"/>
                  </a:lnTo>
                  <a:lnTo>
                    <a:pt x="149" y="391"/>
                  </a:lnTo>
                  <a:lnTo>
                    <a:pt x="142" y="376"/>
                  </a:lnTo>
                  <a:lnTo>
                    <a:pt x="110" y="347"/>
                  </a:lnTo>
                  <a:lnTo>
                    <a:pt x="113" y="335"/>
                  </a:lnTo>
                  <a:lnTo>
                    <a:pt x="130" y="329"/>
                  </a:lnTo>
                  <a:lnTo>
                    <a:pt x="125" y="324"/>
                  </a:lnTo>
                  <a:lnTo>
                    <a:pt x="154" y="307"/>
                  </a:lnTo>
                  <a:lnTo>
                    <a:pt x="149" y="293"/>
                  </a:lnTo>
                  <a:lnTo>
                    <a:pt x="157" y="278"/>
                  </a:lnTo>
                  <a:lnTo>
                    <a:pt x="138" y="223"/>
                  </a:lnTo>
                  <a:lnTo>
                    <a:pt x="145" y="223"/>
                  </a:lnTo>
                  <a:lnTo>
                    <a:pt x="134" y="219"/>
                  </a:lnTo>
                  <a:lnTo>
                    <a:pt x="142" y="211"/>
                  </a:lnTo>
                  <a:lnTo>
                    <a:pt x="134" y="207"/>
                  </a:lnTo>
                  <a:lnTo>
                    <a:pt x="145" y="207"/>
                  </a:lnTo>
                  <a:lnTo>
                    <a:pt x="122" y="194"/>
                  </a:lnTo>
                  <a:lnTo>
                    <a:pt x="138" y="187"/>
                  </a:lnTo>
                  <a:lnTo>
                    <a:pt x="113" y="192"/>
                  </a:lnTo>
                  <a:lnTo>
                    <a:pt x="125" y="182"/>
                  </a:lnTo>
                  <a:lnTo>
                    <a:pt x="142" y="174"/>
                  </a:lnTo>
                  <a:lnTo>
                    <a:pt x="142" y="163"/>
                  </a:lnTo>
                  <a:lnTo>
                    <a:pt x="125" y="148"/>
                  </a:lnTo>
                  <a:lnTo>
                    <a:pt x="142" y="133"/>
                  </a:lnTo>
                  <a:lnTo>
                    <a:pt x="125" y="128"/>
                  </a:lnTo>
                  <a:lnTo>
                    <a:pt x="125" y="101"/>
                  </a:lnTo>
                  <a:lnTo>
                    <a:pt x="134" y="91"/>
                  </a:lnTo>
                  <a:lnTo>
                    <a:pt x="130" y="91"/>
                  </a:lnTo>
                  <a:lnTo>
                    <a:pt x="154" y="54"/>
                  </a:lnTo>
                  <a:lnTo>
                    <a:pt x="170" y="42"/>
                  </a:lnTo>
                  <a:lnTo>
                    <a:pt x="157" y="27"/>
                  </a:lnTo>
                  <a:lnTo>
                    <a:pt x="138" y="17"/>
                  </a:lnTo>
                  <a:lnTo>
                    <a:pt x="85" y="66"/>
                  </a:lnTo>
                  <a:lnTo>
                    <a:pt x="81" y="118"/>
                  </a:lnTo>
                  <a:lnTo>
                    <a:pt x="69" y="133"/>
                  </a:lnTo>
                  <a:lnTo>
                    <a:pt x="65" y="160"/>
                  </a:lnTo>
                  <a:lnTo>
                    <a:pt x="73" y="155"/>
                  </a:lnTo>
                  <a:lnTo>
                    <a:pt x="73" y="165"/>
                  </a:lnTo>
                  <a:lnTo>
                    <a:pt x="57" y="185"/>
                  </a:lnTo>
                  <a:lnTo>
                    <a:pt x="41" y="221"/>
                  </a:lnTo>
                  <a:lnTo>
                    <a:pt x="45" y="229"/>
                  </a:lnTo>
                  <a:lnTo>
                    <a:pt x="62" y="231"/>
                  </a:lnTo>
                  <a:lnTo>
                    <a:pt x="62" y="248"/>
                  </a:lnTo>
                  <a:lnTo>
                    <a:pt x="49" y="256"/>
                  </a:lnTo>
                  <a:lnTo>
                    <a:pt x="29" y="263"/>
                  </a:lnTo>
                  <a:lnTo>
                    <a:pt x="29" y="256"/>
                  </a:lnTo>
                  <a:lnTo>
                    <a:pt x="33" y="243"/>
                  </a:lnTo>
                  <a:lnTo>
                    <a:pt x="8" y="216"/>
                  </a:lnTo>
                  <a:lnTo>
                    <a:pt x="12" y="207"/>
                  </a:lnTo>
                  <a:lnTo>
                    <a:pt x="4" y="211"/>
                  </a:lnTo>
                  <a:lnTo>
                    <a:pt x="33" y="185"/>
                  </a:lnTo>
                  <a:lnTo>
                    <a:pt x="37" y="169"/>
                  </a:lnTo>
                  <a:lnTo>
                    <a:pt x="24" y="158"/>
                  </a:lnTo>
                  <a:lnTo>
                    <a:pt x="33" y="150"/>
                  </a:lnTo>
                  <a:lnTo>
                    <a:pt x="24" y="158"/>
                  </a:lnTo>
                  <a:lnTo>
                    <a:pt x="8" y="150"/>
                  </a:lnTo>
                  <a:lnTo>
                    <a:pt x="0" y="128"/>
                  </a:lnTo>
                  <a:lnTo>
                    <a:pt x="33" y="130"/>
                  </a:lnTo>
                  <a:lnTo>
                    <a:pt x="24" y="125"/>
                  </a:lnTo>
                  <a:lnTo>
                    <a:pt x="53" y="108"/>
                  </a:lnTo>
                  <a:lnTo>
                    <a:pt x="41" y="74"/>
                  </a:lnTo>
                  <a:lnTo>
                    <a:pt x="97" y="0"/>
                  </a:lnTo>
                  <a:lnTo>
                    <a:pt x="118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4" y="0"/>
                  </a:lnTo>
                  <a:lnTo>
                    <a:pt x="161" y="5"/>
                  </a:lnTo>
                  <a:lnTo>
                    <a:pt x="174" y="13"/>
                  </a:lnTo>
                  <a:lnTo>
                    <a:pt x="186" y="17"/>
                  </a:lnTo>
                  <a:lnTo>
                    <a:pt x="190" y="19"/>
                  </a:lnTo>
                  <a:lnTo>
                    <a:pt x="199" y="24"/>
                  </a:lnTo>
                  <a:lnTo>
                    <a:pt x="215" y="29"/>
                  </a:lnTo>
                  <a:lnTo>
                    <a:pt x="219" y="32"/>
                  </a:lnTo>
                  <a:lnTo>
                    <a:pt x="226" y="37"/>
                  </a:lnTo>
                  <a:lnTo>
                    <a:pt x="234" y="42"/>
                  </a:lnTo>
                  <a:lnTo>
                    <a:pt x="251" y="42"/>
                  </a:lnTo>
                  <a:lnTo>
                    <a:pt x="263" y="44"/>
                  </a:lnTo>
                  <a:lnTo>
                    <a:pt x="279" y="44"/>
                  </a:lnTo>
                  <a:lnTo>
                    <a:pt x="296" y="44"/>
                  </a:lnTo>
                  <a:lnTo>
                    <a:pt x="319" y="47"/>
                  </a:lnTo>
                  <a:lnTo>
                    <a:pt x="335" y="35"/>
                  </a:lnTo>
                  <a:lnTo>
                    <a:pt x="352" y="37"/>
                  </a:lnTo>
                  <a:lnTo>
                    <a:pt x="368" y="37"/>
                  </a:lnTo>
                  <a:lnTo>
                    <a:pt x="388" y="37"/>
                  </a:lnTo>
                  <a:lnTo>
                    <a:pt x="400" y="69"/>
                  </a:lnTo>
                  <a:lnTo>
                    <a:pt x="383" y="94"/>
                  </a:lnTo>
                  <a:lnTo>
                    <a:pt x="383" y="96"/>
                  </a:lnTo>
                  <a:lnTo>
                    <a:pt x="388" y="103"/>
                  </a:lnTo>
                  <a:lnTo>
                    <a:pt x="404" y="113"/>
                  </a:lnTo>
                  <a:lnTo>
                    <a:pt x="424" y="106"/>
                  </a:lnTo>
                  <a:lnTo>
                    <a:pt x="457" y="94"/>
                  </a:lnTo>
                  <a:lnTo>
                    <a:pt x="485" y="96"/>
                  </a:lnTo>
                  <a:lnTo>
                    <a:pt x="489" y="111"/>
                  </a:lnTo>
                  <a:lnTo>
                    <a:pt x="477" y="135"/>
                  </a:lnTo>
                  <a:lnTo>
                    <a:pt x="485" y="155"/>
                  </a:lnTo>
                  <a:lnTo>
                    <a:pt x="473" y="169"/>
                  </a:lnTo>
                  <a:lnTo>
                    <a:pt x="468" y="182"/>
                  </a:lnTo>
                  <a:lnTo>
                    <a:pt x="468" y="187"/>
                  </a:lnTo>
                  <a:lnTo>
                    <a:pt x="509" y="202"/>
                  </a:lnTo>
                  <a:lnTo>
                    <a:pt x="522" y="199"/>
                  </a:lnTo>
                  <a:lnTo>
                    <a:pt x="453" y="256"/>
                  </a:lnTo>
                  <a:lnTo>
                    <a:pt x="420" y="285"/>
                  </a:lnTo>
                  <a:lnTo>
                    <a:pt x="412" y="298"/>
                  </a:lnTo>
                  <a:lnTo>
                    <a:pt x="408" y="335"/>
                  </a:lnTo>
                  <a:lnTo>
                    <a:pt x="416" y="389"/>
                  </a:lnTo>
                  <a:lnTo>
                    <a:pt x="440" y="389"/>
                  </a:lnTo>
                  <a:lnTo>
                    <a:pt x="457" y="403"/>
                  </a:lnTo>
                  <a:lnTo>
                    <a:pt x="493" y="398"/>
                  </a:lnTo>
                  <a:lnTo>
                    <a:pt x="525" y="398"/>
                  </a:lnTo>
                  <a:lnTo>
                    <a:pt x="538" y="391"/>
                  </a:lnTo>
                  <a:lnTo>
                    <a:pt x="553" y="391"/>
                  </a:lnTo>
                  <a:lnTo>
                    <a:pt x="553" y="401"/>
                  </a:lnTo>
                  <a:lnTo>
                    <a:pt x="577" y="393"/>
                  </a:lnTo>
                  <a:lnTo>
                    <a:pt x="574" y="389"/>
                  </a:lnTo>
                  <a:lnTo>
                    <a:pt x="581" y="386"/>
                  </a:lnTo>
                  <a:lnTo>
                    <a:pt x="569" y="389"/>
                  </a:lnTo>
                  <a:lnTo>
                    <a:pt x="606" y="376"/>
                  </a:lnTo>
                  <a:lnTo>
                    <a:pt x="650" y="332"/>
                  </a:lnTo>
                  <a:lnTo>
                    <a:pt x="723" y="322"/>
                  </a:lnTo>
                  <a:lnTo>
                    <a:pt x="760" y="322"/>
                  </a:lnTo>
                  <a:lnTo>
                    <a:pt x="772" y="322"/>
                  </a:lnTo>
                  <a:lnTo>
                    <a:pt x="776" y="335"/>
                  </a:lnTo>
                  <a:lnTo>
                    <a:pt x="731" y="364"/>
                  </a:lnTo>
                  <a:lnTo>
                    <a:pt x="714" y="371"/>
                  </a:lnTo>
                  <a:lnTo>
                    <a:pt x="727" y="374"/>
                  </a:lnTo>
                  <a:lnTo>
                    <a:pt x="711" y="379"/>
                  </a:lnTo>
                  <a:lnTo>
                    <a:pt x="718" y="379"/>
                  </a:lnTo>
                  <a:lnTo>
                    <a:pt x="695" y="403"/>
                  </a:lnTo>
                  <a:lnTo>
                    <a:pt x="687" y="408"/>
                  </a:lnTo>
                  <a:lnTo>
                    <a:pt x="687" y="401"/>
                  </a:lnTo>
                  <a:lnTo>
                    <a:pt x="691" y="391"/>
                  </a:lnTo>
                  <a:lnTo>
                    <a:pt x="679" y="40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89000" y="18406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40040" y="1703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46520" y="17046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35600" y="1701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462760" y="1684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57920" y="17470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38560" y="1695240"/>
              <a:ext cx="612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407320" y="1685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1459440" y="1699920"/>
              <a:ext cx="900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24880" y="17298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53040" y="1603080"/>
              <a:ext cx="6120" cy="10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6" y="5"/>
                  </a:moveTo>
                  <a:lnTo>
                    <a:pt x="0" y="0"/>
                  </a:lnTo>
                  <a:lnTo>
                    <a:pt x="3" y="5"/>
                  </a:lnTo>
                  <a:lnTo>
                    <a:pt x="16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53040" y="1603080"/>
              <a:ext cx="6120" cy="10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6" y="5"/>
                  </a:moveTo>
                  <a:lnTo>
                    <a:pt x="16" y="5"/>
                  </a:lnTo>
                  <a:lnTo>
                    <a:pt x="0" y="0"/>
                  </a:lnTo>
                  <a:lnTo>
                    <a:pt x="3" y="5"/>
                  </a:lnTo>
                  <a:lnTo>
                    <a:pt x="16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257920" y="17470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07320" y="1685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89000" y="18406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413440" y="14266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15240" y="1452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308680" y="1630080"/>
              <a:ext cx="6120" cy="10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5" y="0"/>
                  </a:moveTo>
                  <a:lnTo>
                    <a:pt x="11" y="2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08680" y="1630080"/>
              <a:ext cx="6120" cy="10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5" y="0"/>
                  </a:moveTo>
                  <a:lnTo>
                    <a:pt x="15" y="0"/>
                  </a:lnTo>
                  <a:lnTo>
                    <a:pt x="11" y="2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08680" y="1553760"/>
              <a:ext cx="4320" cy="61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2" y="5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8"/>
                  </a:lnTo>
                  <a:lnTo>
                    <a:pt x="12" y="10"/>
                  </a:lnTo>
                  <a:lnTo>
                    <a:pt x="8" y="17"/>
                  </a:lnTo>
                  <a:lnTo>
                    <a:pt x="12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08680" y="1553760"/>
              <a:ext cx="4320" cy="61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2" y="5"/>
                  </a:moveTo>
                  <a:lnTo>
                    <a:pt x="12" y="5"/>
                  </a:lnTo>
                  <a:lnTo>
                    <a:pt x="12" y="0"/>
                  </a:lnTo>
                  <a:lnTo>
                    <a:pt x="12" y="8"/>
                  </a:lnTo>
                  <a:lnTo>
                    <a:pt x="0" y="8"/>
                  </a:lnTo>
                  <a:lnTo>
                    <a:pt x="12" y="10"/>
                  </a:lnTo>
                  <a:lnTo>
                    <a:pt x="8" y="17"/>
                  </a:lnTo>
                  <a:lnTo>
                    <a:pt x="12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20280" y="17694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02720" y="2059920"/>
              <a:ext cx="32760" cy="14040"/>
            </a:xfrm>
            <a:custGeom>
              <a:avLst/>
              <a:gdLst/>
              <a:ahLst/>
              <a:rect l="l" t="t" r="r" b="b"/>
              <a:pathLst>
                <a:path w="94" h="41">
                  <a:moveTo>
                    <a:pt x="93" y="0"/>
                  </a:moveTo>
                  <a:lnTo>
                    <a:pt x="85" y="20"/>
                  </a:lnTo>
                  <a:lnTo>
                    <a:pt x="73" y="23"/>
                  </a:lnTo>
                  <a:lnTo>
                    <a:pt x="78" y="30"/>
                  </a:lnTo>
                  <a:lnTo>
                    <a:pt x="69" y="28"/>
                  </a:lnTo>
                  <a:lnTo>
                    <a:pt x="78" y="30"/>
                  </a:lnTo>
                  <a:lnTo>
                    <a:pt x="49" y="32"/>
                  </a:lnTo>
                  <a:lnTo>
                    <a:pt x="36" y="40"/>
                  </a:lnTo>
                  <a:lnTo>
                    <a:pt x="20" y="38"/>
                  </a:lnTo>
                  <a:lnTo>
                    <a:pt x="20" y="30"/>
                  </a:lnTo>
                  <a:lnTo>
                    <a:pt x="16" y="40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13" y="20"/>
                  </a:lnTo>
                  <a:lnTo>
                    <a:pt x="0" y="18"/>
                  </a:lnTo>
                  <a:lnTo>
                    <a:pt x="0" y="8"/>
                  </a:lnTo>
                  <a:lnTo>
                    <a:pt x="8" y="0"/>
                  </a:lnTo>
                  <a:lnTo>
                    <a:pt x="9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02720" y="2059920"/>
              <a:ext cx="32760" cy="14040"/>
            </a:xfrm>
            <a:custGeom>
              <a:avLst/>
              <a:gdLst/>
              <a:ahLst/>
              <a:rect l="l" t="t" r="r" b="b"/>
              <a:pathLst>
                <a:path w="94" h="41">
                  <a:moveTo>
                    <a:pt x="93" y="0"/>
                  </a:moveTo>
                  <a:lnTo>
                    <a:pt x="93" y="0"/>
                  </a:lnTo>
                  <a:lnTo>
                    <a:pt x="85" y="20"/>
                  </a:lnTo>
                  <a:lnTo>
                    <a:pt x="73" y="23"/>
                  </a:lnTo>
                  <a:lnTo>
                    <a:pt x="78" y="30"/>
                  </a:lnTo>
                  <a:lnTo>
                    <a:pt x="69" y="28"/>
                  </a:lnTo>
                  <a:lnTo>
                    <a:pt x="78" y="30"/>
                  </a:lnTo>
                  <a:lnTo>
                    <a:pt x="49" y="32"/>
                  </a:lnTo>
                  <a:lnTo>
                    <a:pt x="36" y="40"/>
                  </a:lnTo>
                  <a:lnTo>
                    <a:pt x="20" y="38"/>
                  </a:lnTo>
                  <a:lnTo>
                    <a:pt x="20" y="30"/>
                  </a:lnTo>
                  <a:lnTo>
                    <a:pt x="16" y="40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13" y="20"/>
                  </a:lnTo>
                  <a:lnTo>
                    <a:pt x="0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9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86880" y="2063160"/>
              <a:ext cx="9000" cy="90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8" y="12"/>
                  </a:moveTo>
                  <a:lnTo>
                    <a:pt x="24" y="0"/>
                  </a:lnTo>
                  <a:lnTo>
                    <a:pt x="24" y="12"/>
                  </a:lnTo>
                  <a:lnTo>
                    <a:pt x="0" y="24"/>
                  </a:lnTo>
                  <a:lnTo>
                    <a:pt x="8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86880" y="2063160"/>
              <a:ext cx="9000" cy="90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8" y="12"/>
                  </a:moveTo>
                  <a:lnTo>
                    <a:pt x="8" y="12"/>
                  </a:lnTo>
                  <a:lnTo>
                    <a:pt x="24" y="0"/>
                  </a:lnTo>
                  <a:lnTo>
                    <a:pt x="24" y="12"/>
                  </a:lnTo>
                  <a:lnTo>
                    <a:pt x="0" y="24"/>
                  </a:lnTo>
                  <a:lnTo>
                    <a:pt x="8" y="1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13880" y="2055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20000" y="20581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175480" y="2377080"/>
              <a:ext cx="1080" cy="1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175480" y="2377080"/>
              <a:ext cx="1080" cy="1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207160" y="2404080"/>
              <a:ext cx="108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3" y="0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53000" y="2568960"/>
              <a:ext cx="7560" cy="14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0" y="4"/>
                  </a:moveTo>
                  <a:lnTo>
                    <a:pt x="8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20" y="2"/>
                  </a:lnTo>
                  <a:lnTo>
                    <a:pt x="20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53000" y="2568960"/>
              <a:ext cx="7560" cy="14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0" y="4"/>
                  </a:moveTo>
                  <a:lnTo>
                    <a:pt x="20" y="4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20" y="2"/>
                  </a:lnTo>
                  <a:lnTo>
                    <a:pt x="20" y="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965960" y="2570760"/>
              <a:ext cx="2520" cy="10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965960" y="2570760"/>
              <a:ext cx="2520" cy="10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0" y="2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65960" y="2516760"/>
              <a:ext cx="26640" cy="7560"/>
            </a:xfrm>
            <a:custGeom>
              <a:avLst/>
              <a:gdLst/>
              <a:ahLst/>
              <a:rect l="l" t="t" r="r" b="b"/>
              <a:pathLst>
                <a:path w="74" h="21">
                  <a:moveTo>
                    <a:pt x="69" y="20"/>
                  </a:moveTo>
                  <a:lnTo>
                    <a:pt x="57" y="15"/>
                  </a:lnTo>
                  <a:lnTo>
                    <a:pt x="53" y="13"/>
                  </a:lnTo>
                  <a:lnTo>
                    <a:pt x="49" y="13"/>
                  </a:lnTo>
                  <a:lnTo>
                    <a:pt x="36" y="8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9" y="3"/>
                  </a:lnTo>
                  <a:lnTo>
                    <a:pt x="0" y="0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24" y="0"/>
                  </a:lnTo>
                  <a:lnTo>
                    <a:pt x="24" y="3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45" y="3"/>
                  </a:lnTo>
                  <a:lnTo>
                    <a:pt x="45" y="5"/>
                  </a:lnTo>
                  <a:lnTo>
                    <a:pt x="49" y="8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10"/>
                  </a:lnTo>
                  <a:lnTo>
                    <a:pt x="61" y="10"/>
                  </a:lnTo>
                  <a:lnTo>
                    <a:pt x="65" y="13"/>
                  </a:lnTo>
                  <a:lnTo>
                    <a:pt x="73" y="15"/>
                  </a:lnTo>
                  <a:lnTo>
                    <a:pt x="65" y="18"/>
                  </a:lnTo>
                  <a:lnTo>
                    <a:pt x="69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965960" y="2516760"/>
              <a:ext cx="26640" cy="7560"/>
            </a:xfrm>
            <a:custGeom>
              <a:avLst/>
              <a:gdLst/>
              <a:ahLst/>
              <a:rect l="l" t="t" r="r" b="b"/>
              <a:pathLst>
                <a:path w="74" h="21">
                  <a:moveTo>
                    <a:pt x="69" y="20"/>
                  </a:moveTo>
                  <a:lnTo>
                    <a:pt x="69" y="20"/>
                  </a:lnTo>
                  <a:lnTo>
                    <a:pt x="57" y="15"/>
                  </a:lnTo>
                  <a:lnTo>
                    <a:pt x="53" y="13"/>
                  </a:lnTo>
                  <a:lnTo>
                    <a:pt x="49" y="13"/>
                  </a:lnTo>
                  <a:lnTo>
                    <a:pt x="36" y="8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0" y="0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24" y="0"/>
                  </a:lnTo>
                  <a:lnTo>
                    <a:pt x="24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45" y="3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10"/>
                  </a:lnTo>
                  <a:lnTo>
                    <a:pt x="61" y="10"/>
                  </a:lnTo>
                  <a:lnTo>
                    <a:pt x="65" y="13"/>
                  </a:lnTo>
                  <a:lnTo>
                    <a:pt x="73" y="15"/>
                  </a:lnTo>
                  <a:lnTo>
                    <a:pt x="65" y="18"/>
                  </a:lnTo>
                  <a:lnTo>
                    <a:pt x="69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732680" y="2504160"/>
              <a:ext cx="14040" cy="7560"/>
            </a:xfrm>
            <a:custGeom>
              <a:avLst/>
              <a:gdLst/>
              <a:ahLst/>
              <a:rect l="l" t="t" r="r" b="b"/>
              <a:pathLst>
                <a:path w="41" h="21">
                  <a:moveTo>
                    <a:pt x="12" y="15"/>
                  </a:moveTo>
                  <a:lnTo>
                    <a:pt x="24" y="11"/>
                  </a:lnTo>
                  <a:lnTo>
                    <a:pt x="12" y="8"/>
                  </a:lnTo>
                  <a:lnTo>
                    <a:pt x="28" y="8"/>
                  </a:lnTo>
                  <a:lnTo>
                    <a:pt x="0" y="0"/>
                  </a:lnTo>
                  <a:lnTo>
                    <a:pt x="40" y="0"/>
                  </a:lnTo>
                  <a:lnTo>
                    <a:pt x="28" y="20"/>
                  </a:lnTo>
                  <a:lnTo>
                    <a:pt x="12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732680" y="2504160"/>
              <a:ext cx="14040" cy="7560"/>
            </a:xfrm>
            <a:custGeom>
              <a:avLst/>
              <a:gdLst/>
              <a:ahLst/>
              <a:rect l="l" t="t" r="r" b="b"/>
              <a:pathLst>
                <a:path w="41" h="21">
                  <a:moveTo>
                    <a:pt x="12" y="15"/>
                  </a:moveTo>
                  <a:lnTo>
                    <a:pt x="12" y="15"/>
                  </a:lnTo>
                  <a:lnTo>
                    <a:pt x="24" y="11"/>
                  </a:lnTo>
                  <a:lnTo>
                    <a:pt x="12" y="8"/>
                  </a:lnTo>
                  <a:lnTo>
                    <a:pt x="28" y="8"/>
                  </a:lnTo>
                  <a:lnTo>
                    <a:pt x="0" y="0"/>
                  </a:lnTo>
                  <a:lnTo>
                    <a:pt x="40" y="0"/>
                  </a:lnTo>
                  <a:lnTo>
                    <a:pt x="28" y="20"/>
                  </a:lnTo>
                  <a:lnTo>
                    <a:pt x="12" y="1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748880" y="2502360"/>
              <a:ext cx="16920" cy="936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5" y="19"/>
                  </a:moveTo>
                  <a:lnTo>
                    <a:pt x="13" y="12"/>
                  </a:lnTo>
                  <a:lnTo>
                    <a:pt x="0" y="0"/>
                  </a:lnTo>
                  <a:lnTo>
                    <a:pt x="17" y="2"/>
                  </a:lnTo>
                  <a:lnTo>
                    <a:pt x="29" y="10"/>
                  </a:lnTo>
                  <a:lnTo>
                    <a:pt x="29" y="2"/>
                  </a:lnTo>
                  <a:lnTo>
                    <a:pt x="37" y="7"/>
                  </a:lnTo>
                  <a:lnTo>
                    <a:pt x="29" y="7"/>
                  </a:lnTo>
                  <a:lnTo>
                    <a:pt x="46" y="10"/>
                  </a:lnTo>
                  <a:lnTo>
                    <a:pt x="17" y="12"/>
                  </a:lnTo>
                  <a:lnTo>
                    <a:pt x="33" y="19"/>
                  </a:lnTo>
                  <a:lnTo>
                    <a:pt x="25" y="21"/>
                  </a:lnTo>
                  <a:lnTo>
                    <a:pt x="13" y="19"/>
                  </a:lnTo>
                  <a:lnTo>
                    <a:pt x="21" y="24"/>
                  </a:lnTo>
                  <a:lnTo>
                    <a:pt x="5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48880" y="2502360"/>
              <a:ext cx="16920" cy="936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5" y="19"/>
                  </a:moveTo>
                  <a:lnTo>
                    <a:pt x="5" y="19"/>
                  </a:lnTo>
                  <a:lnTo>
                    <a:pt x="13" y="12"/>
                  </a:lnTo>
                  <a:lnTo>
                    <a:pt x="0" y="0"/>
                  </a:lnTo>
                  <a:lnTo>
                    <a:pt x="17" y="2"/>
                  </a:lnTo>
                  <a:lnTo>
                    <a:pt x="29" y="10"/>
                  </a:lnTo>
                  <a:lnTo>
                    <a:pt x="29" y="2"/>
                  </a:lnTo>
                  <a:lnTo>
                    <a:pt x="37" y="7"/>
                  </a:lnTo>
                  <a:lnTo>
                    <a:pt x="29" y="7"/>
                  </a:lnTo>
                  <a:lnTo>
                    <a:pt x="46" y="10"/>
                  </a:lnTo>
                  <a:lnTo>
                    <a:pt x="17" y="12"/>
                  </a:lnTo>
                  <a:lnTo>
                    <a:pt x="33" y="19"/>
                  </a:lnTo>
                  <a:lnTo>
                    <a:pt x="25" y="21"/>
                  </a:lnTo>
                  <a:lnTo>
                    <a:pt x="13" y="19"/>
                  </a:lnTo>
                  <a:lnTo>
                    <a:pt x="21" y="24"/>
                  </a:lnTo>
                  <a:lnTo>
                    <a:pt x="5" y="1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35920" y="2531160"/>
              <a:ext cx="7560" cy="108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13" y="2"/>
                  </a:moveTo>
                  <a:lnTo>
                    <a:pt x="21" y="0"/>
                  </a:lnTo>
                  <a:lnTo>
                    <a:pt x="5" y="5"/>
                  </a:lnTo>
                  <a:lnTo>
                    <a:pt x="0" y="2"/>
                  </a:lnTo>
                  <a:lnTo>
                    <a:pt x="13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35920" y="2531160"/>
              <a:ext cx="7560" cy="108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13" y="2"/>
                  </a:moveTo>
                  <a:lnTo>
                    <a:pt x="13" y="2"/>
                  </a:lnTo>
                  <a:lnTo>
                    <a:pt x="21" y="0"/>
                  </a:lnTo>
                  <a:lnTo>
                    <a:pt x="5" y="5"/>
                  </a:lnTo>
                  <a:lnTo>
                    <a:pt x="0" y="2"/>
                  </a:lnTo>
                  <a:lnTo>
                    <a:pt x="13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7480" y="2535840"/>
              <a:ext cx="14040" cy="1080"/>
            </a:xfrm>
            <a:custGeom>
              <a:avLst/>
              <a:gdLst/>
              <a:ahLst/>
              <a:rect l="l" t="t" r="r" b="b"/>
              <a:pathLst>
                <a:path w="41" h="6">
                  <a:moveTo>
                    <a:pt x="35" y="0"/>
                  </a:moveTo>
                  <a:lnTo>
                    <a:pt x="40" y="5"/>
                  </a:lnTo>
                  <a:lnTo>
                    <a:pt x="16" y="5"/>
                  </a:lnTo>
                  <a:lnTo>
                    <a:pt x="0" y="0"/>
                  </a:lnTo>
                  <a:lnTo>
                    <a:pt x="3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07480" y="2535840"/>
              <a:ext cx="14040" cy="1080"/>
            </a:xfrm>
            <a:custGeom>
              <a:avLst/>
              <a:gdLst/>
              <a:ahLst/>
              <a:rect l="l" t="t" r="r" b="b"/>
              <a:pathLst>
                <a:path w="41" h="6">
                  <a:moveTo>
                    <a:pt x="35" y="0"/>
                  </a:moveTo>
                  <a:lnTo>
                    <a:pt x="35" y="0"/>
                  </a:lnTo>
                  <a:lnTo>
                    <a:pt x="40" y="5"/>
                  </a:lnTo>
                  <a:lnTo>
                    <a:pt x="16" y="5"/>
                  </a:lnTo>
                  <a:lnTo>
                    <a:pt x="0" y="0"/>
                  </a:lnTo>
                  <a:lnTo>
                    <a:pt x="3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694880" y="2535840"/>
              <a:ext cx="23400" cy="576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3" y="0"/>
                  </a:moveTo>
                  <a:lnTo>
                    <a:pt x="21" y="3"/>
                  </a:lnTo>
                  <a:lnTo>
                    <a:pt x="49" y="5"/>
                  </a:lnTo>
                  <a:lnTo>
                    <a:pt x="37" y="7"/>
                  </a:lnTo>
                  <a:lnTo>
                    <a:pt x="54" y="10"/>
                  </a:lnTo>
                  <a:lnTo>
                    <a:pt x="65" y="15"/>
                  </a:lnTo>
                  <a:lnTo>
                    <a:pt x="37" y="13"/>
                  </a:lnTo>
                  <a:lnTo>
                    <a:pt x="29" y="5"/>
                  </a:lnTo>
                  <a:lnTo>
                    <a:pt x="17" y="7"/>
                  </a:lnTo>
                  <a:lnTo>
                    <a:pt x="33" y="13"/>
                  </a:lnTo>
                  <a:lnTo>
                    <a:pt x="12" y="10"/>
                  </a:lnTo>
                  <a:lnTo>
                    <a:pt x="12" y="5"/>
                  </a:lnTo>
                  <a:lnTo>
                    <a:pt x="0" y="5"/>
                  </a:lnTo>
                  <a:lnTo>
                    <a:pt x="3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694880" y="2535840"/>
              <a:ext cx="23400" cy="576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3" y="0"/>
                  </a:moveTo>
                  <a:lnTo>
                    <a:pt x="33" y="0"/>
                  </a:lnTo>
                  <a:lnTo>
                    <a:pt x="21" y="3"/>
                  </a:lnTo>
                  <a:lnTo>
                    <a:pt x="49" y="5"/>
                  </a:lnTo>
                  <a:lnTo>
                    <a:pt x="37" y="7"/>
                  </a:lnTo>
                  <a:lnTo>
                    <a:pt x="54" y="10"/>
                  </a:lnTo>
                  <a:lnTo>
                    <a:pt x="65" y="15"/>
                  </a:lnTo>
                  <a:lnTo>
                    <a:pt x="37" y="13"/>
                  </a:lnTo>
                  <a:lnTo>
                    <a:pt x="29" y="5"/>
                  </a:lnTo>
                  <a:lnTo>
                    <a:pt x="17" y="7"/>
                  </a:lnTo>
                  <a:lnTo>
                    <a:pt x="33" y="13"/>
                  </a:lnTo>
                  <a:lnTo>
                    <a:pt x="12" y="10"/>
                  </a:lnTo>
                  <a:lnTo>
                    <a:pt x="12" y="5"/>
                  </a:lnTo>
                  <a:lnTo>
                    <a:pt x="0" y="5"/>
                  </a:lnTo>
                  <a:lnTo>
                    <a:pt x="3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43760" y="2524680"/>
              <a:ext cx="14040" cy="612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7"/>
                  </a:moveTo>
                  <a:lnTo>
                    <a:pt x="37" y="17"/>
                  </a:lnTo>
                  <a:lnTo>
                    <a:pt x="33" y="9"/>
                  </a:lnTo>
                  <a:lnTo>
                    <a:pt x="13" y="7"/>
                  </a:lnTo>
                  <a:lnTo>
                    <a:pt x="4" y="9"/>
                  </a:lnTo>
                  <a:lnTo>
                    <a:pt x="0" y="4"/>
                  </a:lnTo>
                  <a:lnTo>
                    <a:pt x="16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21" y="7"/>
                  </a:lnTo>
                  <a:lnTo>
                    <a:pt x="13" y="2"/>
                  </a:lnTo>
                  <a:lnTo>
                    <a:pt x="4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643760" y="2524680"/>
              <a:ext cx="14040" cy="612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7"/>
                  </a:moveTo>
                  <a:lnTo>
                    <a:pt x="40" y="7"/>
                  </a:lnTo>
                  <a:lnTo>
                    <a:pt x="37" y="17"/>
                  </a:lnTo>
                  <a:lnTo>
                    <a:pt x="33" y="9"/>
                  </a:lnTo>
                  <a:lnTo>
                    <a:pt x="13" y="7"/>
                  </a:lnTo>
                  <a:lnTo>
                    <a:pt x="4" y="9"/>
                  </a:lnTo>
                  <a:lnTo>
                    <a:pt x="0" y="4"/>
                  </a:lnTo>
                  <a:lnTo>
                    <a:pt x="16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21" y="7"/>
                  </a:lnTo>
                  <a:lnTo>
                    <a:pt x="13" y="2"/>
                  </a:lnTo>
                  <a:lnTo>
                    <a:pt x="40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534320" y="2453040"/>
              <a:ext cx="6120" cy="468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3" y="14"/>
                  </a:moveTo>
                  <a:lnTo>
                    <a:pt x="0" y="7"/>
                  </a:lnTo>
                  <a:lnTo>
                    <a:pt x="5" y="0"/>
                  </a:lnTo>
                  <a:lnTo>
                    <a:pt x="17" y="5"/>
                  </a:lnTo>
                  <a:lnTo>
                    <a:pt x="13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34320" y="2453040"/>
              <a:ext cx="6120" cy="468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3" y="14"/>
                  </a:moveTo>
                  <a:lnTo>
                    <a:pt x="13" y="14"/>
                  </a:lnTo>
                  <a:lnTo>
                    <a:pt x="0" y="7"/>
                  </a:lnTo>
                  <a:lnTo>
                    <a:pt x="5" y="0"/>
                  </a:lnTo>
                  <a:lnTo>
                    <a:pt x="17" y="5"/>
                  </a:lnTo>
                  <a:lnTo>
                    <a:pt x="13" y="1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571040" y="2489760"/>
              <a:ext cx="15480" cy="1080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44" y="32"/>
                  </a:moveTo>
                  <a:lnTo>
                    <a:pt x="31" y="27"/>
                  </a:lnTo>
                  <a:lnTo>
                    <a:pt x="4" y="14"/>
                  </a:lnTo>
                  <a:lnTo>
                    <a:pt x="0" y="0"/>
                  </a:lnTo>
                  <a:lnTo>
                    <a:pt x="11" y="5"/>
                  </a:lnTo>
                  <a:lnTo>
                    <a:pt x="40" y="21"/>
                  </a:lnTo>
                  <a:lnTo>
                    <a:pt x="44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71040" y="2489760"/>
              <a:ext cx="15480" cy="1080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44" y="32"/>
                  </a:moveTo>
                  <a:lnTo>
                    <a:pt x="44" y="32"/>
                  </a:lnTo>
                  <a:lnTo>
                    <a:pt x="31" y="27"/>
                  </a:lnTo>
                  <a:lnTo>
                    <a:pt x="4" y="14"/>
                  </a:lnTo>
                  <a:lnTo>
                    <a:pt x="0" y="0"/>
                  </a:lnTo>
                  <a:lnTo>
                    <a:pt x="11" y="5"/>
                  </a:lnTo>
                  <a:lnTo>
                    <a:pt x="40" y="21"/>
                  </a:lnTo>
                  <a:lnTo>
                    <a:pt x="44" y="3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23240" y="2521440"/>
              <a:ext cx="23400" cy="43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0"/>
                  </a:moveTo>
                  <a:lnTo>
                    <a:pt x="40" y="8"/>
                  </a:lnTo>
                  <a:lnTo>
                    <a:pt x="64" y="13"/>
                  </a:lnTo>
                  <a:lnTo>
                    <a:pt x="24" y="1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23240" y="2521440"/>
              <a:ext cx="23400" cy="43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0"/>
                  </a:moveTo>
                  <a:lnTo>
                    <a:pt x="0" y="0"/>
                  </a:lnTo>
                  <a:lnTo>
                    <a:pt x="40" y="8"/>
                  </a:lnTo>
                  <a:lnTo>
                    <a:pt x="64" y="13"/>
                  </a:lnTo>
                  <a:lnTo>
                    <a:pt x="24" y="1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659960" y="2529360"/>
              <a:ext cx="7560" cy="28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12" y="0"/>
                  </a:moveTo>
                  <a:lnTo>
                    <a:pt x="20" y="10"/>
                  </a:lnTo>
                  <a:lnTo>
                    <a:pt x="0" y="2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59960" y="2529360"/>
              <a:ext cx="7560" cy="28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12" y="0"/>
                  </a:moveTo>
                  <a:lnTo>
                    <a:pt x="12" y="0"/>
                  </a:lnTo>
                  <a:lnTo>
                    <a:pt x="20" y="10"/>
                  </a:lnTo>
                  <a:lnTo>
                    <a:pt x="0" y="2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66080" y="2529360"/>
              <a:ext cx="10800" cy="288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0" y="0"/>
                  </a:moveTo>
                  <a:lnTo>
                    <a:pt x="20" y="3"/>
                  </a:lnTo>
                  <a:lnTo>
                    <a:pt x="28" y="8"/>
                  </a:lnTo>
                  <a:lnTo>
                    <a:pt x="8" y="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666080" y="2529360"/>
              <a:ext cx="10800" cy="288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0" y="0"/>
                  </a:moveTo>
                  <a:lnTo>
                    <a:pt x="0" y="0"/>
                  </a:lnTo>
                  <a:lnTo>
                    <a:pt x="20" y="3"/>
                  </a:lnTo>
                  <a:lnTo>
                    <a:pt x="28" y="8"/>
                  </a:lnTo>
                  <a:lnTo>
                    <a:pt x="8" y="6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70760" y="2526120"/>
              <a:ext cx="9360" cy="61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20" y="9"/>
                  </a:lnTo>
                  <a:lnTo>
                    <a:pt x="25" y="15"/>
                  </a:lnTo>
                  <a:lnTo>
                    <a:pt x="4" y="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670760" y="2526120"/>
              <a:ext cx="9360" cy="61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0" y="0"/>
                  </a:lnTo>
                  <a:lnTo>
                    <a:pt x="20" y="9"/>
                  </a:lnTo>
                  <a:lnTo>
                    <a:pt x="25" y="15"/>
                  </a:lnTo>
                  <a:lnTo>
                    <a:pt x="4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99480" y="2508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602720" y="25056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80400" y="2500920"/>
              <a:ext cx="7560" cy="28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6" y="7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6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80400" y="2500920"/>
              <a:ext cx="7560" cy="28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6" y="7"/>
                  </a:moveTo>
                  <a:lnTo>
                    <a:pt x="16" y="7"/>
                  </a:lnTo>
                  <a:lnTo>
                    <a:pt x="0" y="0"/>
                  </a:lnTo>
                  <a:lnTo>
                    <a:pt x="20" y="0"/>
                  </a:lnTo>
                  <a:lnTo>
                    <a:pt x="16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53400" y="2483280"/>
              <a:ext cx="10800" cy="61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32" y="17"/>
                  </a:moveTo>
                  <a:lnTo>
                    <a:pt x="16" y="7"/>
                  </a:lnTo>
                  <a:lnTo>
                    <a:pt x="12" y="10"/>
                  </a:lnTo>
                  <a:lnTo>
                    <a:pt x="0" y="2"/>
                  </a:lnTo>
                  <a:lnTo>
                    <a:pt x="4" y="0"/>
                  </a:lnTo>
                  <a:lnTo>
                    <a:pt x="28" y="13"/>
                  </a:lnTo>
                  <a:lnTo>
                    <a:pt x="32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53400" y="2483280"/>
              <a:ext cx="10800" cy="61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32" y="17"/>
                  </a:moveTo>
                  <a:lnTo>
                    <a:pt x="32" y="17"/>
                  </a:lnTo>
                  <a:lnTo>
                    <a:pt x="16" y="7"/>
                  </a:lnTo>
                  <a:lnTo>
                    <a:pt x="12" y="10"/>
                  </a:lnTo>
                  <a:lnTo>
                    <a:pt x="0" y="2"/>
                  </a:lnTo>
                  <a:lnTo>
                    <a:pt x="4" y="0"/>
                  </a:lnTo>
                  <a:lnTo>
                    <a:pt x="28" y="13"/>
                  </a:lnTo>
                  <a:lnTo>
                    <a:pt x="32" y="1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63120" y="2485080"/>
              <a:ext cx="9000" cy="43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4" y="13"/>
                  </a:moveTo>
                  <a:lnTo>
                    <a:pt x="12" y="13"/>
                  </a:lnTo>
                  <a:lnTo>
                    <a:pt x="0" y="0"/>
                  </a:lnTo>
                  <a:lnTo>
                    <a:pt x="24" y="11"/>
                  </a:lnTo>
                  <a:lnTo>
                    <a:pt x="24" y="1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97960" y="2431080"/>
              <a:ext cx="20160" cy="13680"/>
            </a:xfrm>
            <a:custGeom>
              <a:avLst/>
              <a:gdLst/>
              <a:ahLst/>
              <a:rect l="l" t="t" r="r" b="b"/>
              <a:pathLst>
                <a:path w="58" h="40">
                  <a:moveTo>
                    <a:pt x="53" y="39"/>
                  </a:moveTo>
                  <a:lnTo>
                    <a:pt x="33" y="37"/>
                  </a:lnTo>
                  <a:lnTo>
                    <a:pt x="13" y="12"/>
                  </a:lnTo>
                  <a:lnTo>
                    <a:pt x="0" y="0"/>
                  </a:lnTo>
                  <a:lnTo>
                    <a:pt x="21" y="2"/>
                  </a:lnTo>
                  <a:lnTo>
                    <a:pt x="37" y="12"/>
                  </a:lnTo>
                  <a:lnTo>
                    <a:pt x="29" y="17"/>
                  </a:lnTo>
                  <a:lnTo>
                    <a:pt x="57" y="31"/>
                  </a:lnTo>
                  <a:lnTo>
                    <a:pt x="53" y="3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97960" y="2431080"/>
              <a:ext cx="20160" cy="13680"/>
            </a:xfrm>
            <a:custGeom>
              <a:avLst/>
              <a:gdLst/>
              <a:ahLst/>
              <a:rect l="l" t="t" r="r" b="b"/>
              <a:pathLst>
                <a:path w="58" h="40">
                  <a:moveTo>
                    <a:pt x="53" y="39"/>
                  </a:moveTo>
                  <a:lnTo>
                    <a:pt x="53" y="39"/>
                  </a:lnTo>
                  <a:lnTo>
                    <a:pt x="33" y="37"/>
                  </a:lnTo>
                  <a:lnTo>
                    <a:pt x="13" y="12"/>
                  </a:lnTo>
                  <a:lnTo>
                    <a:pt x="0" y="0"/>
                  </a:lnTo>
                  <a:lnTo>
                    <a:pt x="21" y="2"/>
                  </a:lnTo>
                  <a:lnTo>
                    <a:pt x="37" y="12"/>
                  </a:lnTo>
                  <a:lnTo>
                    <a:pt x="29" y="17"/>
                  </a:lnTo>
                  <a:lnTo>
                    <a:pt x="57" y="31"/>
                  </a:lnTo>
                  <a:lnTo>
                    <a:pt x="53" y="3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362960" y="23659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99520" y="20836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85120" y="1986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24720" y="19803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931680" y="1770840"/>
              <a:ext cx="2520" cy="612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4" y="0"/>
                  </a:moveTo>
                  <a:lnTo>
                    <a:pt x="8" y="10"/>
                  </a:lnTo>
                  <a:lnTo>
                    <a:pt x="0" y="17"/>
                  </a:lnTo>
                  <a:lnTo>
                    <a:pt x="0" y="5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31680" y="1770840"/>
              <a:ext cx="2520" cy="612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4" y="0"/>
                  </a:moveTo>
                  <a:lnTo>
                    <a:pt x="4" y="0"/>
                  </a:lnTo>
                  <a:lnTo>
                    <a:pt x="8" y="10"/>
                  </a:lnTo>
                  <a:lnTo>
                    <a:pt x="0" y="17"/>
                  </a:lnTo>
                  <a:lnTo>
                    <a:pt x="0" y="5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36000" y="1775520"/>
              <a:ext cx="7560" cy="46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0" y="0"/>
                  </a:moveTo>
                  <a:lnTo>
                    <a:pt x="3" y="12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36000" y="1775520"/>
              <a:ext cx="7560" cy="46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0" y="0"/>
                  </a:moveTo>
                  <a:lnTo>
                    <a:pt x="20" y="0"/>
                  </a:lnTo>
                  <a:lnTo>
                    <a:pt x="3" y="12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72640" y="17755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96400" y="1782000"/>
              <a:ext cx="2880" cy="14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lnTo>
                    <a:pt x="8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96400" y="1782000"/>
              <a:ext cx="2880" cy="14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lnTo>
                    <a:pt x="0" y="5"/>
                  </a:lnTo>
                  <a:lnTo>
                    <a:pt x="8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904680" y="18104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98200" y="1820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96400" y="1812240"/>
              <a:ext cx="6120" cy="756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7" y="0"/>
                  </a:moveTo>
                  <a:lnTo>
                    <a:pt x="4" y="12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1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96400" y="1812240"/>
              <a:ext cx="6120" cy="756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7" y="0"/>
                  </a:moveTo>
                  <a:lnTo>
                    <a:pt x="17" y="0"/>
                  </a:lnTo>
                  <a:lnTo>
                    <a:pt x="4" y="12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1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96400" y="18187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36000" y="1848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36000" y="18504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36000" y="1851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61480" y="1874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70680" y="1476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51600" y="1477440"/>
              <a:ext cx="6120" cy="28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4" y="7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4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51600" y="1477440"/>
              <a:ext cx="6120" cy="28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4" y="7"/>
                  </a:moveTo>
                  <a:lnTo>
                    <a:pt x="4" y="7"/>
                  </a:lnTo>
                  <a:lnTo>
                    <a:pt x="0" y="5"/>
                  </a:lnTo>
                  <a:lnTo>
                    <a:pt x="16" y="0"/>
                  </a:lnTo>
                  <a:lnTo>
                    <a:pt x="4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62760" y="1479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59520" y="14806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446920" y="14839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43680" y="14839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39000" y="14857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434320" y="1487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27840" y="1487160"/>
              <a:ext cx="6120" cy="4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8" y="12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8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27840" y="1487160"/>
              <a:ext cx="6120" cy="4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8" y="12"/>
                  </a:moveTo>
                  <a:lnTo>
                    <a:pt x="8" y="12"/>
                  </a:lnTo>
                  <a:lnTo>
                    <a:pt x="0" y="5"/>
                  </a:lnTo>
                  <a:lnTo>
                    <a:pt x="16" y="0"/>
                  </a:lnTo>
                  <a:lnTo>
                    <a:pt x="8" y="1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419920" y="1491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415240" y="1491840"/>
              <a:ext cx="4320" cy="28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2" y="7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12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15240" y="1491840"/>
              <a:ext cx="4320" cy="28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2" y="7"/>
                  </a:moveTo>
                  <a:lnTo>
                    <a:pt x="12" y="7"/>
                  </a:lnTo>
                  <a:lnTo>
                    <a:pt x="0" y="7"/>
                  </a:lnTo>
                  <a:lnTo>
                    <a:pt x="8" y="0"/>
                  </a:lnTo>
                  <a:lnTo>
                    <a:pt x="12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419920" y="1491840"/>
              <a:ext cx="9000" cy="612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0" y="15"/>
                  </a:moveTo>
                  <a:lnTo>
                    <a:pt x="4" y="10"/>
                  </a:lnTo>
                  <a:lnTo>
                    <a:pt x="4" y="0"/>
                  </a:lnTo>
                  <a:lnTo>
                    <a:pt x="13" y="10"/>
                  </a:lnTo>
                  <a:lnTo>
                    <a:pt x="16" y="2"/>
                  </a:lnTo>
                  <a:lnTo>
                    <a:pt x="24" y="5"/>
                  </a:lnTo>
                  <a:lnTo>
                    <a:pt x="8" y="1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419920" y="1491840"/>
              <a:ext cx="9000" cy="612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0" y="15"/>
                  </a:moveTo>
                  <a:lnTo>
                    <a:pt x="0" y="15"/>
                  </a:lnTo>
                  <a:lnTo>
                    <a:pt x="4" y="10"/>
                  </a:lnTo>
                  <a:lnTo>
                    <a:pt x="4" y="0"/>
                  </a:lnTo>
                  <a:lnTo>
                    <a:pt x="13" y="10"/>
                  </a:lnTo>
                  <a:lnTo>
                    <a:pt x="16" y="2"/>
                  </a:lnTo>
                  <a:lnTo>
                    <a:pt x="24" y="5"/>
                  </a:lnTo>
                  <a:lnTo>
                    <a:pt x="8" y="10"/>
                  </a:lnTo>
                  <a:lnTo>
                    <a:pt x="0" y="1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415240" y="1495080"/>
              <a:ext cx="4320" cy="28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7"/>
                  </a:moveTo>
                  <a:lnTo>
                    <a:pt x="0" y="2"/>
                  </a:lnTo>
                  <a:lnTo>
                    <a:pt x="12" y="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415240" y="1495080"/>
              <a:ext cx="4320" cy="28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7"/>
                  </a:moveTo>
                  <a:lnTo>
                    <a:pt x="0" y="7"/>
                  </a:lnTo>
                  <a:lnTo>
                    <a:pt x="0" y="2"/>
                  </a:lnTo>
                  <a:lnTo>
                    <a:pt x="12" y="0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10200" y="14983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08760" y="1496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392920" y="15314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386440" y="1533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59520" y="1593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89680" y="16077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392920" y="16063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97600" y="16063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46920" y="1598400"/>
              <a:ext cx="5760" cy="252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7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7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446920" y="1598400"/>
              <a:ext cx="5760" cy="252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7"/>
                  </a:moveTo>
                  <a:lnTo>
                    <a:pt x="0" y="7"/>
                  </a:lnTo>
                  <a:lnTo>
                    <a:pt x="0" y="2"/>
                  </a:lnTo>
                  <a:lnTo>
                    <a:pt x="5" y="0"/>
                  </a:lnTo>
                  <a:lnTo>
                    <a:pt x="17" y="7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75360" y="15775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81840" y="1572840"/>
              <a:ext cx="7560" cy="75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0" y="0"/>
                  </a:moveTo>
                  <a:lnTo>
                    <a:pt x="20" y="9"/>
                  </a:lnTo>
                  <a:lnTo>
                    <a:pt x="8" y="19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81840" y="1572840"/>
              <a:ext cx="7560" cy="75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0" y="0"/>
                  </a:moveTo>
                  <a:lnTo>
                    <a:pt x="20" y="0"/>
                  </a:lnTo>
                  <a:lnTo>
                    <a:pt x="20" y="9"/>
                  </a:lnTo>
                  <a:lnTo>
                    <a:pt x="8" y="19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512080" y="1563480"/>
              <a:ext cx="9000" cy="252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12" y="0"/>
                  </a:moveTo>
                  <a:lnTo>
                    <a:pt x="24" y="5"/>
                  </a:lnTo>
                  <a:lnTo>
                    <a:pt x="12" y="7"/>
                  </a:lnTo>
                  <a:lnTo>
                    <a:pt x="0" y="2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512080" y="1563480"/>
              <a:ext cx="9000" cy="252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12" y="0"/>
                  </a:moveTo>
                  <a:lnTo>
                    <a:pt x="12" y="0"/>
                  </a:lnTo>
                  <a:lnTo>
                    <a:pt x="24" y="5"/>
                  </a:lnTo>
                  <a:lnTo>
                    <a:pt x="12" y="7"/>
                  </a:lnTo>
                  <a:lnTo>
                    <a:pt x="0" y="2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20000" y="15634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21440" y="1566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26120" y="15728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512080" y="1566360"/>
              <a:ext cx="13680" cy="612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24" y="0"/>
                  </a:moveTo>
                  <a:lnTo>
                    <a:pt x="37" y="3"/>
                  </a:lnTo>
                  <a:lnTo>
                    <a:pt x="12" y="16"/>
                  </a:lnTo>
                  <a:lnTo>
                    <a:pt x="0" y="3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12080" y="1566360"/>
              <a:ext cx="13680" cy="612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24" y="0"/>
                  </a:moveTo>
                  <a:lnTo>
                    <a:pt x="24" y="0"/>
                  </a:lnTo>
                  <a:lnTo>
                    <a:pt x="37" y="3"/>
                  </a:lnTo>
                  <a:lnTo>
                    <a:pt x="12" y="16"/>
                  </a:lnTo>
                  <a:lnTo>
                    <a:pt x="0" y="3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512080" y="1553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486520" y="1553760"/>
              <a:ext cx="2880" cy="28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5" y="0"/>
                  </a:lnTo>
                  <a:lnTo>
                    <a:pt x="8" y="2"/>
                  </a:lnTo>
                  <a:lnTo>
                    <a:pt x="8" y="5"/>
                  </a:lnTo>
                  <a:lnTo>
                    <a:pt x="8" y="2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486520" y="1553760"/>
              <a:ext cx="2880" cy="28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8" y="5"/>
                  </a:lnTo>
                  <a:lnTo>
                    <a:pt x="8" y="2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485080" y="1533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499120" y="151884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85000" y="16077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378520" y="16077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78520" y="160920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73840" y="16092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370600" y="16110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378520" y="16156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362680" y="1622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361240" y="1622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19960" y="1739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016720" y="1731240"/>
              <a:ext cx="7560" cy="108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0"/>
                  </a:moveTo>
                  <a:lnTo>
                    <a:pt x="8" y="5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016720" y="1731240"/>
              <a:ext cx="7560" cy="108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0"/>
                  </a:moveTo>
                  <a:lnTo>
                    <a:pt x="0" y="0"/>
                  </a:lnTo>
                  <a:lnTo>
                    <a:pt x="8" y="5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99080" y="17247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994400" y="17218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989720" y="1724760"/>
              <a:ext cx="5760" cy="288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0"/>
                  </a:moveTo>
                  <a:lnTo>
                    <a:pt x="13" y="6"/>
                  </a:ln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89720" y="1724760"/>
              <a:ext cx="5760" cy="288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85040" y="1726560"/>
              <a:ext cx="5760" cy="10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4" y="2"/>
                  </a:lnTo>
                  <a:lnTo>
                    <a:pt x="16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85040" y="1726560"/>
              <a:ext cx="5760" cy="10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16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83240" y="17247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59480" y="1716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351520" y="1716840"/>
              <a:ext cx="14040" cy="468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28" y="0"/>
                  </a:moveTo>
                  <a:lnTo>
                    <a:pt x="37" y="5"/>
                  </a:lnTo>
                  <a:lnTo>
                    <a:pt x="28" y="13"/>
                  </a:lnTo>
                  <a:lnTo>
                    <a:pt x="0" y="8"/>
                  </a:lnTo>
                  <a:lnTo>
                    <a:pt x="2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51520" y="1716840"/>
              <a:ext cx="14040" cy="468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28" y="0"/>
                  </a:moveTo>
                  <a:lnTo>
                    <a:pt x="28" y="0"/>
                  </a:lnTo>
                  <a:lnTo>
                    <a:pt x="37" y="5"/>
                  </a:lnTo>
                  <a:lnTo>
                    <a:pt x="28" y="13"/>
                  </a:lnTo>
                  <a:lnTo>
                    <a:pt x="0" y="8"/>
                  </a:lnTo>
                  <a:lnTo>
                    <a:pt x="2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369160" y="1715400"/>
              <a:ext cx="5760" cy="10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3" y="0"/>
                  </a:moveTo>
                  <a:lnTo>
                    <a:pt x="16" y="5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369160" y="1715400"/>
              <a:ext cx="5760" cy="10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3" y="0"/>
                  </a:moveTo>
                  <a:lnTo>
                    <a:pt x="13" y="0"/>
                  </a:lnTo>
                  <a:lnTo>
                    <a:pt x="16" y="5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43600" y="17233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42160" y="17265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42240" y="16934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97680" y="1748880"/>
              <a:ext cx="2880" cy="10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8" y="2"/>
                  </a:moveTo>
                  <a:lnTo>
                    <a:pt x="0" y="0"/>
                  </a:lnTo>
                  <a:lnTo>
                    <a:pt x="8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97680" y="1748880"/>
              <a:ext cx="1080" cy="10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81840" y="16729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81840" y="1672920"/>
              <a:ext cx="2880" cy="4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0"/>
                  </a:moveTo>
                  <a:lnTo>
                    <a:pt x="7" y="12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81840" y="1672920"/>
              <a:ext cx="2880" cy="4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0"/>
                  </a:moveTo>
                  <a:lnTo>
                    <a:pt x="0" y="0"/>
                  </a:lnTo>
                  <a:lnTo>
                    <a:pt x="7" y="12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486520" y="1677600"/>
              <a:ext cx="6120" cy="288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0"/>
                  </a:moveTo>
                  <a:lnTo>
                    <a:pt x="17" y="7"/>
                  </a:lnTo>
                  <a:lnTo>
                    <a:pt x="17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508840" y="16873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08840" y="1688760"/>
              <a:ext cx="7560" cy="108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0"/>
                  </a:moveTo>
                  <a:lnTo>
                    <a:pt x="7" y="0"/>
                  </a:lnTo>
                  <a:lnTo>
                    <a:pt x="23" y="2"/>
                  </a:lnTo>
                  <a:lnTo>
                    <a:pt x="7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08840" y="1688760"/>
              <a:ext cx="7560" cy="108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23" y="2"/>
                  </a:lnTo>
                  <a:lnTo>
                    <a:pt x="7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13520" y="1692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54920" y="1716840"/>
              <a:ext cx="5760" cy="28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4" y="0"/>
                  </a:moveTo>
                  <a:lnTo>
                    <a:pt x="4" y="2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7" y="10"/>
                  </a:lnTo>
                  <a:lnTo>
                    <a:pt x="13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54920" y="1716840"/>
              <a:ext cx="5760" cy="28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7" y="10"/>
                  </a:lnTo>
                  <a:lnTo>
                    <a:pt x="13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67520" y="1724760"/>
              <a:ext cx="1080" cy="28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3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67520" y="1728000"/>
              <a:ext cx="6120" cy="28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3" y="0"/>
                  </a:moveTo>
                  <a:lnTo>
                    <a:pt x="7" y="5"/>
                  </a:lnTo>
                  <a:lnTo>
                    <a:pt x="16" y="9"/>
                  </a:lnTo>
                  <a:lnTo>
                    <a:pt x="7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67520" y="1728000"/>
              <a:ext cx="6120" cy="28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3" y="0"/>
                  </a:moveTo>
                  <a:lnTo>
                    <a:pt x="3" y="0"/>
                  </a:lnTo>
                  <a:lnTo>
                    <a:pt x="7" y="5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7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70760" y="1732680"/>
              <a:ext cx="4320" cy="14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12" y="3"/>
                  </a:lnTo>
                  <a:lnTo>
                    <a:pt x="9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70760" y="1732680"/>
              <a:ext cx="4320" cy="14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0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02440" y="1745640"/>
              <a:ext cx="1080" cy="10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94520" y="1723320"/>
              <a:ext cx="23400" cy="9000"/>
            </a:xfrm>
            <a:custGeom>
              <a:avLst/>
              <a:gdLst/>
              <a:ahLst/>
              <a:rect l="l" t="t" r="r" b="b"/>
              <a:pathLst>
                <a:path w="65" h="26">
                  <a:moveTo>
                    <a:pt x="11" y="0"/>
                  </a:moveTo>
                  <a:lnTo>
                    <a:pt x="23" y="5"/>
                  </a:lnTo>
                  <a:lnTo>
                    <a:pt x="31" y="8"/>
                  </a:lnTo>
                  <a:lnTo>
                    <a:pt x="35" y="8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11"/>
                  </a:lnTo>
                  <a:lnTo>
                    <a:pt x="52" y="18"/>
                  </a:lnTo>
                  <a:lnTo>
                    <a:pt x="52" y="20"/>
                  </a:lnTo>
                  <a:lnTo>
                    <a:pt x="56" y="20"/>
                  </a:lnTo>
                  <a:lnTo>
                    <a:pt x="60" y="20"/>
                  </a:lnTo>
                  <a:lnTo>
                    <a:pt x="64" y="22"/>
                  </a:lnTo>
                  <a:lnTo>
                    <a:pt x="60" y="25"/>
                  </a:lnTo>
                  <a:lnTo>
                    <a:pt x="56" y="25"/>
                  </a:lnTo>
                  <a:lnTo>
                    <a:pt x="52" y="22"/>
                  </a:lnTo>
                  <a:lnTo>
                    <a:pt x="47" y="18"/>
                  </a:lnTo>
                  <a:lnTo>
                    <a:pt x="44" y="15"/>
                  </a:lnTo>
                  <a:lnTo>
                    <a:pt x="31" y="15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19" y="8"/>
                  </a:lnTo>
                  <a:lnTo>
                    <a:pt x="7" y="5"/>
                  </a:lnTo>
                  <a:lnTo>
                    <a:pt x="0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594520" y="1723320"/>
              <a:ext cx="23400" cy="9000"/>
            </a:xfrm>
            <a:custGeom>
              <a:avLst/>
              <a:gdLst/>
              <a:ahLst/>
              <a:rect l="l" t="t" r="r" b="b"/>
              <a:pathLst>
                <a:path w="65" h="26">
                  <a:moveTo>
                    <a:pt x="11" y="0"/>
                  </a:moveTo>
                  <a:lnTo>
                    <a:pt x="11" y="0"/>
                  </a:lnTo>
                  <a:lnTo>
                    <a:pt x="23" y="5"/>
                  </a:lnTo>
                  <a:lnTo>
                    <a:pt x="31" y="8"/>
                  </a:lnTo>
                  <a:lnTo>
                    <a:pt x="35" y="8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11"/>
                  </a:lnTo>
                  <a:lnTo>
                    <a:pt x="52" y="18"/>
                  </a:lnTo>
                  <a:lnTo>
                    <a:pt x="52" y="20"/>
                  </a:lnTo>
                  <a:lnTo>
                    <a:pt x="56" y="2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4" y="22"/>
                  </a:lnTo>
                  <a:lnTo>
                    <a:pt x="60" y="25"/>
                  </a:lnTo>
                  <a:lnTo>
                    <a:pt x="56" y="25"/>
                  </a:lnTo>
                  <a:lnTo>
                    <a:pt x="52" y="22"/>
                  </a:lnTo>
                  <a:lnTo>
                    <a:pt x="47" y="18"/>
                  </a:lnTo>
                  <a:lnTo>
                    <a:pt x="44" y="15"/>
                  </a:lnTo>
                  <a:lnTo>
                    <a:pt x="31" y="15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19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1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19720" y="1731240"/>
              <a:ext cx="2880" cy="2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3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19720" y="1731240"/>
              <a:ext cx="2880" cy="2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629440" y="1737720"/>
              <a:ext cx="2880" cy="1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8" y="5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29440" y="1737720"/>
              <a:ext cx="2880" cy="1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54640" y="1748880"/>
              <a:ext cx="1440" cy="2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0" y="5"/>
                  </a:lnTo>
                  <a:lnTo>
                    <a:pt x="5" y="8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54640" y="1748880"/>
              <a:ext cx="1440" cy="2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8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59680" y="1742400"/>
              <a:ext cx="5760" cy="43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6" y="0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0" y="8"/>
                  </a:lnTo>
                  <a:lnTo>
                    <a:pt x="4" y="8"/>
                  </a:lnTo>
                  <a:lnTo>
                    <a:pt x="12" y="2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659680" y="1742400"/>
              <a:ext cx="5760" cy="43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0" y="8"/>
                  </a:lnTo>
                  <a:lnTo>
                    <a:pt x="4" y="8"/>
                  </a:lnTo>
                  <a:lnTo>
                    <a:pt x="12" y="2"/>
                  </a:lnTo>
                  <a:lnTo>
                    <a:pt x="1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649960" y="1739160"/>
              <a:ext cx="4320" cy="10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1" y="0"/>
                  </a:moveTo>
                  <a:lnTo>
                    <a:pt x="4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649960" y="1739160"/>
              <a:ext cx="4320" cy="10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1" y="0"/>
                  </a:moveTo>
                  <a:lnTo>
                    <a:pt x="11" y="0"/>
                  </a:lnTo>
                  <a:lnTo>
                    <a:pt x="4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642040" y="1732680"/>
              <a:ext cx="6120" cy="14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6" y="0"/>
                  </a:moveTo>
                  <a:lnTo>
                    <a:pt x="16" y="3"/>
                  </a:lnTo>
                  <a:lnTo>
                    <a:pt x="8" y="3"/>
                  </a:lnTo>
                  <a:lnTo>
                    <a:pt x="0" y="3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642040" y="1732680"/>
              <a:ext cx="6120" cy="14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6" y="0"/>
                  </a:moveTo>
                  <a:lnTo>
                    <a:pt x="16" y="0"/>
                  </a:lnTo>
                  <a:lnTo>
                    <a:pt x="16" y="3"/>
                  </a:lnTo>
                  <a:lnTo>
                    <a:pt x="8" y="3"/>
                  </a:lnTo>
                  <a:lnTo>
                    <a:pt x="0" y="3"/>
                  </a:lnTo>
                  <a:lnTo>
                    <a:pt x="1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630880" y="1724760"/>
              <a:ext cx="4680" cy="28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3"/>
                  </a:moveTo>
                  <a:lnTo>
                    <a:pt x="12" y="7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4" y="7"/>
                  </a:lnTo>
                  <a:lnTo>
                    <a:pt x="4" y="5"/>
                  </a:lnTo>
                  <a:lnTo>
                    <a:pt x="0" y="3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630880" y="1724760"/>
              <a:ext cx="4680" cy="28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3"/>
                  </a:moveTo>
                  <a:lnTo>
                    <a:pt x="8" y="3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7"/>
                  </a:lnTo>
                  <a:lnTo>
                    <a:pt x="4" y="5"/>
                  </a:lnTo>
                  <a:lnTo>
                    <a:pt x="0" y="3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628000" y="1720080"/>
              <a:ext cx="10440" cy="288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0" y="2"/>
                  </a:moveTo>
                  <a:lnTo>
                    <a:pt x="28" y="7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16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12" y="0"/>
                  </a:lnTo>
                  <a:lnTo>
                    <a:pt x="2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628000" y="1720080"/>
              <a:ext cx="10440" cy="288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0" y="2"/>
                  </a:moveTo>
                  <a:lnTo>
                    <a:pt x="20" y="2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16" y="5"/>
                  </a:lnTo>
                  <a:lnTo>
                    <a:pt x="8" y="7"/>
                  </a:lnTo>
                  <a:lnTo>
                    <a:pt x="8" y="7"/>
                  </a:lnTo>
                  <a:lnTo>
                    <a:pt x="4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619720" y="17139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621520" y="17107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608920" y="1707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611800" y="1750320"/>
              <a:ext cx="34560" cy="612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98" y="8"/>
                  </a:moveTo>
                  <a:lnTo>
                    <a:pt x="98" y="15"/>
                  </a:lnTo>
                  <a:lnTo>
                    <a:pt x="53" y="18"/>
                  </a:lnTo>
                  <a:lnTo>
                    <a:pt x="5" y="11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8"/>
                  </a:lnTo>
                  <a:lnTo>
                    <a:pt x="78" y="8"/>
                  </a:lnTo>
                  <a:lnTo>
                    <a:pt x="81" y="13"/>
                  </a:lnTo>
                  <a:lnTo>
                    <a:pt x="98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611800" y="1750320"/>
              <a:ext cx="34560" cy="612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98" y="8"/>
                  </a:moveTo>
                  <a:lnTo>
                    <a:pt x="98" y="8"/>
                  </a:lnTo>
                  <a:lnTo>
                    <a:pt x="98" y="15"/>
                  </a:lnTo>
                  <a:lnTo>
                    <a:pt x="53" y="18"/>
                  </a:lnTo>
                  <a:lnTo>
                    <a:pt x="5" y="11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8"/>
                  </a:lnTo>
                  <a:lnTo>
                    <a:pt x="78" y="8"/>
                  </a:lnTo>
                  <a:lnTo>
                    <a:pt x="81" y="13"/>
                  </a:lnTo>
                  <a:lnTo>
                    <a:pt x="98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626200" y="17139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661120" y="1661760"/>
              <a:ext cx="9360" cy="108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4" y="3"/>
                  </a:lnTo>
                  <a:lnTo>
                    <a:pt x="24" y="3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462760" y="1766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07080" y="1775520"/>
              <a:ext cx="7560" cy="14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8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13" y="4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07080" y="1775520"/>
              <a:ext cx="7560" cy="14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8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13" y="4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118240" y="1772640"/>
              <a:ext cx="1080" cy="10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983240" y="1926360"/>
              <a:ext cx="2880" cy="14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8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992960" y="1924920"/>
              <a:ext cx="4320" cy="28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7"/>
                  </a:moveTo>
                  <a:lnTo>
                    <a:pt x="0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992960" y="1924920"/>
              <a:ext cx="4320" cy="28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99080" y="1924920"/>
              <a:ext cx="1440" cy="10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5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005560" y="1917000"/>
              <a:ext cx="2880" cy="1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lnTo>
                    <a:pt x="5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05560" y="1917000"/>
              <a:ext cx="2880" cy="1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05560" y="1910520"/>
              <a:ext cx="1080" cy="14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985040" y="1913760"/>
              <a:ext cx="5760" cy="14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0" y="3"/>
                  </a:lnTo>
                  <a:lnTo>
                    <a:pt x="4" y="3"/>
                  </a:lnTo>
                  <a:lnTo>
                    <a:pt x="16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85040" y="1913760"/>
              <a:ext cx="5760" cy="14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6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977120" y="1910520"/>
              <a:ext cx="252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73880" y="1907280"/>
              <a:ext cx="432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5"/>
                  </a:moveTo>
                  <a:lnTo>
                    <a:pt x="0" y="8"/>
                  </a:lnTo>
                  <a:lnTo>
                    <a:pt x="4" y="8"/>
                  </a:lnTo>
                  <a:lnTo>
                    <a:pt x="13" y="2"/>
                  </a:lnTo>
                  <a:lnTo>
                    <a:pt x="9" y="0"/>
                  </a:lnTo>
                  <a:lnTo>
                    <a:pt x="0" y="2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973880" y="1907280"/>
              <a:ext cx="432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5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4" y="8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9" y="0"/>
                  </a:lnTo>
                  <a:lnTo>
                    <a:pt x="0" y="2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099160" y="1955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094480" y="1956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099160" y="1956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105640" y="1956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095920" y="19598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097720" y="1961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99160" y="1961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02400" y="1959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140560" y="1991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445120" y="2025000"/>
              <a:ext cx="7560" cy="57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12" y="15"/>
                  </a:lnTo>
                  <a:lnTo>
                    <a:pt x="0" y="10"/>
                  </a:lnTo>
                  <a:lnTo>
                    <a:pt x="2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5120" y="2025000"/>
              <a:ext cx="7560" cy="57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20" y="0"/>
                  </a:lnTo>
                  <a:lnTo>
                    <a:pt x="12" y="15"/>
                  </a:lnTo>
                  <a:lnTo>
                    <a:pt x="0" y="10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27840" y="2044080"/>
              <a:ext cx="1080" cy="1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0"/>
                  </a:move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416680" y="2055240"/>
              <a:ext cx="2880" cy="25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0"/>
                  </a:moveTo>
                  <a:lnTo>
                    <a:pt x="8" y="5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16680" y="2055240"/>
              <a:ext cx="2880" cy="25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46920" y="16538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8320" y="16426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448640" y="16426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451880" y="1647360"/>
              <a:ext cx="15480" cy="2880"/>
            </a:xfrm>
            <a:custGeom>
              <a:avLst/>
              <a:gdLst/>
              <a:ahLst/>
              <a:rect l="l" t="t" r="r" b="b"/>
              <a:pathLst>
                <a:path w="45" h="11">
                  <a:moveTo>
                    <a:pt x="44" y="2"/>
                  </a:moveTo>
                  <a:lnTo>
                    <a:pt x="23" y="10"/>
                  </a:lnTo>
                  <a:lnTo>
                    <a:pt x="32" y="4"/>
                  </a:lnTo>
                  <a:lnTo>
                    <a:pt x="0" y="0"/>
                  </a:lnTo>
                  <a:lnTo>
                    <a:pt x="44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451880" y="1647360"/>
              <a:ext cx="15480" cy="2880"/>
            </a:xfrm>
            <a:custGeom>
              <a:avLst/>
              <a:gdLst/>
              <a:ahLst/>
              <a:rect l="l" t="t" r="r" b="b"/>
              <a:pathLst>
                <a:path w="45" h="11">
                  <a:moveTo>
                    <a:pt x="44" y="2"/>
                  </a:moveTo>
                  <a:lnTo>
                    <a:pt x="44" y="2"/>
                  </a:lnTo>
                  <a:lnTo>
                    <a:pt x="23" y="10"/>
                  </a:lnTo>
                  <a:lnTo>
                    <a:pt x="32" y="4"/>
                  </a:lnTo>
                  <a:lnTo>
                    <a:pt x="0" y="0"/>
                  </a:lnTo>
                  <a:lnTo>
                    <a:pt x="44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409040" y="1649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16960" y="1631520"/>
              <a:ext cx="12240" cy="432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28" y="3"/>
                  </a:moveTo>
                  <a:lnTo>
                    <a:pt x="0" y="11"/>
                  </a:lnTo>
                  <a:lnTo>
                    <a:pt x="4" y="5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28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16960" y="1631520"/>
              <a:ext cx="12240" cy="432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28" y="3"/>
                  </a:moveTo>
                  <a:lnTo>
                    <a:pt x="28" y="3"/>
                  </a:lnTo>
                  <a:lnTo>
                    <a:pt x="0" y="11"/>
                  </a:lnTo>
                  <a:lnTo>
                    <a:pt x="4" y="5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28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34240" y="16254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450080" y="16441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586880" y="1665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85360" y="1692000"/>
              <a:ext cx="28080" cy="288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8" y="0"/>
                  </a:moveTo>
                  <a:lnTo>
                    <a:pt x="0" y="9"/>
                  </a:lnTo>
                  <a:lnTo>
                    <a:pt x="24" y="2"/>
                  </a:lnTo>
                  <a:lnTo>
                    <a:pt x="53" y="2"/>
                  </a:lnTo>
                  <a:lnTo>
                    <a:pt x="7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85360" y="1692000"/>
              <a:ext cx="28080" cy="288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8" y="0"/>
                  </a:moveTo>
                  <a:lnTo>
                    <a:pt x="78" y="0"/>
                  </a:lnTo>
                  <a:lnTo>
                    <a:pt x="0" y="9"/>
                  </a:lnTo>
                  <a:lnTo>
                    <a:pt x="24" y="2"/>
                  </a:lnTo>
                  <a:lnTo>
                    <a:pt x="53" y="2"/>
                  </a:lnTo>
                  <a:lnTo>
                    <a:pt x="7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494720" y="1695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501200" y="1695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485360" y="1695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72400" y="17046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99320" y="1742400"/>
              <a:ext cx="7560" cy="43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0"/>
                  </a:moveTo>
                  <a:lnTo>
                    <a:pt x="8" y="5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2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399320" y="1742400"/>
              <a:ext cx="7560" cy="43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0"/>
                  </a:moveTo>
                  <a:lnTo>
                    <a:pt x="20" y="0"/>
                  </a:lnTo>
                  <a:lnTo>
                    <a:pt x="8" y="5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302480" y="17964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77280" y="1824840"/>
              <a:ext cx="5760" cy="28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77280" y="1824840"/>
              <a:ext cx="5760" cy="28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17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61440" y="18313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62880" y="1785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178640" y="178200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142280" y="17820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04120" y="1791720"/>
              <a:ext cx="9360" cy="252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25" y="0"/>
                  </a:moveTo>
                  <a:lnTo>
                    <a:pt x="0" y="10"/>
                  </a:lnTo>
                  <a:lnTo>
                    <a:pt x="5" y="5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104120" y="1791720"/>
              <a:ext cx="9360" cy="252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25" y="0"/>
                  </a:moveTo>
                  <a:lnTo>
                    <a:pt x="25" y="0"/>
                  </a:lnTo>
                  <a:lnTo>
                    <a:pt x="0" y="10"/>
                  </a:lnTo>
                  <a:lnTo>
                    <a:pt x="5" y="5"/>
                  </a:lnTo>
                  <a:lnTo>
                    <a:pt x="2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107360" y="1793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91520" y="1796400"/>
              <a:ext cx="9000" cy="57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4" y="0"/>
                  </a:moveTo>
                  <a:lnTo>
                    <a:pt x="12" y="8"/>
                  </a:lnTo>
                  <a:lnTo>
                    <a:pt x="0" y="15"/>
                  </a:lnTo>
                  <a:lnTo>
                    <a:pt x="8" y="8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91520" y="1796400"/>
              <a:ext cx="9000" cy="57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4" y="0"/>
                  </a:moveTo>
                  <a:lnTo>
                    <a:pt x="24" y="0"/>
                  </a:lnTo>
                  <a:lnTo>
                    <a:pt x="12" y="8"/>
                  </a:lnTo>
                  <a:lnTo>
                    <a:pt x="0" y="15"/>
                  </a:lnTo>
                  <a:lnTo>
                    <a:pt x="8" y="8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100880" y="18820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72520" y="1866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148760" y="1907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143720" y="19504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181880" y="19710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181880" y="19710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81880" y="197244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32720" y="1842480"/>
              <a:ext cx="2880" cy="756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4" y="0"/>
                  </a:moveTo>
                  <a:lnTo>
                    <a:pt x="0" y="13"/>
                  </a:lnTo>
                  <a:lnTo>
                    <a:pt x="7" y="2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32720" y="1842480"/>
              <a:ext cx="2880" cy="756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4" y="0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7" y="2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34520" y="1832760"/>
              <a:ext cx="2520" cy="43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5" y="0"/>
                  </a:moveTo>
                  <a:lnTo>
                    <a:pt x="0" y="12"/>
                  </a:lnTo>
                  <a:lnTo>
                    <a:pt x="9" y="12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334520" y="1832760"/>
              <a:ext cx="2520" cy="43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5" y="0"/>
                  </a:moveTo>
                  <a:lnTo>
                    <a:pt x="5" y="0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04280" y="1836000"/>
              <a:ext cx="4320" cy="4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8" y="0"/>
                  </a:moveTo>
                  <a:lnTo>
                    <a:pt x="12" y="3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04280" y="1836000"/>
              <a:ext cx="4320" cy="4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8" y="0"/>
                  </a:moveTo>
                  <a:lnTo>
                    <a:pt x="8" y="0"/>
                  </a:lnTo>
                  <a:lnTo>
                    <a:pt x="12" y="3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01040" y="1828080"/>
              <a:ext cx="9000" cy="90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7" y="0"/>
                  </a:moveTo>
                  <a:lnTo>
                    <a:pt x="25" y="12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9" y="14"/>
                  </a:lnTo>
                  <a:lnTo>
                    <a:pt x="1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01040" y="1828080"/>
              <a:ext cx="9000" cy="90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7" y="0"/>
                  </a:moveTo>
                  <a:lnTo>
                    <a:pt x="17" y="0"/>
                  </a:lnTo>
                  <a:lnTo>
                    <a:pt x="25" y="12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9" y="14"/>
                  </a:lnTo>
                  <a:lnTo>
                    <a:pt x="1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28040" y="1824840"/>
              <a:ext cx="6120" cy="936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0"/>
                  </a:moveTo>
                  <a:lnTo>
                    <a:pt x="17" y="12"/>
                  </a:lnTo>
                  <a:lnTo>
                    <a:pt x="4" y="25"/>
                  </a:lnTo>
                  <a:lnTo>
                    <a:pt x="13" y="1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328040" y="1824840"/>
              <a:ext cx="6120" cy="936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0"/>
                  </a:moveTo>
                  <a:lnTo>
                    <a:pt x="0" y="0"/>
                  </a:lnTo>
                  <a:lnTo>
                    <a:pt x="17" y="12"/>
                  </a:lnTo>
                  <a:lnTo>
                    <a:pt x="4" y="25"/>
                  </a:lnTo>
                  <a:lnTo>
                    <a:pt x="13" y="1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21560" y="1812240"/>
              <a:ext cx="9360" cy="90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0"/>
                  </a:moveTo>
                  <a:lnTo>
                    <a:pt x="24" y="12"/>
                  </a:lnTo>
                  <a:lnTo>
                    <a:pt x="8" y="26"/>
                  </a:lnTo>
                  <a:lnTo>
                    <a:pt x="4" y="22"/>
                  </a:lnTo>
                  <a:lnTo>
                    <a:pt x="20" y="1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321560" y="1812240"/>
              <a:ext cx="9360" cy="90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0"/>
                  </a:moveTo>
                  <a:lnTo>
                    <a:pt x="0" y="0"/>
                  </a:lnTo>
                  <a:lnTo>
                    <a:pt x="24" y="12"/>
                  </a:lnTo>
                  <a:lnTo>
                    <a:pt x="8" y="26"/>
                  </a:lnTo>
                  <a:lnTo>
                    <a:pt x="4" y="22"/>
                  </a:lnTo>
                  <a:lnTo>
                    <a:pt x="20" y="1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308960" y="1812240"/>
              <a:ext cx="12240" cy="288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0" y="3"/>
                  </a:moveTo>
                  <a:lnTo>
                    <a:pt x="12" y="0"/>
                  </a:lnTo>
                  <a:lnTo>
                    <a:pt x="36" y="3"/>
                  </a:lnTo>
                  <a:lnTo>
                    <a:pt x="4" y="8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308960" y="1812240"/>
              <a:ext cx="12240" cy="288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0" y="3"/>
                  </a:moveTo>
                  <a:lnTo>
                    <a:pt x="0" y="3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4" y="8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339200" y="1863000"/>
              <a:ext cx="9000" cy="288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0" y="8"/>
                  </a:moveTo>
                  <a:lnTo>
                    <a:pt x="27" y="0"/>
                  </a:lnTo>
                  <a:lnTo>
                    <a:pt x="20" y="1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339200" y="1863000"/>
              <a:ext cx="9000" cy="288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0" y="8"/>
                  </a:moveTo>
                  <a:lnTo>
                    <a:pt x="0" y="8"/>
                  </a:lnTo>
                  <a:lnTo>
                    <a:pt x="27" y="0"/>
                  </a:lnTo>
                  <a:lnTo>
                    <a:pt x="20" y="10"/>
                  </a:lnTo>
                  <a:lnTo>
                    <a:pt x="0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313640" y="18280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45320" y="1839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61520" y="1859760"/>
              <a:ext cx="252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8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67640" y="1858320"/>
              <a:ext cx="1440" cy="108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67640" y="1859760"/>
              <a:ext cx="144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70880" y="1861560"/>
              <a:ext cx="1080" cy="10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02760" y="1843920"/>
              <a:ext cx="128160" cy="33120"/>
            </a:xfrm>
            <a:custGeom>
              <a:avLst/>
              <a:gdLst/>
              <a:ahLst/>
              <a:rect l="l" t="t" r="r" b="b"/>
              <a:pathLst>
                <a:path w="355" h="92">
                  <a:moveTo>
                    <a:pt x="0" y="30"/>
                  </a:moveTo>
                  <a:lnTo>
                    <a:pt x="23" y="30"/>
                  </a:lnTo>
                  <a:lnTo>
                    <a:pt x="19" y="25"/>
                  </a:lnTo>
                  <a:lnTo>
                    <a:pt x="36" y="15"/>
                  </a:lnTo>
                  <a:lnTo>
                    <a:pt x="76" y="5"/>
                  </a:lnTo>
                  <a:lnTo>
                    <a:pt x="153" y="0"/>
                  </a:lnTo>
                  <a:lnTo>
                    <a:pt x="149" y="5"/>
                  </a:lnTo>
                  <a:lnTo>
                    <a:pt x="193" y="10"/>
                  </a:lnTo>
                  <a:lnTo>
                    <a:pt x="201" y="22"/>
                  </a:lnTo>
                  <a:lnTo>
                    <a:pt x="226" y="25"/>
                  </a:lnTo>
                  <a:lnTo>
                    <a:pt x="253" y="37"/>
                  </a:lnTo>
                  <a:lnTo>
                    <a:pt x="261" y="42"/>
                  </a:lnTo>
                  <a:lnTo>
                    <a:pt x="270" y="54"/>
                  </a:lnTo>
                  <a:lnTo>
                    <a:pt x="314" y="59"/>
                  </a:lnTo>
                  <a:lnTo>
                    <a:pt x="302" y="69"/>
                  </a:lnTo>
                  <a:lnTo>
                    <a:pt x="330" y="69"/>
                  </a:lnTo>
                  <a:lnTo>
                    <a:pt x="354" y="84"/>
                  </a:lnTo>
                  <a:lnTo>
                    <a:pt x="314" y="91"/>
                  </a:lnTo>
                  <a:lnTo>
                    <a:pt x="318" y="86"/>
                  </a:lnTo>
                  <a:lnTo>
                    <a:pt x="222" y="89"/>
                  </a:lnTo>
                  <a:lnTo>
                    <a:pt x="234" y="81"/>
                  </a:lnTo>
                  <a:lnTo>
                    <a:pt x="249" y="76"/>
                  </a:lnTo>
                  <a:lnTo>
                    <a:pt x="249" y="69"/>
                  </a:lnTo>
                  <a:lnTo>
                    <a:pt x="217" y="67"/>
                  </a:lnTo>
                  <a:lnTo>
                    <a:pt x="209" y="44"/>
                  </a:lnTo>
                  <a:lnTo>
                    <a:pt x="172" y="42"/>
                  </a:lnTo>
                  <a:lnTo>
                    <a:pt x="157" y="27"/>
                  </a:lnTo>
                  <a:lnTo>
                    <a:pt x="137" y="25"/>
                  </a:lnTo>
                  <a:lnTo>
                    <a:pt x="128" y="30"/>
                  </a:lnTo>
                  <a:lnTo>
                    <a:pt x="112" y="27"/>
                  </a:lnTo>
                  <a:lnTo>
                    <a:pt x="104" y="20"/>
                  </a:lnTo>
                  <a:lnTo>
                    <a:pt x="125" y="20"/>
                  </a:lnTo>
                  <a:lnTo>
                    <a:pt x="116" y="15"/>
                  </a:lnTo>
                  <a:lnTo>
                    <a:pt x="87" y="13"/>
                  </a:lnTo>
                  <a:lnTo>
                    <a:pt x="39" y="25"/>
                  </a:lnTo>
                  <a:lnTo>
                    <a:pt x="11" y="35"/>
                  </a:lnTo>
                  <a:lnTo>
                    <a:pt x="0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202760" y="1843920"/>
              <a:ext cx="128160" cy="33120"/>
            </a:xfrm>
            <a:custGeom>
              <a:avLst/>
              <a:gdLst/>
              <a:ahLst/>
              <a:rect l="l" t="t" r="r" b="b"/>
              <a:pathLst>
                <a:path w="355" h="92">
                  <a:moveTo>
                    <a:pt x="0" y="30"/>
                  </a:moveTo>
                  <a:lnTo>
                    <a:pt x="0" y="30"/>
                  </a:lnTo>
                  <a:lnTo>
                    <a:pt x="23" y="30"/>
                  </a:lnTo>
                  <a:lnTo>
                    <a:pt x="19" y="25"/>
                  </a:lnTo>
                  <a:lnTo>
                    <a:pt x="36" y="15"/>
                  </a:lnTo>
                  <a:lnTo>
                    <a:pt x="76" y="5"/>
                  </a:lnTo>
                  <a:lnTo>
                    <a:pt x="153" y="0"/>
                  </a:lnTo>
                  <a:lnTo>
                    <a:pt x="149" y="5"/>
                  </a:lnTo>
                  <a:lnTo>
                    <a:pt x="193" y="10"/>
                  </a:lnTo>
                  <a:lnTo>
                    <a:pt x="201" y="22"/>
                  </a:lnTo>
                  <a:lnTo>
                    <a:pt x="226" y="25"/>
                  </a:lnTo>
                  <a:lnTo>
                    <a:pt x="253" y="37"/>
                  </a:lnTo>
                  <a:lnTo>
                    <a:pt x="261" y="42"/>
                  </a:lnTo>
                  <a:lnTo>
                    <a:pt x="270" y="54"/>
                  </a:lnTo>
                  <a:lnTo>
                    <a:pt x="314" y="59"/>
                  </a:lnTo>
                  <a:lnTo>
                    <a:pt x="302" y="69"/>
                  </a:lnTo>
                  <a:lnTo>
                    <a:pt x="330" y="69"/>
                  </a:lnTo>
                  <a:lnTo>
                    <a:pt x="354" y="84"/>
                  </a:lnTo>
                  <a:lnTo>
                    <a:pt x="314" y="91"/>
                  </a:lnTo>
                  <a:lnTo>
                    <a:pt x="318" y="86"/>
                  </a:lnTo>
                  <a:lnTo>
                    <a:pt x="222" y="89"/>
                  </a:lnTo>
                  <a:lnTo>
                    <a:pt x="234" y="81"/>
                  </a:lnTo>
                  <a:lnTo>
                    <a:pt x="249" y="76"/>
                  </a:lnTo>
                  <a:lnTo>
                    <a:pt x="249" y="69"/>
                  </a:lnTo>
                  <a:lnTo>
                    <a:pt x="217" y="67"/>
                  </a:lnTo>
                  <a:lnTo>
                    <a:pt x="209" y="44"/>
                  </a:lnTo>
                  <a:lnTo>
                    <a:pt x="172" y="42"/>
                  </a:lnTo>
                  <a:lnTo>
                    <a:pt x="157" y="27"/>
                  </a:lnTo>
                  <a:lnTo>
                    <a:pt x="137" y="25"/>
                  </a:lnTo>
                  <a:lnTo>
                    <a:pt x="128" y="30"/>
                  </a:lnTo>
                  <a:lnTo>
                    <a:pt x="112" y="27"/>
                  </a:lnTo>
                  <a:lnTo>
                    <a:pt x="104" y="20"/>
                  </a:lnTo>
                  <a:lnTo>
                    <a:pt x="125" y="20"/>
                  </a:lnTo>
                  <a:lnTo>
                    <a:pt x="116" y="15"/>
                  </a:lnTo>
                  <a:lnTo>
                    <a:pt x="87" y="13"/>
                  </a:lnTo>
                  <a:lnTo>
                    <a:pt x="39" y="25"/>
                  </a:lnTo>
                  <a:lnTo>
                    <a:pt x="11" y="35"/>
                  </a:lnTo>
                  <a:lnTo>
                    <a:pt x="0" y="3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223280" y="1856520"/>
              <a:ext cx="7560" cy="28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8" y="0"/>
                  </a:moveTo>
                  <a:lnTo>
                    <a:pt x="20" y="7"/>
                  </a:lnTo>
                  <a:lnTo>
                    <a:pt x="0" y="7"/>
                  </a:lnTo>
                  <a:lnTo>
                    <a:pt x="8" y="7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223280" y="1856520"/>
              <a:ext cx="7560" cy="28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8" y="0"/>
                  </a:moveTo>
                  <a:lnTo>
                    <a:pt x="8" y="0"/>
                  </a:lnTo>
                  <a:lnTo>
                    <a:pt x="20" y="7"/>
                  </a:lnTo>
                  <a:lnTo>
                    <a:pt x="0" y="7"/>
                  </a:lnTo>
                  <a:lnTo>
                    <a:pt x="8" y="7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286640" y="185184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288440" y="18536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291680" y="18536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291680" y="1855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231200" y="1878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264680" y="1888560"/>
              <a:ext cx="28080" cy="756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5"/>
                  </a:moveTo>
                  <a:lnTo>
                    <a:pt x="25" y="0"/>
                  </a:lnTo>
                  <a:lnTo>
                    <a:pt x="62" y="7"/>
                  </a:lnTo>
                  <a:lnTo>
                    <a:pt x="77" y="15"/>
                  </a:lnTo>
                  <a:lnTo>
                    <a:pt x="45" y="15"/>
                  </a:lnTo>
                  <a:lnTo>
                    <a:pt x="37" y="20"/>
                  </a:lnTo>
                  <a:lnTo>
                    <a:pt x="17" y="15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264680" y="1888560"/>
              <a:ext cx="28080" cy="756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5"/>
                  </a:moveTo>
                  <a:lnTo>
                    <a:pt x="0" y="5"/>
                  </a:lnTo>
                  <a:lnTo>
                    <a:pt x="25" y="0"/>
                  </a:lnTo>
                  <a:lnTo>
                    <a:pt x="62" y="7"/>
                  </a:lnTo>
                  <a:lnTo>
                    <a:pt x="77" y="15"/>
                  </a:lnTo>
                  <a:lnTo>
                    <a:pt x="45" y="15"/>
                  </a:lnTo>
                  <a:lnTo>
                    <a:pt x="37" y="20"/>
                  </a:lnTo>
                  <a:lnTo>
                    <a:pt x="17" y="15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334520" y="1885320"/>
              <a:ext cx="4320" cy="10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34520" y="1885320"/>
              <a:ext cx="4320" cy="10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432800" y="18946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440720" y="18979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440720" y="1893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443960" y="1893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447200" y="18914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64480" y="1893240"/>
              <a:ext cx="2880" cy="10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64480" y="1893240"/>
              <a:ext cx="2880" cy="10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0" y="2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464480" y="18946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480320" y="18993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478880" y="1902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464480" y="1901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467720" y="1902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474200" y="19393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97960" y="1940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464480" y="1947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78880" y="1956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456560" y="1961280"/>
              <a:ext cx="15480" cy="756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36" y="0"/>
                  </a:moveTo>
                  <a:lnTo>
                    <a:pt x="44" y="0"/>
                  </a:lnTo>
                  <a:lnTo>
                    <a:pt x="36" y="17"/>
                  </a:lnTo>
                  <a:lnTo>
                    <a:pt x="0" y="20"/>
                  </a:lnTo>
                  <a:lnTo>
                    <a:pt x="20" y="12"/>
                  </a:lnTo>
                  <a:lnTo>
                    <a:pt x="15" y="2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456560" y="1961280"/>
              <a:ext cx="15480" cy="756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36" y="17"/>
                  </a:lnTo>
                  <a:lnTo>
                    <a:pt x="0" y="20"/>
                  </a:lnTo>
                  <a:lnTo>
                    <a:pt x="20" y="12"/>
                  </a:lnTo>
                  <a:lnTo>
                    <a:pt x="15" y="2"/>
                  </a:lnTo>
                  <a:lnTo>
                    <a:pt x="3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24880" y="1956600"/>
              <a:ext cx="7560" cy="28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3"/>
                  </a:moveTo>
                  <a:lnTo>
                    <a:pt x="23" y="0"/>
                  </a:lnTo>
                  <a:lnTo>
                    <a:pt x="20" y="8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24880" y="1956600"/>
              <a:ext cx="7560" cy="28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3"/>
                  </a:moveTo>
                  <a:lnTo>
                    <a:pt x="4" y="3"/>
                  </a:lnTo>
                  <a:lnTo>
                    <a:pt x="23" y="0"/>
                  </a:lnTo>
                  <a:lnTo>
                    <a:pt x="20" y="8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413720" y="1959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375560" y="1947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64400" y="194544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353240" y="19440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044880" y="1818720"/>
              <a:ext cx="10800" cy="252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8" y="0"/>
                  </a:moveTo>
                  <a:lnTo>
                    <a:pt x="0" y="9"/>
                  </a:lnTo>
                  <a:lnTo>
                    <a:pt x="12" y="0"/>
                  </a:lnTo>
                  <a:lnTo>
                    <a:pt x="2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44880" y="1818720"/>
              <a:ext cx="10800" cy="252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8" y="0"/>
                  </a:moveTo>
                  <a:lnTo>
                    <a:pt x="28" y="0"/>
                  </a:lnTo>
                  <a:lnTo>
                    <a:pt x="0" y="9"/>
                  </a:lnTo>
                  <a:lnTo>
                    <a:pt x="12" y="0"/>
                  </a:lnTo>
                  <a:lnTo>
                    <a:pt x="2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84760" y="18266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938680" y="1794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117960" y="18723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67200" y="1944000"/>
              <a:ext cx="15480" cy="43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32" y="0"/>
                  </a:moveTo>
                  <a:lnTo>
                    <a:pt x="45" y="3"/>
                  </a:lnTo>
                  <a:lnTo>
                    <a:pt x="36" y="5"/>
                  </a:lnTo>
                  <a:lnTo>
                    <a:pt x="29" y="11"/>
                  </a:lnTo>
                  <a:lnTo>
                    <a:pt x="17" y="11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9" y="0"/>
                  </a:lnTo>
                  <a:lnTo>
                    <a:pt x="17" y="3"/>
                  </a:lnTo>
                  <a:lnTo>
                    <a:pt x="29" y="0"/>
                  </a:lnTo>
                  <a:lnTo>
                    <a:pt x="3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67200" y="1944000"/>
              <a:ext cx="15480" cy="43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32" y="0"/>
                  </a:moveTo>
                  <a:lnTo>
                    <a:pt x="32" y="0"/>
                  </a:lnTo>
                  <a:lnTo>
                    <a:pt x="45" y="3"/>
                  </a:lnTo>
                  <a:lnTo>
                    <a:pt x="36" y="5"/>
                  </a:lnTo>
                  <a:lnTo>
                    <a:pt x="29" y="11"/>
                  </a:lnTo>
                  <a:lnTo>
                    <a:pt x="17" y="11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9" y="0"/>
                  </a:lnTo>
                  <a:lnTo>
                    <a:pt x="17" y="3"/>
                  </a:lnTo>
                  <a:lnTo>
                    <a:pt x="29" y="0"/>
                  </a:lnTo>
                  <a:lnTo>
                    <a:pt x="3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051360" y="1948680"/>
              <a:ext cx="4320" cy="14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0"/>
                  </a:moveTo>
                  <a:lnTo>
                    <a:pt x="12" y="0"/>
                  </a:lnTo>
                  <a:lnTo>
                    <a:pt x="12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51360" y="1948680"/>
              <a:ext cx="4320" cy="14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900520" y="1907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899080" y="1909080"/>
              <a:ext cx="7560" cy="28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0"/>
                  </a:moveTo>
                  <a:lnTo>
                    <a:pt x="16" y="0"/>
                  </a:lnTo>
                  <a:lnTo>
                    <a:pt x="19" y="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899080" y="1909080"/>
              <a:ext cx="7560" cy="28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9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876760" y="1918440"/>
              <a:ext cx="7560" cy="28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7"/>
                  </a:moveTo>
                  <a:lnTo>
                    <a:pt x="0" y="5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9" y="7"/>
                  </a:lnTo>
                  <a:lnTo>
                    <a:pt x="7" y="7"/>
                  </a:lnTo>
                  <a:lnTo>
                    <a:pt x="4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876760" y="1918440"/>
              <a:ext cx="7560" cy="28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7"/>
                  </a:moveTo>
                  <a:lnTo>
                    <a:pt x="4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9" y="7"/>
                  </a:lnTo>
                  <a:lnTo>
                    <a:pt x="7" y="7"/>
                  </a:lnTo>
                  <a:lnTo>
                    <a:pt x="4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919600" y="1934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919600" y="1936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887920" y="2100960"/>
              <a:ext cx="2880" cy="46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14"/>
                  </a:moveTo>
                  <a:lnTo>
                    <a:pt x="0" y="14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7"/>
                  </a:lnTo>
                  <a:lnTo>
                    <a:pt x="5" y="0"/>
                  </a:lnTo>
                  <a:lnTo>
                    <a:pt x="9" y="2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5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887920" y="2100960"/>
              <a:ext cx="2880" cy="46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14"/>
                  </a:moveTo>
                  <a:lnTo>
                    <a:pt x="5" y="14"/>
                  </a:lnTo>
                  <a:lnTo>
                    <a:pt x="0" y="14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5" y="1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880000" y="2109240"/>
              <a:ext cx="5760" cy="43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5"/>
                  </a:moveTo>
                  <a:lnTo>
                    <a:pt x="4" y="14"/>
                  </a:lnTo>
                  <a:lnTo>
                    <a:pt x="16" y="14"/>
                  </a:lnTo>
                  <a:lnTo>
                    <a:pt x="8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880000" y="2109240"/>
              <a:ext cx="5760" cy="43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5"/>
                  </a:moveTo>
                  <a:lnTo>
                    <a:pt x="0" y="5"/>
                  </a:lnTo>
                  <a:lnTo>
                    <a:pt x="4" y="14"/>
                  </a:lnTo>
                  <a:lnTo>
                    <a:pt x="16" y="14"/>
                  </a:lnTo>
                  <a:lnTo>
                    <a:pt x="8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110040" y="2099520"/>
              <a:ext cx="1080" cy="10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10040" y="2099520"/>
              <a:ext cx="1080" cy="10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0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098880" y="2237400"/>
              <a:ext cx="7560" cy="432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7" y="3"/>
                  </a:moveTo>
                  <a:lnTo>
                    <a:pt x="17" y="0"/>
                  </a:lnTo>
                  <a:lnTo>
                    <a:pt x="12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8" y="13"/>
                  </a:lnTo>
                  <a:lnTo>
                    <a:pt x="12" y="13"/>
                  </a:lnTo>
                  <a:lnTo>
                    <a:pt x="21" y="5"/>
                  </a:lnTo>
                  <a:lnTo>
                    <a:pt x="17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098880" y="2237400"/>
              <a:ext cx="7560" cy="432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7" y="3"/>
                  </a:moveTo>
                  <a:lnTo>
                    <a:pt x="17" y="3"/>
                  </a:lnTo>
                  <a:lnTo>
                    <a:pt x="17" y="3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8" y="13"/>
                  </a:lnTo>
                  <a:lnTo>
                    <a:pt x="12" y="13"/>
                  </a:lnTo>
                  <a:lnTo>
                    <a:pt x="21" y="5"/>
                  </a:lnTo>
                  <a:lnTo>
                    <a:pt x="17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179880" y="2235600"/>
              <a:ext cx="2880" cy="14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508560" y="18439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08560" y="18439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510000" y="1845720"/>
              <a:ext cx="6120" cy="75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16" y="10"/>
                  </a:lnTo>
                  <a:lnTo>
                    <a:pt x="16" y="19"/>
                  </a:lnTo>
                  <a:lnTo>
                    <a:pt x="12" y="19"/>
                  </a:ln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510000" y="1845720"/>
              <a:ext cx="6120" cy="75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0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12" y="19"/>
                  </a:ln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17920" y="1847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522960" y="1847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530880" y="18536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533760" y="18536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557880" y="18694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564000" y="18709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70480" y="1874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573720" y="1878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00720" y="19044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635640" y="1901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664080" y="1936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667320" y="1940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662640" y="1940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664080" y="19425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668760" y="19440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672000" y="19486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667320" y="19486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667320" y="1947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670560" y="1956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673800" y="1961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673800" y="1963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99000" y="19677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97560" y="1964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79920" y="19803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683160" y="1980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691080" y="19854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702240" y="19933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703680" y="199620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34040" y="1967760"/>
              <a:ext cx="31320" cy="36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12" y="59"/>
                  </a:moveTo>
                  <a:lnTo>
                    <a:pt x="28" y="93"/>
                  </a:lnTo>
                  <a:lnTo>
                    <a:pt x="43" y="101"/>
                  </a:lnTo>
                  <a:lnTo>
                    <a:pt x="85" y="88"/>
                  </a:lnTo>
                  <a:lnTo>
                    <a:pt x="88" y="66"/>
                  </a:lnTo>
                  <a:lnTo>
                    <a:pt x="56" y="34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24" y="7"/>
                  </a:lnTo>
                  <a:lnTo>
                    <a:pt x="0" y="3"/>
                  </a:lnTo>
                  <a:lnTo>
                    <a:pt x="28" y="10"/>
                  </a:lnTo>
                  <a:lnTo>
                    <a:pt x="7" y="1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12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34040" y="1967760"/>
              <a:ext cx="31320" cy="36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12" y="59"/>
                  </a:moveTo>
                  <a:lnTo>
                    <a:pt x="12" y="59"/>
                  </a:lnTo>
                  <a:lnTo>
                    <a:pt x="28" y="93"/>
                  </a:lnTo>
                  <a:lnTo>
                    <a:pt x="43" y="101"/>
                  </a:lnTo>
                  <a:lnTo>
                    <a:pt x="85" y="88"/>
                  </a:lnTo>
                  <a:lnTo>
                    <a:pt x="88" y="66"/>
                  </a:lnTo>
                  <a:lnTo>
                    <a:pt x="56" y="34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24" y="7"/>
                  </a:lnTo>
                  <a:lnTo>
                    <a:pt x="0" y="3"/>
                  </a:lnTo>
                  <a:lnTo>
                    <a:pt x="28" y="10"/>
                  </a:lnTo>
                  <a:lnTo>
                    <a:pt x="7" y="1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12" y="5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63920" y="19868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591000" y="1931400"/>
              <a:ext cx="7560" cy="1872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9" y="0"/>
                  </a:moveTo>
                  <a:lnTo>
                    <a:pt x="21" y="52"/>
                  </a:lnTo>
                  <a:lnTo>
                    <a:pt x="9" y="44"/>
                  </a:lnTo>
                  <a:lnTo>
                    <a:pt x="0" y="5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591000" y="1931400"/>
              <a:ext cx="7560" cy="1872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9" y="0"/>
                  </a:moveTo>
                  <a:lnTo>
                    <a:pt x="9" y="0"/>
                  </a:lnTo>
                  <a:lnTo>
                    <a:pt x="21" y="52"/>
                  </a:lnTo>
                  <a:lnTo>
                    <a:pt x="9" y="44"/>
                  </a:lnTo>
                  <a:lnTo>
                    <a:pt x="0" y="5"/>
                  </a:lnTo>
                  <a:lnTo>
                    <a:pt x="9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594240" y="1955160"/>
              <a:ext cx="2880" cy="2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2"/>
                  </a:moveTo>
                  <a:lnTo>
                    <a:pt x="9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9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594240" y="1955160"/>
              <a:ext cx="2880" cy="2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2"/>
                  </a:moveTo>
                  <a:lnTo>
                    <a:pt x="9" y="2"/>
                  </a:lnTo>
                  <a:lnTo>
                    <a:pt x="9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9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605400" y="1971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618000" y="19774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613320" y="19789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618000" y="19803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618000" y="198360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618000" y="1982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622680" y="1990080"/>
              <a:ext cx="2880" cy="43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8" y="12"/>
                  </a:lnTo>
                  <a:lnTo>
                    <a:pt x="0" y="5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622680" y="1990080"/>
              <a:ext cx="2880" cy="43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4" y="0"/>
                  </a:lnTo>
                  <a:lnTo>
                    <a:pt x="8" y="12"/>
                  </a:lnTo>
                  <a:lnTo>
                    <a:pt x="0" y="5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622680" y="19882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56200" y="25167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723040" y="24609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859120" y="2458080"/>
              <a:ext cx="1440" cy="10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873520" y="2460960"/>
              <a:ext cx="1080" cy="14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876760" y="2460960"/>
              <a:ext cx="108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09960" y="2486520"/>
              <a:ext cx="23400" cy="9000"/>
            </a:xfrm>
            <a:custGeom>
              <a:avLst/>
              <a:gdLst/>
              <a:ahLst/>
              <a:rect l="l" t="t" r="r" b="b"/>
              <a:pathLst>
                <a:path w="66" h="26">
                  <a:moveTo>
                    <a:pt x="33" y="25"/>
                  </a:moveTo>
                  <a:lnTo>
                    <a:pt x="29" y="25"/>
                  </a:lnTo>
                  <a:lnTo>
                    <a:pt x="29" y="22"/>
                  </a:lnTo>
                  <a:lnTo>
                    <a:pt x="33" y="20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20" y="20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8" y="17"/>
                  </a:lnTo>
                  <a:lnTo>
                    <a:pt x="12" y="17"/>
                  </a:lnTo>
                  <a:lnTo>
                    <a:pt x="16" y="10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29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40" y="3"/>
                  </a:lnTo>
                  <a:lnTo>
                    <a:pt x="33" y="8"/>
                  </a:lnTo>
                  <a:lnTo>
                    <a:pt x="29" y="8"/>
                  </a:lnTo>
                  <a:lnTo>
                    <a:pt x="24" y="10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36" y="10"/>
                  </a:lnTo>
                  <a:lnTo>
                    <a:pt x="33" y="13"/>
                  </a:lnTo>
                  <a:lnTo>
                    <a:pt x="36" y="15"/>
                  </a:lnTo>
                  <a:lnTo>
                    <a:pt x="33" y="15"/>
                  </a:lnTo>
                  <a:lnTo>
                    <a:pt x="36" y="15"/>
                  </a:lnTo>
                  <a:lnTo>
                    <a:pt x="52" y="13"/>
                  </a:lnTo>
                  <a:lnTo>
                    <a:pt x="56" y="13"/>
                  </a:lnTo>
                  <a:lnTo>
                    <a:pt x="60" y="10"/>
                  </a:lnTo>
                  <a:lnTo>
                    <a:pt x="65" y="10"/>
                  </a:lnTo>
                  <a:lnTo>
                    <a:pt x="56" y="17"/>
                  </a:lnTo>
                  <a:lnTo>
                    <a:pt x="48" y="17"/>
                  </a:lnTo>
                  <a:lnTo>
                    <a:pt x="52" y="20"/>
                  </a:lnTo>
                  <a:lnTo>
                    <a:pt x="48" y="17"/>
                  </a:lnTo>
                  <a:lnTo>
                    <a:pt x="40" y="15"/>
                  </a:lnTo>
                  <a:lnTo>
                    <a:pt x="33" y="17"/>
                  </a:lnTo>
                  <a:lnTo>
                    <a:pt x="33" y="20"/>
                  </a:lnTo>
                  <a:lnTo>
                    <a:pt x="36" y="22"/>
                  </a:lnTo>
                  <a:lnTo>
                    <a:pt x="43" y="22"/>
                  </a:lnTo>
                  <a:lnTo>
                    <a:pt x="33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09960" y="2486520"/>
              <a:ext cx="23400" cy="9000"/>
            </a:xfrm>
            <a:custGeom>
              <a:avLst/>
              <a:gdLst/>
              <a:ahLst/>
              <a:rect l="l" t="t" r="r" b="b"/>
              <a:pathLst>
                <a:path w="66" h="26">
                  <a:moveTo>
                    <a:pt x="33" y="25"/>
                  </a:moveTo>
                  <a:lnTo>
                    <a:pt x="33" y="25"/>
                  </a:lnTo>
                  <a:lnTo>
                    <a:pt x="29" y="25"/>
                  </a:lnTo>
                  <a:lnTo>
                    <a:pt x="29" y="22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8" y="17"/>
                  </a:lnTo>
                  <a:lnTo>
                    <a:pt x="12" y="17"/>
                  </a:lnTo>
                  <a:lnTo>
                    <a:pt x="16" y="10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29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40" y="3"/>
                  </a:lnTo>
                  <a:lnTo>
                    <a:pt x="33" y="8"/>
                  </a:lnTo>
                  <a:lnTo>
                    <a:pt x="29" y="8"/>
                  </a:lnTo>
                  <a:lnTo>
                    <a:pt x="24" y="10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36" y="10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6" y="15"/>
                  </a:lnTo>
                  <a:lnTo>
                    <a:pt x="33" y="15"/>
                  </a:lnTo>
                  <a:lnTo>
                    <a:pt x="36" y="15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6" y="13"/>
                  </a:lnTo>
                  <a:lnTo>
                    <a:pt x="60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56" y="17"/>
                  </a:lnTo>
                  <a:lnTo>
                    <a:pt x="48" y="17"/>
                  </a:lnTo>
                  <a:lnTo>
                    <a:pt x="52" y="20"/>
                  </a:lnTo>
                  <a:lnTo>
                    <a:pt x="48" y="17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33" y="17"/>
                  </a:lnTo>
                  <a:lnTo>
                    <a:pt x="33" y="20"/>
                  </a:lnTo>
                  <a:lnTo>
                    <a:pt x="36" y="22"/>
                  </a:lnTo>
                  <a:lnTo>
                    <a:pt x="43" y="22"/>
                  </a:lnTo>
                  <a:lnTo>
                    <a:pt x="33" y="2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21120" y="2489760"/>
              <a:ext cx="144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229200" y="2400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08520" y="2522880"/>
              <a:ext cx="4320" cy="14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4" y="0"/>
                  </a:moveTo>
                  <a:lnTo>
                    <a:pt x="8" y="3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8" y="5"/>
                  </a:lnTo>
                  <a:lnTo>
                    <a:pt x="4" y="5"/>
                  </a:lnTo>
                  <a:lnTo>
                    <a:pt x="0" y="5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08520" y="2522880"/>
              <a:ext cx="4320" cy="14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4" y="0"/>
                  </a:moveTo>
                  <a:lnTo>
                    <a:pt x="4" y="0"/>
                  </a:lnTo>
                  <a:lnTo>
                    <a:pt x="8" y="3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8" y="5"/>
                  </a:lnTo>
                  <a:lnTo>
                    <a:pt x="4" y="5"/>
                  </a:lnTo>
                  <a:lnTo>
                    <a:pt x="0" y="5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63920" y="1471320"/>
              <a:ext cx="15840" cy="432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43" y="14"/>
                  </a:moveTo>
                  <a:lnTo>
                    <a:pt x="28" y="4"/>
                  </a:lnTo>
                  <a:lnTo>
                    <a:pt x="0" y="0"/>
                  </a:lnTo>
                  <a:lnTo>
                    <a:pt x="7" y="7"/>
                  </a:lnTo>
                  <a:lnTo>
                    <a:pt x="43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463920" y="1471320"/>
              <a:ext cx="15840" cy="432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43" y="14"/>
                  </a:moveTo>
                  <a:lnTo>
                    <a:pt x="43" y="14"/>
                  </a:lnTo>
                  <a:lnTo>
                    <a:pt x="28" y="4"/>
                  </a:lnTo>
                  <a:lnTo>
                    <a:pt x="0" y="0"/>
                  </a:lnTo>
                  <a:lnTo>
                    <a:pt x="7" y="7"/>
                  </a:lnTo>
                  <a:lnTo>
                    <a:pt x="43" y="1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594240" y="1495080"/>
              <a:ext cx="23400" cy="4320"/>
            </a:xfrm>
            <a:custGeom>
              <a:avLst/>
              <a:gdLst/>
              <a:ahLst/>
              <a:rect l="l" t="t" r="r" b="b"/>
              <a:pathLst>
                <a:path w="66" h="14">
                  <a:moveTo>
                    <a:pt x="0" y="0"/>
                  </a:moveTo>
                  <a:lnTo>
                    <a:pt x="0" y="3"/>
                  </a:lnTo>
                  <a:lnTo>
                    <a:pt x="65" y="1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594240" y="1495080"/>
              <a:ext cx="23400" cy="4320"/>
            </a:xfrm>
            <a:custGeom>
              <a:avLst/>
              <a:gdLst/>
              <a:ahLst/>
              <a:rect l="l" t="t" r="r" b="b"/>
              <a:pathLst>
                <a:path w="66" h="14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65" y="1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76680" y="1542600"/>
              <a:ext cx="15480" cy="756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41" y="20"/>
                  </a:moveTo>
                  <a:lnTo>
                    <a:pt x="37" y="13"/>
                  </a:lnTo>
                  <a:lnTo>
                    <a:pt x="0" y="0"/>
                  </a:lnTo>
                  <a:lnTo>
                    <a:pt x="41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76680" y="1542600"/>
              <a:ext cx="15480" cy="756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41" y="20"/>
                  </a:moveTo>
                  <a:lnTo>
                    <a:pt x="41" y="20"/>
                  </a:lnTo>
                  <a:lnTo>
                    <a:pt x="37" y="13"/>
                  </a:lnTo>
                  <a:lnTo>
                    <a:pt x="0" y="0"/>
                  </a:lnTo>
                  <a:lnTo>
                    <a:pt x="41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070160" y="17996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754080" y="1861560"/>
              <a:ext cx="26640" cy="1872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15" y="4"/>
                  </a:moveTo>
                  <a:lnTo>
                    <a:pt x="52" y="4"/>
                  </a:lnTo>
                  <a:lnTo>
                    <a:pt x="52" y="0"/>
                  </a:lnTo>
                  <a:lnTo>
                    <a:pt x="64" y="4"/>
                  </a:lnTo>
                  <a:lnTo>
                    <a:pt x="73" y="12"/>
                  </a:lnTo>
                  <a:lnTo>
                    <a:pt x="64" y="26"/>
                  </a:lnTo>
                  <a:lnTo>
                    <a:pt x="73" y="36"/>
                  </a:lnTo>
                  <a:lnTo>
                    <a:pt x="56" y="54"/>
                  </a:lnTo>
                  <a:lnTo>
                    <a:pt x="15" y="46"/>
                  </a:lnTo>
                  <a:lnTo>
                    <a:pt x="0" y="23"/>
                  </a:lnTo>
                  <a:lnTo>
                    <a:pt x="15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54080" y="1861560"/>
              <a:ext cx="26640" cy="1872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15" y="4"/>
                  </a:moveTo>
                  <a:lnTo>
                    <a:pt x="15" y="4"/>
                  </a:lnTo>
                  <a:lnTo>
                    <a:pt x="52" y="4"/>
                  </a:lnTo>
                  <a:lnTo>
                    <a:pt x="52" y="0"/>
                  </a:lnTo>
                  <a:lnTo>
                    <a:pt x="64" y="4"/>
                  </a:lnTo>
                  <a:lnTo>
                    <a:pt x="73" y="12"/>
                  </a:lnTo>
                  <a:lnTo>
                    <a:pt x="64" y="26"/>
                  </a:lnTo>
                  <a:lnTo>
                    <a:pt x="73" y="36"/>
                  </a:lnTo>
                  <a:lnTo>
                    <a:pt x="56" y="54"/>
                  </a:lnTo>
                  <a:lnTo>
                    <a:pt x="15" y="46"/>
                  </a:lnTo>
                  <a:lnTo>
                    <a:pt x="0" y="23"/>
                  </a:lnTo>
                  <a:lnTo>
                    <a:pt x="15" y="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303440" y="21600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303440" y="2161080"/>
              <a:ext cx="6120" cy="43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8" y="0"/>
                  </a:moveTo>
                  <a:lnTo>
                    <a:pt x="17" y="12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303440" y="2161080"/>
              <a:ext cx="6120" cy="43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8" y="0"/>
                  </a:moveTo>
                  <a:lnTo>
                    <a:pt x="8" y="0"/>
                  </a:lnTo>
                  <a:lnTo>
                    <a:pt x="17" y="12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308120" y="2164320"/>
              <a:ext cx="4680" cy="61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lnTo>
                    <a:pt x="5" y="12"/>
                  </a:lnTo>
                  <a:lnTo>
                    <a:pt x="12" y="7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308120" y="2164320"/>
              <a:ext cx="4680" cy="61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lnTo>
                    <a:pt x="0" y="0"/>
                  </a:lnTo>
                  <a:lnTo>
                    <a:pt x="5" y="12"/>
                  </a:lnTo>
                  <a:lnTo>
                    <a:pt x="12" y="7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332240" y="21582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322520" y="21754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25760" y="21834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33680" y="2184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85880" y="2133000"/>
              <a:ext cx="9360" cy="900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0"/>
                  </a:moveTo>
                  <a:lnTo>
                    <a:pt x="24" y="27"/>
                  </a:lnTo>
                  <a:lnTo>
                    <a:pt x="7" y="2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385880" y="2133000"/>
              <a:ext cx="9360" cy="900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0"/>
                  </a:moveTo>
                  <a:lnTo>
                    <a:pt x="0" y="0"/>
                  </a:lnTo>
                  <a:lnTo>
                    <a:pt x="24" y="27"/>
                  </a:lnTo>
                  <a:lnTo>
                    <a:pt x="7" y="2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383000" y="2144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85880" y="214704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85880" y="21535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94160" y="21549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85880" y="2148840"/>
              <a:ext cx="6120" cy="75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2" y="0"/>
                  </a:moveTo>
                  <a:lnTo>
                    <a:pt x="16" y="20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385880" y="2148840"/>
              <a:ext cx="6120" cy="75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2" y="0"/>
                  </a:moveTo>
                  <a:lnTo>
                    <a:pt x="12" y="0"/>
                  </a:lnTo>
                  <a:lnTo>
                    <a:pt x="16" y="20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403520" y="2144160"/>
              <a:ext cx="10800" cy="122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25" y="14"/>
                  </a:lnTo>
                  <a:lnTo>
                    <a:pt x="32" y="3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403520" y="2144160"/>
              <a:ext cx="10800" cy="122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0"/>
                  </a:lnTo>
                  <a:lnTo>
                    <a:pt x="25" y="14"/>
                  </a:lnTo>
                  <a:lnTo>
                    <a:pt x="32" y="3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406760" y="2162520"/>
              <a:ext cx="9000" cy="79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4" y="0"/>
                  </a:moveTo>
                  <a:lnTo>
                    <a:pt x="20" y="7"/>
                  </a:lnTo>
                  <a:lnTo>
                    <a:pt x="24" y="22"/>
                  </a:lnTo>
                  <a:lnTo>
                    <a:pt x="0" y="17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406760" y="2162520"/>
              <a:ext cx="9000" cy="79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4" y="0"/>
                  </a:moveTo>
                  <a:lnTo>
                    <a:pt x="4" y="0"/>
                  </a:lnTo>
                  <a:lnTo>
                    <a:pt x="20" y="7"/>
                  </a:lnTo>
                  <a:lnTo>
                    <a:pt x="24" y="22"/>
                  </a:lnTo>
                  <a:lnTo>
                    <a:pt x="0" y="17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420800" y="2153520"/>
              <a:ext cx="2880" cy="15480"/>
            </a:xfrm>
            <a:custGeom>
              <a:avLst/>
              <a:gdLst/>
              <a:ahLst/>
              <a:rect l="l" t="t" r="r" b="b"/>
              <a:pathLst>
                <a:path w="9" h="42">
                  <a:moveTo>
                    <a:pt x="8" y="0"/>
                  </a:moveTo>
                  <a:lnTo>
                    <a:pt x="8" y="41"/>
                  </a:lnTo>
                  <a:lnTo>
                    <a:pt x="0" y="22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420800" y="2153520"/>
              <a:ext cx="2880" cy="15480"/>
            </a:xfrm>
            <a:custGeom>
              <a:avLst/>
              <a:gdLst/>
              <a:ahLst/>
              <a:rect l="l" t="t" r="r" b="b"/>
              <a:pathLst>
                <a:path w="9" h="42">
                  <a:moveTo>
                    <a:pt x="8" y="0"/>
                  </a:moveTo>
                  <a:lnTo>
                    <a:pt x="8" y="0"/>
                  </a:lnTo>
                  <a:lnTo>
                    <a:pt x="8" y="41"/>
                  </a:lnTo>
                  <a:lnTo>
                    <a:pt x="0" y="22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419360" y="2175480"/>
              <a:ext cx="7560" cy="75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0"/>
                  </a:moveTo>
                  <a:lnTo>
                    <a:pt x="21" y="10"/>
                  </a:lnTo>
                  <a:lnTo>
                    <a:pt x="17" y="22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419360" y="2175480"/>
              <a:ext cx="7560" cy="75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0"/>
                  </a:moveTo>
                  <a:lnTo>
                    <a:pt x="0" y="0"/>
                  </a:lnTo>
                  <a:lnTo>
                    <a:pt x="21" y="10"/>
                  </a:lnTo>
                  <a:lnTo>
                    <a:pt x="17" y="22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398840" y="2188080"/>
              <a:ext cx="2880" cy="43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0" y="0"/>
                  </a:moveTo>
                  <a:lnTo>
                    <a:pt x="9" y="10"/>
                  </a:lnTo>
                  <a:lnTo>
                    <a:pt x="5" y="1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398840" y="2188080"/>
              <a:ext cx="2880" cy="43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0" y="0"/>
                  </a:moveTo>
                  <a:lnTo>
                    <a:pt x="0" y="0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464000" y="21834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468680" y="2192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78400" y="2607120"/>
              <a:ext cx="9000" cy="14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5"/>
                  </a:moveTo>
                  <a:lnTo>
                    <a:pt x="25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578400" y="2607120"/>
              <a:ext cx="9000" cy="14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5"/>
                  </a:moveTo>
                  <a:lnTo>
                    <a:pt x="0" y="5"/>
                  </a:lnTo>
                  <a:lnTo>
                    <a:pt x="25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727440" y="2584800"/>
              <a:ext cx="10800" cy="288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28" y="0"/>
                  </a:moveTo>
                  <a:lnTo>
                    <a:pt x="24" y="2"/>
                  </a:lnTo>
                  <a:lnTo>
                    <a:pt x="16" y="2"/>
                  </a:lnTo>
                  <a:lnTo>
                    <a:pt x="4" y="7"/>
                  </a:lnTo>
                  <a:lnTo>
                    <a:pt x="0" y="5"/>
                  </a:lnTo>
                  <a:lnTo>
                    <a:pt x="2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727440" y="2584800"/>
              <a:ext cx="10800" cy="288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28" y="0"/>
                  </a:moveTo>
                  <a:lnTo>
                    <a:pt x="28" y="0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4" y="7"/>
                  </a:lnTo>
                  <a:lnTo>
                    <a:pt x="0" y="5"/>
                  </a:lnTo>
                  <a:lnTo>
                    <a:pt x="2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692520" y="2603880"/>
              <a:ext cx="2880" cy="14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692520" y="2603880"/>
              <a:ext cx="2880" cy="14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8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12480" y="2400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80760" y="2547000"/>
              <a:ext cx="1080" cy="10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3"/>
                  </a:move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80760" y="2547000"/>
              <a:ext cx="1080" cy="10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61680" y="2541960"/>
              <a:ext cx="10800" cy="288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24" y="10"/>
                  </a:moveTo>
                  <a:lnTo>
                    <a:pt x="19" y="7"/>
                  </a:lnTo>
                  <a:lnTo>
                    <a:pt x="11" y="5"/>
                  </a:lnTo>
                  <a:lnTo>
                    <a:pt x="7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24" y="7"/>
                  </a:lnTo>
                  <a:lnTo>
                    <a:pt x="31" y="10"/>
                  </a:lnTo>
                  <a:lnTo>
                    <a:pt x="24" y="1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61680" y="2541960"/>
              <a:ext cx="10800" cy="288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24" y="10"/>
                  </a:moveTo>
                  <a:lnTo>
                    <a:pt x="24" y="10"/>
                  </a:lnTo>
                  <a:lnTo>
                    <a:pt x="19" y="7"/>
                  </a:lnTo>
                  <a:lnTo>
                    <a:pt x="11" y="5"/>
                  </a:lnTo>
                  <a:lnTo>
                    <a:pt x="7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11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24" y="7"/>
                  </a:lnTo>
                  <a:lnTo>
                    <a:pt x="31" y="10"/>
                  </a:lnTo>
                  <a:lnTo>
                    <a:pt x="24" y="1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737160" y="25848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823920" y="25959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130640" y="1977480"/>
              <a:ext cx="1080" cy="2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5" y="8"/>
                  </a:lnTo>
                  <a:lnTo>
                    <a:pt x="5" y="10"/>
                  </a:lnTo>
                  <a:lnTo>
                    <a:pt x="0" y="8"/>
                  </a:lnTo>
                  <a:lnTo>
                    <a:pt x="0" y="3"/>
                  </a:lnTo>
                  <a:lnTo>
                    <a:pt x="5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130640" y="1977480"/>
              <a:ext cx="1080" cy="2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0" y="0"/>
                  </a:lnTo>
                  <a:lnTo>
                    <a:pt x="5" y="8"/>
                  </a:lnTo>
                  <a:lnTo>
                    <a:pt x="5" y="10"/>
                  </a:lnTo>
                  <a:lnTo>
                    <a:pt x="0" y="8"/>
                  </a:lnTo>
                  <a:lnTo>
                    <a:pt x="0" y="3"/>
                  </a:lnTo>
                  <a:lnTo>
                    <a:pt x="5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182840" y="1856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189320" y="1863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214520" y="1894680"/>
              <a:ext cx="1440" cy="144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214520" y="1896480"/>
              <a:ext cx="1440" cy="10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217760" y="1905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216320" y="1912320"/>
              <a:ext cx="1080" cy="43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4" y="0"/>
                  </a:moveTo>
                  <a:lnTo>
                    <a:pt x="4" y="11"/>
                  </a:lnTo>
                  <a:lnTo>
                    <a:pt x="0" y="6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163760" y="1956600"/>
              <a:ext cx="1440" cy="2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0"/>
                  </a:moveTo>
                  <a:lnTo>
                    <a:pt x="0" y="6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163760" y="1956600"/>
              <a:ext cx="1440" cy="2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0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329000" y="1977480"/>
              <a:ext cx="1080" cy="10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330440" y="1975680"/>
              <a:ext cx="1440" cy="14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403520" y="1980360"/>
              <a:ext cx="1080" cy="14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460760" y="1998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511520" y="20646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375080" y="2296080"/>
              <a:ext cx="5760" cy="6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9"/>
                  </a:moveTo>
                  <a:lnTo>
                    <a:pt x="16" y="0"/>
                  </a:lnTo>
                  <a:lnTo>
                    <a:pt x="7" y="2"/>
                  </a:lnTo>
                  <a:lnTo>
                    <a:pt x="0" y="16"/>
                  </a:lnTo>
                  <a:lnTo>
                    <a:pt x="7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375080" y="2296080"/>
              <a:ext cx="5760" cy="6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9"/>
                  </a:moveTo>
                  <a:lnTo>
                    <a:pt x="7" y="9"/>
                  </a:lnTo>
                  <a:lnTo>
                    <a:pt x="16" y="0"/>
                  </a:lnTo>
                  <a:lnTo>
                    <a:pt x="7" y="2"/>
                  </a:lnTo>
                  <a:lnTo>
                    <a:pt x="0" y="16"/>
                  </a:lnTo>
                  <a:lnTo>
                    <a:pt x="7" y="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376520" y="2307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456080" y="2219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452840" y="22244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444920" y="2238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449600" y="2232360"/>
              <a:ext cx="4320" cy="46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4"/>
                  </a:moveTo>
                  <a:lnTo>
                    <a:pt x="12" y="0"/>
                  </a:lnTo>
                  <a:lnTo>
                    <a:pt x="4" y="1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449600" y="2232360"/>
              <a:ext cx="4320" cy="46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4"/>
                  </a:moveTo>
                  <a:lnTo>
                    <a:pt x="0" y="14"/>
                  </a:lnTo>
                  <a:lnTo>
                    <a:pt x="12" y="0"/>
                  </a:lnTo>
                  <a:lnTo>
                    <a:pt x="4" y="14"/>
                  </a:lnTo>
                  <a:lnTo>
                    <a:pt x="0" y="1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43120" y="2238840"/>
              <a:ext cx="6120" cy="612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7"/>
                  </a:moveTo>
                  <a:lnTo>
                    <a:pt x="16" y="0"/>
                  </a:lnTo>
                  <a:lnTo>
                    <a:pt x="4" y="15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43120" y="2238840"/>
              <a:ext cx="6120" cy="612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7"/>
                  </a:moveTo>
                  <a:lnTo>
                    <a:pt x="0" y="17"/>
                  </a:lnTo>
                  <a:lnTo>
                    <a:pt x="16" y="0"/>
                  </a:lnTo>
                  <a:lnTo>
                    <a:pt x="4" y="15"/>
                  </a:lnTo>
                  <a:lnTo>
                    <a:pt x="0" y="1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443120" y="22453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29080" y="2262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422600" y="2277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414680" y="2286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412880" y="22928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563720" y="220860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508280" y="2267280"/>
              <a:ext cx="18720" cy="1080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12" y="30"/>
                  </a:moveTo>
                  <a:lnTo>
                    <a:pt x="0" y="17"/>
                  </a:lnTo>
                  <a:lnTo>
                    <a:pt x="37" y="0"/>
                  </a:lnTo>
                  <a:lnTo>
                    <a:pt x="50" y="2"/>
                  </a:lnTo>
                  <a:lnTo>
                    <a:pt x="37" y="22"/>
                  </a:lnTo>
                  <a:lnTo>
                    <a:pt x="12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508280" y="2267280"/>
              <a:ext cx="18720" cy="1080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12" y="30"/>
                  </a:moveTo>
                  <a:lnTo>
                    <a:pt x="12" y="30"/>
                  </a:lnTo>
                  <a:lnTo>
                    <a:pt x="0" y="17"/>
                  </a:lnTo>
                  <a:lnTo>
                    <a:pt x="37" y="0"/>
                  </a:lnTo>
                  <a:lnTo>
                    <a:pt x="50" y="2"/>
                  </a:lnTo>
                  <a:lnTo>
                    <a:pt x="37" y="22"/>
                  </a:lnTo>
                  <a:lnTo>
                    <a:pt x="12" y="3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01800" y="2286360"/>
              <a:ext cx="6120" cy="28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7"/>
                  </a:moveTo>
                  <a:lnTo>
                    <a:pt x="16" y="0"/>
                  </a:lnTo>
                  <a:lnTo>
                    <a:pt x="16" y="2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501800" y="2286360"/>
              <a:ext cx="6120" cy="28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7"/>
                  </a:moveTo>
                  <a:lnTo>
                    <a:pt x="0" y="7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535280" y="2254680"/>
              <a:ext cx="16920" cy="936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48" y="0"/>
                  </a:moveTo>
                  <a:lnTo>
                    <a:pt x="48" y="0"/>
                  </a:lnTo>
                  <a:lnTo>
                    <a:pt x="28" y="18"/>
                  </a:lnTo>
                  <a:lnTo>
                    <a:pt x="40" y="10"/>
                  </a:lnTo>
                  <a:lnTo>
                    <a:pt x="29" y="21"/>
                  </a:lnTo>
                  <a:lnTo>
                    <a:pt x="0" y="25"/>
                  </a:lnTo>
                  <a:lnTo>
                    <a:pt x="8" y="13"/>
                  </a:lnTo>
                  <a:lnTo>
                    <a:pt x="4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35280" y="2254680"/>
              <a:ext cx="16920" cy="936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48" y="0"/>
                  </a:moveTo>
                  <a:lnTo>
                    <a:pt x="48" y="0"/>
                  </a:lnTo>
                  <a:lnTo>
                    <a:pt x="28" y="18"/>
                  </a:lnTo>
                  <a:lnTo>
                    <a:pt x="40" y="10"/>
                  </a:lnTo>
                  <a:lnTo>
                    <a:pt x="29" y="21"/>
                  </a:lnTo>
                  <a:lnTo>
                    <a:pt x="0" y="25"/>
                  </a:lnTo>
                  <a:lnTo>
                    <a:pt x="8" y="13"/>
                  </a:lnTo>
                  <a:lnTo>
                    <a:pt x="4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91800" y="2254680"/>
              <a:ext cx="1080" cy="14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91800" y="2254680"/>
              <a:ext cx="1080" cy="14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97920" y="2262600"/>
              <a:ext cx="2880" cy="28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8560" y="22309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97920" y="22165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34640" y="2219760"/>
              <a:ext cx="7560" cy="28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12" y="9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21" y="7"/>
                  </a:lnTo>
                  <a:lnTo>
                    <a:pt x="12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34640" y="2219760"/>
              <a:ext cx="7560" cy="28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12" y="9"/>
                  </a:moveTo>
                  <a:lnTo>
                    <a:pt x="12" y="9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1" y="7"/>
                  </a:lnTo>
                  <a:lnTo>
                    <a:pt x="12" y="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44000" y="2223000"/>
              <a:ext cx="7560" cy="288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13" y="6"/>
                  </a:moveTo>
                  <a:lnTo>
                    <a:pt x="0" y="0"/>
                  </a:lnTo>
                  <a:lnTo>
                    <a:pt x="21" y="3"/>
                  </a:lnTo>
                  <a:lnTo>
                    <a:pt x="13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4000" y="2223000"/>
              <a:ext cx="7560" cy="288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13" y="6"/>
                  </a:moveTo>
                  <a:lnTo>
                    <a:pt x="13" y="6"/>
                  </a:lnTo>
                  <a:lnTo>
                    <a:pt x="0" y="0"/>
                  </a:lnTo>
                  <a:lnTo>
                    <a:pt x="21" y="3"/>
                  </a:lnTo>
                  <a:lnTo>
                    <a:pt x="13" y="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3080" y="2226240"/>
              <a:ext cx="1440" cy="10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5"/>
                  </a:moveTo>
                  <a:lnTo>
                    <a:pt x="4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63080" y="2226240"/>
              <a:ext cx="1440" cy="10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5"/>
                  </a:moveTo>
                  <a:lnTo>
                    <a:pt x="0" y="5"/>
                  </a:lnTo>
                  <a:lnTo>
                    <a:pt x="4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74240" y="22244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21760" y="22816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26720" y="22453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05920" y="23119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01240" y="23104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80720" y="2292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74240" y="22816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77480" y="22784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72600" y="23025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18600" y="22705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47400" y="2296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82320" y="22406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12560" y="2250000"/>
              <a:ext cx="5760" cy="28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6" y="9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16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2560" y="2250000"/>
              <a:ext cx="5760" cy="28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6" y="9"/>
                  </a:moveTo>
                  <a:lnTo>
                    <a:pt x="16" y="9"/>
                  </a:lnTo>
                  <a:lnTo>
                    <a:pt x="4" y="4"/>
                  </a:lnTo>
                  <a:lnTo>
                    <a:pt x="0" y="0"/>
                  </a:lnTo>
                  <a:lnTo>
                    <a:pt x="16" y="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7520" y="22500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83760" y="22435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33080" y="2304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45680" y="23025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75920" y="23104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01120" y="23133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85360" y="23482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09320" y="22294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33080" y="2232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48920" y="2226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49000" y="2286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26760" y="2296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47480" y="2144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56840" y="2152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3320" y="21535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58280" y="21567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72680" y="21610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72680" y="21625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2400" y="21690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7120" y="20916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2400" y="20059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23560" y="2015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39400" y="2036160"/>
              <a:ext cx="4320" cy="2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2" y="10"/>
                  </a:moveTo>
                  <a:lnTo>
                    <a:pt x="0" y="5"/>
                  </a:lnTo>
                  <a:lnTo>
                    <a:pt x="4" y="2"/>
                  </a:lnTo>
                  <a:lnTo>
                    <a:pt x="0" y="0"/>
                  </a:lnTo>
                  <a:lnTo>
                    <a:pt x="12" y="1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39400" y="2036160"/>
              <a:ext cx="4320" cy="2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2" y="10"/>
                  </a:moveTo>
                  <a:lnTo>
                    <a:pt x="12" y="10"/>
                  </a:lnTo>
                  <a:lnTo>
                    <a:pt x="0" y="5"/>
                  </a:lnTo>
                  <a:lnTo>
                    <a:pt x="4" y="2"/>
                  </a:lnTo>
                  <a:lnTo>
                    <a:pt x="0" y="0"/>
                  </a:lnTo>
                  <a:lnTo>
                    <a:pt x="12" y="1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1080" y="21042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6400" y="2121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9480" y="2184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12440" y="2304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51840" y="2319840"/>
              <a:ext cx="1080" cy="10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4" y="0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61440" y="1834560"/>
              <a:ext cx="15840" cy="154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36" y="0"/>
                  </a:moveTo>
                  <a:lnTo>
                    <a:pt x="45" y="25"/>
                  </a:lnTo>
                  <a:lnTo>
                    <a:pt x="0" y="42"/>
                  </a:lnTo>
                  <a:lnTo>
                    <a:pt x="12" y="15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1440" y="1834560"/>
              <a:ext cx="15840" cy="154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36" y="0"/>
                  </a:moveTo>
                  <a:lnTo>
                    <a:pt x="36" y="0"/>
                  </a:lnTo>
                  <a:lnTo>
                    <a:pt x="45" y="25"/>
                  </a:lnTo>
                  <a:lnTo>
                    <a:pt x="0" y="42"/>
                  </a:lnTo>
                  <a:lnTo>
                    <a:pt x="12" y="15"/>
                  </a:lnTo>
                  <a:lnTo>
                    <a:pt x="3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72600" y="1824840"/>
              <a:ext cx="6120" cy="4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5"/>
                  </a:moveTo>
                  <a:lnTo>
                    <a:pt x="16" y="12"/>
                  </a:lnTo>
                  <a:lnTo>
                    <a:pt x="0" y="7"/>
                  </a:lnTo>
                  <a:lnTo>
                    <a:pt x="7" y="0"/>
                  </a:lnTo>
                  <a:lnTo>
                    <a:pt x="16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72600" y="1824840"/>
              <a:ext cx="6120" cy="4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5"/>
                  </a:moveTo>
                  <a:lnTo>
                    <a:pt x="16" y="5"/>
                  </a:lnTo>
                  <a:lnTo>
                    <a:pt x="16" y="12"/>
                  </a:lnTo>
                  <a:lnTo>
                    <a:pt x="0" y="7"/>
                  </a:lnTo>
                  <a:lnTo>
                    <a:pt x="7" y="0"/>
                  </a:lnTo>
                  <a:lnTo>
                    <a:pt x="16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71160" y="1829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71160" y="18266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72600" y="18234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64680" y="1816920"/>
              <a:ext cx="6120" cy="4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0"/>
                  </a:moveTo>
                  <a:lnTo>
                    <a:pt x="12" y="12"/>
                  </a:lnTo>
                  <a:lnTo>
                    <a:pt x="0" y="12"/>
                  </a:lnTo>
                  <a:lnTo>
                    <a:pt x="4" y="3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64680" y="1816920"/>
              <a:ext cx="6120" cy="4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0"/>
                  </a:moveTo>
                  <a:lnTo>
                    <a:pt x="16" y="0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4" y="3"/>
                  </a:lnTo>
                  <a:lnTo>
                    <a:pt x="1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56760" y="1810440"/>
              <a:ext cx="6120" cy="28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0"/>
                  </a:moveTo>
                  <a:lnTo>
                    <a:pt x="5" y="8"/>
                  </a:lnTo>
                  <a:lnTo>
                    <a:pt x="0" y="3"/>
                  </a:lnTo>
                  <a:lnTo>
                    <a:pt x="1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56760" y="1810440"/>
              <a:ext cx="6120" cy="28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0"/>
                  </a:moveTo>
                  <a:lnTo>
                    <a:pt x="17" y="0"/>
                  </a:lnTo>
                  <a:lnTo>
                    <a:pt x="5" y="8"/>
                  </a:lnTo>
                  <a:lnTo>
                    <a:pt x="0" y="3"/>
                  </a:lnTo>
                  <a:lnTo>
                    <a:pt x="1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3520" y="1812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045440" y="2056680"/>
              <a:ext cx="10800" cy="108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0"/>
                  </a:moveTo>
                  <a:lnTo>
                    <a:pt x="17" y="20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29" y="2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045440" y="2056680"/>
              <a:ext cx="10800" cy="108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0"/>
                  </a:moveTo>
                  <a:lnTo>
                    <a:pt x="0" y="0"/>
                  </a:lnTo>
                  <a:lnTo>
                    <a:pt x="17" y="20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29" y="2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044000" y="2061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053360" y="2059920"/>
              <a:ext cx="4320" cy="10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5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8" y="5"/>
                  </a:lnTo>
                  <a:lnTo>
                    <a:pt x="13" y="5"/>
                  </a:lnTo>
                  <a:lnTo>
                    <a:pt x="13" y="2"/>
                  </a:lnTo>
                  <a:lnTo>
                    <a:pt x="8" y="2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053360" y="2059920"/>
              <a:ext cx="4320" cy="10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5" y="0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8" y="5"/>
                  </a:lnTo>
                  <a:lnTo>
                    <a:pt x="13" y="5"/>
                  </a:lnTo>
                  <a:lnTo>
                    <a:pt x="13" y="2"/>
                  </a:lnTo>
                  <a:lnTo>
                    <a:pt x="8" y="2"/>
                  </a:lnTo>
                  <a:lnTo>
                    <a:pt x="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058040" y="2063160"/>
              <a:ext cx="4680" cy="252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1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058040" y="2063160"/>
              <a:ext cx="4680" cy="252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1" y="0"/>
                  </a:moveTo>
                  <a:lnTo>
                    <a:pt x="11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072440" y="2064600"/>
              <a:ext cx="4320" cy="28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7" y="0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4" y="7"/>
                  </a:lnTo>
                  <a:lnTo>
                    <a:pt x="12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072440" y="2064600"/>
              <a:ext cx="4320" cy="28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7" y="0"/>
                  </a:moveTo>
                  <a:lnTo>
                    <a:pt x="7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4" y="7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94320" y="1503000"/>
              <a:ext cx="9000" cy="10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2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12" y="2"/>
                  </a:lnTo>
                  <a:lnTo>
                    <a:pt x="4" y="5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694320" y="1503000"/>
              <a:ext cx="9000" cy="10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2"/>
                  </a:moveTo>
                  <a:lnTo>
                    <a:pt x="0" y="2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12" y="2"/>
                  </a:lnTo>
                  <a:lnTo>
                    <a:pt x="4" y="5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714840" y="1506240"/>
              <a:ext cx="1440" cy="10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741840" y="1503000"/>
              <a:ext cx="6120" cy="28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0"/>
                  </a:moveTo>
                  <a:lnTo>
                    <a:pt x="9" y="2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41840" y="1503000"/>
              <a:ext cx="6120" cy="28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0"/>
                  </a:moveTo>
                  <a:lnTo>
                    <a:pt x="0" y="0"/>
                  </a:lnTo>
                  <a:lnTo>
                    <a:pt x="9" y="2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760560" y="1506240"/>
              <a:ext cx="12240" cy="108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0" y="0"/>
                  </a:moveTo>
                  <a:lnTo>
                    <a:pt x="21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16" y="2"/>
                  </a:lnTo>
                  <a:lnTo>
                    <a:pt x="9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760560" y="1506240"/>
              <a:ext cx="12240" cy="108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0" y="0"/>
                  </a:moveTo>
                  <a:lnTo>
                    <a:pt x="0" y="0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16" y="2"/>
                  </a:lnTo>
                  <a:lnTo>
                    <a:pt x="9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132920" y="1572840"/>
              <a:ext cx="29520" cy="25200"/>
            </a:xfrm>
            <a:custGeom>
              <a:avLst/>
              <a:gdLst/>
              <a:ahLst/>
              <a:rect l="l" t="t" r="r" b="b"/>
              <a:pathLst>
                <a:path w="85" h="70">
                  <a:moveTo>
                    <a:pt x="68" y="2"/>
                  </a:moveTo>
                  <a:lnTo>
                    <a:pt x="52" y="0"/>
                  </a:lnTo>
                  <a:lnTo>
                    <a:pt x="39" y="7"/>
                  </a:lnTo>
                  <a:lnTo>
                    <a:pt x="55" y="7"/>
                  </a:lnTo>
                  <a:lnTo>
                    <a:pt x="59" y="5"/>
                  </a:lnTo>
                  <a:lnTo>
                    <a:pt x="47" y="9"/>
                  </a:lnTo>
                  <a:lnTo>
                    <a:pt x="43" y="7"/>
                  </a:lnTo>
                  <a:lnTo>
                    <a:pt x="24" y="15"/>
                  </a:lnTo>
                  <a:lnTo>
                    <a:pt x="39" y="17"/>
                  </a:lnTo>
                  <a:lnTo>
                    <a:pt x="24" y="22"/>
                  </a:lnTo>
                  <a:lnTo>
                    <a:pt x="36" y="29"/>
                  </a:lnTo>
                  <a:lnTo>
                    <a:pt x="8" y="35"/>
                  </a:lnTo>
                  <a:lnTo>
                    <a:pt x="20" y="36"/>
                  </a:lnTo>
                  <a:lnTo>
                    <a:pt x="24" y="36"/>
                  </a:lnTo>
                  <a:lnTo>
                    <a:pt x="0" y="49"/>
                  </a:lnTo>
                  <a:lnTo>
                    <a:pt x="36" y="44"/>
                  </a:lnTo>
                  <a:lnTo>
                    <a:pt x="0" y="54"/>
                  </a:lnTo>
                  <a:lnTo>
                    <a:pt x="8" y="69"/>
                  </a:lnTo>
                  <a:lnTo>
                    <a:pt x="32" y="58"/>
                  </a:lnTo>
                  <a:lnTo>
                    <a:pt x="52" y="44"/>
                  </a:lnTo>
                  <a:lnTo>
                    <a:pt x="47" y="36"/>
                  </a:lnTo>
                  <a:lnTo>
                    <a:pt x="84" y="17"/>
                  </a:lnTo>
                  <a:lnTo>
                    <a:pt x="68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132920" y="1572840"/>
              <a:ext cx="29520" cy="25200"/>
            </a:xfrm>
            <a:custGeom>
              <a:avLst/>
              <a:gdLst/>
              <a:ahLst/>
              <a:rect l="l" t="t" r="r" b="b"/>
              <a:pathLst>
                <a:path w="85" h="70">
                  <a:moveTo>
                    <a:pt x="68" y="2"/>
                  </a:moveTo>
                  <a:lnTo>
                    <a:pt x="68" y="2"/>
                  </a:lnTo>
                  <a:lnTo>
                    <a:pt x="52" y="0"/>
                  </a:lnTo>
                  <a:lnTo>
                    <a:pt x="39" y="7"/>
                  </a:lnTo>
                  <a:lnTo>
                    <a:pt x="55" y="7"/>
                  </a:lnTo>
                  <a:lnTo>
                    <a:pt x="59" y="5"/>
                  </a:lnTo>
                  <a:lnTo>
                    <a:pt x="47" y="9"/>
                  </a:lnTo>
                  <a:lnTo>
                    <a:pt x="43" y="7"/>
                  </a:lnTo>
                  <a:lnTo>
                    <a:pt x="24" y="15"/>
                  </a:lnTo>
                  <a:lnTo>
                    <a:pt x="39" y="17"/>
                  </a:lnTo>
                  <a:lnTo>
                    <a:pt x="24" y="22"/>
                  </a:lnTo>
                  <a:lnTo>
                    <a:pt x="36" y="29"/>
                  </a:lnTo>
                  <a:lnTo>
                    <a:pt x="8" y="35"/>
                  </a:lnTo>
                  <a:lnTo>
                    <a:pt x="20" y="36"/>
                  </a:lnTo>
                  <a:lnTo>
                    <a:pt x="24" y="36"/>
                  </a:lnTo>
                  <a:lnTo>
                    <a:pt x="0" y="49"/>
                  </a:lnTo>
                  <a:lnTo>
                    <a:pt x="36" y="44"/>
                  </a:lnTo>
                  <a:lnTo>
                    <a:pt x="0" y="54"/>
                  </a:lnTo>
                  <a:lnTo>
                    <a:pt x="8" y="69"/>
                  </a:lnTo>
                  <a:lnTo>
                    <a:pt x="32" y="58"/>
                  </a:lnTo>
                  <a:lnTo>
                    <a:pt x="52" y="44"/>
                  </a:lnTo>
                  <a:lnTo>
                    <a:pt x="47" y="36"/>
                  </a:lnTo>
                  <a:lnTo>
                    <a:pt x="84" y="17"/>
                  </a:lnTo>
                  <a:lnTo>
                    <a:pt x="68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148760" y="1595160"/>
              <a:ext cx="1080" cy="10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148760" y="1595160"/>
              <a:ext cx="1080" cy="10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142280" y="1595160"/>
              <a:ext cx="2880" cy="1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142280" y="1595160"/>
              <a:ext cx="2880" cy="1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8" y="0"/>
                  </a:ln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137600" y="1598400"/>
              <a:ext cx="9000" cy="25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5" y="0"/>
                  </a:moveTo>
                  <a:lnTo>
                    <a:pt x="21" y="0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5" y="7"/>
                  </a:lnTo>
                  <a:lnTo>
                    <a:pt x="9" y="7"/>
                  </a:lnTo>
                  <a:lnTo>
                    <a:pt x="5" y="9"/>
                  </a:lnTo>
                  <a:lnTo>
                    <a:pt x="0" y="9"/>
                  </a:lnTo>
                  <a:lnTo>
                    <a:pt x="9" y="4"/>
                  </a:lnTo>
                  <a:lnTo>
                    <a:pt x="9" y="2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137600" y="1598400"/>
              <a:ext cx="9000" cy="25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5" y="0"/>
                  </a:move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5" y="7"/>
                  </a:lnTo>
                  <a:lnTo>
                    <a:pt x="9" y="7"/>
                  </a:lnTo>
                  <a:lnTo>
                    <a:pt x="5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4"/>
                  </a:lnTo>
                  <a:lnTo>
                    <a:pt x="9" y="2"/>
                  </a:lnTo>
                  <a:lnTo>
                    <a:pt x="2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923400" y="17247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920520" y="1724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929880" y="1731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756800" y="2695680"/>
              <a:ext cx="40680" cy="2880"/>
            </a:xfrm>
            <a:custGeom>
              <a:avLst/>
              <a:gdLst/>
              <a:ahLst/>
              <a:rect l="l" t="t" r="r" b="b"/>
              <a:pathLst>
                <a:path w="114" h="10">
                  <a:moveTo>
                    <a:pt x="37" y="7"/>
                  </a:moveTo>
                  <a:lnTo>
                    <a:pt x="0" y="0"/>
                  </a:lnTo>
                  <a:lnTo>
                    <a:pt x="28" y="2"/>
                  </a:lnTo>
                  <a:lnTo>
                    <a:pt x="33" y="2"/>
                  </a:lnTo>
                  <a:lnTo>
                    <a:pt x="69" y="7"/>
                  </a:lnTo>
                  <a:lnTo>
                    <a:pt x="64" y="5"/>
                  </a:lnTo>
                  <a:lnTo>
                    <a:pt x="113" y="9"/>
                  </a:lnTo>
                  <a:lnTo>
                    <a:pt x="69" y="9"/>
                  </a:lnTo>
                  <a:lnTo>
                    <a:pt x="37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756800" y="2695680"/>
              <a:ext cx="40680" cy="2880"/>
            </a:xfrm>
            <a:custGeom>
              <a:avLst/>
              <a:gdLst/>
              <a:ahLst/>
              <a:rect l="l" t="t" r="r" b="b"/>
              <a:pathLst>
                <a:path w="114" h="10">
                  <a:moveTo>
                    <a:pt x="37" y="7"/>
                  </a:moveTo>
                  <a:lnTo>
                    <a:pt x="37" y="7"/>
                  </a:lnTo>
                  <a:lnTo>
                    <a:pt x="0" y="0"/>
                  </a:lnTo>
                  <a:lnTo>
                    <a:pt x="28" y="2"/>
                  </a:lnTo>
                  <a:lnTo>
                    <a:pt x="33" y="2"/>
                  </a:lnTo>
                  <a:lnTo>
                    <a:pt x="69" y="7"/>
                  </a:lnTo>
                  <a:lnTo>
                    <a:pt x="64" y="5"/>
                  </a:lnTo>
                  <a:lnTo>
                    <a:pt x="113" y="9"/>
                  </a:lnTo>
                  <a:lnTo>
                    <a:pt x="69" y="9"/>
                  </a:lnTo>
                  <a:lnTo>
                    <a:pt x="37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783800" y="2694240"/>
              <a:ext cx="29520" cy="4320"/>
            </a:xfrm>
            <a:custGeom>
              <a:avLst/>
              <a:gdLst/>
              <a:ahLst/>
              <a:rect l="l" t="t" r="r" b="b"/>
              <a:pathLst>
                <a:path w="82" h="15">
                  <a:moveTo>
                    <a:pt x="56" y="14"/>
                  </a:moveTo>
                  <a:lnTo>
                    <a:pt x="0" y="5"/>
                  </a:lnTo>
                  <a:lnTo>
                    <a:pt x="52" y="0"/>
                  </a:lnTo>
                  <a:lnTo>
                    <a:pt x="81" y="10"/>
                  </a:lnTo>
                  <a:lnTo>
                    <a:pt x="56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783800" y="2694240"/>
              <a:ext cx="29520" cy="4320"/>
            </a:xfrm>
            <a:custGeom>
              <a:avLst/>
              <a:gdLst/>
              <a:ahLst/>
              <a:rect l="l" t="t" r="r" b="b"/>
              <a:pathLst>
                <a:path w="82" h="15">
                  <a:moveTo>
                    <a:pt x="56" y="14"/>
                  </a:moveTo>
                  <a:lnTo>
                    <a:pt x="56" y="14"/>
                  </a:lnTo>
                  <a:lnTo>
                    <a:pt x="0" y="5"/>
                  </a:lnTo>
                  <a:lnTo>
                    <a:pt x="52" y="0"/>
                  </a:lnTo>
                  <a:lnTo>
                    <a:pt x="81" y="10"/>
                  </a:lnTo>
                  <a:lnTo>
                    <a:pt x="56" y="1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806920" y="2740320"/>
              <a:ext cx="23400" cy="2520"/>
            </a:xfrm>
            <a:custGeom>
              <a:avLst/>
              <a:gdLst/>
              <a:ahLst/>
              <a:rect l="l" t="t" r="r" b="b"/>
              <a:pathLst>
                <a:path w="66" h="8">
                  <a:moveTo>
                    <a:pt x="0" y="5"/>
                  </a:moveTo>
                  <a:lnTo>
                    <a:pt x="41" y="7"/>
                  </a:lnTo>
                  <a:lnTo>
                    <a:pt x="65" y="0"/>
                  </a:lnTo>
                  <a:lnTo>
                    <a:pt x="34" y="2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806920" y="2740320"/>
              <a:ext cx="23400" cy="2520"/>
            </a:xfrm>
            <a:custGeom>
              <a:avLst/>
              <a:gdLst/>
              <a:ahLst/>
              <a:rect l="l" t="t" r="r" b="b"/>
              <a:pathLst>
                <a:path w="66" h="8">
                  <a:moveTo>
                    <a:pt x="0" y="5"/>
                  </a:moveTo>
                  <a:lnTo>
                    <a:pt x="0" y="5"/>
                  </a:lnTo>
                  <a:lnTo>
                    <a:pt x="41" y="7"/>
                  </a:lnTo>
                  <a:lnTo>
                    <a:pt x="65" y="0"/>
                  </a:lnTo>
                  <a:lnTo>
                    <a:pt x="34" y="2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13680" y="2670480"/>
              <a:ext cx="36360" cy="5760"/>
            </a:xfrm>
            <a:custGeom>
              <a:avLst/>
              <a:gdLst/>
              <a:ahLst/>
              <a:rect l="l" t="t" r="r" b="b"/>
              <a:pathLst>
                <a:path w="101" h="17">
                  <a:moveTo>
                    <a:pt x="100" y="13"/>
                  </a:moveTo>
                  <a:lnTo>
                    <a:pt x="3" y="16"/>
                  </a:lnTo>
                  <a:lnTo>
                    <a:pt x="0" y="6"/>
                  </a:lnTo>
                  <a:lnTo>
                    <a:pt x="20" y="11"/>
                  </a:lnTo>
                  <a:lnTo>
                    <a:pt x="36" y="8"/>
                  </a:lnTo>
                  <a:lnTo>
                    <a:pt x="8" y="0"/>
                  </a:lnTo>
                  <a:lnTo>
                    <a:pt x="28" y="0"/>
                  </a:lnTo>
                  <a:lnTo>
                    <a:pt x="52" y="8"/>
                  </a:lnTo>
                  <a:lnTo>
                    <a:pt x="32" y="3"/>
                  </a:lnTo>
                  <a:lnTo>
                    <a:pt x="60" y="8"/>
                  </a:lnTo>
                  <a:lnTo>
                    <a:pt x="36" y="0"/>
                  </a:lnTo>
                  <a:lnTo>
                    <a:pt x="52" y="0"/>
                  </a:lnTo>
                  <a:lnTo>
                    <a:pt x="64" y="8"/>
                  </a:lnTo>
                  <a:lnTo>
                    <a:pt x="81" y="6"/>
                  </a:lnTo>
                  <a:lnTo>
                    <a:pt x="76" y="8"/>
                  </a:lnTo>
                  <a:lnTo>
                    <a:pt x="93" y="8"/>
                  </a:lnTo>
                  <a:lnTo>
                    <a:pt x="100" y="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813680" y="2670480"/>
              <a:ext cx="36360" cy="5760"/>
            </a:xfrm>
            <a:custGeom>
              <a:avLst/>
              <a:gdLst/>
              <a:ahLst/>
              <a:rect l="l" t="t" r="r" b="b"/>
              <a:pathLst>
                <a:path w="101" h="17">
                  <a:moveTo>
                    <a:pt x="100" y="13"/>
                  </a:moveTo>
                  <a:lnTo>
                    <a:pt x="100" y="13"/>
                  </a:lnTo>
                  <a:lnTo>
                    <a:pt x="3" y="16"/>
                  </a:lnTo>
                  <a:lnTo>
                    <a:pt x="0" y="6"/>
                  </a:lnTo>
                  <a:lnTo>
                    <a:pt x="20" y="11"/>
                  </a:lnTo>
                  <a:lnTo>
                    <a:pt x="36" y="8"/>
                  </a:lnTo>
                  <a:lnTo>
                    <a:pt x="8" y="0"/>
                  </a:lnTo>
                  <a:lnTo>
                    <a:pt x="28" y="0"/>
                  </a:lnTo>
                  <a:lnTo>
                    <a:pt x="52" y="8"/>
                  </a:lnTo>
                  <a:lnTo>
                    <a:pt x="32" y="3"/>
                  </a:lnTo>
                  <a:lnTo>
                    <a:pt x="60" y="8"/>
                  </a:lnTo>
                  <a:lnTo>
                    <a:pt x="36" y="0"/>
                  </a:lnTo>
                  <a:lnTo>
                    <a:pt x="52" y="0"/>
                  </a:lnTo>
                  <a:lnTo>
                    <a:pt x="64" y="8"/>
                  </a:lnTo>
                  <a:lnTo>
                    <a:pt x="81" y="6"/>
                  </a:lnTo>
                  <a:lnTo>
                    <a:pt x="76" y="8"/>
                  </a:lnTo>
                  <a:lnTo>
                    <a:pt x="93" y="8"/>
                  </a:lnTo>
                  <a:lnTo>
                    <a:pt x="100" y="1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29240" y="2667240"/>
              <a:ext cx="9360" cy="28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17" y="0"/>
                  </a:moveTo>
                  <a:lnTo>
                    <a:pt x="25" y="10"/>
                  </a:lnTo>
                  <a:lnTo>
                    <a:pt x="13" y="7"/>
                  </a:ln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929240" y="2667240"/>
              <a:ext cx="9360" cy="28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17" y="0"/>
                  </a:moveTo>
                  <a:lnTo>
                    <a:pt x="17" y="0"/>
                  </a:lnTo>
                  <a:lnTo>
                    <a:pt x="25" y="10"/>
                  </a:lnTo>
                  <a:lnTo>
                    <a:pt x="13" y="7"/>
                  </a:ln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946880" y="2667240"/>
              <a:ext cx="20160" cy="432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24" y="0"/>
                  </a:moveTo>
                  <a:lnTo>
                    <a:pt x="56" y="13"/>
                  </a:lnTo>
                  <a:lnTo>
                    <a:pt x="12" y="7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946880" y="2667240"/>
              <a:ext cx="20160" cy="432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24" y="0"/>
                  </a:moveTo>
                  <a:lnTo>
                    <a:pt x="24" y="0"/>
                  </a:lnTo>
                  <a:lnTo>
                    <a:pt x="56" y="13"/>
                  </a:lnTo>
                  <a:lnTo>
                    <a:pt x="12" y="7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892880" y="2638440"/>
              <a:ext cx="75600" cy="26640"/>
            </a:xfrm>
            <a:custGeom>
              <a:avLst/>
              <a:gdLst/>
              <a:ahLst/>
              <a:rect l="l" t="t" r="r" b="b"/>
              <a:pathLst>
                <a:path w="212" h="75">
                  <a:moveTo>
                    <a:pt x="178" y="74"/>
                  </a:moveTo>
                  <a:lnTo>
                    <a:pt x="158" y="67"/>
                  </a:lnTo>
                  <a:lnTo>
                    <a:pt x="178" y="64"/>
                  </a:lnTo>
                  <a:lnTo>
                    <a:pt x="130" y="54"/>
                  </a:lnTo>
                  <a:lnTo>
                    <a:pt x="134" y="59"/>
                  </a:lnTo>
                  <a:lnTo>
                    <a:pt x="118" y="59"/>
                  </a:lnTo>
                  <a:lnTo>
                    <a:pt x="134" y="67"/>
                  </a:lnTo>
                  <a:lnTo>
                    <a:pt x="69" y="57"/>
                  </a:lnTo>
                  <a:lnTo>
                    <a:pt x="89" y="57"/>
                  </a:lnTo>
                  <a:lnTo>
                    <a:pt x="69" y="50"/>
                  </a:lnTo>
                  <a:lnTo>
                    <a:pt x="98" y="52"/>
                  </a:lnTo>
                  <a:lnTo>
                    <a:pt x="77" y="47"/>
                  </a:lnTo>
                  <a:lnTo>
                    <a:pt x="106" y="50"/>
                  </a:lnTo>
                  <a:lnTo>
                    <a:pt x="85" y="47"/>
                  </a:lnTo>
                  <a:lnTo>
                    <a:pt x="85" y="42"/>
                  </a:lnTo>
                  <a:lnTo>
                    <a:pt x="114" y="39"/>
                  </a:lnTo>
                  <a:lnTo>
                    <a:pt x="73" y="32"/>
                  </a:lnTo>
                  <a:lnTo>
                    <a:pt x="85" y="25"/>
                  </a:lnTo>
                  <a:lnTo>
                    <a:pt x="37" y="20"/>
                  </a:lnTo>
                  <a:lnTo>
                    <a:pt x="0" y="8"/>
                  </a:lnTo>
                  <a:lnTo>
                    <a:pt x="9" y="0"/>
                  </a:lnTo>
                  <a:lnTo>
                    <a:pt x="29" y="5"/>
                  </a:lnTo>
                  <a:lnTo>
                    <a:pt x="182" y="52"/>
                  </a:lnTo>
                  <a:lnTo>
                    <a:pt x="211" y="69"/>
                  </a:lnTo>
                  <a:lnTo>
                    <a:pt x="178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892880" y="2638440"/>
              <a:ext cx="75600" cy="26640"/>
            </a:xfrm>
            <a:custGeom>
              <a:avLst/>
              <a:gdLst/>
              <a:ahLst/>
              <a:rect l="l" t="t" r="r" b="b"/>
              <a:pathLst>
                <a:path w="212" h="75">
                  <a:moveTo>
                    <a:pt x="178" y="74"/>
                  </a:moveTo>
                  <a:lnTo>
                    <a:pt x="178" y="74"/>
                  </a:lnTo>
                  <a:lnTo>
                    <a:pt x="158" y="67"/>
                  </a:lnTo>
                  <a:lnTo>
                    <a:pt x="178" y="64"/>
                  </a:lnTo>
                  <a:lnTo>
                    <a:pt x="130" y="54"/>
                  </a:lnTo>
                  <a:lnTo>
                    <a:pt x="134" y="59"/>
                  </a:lnTo>
                  <a:lnTo>
                    <a:pt x="118" y="59"/>
                  </a:lnTo>
                  <a:lnTo>
                    <a:pt x="134" y="67"/>
                  </a:lnTo>
                  <a:lnTo>
                    <a:pt x="69" y="57"/>
                  </a:lnTo>
                  <a:lnTo>
                    <a:pt x="89" y="57"/>
                  </a:lnTo>
                  <a:lnTo>
                    <a:pt x="69" y="50"/>
                  </a:lnTo>
                  <a:lnTo>
                    <a:pt x="98" y="52"/>
                  </a:lnTo>
                  <a:lnTo>
                    <a:pt x="77" y="47"/>
                  </a:lnTo>
                  <a:lnTo>
                    <a:pt x="106" y="50"/>
                  </a:lnTo>
                  <a:lnTo>
                    <a:pt x="85" y="47"/>
                  </a:lnTo>
                  <a:lnTo>
                    <a:pt x="85" y="42"/>
                  </a:lnTo>
                  <a:lnTo>
                    <a:pt x="114" y="39"/>
                  </a:lnTo>
                  <a:lnTo>
                    <a:pt x="73" y="32"/>
                  </a:lnTo>
                  <a:lnTo>
                    <a:pt x="85" y="25"/>
                  </a:lnTo>
                  <a:lnTo>
                    <a:pt x="37" y="20"/>
                  </a:lnTo>
                  <a:lnTo>
                    <a:pt x="0" y="8"/>
                  </a:lnTo>
                  <a:lnTo>
                    <a:pt x="9" y="0"/>
                  </a:lnTo>
                  <a:lnTo>
                    <a:pt x="29" y="5"/>
                  </a:lnTo>
                  <a:lnTo>
                    <a:pt x="182" y="52"/>
                  </a:lnTo>
                  <a:lnTo>
                    <a:pt x="211" y="69"/>
                  </a:lnTo>
                  <a:lnTo>
                    <a:pt x="178" y="7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883160" y="2644920"/>
              <a:ext cx="12600" cy="288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36" y="7"/>
                  </a:moveTo>
                  <a:lnTo>
                    <a:pt x="11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36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883160" y="2644920"/>
              <a:ext cx="12600" cy="288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36" y="7"/>
                  </a:moveTo>
                  <a:lnTo>
                    <a:pt x="36" y="7"/>
                  </a:lnTo>
                  <a:lnTo>
                    <a:pt x="11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36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878480" y="2621160"/>
              <a:ext cx="12240" cy="900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17" y="20"/>
                  </a:moveTo>
                  <a:lnTo>
                    <a:pt x="0" y="0"/>
                  </a:lnTo>
                  <a:lnTo>
                    <a:pt x="36" y="20"/>
                  </a:lnTo>
                  <a:lnTo>
                    <a:pt x="32" y="24"/>
                  </a:lnTo>
                  <a:lnTo>
                    <a:pt x="17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878480" y="2621160"/>
              <a:ext cx="12240" cy="900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17" y="20"/>
                  </a:moveTo>
                  <a:lnTo>
                    <a:pt x="17" y="20"/>
                  </a:lnTo>
                  <a:lnTo>
                    <a:pt x="0" y="0"/>
                  </a:lnTo>
                  <a:lnTo>
                    <a:pt x="36" y="20"/>
                  </a:lnTo>
                  <a:lnTo>
                    <a:pt x="32" y="24"/>
                  </a:lnTo>
                  <a:lnTo>
                    <a:pt x="17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870920" y="2602440"/>
              <a:ext cx="9360" cy="43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10"/>
                  </a:moveTo>
                  <a:lnTo>
                    <a:pt x="8" y="0"/>
                  </a:lnTo>
                  <a:lnTo>
                    <a:pt x="16" y="7"/>
                  </a:lnTo>
                  <a:lnTo>
                    <a:pt x="25" y="5"/>
                  </a:lnTo>
                  <a:lnTo>
                    <a:pt x="20" y="12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870920" y="2602440"/>
              <a:ext cx="9360" cy="43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10"/>
                  </a:moveTo>
                  <a:lnTo>
                    <a:pt x="0" y="10"/>
                  </a:lnTo>
                  <a:lnTo>
                    <a:pt x="8" y="0"/>
                  </a:lnTo>
                  <a:lnTo>
                    <a:pt x="16" y="7"/>
                  </a:lnTo>
                  <a:lnTo>
                    <a:pt x="25" y="5"/>
                  </a:lnTo>
                  <a:lnTo>
                    <a:pt x="20" y="12"/>
                  </a:lnTo>
                  <a:lnTo>
                    <a:pt x="0" y="1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863000" y="2589840"/>
              <a:ext cx="9000" cy="252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0" y="4"/>
                  </a:moveTo>
                  <a:lnTo>
                    <a:pt x="16" y="0"/>
                  </a:lnTo>
                  <a:lnTo>
                    <a:pt x="24" y="7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863000" y="2589840"/>
              <a:ext cx="9000" cy="252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0" y="4"/>
                  </a:moveTo>
                  <a:lnTo>
                    <a:pt x="0" y="4"/>
                  </a:lnTo>
                  <a:lnTo>
                    <a:pt x="16" y="0"/>
                  </a:lnTo>
                  <a:lnTo>
                    <a:pt x="24" y="7"/>
                  </a:lnTo>
                  <a:lnTo>
                    <a:pt x="0" y="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873800" y="25866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886400" y="2576880"/>
              <a:ext cx="6120" cy="144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8" y="5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8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886400" y="2576880"/>
              <a:ext cx="6120" cy="144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8" y="5"/>
                  </a:moveTo>
                  <a:lnTo>
                    <a:pt x="8" y="5"/>
                  </a:lnTo>
                  <a:lnTo>
                    <a:pt x="0" y="0"/>
                  </a:lnTo>
                  <a:lnTo>
                    <a:pt x="17" y="0"/>
                  </a:lnTo>
                  <a:lnTo>
                    <a:pt x="8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906920" y="2592720"/>
              <a:ext cx="9360" cy="288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4" y="6"/>
                  </a:moveTo>
                  <a:lnTo>
                    <a:pt x="0" y="0"/>
                  </a:lnTo>
                  <a:lnTo>
                    <a:pt x="24" y="3"/>
                  </a:lnTo>
                  <a:lnTo>
                    <a:pt x="4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906920" y="2592720"/>
              <a:ext cx="9360" cy="288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4" y="6"/>
                  </a:moveTo>
                  <a:lnTo>
                    <a:pt x="4" y="6"/>
                  </a:lnTo>
                  <a:lnTo>
                    <a:pt x="0" y="0"/>
                  </a:lnTo>
                  <a:lnTo>
                    <a:pt x="24" y="3"/>
                  </a:lnTo>
                  <a:lnTo>
                    <a:pt x="4" y="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902240" y="2597760"/>
              <a:ext cx="10800" cy="432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20" y="12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8" y="5"/>
                  </a:lnTo>
                  <a:lnTo>
                    <a:pt x="28" y="7"/>
                  </a:lnTo>
                  <a:lnTo>
                    <a:pt x="20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902240" y="2597760"/>
              <a:ext cx="10800" cy="432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20" y="12"/>
                  </a:moveTo>
                  <a:lnTo>
                    <a:pt x="20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8" y="5"/>
                  </a:lnTo>
                  <a:lnTo>
                    <a:pt x="28" y="7"/>
                  </a:lnTo>
                  <a:lnTo>
                    <a:pt x="20" y="1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377080" y="1428480"/>
              <a:ext cx="16920" cy="1080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6" y="0"/>
                  </a:moveTo>
                  <a:lnTo>
                    <a:pt x="47" y="29"/>
                  </a:lnTo>
                  <a:lnTo>
                    <a:pt x="32" y="21"/>
                  </a:lnTo>
                  <a:lnTo>
                    <a:pt x="44" y="21"/>
                  </a:lnTo>
                  <a:lnTo>
                    <a:pt x="19" y="16"/>
                  </a:lnTo>
                  <a:lnTo>
                    <a:pt x="7" y="11"/>
                  </a:lnTo>
                  <a:lnTo>
                    <a:pt x="35" y="11"/>
                  </a:lnTo>
                  <a:lnTo>
                    <a:pt x="15" y="9"/>
                  </a:lnTo>
                  <a:lnTo>
                    <a:pt x="35" y="2"/>
                  </a:lnTo>
                  <a:lnTo>
                    <a:pt x="7" y="7"/>
                  </a:lnTo>
                  <a:lnTo>
                    <a:pt x="0" y="1"/>
                  </a:lnTo>
                  <a:lnTo>
                    <a:pt x="4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377080" y="1428480"/>
              <a:ext cx="16920" cy="1080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6" y="0"/>
                  </a:moveTo>
                  <a:lnTo>
                    <a:pt x="47" y="29"/>
                  </a:lnTo>
                  <a:lnTo>
                    <a:pt x="32" y="21"/>
                  </a:lnTo>
                  <a:lnTo>
                    <a:pt x="44" y="21"/>
                  </a:lnTo>
                  <a:lnTo>
                    <a:pt x="19" y="16"/>
                  </a:lnTo>
                  <a:lnTo>
                    <a:pt x="7" y="11"/>
                  </a:lnTo>
                  <a:lnTo>
                    <a:pt x="35" y="11"/>
                  </a:lnTo>
                  <a:lnTo>
                    <a:pt x="15" y="9"/>
                  </a:lnTo>
                  <a:lnTo>
                    <a:pt x="35" y="2"/>
                  </a:lnTo>
                  <a:lnTo>
                    <a:pt x="7" y="7"/>
                  </a:lnTo>
                  <a:lnTo>
                    <a:pt x="0" y="1"/>
                  </a:lnTo>
                  <a:lnTo>
                    <a:pt x="4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404080" y="1426680"/>
              <a:ext cx="16920" cy="6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0" y="0"/>
                  </a:moveTo>
                  <a:lnTo>
                    <a:pt x="8" y="12"/>
                  </a:lnTo>
                  <a:lnTo>
                    <a:pt x="29" y="10"/>
                  </a:lnTo>
                  <a:lnTo>
                    <a:pt x="33" y="15"/>
                  </a:lnTo>
                  <a:lnTo>
                    <a:pt x="49" y="5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04080" y="1426680"/>
              <a:ext cx="16920" cy="6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0" y="0"/>
                  </a:moveTo>
                  <a:lnTo>
                    <a:pt x="8" y="12"/>
                  </a:lnTo>
                  <a:lnTo>
                    <a:pt x="29" y="10"/>
                  </a:lnTo>
                  <a:lnTo>
                    <a:pt x="33" y="15"/>
                  </a:lnTo>
                  <a:lnTo>
                    <a:pt x="49" y="5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777320" y="2592720"/>
              <a:ext cx="267840" cy="144360"/>
            </a:xfrm>
            <a:custGeom>
              <a:avLst/>
              <a:gdLst/>
              <a:ahLst/>
              <a:rect l="l" t="t" r="r" b="b"/>
              <a:pathLst>
                <a:path w="747" h="402">
                  <a:moveTo>
                    <a:pt x="229" y="401"/>
                  </a:moveTo>
                  <a:lnTo>
                    <a:pt x="225" y="401"/>
                  </a:lnTo>
                  <a:lnTo>
                    <a:pt x="137" y="391"/>
                  </a:lnTo>
                  <a:lnTo>
                    <a:pt x="169" y="391"/>
                  </a:lnTo>
                  <a:lnTo>
                    <a:pt x="141" y="388"/>
                  </a:lnTo>
                  <a:lnTo>
                    <a:pt x="169" y="386"/>
                  </a:lnTo>
                  <a:lnTo>
                    <a:pt x="189" y="386"/>
                  </a:lnTo>
                  <a:lnTo>
                    <a:pt x="181" y="383"/>
                  </a:lnTo>
                  <a:lnTo>
                    <a:pt x="237" y="383"/>
                  </a:lnTo>
                  <a:lnTo>
                    <a:pt x="193" y="374"/>
                  </a:lnTo>
                  <a:lnTo>
                    <a:pt x="218" y="376"/>
                  </a:lnTo>
                  <a:lnTo>
                    <a:pt x="157" y="366"/>
                  </a:lnTo>
                  <a:lnTo>
                    <a:pt x="117" y="366"/>
                  </a:lnTo>
                  <a:lnTo>
                    <a:pt x="105" y="369"/>
                  </a:lnTo>
                  <a:lnTo>
                    <a:pt x="76" y="364"/>
                  </a:lnTo>
                  <a:lnTo>
                    <a:pt x="125" y="364"/>
                  </a:lnTo>
                  <a:lnTo>
                    <a:pt x="68" y="356"/>
                  </a:lnTo>
                  <a:lnTo>
                    <a:pt x="49" y="347"/>
                  </a:lnTo>
                  <a:lnTo>
                    <a:pt x="65" y="344"/>
                  </a:lnTo>
                  <a:lnTo>
                    <a:pt x="32" y="337"/>
                  </a:lnTo>
                  <a:lnTo>
                    <a:pt x="65" y="337"/>
                  </a:lnTo>
                  <a:lnTo>
                    <a:pt x="7" y="325"/>
                  </a:lnTo>
                  <a:lnTo>
                    <a:pt x="0" y="319"/>
                  </a:lnTo>
                  <a:lnTo>
                    <a:pt x="12" y="317"/>
                  </a:lnTo>
                  <a:lnTo>
                    <a:pt x="44" y="322"/>
                  </a:lnTo>
                  <a:lnTo>
                    <a:pt x="76" y="307"/>
                  </a:lnTo>
                  <a:lnTo>
                    <a:pt x="129" y="292"/>
                  </a:lnTo>
                  <a:lnTo>
                    <a:pt x="113" y="285"/>
                  </a:lnTo>
                  <a:lnTo>
                    <a:pt x="144" y="290"/>
                  </a:lnTo>
                  <a:lnTo>
                    <a:pt x="161" y="285"/>
                  </a:lnTo>
                  <a:lnTo>
                    <a:pt x="125" y="280"/>
                  </a:lnTo>
                  <a:lnTo>
                    <a:pt x="117" y="273"/>
                  </a:lnTo>
                  <a:lnTo>
                    <a:pt x="210" y="288"/>
                  </a:lnTo>
                  <a:lnTo>
                    <a:pt x="214" y="285"/>
                  </a:lnTo>
                  <a:lnTo>
                    <a:pt x="165" y="275"/>
                  </a:lnTo>
                  <a:lnTo>
                    <a:pt x="250" y="283"/>
                  </a:lnTo>
                  <a:lnTo>
                    <a:pt x="225" y="278"/>
                  </a:lnTo>
                  <a:lnTo>
                    <a:pt x="237" y="275"/>
                  </a:lnTo>
                  <a:lnTo>
                    <a:pt x="287" y="283"/>
                  </a:lnTo>
                  <a:lnTo>
                    <a:pt x="262" y="278"/>
                  </a:lnTo>
                  <a:lnTo>
                    <a:pt x="355" y="280"/>
                  </a:lnTo>
                  <a:lnTo>
                    <a:pt x="314" y="273"/>
                  </a:lnTo>
                  <a:lnTo>
                    <a:pt x="294" y="268"/>
                  </a:lnTo>
                  <a:lnTo>
                    <a:pt x="323" y="270"/>
                  </a:lnTo>
                  <a:lnTo>
                    <a:pt x="299" y="265"/>
                  </a:lnTo>
                  <a:lnTo>
                    <a:pt x="282" y="265"/>
                  </a:lnTo>
                  <a:lnTo>
                    <a:pt x="242" y="258"/>
                  </a:lnTo>
                  <a:lnTo>
                    <a:pt x="229" y="258"/>
                  </a:lnTo>
                  <a:lnTo>
                    <a:pt x="205" y="256"/>
                  </a:lnTo>
                  <a:lnTo>
                    <a:pt x="242" y="256"/>
                  </a:lnTo>
                  <a:lnTo>
                    <a:pt x="246" y="248"/>
                  </a:lnTo>
                  <a:lnTo>
                    <a:pt x="186" y="248"/>
                  </a:lnTo>
                  <a:lnTo>
                    <a:pt x="141" y="241"/>
                  </a:lnTo>
                  <a:lnTo>
                    <a:pt x="177" y="243"/>
                  </a:lnTo>
                  <a:lnTo>
                    <a:pt x="222" y="236"/>
                  </a:lnTo>
                  <a:lnTo>
                    <a:pt x="262" y="241"/>
                  </a:lnTo>
                  <a:lnTo>
                    <a:pt x="266" y="234"/>
                  </a:lnTo>
                  <a:lnTo>
                    <a:pt x="250" y="231"/>
                  </a:lnTo>
                  <a:lnTo>
                    <a:pt x="278" y="234"/>
                  </a:lnTo>
                  <a:lnTo>
                    <a:pt x="318" y="234"/>
                  </a:lnTo>
                  <a:lnTo>
                    <a:pt x="318" y="226"/>
                  </a:lnTo>
                  <a:lnTo>
                    <a:pt x="287" y="219"/>
                  </a:lnTo>
                  <a:lnTo>
                    <a:pt x="306" y="219"/>
                  </a:lnTo>
                  <a:lnTo>
                    <a:pt x="326" y="226"/>
                  </a:lnTo>
                  <a:lnTo>
                    <a:pt x="363" y="229"/>
                  </a:lnTo>
                  <a:lnTo>
                    <a:pt x="355" y="221"/>
                  </a:lnTo>
                  <a:lnTo>
                    <a:pt x="383" y="226"/>
                  </a:lnTo>
                  <a:lnTo>
                    <a:pt x="456" y="234"/>
                  </a:lnTo>
                  <a:lnTo>
                    <a:pt x="460" y="229"/>
                  </a:lnTo>
                  <a:lnTo>
                    <a:pt x="432" y="221"/>
                  </a:lnTo>
                  <a:lnTo>
                    <a:pt x="444" y="221"/>
                  </a:lnTo>
                  <a:lnTo>
                    <a:pt x="424" y="213"/>
                  </a:lnTo>
                  <a:lnTo>
                    <a:pt x="480" y="224"/>
                  </a:lnTo>
                  <a:lnTo>
                    <a:pt x="492" y="219"/>
                  </a:lnTo>
                  <a:lnTo>
                    <a:pt x="508" y="226"/>
                  </a:lnTo>
                  <a:lnTo>
                    <a:pt x="537" y="221"/>
                  </a:lnTo>
                  <a:lnTo>
                    <a:pt x="573" y="197"/>
                  </a:lnTo>
                  <a:lnTo>
                    <a:pt x="561" y="189"/>
                  </a:lnTo>
                  <a:lnTo>
                    <a:pt x="500" y="169"/>
                  </a:lnTo>
                  <a:lnTo>
                    <a:pt x="391" y="135"/>
                  </a:lnTo>
                  <a:lnTo>
                    <a:pt x="411" y="133"/>
                  </a:lnTo>
                  <a:lnTo>
                    <a:pt x="403" y="125"/>
                  </a:lnTo>
                  <a:lnTo>
                    <a:pt x="383" y="123"/>
                  </a:lnTo>
                  <a:lnTo>
                    <a:pt x="391" y="120"/>
                  </a:lnTo>
                  <a:lnTo>
                    <a:pt x="367" y="110"/>
                  </a:lnTo>
                  <a:lnTo>
                    <a:pt x="371" y="110"/>
                  </a:lnTo>
                  <a:lnTo>
                    <a:pt x="351" y="105"/>
                  </a:lnTo>
                  <a:lnTo>
                    <a:pt x="343" y="96"/>
                  </a:lnTo>
                  <a:lnTo>
                    <a:pt x="326" y="99"/>
                  </a:lnTo>
                  <a:lnTo>
                    <a:pt x="306" y="88"/>
                  </a:lnTo>
                  <a:lnTo>
                    <a:pt x="335" y="91"/>
                  </a:lnTo>
                  <a:lnTo>
                    <a:pt x="323" y="86"/>
                  </a:lnTo>
                  <a:lnTo>
                    <a:pt x="314" y="76"/>
                  </a:lnTo>
                  <a:lnTo>
                    <a:pt x="299" y="69"/>
                  </a:lnTo>
                  <a:lnTo>
                    <a:pt x="310" y="64"/>
                  </a:lnTo>
                  <a:lnTo>
                    <a:pt x="299" y="59"/>
                  </a:lnTo>
                  <a:lnTo>
                    <a:pt x="306" y="53"/>
                  </a:lnTo>
                  <a:lnTo>
                    <a:pt x="282" y="44"/>
                  </a:lnTo>
                  <a:lnTo>
                    <a:pt x="299" y="42"/>
                  </a:lnTo>
                  <a:lnTo>
                    <a:pt x="306" y="39"/>
                  </a:lnTo>
                  <a:lnTo>
                    <a:pt x="294" y="32"/>
                  </a:lnTo>
                  <a:lnTo>
                    <a:pt x="310" y="27"/>
                  </a:lnTo>
                  <a:lnTo>
                    <a:pt x="299" y="19"/>
                  </a:lnTo>
                  <a:lnTo>
                    <a:pt x="323" y="15"/>
                  </a:lnTo>
                  <a:lnTo>
                    <a:pt x="318" y="7"/>
                  </a:lnTo>
                  <a:lnTo>
                    <a:pt x="339" y="0"/>
                  </a:lnTo>
                  <a:lnTo>
                    <a:pt x="363" y="7"/>
                  </a:lnTo>
                  <a:lnTo>
                    <a:pt x="347" y="5"/>
                  </a:lnTo>
                  <a:lnTo>
                    <a:pt x="343" y="9"/>
                  </a:lnTo>
                  <a:lnTo>
                    <a:pt x="359" y="29"/>
                  </a:lnTo>
                  <a:lnTo>
                    <a:pt x="339" y="24"/>
                  </a:lnTo>
                  <a:lnTo>
                    <a:pt x="347" y="29"/>
                  </a:lnTo>
                  <a:lnTo>
                    <a:pt x="335" y="29"/>
                  </a:lnTo>
                  <a:lnTo>
                    <a:pt x="326" y="44"/>
                  </a:lnTo>
                  <a:lnTo>
                    <a:pt x="343" y="52"/>
                  </a:lnTo>
                  <a:lnTo>
                    <a:pt x="347" y="59"/>
                  </a:lnTo>
                  <a:lnTo>
                    <a:pt x="367" y="64"/>
                  </a:lnTo>
                  <a:lnTo>
                    <a:pt x="379" y="59"/>
                  </a:lnTo>
                  <a:lnTo>
                    <a:pt x="383" y="64"/>
                  </a:lnTo>
                  <a:lnTo>
                    <a:pt x="371" y="66"/>
                  </a:lnTo>
                  <a:lnTo>
                    <a:pt x="379" y="69"/>
                  </a:lnTo>
                  <a:lnTo>
                    <a:pt x="351" y="66"/>
                  </a:lnTo>
                  <a:lnTo>
                    <a:pt x="375" y="76"/>
                  </a:lnTo>
                  <a:lnTo>
                    <a:pt x="335" y="66"/>
                  </a:lnTo>
                  <a:lnTo>
                    <a:pt x="347" y="79"/>
                  </a:lnTo>
                  <a:lnTo>
                    <a:pt x="363" y="81"/>
                  </a:lnTo>
                  <a:lnTo>
                    <a:pt x="347" y="84"/>
                  </a:lnTo>
                  <a:lnTo>
                    <a:pt x="363" y="91"/>
                  </a:lnTo>
                  <a:lnTo>
                    <a:pt x="355" y="93"/>
                  </a:lnTo>
                  <a:lnTo>
                    <a:pt x="383" y="105"/>
                  </a:lnTo>
                  <a:lnTo>
                    <a:pt x="395" y="105"/>
                  </a:lnTo>
                  <a:lnTo>
                    <a:pt x="395" y="110"/>
                  </a:lnTo>
                  <a:lnTo>
                    <a:pt x="411" y="115"/>
                  </a:lnTo>
                  <a:lnTo>
                    <a:pt x="427" y="110"/>
                  </a:lnTo>
                  <a:lnTo>
                    <a:pt x="440" y="110"/>
                  </a:lnTo>
                  <a:lnTo>
                    <a:pt x="436" y="115"/>
                  </a:lnTo>
                  <a:lnTo>
                    <a:pt x="452" y="118"/>
                  </a:lnTo>
                  <a:lnTo>
                    <a:pt x="452" y="120"/>
                  </a:lnTo>
                  <a:lnTo>
                    <a:pt x="496" y="130"/>
                  </a:lnTo>
                  <a:lnTo>
                    <a:pt x="537" y="148"/>
                  </a:lnTo>
                  <a:lnTo>
                    <a:pt x="552" y="150"/>
                  </a:lnTo>
                  <a:lnTo>
                    <a:pt x="561" y="157"/>
                  </a:lnTo>
                  <a:lnTo>
                    <a:pt x="569" y="155"/>
                  </a:lnTo>
                  <a:lnTo>
                    <a:pt x="589" y="167"/>
                  </a:lnTo>
                  <a:lnTo>
                    <a:pt x="613" y="172"/>
                  </a:lnTo>
                  <a:lnTo>
                    <a:pt x="609" y="177"/>
                  </a:lnTo>
                  <a:lnTo>
                    <a:pt x="625" y="177"/>
                  </a:lnTo>
                  <a:lnTo>
                    <a:pt x="645" y="184"/>
                  </a:lnTo>
                  <a:lnTo>
                    <a:pt x="642" y="189"/>
                  </a:lnTo>
                  <a:lnTo>
                    <a:pt x="658" y="189"/>
                  </a:lnTo>
                  <a:lnTo>
                    <a:pt x="670" y="194"/>
                  </a:lnTo>
                  <a:lnTo>
                    <a:pt x="678" y="192"/>
                  </a:lnTo>
                  <a:lnTo>
                    <a:pt x="686" y="201"/>
                  </a:lnTo>
                  <a:lnTo>
                    <a:pt x="658" y="199"/>
                  </a:lnTo>
                  <a:lnTo>
                    <a:pt x="682" y="204"/>
                  </a:lnTo>
                  <a:lnTo>
                    <a:pt x="694" y="204"/>
                  </a:lnTo>
                  <a:lnTo>
                    <a:pt x="706" y="211"/>
                  </a:lnTo>
                  <a:lnTo>
                    <a:pt x="694" y="211"/>
                  </a:lnTo>
                  <a:lnTo>
                    <a:pt x="714" y="213"/>
                  </a:lnTo>
                  <a:lnTo>
                    <a:pt x="714" y="219"/>
                  </a:lnTo>
                  <a:lnTo>
                    <a:pt x="730" y="219"/>
                  </a:lnTo>
                  <a:lnTo>
                    <a:pt x="714" y="224"/>
                  </a:lnTo>
                  <a:lnTo>
                    <a:pt x="738" y="234"/>
                  </a:lnTo>
                  <a:lnTo>
                    <a:pt x="710" y="226"/>
                  </a:lnTo>
                  <a:lnTo>
                    <a:pt x="726" y="231"/>
                  </a:lnTo>
                  <a:lnTo>
                    <a:pt x="718" y="234"/>
                  </a:lnTo>
                  <a:lnTo>
                    <a:pt x="734" y="236"/>
                  </a:lnTo>
                  <a:lnTo>
                    <a:pt x="730" y="241"/>
                  </a:lnTo>
                  <a:lnTo>
                    <a:pt x="746" y="241"/>
                  </a:lnTo>
                  <a:lnTo>
                    <a:pt x="746" y="250"/>
                  </a:lnTo>
                  <a:lnTo>
                    <a:pt x="722" y="260"/>
                  </a:lnTo>
                  <a:lnTo>
                    <a:pt x="698" y="258"/>
                  </a:lnTo>
                  <a:lnTo>
                    <a:pt x="609" y="260"/>
                  </a:lnTo>
                  <a:lnTo>
                    <a:pt x="606" y="285"/>
                  </a:lnTo>
                  <a:lnTo>
                    <a:pt x="633" y="294"/>
                  </a:lnTo>
                  <a:lnTo>
                    <a:pt x="718" y="301"/>
                  </a:lnTo>
                  <a:lnTo>
                    <a:pt x="633" y="310"/>
                  </a:lnTo>
                  <a:lnTo>
                    <a:pt x="544" y="322"/>
                  </a:lnTo>
                  <a:lnTo>
                    <a:pt x="463" y="334"/>
                  </a:lnTo>
                  <a:lnTo>
                    <a:pt x="391" y="348"/>
                  </a:lnTo>
                  <a:lnTo>
                    <a:pt x="326" y="366"/>
                  </a:lnTo>
                  <a:lnTo>
                    <a:pt x="274" y="381"/>
                  </a:lnTo>
                  <a:lnTo>
                    <a:pt x="229" y="40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777320" y="2592720"/>
              <a:ext cx="267840" cy="144360"/>
            </a:xfrm>
            <a:custGeom>
              <a:avLst/>
              <a:gdLst/>
              <a:ahLst/>
              <a:rect l="l" t="t" r="r" b="b"/>
              <a:pathLst>
                <a:path w="747" h="402">
                  <a:moveTo>
                    <a:pt x="229" y="401"/>
                  </a:moveTo>
                  <a:lnTo>
                    <a:pt x="225" y="401"/>
                  </a:lnTo>
                  <a:lnTo>
                    <a:pt x="137" y="391"/>
                  </a:lnTo>
                  <a:lnTo>
                    <a:pt x="169" y="391"/>
                  </a:lnTo>
                  <a:lnTo>
                    <a:pt x="141" y="388"/>
                  </a:lnTo>
                  <a:lnTo>
                    <a:pt x="169" y="386"/>
                  </a:lnTo>
                  <a:lnTo>
                    <a:pt x="189" y="386"/>
                  </a:lnTo>
                  <a:lnTo>
                    <a:pt x="181" y="383"/>
                  </a:lnTo>
                  <a:lnTo>
                    <a:pt x="237" y="383"/>
                  </a:lnTo>
                  <a:lnTo>
                    <a:pt x="193" y="374"/>
                  </a:lnTo>
                  <a:lnTo>
                    <a:pt x="218" y="376"/>
                  </a:lnTo>
                  <a:lnTo>
                    <a:pt x="157" y="366"/>
                  </a:lnTo>
                  <a:lnTo>
                    <a:pt x="117" y="366"/>
                  </a:lnTo>
                  <a:lnTo>
                    <a:pt x="105" y="369"/>
                  </a:lnTo>
                  <a:lnTo>
                    <a:pt x="76" y="364"/>
                  </a:lnTo>
                  <a:lnTo>
                    <a:pt x="125" y="364"/>
                  </a:lnTo>
                  <a:lnTo>
                    <a:pt x="68" y="356"/>
                  </a:lnTo>
                  <a:lnTo>
                    <a:pt x="49" y="347"/>
                  </a:lnTo>
                  <a:lnTo>
                    <a:pt x="65" y="344"/>
                  </a:lnTo>
                  <a:lnTo>
                    <a:pt x="32" y="337"/>
                  </a:lnTo>
                  <a:lnTo>
                    <a:pt x="65" y="337"/>
                  </a:lnTo>
                  <a:lnTo>
                    <a:pt x="7" y="325"/>
                  </a:lnTo>
                  <a:lnTo>
                    <a:pt x="0" y="319"/>
                  </a:lnTo>
                  <a:lnTo>
                    <a:pt x="12" y="317"/>
                  </a:lnTo>
                  <a:lnTo>
                    <a:pt x="44" y="322"/>
                  </a:lnTo>
                  <a:lnTo>
                    <a:pt x="76" y="307"/>
                  </a:lnTo>
                  <a:lnTo>
                    <a:pt x="129" y="292"/>
                  </a:lnTo>
                  <a:lnTo>
                    <a:pt x="113" y="285"/>
                  </a:lnTo>
                  <a:lnTo>
                    <a:pt x="144" y="290"/>
                  </a:lnTo>
                  <a:lnTo>
                    <a:pt x="161" y="285"/>
                  </a:lnTo>
                  <a:lnTo>
                    <a:pt x="125" y="280"/>
                  </a:lnTo>
                  <a:lnTo>
                    <a:pt x="117" y="273"/>
                  </a:lnTo>
                  <a:lnTo>
                    <a:pt x="210" y="288"/>
                  </a:lnTo>
                  <a:lnTo>
                    <a:pt x="214" y="285"/>
                  </a:lnTo>
                  <a:lnTo>
                    <a:pt x="165" y="275"/>
                  </a:lnTo>
                  <a:lnTo>
                    <a:pt x="250" y="283"/>
                  </a:lnTo>
                  <a:lnTo>
                    <a:pt x="225" y="278"/>
                  </a:lnTo>
                  <a:lnTo>
                    <a:pt x="237" y="275"/>
                  </a:lnTo>
                  <a:lnTo>
                    <a:pt x="287" y="283"/>
                  </a:lnTo>
                  <a:lnTo>
                    <a:pt x="262" y="278"/>
                  </a:lnTo>
                  <a:lnTo>
                    <a:pt x="355" y="280"/>
                  </a:lnTo>
                  <a:lnTo>
                    <a:pt x="314" y="273"/>
                  </a:lnTo>
                  <a:lnTo>
                    <a:pt x="294" y="268"/>
                  </a:lnTo>
                  <a:lnTo>
                    <a:pt x="323" y="270"/>
                  </a:lnTo>
                  <a:lnTo>
                    <a:pt x="299" y="265"/>
                  </a:lnTo>
                  <a:lnTo>
                    <a:pt x="282" y="265"/>
                  </a:lnTo>
                  <a:lnTo>
                    <a:pt x="242" y="258"/>
                  </a:lnTo>
                  <a:lnTo>
                    <a:pt x="229" y="258"/>
                  </a:lnTo>
                  <a:lnTo>
                    <a:pt x="205" y="256"/>
                  </a:lnTo>
                  <a:lnTo>
                    <a:pt x="242" y="256"/>
                  </a:lnTo>
                  <a:lnTo>
                    <a:pt x="246" y="248"/>
                  </a:lnTo>
                  <a:lnTo>
                    <a:pt x="186" y="248"/>
                  </a:lnTo>
                  <a:lnTo>
                    <a:pt x="141" y="241"/>
                  </a:lnTo>
                  <a:lnTo>
                    <a:pt x="177" y="243"/>
                  </a:lnTo>
                  <a:lnTo>
                    <a:pt x="222" y="236"/>
                  </a:lnTo>
                  <a:lnTo>
                    <a:pt x="262" y="241"/>
                  </a:lnTo>
                  <a:lnTo>
                    <a:pt x="266" y="234"/>
                  </a:lnTo>
                  <a:lnTo>
                    <a:pt x="250" y="231"/>
                  </a:lnTo>
                  <a:lnTo>
                    <a:pt x="278" y="234"/>
                  </a:lnTo>
                  <a:lnTo>
                    <a:pt x="318" y="234"/>
                  </a:lnTo>
                  <a:lnTo>
                    <a:pt x="318" y="226"/>
                  </a:lnTo>
                  <a:lnTo>
                    <a:pt x="287" y="219"/>
                  </a:lnTo>
                  <a:lnTo>
                    <a:pt x="306" y="219"/>
                  </a:lnTo>
                  <a:lnTo>
                    <a:pt x="326" y="226"/>
                  </a:lnTo>
                  <a:lnTo>
                    <a:pt x="363" y="229"/>
                  </a:lnTo>
                  <a:lnTo>
                    <a:pt x="355" y="221"/>
                  </a:lnTo>
                  <a:lnTo>
                    <a:pt x="383" y="226"/>
                  </a:lnTo>
                  <a:lnTo>
                    <a:pt x="456" y="234"/>
                  </a:lnTo>
                  <a:lnTo>
                    <a:pt x="460" y="229"/>
                  </a:lnTo>
                  <a:lnTo>
                    <a:pt x="432" y="221"/>
                  </a:lnTo>
                  <a:lnTo>
                    <a:pt x="444" y="221"/>
                  </a:lnTo>
                  <a:lnTo>
                    <a:pt x="424" y="213"/>
                  </a:lnTo>
                  <a:lnTo>
                    <a:pt x="480" y="224"/>
                  </a:lnTo>
                  <a:lnTo>
                    <a:pt x="492" y="219"/>
                  </a:lnTo>
                  <a:lnTo>
                    <a:pt x="508" y="226"/>
                  </a:lnTo>
                  <a:lnTo>
                    <a:pt x="537" y="221"/>
                  </a:lnTo>
                  <a:lnTo>
                    <a:pt x="573" y="197"/>
                  </a:lnTo>
                  <a:lnTo>
                    <a:pt x="561" y="189"/>
                  </a:lnTo>
                  <a:lnTo>
                    <a:pt x="500" y="169"/>
                  </a:lnTo>
                  <a:lnTo>
                    <a:pt x="391" y="135"/>
                  </a:lnTo>
                  <a:lnTo>
                    <a:pt x="411" y="133"/>
                  </a:lnTo>
                  <a:lnTo>
                    <a:pt x="403" y="125"/>
                  </a:lnTo>
                  <a:lnTo>
                    <a:pt x="383" y="123"/>
                  </a:lnTo>
                  <a:lnTo>
                    <a:pt x="391" y="120"/>
                  </a:lnTo>
                  <a:lnTo>
                    <a:pt x="367" y="110"/>
                  </a:lnTo>
                  <a:lnTo>
                    <a:pt x="371" y="110"/>
                  </a:lnTo>
                  <a:lnTo>
                    <a:pt x="351" y="105"/>
                  </a:lnTo>
                  <a:lnTo>
                    <a:pt x="343" y="96"/>
                  </a:lnTo>
                  <a:lnTo>
                    <a:pt x="326" y="99"/>
                  </a:lnTo>
                  <a:lnTo>
                    <a:pt x="306" y="88"/>
                  </a:lnTo>
                  <a:lnTo>
                    <a:pt x="335" y="91"/>
                  </a:lnTo>
                  <a:lnTo>
                    <a:pt x="323" y="86"/>
                  </a:lnTo>
                  <a:lnTo>
                    <a:pt x="314" y="76"/>
                  </a:lnTo>
                  <a:lnTo>
                    <a:pt x="299" y="69"/>
                  </a:lnTo>
                  <a:lnTo>
                    <a:pt x="310" y="64"/>
                  </a:lnTo>
                  <a:lnTo>
                    <a:pt x="299" y="59"/>
                  </a:lnTo>
                  <a:lnTo>
                    <a:pt x="306" y="53"/>
                  </a:lnTo>
                  <a:lnTo>
                    <a:pt x="282" y="44"/>
                  </a:lnTo>
                  <a:lnTo>
                    <a:pt x="299" y="42"/>
                  </a:lnTo>
                  <a:lnTo>
                    <a:pt x="306" y="39"/>
                  </a:lnTo>
                  <a:lnTo>
                    <a:pt x="294" y="32"/>
                  </a:lnTo>
                  <a:lnTo>
                    <a:pt x="310" y="27"/>
                  </a:lnTo>
                  <a:lnTo>
                    <a:pt x="299" y="19"/>
                  </a:lnTo>
                  <a:lnTo>
                    <a:pt x="323" y="15"/>
                  </a:lnTo>
                  <a:lnTo>
                    <a:pt x="318" y="7"/>
                  </a:lnTo>
                  <a:lnTo>
                    <a:pt x="339" y="0"/>
                  </a:lnTo>
                  <a:lnTo>
                    <a:pt x="363" y="7"/>
                  </a:lnTo>
                  <a:lnTo>
                    <a:pt x="347" y="5"/>
                  </a:lnTo>
                  <a:lnTo>
                    <a:pt x="343" y="9"/>
                  </a:lnTo>
                  <a:lnTo>
                    <a:pt x="359" y="29"/>
                  </a:lnTo>
                  <a:lnTo>
                    <a:pt x="339" y="24"/>
                  </a:lnTo>
                  <a:lnTo>
                    <a:pt x="347" y="29"/>
                  </a:lnTo>
                  <a:lnTo>
                    <a:pt x="335" y="29"/>
                  </a:lnTo>
                  <a:lnTo>
                    <a:pt x="326" y="44"/>
                  </a:lnTo>
                  <a:lnTo>
                    <a:pt x="343" y="52"/>
                  </a:lnTo>
                  <a:lnTo>
                    <a:pt x="347" y="59"/>
                  </a:lnTo>
                  <a:lnTo>
                    <a:pt x="367" y="64"/>
                  </a:lnTo>
                  <a:lnTo>
                    <a:pt x="379" y="59"/>
                  </a:lnTo>
                  <a:lnTo>
                    <a:pt x="383" y="64"/>
                  </a:lnTo>
                  <a:lnTo>
                    <a:pt x="371" y="66"/>
                  </a:lnTo>
                  <a:lnTo>
                    <a:pt x="379" y="69"/>
                  </a:lnTo>
                  <a:lnTo>
                    <a:pt x="351" y="66"/>
                  </a:lnTo>
                  <a:lnTo>
                    <a:pt x="375" y="76"/>
                  </a:lnTo>
                  <a:lnTo>
                    <a:pt x="335" y="66"/>
                  </a:lnTo>
                  <a:lnTo>
                    <a:pt x="347" y="79"/>
                  </a:lnTo>
                  <a:lnTo>
                    <a:pt x="363" y="81"/>
                  </a:lnTo>
                  <a:lnTo>
                    <a:pt x="347" y="84"/>
                  </a:lnTo>
                  <a:lnTo>
                    <a:pt x="363" y="91"/>
                  </a:lnTo>
                  <a:lnTo>
                    <a:pt x="355" y="93"/>
                  </a:lnTo>
                  <a:lnTo>
                    <a:pt x="383" y="105"/>
                  </a:lnTo>
                  <a:lnTo>
                    <a:pt x="395" y="105"/>
                  </a:lnTo>
                  <a:lnTo>
                    <a:pt x="395" y="110"/>
                  </a:lnTo>
                  <a:lnTo>
                    <a:pt x="411" y="115"/>
                  </a:lnTo>
                  <a:lnTo>
                    <a:pt x="427" y="110"/>
                  </a:lnTo>
                  <a:lnTo>
                    <a:pt x="440" y="110"/>
                  </a:lnTo>
                  <a:lnTo>
                    <a:pt x="436" y="115"/>
                  </a:lnTo>
                  <a:lnTo>
                    <a:pt x="452" y="118"/>
                  </a:lnTo>
                  <a:lnTo>
                    <a:pt x="452" y="120"/>
                  </a:lnTo>
                  <a:lnTo>
                    <a:pt x="496" y="130"/>
                  </a:lnTo>
                  <a:lnTo>
                    <a:pt x="537" y="148"/>
                  </a:lnTo>
                  <a:lnTo>
                    <a:pt x="552" y="150"/>
                  </a:lnTo>
                  <a:lnTo>
                    <a:pt x="561" y="157"/>
                  </a:lnTo>
                  <a:lnTo>
                    <a:pt x="569" y="155"/>
                  </a:lnTo>
                  <a:lnTo>
                    <a:pt x="589" y="167"/>
                  </a:lnTo>
                  <a:lnTo>
                    <a:pt x="613" y="172"/>
                  </a:lnTo>
                  <a:lnTo>
                    <a:pt x="609" y="177"/>
                  </a:lnTo>
                  <a:lnTo>
                    <a:pt x="625" y="177"/>
                  </a:lnTo>
                  <a:lnTo>
                    <a:pt x="645" y="184"/>
                  </a:lnTo>
                  <a:lnTo>
                    <a:pt x="642" y="189"/>
                  </a:lnTo>
                  <a:lnTo>
                    <a:pt x="658" y="189"/>
                  </a:lnTo>
                  <a:lnTo>
                    <a:pt x="670" y="194"/>
                  </a:lnTo>
                  <a:lnTo>
                    <a:pt x="678" y="192"/>
                  </a:lnTo>
                  <a:lnTo>
                    <a:pt x="686" y="201"/>
                  </a:lnTo>
                  <a:lnTo>
                    <a:pt x="658" y="199"/>
                  </a:lnTo>
                  <a:lnTo>
                    <a:pt x="682" y="204"/>
                  </a:lnTo>
                  <a:lnTo>
                    <a:pt x="694" y="204"/>
                  </a:lnTo>
                  <a:lnTo>
                    <a:pt x="706" y="211"/>
                  </a:lnTo>
                  <a:lnTo>
                    <a:pt x="694" y="211"/>
                  </a:lnTo>
                  <a:lnTo>
                    <a:pt x="714" y="213"/>
                  </a:lnTo>
                  <a:lnTo>
                    <a:pt x="714" y="219"/>
                  </a:lnTo>
                  <a:lnTo>
                    <a:pt x="730" y="219"/>
                  </a:lnTo>
                  <a:lnTo>
                    <a:pt x="714" y="224"/>
                  </a:lnTo>
                  <a:lnTo>
                    <a:pt x="738" y="234"/>
                  </a:lnTo>
                  <a:lnTo>
                    <a:pt x="710" y="226"/>
                  </a:lnTo>
                  <a:lnTo>
                    <a:pt x="726" y="231"/>
                  </a:lnTo>
                  <a:lnTo>
                    <a:pt x="718" y="234"/>
                  </a:lnTo>
                  <a:lnTo>
                    <a:pt x="734" y="236"/>
                  </a:lnTo>
                  <a:lnTo>
                    <a:pt x="730" y="241"/>
                  </a:lnTo>
                  <a:lnTo>
                    <a:pt x="746" y="241"/>
                  </a:lnTo>
                  <a:lnTo>
                    <a:pt x="746" y="250"/>
                  </a:lnTo>
                  <a:lnTo>
                    <a:pt x="722" y="260"/>
                  </a:lnTo>
                  <a:lnTo>
                    <a:pt x="698" y="258"/>
                  </a:lnTo>
                  <a:lnTo>
                    <a:pt x="609" y="260"/>
                  </a:lnTo>
                  <a:lnTo>
                    <a:pt x="606" y="285"/>
                  </a:lnTo>
                  <a:lnTo>
                    <a:pt x="633" y="294"/>
                  </a:lnTo>
                  <a:lnTo>
                    <a:pt x="718" y="301"/>
                  </a:lnTo>
                  <a:lnTo>
                    <a:pt x="633" y="310"/>
                  </a:lnTo>
                  <a:lnTo>
                    <a:pt x="544" y="322"/>
                  </a:lnTo>
                  <a:lnTo>
                    <a:pt x="463" y="334"/>
                  </a:lnTo>
                  <a:lnTo>
                    <a:pt x="391" y="348"/>
                  </a:lnTo>
                  <a:lnTo>
                    <a:pt x="326" y="366"/>
                  </a:lnTo>
                  <a:lnTo>
                    <a:pt x="274" y="381"/>
                  </a:lnTo>
                  <a:lnTo>
                    <a:pt x="229" y="40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013480" y="2695680"/>
              <a:ext cx="39240" cy="4320"/>
            </a:xfrm>
            <a:custGeom>
              <a:avLst/>
              <a:gdLst/>
              <a:ahLst/>
              <a:rect l="l" t="t" r="r" b="b"/>
              <a:pathLst>
                <a:path w="111" h="13">
                  <a:moveTo>
                    <a:pt x="110" y="11"/>
                  </a:moveTo>
                  <a:lnTo>
                    <a:pt x="92" y="0"/>
                  </a:lnTo>
                  <a:lnTo>
                    <a:pt x="0" y="0"/>
                  </a:lnTo>
                  <a:lnTo>
                    <a:pt x="12" y="5"/>
                  </a:lnTo>
                  <a:lnTo>
                    <a:pt x="36" y="5"/>
                  </a:lnTo>
                  <a:lnTo>
                    <a:pt x="56" y="9"/>
                  </a:lnTo>
                  <a:lnTo>
                    <a:pt x="99" y="12"/>
                  </a:lnTo>
                  <a:lnTo>
                    <a:pt x="11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013480" y="2695680"/>
              <a:ext cx="39240" cy="4320"/>
            </a:xfrm>
            <a:custGeom>
              <a:avLst/>
              <a:gdLst/>
              <a:ahLst/>
              <a:rect l="l" t="t" r="r" b="b"/>
              <a:pathLst>
                <a:path w="111" h="13">
                  <a:moveTo>
                    <a:pt x="110" y="11"/>
                  </a:moveTo>
                  <a:lnTo>
                    <a:pt x="92" y="0"/>
                  </a:lnTo>
                  <a:lnTo>
                    <a:pt x="0" y="0"/>
                  </a:lnTo>
                  <a:lnTo>
                    <a:pt x="12" y="5"/>
                  </a:lnTo>
                  <a:lnTo>
                    <a:pt x="36" y="5"/>
                  </a:lnTo>
                  <a:lnTo>
                    <a:pt x="56" y="9"/>
                  </a:lnTo>
                  <a:lnTo>
                    <a:pt x="99" y="12"/>
                  </a:lnTo>
                  <a:lnTo>
                    <a:pt x="110" y="1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188080" y="2611440"/>
              <a:ext cx="956520" cy="128520"/>
            </a:xfrm>
            <a:custGeom>
              <a:avLst/>
              <a:gdLst/>
              <a:ahLst/>
              <a:rect l="l" t="t" r="r" b="b"/>
              <a:pathLst>
                <a:path w="2657" h="359">
                  <a:moveTo>
                    <a:pt x="4" y="219"/>
                  </a:moveTo>
                  <a:lnTo>
                    <a:pt x="0" y="216"/>
                  </a:lnTo>
                  <a:lnTo>
                    <a:pt x="44" y="189"/>
                  </a:lnTo>
                  <a:lnTo>
                    <a:pt x="40" y="184"/>
                  </a:lnTo>
                  <a:lnTo>
                    <a:pt x="56" y="182"/>
                  </a:lnTo>
                  <a:lnTo>
                    <a:pt x="48" y="179"/>
                  </a:lnTo>
                  <a:lnTo>
                    <a:pt x="129" y="164"/>
                  </a:lnTo>
                  <a:lnTo>
                    <a:pt x="121" y="161"/>
                  </a:lnTo>
                  <a:lnTo>
                    <a:pt x="137" y="149"/>
                  </a:lnTo>
                  <a:lnTo>
                    <a:pt x="185" y="135"/>
                  </a:lnTo>
                  <a:lnTo>
                    <a:pt x="157" y="140"/>
                  </a:lnTo>
                  <a:lnTo>
                    <a:pt x="154" y="132"/>
                  </a:lnTo>
                  <a:lnTo>
                    <a:pt x="141" y="132"/>
                  </a:lnTo>
                  <a:lnTo>
                    <a:pt x="149" y="125"/>
                  </a:lnTo>
                  <a:lnTo>
                    <a:pt x="178" y="120"/>
                  </a:lnTo>
                  <a:lnTo>
                    <a:pt x="166" y="112"/>
                  </a:lnTo>
                  <a:lnTo>
                    <a:pt x="183" y="112"/>
                  </a:lnTo>
                  <a:lnTo>
                    <a:pt x="202" y="103"/>
                  </a:lnTo>
                  <a:lnTo>
                    <a:pt x="190" y="83"/>
                  </a:lnTo>
                  <a:lnTo>
                    <a:pt x="202" y="90"/>
                  </a:lnTo>
                  <a:lnTo>
                    <a:pt x="214" y="76"/>
                  </a:lnTo>
                  <a:lnTo>
                    <a:pt x="234" y="83"/>
                  </a:lnTo>
                  <a:lnTo>
                    <a:pt x="246" y="93"/>
                  </a:lnTo>
                  <a:lnTo>
                    <a:pt x="262" y="90"/>
                  </a:lnTo>
                  <a:lnTo>
                    <a:pt x="255" y="86"/>
                  </a:lnTo>
                  <a:lnTo>
                    <a:pt x="278" y="71"/>
                  </a:lnTo>
                  <a:lnTo>
                    <a:pt x="282" y="86"/>
                  </a:lnTo>
                  <a:lnTo>
                    <a:pt x="339" y="81"/>
                  </a:lnTo>
                  <a:lnTo>
                    <a:pt x="343" y="86"/>
                  </a:lnTo>
                  <a:lnTo>
                    <a:pt x="363" y="83"/>
                  </a:lnTo>
                  <a:lnTo>
                    <a:pt x="376" y="86"/>
                  </a:lnTo>
                  <a:lnTo>
                    <a:pt x="419" y="73"/>
                  </a:lnTo>
                  <a:lnTo>
                    <a:pt x="489" y="68"/>
                  </a:lnTo>
                  <a:lnTo>
                    <a:pt x="500" y="61"/>
                  </a:lnTo>
                  <a:lnTo>
                    <a:pt x="516" y="66"/>
                  </a:lnTo>
                  <a:lnTo>
                    <a:pt x="521" y="58"/>
                  </a:lnTo>
                  <a:lnTo>
                    <a:pt x="569" y="73"/>
                  </a:lnTo>
                  <a:lnTo>
                    <a:pt x="585" y="63"/>
                  </a:lnTo>
                  <a:lnTo>
                    <a:pt x="638" y="63"/>
                  </a:lnTo>
                  <a:lnTo>
                    <a:pt x="670" y="61"/>
                  </a:lnTo>
                  <a:lnTo>
                    <a:pt x="674" y="58"/>
                  </a:lnTo>
                  <a:lnTo>
                    <a:pt x="754" y="71"/>
                  </a:lnTo>
                  <a:lnTo>
                    <a:pt x="767" y="71"/>
                  </a:lnTo>
                  <a:lnTo>
                    <a:pt x="791" y="68"/>
                  </a:lnTo>
                  <a:lnTo>
                    <a:pt x="896" y="61"/>
                  </a:lnTo>
                  <a:lnTo>
                    <a:pt x="936" y="51"/>
                  </a:lnTo>
                  <a:lnTo>
                    <a:pt x="969" y="36"/>
                  </a:lnTo>
                  <a:lnTo>
                    <a:pt x="981" y="36"/>
                  </a:lnTo>
                  <a:lnTo>
                    <a:pt x="981" y="56"/>
                  </a:lnTo>
                  <a:lnTo>
                    <a:pt x="993" y="63"/>
                  </a:lnTo>
                  <a:lnTo>
                    <a:pt x="1005" y="61"/>
                  </a:lnTo>
                  <a:lnTo>
                    <a:pt x="1010" y="68"/>
                  </a:lnTo>
                  <a:lnTo>
                    <a:pt x="1038" y="63"/>
                  </a:lnTo>
                  <a:lnTo>
                    <a:pt x="1057" y="49"/>
                  </a:lnTo>
                  <a:lnTo>
                    <a:pt x="1090" y="41"/>
                  </a:lnTo>
                  <a:lnTo>
                    <a:pt x="1207" y="27"/>
                  </a:lnTo>
                  <a:lnTo>
                    <a:pt x="1219" y="19"/>
                  </a:lnTo>
                  <a:lnTo>
                    <a:pt x="1247" y="29"/>
                  </a:lnTo>
                  <a:lnTo>
                    <a:pt x="1272" y="21"/>
                  </a:lnTo>
                  <a:lnTo>
                    <a:pt x="1260" y="19"/>
                  </a:lnTo>
                  <a:lnTo>
                    <a:pt x="1268" y="14"/>
                  </a:lnTo>
                  <a:lnTo>
                    <a:pt x="1300" y="21"/>
                  </a:lnTo>
                  <a:lnTo>
                    <a:pt x="1312" y="7"/>
                  </a:lnTo>
                  <a:lnTo>
                    <a:pt x="1361" y="0"/>
                  </a:lnTo>
                  <a:lnTo>
                    <a:pt x="1425" y="1"/>
                  </a:lnTo>
                  <a:lnTo>
                    <a:pt x="1437" y="14"/>
                  </a:lnTo>
                  <a:lnTo>
                    <a:pt x="1409" y="24"/>
                  </a:lnTo>
                  <a:lnTo>
                    <a:pt x="1434" y="27"/>
                  </a:lnTo>
                  <a:lnTo>
                    <a:pt x="1550" y="49"/>
                  </a:lnTo>
                  <a:lnTo>
                    <a:pt x="1595" y="51"/>
                  </a:lnTo>
                  <a:lnTo>
                    <a:pt x="1554" y="71"/>
                  </a:lnTo>
                  <a:lnTo>
                    <a:pt x="1529" y="73"/>
                  </a:lnTo>
                  <a:lnTo>
                    <a:pt x="1542" y="76"/>
                  </a:lnTo>
                  <a:lnTo>
                    <a:pt x="1519" y="78"/>
                  </a:lnTo>
                  <a:lnTo>
                    <a:pt x="1526" y="81"/>
                  </a:lnTo>
                  <a:lnTo>
                    <a:pt x="1506" y="81"/>
                  </a:lnTo>
                  <a:lnTo>
                    <a:pt x="1490" y="86"/>
                  </a:lnTo>
                  <a:lnTo>
                    <a:pt x="1490" y="90"/>
                  </a:lnTo>
                  <a:lnTo>
                    <a:pt x="1473" y="90"/>
                  </a:lnTo>
                  <a:lnTo>
                    <a:pt x="1457" y="98"/>
                  </a:lnTo>
                  <a:lnTo>
                    <a:pt x="1446" y="110"/>
                  </a:lnTo>
                  <a:lnTo>
                    <a:pt x="1465" y="115"/>
                  </a:lnTo>
                  <a:lnTo>
                    <a:pt x="1453" y="120"/>
                  </a:lnTo>
                  <a:lnTo>
                    <a:pt x="1490" y="112"/>
                  </a:lnTo>
                  <a:lnTo>
                    <a:pt x="1509" y="103"/>
                  </a:lnTo>
                  <a:lnTo>
                    <a:pt x="1591" y="96"/>
                  </a:lnTo>
                  <a:lnTo>
                    <a:pt x="1614" y="90"/>
                  </a:lnTo>
                  <a:lnTo>
                    <a:pt x="1656" y="88"/>
                  </a:lnTo>
                  <a:lnTo>
                    <a:pt x="1683" y="78"/>
                  </a:lnTo>
                  <a:lnTo>
                    <a:pt x="1724" y="71"/>
                  </a:lnTo>
                  <a:lnTo>
                    <a:pt x="1796" y="66"/>
                  </a:lnTo>
                  <a:lnTo>
                    <a:pt x="1796" y="61"/>
                  </a:lnTo>
                  <a:lnTo>
                    <a:pt x="1821" y="56"/>
                  </a:lnTo>
                  <a:lnTo>
                    <a:pt x="1921" y="58"/>
                  </a:lnTo>
                  <a:lnTo>
                    <a:pt x="1946" y="53"/>
                  </a:lnTo>
                  <a:lnTo>
                    <a:pt x="1966" y="49"/>
                  </a:lnTo>
                  <a:lnTo>
                    <a:pt x="1982" y="44"/>
                  </a:lnTo>
                  <a:lnTo>
                    <a:pt x="1953" y="56"/>
                  </a:lnTo>
                  <a:lnTo>
                    <a:pt x="1958" y="61"/>
                  </a:lnTo>
                  <a:lnTo>
                    <a:pt x="2014" y="58"/>
                  </a:lnTo>
                  <a:lnTo>
                    <a:pt x="2039" y="63"/>
                  </a:lnTo>
                  <a:lnTo>
                    <a:pt x="2067" y="61"/>
                  </a:lnTo>
                  <a:lnTo>
                    <a:pt x="2079" y="56"/>
                  </a:lnTo>
                  <a:lnTo>
                    <a:pt x="2067" y="66"/>
                  </a:lnTo>
                  <a:lnTo>
                    <a:pt x="2099" y="68"/>
                  </a:lnTo>
                  <a:lnTo>
                    <a:pt x="2127" y="66"/>
                  </a:lnTo>
                  <a:lnTo>
                    <a:pt x="2159" y="56"/>
                  </a:lnTo>
                  <a:lnTo>
                    <a:pt x="2187" y="56"/>
                  </a:lnTo>
                  <a:lnTo>
                    <a:pt x="2163" y="66"/>
                  </a:lnTo>
                  <a:lnTo>
                    <a:pt x="2168" y="68"/>
                  </a:lnTo>
                  <a:lnTo>
                    <a:pt x="2184" y="63"/>
                  </a:lnTo>
                  <a:lnTo>
                    <a:pt x="2240" y="66"/>
                  </a:lnTo>
                  <a:lnTo>
                    <a:pt x="2232" y="96"/>
                  </a:lnTo>
                  <a:lnTo>
                    <a:pt x="2285" y="90"/>
                  </a:lnTo>
                  <a:lnTo>
                    <a:pt x="2321" y="83"/>
                  </a:lnTo>
                  <a:lnTo>
                    <a:pt x="2382" y="81"/>
                  </a:lnTo>
                  <a:lnTo>
                    <a:pt x="2341" y="98"/>
                  </a:lnTo>
                  <a:lnTo>
                    <a:pt x="2370" y="100"/>
                  </a:lnTo>
                  <a:lnTo>
                    <a:pt x="2349" y="112"/>
                  </a:lnTo>
                  <a:lnTo>
                    <a:pt x="2434" y="115"/>
                  </a:lnTo>
                  <a:lnTo>
                    <a:pt x="2430" y="120"/>
                  </a:lnTo>
                  <a:lnTo>
                    <a:pt x="2467" y="117"/>
                  </a:lnTo>
                  <a:lnTo>
                    <a:pt x="2459" y="123"/>
                  </a:lnTo>
                  <a:lnTo>
                    <a:pt x="2507" y="117"/>
                  </a:lnTo>
                  <a:lnTo>
                    <a:pt x="2471" y="135"/>
                  </a:lnTo>
                  <a:lnTo>
                    <a:pt x="2482" y="137"/>
                  </a:lnTo>
                  <a:lnTo>
                    <a:pt x="2548" y="127"/>
                  </a:lnTo>
                  <a:lnTo>
                    <a:pt x="2575" y="125"/>
                  </a:lnTo>
                  <a:lnTo>
                    <a:pt x="2636" y="135"/>
                  </a:lnTo>
                  <a:lnTo>
                    <a:pt x="2628" y="169"/>
                  </a:lnTo>
                  <a:lnTo>
                    <a:pt x="2648" y="167"/>
                  </a:lnTo>
                  <a:lnTo>
                    <a:pt x="2628" y="177"/>
                  </a:lnTo>
                  <a:lnTo>
                    <a:pt x="2656" y="177"/>
                  </a:lnTo>
                  <a:lnTo>
                    <a:pt x="2643" y="179"/>
                  </a:lnTo>
                  <a:lnTo>
                    <a:pt x="2600" y="184"/>
                  </a:lnTo>
                  <a:lnTo>
                    <a:pt x="2591" y="198"/>
                  </a:lnTo>
                  <a:lnTo>
                    <a:pt x="2555" y="204"/>
                  </a:lnTo>
                  <a:lnTo>
                    <a:pt x="2580" y="211"/>
                  </a:lnTo>
                  <a:lnTo>
                    <a:pt x="2539" y="221"/>
                  </a:lnTo>
                  <a:lnTo>
                    <a:pt x="2548" y="223"/>
                  </a:lnTo>
                  <a:lnTo>
                    <a:pt x="2568" y="226"/>
                  </a:lnTo>
                  <a:lnTo>
                    <a:pt x="2608" y="218"/>
                  </a:lnTo>
                  <a:lnTo>
                    <a:pt x="2591" y="223"/>
                  </a:lnTo>
                  <a:lnTo>
                    <a:pt x="2535" y="233"/>
                  </a:lnTo>
                  <a:lnTo>
                    <a:pt x="2551" y="245"/>
                  </a:lnTo>
                  <a:lnTo>
                    <a:pt x="2471" y="262"/>
                  </a:lnTo>
                  <a:lnTo>
                    <a:pt x="2478" y="267"/>
                  </a:lnTo>
                  <a:lnTo>
                    <a:pt x="2442" y="275"/>
                  </a:lnTo>
                  <a:lnTo>
                    <a:pt x="2463" y="273"/>
                  </a:lnTo>
                  <a:lnTo>
                    <a:pt x="2467" y="282"/>
                  </a:lnTo>
                  <a:lnTo>
                    <a:pt x="2454" y="287"/>
                  </a:lnTo>
                  <a:lnTo>
                    <a:pt x="2374" y="304"/>
                  </a:lnTo>
                  <a:lnTo>
                    <a:pt x="2409" y="299"/>
                  </a:lnTo>
                  <a:lnTo>
                    <a:pt x="2374" y="304"/>
                  </a:lnTo>
                  <a:lnTo>
                    <a:pt x="2277" y="314"/>
                  </a:lnTo>
                  <a:lnTo>
                    <a:pt x="2180" y="322"/>
                  </a:lnTo>
                  <a:lnTo>
                    <a:pt x="2131" y="319"/>
                  </a:lnTo>
                  <a:lnTo>
                    <a:pt x="2107" y="322"/>
                  </a:lnTo>
                  <a:lnTo>
                    <a:pt x="2095" y="322"/>
                  </a:lnTo>
                  <a:lnTo>
                    <a:pt x="2047" y="327"/>
                  </a:lnTo>
                  <a:lnTo>
                    <a:pt x="2039" y="324"/>
                  </a:lnTo>
                  <a:lnTo>
                    <a:pt x="2010" y="327"/>
                  </a:lnTo>
                  <a:lnTo>
                    <a:pt x="2034" y="322"/>
                  </a:lnTo>
                  <a:lnTo>
                    <a:pt x="2010" y="322"/>
                  </a:lnTo>
                  <a:lnTo>
                    <a:pt x="1978" y="329"/>
                  </a:lnTo>
                  <a:lnTo>
                    <a:pt x="1962" y="334"/>
                  </a:lnTo>
                  <a:lnTo>
                    <a:pt x="1950" y="331"/>
                  </a:lnTo>
                  <a:lnTo>
                    <a:pt x="1792" y="346"/>
                  </a:lnTo>
                  <a:lnTo>
                    <a:pt x="1715" y="356"/>
                  </a:lnTo>
                  <a:lnTo>
                    <a:pt x="1686" y="358"/>
                  </a:lnTo>
                  <a:lnTo>
                    <a:pt x="1668" y="349"/>
                  </a:lnTo>
                  <a:lnTo>
                    <a:pt x="1623" y="329"/>
                  </a:lnTo>
                  <a:lnTo>
                    <a:pt x="1570" y="314"/>
                  </a:lnTo>
                  <a:lnTo>
                    <a:pt x="1506" y="296"/>
                  </a:lnTo>
                  <a:lnTo>
                    <a:pt x="1434" y="282"/>
                  </a:lnTo>
                  <a:lnTo>
                    <a:pt x="1353" y="270"/>
                  </a:lnTo>
                  <a:lnTo>
                    <a:pt x="1264" y="258"/>
                  </a:lnTo>
                  <a:lnTo>
                    <a:pt x="1167" y="248"/>
                  </a:lnTo>
                  <a:lnTo>
                    <a:pt x="1066" y="238"/>
                  </a:lnTo>
                  <a:lnTo>
                    <a:pt x="957" y="231"/>
                  </a:lnTo>
                  <a:lnTo>
                    <a:pt x="848" y="223"/>
                  </a:lnTo>
                  <a:lnTo>
                    <a:pt x="731" y="218"/>
                  </a:lnTo>
                  <a:lnTo>
                    <a:pt x="614" y="216"/>
                  </a:lnTo>
                  <a:lnTo>
                    <a:pt x="496" y="213"/>
                  </a:lnTo>
                  <a:lnTo>
                    <a:pt x="376" y="211"/>
                  </a:lnTo>
                  <a:lnTo>
                    <a:pt x="255" y="213"/>
                  </a:lnTo>
                  <a:lnTo>
                    <a:pt x="137" y="216"/>
                  </a:lnTo>
                  <a:lnTo>
                    <a:pt x="20" y="218"/>
                  </a:lnTo>
                  <a:lnTo>
                    <a:pt x="4" y="2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188080" y="2611440"/>
              <a:ext cx="956520" cy="128520"/>
            </a:xfrm>
            <a:custGeom>
              <a:avLst/>
              <a:gdLst/>
              <a:ahLst/>
              <a:rect l="l" t="t" r="r" b="b"/>
              <a:pathLst>
                <a:path w="2657" h="359">
                  <a:moveTo>
                    <a:pt x="4" y="219"/>
                  </a:moveTo>
                  <a:lnTo>
                    <a:pt x="0" y="216"/>
                  </a:lnTo>
                  <a:lnTo>
                    <a:pt x="44" y="189"/>
                  </a:lnTo>
                  <a:lnTo>
                    <a:pt x="40" y="184"/>
                  </a:lnTo>
                  <a:lnTo>
                    <a:pt x="56" y="182"/>
                  </a:lnTo>
                  <a:lnTo>
                    <a:pt x="48" y="179"/>
                  </a:lnTo>
                  <a:lnTo>
                    <a:pt x="129" y="164"/>
                  </a:lnTo>
                  <a:lnTo>
                    <a:pt x="121" y="161"/>
                  </a:lnTo>
                  <a:lnTo>
                    <a:pt x="137" y="149"/>
                  </a:lnTo>
                  <a:lnTo>
                    <a:pt x="185" y="135"/>
                  </a:lnTo>
                  <a:lnTo>
                    <a:pt x="157" y="140"/>
                  </a:lnTo>
                  <a:lnTo>
                    <a:pt x="154" y="132"/>
                  </a:lnTo>
                  <a:lnTo>
                    <a:pt x="141" y="132"/>
                  </a:lnTo>
                  <a:lnTo>
                    <a:pt x="149" y="125"/>
                  </a:lnTo>
                  <a:lnTo>
                    <a:pt x="178" y="120"/>
                  </a:lnTo>
                  <a:lnTo>
                    <a:pt x="166" y="112"/>
                  </a:lnTo>
                  <a:lnTo>
                    <a:pt x="183" y="112"/>
                  </a:lnTo>
                  <a:lnTo>
                    <a:pt x="202" y="103"/>
                  </a:lnTo>
                  <a:lnTo>
                    <a:pt x="190" y="83"/>
                  </a:lnTo>
                  <a:lnTo>
                    <a:pt x="202" y="90"/>
                  </a:lnTo>
                  <a:lnTo>
                    <a:pt x="214" y="76"/>
                  </a:lnTo>
                  <a:lnTo>
                    <a:pt x="234" y="83"/>
                  </a:lnTo>
                  <a:lnTo>
                    <a:pt x="246" y="93"/>
                  </a:lnTo>
                  <a:lnTo>
                    <a:pt x="262" y="90"/>
                  </a:lnTo>
                  <a:lnTo>
                    <a:pt x="255" y="86"/>
                  </a:lnTo>
                  <a:lnTo>
                    <a:pt x="278" y="71"/>
                  </a:lnTo>
                  <a:lnTo>
                    <a:pt x="282" y="86"/>
                  </a:lnTo>
                  <a:lnTo>
                    <a:pt x="339" y="81"/>
                  </a:lnTo>
                  <a:lnTo>
                    <a:pt x="343" y="86"/>
                  </a:lnTo>
                  <a:lnTo>
                    <a:pt x="363" y="83"/>
                  </a:lnTo>
                  <a:lnTo>
                    <a:pt x="376" y="86"/>
                  </a:lnTo>
                  <a:lnTo>
                    <a:pt x="419" y="73"/>
                  </a:lnTo>
                  <a:lnTo>
                    <a:pt x="489" y="68"/>
                  </a:lnTo>
                  <a:lnTo>
                    <a:pt x="500" y="61"/>
                  </a:lnTo>
                  <a:lnTo>
                    <a:pt x="516" y="66"/>
                  </a:lnTo>
                  <a:lnTo>
                    <a:pt x="521" y="58"/>
                  </a:lnTo>
                  <a:lnTo>
                    <a:pt x="569" y="73"/>
                  </a:lnTo>
                  <a:lnTo>
                    <a:pt x="585" y="63"/>
                  </a:lnTo>
                  <a:lnTo>
                    <a:pt x="638" y="63"/>
                  </a:lnTo>
                  <a:lnTo>
                    <a:pt x="670" y="61"/>
                  </a:lnTo>
                  <a:lnTo>
                    <a:pt x="674" y="58"/>
                  </a:lnTo>
                  <a:lnTo>
                    <a:pt x="754" y="71"/>
                  </a:lnTo>
                  <a:lnTo>
                    <a:pt x="767" y="71"/>
                  </a:lnTo>
                  <a:lnTo>
                    <a:pt x="791" y="68"/>
                  </a:lnTo>
                  <a:lnTo>
                    <a:pt x="896" y="61"/>
                  </a:lnTo>
                  <a:lnTo>
                    <a:pt x="936" y="51"/>
                  </a:lnTo>
                  <a:lnTo>
                    <a:pt x="969" y="36"/>
                  </a:lnTo>
                  <a:lnTo>
                    <a:pt x="981" y="36"/>
                  </a:lnTo>
                  <a:lnTo>
                    <a:pt x="981" y="56"/>
                  </a:lnTo>
                  <a:lnTo>
                    <a:pt x="993" y="63"/>
                  </a:lnTo>
                  <a:lnTo>
                    <a:pt x="1005" y="61"/>
                  </a:lnTo>
                  <a:lnTo>
                    <a:pt x="1010" y="68"/>
                  </a:lnTo>
                  <a:lnTo>
                    <a:pt x="1038" y="63"/>
                  </a:lnTo>
                  <a:lnTo>
                    <a:pt x="1057" y="49"/>
                  </a:lnTo>
                  <a:lnTo>
                    <a:pt x="1090" y="41"/>
                  </a:lnTo>
                  <a:lnTo>
                    <a:pt x="1207" y="27"/>
                  </a:lnTo>
                  <a:lnTo>
                    <a:pt x="1219" y="19"/>
                  </a:lnTo>
                  <a:lnTo>
                    <a:pt x="1247" y="29"/>
                  </a:lnTo>
                  <a:lnTo>
                    <a:pt x="1272" y="21"/>
                  </a:lnTo>
                  <a:lnTo>
                    <a:pt x="1260" y="19"/>
                  </a:lnTo>
                  <a:lnTo>
                    <a:pt x="1268" y="14"/>
                  </a:lnTo>
                  <a:lnTo>
                    <a:pt x="1300" y="21"/>
                  </a:lnTo>
                  <a:lnTo>
                    <a:pt x="1312" y="7"/>
                  </a:lnTo>
                  <a:lnTo>
                    <a:pt x="1361" y="0"/>
                  </a:lnTo>
                  <a:lnTo>
                    <a:pt x="1425" y="1"/>
                  </a:lnTo>
                  <a:lnTo>
                    <a:pt x="1437" y="14"/>
                  </a:lnTo>
                  <a:lnTo>
                    <a:pt x="1409" y="24"/>
                  </a:lnTo>
                  <a:lnTo>
                    <a:pt x="1434" y="27"/>
                  </a:lnTo>
                  <a:lnTo>
                    <a:pt x="1550" y="49"/>
                  </a:lnTo>
                  <a:lnTo>
                    <a:pt x="1595" y="51"/>
                  </a:lnTo>
                  <a:lnTo>
                    <a:pt x="1554" y="71"/>
                  </a:lnTo>
                  <a:lnTo>
                    <a:pt x="1529" y="73"/>
                  </a:lnTo>
                  <a:lnTo>
                    <a:pt x="1542" y="76"/>
                  </a:lnTo>
                  <a:lnTo>
                    <a:pt x="1519" y="78"/>
                  </a:lnTo>
                  <a:lnTo>
                    <a:pt x="1526" y="81"/>
                  </a:lnTo>
                  <a:lnTo>
                    <a:pt x="1506" y="81"/>
                  </a:lnTo>
                  <a:lnTo>
                    <a:pt x="1490" y="86"/>
                  </a:lnTo>
                  <a:lnTo>
                    <a:pt x="1490" y="90"/>
                  </a:lnTo>
                  <a:lnTo>
                    <a:pt x="1473" y="90"/>
                  </a:lnTo>
                  <a:lnTo>
                    <a:pt x="1457" y="98"/>
                  </a:lnTo>
                  <a:lnTo>
                    <a:pt x="1446" y="110"/>
                  </a:lnTo>
                  <a:lnTo>
                    <a:pt x="1465" y="115"/>
                  </a:lnTo>
                  <a:lnTo>
                    <a:pt x="1453" y="120"/>
                  </a:lnTo>
                  <a:lnTo>
                    <a:pt x="1490" y="112"/>
                  </a:lnTo>
                  <a:lnTo>
                    <a:pt x="1509" y="103"/>
                  </a:lnTo>
                  <a:lnTo>
                    <a:pt x="1591" y="96"/>
                  </a:lnTo>
                  <a:lnTo>
                    <a:pt x="1614" y="90"/>
                  </a:lnTo>
                  <a:lnTo>
                    <a:pt x="1656" y="88"/>
                  </a:lnTo>
                  <a:lnTo>
                    <a:pt x="1683" y="78"/>
                  </a:lnTo>
                  <a:lnTo>
                    <a:pt x="1724" y="71"/>
                  </a:lnTo>
                  <a:lnTo>
                    <a:pt x="1796" y="66"/>
                  </a:lnTo>
                  <a:lnTo>
                    <a:pt x="1796" y="61"/>
                  </a:lnTo>
                  <a:lnTo>
                    <a:pt x="1821" y="56"/>
                  </a:lnTo>
                  <a:lnTo>
                    <a:pt x="1921" y="58"/>
                  </a:lnTo>
                  <a:lnTo>
                    <a:pt x="1946" y="53"/>
                  </a:lnTo>
                  <a:lnTo>
                    <a:pt x="1966" y="49"/>
                  </a:lnTo>
                  <a:lnTo>
                    <a:pt x="1982" y="44"/>
                  </a:lnTo>
                  <a:lnTo>
                    <a:pt x="1953" y="56"/>
                  </a:lnTo>
                  <a:lnTo>
                    <a:pt x="1958" y="61"/>
                  </a:lnTo>
                  <a:lnTo>
                    <a:pt x="2014" y="58"/>
                  </a:lnTo>
                  <a:lnTo>
                    <a:pt x="2039" y="63"/>
                  </a:lnTo>
                  <a:lnTo>
                    <a:pt x="2067" y="61"/>
                  </a:lnTo>
                  <a:lnTo>
                    <a:pt x="2079" y="56"/>
                  </a:lnTo>
                  <a:lnTo>
                    <a:pt x="2067" y="66"/>
                  </a:lnTo>
                  <a:lnTo>
                    <a:pt x="2099" y="68"/>
                  </a:lnTo>
                  <a:lnTo>
                    <a:pt x="2127" y="66"/>
                  </a:lnTo>
                  <a:lnTo>
                    <a:pt x="2159" y="56"/>
                  </a:lnTo>
                  <a:lnTo>
                    <a:pt x="2187" y="56"/>
                  </a:lnTo>
                  <a:lnTo>
                    <a:pt x="2163" y="66"/>
                  </a:lnTo>
                  <a:lnTo>
                    <a:pt x="2168" y="68"/>
                  </a:lnTo>
                  <a:lnTo>
                    <a:pt x="2184" y="63"/>
                  </a:lnTo>
                  <a:lnTo>
                    <a:pt x="2240" y="66"/>
                  </a:lnTo>
                  <a:lnTo>
                    <a:pt x="2232" y="96"/>
                  </a:lnTo>
                  <a:lnTo>
                    <a:pt x="2285" y="90"/>
                  </a:lnTo>
                  <a:lnTo>
                    <a:pt x="2321" y="83"/>
                  </a:lnTo>
                  <a:lnTo>
                    <a:pt x="2382" y="81"/>
                  </a:lnTo>
                  <a:lnTo>
                    <a:pt x="2341" y="98"/>
                  </a:lnTo>
                  <a:lnTo>
                    <a:pt x="2370" y="100"/>
                  </a:lnTo>
                  <a:lnTo>
                    <a:pt x="2349" y="112"/>
                  </a:lnTo>
                  <a:lnTo>
                    <a:pt x="2434" y="115"/>
                  </a:lnTo>
                  <a:lnTo>
                    <a:pt x="2430" y="120"/>
                  </a:lnTo>
                  <a:lnTo>
                    <a:pt x="2467" y="117"/>
                  </a:lnTo>
                  <a:lnTo>
                    <a:pt x="2459" y="123"/>
                  </a:lnTo>
                  <a:lnTo>
                    <a:pt x="2507" y="117"/>
                  </a:lnTo>
                  <a:lnTo>
                    <a:pt x="2471" y="135"/>
                  </a:lnTo>
                  <a:lnTo>
                    <a:pt x="2482" y="137"/>
                  </a:lnTo>
                  <a:lnTo>
                    <a:pt x="2548" y="127"/>
                  </a:lnTo>
                  <a:lnTo>
                    <a:pt x="2575" y="125"/>
                  </a:lnTo>
                  <a:lnTo>
                    <a:pt x="2636" y="135"/>
                  </a:lnTo>
                  <a:lnTo>
                    <a:pt x="2628" y="169"/>
                  </a:lnTo>
                  <a:lnTo>
                    <a:pt x="2648" y="167"/>
                  </a:lnTo>
                  <a:lnTo>
                    <a:pt x="2628" y="177"/>
                  </a:lnTo>
                  <a:lnTo>
                    <a:pt x="2656" y="177"/>
                  </a:lnTo>
                  <a:lnTo>
                    <a:pt x="2643" y="179"/>
                  </a:lnTo>
                  <a:lnTo>
                    <a:pt x="2600" y="184"/>
                  </a:lnTo>
                  <a:lnTo>
                    <a:pt x="2591" y="198"/>
                  </a:lnTo>
                  <a:lnTo>
                    <a:pt x="2555" y="204"/>
                  </a:lnTo>
                  <a:lnTo>
                    <a:pt x="2580" y="211"/>
                  </a:lnTo>
                  <a:lnTo>
                    <a:pt x="2539" y="221"/>
                  </a:lnTo>
                  <a:lnTo>
                    <a:pt x="2548" y="223"/>
                  </a:lnTo>
                  <a:lnTo>
                    <a:pt x="2568" y="226"/>
                  </a:lnTo>
                  <a:lnTo>
                    <a:pt x="2608" y="218"/>
                  </a:lnTo>
                  <a:lnTo>
                    <a:pt x="2591" y="223"/>
                  </a:lnTo>
                  <a:lnTo>
                    <a:pt x="2535" y="233"/>
                  </a:lnTo>
                  <a:lnTo>
                    <a:pt x="2551" y="245"/>
                  </a:lnTo>
                  <a:lnTo>
                    <a:pt x="2471" y="262"/>
                  </a:lnTo>
                  <a:lnTo>
                    <a:pt x="2478" y="267"/>
                  </a:lnTo>
                  <a:lnTo>
                    <a:pt x="2442" y="275"/>
                  </a:lnTo>
                  <a:lnTo>
                    <a:pt x="2463" y="273"/>
                  </a:lnTo>
                  <a:lnTo>
                    <a:pt x="2467" y="282"/>
                  </a:lnTo>
                  <a:lnTo>
                    <a:pt x="2454" y="287"/>
                  </a:lnTo>
                  <a:lnTo>
                    <a:pt x="2374" y="304"/>
                  </a:lnTo>
                  <a:lnTo>
                    <a:pt x="2409" y="299"/>
                  </a:lnTo>
                  <a:lnTo>
                    <a:pt x="2374" y="304"/>
                  </a:lnTo>
                  <a:lnTo>
                    <a:pt x="2277" y="314"/>
                  </a:lnTo>
                  <a:lnTo>
                    <a:pt x="2180" y="322"/>
                  </a:lnTo>
                  <a:lnTo>
                    <a:pt x="2131" y="319"/>
                  </a:lnTo>
                  <a:lnTo>
                    <a:pt x="2107" y="322"/>
                  </a:lnTo>
                  <a:lnTo>
                    <a:pt x="2095" y="322"/>
                  </a:lnTo>
                  <a:lnTo>
                    <a:pt x="2047" y="327"/>
                  </a:lnTo>
                  <a:lnTo>
                    <a:pt x="2039" y="324"/>
                  </a:lnTo>
                  <a:lnTo>
                    <a:pt x="2010" y="327"/>
                  </a:lnTo>
                  <a:lnTo>
                    <a:pt x="2034" y="322"/>
                  </a:lnTo>
                  <a:lnTo>
                    <a:pt x="2010" y="322"/>
                  </a:lnTo>
                  <a:lnTo>
                    <a:pt x="1978" y="329"/>
                  </a:lnTo>
                  <a:lnTo>
                    <a:pt x="1962" y="334"/>
                  </a:lnTo>
                  <a:lnTo>
                    <a:pt x="1950" y="331"/>
                  </a:lnTo>
                  <a:lnTo>
                    <a:pt x="1792" y="346"/>
                  </a:lnTo>
                  <a:lnTo>
                    <a:pt x="1715" y="356"/>
                  </a:lnTo>
                  <a:lnTo>
                    <a:pt x="1686" y="358"/>
                  </a:lnTo>
                  <a:lnTo>
                    <a:pt x="1668" y="349"/>
                  </a:lnTo>
                  <a:lnTo>
                    <a:pt x="1623" y="329"/>
                  </a:lnTo>
                  <a:lnTo>
                    <a:pt x="1570" y="314"/>
                  </a:lnTo>
                  <a:lnTo>
                    <a:pt x="1506" y="296"/>
                  </a:lnTo>
                  <a:lnTo>
                    <a:pt x="1434" y="282"/>
                  </a:lnTo>
                  <a:lnTo>
                    <a:pt x="1353" y="270"/>
                  </a:lnTo>
                  <a:lnTo>
                    <a:pt x="1264" y="258"/>
                  </a:lnTo>
                  <a:lnTo>
                    <a:pt x="1167" y="248"/>
                  </a:lnTo>
                  <a:lnTo>
                    <a:pt x="1066" y="238"/>
                  </a:lnTo>
                  <a:lnTo>
                    <a:pt x="957" y="231"/>
                  </a:lnTo>
                  <a:lnTo>
                    <a:pt x="848" y="223"/>
                  </a:lnTo>
                  <a:lnTo>
                    <a:pt x="731" y="218"/>
                  </a:lnTo>
                  <a:lnTo>
                    <a:pt x="614" y="216"/>
                  </a:lnTo>
                  <a:lnTo>
                    <a:pt x="496" y="213"/>
                  </a:lnTo>
                  <a:lnTo>
                    <a:pt x="376" y="211"/>
                  </a:lnTo>
                  <a:lnTo>
                    <a:pt x="255" y="213"/>
                  </a:lnTo>
                  <a:lnTo>
                    <a:pt x="137" y="216"/>
                  </a:lnTo>
                  <a:lnTo>
                    <a:pt x="20" y="218"/>
                  </a:lnTo>
                  <a:lnTo>
                    <a:pt x="4" y="21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09040" y="1735920"/>
              <a:ext cx="14040" cy="612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16" y="13"/>
                  </a:moveTo>
                  <a:lnTo>
                    <a:pt x="12" y="13"/>
                  </a:lnTo>
                  <a:lnTo>
                    <a:pt x="4" y="15"/>
                  </a:lnTo>
                  <a:lnTo>
                    <a:pt x="16" y="13"/>
                  </a:lnTo>
                  <a:close/>
                  <a:moveTo>
                    <a:pt x="16" y="13"/>
                  </a:moveTo>
                  <a:lnTo>
                    <a:pt x="25" y="13"/>
                  </a:lnTo>
                  <a:lnTo>
                    <a:pt x="25" y="10"/>
                  </a:lnTo>
                  <a:lnTo>
                    <a:pt x="37" y="5"/>
                  </a:lnTo>
                  <a:lnTo>
                    <a:pt x="37" y="0"/>
                  </a:lnTo>
                  <a:lnTo>
                    <a:pt x="37" y="3"/>
                  </a:lnTo>
                  <a:lnTo>
                    <a:pt x="33" y="8"/>
                  </a:lnTo>
                  <a:lnTo>
                    <a:pt x="29" y="10"/>
                  </a:lnTo>
                  <a:lnTo>
                    <a:pt x="25" y="13"/>
                  </a:lnTo>
                  <a:lnTo>
                    <a:pt x="16" y="13"/>
                  </a:lnTo>
                  <a:close/>
                  <a:moveTo>
                    <a:pt x="4" y="15"/>
                  </a:moveTo>
                  <a:lnTo>
                    <a:pt x="0" y="17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409040" y="1740600"/>
              <a:ext cx="1080" cy="14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410480" y="1735920"/>
              <a:ext cx="12600" cy="61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12" y="13"/>
                  </a:moveTo>
                  <a:lnTo>
                    <a:pt x="12" y="13"/>
                  </a:lnTo>
                  <a:lnTo>
                    <a:pt x="8" y="13"/>
                  </a:lnTo>
                  <a:lnTo>
                    <a:pt x="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21" y="13"/>
                  </a:lnTo>
                  <a:lnTo>
                    <a:pt x="21" y="10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3" y="3"/>
                  </a:lnTo>
                  <a:lnTo>
                    <a:pt x="29" y="8"/>
                  </a:lnTo>
                  <a:lnTo>
                    <a:pt x="25" y="10"/>
                  </a:lnTo>
                  <a:lnTo>
                    <a:pt x="21" y="13"/>
                  </a:lnTo>
                  <a:lnTo>
                    <a:pt x="12" y="1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93000" y="2327760"/>
              <a:ext cx="72720" cy="41040"/>
            </a:xfrm>
            <a:custGeom>
              <a:avLst/>
              <a:gdLst/>
              <a:ahLst/>
              <a:rect l="l" t="t" r="r" b="b"/>
              <a:pathLst>
                <a:path w="203" h="114">
                  <a:moveTo>
                    <a:pt x="202" y="80"/>
                  </a:moveTo>
                  <a:lnTo>
                    <a:pt x="198" y="98"/>
                  </a:lnTo>
                  <a:lnTo>
                    <a:pt x="174" y="113"/>
                  </a:lnTo>
                  <a:lnTo>
                    <a:pt x="93" y="103"/>
                  </a:lnTo>
                  <a:lnTo>
                    <a:pt x="69" y="103"/>
                  </a:lnTo>
                  <a:lnTo>
                    <a:pt x="37" y="88"/>
                  </a:lnTo>
                  <a:lnTo>
                    <a:pt x="24" y="71"/>
                  </a:lnTo>
                  <a:lnTo>
                    <a:pt x="32" y="66"/>
                  </a:lnTo>
                  <a:lnTo>
                    <a:pt x="20" y="54"/>
                  </a:lnTo>
                  <a:lnTo>
                    <a:pt x="0" y="0"/>
                  </a:lnTo>
                  <a:lnTo>
                    <a:pt x="37" y="0"/>
                  </a:lnTo>
                  <a:lnTo>
                    <a:pt x="73" y="20"/>
                  </a:lnTo>
                  <a:lnTo>
                    <a:pt x="81" y="15"/>
                  </a:lnTo>
                  <a:lnTo>
                    <a:pt x="93" y="20"/>
                  </a:lnTo>
                  <a:lnTo>
                    <a:pt x="162" y="41"/>
                  </a:lnTo>
                  <a:lnTo>
                    <a:pt x="193" y="54"/>
                  </a:lnTo>
                  <a:lnTo>
                    <a:pt x="193" y="57"/>
                  </a:lnTo>
                  <a:lnTo>
                    <a:pt x="189" y="66"/>
                  </a:lnTo>
                  <a:lnTo>
                    <a:pt x="193" y="78"/>
                  </a:lnTo>
                  <a:lnTo>
                    <a:pt x="202" y="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593000" y="2327760"/>
              <a:ext cx="72720" cy="41040"/>
            </a:xfrm>
            <a:custGeom>
              <a:avLst/>
              <a:gdLst/>
              <a:ahLst/>
              <a:rect l="l" t="t" r="r" b="b"/>
              <a:pathLst>
                <a:path w="203" h="114">
                  <a:moveTo>
                    <a:pt x="202" y="80"/>
                  </a:moveTo>
                  <a:lnTo>
                    <a:pt x="198" y="98"/>
                  </a:lnTo>
                  <a:lnTo>
                    <a:pt x="174" y="113"/>
                  </a:lnTo>
                  <a:lnTo>
                    <a:pt x="93" y="103"/>
                  </a:lnTo>
                  <a:lnTo>
                    <a:pt x="69" y="103"/>
                  </a:lnTo>
                  <a:lnTo>
                    <a:pt x="37" y="88"/>
                  </a:lnTo>
                  <a:lnTo>
                    <a:pt x="24" y="71"/>
                  </a:lnTo>
                  <a:lnTo>
                    <a:pt x="32" y="66"/>
                  </a:lnTo>
                  <a:lnTo>
                    <a:pt x="20" y="54"/>
                  </a:lnTo>
                  <a:lnTo>
                    <a:pt x="0" y="0"/>
                  </a:lnTo>
                  <a:lnTo>
                    <a:pt x="37" y="0"/>
                  </a:lnTo>
                  <a:lnTo>
                    <a:pt x="73" y="20"/>
                  </a:lnTo>
                  <a:lnTo>
                    <a:pt x="81" y="15"/>
                  </a:lnTo>
                  <a:lnTo>
                    <a:pt x="93" y="20"/>
                  </a:lnTo>
                  <a:lnTo>
                    <a:pt x="162" y="41"/>
                  </a:lnTo>
                  <a:lnTo>
                    <a:pt x="193" y="54"/>
                  </a:lnTo>
                  <a:lnTo>
                    <a:pt x="193" y="57"/>
                  </a:lnTo>
                  <a:lnTo>
                    <a:pt x="189" y="66"/>
                  </a:lnTo>
                  <a:lnTo>
                    <a:pt x="193" y="78"/>
                  </a:lnTo>
                  <a:lnTo>
                    <a:pt x="202" y="8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674000" y="2518200"/>
              <a:ext cx="58320" cy="1728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81" y="46"/>
                  </a:moveTo>
                  <a:lnTo>
                    <a:pt x="117" y="46"/>
                  </a:lnTo>
                  <a:lnTo>
                    <a:pt x="137" y="49"/>
                  </a:lnTo>
                  <a:lnTo>
                    <a:pt x="162" y="44"/>
                  </a:lnTo>
                  <a:lnTo>
                    <a:pt x="153" y="37"/>
                  </a:lnTo>
                  <a:lnTo>
                    <a:pt x="124" y="37"/>
                  </a:lnTo>
                  <a:lnTo>
                    <a:pt x="73" y="24"/>
                  </a:lnTo>
                  <a:lnTo>
                    <a:pt x="25" y="12"/>
                  </a:lnTo>
                  <a:lnTo>
                    <a:pt x="29" y="7"/>
                  </a:lnTo>
                  <a:lnTo>
                    <a:pt x="0" y="0"/>
                  </a:lnTo>
                  <a:lnTo>
                    <a:pt x="20" y="10"/>
                  </a:lnTo>
                  <a:lnTo>
                    <a:pt x="44" y="24"/>
                  </a:lnTo>
                  <a:lnTo>
                    <a:pt x="61" y="37"/>
                  </a:lnTo>
                  <a:lnTo>
                    <a:pt x="81" y="4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74000" y="2518200"/>
              <a:ext cx="58320" cy="1728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81" y="46"/>
                  </a:moveTo>
                  <a:lnTo>
                    <a:pt x="117" y="46"/>
                  </a:lnTo>
                  <a:lnTo>
                    <a:pt x="137" y="49"/>
                  </a:lnTo>
                  <a:lnTo>
                    <a:pt x="162" y="44"/>
                  </a:lnTo>
                  <a:lnTo>
                    <a:pt x="153" y="37"/>
                  </a:lnTo>
                  <a:lnTo>
                    <a:pt x="124" y="37"/>
                  </a:lnTo>
                  <a:lnTo>
                    <a:pt x="73" y="24"/>
                  </a:lnTo>
                  <a:lnTo>
                    <a:pt x="25" y="12"/>
                  </a:lnTo>
                  <a:lnTo>
                    <a:pt x="29" y="7"/>
                  </a:lnTo>
                  <a:lnTo>
                    <a:pt x="0" y="0"/>
                  </a:lnTo>
                  <a:lnTo>
                    <a:pt x="20" y="10"/>
                  </a:lnTo>
                  <a:lnTo>
                    <a:pt x="44" y="24"/>
                  </a:lnTo>
                  <a:lnTo>
                    <a:pt x="61" y="37"/>
                  </a:lnTo>
                  <a:lnTo>
                    <a:pt x="81" y="4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316880" y="1877400"/>
              <a:ext cx="41040" cy="16920"/>
            </a:xfrm>
            <a:custGeom>
              <a:avLst/>
              <a:gdLst/>
              <a:ahLst/>
              <a:rect l="l" t="t" r="r" b="b"/>
              <a:pathLst>
                <a:path w="114" h="48">
                  <a:moveTo>
                    <a:pt x="93" y="47"/>
                  </a:moveTo>
                  <a:lnTo>
                    <a:pt x="36" y="42"/>
                  </a:lnTo>
                  <a:lnTo>
                    <a:pt x="16" y="47"/>
                  </a:lnTo>
                  <a:lnTo>
                    <a:pt x="0" y="37"/>
                  </a:lnTo>
                  <a:lnTo>
                    <a:pt x="8" y="29"/>
                  </a:lnTo>
                  <a:lnTo>
                    <a:pt x="77" y="34"/>
                  </a:lnTo>
                  <a:lnTo>
                    <a:pt x="69" y="22"/>
                  </a:lnTo>
                  <a:lnTo>
                    <a:pt x="77" y="13"/>
                  </a:lnTo>
                  <a:lnTo>
                    <a:pt x="53" y="3"/>
                  </a:lnTo>
                  <a:lnTo>
                    <a:pt x="81" y="0"/>
                  </a:lnTo>
                  <a:lnTo>
                    <a:pt x="113" y="5"/>
                  </a:lnTo>
                  <a:lnTo>
                    <a:pt x="109" y="20"/>
                  </a:lnTo>
                  <a:lnTo>
                    <a:pt x="101" y="29"/>
                  </a:lnTo>
                  <a:lnTo>
                    <a:pt x="88" y="34"/>
                  </a:lnTo>
                  <a:lnTo>
                    <a:pt x="97" y="39"/>
                  </a:lnTo>
                  <a:lnTo>
                    <a:pt x="93" y="4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16880" y="1877400"/>
              <a:ext cx="41040" cy="16920"/>
            </a:xfrm>
            <a:custGeom>
              <a:avLst/>
              <a:gdLst/>
              <a:ahLst/>
              <a:rect l="l" t="t" r="r" b="b"/>
              <a:pathLst>
                <a:path w="114" h="48">
                  <a:moveTo>
                    <a:pt x="93" y="47"/>
                  </a:moveTo>
                  <a:lnTo>
                    <a:pt x="36" y="42"/>
                  </a:lnTo>
                  <a:lnTo>
                    <a:pt x="16" y="47"/>
                  </a:lnTo>
                  <a:lnTo>
                    <a:pt x="0" y="37"/>
                  </a:lnTo>
                  <a:lnTo>
                    <a:pt x="8" y="29"/>
                  </a:lnTo>
                  <a:lnTo>
                    <a:pt x="77" y="34"/>
                  </a:lnTo>
                  <a:lnTo>
                    <a:pt x="69" y="22"/>
                  </a:lnTo>
                  <a:lnTo>
                    <a:pt x="77" y="13"/>
                  </a:lnTo>
                  <a:lnTo>
                    <a:pt x="53" y="3"/>
                  </a:lnTo>
                  <a:lnTo>
                    <a:pt x="81" y="0"/>
                  </a:lnTo>
                  <a:lnTo>
                    <a:pt x="113" y="5"/>
                  </a:lnTo>
                  <a:lnTo>
                    <a:pt x="109" y="20"/>
                  </a:lnTo>
                  <a:lnTo>
                    <a:pt x="101" y="29"/>
                  </a:lnTo>
                  <a:lnTo>
                    <a:pt x="88" y="34"/>
                  </a:lnTo>
                  <a:lnTo>
                    <a:pt x="97" y="39"/>
                  </a:lnTo>
                  <a:lnTo>
                    <a:pt x="93" y="4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557800" y="1699920"/>
              <a:ext cx="71280" cy="43920"/>
            </a:xfrm>
            <a:custGeom>
              <a:avLst/>
              <a:gdLst/>
              <a:ahLst/>
              <a:rect l="l" t="t" r="r" b="b"/>
              <a:pathLst>
                <a:path w="199" h="124">
                  <a:moveTo>
                    <a:pt x="185" y="25"/>
                  </a:moveTo>
                  <a:lnTo>
                    <a:pt x="198" y="10"/>
                  </a:lnTo>
                  <a:lnTo>
                    <a:pt x="185" y="0"/>
                  </a:lnTo>
                  <a:lnTo>
                    <a:pt x="185" y="8"/>
                  </a:lnTo>
                  <a:lnTo>
                    <a:pt x="178" y="10"/>
                  </a:lnTo>
                  <a:lnTo>
                    <a:pt x="158" y="13"/>
                  </a:lnTo>
                  <a:lnTo>
                    <a:pt x="129" y="5"/>
                  </a:lnTo>
                  <a:lnTo>
                    <a:pt x="81" y="10"/>
                  </a:lnTo>
                  <a:lnTo>
                    <a:pt x="25" y="23"/>
                  </a:lnTo>
                  <a:lnTo>
                    <a:pt x="21" y="40"/>
                  </a:lnTo>
                  <a:lnTo>
                    <a:pt x="0" y="49"/>
                  </a:lnTo>
                  <a:lnTo>
                    <a:pt x="17" y="60"/>
                  </a:lnTo>
                  <a:lnTo>
                    <a:pt x="45" y="67"/>
                  </a:lnTo>
                  <a:lnTo>
                    <a:pt x="32" y="69"/>
                  </a:lnTo>
                  <a:lnTo>
                    <a:pt x="48" y="82"/>
                  </a:lnTo>
                  <a:lnTo>
                    <a:pt x="89" y="77"/>
                  </a:lnTo>
                  <a:lnTo>
                    <a:pt x="117" y="84"/>
                  </a:lnTo>
                  <a:lnTo>
                    <a:pt x="109" y="89"/>
                  </a:lnTo>
                  <a:lnTo>
                    <a:pt x="86" y="84"/>
                  </a:lnTo>
                  <a:lnTo>
                    <a:pt x="73" y="82"/>
                  </a:lnTo>
                  <a:lnTo>
                    <a:pt x="53" y="91"/>
                  </a:lnTo>
                  <a:lnTo>
                    <a:pt x="73" y="101"/>
                  </a:lnTo>
                  <a:lnTo>
                    <a:pt x="77" y="116"/>
                  </a:lnTo>
                  <a:lnTo>
                    <a:pt x="93" y="111"/>
                  </a:lnTo>
                  <a:lnTo>
                    <a:pt x="105" y="123"/>
                  </a:lnTo>
                  <a:lnTo>
                    <a:pt x="113" y="116"/>
                  </a:lnTo>
                  <a:lnTo>
                    <a:pt x="133" y="123"/>
                  </a:lnTo>
                  <a:lnTo>
                    <a:pt x="105" y="98"/>
                  </a:lnTo>
                  <a:lnTo>
                    <a:pt x="133" y="101"/>
                  </a:lnTo>
                  <a:lnTo>
                    <a:pt x="113" y="91"/>
                  </a:lnTo>
                  <a:lnTo>
                    <a:pt x="129" y="86"/>
                  </a:lnTo>
                  <a:lnTo>
                    <a:pt x="149" y="96"/>
                  </a:lnTo>
                  <a:lnTo>
                    <a:pt x="146" y="82"/>
                  </a:lnTo>
                  <a:lnTo>
                    <a:pt x="89" y="69"/>
                  </a:lnTo>
                  <a:lnTo>
                    <a:pt x="105" y="67"/>
                  </a:lnTo>
                  <a:lnTo>
                    <a:pt x="98" y="60"/>
                  </a:lnTo>
                  <a:lnTo>
                    <a:pt x="102" y="57"/>
                  </a:lnTo>
                  <a:lnTo>
                    <a:pt x="113" y="60"/>
                  </a:lnTo>
                  <a:lnTo>
                    <a:pt x="81" y="42"/>
                  </a:lnTo>
                  <a:lnTo>
                    <a:pt x="77" y="33"/>
                  </a:lnTo>
                  <a:lnTo>
                    <a:pt x="89" y="27"/>
                  </a:lnTo>
                  <a:lnTo>
                    <a:pt x="89" y="33"/>
                  </a:lnTo>
                  <a:lnTo>
                    <a:pt x="121" y="44"/>
                  </a:lnTo>
                  <a:lnTo>
                    <a:pt x="105" y="38"/>
                  </a:lnTo>
                  <a:lnTo>
                    <a:pt x="129" y="42"/>
                  </a:lnTo>
                  <a:lnTo>
                    <a:pt x="121" y="33"/>
                  </a:lnTo>
                  <a:lnTo>
                    <a:pt x="142" y="38"/>
                  </a:lnTo>
                  <a:lnTo>
                    <a:pt x="113" y="25"/>
                  </a:lnTo>
                  <a:lnTo>
                    <a:pt x="154" y="18"/>
                  </a:lnTo>
                  <a:lnTo>
                    <a:pt x="185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557800" y="1699920"/>
              <a:ext cx="71280" cy="43920"/>
            </a:xfrm>
            <a:custGeom>
              <a:avLst/>
              <a:gdLst/>
              <a:ahLst/>
              <a:rect l="l" t="t" r="r" b="b"/>
              <a:pathLst>
                <a:path w="199" h="124">
                  <a:moveTo>
                    <a:pt x="185" y="25"/>
                  </a:moveTo>
                  <a:lnTo>
                    <a:pt x="198" y="10"/>
                  </a:lnTo>
                  <a:lnTo>
                    <a:pt x="185" y="0"/>
                  </a:lnTo>
                  <a:lnTo>
                    <a:pt x="185" y="8"/>
                  </a:lnTo>
                  <a:lnTo>
                    <a:pt x="178" y="10"/>
                  </a:lnTo>
                  <a:lnTo>
                    <a:pt x="158" y="13"/>
                  </a:lnTo>
                  <a:lnTo>
                    <a:pt x="129" y="5"/>
                  </a:lnTo>
                  <a:lnTo>
                    <a:pt x="81" y="10"/>
                  </a:lnTo>
                  <a:lnTo>
                    <a:pt x="25" y="23"/>
                  </a:lnTo>
                  <a:lnTo>
                    <a:pt x="21" y="40"/>
                  </a:lnTo>
                  <a:lnTo>
                    <a:pt x="0" y="49"/>
                  </a:lnTo>
                  <a:lnTo>
                    <a:pt x="17" y="60"/>
                  </a:lnTo>
                  <a:lnTo>
                    <a:pt x="45" y="67"/>
                  </a:lnTo>
                  <a:lnTo>
                    <a:pt x="32" y="69"/>
                  </a:lnTo>
                  <a:lnTo>
                    <a:pt x="48" y="82"/>
                  </a:lnTo>
                  <a:lnTo>
                    <a:pt x="89" y="77"/>
                  </a:lnTo>
                  <a:lnTo>
                    <a:pt x="117" y="84"/>
                  </a:lnTo>
                  <a:lnTo>
                    <a:pt x="109" y="89"/>
                  </a:lnTo>
                  <a:lnTo>
                    <a:pt x="86" y="84"/>
                  </a:lnTo>
                  <a:lnTo>
                    <a:pt x="73" y="82"/>
                  </a:lnTo>
                  <a:lnTo>
                    <a:pt x="53" y="91"/>
                  </a:lnTo>
                  <a:lnTo>
                    <a:pt x="73" y="101"/>
                  </a:lnTo>
                  <a:lnTo>
                    <a:pt x="77" y="116"/>
                  </a:lnTo>
                  <a:lnTo>
                    <a:pt x="93" y="111"/>
                  </a:lnTo>
                  <a:lnTo>
                    <a:pt x="105" y="123"/>
                  </a:lnTo>
                  <a:lnTo>
                    <a:pt x="113" y="116"/>
                  </a:lnTo>
                  <a:lnTo>
                    <a:pt x="133" y="123"/>
                  </a:lnTo>
                  <a:lnTo>
                    <a:pt x="105" y="98"/>
                  </a:lnTo>
                  <a:lnTo>
                    <a:pt x="133" y="101"/>
                  </a:lnTo>
                  <a:lnTo>
                    <a:pt x="113" y="91"/>
                  </a:lnTo>
                  <a:lnTo>
                    <a:pt x="129" y="86"/>
                  </a:lnTo>
                  <a:lnTo>
                    <a:pt x="149" y="96"/>
                  </a:lnTo>
                  <a:lnTo>
                    <a:pt x="146" y="82"/>
                  </a:lnTo>
                  <a:lnTo>
                    <a:pt x="89" y="69"/>
                  </a:lnTo>
                  <a:lnTo>
                    <a:pt x="105" y="67"/>
                  </a:lnTo>
                  <a:lnTo>
                    <a:pt x="98" y="60"/>
                  </a:lnTo>
                  <a:lnTo>
                    <a:pt x="102" y="57"/>
                  </a:lnTo>
                  <a:lnTo>
                    <a:pt x="113" y="60"/>
                  </a:lnTo>
                  <a:lnTo>
                    <a:pt x="81" y="42"/>
                  </a:lnTo>
                  <a:lnTo>
                    <a:pt x="77" y="33"/>
                  </a:lnTo>
                  <a:lnTo>
                    <a:pt x="89" y="27"/>
                  </a:lnTo>
                  <a:lnTo>
                    <a:pt x="89" y="33"/>
                  </a:lnTo>
                  <a:lnTo>
                    <a:pt x="121" y="44"/>
                  </a:lnTo>
                  <a:lnTo>
                    <a:pt x="105" y="38"/>
                  </a:lnTo>
                  <a:lnTo>
                    <a:pt x="129" y="42"/>
                  </a:lnTo>
                  <a:lnTo>
                    <a:pt x="121" y="33"/>
                  </a:lnTo>
                  <a:lnTo>
                    <a:pt x="142" y="38"/>
                  </a:lnTo>
                  <a:lnTo>
                    <a:pt x="113" y="25"/>
                  </a:lnTo>
                  <a:lnTo>
                    <a:pt x="154" y="18"/>
                  </a:lnTo>
                  <a:lnTo>
                    <a:pt x="185" y="2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121760" y="1918440"/>
              <a:ext cx="67680" cy="39600"/>
            </a:xfrm>
            <a:custGeom>
              <a:avLst/>
              <a:gdLst/>
              <a:ahLst/>
              <a:rect l="l" t="t" r="r" b="b"/>
              <a:pathLst>
                <a:path w="191" h="112">
                  <a:moveTo>
                    <a:pt x="61" y="71"/>
                  </a:moveTo>
                  <a:lnTo>
                    <a:pt x="88" y="94"/>
                  </a:lnTo>
                  <a:lnTo>
                    <a:pt x="85" y="101"/>
                  </a:lnTo>
                  <a:lnTo>
                    <a:pt x="65" y="96"/>
                  </a:lnTo>
                  <a:lnTo>
                    <a:pt x="53" y="82"/>
                  </a:lnTo>
                  <a:lnTo>
                    <a:pt x="61" y="71"/>
                  </a:lnTo>
                  <a:close/>
                  <a:moveTo>
                    <a:pt x="44" y="62"/>
                  </a:moveTo>
                  <a:lnTo>
                    <a:pt x="49" y="71"/>
                  </a:lnTo>
                  <a:lnTo>
                    <a:pt x="33" y="67"/>
                  </a:lnTo>
                  <a:lnTo>
                    <a:pt x="44" y="62"/>
                  </a:lnTo>
                  <a:close/>
                  <a:moveTo>
                    <a:pt x="130" y="103"/>
                  </a:moveTo>
                  <a:lnTo>
                    <a:pt x="126" y="94"/>
                  </a:lnTo>
                  <a:lnTo>
                    <a:pt x="134" y="86"/>
                  </a:lnTo>
                  <a:lnTo>
                    <a:pt x="142" y="67"/>
                  </a:lnTo>
                  <a:lnTo>
                    <a:pt x="137" y="64"/>
                  </a:lnTo>
                  <a:lnTo>
                    <a:pt x="150" y="56"/>
                  </a:lnTo>
                  <a:lnTo>
                    <a:pt x="150" y="67"/>
                  </a:lnTo>
                  <a:lnTo>
                    <a:pt x="157" y="40"/>
                  </a:lnTo>
                  <a:lnTo>
                    <a:pt x="177" y="17"/>
                  </a:lnTo>
                  <a:lnTo>
                    <a:pt x="177" y="5"/>
                  </a:lnTo>
                  <a:lnTo>
                    <a:pt x="190" y="0"/>
                  </a:lnTo>
                  <a:lnTo>
                    <a:pt x="121" y="3"/>
                  </a:lnTo>
                  <a:lnTo>
                    <a:pt x="80" y="27"/>
                  </a:lnTo>
                  <a:lnTo>
                    <a:pt x="72" y="22"/>
                  </a:lnTo>
                  <a:lnTo>
                    <a:pt x="44" y="30"/>
                  </a:lnTo>
                  <a:lnTo>
                    <a:pt x="41" y="42"/>
                  </a:lnTo>
                  <a:lnTo>
                    <a:pt x="16" y="49"/>
                  </a:lnTo>
                  <a:lnTo>
                    <a:pt x="0" y="52"/>
                  </a:lnTo>
                  <a:lnTo>
                    <a:pt x="57" y="99"/>
                  </a:lnTo>
                  <a:lnTo>
                    <a:pt x="85" y="103"/>
                  </a:lnTo>
                  <a:lnTo>
                    <a:pt x="92" y="101"/>
                  </a:lnTo>
                  <a:lnTo>
                    <a:pt x="117" y="111"/>
                  </a:lnTo>
                  <a:lnTo>
                    <a:pt x="130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121760" y="1918440"/>
              <a:ext cx="67680" cy="39600"/>
            </a:xfrm>
            <a:custGeom>
              <a:avLst/>
              <a:gdLst/>
              <a:ahLst/>
              <a:rect l="l" t="t" r="r" b="b"/>
              <a:pathLst>
                <a:path w="191" h="112">
                  <a:moveTo>
                    <a:pt x="130" y="103"/>
                  </a:moveTo>
                  <a:lnTo>
                    <a:pt x="126" y="94"/>
                  </a:lnTo>
                  <a:lnTo>
                    <a:pt x="134" y="86"/>
                  </a:lnTo>
                  <a:lnTo>
                    <a:pt x="142" y="67"/>
                  </a:lnTo>
                  <a:lnTo>
                    <a:pt x="137" y="64"/>
                  </a:lnTo>
                  <a:lnTo>
                    <a:pt x="150" y="56"/>
                  </a:lnTo>
                  <a:lnTo>
                    <a:pt x="150" y="67"/>
                  </a:lnTo>
                  <a:lnTo>
                    <a:pt x="157" y="40"/>
                  </a:lnTo>
                  <a:lnTo>
                    <a:pt x="177" y="17"/>
                  </a:lnTo>
                  <a:lnTo>
                    <a:pt x="177" y="5"/>
                  </a:lnTo>
                  <a:lnTo>
                    <a:pt x="190" y="0"/>
                  </a:lnTo>
                  <a:lnTo>
                    <a:pt x="121" y="3"/>
                  </a:lnTo>
                  <a:lnTo>
                    <a:pt x="80" y="27"/>
                  </a:lnTo>
                  <a:lnTo>
                    <a:pt x="72" y="22"/>
                  </a:lnTo>
                  <a:lnTo>
                    <a:pt x="44" y="30"/>
                  </a:lnTo>
                  <a:lnTo>
                    <a:pt x="41" y="42"/>
                  </a:lnTo>
                  <a:lnTo>
                    <a:pt x="16" y="49"/>
                  </a:lnTo>
                  <a:lnTo>
                    <a:pt x="0" y="52"/>
                  </a:lnTo>
                  <a:lnTo>
                    <a:pt x="57" y="99"/>
                  </a:lnTo>
                  <a:lnTo>
                    <a:pt x="85" y="103"/>
                  </a:lnTo>
                  <a:lnTo>
                    <a:pt x="92" y="101"/>
                  </a:lnTo>
                  <a:lnTo>
                    <a:pt x="117" y="111"/>
                  </a:lnTo>
                  <a:lnTo>
                    <a:pt x="130" y="10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140840" y="1944000"/>
              <a:ext cx="12240" cy="1080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8" y="0"/>
                  </a:moveTo>
                  <a:lnTo>
                    <a:pt x="8" y="0"/>
                  </a:lnTo>
                  <a:lnTo>
                    <a:pt x="35" y="23"/>
                  </a:lnTo>
                  <a:lnTo>
                    <a:pt x="32" y="30"/>
                  </a:lnTo>
                  <a:lnTo>
                    <a:pt x="12" y="25"/>
                  </a:lnTo>
                  <a:lnTo>
                    <a:pt x="0" y="11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132920" y="1940760"/>
              <a:ext cx="5760" cy="28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1" y="0"/>
                  </a:moveTo>
                  <a:lnTo>
                    <a:pt x="11" y="0"/>
                  </a:lnTo>
                  <a:lnTo>
                    <a:pt x="16" y="9"/>
                  </a:lnTo>
                  <a:lnTo>
                    <a:pt x="0" y="5"/>
                  </a:lnTo>
                  <a:lnTo>
                    <a:pt x="1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792240" y="1837440"/>
              <a:ext cx="6120" cy="28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8" y="0"/>
                  </a:moveTo>
                  <a:lnTo>
                    <a:pt x="0" y="2"/>
                  </a:lnTo>
                  <a:lnTo>
                    <a:pt x="17" y="7"/>
                  </a:lnTo>
                  <a:lnTo>
                    <a:pt x="8" y="0"/>
                  </a:lnTo>
                  <a:close/>
                  <a:moveTo>
                    <a:pt x="12" y="7"/>
                  </a:moveTo>
                  <a:lnTo>
                    <a:pt x="8" y="7"/>
                  </a:lnTo>
                  <a:lnTo>
                    <a:pt x="12" y="7"/>
                  </a:lnTo>
                  <a:close/>
                  <a:moveTo>
                    <a:pt x="8" y="7"/>
                  </a:moveTo>
                  <a:lnTo>
                    <a:pt x="5" y="9"/>
                  </a:lnTo>
                  <a:lnTo>
                    <a:pt x="8" y="7"/>
                  </a:lnTo>
                  <a:close/>
                  <a:moveTo>
                    <a:pt x="0" y="2"/>
                  </a:moveTo>
                  <a:lnTo>
                    <a:pt x="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792240" y="1837440"/>
              <a:ext cx="6120" cy="288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2"/>
                  </a:moveTo>
                  <a:lnTo>
                    <a:pt x="8" y="0"/>
                  </a:lnTo>
                  <a:lnTo>
                    <a:pt x="0" y="2"/>
                  </a:lnTo>
                  <a:lnTo>
                    <a:pt x="17" y="7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795480" y="1839240"/>
              <a:ext cx="1080" cy="10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794040" y="1839240"/>
              <a:ext cx="108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057840" y="1823400"/>
              <a:ext cx="4320" cy="576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2" y="17"/>
                  </a:moveTo>
                  <a:lnTo>
                    <a:pt x="0" y="7"/>
                  </a:lnTo>
                  <a:lnTo>
                    <a:pt x="4" y="0"/>
                  </a:lnTo>
                  <a:lnTo>
                    <a:pt x="12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057840" y="1823400"/>
              <a:ext cx="4320" cy="576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2" y="17"/>
                  </a:moveTo>
                  <a:lnTo>
                    <a:pt x="0" y="7"/>
                  </a:lnTo>
                  <a:lnTo>
                    <a:pt x="4" y="0"/>
                  </a:lnTo>
                  <a:lnTo>
                    <a:pt x="12" y="1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29440" y="1695240"/>
              <a:ext cx="455400" cy="247320"/>
            </a:xfrm>
            <a:custGeom>
              <a:avLst/>
              <a:gdLst/>
              <a:ahLst/>
              <a:rect l="l" t="t" r="r" b="b"/>
              <a:pathLst>
                <a:path w="1265" h="687">
                  <a:moveTo>
                    <a:pt x="323" y="147"/>
                  </a:moveTo>
                  <a:lnTo>
                    <a:pt x="306" y="157"/>
                  </a:lnTo>
                  <a:lnTo>
                    <a:pt x="315" y="165"/>
                  </a:lnTo>
                  <a:lnTo>
                    <a:pt x="283" y="175"/>
                  </a:lnTo>
                  <a:lnTo>
                    <a:pt x="258" y="172"/>
                  </a:lnTo>
                  <a:lnTo>
                    <a:pt x="250" y="165"/>
                  </a:lnTo>
                  <a:lnTo>
                    <a:pt x="271" y="163"/>
                  </a:lnTo>
                  <a:lnTo>
                    <a:pt x="323" y="147"/>
                  </a:lnTo>
                  <a:close/>
                  <a:moveTo>
                    <a:pt x="541" y="79"/>
                  </a:moveTo>
                  <a:lnTo>
                    <a:pt x="544" y="76"/>
                  </a:lnTo>
                  <a:lnTo>
                    <a:pt x="541" y="74"/>
                  </a:lnTo>
                  <a:lnTo>
                    <a:pt x="549" y="72"/>
                  </a:lnTo>
                  <a:lnTo>
                    <a:pt x="561" y="72"/>
                  </a:lnTo>
                  <a:lnTo>
                    <a:pt x="561" y="69"/>
                  </a:lnTo>
                  <a:lnTo>
                    <a:pt x="557" y="69"/>
                  </a:lnTo>
                  <a:lnTo>
                    <a:pt x="566" y="67"/>
                  </a:lnTo>
                  <a:lnTo>
                    <a:pt x="569" y="67"/>
                  </a:lnTo>
                  <a:lnTo>
                    <a:pt x="573" y="67"/>
                  </a:lnTo>
                  <a:lnTo>
                    <a:pt x="577" y="67"/>
                  </a:lnTo>
                  <a:lnTo>
                    <a:pt x="573" y="69"/>
                  </a:lnTo>
                  <a:lnTo>
                    <a:pt x="566" y="72"/>
                  </a:lnTo>
                  <a:lnTo>
                    <a:pt x="566" y="74"/>
                  </a:lnTo>
                  <a:lnTo>
                    <a:pt x="561" y="76"/>
                  </a:lnTo>
                  <a:lnTo>
                    <a:pt x="566" y="74"/>
                  </a:lnTo>
                  <a:lnTo>
                    <a:pt x="569" y="76"/>
                  </a:lnTo>
                  <a:lnTo>
                    <a:pt x="573" y="79"/>
                  </a:lnTo>
                  <a:lnTo>
                    <a:pt x="569" y="81"/>
                  </a:lnTo>
                  <a:lnTo>
                    <a:pt x="566" y="81"/>
                  </a:lnTo>
                  <a:lnTo>
                    <a:pt x="561" y="79"/>
                  </a:lnTo>
                  <a:lnTo>
                    <a:pt x="557" y="79"/>
                  </a:lnTo>
                  <a:lnTo>
                    <a:pt x="553" y="79"/>
                  </a:lnTo>
                  <a:lnTo>
                    <a:pt x="541" y="79"/>
                  </a:lnTo>
                  <a:close/>
                  <a:moveTo>
                    <a:pt x="404" y="302"/>
                  </a:moveTo>
                  <a:lnTo>
                    <a:pt x="403" y="326"/>
                  </a:lnTo>
                  <a:lnTo>
                    <a:pt x="424" y="327"/>
                  </a:lnTo>
                  <a:lnTo>
                    <a:pt x="521" y="394"/>
                  </a:lnTo>
                  <a:lnTo>
                    <a:pt x="537" y="416"/>
                  </a:lnTo>
                  <a:lnTo>
                    <a:pt x="577" y="428"/>
                  </a:lnTo>
                  <a:lnTo>
                    <a:pt x="614" y="463"/>
                  </a:lnTo>
                  <a:lnTo>
                    <a:pt x="610" y="472"/>
                  </a:lnTo>
                  <a:lnTo>
                    <a:pt x="625" y="492"/>
                  </a:lnTo>
                  <a:lnTo>
                    <a:pt x="654" y="512"/>
                  </a:lnTo>
                  <a:lnTo>
                    <a:pt x="695" y="524"/>
                  </a:lnTo>
                  <a:lnTo>
                    <a:pt x="723" y="553"/>
                  </a:lnTo>
                  <a:lnTo>
                    <a:pt x="771" y="580"/>
                  </a:lnTo>
                  <a:lnTo>
                    <a:pt x="795" y="605"/>
                  </a:lnTo>
                  <a:lnTo>
                    <a:pt x="803" y="635"/>
                  </a:lnTo>
                  <a:lnTo>
                    <a:pt x="795" y="635"/>
                  </a:lnTo>
                  <a:lnTo>
                    <a:pt x="811" y="642"/>
                  </a:lnTo>
                  <a:lnTo>
                    <a:pt x="840" y="686"/>
                  </a:lnTo>
                  <a:lnTo>
                    <a:pt x="869" y="671"/>
                  </a:lnTo>
                  <a:lnTo>
                    <a:pt x="920" y="670"/>
                  </a:lnTo>
                  <a:lnTo>
                    <a:pt x="1153" y="574"/>
                  </a:lnTo>
                  <a:lnTo>
                    <a:pt x="1249" y="526"/>
                  </a:lnTo>
                  <a:lnTo>
                    <a:pt x="1264" y="494"/>
                  </a:lnTo>
                  <a:lnTo>
                    <a:pt x="1249" y="469"/>
                  </a:lnTo>
                  <a:lnTo>
                    <a:pt x="1215" y="457"/>
                  </a:lnTo>
                  <a:lnTo>
                    <a:pt x="1199" y="445"/>
                  </a:lnTo>
                  <a:lnTo>
                    <a:pt x="1195" y="452"/>
                  </a:lnTo>
                  <a:lnTo>
                    <a:pt x="1179" y="450"/>
                  </a:lnTo>
                  <a:lnTo>
                    <a:pt x="1170" y="450"/>
                  </a:lnTo>
                  <a:lnTo>
                    <a:pt x="1151" y="448"/>
                  </a:lnTo>
                  <a:lnTo>
                    <a:pt x="1126" y="445"/>
                  </a:lnTo>
                  <a:lnTo>
                    <a:pt x="1123" y="445"/>
                  </a:lnTo>
                  <a:lnTo>
                    <a:pt x="1101" y="443"/>
                  </a:lnTo>
                  <a:lnTo>
                    <a:pt x="1082" y="440"/>
                  </a:lnTo>
                  <a:lnTo>
                    <a:pt x="1070" y="430"/>
                  </a:lnTo>
                  <a:lnTo>
                    <a:pt x="1058" y="418"/>
                  </a:lnTo>
                  <a:lnTo>
                    <a:pt x="1033" y="411"/>
                  </a:lnTo>
                  <a:lnTo>
                    <a:pt x="1029" y="403"/>
                  </a:lnTo>
                  <a:lnTo>
                    <a:pt x="1017" y="398"/>
                  </a:lnTo>
                  <a:lnTo>
                    <a:pt x="973" y="369"/>
                  </a:lnTo>
                  <a:lnTo>
                    <a:pt x="977" y="362"/>
                  </a:lnTo>
                  <a:lnTo>
                    <a:pt x="973" y="354"/>
                  </a:lnTo>
                  <a:lnTo>
                    <a:pt x="936" y="342"/>
                  </a:lnTo>
                  <a:lnTo>
                    <a:pt x="929" y="332"/>
                  </a:lnTo>
                  <a:lnTo>
                    <a:pt x="913" y="332"/>
                  </a:lnTo>
                  <a:lnTo>
                    <a:pt x="884" y="310"/>
                  </a:lnTo>
                  <a:lnTo>
                    <a:pt x="863" y="291"/>
                  </a:lnTo>
                  <a:lnTo>
                    <a:pt x="848" y="291"/>
                  </a:lnTo>
                  <a:lnTo>
                    <a:pt x="863" y="286"/>
                  </a:lnTo>
                  <a:lnTo>
                    <a:pt x="853" y="273"/>
                  </a:lnTo>
                  <a:lnTo>
                    <a:pt x="872" y="276"/>
                  </a:lnTo>
                  <a:lnTo>
                    <a:pt x="848" y="263"/>
                  </a:lnTo>
                  <a:lnTo>
                    <a:pt x="840" y="251"/>
                  </a:lnTo>
                  <a:lnTo>
                    <a:pt x="828" y="251"/>
                  </a:lnTo>
                  <a:lnTo>
                    <a:pt x="824" y="231"/>
                  </a:lnTo>
                  <a:lnTo>
                    <a:pt x="799" y="219"/>
                  </a:lnTo>
                  <a:lnTo>
                    <a:pt x="747" y="204"/>
                  </a:lnTo>
                  <a:lnTo>
                    <a:pt x="743" y="199"/>
                  </a:lnTo>
                  <a:lnTo>
                    <a:pt x="706" y="182"/>
                  </a:lnTo>
                  <a:lnTo>
                    <a:pt x="702" y="167"/>
                  </a:lnTo>
                  <a:lnTo>
                    <a:pt x="718" y="155"/>
                  </a:lnTo>
                  <a:lnTo>
                    <a:pt x="702" y="141"/>
                  </a:lnTo>
                  <a:lnTo>
                    <a:pt x="714" y="138"/>
                  </a:lnTo>
                  <a:lnTo>
                    <a:pt x="679" y="135"/>
                  </a:lnTo>
                  <a:lnTo>
                    <a:pt x="642" y="108"/>
                  </a:lnTo>
                  <a:lnTo>
                    <a:pt x="625" y="94"/>
                  </a:lnTo>
                  <a:lnTo>
                    <a:pt x="610" y="91"/>
                  </a:lnTo>
                  <a:lnTo>
                    <a:pt x="614" y="81"/>
                  </a:lnTo>
                  <a:lnTo>
                    <a:pt x="581" y="5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598" y="50"/>
                  </a:lnTo>
                  <a:lnTo>
                    <a:pt x="581" y="42"/>
                  </a:lnTo>
                  <a:lnTo>
                    <a:pt x="557" y="39"/>
                  </a:lnTo>
                  <a:lnTo>
                    <a:pt x="544" y="22"/>
                  </a:lnTo>
                  <a:lnTo>
                    <a:pt x="533" y="17"/>
                  </a:lnTo>
                  <a:lnTo>
                    <a:pt x="508" y="10"/>
                  </a:lnTo>
                  <a:lnTo>
                    <a:pt x="468" y="10"/>
                  </a:lnTo>
                  <a:lnTo>
                    <a:pt x="433" y="25"/>
                  </a:lnTo>
                  <a:lnTo>
                    <a:pt x="407" y="20"/>
                  </a:lnTo>
                  <a:lnTo>
                    <a:pt x="376" y="25"/>
                  </a:lnTo>
                  <a:lnTo>
                    <a:pt x="310" y="20"/>
                  </a:lnTo>
                  <a:lnTo>
                    <a:pt x="296" y="10"/>
                  </a:lnTo>
                  <a:lnTo>
                    <a:pt x="271" y="10"/>
                  </a:lnTo>
                  <a:lnTo>
                    <a:pt x="254" y="0"/>
                  </a:lnTo>
                  <a:lnTo>
                    <a:pt x="182" y="7"/>
                  </a:lnTo>
                  <a:lnTo>
                    <a:pt x="153" y="25"/>
                  </a:lnTo>
                  <a:lnTo>
                    <a:pt x="97" y="25"/>
                  </a:lnTo>
                  <a:lnTo>
                    <a:pt x="81" y="22"/>
                  </a:lnTo>
                  <a:lnTo>
                    <a:pt x="81" y="30"/>
                  </a:lnTo>
                  <a:lnTo>
                    <a:pt x="113" y="35"/>
                  </a:lnTo>
                  <a:lnTo>
                    <a:pt x="85" y="37"/>
                  </a:lnTo>
                  <a:lnTo>
                    <a:pt x="77" y="39"/>
                  </a:lnTo>
                  <a:lnTo>
                    <a:pt x="89" y="42"/>
                  </a:lnTo>
                  <a:lnTo>
                    <a:pt x="16" y="45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29" y="61"/>
                  </a:lnTo>
                  <a:lnTo>
                    <a:pt x="20" y="69"/>
                  </a:lnTo>
                  <a:lnTo>
                    <a:pt x="41" y="79"/>
                  </a:lnTo>
                  <a:lnTo>
                    <a:pt x="32" y="84"/>
                  </a:lnTo>
                  <a:lnTo>
                    <a:pt x="49" y="89"/>
                  </a:lnTo>
                  <a:lnTo>
                    <a:pt x="32" y="91"/>
                  </a:lnTo>
                  <a:lnTo>
                    <a:pt x="20" y="84"/>
                  </a:lnTo>
                  <a:lnTo>
                    <a:pt x="20" y="94"/>
                  </a:lnTo>
                  <a:lnTo>
                    <a:pt x="57" y="98"/>
                  </a:lnTo>
                  <a:lnTo>
                    <a:pt x="49" y="106"/>
                  </a:lnTo>
                  <a:lnTo>
                    <a:pt x="72" y="116"/>
                  </a:lnTo>
                  <a:lnTo>
                    <a:pt x="65" y="121"/>
                  </a:lnTo>
                  <a:lnTo>
                    <a:pt x="101" y="121"/>
                  </a:lnTo>
                  <a:lnTo>
                    <a:pt x="72" y="128"/>
                  </a:lnTo>
                  <a:lnTo>
                    <a:pt x="93" y="126"/>
                  </a:lnTo>
                  <a:lnTo>
                    <a:pt x="93" y="130"/>
                  </a:lnTo>
                  <a:lnTo>
                    <a:pt x="105" y="123"/>
                  </a:lnTo>
                  <a:lnTo>
                    <a:pt x="134" y="135"/>
                  </a:lnTo>
                  <a:lnTo>
                    <a:pt x="153" y="141"/>
                  </a:lnTo>
                  <a:lnTo>
                    <a:pt x="178" y="138"/>
                  </a:lnTo>
                  <a:lnTo>
                    <a:pt x="178" y="123"/>
                  </a:lnTo>
                  <a:lnTo>
                    <a:pt x="194" y="123"/>
                  </a:lnTo>
                  <a:lnTo>
                    <a:pt x="258" y="141"/>
                  </a:lnTo>
                  <a:lnTo>
                    <a:pt x="296" y="135"/>
                  </a:lnTo>
                  <a:lnTo>
                    <a:pt x="310" y="123"/>
                  </a:lnTo>
                  <a:lnTo>
                    <a:pt x="339" y="128"/>
                  </a:lnTo>
                  <a:lnTo>
                    <a:pt x="356" y="118"/>
                  </a:lnTo>
                  <a:lnTo>
                    <a:pt x="368" y="126"/>
                  </a:lnTo>
                  <a:lnTo>
                    <a:pt x="356" y="133"/>
                  </a:lnTo>
                  <a:lnTo>
                    <a:pt x="364" y="143"/>
                  </a:lnTo>
                  <a:lnTo>
                    <a:pt x="364" y="150"/>
                  </a:lnTo>
                  <a:lnTo>
                    <a:pt x="380" y="172"/>
                  </a:lnTo>
                  <a:lnTo>
                    <a:pt x="368" y="209"/>
                  </a:lnTo>
                  <a:lnTo>
                    <a:pt x="361" y="244"/>
                  </a:lnTo>
                  <a:lnTo>
                    <a:pt x="360" y="253"/>
                  </a:lnTo>
                  <a:lnTo>
                    <a:pt x="400" y="293"/>
                  </a:lnTo>
                  <a:lnTo>
                    <a:pt x="398" y="298"/>
                  </a:lnTo>
                  <a:lnTo>
                    <a:pt x="404" y="3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29440" y="1695240"/>
              <a:ext cx="455400" cy="247320"/>
            </a:xfrm>
            <a:custGeom>
              <a:avLst/>
              <a:gdLst/>
              <a:ahLst/>
              <a:rect l="l" t="t" r="r" b="b"/>
              <a:pathLst>
                <a:path w="1265" h="687">
                  <a:moveTo>
                    <a:pt x="404" y="302"/>
                  </a:moveTo>
                  <a:lnTo>
                    <a:pt x="403" y="326"/>
                  </a:lnTo>
                  <a:lnTo>
                    <a:pt x="424" y="327"/>
                  </a:lnTo>
                  <a:lnTo>
                    <a:pt x="521" y="394"/>
                  </a:lnTo>
                  <a:lnTo>
                    <a:pt x="537" y="416"/>
                  </a:lnTo>
                  <a:lnTo>
                    <a:pt x="577" y="428"/>
                  </a:lnTo>
                  <a:lnTo>
                    <a:pt x="614" y="463"/>
                  </a:lnTo>
                  <a:lnTo>
                    <a:pt x="610" y="472"/>
                  </a:lnTo>
                  <a:lnTo>
                    <a:pt x="625" y="492"/>
                  </a:lnTo>
                  <a:lnTo>
                    <a:pt x="654" y="512"/>
                  </a:lnTo>
                  <a:lnTo>
                    <a:pt x="695" y="524"/>
                  </a:lnTo>
                  <a:lnTo>
                    <a:pt x="723" y="553"/>
                  </a:lnTo>
                  <a:lnTo>
                    <a:pt x="771" y="580"/>
                  </a:lnTo>
                  <a:lnTo>
                    <a:pt x="795" y="605"/>
                  </a:lnTo>
                  <a:lnTo>
                    <a:pt x="803" y="635"/>
                  </a:lnTo>
                  <a:lnTo>
                    <a:pt x="795" y="635"/>
                  </a:lnTo>
                  <a:lnTo>
                    <a:pt x="811" y="642"/>
                  </a:lnTo>
                  <a:lnTo>
                    <a:pt x="840" y="686"/>
                  </a:lnTo>
                  <a:lnTo>
                    <a:pt x="869" y="671"/>
                  </a:lnTo>
                  <a:lnTo>
                    <a:pt x="920" y="670"/>
                  </a:lnTo>
                  <a:lnTo>
                    <a:pt x="1153" y="574"/>
                  </a:lnTo>
                  <a:lnTo>
                    <a:pt x="1249" y="526"/>
                  </a:lnTo>
                  <a:lnTo>
                    <a:pt x="1264" y="494"/>
                  </a:lnTo>
                  <a:lnTo>
                    <a:pt x="1249" y="469"/>
                  </a:lnTo>
                  <a:lnTo>
                    <a:pt x="1215" y="457"/>
                  </a:lnTo>
                  <a:lnTo>
                    <a:pt x="1199" y="445"/>
                  </a:lnTo>
                  <a:lnTo>
                    <a:pt x="1195" y="452"/>
                  </a:lnTo>
                  <a:lnTo>
                    <a:pt x="1179" y="450"/>
                  </a:lnTo>
                  <a:lnTo>
                    <a:pt x="1170" y="450"/>
                  </a:lnTo>
                  <a:lnTo>
                    <a:pt x="1151" y="448"/>
                  </a:lnTo>
                  <a:lnTo>
                    <a:pt x="1126" y="445"/>
                  </a:lnTo>
                  <a:lnTo>
                    <a:pt x="1123" y="445"/>
                  </a:lnTo>
                  <a:lnTo>
                    <a:pt x="1101" y="443"/>
                  </a:lnTo>
                  <a:lnTo>
                    <a:pt x="1082" y="440"/>
                  </a:lnTo>
                  <a:lnTo>
                    <a:pt x="1070" y="430"/>
                  </a:lnTo>
                  <a:lnTo>
                    <a:pt x="1058" y="418"/>
                  </a:lnTo>
                  <a:lnTo>
                    <a:pt x="1033" y="411"/>
                  </a:lnTo>
                  <a:lnTo>
                    <a:pt x="1029" y="403"/>
                  </a:lnTo>
                  <a:lnTo>
                    <a:pt x="1017" y="398"/>
                  </a:lnTo>
                  <a:lnTo>
                    <a:pt x="973" y="369"/>
                  </a:lnTo>
                  <a:lnTo>
                    <a:pt x="977" y="362"/>
                  </a:lnTo>
                  <a:lnTo>
                    <a:pt x="973" y="354"/>
                  </a:lnTo>
                  <a:lnTo>
                    <a:pt x="936" y="342"/>
                  </a:lnTo>
                  <a:lnTo>
                    <a:pt x="929" y="332"/>
                  </a:lnTo>
                  <a:lnTo>
                    <a:pt x="913" y="332"/>
                  </a:lnTo>
                  <a:lnTo>
                    <a:pt x="884" y="310"/>
                  </a:lnTo>
                  <a:lnTo>
                    <a:pt x="863" y="291"/>
                  </a:lnTo>
                  <a:lnTo>
                    <a:pt x="848" y="291"/>
                  </a:lnTo>
                  <a:lnTo>
                    <a:pt x="863" y="286"/>
                  </a:lnTo>
                  <a:lnTo>
                    <a:pt x="853" y="273"/>
                  </a:lnTo>
                  <a:lnTo>
                    <a:pt x="872" y="276"/>
                  </a:lnTo>
                  <a:lnTo>
                    <a:pt x="872" y="276"/>
                  </a:lnTo>
                  <a:lnTo>
                    <a:pt x="848" y="263"/>
                  </a:lnTo>
                  <a:lnTo>
                    <a:pt x="840" y="251"/>
                  </a:lnTo>
                  <a:lnTo>
                    <a:pt x="828" y="251"/>
                  </a:lnTo>
                  <a:lnTo>
                    <a:pt x="824" y="231"/>
                  </a:lnTo>
                  <a:lnTo>
                    <a:pt x="799" y="219"/>
                  </a:lnTo>
                  <a:lnTo>
                    <a:pt x="747" y="204"/>
                  </a:lnTo>
                  <a:lnTo>
                    <a:pt x="743" y="199"/>
                  </a:lnTo>
                  <a:lnTo>
                    <a:pt x="706" y="182"/>
                  </a:lnTo>
                  <a:lnTo>
                    <a:pt x="702" y="167"/>
                  </a:lnTo>
                  <a:lnTo>
                    <a:pt x="718" y="155"/>
                  </a:lnTo>
                  <a:lnTo>
                    <a:pt x="702" y="141"/>
                  </a:lnTo>
                  <a:lnTo>
                    <a:pt x="714" y="138"/>
                  </a:lnTo>
                  <a:lnTo>
                    <a:pt x="679" y="135"/>
                  </a:lnTo>
                  <a:lnTo>
                    <a:pt x="642" y="108"/>
                  </a:lnTo>
                  <a:lnTo>
                    <a:pt x="625" y="94"/>
                  </a:lnTo>
                  <a:lnTo>
                    <a:pt x="610" y="91"/>
                  </a:lnTo>
                  <a:lnTo>
                    <a:pt x="614" y="81"/>
                  </a:lnTo>
                  <a:lnTo>
                    <a:pt x="581" y="5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598" y="50"/>
                  </a:lnTo>
                  <a:lnTo>
                    <a:pt x="581" y="42"/>
                  </a:lnTo>
                  <a:lnTo>
                    <a:pt x="557" y="39"/>
                  </a:lnTo>
                  <a:lnTo>
                    <a:pt x="544" y="22"/>
                  </a:lnTo>
                  <a:lnTo>
                    <a:pt x="533" y="17"/>
                  </a:lnTo>
                  <a:lnTo>
                    <a:pt x="508" y="10"/>
                  </a:lnTo>
                  <a:lnTo>
                    <a:pt x="468" y="10"/>
                  </a:lnTo>
                  <a:lnTo>
                    <a:pt x="433" y="25"/>
                  </a:lnTo>
                  <a:lnTo>
                    <a:pt x="407" y="20"/>
                  </a:lnTo>
                  <a:lnTo>
                    <a:pt x="376" y="25"/>
                  </a:lnTo>
                  <a:lnTo>
                    <a:pt x="310" y="20"/>
                  </a:lnTo>
                  <a:lnTo>
                    <a:pt x="296" y="10"/>
                  </a:lnTo>
                  <a:lnTo>
                    <a:pt x="271" y="10"/>
                  </a:lnTo>
                  <a:lnTo>
                    <a:pt x="254" y="0"/>
                  </a:lnTo>
                  <a:lnTo>
                    <a:pt x="182" y="7"/>
                  </a:lnTo>
                  <a:lnTo>
                    <a:pt x="153" y="25"/>
                  </a:lnTo>
                  <a:lnTo>
                    <a:pt x="97" y="25"/>
                  </a:lnTo>
                  <a:lnTo>
                    <a:pt x="81" y="22"/>
                  </a:lnTo>
                  <a:lnTo>
                    <a:pt x="81" y="30"/>
                  </a:lnTo>
                  <a:lnTo>
                    <a:pt x="113" y="35"/>
                  </a:lnTo>
                  <a:lnTo>
                    <a:pt x="85" y="37"/>
                  </a:lnTo>
                  <a:lnTo>
                    <a:pt x="77" y="39"/>
                  </a:lnTo>
                  <a:lnTo>
                    <a:pt x="89" y="42"/>
                  </a:lnTo>
                  <a:lnTo>
                    <a:pt x="16" y="45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29" y="61"/>
                  </a:lnTo>
                  <a:lnTo>
                    <a:pt x="20" y="69"/>
                  </a:lnTo>
                  <a:lnTo>
                    <a:pt x="41" y="79"/>
                  </a:lnTo>
                  <a:lnTo>
                    <a:pt x="32" y="84"/>
                  </a:lnTo>
                  <a:lnTo>
                    <a:pt x="49" y="89"/>
                  </a:lnTo>
                  <a:lnTo>
                    <a:pt x="32" y="91"/>
                  </a:lnTo>
                  <a:lnTo>
                    <a:pt x="20" y="84"/>
                  </a:lnTo>
                  <a:lnTo>
                    <a:pt x="20" y="94"/>
                  </a:lnTo>
                  <a:lnTo>
                    <a:pt x="57" y="98"/>
                  </a:lnTo>
                  <a:lnTo>
                    <a:pt x="49" y="106"/>
                  </a:lnTo>
                  <a:lnTo>
                    <a:pt x="72" y="116"/>
                  </a:lnTo>
                  <a:lnTo>
                    <a:pt x="65" y="121"/>
                  </a:lnTo>
                  <a:lnTo>
                    <a:pt x="101" y="121"/>
                  </a:lnTo>
                  <a:lnTo>
                    <a:pt x="72" y="128"/>
                  </a:lnTo>
                  <a:lnTo>
                    <a:pt x="93" y="126"/>
                  </a:lnTo>
                  <a:lnTo>
                    <a:pt x="93" y="130"/>
                  </a:lnTo>
                  <a:lnTo>
                    <a:pt x="105" y="123"/>
                  </a:lnTo>
                  <a:lnTo>
                    <a:pt x="134" y="135"/>
                  </a:lnTo>
                  <a:lnTo>
                    <a:pt x="153" y="141"/>
                  </a:lnTo>
                  <a:lnTo>
                    <a:pt x="178" y="138"/>
                  </a:lnTo>
                  <a:lnTo>
                    <a:pt x="178" y="123"/>
                  </a:lnTo>
                  <a:lnTo>
                    <a:pt x="194" y="123"/>
                  </a:lnTo>
                  <a:lnTo>
                    <a:pt x="258" y="141"/>
                  </a:lnTo>
                  <a:lnTo>
                    <a:pt x="296" y="135"/>
                  </a:lnTo>
                  <a:lnTo>
                    <a:pt x="310" y="123"/>
                  </a:lnTo>
                  <a:lnTo>
                    <a:pt x="339" y="128"/>
                  </a:lnTo>
                  <a:lnTo>
                    <a:pt x="356" y="118"/>
                  </a:lnTo>
                  <a:lnTo>
                    <a:pt x="368" y="126"/>
                  </a:lnTo>
                  <a:lnTo>
                    <a:pt x="356" y="133"/>
                  </a:lnTo>
                  <a:lnTo>
                    <a:pt x="364" y="143"/>
                  </a:lnTo>
                  <a:lnTo>
                    <a:pt x="364" y="150"/>
                  </a:lnTo>
                  <a:lnTo>
                    <a:pt x="380" y="172"/>
                  </a:lnTo>
                  <a:lnTo>
                    <a:pt x="368" y="209"/>
                  </a:lnTo>
                  <a:lnTo>
                    <a:pt x="361" y="244"/>
                  </a:lnTo>
                  <a:lnTo>
                    <a:pt x="360" y="253"/>
                  </a:lnTo>
                  <a:lnTo>
                    <a:pt x="400" y="293"/>
                  </a:lnTo>
                  <a:lnTo>
                    <a:pt x="398" y="298"/>
                  </a:lnTo>
                  <a:lnTo>
                    <a:pt x="404" y="30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718360" y="1748880"/>
              <a:ext cx="26640" cy="10440"/>
            </a:xfrm>
            <a:custGeom>
              <a:avLst/>
              <a:gdLst/>
              <a:ahLst/>
              <a:rect l="l" t="t" r="r" b="b"/>
              <a:pathLst>
                <a:path w="74" h="29">
                  <a:moveTo>
                    <a:pt x="73" y="0"/>
                  </a:moveTo>
                  <a:lnTo>
                    <a:pt x="73" y="0"/>
                  </a:lnTo>
                  <a:lnTo>
                    <a:pt x="56" y="10"/>
                  </a:lnTo>
                  <a:lnTo>
                    <a:pt x="65" y="18"/>
                  </a:lnTo>
                  <a:lnTo>
                    <a:pt x="33" y="28"/>
                  </a:lnTo>
                  <a:lnTo>
                    <a:pt x="8" y="25"/>
                  </a:lnTo>
                  <a:lnTo>
                    <a:pt x="0" y="18"/>
                  </a:lnTo>
                  <a:lnTo>
                    <a:pt x="21" y="16"/>
                  </a:lnTo>
                  <a:lnTo>
                    <a:pt x="7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822760" y="1720080"/>
              <a:ext cx="12240" cy="432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0" y="12"/>
                  </a:moveTo>
                  <a:lnTo>
                    <a:pt x="0" y="12"/>
                  </a:lnTo>
                  <a:lnTo>
                    <a:pt x="3" y="9"/>
                  </a:lnTo>
                  <a:lnTo>
                    <a:pt x="0" y="7"/>
                  </a:lnTo>
                  <a:lnTo>
                    <a:pt x="8" y="5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2" y="2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0" y="9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5" y="14"/>
                  </a:lnTo>
                  <a:lnTo>
                    <a:pt x="20" y="12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0" y="1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167280" y="1614240"/>
              <a:ext cx="663120" cy="247320"/>
            </a:xfrm>
            <a:custGeom>
              <a:avLst/>
              <a:gdLst/>
              <a:ahLst/>
              <a:rect l="l" t="t" r="r" b="b"/>
              <a:pathLst>
                <a:path w="1843" h="687">
                  <a:moveTo>
                    <a:pt x="965" y="0"/>
                  </a:moveTo>
                  <a:lnTo>
                    <a:pt x="913" y="10"/>
                  </a:lnTo>
                  <a:lnTo>
                    <a:pt x="909" y="17"/>
                  </a:lnTo>
                  <a:lnTo>
                    <a:pt x="929" y="39"/>
                  </a:lnTo>
                  <a:lnTo>
                    <a:pt x="905" y="41"/>
                  </a:lnTo>
                  <a:lnTo>
                    <a:pt x="913" y="51"/>
                  </a:lnTo>
                  <a:lnTo>
                    <a:pt x="913" y="61"/>
                  </a:lnTo>
                  <a:lnTo>
                    <a:pt x="857" y="57"/>
                  </a:lnTo>
                  <a:lnTo>
                    <a:pt x="877" y="74"/>
                  </a:lnTo>
                  <a:lnTo>
                    <a:pt x="921" y="88"/>
                  </a:lnTo>
                  <a:lnTo>
                    <a:pt x="921" y="118"/>
                  </a:lnTo>
                  <a:lnTo>
                    <a:pt x="861" y="128"/>
                  </a:lnTo>
                  <a:lnTo>
                    <a:pt x="832" y="150"/>
                  </a:lnTo>
                  <a:lnTo>
                    <a:pt x="832" y="155"/>
                  </a:lnTo>
                  <a:lnTo>
                    <a:pt x="808" y="147"/>
                  </a:lnTo>
                  <a:lnTo>
                    <a:pt x="731" y="145"/>
                  </a:lnTo>
                  <a:lnTo>
                    <a:pt x="711" y="137"/>
                  </a:lnTo>
                  <a:lnTo>
                    <a:pt x="699" y="137"/>
                  </a:lnTo>
                  <a:lnTo>
                    <a:pt x="675" y="135"/>
                  </a:lnTo>
                  <a:lnTo>
                    <a:pt x="655" y="137"/>
                  </a:lnTo>
                  <a:lnTo>
                    <a:pt x="554" y="142"/>
                  </a:lnTo>
                  <a:lnTo>
                    <a:pt x="465" y="108"/>
                  </a:lnTo>
                  <a:lnTo>
                    <a:pt x="384" y="93"/>
                  </a:lnTo>
                  <a:lnTo>
                    <a:pt x="300" y="91"/>
                  </a:lnTo>
                  <a:lnTo>
                    <a:pt x="239" y="54"/>
                  </a:lnTo>
                  <a:lnTo>
                    <a:pt x="183" y="35"/>
                  </a:lnTo>
                  <a:lnTo>
                    <a:pt x="150" y="35"/>
                  </a:lnTo>
                  <a:lnTo>
                    <a:pt x="122" y="25"/>
                  </a:lnTo>
                  <a:lnTo>
                    <a:pt x="102" y="22"/>
                  </a:lnTo>
                  <a:lnTo>
                    <a:pt x="69" y="7"/>
                  </a:lnTo>
                  <a:lnTo>
                    <a:pt x="62" y="10"/>
                  </a:lnTo>
                  <a:lnTo>
                    <a:pt x="50" y="12"/>
                  </a:lnTo>
                  <a:lnTo>
                    <a:pt x="66" y="25"/>
                  </a:lnTo>
                  <a:lnTo>
                    <a:pt x="50" y="30"/>
                  </a:lnTo>
                  <a:lnTo>
                    <a:pt x="62" y="39"/>
                  </a:lnTo>
                  <a:lnTo>
                    <a:pt x="93" y="57"/>
                  </a:lnTo>
                  <a:lnTo>
                    <a:pt x="82" y="66"/>
                  </a:lnTo>
                  <a:lnTo>
                    <a:pt x="21" y="59"/>
                  </a:lnTo>
                  <a:lnTo>
                    <a:pt x="66" y="98"/>
                  </a:lnTo>
                  <a:lnTo>
                    <a:pt x="85" y="108"/>
                  </a:lnTo>
                  <a:lnTo>
                    <a:pt x="53" y="106"/>
                  </a:lnTo>
                  <a:lnTo>
                    <a:pt x="21" y="118"/>
                  </a:lnTo>
                  <a:lnTo>
                    <a:pt x="41" y="121"/>
                  </a:lnTo>
                  <a:lnTo>
                    <a:pt x="57" y="135"/>
                  </a:lnTo>
                  <a:lnTo>
                    <a:pt x="106" y="157"/>
                  </a:lnTo>
                  <a:lnTo>
                    <a:pt x="106" y="162"/>
                  </a:lnTo>
                  <a:lnTo>
                    <a:pt x="102" y="170"/>
                  </a:lnTo>
                  <a:lnTo>
                    <a:pt x="118" y="180"/>
                  </a:lnTo>
                  <a:lnTo>
                    <a:pt x="126" y="184"/>
                  </a:lnTo>
                  <a:lnTo>
                    <a:pt x="93" y="197"/>
                  </a:lnTo>
                  <a:lnTo>
                    <a:pt x="93" y="209"/>
                  </a:lnTo>
                  <a:lnTo>
                    <a:pt x="57" y="211"/>
                  </a:lnTo>
                  <a:lnTo>
                    <a:pt x="62" y="228"/>
                  </a:lnTo>
                  <a:lnTo>
                    <a:pt x="45" y="231"/>
                  </a:lnTo>
                  <a:lnTo>
                    <a:pt x="29" y="221"/>
                  </a:lnTo>
                  <a:lnTo>
                    <a:pt x="17" y="231"/>
                  </a:lnTo>
                  <a:lnTo>
                    <a:pt x="0" y="238"/>
                  </a:lnTo>
                  <a:lnTo>
                    <a:pt x="5" y="253"/>
                  </a:lnTo>
                  <a:lnTo>
                    <a:pt x="21" y="265"/>
                  </a:lnTo>
                  <a:lnTo>
                    <a:pt x="41" y="276"/>
                  </a:lnTo>
                  <a:lnTo>
                    <a:pt x="69" y="276"/>
                  </a:lnTo>
                  <a:lnTo>
                    <a:pt x="106" y="300"/>
                  </a:lnTo>
                  <a:lnTo>
                    <a:pt x="102" y="305"/>
                  </a:lnTo>
                  <a:lnTo>
                    <a:pt x="89" y="305"/>
                  </a:lnTo>
                  <a:lnTo>
                    <a:pt x="98" y="310"/>
                  </a:lnTo>
                  <a:lnTo>
                    <a:pt x="147" y="317"/>
                  </a:lnTo>
                  <a:lnTo>
                    <a:pt x="178" y="336"/>
                  </a:lnTo>
                  <a:lnTo>
                    <a:pt x="239" y="342"/>
                  </a:lnTo>
                  <a:lnTo>
                    <a:pt x="275" y="329"/>
                  </a:lnTo>
                  <a:lnTo>
                    <a:pt x="311" y="342"/>
                  </a:lnTo>
                  <a:lnTo>
                    <a:pt x="319" y="339"/>
                  </a:lnTo>
                  <a:lnTo>
                    <a:pt x="324" y="349"/>
                  </a:lnTo>
                  <a:lnTo>
                    <a:pt x="438" y="356"/>
                  </a:lnTo>
                  <a:lnTo>
                    <a:pt x="491" y="348"/>
                  </a:lnTo>
                  <a:lnTo>
                    <a:pt x="779" y="354"/>
                  </a:lnTo>
                  <a:lnTo>
                    <a:pt x="1056" y="416"/>
                  </a:lnTo>
                  <a:lnTo>
                    <a:pt x="1067" y="461"/>
                  </a:lnTo>
                  <a:lnTo>
                    <a:pt x="1088" y="468"/>
                  </a:lnTo>
                  <a:lnTo>
                    <a:pt x="1083" y="497"/>
                  </a:lnTo>
                  <a:lnTo>
                    <a:pt x="1094" y="509"/>
                  </a:lnTo>
                  <a:lnTo>
                    <a:pt x="1102" y="512"/>
                  </a:lnTo>
                  <a:lnTo>
                    <a:pt x="1115" y="512"/>
                  </a:lnTo>
                  <a:lnTo>
                    <a:pt x="1155" y="553"/>
                  </a:lnTo>
                  <a:lnTo>
                    <a:pt x="1143" y="575"/>
                  </a:lnTo>
                  <a:lnTo>
                    <a:pt x="1151" y="593"/>
                  </a:lnTo>
                  <a:lnTo>
                    <a:pt x="1164" y="605"/>
                  </a:lnTo>
                  <a:lnTo>
                    <a:pt x="1196" y="600"/>
                  </a:lnTo>
                  <a:lnTo>
                    <a:pt x="1203" y="597"/>
                  </a:lnTo>
                  <a:lnTo>
                    <a:pt x="1203" y="600"/>
                  </a:lnTo>
                  <a:lnTo>
                    <a:pt x="1200" y="602"/>
                  </a:lnTo>
                  <a:lnTo>
                    <a:pt x="1224" y="622"/>
                  </a:lnTo>
                  <a:lnTo>
                    <a:pt x="1252" y="629"/>
                  </a:lnTo>
                  <a:lnTo>
                    <a:pt x="1256" y="649"/>
                  </a:lnTo>
                  <a:lnTo>
                    <a:pt x="1285" y="652"/>
                  </a:lnTo>
                  <a:lnTo>
                    <a:pt x="1304" y="666"/>
                  </a:lnTo>
                  <a:lnTo>
                    <a:pt x="1329" y="656"/>
                  </a:lnTo>
                  <a:lnTo>
                    <a:pt x="1333" y="661"/>
                  </a:lnTo>
                  <a:lnTo>
                    <a:pt x="1345" y="671"/>
                  </a:lnTo>
                  <a:lnTo>
                    <a:pt x="1361" y="674"/>
                  </a:lnTo>
                  <a:lnTo>
                    <a:pt x="1357" y="661"/>
                  </a:lnTo>
                  <a:lnTo>
                    <a:pt x="1333" y="644"/>
                  </a:lnTo>
                  <a:lnTo>
                    <a:pt x="1333" y="637"/>
                  </a:lnTo>
                  <a:lnTo>
                    <a:pt x="1349" y="639"/>
                  </a:lnTo>
                  <a:lnTo>
                    <a:pt x="1353" y="629"/>
                  </a:lnTo>
                  <a:lnTo>
                    <a:pt x="1377" y="637"/>
                  </a:lnTo>
                  <a:lnTo>
                    <a:pt x="1382" y="627"/>
                  </a:lnTo>
                  <a:lnTo>
                    <a:pt x="1394" y="632"/>
                  </a:lnTo>
                  <a:lnTo>
                    <a:pt x="1410" y="634"/>
                  </a:lnTo>
                  <a:lnTo>
                    <a:pt x="1405" y="627"/>
                  </a:lnTo>
                  <a:lnTo>
                    <a:pt x="1425" y="624"/>
                  </a:lnTo>
                  <a:lnTo>
                    <a:pt x="1434" y="610"/>
                  </a:lnTo>
                  <a:lnTo>
                    <a:pt x="1446" y="614"/>
                  </a:lnTo>
                  <a:lnTo>
                    <a:pt x="1494" y="622"/>
                  </a:lnTo>
                  <a:lnTo>
                    <a:pt x="1494" y="632"/>
                  </a:lnTo>
                  <a:lnTo>
                    <a:pt x="1510" y="644"/>
                  </a:lnTo>
                  <a:lnTo>
                    <a:pt x="1563" y="654"/>
                  </a:lnTo>
                  <a:lnTo>
                    <a:pt x="1571" y="649"/>
                  </a:lnTo>
                  <a:lnTo>
                    <a:pt x="1579" y="654"/>
                  </a:lnTo>
                  <a:lnTo>
                    <a:pt x="1571" y="644"/>
                  </a:lnTo>
                  <a:lnTo>
                    <a:pt x="1587" y="652"/>
                  </a:lnTo>
                  <a:lnTo>
                    <a:pt x="1583" y="647"/>
                  </a:lnTo>
                  <a:lnTo>
                    <a:pt x="1604" y="656"/>
                  </a:lnTo>
                  <a:lnTo>
                    <a:pt x="1616" y="654"/>
                  </a:lnTo>
                  <a:lnTo>
                    <a:pt x="1611" y="647"/>
                  </a:lnTo>
                  <a:lnTo>
                    <a:pt x="1627" y="654"/>
                  </a:lnTo>
                  <a:lnTo>
                    <a:pt x="1632" y="669"/>
                  </a:lnTo>
                  <a:lnTo>
                    <a:pt x="1640" y="674"/>
                  </a:lnTo>
                  <a:lnTo>
                    <a:pt x="1656" y="686"/>
                  </a:lnTo>
                  <a:lnTo>
                    <a:pt x="1672" y="681"/>
                  </a:lnTo>
                  <a:lnTo>
                    <a:pt x="1647" y="671"/>
                  </a:lnTo>
                  <a:lnTo>
                    <a:pt x="1644" y="654"/>
                  </a:lnTo>
                  <a:lnTo>
                    <a:pt x="1652" y="661"/>
                  </a:lnTo>
                  <a:lnTo>
                    <a:pt x="1656" y="659"/>
                  </a:lnTo>
                  <a:lnTo>
                    <a:pt x="1663" y="652"/>
                  </a:lnTo>
                  <a:lnTo>
                    <a:pt x="1684" y="652"/>
                  </a:lnTo>
                  <a:lnTo>
                    <a:pt x="1680" y="644"/>
                  </a:lnTo>
                  <a:lnTo>
                    <a:pt x="1684" y="639"/>
                  </a:lnTo>
                  <a:lnTo>
                    <a:pt x="1700" y="644"/>
                  </a:lnTo>
                  <a:lnTo>
                    <a:pt x="1696" y="634"/>
                  </a:lnTo>
                  <a:lnTo>
                    <a:pt x="1708" y="644"/>
                  </a:lnTo>
                  <a:lnTo>
                    <a:pt x="1717" y="639"/>
                  </a:lnTo>
                  <a:lnTo>
                    <a:pt x="1717" y="629"/>
                  </a:lnTo>
                  <a:lnTo>
                    <a:pt x="1724" y="634"/>
                  </a:lnTo>
                  <a:lnTo>
                    <a:pt x="1708" y="622"/>
                  </a:lnTo>
                  <a:lnTo>
                    <a:pt x="1728" y="629"/>
                  </a:lnTo>
                  <a:lnTo>
                    <a:pt x="1717" y="614"/>
                  </a:lnTo>
                  <a:lnTo>
                    <a:pt x="1700" y="612"/>
                  </a:lnTo>
                  <a:lnTo>
                    <a:pt x="1708" y="612"/>
                  </a:lnTo>
                  <a:lnTo>
                    <a:pt x="1705" y="607"/>
                  </a:lnTo>
                  <a:lnTo>
                    <a:pt x="1717" y="605"/>
                  </a:lnTo>
                  <a:lnTo>
                    <a:pt x="1708" y="607"/>
                  </a:lnTo>
                  <a:lnTo>
                    <a:pt x="1717" y="612"/>
                  </a:lnTo>
                  <a:lnTo>
                    <a:pt x="1736" y="622"/>
                  </a:lnTo>
                  <a:lnTo>
                    <a:pt x="1744" y="620"/>
                  </a:lnTo>
                  <a:lnTo>
                    <a:pt x="1753" y="612"/>
                  </a:lnTo>
                  <a:lnTo>
                    <a:pt x="1765" y="620"/>
                  </a:lnTo>
                  <a:lnTo>
                    <a:pt x="1757" y="614"/>
                  </a:lnTo>
                  <a:lnTo>
                    <a:pt x="1769" y="610"/>
                  </a:lnTo>
                  <a:lnTo>
                    <a:pt x="1785" y="614"/>
                  </a:lnTo>
                  <a:lnTo>
                    <a:pt x="1773" y="607"/>
                  </a:lnTo>
                  <a:lnTo>
                    <a:pt x="1789" y="612"/>
                  </a:lnTo>
                  <a:lnTo>
                    <a:pt x="1804" y="607"/>
                  </a:lnTo>
                  <a:lnTo>
                    <a:pt x="1801" y="600"/>
                  </a:lnTo>
                  <a:lnTo>
                    <a:pt x="1809" y="597"/>
                  </a:lnTo>
                  <a:lnTo>
                    <a:pt x="1793" y="593"/>
                  </a:lnTo>
                  <a:lnTo>
                    <a:pt x="1809" y="588"/>
                  </a:lnTo>
                  <a:lnTo>
                    <a:pt x="1809" y="577"/>
                  </a:lnTo>
                  <a:lnTo>
                    <a:pt x="1813" y="575"/>
                  </a:lnTo>
                  <a:lnTo>
                    <a:pt x="1821" y="568"/>
                  </a:lnTo>
                  <a:lnTo>
                    <a:pt x="1804" y="563"/>
                  </a:lnTo>
                  <a:lnTo>
                    <a:pt x="1813" y="558"/>
                  </a:lnTo>
                  <a:lnTo>
                    <a:pt x="1829" y="561"/>
                  </a:lnTo>
                  <a:lnTo>
                    <a:pt x="1821" y="551"/>
                  </a:lnTo>
                  <a:lnTo>
                    <a:pt x="1833" y="551"/>
                  </a:lnTo>
                  <a:lnTo>
                    <a:pt x="1817" y="541"/>
                  </a:lnTo>
                  <a:lnTo>
                    <a:pt x="1833" y="541"/>
                  </a:lnTo>
                  <a:lnTo>
                    <a:pt x="1821" y="536"/>
                  </a:lnTo>
                  <a:lnTo>
                    <a:pt x="1821" y="531"/>
                  </a:lnTo>
                  <a:lnTo>
                    <a:pt x="1842" y="536"/>
                  </a:lnTo>
                  <a:lnTo>
                    <a:pt x="1825" y="528"/>
                  </a:lnTo>
                  <a:lnTo>
                    <a:pt x="1821" y="519"/>
                  </a:lnTo>
                  <a:lnTo>
                    <a:pt x="1797" y="517"/>
                  </a:lnTo>
                  <a:lnTo>
                    <a:pt x="1817" y="512"/>
                  </a:lnTo>
                  <a:lnTo>
                    <a:pt x="1804" y="509"/>
                  </a:lnTo>
                  <a:lnTo>
                    <a:pt x="1813" y="506"/>
                  </a:lnTo>
                  <a:lnTo>
                    <a:pt x="1793" y="499"/>
                  </a:lnTo>
                  <a:lnTo>
                    <a:pt x="1809" y="499"/>
                  </a:lnTo>
                  <a:lnTo>
                    <a:pt x="1813" y="506"/>
                  </a:lnTo>
                  <a:lnTo>
                    <a:pt x="1813" y="499"/>
                  </a:lnTo>
                  <a:lnTo>
                    <a:pt x="1809" y="487"/>
                  </a:lnTo>
                  <a:lnTo>
                    <a:pt x="1797" y="484"/>
                  </a:lnTo>
                  <a:lnTo>
                    <a:pt x="1804" y="487"/>
                  </a:lnTo>
                  <a:lnTo>
                    <a:pt x="1797" y="467"/>
                  </a:lnTo>
                  <a:lnTo>
                    <a:pt x="1781" y="462"/>
                  </a:lnTo>
                  <a:lnTo>
                    <a:pt x="1793" y="462"/>
                  </a:lnTo>
                  <a:lnTo>
                    <a:pt x="1793" y="455"/>
                  </a:lnTo>
                  <a:lnTo>
                    <a:pt x="1804" y="460"/>
                  </a:lnTo>
                  <a:lnTo>
                    <a:pt x="1809" y="455"/>
                  </a:lnTo>
                  <a:lnTo>
                    <a:pt x="1777" y="442"/>
                  </a:lnTo>
                  <a:lnTo>
                    <a:pt x="1789" y="442"/>
                  </a:lnTo>
                  <a:lnTo>
                    <a:pt x="1773" y="433"/>
                  </a:lnTo>
                  <a:lnTo>
                    <a:pt x="1777" y="428"/>
                  </a:lnTo>
                  <a:lnTo>
                    <a:pt x="1789" y="430"/>
                  </a:lnTo>
                  <a:lnTo>
                    <a:pt x="1777" y="420"/>
                  </a:lnTo>
                  <a:lnTo>
                    <a:pt x="1761" y="423"/>
                  </a:lnTo>
                  <a:lnTo>
                    <a:pt x="1769" y="413"/>
                  </a:lnTo>
                  <a:lnTo>
                    <a:pt x="1728" y="403"/>
                  </a:lnTo>
                  <a:lnTo>
                    <a:pt x="1724" y="411"/>
                  </a:lnTo>
                  <a:lnTo>
                    <a:pt x="1705" y="406"/>
                  </a:lnTo>
                  <a:lnTo>
                    <a:pt x="1700" y="408"/>
                  </a:lnTo>
                  <a:lnTo>
                    <a:pt x="1724" y="386"/>
                  </a:lnTo>
                  <a:lnTo>
                    <a:pt x="1652" y="361"/>
                  </a:lnTo>
                  <a:lnTo>
                    <a:pt x="1627" y="361"/>
                  </a:lnTo>
                  <a:lnTo>
                    <a:pt x="1611" y="359"/>
                  </a:lnTo>
                  <a:lnTo>
                    <a:pt x="1611" y="356"/>
                  </a:lnTo>
                  <a:lnTo>
                    <a:pt x="1607" y="354"/>
                  </a:lnTo>
                  <a:lnTo>
                    <a:pt x="1636" y="364"/>
                  </a:lnTo>
                  <a:lnTo>
                    <a:pt x="1696" y="367"/>
                  </a:lnTo>
                  <a:lnTo>
                    <a:pt x="1632" y="344"/>
                  </a:lnTo>
                  <a:lnTo>
                    <a:pt x="1551" y="302"/>
                  </a:lnTo>
                  <a:lnTo>
                    <a:pt x="1502" y="295"/>
                  </a:lnTo>
                  <a:lnTo>
                    <a:pt x="1490" y="285"/>
                  </a:lnTo>
                  <a:lnTo>
                    <a:pt x="1483" y="261"/>
                  </a:lnTo>
                  <a:lnTo>
                    <a:pt x="1466" y="253"/>
                  </a:lnTo>
                  <a:lnTo>
                    <a:pt x="1483" y="258"/>
                  </a:lnTo>
                  <a:lnTo>
                    <a:pt x="1483" y="253"/>
                  </a:lnTo>
                  <a:lnTo>
                    <a:pt x="1478" y="243"/>
                  </a:lnTo>
                  <a:lnTo>
                    <a:pt x="1470" y="243"/>
                  </a:lnTo>
                  <a:lnTo>
                    <a:pt x="1487" y="231"/>
                  </a:lnTo>
                  <a:lnTo>
                    <a:pt x="1502" y="231"/>
                  </a:lnTo>
                  <a:lnTo>
                    <a:pt x="1487" y="219"/>
                  </a:lnTo>
                  <a:lnTo>
                    <a:pt x="1458" y="221"/>
                  </a:lnTo>
                  <a:lnTo>
                    <a:pt x="1413" y="211"/>
                  </a:lnTo>
                  <a:lnTo>
                    <a:pt x="1418" y="231"/>
                  </a:lnTo>
                  <a:lnTo>
                    <a:pt x="1389" y="228"/>
                  </a:lnTo>
                  <a:lnTo>
                    <a:pt x="1373" y="217"/>
                  </a:lnTo>
                  <a:lnTo>
                    <a:pt x="1353" y="209"/>
                  </a:lnTo>
                  <a:lnTo>
                    <a:pt x="1317" y="207"/>
                  </a:lnTo>
                  <a:lnTo>
                    <a:pt x="1292" y="199"/>
                  </a:lnTo>
                  <a:lnTo>
                    <a:pt x="1280" y="186"/>
                  </a:lnTo>
                  <a:lnTo>
                    <a:pt x="1309" y="184"/>
                  </a:lnTo>
                  <a:lnTo>
                    <a:pt x="1297" y="162"/>
                  </a:lnTo>
                  <a:lnTo>
                    <a:pt x="1285" y="135"/>
                  </a:lnTo>
                  <a:lnTo>
                    <a:pt x="1297" y="105"/>
                  </a:lnTo>
                  <a:lnTo>
                    <a:pt x="1276" y="89"/>
                  </a:lnTo>
                  <a:lnTo>
                    <a:pt x="1286" y="58"/>
                  </a:lnTo>
                  <a:lnTo>
                    <a:pt x="1140" y="37"/>
                  </a:lnTo>
                  <a:lnTo>
                    <a:pt x="1090" y="13"/>
                  </a:lnTo>
                  <a:lnTo>
                    <a:pt x="96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167280" y="1614240"/>
              <a:ext cx="663120" cy="247320"/>
            </a:xfrm>
            <a:custGeom>
              <a:avLst/>
              <a:gdLst/>
              <a:ahLst/>
              <a:rect l="l" t="t" r="r" b="b"/>
              <a:pathLst>
                <a:path w="1843" h="687">
                  <a:moveTo>
                    <a:pt x="965" y="0"/>
                  </a:moveTo>
                  <a:lnTo>
                    <a:pt x="913" y="10"/>
                  </a:lnTo>
                  <a:lnTo>
                    <a:pt x="909" y="17"/>
                  </a:lnTo>
                  <a:lnTo>
                    <a:pt x="929" y="39"/>
                  </a:lnTo>
                  <a:lnTo>
                    <a:pt x="905" y="41"/>
                  </a:lnTo>
                  <a:lnTo>
                    <a:pt x="913" y="51"/>
                  </a:lnTo>
                  <a:lnTo>
                    <a:pt x="913" y="61"/>
                  </a:lnTo>
                  <a:lnTo>
                    <a:pt x="857" y="57"/>
                  </a:lnTo>
                  <a:lnTo>
                    <a:pt x="877" y="74"/>
                  </a:lnTo>
                  <a:lnTo>
                    <a:pt x="921" y="88"/>
                  </a:lnTo>
                  <a:lnTo>
                    <a:pt x="921" y="118"/>
                  </a:lnTo>
                  <a:lnTo>
                    <a:pt x="861" y="128"/>
                  </a:lnTo>
                  <a:lnTo>
                    <a:pt x="832" y="150"/>
                  </a:lnTo>
                  <a:lnTo>
                    <a:pt x="832" y="155"/>
                  </a:lnTo>
                  <a:lnTo>
                    <a:pt x="808" y="147"/>
                  </a:lnTo>
                  <a:lnTo>
                    <a:pt x="731" y="145"/>
                  </a:lnTo>
                  <a:lnTo>
                    <a:pt x="711" y="137"/>
                  </a:lnTo>
                  <a:lnTo>
                    <a:pt x="699" y="137"/>
                  </a:lnTo>
                  <a:lnTo>
                    <a:pt x="675" y="135"/>
                  </a:lnTo>
                  <a:lnTo>
                    <a:pt x="655" y="137"/>
                  </a:lnTo>
                  <a:lnTo>
                    <a:pt x="554" y="142"/>
                  </a:lnTo>
                  <a:lnTo>
                    <a:pt x="465" y="108"/>
                  </a:lnTo>
                  <a:lnTo>
                    <a:pt x="384" y="93"/>
                  </a:lnTo>
                  <a:lnTo>
                    <a:pt x="300" y="91"/>
                  </a:lnTo>
                  <a:lnTo>
                    <a:pt x="239" y="54"/>
                  </a:lnTo>
                  <a:lnTo>
                    <a:pt x="183" y="35"/>
                  </a:lnTo>
                  <a:lnTo>
                    <a:pt x="150" y="35"/>
                  </a:lnTo>
                  <a:lnTo>
                    <a:pt x="122" y="25"/>
                  </a:lnTo>
                  <a:lnTo>
                    <a:pt x="102" y="22"/>
                  </a:lnTo>
                  <a:lnTo>
                    <a:pt x="69" y="7"/>
                  </a:lnTo>
                  <a:lnTo>
                    <a:pt x="62" y="10"/>
                  </a:lnTo>
                  <a:lnTo>
                    <a:pt x="50" y="12"/>
                  </a:lnTo>
                  <a:lnTo>
                    <a:pt x="66" y="25"/>
                  </a:lnTo>
                  <a:lnTo>
                    <a:pt x="50" y="30"/>
                  </a:lnTo>
                  <a:lnTo>
                    <a:pt x="62" y="39"/>
                  </a:lnTo>
                  <a:lnTo>
                    <a:pt x="93" y="57"/>
                  </a:lnTo>
                  <a:lnTo>
                    <a:pt x="82" y="66"/>
                  </a:lnTo>
                  <a:lnTo>
                    <a:pt x="21" y="59"/>
                  </a:lnTo>
                  <a:lnTo>
                    <a:pt x="66" y="98"/>
                  </a:lnTo>
                  <a:lnTo>
                    <a:pt x="85" y="108"/>
                  </a:lnTo>
                  <a:lnTo>
                    <a:pt x="53" y="106"/>
                  </a:lnTo>
                  <a:lnTo>
                    <a:pt x="21" y="118"/>
                  </a:lnTo>
                  <a:lnTo>
                    <a:pt x="41" y="121"/>
                  </a:lnTo>
                  <a:lnTo>
                    <a:pt x="57" y="135"/>
                  </a:lnTo>
                  <a:lnTo>
                    <a:pt x="106" y="157"/>
                  </a:lnTo>
                  <a:lnTo>
                    <a:pt x="106" y="162"/>
                  </a:lnTo>
                  <a:lnTo>
                    <a:pt x="102" y="170"/>
                  </a:lnTo>
                  <a:lnTo>
                    <a:pt x="118" y="180"/>
                  </a:lnTo>
                  <a:lnTo>
                    <a:pt x="126" y="184"/>
                  </a:lnTo>
                  <a:lnTo>
                    <a:pt x="93" y="197"/>
                  </a:lnTo>
                  <a:lnTo>
                    <a:pt x="93" y="209"/>
                  </a:lnTo>
                  <a:lnTo>
                    <a:pt x="57" y="211"/>
                  </a:lnTo>
                  <a:lnTo>
                    <a:pt x="62" y="228"/>
                  </a:lnTo>
                  <a:lnTo>
                    <a:pt x="45" y="231"/>
                  </a:lnTo>
                  <a:lnTo>
                    <a:pt x="29" y="221"/>
                  </a:lnTo>
                  <a:lnTo>
                    <a:pt x="17" y="231"/>
                  </a:lnTo>
                  <a:lnTo>
                    <a:pt x="0" y="238"/>
                  </a:lnTo>
                  <a:lnTo>
                    <a:pt x="5" y="253"/>
                  </a:lnTo>
                  <a:lnTo>
                    <a:pt x="21" y="265"/>
                  </a:lnTo>
                  <a:lnTo>
                    <a:pt x="41" y="276"/>
                  </a:lnTo>
                  <a:lnTo>
                    <a:pt x="69" y="276"/>
                  </a:lnTo>
                  <a:lnTo>
                    <a:pt x="106" y="300"/>
                  </a:lnTo>
                  <a:lnTo>
                    <a:pt x="102" y="305"/>
                  </a:lnTo>
                  <a:lnTo>
                    <a:pt x="89" y="305"/>
                  </a:lnTo>
                  <a:lnTo>
                    <a:pt x="98" y="310"/>
                  </a:lnTo>
                  <a:lnTo>
                    <a:pt x="147" y="317"/>
                  </a:lnTo>
                  <a:lnTo>
                    <a:pt x="178" y="336"/>
                  </a:lnTo>
                  <a:lnTo>
                    <a:pt x="239" y="342"/>
                  </a:lnTo>
                  <a:lnTo>
                    <a:pt x="275" y="329"/>
                  </a:lnTo>
                  <a:lnTo>
                    <a:pt x="311" y="342"/>
                  </a:lnTo>
                  <a:lnTo>
                    <a:pt x="319" y="339"/>
                  </a:lnTo>
                  <a:lnTo>
                    <a:pt x="324" y="349"/>
                  </a:lnTo>
                  <a:lnTo>
                    <a:pt x="438" y="356"/>
                  </a:lnTo>
                  <a:lnTo>
                    <a:pt x="491" y="348"/>
                  </a:lnTo>
                  <a:lnTo>
                    <a:pt x="779" y="354"/>
                  </a:lnTo>
                  <a:lnTo>
                    <a:pt x="1056" y="416"/>
                  </a:lnTo>
                  <a:lnTo>
                    <a:pt x="1067" y="461"/>
                  </a:lnTo>
                  <a:lnTo>
                    <a:pt x="1088" y="468"/>
                  </a:lnTo>
                  <a:lnTo>
                    <a:pt x="1083" y="497"/>
                  </a:lnTo>
                  <a:lnTo>
                    <a:pt x="1094" y="509"/>
                  </a:lnTo>
                  <a:lnTo>
                    <a:pt x="1102" y="512"/>
                  </a:lnTo>
                  <a:lnTo>
                    <a:pt x="1115" y="512"/>
                  </a:lnTo>
                  <a:lnTo>
                    <a:pt x="1155" y="553"/>
                  </a:lnTo>
                  <a:lnTo>
                    <a:pt x="1143" y="575"/>
                  </a:lnTo>
                  <a:lnTo>
                    <a:pt x="1151" y="593"/>
                  </a:lnTo>
                  <a:lnTo>
                    <a:pt x="1164" y="605"/>
                  </a:lnTo>
                  <a:lnTo>
                    <a:pt x="1196" y="600"/>
                  </a:lnTo>
                  <a:lnTo>
                    <a:pt x="1203" y="597"/>
                  </a:lnTo>
                  <a:lnTo>
                    <a:pt x="1203" y="600"/>
                  </a:lnTo>
                  <a:lnTo>
                    <a:pt x="1200" y="602"/>
                  </a:lnTo>
                  <a:lnTo>
                    <a:pt x="1224" y="622"/>
                  </a:lnTo>
                  <a:lnTo>
                    <a:pt x="1252" y="629"/>
                  </a:lnTo>
                  <a:lnTo>
                    <a:pt x="1256" y="649"/>
                  </a:lnTo>
                  <a:lnTo>
                    <a:pt x="1285" y="652"/>
                  </a:lnTo>
                  <a:lnTo>
                    <a:pt x="1304" y="666"/>
                  </a:lnTo>
                  <a:lnTo>
                    <a:pt x="1329" y="656"/>
                  </a:lnTo>
                  <a:lnTo>
                    <a:pt x="1333" y="661"/>
                  </a:lnTo>
                  <a:lnTo>
                    <a:pt x="1345" y="671"/>
                  </a:lnTo>
                  <a:lnTo>
                    <a:pt x="1361" y="674"/>
                  </a:lnTo>
                  <a:lnTo>
                    <a:pt x="1357" y="661"/>
                  </a:lnTo>
                  <a:lnTo>
                    <a:pt x="1333" y="644"/>
                  </a:lnTo>
                  <a:lnTo>
                    <a:pt x="1333" y="637"/>
                  </a:lnTo>
                  <a:lnTo>
                    <a:pt x="1349" y="639"/>
                  </a:lnTo>
                  <a:lnTo>
                    <a:pt x="1353" y="629"/>
                  </a:lnTo>
                  <a:lnTo>
                    <a:pt x="1377" y="637"/>
                  </a:lnTo>
                  <a:lnTo>
                    <a:pt x="1382" y="627"/>
                  </a:lnTo>
                  <a:lnTo>
                    <a:pt x="1394" y="632"/>
                  </a:lnTo>
                  <a:lnTo>
                    <a:pt x="1410" y="634"/>
                  </a:lnTo>
                  <a:lnTo>
                    <a:pt x="1405" y="627"/>
                  </a:lnTo>
                  <a:lnTo>
                    <a:pt x="1425" y="624"/>
                  </a:lnTo>
                  <a:lnTo>
                    <a:pt x="1434" y="610"/>
                  </a:lnTo>
                  <a:lnTo>
                    <a:pt x="1446" y="614"/>
                  </a:lnTo>
                  <a:lnTo>
                    <a:pt x="1494" y="622"/>
                  </a:lnTo>
                  <a:lnTo>
                    <a:pt x="1494" y="632"/>
                  </a:lnTo>
                  <a:lnTo>
                    <a:pt x="1510" y="644"/>
                  </a:lnTo>
                  <a:lnTo>
                    <a:pt x="1563" y="654"/>
                  </a:lnTo>
                  <a:lnTo>
                    <a:pt x="1571" y="649"/>
                  </a:lnTo>
                  <a:lnTo>
                    <a:pt x="1579" y="654"/>
                  </a:lnTo>
                  <a:lnTo>
                    <a:pt x="1571" y="644"/>
                  </a:lnTo>
                  <a:lnTo>
                    <a:pt x="1587" y="652"/>
                  </a:lnTo>
                  <a:lnTo>
                    <a:pt x="1583" y="647"/>
                  </a:lnTo>
                  <a:lnTo>
                    <a:pt x="1604" y="656"/>
                  </a:lnTo>
                  <a:lnTo>
                    <a:pt x="1616" y="654"/>
                  </a:lnTo>
                  <a:lnTo>
                    <a:pt x="1611" y="647"/>
                  </a:lnTo>
                  <a:lnTo>
                    <a:pt x="1627" y="654"/>
                  </a:lnTo>
                  <a:lnTo>
                    <a:pt x="1632" y="669"/>
                  </a:lnTo>
                  <a:lnTo>
                    <a:pt x="1640" y="674"/>
                  </a:lnTo>
                  <a:lnTo>
                    <a:pt x="1656" y="686"/>
                  </a:lnTo>
                  <a:lnTo>
                    <a:pt x="1672" y="681"/>
                  </a:lnTo>
                  <a:lnTo>
                    <a:pt x="1647" y="671"/>
                  </a:lnTo>
                  <a:lnTo>
                    <a:pt x="1644" y="654"/>
                  </a:lnTo>
                  <a:lnTo>
                    <a:pt x="1652" y="661"/>
                  </a:lnTo>
                  <a:lnTo>
                    <a:pt x="1656" y="659"/>
                  </a:lnTo>
                  <a:lnTo>
                    <a:pt x="1663" y="652"/>
                  </a:lnTo>
                  <a:lnTo>
                    <a:pt x="1684" y="652"/>
                  </a:lnTo>
                  <a:lnTo>
                    <a:pt x="1680" y="644"/>
                  </a:lnTo>
                  <a:lnTo>
                    <a:pt x="1684" y="639"/>
                  </a:lnTo>
                  <a:lnTo>
                    <a:pt x="1700" y="644"/>
                  </a:lnTo>
                  <a:lnTo>
                    <a:pt x="1696" y="634"/>
                  </a:lnTo>
                  <a:lnTo>
                    <a:pt x="1708" y="644"/>
                  </a:lnTo>
                  <a:lnTo>
                    <a:pt x="1717" y="639"/>
                  </a:lnTo>
                  <a:lnTo>
                    <a:pt x="1717" y="629"/>
                  </a:lnTo>
                  <a:lnTo>
                    <a:pt x="1724" y="634"/>
                  </a:lnTo>
                  <a:lnTo>
                    <a:pt x="1708" y="622"/>
                  </a:lnTo>
                  <a:lnTo>
                    <a:pt x="1728" y="629"/>
                  </a:lnTo>
                  <a:lnTo>
                    <a:pt x="1717" y="614"/>
                  </a:lnTo>
                  <a:lnTo>
                    <a:pt x="1700" y="612"/>
                  </a:lnTo>
                  <a:lnTo>
                    <a:pt x="1708" y="612"/>
                  </a:lnTo>
                  <a:lnTo>
                    <a:pt x="1705" y="607"/>
                  </a:lnTo>
                  <a:lnTo>
                    <a:pt x="1705" y="607"/>
                  </a:lnTo>
                  <a:lnTo>
                    <a:pt x="1717" y="605"/>
                  </a:lnTo>
                  <a:lnTo>
                    <a:pt x="1708" y="607"/>
                  </a:lnTo>
                  <a:lnTo>
                    <a:pt x="1717" y="612"/>
                  </a:lnTo>
                  <a:lnTo>
                    <a:pt x="1736" y="622"/>
                  </a:lnTo>
                  <a:lnTo>
                    <a:pt x="1744" y="620"/>
                  </a:lnTo>
                  <a:lnTo>
                    <a:pt x="1744" y="620"/>
                  </a:lnTo>
                  <a:lnTo>
                    <a:pt x="1753" y="612"/>
                  </a:lnTo>
                  <a:lnTo>
                    <a:pt x="1765" y="620"/>
                  </a:lnTo>
                  <a:lnTo>
                    <a:pt x="1757" y="614"/>
                  </a:lnTo>
                  <a:lnTo>
                    <a:pt x="1769" y="610"/>
                  </a:lnTo>
                  <a:lnTo>
                    <a:pt x="1785" y="614"/>
                  </a:lnTo>
                  <a:lnTo>
                    <a:pt x="1773" y="607"/>
                  </a:lnTo>
                  <a:lnTo>
                    <a:pt x="1789" y="612"/>
                  </a:lnTo>
                  <a:lnTo>
                    <a:pt x="1804" y="607"/>
                  </a:lnTo>
                  <a:lnTo>
                    <a:pt x="1801" y="600"/>
                  </a:lnTo>
                  <a:lnTo>
                    <a:pt x="1809" y="597"/>
                  </a:lnTo>
                  <a:lnTo>
                    <a:pt x="1793" y="593"/>
                  </a:lnTo>
                  <a:lnTo>
                    <a:pt x="1809" y="588"/>
                  </a:lnTo>
                  <a:lnTo>
                    <a:pt x="1809" y="577"/>
                  </a:lnTo>
                  <a:lnTo>
                    <a:pt x="1813" y="575"/>
                  </a:lnTo>
                  <a:lnTo>
                    <a:pt x="1821" y="568"/>
                  </a:lnTo>
                  <a:lnTo>
                    <a:pt x="1804" y="563"/>
                  </a:lnTo>
                  <a:lnTo>
                    <a:pt x="1813" y="558"/>
                  </a:lnTo>
                  <a:lnTo>
                    <a:pt x="1829" y="561"/>
                  </a:lnTo>
                  <a:lnTo>
                    <a:pt x="1821" y="551"/>
                  </a:lnTo>
                  <a:lnTo>
                    <a:pt x="1833" y="551"/>
                  </a:lnTo>
                  <a:lnTo>
                    <a:pt x="1817" y="541"/>
                  </a:lnTo>
                  <a:lnTo>
                    <a:pt x="1833" y="541"/>
                  </a:lnTo>
                  <a:lnTo>
                    <a:pt x="1821" y="536"/>
                  </a:lnTo>
                  <a:lnTo>
                    <a:pt x="1821" y="531"/>
                  </a:lnTo>
                  <a:lnTo>
                    <a:pt x="1842" y="536"/>
                  </a:lnTo>
                  <a:lnTo>
                    <a:pt x="1825" y="528"/>
                  </a:lnTo>
                  <a:lnTo>
                    <a:pt x="1821" y="519"/>
                  </a:lnTo>
                  <a:lnTo>
                    <a:pt x="1797" y="517"/>
                  </a:lnTo>
                  <a:lnTo>
                    <a:pt x="1817" y="512"/>
                  </a:lnTo>
                  <a:lnTo>
                    <a:pt x="1804" y="509"/>
                  </a:lnTo>
                  <a:lnTo>
                    <a:pt x="1813" y="506"/>
                  </a:lnTo>
                  <a:lnTo>
                    <a:pt x="1793" y="499"/>
                  </a:lnTo>
                  <a:lnTo>
                    <a:pt x="1809" y="499"/>
                  </a:lnTo>
                  <a:lnTo>
                    <a:pt x="1813" y="506"/>
                  </a:lnTo>
                  <a:lnTo>
                    <a:pt x="1813" y="499"/>
                  </a:lnTo>
                  <a:lnTo>
                    <a:pt x="1809" y="487"/>
                  </a:lnTo>
                  <a:lnTo>
                    <a:pt x="1797" y="484"/>
                  </a:lnTo>
                  <a:lnTo>
                    <a:pt x="1804" y="487"/>
                  </a:lnTo>
                  <a:lnTo>
                    <a:pt x="1797" y="467"/>
                  </a:lnTo>
                  <a:lnTo>
                    <a:pt x="1781" y="462"/>
                  </a:lnTo>
                  <a:lnTo>
                    <a:pt x="1793" y="462"/>
                  </a:lnTo>
                  <a:lnTo>
                    <a:pt x="1793" y="455"/>
                  </a:lnTo>
                  <a:lnTo>
                    <a:pt x="1804" y="460"/>
                  </a:lnTo>
                  <a:lnTo>
                    <a:pt x="1809" y="455"/>
                  </a:lnTo>
                  <a:lnTo>
                    <a:pt x="1777" y="442"/>
                  </a:lnTo>
                  <a:lnTo>
                    <a:pt x="1789" y="442"/>
                  </a:lnTo>
                  <a:lnTo>
                    <a:pt x="1773" y="433"/>
                  </a:lnTo>
                  <a:lnTo>
                    <a:pt x="1777" y="428"/>
                  </a:lnTo>
                  <a:lnTo>
                    <a:pt x="1789" y="430"/>
                  </a:lnTo>
                  <a:lnTo>
                    <a:pt x="1777" y="420"/>
                  </a:lnTo>
                  <a:lnTo>
                    <a:pt x="1761" y="423"/>
                  </a:lnTo>
                  <a:lnTo>
                    <a:pt x="1769" y="413"/>
                  </a:lnTo>
                  <a:lnTo>
                    <a:pt x="1728" y="403"/>
                  </a:lnTo>
                  <a:lnTo>
                    <a:pt x="1724" y="411"/>
                  </a:lnTo>
                  <a:lnTo>
                    <a:pt x="1705" y="406"/>
                  </a:lnTo>
                  <a:lnTo>
                    <a:pt x="1700" y="408"/>
                  </a:lnTo>
                  <a:lnTo>
                    <a:pt x="1724" y="386"/>
                  </a:lnTo>
                  <a:lnTo>
                    <a:pt x="1652" y="361"/>
                  </a:lnTo>
                  <a:lnTo>
                    <a:pt x="1627" y="361"/>
                  </a:lnTo>
                  <a:lnTo>
                    <a:pt x="1611" y="359"/>
                  </a:lnTo>
                  <a:lnTo>
                    <a:pt x="1611" y="356"/>
                  </a:lnTo>
                  <a:lnTo>
                    <a:pt x="1607" y="354"/>
                  </a:lnTo>
                  <a:lnTo>
                    <a:pt x="1636" y="364"/>
                  </a:lnTo>
                  <a:lnTo>
                    <a:pt x="1696" y="367"/>
                  </a:lnTo>
                  <a:lnTo>
                    <a:pt x="1632" y="344"/>
                  </a:lnTo>
                  <a:lnTo>
                    <a:pt x="1551" y="302"/>
                  </a:lnTo>
                  <a:lnTo>
                    <a:pt x="1502" y="295"/>
                  </a:lnTo>
                  <a:lnTo>
                    <a:pt x="1490" y="285"/>
                  </a:lnTo>
                  <a:lnTo>
                    <a:pt x="1483" y="261"/>
                  </a:lnTo>
                  <a:lnTo>
                    <a:pt x="1466" y="253"/>
                  </a:lnTo>
                  <a:lnTo>
                    <a:pt x="1483" y="258"/>
                  </a:lnTo>
                  <a:lnTo>
                    <a:pt x="1483" y="253"/>
                  </a:lnTo>
                  <a:lnTo>
                    <a:pt x="1478" y="243"/>
                  </a:lnTo>
                  <a:lnTo>
                    <a:pt x="1470" y="243"/>
                  </a:lnTo>
                  <a:lnTo>
                    <a:pt x="1487" y="231"/>
                  </a:lnTo>
                  <a:lnTo>
                    <a:pt x="1502" y="231"/>
                  </a:lnTo>
                  <a:lnTo>
                    <a:pt x="1487" y="219"/>
                  </a:lnTo>
                  <a:lnTo>
                    <a:pt x="1458" y="221"/>
                  </a:lnTo>
                  <a:lnTo>
                    <a:pt x="1413" y="211"/>
                  </a:lnTo>
                  <a:lnTo>
                    <a:pt x="1418" y="231"/>
                  </a:lnTo>
                  <a:lnTo>
                    <a:pt x="1389" y="228"/>
                  </a:lnTo>
                  <a:lnTo>
                    <a:pt x="1373" y="217"/>
                  </a:lnTo>
                  <a:lnTo>
                    <a:pt x="1353" y="209"/>
                  </a:lnTo>
                  <a:lnTo>
                    <a:pt x="1317" y="207"/>
                  </a:lnTo>
                  <a:lnTo>
                    <a:pt x="1292" y="199"/>
                  </a:lnTo>
                  <a:lnTo>
                    <a:pt x="1280" y="186"/>
                  </a:lnTo>
                  <a:lnTo>
                    <a:pt x="1309" y="184"/>
                  </a:lnTo>
                  <a:lnTo>
                    <a:pt x="1297" y="162"/>
                  </a:lnTo>
                  <a:lnTo>
                    <a:pt x="1285" y="135"/>
                  </a:lnTo>
                  <a:lnTo>
                    <a:pt x="1297" y="105"/>
                  </a:lnTo>
                  <a:lnTo>
                    <a:pt x="1276" y="89"/>
                  </a:lnTo>
                  <a:lnTo>
                    <a:pt x="1286" y="58"/>
                  </a:lnTo>
                  <a:lnTo>
                    <a:pt x="1140" y="37"/>
                  </a:lnTo>
                  <a:lnTo>
                    <a:pt x="1090" y="13"/>
                  </a:lnTo>
                  <a:lnTo>
                    <a:pt x="96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459520" y="1604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529360" y="1684080"/>
              <a:ext cx="26640" cy="16920"/>
            </a:xfrm>
            <a:custGeom>
              <a:avLst/>
              <a:gdLst/>
              <a:ahLst/>
              <a:rect l="l" t="t" r="r" b="b"/>
              <a:pathLst>
                <a:path w="75" h="47">
                  <a:moveTo>
                    <a:pt x="72" y="29"/>
                  </a:moveTo>
                  <a:lnTo>
                    <a:pt x="73" y="26"/>
                  </a:lnTo>
                  <a:lnTo>
                    <a:pt x="69" y="23"/>
                  </a:lnTo>
                  <a:lnTo>
                    <a:pt x="67" y="20"/>
                  </a:lnTo>
                  <a:lnTo>
                    <a:pt x="71" y="15"/>
                  </a:lnTo>
                  <a:lnTo>
                    <a:pt x="50" y="11"/>
                  </a:lnTo>
                  <a:lnTo>
                    <a:pt x="47" y="9"/>
                  </a:lnTo>
                  <a:lnTo>
                    <a:pt x="37" y="5"/>
                  </a:lnTo>
                  <a:lnTo>
                    <a:pt x="34" y="0"/>
                  </a:lnTo>
                  <a:lnTo>
                    <a:pt x="15" y="1"/>
                  </a:lnTo>
                  <a:lnTo>
                    <a:pt x="15" y="3"/>
                  </a:lnTo>
                  <a:lnTo>
                    <a:pt x="24" y="7"/>
                  </a:lnTo>
                  <a:lnTo>
                    <a:pt x="21" y="9"/>
                  </a:lnTo>
                  <a:lnTo>
                    <a:pt x="15" y="6"/>
                  </a:lnTo>
                  <a:lnTo>
                    <a:pt x="10" y="6"/>
                  </a:lnTo>
                  <a:lnTo>
                    <a:pt x="6" y="8"/>
                  </a:lnTo>
                  <a:lnTo>
                    <a:pt x="3" y="15"/>
                  </a:lnTo>
                  <a:lnTo>
                    <a:pt x="0" y="24"/>
                  </a:lnTo>
                  <a:lnTo>
                    <a:pt x="10" y="26"/>
                  </a:lnTo>
                  <a:lnTo>
                    <a:pt x="11" y="29"/>
                  </a:lnTo>
                  <a:lnTo>
                    <a:pt x="15" y="32"/>
                  </a:lnTo>
                  <a:lnTo>
                    <a:pt x="20" y="32"/>
                  </a:lnTo>
                  <a:lnTo>
                    <a:pt x="43" y="46"/>
                  </a:lnTo>
                  <a:lnTo>
                    <a:pt x="48" y="32"/>
                  </a:lnTo>
                  <a:lnTo>
                    <a:pt x="60" y="32"/>
                  </a:lnTo>
                  <a:lnTo>
                    <a:pt x="74" y="39"/>
                  </a:lnTo>
                  <a:lnTo>
                    <a:pt x="72" y="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529360" y="1684080"/>
              <a:ext cx="26640" cy="16920"/>
            </a:xfrm>
            <a:custGeom>
              <a:avLst/>
              <a:gdLst/>
              <a:ahLst/>
              <a:rect l="l" t="t" r="r" b="b"/>
              <a:pathLst>
                <a:path w="75" h="47">
                  <a:moveTo>
                    <a:pt x="72" y="29"/>
                  </a:moveTo>
                  <a:lnTo>
                    <a:pt x="73" y="26"/>
                  </a:lnTo>
                  <a:lnTo>
                    <a:pt x="69" y="23"/>
                  </a:lnTo>
                  <a:lnTo>
                    <a:pt x="67" y="20"/>
                  </a:lnTo>
                  <a:lnTo>
                    <a:pt x="71" y="15"/>
                  </a:lnTo>
                  <a:lnTo>
                    <a:pt x="50" y="11"/>
                  </a:lnTo>
                  <a:lnTo>
                    <a:pt x="47" y="9"/>
                  </a:lnTo>
                  <a:lnTo>
                    <a:pt x="37" y="5"/>
                  </a:lnTo>
                  <a:lnTo>
                    <a:pt x="34" y="0"/>
                  </a:lnTo>
                  <a:lnTo>
                    <a:pt x="15" y="1"/>
                  </a:lnTo>
                  <a:lnTo>
                    <a:pt x="15" y="3"/>
                  </a:lnTo>
                  <a:lnTo>
                    <a:pt x="24" y="7"/>
                  </a:lnTo>
                  <a:lnTo>
                    <a:pt x="21" y="9"/>
                  </a:lnTo>
                  <a:lnTo>
                    <a:pt x="15" y="6"/>
                  </a:lnTo>
                  <a:lnTo>
                    <a:pt x="10" y="6"/>
                  </a:lnTo>
                  <a:lnTo>
                    <a:pt x="6" y="8"/>
                  </a:lnTo>
                  <a:lnTo>
                    <a:pt x="3" y="15"/>
                  </a:lnTo>
                  <a:lnTo>
                    <a:pt x="0" y="24"/>
                  </a:lnTo>
                  <a:lnTo>
                    <a:pt x="10" y="26"/>
                  </a:lnTo>
                  <a:lnTo>
                    <a:pt x="11" y="29"/>
                  </a:lnTo>
                  <a:lnTo>
                    <a:pt x="15" y="32"/>
                  </a:lnTo>
                  <a:lnTo>
                    <a:pt x="20" y="32"/>
                  </a:lnTo>
                  <a:lnTo>
                    <a:pt x="43" y="46"/>
                  </a:lnTo>
                  <a:lnTo>
                    <a:pt x="48" y="32"/>
                  </a:lnTo>
                  <a:lnTo>
                    <a:pt x="60" y="32"/>
                  </a:lnTo>
                  <a:lnTo>
                    <a:pt x="74" y="39"/>
                  </a:lnTo>
                  <a:lnTo>
                    <a:pt x="72" y="2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532600" y="1672920"/>
              <a:ext cx="53640" cy="36000"/>
            </a:xfrm>
            <a:custGeom>
              <a:avLst/>
              <a:gdLst/>
              <a:ahLst/>
              <a:rect l="l" t="t" r="r" b="b"/>
              <a:pathLst>
                <a:path w="150" h="101">
                  <a:moveTo>
                    <a:pt x="116" y="24"/>
                  </a:moveTo>
                  <a:lnTo>
                    <a:pt x="109" y="33"/>
                  </a:lnTo>
                  <a:lnTo>
                    <a:pt x="137" y="46"/>
                  </a:lnTo>
                  <a:lnTo>
                    <a:pt x="121" y="56"/>
                  </a:lnTo>
                  <a:lnTo>
                    <a:pt x="125" y="65"/>
                  </a:lnTo>
                  <a:lnTo>
                    <a:pt x="141" y="72"/>
                  </a:lnTo>
                  <a:lnTo>
                    <a:pt x="149" y="87"/>
                  </a:lnTo>
                  <a:lnTo>
                    <a:pt x="93" y="100"/>
                  </a:lnTo>
                  <a:lnTo>
                    <a:pt x="73" y="92"/>
                  </a:lnTo>
                  <a:lnTo>
                    <a:pt x="73" y="77"/>
                  </a:lnTo>
                  <a:lnTo>
                    <a:pt x="73" y="75"/>
                  </a:lnTo>
                  <a:lnTo>
                    <a:pt x="61" y="69"/>
                  </a:lnTo>
                  <a:lnTo>
                    <a:pt x="60" y="60"/>
                  </a:lnTo>
                  <a:lnTo>
                    <a:pt x="61" y="57"/>
                  </a:lnTo>
                  <a:lnTo>
                    <a:pt x="57" y="54"/>
                  </a:lnTo>
                  <a:lnTo>
                    <a:pt x="55" y="51"/>
                  </a:lnTo>
                  <a:lnTo>
                    <a:pt x="59" y="46"/>
                  </a:lnTo>
                  <a:lnTo>
                    <a:pt x="38" y="42"/>
                  </a:lnTo>
                  <a:lnTo>
                    <a:pt x="35" y="40"/>
                  </a:lnTo>
                  <a:lnTo>
                    <a:pt x="25" y="36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13" y="24"/>
                  </a:lnTo>
                  <a:lnTo>
                    <a:pt x="17" y="22"/>
                  </a:lnTo>
                  <a:lnTo>
                    <a:pt x="22" y="22"/>
                  </a:lnTo>
                  <a:lnTo>
                    <a:pt x="27" y="23"/>
                  </a:lnTo>
                  <a:lnTo>
                    <a:pt x="27" y="20"/>
                  </a:lnTo>
                  <a:lnTo>
                    <a:pt x="19" y="18"/>
                  </a:lnTo>
                  <a:lnTo>
                    <a:pt x="17" y="15"/>
                  </a:lnTo>
                  <a:lnTo>
                    <a:pt x="3" y="14"/>
                  </a:lnTo>
                  <a:lnTo>
                    <a:pt x="0" y="6"/>
                  </a:lnTo>
                  <a:lnTo>
                    <a:pt x="6" y="3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31" y="7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1" y="5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8" y="2"/>
                  </a:lnTo>
                  <a:lnTo>
                    <a:pt x="70" y="1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100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4" y="1"/>
                  </a:lnTo>
                  <a:lnTo>
                    <a:pt x="119" y="3"/>
                  </a:lnTo>
                  <a:lnTo>
                    <a:pt x="119" y="5"/>
                  </a:lnTo>
                  <a:lnTo>
                    <a:pt x="114" y="6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09" y="13"/>
                  </a:lnTo>
                  <a:lnTo>
                    <a:pt x="114" y="20"/>
                  </a:lnTo>
                  <a:lnTo>
                    <a:pt x="116" y="2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532600" y="1672920"/>
              <a:ext cx="53640" cy="36000"/>
            </a:xfrm>
            <a:custGeom>
              <a:avLst/>
              <a:gdLst/>
              <a:ahLst/>
              <a:rect l="l" t="t" r="r" b="b"/>
              <a:pathLst>
                <a:path w="150" h="101">
                  <a:moveTo>
                    <a:pt x="116" y="24"/>
                  </a:moveTo>
                  <a:lnTo>
                    <a:pt x="109" y="33"/>
                  </a:lnTo>
                  <a:lnTo>
                    <a:pt x="137" y="46"/>
                  </a:lnTo>
                  <a:lnTo>
                    <a:pt x="121" y="56"/>
                  </a:lnTo>
                  <a:lnTo>
                    <a:pt x="125" y="65"/>
                  </a:lnTo>
                  <a:lnTo>
                    <a:pt x="141" y="72"/>
                  </a:lnTo>
                  <a:lnTo>
                    <a:pt x="149" y="87"/>
                  </a:lnTo>
                  <a:lnTo>
                    <a:pt x="93" y="100"/>
                  </a:lnTo>
                  <a:lnTo>
                    <a:pt x="73" y="92"/>
                  </a:lnTo>
                  <a:lnTo>
                    <a:pt x="73" y="77"/>
                  </a:lnTo>
                  <a:lnTo>
                    <a:pt x="73" y="75"/>
                  </a:lnTo>
                  <a:lnTo>
                    <a:pt x="61" y="69"/>
                  </a:lnTo>
                  <a:lnTo>
                    <a:pt x="60" y="60"/>
                  </a:lnTo>
                  <a:lnTo>
                    <a:pt x="61" y="57"/>
                  </a:lnTo>
                  <a:lnTo>
                    <a:pt x="57" y="54"/>
                  </a:lnTo>
                  <a:lnTo>
                    <a:pt x="55" y="51"/>
                  </a:lnTo>
                  <a:lnTo>
                    <a:pt x="59" y="46"/>
                  </a:lnTo>
                  <a:lnTo>
                    <a:pt x="38" y="42"/>
                  </a:lnTo>
                  <a:lnTo>
                    <a:pt x="35" y="40"/>
                  </a:lnTo>
                  <a:lnTo>
                    <a:pt x="25" y="36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13" y="24"/>
                  </a:lnTo>
                  <a:lnTo>
                    <a:pt x="17" y="22"/>
                  </a:lnTo>
                  <a:lnTo>
                    <a:pt x="22" y="22"/>
                  </a:lnTo>
                  <a:lnTo>
                    <a:pt x="27" y="23"/>
                  </a:lnTo>
                  <a:lnTo>
                    <a:pt x="27" y="20"/>
                  </a:lnTo>
                  <a:lnTo>
                    <a:pt x="19" y="18"/>
                  </a:lnTo>
                  <a:lnTo>
                    <a:pt x="17" y="15"/>
                  </a:lnTo>
                  <a:lnTo>
                    <a:pt x="3" y="14"/>
                  </a:lnTo>
                  <a:lnTo>
                    <a:pt x="0" y="6"/>
                  </a:lnTo>
                  <a:lnTo>
                    <a:pt x="6" y="3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31" y="7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1" y="5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8" y="2"/>
                  </a:lnTo>
                  <a:lnTo>
                    <a:pt x="70" y="1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100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4" y="1"/>
                  </a:lnTo>
                  <a:lnTo>
                    <a:pt x="119" y="3"/>
                  </a:lnTo>
                  <a:lnTo>
                    <a:pt x="119" y="5"/>
                  </a:lnTo>
                  <a:lnTo>
                    <a:pt x="114" y="6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09" y="13"/>
                  </a:lnTo>
                  <a:lnTo>
                    <a:pt x="114" y="20"/>
                  </a:lnTo>
                  <a:lnTo>
                    <a:pt x="116" y="2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500640" y="1530000"/>
              <a:ext cx="78840" cy="25200"/>
            </a:xfrm>
            <a:custGeom>
              <a:avLst/>
              <a:gdLst/>
              <a:ahLst/>
              <a:rect l="l" t="t" r="r" b="b"/>
              <a:pathLst>
                <a:path w="219" h="71">
                  <a:moveTo>
                    <a:pt x="213" y="70"/>
                  </a:moveTo>
                  <a:lnTo>
                    <a:pt x="165" y="59"/>
                  </a:lnTo>
                  <a:lnTo>
                    <a:pt x="76" y="30"/>
                  </a:lnTo>
                  <a:lnTo>
                    <a:pt x="60" y="25"/>
                  </a:lnTo>
                  <a:lnTo>
                    <a:pt x="64" y="20"/>
                  </a:lnTo>
                  <a:lnTo>
                    <a:pt x="15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23" y="5"/>
                  </a:lnTo>
                  <a:lnTo>
                    <a:pt x="218" y="62"/>
                  </a:lnTo>
                  <a:lnTo>
                    <a:pt x="213" y="7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500640" y="1530000"/>
              <a:ext cx="78840" cy="25200"/>
            </a:xfrm>
            <a:custGeom>
              <a:avLst/>
              <a:gdLst/>
              <a:ahLst/>
              <a:rect l="l" t="t" r="r" b="b"/>
              <a:pathLst>
                <a:path w="219" h="71">
                  <a:moveTo>
                    <a:pt x="213" y="70"/>
                  </a:moveTo>
                  <a:lnTo>
                    <a:pt x="165" y="59"/>
                  </a:lnTo>
                  <a:lnTo>
                    <a:pt x="76" y="30"/>
                  </a:lnTo>
                  <a:lnTo>
                    <a:pt x="76" y="30"/>
                  </a:lnTo>
                  <a:lnTo>
                    <a:pt x="60" y="25"/>
                  </a:lnTo>
                  <a:lnTo>
                    <a:pt x="64" y="20"/>
                  </a:lnTo>
                  <a:lnTo>
                    <a:pt x="15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23" y="5"/>
                  </a:lnTo>
                  <a:lnTo>
                    <a:pt x="218" y="62"/>
                  </a:lnTo>
                  <a:lnTo>
                    <a:pt x="213" y="7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8320" y="1568160"/>
              <a:ext cx="4248000" cy="1335600"/>
            </a:xfrm>
            <a:custGeom>
              <a:avLst/>
              <a:gdLst/>
              <a:ahLst/>
              <a:rect l="l" t="t" r="r" b="b"/>
              <a:pathLst>
                <a:path w="11804" h="3713">
                  <a:moveTo>
                    <a:pt x="7468" y="1628"/>
                  </a:moveTo>
                  <a:lnTo>
                    <a:pt x="7468" y="1630"/>
                  </a:lnTo>
                  <a:lnTo>
                    <a:pt x="7468" y="1635"/>
                  </a:lnTo>
                  <a:lnTo>
                    <a:pt x="7468" y="1638"/>
                  </a:lnTo>
                  <a:lnTo>
                    <a:pt x="7464" y="1640"/>
                  </a:lnTo>
                  <a:lnTo>
                    <a:pt x="7460" y="1642"/>
                  </a:lnTo>
                  <a:lnTo>
                    <a:pt x="7456" y="1642"/>
                  </a:lnTo>
                  <a:lnTo>
                    <a:pt x="7451" y="1642"/>
                  </a:lnTo>
                  <a:lnTo>
                    <a:pt x="7451" y="1640"/>
                  </a:lnTo>
                  <a:lnTo>
                    <a:pt x="7456" y="1633"/>
                  </a:lnTo>
                  <a:lnTo>
                    <a:pt x="7447" y="1638"/>
                  </a:lnTo>
                  <a:lnTo>
                    <a:pt x="7447" y="1635"/>
                  </a:lnTo>
                  <a:lnTo>
                    <a:pt x="7447" y="1638"/>
                  </a:lnTo>
                  <a:lnTo>
                    <a:pt x="7456" y="1633"/>
                  </a:lnTo>
                  <a:lnTo>
                    <a:pt x="7460" y="1630"/>
                  </a:lnTo>
                  <a:lnTo>
                    <a:pt x="7456" y="1633"/>
                  </a:lnTo>
                  <a:lnTo>
                    <a:pt x="7468" y="1628"/>
                  </a:lnTo>
                  <a:close/>
                  <a:moveTo>
                    <a:pt x="7263" y="1798"/>
                  </a:moveTo>
                  <a:lnTo>
                    <a:pt x="7242" y="1790"/>
                  </a:lnTo>
                  <a:lnTo>
                    <a:pt x="7222" y="1788"/>
                  </a:lnTo>
                  <a:lnTo>
                    <a:pt x="7202" y="1790"/>
                  </a:lnTo>
                  <a:lnTo>
                    <a:pt x="7194" y="1792"/>
                  </a:lnTo>
                  <a:lnTo>
                    <a:pt x="7141" y="1756"/>
                  </a:lnTo>
                  <a:lnTo>
                    <a:pt x="7145" y="1753"/>
                  </a:lnTo>
                  <a:lnTo>
                    <a:pt x="7145" y="1741"/>
                  </a:lnTo>
                  <a:lnTo>
                    <a:pt x="7145" y="1729"/>
                  </a:lnTo>
                  <a:lnTo>
                    <a:pt x="7149" y="1716"/>
                  </a:lnTo>
                  <a:lnTo>
                    <a:pt x="7149" y="1704"/>
                  </a:lnTo>
                  <a:lnTo>
                    <a:pt x="7149" y="1692"/>
                  </a:lnTo>
                  <a:lnTo>
                    <a:pt x="7153" y="1679"/>
                  </a:lnTo>
                  <a:lnTo>
                    <a:pt x="7170" y="1679"/>
                  </a:lnTo>
                  <a:lnTo>
                    <a:pt x="7178" y="1679"/>
                  </a:lnTo>
                  <a:lnTo>
                    <a:pt x="7190" y="1679"/>
                  </a:lnTo>
                  <a:lnTo>
                    <a:pt x="7209" y="1679"/>
                  </a:lnTo>
                  <a:lnTo>
                    <a:pt x="7230" y="1679"/>
                  </a:lnTo>
                  <a:lnTo>
                    <a:pt x="7234" y="1635"/>
                  </a:lnTo>
                  <a:lnTo>
                    <a:pt x="7234" y="1628"/>
                  </a:lnTo>
                  <a:lnTo>
                    <a:pt x="7251" y="1635"/>
                  </a:lnTo>
                  <a:lnTo>
                    <a:pt x="7251" y="1642"/>
                  </a:lnTo>
                  <a:lnTo>
                    <a:pt x="7286" y="1638"/>
                  </a:lnTo>
                  <a:lnTo>
                    <a:pt x="7290" y="1650"/>
                  </a:lnTo>
                  <a:lnTo>
                    <a:pt x="7339" y="1657"/>
                  </a:lnTo>
                  <a:lnTo>
                    <a:pt x="7359" y="1645"/>
                  </a:lnTo>
                  <a:lnTo>
                    <a:pt x="7375" y="1664"/>
                  </a:lnTo>
                  <a:lnTo>
                    <a:pt x="7404" y="1669"/>
                  </a:lnTo>
                  <a:lnTo>
                    <a:pt x="7424" y="1692"/>
                  </a:lnTo>
                  <a:lnTo>
                    <a:pt x="7444" y="1687"/>
                  </a:lnTo>
                  <a:lnTo>
                    <a:pt x="7451" y="1692"/>
                  </a:lnTo>
                  <a:lnTo>
                    <a:pt x="7456" y="1679"/>
                  </a:lnTo>
                  <a:lnTo>
                    <a:pt x="7456" y="1660"/>
                  </a:lnTo>
                  <a:lnTo>
                    <a:pt x="7427" y="1664"/>
                  </a:lnTo>
                  <a:lnTo>
                    <a:pt x="7404" y="1645"/>
                  </a:lnTo>
                  <a:lnTo>
                    <a:pt x="7420" y="1623"/>
                  </a:lnTo>
                  <a:lnTo>
                    <a:pt x="7424" y="1604"/>
                  </a:lnTo>
                  <a:lnTo>
                    <a:pt x="7415" y="1593"/>
                  </a:lnTo>
                  <a:lnTo>
                    <a:pt x="7412" y="1591"/>
                  </a:lnTo>
                  <a:lnTo>
                    <a:pt x="7432" y="1579"/>
                  </a:lnTo>
                  <a:lnTo>
                    <a:pt x="7432" y="1571"/>
                  </a:lnTo>
                  <a:lnTo>
                    <a:pt x="7440" y="1571"/>
                  </a:lnTo>
                  <a:lnTo>
                    <a:pt x="7451" y="1569"/>
                  </a:lnTo>
                  <a:lnTo>
                    <a:pt x="7464" y="1569"/>
                  </a:lnTo>
                  <a:lnTo>
                    <a:pt x="7485" y="1566"/>
                  </a:lnTo>
                  <a:lnTo>
                    <a:pt x="7501" y="1564"/>
                  </a:lnTo>
                  <a:lnTo>
                    <a:pt x="7509" y="1564"/>
                  </a:lnTo>
                  <a:lnTo>
                    <a:pt x="7517" y="1573"/>
                  </a:lnTo>
                  <a:lnTo>
                    <a:pt x="7521" y="1573"/>
                  </a:lnTo>
                  <a:lnTo>
                    <a:pt x="7590" y="1596"/>
                  </a:lnTo>
                  <a:lnTo>
                    <a:pt x="7613" y="1623"/>
                  </a:lnTo>
                  <a:lnTo>
                    <a:pt x="7598" y="1630"/>
                  </a:lnTo>
                  <a:lnTo>
                    <a:pt x="7593" y="1660"/>
                  </a:lnTo>
                  <a:lnTo>
                    <a:pt x="7601" y="1667"/>
                  </a:lnTo>
                  <a:lnTo>
                    <a:pt x="7581" y="1672"/>
                  </a:lnTo>
                  <a:lnTo>
                    <a:pt x="7577" y="1687"/>
                  </a:lnTo>
                  <a:lnTo>
                    <a:pt x="7565" y="1697"/>
                  </a:lnTo>
                  <a:lnTo>
                    <a:pt x="7581" y="1706"/>
                  </a:lnTo>
                  <a:lnTo>
                    <a:pt x="7565" y="1709"/>
                  </a:lnTo>
                  <a:lnTo>
                    <a:pt x="7548" y="1714"/>
                  </a:lnTo>
                  <a:lnTo>
                    <a:pt x="7488" y="1724"/>
                  </a:lnTo>
                  <a:lnTo>
                    <a:pt x="7476" y="1726"/>
                  </a:lnTo>
                  <a:lnTo>
                    <a:pt x="7464" y="1729"/>
                  </a:lnTo>
                  <a:lnTo>
                    <a:pt x="7468" y="1746"/>
                  </a:lnTo>
                  <a:lnTo>
                    <a:pt x="7468" y="1753"/>
                  </a:lnTo>
                  <a:lnTo>
                    <a:pt x="7488" y="1753"/>
                  </a:lnTo>
                  <a:lnTo>
                    <a:pt x="7501" y="1756"/>
                  </a:lnTo>
                  <a:lnTo>
                    <a:pt x="7561" y="1773"/>
                  </a:lnTo>
                  <a:lnTo>
                    <a:pt x="7557" y="1812"/>
                  </a:lnTo>
                  <a:lnTo>
                    <a:pt x="7536" y="1827"/>
                  </a:lnTo>
                  <a:lnTo>
                    <a:pt x="7545" y="1851"/>
                  </a:lnTo>
                  <a:lnTo>
                    <a:pt x="7521" y="1866"/>
                  </a:lnTo>
                  <a:lnTo>
                    <a:pt x="7517" y="1883"/>
                  </a:lnTo>
                  <a:lnTo>
                    <a:pt x="7513" y="1883"/>
                  </a:lnTo>
                  <a:lnTo>
                    <a:pt x="7509" y="1886"/>
                  </a:lnTo>
                  <a:lnTo>
                    <a:pt x="7505" y="1889"/>
                  </a:lnTo>
                  <a:lnTo>
                    <a:pt x="7485" y="1898"/>
                  </a:lnTo>
                  <a:lnTo>
                    <a:pt x="7464" y="1908"/>
                  </a:lnTo>
                  <a:lnTo>
                    <a:pt x="7395" y="1903"/>
                  </a:lnTo>
                  <a:lnTo>
                    <a:pt x="7387" y="1894"/>
                  </a:lnTo>
                  <a:lnTo>
                    <a:pt x="7347" y="1889"/>
                  </a:lnTo>
                  <a:lnTo>
                    <a:pt x="7339" y="1876"/>
                  </a:lnTo>
                  <a:lnTo>
                    <a:pt x="7343" y="1861"/>
                  </a:lnTo>
                  <a:lnTo>
                    <a:pt x="7327" y="1861"/>
                  </a:lnTo>
                  <a:lnTo>
                    <a:pt x="7327" y="1851"/>
                  </a:lnTo>
                  <a:lnTo>
                    <a:pt x="7286" y="1839"/>
                  </a:lnTo>
                  <a:lnTo>
                    <a:pt x="7263" y="1798"/>
                  </a:lnTo>
                  <a:close/>
                  <a:moveTo>
                    <a:pt x="7642" y="1357"/>
                  </a:moveTo>
                  <a:lnTo>
                    <a:pt x="7621" y="1360"/>
                  </a:lnTo>
                  <a:lnTo>
                    <a:pt x="7613" y="1353"/>
                  </a:lnTo>
                  <a:lnTo>
                    <a:pt x="7609" y="1353"/>
                  </a:lnTo>
                  <a:lnTo>
                    <a:pt x="7605" y="1362"/>
                  </a:lnTo>
                  <a:lnTo>
                    <a:pt x="7590" y="1357"/>
                  </a:lnTo>
                  <a:lnTo>
                    <a:pt x="7586" y="1362"/>
                  </a:lnTo>
                  <a:lnTo>
                    <a:pt x="7565" y="1365"/>
                  </a:lnTo>
                  <a:lnTo>
                    <a:pt x="7557" y="1387"/>
                  </a:lnTo>
                  <a:lnTo>
                    <a:pt x="7553" y="1387"/>
                  </a:lnTo>
                  <a:lnTo>
                    <a:pt x="7536" y="1387"/>
                  </a:lnTo>
                  <a:lnTo>
                    <a:pt x="7517" y="1387"/>
                  </a:lnTo>
                  <a:lnTo>
                    <a:pt x="7505" y="1389"/>
                  </a:lnTo>
                  <a:lnTo>
                    <a:pt x="7492" y="1397"/>
                  </a:lnTo>
                  <a:lnTo>
                    <a:pt x="7468" y="1397"/>
                  </a:lnTo>
                  <a:lnTo>
                    <a:pt x="7472" y="1374"/>
                  </a:lnTo>
                  <a:lnTo>
                    <a:pt x="7472" y="1365"/>
                  </a:lnTo>
                  <a:lnTo>
                    <a:pt x="7485" y="1343"/>
                  </a:lnTo>
                  <a:lnTo>
                    <a:pt x="7505" y="1333"/>
                  </a:lnTo>
                  <a:lnTo>
                    <a:pt x="7536" y="1311"/>
                  </a:lnTo>
                  <a:lnTo>
                    <a:pt x="7513" y="1303"/>
                  </a:lnTo>
                  <a:lnTo>
                    <a:pt x="7517" y="1278"/>
                  </a:lnTo>
                  <a:lnTo>
                    <a:pt x="7528" y="1271"/>
                  </a:lnTo>
                  <a:lnTo>
                    <a:pt x="7557" y="1271"/>
                  </a:lnTo>
                  <a:lnTo>
                    <a:pt x="7565" y="1276"/>
                  </a:lnTo>
                  <a:lnTo>
                    <a:pt x="7569" y="1276"/>
                  </a:lnTo>
                  <a:lnTo>
                    <a:pt x="7601" y="1269"/>
                  </a:lnTo>
                  <a:lnTo>
                    <a:pt x="7621" y="1271"/>
                  </a:lnTo>
                  <a:lnTo>
                    <a:pt x="7642" y="1259"/>
                  </a:lnTo>
                  <a:lnTo>
                    <a:pt x="7654" y="1249"/>
                  </a:lnTo>
                  <a:lnTo>
                    <a:pt x="7674" y="1249"/>
                  </a:lnTo>
                  <a:lnTo>
                    <a:pt x="7694" y="1249"/>
                  </a:lnTo>
                  <a:lnTo>
                    <a:pt x="7714" y="1249"/>
                  </a:lnTo>
                  <a:lnTo>
                    <a:pt x="7718" y="1251"/>
                  </a:lnTo>
                  <a:lnTo>
                    <a:pt x="7722" y="1254"/>
                  </a:lnTo>
                  <a:lnTo>
                    <a:pt x="7727" y="1254"/>
                  </a:lnTo>
                  <a:lnTo>
                    <a:pt x="7735" y="1254"/>
                  </a:lnTo>
                  <a:lnTo>
                    <a:pt x="7751" y="1254"/>
                  </a:lnTo>
                  <a:lnTo>
                    <a:pt x="7758" y="1257"/>
                  </a:lnTo>
                  <a:lnTo>
                    <a:pt x="7779" y="1264"/>
                  </a:lnTo>
                  <a:lnTo>
                    <a:pt x="7799" y="1271"/>
                  </a:lnTo>
                  <a:lnTo>
                    <a:pt x="7803" y="1273"/>
                  </a:lnTo>
                  <a:lnTo>
                    <a:pt x="7859" y="1278"/>
                  </a:lnTo>
                  <a:lnTo>
                    <a:pt x="7859" y="1276"/>
                  </a:lnTo>
                  <a:lnTo>
                    <a:pt x="7868" y="1273"/>
                  </a:lnTo>
                  <a:lnTo>
                    <a:pt x="7884" y="1264"/>
                  </a:lnTo>
                  <a:lnTo>
                    <a:pt x="7909" y="1259"/>
                  </a:lnTo>
                  <a:lnTo>
                    <a:pt x="7924" y="1266"/>
                  </a:lnTo>
                  <a:lnTo>
                    <a:pt x="7952" y="1264"/>
                  </a:lnTo>
                  <a:lnTo>
                    <a:pt x="7940" y="1276"/>
                  </a:lnTo>
                  <a:lnTo>
                    <a:pt x="7928" y="1286"/>
                  </a:lnTo>
                  <a:lnTo>
                    <a:pt x="7920" y="1291"/>
                  </a:lnTo>
                  <a:lnTo>
                    <a:pt x="7916" y="1293"/>
                  </a:lnTo>
                  <a:lnTo>
                    <a:pt x="7916" y="1296"/>
                  </a:lnTo>
                  <a:lnTo>
                    <a:pt x="7916" y="1308"/>
                  </a:lnTo>
                  <a:lnTo>
                    <a:pt x="7916" y="1320"/>
                  </a:lnTo>
                  <a:lnTo>
                    <a:pt x="7916" y="1333"/>
                  </a:lnTo>
                  <a:lnTo>
                    <a:pt x="7916" y="1345"/>
                  </a:lnTo>
                  <a:lnTo>
                    <a:pt x="7916" y="1357"/>
                  </a:lnTo>
                  <a:lnTo>
                    <a:pt x="7916" y="1369"/>
                  </a:lnTo>
                  <a:lnTo>
                    <a:pt x="7920" y="1369"/>
                  </a:lnTo>
                  <a:lnTo>
                    <a:pt x="7920" y="1384"/>
                  </a:lnTo>
                  <a:lnTo>
                    <a:pt x="7924" y="1389"/>
                  </a:lnTo>
                  <a:lnTo>
                    <a:pt x="7928" y="1392"/>
                  </a:lnTo>
                  <a:lnTo>
                    <a:pt x="7936" y="1401"/>
                  </a:lnTo>
                  <a:lnTo>
                    <a:pt x="7940" y="1404"/>
                  </a:lnTo>
                  <a:lnTo>
                    <a:pt x="7932" y="1412"/>
                  </a:lnTo>
                  <a:lnTo>
                    <a:pt x="7912" y="1412"/>
                  </a:lnTo>
                  <a:lnTo>
                    <a:pt x="7916" y="1421"/>
                  </a:lnTo>
                  <a:lnTo>
                    <a:pt x="7884" y="1429"/>
                  </a:lnTo>
                  <a:lnTo>
                    <a:pt x="7884" y="1443"/>
                  </a:lnTo>
                  <a:lnTo>
                    <a:pt x="7868" y="1451"/>
                  </a:lnTo>
                  <a:lnTo>
                    <a:pt x="7843" y="1478"/>
                  </a:lnTo>
                  <a:lnTo>
                    <a:pt x="7832" y="1473"/>
                  </a:lnTo>
                  <a:lnTo>
                    <a:pt x="7824" y="1470"/>
                  </a:lnTo>
                  <a:lnTo>
                    <a:pt x="7808" y="1461"/>
                  </a:lnTo>
                  <a:lnTo>
                    <a:pt x="7791" y="1453"/>
                  </a:lnTo>
                  <a:lnTo>
                    <a:pt x="7783" y="1451"/>
                  </a:lnTo>
                  <a:lnTo>
                    <a:pt x="7787" y="1438"/>
                  </a:lnTo>
                  <a:lnTo>
                    <a:pt x="7779" y="1436"/>
                  </a:lnTo>
                  <a:lnTo>
                    <a:pt x="7770" y="1434"/>
                  </a:lnTo>
                  <a:lnTo>
                    <a:pt x="7751" y="1426"/>
                  </a:lnTo>
                  <a:lnTo>
                    <a:pt x="7735" y="1419"/>
                  </a:lnTo>
                  <a:lnTo>
                    <a:pt x="7730" y="1419"/>
                  </a:lnTo>
                  <a:lnTo>
                    <a:pt x="7718" y="1414"/>
                  </a:lnTo>
                  <a:lnTo>
                    <a:pt x="7698" y="1407"/>
                  </a:lnTo>
                  <a:lnTo>
                    <a:pt x="7685" y="1404"/>
                  </a:lnTo>
                  <a:lnTo>
                    <a:pt x="7678" y="1399"/>
                  </a:lnTo>
                  <a:lnTo>
                    <a:pt x="7658" y="1394"/>
                  </a:lnTo>
                  <a:lnTo>
                    <a:pt x="7646" y="1389"/>
                  </a:lnTo>
                  <a:lnTo>
                    <a:pt x="7646" y="1387"/>
                  </a:lnTo>
                  <a:lnTo>
                    <a:pt x="7642" y="1387"/>
                  </a:lnTo>
                  <a:lnTo>
                    <a:pt x="7642" y="1374"/>
                  </a:lnTo>
                  <a:lnTo>
                    <a:pt x="7637" y="1360"/>
                  </a:lnTo>
                  <a:lnTo>
                    <a:pt x="7642" y="1357"/>
                  </a:lnTo>
                  <a:close/>
                  <a:moveTo>
                    <a:pt x="8170" y="757"/>
                  </a:moveTo>
                  <a:lnTo>
                    <a:pt x="8174" y="765"/>
                  </a:lnTo>
                  <a:lnTo>
                    <a:pt x="8199" y="772"/>
                  </a:lnTo>
                  <a:lnTo>
                    <a:pt x="8211" y="784"/>
                  </a:lnTo>
                  <a:lnTo>
                    <a:pt x="8223" y="794"/>
                  </a:lnTo>
                  <a:lnTo>
                    <a:pt x="8242" y="797"/>
                  </a:lnTo>
                  <a:lnTo>
                    <a:pt x="8264" y="799"/>
                  </a:lnTo>
                  <a:lnTo>
                    <a:pt x="8267" y="799"/>
                  </a:lnTo>
                  <a:lnTo>
                    <a:pt x="8292" y="802"/>
                  </a:lnTo>
                  <a:lnTo>
                    <a:pt x="8311" y="804"/>
                  </a:lnTo>
                  <a:lnTo>
                    <a:pt x="8320" y="804"/>
                  </a:lnTo>
                  <a:lnTo>
                    <a:pt x="8336" y="806"/>
                  </a:lnTo>
                  <a:lnTo>
                    <a:pt x="8340" y="799"/>
                  </a:lnTo>
                  <a:lnTo>
                    <a:pt x="8357" y="811"/>
                  </a:lnTo>
                  <a:lnTo>
                    <a:pt x="8390" y="823"/>
                  </a:lnTo>
                  <a:lnTo>
                    <a:pt x="8405" y="848"/>
                  </a:lnTo>
                  <a:lnTo>
                    <a:pt x="8390" y="880"/>
                  </a:lnTo>
                  <a:lnTo>
                    <a:pt x="8294" y="928"/>
                  </a:lnTo>
                  <a:lnTo>
                    <a:pt x="8061" y="1024"/>
                  </a:lnTo>
                  <a:lnTo>
                    <a:pt x="8010" y="1025"/>
                  </a:lnTo>
                  <a:lnTo>
                    <a:pt x="7981" y="1040"/>
                  </a:lnTo>
                  <a:lnTo>
                    <a:pt x="7985" y="1050"/>
                  </a:lnTo>
                  <a:lnTo>
                    <a:pt x="8045" y="1047"/>
                  </a:lnTo>
                  <a:lnTo>
                    <a:pt x="8066" y="1035"/>
                  </a:lnTo>
                  <a:lnTo>
                    <a:pt x="8102" y="1030"/>
                  </a:lnTo>
                  <a:lnTo>
                    <a:pt x="8174" y="1016"/>
                  </a:lnTo>
                  <a:lnTo>
                    <a:pt x="8199" y="1001"/>
                  </a:lnTo>
                  <a:lnTo>
                    <a:pt x="8300" y="976"/>
                  </a:lnTo>
                  <a:lnTo>
                    <a:pt x="8296" y="959"/>
                  </a:lnTo>
                  <a:lnTo>
                    <a:pt x="8325" y="951"/>
                  </a:lnTo>
                  <a:lnTo>
                    <a:pt x="8356" y="939"/>
                  </a:lnTo>
                  <a:lnTo>
                    <a:pt x="8392" y="939"/>
                  </a:lnTo>
                  <a:lnTo>
                    <a:pt x="8400" y="920"/>
                  </a:lnTo>
                  <a:lnTo>
                    <a:pt x="8433" y="917"/>
                  </a:lnTo>
                  <a:lnTo>
                    <a:pt x="8441" y="897"/>
                  </a:lnTo>
                  <a:lnTo>
                    <a:pt x="8477" y="890"/>
                  </a:lnTo>
                  <a:lnTo>
                    <a:pt x="8466" y="861"/>
                  </a:lnTo>
                  <a:lnTo>
                    <a:pt x="8473" y="851"/>
                  </a:lnTo>
                  <a:lnTo>
                    <a:pt x="8477" y="856"/>
                  </a:lnTo>
                  <a:lnTo>
                    <a:pt x="8489" y="853"/>
                  </a:lnTo>
                  <a:lnTo>
                    <a:pt x="8514" y="809"/>
                  </a:lnTo>
                  <a:lnTo>
                    <a:pt x="8509" y="802"/>
                  </a:lnTo>
                  <a:lnTo>
                    <a:pt x="8498" y="802"/>
                  </a:lnTo>
                  <a:lnTo>
                    <a:pt x="8462" y="777"/>
                  </a:lnTo>
                  <a:lnTo>
                    <a:pt x="8396" y="770"/>
                  </a:lnTo>
                  <a:lnTo>
                    <a:pt x="8369" y="755"/>
                  </a:lnTo>
                  <a:lnTo>
                    <a:pt x="8365" y="750"/>
                  </a:lnTo>
                  <a:lnTo>
                    <a:pt x="8356" y="745"/>
                  </a:lnTo>
                  <a:lnTo>
                    <a:pt x="8344" y="728"/>
                  </a:lnTo>
                  <a:lnTo>
                    <a:pt x="8332" y="718"/>
                  </a:lnTo>
                  <a:lnTo>
                    <a:pt x="8284" y="767"/>
                  </a:lnTo>
                  <a:lnTo>
                    <a:pt x="8215" y="772"/>
                  </a:lnTo>
                  <a:lnTo>
                    <a:pt x="8199" y="767"/>
                  </a:lnTo>
                  <a:lnTo>
                    <a:pt x="8191" y="762"/>
                  </a:lnTo>
                  <a:lnTo>
                    <a:pt x="8183" y="765"/>
                  </a:lnTo>
                  <a:lnTo>
                    <a:pt x="8186" y="757"/>
                  </a:lnTo>
                  <a:lnTo>
                    <a:pt x="8174" y="755"/>
                  </a:lnTo>
                  <a:lnTo>
                    <a:pt x="8183" y="745"/>
                  </a:lnTo>
                  <a:lnTo>
                    <a:pt x="8170" y="725"/>
                  </a:lnTo>
                  <a:lnTo>
                    <a:pt x="8158" y="718"/>
                  </a:lnTo>
                  <a:lnTo>
                    <a:pt x="8147" y="735"/>
                  </a:lnTo>
                  <a:lnTo>
                    <a:pt x="8158" y="752"/>
                  </a:lnTo>
                  <a:lnTo>
                    <a:pt x="8170" y="757"/>
                  </a:lnTo>
                  <a:close/>
                  <a:moveTo>
                    <a:pt x="5639" y="1047"/>
                  </a:moveTo>
                  <a:lnTo>
                    <a:pt x="5643" y="1045"/>
                  </a:lnTo>
                  <a:lnTo>
                    <a:pt x="5655" y="1043"/>
                  </a:lnTo>
                  <a:lnTo>
                    <a:pt x="5676" y="1043"/>
                  </a:lnTo>
                  <a:lnTo>
                    <a:pt x="5676" y="1040"/>
                  </a:lnTo>
                  <a:lnTo>
                    <a:pt x="5680" y="1040"/>
                  </a:lnTo>
                  <a:lnTo>
                    <a:pt x="5705" y="1032"/>
                  </a:lnTo>
                  <a:lnTo>
                    <a:pt x="5756" y="1038"/>
                  </a:lnTo>
                  <a:lnTo>
                    <a:pt x="5753" y="1035"/>
                  </a:lnTo>
                  <a:lnTo>
                    <a:pt x="5749" y="1032"/>
                  </a:lnTo>
                  <a:lnTo>
                    <a:pt x="5734" y="1010"/>
                  </a:lnTo>
                  <a:lnTo>
                    <a:pt x="5663" y="1009"/>
                  </a:lnTo>
                  <a:lnTo>
                    <a:pt x="5654" y="1022"/>
                  </a:lnTo>
                  <a:lnTo>
                    <a:pt x="5648" y="1032"/>
                  </a:lnTo>
                  <a:lnTo>
                    <a:pt x="5655" y="1040"/>
                  </a:lnTo>
                  <a:lnTo>
                    <a:pt x="5696" y="1033"/>
                  </a:lnTo>
                  <a:lnTo>
                    <a:pt x="5696" y="1036"/>
                  </a:lnTo>
                  <a:lnTo>
                    <a:pt x="5652" y="1043"/>
                  </a:lnTo>
                  <a:lnTo>
                    <a:pt x="5639" y="1038"/>
                  </a:lnTo>
                  <a:lnTo>
                    <a:pt x="5639" y="1047"/>
                  </a:lnTo>
                  <a:close/>
                  <a:moveTo>
                    <a:pt x="5890" y="1158"/>
                  </a:moveTo>
                  <a:lnTo>
                    <a:pt x="5870" y="1163"/>
                  </a:lnTo>
                  <a:lnTo>
                    <a:pt x="5873" y="1158"/>
                  </a:lnTo>
                  <a:lnTo>
                    <a:pt x="5881" y="1153"/>
                  </a:lnTo>
                  <a:lnTo>
                    <a:pt x="5870" y="1143"/>
                  </a:lnTo>
                  <a:lnTo>
                    <a:pt x="5873" y="1138"/>
                  </a:lnTo>
                  <a:lnTo>
                    <a:pt x="5854" y="1121"/>
                  </a:lnTo>
                  <a:lnTo>
                    <a:pt x="5841" y="1121"/>
                  </a:lnTo>
                  <a:lnTo>
                    <a:pt x="5825" y="1121"/>
                  </a:lnTo>
                  <a:lnTo>
                    <a:pt x="5805" y="1124"/>
                  </a:lnTo>
                  <a:lnTo>
                    <a:pt x="5788" y="1138"/>
                  </a:lnTo>
                  <a:lnTo>
                    <a:pt x="5769" y="1143"/>
                  </a:lnTo>
                  <a:lnTo>
                    <a:pt x="5781" y="1148"/>
                  </a:lnTo>
                  <a:lnTo>
                    <a:pt x="5773" y="1148"/>
                  </a:lnTo>
                  <a:lnTo>
                    <a:pt x="5773" y="1156"/>
                  </a:lnTo>
                  <a:lnTo>
                    <a:pt x="5785" y="1153"/>
                  </a:lnTo>
                  <a:lnTo>
                    <a:pt x="5777" y="1161"/>
                  </a:lnTo>
                  <a:lnTo>
                    <a:pt x="5769" y="1156"/>
                  </a:lnTo>
                  <a:lnTo>
                    <a:pt x="5785" y="1166"/>
                  </a:lnTo>
                  <a:lnTo>
                    <a:pt x="5781" y="1171"/>
                  </a:lnTo>
                  <a:lnTo>
                    <a:pt x="5801" y="1175"/>
                  </a:lnTo>
                  <a:lnTo>
                    <a:pt x="5813" y="1178"/>
                  </a:lnTo>
                  <a:lnTo>
                    <a:pt x="5797" y="1185"/>
                  </a:lnTo>
                  <a:lnTo>
                    <a:pt x="5825" y="1190"/>
                  </a:lnTo>
                  <a:lnTo>
                    <a:pt x="5834" y="1193"/>
                  </a:lnTo>
                  <a:lnTo>
                    <a:pt x="5837" y="1195"/>
                  </a:lnTo>
                  <a:lnTo>
                    <a:pt x="5873" y="1175"/>
                  </a:lnTo>
                  <a:lnTo>
                    <a:pt x="5890" y="1158"/>
                  </a:lnTo>
                  <a:close/>
                  <a:moveTo>
                    <a:pt x="6289" y="1094"/>
                  </a:moveTo>
                  <a:lnTo>
                    <a:pt x="6281" y="1094"/>
                  </a:lnTo>
                  <a:lnTo>
                    <a:pt x="6269" y="1099"/>
                  </a:lnTo>
                  <a:lnTo>
                    <a:pt x="6257" y="1097"/>
                  </a:lnTo>
                  <a:lnTo>
                    <a:pt x="6237" y="1097"/>
                  </a:lnTo>
                  <a:lnTo>
                    <a:pt x="6233" y="1097"/>
                  </a:lnTo>
                  <a:lnTo>
                    <a:pt x="6212" y="1097"/>
                  </a:lnTo>
                  <a:lnTo>
                    <a:pt x="6193" y="1097"/>
                  </a:lnTo>
                  <a:lnTo>
                    <a:pt x="6180" y="1097"/>
                  </a:lnTo>
                  <a:lnTo>
                    <a:pt x="6188" y="1134"/>
                  </a:lnTo>
                  <a:lnTo>
                    <a:pt x="6193" y="1151"/>
                  </a:lnTo>
                  <a:lnTo>
                    <a:pt x="6196" y="1166"/>
                  </a:lnTo>
                  <a:lnTo>
                    <a:pt x="6164" y="1202"/>
                  </a:lnTo>
                  <a:lnTo>
                    <a:pt x="6173" y="1224"/>
                  </a:lnTo>
                  <a:lnTo>
                    <a:pt x="6184" y="1239"/>
                  </a:lnTo>
                  <a:lnTo>
                    <a:pt x="6169" y="1239"/>
                  </a:lnTo>
                  <a:lnTo>
                    <a:pt x="6209" y="1249"/>
                  </a:lnTo>
                  <a:lnTo>
                    <a:pt x="6245" y="1239"/>
                  </a:lnTo>
                  <a:lnTo>
                    <a:pt x="6294" y="1227"/>
                  </a:lnTo>
                  <a:lnTo>
                    <a:pt x="6322" y="1224"/>
                  </a:lnTo>
                  <a:lnTo>
                    <a:pt x="6301" y="1215"/>
                  </a:lnTo>
                  <a:lnTo>
                    <a:pt x="6322" y="1224"/>
                  </a:lnTo>
                  <a:lnTo>
                    <a:pt x="6342" y="1215"/>
                  </a:lnTo>
                  <a:lnTo>
                    <a:pt x="6313" y="1197"/>
                  </a:lnTo>
                  <a:lnTo>
                    <a:pt x="6322" y="1161"/>
                  </a:lnTo>
                  <a:lnTo>
                    <a:pt x="6310" y="1151"/>
                  </a:lnTo>
                  <a:lnTo>
                    <a:pt x="6313" y="1136"/>
                  </a:lnTo>
                  <a:lnTo>
                    <a:pt x="6301" y="1134"/>
                  </a:lnTo>
                  <a:lnTo>
                    <a:pt x="6310" y="1114"/>
                  </a:lnTo>
                  <a:lnTo>
                    <a:pt x="6294" y="1106"/>
                  </a:lnTo>
                  <a:lnTo>
                    <a:pt x="6289" y="1104"/>
                  </a:lnTo>
                  <a:lnTo>
                    <a:pt x="6294" y="1094"/>
                  </a:lnTo>
                  <a:lnTo>
                    <a:pt x="6289" y="1094"/>
                  </a:lnTo>
                  <a:close/>
                  <a:moveTo>
                    <a:pt x="6846" y="1062"/>
                  </a:moveTo>
                  <a:lnTo>
                    <a:pt x="6842" y="1060"/>
                  </a:lnTo>
                  <a:lnTo>
                    <a:pt x="6834" y="1055"/>
                  </a:lnTo>
                  <a:lnTo>
                    <a:pt x="6834" y="1050"/>
                  </a:lnTo>
                  <a:lnTo>
                    <a:pt x="6834" y="1047"/>
                  </a:lnTo>
                  <a:lnTo>
                    <a:pt x="6826" y="1045"/>
                  </a:lnTo>
                  <a:lnTo>
                    <a:pt x="6814" y="1035"/>
                  </a:lnTo>
                  <a:lnTo>
                    <a:pt x="6814" y="1032"/>
                  </a:lnTo>
                  <a:lnTo>
                    <a:pt x="6814" y="1030"/>
                  </a:lnTo>
                  <a:lnTo>
                    <a:pt x="6795" y="1035"/>
                  </a:lnTo>
                  <a:lnTo>
                    <a:pt x="6782" y="1047"/>
                  </a:lnTo>
                  <a:lnTo>
                    <a:pt x="6709" y="1040"/>
                  </a:lnTo>
                  <a:lnTo>
                    <a:pt x="6669" y="1052"/>
                  </a:lnTo>
                  <a:lnTo>
                    <a:pt x="6600" y="1040"/>
                  </a:lnTo>
                  <a:lnTo>
                    <a:pt x="6564" y="1047"/>
                  </a:lnTo>
                  <a:lnTo>
                    <a:pt x="6540" y="1032"/>
                  </a:lnTo>
                  <a:lnTo>
                    <a:pt x="6484" y="1030"/>
                  </a:lnTo>
                  <a:lnTo>
                    <a:pt x="6455" y="1038"/>
                  </a:lnTo>
                  <a:lnTo>
                    <a:pt x="6455" y="1047"/>
                  </a:lnTo>
                  <a:lnTo>
                    <a:pt x="6434" y="1060"/>
                  </a:lnTo>
                  <a:lnTo>
                    <a:pt x="6434" y="1079"/>
                  </a:lnTo>
                  <a:lnTo>
                    <a:pt x="6447" y="1106"/>
                  </a:lnTo>
                  <a:lnTo>
                    <a:pt x="6414" y="1143"/>
                  </a:lnTo>
                  <a:lnTo>
                    <a:pt x="6403" y="1143"/>
                  </a:lnTo>
                  <a:lnTo>
                    <a:pt x="6403" y="1210"/>
                  </a:lnTo>
                  <a:lnTo>
                    <a:pt x="6443" y="1202"/>
                  </a:lnTo>
                  <a:lnTo>
                    <a:pt x="6431" y="1208"/>
                  </a:lnTo>
                  <a:lnTo>
                    <a:pt x="6467" y="1210"/>
                  </a:lnTo>
                  <a:lnTo>
                    <a:pt x="6496" y="1224"/>
                  </a:lnTo>
                  <a:lnTo>
                    <a:pt x="6503" y="1220"/>
                  </a:lnTo>
                  <a:lnTo>
                    <a:pt x="6499" y="1227"/>
                  </a:lnTo>
                  <a:lnTo>
                    <a:pt x="6511" y="1227"/>
                  </a:lnTo>
                  <a:lnTo>
                    <a:pt x="6503" y="1232"/>
                  </a:lnTo>
                  <a:lnTo>
                    <a:pt x="6515" y="1230"/>
                  </a:lnTo>
                  <a:lnTo>
                    <a:pt x="6503" y="1234"/>
                  </a:lnTo>
                  <a:lnTo>
                    <a:pt x="6511" y="1239"/>
                  </a:lnTo>
                  <a:lnTo>
                    <a:pt x="6511" y="1247"/>
                  </a:lnTo>
                  <a:lnTo>
                    <a:pt x="6535" y="1257"/>
                  </a:lnTo>
                  <a:lnTo>
                    <a:pt x="6535" y="1259"/>
                  </a:lnTo>
                  <a:lnTo>
                    <a:pt x="6540" y="1254"/>
                  </a:lnTo>
                  <a:lnTo>
                    <a:pt x="6544" y="1259"/>
                  </a:lnTo>
                  <a:lnTo>
                    <a:pt x="6556" y="1254"/>
                  </a:lnTo>
                  <a:lnTo>
                    <a:pt x="6560" y="1259"/>
                  </a:lnTo>
                  <a:lnTo>
                    <a:pt x="6560" y="1251"/>
                  </a:lnTo>
                  <a:lnTo>
                    <a:pt x="6568" y="1259"/>
                  </a:lnTo>
                  <a:lnTo>
                    <a:pt x="6560" y="1247"/>
                  </a:lnTo>
                  <a:lnTo>
                    <a:pt x="6573" y="1257"/>
                  </a:lnTo>
                  <a:lnTo>
                    <a:pt x="6573" y="1249"/>
                  </a:lnTo>
                  <a:lnTo>
                    <a:pt x="6573" y="1257"/>
                  </a:lnTo>
                  <a:lnTo>
                    <a:pt x="6576" y="1249"/>
                  </a:lnTo>
                  <a:lnTo>
                    <a:pt x="6584" y="1254"/>
                  </a:lnTo>
                  <a:lnTo>
                    <a:pt x="6592" y="1249"/>
                  </a:lnTo>
                  <a:lnTo>
                    <a:pt x="6600" y="1254"/>
                  </a:lnTo>
                  <a:lnTo>
                    <a:pt x="6624" y="1254"/>
                  </a:lnTo>
                  <a:lnTo>
                    <a:pt x="6620" y="1242"/>
                  </a:lnTo>
                  <a:lnTo>
                    <a:pt x="6636" y="1247"/>
                  </a:lnTo>
                  <a:lnTo>
                    <a:pt x="6645" y="1222"/>
                  </a:lnTo>
                  <a:lnTo>
                    <a:pt x="6681" y="1197"/>
                  </a:lnTo>
                  <a:lnTo>
                    <a:pt x="6709" y="1195"/>
                  </a:lnTo>
                  <a:lnTo>
                    <a:pt x="6714" y="1190"/>
                  </a:lnTo>
                  <a:lnTo>
                    <a:pt x="6741" y="1208"/>
                  </a:lnTo>
                  <a:lnTo>
                    <a:pt x="6766" y="1190"/>
                  </a:lnTo>
                  <a:lnTo>
                    <a:pt x="6757" y="1188"/>
                  </a:lnTo>
                  <a:lnTo>
                    <a:pt x="6778" y="1161"/>
                  </a:lnTo>
                  <a:lnTo>
                    <a:pt x="6798" y="1151"/>
                  </a:lnTo>
                  <a:lnTo>
                    <a:pt x="6802" y="1136"/>
                  </a:lnTo>
                  <a:lnTo>
                    <a:pt x="6814" y="1131"/>
                  </a:lnTo>
                  <a:lnTo>
                    <a:pt x="6834" y="1097"/>
                  </a:lnTo>
                  <a:lnTo>
                    <a:pt x="6867" y="1081"/>
                  </a:lnTo>
                  <a:lnTo>
                    <a:pt x="6867" y="1067"/>
                  </a:lnTo>
                  <a:lnTo>
                    <a:pt x="6846" y="1062"/>
                  </a:lnTo>
                  <a:close/>
                  <a:moveTo>
                    <a:pt x="7472" y="610"/>
                  </a:moveTo>
                  <a:lnTo>
                    <a:pt x="7464" y="607"/>
                  </a:lnTo>
                  <a:lnTo>
                    <a:pt x="7472" y="610"/>
                  </a:lnTo>
                  <a:close/>
                  <a:moveTo>
                    <a:pt x="7464" y="607"/>
                  </a:moveTo>
                  <a:lnTo>
                    <a:pt x="7460" y="607"/>
                  </a:lnTo>
                  <a:lnTo>
                    <a:pt x="7456" y="610"/>
                  </a:lnTo>
                  <a:lnTo>
                    <a:pt x="7460" y="607"/>
                  </a:lnTo>
                  <a:lnTo>
                    <a:pt x="7464" y="607"/>
                  </a:lnTo>
                  <a:close/>
                  <a:moveTo>
                    <a:pt x="7431" y="607"/>
                  </a:moveTo>
                  <a:lnTo>
                    <a:pt x="7415" y="600"/>
                  </a:lnTo>
                  <a:lnTo>
                    <a:pt x="7412" y="600"/>
                  </a:lnTo>
                  <a:lnTo>
                    <a:pt x="7383" y="600"/>
                  </a:lnTo>
                  <a:lnTo>
                    <a:pt x="7367" y="605"/>
                  </a:lnTo>
                  <a:lnTo>
                    <a:pt x="7359" y="602"/>
                  </a:lnTo>
                  <a:lnTo>
                    <a:pt x="7364" y="605"/>
                  </a:lnTo>
                  <a:lnTo>
                    <a:pt x="7364" y="602"/>
                  </a:lnTo>
                  <a:lnTo>
                    <a:pt x="7364" y="607"/>
                  </a:lnTo>
                  <a:lnTo>
                    <a:pt x="7352" y="607"/>
                  </a:lnTo>
                  <a:lnTo>
                    <a:pt x="7323" y="620"/>
                  </a:lnTo>
                  <a:lnTo>
                    <a:pt x="7271" y="612"/>
                  </a:lnTo>
                  <a:lnTo>
                    <a:pt x="7178" y="600"/>
                  </a:lnTo>
                  <a:lnTo>
                    <a:pt x="7173" y="612"/>
                  </a:lnTo>
                  <a:lnTo>
                    <a:pt x="7178" y="625"/>
                  </a:lnTo>
                  <a:lnTo>
                    <a:pt x="7178" y="630"/>
                  </a:lnTo>
                  <a:lnTo>
                    <a:pt x="7173" y="637"/>
                  </a:lnTo>
                  <a:lnTo>
                    <a:pt x="7186" y="651"/>
                  </a:lnTo>
                  <a:lnTo>
                    <a:pt x="7190" y="656"/>
                  </a:lnTo>
                  <a:lnTo>
                    <a:pt x="7190" y="664"/>
                  </a:lnTo>
                  <a:lnTo>
                    <a:pt x="7194" y="674"/>
                  </a:lnTo>
                  <a:lnTo>
                    <a:pt x="7198" y="686"/>
                  </a:lnTo>
                  <a:lnTo>
                    <a:pt x="7202" y="698"/>
                  </a:lnTo>
                  <a:lnTo>
                    <a:pt x="7206" y="711"/>
                  </a:lnTo>
                  <a:lnTo>
                    <a:pt x="7206" y="723"/>
                  </a:lnTo>
                  <a:lnTo>
                    <a:pt x="7209" y="735"/>
                  </a:lnTo>
                  <a:lnTo>
                    <a:pt x="7213" y="745"/>
                  </a:lnTo>
                  <a:lnTo>
                    <a:pt x="7218" y="757"/>
                  </a:lnTo>
                  <a:lnTo>
                    <a:pt x="7218" y="770"/>
                  </a:lnTo>
                  <a:lnTo>
                    <a:pt x="7222" y="782"/>
                  </a:lnTo>
                  <a:lnTo>
                    <a:pt x="7226" y="794"/>
                  </a:lnTo>
                  <a:lnTo>
                    <a:pt x="7226" y="806"/>
                  </a:lnTo>
                  <a:lnTo>
                    <a:pt x="7230" y="817"/>
                  </a:lnTo>
                  <a:lnTo>
                    <a:pt x="7234" y="829"/>
                  </a:lnTo>
                  <a:lnTo>
                    <a:pt x="7251" y="829"/>
                  </a:lnTo>
                  <a:lnTo>
                    <a:pt x="7271" y="829"/>
                  </a:lnTo>
                  <a:lnTo>
                    <a:pt x="7290" y="829"/>
                  </a:lnTo>
                  <a:lnTo>
                    <a:pt x="7307" y="829"/>
                  </a:lnTo>
                  <a:lnTo>
                    <a:pt x="7327" y="829"/>
                  </a:lnTo>
                  <a:lnTo>
                    <a:pt x="7343" y="829"/>
                  </a:lnTo>
                  <a:lnTo>
                    <a:pt x="7364" y="829"/>
                  </a:lnTo>
                  <a:lnTo>
                    <a:pt x="7383" y="829"/>
                  </a:lnTo>
                  <a:lnTo>
                    <a:pt x="7399" y="829"/>
                  </a:lnTo>
                  <a:lnTo>
                    <a:pt x="7420" y="829"/>
                  </a:lnTo>
                  <a:lnTo>
                    <a:pt x="7437" y="829"/>
                  </a:lnTo>
                  <a:lnTo>
                    <a:pt x="7456" y="829"/>
                  </a:lnTo>
                  <a:lnTo>
                    <a:pt x="7468" y="829"/>
                  </a:lnTo>
                  <a:lnTo>
                    <a:pt x="7468" y="824"/>
                  </a:lnTo>
                  <a:lnTo>
                    <a:pt x="7472" y="821"/>
                  </a:lnTo>
                  <a:lnTo>
                    <a:pt x="7476" y="824"/>
                  </a:lnTo>
                  <a:lnTo>
                    <a:pt x="7485" y="829"/>
                  </a:lnTo>
                  <a:lnTo>
                    <a:pt x="7501" y="829"/>
                  </a:lnTo>
                  <a:lnTo>
                    <a:pt x="7521" y="826"/>
                  </a:lnTo>
                  <a:lnTo>
                    <a:pt x="7536" y="826"/>
                  </a:lnTo>
                  <a:lnTo>
                    <a:pt x="7553" y="834"/>
                  </a:lnTo>
                  <a:lnTo>
                    <a:pt x="7557" y="834"/>
                  </a:lnTo>
                  <a:lnTo>
                    <a:pt x="7569" y="834"/>
                  </a:lnTo>
                  <a:lnTo>
                    <a:pt x="7577" y="821"/>
                  </a:lnTo>
                  <a:lnTo>
                    <a:pt x="7593" y="819"/>
                  </a:lnTo>
                  <a:lnTo>
                    <a:pt x="7609" y="809"/>
                  </a:lnTo>
                  <a:lnTo>
                    <a:pt x="7621" y="799"/>
                  </a:lnTo>
                  <a:lnTo>
                    <a:pt x="7609" y="780"/>
                  </a:lnTo>
                  <a:lnTo>
                    <a:pt x="7621" y="780"/>
                  </a:lnTo>
                  <a:lnTo>
                    <a:pt x="7593" y="767"/>
                  </a:lnTo>
                  <a:lnTo>
                    <a:pt x="7528" y="716"/>
                  </a:lnTo>
                  <a:lnTo>
                    <a:pt x="7509" y="686"/>
                  </a:lnTo>
                  <a:lnTo>
                    <a:pt x="7447" y="647"/>
                  </a:lnTo>
                  <a:lnTo>
                    <a:pt x="7451" y="638"/>
                  </a:lnTo>
                  <a:lnTo>
                    <a:pt x="7460" y="647"/>
                  </a:lnTo>
                  <a:lnTo>
                    <a:pt x="7488" y="671"/>
                  </a:lnTo>
                  <a:lnTo>
                    <a:pt x="7532" y="689"/>
                  </a:lnTo>
                  <a:lnTo>
                    <a:pt x="7541" y="647"/>
                  </a:lnTo>
                  <a:lnTo>
                    <a:pt x="7501" y="607"/>
                  </a:lnTo>
                  <a:lnTo>
                    <a:pt x="7497" y="605"/>
                  </a:lnTo>
                  <a:lnTo>
                    <a:pt x="7472" y="610"/>
                  </a:lnTo>
                  <a:lnTo>
                    <a:pt x="7447" y="612"/>
                  </a:lnTo>
                  <a:lnTo>
                    <a:pt x="7456" y="610"/>
                  </a:lnTo>
                  <a:lnTo>
                    <a:pt x="7431" y="607"/>
                  </a:lnTo>
                  <a:close/>
                  <a:moveTo>
                    <a:pt x="7234" y="829"/>
                  </a:moveTo>
                  <a:lnTo>
                    <a:pt x="7251" y="829"/>
                  </a:lnTo>
                  <a:lnTo>
                    <a:pt x="7271" y="829"/>
                  </a:lnTo>
                  <a:lnTo>
                    <a:pt x="7290" y="829"/>
                  </a:lnTo>
                  <a:lnTo>
                    <a:pt x="7307" y="829"/>
                  </a:lnTo>
                  <a:lnTo>
                    <a:pt x="7327" y="829"/>
                  </a:lnTo>
                  <a:lnTo>
                    <a:pt x="7343" y="829"/>
                  </a:lnTo>
                  <a:lnTo>
                    <a:pt x="7364" y="829"/>
                  </a:lnTo>
                  <a:lnTo>
                    <a:pt x="7383" y="829"/>
                  </a:lnTo>
                  <a:lnTo>
                    <a:pt x="7399" y="829"/>
                  </a:lnTo>
                  <a:lnTo>
                    <a:pt x="7420" y="829"/>
                  </a:lnTo>
                  <a:lnTo>
                    <a:pt x="7437" y="829"/>
                  </a:lnTo>
                  <a:lnTo>
                    <a:pt x="7456" y="829"/>
                  </a:lnTo>
                  <a:lnTo>
                    <a:pt x="7468" y="829"/>
                  </a:lnTo>
                  <a:lnTo>
                    <a:pt x="7468" y="824"/>
                  </a:lnTo>
                  <a:lnTo>
                    <a:pt x="7472" y="821"/>
                  </a:lnTo>
                  <a:lnTo>
                    <a:pt x="7476" y="824"/>
                  </a:lnTo>
                  <a:lnTo>
                    <a:pt x="7485" y="829"/>
                  </a:lnTo>
                  <a:lnTo>
                    <a:pt x="7501" y="829"/>
                  </a:lnTo>
                  <a:lnTo>
                    <a:pt x="7521" y="826"/>
                  </a:lnTo>
                  <a:lnTo>
                    <a:pt x="7536" y="826"/>
                  </a:lnTo>
                  <a:lnTo>
                    <a:pt x="7553" y="834"/>
                  </a:lnTo>
                  <a:lnTo>
                    <a:pt x="7557" y="834"/>
                  </a:lnTo>
                  <a:lnTo>
                    <a:pt x="7569" y="834"/>
                  </a:lnTo>
                  <a:lnTo>
                    <a:pt x="7577" y="821"/>
                  </a:lnTo>
                  <a:lnTo>
                    <a:pt x="7593" y="819"/>
                  </a:lnTo>
                  <a:lnTo>
                    <a:pt x="7609" y="809"/>
                  </a:lnTo>
                  <a:lnTo>
                    <a:pt x="7621" y="799"/>
                  </a:lnTo>
                  <a:lnTo>
                    <a:pt x="7674" y="826"/>
                  </a:lnTo>
                  <a:lnTo>
                    <a:pt x="7698" y="848"/>
                  </a:lnTo>
                  <a:lnTo>
                    <a:pt x="7690" y="848"/>
                  </a:lnTo>
                  <a:lnTo>
                    <a:pt x="7718" y="902"/>
                  </a:lnTo>
                  <a:lnTo>
                    <a:pt x="7766" y="922"/>
                  </a:lnTo>
                  <a:lnTo>
                    <a:pt x="7758" y="934"/>
                  </a:lnTo>
                  <a:lnTo>
                    <a:pt x="7730" y="939"/>
                  </a:lnTo>
                  <a:lnTo>
                    <a:pt x="7710" y="944"/>
                  </a:lnTo>
                  <a:lnTo>
                    <a:pt x="7714" y="964"/>
                  </a:lnTo>
                  <a:lnTo>
                    <a:pt x="7702" y="991"/>
                  </a:lnTo>
                  <a:lnTo>
                    <a:pt x="7707" y="1003"/>
                  </a:lnTo>
                  <a:lnTo>
                    <a:pt x="7707" y="1011"/>
                  </a:lnTo>
                  <a:lnTo>
                    <a:pt x="7710" y="1013"/>
                  </a:lnTo>
                  <a:lnTo>
                    <a:pt x="7702" y="1052"/>
                  </a:lnTo>
                  <a:lnTo>
                    <a:pt x="7685" y="1052"/>
                  </a:lnTo>
                  <a:lnTo>
                    <a:pt x="7666" y="1072"/>
                  </a:lnTo>
                  <a:lnTo>
                    <a:pt x="7662" y="1087"/>
                  </a:lnTo>
                  <a:lnTo>
                    <a:pt x="7658" y="1099"/>
                  </a:lnTo>
                  <a:lnTo>
                    <a:pt x="7649" y="1097"/>
                  </a:lnTo>
                  <a:lnTo>
                    <a:pt x="7637" y="1104"/>
                  </a:lnTo>
                  <a:lnTo>
                    <a:pt x="7633" y="1128"/>
                  </a:lnTo>
                  <a:lnTo>
                    <a:pt x="7637" y="1153"/>
                  </a:lnTo>
                  <a:lnTo>
                    <a:pt x="7601" y="1156"/>
                  </a:lnTo>
                  <a:lnTo>
                    <a:pt x="7593" y="1168"/>
                  </a:lnTo>
                  <a:lnTo>
                    <a:pt x="7621" y="1175"/>
                  </a:lnTo>
                  <a:lnTo>
                    <a:pt x="7666" y="1200"/>
                  </a:lnTo>
                  <a:lnTo>
                    <a:pt x="7690" y="1232"/>
                  </a:lnTo>
                  <a:lnTo>
                    <a:pt x="7710" y="1232"/>
                  </a:lnTo>
                  <a:lnTo>
                    <a:pt x="7714" y="1249"/>
                  </a:lnTo>
                  <a:lnTo>
                    <a:pt x="7694" y="1249"/>
                  </a:lnTo>
                  <a:lnTo>
                    <a:pt x="7674" y="1249"/>
                  </a:lnTo>
                  <a:lnTo>
                    <a:pt x="7654" y="1249"/>
                  </a:lnTo>
                  <a:lnTo>
                    <a:pt x="7642" y="1259"/>
                  </a:lnTo>
                  <a:lnTo>
                    <a:pt x="7621" y="1271"/>
                  </a:lnTo>
                  <a:lnTo>
                    <a:pt x="7601" y="1269"/>
                  </a:lnTo>
                  <a:lnTo>
                    <a:pt x="7569" y="1276"/>
                  </a:lnTo>
                  <a:lnTo>
                    <a:pt x="7565" y="1276"/>
                  </a:lnTo>
                  <a:lnTo>
                    <a:pt x="7557" y="1271"/>
                  </a:lnTo>
                  <a:lnTo>
                    <a:pt x="7528" y="1271"/>
                  </a:lnTo>
                  <a:lnTo>
                    <a:pt x="7517" y="1278"/>
                  </a:lnTo>
                  <a:lnTo>
                    <a:pt x="7468" y="1249"/>
                  </a:lnTo>
                  <a:lnTo>
                    <a:pt x="7451" y="1257"/>
                  </a:lnTo>
                  <a:lnTo>
                    <a:pt x="7437" y="1251"/>
                  </a:lnTo>
                  <a:lnTo>
                    <a:pt x="7420" y="1259"/>
                  </a:lnTo>
                  <a:lnTo>
                    <a:pt x="7383" y="1242"/>
                  </a:lnTo>
                  <a:lnTo>
                    <a:pt x="7371" y="1224"/>
                  </a:lnTo>
                  <a:lnTo>
                    <a:pt x="7343" y="1215"/>
                  </a:lnTo>
                  <a:lnTo>
                    <a:pt x="7339" y="1200"/>
                  </a:lnTo>
                  <a:lnTo>
                    <a:pt x="7290" y="1180"/>
                  </a:lnTo>
                  <a:lnTo>
                    <a:pt x="7290" y="1171"/>
                  </a:lnTo>
                  <a:lnTo>
                    <a:pt x="7246" y="1161"/>
                  </a:lnTo>
                  <a:lnTo>
                    <a:pt x="7251" y="1151"/>
                  </a:lnTo>
                  <a:lnTo>
                    <a:pt x="7222" y="1151"/>
                  </a:lnTo>
                  <a:lnTo>
                    <a:pt x="7222" y="1131"/>
                  </a:lnTo>
                  <a:lnTo>
                    <a:pt x="7226" y="1128"/>
                  </a:lnTo>
                  <a:lnTo>
                    <a:pt x="7226" y="1124"/>
                  </a:lnTo>
                  <a:lnTo>
                    <a:pt x="7209" y="1109"/>
                  </a:lnTo>
                  <a:lnTo>
                    <a:pt x="7186" y="1097"/>
                  </a:lnTo>
                  <a:lnTo>
                    <a:pt x="7194" y="1089"/>
                  </a:lnTo>
                  <a:lnTo>
                    <a:pt x="7178" y="1079"/>
                  </a:lnTo>
                  <a:lnTo>
                    <a:pt x="7170" y="1058"/>
                  </a:lnTo>
                  <a:lnTo>
                    <a:pt x="7145" y="1052"/>
                  </a:lnTo>
                  <a:lnTo>
                    <a:pt x="7161" y="1038"/>
                  </a:lnTo>
                  <a:lnTo>
                    <a:pt x="7153" y="1028"/>
                  </a:lnTo>
                  <a:lnTo>
                    <a:pt x="7170" y="1021"/>
                  </a:lnTo>
                  <a:lnTo>
                    <a:pt x="7161" y="1008"/>
                  </a:lnTo>
                  <a:lnTo>
                    <a:pt x="7173" y="1006"/>
                  </a:lnTo>
                  <a:lnTo>
                    <a:pt x="7182" y="986"/>
                  </a:lnTo>
                  <a:lnTo>
                    <a:pt x="7222" y="981"/>
                  </a:lnTo>
                  <a:lnTo>
                    <a:pt x="7222" y="974"/>
                  </a:lnTo>
                  <a:lnTo>
                    <a:pt x="7218" y="962"/>
                  </a:lnTo>
                  <a:lnTo>
                    <a:pt x="7218" y="949"/>
                  </a:lnTo>
                  <a:lnTo>
                    <a:pt x="7213" y="937"/>
                  </a:lnTo>
                  <a:lnTo>
                    <a:pt x="7213" y="927"/>
                  </a:lnTo>
                  <a:lnTo>
                    <a:pt x="7209" y="915"/>
                  </a:lnTo>
                  <a:lnTo>
                    <a:pt x="7209" y="902"/>
                  </a:lnTo>
                  <a:lnTo>
                    <a:pt x="7206" y="890"/>
                  </a:lnTo>
                  <a:lnTo>
                    <a:pt x="7161" y="875"/>
                  </a:lnTo>
                  <a:lnTo>
                    <a:pt x="7150" y="874"/>
                  </a:lnTo>
                  <a:lnTo>
                    <a:pt x="7125" y="864"/>
                  </a:lnTo>
                  <a:lnTo>
                    <a:pt x="7108" y="861"/>
                  </a:lnTo>
                  <a:lnTo>
                    <a:pt x="7101" y="856"/>
                  </a:lnTo>
                  <a:lnTo>
                    <a:pt x="7080" y="852"/>
                  </a:lnTo>
                  <a:lnTo>
                    <a:pt x="7053" y="842"/>
                  </a:lnTo>
                  <a:lnTo>
                    <a:pt x="7032" y="836"/>
                  </a:lnTo>
                  <a:lnTo>
                    <a:pt x="7011" y="831"/>
                  </a:lnTo>
                  <a:lnTo>
                    <a:pt x="7234" y="829"/>
                  </a:lnTo>
                  <a:close/>
                  <a:moveTo>
                    <a:pt x="8177" y="1166"/>
                  </a:moveTo>
                  <a:lnTo>
                    <a:pt x="8207" y="1080"/>
                  </a:lnTo>
                  <a:lnTo>
                    <a:pt x="8143" y="1087"/>
                  </a:lnTo>
                  <a:lnTo>
                    <a:pt x="8105" y="1099"/>
                  </a:lnTo>
                  <a:lnTo>
                    <a:pt x="8081" y="1094"/>
                  </a:lnTo>
                  <a:lnTo>
                    <a:pt x="8049" y="1106"/>
                  </a:lnTo>
                  <a:lnTo>
                    <a:pt x="8025" y="1106"/>
                  </a:lnTo>
                  <a:lnTo>
                    <a:pt x="7981" y="1079"/>
                  </a:lnTo>
                  <a:lnTo>
                    <a:pt x="7973" y="1092"/>
                  </a:lnTo>
                  <a:lnTo>
                    <a:pt x="7961" y="1102"/>
                  </a:lnTo>
                  <a:lnTo>
                    <a:pt x="7973" y="1112"/>
                  </a:lnTo>
                  <a:lnTo>
                    <a:pt x="8021" y="1141"/>
                  </a:lnTo>
                  <a:lnTo>
                    <a:pt x="8037" y="1143"/>
                  </a:lnTo>
                  <a:lnTo>
                    <a:pt x="8042" y="1146"/>
                  </a:lnTo>
                  <a:lnTo>
                    <a:pt x="8058" y="1148"/>
                  </a:lnTo>
                  <a:lnTo>
                    <a:pt x="8077" y="1153"/>
                  </a:lnTo>
                  <a:lnTo>
                    <a:pt x="8089" y="1156"/>
                  </a:lnTo>
                  <a:lnTo>
                    <a:pt x="8098" y="1156"/>
                  </a:lnTo>
                  <a:lnTo>
                    <a:pt x="8118" y="1161"/>
                  </a:lnTo>
                  <a:lnTo>
                    <a:pt x="8138" y="1166"/>
                  </a:lnTo>
                  <a:lnTo>
                    <a:pt x="8158" y="1166"/>
                  </a:lnTo>
                  <a:lnTo>
                    <a:pt x="8177" y="1166"/>
                  </a:lnTo>
                  <a:close/>
                  <a:moveTo>
                    <a:pt x="4045" y="1227"/>
                  </a:moveTo>
                  <a:lnTo>
                    <a:pt x="4042" y="1237"/>
                  </a:lnTo>
                  <a:lnTo>
                    <a:pt x="4017" y="1242"/>
                  </a:lnTo>
                  <a:lnTo>
                    <a:pt x="4009" y="1264"/>
                  </a:lnTo>
                  <a:lnTo>
                    <a:pt x="4021" y="1278"/>
                  </a:lnTo>
                  <a:lnTo>
                    <a:pt x="4037" y="1278"/>
                  </a:lnTo>
                  <a:lnTo>
                    <a:pt x="4042" y="1291"/>
                  </a:lnTo>
                  <a:lnTo>
                    <a:pt x="4065" y="1316"/>
                  </a:lnTo>
                  <a:lnTo>
                    <a:pt x="4042" y="1313"/>
                  </a:lnTo>
                  <a:lnTo>
                    <a:pt x="4009" y="1325"/>
                  </a:lnTo>
                  <a:lnTo>
                    <a:pt x="3996" y="1323"/>
                  </a:lnTo>
                  <a:lnTo>
                    <a:pt x="3961" y="1328"/>
                  </a:lnTo>
                  <a:lnTo>
                    <a:pt x="3940" y="1316"/>
                  </a:lnTo>
                  <a:lnTo>
                    <a:pt x="3932" y="1296"/>
                  </a:lnTo>
                  <a:lnTo>
                    <a:pt x="3940" y="1273"/>
                  </a:lnTo>
                  <a:lnTo>
                    <a:pt x="3952" y="1264"/>
                  </a:lnTo>
                  <a:lnTo>
                    <a:pt x="3948" y="1254"/>
                  </a:lnTo>
                  <a:lnTo>
                    <a:pt x="3928" y="1249"/>
                  </a:lnTo>
                  <a:lnTo>
                    <a:pt x="3932" y="1232"/>
                  </a:lnTo>
                  <a:lnTo>
                    <a:pt x="3907" y="1232"/>
                  </a:lnTo>
                  <a:lnTo>
                    <a:pt x="3888" y="1215"/>
                  </a:lnTo>
                  <a:lnTo>
                    <a:pt x="3895" y="1208"/>
                  </a:lnTo>
                  <a:lnTo>
                    <a:pt x="3899" y="1195"/>
                  </a:lnTo>
                  <a:lnTo>
                    <a:pt x="3932" y="1185"/>
                  </a:lnTo>
                  <a:lnTo>
                    <a:pt x="3916" y="1173"/>
                  </a:lnTo>
                  <a:lnTo>
                    <a:pt x="3957" y="1156"/>
                  </a:lnTo>
                  <a:lnTo>
                    <a:pt x="3952" y="1148"/>
                  </a:lnTo>
                  <a:lnTo>
                    <a:pt x="3961" y="1153"/>
                  </a:lnTo>
                  <a:lnTo>
                    <a:pt x="3972" y="1158"/>
                  </a:lnTo>
                  <a:lnTo>
                    <a:pt x="3988" y="1168"/>
                  </a:lnTo>
                  <a:lnTo>
                    <a:pt x="3993" y="1173"/>
                  </a:lnTo>
                  <a:lnTo>
                    <a:pt x="4000" y="1178"/>
                  </a:lnTo>
                  <a:lnTo>
                    <a:pt x="3993" y="1202"/>
                  </a:lnTo>
                  <a:lnTo>
                    <a:pt x="4009" y="1190"/>
                  </a:lnTo>
                  <a:lnTo>
                    <a:pt x="4049" y="1210"/>
                  </a:lnTo>
                  <a:lnTo>
                    <a:pt x="4045" y="1227"/>
                  </a:lnTo>
                  <a:close/>
                  <a:moveTo>
                    <a:pt x="6221" y="153"/>
                  </a:moveTo>
                  <a:lnTo>
                    <a:pt x="6229" y="150"/>
                  </a:lnTo>
                  <a:lnTo>
                    <a:pt x="6209" y="160"/>
                  </a:lnTo>
                  <a:lnTo>
                    <a:pt x="6177" y="163"/>
                  </a:lnTo>
                  <a:lnTo>
                    <a:pt x="6157" y="174"/>
                  </a:lnTo>
                  <a:lnTo>
                    <a:pt x="6132" y="185"/>
                  </a:lnTo>
                  <a:lnTo>
                    <a:pt x="6148" y="189"/>
                  </a:lnTo>
                  <a:lnTo>
                    <a:pt x="6152" y="182"/>
                  </a:lnTo>
                  <a:lnTo>
                    <a:pt x="6193" y="182"/>
                  </a:lnTo>
                  <a:lnTo>
                    <a:pt x="6196" y="172"/>
                  </a:lnTo>
                  <a:lnTo>
                    <a:pt x="6225" y="177"/>
                  </a:lnTo>
                  <a:lnTo>
                    <a:pt x="6237" y="172"/>
                  </a:lnTo>
                  <a:lnTo>
                    <a:pt x="6253" y="167"/>
                  </a:lnTo>
                  <a:lnTo>
                    <a:pt x="6301" y="172"/>
                  </a:lnTo>
                  <a:lnTo>
                    <a:pt x="6330" y="163"/>
                  </a:lnTo>
                  <a:lnTo>
                    <a:pt x="6334" y="158"/>
                  </a:lnTo>
                  <a:lnTo>
                    <a:pt x="6306" y="155"/>
                  </a:lnTo>
                  <a:lnTo>
                    <a:pt x="6318" y="153"/>
                  </a:lnTo>
                  <a:lnTo>
                    <a:pt x="6330" y="148"/>
                  </a:lnTo>
                  <a:lnTo>
                    <a:pt x="6342" y="133"/>
                  </a:lnTo>
                  <a:lnTo>
                    <a:pt x="6334" y="125"/>
                  </a:lnTo>
                  <a:lnTo>
                    <a:pt x="6310" y="123"/>
                  </a:lnTo>
                  <a:lnTo>
                    <a:pt x="6294" y="125"/>
                  </a:lnTo>
                  <a:lnTo>
                    <a:pt x="6301" y="118"/>
                  </a:lnTo>
                  <a:lnTo>
                    <a:pt x="6294" y="111"/>
                  </a:lnTo>
                  <a:lnTo>
                    <a:pt x="6297" y="111"/>
                  </a:lnTo>
                  <a:lnTo>
                    <a:pt x="6294" y="106"/>
                  </a:lnTo>
                  <a:lnTo>
                    <a:pt x="6281" y="91"/>
                  </a:lnTo>
                  <a:lnTo>
                    <a:pt x="6261" y="88"/>
                  </a:lnTo>
                  <a:lnTo>
                    <a:pt x="6241" y="62"/>
                  </a:lnTo>
                  <a:lnTo>
                    <a:pt x="6241" y="59"/>
                  </a:lnTo>
                  <a:lnTo>
                    <a:pt x="6200" y="57"/>
                  </a:lnTo>
                  <a:lnTo>
                    <a:pt x="6229" y="51"/>
                  </a:lnTo>
                  <a:lnTo>
                    <a:pt x="6209" y="50"/>
                  </a:lnTo>
                  <a:lnTo>
                    <a:pt x="6229" y="44"/>
                  </a:lnTo>
                  <a:lnTo>
                    <a:pt x="6250" y="22"/>
                  </a:lnTo>
                  <a:lnTo>
                    <a:pt x="6212" y="20"/>
                  </a:lnTo>
                  <a:lnTo>
                    <a:pt x="6188" y="24"/>
                  </a:lnTo>
                  <a:lnTo>
                    <a:pt x="6200" y="17"/>
                  </a:lnTo>
                  <a:lnTo>
                    <a:pt x="6221" y="0"/>
                  </a:lnTo>
                  <a:lnTo>
                    <a:pt x="6180" y="5"/>
                  </a:lnTo>
                  <a:lnTo>
                    <a:pt x="6177" y="0"/>
                  </a:lnTo>
                  <a:lnTo>
                    <a:pt x="6177" y="10"/>
                  </a:lnTo>
                  <a:lnTo>
                    <a:pt x="6160" y="13"/>
                  </a:lnTo>
                  <a:lnTo>
                    <a:pt x="6169" y="17"/>
                  </a:lnTo>
                  <a:lnTo>
                    <a:pt x="6152" y="17"/>
                  </a:lnTo>
                  <a:lnTo>
                    <a:pt x="6160" y="24"/>
                  </a:lnTo>
                  <a:lnTo>
                    <a:pt x="6160" y="27"/>
                  </a:lnTo>
                  <a:lnTo>
                    <a:pt x="6160" y="34"/>
                  </a:lnTo>
                  <a:lnTo>
                    <a:pt x="6140" y="42"/>
                  </a:lnTo>
                  <a:lnTo>
                    <a:pt x="6157" y="42"/>
                  </a:lnTo>
                  <a:lnTo>
                    <a:pt x="6144" y="44"/>
                  </a:lnTo>
                  <a:lnTo>
                    <a:pt x="6152" y="47"/>
                  </a:lnTo>
                  <a:lnTo>
                    <a:pt x="6169" y="42"/>
                  </a:lnTo>
                  <a:lnTo>
                    <a:pt x="6144" y="71"/>
                  </a:lnTo>
                  <a:lnTo>
                    <a:pt x="6169" y="51"/>
                  </a:lnTo>
                  <a:lnTo>
                    <a:pt x="6157" y="59"/>
                  </a:lnTo>
                  <a:lnTo>
                    <a:pt x="6169" y="59"/>
                  </a:lnTo>
                  <a:lnTo>
                    <a:pt x="6169" y="54"/>
                  </a:lnTo>
                  <a:lnTo>
                    <a:pt x="6180" y="59"/>
                  </a:lnTo>
                  <a:lnTo>
                    <a:pt x="6169" y="59"/>
                  </a:lnTo>
                  <a:lnTo>
                    <a:pt x="6177" y="69"/>
                  </a:lnTo>
                  <a:lnTo>
                    <a:pt x="6160" y="81"/>
                  </a:lnTo>
                  <a:lnTo>
                    <a:pt x="6169" y="86"/>
                  </a:lnTo>
                  <a:lnTo>
                    <a:pt x="6169" y="81"/>
                  </a:lnTo>
                  <a:lnTo>
                    <a:pt x="6180" y="86"/>
                  </a:lnTo>
                  <a:lnTo>
                    <a:pt x="6180" y="81"/>
                  </a:lnTo>
                  <a:lnTo>
                    <a:pt x="6193" y="84"/>
                  </a:lnTo>
                  <a:lnTo>
                    <a:pt x="6212" y="79"/>
                  </a:lnTo>
                  <a:lnTo>
                    <a:pt x="6217" y="79"/>
                  </a:lnTo>
                  <a:lnTo>
                    <a:pt x="6200" y="88"/>
                  </a:lnTo>
                  <a:lnTo>
                    <a:pt x="6221" y="96"/>
                  </a:lnTo>
                  <a:lnTo>
                    <a:pt x="6212" y="111"/>
                  </a:lnTo>
                  <a:lnTo>
                    <a:pt x="6221" y="116"/>
                  </a:lnTo>
                  <a:lnTo>
                    <a:pt x="6209" y="113"/>
                  </a:lnTo>
                  <a:lnTo>
                    <a:pt x="6212" y="116"/>
                  </a:lnTo>
                  <a:lnTo>
                    <a:pt x="6188" y="116"/>
                  </a:lnTo>
                  <a:lnTo>
                    <a:pt x="6169" y="125"/>
                  </a:lnTo>
                  <a:lnTo>
                    <a:pt x="6180" y="123"/>
                  </a:lnTo>
                  <a:lnTo>
                    <a:pt x="6188" y="133"/>
                  </a:lnTo>
                  <a:lnTo>
                    <a:pt x="6148" y="148"/>
                  </a:lnTo>
                  <a:lnTo>
                    <a:pt x="6177" y="150"/>
                  </a:lnTo>
                  <a:lnTo>
                    <a:pt x="6205" y="158"/>
                  </a:lnTo>
                  <a:lnTo>
                    <a:pt x="6221" y="153"/>
                  </a:lnTo>
                  <a:close/>
                  <a:moveTo>
                    <a:pt x="6072" y="1751"/>
                  </a:moveTo>
                  <a:lnTo>
                    <a:pt x="6075" y="1748"/>
                  </a:lnTo>
                  <a:lnTo>
                    <a:pt x="6072" y="1751"/>
                  </a:lnTo>
                  <a:close/>
                  <a:moveTo>
                    <a:pt x="5724" y="1557"/>
                  </a:moveTo>
                  <a:lnTo>
                    <a:pt x="5728" y="1557"/>
                  </a:lnTo>
                  <a:lnTo>
                    <a:pt x="5724" y="1557"/>
                  </a:lnTo>
                  <a:close/>
                  <a:moveTo>
                    <a:pt x="10593" y="2371"/>
                  </a:moveTo>
                  <a:lnTo>
                    <a:pt x="10597" y="2380"/>
                  </a:lnTo>
                  <a:lnTo>
                    <a:pt x="10552" y="2380"/>
                  </a:lnTo>
                  <a:lnTo>
                    <a:pt x="10564" y="2373"/>
                  </a:lnTo>
                  <a:lnTo>
                    <a:pt x="10593" y="2371"/>
                  </a:lnTo>
                  <a:close/>
                  <a:moveTo>
                    <a:pt x="9553" y="794"/>
                  </a:moveTo>
                  <a:lnTo>
                    <a:pt x="9559" y="802"/>
                  </a:lnTo>
                  <a:lnTo>
                    <a:pt x="9551" y="797"/>
                  </a:lnTo>
                  <a:lnTo>
                    <a:pt x="9547" y="804"/>
                  </a:lnTo>
                  <a:lnTo>
                    <a:pt x="9539" y="794"/>
                  </a:lnTo>
                  <a:lnTo>
                    <a:pt x="9535" y="787"/>
                  </a:lnTo>
                  <a:lnTo>
                    <a:pt x="9543" y="804"/>
                  </a:lnTo>
                  <a:lnTo>
                    <a:pt x="9535" y="794"/>
                  </a:lnTo>
                  <a:lnTo>
                    <a:pt x="9527" y="797"/>
                  </a:lnTo>
                  <a:lnTo>
                    <a:pt x="9531" y="804"/>
                  </a:lnTo>
                  <a:lnTo>
                    <a:pt x="9502" y="782"/>
                  </a:lnTo>
                  <a:lnTo>
                    <a:pt x="9519" y="789"/>
                  </a:lnTo>
                  <a:lnTo>
                    <a:pt x="9491" y="809"/>
                  </a:lnTo>
                  <a:lnTo>
                    <a:pt x="9506" y="826"/>
                  </a:lnTo>
                  <a:lnTo>
                    <a:pt x="9495" y="846"/>
                  </a:lnTo>
                  <a:lnTo>
                    <a:pt x="9483" y="840"/>
                  </a:lnTo>
                  <a:lnTo>
                    <a:pt x="9491" y="848"/>
                  </a:lnTo>
                  <a:lnTo>
                    <a:pt x="9466" y="853"/>
                  </a:lnTo>
                  <a:lnTo>
                    <a:pt x="9458" y="853"/>
                  </a:lnTo>
                  <a:lnTo>
                    <a:pt x="9470" y="853"/>
                  </a:lnTo>
                  <a:lnTo>
                    <a:pt x="9450" y="868"/>
                  </a:lnTo>
                  <a:lnTo>
                    <a:pt x="9438" y="890"/>
                  </a:lnTo>
                  <a:lnTo>
                    <a:pt x="9394" y="925"/>
                  </a:lnTo>
                  <a:lnTo>
                    <a:pt x="9398" y="937"/>
                  </a:lnTo>
                  <a:lnTo>
                    <a:pt x="9366" y="942"/>
                  </a:lnTo>
                  <a:lnTo>
                    <a:pt x="9361" y="956"/>
                  </a:lnTo>
                  <a:lnTo>
                    <a:pt x="9353" y="952"/>
                  </a:lnTo>
                  <a:lnTo>
                    <a:pt x="9353" y="959"/>
                  </a:lnTo>
                  <a:lnTo>
                    <a:pt x="9349" y="954"/>
                  </a:lnTo>
                  <a:lnTo>
                    <a:pt x="9337" y="959"/>
                  </a:lnTo>
                  <a:lnTo>
                    <a:pt x="9345" y="998"/>
                  </a:lnTo>
                  <a:lnTo>
                    <a:pt x="9361" y="1018"/>
                  </a:lnTo>
                  <a:lnTo>
                    <a:pt x="9349" y="1013"/>
                  </a:lnTo>
                  <a:lnTo>
                    <a:pt x="9366" y="1021"/>
                  </a:lnTo>
                  <a:lnTo>
                    <a:pt x="9357" y="1072"/>
                  </a:lnTo>
                  <a:lnTo>
                    <a:pt x="9366" y="1075"/>
                  </a:lnTo>
                  <a:lnTo>
                    <a:pt x="9373" y="1099"/>
                  </a:lnTo>
                  <a:lnTo>
                    <a:pt x="9353" y="1099"/>
                  </a:lnTo>
                  <a:lnTo>
                    <a:pt x="9345" y="1119"/>
                  </a:lnTo>
                  <a:lnTo>
                    <a:pt x="9366" y="1128"/>
                  </a:lnTo>
                  <a:lnTo>
                    <a:pt x="9329" y="1128"/>
                  </a:lnTo>
                  <a:lnTo>
                    <a:pt x="9321" y="1148"/>
                  </a:lnTo>
                  <a:lnTo>
                    <a:pt x="9301" y="1156"/>
                  </a:lnTo>
                  <a:lnTo>
                    <a:pt x="9277" y="1148"/>
                  </a:lnTo>
                  <a:lnTo>
                    <a:pt x="9260" y="1134"/>
                  </a:lnTo>
                  <a:lnTo>
                    <a:pt x="9241" y="1109"/>
                  </a:lnTo>
                  <a:lnTo>
                    <a:pt x="9241" y="1102"/>
                  </a:lnTo>
                  <a:lnTo>
                    <a:pt x="9187" y="1058"/>
                  </a:lnTo>
                  <a:lnTo>
                    <a:pt x="9135" y="993"/>
                  </a:lnTo>
                  <a:lnTo>
                    <a:pt x="9071" y="942"/>
                  </a:lnTo>
                  <a:lnTo>
                    <a:pt x="9030" y="890"/>
                  </a:lnTo>
                  <a:lnTo>
                    <a:pt x="9034" y="880"/>
                  </a:lnTo>
                  <a:lnTo>
                    <a:pt x="9026" y="875"/>
                  </a:lnTo>
                  <a:lnTo>
                    <a:pt x="9022" y="883"/>
                  </a:lnTo>
                  <a:lnTo>
                    <a:pt x="9022" y="875"/>
                  </a:lnTo>
                  <a:lnTo>
                    <a:pt x="9030" y="875"/>
                  </a:lnTo>
                  <a:lnTo>
                    <a:pt x="9007" y="861"/>
                  </a:lnTo>
                  <a:lnTo>
                    <a:pt x="9007" y="836"/>
                  </a:lnTo>
                  <a:lnTo>
                    <a:pt x="8982" y="821"/>
                  </a:lnTo>
                  <a:lnTo>
                    <a:pt x="8998" y="811"/>
                  </a:lnTo>
                  <a:lnTo>
                    <a:pt x="8978" y="814"/>
                  </a:lnTo>
                  <a:lnTo>
                    <a:pt x="8982" y="806"/>
                  </a:lnTo>
                  <a:lnTo>
                    <a:pt x="8974" y="806"/>
                  </a:lnTo>
                  <a:lnTo>
                    <a:pt x="8982" y="799"/>
                  </a:lnTo>
                  <a:lnTo>
                    <a:pt x="8953" y="799"/>
                  </a:lnTo>
                  <a:lnTo>
                    <a:pt x="8957" y="809"/>
                  </a:lnTo>
                  <a:lnTo>
                    <a:pt x="8970" y="817"/>
                  </a:lnTo>
                  <a:lnTo>
                    <a:pt x="8970" y="826"/>
                  </a:lnTo>
                  <a:lnTo>
                    <a:pt x="8926" y="839"/>
                  </a:lnTo>
                  <a:lnTo>
                    <a:pt x="8841" y="802"/>
                  </a:lnTo>
                  <a:lnTo>
                    <a:pt x="8853" y="802"/>
                  </a:lnTo>
                  <a:lnTo>
                    <a:pt x="8881" y="794"/>
                  </a:lnTo>
                  <a:lnTo>
                    <a:pt x="8884" y="780"/>
                  </a:lnTo>
                  <a:lnTo>
                    <a:pt x="8845" y="787"/>
                  </a:lnTo>
                  <a:lnTo>
                    <a:pt x="8804" y="772"/>
                  </a:lnTo>
                  <a:lnTo>
                    <a:pt x="8812" y="762"/>
                  </a:lnTo>
                  <a:lnTo>
                    <a:pt x="8796" y="770"/>
                  </a:lnTo>
                  <a:lnTo>
                    <a:pt x="8792" y="765"/>
                  </a:lnTo>
                  <a:lnTo>
                    <a:pt x="8792" y="767"/>
                  </a:lnTo>
                  <a:lnTo>
                    <a:pt x="8785" y="762"/>
                  </a:lnTo>
                  <a:lnTo>
                    <a:pt x="8780" y="762"/>
                  </a:lnTo>
                  <a:lnTo>
                    <a:pt x="8772" y="762"/>
                  </a:lnTo>
                  <a:lnTo>
                    <a:pt x="8764" y="762"/>
                  </a:lnTo>
                  <a:lnTo>
                    <a:pt x="8764" y="760"/>
                  </a:lnTo>
                  <a:lnTo>
                    <a:pt x="8744" y="742"/>
                  </a:lnTo>
                  <a:lnTo>
                    <a:pt x="8723" y="740"/>
                  </a:lnTo>
                  <a:lnTo>
                    <a:pt x="8720" y="733"/>
                  </a:lnTo>
                  <a:lnTo>
                    <a:pt x="8700" y="721"/>
                  </a:lnTo>
                  <a:lnTo>
                    <a:pt x="8691" y="725"/>
                  </a:lnTo>
                  <a:lnTo>
                    <a:pt x="8707" y="725"/>
                  </a:lnTo>
                  <a:lnTo>
                    <a:pt x="8647" y="733"/>
                  </a:lnTo>
                  <a:lnTo>
                    <a:pt x="8623" y="728"/>
                  </a:lnTo>
                  <a:lnTo>
                    <a:pt x="8607" y="735"/>
                  </a:lnTo>
                  <a:lnTo>
                    <a:pt x="8538" y="735"/>
                  </a:lnTo>
                  <a:lnTo>
                    <a:pt x="8534" y="708"/>
                  </a:lnTo>
                  <a:lnTo>
                    <a:pt x="8574" y="698"/>
                  </a:lnTo>
                  <a:lnTo>
                    <a:pt x="8570" y="686"/>
                  </a:lnTo>
                  <a:lnTo>
                    <a:pt x="8549" y="684"/>
                  </a:lnTo>
                  <a:lnTo>
                    <a:pt x="8534" y="659"/>
                  </a:lnTo>
                  <a:lnTo>
                    <a:pt x="8498" y="654"/>
                  </a:lnTo>
                  <a:lnTo>
                    <a:pt x="8462" y="634"/>
                  </a:lnTo>
                  <a:lnTo>
                    <a:pt x="8441" y="622"/>
                  </a:lnTo>
                  <a:lnTo>
                    <a:pt x="8450" y="625"/>
                  </a:lnTo>
                  <a:lnTo>
                    <a:pt x="8473" y="627"/>
                  </a:lnTo>
                  <a:lnTo>
                    <a:pt x="8477" y="630"/>
                  </a:lnTo>
                  <a:lnTo>
                    <a:pt x="8498" y="632"/>
                  </a:lnTo>
                  <a:lnTo>
                    <a:pt x="8501" y="632"/>
                  </a:lnTo>
                  <a:lnTo>
                    <a:pt x="8518" y="632"/>
                  </a:lnTo>
                  <a:lnTo>
                    <a:pt x="8530" y="630"/>
                  </a:lnTo>
                  <a:lnTo>
                    <a:pt x="8542" y="630"/>
                  </a:lnTo>
                  <a:lnTo>
                    <a:pt x="8558" y="632"/>
                  </a:lnTo>
                  <a:lnTo>
                    <a:pt x="8561" y="627"/>
                  </a:lnTo>
                  <a:lnTo>
                    <a:pt x="8587" y="627"/>
                  </a:lnTo>
                  <a:lnTo>
                    <a:pt x="8607" y="622"/>
                  </a:lnTo>
                  <a:lnTo>
                    <a:pt x="8623" y="617"/>
                  </a:lnTo>
                  <a:lnTo>
                    <a:pt x="8607" y="593"/>
                  </a:lnTo>
                  <a:lnTo>
                    <a:pt x="8615" y="585"/>
                  </a:lnTo>
                  <a:lnTo>
                    <a:pt x="8647" y="580"/>
                  </a:lnTo>
                  <a:lnTo>
                    <a:pt x="8634" y="576"/>
                  </a:lnTo>
                  <a:lnTo>
                    <a:pt x="8650" y="568"/>
                  </a:lnTo>
                  <a:lnTo>
                    <a:pt x="8675" y="573"/>
                  </a:lnTo>
                  <a:lnTo>
                    <a:pt x="8688" y="565"/>
                  </a:lnTo>
                  <a:lnTo>
                    <a:pt x="8667" y="539"/>
                  </a:lnTo>
                  <a:lnTo>
                    <a:pt x="8688" y="531"/>
                  </a:lnTo>
                  <a:lnTo>
                    <a:pt x="8659" y="514"/>
                  </a:lnTo>
                  <a:lnTo>
                    <a:pt x="8695" y="511"/>
                  </a:lnTo>
                  <a:lnTo>
                    <a:pt x="8683" y="499"/>
                  </a:lnTo>
                  <a:lnTo>
                    <a:pt x="8691" y="484"/>
                  </a:lnTo>
                  <a:lnTo>
                    <a:pt x="8655" y="464"/>
                  </a:lnTo>
                  <a:lnTo>
                    <a:pt x="8659" y="455"/>
                  </a:lnTo>
                  <a:lnTo>
                    <a:pt x="8679" y="445"/>
                  </a:lnTo>
                  <a:lnTo>
                    <a:pt x="8736" y="438"/>
                  </a:lnTo>
                  <a:lnTo>
                    <a:pt x="8785" y="445"/>
                  </a:lnTo>
                  <a:lnTo>
                    <a:pt x="8816" y="464"/>
                  </a:lnTo>
                  <a:lnTo>
                    <a:pt x="8877" y="470"/>
                  </a:lnTo>
                  <a:lnTo>
                    <a:pt x="8913" y="457"/>
                  </a:lnTo>
                  <a:lnTo>
                    <a:pt x="8949" y="470"/>
                  </a:lnTo>
                  <a:lnTo>
                    <a:pt x="8957" y="467"/>
                  </a:lnTo>
                  <a:lnTo>
                    <a:pt x="8962" y="477"/>
                  </a:lnTo>
                  <a:lnTo>
                    <a:pt x="8957" y="495"/>
                  </a:lnTo>
                  <a:lnTo>
                    <a:pt x="8965" y="504"/>
                  </a:lnTo>
                  <a:lnTo>
                    <a:pt x="8949" y="506"/>
                  </a:lnTo>
                  <a:lnTo>
                    <a:pt x="8965" y="519"/>
                  </a:lnTo>
                  <a:lnTo>
                    <a:pt x="8986" y="524"/>
                  </a:lnTo>
                  <a:lnTo>
                    <a:pt x="9002" y="536"/>
                  </a:lnTo>
                  <a:lnTo>
                    <a:pt x="8994" y="544"/>
                  </a:lnTo>
                  <a:lnTo>
                    <a:pt x="8978" y="539"/>
                  </a:lnTo>
                  <a:lnTo>
                    <a:pt x="8970" y="541"/>
                  </a:lnTo>
                  <a:lnTo>
                    <a:pt x="8994" y="553"/>
                  </a:lnTo>
                  <a:lnTo>
                    <a:pt x="9010" y="570"/>
                  </a:lnTo>
                  <a:lnTo>
                    <a:pt x="9026" y="570"/>
                  </a:lnTo>
                  <a:lnTo>
                    <a:pt x="9111" y="595"/>
                  </a:lnTo>
                  <a:lnTo>
                    <a:pt x="9099" y="607"/>
                  </a:lnTo>
                  <a:lnTo>
                    <a:pt x="9111" y="630"/>
                  </a:lnTo>
                  <a:lnTo>
                    <a:pt x="9192" y="651"/>
                  </a:lnTo>
                  <a:lnTo>
                    <a:pt x="9228" y="659"/>
                  </a:lnTo>
                  <a:lnTo>
                    <a:pt x="9272" y="659"/>
                  </a:lnTo>
                  <a:lnTo>
                    <a:pt x="9301" y="669"/>
                  </a:lnTo>
                  <a:lnTo>
                    <a:pt x="9325" y="676"/>
                  </a:lnTo>
                  <a:lnTo>
                    <a:pt x="9385" y="681"/>
                  </a:lnTo>
                  <a:lnTo>
                    <a:pt x="9394" y="679"/>
                  </a:lnTo>
                  <a:lnTo>
                    <a:pt x="9406" y="684"/>
                  </a:lnTo>
                  <a:lnTo>
                    <a:pt x="9429" y="681"/>
                  </a:lnTo>
                  <a:lnTo>
                    <a:pt x="9398" y="645"/>
                  </a:lnTo>
                  <a:lnTo>
                    <a:pt x="9410" y="637"/>
                  </a:lnTo>
                  <a:lnTo>
                    <a:pt x="9421" y="645"/>
                  </a:lnTo>
                  <a:lnTo>
                    <a:pt x="9438" y="656"/>
                  </a:lnTo>
                  <a:lnTo>
                    <a:pt x="9446" y="667"/>
                  </a:lnTo>
                  <a:lnTo>
                    <a:pt x="9483" y="671"/>
                  </a:lnTo>
                  <a:lnTo>
                    <a:pt x="9495" y="667"/>
                  </a:lnTo>
                  <a:lnTo>
                    <a:pt x="9547" y="667"/>
                  </a:lnTo>
                  <a:lnTo>
                    <a:pt x="9543" y="654"/>
                  </a:lnTo>
                  <a:lnTo>
                    <a:pt x="9519" y="642"/>
                  </a:lnTo>
                  <a:lnTo>
                    <a:pt x="9543" y="640"/>
                  </a:lnTo>
                  <a:lnTo>
                    <a:pt x="9547" y="620"/>
                  </a:lnTo>
                  <a:lnTo>
                    <a:pt x="9564" y="617"/>
                  </a:lnTo>
                  <a:lnTo>
                    <a:pt x="9575" y="600"/>
                  </a:lnTo>
                  <a:lnTo>
                    <a:pt x="9591" y="605"/>
                  </a:lnTo>
                  <a:lnTo>
                    <a:pt x="9591" y="602"/>
                  </a:lnTo>
                  <a:lnTo>
                    <a:pt x="9607" y="605"/>
                  </a:lnTo>
                  <a:lnTo>
                    <a:pt x="9620" y="595"/>
                  </a:lnTo>
                  <a:lnTo>
                    <a:pt x="9636" y="600"/>
                  </a:lnTo>
                  <a:lnTo>
                    <a:pt x="9636" y="607"/>
                  </a:lnTo>
                  <a:lnTo>
                    <a:pt x="9644" y="602"/>
                  </a:lnTo>
                  <a:lnTo>
                    <a:pt x="9652" y="610"/>
                  </a:lnTo>
                  <a:lnTo>
                    <a:pt x="9652" y="620"/>
                  </a:lnTo>
                  <a:lnTo>
                    <a:pt x="9692" y="625"/>
                  </a:lnTo>
                  <a:lnTo>
                    <a:pt x="9688" y="615"/>
                  </a:lnTo>
                  <a:lnTo>
                    <a:pt x="9721" y="625"/>
                  </a:lnTo>
                  <a:lnTo>
                    <a:pt x="9732" y="637"/>
                  </a:lnTo>
                  <a:lnTo>
                    <a:pt x="9740" y="640"/>
                  </a:lnTo>
                  <a:lnTo>
                    <a:pt x="9753" y="640"/>
                  </a:lnTo>
                  <a:lnTo>
                    <a:pt x="9793" y="681"/>
                  </a:lnTo>
                  <a:lnTo>
                    <a:pt x="9781" y="703"/>
                  </a:lnTo>
                  <a:lnTo>
                    <a:pt x="9789" y="721"/>
                  </a:lnTo>
                  <a:lnTo>
                    <a:pt x="9802" y="733"/>
                  </a:lnTo>
                  <a:lnTo>
                    <a:pt x="9834" y="728"/>
                  </a:lnTo>
                  <a:lnTo>
                    <a:pt x="9841" y="725"/>
                  </a:lnTo>
                  <a:lnTo>
                    <a:pt x="9841" y="728"/>
                  </a:lnTo>
                  <a:lnTo>
                    <a:pt x="9838" y="730"/>
                  </a:lnTo>
                  <a:lnTo>
                    <a:pt x="9862" y="750"/>
                  </a:lnTo>
                  <a:lnTo>
                    <a:pt x="9890" y="757"/>
                  </a:lnTo>
                  <a:lnTo>
                    <a:pt x="9894" y="777"/>
                  </a:lnTo>
                  <a:lnTo>
                    <a:pt x="9923" y="780"/>
                  </a:lnTo>
                  <a:lnTo>
                    <a:pt x="9942" y="794"/>
                  </a:lnTo>
                  <a:lnTo>
                    <a:pt x="9967" y="784"/>
                  </a:lnTo>
                  <a:lnTo>
                    <a:pt x="9971" y="789"/>
                  </a:lnTo>
                  <a:lnTo>
                    <a:pt x="9971" y="809"/>
                  </a:lnTo>
                  <a:lnTo>
                    <a:pt x="9959" y="811"/>
                  </a:lnTo>
                  <a:lnTo>
                    <a:pt x="9959" y="824"/>
                  </a:lnTo>
                  <a:lnTo>
                    <a:pt x="9939" y="824"/>
                  </a:lnTo>
                  <a:lnTo>
                    <a:pt x="9947" y="829"/>
                  </a:lnTo>
                  <a:lnTo>
                    <a:pt x="9930" y="831"/>
                  </a:lnTo>
                  <a:lnTo>
                    <a:pt x="9935" y="839"/>
                  </a:lnTo>
                  <a:lnTo>
                    <a:pt x="9902" y="839"/>
                  </a:lnTo>
                  <a:lnTo>
                    <a:pt x="9914" y="873"/>
                  </a:lnTo>
                  <a:lnTo>
                    <a:pt x="9898" y="873"/>
                  </a:lnTo>
                  <a:lnTo>
                    <a:pt x="9978" y="927"/>
                  </a:lnTo>
                  <a:lnTo>
                    <a:pt x="9991" y="927"/>
                  </a:lnTo>
                  <a:lnTo>
                    <a:pt x="9983" y="937"/>
                  </a:lnTo>
                  <a:lnTo>
                    <a:pt x="9991" y="956"/>
                  </a:lnTo>
                  <a:lnTo>
                    <a:pt x="9983" y="962"/>
                  </a:lnTo>
                  <a:lnTo>
                    <a:pt x="10032" y="993"/>
                  </a:lnTo>
                  <a:lnTo>
                    <a:pt x="10043" y="1016"/>
                  </a:lnTo>
                  <a:lnTo>
                    <a:pt x="10076" y="1047"/>
                  </a:lnTo>
                  <a:lnTo>
                    <a:pt x="10060" y="1087"/>
                  </a:lnTo>
                  <a:lnTo>
                    <a:pt x="10056" y="1097"/>
                  </a:lnTo>
                  <a:lnTo>
                    <a:pt x="10043" y="1077"/>
                  </a:lnTo>
                  <a:lnTo>
                    <a:pt x="10048" y="1052"/>
                  </a:lnTo>
                  <a:lnTo>
                    <a:pt x="10036" y="1047"/>
                  </a:lnTo>
                  <a:lnTo>
                    <a:pt x="10040" y="1045"/>
                  </a:lnTo>
                  <a:lnTo>
                    <a:pt x="10024" y="1013"/>
                  </a:lnTo>
                  <a:lnTo>
                    <a:pt x="9995" y="989"/>
                  </a:lnTo>
                  <a:lnTo>
                    <a:pt x="10003" y="1003"/>
                  </a:lnTo>
                  <a:lnTo>
                    <a:pt x="9971" y="969"/>
                  </a:lnTo>
                  <a:lnTo>
                    <a:pt x="9947" y="937"/>
                  </a:lnTo>
                  <a:lnTo>
                    <a:pt x="9947" y="925"/>
                  </a:lnTo>
                  <a:lnTo>
                    <a:pt x="9942" y="925"/>
                  </a:lnTo>
                  <a:lnTo>
                    <a:pt x="9935" y="927"/>
                  </a:lnTo>
                  <a:lnTo>
                    <a:pt x="9918" y="910"/>
                  </a:lnTo>
                  <a:lnTo>
                    <a:pt x="9902" y="902"/>
                  </a:lnTo>
                  <a:lnTo>
                    <a:pt x="9910" y="922"/>
                  </a:lnTo>
                  <a:lnTo>
                    <a:pt x="9898" y="927"/>
                  </a:lnTo>
                  <a:lnTo>
                    <a:pt x="9887" y="920"/>
                  </a:lnTo>
                  <a:lnTo>
                    <a:pt x="9898" y="930"/>
                  </a:lnTo>
                  <a:lnTo>
                    <a:pt x="9887" y="930"/>
                  </a:lnTo>
                  <a:lnTo>
                    <a:pt x="9882" y="934"/>
                  </a:lnTo>
                  <a:lnTo>
                    <a:pt x="9882" y="942"/>
                  </a:lnTo>
                  <a:lnTo>
                    <a:pt x="9870" y="949"/>
                  </a:lnTo>
                  <a:lnTo>
                    <a:pt x="9870" y="937"/>
                  </a:lnTo>
                  <a:lnTo>
                    <a:pt x="9866" y="946"/>
                  </a:lnTo>
                  <a:lnTo>
                    <a:pt x="9862" y="937"/>
                  </a:lnTo>
                  <a:lnTo>
                    <a:pt x="9854" y="946"/>
                  </a:lnTo>
                  <a:lnTo>
                    <a:pt x="9854" y="934"/>
                  </a:lnTo>
                  <a:lnTo>
                    <a:pt x="9846" y="944"/>
                  </a:lnTo>
                  <a:lnTo>
                    <a:pt x="9841" y="942"/>
                  </a:lnTo>
                  <a:lnTo>
                    <a:pt x="9838" y="927"/>
                  </a:lnTo>
                  <a:lnTo>
                    <a:pt x="9834" y="942"/>
                  </a:lnTo>
                  <a:lnTo>
                    <a:pt x="9822" y="900"/>
                  </a:lnTo>
                  <a:lnTo>
                    <a:pt x="9781" y="868"/>
                  </a:lnTo>
                  <a:lnTo>
                    <a:pt x="9773" y="853"/>
                  </a:lnTo>
                  <a:lnTo>
                    <a:pt x="9773" y="863"/>
                  </a:lnTo>
                  <a:lnTo>
                    <a:pt x="9765" y="863"/>
                  </a:lnTo>
                  <a:lnTo>
                    <a:pt x="9753" y="856"/>
                  </a:lnTo>
                  <a:lnTo>
                    <a:pt x="9769" y="853"/>
                  </a:lnTo>
                  <a:lnTo>
                    <a:pt x="9749" y="846"/>
                  </a:lnTo>
                  <a:lnTo>
                    <a:pt x="9753" y="840"/>
                  </a:lnTo>
                  <a:lnTo>
                    <a:pt x="9729" y="836"/>
                  </a:lnTo>
                  <a:lnTo>
                    <a:pt x="9729" y="839"/>
                  </a:lnTo>
                  <a:lnTo>
                    <a:pt x="9732" y="843"/>
                  </a:lnTo>
                  <a:lnTo>
                    <a:pt x="9717" y="824"/>
                  </a:lnTo>
                  <a:lnTo>
                    <a:pt x="9717" y="836"/>
                  </a:lnTo>
                  <a:lnTo>
                    <a:pt x="9717" y="831"/>
                  </a:lnTo>
                  <a:lnTo>
                    <a:pt x="9701" y="821"/>
                  </a:lnTo>
                  <a:lnTo>
                    <a:pt x="9708" y="831"/>
                  </a:lnTo>
                  <a:lnTo>
                    <a:pt x="9676" y="811"/>
                  </a:lnTo>
                  <a:lnTo>
                    <a:pt x="9688" y="821"/>
                  </a:lnTo>
                  <a:lnTo>
                    <a:pt x="9620" y="767"/>
                  </a:lnTo>
                  <a:lnTo>
                    <a:pt x="9607" y="775"/>
                  </a:lnTo>
                  <a:lnTo>
                    <a:pt x="9583" y="757"/>
                  </a:lnTo>
                  <a:lnTo>
                    <a:pt x="9564" y="752"/>
                  </a:lnTo>
                  <a:lnTo>
                    <a:pt x="9579" y="757"/>
                  </a:lnTo>
                  <a:lnTo>
                    <a:pt x="9583" y="772"/>
                  </a:lnTo>
                  <a:lnTo>
                    <a:pt x="9600" y="782"/>
                  </a:lnTo>
                  <a:lnTo>
                    <a:pt x="9595" y="792"/>
                  </a:lnTo>
                  <a:lnTo>
                    <a:pt x="9587" y="794"/>
                  </a:lnTo>
                  <a:lnTo>
                    <a:pt x="9579" y="789"/>
                  </a:lnTo>
                  <a:lnTo>
                    <a:pt x="9575" y="780"/>
                  </a:lnTo>
                  <a:lnTo>
                    <a:pt x="9583" y="792"/>
                  </a:lnTo>
                  <a:lnTo>
                    <a:pt x="9575" y="799"/>
                  </a:lnTo>
                  <a:lnTo>
                    <a:pt x="9564" y="782"/>
                  </a:lnTo>
                  <a:lnTo>
                    <a:pt x="9567" y="792"/>
                  </a:lnTo>
                  <a:lnTo>
                    <a:pt x="9571" y="794"/>
                  </a:lnTo>
                  <a:lnTo>
                    <a:pt x="9567" y="799"/>
                  </a:lnTo>
                  <a:lnTo>
                    <a:pt x="9564" y="802"/>
                  </a:lnTo>
                  <a:lnTo>
                    <a:pt x="9553" y="794"/>
                  </a:lnTo>
                  <a:close/>
                  <a:moveTo>
                    <a:pt x="6128" y="98"/>
                  </a:moveTo>
                  <a:lnTo>
                    <a:pt x="6111" y="91"/>
                  </a:lnTo>
                  <a:lnTo>
                    <a:pt x="6096" y="96"/>
                  </a:lnTo>
                  <a:lnTo>
                    <a:pt x="6079" y="91"/>
                  </a:lnTo>
                  <a:lnTo>
                    <a:pt x="6108" y="76"/>
                  </a:lnTo>
                  <a:lnTo>
                    <a:pt x="6128" y="73"/>
                  </a:lnTo>
                  <a:lnTo>
                    <a:pt x="6140" y="79"/>
                  </a:lnTo>
                  <a:lnTo>
                    <a:pt x="6144" y="81"/>
                  </a:lnTo>
                  <a:lnTo>
                    <a:pt x="6140" y="86"/>
                  </a:lnTo>
                  <a:lnTo>
                    <a:pt x="6152" y="93"/>
                  </a:lnTo>
                  <a:lnTo>
                    <a:pt x="6148" y="93"/>
                  </a:lnTo>
                  <a:lnTo>
                    <a:pt x="6128" y="98"/>
                  </a:lnTo>
                  <a:close/>
                  <a:moveTo>
                    <a:pt x="6177" y="113"/>
                  </a:moveTo>
                  <a:lnTo>
                    <a:pt x="6180" y="113"/>
                  </a:lnTo>
                  <a:lnTo>
                    <a:pt x="6180" y="116"/>
                  </a:lnTo>
                  <a:lnTo>
                    <a:pt x="6184" y="116"/>
                  </a:lnTo>
                  <a:lnTo>
                    <a:pt x="6177" y="118"/>
                  </a:lnTo>
                  <a:lnTo>
                    <a:pt x="6177" y="113"/>
                  </a:lnTo>
                  <a:close/>
                  <a:moveTo>
                    <a:pt x="6144" y="5"/>
                  </a:moveTo>
                  <a:lnTo>
                    <a:pt x="6136" y="15"/>
                  </a:lnTo>
                  <a:lnTo>
                    <a:pt x="6120" y="17"/>
                  </a:lnTo>
                  <a:lnTo>
                    <a:pt x="6124" y="10"/>
                  </a:lnTo>
                  <a:lnTo>
                    <a:pt x="6144" y="5"/>
                  </a:lnTo>
                  <a:close/>
                  <a:moveTo>
                    <a:pt x="6120" y="22"/>
                  </a:moveTo>
                  <a:lnTo>
                    <a:pt x="6108" y="22"/>
                  </a:lnTo>
                  <a:lnTo>
                    <a:pt x="6120" y="22"/>
                  </a:lnTo>
                  <a:close/>
                  <a:moveTo>
                    <a:pt x="6111" y="27"/>
                  </a:moveTo>
                  <a:lnTo>
                    <a:pt x="6115" y="27"/>
                  </a:lnTo>
                  <a:lnTo>
                    <a:pt x="6111" y="34"/>
                  </a:lnTo>
                  <a:lnTo>
                    <a:pt x="6111" y="27"/>
                  </a:lnTo>
                  <a:close/>
                  <a:moveTo>
                    <a:pt x="6111" y="34"/>
                  </a:moveTo>
                  <a:lnTo>
                    <a:pt x="6108" y="37"/>
                  </a:lnTo>
                  <a:lnTo>
                    <a:pt x="6111" y="34"/>
                  </a:lnTo>
                  <a:close/>
                  <a:moveTo>
                    <a:pt x="6140" y="20"/>
                  </a:moveTo>
                  <a:lnTo>
                    <a:pt x="6144" y="22"/>
                  </a:lnTo>
                  <a:lnTo>
                    <a:pt x="6144" y="27"/>
                  </a:lnTo>
                  <a:lnTo>
                    <a:pt x="6144" y="30"/>
                  </a:lnTo>
                  <a:lnTo>
                    <a:pt x="6148" y="30"/>
                  </a:lnTo>
                  <a:lnTo>
                    <a:pt x="6152" y="30"/>
                  </a:lnTo>
                  <a:lnTo>
                    <a:pt x="6157" y="30"/>
                  </a:lnTo>
                  <a:lnTo>
                    <a:pt x="6148" y="34"/>
                  </a:lnTo>
                  <a:lnTo>
                    <a:pt x="6144" y="32"/>
                  </a:lnTo>
                  <a:lnTo>
                    <a:pt x="6140" y="32"/>
                  </a:lnTo>
                  <a:lnTo>
                    <a:pt x="6136" y="30"/>
                  </a:lnTo>
                  <a:lnTo>
                    <a:pt x="6136" y="27"/>
                  </a:lnTo>
                  <a:lnTo>
                    <a:pt x="6132" y="27"/>
                  </a:lnTo>
                  <a:lnTo>
                    <a:pt x="6128" y="24"/>
                  </a:lnTo>
                  <a:lnTo>
                    <a:pt x="6132" y="27"/>
                  </a:lnTo>
                  <a:lnTo>
                    <a:pt x="6132" y="24"/>
                  </a:lnTo>
                  <a:lnTo>
                    <a:pt x="6140" y="24"/>
                  </a:lnTo>
                  <a:lnTo>
                    <a:pt x="6140" y="20"/>
                  </a:lnTo>
                  <a:close/>
                  <a:moveTo>
                    <a:pt x="6140" y="44"/>
                  </a:moveTo>
                  <a:lnTo>
                    <a:pt x="6144" y="47"/>
                  </a:lnTo>
                  <a:lnTo>
                    <a:pt x="6148" y="47"/>
                  </a:lnTo>
                  <a:lnTo>
                    <a:pt x="6152" y="47"/>
                  </a:lnTo>
                  <a:lnTo>
                    <a:pt x="6152" y="50"/>
                  </a:lnTo>
                  <a:lnTo>
                    <a:pt x="6136" y="51"/>
                  </a:lnTo>
                  <a:lnTo>
                    <a:pt x="6140" y="50"/>
                  </a:lnTo>
                  <a:lnTo>
                    <a:pt x="6144" y="47"/>
                  </a:lnTo>
                  <a:lnTo>
                    <a:pt x="6136" y="44"/>
                  </a:lnTo>
                  <a:lnTo>
                    <a:pt x="6140" y="44"/>
                  </a:lnTo>
                  <a:close/>
                  <a:moveTo>
                    <a:pt x="6148" y="54"/>
                  </a:moveTo>
                  <a:lnTo>
                    <a:pt x="6144" y="59"/>
                  </a:lnTo>
                  <a:lnTo>
                    <a:pt x="6144" y="62"/>
                  </a:lnTo>
                  <a:lnTo>
                    <a:pt x="6140" y="62"/>
                  </a:lnTo>
                  <a:lnTo>
                    <a:pt x="6144" y="57"/>
                  </a:lnTo>
                  <a:lnTo>
                    <a:pt x="6144" y="54"/>
                  </a:lnTo>
                  <a:lnTo>
                    <a:pt x="6148" y="54"/>
                  </a:lnTo>
                  <a:close/>
                  <a:moveTo>
                    <a:pt x="6140" y="59"/>
                  </a:moveTo>
                  <a:lnTo>
                    <a:pt x="6140" y="64"/>
                  </a:lnTo>
                  <a:lnTo>
                    <a:pt x="6136" y="67"/>
                  </a:lnTo>
                  <a:lnTo>
                    <a:pt x="6132" y="67"/>
                  </a:lnTo>
                  <a:lnTo>
                    <a:pt x="6132" y="62"/>
                  </a:lnTo>
                  <a:lnTo>
                    <a:pt x="6128" y="64"/>
                  </a:lnTo>
                  <a:lnTo>
                    <a:pt x="6140" y="59"/>
                  </a:lnTo>
                  <a:close/>
                  <a:moveTo>
                    <a:pt x="6160" y="64"/>
                  </a:moveTo>
                  <a:lnTo>
                    <a:pt x="6164" y="69"/>
                  </a:lnTo>
                  <a:lnTo>
                    <a:pt x="6160" y="69"/>
                  </a:lnTo>
                  <a:lnTo>
                    <a:pt x="6157" y="69"/>
                  </a:lnTo>
                  <a:lnTo>
                    <a:pt x="6157" y="67"/>
                  </a:lnTo>
                  <a:lnTo>
                    <a:pt x="6160" y="64"/>
                  </a:lnTo>
                  <a:close/>
                  <a:moveTo>
                    <a:pt x="6108" y="76"/>
                  </a:moveTo>
                  <a:lnTo>
                    <a:pt x="6115" y="73"/>
                  </a:lnTo>
                  <a:lnTo>
                    <a:pt x="6103" y="71"/>
                  </a:lnTo>
                  <a:lnTo>
                    <a:pt x="6101" y="76"/>
                  </a:lnTo>
                  <a:lnTo>
                    <a:pt x="6096" y="79"/>
                  </a:lnTo>
                  <a:lnTo>
                    <a:pt x="6101" y="76"/>
                  </a:lnTo>
                  <a:lnTo>
                    <a:pt x="6079" y="76"/>
                  </a:lnTo>
                  <a:lnTo>
                    <a:pt x="6063" y="86"/>
                  </a:lnTo>
                  <a:lnTo>
                    <a:pt x="6084" y="86"/>
                  </a:lnTo>
                  <a:lnTo>
                    <a:pt x="6072" y="96"/>
                  </a:lnTo>
                  <a:lnTo>
                    <a:pt x="6039" y="93"/>
                  </a:lnTo>
                  <a:lnTo>
                    <a:pt x="6027" y="98"/>
                  </a:lnTo>
                  <a:lnTo>
                    <a:pt x="6043" y="104"/>
                  </a:lnTo>
                  <a:lnTo>
                    <a:pt x="6023" y="113"/>
                  </a:lnTo>
                  <a:lnTo>
                    <a:pt x="6055" y="116"/>
                  </a:lnTo>
                  <a:lnTo>
                    <a:pt x="6027" y="130"/>
                  </a:lnTo>
                  <a:lnTo>
                    <a:pt x="6059" y="128"/>
                  </a:lnTo>
                  <a:lnTo>
                    <a:pt x="6031" y="138"/>
                  </a:lnTo>
                  <a:lnTo>
                    <a:pt x="6007" y="140"/>
                  </a:lnTo>
                  <a:lnTo>
                    <a:pt x="6027" y="140"/>
                  </a:lnTo>
                  <a:lnTo>
                    <a:pt x="6011" y="145"/>
                  </a:lnTo>
                  <a:lnTo>
                    <a:pt x="6031" y="145"/>
                  </a:lnTo>
                  <a:lnTo>
                    <a:pt x="6016" y="153"/>
                  </a:lnTo>
                  <a:lnTo>
                    <a:pt x="6035" y="150"/>
                  </a:lnTo>
                  <a:lnTo>
                    <a:pt x="6031" y="153"/>
                  </a:lnTo>
                  <a:lnTo>
                    <a:pt x="6023" y="155"/>
                  </a:lnTo>
                  <a:lnTo>
                    <a:pt x="6059" y="153"/>
                  </a:lnTo>
                  <a:lnTo>
                    <a:pt x="6120" y="140"/>
                  </a:lnTo>
                  <a:lnTo>
                    <a:pt x="6132" y="123"/>
                  </a:lnTo>
                  <a:lnTo>
                    <a:pt x="6128" y="98"/>
                  </a:lnTo>
                  <a:lnTo>
                    <a:pt x="6111" y="91"/>
                  </a:lnTo>
                  <a:lnTo>
                    <a:pt x="6096" y="96"/>
                  </a:lnTo>
                  <a:lnTo>
                    <a:pt x="6079" y="91"/>
                  </a:lnTo>
                  <a:lnTo>
                    <a:pt x="6108" y="76"/>
                  </a:lnTo>
                  <a:close/>
                  <a:moveTo>
                    <a:pt x="6221" y="200"/>
                  </a:moveTo>
                  <a:lnTo>
                    <a:pt x="6217" y="200"/>
                  </a:lnTo>
                  <a:lnTo>
                    <a:pt x="6221" y="200"/>
                  </a:lnTo>
                  <a:close/>
                  <a:moveTo>
                    <a:pt x="6233" y="204"/>
                  </a:moveTo>
                  <a:lnTo>
                    <a:pt x="6229" y="204"/>
                  </a:lnTo>
                  <a:lnTo>
                    <a:pt x="6233" y="204"/>
                  </a:lnTo>
                  <a:close/>
                  <a:moveTo>
                    <a:pt x="10678" y="1227"/>
                  </a:moveTo>
                  <a:lnTo>
                    <a:pt x="10689" y="1244"/>
                  </a:lnTo>
                  <a:lnTo>
                    <a:pt x="10681" y="1242"/>
                  </a:lnTo>
                  <a:lnTo>
                    <a:pt x="10673" y="1230"/>
                  </a:lnTo>
                  <a:lnTo>
                    <a:pt x="10673" y="1227"/>
                  </a:lnTo>
                  <a:lnTo>
                    <a:pt x="10673" y="1242"/>
                  </a:lnTo>
                  <a:lnTo>
                    <a:pt x="10665" y="1251"/>
                  </a:lnTo>
                  <a:lnTo>
                    <a:pt x="10645" y="1237"/>
                  </a:lnTo>
                  <a:lnTo>
                    <a:pt x="10613" y="1276"/>
                  </a:lnTo>
                  <a:lnTo>
                    <a:pt x="10597" y="1281"/>
                  </a:lnTo>
                  <a:lnTo>
                    <a:pt x="10581" y="1284"/>
                  </a:lnTo>
                  <a:lnTo>
                    <a:pt x="10577" y="1284"/>
                  </a:lnTo>
                  <a:lnTo>
                    <a:pt x="10560" y="1291"/>
                  </a:lnTo>
                  <a:lnTo>
                    <a:pt x="10560" y="1298"/>
                  </a:lnTo>
                  <a:lnTo>
                    <a:pt x="10552" y="1298"/>
                  </a:lnTo>
                  <a:lnTo>
                    <a:pt x="10556" y="1303"/>
                  </a:lnTo>
                  <a:lnTo>
                    <a:pt x="10548" y="1316"/>
                  </a:lnTo>
                  <a:lnTo>
                    <a:pt x="10556" y="1318"/>
                  </a:lnTo>
                  <a:lnTo>
                    <a:pt x="10544" y="1320"/>
                  </a:lnTo>
                  <a:lnTo>
                    <a:pt x="10560" y="1325"/>
                  </a:lnTo>
                  <a:lnTo>
                    <a:pt x="10532" y="1323"/>
                  </a:lnTo>
                  <a:lnTo>
                    <a:pt x="10521" y="1313"/>
                  </a:lnTo>
                  <a:lnTo>
                    <a:pt x="10508" y="1318"/>
                  </a:lnTo>
                  <a:lnTo>
                    <a:pt x="10496" y="1306"/>
                  </a:lnTo>
                  <a:lnTo>
                    <a:pt x="10499" y="1320"/>
                  </a:lnTo>
                  <a:lnTo>
                    <a:pt x="10532" y="1340"/>
                  </a:lnTo>
                  <a:lnTo>
                    <a:pt x="10577" y="1335"/>
                  </a:lnTo>
                  <a:lnTo>
                    <a:pt x="10597" y="1320"/>
                  </a:lnTo>
                  <a:lnTo>
                    <a:pt x="10637" y="1330"/>
                  </a:lnTo>
                  <a:lnTo>
                    <a:pt x="10670" y="1323"/>
                  </a:lnTo>
                  <a:lnTo>
                    <a:pt x="10681" y="1306"/>
                  </a:lnTo>
                  <a:lnTo>
                    <a:pt x="10678" y="1301"/>
                  </a:lnTo>
                  <a:lnTo>
                    <a:pt x="10693" y="1293"/>
                  </a:lnTo>
                  <a:lnTo>
                    <a:pt x="10685" y="1284"/>
                  </a:lnTo>
                  <a:lnTo>
                    <a:pt x="10701" y="1276"/>
                  </a:lnTo>
                  <a:lnTo>
                    <a:pt x="10697" y="1254"/>
                  </a:lnTo>
                  <a:lnTo>
                    <a:pt x="10705" y="1242"/>
                  </a:lnTo>
                  <a:lnTo>
                    <a:pt x="10766" y="1247"/>
                  </a:lnTo>
                  <a:lnTo>
                    <a:pt x="10766" y="1239"/>
                  </a:lnTo>
                  <a:lnTo>
                    <a:pt x="10782" y="1247"/>
                  </a:lnTo>
                  <a:lnTo>
                    <a:pt x="10799" y="1242"/>
                  </a:lnTo>
                  <a:lnTo>
                    <a:pt x="10782" y="1227"/>
                  </a:lnTo>
                  <a:lnTo>
                    <a:pt x="10815" y="1222"/>
                  </a:lnTo>
                  <a:lnTo>
                    <a:pt x="10819" y="1215"/>
                  </a:lnTo>
                  <a:lnTo>
                    <a:pt x="10786" y="1200"/>
                  </a:lnTo>
                  <a:lnTo>
                    <a:pt x="10770" y="1205"/>
                  </a:lnTo>
                  <a:lnTo>
                    <a:pt x="10770" y="1195"/>
                  </a:lnTo>
                  <a:lnTo>
                    <a:pt x="10754" y="1200"/>
                  </a:lnTo>
                  <a:lnTo>
                    <a:pt x="10758" y="1182"/>
                  </a:lnTo>
                  <a:lnTo>
                    <a:pt x="10742" y="1178"/>
                  </a:lnTo>
                  <a:lnTo>
                    <a:pt x="10734" y="1168"/>
                  </a:lnTo>
                  <a:lnTo>
                    <a:pt x="10726" y="1180"/>
                  </a:lnTo>
                  <a:lnTo>
                    <a:pt x="10721" y="1168"/>
                  </a:lnTo>
                  <a:lnTo>
                    <a:pt x="10697" y="1210"/>
                  </a:lnTo>
                  <a:lnTo>
                    <a:pt x="10685" y="1215"/>
                  </a:lnTo>
                  <a:lnTo>
                    <a:pt x="10693" y="1222"/>
                  </a:lnTo>
                  <a:lnTo>
                    <a:pt x="10678" y="1227"/>
                  </a:lnTo>
                  <a:close/>
                  <a:moveTo>
                    <a:pt x="10136" y="1193"/>
                  </a:moveTo>
                  <a:lnTo>
                    <a:pt x="10140" y="1182"/>
                  </a:lnTo>
                  <a:lnTo>
                    <a:pt x="10177" y="1195"/>
                  </a:lnTo>
                  <a:lnTo>
                    <a:pt x="10181" y="1212"/>
                  </a:lnTo>
                  <a:lnTo>
                    <a:pt x="10193" y="1205"/>
                  </a:lnTo>
                  <a:lnTo>
                    <a:pt x="10206" y="1210"/>
                  </a:lnTo>
                  <a:lnTo>
                    <a:pt x="10209" y="1195"/>
                  </a:lnTo>
                  <a:lnTo>
                    <a:pt x="10265" y="1234"/>
                  </a:lnTo>
                  <a:lnTo>
                    <a:pt x="10274" y="1284"/>
                  </a:lnTo>
                  <a:lnTo>
                    <a:pt x="10306" y="1325"/>
                  </a:lnTo>
                  <a:lnTo>
                    <a:pt x="10301" y="1325"/>
                  </a:lnTo>
                  <a:lnTo>
                    <a:pt x="10294" y="1318"/>
                  </a:lnTo>
                  <a:lnTo>
                    <a:pt x="10298" y="1325"/>
                  </a:lnTo>
                  <a:lnTo>
                    <a:pt x="10278" y="1330"/>
                  </a:lnTo>
                  <a:lnTo>
                    <a:pt x="10197" y="1288"/>
                  </a:lnTo>
                  <a:lnTo>
                    <a:pt x="10197" y="1276"/>
                  </a:lnTo>
                  <a:lnTo>
                    <a:pt x="10177" y="1257"/>
                  </a:lnTo>
                  <a:lnTo>
                    <a:pt x="10164" y="1247"/>
                  </a:lnTo>
                  <a:lnTo>
                    <a:pt x="10169" y="1239"/>
                  </a:lnTo>
                  <a:lnTo>
                    <a:pt x="10136" y="1193"/>
                  </a:lnTo>
                  <a:close/>
                  <a:moveTo>
                    <a:pt x="10673" y="1230"/>
                  </a:moveTo>
                  <a:lnTo>
                    <a:pt x="10681" y="1242"/>
                  </a:lnTo>
                  <a:lnTo>
                    <a:pt x="10689" y="1244"/>
                  </a:lnTo>
                  <a:lnTo>
                    <a:pt x="10678" y="1227"/>
                  </a:lnTo>
                  <a:lnTo>
                    <a:pt x="10673" y="1230"/>
                  </a:lnTo>
                  <a:close/>
                  <a:moveTo>
                    <a:pt x="10673" y="1227"/>
                  </a:moveTo>
                  <a:lnTo>
                    <a:pt x="10673" y="1242"/>
                  </a:lnTo>
                  <a:lnTo>
                    <a:pt x="10665" y="1251"/>
                  </a:lnTo>
                  <a:lnTo>
                    <a:pt x="10645" y="1237"/>
                  </a:lnTo>
                  <a:lnTo>
                    <a:pt x="10678" y="1224"/>
                  </a:lnTo>
                  <a:lnTo>
                    <a:pt x="10673" y="1227"/>
                  </a:lnTo>
                  <a:close/>
                  <a:moveTo>
                    <a:pt x="10322" y="1335"/>
                  </a:moveTo>
                  <a:lnTo>
                    <a:pt x="10318" y="1340"/>
                  </a:lnTo>
                  <a:lnTo>
                    <a:pt x="10306" y="1335"/>
                  </a:lnTo>
                  <a:lnTo>
                    <a:pt x="10310" y="1333"/>
                  </a:lnTo>
                  <a:lnTo>
                    <a:pt x="10322" y="1335"/>
                  </a:lnTo>
                  <a:close/>
                  <a:moveTo>
                    <a:pt x="11747" y="1620"/>
                  </a:moveTo>
                  <a:lnTo>
                    <a:pt x="11747" y="1640"/>
                  </a:lnTo>
                  <a:lnTo>
                    <a:pt x="11772" y="1640"/>
                  </a:lnTo>
                  <a:lnTo>
                    <a:pt x="11763" y="1653"/>
                  </a:lnTo>
                  <a:lnTo>
                    <a:pt x="11784" y="1657"/>
                  </a:lnTo>
                  <a:lnTo>
                    <a:pt x="11772" y="1662"/>
                  </a:lnTo>
                  <a:lnTo>
                    <a:pt x="11772" y="1669"/>
                  </a:lnTo>
                  <a:lnTo>
                    <a:pt x="11803" y="1677"/>
                  </a:lnTo>
                  <a:lnTo>
                    <a:pt x="11784" y="1679"/>
                  </a:lnTo>
                  <a:lnTo>
                    <a:pt x="11791" y="1687"/>
                  </a:lnTo>
                  <a:lnTo>
                    <a:pt x="11776" y="1689"/>
                  </a:lnTo>
                  <a:lnTo>
                    <a:pt x="11763" y="1684"/>
                  </a:lnTo>
                  <a:lnTo>
                    <a:pt x="11763" y="1679"/>
                  </a:lnTo>
                  <a:lnTo>
                    <a:pt x="11706" y="1669"/>
                  </a:lnTo>
                  <a:lnTo>
                    <a:pt x="11691" y="1645"/>
                  </a:lnTo>
                  <a:lnTo>
                    <a:pt x="11699" y="1635"/>
                  </a:lnTo>
                  <a:lnTo>
                    <a:pt x="11686" y="1635"/>
                  </a:lnTo>
                  <a:lnTo>
                    <a:pt x="11683" y="1608"/>
                  </a:lnTo>
                  <a:lnTo>
                    <a:pt x="11638" y="1588"/>
                  </a:lnTo>
                  <a:lnTo>
                    <a:pt x="11638" y="1593"/>
                  </a:lnTo>
                  <a:lnTo>
                    <a:pt x="11633" y="1599"/>
                  </a:lnTo>
                  <a:lnTo>
                    <a:pt x="11610" y="1588"/>
                  </a:lnTo>
                  <a:lnTo>
                    <a:pt x="11614" y="1604"/>
                  </a:lnTo>
                  <a:lnTo>
                    <a:pt x="11597" y="1601"/>
                  </a:lnTo>
                  <a:lnTo>
                    <a:pt x="11602" y="1610"/>
                  </a:lnTo>
                  <a:lnTo>
                    <a:pt x="11553" y="1608"/>
                  </a:lnTo>
                  <a:lnTo>
                    <a:pt x="11581" y="1615"/>
                  </a:lnTo>
                  <a:lnTo>
                    <a:pt x="11581" y="1633"/>
                  </a:lnTo>
                  <a:lnTo>
                    <a:pt x="11557" y="1642"/>
                  </a:lnTo>
                  <a:lnTo>
                    <a:pt x="11505" y="1635"/>
                  </a:lnTo>
                  <a:lnTo>
                    <a:pt x="11509" y="1628"/>
                  </a:lnTo>
                  <a:lnTo>
                    <a:pt x="11517" y="1613"/>
                  </a:lnTo>
                  <a:lnTo>
                    <a:pt x="11522" y="1599"/>
                  </a:lnTo>
                  <a:lnTo>
                    <a:pt x="11525" y="1584"/>
                  </a:lnTo>
                  <a:lnTo>
                    <a:pt x="11533" y="1569"/>
                  </a:lnTo>
                  <a:lnTo>
                    <a:pt x="11538" y="1552"/>
                  </a:lnTo>
                  <a:lnTo>
                    <a:pt x="11538" y="1544"/>
                  </a:lnTo>
                  <a:lnTo>
                    <a:pt x="11541" y="1529"/>
                  </a:lnTo>
                  <a:lnTo>
                    <a:pt x="11545" y="1517"/>
                  </a:lnTo>
                  <a:lnTo>
                    <a:pt x="11747" y="1620"/>
                  </a:lnTo>
                  <a:close/>
                  <a:moveTo>
                    <a:pt x="0" y="3568"/>
                  </a:moveTo>
                  <a:lnTo>
                    <a:pt x="472" y="3568"/>
                  </a:lnTo>
                  <a:lnTo>
                    <a:pt x="472" y="3712"/>
                  </a:lnTo>
                  <a:lnTo>
                    <a:pt x="0" y="3712"/>
                  </a:lnTo>
                  <a:lnTo>
                    <a:pt x="0" y="3568"/>
                  </a:lnTo>
                  <a:close/>
                  <a:moveTo>
                    <a:pt x="7395" y="1903"/>
                  </a:moveTo>
                  <a:lnTo>
                    <a:pt x="7387" y="1894"/>
                  </a:lnTo>
                  <a:lnTo>
                    <a:pt x="7347" y="1889"/>
                  </a:lnTo>
                  <a:lnTo>
                    <a:pt x="7339" y="1876"/>
                  </a:lnTo>
                  <a:lnTo>
                    <a:pt x="7343" y="1861"/>
                  </a:lnTo>
                  <a:lnTo>
                    <a:pt x="7327" y="1861"/>
                  </a:lnTo>
                  <a:lnTo>
                    <a:pt x="7327" y="1851"/>
                  </a:lnTo>
                  <a:lnTo>
                    <a:pt x="7286" y="1839"/>
                  </a:lnTo>
                  <a:lnTo>
                    <a:pt x="7263" y="1798"/>
                  </a:lnTo>
                  <a:lnTo>
                    <a:pt x="7226" y="1800"/>
                  </a:lnTo>
                  <a:lnTo>
                    <a:pt x="7198" y="1812"/>
                  </a:lnTo>
                  <a:lnTo>
                    <a:pt x="7186" y="1800"/>
                  </a:lnTo>
                  <a:lnTo>
                    <a:pt x="7178" y="1800"/>
                  </a:lnTo>
                  <a:lnTo>
                    <a:pt x="7113" y="1807"/>
                  </a:lnTo>
                  <a:lnTo>
                    <a:pt x="7097" y="1807"/>
                  </a:lnTo>
                  <a:lnTo>
                    <a:pt x="7097" y="1812"/>
                  </a:lnTo>
                  <a:lnTo>
                    <a:pt x="7092" y="1825"/>
                  </a:lnTo>
                  <a:lnTo>
                    <a:pt x="7092" y="1837"/>
                  </a:lnTo>
                  <a:lnTo>
                    <a:pt x="7092" y="1849"/>
                  </a:lnTo>
                  <a:lnTo>
                    <a:pt x="7089" y="1861"/>
                  </a:lnTo>
                  <a:lnTo>
                    <a:pt x="7089" y="1871"/>
                  </a:lnTo>
                  <a:lnTo>
                    <a:pt x="7085" y="1883"/>
                  </a:lnTo>
                  <a:lnTo>
                    <a:pt x="7085" y="1895"/>
                  </a:lnTo>
                  <a:lnTo>
                    <a:pt x="7064" y="1895"/>
                  </a:lnTo>
                  <a:lnTo>
                    <a:pt x="7045" y="1895"/>
                  </a:lnTo>
                  <a:lnTo>
                    <a:pt x="7045" y="1908"/>
                  </a:lnTo>
                  <a:lnTo>
                    <a:pt x="7041" y="1920"/>
                  </a:lnTo>
                  <a:lnTo>
                    <a:pt x="7041" y="1933"/>
                  </a:lnTo>
                  <a:lnTo>
                    <a:pt x="7036" y="1945"/>
                  </a:lnTo>
                  <a:lnTo>
                    <a:pt x="7036" y="1955"/>
                  </a:lnTo>
                  <a:lnTo>
                    <a:pt x="7032" y="1962"/>
                  </a:lnTo>
                  <a:lnTo>
                    <a:pt x="7056" y="1990"/>
                  </a:lnTo>
                  <a:lnTo>
                    <a:pt x="7048" y="2011"/>
                  </a:lnTo>
                  <a:lnTo>
                    <a:pt x="7085" y="2011"/>
                  </a:lnTo>
                  <a:lnTo>
                    <a:pt x="7121" y="1997"/>
                  </a:lnTo>
                  <a:lnTo>
                    <a:pt x="7133" y="1984"/>
                  </a:lnTo>
                  <a:lnTo>
                    <a:pt x="7149" y="1975"/>
                  </a:lnTo>
                  <a:lnTo>
                    <a:pt x="7178" y="1984"/>
                  </a:lnTo>
                  <a:lnTo>
                    <a:pt x="7230" y="1984"/>
                  </a:lnTo>
                  <a:lnTo>
                    <a:pt x="7251" y="1962"/>
                  </a:lnTo>
                  <a:lnTo>
                    <a:pt x="7290" y="1952"/>
                  </a:lnTo>
                  <a:lnTo>
                    <a:pt x="7302" y="1935"/>
                  </a:lnTo>
                  <a:lnTo>
                    <a:pt x="7352" y="1913"/>
                  </a:lnTo>
                  <a:lnTo>
                    <a:pt x="7395" y="1903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89840" y="2215080"/>
              <a:ext cx="131400" cy="77400"/>
            </a:xfrm>
            <a:custGeom>
              <a:avLst/>
              <a:gdLst/>
              <a:ahLst/>
              <a:rect l="l" t="t" r="r" b="b"/>
              <a:pathLst>
                <a:path w="364" h="214">
                  <a:moveTo>
                    <a:pt x="363" y="105"/>
                  </a:moveTo>
                  <a:lnTo>
                    <a:pt x="355" y="96"/>
                  </a:lnTo>
                  <a:lnTo>
                    <a:pt x="315" y="91"/>
                  </a:lnTo>
                  <a:lnTo>
                    <a:pt x="307" y="78"/>
                  </a:lnTo>
                  <a:lnTo>
                    <a:pt x="311" y="63"/>
                  </a:lnTo>
                  <a:lnTo>
                    <a:pt x="295" y="63"/>
                  </a:lnTo>
                  <a:lnTo>
                    <a:pt x="295" y="53"/>
                  </a:lnTo>
                  <a:lnTo>
                    <a:pt x="254" y="41"/>
                  </a:lnTo>
                  <a:lnTo>
                    <a:pt x="231" y="0"/>
                  </a:lnTo>
                  <a:lnTo>
                    <a:pt x="194" y="2"/>
                  </a:lnTo>
                  <a:lnTo>
                    <a:pt x="166" y="14"/>
                  </a:lnTo>
                  <a:lnTo>
                    <a:pt x="154" y="2"/>
                  </a:lnTo>
                  <a:lnTo>
                    <a:pt x="146" y="2"/>
                  </a:lnTo>
                  <a:lnTo>
                    <a:pt x="81" y="9"/>
                  </a:lnTo>
                  <a:lnTo>
                    <a:pt x="65" y="9"/>
                  </a:lnTo>
                  <a:lnTo>
                    <a:pt x="65" y="14"/>
                  </a:lnTo>
                  <a:lnTo>
                    <a:pt x="60" y="27"/>
                  </a:lnTo>
                  <a:lnTo>
                    <a:pt x="60" y="39"/>
                  </a:lnTo>
                  <a:lnTo>
                    <a:pt x="60" y="51"/>
                  </a:lnTo>
                  <a:lnTo>
                    <a:pt x="57" y="63"/>
                  </a:lnTo>
                  <a:lnTo>
                    <a:pt x="57" y="73"/>
                  </a:lnTo>
                  <a:lnTo>
                    <a:pt x="53" y="85"/>
                  </a:lnTo>
                  <a:lnTo>
                    <a:pt x="53" y="97"/>
                  </a:lnTo>
                  <a:lnTo>
                    <a:pt x="32" y="97"/>
                  </a:lnTo>
                  <a:lnTo>
                    <a:pt x="13" y="97"/>
                  </a:lnTo>
                  <a:lnTo>
                    <a:pt x="13" y="110"/>
                  </a:lnTo>
                  <a:lnTo>
                    <a:pt x="9" y="122"/>
                  </a:lnTo>
                  <a:lnTo>
                    <a:pt x="9" y="135"/>
                  </a:lnTo>
                  <a:lnTo>
                    <a:pt x="4" y="147"/>
                  </a:lnTo>
                  <a:lnTo>
                    <a:pt x="4" y="157"/>
                  </a:lnTo>
                  <a:lnTo>
                    <a:pt x="0" y="164"/>
                  </a:lnTo>
                  <a:lnTo>
                    <a:pt x="24" y="192"/>
                  </a:lnTo>
                  <a:lnTo>
                    <a:pt x="16" y="213"/>
                  </a:lnTo>
                  <a:lnTo>
                    <a:pt x="53" y="213"/>
                  </a:lnTo>
                  <a:lnTo>
                    <a:pt x="89" y="199"/>
                  </a:lnTo>
                  <a:lnTo>
                    <a:pt x="101" y="186"/>
                  </a:lnTo>
                  <a:lnTo>
                    <a:pt x="117" y="177"/>
                  </a:lnTo>
                  <a:lnTo>
                    <a:pt x="146" y="186"/>
                  </a:lnTo>
                  <a:lnTo>
                    <a:pt x="198" y="186"/>
                  </a:lnTo>
                  <a:lnTo>
                    <a:pt x="219" y="164"/>
                  </a:lnTo>
                  <a:lnTo>
                    <a:pt x="258" y="154"/>
                  </a:lnTo>
                  <a:lnTo>
                    <a:pt x="270" y="137"/>
                  </a:lnTo>
                  <a:lnTo>
                    <a:pt x="320" y="115"/>
                  </a:lnTo>
                  <a:lnTo>
                    <a:pt x="363" y="10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738880" y="2153520"/>
              <a:ext cx="7560" cy="43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0"/>
                  </a:lnTo>
                  <a:lnTo>
                    <a:pt x="21" y="2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10"/>
                  </a:lnTo>
                  <a:lnTo>
                    <a:pt x="17" y="12"/>
                  </a:lnTo>
                  <a:lnTo>
                    <a:pt x="13" y="14"/>
                  </a:lnTo>
                  <a:lnTo>
                    <a:pt x="9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9" y="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10"/>
                  </a:lnTo>
                  <a:lnTo>
                    <a:pt x="9" y="5"/>
                  </a:lnTo>
                  <a:lnTo>
                    <a:pt x="13" y="2"/>
                  </a:lnTo>
                  <a:lnTo>
                    <a:pt x="9" y="5"/>
                  </a:lnTo>
                  <a:lnTo>
                    <a:pt x="2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29440" y="2131200"/>
              <a:ext cx="169560" cy="123480"/>
            </a:xfrm>
            <a:custGeom>
              <a:avLst/>
              <a:gdLst/>
              <a:ahLst/>
              <a:rect l="l" t="t" r="r" b="b"/>
              <a:pathLst>
                <a:path w="473" h="345">
                  <a:moveTo>
                    <a:pt x="122" y="234"/>
                  </a:moveTo>
                  <a:lnTo>
                    <a:pt x="101" y="226"/>
                  </a:lnTo>
                  <a:lnTo>
                    <a:pt x="81" y="224"/>
                  </a:lnTo>
                  <a:lnTo>
                    <a:pt x="61" y="226"/>
                  </a:lnTo>
                  <a:lnTo>
                    <a:pt x="53" y="228"/>
                  </a:lnTo>
                  <a:lnTo>
                    <a:pt x="0" y="192"/>
                  </a:lnTo>
                  <a:lnTo>
                    <a:pt x="4" y="189"/>
                  </a:lnTo>
                  <a:lnTo>
                    <a:pt x="4" y="177"/>
                  </a:lnTo>
                  <a:lnTo>
                    <a:pt x="4" y="165"/>
                  </a:lnTo>
                  <a:lnTo>
                    <a:pt x="8" y="152"/>
                  </a:lnTo>
                  <a:lnTo>
                    <a:pt x="8" y="140"/>
                  </a:lnTo>
                  <a:lnTo>
                    <a:pt x="8" y="128"/>
                  </a:lnTo>
                  <a:lnTo>
                    <a:pt x="12" y="115"/>
                  </a:lnTo>
                  <a:lnTo>
                    <a:pt x="29" y="115"/>
                  </a:lnTo>
                  <a:lnTo>
                    <a:pt x="37" y="115"/>
                  </a:lnTo>
                  <a:lnTo>
                    <a:pt x="49" y="115"/>
                  </a:lnTo>
                  <a:lnTo>
                    <a:pt x="68" y="115"/>
                  </a:lnTo>
                  <a:lnTo>
                    <a:pt x="89" y="115"/>
                  </a:lnTo>
                  <a:lnTo>
                    <a:pt x="93" y="71"/>
                  </a:lnTo>
                  <a:lnTo>
                    <a:pt x="93" y="64"/>
                  </a:lnTo>
                  <a:lnTo>
                    <a:pt x="110" y="71"/>
                  </a:lnTo>
                  <a:lnTo>
                    <a:pt x="110" y="78"/>
                  </a:lnTo>
                  <a:lnTo>
                    <a:pt x="145" y="74"/>
                  </a:lnTo>
                  <a:lnTo>
                    <a:pt x="149" y="86"/>
                  </a:lnTo>
                  <a:lnTo>
                    <a:pt x="198" y="93"/>
                  </a:lnTo>
                  <a:lnTo>
                    <a:pt x="218" y="81"/>
                  </a:lnTo>
                  <a:lnTo>
                    <a:pt x="234" y="100"/>
                  </a:lnTo>
                  <a:lnTo>
                    <a:pt x="263" y="105"/>
                  </a:lnTo>
                  <a:lnTo>
                    <a:pt x="283" y="128"/>
                  </a:lnTo>
                  <a:lnTo>
                    <a:pt x="303" y="123"/>
                  </a:lnTo>
                  <a:lnTo>
                    <a:pt x="310" y="128"/>
                  </a:lnTo>
                  <a:lnTo>
                    <a:pt x="315" y="115"/>
                  </a:lnTo>
                  <a:lnTo>
                    <a:pt x="315" y="96"/>
                  </a:lnTo>
                  <a:lnTo>
                    <a:pt x="286" y="100"/>
                  </a:lnTo>
                  <a:lnTo>
                    <a:pt x="263" y="81"/>
                  </a:lnTo>
                  <a:lnTo>
                    <a:pt x="279" y="59"/>
                  </a:lnTo>
                  <a:lnTo>
                    <a:pt x="283" y="40"/>
                  </a:lnTo>
                  <a:lnTo>
                    <a:pt x="274" y="29"/>
                  </a:lnTo>
                  <a:lnTo>
                    <a:pt x="271" y="27"/>
                  </a:lnTo>
                  <a:lnTo>
                    <a:pt x="291" y="15"/>
                  </a:lnTo>
                  <a:lnTo>
                    <a:pt x="291" y="7"/>
                  </a:lnTo>
                  <a:lnTo>
                    <a:pt x="299" y="7"/>
                  </a:lnTo>
                  <a:lnTo>
                    <a:pt x="310" y="5"/>
                  </a:lnTo>
                  <a:lnTo>
                    <a:pt x="310" y="5"/>
                  </a:lnTo>
                  <a:lnTo>
                    <a:pt x="323" y="5"/>
                  </a:lnTo>
                  <a:lnTo>
                    <a:pt x="344" y="2"/>
                  </a:lnTo>
                  <a:lnTo>
                    <a:pt x="360" y="0"/>
                  </a:lnTo>
                  <a:lnTo>
                    <a:pt x="368" y="0"/>
                  </a:lnTo>
                  <a:lnTo>
                    <a:pt x="376" y="9"/>
                  </a:lnTo>
                  <a:lnTo>
                    <a:pt x="380" y="9"/>
                  </a:lnTo>
                  <a:lnTo>
                    <a:pt x="449" y="32"/>
                  </a:lnTo>
                  <a:lnTo>
                    <a:pt x="472" y="59"/>
                  </a:lnTo>
                  <a:lnTo>
                    <a:pt x="457" y="66"/>
                  </a:lnTo>
                  <a:lnTo>
                    <a:pt x="452" y="96"/>
                  </a:lnTo>
                  <a:lnTo>
                    <a:pt x="460" y="103"/>
                  </a:lnTo>
                  <a:lnTo>
                    <a:pt x="440" y="108"/>
                  </a:lnTo>
                  <a:lnTo>
                    <a:pt x="436" y="123"/>
                  </a:lnTo>
                  <a:lnTo>
                    <a:pt x="424" y="133"/>
                  </a:lnTo>
                  <a:lnTo>
                    <a:pt x="440" y="142"/>
                  </a:lnTo>
                  <a:lnTo>
                    <a:pt x="424" y="145"/>
                  </a:lnTo>
                  <a:lnTo>
                    <a:pt x="407" y="150"/>
                  </a:lnTo>
                  <a:lnTo>
                    <a:pt x="347" y="160"/>
                  </a:lnTo>
                  <a:lnTo>
                    <a:pt x="335" y="162"/>
                  </a:lnTo>
                  <a:lnTo>
                    <a:pt x="323" y="165"/>
                  </a:lnTo>
                  <a:lnTo>
                    <a:pt x="327" y="182"/>
                  </a:lnTo>
                  <a:lnTo>
                    <a:pt x="327" y="189"/>
                  </a:lnTo>
                  <a:lnTo>
                    <a:pt x="347" y="189"/>
                  </a:lnTo>
                  <a:lnTo>
                    <a:pt x="360" y="192"/>
                  </a:lnTo>
                  <a:lnTo>
                    <a:pt x="420" y="209"/>
                  </a:lnTo>
                  <a:lnTo>
                    <a:pt x="416" y="248"/>
                  </a:lnTo>
                  <a:lnTo>
                    <a:pt x="395" y="263"/>
                  </a:lnTo>
                  <a:lnTo>
                    <a:pt x="404" y="287"/>
                  </a:lnTo>
                  <a:lnTo>
                    <a:pt x="380" y="302"/>
                  </a:lnTo>
                  <a:lnTo>
                    <a:pt x="376" y="319"/>
                  </a:lnTo>
                  <a:lnTo>
                    <a:pt x="372" y="319"/>
                  </a:lnTo>
                  <a:lnTo>
                    <a:pt x="368" y="322"/>
                  </a:lnTo>
                  <a:lnTo>
                    <a:pt x="364" y="325"/>
                  </a:lnTo>
                  <a:lnTo>
                    <a:pt x="344" y="334"/>
                  </a:lnTo>
                  <a:lnTo>
                    <a:pt x="323" y="344"/>
                  </a:lnTo>
                  <a:lnTo>
                    <a:pt x="254" y="339"/>
                  </a:lnTo>
                  <a:lnTo>
                    <a:pt x="246" y="330"/>
                  </a:lnTo>
                  <a:lnTo>
                    <a:pt x="206" y="325"/>
                  </a:lnTo>
                  <a:lnTo>
                    <a:pt x="198" y="312"/>
                  </a:lnTo>
                  <a:lnTo>
                    <a:pt x="202" y="297"/>
                  </a:lnTo>
                  <a:lnTo>
                    <a:pt x="186" y="297"/>
                  </a:lnTo>
                  <a:lnTo>
                    <a:pt x="186" y="287"/>
                  </a:lnTo>
                  <a:lnTo>
                    <a:pt x="145" y="275"/>
                  </a:lnTo>
                  <a:lnTo>
                    <a:pt x="122" y="23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746800" y="2017080"/>
              <a:ext cx="174240" cy="82080"/>
            </a:xfrm>
            <a:custGeom>
              <a:avLst/>
              <a:gdLst/>
              <a:ahLst/>
              <a:rect l="l" t="t" r="r" b="b"/>
              <a:pathLst>
                <a:path w="485" h="230">
                  <a:moveTo>
                    <a:pt x="174" y="108"/>
                  </a:moveTo>
                  <a:lnTo>
                    <a:pt x="153" y="111"/>
                  </a:lnTo>
                  <a:lnTo>
                    <a:pt x="145" y="104"/>
                  </a:lnTo>
                  <a:lnTo>
                    <a:pt x="141" y="104"/>
                  </a:lnTo>
                  <a:lnTo>
                    <a:pt x="137" y="113"/>
                  </a:lnTo>
                  <a:lnTo>
                    <a:pt x="122" y="108"/>
                  </a:lnTo>
                  <a:lnTo>
                    <a:pt x="118" y="113"/>
                  </a:lnTo>
                  <a:lnTo>
                    <a:pt x="97" y="116"/>
                  </a:lnTo>
                  <a:lnTo>
                    <a:pt x="89" y="138"/>
                  </a:lnTo>
                  <a:lnTo>
                    <a:pt x="85" y="138"/>
                  </a:lnTo>
                  <a:lnTo>
                    <a:pt x="68" y="138"/>
                  </a:lnTo>
                  <a:lnTo>
                    <a:pt x="49" y="138"/>
                  </a:lnTo>
                  <a:lnTo>
                    <a:pt x="37" y="140"/>
                  </a:lnTo>
                  <a:lnTo>
                    <a:pt x="24" y="148"/>
                  </a:lnTo>
                  <a:lnTo>
                    <a:pt x="0" y="148"/>
                  </a:lnTo>
                  <a:lnTo>
                    <a:pt x="4" y="125"/>
                  </a:lnTo>
                  <a:lnTo>
                    <a:pt x="4" y="116"/>
                  </a:lnTo>
                  <a:lnTo>
                    <a:pt x="17" y="94"/>
                  </a:lnTo>
                  <a:lnTo>
                    <a:pt x="37" y="84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45" y="54"/>
                  </a:lnTo>
                  <a:lnTo>
                    <a:pt x="49" y="29"/>
                  </a:lnTo>
                  <a:lnTo>
                    <a:pt x="60" y="22"/>
                  </a:lnTo>
                  <a:lnTo>
                    <a:pt x="89" y="22"/>
                  </a:lnTo>
                  <a:lnTo>
                    <a:pt x="97" y="27"/>
                  </a:lnTo>
                  <a:lnTo>
                    <a:pt x="101" y="27"/>
                  </a:lnTo>
                  <a:lnTo>
                    <a:pt x="133" y="20"/>
                  </a:lnTo>
                  <a:lnTo>
                    <a:pt x="153" y="22"/>
                  </a:lnTo>
                  <a:lnTo>
                    <a:pt x="174" y="10"/>
                  </a:lnTo>
                  <a:lnTo>
                    <a:pt x="186" y="0"/>
                  </a:lnTo>
                  <a:lnTo>
                    <a:pt x="206" y="0"/>
                  </a:lnTo>
                  <a:lnTo>
                    <a:pt x="226" y="0"/>
                  </a:lnTo>
                  <a:lnTo>
                    <a:pt x="246" y="0"/>
                  </a:lnTo>
                  <a:lnTo>
                    <a:pt x="250" y="2"/>
                  </a:lnTo>
                  <a:lnTo>
                    <a:pt x="254" y="5"/>
                  </a:lnTo>
                  <a:lnTo>
                    <a:pt x="259" y="5"/>
                  </a:lnTo>
                  <a:lnTo>
                    <a:pt x="267" y="5"/>
                  </a:lnTo>
                  <a:lnTo>
                    <a:pt x="283" y="5"/>
                  </a:lnTo>
                  <a:lnTo>
                    <a:pt x="290" y="8"/>
                  </a:lnTo>
                  <a:lnTo>
                    <a:pt x="290" y="8"/>
                  </a:lnTo>
                  <a:lnTo>
                    <a:pt x="311" y="15"/>
                  </a:lnTo>
                  <a:lnTo>
                    <a:pt x="331" y="22"/>
                  </a:lnTo>
                  <a:lnTo>
                    <a:pt x="335" y="24"/>
                  </a:lnTo>
                  <a:lnTo>
                    <a:pt x="391" y="29"/>
                  </a:lnTo>
                  <a:lnTo>
                    <a:pt x="391" y="27"/>
                  </a:lnTo>
                  <a:lnTo>
                    <a:pt x="400" y="24"/>
                  </a:lnTo>
                  <a:lnTo>
                    <a:pt x="416" y="15"/>
                  </a:lnTo>
                  <a:lnTo>
                    <a:pt x="441" y="10"/>
                  </a:lnTo>
                  <a:lnTo>
                    <a:pt x="456" y="17"/>
                  </a:lnTo>
                  <a:lnTo>
                    <a:pt x="484" y="15"/>
                  </a:lnTo>
                  <a:lnTo>
                    <a:pt x="472" y="27"/>
                  </a:lnTo>
                  <a:lnTo>
                    <a:pt x="460" y="37"/>
                  </a:lnTo>
                  <a:lnTo>
                    <a:pt x="460" y="37"/>
                  </a:lnTo>
                  <a:lnTo>
                    <a:pt x="452" y="42"/>
                  </a:lnTo>
                  <a:lnTo>
                    <a:pt x="448" y="44"/>
                  </a:lnTo>
                  <a:lnTo>
                    <a:pt x="448" y="47"/>
                  </a:lnTo>
                  <a:lnTo>
                    <a:pt x="448" y="59"/>
                  </a:lnTo>
                  <a:lnTo>
                    <a:pt x="448" y="71"/>
                  </a:lnTo>
                  <a:lnTo>
                    <a:pt x="448" y="84"/>
                  </a:lnTo>
                  <a:lnTo>
                    <a:pt x="448" y="96"/>
                  </a:lnTo>
                  <a:lnTo>
                    <a:pt x="448" y="108"/>
                  </a:lnTo>
                  <a:lnTo>
                    <a:pt x="448" y="120"/>
                  </a:lnTo>
                  <a:lnTo>
                    <a:pt x="452" y="120"/>
                  </a:lnTo>
                  <a:lnTo>
                    <a:pt x="452" y="135"/>
                  </a:lnTo>
                  <a:lnTo>
                    <a:pt x="456" y="140"/>
                  </a:lnTo>
                  <a:lnTo>
                    <a:pt x="460" y="143"/>
                  </a:lnTo>
                  <a:lnTo>
                    <a:pt x="468" y="152"/>
                  </a:lnTo>
                  <a:lnTo>
                    <a:pt x="472" y="155"/>
                  </a:lnTo>
                  <a:lnTo>
                    <a:pt x="464" y="163"/>
                  </a:lnTo>
                  <a:lnTo>
                    <a:pt x="444" y="163"/>
                  </a:lnTo>
                  <a:lnTo>
                    <a:pt x="448" y="172"/>
                  </a:lnTo>
                  <a:lnTo>
                    <a:pt x="416" y="180"/>
                  </a:lnTo>
                  <a:lnTo>
                    <a:pt x="416" y="194"/>
                  </a:lnTo>
                  <a:lnTo>
                    <a:pt x="400" y="202"/>
                  </a:lnTo>
                  <a:lnTo>
                    <a:pt x="375" y="229"/>
                  </a:lnTo>
                  <a:lnTo>
                    <a:pt x="375" y="229"/>
                  </a:lnTo>
                  <a:lnTo>
                    <a:pt x="364" y="224"/>
                  </a:lnTo>
                  <a:lnTo>
                    <a:pt x="356" y="221"/>
                  </a:lnTo>
                  <a:lnTo>
                    <a:pt x="340" y="212"/>
                  </a:lnTo>
                  <a:lnTo>
                    <a:pt x="323" y="204"/>
                  </a:lnTo>
                  <a:lnTo>
                    <a:pt x="315" y="202"/>
                  </a:lnTo>
                  <a:lnTo>
                    <a:pt x="319" y="189"/>
                  </a:lnTo>
                  <a:lnTo>
                    <a:pt x="311" y="187"/>
                  </a:lnTo>
                  <a:lnTo>
                    <a:pt x="302" y="185"/>
                  </a:lnTo>
                  <a:lnTo>
                    <a:pt x="283" y="177"/>
                  </a:lnTo>
                  <a:lnTo>
                    <a:pt x="267" y="170"/>
                  </a:lnTo>
                  <a:lnTo>
                    <a:pt x="262" y="170"/>
                  </a:lnTo>
                  <a:lnTo>
                    <a:pt x="250" y="165"/>
                  </a:lnTo>
                  <a:lnTo>
                    <a:pt x="230" y="158"/>
                  </a:lnTo>
                  <a:lnTo>
                    <a:pt x="217" y="155"/>
                  </a:lnTo>
                  <a:lnTo>
                    <a:pt x="210" y="150"/>
                  </a:lnTo>
                  <a:lnTo>
                    <a:pt x="190" y="145"/>
                  </a:lnTo>
                  <a:lnTo>
                    <a:pt x="178" y="140"/>
                  </a:lnTo>
                  <a:lnTo>
                    <a:pt x="178" y="138"/>
                  </a:lnTo>
                  <a:lnTo>
                    <a:pt x="174" y="138"/>
                  </a:lnTo>
                  <a:lnTo>
                    <a:pt x="174" y="125"/>
                  </a:lnTo>
                  <a:lnTo>
                    <a:pt x="169" y="111"/>
                  </a:lnTo>
                  <a:lnTo>
                    <a:pt x="174" y="10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930760" y="1826640"/>
              <a:ext cx="191520" cy="120240"/>
            </a:xfrm>
            <a:custGeom>
              <a:avLst/>
              <a:gdLst/>
              <a:ahLst/>
              <a:rect l="l" t="t" r="r" b="b"/>
              <a:pathLst>
                <a:path w="534" h="333">
                  <a:moveTo>
                    <a:pt x="189" y="39"/>
                  </a:moveTo>
                  <a:lnTo>
                    <a:pt x="193" y="47"/>
                  </a:lnTo>
                  <a:lnTo>
                    <a:pt x="218" y="54"/>
                  </a:lnTo>
                  <a:lnTo>
                    <a:pt x="230" y="66"/>
                  </a:lnTo>
                  <a:lnTo>
                    <a:pt x="242" y="76"/>
                  </a:lnTo>
                  <a:lnTo>
                    <a:pt x="261" y="79"/>
                  </a:lnTo>
                  <a:lnTo>
                    <a:pt x="283" y="81"/>
                  </a:lnTo>
                  <a:lnTo>
                    <a:pt x="286" y="81"/>
                  </a:lnTo>
                  <a:lnTo>
                    <a:pt x="311" y="84"/>
                  </a:lnTo>
                  <a:lnTo>
                    <a:pt x="330" y="86"/>
                  </a:lnTo>
                  <a:lnTo>
                    <a:pt x="339" y="86"/>
                  </a:lnTo>
                  <a:lnTo>
                    <a:pt x="355" y="88"/>
                  </a:lnTo>
                  <a:lnTo>
                    <a:pt x="359" y="81"/>
                  </a:lnTo>
                  <a:lnTo>
                    <a:pt x="376" y="93"/>
                  </a:lnTo>
                  <a:lnTo>
                    <a:pt x="409" y="105"/>
                  </a:lnTo>
                  <a:lnTo>
                    <a:pt x="424" y="130"/>
                  </a:lnTo>
                  <a:lnTo>
                    <a:pt x="409" y="162"/>
                  </a:lnTo>
                  <a:lnTo>
                    <a:pt x="313" y="210"/>
                  </a:lnTo>
                  <a:lnTo>
                    <a:pt x="80" y="306"/>
                  </a:lnTo>
                  <a:lnTo>
                    <a:pt x="29" y="307"/>
                  </a:lnTo>
                  <a:lnTo>
                    <a:pt x="0" y="322"/>
                  </a:lnTo>
                  <a:lnTo>
                    <a:pt x="4" y="332"/>
                  </a:lnTo>
                  <a:lnTo>
                    <a:pt x="64" y="329"/>
                  </a:lnTo>
                  <a:lnTo>
                    <a:pt x="85" y="317"/>
                  </a:lnTo>
                  <a:lnTo>
                    <a:pt x="121" y="312"/>
                  </a:lnTo>
                  <a:lnTo>
                    <a:pt x="193" y="298"/>
                  </a:lnTo>
                  <a:lnTo>
                    <a:pt x="218" y="283"/>
                  </a:lnTo>
                  <a:lnTo>
                    <a:pt x="319" y="258"/>
                  </a:lnTo>
                  <a:lnTo>
                    <a:pt x="315" y="241"/>
                  </a:lnTo>
                  <a:lnTo>
                    <a:pt x="344" y="233"/>
                  </a:lnTo>
                  <a:lnTo>
                    <a:pt x="375" y="221"/>
                  </a:lnTo>
                  <a:lnTo>
                    <a:pt x="411" y="221"/>
                  </a:lnTo>
                  <a:lnTo>
                    <a:pt x="419" y="202"/>
                  </a:lnTo>
                  <a:lnTo>
                    <a:pt x="452" y="199"/>
                  </a:lnTo>
                  <a:lnTo>
                    <a:pt x="460" y="179"/>
                  </a:lnTo>
                  <a:lnTo>
                    <a:pt x="496" y="172"/>
                  </a:lnTo>
                  <a:lnTo>
                    <a:pt x="485" y="143"/>
                  </a:lnTo>
                  <a:lnTo>
                    <a:pt x="492" y="133"/>
                  </a:lnTo>
                  <a:lnTo>
                    <a:pt x="496" y="138"/>
                  </a:lnTo>
                  <a:lnTo>
                    <a:pt x="508" y="135"/>
                  </a:lnTo>
                  <a:lnTo>
                    <a:pt x="533" y="91"/>
                  </a:lnTo>
                  <a:lnTo>
                    <a:pt x="528" y="84"/>
                  </a:lnTo>
                  <a:lnTo>
                    <a:pt x="517" y="84"/>
                  </a:lnTo>
                  <a:lnTo>
                    <a:pt x="481" y="59"/>
                  </a:lnTo>
                  <a:lnTo>
                    <a:pt x="415" y="52"/>
                  </a:lnTo>
                  <a:lnTo>
                    <a:pt x="388" y="37"/>
                  </a:lnTo>
                  <a:lnTo>
                    <a:pt x="384" y="32"/>
                  </a:lnTo>
                  <a:lnTo>
                    <a:pt x="375" y="27"/>
                  </a:lnTo>
                  <a:lnTo>
                    <a:pt x="363" y="10"/>
                  </a:lnTo>
                  <a:lnTo>
                    <a:pt x="351" y="0"/>
                  </a:lnTo>
                  <a:lnTo>
                    <a:pt x="303" y="49"/>
                  </a:lnTo>
                  <a:lnTo>
                    <a:pt x="234" y="54"/>
                  </a:lnTo>
                  <a:lnTo>
                    <a:pt x="218" y="49"/>
                  </a:lnTo>
                  <a:lnTo>
                    <a:pt x="210" y="44"/>
                  </a:lnTo>
                  <a:lnTo>
                    <a:pt x="202" y="47"/>
                  </a:lnTo>
                  <a:lnTo>
                    <a:pt x="205" y="39"/>
                  </a:lnTo>
                  <a:lnTo>
                    <a:pt x="193" y="37"/>
                  </a:lnTo>
                  <a:lnTo>
                    <a:pt x="202" y="27"/>
                  </a:lnTo>
                  <a:lnTo>
                    <a:pt x="189" y="7"/>
                  </a:lnTo>
                  <a:lnTo>
                    <a:pt x="177" y="0"/>
                  </a:lnTo>
                  <a:lnTo>
                    <a:pt x="166" y="17"/>
                  </a:lnTo>
                  <a:lnTo>
                    <a:pt x="177" y="34"/>
                  </a:lnTo>
                  <a:lnTo>
                    <a:pt x="189" y="3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088000" y="1931400"/>
              <a:ext cx="42480" cy="13680"/>
            </a:xfrm>
            <a:custGeom>
              <a:avLst/>
              <a:gdLst/>
              <a:ahLst/>
              <a:rect l="l" t="t" r="r" b="b"/>
              <a:pathLst>
                <a:path w="118" h="39">
                  <a:moveTo>
                    <a:pt x="0" y="38"/>
                  </a:moveTo>
                  <a:lnTo>
                    <a:pt x="4" y="36"/>
                  </a:lnTo>
                  <a:lnTo>
                    <a:pt x="16" y="34"/>
                  </a:lnTo>
                  <a:lnTo>
                    <a:pt x="37" y="34"/>
                  </a:lnTo>
                  <a:lnTo>
                    <a:pt x="37" y="31"/>
                  </a:lnTo>
                  <a:lnTo>
                    <a:pt x="41" y="31"/>
                  </a:lnTo>
                  <a:lnTo>
                    <a:pt x="66" y="23"/>
                  </a:lnTo>
                  <a:lnTo>
                    <a:pt x="117" y="29"/>
                  </a:lnTo>
                  <a:lnTo>
                    <a:pt x="114" y="26"/>
                  </a:lnTo>
                  <a:lnTo>
                    <a:pt x="110" y="23"/>
                  </a:lnTo>
                  <a:lnTo>
                    <a:pt x="95" y="1"/>
                  </a:lnTo>
                  <a:lnTo>
                    <a:pt x="24" y="0"/>
                  </a:lnTo>
                  <a:lnTo>
                    <a:pt x="15" y="13"/>
                  </a:lnTo>
                  <a:lnTo>
                    <a:pt x="9" y="23"/>
                  </a:lnTo>
                  <a:lnTo>
                    <a:pt x="16" y="31"/>
                  </a:lnTo>
                  <a:lnTo>
                    <a:pt x="57" y="24"/>
                  </a:lnTo>
                  <a:lnTo>
                    <a:pt x="57" y="27"/>
                  </a:lnTo>
                  <a:lnTo>
                    <a:pt x="13" y="34"/>
                  </a:lnTo>
                  <a:lnTo>
                    <a:pt x="0" y="29"/>
                  </a:lnTo>
                  <a:lnTo>
                    <a:pt x="0" y="3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135520" y="1971000"/>
              <a:ext cx="44280" cy="26640"/>
            </a:xfrm>
            <a:custGeom>
              <a:avLst/>
              <a:gdLst/>
              <a:ahLst/>
              <a:rect l="l" t="t" r="r" b="b"/>
              <a:pathLst>
                <a:path w="122" h="75">
                  <a:moveTo>
                    <a:pt x="121" y="37"/>
                  </a:moveTo>
                  <a:lnTo>
                    <a:pt x="101" y="42"/>
                  </a:lnTo>
                  <a:lnTo>
                    <a:pt x="104" y="37"/>
                  </a:lnTo>
                  <a:lnTo>
                    <a:pt x="112" y="32"/>
                  </a:lnTo>
                  <a:lnTo>
                    <a:pt x="101" y="22"/>
                  </a:lnTo>
                  <a:lnTo>
                    <a:pt x="104" y="17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56" y="0"/>
                  </a:lnTo>
                  <a:lnTo>
                    <a:pt x="36" y="3"/>
                  </a:lnTo>
                  <a:lnTo>
                    <a:pt x="19" y="17"/>
                  </a:lnTo>
                  <a:lnTo>
                    <a:pt x="0" y="22"/>
                  </a:lnTo>
                  <a:lnTo>
                    <a:pt x="12" y="27"/>
                  </a:lnTo>
                  <a:lnTo>
                    <a:pt x="4" y="27"/>
                  </a:lnTo>
                  <a:lnTo>
                    <a:pt x="4" y="35"/>
                  </a:lnTo>
                  <a:lnTo>
                    <a:pt x="16" y="32"/>
                  </a:lnTo>
                  <a:lnTo>
                    <a:pt x="8" y="40"/>
                  </a:lnTo>
                  <a:lnTo>
                    <a:pt x="0" y="35"/>
                  </a:lnTo>
                  <a:lnTo>
                    <a:pt x="16" y="45"/>
                  </a:lnTo>
                  <a:lnTo>
                    <a:pt x="12" y="50"/>
                  </a:lnTo>
                  <a:lnTo>
                    <a:pt x="32" y="54"/>
                  </a:lnTo>
                  <a:lnTo>
                    <a:pt x="44" y="57"/>
                  </a:lnTo>
                  <a:lnTo>
                    <a:pt x="28" y="64"/>
                  </a:lnTo>
                  <a:lnTo>
                    <a:pt x="56" y="69"/>
                  </a:lnTo>
                  <a:lnTo>
                    <a:pt x="65" y="72"/>
                  </a:lnTo>
                  <a:lnTo>
                    <a:pt x="68" y="74"/>
                  </a:lnTo>
                  <a:lnTo>
                    <a:pt x="104" y="54"/>
                  </a:lnTo>
                  <a:lnTo>
                    <a:pt x="121" y="3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277000" y="1961280"/>
              <a:ext cx="64800" cy="55440"/>
            </a:xfrm>
            <a:custGeom>
              <a:avLst/>
              <a:gdLst/>
              <a:ahLst/>
              <a:rect l="l" t="t" r="r" b="b"/>
              <a:pathLst>
                <a:path w="179" h="156">
                  <a:moveTo>
                    <a:pt x="125" y="0"/>
                  </a:moveTo>
                  <a:lnTo>
                    <a:pt x="117" y="0"/>
                  </a:lnTo>
                  <a:lnTo>
                    <a:pt x="105" y="5"/>
                  </a:lnTo>
                  <a:lnTo>
                    <a:pt x="93" y="3"/>
                  </a:lnTo>
                  <a:lnTo>
                    <a:pt x="73" y="3"/>
                  </a:lnTo>
                  <a:lnTo>
                    <a:pt x="69" y="3"/>
                  </a:lnTo>
                  <a:lnTo>
                    <a:pt x="48" y="3"/>
                  </a:lnTo>
                  <a:lnTo>
                    <a:pt x="29" y="3"/>
                  </a:lnTo>
                  <a:lnTo>
                    <a:pt x="16" y="3"/>
                  </a:lnTo>
                  <a:lnTo>
                    <a:pt x="24" y="40"/>
                  </a:lnTo>
                  <a:lnTo>
                    <a:pt x="29" y="57"/>
                  </a:lnTo>
                  <a:lnTo>
                    <a:pt x="32" y="72"/>
                  </a:lnTo>
                  <a:lnTo>
                    <a:pt x="0" y="108"/>
                  </a:lnTo>
                  <a:lnTo>
                    <a:pt x="9" y="130"/>
                  </a:lnTo>
                  <a:lnTo>
                    <a:pt x="20" y="145"/>
                  </a:lnTo>
                  <a:lnTo>
                    <a:pt x="5" y="145"/>
                  </a:lnTo>
                  <a:lnTo>
                    <a:pt x="45" y="155"/>
                  </a:lnTo>
                  <a:lnTo>
                    <a:pt x="81" y="145"/>
                  </a:lnTo>
                  <a:lnTo>
                    <a:pt x="130" y="133"/>
                  </a:lnTo>
                  <a:lnTo>
                    <a:pt x="158" y="130"/>
                  </a:lnTo>
                  <a:lnTo>
                    <a:pt x="137" y="121"/>
                  </a:lnTo>
                  <a:lnTo>
                    <a:pt x="158" y="130"/>
                  </a:lnTo>
                  <a:lnTo>
                    <a:pt x="178" y="121"/>
                  </a:lnTo>
                  <a:lnTo>
                    <a:pt x="149" y="103"/>
                  </a:lnTo>
                  <a:lnTo>
                    <a:pt x="158" y="67"/>
                  </a:lnTo>
                  <a:lnTo>
                    <a:pt x="146" y="57"/>
                  </a:lnTo>
                  <a:lnTo>
                    <a:pt x="149" y="42"/>
                  </a:lnTo>
                  <a:lnTo>
                    <a:pt x="137" y="40"/>
                  </a:lnTo>
                  <a:lnTo>
                    <a:pt x="137" y="40"/>
                  </a:lnTo>
                  <a:lnTo>
                    <a:pt x="146" y="20"/>
                  </a:lnTo>
                  <a:lnTo>
                    <a:pt x="146" y="20"/>
                  </a:lnTo>
                  <a:lnTo>
                    <a:pt x="130" y="12"/>
                  </a:lnTo>
                  <a:lnTo>
                    <a:pt x="125" y="10"/>
                  </a:lnTo>
                  <a:lnTo>
                    <a:pt x="130" y="0"/>
                  </a:lnTo>
                  <a:lnTo>
                    <a:pt x="12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362680" y="1939320"/>
              <a:ext cx="166320" cy="82080"/>
            </a:xfrm>
            <a:custGeom>
              <a:avLst/>
              <a:gdLst/>
              <a:ahLst/>
              <a:rect l="l" t="t" r="r" b="b"/>
              <a:pathLst>
                <a:path w="465" h="230">
                  <a:moveTo>
                    <a:pt x="443" y="32"/>
                  </a:moveTo>
                  <a:lnTo>
                    <a:pt x="439" y="30"/>
                  </a:lnTo>
                  <a:lnTo>
                    <a:pt x="431" y="25"/>
                  </a:lnTo>
                  <a:lnTo>
                    <a:pt x="431" y="20"/>
                  </a:lnTo>
                  <a:lnTo>
                    <a:pt x="431" y="17"/>
                  </a:lnTo>
                  <a:lnTo>
                    <a:pt x="423" y="15"/>
                  </a:lnTo>
                  <a:lnTo>
                    <a:pt x="411" y="5"/>
                  </a:lnTo>
                  <a:lnTo>
                    <a:pt x="411" y="2"/>
                  </a:lnTo>
                  <a:lnTo>
                    <a:pt x="411" y="0"/>
                  </a:lnTo>
                  <a:lnTo>
                    <a:pt x="392" y="5"/>
                  </a:lnTo>
                  <a:lnTo>
                    <a:pt x="379" y="17"/>
                  </a:lnTo>
                  <a:lnTo>
                    <a:pt x="306" y="10"/>
                  </a:lnTo>
                  <a:lnTo>
                    <a:pt x="266" y="22"/>
                  </a:lnTo>
                  <a:lnTo>
                    <a:pt x="197" y="10"/>
                  </a:lnTo>
                  <a:lnTo>
                    <a:pt x="161" y="17"/>
                  </a:lnTo>
                  <a:lnTo>
                    <a:pt x="137" y="2"/>
                  </a:lnTo>
                  <a:lnTo>
                    <a:pt x="81" y="0"/>
                  </a:lnTo>
                  <a:lnTo>
                    <a:pt x="52" y="8"/>
                  </a:lnTo>
                  <a:lnTo>
                    <a:pt x="52" y="17"/>
                  </a:lnTo>
                  <a:lnTo>
                    <a:pt x="31" y="30"/>
                  </a:lnTo>
                  <a:lnTo>
                    <a:pt x="31" y="49"/>
                  </a:lnTo>
                  <a:lnTo>
                    <a:pt x="31" y="49"/>
                  </a:lnTo>
                  <a:lnTo>
                    <a:pt x="44" y="76"/>
                  </a:lnTo>
                  <a:lnTo>
                    <a:pt x="11" y="113"/>
                  </a:lnTo>
                  <a:lnTo>
                    <a:pt x="0" y="113"/>
                  </a:lnTo>
                  <a:lnTo>
                    <a:pt x="0" y="180"/>
                  </a:lnTo>
                  <a:lnTo>
                    <a:pt x="40" y="172"/>
                  </a:lnTo>
                  <a:lnTo>
                    <a:pt x="28" y="178"/>
                  </a:lnTo>
                  <a:lnTo>
                    <a:pt x="64" y="180"/>
                  </a:lnTo>
                  <a:lnTo>
                    <a:pt x="93" y="194"/>
                  </a:lnTo>
                  <a:lnTo>
                    <a:pt x="100" y="190"/>
                  </a:lnTo>
                  <a:lnTo>
                    <a:pt x="96" y="197"/>
                  </a:lnTo>
                  <a:lnTo>
                    <a:pt x="108" y="197"/>
                  </a:lnTo>
                  <a:lnTo>
                    <a:pt x="100" y="202"/>
                  </a:lnTo>
                  <a:lnTo>
                    <a:pt x="112" y="200"/>
                  </a:lnTo>
                  <a:lnTo>
                    <a:pt x="100" y="204"/>
                  </a:lnTo>
                  <a:lnTo>
                    <a:pt x="108" y="209"/>
                  </a:lnTo>
                  <a:lnTo>
                    <a:pt x="108" y="217"/>
                  </a:lnTo>
                  <a:lnTo>
                    <a:pt x="132" y="227"/>
                  </a:lnTo>
                  <a:lnTo>
                    <a:pt x="132" y="229"/>
                  </a:lnTo>
                  <a:lnTo>
                    <a:pt x="137" y="224"/>
                  </a:lnTo>
                  <a:lnTo>
                    <a:pt x="141" y="229"/>
                  </a:lnTo>
                  <a:lnTo>
                    <a:pt x="153" y="224"/>
                  </a:lnTo>
                  <a:lnTo>
                    <a:pt x="157" y="229"/>
                  </a:lnTo>
                  <a:lnTo>
                    <a:pt x="157" y="221"/>
                  </a:lnTo>
                  <a:lnTo>
                    <a:pt x="165" y="229"/>
                  </a:lnTo>
                  <a:lnTo>
                    <a:pt x="157" y="217"/>
                  </a:lnTo>
                  <a:lnTo>
                    <a:pt x="170" y="227"/>
                  </a:lnTo>
                  <a:lnTo>
                    <a:pt x="170" y="219"/>
                  </a:lnTo>
                  <a:lnTo>
                    <a:pt x="170" y="227"/>
                  </a:lnTo>
                  <a:lnTo>
                    <a:pt x="173" y="219"/>
                  </a:lnTo>
                  <a:lnTo>
                    <a:pt x="181" y="224"/>
                  </a:lnTo>
                  <a:lnTo>
                    <a:pt x="189" y="219"/>
                  </a:lnTo>
                  <a:lnTo>
                    <a:pt x="197" y="224"/>
                  </a:lnTo>
                  <a:lnTo>
                    <a:pt x="221" y="224"/>
                  </a:lnTo>
                  <a:lnTo>
                    <a:pt x="217" y="212"/>
                  </a:lnTo>
                  <a:lnTo>
                    <a:pt x="233" y="217"/>
                  </a:lnTo>
                  <a:lnTo>
                    <a:pt x="242" y="192"/>
                  </a:lnTo>
                  <a:lnTo>
                    <a:pt x="278" y="167"/>
                  </a:lnTo>
                  <a:lnTo>
                    <a:pt x="306" y="165"/>
                  </a:lnTo>
                  <a:lnTo>
                    <a:pt x="311" y="160"/>
                  </a:lnTo>
                  <a:lnTo>
                    <a:pt x="338" y="178"/>
                  </a:lnTo>
                  <a:lnTo>
                    <a:pt x="363" y="160"/>
                  </a:lnTo>
                  <a:lnTo>
                    <a:pt x="354" y="158"/>
                  </a:lnTo>
                  <a:lnTo>
                    <a:pt x="375" y="131"/>
                  </a:lnTo>
                  <a:lnTo>
                    <a:pt x="395" y="121"/>
                  </a:lnTo>
                  <a:lnTo>
                    <a:pt x="399" y="106"/>
                  </a:lnTo>
                  <a:lnTo>
                    <a:pt x="399" y="106"/>
                  </a:lnTo>
                  <a:lnTo>
                    <a:pt x="399" y="106"/>
                  </a:lnTo>
                  <a:lnTo>
                    <a:pt x="411" y="101"/>
                  </a:lnTo>
                  <a:lnTo>
                    <a:pt x="431" y="67"/>
                  </a:lnTo>
                  <a:lnTo>
                    <a:pt x="464" y="51"/>
                  </a:lnTo>
                  <a:lnTo>
                    <a:pt x="464" y="37"/>
                  </a:lnTo>
                  <a:lnTo>
                    <a:pt x="443" y="3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745360" y="1786680"/>
              <a:ext cx="2880" cy="14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3"/>
                  </a:moveTo>
                  <a:lnTo>
                    <a:pt x="8" y="3"/>
                  </a:lnTo>
                  <a:lnTo>
                    <a:pt x="0" y="0"/>
                  </a:lnTo>
                  <a:lnTo>
                    <a:pt x="8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742120" y="1786680"/>
              <a:ext cx="2880" cy="14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640600" y="1783800"/>
              <a:ext cx="161640" cy="83520"/>
            </a:xfrm>
            <a:custGeom>
              <a:avLst/>
              <a:gdLst/>
              <a:ahLst/>
              <a:rect l="l" t="t" r="r" b="b"/>
              <a:pathLst>
                <a:path w="449" h="235">
                  <a:moveTo>
                    <a:pt x="258" y="7"/>
                  </a:moveTo>
                  <a:lnTo>
                    <a:pt x="242" y="0"/>
                  </a:lnTo>
                  <a:lnTo>
                    <a:pt x="239" y="0"/>
                  </a:lnTo>
                  <a:lnTo>
                    <a:pt x="210" y="0"/>
                  </a:lnTo>
                  <a:lnTo>
                    <a:pt x="194" y="5"/>
                  </a:lnTo>
                  <a:lnTo>
                    <a:pt x="186" y="2"/>
                  </a:lnTo>
                  <a:lnTo>
                    <a:pt x="191" y="5"/>
                  </a:lnTo>
                  <a:lnTo>
                    <a:pt x="191" y="2"/>
                  </a:lnTo>
                  <a:lnTo>
                    <a:pt x="191" y="7"/>
                  </a:lnTo>
                  <a:lnTo>
                    <a:pt x="179" y="7"/>
                  </a:lnTo>
                  <a:lnTo>
                    <a:pt x="150" y="20"/>
                  </a:lnTo>
                  <a:lnTo>
                    <a:pt x="98" y="12"/>
                  </a:lnTo>
                  <a:lnTo>
                    <a:pt x="5" y="0"/>
                  </a:lnTo>
                  <a:lnTo>
                    <a:pt x="0" y="12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0" y="37"/>
                  </a:lnTo>
                  <a:lnTo>
                    <a:pt x="13" y="51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21" y="74"/>
                  </a:lnTo>
                  <a:lnTo>
                    <a:pt x="25" y="86"/>
                  </a:lnTo>
                  <a:lnTo>
                    <a:pt x="29" y="98"/>
                  </a:lnTo>
                  <a:lnTo>
                    <a:pt x="33" y="111"/>
                  </a:lnTo>
                  <a:lnTo>
                    <a:pt x="33" y="123"/>
                  </a:lnTo>
                  <a:lnTo>
                    <a:pt x="36" y="135"/>
                  </a:lnTo>
                  <a:lnTo>
                    <a:pt x="40" y="145"/>
                  </a:lnTo>
                  <a:lnTo>
                    <a:pt x="45" y="157"/>
                  </a:lnTo>
                  <a:lnTo>
                    <a:pt x="45" y="170"/>
                  </a:lnTo>
                  <a:lnTo>
                    <a:pt x="49" y="182"/>
                  </a:lnTo>
                  <a:lnTo>
                    <a:pt x="53" y="194"/>
                  </a:lnTo>
                  <a:lnTo>
                    <a:pt x="53" y="206"/>
                  </a:lnTo>
                  <a:lnTo>
                    <a:pt x="57" y="217"/>
                  </a:lnTo>
                  <a:lnTo>
                    <a:pt x="61" y="229"/>
                  </a:lnTo>
                  <a:lnTo>
                    <a:pt x="78" y="229"/>
                  </a:lnTo>
                  <a:lnTo>
                    <a:pt x="98" y="229"/>
                  </a:lnTo>
                  <a:lnTo>
                    <a:pt x="117" y="229"/>
                  </a:lnTo>
                  <a:lnTo>
                    <a:pt x="134" y="229"/>
                  </a:lnTo>
                  <a:lnTo>
                    <a:pt x="154" y="229"/>
                  </a:lnTo>
                  <a:lnTo>
                    <a:pt x="170" y="229"/>
                  </a:lnTo>
                  <a:lnTo>
                    <a:pt x="191" y="229"/>
                  </a:lnTo>
                  <a:lnTo>
                    <a:pt x="210" y="229"/>
                  </a:lnTo>
                  <a:lnTo>
                    <a:pt x="226" y="229"/>
                  </a:lnTo>
                  <a:lnTo>
                    <a:pt x="247" y="229"/>
                  </a:lnTo>
                  <a:lnTo>
                    <a:pt x="264" y="229"/>
                  </a:lnTo>
                  <a:lnTo>
                    <a:pt x="283" y="229"/>
                  </a:lnTo>
                  <a:lnTo>
                    <a:pt x="295" y="229"/>
                  </a:lnTo>
                  <a:lnTo>
                    <a:pt x="295" y="224"/>
                  </a:lnTo>
                  <a:lnTo>
                    <a:pt x="299" y="221"/>
                  </a:lnTo>
                  <a:lnTo>
                    <a:pt x="303" y="224"/>
                  </a:lnTo>
                  <a:lnTo>
                    <a:pt x="312" y="229"/>
                  </a:lnTo>
                  <a:lnTo>
                    <a:pt x="328" y="229"/>
                  </a:lnTo>
                  <a:lnTo>
                    <a:pt x="348" y="226"/>
                  </a:lnTo>
                  <a:lnTo>
                    <a:pt x="363" y="226"/>
                  </a:lnTo>
                  <a:lnTo>
                    <a:pt x="380" y="234"/>
                  </a:lnTo>
                  <a:lnTo>
                    <a:pt x="384" y="234"/>
                  </a:lnTo>
                  <a:lnTo>
                    <a:pt x="396" y="234"/>
                  </a:lnTo>
                  <a:lnTo>
                    <a:pt x="404" y="221"/>
                  </a:lnTo>
                  <a:lnTo>
                    <a:pt x="420" y="219"/>
                  </a:lnTo>
                  <a:lnTo>
                    <a:pt x="436" y="209"/>
                  </a:lnTo>
                  <a:lnTo>
                    <a:pt x="448" y="199"/>
                  </a:lnTo>
                  <a:lnTo>
                    <a:pt x="436" y="180"/>
                  </a:lnTo>
                  <a:lnTo>
                    <a:pt x="448" y="180"/>
                  </a:lnTo>
                  <a:lnTo>
                    <a:pt x="420" y="167"/>
                  </a:lnTo>
                  <a:lnTo>
                    <a:pt x="355" y="116"/>
                  </a:lnTo>
                  <a:lnTo>
                    <a:pt x="336" y="86"/>
                  </a:lnTo>
                  <a:lnTo>
                    <a:pt x="274" y="47"/>
                  </a:lnTo>
                  <a:lnTo>
                    <a:pt x="278" y="38"/>
                  </a:lnTo>
                  <a:lnTo>
                    <a:pt x="287" y="47"/>
                  </a:lnTo>
                  <a:lnTo>
                    <a:pt x="315" y="71"/>
                  </a:lnTo>
                  <a:lnTo>
                    <a:pt x="359" y="89"/>
                  </a:lnTo>
                  <a:lnTo>
                    <a:pt x="368" y="47"/>
                  </a:lnTo>
                  <a:lnTo>
                    <a:pt x="328" y="7"/>
                  </a:lnTo>
                  <a:lnTo>
                    <a:pt x="324" y="5"/>
                  </a:lnTo>
                  <a:lnTo>
                    <a:pt x="299" y="10"/>
                  </a:lnTo>
                  <a:lnTo>
                    <a:pt x="274" y="12"/>
                  </a:lnTo>
                  <a:lnTo>
                    <a:pt x="283" y="10"/>
                  </a:lnTo>
                  <a:lnTo>
                    <a:pt x="258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581920" y="1855080"/>
              <a:ext cx="271080" cy="172800"/>
            </a:xfrm>
            <a:custGeom>
              <a:avLst/>
              <a:gdLst/>
              <a:ahLst/>
              <a:rect l="l" t="t" r="r" b="b"/>
              <a:pathLst>
                <a:path w="756" h="480">
                  <a:moveTo>
                    <a:pt x="223" y="30"/>
                  </a:moveTo>
                  <a:lnTo>
                    <a:pt x="240" y="30"/>
                  </a:lnTo>
                  <a:lnTo>
                    <a:pt x="260" y="30"/>
                  </a:lnTo>
                  <a:lnTo>
                    <a:pt x="279" y="30"/>
                  </a:lnTo>
                  <a:lnTo>
                    <a:pt x="296" y="30"/>
                  </a:lnTo>
                  <a:lnTo>
                    <a:pt x="316" y="30"/>
                  </a:lnTo>
                  <a:lnTo>
                    <a:pt x="332" y="30"/>
                  </a:lnTo>
                  <a:lnTo>
                    <a:pt x="353" y="30"/>
                  </a:lnTo>
                  <a:lnTo>
                    <a:pt x="372" y="30"/>
                  </a:lnTo>
                  <a:lnTo>
                    <a:pt x="388" y="30"/>
                  </a:lnTo>
                  <a:lnTo>
                    <a:pt x="409" y="30"/>
                  </a:lnTo>
                  <a:lnTo>
                    <a:pt x="426" y="30"/>
                  </a:lnTo>
                  <a:lnTo>
                    <a:pt x="445" y="30"/>
                  </a:lnTo>
                  <a:lnTo>
                    <a:pt x="457" y="30"/>
                  </a:lnTo>
                  <a:lnTo>
                    <a:pt x="457" y="25"/>
                  </a:lnTo>
                  <a:lnTo>
                    <a:pt x="461" y="22"/>
                  </a:lnTo>
                  <a:lnTo>
                    <a:pt x="465" y="25"/>
                  </a:lnTo>
                  <a:lnTo>
                    <a:pt x="474" y="30"/>
                  </a:lnTo>
                  <a:lnTo>
                    <a:pt x="490" y="30"/>
                  </a:lnTo>
                  <a:lnTo>
                    <a:pt x="510" y="27"/>
                  </a:lnTo>
                  <a:lnTo>
                    <a:pt x="525" y="27"/>
                  </a:lnTo>
                  <a:lnTo>
                    <a:pt x="542" y="35"/>
                  </a:lnTo>
                  <a:lnTo>
                    <a:pt x="546" y="35"/>
                  </a:lnTo>
                  <a:lnTo>
                    <a:pt x="558" y="35"/>
                  </a:lnTo>
                  <a:lnTo>
                    <a:pt x="566" y="22"/>
                  </a:lnTo>
                  <a:lnTo>
                    <a:pt x="582" y="20"/>
                  </a:lnTo>
                  <a:lnTo>
                    <a:pt x="598" y="10"/>
                  </a:lnTo>
                  <a:lnTo>
                    <a:pt x="610" y="0"/>
                  </a:lnTo>
                  <a:lnTo>
                    <a:pt x="663" y="27"/>
                  </a:lnTo>
                  <a:lnTo>
                    <a:pt x="687" y="49"/>
                  </a:lnTo>
                  <a:lnTo>
                    <a:pt x="679" y="49"/>
                  </a:lnTo>
                  <a:lnTo>
                    <a:pt x="707" y="103"/>
                  </a:lnTo>
                  <a:lnTo>
                    <a:pt x="755" y="123"/>
                  </a:lnTo>
                  <a:lnTo>
                    <a:pt x="747" y="135"/>
                  </a:lnTo>
                  <a:lnTo>
                    <a:pt x="719" y="140"/>
                  </a:lnTo>
                  <a:lnTo>
                    <a:pt x="699" y="145"/>
                  </a:lnTo>
                  <a:lnTo>
                    <a:pt x="703" y="165"/>
                  </a:lnTo>
                  <a:lnTo>
                    <a:pt x="691" y="192"/>
                  </a:lnTo>
                  <a:lnTo>
                    <a:pt x="696" y="204"/>
                  </a:lnTo>
                  <a:lnTo>
                    <a:pt x="696" y="212"/>
                  </a:lnTo>
                  <a:lnTo>
                    <a:pt x="699" y="214"/>
                  </a:lnTo>
                  <a:lnTo>
                    <a:pt x="691" y="253"/>
                  </a:lnTo>
                  <a:lnTo>
                    <a:pt x="674" y="253"/>
                  </a:lnTo>
                  <a:lnTo>
                    <a:pt x="655" y="273"/>
                  </a:lnTo>
                  <a:lnTo>
                    <a:pt x="651" y="288"/>
                  </a:lnTo>
                  <a:lnTo>
                    <a:pt x="647" y="300"/>
                  </a:lnTo>
                  <a:lnTo>
                    <a:pt x="638" y="298"/>
                  </a:lnTo>
                  <a:lnTo>
                    <a:pt x="626" y="305"/>
                  </a:lnTo>
                  <a:lnTo>
                    <a:pt x="622" y="329"/>
                  </a:lnTo>
                  <a:lnTo>
                    <a:pt x="626" y="354"/>
                  </a:lnTo>
                  <a:lnTo>
                    <a:pt x="590" y="357"/>
                  </a:lnTo>
                  <a:lnTo>
                    <a:pt x="582" y="369"/>
                  </a:lnTo>
                  <a:lnTo>
                    <a:pt x="610" y="376"/>
                  </a:lnTo>
                  <a:lnTo>
                    <a:pt x="655" y="401"/>
                  </a:lnTo>
                  <a:lnTo>
                    <a:pt x="679" y="433"/>
                  </a:lnTo>
                  <a:lnTo>
                    <a:pt x="699" y="433"/>
                  </a:lnTo>
                  <a:lnTo>
                    <a:pt x="703" y="450"/>
                  </a:lnTo>
                  <a:lnTo>
                    <a:pt x="683" y="450"/>
                  </a:lnTo>
                  <a:lnTo>
                    <a:pt x="663" y="450"/>
                  </a:lnTo>
                  <a:lnTo>
                    <a:pt x="643" y="450"/>
                  </a:lnTo>
                  <a:lnTo>
                    <a:pt x="631" y="460"/>
                  </a:lnTo>
                  <a:lnTo>
                    <a:pt x="610" y="472"/>
                  </a:lnTo>
                  <a:lnTo>
                    <a:pt x="590" y="470"/>
                  </a:lnTo>
                  <a:lnTo>
                    <a:pt x="558" y="477"/>
                  </a:lnTo>
                  <a:lnTo>
                    <a:pt x="554" y="477"/>
                  </a:lnTo>
                  <a:lnTo>
                    <a:pt x="546" y="472"/>
                  </a:lnTo>
                  <a:lnTo>
                    <a:pt x="517" y="472"/>
                  </a:lnTo>
                  <a:lnTo>
                    <a:pt x="506" y="479"/>
                  </a:lnTo>
                  <a:lnTo>
                    <a:pt x="457" y="450"/>
                  </a:lnTo>
                  <a:lnTo>
                    <a:pt x="440" y="458"/>
                  </a:lnTo>
                  <a:lnTo>
                    <a:pt x="426" y="452"/>
                  </a:lnTo>
                  <a:lnTo>
                    <a:pt x="409" y="460"/>
                  </a:lnTo>
                  <a:lnTo>
                    <a:pt x="372" y="443"/>
                  </a:lnTo>
                  <a:lnTo>
                    <a:pt x="360" y="425"/>
                  </a:lnTo>
                  <a:lnTo>
                    <a:pt x="332" y="416"/>
                  </a:lnTo>
                  <a:lnTo>
                    <a:pt x="328" y="401"/>
                  </a:lnTo>
                  <a:lnTo>
                    <a:pt x="279" y="381"/>
                  </a:lnTo>
                  <a:lnTo>
                    <a:pt x="279" y="372"/>
                  </a:lnTo>
                  <a:lnTo>
                    <a:pt x="235" y="362"/>
                  </a:lnTo>
                  <a:lnTo>
                    <a:pt x="240" y="352"/>
                  </a:lnTo>
                  <a:lnTo>
                    <a:pt x="211" y="352"/>
                  </a:lnTo>
                  <a:lnTo>
                    <a:pt x="211" y="332"/>
                  </a:lnTo>
                  <a:lnTo>
                    <a:pt x="215" y="329"/>
                  </a:lnTo>
                  <a:lnTo>
                    <a:pt x="215" y="325"/>
                  </a:lnTo>
                  <a:lnTo>
                    <a:pt x="198" y="310"/>
                  </a:lnTo>
                  <a:lnTo>
                    <a:pt x="175" y="298"/>
                  </a:lnTo>
                  <a:lnTo>
                    <a:pt x="183" y="290"/>
                  </a:lnTo>
                  <a:lnTo>
                    <a:pt x="167" y="280"/>
                  </a:lnTo>
                  <a:lnTo>
                    <a:pt x="159" y="259"/>
                  </a:lnTo>
                  <a:lnTo>
                    <a:pt x="134" y="253"/>
                  </a:lnTo>
                  <a:lnTo>
                    <a:pt x="150" y="239"/>
                  </a:lnTo>
                  <a:lnTo>
                    <a:pt x="142" y="229"/>
                  </a:lnTo>
                  <a:lnTo>
                    <a:pt x="159" y="222"/>
                  </a:lnTo>
                  <a:lnTo>
                    <a:pt x="150" y="209"/>
                  </a:lnTo>
                  <a:lnTo>
                    <a:pt x="162" y="207"/>
                  </a:lnTo>
                  <a:lnTo>
                    <a:pt x="171" y="187"/>
                  </a:lnTo>
                  <a:lnTo>
                    <a:pt x="211" y="182"/>
                  </a:lnTo>
                  <a:lnTo>
                    <a:pt x="211" y="175"/>
                  </a:lnTo>
                  <a:lnTo>
                    <a:pt x="207" y="163"/>
                  </a:lnTo>
                  <a:lnTo>
                    <a:pt x="207" y="150"/>
                  </a:lnTo>
                  <a:lnTo>
                    <a:pt x="202" y="138"/>
                  </a:lnTo>
                  <a:lnTo>
                    <a:pt x="202" y="128"/>
                  </a:lnTo>
                  <a:lnTo>
                    <a:pt x="198" y="116"/>
                  </a:lnTo>
                  <a:lnTo>
                    <a:pt x="198" y="103"/>
                  </a:lnTo>
                  <a:lnTo>
                    <a:pt x="195" y="91"/>
                  </a:lnTo>
                  <a:lnTo>
                    <a:pt x="150" y="76"/>
                  </a:lnTo>
                  <a:lnTo>
                    <a:pt x="139" y="75"/>
                  </a:lnTo>
                  <a:lnTo>
                    <a:pt x="114" y="65"/>
                  </a:lnTo>
                  <a:lnTo>
                    <a:pt x="97" y="62"/>
                  </a:lnTo>
                  <a:lnTo>
                    <a:pt x="90" y="57"/>
                  </a:lnTo>
                  <a:lnTo>
                    <a:pt x="69" y="53"/>
                  </a:lnTo>
                  <a:lnTo>
                    <a:pt x="42" y="43"/>
                  </a:lnTo>
                  <a:lnTo>
                    <a:pt x="21" y="37"/>
                  </a:lnTo>
                  <a:lnTo>
                    <a:pt x="0" y="32"/>
                  </a:lnTo>
                  <a:lnTo>
                    <a:pt x="223" y="3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924280" y="1956600"/>
              <a:ext cx="88560" cy="31320"/>
            </a:xfrm>
            <a:custGeom>
              <a:avLst/>
              <a:gdLst/>
              <a:ahLst/>
              <a:rect l="l" t="t" r="r" b="b"/>
              <a:pathLst>
                <a:path w="247" h="88">
                  <a:moveTo>
                    <a:pt x="216" y="87"/>
                  </a:moveTo>
                  <a:lnTo>
                    <a:pt x="246" y="1"/>
                  </a:lnTo>
                  <a:lnTo>
                    <a:pt x="182" y="8"/>
                  </a:lnTo>
                  <a:lnTo>
                    <a:pt x="144" y="20"/>
                  </a:lnTo>
                  <a:lnTo>
                    <a:pt x="120" y="15"/>
                  </a:lnTo>
                  <a:lnTo>
                    <a:pt x="88" y="27"/>
                  </a:lnTo>
                  <a:lnTo>
                    <a:pt x="64" y="27"/>
                  </a:lnTo>
                  <a:lnTo>
                    <a:pt x="20" y="0"/>
                  </a:lnTo>
                  <a:lnTo>
                    <a:pt x="12" y="13"/>
                  </a:lnTo>
                  <a:lnTo>
                    <a:pt x="0" y="23"/>
                  </a:lnTo>
                  <a:lnTo>
                    <a:pt x="12" y="33"/>
                  </a:lnTo>
                  <a:lnTo>
                    <a:pt x="60" y="62"/>
                  </a:lnTo>
                  <a:lnTo>
                    <a:pt x="76" y="64"/>
                  </a:lnTo>
                  <a:lnTo>
                    <a:pt x="81" y="67"/>
                  </a:lnTo>
                  <a:lnTo>
                    <a:pt x="97" y="69"/>
                  </a:lnTo>
                  <a:lnTo>
                    <a:pt x="116" y="74"/>
                  </a:lnTo>
                  <a:lnTo>
                    <a:pt x="128" y="77"/>
                  </a:lnTo>
                  <a:lnTo>
                    <a:pt x="137" y="77"/>
                  </a:lnTo>
                  <a:lnTo>
                    <a:pt x="157" y="82"/>
                  </a:lnTo>
                  <a:lnTo>
                    <a:pt x="177" y="87"/>
                  </a:lnTo>
                  <a:lnTo>
                    <a:pt x="197" y="87"/>
                  </a:lnTo>
                  <a:lnTo>
                    <a:pt x="216" y="8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458360" y="1980360"/>
              <a:ext cx="63000" cy="64800"/>
            </a:xfrm>
            <a:custGeom>
              <a:avLst/>
              <a:gdLst/>
              <a:ahLst/>
              <a:rect l="l" t="t" r="r" b="b"/>
              <a:pathLst>
                <a:path w="178" h="181">
                  <a:moveTo>
                    <a:pt x="157" y="79"/>
                  </a:moveTo>
                  <a:lnTo>
                    <a:pt x="154" y="89"/>
                  </a:lnTo>
                  <a:lnTo>
                    <a:pt x="129" y="94"/>
                  </a:lnTo>
                  <a:lnTo>
                    <a:pt x="121" y="116"/>
                  </a:lnTo>
                  <a:lnTo>
                    <a:pt x="133" y="130"/>
                  </a:lnTo>
                  <a:lnTo>
                    <a:pt x="149" y="130"/>
                  </a:lnTo>
                  <a:lnTo>
                    <a:pt x="154" y="143"/>
                  </a:lnTo>
                  <a:lnTo>
                    <a:pt x="177" y="168"/>
                  </a:lnTo>
                  <a:lnTo>
                    <a:pt x="154" y="165"/>
                  </a:lnTo>
                  <a:lnTo>
                    <a:pt x="121" y="177"/>
                  </a:lnTo>
                  <a:lnTo>
                    <a:pt x="108" y="175"/>
                  </a:lnTo>
                  <a:lnTo>
                    <a:pt x="73" y="180"/>
                  </a:lnTo>
                  <a:lnTo>
                    <a:pt x="52" y="168"/>
                  </a:lnTo>
                  <a:lnTo>
                    <a:pt x="44" y="148"/>
                  </a:lnTo>
                  <a:lnTo>
                    <a:pt x="52" y="125"/>
                  </a:lnTo>
                  <a:lnTo>
                    <a:pt x="64" y="116"/>
                  </a:lnTo>
                  <a:lnTo>
                    <a:pt x="60" y="106"/>
                  </a:lnTo>
                  <a:lnTo>
                    <a:pt x="40" y="101"/>
                  </a:lnTo>
                  <a:lnTo>
                    <a:pt x="44" y="84"/>
                  </a:lnTo>
                  <a:lnTo>
                    <a:pt x="19" y="84"/>
                  </a:lnTo>
                  <a:lnTo>
                    <a:pt x="0" y="67"/>
                  </a:lnTo>
                  <a:lnTo>
                    <a:pt x="7" y="60"/>
                  </a:lnTo>
                  <a:lnTo>
                    <a:pt x="11" y="47"/>
                  </a:lnTo>
                  <a:lnTo>
                    <a:pt x="44" y="37"/>
                  </a:lnTo>
                  <a:lnTo>
                    <a:pt x="28" y="25"/>
                  </a:lnTo>
                  <a:lnTo>
                    <a:pt x="69" y="8"/>
                  </a:lnTo>
                  <a:lnTo>
                    <a:pt x="64" y="0"/>
                  </a:lnTo>
                  <a:lnTo>
                    <a:pt x="73" y="5"/>
                  </a:lnTo>
                  <a:lnTo>
                    <a:pt x="84" y="10"/>
                  </a:lnTo>
                  <a:lnTo>
                    <a:pt x="100" y="20"/>
                  </a:lnTo>
                  <a:lnTo>
                    <a:pt x="105" y="25"/>
                  </a:lnTo>
                  <a:lnTo>
                    <a:pt x="112" y="30"/>
                  </a:lnTo>
                  <a:lnTo>
                    <a:pt x="105" y="54"/>
                  </a:lnTo>
                  <a:lnTo>
                    <a:pt x="121" y="42"/>
                  </a:lnTo>
                  <a:lnTo>
                    <a:pt x="161" y="62"/>
                  </a:lnTo>
                  <a:lnTo>
                    <a:pt x="157" y="7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265840" y="1568160"/>
              <a:ext cx="75960" cy="67680"/>
            </a:xfrm>
            <a:custGeom>
              <a:avLst/>
              <a:gdLst/>
              <a:ahLst/>
              <a:rect l="l" t="t" r="r" b="b"/>
              <a:pathLst>
                <a:path w="211" h="190">
                  <a:moveTo>
                    <a:pt x="89" y="153"/>
                  </a:moveTo>
                  <a:lnTo>
                    <a:pt x="97" y="150"/>
                  </a:lnTo>
                  <a:lnTo>
                    <a:pt x="77" y="160"/>
                  </a:lnTo>
                  <a:lnTo>
                    <a:pt x="45" y="163"/>
                  </a:lnTo>
                  <a:lnTo>
                    <a:pt x="25" y="174"/>
                  </a:lnTo>
                  <a:lnTo>
                    <a:pt x="0" y="185"/>
                  </a:lnTo>
                  <a:lnTo>
                    <a:pt x="16" y="189"/>
                  </a:lnTo>
                  <a:lnTo>
                    <a:pt x="20" y="182"/>
                  </a:lnTo>
                  <a:lnTo>
                    <a:pt x="61" y="182"/>
                  </a:lnTo>
                  <a:lnTo>
                    <a:pt x="64" y="172"/>
                  </a:lnTo>
                  <a:lnTo>
                    <a:pt x="93" y="177"/>
                  </a:lnTo>
                  <a:lnTo>
                    <a:pt x="105" y="172"/>
                  </a:lnTo>
                  <a:lnTo>
                    <a:pt x="121" y="167"/>
                  </a:lnTo>
                  <a:lnTo>
                    <a:pt x="169" y="172"/>
                  </a:lnTo>
                  <a:lnTo>
                    <a:pt x="198" y="163"/>
                  </a:lnTo>
                  <a:lnTo>
                    <a:pt x="202" y="158"/>
                  </a:lnTo>
                  <a:lnTo>
                    <a:pt x="174" y="155"/>
                  </a:lnTo>
                  <a:lnTo>
                    <a:pt x="186" y="153"/>
                  </a:lnTo>
                  <a:lnTo>
                    <a:pt x="198" y="148"/>
                  </a:lnTo>
                  <a:lnTo>
                    <a:pt x="210" y="133"/>
                  </a:lnTo>
                  <a:lnTo>
                    <a:pt x="202" y="125"/>
                  </a:lnTo>
                  <a:lnTo>
                    <a:pt x="178" y="123"/>
                  </a:lnTo>
                  <a:lnTo>
                    <a:pt x="162" y="125"/>
                  </a:lnTo>
                  <a:lnTo>
                    <a:pt x="169" y="118"/>
                  </a:lnTo>
                  <a:lnTo>
                    <a:pt x="162" y="111"/>
                  </a:lnTo>
                  <a:lnTo>
                    <a:pt x="165" y="111"/>
                  </a:lnTo>
                  <a:lnTo>
                    <a:pt x="162" y="106"/>
                  </a:lnTo>
                  <a:lnTo>
                    <a:pt x="149" y="91"/>
                  </a:lnTo>
                  <a:lnTo>
                    <a:pt x="129" y="88"/>
                  </a:lnTo>
                  <a:lnTo>
                    <a:pt x="109" y="62"/>
                  </a:lnTo>
                  <a:lnTo>
                    <a:pt x="109" y="59"/>
                  </a:lnTo>
                  <a:lnTo>
                    <a:pt x="68" y="57"/>
                  </a:lnTo>
                  <a:lnTo>
                    <a:pt x="97" y="51"/>
                  </a:lnTo>
                  <a:lnTo>
                    <a:pt x="77" y="50"/>
                  </a:lnTo>
                  <a:lnTo>
                    <a:pt x="97" y="44"/>
                  </a:lnTo>
                  <a:lnTo>
                    <a:pt x="118" y="22"/>
                  </a:lnTo>
                  <a:lnTo>
                    <a:pt x="80" y="20"/>
                  </a:lnTo>
                  <a:lnTo>
                    <a:pt x="56" y="24"/>
                  </a:lnTo>
                  <a:lnTo>
                    <a:pt x="68" y="17"/>
                  </a:lnTo>
                  <a:lnTo>
                    <a:pt x="89" y="0"/>
                  </a:lnTo>
                  <a:lnTo>
                    <a:pt x="48" y="5"/>
                  </a:lnTo>
                  <a:lnTo>
                    <a:pt x="45" y="0"/>
                  </a:lnTo>
                  <a:lnTo>
                    <a:pt x="45" y="10"/>
                  </a:lnTo>
                  <a:lnTo>
                    <a:pt x="28" y="13"/>
                  </a:lnTo>
                  <a:lnTo>
                    <a:pt x="37" y="17"/>
                  </a:lnTo>
                  <a:lnTo>
                    <a:pt x="20" y="17"/>
                  </a:lnTo>
                  <a:lnTo>
                    <a:pt x="28" y="24"/>
                  </a:lnTo>
                  <a:lnTo>
                    <a:pt x="28" y="27"/>
                  </a:lnTo>
                  <a:lnTo>
                    <a:pt x="28" y="34"/>
                  </a:lnTo>
                  <a:lnTo>
                    <a:pt x="8" y="42"/>
                  </a:lnTo>
                  <a:lnTo>
                    <a:pt x="25" y="42"/>
                  </a:lnTo>
                  <a:lnTo>
                    <a:pt x="12" y="44"/>
                  </a:lnTo>
                  <a:lnTo>
                    <a:pt x="20" y="47"/>
                  </a:lnTo>
                  <a:lnTo>
                    <a:pt x="37" y="42"/>
                  </a:lnTo>
                  <a:lnTo>
                    <a:pt x="12" y="71"/>
                  </a:lnTo>
                  <a:lnTo>
                    <a:pt x="37" y="51"/>
                  </a:lnTo>
                  <a:lnTo>
                    <a:pt x="25" y="59"/>
                  </a:lnTo>
                  <a:lnTo>
                    <a:pt x="37" y="59"/>
                  </a:lnTo>
                  <a:lnTo>
                    <a:pt x="37" y="54"/>
                  </a:lnTo>
                  <a:lnTo>
                    <a:pt x="48" y="59"/>
                  </a:lnTo>
                  <a:lnTo>
                    <a:pt x="37" y="59"/>
                  </a:lnTo>
                  <a:lnTo>
                    <a:pt x="45" y="69"/>
                  </a:lnTo>
                  <a:lnTo>
                    <a:pt x="28" y="81"/>
                  </a:lnTo>
                  <a:lnTo>
                    <a:pt x="37" y="86"/>
                  </a:lnTo>
                  <a:lnTo>
                    <a:pt x="37" y="81"/>
                  </a:lnTo>
                  <a:lnTo>
                    <a:pt x="48" y="86"/>
                  </a:lnTo>
                  <a:lnTo>
                    <a:pt x="48" y="81"/>
                  </a:lnTo>
                  <a:lnTo>
                    <a:pt x="61" y="84"/>
                  </a:lnTo>
                  <a:lnTo>
                    <a:pt x="80" y="79"/>
                  </a:lnTo>
                  <a:lnTo>
                    <a:pt x="85" y="79"/>
                  </a:lnTo>
                  <a:lnTo>
                    <a:pt x="68" y="88"/>
                  </a:lnTo>
                  <a:lnTo>
                    <a:pt x="89" y="96"/>
                  </a:lnTo>
                  <a:lnTo>
                    <a:pt x="80" y="111"/>
                  </a:lnTo>
                  <a:lnTo>
                    <a:pt x="89" y="116"/>
                  </a:lnTo>
                  <a:lnTo>
                    <a:pt x="77" y="113"/>
                  </a:lnTo>
                  <a:lnTo>
                    <a:pt x="80" y="116"/>
                  </a:lnTo>
                  <a:lnTo>
                    <a:pt x="56" y="116"/>
                  </a:lnTo>
                  <a:lnTo>
                    <a:pt x="37" y="125"/>
                  </a:lnTo>
                  <a:lnTo>
                    <a:pt x="48" y="123"/>
                  </a:lnTo>
                  <a:lnTo>
                    <a:pt x="56" y="133"/>
                  </a:lnTo>
                  <a:lnTo>
                    <a:pt x="16" y="148"/>
                  </a:lnTo>
                  <a:lnTo>
                    <a:pt x="45" y="150"/>
                  </a:lnTo>
                  <a:lnTo>
                    <a:pt x="73" y="158"/>
                  </a:lnTo>
                  <a:lnTo>
                    <a:pt x="89" y="15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243520" y="2196000"/>
              <a:ext cx="1440" cy="10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18240" y="2127960"/>
              <a:ext cx="108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855960" y="2421360"/>
              <a:ext cx="15480" cy="288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1" y="0"/>
                  </a:moveTo>
                  <a:lnTo>
                    <a:pt x="45" y="9"/>
                  </a:lnTo>
                  <a:lnTo>
                    <a:pt x="0" y="9"/>
                  </a:lnTo>
                  <a:lnTo>
                    <a:pt x="12" y="2"/>
                  </a:lnTo>
                  <a:lnTo>
                    <a:pt x="4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097440" y="1724760"/>
              <a:ext cx="588600" cy="258480"/>
            </a:xfrm>
            <a:custGeom>
              <a:avLst/>
              <a:gdLst/>
              <a:ahLst/>
              <a:rect l="l" t="t" r="r" b="b"/>
              <a:pathLst>
                <a:path w="1636" h="719">
                  <a:moveTo>
                    <a:pt x="1112" y="356"/>
                  </a:moveTo>
                  <a:lnTo>
                    <a:pt x="1118" y="364"/>
                  </a:lnTo>
                  <a:lnTo>
                    <a:pt x="1110" y="359"/>
                  </a:lnTo>
                  <a:lnTo>
                    <a:pt x="1106" y="366"/>
                  </a:lnTo>
                  <a:lnTo>
                    <a:pt x="1098" y="356"/>
                  </a:lnTo>
                  <a:lnTo>
                    <a:pt x="1094" y="349"/>
                  </a:lnTo>
                  <a:lnTo>
                    <a:pt x="1102" y="366"/>
                  </a:lnTo>
                  <a:lnTo>
                    <a:pt x="1094" y="356"/>
                  </a:lnTo>
                  <a:lnTo>
                    <a:pt x="1086" y="359"/>
                  </a:lnTo>
                  <a:lnTo>
                    <a:pt x="1090" y="366"/>
                  </a:lnTo>
                  <a:lnTo>
                    <a:pt x="1061" y="344"/>
                  </a:lnTo>
                  <a:lnTo>
                    <a:pt x="1078" y="351"/>
                  </a:lnTo>
                  <a:lnTo>
                    <a:pt x="1050" y="371"/>
                  </a:lnTo>
                  <a:lnTo>
                    <a:pt x="1065" y="388"/>
                  </a:lnTo>
                  <a:lnTo>
                    <a:pt x="1054" y="408"/>
                  </a:lnTo>
                  <a:lnTo>
                    <a:pt x="1042" y="402"/>
                  </a:lnTo>
                  <a:lnTo>
                    <a:pt x="1050" y="410"/>
                  </a:lnTo>
                  <a:lnTo>
                    <a:pt x="1025" y="415"/>
                  </a:lnTo>
                  <a:lnTo>
                    <a:pt x="1017" y="415"/>
                  </a:lnTo>
                  <a:lnTo>
                    <a:pt x="1029" y="415"/>
                  </a:lnTo>
                  <a:lnTo>
                    <a:pt x="1009" y="430"/>
                  </a:lnTo>
                  <a:lnTo>
                    <a:pt x="997" y="452"/>
                  </a:lnTo>
                  <a:lnTo>
                    <a:pt x="953" y="487"/>
                  </a:lnTo>
                  <a:lnTo>
                    <a:pt x="957" y="499"/>
                  </a:lnTo>
                  <a:lnTo>
                    <a:pt x="925" y="504"/>
                  </a:lnTo>
                  <a:lnTo>
                    <a:pt x="920" y="518"/>
                  </a:lnTo>
                  <a:lnTo>
                    <a:pt x="912" y="514"/>
                  </a:lnTo>
                  <a:lnTo>
                    <a:pt x="912" y="521"/>
                  </a:lnTo>
                  <a:lnTo>
                    <a:pt x="908" y="516"/>
                  </a:lnTo>
                  <a:lnTo>
                    <a:pt x="896" y="521"/>
                  </a:lnTo>
                  <a:lnTo>
                    <a:pt x="904" y="560"/>
                  </a:lnTo>
                  <a:lnTo>
                    <a:pt x="920" y="580"/>
                  </a:lnTo>
                  <a:lnTo>
                    <a:pt x="908" y="575"/>
                  </a:lnTo>
                  <a:lnTo>
                    <a:pt x="925" y="583"/>
                  </a:lnTo>
                  <a:lnTo>
                    <a:pt x="916" y="634"/>
                  </a:lnTo>
                  <a:lnTo>
                    <a:pt x="925" y="637"/>
                  </a:lnTo>
                  <a:lnTo>
                    <a:pt x="932" y="661"/>
                  </a:lnTo>
                  <a:lnTo>
                    <a:pt x="912" y="661"/>
                  </a:lnTo>
                  <a:lnTo>
                    <a:pt x="904" y="681"/>
                  </a:lnTo>
                  <a:lnTo>
                    <a:pt x="925" y="690"/>
                  </a:lnTo>
                  <a:lnTo>
                    <a:pt x="888" y="690"/>
                  </a:lnTo>
                  <a:lnTo>
                    <a:pt x="880" y="710"/>
                  </a:lnTo>
                  <a:lnTo>
                    <a:pt x="860" y="718"/>
                  </a:lnTo>
                  <a:lnTo>
                    <a:pt x="836" y="710"/>
                  </a:lnTo>
                  <a:lnTo>
                    <a:pt x="819" y="696"/>
                  </a:lnTo>
                  <a:lnTo>
                    <a:pt x="800" y="671"/>
                  </a:lnTo>
                  <a:lnTo>
                    <a:pt x="800" y="664"/>
                  </a:lnTo>
                  <a:lnTo>
                    <a:pt x="746" y="620"/>
                  </a:lnTo>
                  <a:lnTo>
                    <a:pt x="694" y="555"/>
                  </a:lnTo>
                  <a:lnTo>
                    <a:pt x="630" y="504"/>
                  </a:lnTo>
                  <a:lnTo>
                    <a:pt x="589" y="452"/>
                  </a:lnTo>
                  <a:lnTo>
                    <a:pt x="593" y="442"/>
                  </a:lnTo>
                  <a:lnTo>
                    <a:pt x="585" y="437"/>
                  </a:lnTo>
                  <a:lnTo>
                    <a:pt x="581" y="445"/>
                  </a:lnTo>
                  <a:lnTo>
                    <a:pt x="581" y="437"/>
                  </a:lnTo>
                  <a:lnTo>
                    <a:pt x="589" y="437"/>
                  </a:lnTo>
                  <a:lnTo>
                    <a:pt x="566" y="423"/>
                  </a:lnTo>
                  <a:lnTo>
                    <a:pt x="566" y="398"/>
                  </a:lnTo>
                  <a:lnTo>
                    <a:pt x="541" y="383"/>
                  </a:lnTo>
                  <a:lnTo>
                    <a:pt x="557" y="373"/>
                  </a:lnTo>
                  <a:lnTo>
                    <a:pt x="537" y="376"/>
                  </a:lnTo>
                  <a:lnTo>
                    <a:pt x="541" y="368"/>
                  </a:lnTo>
                  <a:lnTo>
                    <a:pt x="533" y="368"/>
                  </a:lnTo>
                  <a:lnTo>
                    <a:pt x="541" y="361"/>
                  </a:lnTo>
                  <a:lnTo>
                    <a:pt x="512" y="361"/>
                  </a:lnTo>
                  <a:lnTo>
                    <a:pt x="516" y="371"/>
                  </a:lnTo>
                  <a:lnTo>
                    <a:pt x="529" y="379"/>
                  </a:lnTo>
                  <a:lnTo>
                    <a:pt x="529" y="388"/>
                  </a:lnTo>
                  <a:lnTo>
                    <a:pt x="485" y="401"/>
                  </a:lnTo>
                  <a:lnTo>
                    <a:pt x="400" y="364"/>
                  </a:lnTo>
                  <a:lnTo>
                    <a:pt x="412" y="364"/>
                  </a:lnTo>
                  <a:lnTo>
                    <a:pt x="440" y="356"/>
                  </a:lnTo>
                  <a:lnTo>
                    <a:pt x="443" y="342"/>
                  </a:lnTo>
                  <a:lnTo>
                    <a:pt x="404" y="349"/>
                  </a:lnTo>
                  <a:lnTo>
                    <a:pt x="363" y="334"/>
                  </a:lnTo>
                  <a:lnTo>
                    <a:pt x="371" y="324"/>
                  </a:lnTo>
                  <a:lnTo>
                    <a:pt x="355" y="332"/>
                  </a:lnTo>
                  <a:lnTo>
                    <a:pt x="351" y="327"/>
                  </a:lnTo>
                  <a:lnTo>
                    <a:pt x="351" y="329"/>
                  </a:lnTo>
                  <a:lnTo>
                    <a:pt x="344" y="324"/>
                  </a:lnTo>
                  <a:lnTo>
                    <a:pt x="339" y="324"/>
                  </a:lnTo>
                  <a:lnTo>
                    <a:pt x="339" y="324"/>
                  </a:lnTo>
                  <a:lnTo>
                    <a:pt x="331" y="324"/>
                  </a:lnTo>
                  <a:lnTo>
                    <a:pt x="331" y="324"/>
                  </a:lnTo>
                  <a:lnTo>
                    <a:pt x="323" y="324"/>
                  </a:lnTo>
                  <a:lnTo>
                    <a:pt x="323" y="322"/>
                  </a:lnTo>
                  <a:lnTo>
                    <a:pt x="323" y="322"/>
                  </a:lnTo>
                  <a:lnTo>
                    <a:pt x="303" y="304"/>
                  </a:lnTo>
                  <a:lnTo>
                    <a:pt x="282" y="302"/>
                  </a:lnTo>
                  <a:lnTo>
                    <a:pt x="279" y="295"/>
                  </a:lnTo>
                  <a:lnTo>
                    <a:pt x="259" y="283"/>
                  </a:lnTo>
                  <a:lnTo>
                    <a:pt x="250" y="287"/>
                  </a:lnTo>
                  <a:lnTo>
                    <a:pt x="266" y="287"/>
                  </a:lnTo>
                  <a:lnTo>
                    <a:pt x="206" y="295"/>
                  </a:lnTo>
                  <a:lnTo>
                    <a:pt x="182" y="290"/>
                  </a:lnTo>
                  <a:lnTo>
                    <a:pt x="166" y="297"/>
                  </a:lnTo>
                  <a:lnTo>
                    <a:pt x="97" y="297"/>
                  </a:lnTo>
                  <a:lnTo>
                    <a:pt x="93" y="270"/>
                  </a:lnTo>
                  <a:lnTo>
                    <a:pt x="133" y="260"/>
                  </a:lnTo>
                  <a:lnTo>
                    <a:pt x="129" y="248"/>
                  </a:lnTo>
                  <a:lnTo>
                    <a:pt x="108" y="246"/>
                  </a:lnTo>
                  <a:lnTo>
                    <a:pt x="93" y="221"/>
                  </a:lnTo>
                  <a:lnTo>
                    <a:pt x="57" y="216"/>
                  </a:lnTo>
                  <a:lnTo>
                    <a:pt x="21" y="196"/>
                  </a:lnTo>
                  <a:lnTo>
                    <a:pt x="0" y="184"/>
                  </a:lnTo>
                  <a:lnTo>
                    <a:pt x="9" y="187"/>
                  </a:lnTo>
                  <a:lnTo>
                    <a:pt x="32" y="189"/>
                  </a:lnTo>
                  <a:lnTo>
                    <a:pt x="36" y="192"/>
                  </a:lnTo>
                  <a:lnTo>
                    <a:pt x="57" y="194"/>
                  </a:lnTo>
                  <a:lnTo>
                    <a:pt x="60" y="194"/>
                  </a:lnTo>
                  <a:lnTo>
                    <a:pt x="77" y="194"/>
                  </a:lnTo>
                  <a:lnTo>
                    <a:pt x="89" y="192"/>
                  </a:lnTo>
                  <a:lnTo>
                    <a:pt x="101" y="192"/>
                  </a:lnTo>
                  <a:lnTo>
                    <a:pt x="117" y="194"/>
                  </a:lnTo>
                  <a:lnTo>
                    <a:pt x="120" y="189"/>
                  </a:lnTo>
                  <a:lnTo>
                    <a:pt x="146" y="189"/>
                  </a:lnTo>
                  <a:lnTo>
                    <a:pt x="146" y="189"/>
                  </a:lnTo>
                  <a:lnTo>
                    <a:pt x="166" y="184"/>
                  </a:lnTo>
                  <a:lnTo>
                    <a:pt x="182" y="179"/>
                  </a:lnTo>
                  <a:lnTo>
                    <a:pt x="166" y="155"/>
                  </a:lnTo>
                  <a:lnTo>
                    <a:pt x="174" y="147"/>
                  </a:lnTo>
                  <a:lnTo>
                    <a:pt x="206" y="142"/>
                  </a:lnTo>
                  <a:lnTo>
                    <a:pt x="193" y="138"/>
                  </a:lnTo>
                  <a:lnTo>
                    <a:pt x="209" y="130"/>
                  </a:lnTo>
                  <a:lnTo>
                    <a:pt x="234" y="135"/>
                  </a:lnTo>
                  <a:lnTo>
                    <a:pt x="247" y="127"/>
                  </a:lnTo>
                  <a:lnTo>
                    <a:pt x="226" y="101"/>
                  </a:lnTo>
                  <a:lnTo>
                    <a:pt x="247" y="93"/>
                  </a:lnTo>
                  <a:lnTo>
                    <a:pt x="218" y="76"/>
                  </a:lnTo>
                  <a:lnTo>
                    <a:pt x="254" y="73"/>
                  </a:lnTo>
                  <a:lnTo>
                    <a:pt x="242" y="61"/>
                  </a:lnTo>
                  <a:lnTo>
                    <a:pt x="250" y="46"/>
                  </a:lnTo>
                  <a:lnTo>
                    <a:pt x="214" y="26"/>
                  </a:lnTo>
                  <a:lnTo>
                    <a:pt x="218" y="17"/>
                  </a:lnTo>
                  <a:lnTo>
                    <a:pt x="238" y="7"/>
                  </a:lnTo>
                  <a:lnTo>
                    <a:pt x="295" y="0"/>
                  </a:lnTo>
                  <a:lnTo>
                    <a:pt x="344" y="7"/>
                  </a:lnTo>
                  <a:lnTo>
                    <a:pt x="375" y="26"/>
                  </a:lnTo>
                  <a:lnTo>
                    <a:pt x="436" y="32"/>
                  </a:lnTo>
                  <a:lnTo>
                    <a:pt x="472" y="19"/>
                  </a:lnTo>
                  <a:lnTo>
                    <a:pt x="508" y="32"/>
                  </a:lnTo>
                  <a:lnTo>
                    <a:pt x="516" y="29"/>
                  </a:lnTo>
                  <a:lnTo>
                    <a:pt x="521" y="39"/>
                  </a:lnTo>
                  <a:lnTo>
                    <a:pt x="516" y="57"/>
                  </a:lnTo>
                  <a:lnTo>
                    <a:pt x="524" y="66"/>
                  </a:lnTo>
                  <a:lnTo>
                    <a:pt x="508" y="68"/>
                  </a:lnTo>
                  <a:lnTo>
                    <a:pt x="524" y="81"/>
                  </a:lnTo>
                  <a:lnTo>
                    <a:pt x="545" y="86"/>
                  </a:lnTo>
                  <a:lnTo>
                    <a:pt x="561" y="98"/>
                  </a:lnTo>
                  <a:lnTo>
                    <a:pt x="553" y="106"/>
                  </a:lnTo>
                  <a:lnTo>
                    <a:pt x="537" y="101"/>
                  </a:lnTo>
                  <a:lnTo>
                    <a:pt x="529" y="103"/>
                  </a:lnTo>
                  <a:lnTo>
                    <a:pt x="553" y="115"/>
                  </a:lnTo>
                  <a:lnTo>
                    <a:pt x="569" y="132"/>
                  </a:lnTo>
                  <a:lnTo>
                    <a:pt x="585" y="132"/>
                  </a:lnTo>
                  <a:lnTo>
                    <a:pt x="670" y="157"/>
                  </a:lnTo>
                  <a:lnTo>
                    <a:pt x="658" y="169"/>
                  </a:lnTo>
                  <a:lnTo>
                    <a:pt x="670" y="192"/>
                  </a:lnTo>
                  <a:lnTo>
                    <a:pt x="751" y="213"/>
                  </a:lnTo>
                  <a:lnTo>
                    <a:pt x="787" y="221"/>
                  </a:lnTo>
                  <a:lnTo>
                    <a:pt x="831" y="221"/>
                  </a:lnTo>
                  <a:lnTo>
                    <a:pt x="860" y="231"/>
                  </a:lnTo>
                  <a:lnTo>
                    <a:pt x="884" y="238"/>
                  </a:lnTo>
                  <a:lnTo>
                    <a:pt x="944" y="243"/>
                  </a:lnTo>
                  <a:lnTo>
                    <a:pt x="953" y="241"/>
                  </a:lnTo>
                  <a:lnTo>
                    <a:pt x="965" y="246"/>
                  </a:lnTo>
                  <a:lnTo>
                    <a:pt x="988" y="243"/>
                  </a:lnTo>
                  <a:lnTo>
                    <a:pt x="957" y="207"/>
                  </a:lnTo>
                  <a:lnTo>
                    <a:pt x="969" y="199"/>
                  </a:lnTo>
                  <a:lnTo>
                    <a:pt x="980" y="207"/>
                  </a:lnTo>
                  <a:lnTo>
                    <a:pt x="997" y="218"/>
                  </a:lnTo>
                  <a:lnTo>
                    <a:pt x="1005" y="229"/>
                  </a:lnTo>
                  <a:lnTo>
                    <a:pt x="1042" y="233"/>
                  </a:lnTo>
                  <a:lnTo>
                    <a:pt x="1054" y="229"/>
                  </a:lnTo>
                  <a:lnTo>
                    <a:pt x="1106" y="229"/>
                  </a:lnTo>
                  <a:lnTo>
                    <a:pt x="1102" y="216"/>
                  </a:lnTo>
                  <a:lnTo>
                    <a:pt x="1078" y="204"/>
                  </a:lnTo>
                  <a:lnTo>
                    <a:pt x="1102" y="202"/>
                  </a:lnTo>
                  <a:lnTo>
                    <a:pt x="1106" y="182"/>
                  </a:lnTo>
                  <a:lnTo>
                    <a:pt x="1123" y="179"/>
                  </a:lnTo>
                  <a:lnTo>
                    <a:pt x="1134" y="162"/>
                  </a:lnTo>
                  <a:lnTo>
                    <a:pt x="1150" y="167"/>
                  </a:lnTo>
                  <a:lnTo>
                    <a:pt x="1150" y="164"/>
                  </a:lnTo>
                  <a:lnTo>
                    <a:pt x="1166" y="167"/>
                  </a:lnTo>
                  <a:lnTo>
                    <a:pt x="1179" y="157"/>
                  </a:lnTo>
                  <a:lnTo>
                    <a:pt x="1195" y="162"/>
                  </a:lnTo>
                  <a:lnTo>
                    <a:pt x="1195" y="169"/>
                  </a:lnTo>
                  <a:lnTo>
                    <a:pt x="1203" y="164"/>
                  </a:lnTo>
                  <a:lnTo>
                    <a:pt x="1211" y="172"/>
                  </a:lnTo>
                  <a:lnTo>
                    <a:pt x="1211" y="182"/>
                  </a:lnTo>
                  <a:lnTo>
                    <a:pt x="1251" y="187"/>
                  </a:lnTo>
                  <a:lnTo>
                    <a:pt x="1247" y="177"/>
                  </a:lnTo>
                  <a:lnTo>
                    <a:pt x="1280" y="187"/>
                  </a:lnTo>
                  <a:lnTo>
                    <a:pt x="1291" y="199"/>
                  </a:lnTo>
                  <a:lnTo>
                    <a:pt x="1299" y="202"/>
                  </a:lnTo>
                  <a:lnTo>
                    <a:pt x="1312" y="202"/>
                  </a:lnTo>
                  <a:lnTo>
                    <a:pt x="1352" y="243"/>
                  </a:lnTo>
                  <a:lnTo>
                    <a:pt x="1340" y="265"/>
                  </a:lnTo>
                  <a:lnTo>
                    <a:pt x="1348" y="283"/>
                  </a:lnTo>
                  <a:lnTo>
                    <a:pt x="1361" y="295"/>
                  </a:lnTo>
                  <a:lnTo>
                    <a:pt x="1393" y="290"/>
                  </a:lnTo>
                  <a:lnTo>
                    <a:pt x="1400" y="287"/>
                  </a:lnTo>
                  <a:lnTo>
                    <a:pt x="1400" y="290"/>
                  </a:lnTo>
                  <a:lnTo>
                    <a:pt x="1397" y="292"/>
                  </a:lnTo>
                  <a:lnTo>
                    <a:pt x="1421" y="312"/>
                  </a:lnTo>
                  <a:lnTo>
                    <a:pt x="1449" y="319"/>
                  </a:lnTo>
                  <a:lnTo>
                    <a:pt x="1453" y="339"/>
                  </a:lnTo>
                  <a:lnTo>
                    <a:pt x="1482" y="342"/>
                  </a:lnTo>
                  <a:lnTo>
                    <a:pt x="1501" y="356"/>
                  </a:lnTo>
                  <a:lnTo>
                    <a:pt x="1526" y="346"/>
                  </a:lnTo>
                  <a:lnTo>
                    <a:pt x="1530" y="351"/>
                  </a:lnTo>
                  <a:lnTo>
                    <a:pt x="1530" y="371"/>
                  </a:lnTo>
                  <a:lnTo>
                    <a:pt x="1518" y="373"/>
                  </a:lnTo>
                  <a:lnTo>
                    <a:pt x="1518" y="386"/>
                  </a:lnTo>
                  <a:lnTo>
                    <a:pt x="1498" y="386"/>
                  </a:lnTo>
                  <a:lnTo>
                    <a:pt x="1506" y="391"/>
                  </a:lnTo>
                  <a:lnTo>
                    <a:pt x="1489" y="393"/>
                  </a:lnTo>
                  <a:lnTo>
                    <a:pt x="1494" y="401"/>
                  </a:lnTo>
                  <a:lnTo>
                    <a:pt x="1461" y="401"/>
                  </a:lnTo>
                  <a:lnTo>
                    <a:pt x="1473" y="435"/>
                  </a:lnTo>
                  <a:lnTo>
                    <a:pt x="1457" y="435"/>
                  </a:lnTo>
                  <a:lnTo>
                    <a:pt x="1537" y="489"/>
                  </a:lnTo>
                  <a:lnTo>
                    <a:pt x="1550" y="489"/>
                  </a:lnTo>
                  <a:lnTo>
                    <a:pt x="1542" y="499"/>
                  </a:lnTo>
                  <a:lnTo>
                    <a:pt x="1550" y="518"/>
                  </a:lnTo>
                  <a:lnTo>
                    <a:pt x="1542" y="524"/>
                  </a:lnTo>
                  <a:lnTo>
                    <a:pt x="1591" y="555"/>
                  </a:lnTo>
                  <a:lnTo>
                    <a:pt x="1602" y="578"/>
                  </a:lnTo>
                  <a:lnTo>
                    <a:pt x="1635" y="609"/>
                  </a:lnTo>
                  <a:lnTo>
                    <a:pt x="1619" y="649"/>
                  </a:lnTo>
                  <a:lnTo>
                    <a:pt x="1615" y="659"/>
                  </a:lnTo>
                  <a:lnTo>
                    <a:pt x="1602" y="639"/>
                  </a:lnTo>
                  <a:lnTo>
                    <a:pt x="1607" y="614"/>
                  </a:lnTo>
                  <a:lnTo>
                    <a:pt x="1595" y="609"/>
                  </a:lnTo>
                  <a:lnTo>
                    <a:pt x="1599" y="607"/>
                  </a:lnTo>
                  <a:lnTo>
                    <a:pt x="1583" y="575"/>
                  </a:lnTo>
                  <a:lnTo>
                    <a:pt x="1554" y="551"/>
                  </a:lnTo>
                  <a:lnTo>
                    <a:pt x="1562" y="565"/>
                  </a:lnTo>
                  <a:lnTo>
                    <a:pt x="1530" y="531"/>
                  </a:lnTo>
                  <a:lnTo>
                    <a:pt x="1506" y="499"/>
                  </a:lnTo>
                  <a:lnTo>
                    <a:pt x="1506" y="487"/>
                  </a:lnTo>
                  <a:lnTo>
                    <a:pt x="1501" y="487"/>
                  </a:lnTo>
                  <a:lnTo>
                    <a:pt x="1494" y="489"/>
                  </a:lnTo>
                  <a:lnTo>
                    <a:pt x="1477" y="472"/>
                  </a:lnTo>
                  <a:lnTo>
                    <a:pt x="1461" y="464"/>
                  </a:lnTo>
                  <a:lnTo>
                    <a:pt x="1469" y="484"/>
                  </a:lnTo>
                  <a:lnTo>
                    <a:pt x="1457" y="489"/>
                  </a:lnTo>
                  <a:lnTo>
                    <a:pt x="1446" y="482"/>
                  </a:lnTo>
                  <a:lnTo>
                    <a:pt x="1457" y="492"/>
                  </a:lnTo>
                  <a:lnTo>
                    <a:pt x="1446" y="492"/>
                  </a:lnTo>
                  <a:lnTo>
                    <a:pt x="1441" y="496"/>
                  </a:lnTo>
                  <a:lnTo>
                    <a:pt x="1441" y="504"/>
                  </a:lnTo>
                  <a:lnTo>
                    <a:pt x="1429" y="511"/>
                  </a:lnTo>
                  <a:lnTo>
                    <a:pt x="1429" y="499"/>
                  </a:lnTo>
                  <a:lnTo>
                    <a:pt x="1425" y="508"/>
                  </a:lnTo>
                  <a:lnTo>
                    <a:pt x="1421" y="499"/>
                  </a:lnTo>
                  <a:lnTo>
                    <a:pt x="1413" y="508"/>
                  </a:lnTo>
                  <a:lnTo>
                    <a:pt x="1413" y="496"/>
                  </a:lnTo>
                  <a:lnTo>
                    <a:pt x="1405" y="506"/>
                  </a:lnTo>
                  <a:lnTo>
                    <a:pt x="1400" y="504"/>
                  </a:lnTo>
                  <a:lnTo>
                    <a:pt x="1397" y="489"/>
                  </a:lnTo>
                  <a:lnTo>
                    <a:pt x="1393" y="504"/>
                  </a:lnTo>
                  <a:lnTo>
                    <a:pt x="1381" y="462"/>
                  </a:lnTo>
                  <a:lnTo>
                    <a:pt x="1340" y="430"/>
                  </a:lnTo>
                  <a:lnTo>
                    <a:pt x="1332" y="415"/>
                  </a:lnTo>
                  <a:lnTo>
                    <a:pt x="1332" y="425"/>
                  </a:lnTo>
                  <a:lnTo>
                    <a:pt x="1324" y="425"/>
                  </a:lnTo>
                  <a:lnTo>
                    <a:pt x="1312" y="418"/>
                  </a:lnTo>
                  <a:lnTo>
                    <a:pt x="1328" y="415"/>
                  </a:lnTo>
                  <a:lnTo>
                    <a:pt x="1308" y="408"/>
                  </a:lnTo>
                  <a:lnTo>
                    <a:pt x="1312" y="402"/>
                  </a:lnTo>
                  <a:lnTo>
                    <a:pt x="1288" y="398"/>
                  </a:lnTo>
                  <a:lnTo>
                    <a:pt x="1288" y="401"/>
                  </a:lnTo>
                  <a:lnTo>
                    <a:pt x="1291" y="405"/>
                  </a:lnTo>
                  <a:lnTo>
                    <a:pt x="1276" y="386"/>
                  </a:lnTo>
                  <a:lnTo>
                    <a:pt x="1276" y="398"/>
                  </a:lnTo>
                  <a:lnTo>
                    <a:pt x="1276" y="393"/>
                  </a:lnTo>
                  <a:lnTo>
                    <a:pt x="1260" y="383"/>
                  </a:lnTo>
                  <a:lnTo>
                    <a:pt x="1267" y="393"/>
                  </a:lnTo>
                  <a:lnTo>
                    <a:pt x="1235" y="373"/>
                  </a:lnTo>
                  <a:lnTo>
                    <a:pt x="1247" y="383"/>
                  </a:lnTo>
                  <a:lnTo>
                    <a:pt x="1179" y="329"/>
                  </a:lnTo>
                  <a:lnTo>
                    <a:pt x="1166" y="337"/>
                  </a:lnTo>
                  <a:lnTo>
                    <a:pt x="1142" y="319"/>
                  </a:lnTo>
                  <a:lnTo>
                    <a:pt x="1123" y="314"/>
                  </a:lnTo>
                  <a:lnTo>
                    <a:pt x="1123" y="314"/>
                  </a:lnTo>
                  <a:lnTo>
                    <a:pt x="1138" y="319"/>
                  </a:lnTo>
                  <a:lnTo>
                    <a:pt x="1142" y="334"/>
                  </a:lnTo>
                  <a:lnTo>
                    <a:pt x="1159" y="344"/>
                  </a:lnTo>
                  <a:lnTo>
                    <a:pt x="1154" y="354"/>
                  </a:lnTo>
                  <a:lnTo>
                    <a:pt x="1146" y="356"/>
                  </a:lnTo>
                  <a:lnTo>
                    <a:pt x="1138" y="351"/>
                  </a:lnTo>
                  <a:lnTo>
                    <a:pt x="1134" y="342"/>
                  </a:lnTo>
                  <a:lnTo>
                    <a:pt x="1142" y="354"/>
                  </a:lnTo>
                  <a:lnTo>
                    <a:pt x="1134" y="361"/>
                  </a:lnTo>
                  <a:lnTo>
                    <a:pt x="1123" y="344"/>
                  </a:lnTo>
                  <a:lnTo>
                    <a:pt x="1126" y="354"/>
                  </a:lnTo>
                  <a:lnTo>
                    <a:pt x="1130" y="356"/>
                  </a:lnTo>
                  <a:lnTo>
                    <a:pt x="1126" y="361"/>
                  </a:lnTo>
                  <a:lnTo>
                    <a:pt x="1123" y="364"/>
                  </a:lnTo>
                  <a:lnTo>
                    <a:pt x="1112" y="35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246760" y="1595160"/>
              <a:ext cx="26640" cy="9000"/>
            </a:xfrm>
            <a:custGeom>
              <a:avLst/>
              <a:gdLst/>
              <a:ahLst/>
              <a:rect l="l" t="t" r="r" b="b"/>
              <a:pathLst>
                <a:path w="74" h="26">
                  <a:moveTo>
                    <a:pt x="49" y="25"/>
                  </a:moveTo>
                  <a:lnTo>
                    <a:pt x="32" y="18"/>
                  </a:lnTo>
                  <a:lnTo>
                    <a:pt x="17" y="23"/>
                  </a:lnTo>
                  <a:lnTo>
                    <a:pt x="0" y="18"/>
                  </a:lnTo>
                  <a:lnTo>
                    <a:pt x="29" y="3"/>
                  </a:lnTo>
                  <a:lnTo>
                    <a:pt x="49" y="0"/>
                  </a:lnTo>
                  <a:lnTo>
                    <a:pt x="61" y="6"/>
                  </a:lnTo>
                  <a:lnTo>
                    <a:pt x="65" y="8"/>
                  </a:lnTo>
                  <a:lnTo>
                    <a:pt x="61" y="13"/>
                  </a:lnTo>
                  <a:lnTo>
                    <a:pt x="73" y="20"/>
                  </a:lnTo>
                  <a:lnTo>
                    <a:pt x="69" y="20"/>
                  </a:lnTo>
                  <a:lnTo>
                    <a:pt x="49" y="2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283480" y="1601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1680" y="1609200"/>
              <a:ext cx="2880" cy="14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7" y="3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261160" y="1569600"/>
              <a:ext cx="9000" cy="43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4" y="0"/>
                  </a:moveTo>
                  <a:lnTo>
                    <a:pt x="24" y="0"/>
                  </a:lnTo>
                  <a:lnTo>
                    <a:pt x="16" y="10"/>
                  </a:lnTo>
                  <a:lnTo>
                    <a:pt x="0" y="12"/>
                  </a:lnTo>
                  <a:lnTo>
                    <a:pt x="4" y="5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257920" y="1576080"/>
              <a:ext cx="4320" cy="108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57920" y="1577520"/>
              <a:ext cx="1080" cy="28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57920" y="1580760"/>
              <a:ext cx="1080" cy="10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264400" y="1576080"/>
              <a:ext cx="10800" cy="432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12" y="0"/>
                  </a:moveTo>
                  <a:lnTo>
                    <a:pt x="12" y="0"/>
                  </a:lnTo>
                  <a:lnTo>
                    <a:pt x="16" y="2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9" y="10"/>
                  </a:lnTo>
                  <a:lnTo>
                    <a:pt x="20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4" y="7"/>
                  </a:lnTo>
                  <a:lnTo>
                    <a:pt x="4" y="4"/>
                  </a:lnTo>
                  <a:lnTo>
                    <a:pt x="12" y="4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267280" y="1584000"/>
              <a:ext cx="6120" cy="28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4" y="0"/>
                  </a:moveTo>
                  <a:lnTo>
                    <a:pt x="4" y="0"/>
                  </a:lnTo>
                  <a:lnTo>
                    <a:pt x="8" y="3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269080" y="1587240"/>
              <a:ext cx="2880" cy="2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4" y="5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3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264400" y="1588680"/>
              <a:ext cx="4320" cy="2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2" y="0"/>
                  </a:moveTo>
                  <a:lnTo>
                    <a:pt x="12" y="0"/>
                  </a:lnTo>
                  <a:lnTo>
                    <a:pt x="12" y="5"/>
                  </a:lnTo>
                  <a:lnTo>
                    <a:pt x="8" y="8"/>
                  </a:lnTo>
                  <a:lnTo>
                    <a:pt x="8" y="8"/>
                  </a:lnTo>
                  <a:lnTo>
                    <a:pt x="4" y="8"/>
                  </a:lnTo>
                  <a:lnTo>
                    <a:pt x="4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275560" y="1591920"/>
              <a:ext cx="2520" cy="1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7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221560" y="1593360"/>
              <a:ext cx="45360" cy="29880"/>
            </a:xfrm>
            <a:custGeom>
              <a:avLst/>
              <a:gdLst/>
              <a:ahLst/>
              <a:rect l="l" t="t" r="r" b="b"/>
              <a:pathLst>
                <a:path w="126" h="85">
                  <a:moveTo>
                    <a:pt x="101" y="5"/>
                  </a:moveTo>
                  <a:lnTo>
                    <a:pt x="108" y="2"/>
                  </a:lnTo>
                  <a:lnTo>
                    <a:pt x="96" y="0"/>
                  </a:lnTo>
                  <a:lnTo>
                    <a:pt x="94" y="5"/>
                  </a:lnTo>
                  <a:lnTo>
                    <a:pt x="89" y="8"/>
                  </a:lnTo>
                  <a:lnTo>
                    <a:pt x="94" y="5"/>
                  </a:lnTo>
                  <a:lnTo>
                    <a:pt x="72" y="5"/>
                  </a:lnTo>
                  <a:lnTo>
                    <a:pt x="56" y="15"/>
                  </a:lnTo>
                  <a:lnTo>
                    <a:pt x="77" y="15"/>
                  </a:lnTo>
                  <a:lnTo>
                    <a:pt x="65" y="25"/>
                  </a:lnTo>
                  <a:lnTo>
                    <a:pt x="32" y="22"/>
                  </a:lnTo>
                  <a:lnTo>
                    <a:pt x="20" y="27"/>
                  </a:lnTo>
                  <a:lnTo>
                    <a:pt x="36" y="33"/>
                  </a:lnTo>
                  <a:lnTo>
                    <a:pt x="16" y="42"/>
                  </a:lnTo>
                  <a:lnTo>
                    <a:pt x="48" y="45"/>
                  </a:lnTo>
                  <a:lnTo>
                    <a:pt x="20" y="59"/>
                  </a:lnTo>
                  <a:lnTo>
                    <a:pt x="52" y="57"/>
                  </a:lnTo>
                  <a:lnTo>
                    <a:pt x="24" y="67"/>
                  </a:lnTo>
                  <a:lnTo>
                    <a:pt x="0" y="69"/>
                  </a:lnTo>
                  <a:lnTo>
                    <a:pt x="20" y="69"/>
                  </a:lnTo>
                  <a:lnTo>
                    <a:pt x="4" y="74"/>
                  </a:lnTo>
                  <a:lnTo>
                    <a:pt x="24" y="74"/>
                  </a:lnTo>
                  <a:lnTo>
                    <a:pt x="9" y="82"/>
                  </a:lnTo>
                  <a:lnTo>
                    <a:pt x="28" y="79"/>
                  </a:lnTo>
                  <a:lnTo>
                    <a:pt x="24" y="82"/>
                  </a:lnTo>
                  <a:lnTo>
                    <a:pt x="16" y="84"/>
                  </a:lnTo>
                  <a:lnTo>
                    <a:pt x="52" y="82"/>
                  </a:lnTo>
                  <a:lnTo>
                    <a:pt x="113" y="69"/>
                  </a:lnTo>
                  <a:lnTo>
                    <a:pt x="125" y="52"/>
                  </a:lnTo>
                  <a:lnTo>
                    <a:pt x="121" y="27"/>
                  </a:lnTo>
                  <a:lnTo>
                    <a:pt x="104" y="20"/>
                  </a:lnTo>
                  <a:lnTo>
                    <a:pt x="89" y="25"/>
                  </a:lnTo>
                  <a:lnTo>
                    <a:pt x="72" y="20"/>
                  </a:lnTo>
                  <a:lnTo>
                    <a:pt x="101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296080" y="1639440"/>
              <a:ext cx="108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300760" y="1641240"/>
              <a:ext cx="1440" cy="10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36880" y="1988280"/>
              <a:ext cx="115560" cy="61560"/>
            </a:xfrm>
            <a:custGeom>
              <a:avLst/>
              <a:gdLst/>
              <a:ahLst/>
              <a:rect l="l" t="t" r="r" b="b"/>
              <a:pathLst>
                <a:path w="324" h="173">
                  <a:moveTo>
                    <a:pt x="182" y="59"/>
                  </a:moveTo>
                  <a:lnTo>
                    <a:pt x="193" y="76"/>
                  </a:lnTo>
                  <a:lnTo>
                    <a:pt x="185" y="74"/>
                  </a:lnTo>
                  <a:lnTo>
                    <a:pt x="177" y="62"/>
                  </a:lnTo>
                  <a:lnTo>
                    <a:pt x="177" y="59"/>
                  </a:lnTo>
                  <a:lnTo>
                    <a:pt x="177" y="74"/>
                  </a:lnTo>
                  <a:lnTo>
                    <a:pt x="169" y="83"/>
                  </a:lnTo>
                  <a:lnTo>
                    <a:pt x="149" y="69"/>
                  </a:lnTo>
                  <a:lnTo>
                    <a:pt x="117" y="108"/>
                  </a:lnTo>
                  <a:lnTo>
                    <a:pt x="101" y="113"/>
                  </a:lnTo>
                  <a:lnTo>
                    <a:pt x="85" y="116"/>
                  </a:lnTo>
                  <a:lnTo>
                    <a:pt x="81" y="116"/>
                  </a:lnTo>
                  <a:lnTo>
                    <a:pt x="64" y="123"/>
                  </a:lnTo>
                  <a:lnTo>
                    <a:pt x="64" y="130"/>
                  </a:lnTo>
                  <a:lnTo>
                    <a:pt x="56" y="130"/>
                  </a:lnTo>
                  <a:lnTo>
                    <a:pt x="60" y="135"/>
                  </a:lnTo>
                  <a:lnTo>
                    <a:pt x="52" y="148"/>
                  </a:lnTo>
                  <a:lnTo>
                    <a:pt x="60" y="150"/>
                  </a:lnTo>
                  <a:lnTo>
                    <a:pt x="48" y="152"/>
                  </a:lnTo>
                  <a:lnTo>
                    <a:pt x="64" y="157"/>
                  </a:lnTo>
                  <a:lnTo>
                    <a:pt x="36" y="155"/>
                  </a:lnTo>
                  <a:lnTo>
                    <a:pt x="25" y="145"/>
                  </a:lnTo>
                  <a:lnTo>
                    <a:pt x="12" y="150"/>
                  </a:lnTo>
                  <a:lnTo>
                    <a:pt x="0" y="138"/>
                  </a:lnTo>
                  <a:lnTo>
                    <a:pt x="3" y="152"/>
                  </a:lnTo>
                  <a:lnTo>
                    <a:pt x="36" y="172"/>
                  </a:lnTo>
                  <a:lnTo>
                    <a:pt x="81" y="167"/>
                  </a:lnTo>
                  <a:lnTo>
                    <a:pt x="101" y="152"/>
                  </a:lnTo>
                  <a:lnTo>
                    <a:pt x="141" y="162"/>
                  </a:lnTo>
                  <a:lnTo>
                    <a:pt x="174" y="155"/>
                  </a:lnTo>
                  <a:lnTo>
                    <a:pt x="185" y="138"/>
                  </a:lnTo>
                  <a:lnTo>
                    <a:pt x="182" y="133"/>
                  </a:lnTo>
                  <a:lnTo>
                    <a:pt x="197" y="125"/>
                  </a:lnTo>
                  <a:lnTo>
                    <a:pt x="189" y="116"/>
                  </a:lnTo>
                  <a:lnTo>
                    <a:pt x="205" y="108"/>
                  </a:lnTo>
                  <a:lnTo>
                    <a:pt x="201" y="86"/>
                  </a:lnTo>
                  <a:lnTo>
                    <a:pt x="209" y="74"/>
                  </a:lnTo>
                  <a:lnTo>
                    <a:pt x="270" y="79"/>
                  </a:lnTo>
                  <a:lnTo>
                    <a:pt x="270" y="71"/>
                  </a:lnTo>
                  <a:lnTo>
                    <a:pt x="286" y="79"/>
                  </a:lnTo>
                  <a:lnTo>
                    <a:pt x="303" y="74"/>
                  </a:lnTo>
                  <a:lnTo>
                    <a:pt x="286" y="59"/>
                  </a:lnTo>
                  <a:lnTo>
                    <a:pt x="319" y="54"/>
                  </a:lnTo>
                  <a:lnTo>
                    <a:pt x="323" y="47"/>
                  </a:lnTo>
                  <a:lnTo>
                    <a:pt x="290" y="32"/>
                  </a:lnTo>
                  <a:lnTo>
                    <a:pt x="274" y="37"/>
                  </a:lnTo>
                  <a:lnTo>
                    <a:pt x="274" y="27"/>
                  </a:lnTo>
                  <a:lnTo>
                    <a:pt x="258" y="32"/>
                  </a:lnTo>
                  <a:lnTo>
                    <a:pt x="262" y="14"/>
                  </a:lnTo>
                  <a:lnTo>
                    <a:pt x="246" y="10"/>
                  </a:lnTo>
                  <a:lnTo>
                    <a:pt x="238" y="0"/>
                  </a:lnTo>
                  <a:lnTo>
                    <a:pt x="230" y="12"/>
                  </a:lnTo>
                  <a:lnTo>
                    <a:pt x="225" y="0"/>
                  </a:lnTo>
                  <a:lnTo>
                    <a:pt x="201" y="42"/>
                  </a:lnTo>
                  <a:lnTo>
                    <a:pt x="189" y="47"/>
                  </a:lnTo>
                  <a:lnTo>
                    <a:pt x="197" y="54"/>
                  </a:lnTo>
                  <a:lnTo>
                    <a:pt x="182" y="5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706920" y="1993320"/>
              <a:ext cx="61560" cy="53640"/>
            </a:xfrm>
            <a:custGeom>
              <a:avLst/>
              <a:gdLst/>
              <a:ahLst/>
              <a:rect l="l" t="t" r="r" b="b"/>
              <a:pathLst>
                <a:path w="171" h="149">
                  <a:moveTo>
                    <a:pt x="0" y="11"/>
                  </a:moveTo>
                  <a:lnTo>
                    <a:pt x="4" y="0"/>
                  </a:lnTo>
                  <a:lnTo>
                    <a:pt x="41" y="13"/>
                  </a:lnTo>
                  <a:lnTo>
                    <a:pt x="45" y="30"/>
                  </a:lnTo>
                  <a:lnTo>
                    <a:pt x="57" y="23"/>
                  </a:lnTo>
                  <a:lnTo>
                    <a:pt x="70" y="28"/>
                  </a:lnTo>
                  <a:lnTo>
                    <a:pt x="73" y="13"/>
                  </a:lnTo>
                  <a:lnTo>
                    <a:pt x="129" y="52"/>
                  </a:lnTo>
                  <a:lnTo>
                    <a:pt x="138" y="102"/>
                  </a:lnTo>
                  <a:lnTo>
                    <a:pt x="170" y="143"/>
                  </a:lnTo>
                  <a:lnTo>
                    <a:pt x="165" y="143"/>
                  </a:lnTo>
                  <a:lnTo>
                    <a:pt x="158" y="136"/>
                  </a:lnTo>
                  <a:lnTo>
                    <a:pt x="162" y="143"/>
                  </a:lnTo>
                  <a:lnTo>
                    <a:pt x="142" y="148"/>
                  </a:lnTo>
                  <a:lnTo>
                    <a:pt x="61" y="106"/>
                  </a:lnTo>
                  <a:lnTo>
                    <a:pt x="61" y="94"/>
                  </a:lnTo>
                  <a:lnTo>
                    <a:pt x="41" y="75"/>
                  </a:lnTo>
                  <a:lnTo>
                    <a:pt x="28" y="65"/>
                  </a:lnTo>
                  <a:lnTo>
                    <a:pt x="33" y="57"/>
                  </a:lnTo>
                  <a:lnTo>
                    <a:pt x="0" y="1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900240" y="2009160"/>
              <a:ext cx="6120" cy="57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3"/>
                  </a:moveTo>
                  <a:lnTo>
                    <a:pt x="8" y="15"/>
                  </a:lnTo>
                  <a:lnTo>
                    <a:pt x="16" y="17"/>
                  </a:lnTo>
                  <a:lnTo>
                    <a:pt x="5" y="0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889080" y="2009160"/>
              <a:ext cx="12600" cy="900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28" y="3"/>
                  </a:moveTo>
                  <a:lnTo>
                    <a:pt x="28" y="18"/>
                  </a:lnTo>
                  <a:lnTo>
                    <a:pt x="20" y="27"/>
                  </a:lnTo>
                  <a:lnTo>
                    <a:pt x="0" y="13"/>
                  </a:lnTo>
                  <a:lnTo>
                    <a:pt x="33" y="0"/>
                  </a:lnTo>
                  <a:lnTo>
                    <a:pt x="28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68480" y="2047320"/>
              <a:ext cx="6120" cy="25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6" y="2"/>
                  </a:moveTo>
                  <a:lnTo>
                    <a:pt x="16" y="2"/>
                  </a:lnTo>
                  <a:lnTo>
                    <a:pt x="12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16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198680" y="2113920"/>
              <a:ext cx="107640" cy="6156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42" y="103"/>
                  </a:moveTo>
                  <a:lnTo>
                    <a:pt x="242" y="123"/>
                  </a:lnTo>
                  <a:lnTo>
                    <a:pt x="267" y="123"/>
                  </a:lnTo>
                  <a:lnTo>
                    <a:pt x="258" y="136"/>
                  </a:lnTo>
                  <a:lnTo>
                    <a:pt x="279" y="140"/>
                  </a:lnTo>
                  <a:lnTo>
                    <a:pt x="267" y="145"/>
                  </a:lnTo>
                  <a:lnTo>
                    <a:pt x="267" y="152"/>
                  </a:lnTo>
                  <a:lnTo>
                    <a:pt x="298" y="160"/>
                  </a:lnTo>
                  <a:lnTo>
                    <a:pt x="279" y="162"/>
                  </a:lnTo>
                  <a:lnTo>
                    <a:pt x="286" y="170"/>
                  </a:lnTo>
                  <a:lnTo>
                    <a:pt x="271" y="172"/>
                  </a:lnTo>
                  <a:lnTo>
                    <a:pt x="258" y="167"/>
                  </a:lnTo>
                  <a:lnTo>
                    <a:pt x="258" y="162"/>
                  </a:lnTo>
                  <a:lnTo>
                    <a:pt x="201" y="152"/>
                  </a:lnTo>
                  <a:lnTo>
                    <a:pt x="186" y="128"/>
                  </a:lnTo>
                  <a:lnTo>
                    <a:pt x="194" y="118"/>
                  </a:lnTo>
                  <a:lnTo>
                    <a:pt x="181" y="118"/>
                  </a:lnTo>
                  <a:lnTo>
                    <a:pt x="178" y="91"/>
                  </a:lnTo>
                  <a:lnTo>
                    <a:pt x="133" y="71"/>
                  </a:lnTo>
                  <a:lnTo>
                    <a:pt x="133" y="76"/>
                  </a:lnTo>
                  <a:lnTo>
                    <a:pt x="128" y="82"/>
                  </a:lnTo>
                  <a:lnTo>
                    <a:pt x="105" y="71"/>
                  </a:lnTo>
                  <a:lnTo>
                    <a:pt x="109" y="87"/>
                  </a:lnTo>
                  <a:lnTo>
                    <a:pt x="92" y="84"/>
                  </a:lnTo>
                  <a:lnTo>
                    <a:pt x="97" y="93"/>
                  </a:lnTo>
                  <a:lnTo>
                    <a:pt x="48" y="91"/>
                  </a:lnTo>
                  <a:lnTo>
                    <a:pt x="76" y="98"/>
                  </a:lnTo>
                  <a:lnTo>
                    <a:pt x="76" y="116"/>
                  </a:lnTo>
                  <a:lnTo>
                    <a:pt x="52" y="125"/>
                  </a:lnTo>
                  <a:lnTo>
                    <a:pt x="0" y="118"/>
                  </a:lnTo>
                  <a:lnTo>
                    <a:pt x="4" y="111"/>
                  </a:lnTo>
                  <a:lnTo>
                    <a:pt x="12" y="96"/>
                  </a:lnTo>
                  <a:lnTo>
                    <a:pt x="17" y="82"/>
                  </a:lnTo>
                  <a:lnTo>
                    <a:pt x="20" y="67"/>
                  </a:lnTo>
                  <a:lnTo>
                    <a:pt x="28" y="52"/>
                  </a:lnTo>
                  <a:lnTo>
                    <a:pt x="33" y="35"/>
                  </a:lnTo>
                  <a:lnTo>
                    <a:pt x="33" y="27"/>
                  </a:lnTo>
                  <a:lnTo>
                    <a:pt x="36" y="12"/>
                  </a:lnTo>
                  <a:lnTo>
                    <a:pt x="40" y="0"/>
                  </a:lnTo>
                  <a:lnTo>
                    <a:pt x="242" y="10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8320" y="2851200"/>
              <a:ext cx="169560" cy="52200"/>
            </a:xfrm>
            <a:custGeom>
              <a:avLst/>
              <a:gdLst/>
              <a:ahLst/>
              <a:rect l="l" t="t" r="r" b="b"/>
              <a:pathLst>
                <a:path w="473" h="145">
                  <a:moveTo>
                    <a:pt x="0" y="0"/>
                  </a:moveTo>
                  <a:lnTo>
                    <a:pt x="472" y="0"/>
                  </a:lnTo>
                  <a:lnTo>
                    <a:pt x="472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8320" y="1626840"/>
              <a:ext cx="4384440" cy="1430640"/>
            </a:xfrm>
            <a:custGeom>
              <a:avLst/>
              <a:gdLst/>
              <a:ahLst/>
              <a:rect l="l" t="t" r="r" b="b"/>
              <a:pathLst>
                <a:path w="12184" h="3979">
                  <a:moveTo>
                    <a:pt x="6075" y="1003"/>
                  </a:moveTo>
                  <a:lnTo>
                    <a:pt x="6067" y="1017"/>
                  </a:lnTo>
                  <a:lnTo>
                    <a:pt x="6072" y="1023"/>
                  </a:lnTo>
                  <a:lnTo>
                    <a:pt x="6079" y="1015"/>
                  </a:lnTo>
                  <a:lnTo>
                    <a:pt x="6084" y="1017"/>
                  </a:lnTo>
                  <a:lnTo>
                    <a:pt x="6079" y="1030"/>
                  </a:lnTo>
                  <a:lnTo>
                    <a:pt x="6063" y="1020"/>
                  </a:lnTo>
                  <a:lnTo>
                    <a:pt x="6075" y="1003"/>
                  </a:lnTo>
                  <a:close/>
                  <a:moveTo>
                    <a:pt x="6863" y="1168"/>
                  </a:moveTo>
                  <a:lnTo>
                    <a:pt x="6893" y="1165"/>
                  </a:lnTo>
                  <a:lnTo>
                    <a:pt x="6919" y="1242"/>
                  </a:lnTo>
                  <a:lnTo>
                    <a:pt x="6960" y="1237"/>
                  </a:lnTo>
                  <a:lnTo>
                    <a:pt x="6939" y="1251"/>
                  </a:lnTo>
                  <a:lnTo>
                    <a:pt x="6935" y="1273"/>
                  </a:lnTo>
                  <a:lnTo>
                    <a:pt x="6939" y="1278"/>
                  </a:lnTo>
                  <a:lnTo>
                    <a:pt x="6928" y="1293"/>
                  </a:lnTo>
                  <a:lnTo>
                    <a:pt x="6875" y="1318"/>
                  </a:lnTo>
                  <a:lnTo>
                    <a:pt x="6867" y="1318"/>
                  </a:lnTo>
                  <a:lnTo>
                    <a:pt x="6867" y="1303"/>
                  </a:lnTo>
                  <a:lnTo>
                    <a:pt x="6838" y="1305"/>
                  </a:lnTo>
                  <a:lnTo>
                    <a:pt x="6826" y="1318"/>
                  </a:lnTo>
                  <a:lnTo>
                    <a:pt x="6814" y="1310"/>
                  </a:lnTo>
                  <a:lnTo>
                    <a:pt x="6802" y="1305"/>
                  </a:lnTo>
                  <a:lnTo>
                    <a:pt x="6786" y="1310"/>
                  </a:lnTo>
                  <a:lnTo>
                    <a:pt x="6769" y="1320"/>
                  </a:lnTo>
                  <a:lnTo>
                    <a:pt x="6737" y="1296"/>
                  </a:lnTo>
                  <a:lnTo>
                    <a:pt x="6681" y="1258"/>
                  </a:lnTo>
                  <a:lnTo>
                    <a:pt x="6697" y="1258"/>
                  </a:lnTo>
                  <a:lnTo>
                    <a:pt x="6677" y="1256"/>
                  </a:lnTo>
                  <a:lnTo>
                    <a:pt x="6661" y="1244"/>
                  </a:lnTo>
                  <a:lnTo>
                    <a:pt x="6672" y="1249"/>
                  </a:lnTo>
                  <a:lnTo>
                    <a:pt x="6661" y="1244"/>
                  </a:lnTo>
                  <a:lnTo>
                    <a:pt x="6653" y="1229"/>
                  </a:lnTo>
                  <a:lnTo>
                    <a:pt x="6672" y="1236"/>
                  </a:lnTo>
                  <a:lnTo>
                    <a:pt x="6665" y="1236"/>
                  </a:lnTo>
                  <a:lnTo>
                    <a:pt x="6653" y="1229"/>
                  </a:lnTo>
                  <a:lnTo>
                    <a:pt x="6641" y="1215"/>
                  </a:lnTo>
                  <a:lnTo>
                    <a:pt x="6653" y="1219"/>
                  </a:lnTo>
                  <a:lnTo>
                    <a:pt x="6665" y="1195"/>
                  </a:lnTo>
                  <a:lnTo>
                    <a:pt x="6665" y="1190"/>
                  </a:lnTo>
                  <a:lnTo>
                    <a:pt x="6685" y="1197"/>
                  </a:lnTo>
                  <a:lnTo>
                    <a:pt x="6693" y="1195"/>
                  </a:lnTo>
                  <a:lnTo>
                    <a:pt x="6665" y="1185"/>
                  </a:lnTo>
                  <a:lnTo>
                    <a:pt x="6672" y="1182"/>
                  </a:lnTo>
                  <a:lnTo>
                    <a:pt x="6677" y="1188"/>
                  </a:lnTo>
                  <a:lnTo>
                    <a:pt x="6672" y="1175"/>
                  </a:lnTo>
                  <a:lnTo>
                    <a:pt x="6685" y="1175"/>
                  </a:lnTo>
                  <a:lnTo>
                    <a:pt x="6706" y="1175"/>
                  </a:lnTo>
                  <a:lnTo>
                    <a:pt x="6726" y="1175"/>
                  </a:lnTo>
                  <a:lnTo>
                    <a:pt x="6745" y="1175"/>
                  </a:lnTo>
                  <a:lnTo>
                    <a:pt x="6818" y="1168"/>
                  </a:lnTo>
                  <a:lnTo>
                    <a:pt x="6846" y="1163"/>
                  </a:lnTo>
                  <a:lnTo>
                    <a:pt x="6863" y="1168"/>
                  </a:lnTo>
                  <a:close/>
                  <a:moveTo>
                    <a:pt x="7916" y="1736"/>
                  </a:moveTo>
                  <a:lnTo>
                    <a:pt x="7940" y="1718"/>
                  </a:lnTo>
                  <a:lnTo>
                    <a:pt x="7977" y="1689"/>
                  </a:lnTo>
                  <a:lnTo>
                    <a:pt x="7973" y="1633"/>
                  </a:lnTo>
                  <a:lnTo>
                    <a:pt x="8001" y="1598"/>
                  </a:lnTo>
                  <a:lnTo>
                    <a:pt x="8033" y="1591"/>
                  </a:lnTo>
                  <a:lnTo>
                    <a:pt x="8045" y="1595"/>
                  </a:lnTo>
                  <a:lnTo>
                    <a:pt x="8049" y="1588"/>
                  </a:lnTo>
                  <a:lnTo>
                    <a:pt x="8070" y="1586"/>
                  </a:lnTo>
                  <a:lnTo>
                    <a:pt x="8077" y="1593"/>
                  </a:lnTo>
                  <a:lnTo>
                    <a:pt x="8077" y="1583"/>
                  </a:lnTo>
                  <a:lnTo>
                    <a:pt x="8102" y="1573"/>
                  </a:lnTo>
                  <a:lnTo>
                    <a:pt x="8102" y="1583"/>
                  </a:lnTo>
                  <a:lnTo>
                    <a:pt x="8110" y="1581"/>
                  </a:lnTo>
                  <a:lnTo>
                    <a:pt x="8105" y="1573"/>
                  </a:lnTo>
                  <a:lnTo>
                    <a:pt x="8126" y="1561"/>
                  </a:lnTo>
                  <a:lnTo>
                    <a:pt x="8118" y="1571"/>
                  </a:lnTo>
                  <a:lnTo>
                    <a:pt x="8138" y="1559"/>
                  </a:lnTo>
                  <a:lnTo>
                    <a:pt x="8147" y="1564"/>
                  </a:lnTo>
                  <a:lnTo>
                    <a:pt x="8134" y="1556"/>
                  </a:lnTo>
                  <a:lnTo>
                    <a:pt x="8147" y="1546"/>
                  </a:lnTo>
                  <a:lnTo>
                    <a:pt x="8150" y="1551"/>
                  </a:lnTo>
                  <a:lnTo>
                    <a:pt x="8147" y="1534"/>
                  </a:lnTo>
                  <a:lnTo>
                    <a:pt x="8162" y="1541"/>
                  </a:lnTo>
                  <a:lnTo>
                    <a:pt x="8183" y="1529"/>
                  </a:lnTo>
                  <a:lnTo>
                    <a:pt x="8195" y="1517"/>
                  </a:lnTo>
                  <a:lnTo>
                    <a:pt x="8186" y="1507"/>
                  </a:lnTo>
                  <a:lnTo>
                    <a:pt x="8211" y="1495"/>
                  </a:lnTo>
                  <a:lnTo>
                    <a:pt x="8207" y="1502"/>
                  </a:lnTo>
                  <a:lnTo>
                    <a:pt x="8232" y="1522"/>
                  </a:lnTo>
                  <a:lnTo>
                    <a:pt x="8235" y="1578"/>
                  </a:lnTo>
                  <a:lnTo>
                    <a:pt x="8219" y="1593"/>
                  </a:lnTo>
                  <a:lnTo>
                    <a:pt x="8211" y="1581"/>
                  </a:lnTo>
                  <a:lnTo>
                    <a:pt x="8203" y="1583"/>
                  </a:lnTo>
                  <a:lnTo>
                    <a:pt x="8199" y="1615"/>
                  </a:lnTo>
                  <a:lnTo>
                    <a:pt x="8183" y="1625"/>
                  </a:lnTo>
                  <a:lnTo>
                    <a:pt x="8174" y="1647"/>
                  </a:lnTo>
                  <a:lnTo>
                    <a:pt x="8134" y="1694"/>
                  </a:lnTo>
                  <a:lnTo>
                    <a:pt x="8126" y="1699"/>
                  </a:lnTo>
                  <a:lnTo>
                    <a:pt x="8118" y="1706"/>
                  </a:lnTo>
                  <a:lnTo>
                    <a:pt x="8114" y="1711"/>
                  </a:lnTo>
                  <a:lnTo>
                    <a:pt x="8114" y="1716"/>
                  </a:lnTo>
                  <a:lnTo>
                    <a:pt x="8102" y="1730"/>
                  </a:lnTo>
                  <a:lnTo>
                    <a:pt x="8089" y="1743"/>
                  </a:lnTo>
                  <a:lnTo>
                    <a:pt x="8086" y="1743"/>
                  </a:lnTo>
                  <a:lnTo>
                    <a:pt x="8025" y="1812"/>
                  </a:lnTo>
                  <a:lnTo>
                    <a:pt x="7949" y="1826"/>
                  </a:lnTo>
                  <a:lnTo>
                    <a:pt x="7912" y="1810"/>
                  </a:lnTo>
                  <a:lnTo>
                    <a:pt x="7904" y="1795"/>
                  </a:lnTo>
                  <a:lnTo>
                    <a:pt x="7916" y="1777"/>
                  </a:lnTo>
                  <a:lnTo>
                    <a:pt x="7909" y="1758"/>
                  </a:lnTo>
                  <a:lnTo>
                    <a:pt x="7916" y="1736"/>
                  </a:lnTo>
                  <a:close/>
                  <a:moveTo>
                    <a:pt x="6584" y="317"/>
                  </a:moveTo>
                  <a:lnTo>
                    <a:pt x="6568" y="327"/>
                  </a:lnTo>
                  <a:lnTo>
                    <a:pt x="6580" y="356"/>
                  </a:lnTo>
                  <a:lnTo>
                    <a:pt x="6576" y="369"/>
                  </a:lnTo>
                  <a:lnTo>
                    <a:pt x="6552" y="388"/>
                  </a:lnTo>
                  <a:lnTo>
                    <a:pt x="6584" y="413"/>
                  </a:lnTo>
                  <a:lnTo>
                    <a:pt x="6584" y="418"/>
                  </a:lnTo>
                  <a:lnTo>
                    <a:pt x="6600" y="425"/>
                  </a:lnTo>
                  <a:lnTo>
                    <a:pt x="6613" y="435"/>
                  </a:lnTo>
                  <a:lnTo>
                    <a:pt x="6620" y="442"/>
                  </a:lnTo>
                  <a:lnTo>
                    <a:pt x="6620" y="447"/>
                  </a:lnTo>
                  <a:lnTo>
                    <a:pt x="6629" y="460"/>
                  </a:lnTo>
                  <a:lnTo>
                    <a:pt x="6633" y="472"/>
                  </a:lnTo>
                  <a:lnTo>
                    <a:pt x="6624" y="475"/>
                  </a:lnTo>
                  <a:lnTo>
                    <a:pt x="6649" y="499"/>
                  </a:lnTo>
                  <a:lnTo>
                    <a:pt x="6649" y="506"/>
                  </a:lnTo>
                  <a:lnTo>
                    <a:pt x="6649" y="519"/>
                  </a:lnTo>
                  <a:lnTo>
                    <a:pt x="6656" y="528"/>
                  </a:lnTo>
                  <a:lnTo>
                    <a:pt x="6656" y="551"/>
                  </a:lnTo>
                  <a:lnTo>
                    <a:pt x="6636" y="568"/>
                  </a:lnTo>
                  <a:lnTo>
                    <a:pt x="6653" y="577"/>
                  </a:lnTo>
                  <a:lnTo>
                    <a:pt x="6665" y="587"/>
                  </a:lnTo>
                  <a:lnTo>
                    <a:pt x="6665" y="600"/>
                  </a:lnTo>
                  <a:lnTo>
                    <a:pt x="6672" y="605"/>
                  </a:lnTo>
                  <a:lnTo>
                    <a:pt x="6701" y="607"/>
                  </a:lnTo>
                  <a:lnTo>
                    <a:pt x="6722" y="612"/>
                  </a:lnTo>
                  <a:lnTo>
                    <a:pt x="6730" y="622"/>
                  </a:lnTo>
                  <a:lnTo>
                    <a:pt x="6741" y="632"/>
                  </a:lnTo>
                  <a:lnTo>
                    <a:pt x="6730" y="634"/>
                  </a:lnTo>
                  <a:lnTo>
                    <a:pt x="6709" y="641"/>
                  </a:lnTo>
                  <a:lnTo>
                    <a:pt x="6706" y="644"/>
                  </a:lnTo>
                  <a:lnTo>
                    <a:pt x="6689" y="649"/>
                  </a:lnTo>
                  <a:lnTo>
                    <a:pt x="6672" y="656"/>
                  </a:lnTo>
                  <a:lnTo>
                    <a:pt x="6661" y="661"/>
                  </a:lnTo>
                  <a:lnTo>
                    <a:pt x="6653" y="664"/>
                  </a:lnTo>
                  <a:lnTo>
                    <a:pt x="6633" y="674"/>
                  </a:lnTo>
                  <a:lnTo>
                    <a:pt x="6620" y="678"/>
                  </a:lnTo>
                  <a:lnTo>
                    <a:pt x="6613" y="678"/>
                  </a:lnTo>
                  <a:lnTo>
                    <a:pt x="6596" y="688"/>
                  </a:lnTo>
                  <a:lnTo>
                    <a:pt x="6576" y="696"/>
                  </a:lnTo>
                  <a:lnTo>
                    <a:pt x="6573" y="696"/>
                  </a:lnTo>
                  <a:lnTo>
                    <a:pt x="6556" y="706"/>
                  </a:lnTo>
                  <a:lnTo>
                    <a:pt x="6548" y="710"/>
                  </a:lnTo>
                  <a:lnTo>
                    <a:pt x="6540" y="715"/>
                  </a:lnTo>
                  <a:lnTo>
                    <a:pt x="6523" y="725"/>
                  </a:lnTo>
                  <a:lnTo>
                    <a:pt x="6507" y="730"/>
                  </a:lnTo>
                  <a:lnTo>
                    <a:pt x="6499" y="730"/>
                  </a:lnTo>
                  <a:lnTo>
                    <a:pt x="6479" y="732"/>
                  </a:lnTo>
                  <a:lnTo>
                    <a:pt x="6455" y="735"/>
                  </a:lnTo>
                  <a:lnTo>
                    <a:pt x="6434" y="737"/>
                  </a:lnTo>
                  <a:lnTo>
                    <a:pt x="6422" y="740"/>
                  </a:lnTo>
                  <a:lnTo>
                    <a:pt x="6411" y="735"/>
                  </a:lnTo>
                  <a:lnTo>
                    <a:pt x="6414" y="720"/>
                  </a:lnTo>
                  <a:lnTo>
                    <a:pt x="6366" y="710"/>
                  </a:lnTo>
                  <a:lnTo>
                    <a:pt x="6337" y="698"/>
                  </a:lnTo>
                  <a:lnTo>
                    <a:pt x="6337" y="688"/>
                  </a:lnTo>
                  <a:lnTo>
                    <a:pt x="6330" y="686"/>
                  </a:lnTo>
                  <a:lnTo>
                    <a:pt x="6313" y="678"/>
                  </a:lnTo>
                  <a:lnTo>
                    <a:pt x="6294" y="671"/>
                  </a:lnTo>
                  <a:lnTo>
                    <a:pt x="6289" y="669"/>
                  </a:lnTo>
                  <a:lnTo>
                    <a:pt x="6285" y="669"/>
                  </a:lnTo>
                  <a:lnTo>
                    <a:pt x="6265" y="659"/>
                  </a:lnTo>
                  <a:lnTo>
                    <a:pt x="6250" y="652"/>
                  </a:lnTo>
                  <a:lnTo>
                    <a:pt x="6245" y="652"/>
                  </a:lnTo>
                  <a:lnTo>
                    <a:pt x="6229" y="644"/>
                  </a:lnTo>
                  <a:lnTo>
                    <a:pt x="6209" y="637"/>
                  </a:lnTo>
                  <a:lnTo>
                    <a:pt x="6205" y="632"/>
                  </a:lnTo>
                  <a:lnTo>
                    <a:pt x="6193" y="627"/>
                  </a:lnTo>
                  <a:lnTo>
                    <a:pt x="6173" y="619"/>
                  </a:lnTo>
                  <a:lnTo>
                    <a:pt x="6160" y="615"/>
                  </a:lnTo>
                  <a:lnTo>
                    <a:pt x="6152" y="612"/>
                  </a:lnTo>
                  <a:lnTo>
                    <a:pt x="6136" y="605"/>
                  </a:lnTo>
                  <a:lnTo>
                    <a:pt x="6115" y="597"/>
                  </a:lnTo>
                  <a:lnTo>
                    <a:pt x="6111" y="595"/>
                  </a:lnTo>
                  <a:lnTo>
                    <a:pt x="6108" y="592"/>
                  </a:lnTo>
                  <a:lnTo>
                    <a:pt x="6092" y="587"/>
                  </a:lnTo>
                  <a:lnTo>
                    <a:pt x="6075" y="580"/>
                  </a:lnTo>
                  <a:lnTo>
                    <a:pt x="6067" y="575"/>
                  </a:lnTo>
                  <a:lnTo>
                    <a:pt x="6055" y="573"/>
                  </a:lnTo>
                  <a:lnTo>
                    <a:pt x="6035" y="563"/>
                  </a:lnTo>
                  <a:lnTo>
                    <a:pt x="6023" y="558"/>
                  </a:lnTo>
                  <a:lnTo>
                    <a:pt x="6016" y="556"/>
                  </a:lnTo>
                  <a:lnTo>
                    <a:pt x="5999" y="548"/>
                  </a:lnTo>
                  <a:lnTo>
                    <a:pt x="5978" y="540"/>
                  </a:lnTo>
                  <a:lnTo>
                    <a:pt x="5978" y="533"/>
                  </a:lnTo>
                  <a:lnTo>
                    <a:pt x="5978" y="521"/>
                  </a:lnTo>
                  <a:lnTo>
                    <a:pt x="5983" y="509"/>
                  </a:lnTo>
                  <a:lnTo>
                    <a:pt x="6039" y="486"/>
                  </a:lnTo>
                  <a:lnTo>
                    <a:pt x="6063" y="482"/>
                  </a:lnTo>
                  <a:lnTo>
                    <a:pt x="6096" y="482"/>
                  </a:lnTo>
                  <a:lnTo>
                    <a:pt x="6120" y="467"/>
                  </a:lnTo>
                  <a:lnTo>
                    <a:pt x="6164" y="455"/>
                  </a:lnTo>
                  <a:lnTo>
                    <a:pt x="6160" y="437"/>
                  </a:lnTo>
                  <a:lnTo>
                    <a:pt x="6188" y="435"/>
                  </a:lnTo>
                  <a:lnTo>
                    <a:pt x="6193" y="430"/>
                  </a:lnTo>
                  <a:lnTo>
                    <a:pt x="6253" y="430"/>
                  </a:lnTo>
                  <a:lnTo>
                    <a:pt x="6257" y="420"/>
                  </a:lnTo>
                  <a:lnTo>
                    <a:pt x="6237" y="403"/>
                  </a:lnTo>
                  <a:lnTo>
                    <a:pt x="6233" y="369"/>
                  </a:lnTo>
                  <a:lnTo>
                    <a:pt x="6217" y="359"/>
                  </a:lnTo>
                  <a:lnTo>
                    <a:pt x="6265" y="344"/>
                  </a:lnTo>
                  <a:lnTo>
                    <a:pt x="6294" y="341"/>
                  </a:lnTo>
                  <a:lnTo>
                    <a:pt x="6326" y="330"/>
                  </a:lnTo>
                  <a:lnTo>
                    <a:pt x="6391" y="319"/>
                  </a:lnTo>
                  <a:lnTo>
                    <a:pt x="6455" y="317"/>
                  </a:lnTo>
                  <a:lnTo>
                    <a:pt x="6475" y="324"/>
                  </a:lnTo>
                  <a:lnTo>
                    <a:pt x="6503" y="317"/>
                  </a:lnTo>
                  <a:lnTo>
                    <a:pt x="6511" y="315"/>
                  </a:lnTo>
                  <a:lnTo>
                    <a:pt x="6584" y="317"/>
                  </a:lnTo>
                  <a:close/>
                  <a:moveTo>
                    <a:pt x="6584" y="317"/>
                  </a:moveTo>
                  <a:lnTo>
                    <a:pt x="6624" y="307"/>
                  </a:lnTo>
                  <a:lnTo>
                    <a:pt x="6636" y="310"/>
                  </a:lnTo>
                  <a:lnTo>
                    <a:pt x="6645" y="322"/>
                  </a:lnTo>
                  <a:lnTo>
                    <a:pt x="6665" y="312"/>
                  </a:lnTo>
                  <a:lnTo>
                    <a:pt x="6649" y="334"/>
                  </a:lnTo>
                  <a:lnTo>
                    <a:pt x="6672" y="356"/>
                  </a:lnTo>
                  <a:lnTo>
                    <a:pt x="6636" y="381"/>
                  </a:lnTo>
                  <a:lnTo>
                    <a:pt x="6653" y="391"/>
                  </a:lnTo>
                  <a:lnTo>
                    <a:pt x="6665" y="391"/>
                  </a:lnTo>
                  <a:lnTo>
                    <a:pt x="6677" y="393"/>
                  </a:lnTo>
                  <a:lnTo>
                    <a:pt x="6681" y="403"/>
                  </a:lnTo>
                  <a:lnTo>
                    <a:pt x="6693" y="403"/>
                  </a:lnTo>
                  <a:lnTo>
                    <a:pt x="6697" y="420"/>
                  </a:lnTo>
                  <a:lnTo>
                    <a:pt x="6656" y="437"/>
                  </a:lnTo>
                  <a:lnTo>
                    <a:pt x="6656" y="460"/>
                  </a:lnTo>
                  <a:lnTo>
                    <a:pt x="6633" y="472"/>
                  </a:lnTo>
                  <a:lnTo>
                    <a:pt x="6629" y="460"/>
                  </a:lnTo>
                  <a:lnTo>
                    <a:pt x="6620" y="447"/>
                  </a:lnTo>
                  <a:lnTo>
                    <a:pt x="6620" y="442"/>
                  </a:lnTo>
                  <a:lnTo>
                    <a:pt x="6613" y="435"/>
                  </a:lnTo>
                  <a:lnTo>
                    <a:pt x="6600" y="425"/>
                  </a:lnTo>
                  <a:lnTo>
                    <a:pt x="6584" y="418"/>
                  </a:lnTo>
                  <a:lnTo>
                    <a:pt x="6584" y="413"/>
                  </a:lnTo>
                  <a:lnTo>
                    <a:pt x="6552" y="388"/>
                  </a:lnTo>
                  <a:lnTo>
                    <a:pt x="6576" y="369"/>
                  </a:lnTo>
                  <a:lnTo>
                    <a:pt x="6580" y="356"/>
                  </a:lnTo>
                  <a:lnTo>
                    <a:pt x="6568" y="327"/>
                  </a:lnTo>
                  <a:lnTo>
                    <a:pt x="6584" y="317"/>
                  </a:lnTo>
                  <a:close/>
                  <a:moveTo>
                    <a:pt x="6232" y="368"/>
                  </a:moveTo>
                  <a:lnTo>
                    <a:pt x="6221" y="373"/>
                  </a:lnTo>
                  <a:lnTo>
                    <a:pt x="6102" y="375"/>
                  </a:lnTo>
                  <a:lnTo>
                    <a:pt x="6084" y="355"/>
                  </a:lnTo>
                  <a:lnTo>
                    <a:pt x="6079" y="361"/>
                  </a:lnTo>
                  <a:lnTo>
                    <a:pt x="6055" y="386"/>
                  </a:lnTo>
                  <a:lnTo>
                    <a:pt x="5999" y="400"/>
                  </a:lnTo>
                  <a:lnTo>
                    <a:pt x="5971" y="418"/>
                  </a:lnTo>
                  <a:lnTo>
                    <a:pt x="5946" y="445"/>
                  </a:lnTo>
                  <a:lnTo>
                    <a:pt x="5950" y="475"/>
                  </a:lnTo>
                  <a:lnTo>
                    <a:pt x="5926" y="494"/>
                  </a:lnTo>
                  <a:lnTo>
                    <a:pt x="5877" y="519"/>
                  </a:lnTo>
                  <a:lnTo>
                    <a:pt x="5825" y="526"/>
                  </a:lnTo>
                  <a:lnTo>
                    <a:pt x="5817" y="533"/>
                  </a:lnTo>
                  <a:lnTo>
                    <a:pt x="5834" y="533"/>
                  </a:lnTo>
                  <a:lnTo>
                    <a:pt x="5850" y="533"/>
                  </a:lnTo>
                  <a:lnTo>
                    <a:pt x="5870" y="533"/>
                  </a:lnTo>
                  <a:lnTo>
                    <a:pt x="5886" y="533"/>
                  </a:lnTo>
                  <a:lnTo>
                    <a:pt x="5906" y="533"/>
                  </a:lnTo>
                  <a:lnTo>
                    <a:pt x="5922" y="533"/>
                  </a:lnTo>
                  <a:lnTo>
                    <a:pt x="5942" y="533"/>
                  </a:lnTo>
                  <a:lnTo>
                    <a:pt x="5958" y="533"/>
                  </a:lnTo>
                  <a:lnTo>
                    <a:pt x="5978" y="533"/>
                  </a:lnTo>
                  <a:lnTo>
                    <a:pt x="5978" y="521"/>
                  </a:lnTo>
                  <a:lnTo>
                    <a:pt x="5983" y="509"/>
                  </a:lnTo>
                  <a:lnTo>
                    <a:pt x="6039" y="486"/>
                  </a:lnTo>
                  <a:lnTo>
                    <a:pt x="6063" y="482"/>
                  </a:lnTo>
                  <a:lnTo>
                    <a:pt x="6096" y="482"/>
                  </a:lnTo>
                  <a:lnTo>
                    <a:pt x="6120" y="467"/>
                  </a:lnTo>
                  <a:lnTo>
                    <a:pt x="6164" y="455"/>
                  </a:lnTo>
                  <a:lnTo>
                    <a:pt x="6160" y="437"/>
                  </a:lnTo>
                  <a:lnTo>
                    <a:pt x="6188" y="435"/>
                  </a:lnTo>
                  <a:lnTo>
                    <a:pt x="6193" y="430"/>
                  </a:lnTo>
                  <a:lnTo>
                    <a:pt x="6253" y="430"/>
                  </a:lnTo>
                  <a:lnTo>
                    <a:pt x="6257" y="420"/>
                  </a:lnTo>
                  <a:lnTo>
                    <a:pt x="6237" y="403"/>
                  </a:lnTo>
                  <a:lnTo>
                    <a:pt x="6232" y="368"/>
                  </a:lnTo>
                  <a:close/>
                  <a:moveTo>
                    <a:pt x="8381" y="1721"/>
                  </a:moveTo>
                  <a:lnTo>
                    <a:pt x="8377" y="1718"/>
                  </a:lnTo>
                  <a:lnTo>
                    <a:pt x="8372" y="1716"/>
                  </a:lnTo>
                  <a:lnTo>
                    <a:pt x="8365" y="1718"/>
                  </a:lnTo>
                  <a:lnTo>
                    <a:pt x="8360" y="1721"/>
                  </a:lnTo>
                  <a:lnTo>
                    <a:pt x="8360" y="1726"/>
                  </a:lnTo>
                  <a:lnTo>
                    <a:pt x="8369" y="1729"/>
                  </a:lnTo>
                  <a:lnTo>
                    <a:pt x="8377" y="1729"/>
                  </a:lnTo>
                  <a:lnTo>
                    <a:pt x="8381" y="1729"/>
                  </a:lnTo>
                  <a:lnTo>
                    <a:pt x="8381" y="1724"/>
                  </a:lnTo>
                  <a:lnTo>
                    <a:pt x="8381" y="1721"/>
                  </a:lnTo>
                  <a:close/>
                  <a:moveTo>
                    <a:pt x="7981" y="1480"/>
                  </a:moveTo>
                  <a:lnTo>
                    <a:pt x="7989" y="1492"/>
                  </a:lnTo>
                  <a:lnTo>
                    <a:pt x="7977" y="1490"/>
                  </a:lnTo>
                  <a:lnTo>
                    <a:pt x="7981" y="1480"/>
                  </a:lnTo>
                  <a:close/>
                  <a:moveTo>
                    <a:pt x="7994" y="1499"/>
                  </a:moveTo>
                  <a:lnTo>
                    <a:pt x="8001" y="1502"/>
                  </a:lnTo>
                  <a:lnTo>
                    <a:pt x="7994" y="1499"/>
                  </a:lnTo>
                  <a:close/>
                  <a:moveTo>
                    <a:pt x="8045" y="1512"/>
                  </a:moveTo>
                  <a:lnTo>
                    <a:pt x="8045" y="1514"/>
                  </a:lnTo>
                  <a:lnTo>
                    <a:pt x="8049" y="1514"/>
                  </a:lnTo>
                  <a:lnTo>
                    <a:pt x="8045" y="1512"/>
                  </a:lnTo>
                  <a:close/>
                  <a:moveTo>
                    <a:pt x="8013" y="1499"/>
                  </a:moveTo>
                  <a:lnTo>
                    <a:pt x="8017" y="1499"/>
                  </a:lnTo>
                  <a:lnTo>
                    <a:pt x="8021" y="1499"/>
                  </a:lnTo>
                  <a:lnTo>
                    <a:pt x="8025" y="1499"/>
                  </a:lnTo>
                  <a:lnTo>
                    <a:pt x="8025" y="1504"/>
                  </a:lnTo>
                  <a:lnTo>
                    <a:pt x="8013" y="1499"/>
                  </a:lnTo>
                  <a:close/>
                  <a:moveTo>
                    <a:pt x="4137" y="1141"/>
                  </a:moveTo>
                  <a:lnTo>
                    <a:pt x="4166" y="1111"/>
                  </a:lnTo>
                  <a:lnTo>
                    <a:pt x="4150" y="1079"/>
                  </a:lnTo>
                  <a:lnTo>
                    <a:pt x="4162" y="1065"/>
                  </a:lnTo>
                  <a:lnTo>
                    <a:pt x="4174" y="1055"/>
                  </a:lnTo>
                  <a:lnTo>
                    <a:pt x="4210" y="1062"/>
                  </a:lnTo>
                  <a:lnTo>
                    <a:pt x="4235" y="1074"/>
                  </a:lnTo>
                  <a:lnTo>
                    <a:pt x="4230" y="1082"/>
                  </a:lnTo>
                  <a:lnTo>
                    <a:pt x="4243" y="1082"/>
                  </a:lnTo>
                  <a:lnTo>
                    <a:pt x="4243" y="1092"/>
                  </a:lnTo>
                  <a:lnTo>
                    <a:pt x="4251" y="1084"/>
                  </a:lnTo>
                  <a:lnTo>
                    <a:pt x="4255" y="1099"/>
                  </a:lnTo>
                  <a:lnTo>
                    <a:pt x="4210" y="1141"/>
                  </a:lnTo>
                  <a:lnTo>
                    <a:pt x="4203" y="1146"/>
                  </a:lnTo>
                  <a:lnTo>
                    <a:pt x="4174" y="1138"/>
                  </a:lnTo>
                  <a:lnTo>
                    <a:pt x="4158" y="1146"/>
                  </a:lnTo>
                  <a:lnTo>
                    <a:pt x="4137" y="1141"/>
                  </a:lnTo>
                  <a:close/>
                  <a:moveTo>
                    <a:pt x="3936" y="797"/>
                  </a:moveTo>
                  <a:lnTo>
                    <a:pt x="3940" y="789"/>
                  </a:lnTo>
                  <a:lnTo>
                    <a:pt x="3944" y="791"/>
                  </a:lnTo>
                  <a:lnTo>
                    <a:pt x="3936" y="797"/>
                  </a:lnTo>
                  <a:close/>
                  <a:moveTo>
                    <a:pt x="3944" y="826"/>
                  </a:moveTo>
                  <a:lnTo>
                    <a:pt x="3957" y="828"/>
                  </a:lnTo>
                  <a:lnTo>
                    <a:pt x="3957" y="836"/>
                  </a:lnTo>
                  <a:lnTo>
                    <a:pt x="3948" y="836"/>
                  </a:lnTo>
                  <a:lnTo>
                    <a:pt x="3944" y="826"/>
                  </a:lnTo>
                  <a:close/>
                  <a:moveTo>
                    <a:pt x="4629" y="73"/>
                  </a:moveTo>
                  <a:lnTo>
                    <a:pt x="4619" y="78"/>
                  </a:lnTo>
                  <a:lnTo>
                    <a:pt x="4630" y="80"/>
                  </a:lnTo>
                  <a:lnTo>
                    <a:pt x="4629" y="73"/>
                  </a:lnTo>
                  <a:close/>
                  <a:moveTo>
                    <a:pt x="11949" y="1853"/>
                  </a:moveTo>
                  <a:lnTo>
                    <a:pt x="11941" y="1834"/>
                  </a:lnTo>
                  <a:lnTo>
                    <a:pt x="11925" y="1874"/>
                  </a:lnTo>
                  <a:lnTo>
                    <a:pt x="11929" y="1908"/>
                  </a:lnTo>
                  <a:lnTo>
                    <a:pt x="11941" y="1910"/>
                  </a:lnTo>
                  <a:lnTo>
                    <a:pt x="11949" y="1903"/>
                  </a:lnTo>
                  <a:lnTo>
                    <a:pt x="11949" y="1853"/>
                  </a:lnTo>
                  <a:close/>
                  <a:moveTo>
                    <a:pt x="12151" y="1729"/>
                  </a:moveTo>
                  <a:lnTo>
                    <a:pt x="12159" y="1711"/>
                  </a:lnTo>
                  <a:lnTo>
                    <a:pt x="12163" y="1729"/>
                  </a:lnTo>
                  <a:lnTo>
                    <a:pt x="12151" y="1729"/>
                  </a:lnTo>
                  <a:close/>
                  <a:moveTo>
                    <a:pt x="12171" y="1682"/>
                  </a:moveTo>
                  <a:lnTo>
                    <a:pt x="12180" y="1669"/>
                  </a:lnTo>
                  <a:lnTo>
                    <a:pt x="12171" y="1674"/>
                  </a:lnTo>
                  <a:lnTo>
                    <a:pt x="12155" y="1701"/>
                  </a:lnTo>
                  <a:lnTo>
                    <a:pt x="12171" y="1699"/>
                  </a:lnTo>
                  <a:lnTo>
                    <a:pt x="12183" y="1680"/>
                  </a:lnTo>
                  <a:lnTo>
                    <a:pt x="12171" y="1686"/>
                  </a:lnTo>
                  <a:lnTo>
                    <a:pt x="12171" y="1682"/>
                  </a:lnTo>
                  <a:close/>
                  <a:moveTo>
                    <a:pt x="6505" y="78"/>
                  </a:moveTo>
                  <a:lnTo>
                    <a:pt x="6499" y="78"/>
                  </a:lnTo>
                  <a:lnTo>
                    <a:pt x="6472" y="105"/>
                  </a:lnTo>
                  <a:lnTo>
                    <a:pt x="6496" y="100"/>
                  </a:lnTo>
                  <a:lnTo>
                    <a:pt x="6503" y="113"/>
                  </a:lnTo>
                  <a:lnTo>
                    <a:pt x="6499" y="115"/>
                  </a:lnTo>
                  <a:lnTo>
                    <a:pt x="6511" y="128"/>
                  </a:lnTo>
                  <a:lnTo>
                    <a:pt x="6496" y="130"/>
                  </a:lnTo>
                  <a:lnTo>
                    <a:pt x="6507" y="138"/>
                  </a:lnTo>
                  <a:lnTo>
                    <a:pt x="6507" y="149"/>
                  </a:lnTo>
                  <a:lnTo>
                    <a:pt x="6532" y="152"/>
                  </a:lnTo>
                  <a:lnTo>
                    <a:pt x="6528" y="160"/>
                  </a:lnTo>
                  <a:lnTo>
                    <a:pt x="6523" y="162"/>
                  </a:lnTo>
                  <a:lnTo>
                    <a:pt x="6487" y="177"/>
                  </a:lnTo>
                  <a:lnTo>
                    <a:pt x="6450" y="172"/>
                  </a:lnTo>
                  <a:lnTo>
                    <a:pt x="6450" y="167"/>
                  </a:lnTo>
                  <a:lnTo>
                    <a:pt x="6447" y="170"/>
                  </a:lnTo>
                  <a:lnTo>
                    <a:pt x="6439" y="167"/>
                  </a:lnTo>
                  <a:lnTo>
                    <a:pt x="6443" y="172"/>
                  </a:lnTo>
                  <a:lnTo>
                    <a:pt x="6414" y="167"/>
                  </a:lnTo>
                  <a:lnTo>
                    <a:pt x="6391" y="177"/>
                  </a:lnTo>
                  <a:lnTo>
                    <a:pt x="6394" y="191"/>
                  </a:lnTo>
                  <a:lnTo>
                    <a:pt x="6349" y="189"/>
                  </a:lnTo>
                  <a:lnTo>
                    <a:pt x="6342" y="189"/>
                  </a:lnTo>
                  <a:lnTo>
                    <a:pt x="6318" y="182"/>
                  </a:lnTo>
                  <a:lnTo>
                    <a:pt x="6294" y="184"/>
                  </a:lnTo>
                  <a:lnTo>
                    <a:pt x="6250" y="177"/>
                  </a:lnTo>
                  <a:lnTo>
                    <a:pt x="6237" y="170"/>
                  </a:lnTo>
                  <a:lnTo>
                    <a:pt x="6261" y="143"/>
                  </a:lnTo>
                  <a:lnTo>
                    <a:pt x="6261" y="123"/>
                  </a:lnTo>
                  <a:lnTo>
                    <a:pt x="6277" y="135"/>
                  </a:lnTo>
                  <a:lnTo>
                    <a:pt x="6257" y="118"/>
                  </a:lnTo>
                  <a:lnTo>
                    <a:pt x="6265" y="118"/>
                  </a:lnTo>
                  <a:lnTo>
                    <a:pt x="6261" y="105"/>
                  </a:lnTo>
                  <a:lnTo>
                    <a:pt x="6229" y="93"/>
                  </a:lnTo>
                  <a:lnTo>
                    <a:pt x="6229" y="84"/>
                  </a:lnTo>
                  <a:lnTo>
                    <a:pt x="6241" y="84"/>
                  </a:lnTo>
                  <a:lnTo>
                    <a:pt x="6217" y="84"/>
                  </a:lnTo>
                  <a:lnTo>
                    <a:pt x="6225" y="78"/>
                  </a:lnTo>
                  <a:lnTo>
                    <a:pt x="6212" y="76"/>
                  </a:lnTo>
                  <a:lnTo>
                    <a:pt x="6200" y="78"/>
                  </a:lnTo>
                  <a:lnTo>
                    <a:pt x="6200" y="74"/>
                  </a:lnTo>
                  <a:lnTo>
                    <a:pt x="6164" y="71"/>
                  </a:lnTo>
                  <a:lnTo>
                    <a:pt x="6157" y="66"/>
                  </a:lnTo>
                  <a:lnTo>
                    <a:pt x="6169" y="64"/>
                  </a:lnTo>
                  <a:lnTo>
                    <a:pt x="6160" y="58"/>
                  </a:lnTo>
                  <a:lnTo>
                    <a:pt x="6173" y="61"/>
                  </a:lnTo>
                  <a:lnTo>
                    <a:pt x="6157" y="56"/>
                  </a:lnTo>
                  <a:lnTo>
                    <a:pt x="6200" y="47"/>
                  </a:lnTo>
                  <a:lnTo>
                    <a:pt x="6217" y="56"/>
                  </a:lnTo>
                  <a:lnTo>
                    <a:pt x="6237" y="51"/>
                  </a:lnTo>
                  <a:lnTo>
                    <a:pt x="6253" y="54"/>
                  </a:lnTo>
                  <a:lnTo>
                    <a:pt x="6237" y="29"/>
                  </a:lnTo>
                  <a:lnTo>
                    <a:pt x="6257" y="29"/>
                  </a:lnTo>
                  <a:lnTo>
                    <a:pt x="6261" y="37"/>
                  </a:lnTo>
                  <a:lnTo>
                    <a:pt x="6294" y="37"/>
                  </a:lnTo>
                  <a:lnTo>
                    <a:pt x="6310" y="35"/>
                  </a:lnTo>
                  <a:lnTo>
                    <a:pt x="6297" y="35"/>
                  </a:lnTo>
                  <a:lnTo>
                    <a:pt x="6301" y="29"/>
                  </a:lnTo>
                  <a:lnTo>
                    <a:pt x="6342" y="20"/>
                  </a:lnTo>
                  <a:lnTo>
                    <a:pt x="6337" y="4"/>
                  </a:lnTo>
                  <a:lnTo>
                    <a:pt x="6366" y="0"/>
                  </a:lnTo>
                  <a:lnTo>
                    <a:pt x="6370" y="7"/>
                  </a:lnTo>
                  <a:lnTo>
                    <a:pt x="6411" y="17"/>
                  </a:lnTo>
                  <a:lnTo>
                    <a:pt x="6411" y="22"/>
                  </a:lnTo>
                  <a:lnTo>
                    <a:pt x="6431" y="20"/>
                  </a:lnTo>
                  <a:lnTo>
                    <a:pt x="6459" y="32"/>
                  </a:lnTo>
                  <a:lnTo>
                    <a:pt x="6466" y="33"/>
                  </a:lnTo>
                  <a:lnTo>
                    <a:pt x="6466" y="39"/>
                  </a:lnTo>
                  <a:lnTo>
                    <a:pt x="6472" y="46"/>
                  </a:lnTo>
                  <a:lnTo>
                    <a:pt x="6475" y="49"/>
                  </a:lnTo>
                  <a:lnTo>
                    <a:pt x="6481" y="50"/>
                  </a:lnTo>
                  <a:lnTo>
                    <a:pt x="6501" y="55"/>
                  </a:lnTo>
                  <a:lnTo>
                    <a:pt x="6502" y="59"/>
                  </a:lnTo>
                  <a:lnTo>
                    <a:pt x="6502" y="64"/>
                  </a:lnTo>
                  <a:lnTo>
                    <a:pt x="6503" y="67"/>
                  </a:lnTo>
                  <a:lnTo>
                    <a:pt x="6499" y="71"/>
                  </a:lnTo>
                  <a:lnTo>
                    <a:pt x="6505" y="75"/>
                  </a:lnTo>
                  <a:lnTo>
                    <a:pt x="6505" y="78"/>
                  </a:lnTo>
                  <a:close/>
                  <a:moveTo>
                    <a:pt x="6588" y="180"/>
                  </a:moveTo>
                  <a:lnTo>
                    <a:pt x="6596" y="199"/>
                  </a:lnTo>
                  <a:lnTo>
                    <a:pt x="6588" y="216"/>
                  </a:lnTo>
                  <a:lnTo>
                    <a:pt x="6568" y="206"/>
                  </a:lnTo>
                  <a:lnTo>
                    <a:pt x="6564" y="191"/>
                  </a:lnTo>
                  <a:lnTo>
                    <a:pt x="6584" y="184"/>
                  </a:lnTo>
                  <a:lnTo>
                    <a:pt x="6588" y="180"/>
                  </a:lnTo>
                  <a:close/>
                  <a:moveTo>
                    <a:pt x="10262" y="919"/>
                  </a:moveTo>
                  <a:lnTo>
                    <a:pt x="10237" y="910"/>
                  </a:lnTo>
                  <a:lnTo>
                    <a:pt x="10229" y="916"/>
                  </a:lnTo>
                  <a:lnTo>
                    <a:pt x="10229" y="905"/>
                  </a:lnTo>
                  <a:lnTo>
                    <a:pt x="10217" y="897"/>
                  </a:lnTo>
                  <a:lnTo>
                    <a:pt x="10209" y="907"/>
                  </a:lnTo>
                  <a:lnTo>
                    <a:pt x="10206" y="890"/>
                  </a:lnTo>
                  <a:lnTo>
                    <a:pt x="10193" y="885"/>
                  </a:lnTo>
                  <a:lnTo>
                    <a:pt x="10164" y="858"/>
                  </a:lnTo>
                  <a:lnTo>
                    <a:pt x="10148" y="836"/>
                  </a:lnTo>
                  <a:lnTo>
                    <a:pt x="10169" y="814"/>
                  </a:lnTo>
                  <a:lnTo>
                    <a:pt x="10221" y="809"/>
                  </a:lnTo>
                  <a:lnTo>
                    <a:pt x="10237" y="811"/>
                  </a:lnTo>
                  <a:lnTo>
                    <a:pt x="10245" y="806"/>
                  </a:lnTo>
                  <a:lnTo>
                    <a:pt x="10237" y="784"/>
                  </a:lnTo>
                  <a:lnTo>
                    <a:pt x="10233" y="777"/>
                  </a:lnTo>
                  <a:lnTo>
                    <a:pt x="10189" y="755"/>
                  </a:lnTo>
                  <a:lnTo>
                    <a:pt x="10173" y="727"/>
                  </a:lnTo>
                  <a:lnTo>
                    <a:pt x="10132" y="708"/>
                  </a:lnTo>
                  <a:lnTo>
                    <a:pt x="10108" y="706"/>
                  </a:lnTo>
                  <a:lnTo>
                    <a:pt x="10104" y="713"/>
                  </a:lnTo>
                  <a:lnTo>
                    <a:pt x="10096" y="722"/>
                  </a:lnTo>
                  <a:lnTo>
                    <a:pt x="10068" y="713"/>
                  </a:lnTo>
                  <a:lnTo>
                    <a:pt x="10056" y="722"/>
                  </a:lnTo>
                  <a:lnTo>
                    <a:pt x="10040" y="730"/>
                  </a:lnTo>
                  <a:lnTo>
                    <a:pt x="10040" y="718"/>
                  </a:lnTo>
                  <a:lnTo>
                    <a:pt x="10015" y="678"/>
                  </a:lnTo>
                  <a:lnTo>
                    <a:pt x="9991" y="678"/>
                  </a:lnTo>
                  <a:lnTo>
                    <a:pt x="9983" y="664"/>
                  </a:lnTo>
                  <a:lnTo>
                    <a:pt x="9959" y="659"/>
                  </a:lnTo>
                  <a:lnTo>
                    <a:pt x="9959" y="646"/>
                  </a:lnTo>
                  <a:lnTo>
                    <a:pt x="9971" y="644"/>
                  </a:lnTo>
                  <a:lnTo>
                    <a:pt x="9971" y="624"/>
                  </a:lnTo>
                  <a:lnTo>
                    <a:pt x="9983" y="634"/>
                  </a:lnTo>
                  <a:lnTo>
                    <a:pt x="9999" y="637"/>
                  </a:lnTo>
                  <a:lnTo>
                    <a:pt x="9995" y="624"/>
                  </a:lnTo>
                  <a:lnTo>
                    <a:pt x="9971" y="607"/>
                  </a:lnTo>
                  <a:lnTo>
                    <a:pt x="9971" y="600"/>
                  </a:lnTo>
                  <a:lnTo>
                    <a:pt x="9987" y="602"/>
                  </a:lnTo>
                  <a:lnTo>
                    <a:pt x="9991" y="592"/>
                  </a:lnTo>
                  <a:lnTo>
                    <a:pt x="10015" y="600"/>
                  </a:lnTo>
                  <a:lnTo>
                    <a:pt x="10020" y="590"/>
                  </a:lnTo>
                  <a:lnTo>
                    <a:pt x="10032" y="595"/>
                  </a:lnTo>
                  <a:lnTo>
                    <a:pt x="10048" y="597"/>
                  </a:lnTo>
                  <a:lnTo>
                    <a:pt x="10043" y="590"/>
                  </a:lnTo>
                  <a:lnTo>
                    <a:pt x="10063" y="587"/>
                  </a:lnTo>
                  <a:lnTo>
                    <a:pt x="10072" y="573"/>
                  </a:lnTo>
                  <a:lnTo>
                    <a:pt x="10084" y="577"/>
                  </a:lnTo>
                  <a:lnTo>
                    <a:pt x="10132" y="585"/>
                  </a:lnTo>
                  <a:lnTo>
                    <a:pt x="10132" y="595"/>
                  </a:lnTo>
                  <a:lnTo>
                    <a:pt x="10148" y="607"/>
                  </a:lnTo>
                  <a:lnTo>
                    <a:pt x="10201" y="617"/>
                  </a:lnTo>
                  <a:lnTo>
                    <a:pt x="10185" y="624"/>
                  </a:lnTo>
                  <a:lnTo>
                    <a:pt x="10193" y="632"/>
                  </a:lnTo>
                  <a:lnTo>
                    <a:pt x="10169" y="634"/>
                  </a:lnTo>
                  <a:lnTo>
                    <a:pt x="10181" y="641"/>
                  </a:lnTo>
                  <a:lnTo>
                    <a:pt x="10173" y="641"/>
                  </a:lnTo>
                  <a:lnTo>
                    <a:pt x="10181" y="654"/>
                  </a:lnTo>
                  <a:lnTo>
                    <a:pt x="10169" y="671"/>
                  </a:lnTo>
                  <a:lnTo>
                    <a:pt x="10177" y="691"/>
                  </a:lnTo>
                  <a:lnTo>
                    <a:pt x="10217" y="710"/>
                  </a:lnTo>
                  <a:lnTo>
                    <a:pt x="10221" y="720"/>
                  </a:lnTo>
                  <a:lnTo>
                    <a:pt x="10233" y="725"/>
                  </a:lnTo>
                  <a:lnTo>
                    <a:pt x="10298" y="757"/>
                  </a:lnTo>
                  <a:lnTo>
                    <a:pt x="10318" y="760"/>
                  </a:lnTo>
                  <a:lnTo>
                    <a:pt x="10355" y="784"/>
                  </a:lnTo>
                  <a:lnTo>
                    <a:pt x="10407" y="848"/>
                  </a:lnTo>
                  <a:lnTo>
                    <a:pt x="10411" y="856"/>
                  </a:lnTo>
                  <a:lnTo>
                    <a:pt x="10403" y="851"/>
                  </a:lnTo>
                  <a:lnTo>
                    <a:pt x="10399" y="860"/>
                  </a:lnTo>
                  <a:lnTo>
                    <a:pt x="10407" y="867"/>
                  </a:lnTo>
                  <a:lnTo>
                    <a:pt x="10415" y="880"/>
                  </a:lnTo>
                  <a:lnTo>
                    <a:pt x="10382" y="907"/>
                  </a:lnTo>
                  <a:lnTo>
                    <a:pt x="10359" y="916"/>
                  </a:lnTo>
                  <a:lnTo>
                    <a:pt x="10346" y="914"/>
                  </a:lnTo>
                  <a:lnTo>
                    <a:pt x="10338" y="910"/>
                  </a:lnTo>
                  <a:lnTo>
                    <a:pt x="10334" y="914"/>
                  </a:lnTo>
                  <a:lnTo>
                    <a:pt x="10343" y="919"/>
                  </a:lnTo>
                  <a:lnTo>
                    <a:pt x="10330" y="919"/>
                  </a:lnTo>
                  <a:lnTo>
                    <a:pt x="10346" y="924"/>
                  </a:lnTo>
                  <a:lnTo>
                    <a:pt x="10343" y="929"/>
                  </a:lnTo>
                  <a:lnTo>
                    <a:pt x="10326" y="922"/>
                  </a:lnTo>
                  <a:lnTo>
                    <a:pt x="10343" y="932"/>
                  </a:lnTo>
                  <a:lnTo>
                    <a:pt x="10322" y="922"/>
                  </a:lnTo>
                  <a:lnTo>
                    <a:pt x="10343" y="939"/>
                  </a:lnTo>
                  <a:lnTo>
                    <a:pt x="10314" y="927"/>
                  </a:lnTo>
                  <a:lnTo>
                    <a:pt x="10330" y="944"/>
                  </a:lnTo>
                  <a:lnTo>
                    <a:pt x="10290" y="966"/>
                  </a:lnTo>
                  <a:lnTo>
                    <a:pt x="10294" y="963"/>
                  </a:lnTo>
                  <a:lnTo>
                    <a:pt x="10282" y="937"/>
                  </a:lnTo>
                  <a:lnTo>
                    <a:pt x="10285" y="929"/>
                  </a:lnTo>
                  <a:lnTo>
                    <a:pt x="10262" y="919"/>
                  </a:lnTo>
                  <a:close/>
                  <a:moveTo>
                    <a:pt x="10245" y="916"/>
                  </a:moveTo>
                  <a:lnTo>
                    <a:pt x="10249" y="919"/>
                  </a:lnTo>
                  <a:lnTo>
                    <a:pt x="10249" y="929"/>
                  </a:lnTo>
                  <a:lnTo>
                    <a:pt x="10237" y="919"/>
                  </a:lnTo>
                  <a:lnTo>
                    <a:pt x="10245" y="916"/>
                  </a:lnTo>
                  <a:close/>
                  <a:moveTo>
                    <a:pt x="0" y="3835"/>
                  </a:moveTo>
                  <a:lnTo>
                    <a:pt x="472" y="3835"/>
                  </a:lnTo>
                  <a:lnTo>
                    <a:pt x="472" y="3978"/>
                  </a:lnTo>
                  <a:lnTo>
                    <a:pt x="0" y="3978"/>
                  </a:lnTo>
                  <a:lnTo>
                    <a:pt x="0" y="3835"/>
                  </a:lnTo>
                  <a:close/>
                  <a:moveTo>
                    <a:pt x="6822" y="858"/>
                  </a:moveTo>
                  <a:lnTo>
                    <a:pt x="6826" y="858"/>
                  </a:lnTo>
                  <a:lnTo>
                    <a:pt x="6830" y="863"/>
                  </a:lnTo>
                  <a:lnTo>
                    <a:pt x="6834" y="867"/>
                  </a:lnTo>
                  <a:lnTo>
                    <a:pt x="6830" y="870"/>
                  </a:lnTo>
                  <a:lnTo>
                    <a:pt x="6830" y="873"/>
                  </a:lnTo>
                  <a:lnTo>
                    <a:pt x="6834" y="875"/>
                  </a:lnTo>
                  <a:lnTo>
                    <a:pt x="6846" y="870"/>
                  </a:lnTo>
                  <a:lnTo>
                    <a:pt x="6846" y="875"/>
                  </a:lnTo>
                  <a:lnTo>
                    <a:pt x="6851" y="880"/>
                  </a:lnTo>
                  <a:lnTo>
                    <a:pt x="6870" y="878"/>
                  </a:lnTo>
                  <a:lnTo>
                    <a:pt x="6879" y="882"/>
                  </a:lnTo>
                  <a:lnTo>
                    <a:pt x="6887" y="882"/>
                  </a:lnTo>
                  <a:lnTo>
                    <a:pt x="6883" y="885"/>
                  </a:lnTo>
                  <a:lnTo>
                    <a:pt x="6863" y="885"/>
                  </a:lnTo>
                  <a:lnTo>
                    <a:pt x="6863" y="887"/>
                  </a:lnTo>
                  <a:lnTo>
                    <a:pt x="6875" y="893"/>
                  </a:lnTo>
                  <a:lnTo>
                    <a:pt x="6887" y="941"/>
                  </a:lnTo>
                  <a:lnTo>
                    <a:pt x="6911" y="956"/>
                  </a:lnTo>
                  <a:lnTo>
                    <a:pt x="6894" y="993"/>
                  </a:lnTo>
                  <a:lnTo>
                    <a:pt x="6906" y="1015"/>
                  </a:lnTo>
                  <a:lnTo>
                    <a:pt x="6963" y="1082"/>
                  </a:lnTo>
                  <a:lnTo>
                    <a:pt x="6977" y="1136"/>
                  </a:lnTo>
                  <a:lnTo>
                    <a:pt x="6939" y="1146"/>
                  </a:lnTo>
                  <a:lnTo>
                    <a:pt x="6958" y="1238"/>
                  </a:lnTo>
                  <a:lnTo>
                    <a:pt x="7000" y="1213"/>
                  </a:lnTo>
                  <a:lnTo>
                    <a:pt x="7012" y="1147"/>
                  </a:lnTo>
                  <a:lnTo>
                    <a:pt x="7021" y="1141"/>
                  </a:lnTo>
                  <a:lnTo>
                    <a:pt x="7036" y="1113"/>
                  </a:lnTo>
                  <a:lnTo>
                    <a:pt x="7029" y="1094"/>
                  </a:lnTo>
                  <a:lnTo>
                    <a:pt x="7056" y="1077"/>
                  </a:lnTo>
                  <a:lnTo>
                    <a:pt x="7076" y="1074"/>
                  </a:lnTo>
                  <a:lnTo>
                    <a:pt x="7109" y="1092"/>
                  </a:lnTo>
                  <a:lnTo>
                    <a:pt x="7182" y="1097"/>
                  </a:lnTo>
                  <a:lnTo>
                    <a:pt x="7198" y="1086"/>
                  </a:lnTo>
                  <a:lnTo>
                    <a:pt x="7206" y="1082"/>
                  </a:lnTo>
                  <a:lnTo>
                    <a:pt x="7222" y="1086"/>
                  </a:lnTo>
                  <a:lnTo>
                    <a:pt x="7263" y="1077"/>
                  </a:lnTo>
                  <a:lnTo>
                    <a:pt x="7294" y="1077"/>
                  </a:lnTo>
                  <a:lnTo>
                    <a:pt x="7307" y="1067"/>
                  </a:lnTo>
                  <a:lnTo>
                    <a:pt x="7367" y="1072"/>
                  </a:lnTo>
                  <a:lnTo>
                    <a:pt x="7383" y="1077"/>
                  </a:lnTo>
                  <a:lnTo>
                    <a:pt x="7371" y="1059"/>
                  </a:lnTo>
                  <a:lnTo>
                    <a:pt x="7343" y="1050"/>
                  </a:lnTo>
                  <a:lnTo>
                    <a:pt x="7339" y="1035"/>
                  </a:lnTo>
                  <a:lnTo>
                    <a:pt x="7290" y="1015"/>
                  </a:lnTo>
                  <a:lnTo>
                    <a:pt x="7290" y="1006"/>
                  </a:lnTo>
                  <a:lnTo>
                    <a:pt x="7246" y="996"/>
                  </a:lnTo>
                  <a:lnTo>
                    <a:pt x="7251" y="986"/>
                  </a:lnTo>
                  <a:lnTo>
                    <a:pt x="7222" y="986"/>
                  </a:lnTo>
                  <a:lnTo>
                    <a:pt x="7222" y="966"/>
                  </a:lnTo>
                  <a:lnTo>
                    <a:pt x="7226" y="963"/>
                  </a:lnTo>
                  <a:lnTo>
                    <a:pt x="7226" y="959"/>
                  </a:lnTo>
                  <a:lnTo>
                    <a:pt x="7209" y="944"/>
                  </a:lnTo>
                  <a:lnTo>
                    <a:pt x="7186" y="932"/>
                  </a:lnTo>
                  <a:lnTo>
                    <a:pt x="7194" y="924"/>
                  </a:lnTo>
                  <a:lnTo>
                    <a:pt x="7178" y="914"/>
                  </a:lnTo>
                  <a:lnTo>
                    <a:pt x="7170" y="893"/>
                  </a:lnTo>
                  <a:lnTo>
                    <a:pt x="7145" y="887"/>
                  </a:lnTo>
                  <a:lnTo>
                    <a:pt x="7161" y="873"/>
                  </a:lnTo>
                  <a:lnTo>
                    <a:pt x="7153" y="863"/>
                  </a:lnTo>
                  <a:lnTo>
                    <a:pt x="7170" y="856"/>
                  </a:lnTo>
                  <a:lnTo>
                    <a:pt x="7161" y="843"/>
                  </a:lnTo>
                  <a:lnTo>
                    <a:pt x="7173" y="841"/>
                  </a:lnTo>
                  <a:lnTo>
                    <a:pt x="7182" y="821"/>
                  </a:lnTo>
                  <a:lnTo>
                    <a:pt x="7222" y="816"/>
                  </a:lnTo>
                  <a:lnTo>
                    <a:pt x="7222" y="809"/>
                  </a:lnTo>
                  <a:lnTo>
                    <a:pt x="7218" y="797"/>
                  </a:lnTo>
                  <a:lnTo>
                    <a:pt x="7218" y="784"/>
                  </a:lnTo>
                  <a:lnTo>
                    <a:pt x="7213" y="772"/>
                  </a:lnTo>
                  <a:lnTo>
                    <a:pt x="7213" y="762"/>
                  </a:lnTo>
                  <a:lnTo>
                    <a:pt x="7209" y="750"/>
                  </a:lnTo>
                  <a:lnTo>
                    <a:pt x="7209" y="737"/>
                  </a:lnTo>
                  <a:lnTo>
                    <a:pt x="7206" y="725"/>
                  </a:lnTo>
                  <a:lnTo>
                    <a:pt x="7186" y="718"/>
                  </a:lnTo>
                  <a:lnTo>
                    <a:pt x="7161" y="710"/>
                  </a:lnTo>
                  <a:lnTo>
                    <a:pt x="7157" y="710"/>
                  </a:lnTo>
                  <a:lnTo>
                    <a:pt x="7141" y="706"/>
                  </a:lnTo>
                  <a:lnTo>
                    <a:pt x="7121" y="698"/>
                  </a:lnTo>
                  <a:lnTo>
                    <a:pt x="7109" y="696"/>
                  </a:lnTo>
                  <a:lnTo>
                    <a:pt x="7101" y="691"/>
                  </a:lnTo>
                  <a:lnTo>
                    <a:pt x="7076" y="686"/>
                  </a:lnTo>
                  <a:lnTo>
                    <a:pt x="7060" y="681"/>
                  </a:lnTo>
                  <a:lnTo>
                    <a:pt x="7056" y="678"/>
                  </a:lnTo>
                  <a:lnTo>
                    <a:pt x="7032" y="671"/>
                  </a:lnTo>
                  <a:lnTo>
                    <a:pt x="7012" y="666"/>
                  </a:lnTo>
                  <a:lnTo>
                    <a:pt x="7008" y="664"/>
                  </a:lnTo>
                  <a:lnTo>
                    <a:pt x="6988" y="659"/>
                  </a:lnTo>
                  <a:lnTo>
                    <a:pt x="6964" y="652"/>
                  </a:lnTo>
                  <a:lnTo>
                    <a:pt x="6960" y="649"/>
                  </a:lnTo>
                  <a:lnTo>
                    <a:pt x="6943" y="646"/>
                  </a:lnTo>
                  <a:lnTo>
                    <a:pt x="6923" y="639"/>
                  </a:lnTo>
                  <a:lnTo>
                    <a:pt x="6906" y="637"/>
                  </a:lnTo>
                  <a:lnTo>
                    <a:pt x="6899" y="634"/>
                  </a:lnTo>
                  <a:lnTo>
                    <a:pt x="6890" y="632"/>
                  </a:lnTo>
                  <a:lnTo>
                    <a:pt x="6870" y="637"/>
                  </a:lnTo>
                  <a:lnTo>
                    <a:pt x="6854" y="641"/>
                  </a:lnTo>
                  <a:lnTo>
                    <a:pt x="6851" y="644"/>
                  </a:lnTo>
                  <a:lnTo>
                    <a:pt x="6834" y="649"/>
                  </a:lnTo>
                  <a:lnTo>
                    <a:pt x="6830" y="652"/>
                  </a:lnTo>
                  <a:lnTo>
                    <a:pt x="6810" y="644"/>
                  </a:lnTo>
                  <a:lnTo>
                    <a:pt x="6790" y="637"/>
                  </a:lnTo>
                  <a:lnTo>
                    <a:pt x="6786" y="637"/>
                  </a:lnTo>
                  <a:lnTo>
                    <a:pt x="6766" y="634"/>
                  </a:lnTo>
                  <a:lnTo>
                    <a:pt x="6745" y="632"/>
                  </a:lnTo>
                  <a:lnTo>
                    <a:pt x="6741" y="632"/>
                  </a:lnTo>
                  <a:lnTo>
                    <a:pt x="6730" y="634"/>
                  </a:lnTo>
                  <a:lnTo>
                    <a:pt x="6709" y="641"/>
                  </a:lnTo>
                  <a:lnTo>
                    <a:pt x="6706" y="644"/>
                  </a:lnTo>
                  <a:lnTo>
                    <a:pt x="6689" y="649"/>
                  </a:lnTo>
                  <a:lnTo>
                    <a:pt x="6672" y="656"/>
                  </a:lnTo>
                  <a:lnTo>
                    <a:pt x="6661" y="661"/>
                  </a:lnTo>
                  <a:lnTo>
                    <a:pt x="6653" y="664"/>
                  </a:lnTo>
                  <a:lnTo>
                    <a:pt x="6633" y="674"/>
                  </a:lnTo>
                  <a:lnTo>
                    <a:pt x="6620" y="678"/>
                  </a:lnTo>
                  <a:lnTo>
                    <a:pt x="6613" y="678"/>
                  </a:lnTo>
                  <a:lnTo>
                    <a:pt x="6596" y="688"/>
                  </a:lnTo>
                  <a:lnTo>
                    <a:pt x="6576" y="696"/>
                  </a:lnTo>
                  <a:lnTo>
                    <a:pt x="6573" y="696"/>
                  </a:lnTo>
                  <a:lnTo>
                    <a:pt x="6556" y="706"/>
                  </a:lnTo>
                  <a:lnTo>
                    <a:pt x="6548" y="710"/>
                  </a:lnTo>
                  <a:lnTo>
                    <a:pt x="6540" y="715"/>
                  </a:lnTo>
                  <a:lnTo>
                    <a:pt x="6523" y="725"/>
                  </a:lnTo>
                  <a:lnTo>
                    <a:pt x="6507" y="730"/>
                  </a:lnTo>
                  <a:lnTo>
                    <a:pt x="6499" y="730"/>
                  </a:lnTo>
                  <a:lnTo>
                    <a:pt x="6479" y="732"/>
                  </a:lnTo>
                  <a:lnTo>
                    <a:pt x="6455" y="735"/>
                  </a:lnTo>
                  <a:lnTo>
                    <a:pt x="6434" y="737"/>
                  </a:lnTo>
                  <a:lnTo>
                    <a:pt x="6422" y="740"/>
                  </a:lnTo>
                  <a:lnTo>
                    <a:pt x="6411" y="735"/>
                  </a:lnTo>
                  <a:lnTo>
                    <a:pt x="6414" y="720"/>
                  </a:lnTo>
                  <a:lnTo>
                    <a:pt x="6366" y="710"/>
                  </a:lnTo>
                  <a:lnTo>
                    <a:pt x="6337" y="698"/>
                  </a:lnTo>
                  <a:lnTo>
                    <a:pt x="6337" y="688"/>
                  </a:lnTo>
                  <a:lnTo>
                    <a:pt x="6330" y="686"/>
                  </a:lnTo>
                  <a:lnTo>
                    <a:pt x="6313" y="678"/>
                  </a:lnTo>
                  <a:lnTo>
                    <a:pt x="6294" y="671"/>
                  </a:lnTo>
                  <a:lnTo>
                    <a:pt x="6289" y="669"/>
                  </a:lnTo>
                  <a:lnTo>
                    <a:pt x="6285" y="669"/>
                  </a:lnTo>
                  <a:lnTo>
                    <a:pt x="6265" y="659"/>
                  </a:lnTo>
                  <a:lnTo>
                    <a:pt x="6250" y="652"/>
                  </a:lnTo>
                  <a:lnTo>
                    <a:pt x="6245" y="652"/>
                  </a:lnTo>
                  <a:lnTo>
                    <a:pt x="6229" y="644"/>
                  </a:lnTo>
                  <a:lnTo>
                    <a:pt x="6209" y="637"/>
                  </a:lnTo>
                  <a:lnTo>
                    <a:pt x="6205" y="632"/>
                  </a:lnTo>
                  <a:lnTo>
                    <a:pt x="6193" y="627"/>
                  </a:lnTo>
                  <a:lnTo>
                    <a:pt x="6173" y="619"/>
                  </a:lnTo>
                  <a:lnTo>
                    <a:pt x="6160" y="615"/>
                  </a:lnTo>
                  <a:lnTo>
                    <a:pt x="6152" y="612"/>
                  </a:lnTo>
                  <a:lnTo>
                    <a:pt x="6136" y="605"/>
                  </a:lnTo>
                  <a:lnTo>
                    <a:pt x="6115" y="597"/>
                  </a:lnTo>
                  <a:lnTo>
                    <a:pt x="6111" y="595"/>
                  </a:lnTo>
                  <a:lnTo>
                    <a:pt x="6108" y="592"/>
                  </a:lnTo>
                  <a:lnTo>
                    <a:pt x="6092" y="587"/>
                  </a:lnTo>
                  <a:lnTo>
                    <a:pt x="6075" y="580"/>
                  </a:lnTo>
                  <a:lnTo>
                    <a:pt x="6067" y="575"/>
                  </a:lnTo>
                  <a:lnTo>
                    <a:pt x="6055" y="573"/>
                  </a:lnTo>
                  <a:lnTo>
                    <a:pt x="6035" y="563"/>
                  </a:lnTo>
                  <a:lnTo>
                    <a:pt x="6023" y="558"/>
                  </a:lnTo>
                  <a:lnTo>
                    <a:pt x="6016" y="556"/>
                  </a:lnTo>
                  <a:lnTo>
                    <a:pt x="5999" y="548"/>
                  </a:lnTo>
                  <a:lnTo>
                    <a:pt x="5978" y="540"/>
                  </a:lnTo>
                  <a:lnTo>
                    <a:pt x="5978" y="548"/>
                  </a:lnTo>
                  <a:lnTo>
                    <a:pt x="5974" y="560"/>
                  </a:lnTo>
                  <a:lnTo>
                    <a:pt x="5974" y="573"/>
                  </a:lnTo>
                  <a:lnTo>
                    <a:pt x="5958" y="573"/>
                  </a:lnTo>
                  <a:lnTo>
                    <a:pt x="5938" y="573"/>
                  </a:lnTo>
                  <a:lnTo>
                    <a:pt x="5918" y="573"/>
                  </a:lnTo>
                  <a:lnTo>
                    <a:pt x="5902" y="573"/>
                  </a:lnTo>
                  <a:lnTo>
                    <a:pt x="5881" y="573"/>
                  </a:lnTo>
                  <a:lnTo>
                    <a:pt x="5865" y="573"/>
                  </a:lnTo>
                  <a:lnTo>
                    <a:pt x="5854" y="573"/>
                  </a:lnTo>
                  <a:lnTo>
                    <a:pt x="5850" y="583"/>
                  </a:lnTo>
                  <a:lnTo>
                    <a:pt x="5850" y="595"/>
                  </a:lnTo>
                  <a:lnTo>
                    <a:pt x="5850" y="607"/>
                  </a:lnTo>
                  <a:lnTo>
                    <a:pt x="5845" y="619"/>
                  </a:lnTo>
                  <a:lnTo>
                    <a:pt x="5845" y="632"/>
                  </a:lnTo>
                  <a:lnTo>
                    <a:pt x="5821" y="637"/>
                  </a:lnTo>
                  <a:lnTo>
                    <a:pt x="5805" y="644"/>
                  </a:lnTo>
                  <a:lnTo>
                    <a:pt x="5801" y="652"/>
                  </a:lnTo>
                  <a:lnTo>
                    <a:pt x="5805" y="656"/>
                  </a:lnTo>
                  <a:lnTo>
                    <a:pt x="5801" y="669"/>
                  </a:lnTo>
                  <a:lnTo>
                    <a:pt x="5801" y="683"/>
                  </a:lnTo>
                  <a:lnTo>
                    <a:pt x="5785" y="683"/>
                  </a:lnTo>
                  <a:lnTo>
                    <a:pt x="5777" y="683"/>
                  </a:lnTo>
                  <a:lnTo>
                    <a:pt x="5761" y="683"/>
                  </a:lnTo>
                  <a:lnTo>
                    <a:pt x="5749" y="683"/>
                  </a:lnTo>
                  <a:lnTo>
                    <a:pt x="5732" y="683"/>
                  </a:lnTo>
                  <a:lnTo>
                    <a:pt x="5712" y="683"/>
                  </a:lnTo>
                  <a:lnTo>
                    <a:pt x="5692" y="683"/>
                  </a:lnTo>
                  <a:lnTo>
                    <a:pt x="5676" y="683"/>
                  </a:lnTo>
                  <a:lnTo>
                    <a:pt x="5655" y="683"/>
                  </a:lnTo>
                  <a:lnTo>
                    <a:pt x="5652" y="686"/>
                  </a:lnTo>
                  <a:lnTo>
                    <a:pt x="5648" y="696"/>
                  </a:lnTo>
                  <a:lnTo>
                    <a:pt x="5655" y="686"/>
                  </a:lnTo>
                  <a:lnTo>
                    <a:pt x="5664" y="698"/>
                  </a:lnTo>
                  <a:lnTo>
                    <a:pt x="5680" y="708"/>
                  </a:lnTo>
                  <a:lnTo>
                    <a:pt x="5672" y="725"/>
                  </a:lnTo>
                  <a:lnTo>
                    <a:pt x="5664" y="730"/>
                  </a:lnTo>
                  <a:lnTo>
                    <a:pt x="5676" y="740"/>
                  </a:lnTo>
                  <a:lnTo>
                    <a:pt x="5680" y="769"/>
                  </a:lnTo>
                  <a:lnTo>
                    <a:pt x="5655" y="809"/>
                  </a:lnTo>
                  <a:lnTo>
                    <a:pt x="5664" y="799"/>
                  </a:lnTo>
                  <a:lnTo>
                    <a:pt x="5655" y="809"/>
                  </a:lnTo>
                  <a:lnTo>
                    <a:pt x="5655" y="816"/>
                  </a:lnTo>
                  <a:lnTo>
                    <a:pt x="5639" y="828"/>
                  </a:lnTo>
                  <a:lnTo>
                    <a:pt x="5612" y="841"/>
                  </a:lnTo>
                  <a:lnTo>
                    <a:pt x="5626" y="843"/>
                  </a:lnTo>
                  <a:lnTo>
                    <a:pt x="5639" y="863"/>
                  </a:lnTo>
                  <a:lnTo>
                    <a:pt x="5655" y="856"/>
                  </a:lnTo>
                  <a:lnTo>
                    <a:pt x="5639" y="860"/>
                  </a:lnTo>
                  <a:lnTo>
                    <a:pt x="5643" y="865"/>
                  </a:lnTo>
                  <a:lnTo>
                    <a:pt x="5652" y="860"/>
                  </a:lnTo>
                  <a:lnTo>
                    <a:pt x="5648" y="867"/>
                  </a:lnTo>
                  <a:lnTo>
                    <a:pt x="5663" y="843"/>
                  </a:lnTo>
                  <a:lnTo>
                    <a:pt x="5706" y="845"/>
                  </a:lnTo>
                  <a:lnTo>
                    <a:pt x="5735" y="845"/>
                  </a:lnTo>
                  <a:lnTo>
                    <a:pt x="5749" y="867"/>
                  </a:lnTo>
                  <a:lnTo>
                    <a:pt x="5753" y="870"/>
                  </a:lnTo>
                  <a:lnTo>
                    <a:pt x="5756" y="873"/>
                  </a:lnTo>
                  <a:lnTo>
                    <a:pt x="5705" y="867"/>
                  </a:lnTo>
                  <a:lnTo>
                    <a:pt x="5680" y="875"/>
                  </a:lnTo>
                  <a:lnTo>
                    <a:pt x="5676" y="875"/>
                  </a:lnTo>
                  <a:lnTo>
                    <a:pt x="5676" y="878"/>
                  </a:lnTo>
                  <a:lnTo>
                    <a:pt x="5655" y="878"/>
                  </a:lnTo>
                  <a:lnTo>
                    <a:pt x="5643" y="880"/>
                  </a:lnTo>
                  <a:lnTo>
                    <a:pt x="5639" y="882"/>
                  </a:lnTo>
                  <a:lnTo>
                    <a:pt x="5639" y="893"/>
                  </a:lnTo>
                  <a:lnTo>
                    <a:pt x="5643" y="887"/>
                  </a:lnTo>
                  <a:lnTo>
                    <a:pt x="5652" y="893"/>
                  </a:lnTo>
                  <a:lnTo>
                    <a:pt x="5684" y="893"/>
                  </a:lnTo>
                  <a:lnTo>
                    <a:pt x="5692" y="887"/>
                  </a:lnTo>
                  <a:lnTo>
                    <a:pt x="5684" y="895"/>
                  </a:lnTo>
                  <a:lnTo>
                    <a:pt x="5643" y="893"/>
                  </a:lnTo>
                  <a:lnTo>
                    <a:pt x="5639" y="900"/>
                  </a:lnTo>
                  <a:lnTo>
                    <a:pt x="5696" y="890"/>
                  </a:lnTo>
                  <a:lnTo>
                    <a:pt x="5700" y="890"/>
                  </a:lnTo>
                  <a:lnTo>
                    <a:pt x="5716" y="890"/>
                  </a:lnTo>
                  <a:lnTo>
                    <a:pt x="5736" y="890"/>
                  </a:lnTo>
                  <a:lnTo>
                    <a:pt x="5756" y="890"/>
                  </a:lnTo>
                  <a:lnTo>
                    <a:pt x="5756" y="900"/>
                  </a:lnTo>
                  <a:lnTo>
                    <a:pt x="5749" y="905"/>
                  </a:lnTo>
                  <a:lnTo>
                    <a:pt x="5756" y="914"/>
                  </a:lnTo>
                  <a:lnTo>
                    <a:pt x="5716" y="919"/>
                  </a:lnTo>
                  <a:lnTo>
                    <a:pt x="5705" y="932"/>
                  </a:lnTo>
                  <a:lnTo>
                    <a:pt x="5705" y="937"/>
                  </a:lnTo>
                  <a:lnTo>
                    <a:pt x="5716" y="932"/>
                  </a:lnTo>
                  <a:lnTo>
                    <a:pt x="5716" y="939"/>
                  </a:lnTo>
                  <a:lnTo>
                    <a:pt x="5724" y="934"/>
                  </a:lnTo>
                  <a:lnTo>
                    <a:pt x="5716" y="944"/>
                  </a:lnTo>
                  <a:lnTo>
                    <a:pt x="5736" y="954"/>
                  </a:lnTo>
                  <a:lnTo>
                    <a:pt x="5744" y="951"/>
                  </a:lnTo>
                  <a:lnTo>
                    <a:pt x="5756" y="956"/>
                  </a:lnTo>
                  <a:lnTo>
                    <a:pt x="5753" y="969"/>
                  </a:lnTo>
                  <a:lnTo>
                    <a:pt x="5769" y="971"/>
                  </a:lnTo>
                  <a:lnTo>
                    <a:pt x="5769" y="978"/>
                  </a:lnTo>
                  <a:lnTo>
                    <a:pt x="5788" y="973"/>
                  </a:lnTo>
                  <a:lnTo>
                    <a:pt x="5805" y="959"/>
                  </a:lnTo>
                  <a:lnTo>
                    <a:pt x="5825" y="956"/>
                  </a:lnTo>
                  <a:lnTo>
                    <a:pt x="5841" y="956"/>
                  </a:lnTo>
                  <a:lnTo>
                    <a:pt x="5854" y="956"/>
                  </a:lnTo>
                  <a:lnTo>
                    <a:pt x="5873" y="973"/>
                  </a:lnTo>
                  <a:lnTo>
                    <a:pt x="5870" y="978"/>
                  </a:lnTo>
                  <a:lnTo>
                    <a:pt x="5881" y="988"/>
                  </a:lnTo>
                  <a:lnTo>
                    <a:pt x="5873" y="993"/>
                  </a:lnTo>
                  <a:lnTo>
                    <a:pt x="5870" y="998"/>
                  </a:lnTo>
                  <a:lnTo>
                    <a:pt x="5890" y="993"/>
                  </a:lnTo>
                  <a:lnTo>
                    <a:pt x="5906" y="991"/>
                  </a:lnTo>
                  <a:lnTo>
                    <a:pt x="5918" y="996"/>
                  </a:lnTo>
                  <a:lnTo>
                    <a:pt x="5922" y="1015"/>
                  </a:lnTo>
                  <a:lnTo>
                    <a:pt x="5918" y="1020"/>
                  </a:lnTo>
                  <a:lnTo>
                    <a:pt x="5935" y="1023"/>
                  </a:lnTo>
                  <a:lnTo>
                    <a:pt x="5958" y="1015"/>
                  </a:lnTo>
                  <a:lnTo>
                    <a:pt x="5966" y="1028"/>
                  </a:lnTo>
                  <a:lnTo>
                    <a:pt x="5954" y="1040"/>
                  </a:lnTo>
                  <a:lnTo>
                    <a:pt x="5999" y="1057"/>
                  </a:lnTo>
                  <a:lnTo>
                    <a:pt x="5995" y="1094"/>
                  </a:lnTo>
                  <a:lnTo>
                    <a:pt x="6096" y="1074"/>
                  </a:lnTo>
                  <a:lnTo>
                    <a:pt x="6084" y="1072"/>
                  </a:lnTo>
                  <a:lnTo>
                    <a:pt x="6103" y="1072"/>
                  </a:lnTo>
                  <a:lnTo>
                    <a:pt x="6136" y="1072"/>
                  </a:lnTo>
                  <a:lnTo>
                    <a:pt x="6140" y="1072"/>
                  </a:lnTo>
                  <a:lnTo>
                    <a:pt x="6180" y="1072"/>
                  </a:lnTo>
                  <a:lnTo>
                    <a:pt x="6169" y="1074"/>
                  </a:lnTo>
                  <a:lnTo>
                    <a:pt x="6184" y="1074"/>
                  </a:lnTo>
                  <a:lnTo>
                    <a:pt x="6173" y="1059"/>
                  </a:lnTo>
                  <a:lnTo>
                    <a:pt x="6164" y="1037"/>
                  </a:lnTo>
                  <a:lnTo>
                    <a:pt x="6196" y="1001"/>
                  </a:lnTo>
                  <a:lnTo>
                    <a:pt x="6193" y="986"/>
                  </a:lnTo>
                  <a:lnTo>
                    <a:pt x="6188" y="969"/>
                  </a:lnTo>
                  <a:lnTo>
                    <a:pt x="6180" y="932"/>
                  </a:lnTo>
                  <a:lnTo>
                    <a:pt x="6193" y="932"/>
                  </a:lnTo>
                  <a:lnTo>
                    <a:pt x="6212" y="932"/>
                  </a:lnTo>
                  <a:lnTo>
                    <a:pt x="6233" y="932"/>
                  </a:lnTo>
                  <a:lnTo>
                    <a:pt x="6237" y="932"/>
                  </a:lnTo>
                  <a:lnTo>
                    <a:pt x="6257" y="932"/>
                  </a:lnTo>
                  <a:lnTo>
                    <a:pt x="6269" y="934"/>
                  </a:lnTo>
                  <a:lnTo>
                    <a:pt x="6281" y="929"/>
                  </a:lnTo>
                  <a:lnTo>
                    <a:pt x="6289" y="929"/>
                  </a:lnTo>
                  <a:lnTo>
                    <a:pt x="6294" y="929"/>
                  </a:lnTo>
                  <a:lnTo>
                    <a:pt x="6330" y="932"/>
                  </a:lnTo>
                  <a:lnTo>
                    <a:pt x="6330" y="934"/>
                  </a:lnTo>
                  <a:lnTo>
                    <a:pt x="6326" y="947"/>
                  </a:lnTo>
                  <a:lnTo>
                    <a:pt x="6346" y="956"/>
                  </a:lnTo>
                  <a:lnTo>
                    <a:pt x="6358" y="978"/>
                  </a:lnTo>
                  <a:lnTo>
                    <a:pt x="6358" y="996"/>
                  </a:lnTo>
                  <a:lnTo>
                    <a:pt x="6358" y="1008"/>
                  </a:lnTo>
                  <a:lnTo>
                    <a:pt x="6358" y="1013"/>
                  </a:lnTo>
                  <a:lnTo>
                    <a:pt x="6354" y="1028"/>
                  </a:lnTo>
                  <a:lnTo>
                    <a:pt x="6358" y="1047"/>
                  </a:lnTo>
                  <a:lnTo>
                    <a:pt x="6362" y="1047"/>
                  </a:lnTo>
                  <a:lnTo>
                    <a:pt x="6386" y="1045"/>
                  </a:lnTo>
                  <a:lnTo>
                    <a:pt x="6403" y="1045"/>
                  </a:lnTo>
                  <a:lnTo>
                    <a:pt x="6403" y="978"/>
                  </a:lnTo>
                  <a:lnTo>
                    <a:pt x="6414" y="978"/>
                  </a:lnTo>
                  <a:lnTo>
                    <a:pt x="6447" y="941"/>
                  </a:lnTo>
                  <a:lnTo>
                    <a:pt x="6434" y="914"/>
                  </a:lnTo>
                  <a:lnTo>
                    <a:pt x="6434" y="895"/>
                  </a:lnTo>
                  <a:lnTo>
                    <a:pt x="6455" y="882"/>
                  </a:lnTo>
                  <a:lnTo>
                    <a:pt x="6455" y="873"/>
                  </a:lnTo>
                  <a:lnTo>
                    <a:pt x="6484" y="865"/>
                  </a:lnTo>
                  <a:lnTo>
                    <a:pt x="6540" y="867"/>
                  </a:lnTo>
                  <a:lnTo>
                    <a:pt x="6564" y="882"/>
                  </a:lnTo>
                  <a:lnTo>
                    <a:pt x="6600" y="875"/>
                  </a:lnTo>
                  <a:lnTo>
                    <a:pt x="6669" y="887"/>
                  </a:lnTo>
                  <a:lnTo>
                    <a:pt x="6709" y="875"/>
                  </a:lnTo>
                  <a:lnTo>
                    <a:pt x="6782" y="882"/>
                  </a:lnTo>
                  <a:lnTo>
                    <a:pt x="6795" y="870"/>
                  </a:lnTo>
                  <a:lnTo>
                    <a:pt x="6814" y="865"/>
                  </a:lnTo>
                  <a:lnTo>
                    <a:pt x="6810" y="863"/>
                  </a:lnTo>
                  <a:lnTo>
                    <a:pt x="6818" y="860"/>
                  </a:lnTo>
                  <a:lnTo>
                    <a:pt x="6822" y="85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078640" y="1821600"/>
              <a:ext cx="637560" cy="252360"/>
            </a:xfrm>
            <a:custGeom>
              <a:avLst/>
              <a:gdLst/>
              <a:ahLst/>
              <a:rect l="l" t="t" r="r" b="b"/>
              <a:pathLst>
                <a:path w="1772" h="699">
                  <a:moveTo>
                    <a:pt x="1210" y="318"/>
                  </a:moveTo>
                  <a:lnTo>
                    <a:pt x="1214" y="318"/>
                  </a:lnTo>
                  <a:lnTo>
                    <a:pt x="1218" y="323"/>
                  </a:lnTo>
                  <a:lnTo>
                    <a:pt x="1222" y="327"/>
                  </a:lnTo>
                  <a:lnTo>
                    <a:pt x="1218" y="330"/>
                  </a:lnTo>
                  <a:lnTo>
                    <a:pt x="1218" y="330"/>
                  </a:lnTo>
                  <a:lnTo>
                    <a:pt x="1218" y="333"/>
                  </a:lnTo>
                  <a:lnTo>
                    <a:pt x="1222" y="335"/>
                  </a:lnTo>
                  <a:lnTo>
                    <a:pt x="1222" y="335"/>
                  </a:lnTo>
                  <a:lnTo>
                    <a:pt x="1234" y="330"/>
                  </a:lnTo>
                  <a:lnTo>
                    <a:pt x="1234" y="335"/>
                  </a:lnTo>
                  <a:lnTo>
                    <a:pt x="1239" y="340"/>
                  </a:lnTo>
                  <a:lnTo>
                    <a:pt x="1258" y="338"/>
                  </a:lnTo>
                  <a:lnTo>
                    <a:pt x="1267" y="342"/>
                  </a:lnTo>
                  <a:lnTo>
                    <a:pt x="1275" y="342"/>
                  </a:lnTo>
                  <a:lnTo>
                    <a:pt x="1271" y="345"/>
                  </a:lnTo>
                  <a:lnTo>
                    <a:pt x="1251" y="345"/>
                  </a:lnTo>
                  <a:lnTo>
                    <a:pt x="1251" y="347"/>
                  </a:lnTo>
                  <a:lnTo>
                    <a:pt x="1263" y="353"/>
                  </a:lnTo>
                  <a:lnTo>
                    <a:pt x="1275" y="401"/>
                  </a:lnTo>
                  <a:lnTo>
                    <a:pt x="1299" y="416"/>
                  </a:lnTo>
                  <a:lnTo>
                    <a:pt x="1282" y="453"/>
                  </a:lnTo>
                  <a:lnTo>
                    <a:pt x="1294" y="475"/>
                  </a:lnTo>
                  <a:lnTo>
                    <a:pt x="1351" y="542"/>
                  </a:lnTo>
                  <a:lnTo>
                    <a:pt x="1365" y="596"/>
                  </a:lnTo>
                  <a:lnTo>
                    <a:pt x="1327" y="606"/>
                  </a:lnTo>
                  <a:lnTo>
                    <a:pt x="1346" y="698"/>
                  </a:lnTo>
                  <a:lnTo>
                    <a:pt x="1388" y="673"/>
                  </a:lnTo>
                  <a:lnTo>
                    <a:pt x="1400" y="607"/>
                  </a:lnTo>
                  <a:lnTo>
                    <a:pt x="1409" y="601"/>
                  </a:lnTo>
                  <a:lnTo>
                    <a:pt x="1424" y="573"/>
                  </a:lnTo>
                  <a:lnTo>
                    <a:pt x="1417" y="554"/>
                  </a:lnTo>
                  <a:lnTo>
                    <a:pt x="1444" y="537"/>
                  </a:lnTo>
                  <a:lnTo>
                    <a:pt x="1464" y="534"/>
                  </a:lnTo>
                  <a:lnTo>
                    <a:pt x="1497" y="552"/>
                  </a:lnTo>
                  <a:lnTo>
                    <a:pt x="1570" y="557"/>
                  </a:lnTo>
                  <a:lnTo>
                    <a:pt x="1586" y="546"/>
                  </a:lnTo>
                  <a:lnTo>
                    <a:pt x="1594" y="542"/>
                  </a:lnTo>
                  <a:lnTo>
                    <a:pt x="1610" y="546"/>
                  </a:lnTo>
                  <a:lnTo>
                    <a:pt x="1651" y="537"/>
                  </a:lnTo>
                  <a:lnTo>
                    <a:pt x="1682" y="537"/>
                  </a:lnTo>
                  <a:lnTo>
                    <a:pt x="1695" y="527"/>
                  </a:lnTo>
                  <a:lnTo>
                    <a:pt x="1755" y="532"/>
                  </a:lnTo>
                  <a:lnTo>
                    <a:pt x="1771" y="537"/>
                  </a:lnTo>
                  <a:lnTo>
                    <a:pt x="1759" y="519"/>
                  </a:lnTo>
                  <a:lnTo>
                    <a:pt x="1731" y="510"/>
                  </a:lnTo>
                  <a:lnTo>
                    <a:pt x="1727" y="495"/>
                  </a:lnTo>
                  <a:lnTo>
                    <a:pt x="1678" y="475"/>
                  </a:lnTo>
                  <a:lnTo>
                    <a:pt x="1678" y="466"/>
                  </a:lnTo>
                  <a:lnTo>
                    <a:pt x="1634" y="456"/>
                  </a:lnTo>
                  <a:lnTo>
                    <a:pt x="1639" y="446"/>
                  </a:lnTo>
                  <a:lnTo>
                    <a:pt x="1610" y="446"/>
                  </a:lnTo>
                  <a:lnTo>
                    <a:pt x="1610" y="426"/>
                  </a:lnTo>
                  <a:lnTo>
                    <a:pt x="1614" y="423"/>
                  </a:lnTo>
                  <a:lnTo>
                    <a:pt x="1614" y="419"/>
                  </a:lnTo>
                  <a:lnTo>
                    <a:pt x="1597" y="404"/>
                  </a:lnTo>
                  <a:lnTo>
                    <a:pt x="1574" y="392"/>
                  </a:lnTo>
                  <a:lnTo>
                    <a:pt x="1582" y="384"/>
                  </a:lnTo>
                  <a:lnTo>
                    <a:pt x="1566" y="374"/>
                  </a:lnTo>
                  <a:lnTo>
                    <a:pt x="1558" y="353"/>
                  </a:lnTo>
                  <a:lnTo>
                    <a:pt x="1533" y="347"/>
                  </a:lnTo>
                  <a:lnTo>
                    <a:pt x="1549" y="333"/>
                  </a:lnTo>
                  <a:lnTo>
                    <a:pt x="1541" y="323"/>
                  </a:lnTo>
                  <a:lnTo>
                    <a:pt x="1558" y="316"/>
                  </a:lnTo>
                  <a:lnTo>
                    <a:pt x="1549" y="303"/>
                  </a:lnTo>
                  <a:lnTo>
                    <a:pt x="1561" y="301"/>
                  </a:lnTo>
                  <a:lnTo>
                    <a:pt x="1570" y="281"/>
                  </a:lnTo>
                  <a:lnTo>
                    <a:pt x="1610" y="276"/>
                  </a:lnTo>
                  <a:lnTo>
                    <a:pt x="1610" y="269"/>
                  </a:lnTo>
                  <a:lnTo>
                    <a:pt x="1606" y="257"/>
                  </a:lnTo>
                  <a:lnTo>
                    <a:pt x="1606" y="244"/>
                  </a:lnTo>
                  <a:lnTo>
                    <a:pt x="1601" y="232"/>
                  </a:lnTo>
                  <a:lnTo>
                    <a:pt x="1601" y="222"/>
                  </a:lnTo>
                  <a:lnTo>
                    <a:pt x="1597" y="210"/>
                  </a:lnTo>
                  <a:lnTo>
                    <a:pt x="1597" y="197"/>
                  </a:lnTo>
                  <a:lnTo>
                    <a:pt x="1594" y="185"/>
                  </a:lnTo>
                  <a:lnTo>
                    <a:pt x="1574" y="178"/>
                  </a:lnTo>
                  <a:lnTo>
                    <a:pt x="1549" y="170"/>
                  </a:lnTo>
                  <a:lnTo>
                    <a:pt x="1545" y="170"/>
                  </a:lnTo>
                  <a:lnTo>
                    <a:pt x="1529" y="166"/>
                  </a:lnTo>
                  <a:lnTo>
                    <a:pt x="1509" y="158"/>
                  </a:lnTo>
                  <a:lnTo>
                    <a:pt x="1497" y="156"/>
                  </a:lnTo>
                  <a:lnTo>
                    <a:pt x="1489" y="151"/>
                  </a:lnTo>
                  <a:lnTo>
                    <a:pt x="1464" y="146"/>
                  </a:lnTo>
                  <a:lnTo>
                    <a:pt x="1448" y="141"/>
                  </a:lnTo>
                  <a:lnTo>
                    <a:pt x="1444" y="138"/>
                  </a:lnTo>
                  <a:lnTo>
                    <a:pt x="1420" y="131"/>
                  </a:lnTo>
                  <a:lnTo>
                    <a:pt x="1400" y="126"/>
                  </a:lnTo>
                  <a:lnTo>
                    <a:pt x="1396" y="124"/>
                  </a:lnTo>
                  <a:lnTo>
                    <a:pt x="1376" y="119"/>
                  </a:lnTo>
                  <a:lnTo>
                    <a:pt x="1352" y="112"/>
                  </a:lnTo>
                  <a:lnTo>
                    <a:pt x="1348" y="109"/>
                  </a:lnTo>
                  <a:lnTo>
                    <a:pt x="1331" y="106"/>
                  </a:lnTo>
                  <a:lnTo>
                    <a:pt x="1311" y="99"/>
                  </a:lnTo>
                  <a:lnTo>
                    <a:pt x="1294" y="97"/>
                  </a:lnTo>
                  <a:lnTo>
                    <a:pt x="1287" y="94"/>
                  </a:lnTo>
                  <a:lnTo>
                    <a:pt x="1278" y="92"/>
                  </a:lnTo>
                  <a:lnTo>
                    <a:pt x="1258" y="97"/>
                  </a:lnTo>
                  <a:lnTo>
                    <a:pt x="1242" y="101"/>
                  </a:lnTo>
                  <a:lnTo>
                    <a:pt x="1239" y="104"/>
                  </a:lnTo>
                  <a:lnTo>
                    <a:pt x="1222" y="109"/>
                  </a:lnTo>
                  <a:lnTo>
                    <a:pt x="1218" y="112"/>
                  </a:lnTo>
                  <a:lnTo>
                    <a:pt x="1198" y="104"/>
                  </a:lnTo>
                  <a:lnTo>
                    <a:pt x="1178" y="97"/>
                  </a:lnTo>
                  <a:lnTo>
                    <a:pt x="1174" y="97"/>
                  </a:lnTo>
                  <a:lnTo>
                    <a:pt x="1154" y="94"/>
                  </a:lnTo>
                  <a:lnTo>
                    <a:pt x="1133" y="92"/>
                  </a:lnTo>
                  <a:lnTo>
                    <a:pt x="1129" y="92"/>
                  </a:lnTo>
                  <a:lnTo>
                    <a:pt x="1118" y="94"/>
                  </a:lnTo>
                  <a:lnTo>
                    <a:pt x="1097" y="101"/>
                  </a:lnTo>
                  <a:lnTo>
                    <a:pt x="1094" y="104"/>
                  </a:lnTo>
                  <a:lnTo>
                    <a:pt x="1077" y="109"/>
                  </a:lnTo>
                  <a:lnTo>
                    <a:pt x="1060" y="116"/>
                  </a:lnTo>
                  <a:lnTo>
                    <a:pt x="1049" y="121"/>
                  </a:lnTo>
                  <a:lnTo>
                    <a:pt x="1041" y="124"/>
                  </a:lnTo>
                  <a:lnTo>
                    <a:pt x="1021" y="134"/>
                  </a:lnTo>
                  <a:lnTo>
                    <a:pt x="1008" y="138"/>
                  </a:lnTo>
                  <a:lnTo>
                    <a:pt x="1001" y="138"/>
                  </a:lnTo>
                  <a:lnTo>
                    <a:pt x="984" y="148"/>
                  </a:lnTo>
                  <a:lnTo>
                    <a:pt x="964" y="156"/>
                  </a:lnTo>
                  <a:lnTo>
                    <a:pt x="961" y="156"/>
                  </a:lnTo>
                  <a:lnTo>
                    <a:pt x="944" y="166"/>
                  </a:lnTo>
                  <a:lnTo>
                    <a:pt x="936" y="170"/>
                  </a:lnTo>
                  <a:lnTo>
                    <a:pt x="928" y="175"/>
                  </a:lnTo>
                  <a:lnTo>
                    <a:pt x="911" y="185"/>
                  </a:lnTo>
                  <a:lnTo>
                    <a:pt x="895" y="190"/>
                  </a:lnTo>
                  <a:lnTo>
                    <a:pt x="887" y="190"/>
                  </a:lnTo>
                  <a:lnTo>
                    <a:pt x="867" y="192"/>
                  </a:lnTo>
                  <a:lnTo>
                    <a:pt x="843" y="195"/>
                  </a:lnTo>
                  <a:lnTo>
                    <a:pt x="822" y="197"/>
                  </a:lnTo>
                  <a:lnTo>
                    <a:pt x="810" y="200"/>
                  </a:lnTo>
                  <a:lnTo>
                    <a:pt x="799" y="195"/>
                  </a:lnTo>
                  <a:lnTo>
                    <a:pt x="802" y="180"/>
                  </a:lnTo>
                  <a:lnTo>
                    <a:pt x="754" y="170"/>
                  </a:lnTo>
                  <a:lnTo>
                    <a:pt x="725" y="158"/>
                  </a:lnTo>
                  <a:lnTo>
                    <a:pt x="725" y="148"/>
                  </a:lnTo>
                  <a:lnTo>
                    <a:pt x="718" y="146"/>
                  </a:lnTo>
                  <a:lnTo>
                    <a:pt x="701" y="138"/>
                  </a:lnTo>
                  <a:lnTo>
                    <a:pt x="682" y="131"/>
                  </a:lnTo>
                  <a:lnTo>
                    <a:pt x="677" y="129"/>
                  </a:lnTo>
                  <a:lnTo>
                    <a:pt x="673" y="129"/>
                  </a:lnTo>
                  <a:lnTo>
                    <a:pt x="653" y="119"/>
                  </a:lnTo>
                  <a:lnTo>
                    <a:pt x="638" y="112"/>
                  </a:lnTo>
                  <a:lnTo>
                    <a:pt x="633" y="112"/>
                  </a:lnTo>
                  <a:lnTo>
                    <a:pt x="617" y="104"/>
                  </a:lnTo>
                  <a:lnTo>
                    <a:pt x="597" y="97"/>
                  </a:lnTo>
                  <a:lnTo>
                    <a:pt x="593" y="92"/>
                  </a:lnTo>
                  <a:lnTo>
                    <a:pt x="581" y="87"/>
                  </a:lnTo>
                  <a:lnTo>
                    <a:pt x="561" y="79"/>
                  </a:lnTo>
                  <a:lnTo>
                    <a:pt x="548" y="75"/>
                  </a:lnTo>
                  <a:lnTo>
                    <a:pt x="540" y="72"/>
                  </a:lnTo>
                  <a:lnTo>
                    <a:pt x="524" y="65"/>
                  </a:lnTo>
                  <a:lnTo>
                    <a:pt x="503" y="57"/>
                  </a:lnTo>
                  <a:lnTo>
                    <a:pt x="499" y="55"/>
                  </a:lnTo>
                  <a:lnTo>
                    <a:pt x="496" y="52"/>
                  </a:lnTo>
                  <a:lnTo>
                    <a:pt x="480" y="47"/>
                  </a:lnTo>
                  <a:lnTo>
                    <a:pt x="463" y="40"/>
                  </a:lnTo>
                  <a:lnTo>
                    <a:pt x="455" y="35"/>
                  </a:lnTo>
                  <a:lnTo>
                    <a:pt x="443" y="33"/>
                  </a:lnTo>
                  <a:lnTo>
                    <a:pt x="423" y="23"/>
                  </a:lnTo>
                  <a:lnTo>
                    <a:pt x="411" y="18"/>
                  </a:lnTo>
                  <a:lnTo>
                    <a:pt x="404" y="16"/>
                  </a:lnTo>
                  <a:lnTo>
                    <a:pt x="387" y="8"/>
                  </a:lnTo>
                  <a:lnTo>
                    <a:pt x="366" y="0"/>
                  </a:lnTo>
                  <a:lnTo>
                    <a:pt x="366" y="8"/>
                  </a:lnTo>
                  <a:lnTo>
                    <a:pt x="362" y="20"/>
                  </a:lnTo>
                  <a:lnTo>
                    <a:pt x="362" y="33"/>
                  </a:lnTo>
                  <a:lnTo>
                    <a:pt x="346" y="33"/>
                  </a:lnTo>
                  <a:lnTo>
                    <a:pt x="326" y="33"/>
                  </a:lnTo>
                  <a:lnTo>
                    <a:pt x="306" y="33"/>
                  </a:lnTo>
                  <a:lnTo>
                    <a:pt x="290" y="33"/>
                  </a:lnTo>
                  <a:lnTo>
                    <a:pt x="269" y="33"/>
                  </a:lnTo>
                  <a:lnTo>
                    <a:pt x="253" y="33"/>
                  </a:lnTo>
                  <a:lnTo>
                    <a:pt x="242" y="33"/>
                  </a:lnTo>
                  <a:lnTo>
                    <a:pt x="238" y="43"/>
                  </a:lnTo>
                  <a:lnTo>
                    <a:pt x="238" y="55"/>
                  </a:lnTo>
                  <a:lnTo>
                    <a:pt x="238" y="67"/>
                  </a:lnTo>
                  <a:lnTo>
                    <a:pt x="233" y="79"/>
                  </a:lnTo>
                  <a:lnTo>
                    <a:pt x="233" y="92"/>
                  </a:lnTo>
                  <a:lnTo>
                    <a:pt x="233" y="92"/>
                  </a:lnTo>
                  <a:lnTo>
                    <a:pt x="209" y="97"/>
                  </a:lnTo>
                  <a:lnTo>
                    <a:pt x="193" y="104"/>
                  </a:lnTo>
                  <a:lnTo>
                    <a:pt x="189" y="112"/>
                  </a:lnTo>
                  <a:lnTo>
                    <a:pt x="193" y="116"/>
                  </a:lnTo>
                  <a:lnTo>
                    <a:pt x="189" y="129"/>
                  </a:lnTo>
                  <a:lnTo>
                    <a:pt x="189" y="143"/>
                  </a:lnTo>
                  <a:lnTo>
                    <a:pt x="173" y="143"/>
                  </a:lnTo>
                  <a:lnTo>
                    <a:pt x="165" y="143"/>
                  </a:lnTo>
                  <a:lnTo>
                    <a:pt x="149" y="143"/>
                  </a:lnTo>
                  <a:lnTo>
                    <a:pt x="137" y="143"/>
                  </a:lnTo>
                  <a:lnTo>
                    <a:pt x="120" y="143"/>
                  </a:lnTo>
                  <a:lnTo>
                    <a:pt x="100" y="143"/>
                  </a:lnTo>
                  <a:lnTo>
                    <a:pt x="80" y="143"/>
                  </a:lnTo>
                  <a:lnTo>
                    <a:pt x="64" y="143"/>
                  </a:lnTo>
                  <a:lnTo>
                    <a:pt x="43" y="143"/>
                  </a:lnTo>
                  <a:lnTo>
                    <a:pt x="40" y="146"/>
                  </a:lnTo>
                  <a:lnTo>
                    <a:pt x="36" y="156"/>
                  </a:lnTo>
                  <a:lnTo>
                    <a:pt x="43" y="146"/>
                  </a:lnTo>
                  <a:lnTo>
                    <a:pt x="52" y="158"/>
                  </a:lnTo>
                  <a:lnTo>
                    <a:pt x="68" y="168"/>
                  </a:lnTo>
                  <a:lnTo>
                    <a:pt x="60" y="185"/>
                  </a:lnTo>
                  <a:lnTo>
                    <a:pt x="52" y="190"/>
                  </a:lnTo>
                  <a:lnTo>
                    <a:pt x="64" y="200"/>
                  </a:lnTo>
                  <a:lnTo>
                    <a:pt x="68" y="229"/>
                  </a:lnTo>
                  <a:lnTo>
                    <a:pt x="43" y="269"/>
                  </a:lnTo>
                  <a:lnTo>
                    <a:pt x="52" y="259"/>
                  </a:lnTo>
                  <a:lnTo>
                    <a:pt x="43" y="269"/>
                  </a:lnTo>
                  <a:lnTo>
                    <a:pt x="43" y="276"/>
                  </a:lnTo>
                  <a:lnTo>
                    <a:pt x="27" y="288"/>
                  </a:lnTo>
                  <a:lnTo>
                    <a:pt x="0" y="301"/>
                  </a:lnTo>
                  <a:lnTo>
                    <a:pt x="14" y="303"/>
                  </a:lnTo>
                  <a:lnTo>
                    <a:pt x="27" y="323"/>
                  </a:lnTo>
                  <a:lnTo>
                    <a:pt x="43" y="316"/>
                  </a:lnTo>
                  <a:lnTo>
                    <a:pt x="27" y="320"/>
                  </a:lnTo>
                  <a:lnTo>
                    <a:pt x="31" y="325"/>
                  </a:lnTo>
                  <a:lnTo>
                    <a:pt x="40" y="320"/>
                  </a:lnTo>
                  <a:lnTo>
                    <a:pt x="36" y="327"/>
                  </a:lnTo>
                  <a:lnTo>
                    <a:pt x="51" y="303"/>
                  </a:lnTo>
                  <a:lnTo>
                    <a:pt x="94" y="305"/>
                  </a:lnTo>
                  <a:lnTo>
                    <a:pt x="123" y="305"/>
                  </a:lnTo>
                  <a:lnTo>
                    <a:pt x="137" y="327"/>
                  </a:lnTo>
                  <a:lnTo>
                    <a:pt x="141" y="330"/>
                  </a:lnTo>
                  <a:lnTo>
                    <a:pt x="144" y="333"/>
                  </a:lnTo>
                  <a:lnTo>
                    <a:pt x="93" y="327"/>
                  </a:lnTo>
                  <a:lnTo>
                    <a:pt x="68" y="335"/>
                  </a:lnTo>
                  <a:lnTo>
                    <a:pt x="64" y="335"/>
                  </a:lnTo>
                  <a:lnTo>
                    <a:pt x="64" y="338"/>
                  </a:lnTo>
                  <a:lnTo>
                    <a:pt x="43" y="338"/>
                  </a:lnTo>
                  <a:lnTo>
                    <a:pt x="31" y="340"/>
                  </a:lnTo>
                  <a:lnTo>
                    <a:pt x="27" y="342"/>
                  </a:lnTo>
                  <a:lnTo>
                    <a:pt x="27" y="353"/>
                  </a:lnTo>
                  <a:lnTo>
                    <a:pt x="31" y="347"/>
                  </a:lnTo>
                  <a:lnTo>
                    <a:pt x="40" y="353"/>
                  </a:lnTo>
                  <a:lnTo>
                    <a:pt x="72" y="353"/>
                  </a:lnTo>
                  <a:lnTo>
                    <a:pt x="80" y="347"/>
                  </a:lnTo>
                  <a:lnTo>
                    <a:pt x="72" y="355"/>
                  </a:lnTo>
                  <a:lnTo>
                    <a:pt x="31" y="353"/>
                  </a:lnTo>
                  <a:lnTo>
                    <a:pt x="27" y="360"/>
                  </a:lnTo>
                  <a:lnTo>
                    <a:pt x="84" y="350"/>
                  </a:lnTo>
                  <a:lnTo>
                    <a:pt x="88" y="350"/>
                  </a:lnTo>
                  <a:lnTo>
                    <a:pt x="104" y="350"/>
                  </a:lnTo>
                  <a:lnTo>
                    <a:pt x="124" y="350"/>
                  </a:lnTo>
                  <a:lnTo>
                    <a:pt x="144" y="350"/>
                  </a:lnTo>
                  <a:lnTo>
                    <a:pt x="144" y="360"/>
                  </a:lnTo>
                  <a:lnTo>
                    <a:pt x="137" y="365"/>
                  </a:lnTo>
                  <a:lnTo>
                    <a:pt x="144" y="374"/>
                  </a:lnTo>
                  <a:lnTo>
                    <a:pt x="104" y="379"/>
                  </a:lnTo>
                  <a:lnTo>
                    <a:pt x="93" y="392"/>
                  </a:lnTo>
                  <a:lnTo>
                    <a:pt x="93" y="397"/>
                  </a:lnTo>
                  <a:lnTo>
                    <a:pt x="104" y="392"/>
                  </a:lnTo>
                  <a:lnTo>
                    <a:pt x="104" y="399"/>
                  </a:lnTo>
                  <a:lnTo>
                    <a:pt x="112" y="394"/>
                  </a:lnTo>
                  <a:lnTo>
                    <a:pt x="104" y="404"/>
                  </a:lnTo>
                  <a:lnTo>
                    <a:pt x="124" y="414"/>
                  </a:lnTo>
                  <a:lnTo>
                    <a:pt x="132" y="411"/>
                  </a:lnTo>
                  <a:lnTo>
                    <a:pt x="144" y="416"/>
                  </a:lnTo>
                  <a:lnTo>
                    <a:pt x="141" y="429"/>
                  </a:lnTo>
                  <a:lnTo>
                    <a:pt x="157" y="431"/>
                  </a:lnTo>
                  <a:lnTo>
                    <a:pt x="157" y="438"/>
                  </a:lnTo>
                  <a:lnTo>
                    <a:pt x="176" y="433"/>
                  </a:lnTo>
                  <a:lnTo>
                    <a:pt x="193" y="419"/>
                  </a:lnTo>
                  <a:lnTo>
                    <a:pt x="213" y="416"/>
                  </a:lnTo>
                  <a:lnTo>
                    <a:pt x="229" y="416"/>
                  </a:lnTo>
                  <a:lnTo>
                    <a:pt x="242" y="416"/>
                  </a:lnTo>
                  <a:lnTo>
                    <a:pt x="261" y="433"/>
                  </a:lnTo>
                  <a:lnTo>
                    <a:pt x="258" y="438"/>
                  </a:lnTo>
                  <a:lnTo>
                    <a:pt x="269" y="448"/>
                  </a:lnTo>
                  <a:lnTo>
                    <a:pt x="261" y="453"/>
                  </a:lnTo>
                  <a:lnTo>
                    <a:pt x="258" y="458"/>
                  </a:lnTo>
                  <a:lnTo>
                    <a:pt x="278" y="453"/>
                  </a:lnTo>
                  <a:lnTo>
                    <a:pt x="294" y="451"/>
                  </a:lnTo>
                  <a:lnTo>
                    <a:pt x="306" y="456"/>
                  </a:lnTo>
                  <a:lnTo>
                    <a:pt x="310" y="475"/>
                  </a:lnTo>
                  <a:lnTo>
                    <a:pt x="306" y="480"/>
                  </a:lnTo>
                  <a:lnTo>
                    <a:pt x="323" y="483"/>
                  </a:lnTo>
                  <a:lnTo>
                    <a:pt x="346" y="475"/>
                  </a:lnTo>
                  <a:lnTo>
                    <a:pt x="354" y="488"/>
                  </a:lnTo>
                  <a:lnTo>
                    <a:pt x="342" y="500"/>
                  </a:lnTo>
                  <a:lnTo>
                    <a:pt x="387" y="517"/>
                  </a:lnTo>
                  <a:lnTo>
                    <a:pt x="383" y="554"/>
                  </a:lnTo>
                  <a:lnTo>
                    <a:pt x="484" y="534"/>
                  </a:lnTo>
                  <a:lnTo>
                    <a:pt x="472" y="532"/>
                  </a:lnTo>
                  <a:lnTo>
                    <a:pt x="491" y="532"/>
                  </a:lnTo>
                  <a:lnTo>
                    <a:pt x="524" y="532"/>
                  </a:lnTo>
                  <a:lnTo>
                    <a:pt x="528" y="532"/>
                  </a:lnTo>
                  <a:lnTo>
                    <a:pt x="568" y="532"/>
                  </a:lnTo>
                  <a:lnTo>
                    <a:pt x="557" y="534"/>
                  </a:lnTo>
                  <a:lnTo>
                    <a:pt x="572" y="534"/>
                  </a:lnTo>
                  <a:lnTo>
                    <a:pt x="561" y="519"/>
                  </a:lnTo>
                  <a:lnTo>
                    <a:pt x="552" y="497"/>
                  </a:lnTo>
                  <a:lnTo>
                    <a:pt x="584" y="461"/>
                  </a:lnTo>
                  <a:lnTo>
                    <a:pt x="581" y="446"/>
                  </a:lnTo>
                  <a:lnTo>
                    <a:pt x="576" y="429"/>
                  </a:lnTo>
                  <a:lnTo>
                    <a:pt x="568" y="392"/>
                  </a:lnTo>
                  <a:lnTo>
                    <a:pt x="581" y="392"/>
                  </a:lnTo>
                  <a:lnTo>
                    <a:pt x="600" y="392"/>
                  </a:lnTo>
                  <a:lnTo>
                    <a:pt x="621" y="392"/>
                  </a:lnTo>
                  <a:lnTo>
                    <a:pt x="625" y="392"/>
                  </a:lnTo>
                  <a:lnTo>
                    <a:pt x="645" y="392"/>
                  </a:lnTo>
                  <a:lnTo>
                    <a:pt x="657" y="394"/>
                  </a:lnTo>
                  <a:lnTo>
                    <a:pt x="669" y="389"/>
                  </a:lnTo>
                  <a:lnTo>
                    <a:pt x="677" y="389"/>
                  </a:lnTo>
                  <a:lnTo>
                    <a:pt x="682" y="389"/>
                  </a:lnTo>
                  <a:lnTo>
                    <a:pt x="718" y="392"/>
                  </a:lnTo>
                  <a:lnTo>
                    <a:pt x="718" y="392"/>
                  </a:lnTo>
                  <a:lnTo>
                    <a:pt x="718" y="392"/>
                  </a:lnTo>
                  <a:lnTo>
                    <a:pt x="718" y="394"/>
                  </a:lnTo>
                  <a:lnTo>
                    <a:pt x="714" y="407"/>
                  </a:lnTo>
                  <a:lnTo>
                    <a:pt x="734" y="416"/>
                  </a:lnTo>
                  <a:lnTo>
                    <a:pt x="746" y="438"/>
                  </a:lnTo>
                  <a:lnTo>
                    <a:pt x="746" y="456"/>
                  </a:lnTo>
                  <a:lnTo>
                    <a:pt x="746" y="468"/>
                  </a:lnTo>
                  <a:lnTo>
                    <a:pt x="746" y="473"/>
                  </a:lnTo>
                  <a:lnTo>
                    <a:pt x="742" y="488"/>
                  </a:lnTo>
                  <a:lnTo>
                    <a:pt x="746" y="507"/>
                  </a:lnTo>
                  <a:lnTo>
                    <a:pt x="750" y="507"/>
                  </a:lnTo>
                  <a:lnTo>
                    <a:pt x="774" y="505"/>
                  </a:lnTo>
                  <a:lnTo>
                    <a:pt x="791" y="505"/>
                  </a:lnTo>
                  <a:lnTo>
                    <a:pt x="791" y="438"/>
                  </a:lnTo>
                  <a:lnTo>
                    <a:pt x="802" y="438"/>
                  </a:lnTo>
                  <a:lnTo>
                    <a:pt x="835" y="401"/>
                  </a:lnTo>
                  <a:lnTo>
                    <a:pt x="822" y="374"/>
                  </a:lnTo>
                  <a:lnTo>
                    <a:pt x="822" y="374"/>
                  </a:lnTo>
                  <a:lnTo>
                    <a:pt x="822" y="374"/>
                  </a:lnTo>
                  <a:lnTo>
                    <a:pt x="822" y="374"/>
                  </a:lnTo>
                  <a:lnTo>
                    <a:pt x="822" y="355"/>
                  </a:lnTo>
                  <a:lnTo>
                    <a:pt x="843" y="342"/>
                  </a:lnTo>
                  <a:lnTo>
                    <a:pt x="843" y="333"/>
                  </a:lnTo>
                  <a:lnTo>
                    <a:pt x="872" y="325"/>
                  </a:lnTo>
                  <a:lnTo>
                    <a:pt x="928" y="327"/>
                  </a:lnTo>
                  <a:lnTo>
                    <a:pt x="952" y="342"/>
                  </a:lnTo>
                  <a:lnTo>
                    <a:pt x="988" y="335"/>
                  </a:lnTo>
                  <a:lnTo>
                    <a:pt x="1057" y="347"/>
                  </a:lnTo>
                  <a:lnTo>
                    <a:pt x="1097" y="335"/>
                  </a:lnTo>
                  <a:lnTo>
                    <a:pt x="1170" y="342"/>
                  </a:lnTo>
                  <a:lnTo>
                    <a:pt x="1183" y="330"/>
                  </a:lnTo>
                  <a:lnTo>
                    <a:pt x="1202" y="325"/>
                  </a:lnTo>
                  <a:lnTo>
                    <a:pt x="1198" y="323"/>
                  </a:lnTo>
                  <a:lnTo>
                    <a:pt x="1206" y="320"/>
                  </a:lnTo>
                  <a:lnTo>
                    <a:pt x="1210" y="31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40640" y="1988280"/>
              <a:ext cx="7560" cy="936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2" y="0"/>
                  </a:moveTo>
                  <a:lnTo>
                    <a:pt x="12" y="0"/>
                  </a:lnTo>
                  <a:lnTo>
                    <a:pt x="4" y="14"/>
                  </a:lnTo>
                  <a:lnTo>
                    <a:pt x="9" y="20"/>
                  </a:lnTo>
                  <a:lnTo>
                    <a:pt x="16" y="12"/>
                  </a:lnTo>
                  <a:lnTo>
                    <a:pt x="21" y="14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448360" y="2045520"/>
              <a:ext cx="115560" cy="56880"/>
            </a:xfrm>
            <a:custGeom>
              <a:avLst/>
              <a:gdLst/>
              <a:ahLst/>
              <a:rect l="l" t="t" r="r" b="b"/>
              <a:pathLst>
                <a:path w="320" h="158">
                  <a:moveTo>
                    <a:pt x="222" y="5"/>
                  </a:moveTo>
                  <a:lnTo>
                    <a:pt x="252" y="2"/>
                  </a:lnTo>
                  <a:lnTo>
                    <a:pt x="278" y="79"/>
                  </a:lnTo>
                  <a:lnTo>
                    <a:pt x="319" y="74"/>
                  </a:lnTo>
                  <a:lnTo>
                    <a:pt x="298" y="88"/>
                  </a:lnTo>
                  <a:lnTo>
                    <a:pt x="294" y="110"/>
                  </a:lnTo>
                  <a:lnTo>
                    <a:pt x="298" y="115"/>
                  </a:lnTo>
                  <a:lnTo>
                    <a:pt x="287" y="130"/>
                  </a:lnTo>
                  <a:lnTo>
                    <a:pt x="234" y="155"/>
                  </a:lnTo>
                  <a:lnTo>
                    <a:pt x="226" y="155"/>
                  </a:lnTo>
                  <a:lnTo>
                    <a:pt x="226" y="140"/>
                  </a:lnTo>
                  <a:lnTo>
                    <a:pt x="197" y="142"/>
                  </a:lnTo>
                  <a:lnTo>
                    <a:pt x="185" y="155"/>
                  </a:lnTo>
                  <a:lnTo>
                    <a:pt x="173" y="147"/>
                  </a:lnTo>
                  <a:lnTo>
                    <a:pt x="161" y="142"/>
                  </a:lnTo>
                  <a:lnTo>
                    <a:pt x="145" y="147"/>
                  </a:lnTo>
                  <a:lnTo>
                    <a:pt x="128" y="157"/>
                  </a:lnTo>
                  <a:lnTo>
                    <a:pt x="96" y="133"/>
                  </a:lnTo>
                  <a:lnTo>
                    <a:pt x="40" y="95"/>
                  </a:lnTo>
                  <a:lnTo>
                    <a:pt x="56" y="95"/>
                  </a:lnTo>
                  <a:lnTo>
                    <a:pt x="36" y="93"/>
                  </a:lnTo>
                  <a:lnTo>
                    <a:pt x="20" y="81"/>
                  </a:lnTo>
                  <a:lnTo>
                    <a:pt x="31" y="86"/>
                  </a:lnTo>
                  <a:lnTo>
                    <a:pt x="20" y="81"/>
                  </a:lnTo>
                  <a:lnTo>
                    <a:pt x="12" y="66"/>
                  </a:lnTo>
                  <a:lnTo>
                    <a:pt x="31" y="73"/>
                  </a:lnTo>
                  <a:lnTo>
                    <a:pt x="24" y="73"/>
                  </a:lnTo>
                  <a:lnTo>
                    <a:pt x="12" y="66"/>
                  </a:lnTo>
                  <a:lnTo>
                    <a:pt x="0" y="52"/>
                  </a:lnTo>
                  <a:lnTo>
                    <a:pt x="12" y="56"/>
                  </a:lnTo>
                  <a:lnTo>
                    <a:pt x="24" y="32"/>
                  </a:lnTo>
                  <a:lnTo>
                    <a:pt x="24" y="27"/>
                  </a:lnTo>
                  <a:lnTo>
                    <a:pt x="44" y="34"/>
                  </a:lnTo>
                  <a:lnTo>
                    <a:pt x="52" y="32"/>
                  </a:lnTo>
                  <a:lnTo>
                    <a:pt x="24" y="22"/>
                  </a:lnTo>
                  <a:lnTo>
                    <a:pt x="31" y="19"/>
                  </a:lnTo>
                  <a:lnTo>
                    <a:pt x="36" y="25"/>
                  </a:lnTo>
                  <a:lnTo>
                    <a:pt x="31" y="12"/>
                  </a:lnTo>
                  <a:lnTo>
                    <a:pt x="44" y="12"/>
                  </a:lnTo>
                  <a:lnTo>
                    <a:pt x="65" y="12"/>
                  </a:lnTo>
                  <a:lnTo>
                    <a:pt x="85" y="12"/>
                  </a:lnTo>
                  <a:lnTo>
                    <a:pt x="104" y="12"/>
                  </a:lnTo>
                  <a:lnTo>
                    <a:pt x="177" y="5"/>
                  </a:lnTo>
                  <a:lnTo>
                    <a:pt x="205" y="0"/>
                  </a:lnTo>
                  <a:lnTo>
                    <a:pt x="222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903760" y="2164320"/>
              <a:ext cx="118800" cy="118800"/>
            </a:xfrm>
            <a:custGeom>
              <a:avLst/>
              <a:gdLst/>
              <a:ahLst/>
              <a:rect l="l" t="t" r="r" b="b"/>
              <a:pathLst>
                <a:path w="332" h="332">
                  <a:moveTo>
                    <a:pt x="12" y="241"/>
                  </a:moveTo>
                  <a:lnTo>
                    <a:pt x="36" y="223"/>
                  </a:lnTo>
                  <a:lnTo>
                    <a:pt x="73" y="194"/>
                  </a:lnTo>
                  <a:lnTo>
                    <a:pt x="69" y="138"/>
                  </a:lnTo>
                  <a:lnTo>
                    <a:pt x="97" y="103"/>
                  </a:lnTo>
                  <a:lnTo>
                    <a:pt x="129" y="96"/>
                  </a:lnTo>
                  <a:lnTo>
                    <a:pt x="141" y="100"/>
                  </a:lnTo>
                  <a:lnTo>
                    <a:pt x="145" y="93"/>
                  </a:lnTo>
                  <a:lnTo>
                    <a:pt x="166" y="91"/>
                  </a:lnTo>
                  <a:lnTo>
                    <a:pt x="173" y="98"/>
                  </a:lnTo>
                  <a:lnTo>
                    <a:pt x="173" y="88"/>
                  </a:lnTo>
                  <a:lnTo>
                    <a:pt x="198" y="78"/>
                  </a:lnTo>
                  <a:lnTo>
                    <a:pt x="198" y="88"/>
                  </a:lnTo>
                  <a:lnTo>
                    <a:pt x="206" y="86"/>
                  </a:lnTo>
                  <a:lnTo>
                    <a:pt x="201" y="78"/>
                  </a:lnTo>
                  <a:lnTo>
                    <a:pt x="222" y="66"/>
                  </a:lnTo>
                  <a:lnTo>
                    <a:pt x="214" y="76"/>
                  </a:lnTo>
                  <a:lnTo>
                    <a:pt x="234" y="64"/>
                  </a:lnTo>
                  <a:lnTo>
                    <a:pt x="243" y="69"/>
                  </a:lnTo>
                  <a:lnTo>
                    <a:pt x="230" y="61"/>
                  </a:lnTo>
                  <a:lnTo>
                    <a:pt x="243" y="51"/>
                  </a:lnTo>
                  <a:lnTo>
                    <a:pt x="246" y="56"/>
                  </a:lnTo>
                  <a:lnTo>
                    <a:pt x="243" y="39"/>
                  </a:lnTo>
                  <a:lnTo>
                    <a:pt x="258" y="46"/>
                  </a:lnTo>
                  <a:lnTo>
                    <a:pt x="279" y="34"/>
                  </a:lnTo>
                  <a:lnTo>
                    <a:pt x="291" y="22"/>
                  </a:lnTo>
                  <a:lnTo>
                    <a:pt x="282" y="12"/>
                  </a:lnTo>
                  <a:lnTo>
                    <a:pt x="307" y="0"/>
                  </a:lnTo>
                  <a:lnTo>
                    <a:pt x="303" y="7"/>
                  </a:lnTo>
                  <a:lnTo>
                    <a:pt x="328" y="27"/>
                  </a:lnTo>
                  <a:lnTo>
                    <a:pt x="331" y="83"/>
                  </a:lnTo>
                  <a:lnTo>
                    <a:pt x="315" y="98"/>
                  </a:lnTo>
                  <a:lnTo>
                    <a:pt x="307" y="86"/>
                  </a:lnTo>
                  <a:lnTo>
                    <a:pt x="299" y="88"/>
                  </a:lnTo>
                  <a:lnTo>
                    <a:pt x="295" y="120"/>
                  </a:lnTo>
                  <a:lnTo>
                    <a:pt x="279" y="130"/>
                  </a:lnTo>
                  <a:lnTo>
                    <a:pt x="270" y="152"/>
                  </a:lnTo>
                  <a:lnTo>
                    <a:pt x="230" y="199"/>
                  </a:lnTo>
                  <a:lnTo>
                    <a:pt x="222" y="204"/>
                  </a:lnTo>
                  <a:lnTo>
                    <a:pt x="214" y="211"/>
                  </a:lnTo>
                  <a:lnTo>
                    <a:pt x="210" y="216"/>
                  </a:lnTo>
                  <a:lnTo>
                    <a:pt x="210" y="221"/>
                  </a:lnTo>
                  <a:lnTo>
                    <a:pt x="198" y="235"/>
                  </a:lnTo>
                  <a:lnTo>
                    <a:pt x="185" y="248"/>
                  </a:lnTo>
                  <a:lnTo>
                    <a:pt x="182" y="248"/>
                  </a:lnTo>
                  <a:lnTo>
                    <a:pt x="121" y="317"/>
                  </a:lnTo>
                  <a:lnTo>
                    <a:pt x="45" y="331"/>
                  </a:lnTo>
                  <a:lnTo>
                    <a:pt x="8" y="315"/>
                  </a:lnTo>
                  <a:lnTo>
                    <a:pt x="0" y="300"/>
                  </a:lnTo>
                  <a:lnTo>
                    <a:pt x="12" y="282"/>
                  </a:lnTo>
                  <a:lnTo>
                    <a:pt x="5" y="263"/>
                  </a:lnTo>
                  <a:lnTo>
                    <a:pt x="12" y="24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210400" y="1737720"/>
              <a:ext cx="274320" cy="155160"/>
            </a:xfrm>
            <a:custGeom>
              <a:avLst/>
              <a:gdLst/>
              <a:ahLst/>
              <a:rect l="l" t="t" r="r" b="b"/>
              <a:pathLst>
                <a:path w="764" h="434">
                  <a:moveTo>
                    <a:pt x="606" y="10"/>
                  </a:moveTo>
                  <a:lnTo>
                    <a:pt x="590" y="20"/>
                  </a:lnTo>
                  <a:lnTo>
                    <a:pt x="602" y="49"/>
                  </a:lnTo>
                  <a:lnTo>
                    <a:pt x="598" y="62"/>
                  </a:lnTo>
                  <a:lnTo>
                    <a:pt x="574" y="81"/>
                  </a:lnTo>
                  <a:lnTo>
                    <a:pt x="606" y="106"/>
                  </a:lnTo>
                  <a:lnTo>
                    <a:pt x="606" y="106"/>
                  </a:lnTo>
                  <a:lnTo>
                    <a:pt x="606" y="111"/>
                  </a:lnTo>
                  <a:lnTo>
                    <a:pt x="622" y="118"/>
                  </a:lnTo>
                  <a:lnTo>
                    <a:pt x="635" y="128"/>
                  </a:lnTo>
                  <a:lnTo>
                    <a:pt x="642" y="135"/>
                  </a:lnTo>
                  <a:lnTo>
                    <a:pt x="642" y="140"/>
                  </a:lnTo>
                  <a:lnTo>
                    <a:pt x="651" y="153"/>
                  </a:lnTo>
                  <a:lnTo>
                    <a:pt x="655" y="165"/>
                  </a:lnTo>
                  <a:lnTo>
                    <a:pt x="646" y="168"/>
                  </a:lnTo>
                  <a:lnTo>
                    <a:pt x="671" y="192"/>
                  </a:lnTo>
                  <a:lnTo>
                    <a:pt x="671" y="199"/>
                  </a:lnTo>
                  <a:lnTo>
                    <a:pt x="671" y="212"/>
                  </a:lnTo>
                  <a:lnTo>
                    <a:pt x="678" y="221"/>
                  </a:lnTo>
                  <a:lnTo>
                    <a:pt x="678" y="244"/>
                  </a:lnTo>
                  <a:lnTo>
                    <a:pt x="658" y="261"/>
                  </a:lnTo>
                  <a:lnTo>
                    <a:pt x="675" y="270"/>
                  </a:lnTo>
                  <a:lnTo>
                    <a:pt x="687" y="280"/>
                  </a:lnTo>
                  <a:lnTo>
                    <a:pt x="687" y="293"/>
                  </a:lnTo>
                  <a:lnTo>
                    <a:pt x="694" y="298"/>
                  </a:lnTo>
                  <a:lnTo>
                    <a:pt x="723" y="300"/>
                  </a:lnTo>
                  <a:lnTo>
                    <a:pt x="744" y="305"/>
                  </a:lnTo>
                  <a:lnTo>
                    <a:pt x="752" y="315"/>
                  </a:lnTo>
                  <a:lnTo>
                    <a:pt x="763" y="325"/>
                  </a:lnTo>
                  <a:lnTo>
                    <a:pt x="752" y="327"/>
                  </a:lnTo>
                  <a:lnTo>
                    <a:pt x="731" y="334"/>
                  </a:lnTo>
                  <a:lnTo>
                    <a:pt x="728" y="337"/>
                  </a:lnTo>
                  <a:lnTo>
                    <a:pt x="711" y="342"/>
                  </a:lnTo>
                  <a:lnTo>
                    <a:pt x="694" y="349"/>
                  </a:lnTo>
                  <a:lnTo>
                    <a:pt x="683" y="354"/>
                  </a:lnTo>
                  <a:lnTo>
                    <a:pt x="675" y="357"/>
                  </a:lnTo>
                  <a:lnTo>
                    <a:pt x="655" y="367"/>
                  </a:lnTo>
                  <a:lnTo>
                    <a:pt x="642" y="371"/>
                  </a:lnTo>
                  <a:lnTo>
                    <a:pt x="635" y="371"/>
                  </a:lnTo>
                  <a:lnTo>
                    <a:pt x="618" y="381"/>
                  </a:lnTo>
                  <a:lnTo>
                    <a:pt x="598" y="389"/>
                  </a:lnTo>
                  <a:lnTo>
                    <a:pt x="595" y="389"/>
                  </a:lnTo>
                  <a:lnTo>
                    <a:pt x="578" y="399"/>
                  </a:lnTo>
                  <a:lnTo>
                    <a:pt x="570" y="403"/>
                  </a:lnTo>
                  <a:lnTo>
                    <a:pt x="562" y="408"/>
                  </a:lnTo>
                  <a:lnTo>
                    <a:pt x="545" y="418"/>
                  </a:lnTo>
                  <a:lnTo>
                    <a:pt x="529" y="423"/>
                  </a:lnTo>
                  <a:lnTo>
                    <a:pt x="521" y="423"/>
                  </a:lnTo>
                  <a:lnTo>
                    <a:pt x="501" y="425"/>
                  </a:lnTo>
                  <a:lnTo>
                    <a:pt x="477" y="428"/>
                  </a:lnTo>
                  <a:lnTo>
                    <a:pt x="456" y="430"/>
                  </a:lnTo>
                  <a:lnTo>
                    <a:pt x="444" y="433"/>
                  </a:lnTo>
                  <a:lnTo>
                    <a:pt x="433" y="428"/>
                  </a:lnTo>
                  <a:lnTo>
                    <a:pt x="436" y="413"/>
                  </a:lnTo>
                  <a:lnTo>
                    <a:pt x="388" y="403"/>
                  </a:lnTo>
                  <a:lnTo>
                    <a:pt x="359" y="391"/>
                  </a:lnTo>
                  <a:lnTo>
                    <a:pt x="359" y="381"/>
                  </a:lnTo>
                  <a:lnTo>
                    <a:pt x="352" y="379"/>
                  </a:lnTo>
                  <a:lnTo>
                    <a:pt x="335" y="371"/>
                  </a:lnTo>
                  <a:lnTo>
                    <a:pt x="316" y="364"/>
                  </a:lnTo>
                  <a:lnTo>
                    <a:pt x="311" y="362"/>
                  </a:lnTo>
                  <a:lnTo>
                    <a:pt x="307" y="362"/>
                  </a:lnTo>
                  <a:lnTo>
                    <a:pt x="287" y="352"/>
                  </a:lnTo>
                  <a:lnTo>
                    <a:pt x="272" y="345"/>
                  </a:lnTo>
                  <a:lnTo>
                    <a:pt x="267" y="345"/>
                  </a:lnTo>
                  <a:lnTo>
                    <a:pt x="251" y="337"/>
                  </a:lnTo>
                  <a:lnTo>
                    <a:pt x="231" y="330"/>
                  </a:lnTo>
                  <a:lnTo>
                    <a:pt x="227" y="325"/>
                  </a:lnTo>
                  <a:lnTo>
                    <a:pt x="215" y="320"/>
                  </a:lnTo>
                  <a:lnTo>
                    <a:pt x="195" y="312"/>
                  </a:lnTo>
                  <a:lnTo>
                    <a:pt x="182" y="308"/>
                  </a:lnTo>
                  <a:lnTo>
                    <a:pt x="174" y="305"/>
                  </a:lnTo>
                  <a:lnTo>
                    <a:pt x="158" y="298"/>
                  </a:lnTo>
                  <a:lnTo>
                    <a:pt x="137" y="290"/>
                  </a:lnTo>
                  <a:lnTo>
                    <a:pt x="133" y="288"/>
                  </a:lnTo>
                  <a:lnTo>
                    <a:pt x="130" y="285"/>
                  </a:lnTo>
                  <a:lnTo>
                    <a:pt x="114" y="280"/>
                  </a:lnTo>
                  <a:lnTo>
                    <a:pt x="97" y="273"/>
                  </a:lnTo>
                  <a:lnTo>
                    <a:pt x="89" y="268"/>
                  </a:lnTo>
                  <a:lnTo>
                    <a:pt x="77" y="266"/>
                  </a:lnTo>
                  <a:lnTo>
                    <a:pt x="57" y="256"/>
                  </a:lnTo>
                  <a:lnTo>
                    <a:pt x="45" y="251"/>
                  </a:lnTo>
                  <a:lnTo>
                    <a:pt x="38" y="249"/>
                  </a:lnTo>
                  <a:lnTo>
                    <a:pt x="21" y="241"/>
                  </a:lnTo>
                  <a:lnTo>
                    <a:pt x="0" y="233"/>
                  </a:lnTo>
                  <a:lnTo>
                    <a:pt x="0" y="226"/>
                  </a:lnTo>
                  <a:lnTo>
                    <a:pt x="0" y="214"/>
                  </a:lnTo>
                  <a:lnTo>
                    <a:pt x="5" y="202"/>
                  </a:lnTo>
                  <a:lnTo>
                    <a:pt x="61" y="179"/>
                  </a:lnTo>
                  <a:lnTo>
                    <a:pt x="85" y="175"/>
                  </a:lnTo>
                  <a:lnTo>
                    <a:pt x="118" y="175"/>
                  </a:lnTo>
                  <a:lnTo>
                    <a:pt x="142" y="160"/>
                  </a:lnTo>
                  <a:lnTo>
                    <a:pt x="186" y="148"/>
                  </a:lnTo>
                  <a:lnTo>
                    <a:pt x="182" y="130"/>
                  </a:lnTo>
                  <a:lnTo>
                    <a:pt x="210" y="128"/>
                  </a:lnTo>
                  <a:lnTo>
                    <a:pt x="215" y="123"/>
                  </a:lnTo>
                  <a:lnTo>
                    <a:pt x="275" y="123"/>
                  </a:lnTo>
                  <a:lnTo>
                    <a:pt x="279" y="113"/>
                  </a:lnTo>
                  <a:lnTo>
                    <a:pt x="259" y="96"/>
                  </a:lnTo>
                  <a:lnTo>
                    <a:pt x="255" y="62"/>
                  </a:lnTo>
                  <a:lnTo>
                    <a:pt x="239" y="52"/>
                  </a:lnTo>
                  <a:lnTo>
                    <a:pt x="287" y="37"/>
                  </a:lnTo>
                  <a:lnTo>
                    <a:pt x="316" y="34"/>
                  </a:lnTo>
                  <a:lnTo>
                    <a:pt x="348" y="23"/>
                  </a:lnTo>
                  <a:lnTo>
                    <a:pt x="413" y="12"/>
                  </a:lnTo>
                  <a:lnTo>
                    <a:pt x="477" y="10"/>
                  </a:lnTo>
                  <a:lnTo>
                    <a:pt x="497" y="17"/>
                  </a:lnTo>
                  <a:lnTo>
                    <a:pt x="525" y="10"/>
                  </a:lnTo>
                  <a:lnTo>
                    <a:pt x="533" y="8"/>
                  </a:lnTo>
                  <a:lnTo>
                    <a:pt x="606" y="10"/>
                  </a:lnTo>
                  <a:lnTo>
                    <a:pt x="646" y="0"/>
                  </a:lnTo>
                  <a:lnTo>
                    <a:pt x="658" y="3"/>
                  </a:lnTo>
                  <a:lnTo>
                    <a:pt x="667" y="15"/>
                  </a:lnTo>
                  <a:lnTo>
                    <a:pt x="687" y="5"/>
                  </a:lnTo>
                  <a:lnTo>
                    <a:pt x="671" y="27"/>
                  </a:lnTo>
                  <a:lnTo>
                    <a:pt x="694" y="49"/>
                  </a:lnTo>
                  <a:lnTo>
                    <a:pt x="658" y="74"/>
                  </a:lnTo>
                  <a:lnTo>
                    <a:pt x="675" y="84"/>
                  </a:lnTo>
                  <a:lnTo>
                    <a:pt x="687" y="84"/>
                  </a:lnTo>
                  <a:lnTo>
                    <a:pt x="699" y="86"/>
                  </a:lnTo>
                  <a:lnTo>
                    <a:pt x="703" y="96"/>
                  </a:lnTo>
                  <a:lnTo>
                    <a:pt x="715" y="96"/>
                  </a:lnTo>
                  <a:lnTo>
                    <a:pt x="719" y="113"/>
                  </a:lnTo>
                  <a:lnTo>
                    <a:pt x="678" y="130"/>
                  </a:lnTo>
                  <a:lnTo>
                    <a:pt x="678" y="153"/>
                  </a:lnTo>
                  <a:lnTo>
                    <a:pt x="655" y="165"/>
                  </a:lnTo>
                  <a:lnTo>
                    <a:pt x="651" y="153"/>
                  </a:lnTo>
                  <a:lnTo>
                    <a:pt x="642" y="140"/>
                  </a:lnTo>
                  <a:lnTo>
                    <a:pt x="642" y="135"/>
                  </a:lnTo>
                  <a:lnTo>
                    <a:pt x="635" y="128"/>
                  </a:lnTo>
                  <a:lnTo>
                    <a:pt x="622" y="118"/>
                  </a:lnTo>
                  <a:lnTo>
                    <a:pt x="606" y="111"/>
                  </a:lnTo>
                  <a:lnTo>
                    <a:pt x="606" y="106"/>
                  </a:lnTo>
                  <a:lnTo>
                    <a:pt x="606" y="106"/>
                  </a:lnTo>
                  <a:lnTo>
                    <a:pt x="574" y="81"/>
                  </a:lnTo>
                  <a:lnTo>
                    <a:pt x="598" y="62"/>
                  </a:lnTo>
                  <a:lnTo>
                    <a:pt x="602" y="49"/>
                  </a:lnTo>
                  <a:lnTo>
                    <a:pt x="590" y="20"/>
                  </a:lnTo>
                  <a:lnTo>
                    <a:pt x="606" y="1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153160" y="1755000"/>
              <a:ext cx="158400" cy="64800"/>
            </a:xfrm>
            <a:custGeom>
              <a:avLst/>
              <a:gdLst/>
              <a:ahLst/>
              <a:rect l="l" t="t" r="r" b="b"/>
              <a:pathLst>
                <a:path w="441" h="179">
                  <a:moveTo>
                    <a:pt x="415" y="13"/>
                  </a:moveTo>
                  <a:lnTo>
                    <a:pt x="404" y="18"/>
                  </a:lnTo>
                  <a:lnTo>
                    <a:pt x="285" y="20"/>
                  </a:lnTo>
                  <a:lnTo>
                    <a:pt x="267" y="0"/>
                  </a:lnTo>
                  <a:lnTo>
                    <a:pt x="262" y="6"/>
                  </a:lnTo>
                  <a:lnTo>
                    <a:pt x="238" y="31"/>
                  </a:lnTo>
                  <a:lnTo>
                    <a:pt x="182" y="45"/>
                  </a:lnTo>
                  <a:lnTo>
                    <a:pt x="154" y="63"/>
                  </a:lnTo>
                  <a:lnTo>
                    <a:pt x="129" y="90"/>
                  </a:lnTo>
                  <a:lnTo>
                    <a:pt x="133" y="120"/>
                  </a:lnTo>
                  <a:lnTo>
                    <a:pt x="109" y="139"/>
                  </a:lnTo>
                  <a:lnTo>
                    <a:pt x="60" y="164"/>
                  </a:lnTo>
                  <a:lnTo>
                    <a:pt x="8" y="171"/>
                  </a:lnTo>
                  <a:lnTo>
                    <a:pt x="0" y="178"/>
                  </a:lnTo>
                  <a:lnTo>
                    <a:pt x="17" y="178"/>
                  </a:lnTo>
                  <a:lnTo>
                    <a:pt x="33" y="178"/>
                  </a:lnTo>
                  <a:lnTo>
                    <a:pt x="53" y="178"/>
                  </a:lnTo>
                  <a:lnTo>
                    <a:pt x="69" y="178"/>
                  </a:lnTo>
                  <a:lnTo>
                    <a:pt x="89" y="178"/>
                  </a:lnTo>
                  <a:lnTo>
                    <a:pt x="105" y="178"/>
                  </a:lnTo>
                  <a:lnTo>
                    <a:pt x="125" y="178"/>
                  </a:lnTo>
                  <a:lnTo>
                    <a:pt x="141" y="178"/>
                  </a:lnTo>
                  <a:lnTo>
                    <a:pt x="161" y="178"/>
                  </a:lnTo>
                  <a:lnTo>
                    <a:pt x="161" y="166"/>
                  </a:lnTo>
                  <a:lnTo>
                    <a:pt x="166" y="154"/>
                  </a:lnTo>
                  <a:lnTo>
                    <a:pt x="222" y="131"/>
                  </a:lnTo>
                  <a:lnTo>
                    <a:pt x="246" y="127"/>
                  </a:lnTo>
                  <a:lnTo>
                    <a:pt x="279" y="127"/>
                  </a:lnTo>
                  <a:lnTo>
                    <a:pt x="303" y="112"/>
                  </a:lnTo>
                  <a:lnTo>
                    <a:pt x="347" y="100"/>
                  </a:lnTo>
                  <a:lnTo>
                    <a:pt x="343" y="82"/>
                  </a:lnTo>
                  <a:lnTo>
                    <a:pt x="371" y="80"/>
                  </a:lnTo>
                  <a:lnTo>
                    <a:pt x="376" y="75"/>
                  </a:lnTo>
                  <a:lnTo>
                    <a:pt x="436" y="75"/>
                  </a:lnTo>
                  <a:lnTo>
                    <a:pt x="440" y="65"/>
                  </a:lnTo>
                  <a:lnTo>
                    <a:pt x="420" y="48"/>
                  </a:lnTo>
                  <a:lnTo>
                    <a:pt x="415" y="1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067200" y="2245320"/>
              <a:ext cx="7560" cy="432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1" y="5"/>
                  </a:moveTo>
                  <a:lnTo>
                    <a:pt x="21" y="5"/>
                  </a:lnTo>
                  <a:lnTo>
                    <a:pt x="17" y="2"/>
                  </a:lnTo>
                  <a:lnTo>
                    <a:pt x="12" y="0"/>
                  </a:lnTo>
                  <a:lnTo>
                    <a:pt x="5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9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21" y="13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928960" y="2160000"/>
              <a:ext cx="4680" cy="4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4" y="0"/>
                  </a:moveTo>
                  <a:lnTo>
                    <a:pt x="4" y="0"/>
                  </a:lnTo>
                  <a:lnTo>
                    <a:pt x="12" y="12"/>
                  </a:lnTo>
                  <a:lnTo>
                    <a:pt x="0" y="1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935440" y="2165760"/>
              <a:ext cx="2880" cy="144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7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954520" y="2170800"/>
              <a:ext cx="1080" cy="1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943360" y="2165760"/>
              <a:ext cx="4320" cy="14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548720" y="2007360"/>
              <a:ext cx="42480" cy="3312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0" y="86"/>
                  </a:moveTo>
                  <a:lnTo>
                    <a:pt x="29" y="56"/>
                  </a:lnTo>
                  <a:lnTo>
                    <a:pt x="13" y="24"/>
                  </a:lnTo>
                  <a:lnTo>
                    <a:pt x="25" y="10"/>
                  </a:lnTo>
                  <a:lnTo>
                    <a:pt x="37" y="0"/>
                  </a:lnTo>
                  <a:lnTo>
                    <a:pt x="73" y="7"/>
                  </a:lnTo>
                  <a:lnTo>
                    <a:pt x="98" y="19"/>
                  </a:lnTo>
                  <a:lnTo>
                    <a:pt x="93" y="27"/>
                  </a:lnTo>
                  <a:lnTo>
                    <a:pt x="106" y="27"/>
                  </a:lnTo>
                  <a:lnTo>
                    <a:pt x="106" y="37"/>
                  </a:lnTo>
                  <a:lnTo>
                    <a:pt x="114" y="29"/>
                  </a:lnTo>
                  <a:lnTo>
                    <a:pt x="118" y="44"/>
                  </a:lnTo>
                  <a:lnTo>
                    <a:pt x="73" y="86"/>
                  </a:lnTo>
                  <a:lnTo>
                    <a:pt x="66" y="91"/>
                  </a:lnTo>
                  <a:lnTo>
                    <a:pt x="37" y="83"/>
                  </a:lnTo>
                  <a:lnTo>
                    <a:pt x="21" y="91"/>
                  </a:lnTo>
                  <a:lnTo>
                    <a:pt x="0" y="8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472400" y="19072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480320" y="19105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475640" y="1910520"/>
              <a:ext cx="2880" cy="2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482120" y="1913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478880" y="1917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478880" y="1924920"/>
              <a:ext cx="4320" cy="28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10"/>
                  </a:lnTo>
                  <a:lnTo>
                    <a:pt x="4" y="1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480320" y="19360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721880" y="1653840"/>
              <a:ext cx="4320" cy="288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0" y="0"/>
                  </a:moveTo>
                  <a:lnTo>
                    <a:pt x="0" y="5"/>
                  </a:lnTo>
                  <a:lnTo>
                    <a:pt x="11" y="7"/>
                  </a:lnTo>
                  <a:lnTo>
                    <a:pt x="1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50960" y="2286360"/>
              <a:ext cx="9360" cy="26640"/>
            </a:xfrm>
            <a:custGeom>
              <a:avLst/>
              <a:gdLst/>
              <a:ahLst/>
              <a:rect l="l" t="t" r="r" b="b"/>
              <a:pathLst>
                <a:path w="25" h="77">
                  <a:moveTo>
                    <a:pt x="24" y="19"/>
                  </a:moveTo>
                  <a:lnTo>
                    <a:pt x="24" y="19"/>
                  </a:lnTo>
                  <a:lnTo>
                    <a:pt x="16" y="0"/>
                  </a:lnTo>
                  <a:lnTo>
                    <a:pt x="0" y="40"/>
                  </a:lnTo>
                  <a:lnTo>
                    <a:pt x="4" y="74"/>
                  </a:lnTo>
                  <a:lnTo>
                    <a:pt x="16" y="76"/>
                  </a:lnTo>
                  <a:lnTo>
                    <a:pt x="24" y="69"/>
                  </a:lnTo>
                  <a:lnTo>
                    <a:pt x="24" y="1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431960" y="2242080"/>
              <a:ext cx="4680" cy="612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18"/>
                  </a:moveTo>
                  <a:lnTo>
                    <a:pt x="0" y="18"/>
                  </a:lnTo>
                  <a:lnTo>
                    <a:pt x="8" y="0"/>
                  </a:lnTo>
                  <a:lnTo>
                    <a:pt x="12" y="18"/>
                  </a:lnTo>
                  <a:lnTo>
                    <a:pt x="0" y="1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437000" y="2253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33760" y="2227680"/>
              <a:ext cx="10800" cy="108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16" y="13"/>
                  </a:moveTo>
                  <a:lnTo>
                    <a:pt x="16" y="13"/>
                  </a:lnTo>
                  <a:lnTo>
                    <a:pt x="25" y="0"/>
                  </a:lnTo>
                  <a:lnTo>
                    <a:pt x="16" y="5"/>
                  </a:lnTo>
                  <a:lnTo>
                    <a:pt x="0" y="32"/>
                  </a:lnTo>
                  <a:lnTo>
                    <a:pt x="16" y="30"/>
                  </a:lnTo>
                  <a:lnTo>
                    <a:pt x="28" y="11"/>
                  </a:lnTo>
                  <a:lnTo>
                    <a:pt x="16" y="17"/>
                  </a:lnTo>
                  <a:lnTo>
                    <a:pt x="16" y="1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275560" y="1626840"/>
              <a:ext cx="134280" cy="69480"/>
            </a:xfrm>
            <a:custGeom>
              <a:avLst/>
              <a:gdLst/>
              <a:ahLst/>
              <a:rect l="l" t="t" r="r" b="b"/>
              <a:pathLst>
                <a:path w="376" h="192">
                  <a:moveTo>
                    <a:pt x="348" y="78"/>
                  </a:moveTo>
                  <a:lnTo>
                    <a:pt x="342" y="78"/>
                  </a:lnTo>
                  <a:lnTo>
                    <a:pt x="315" y="105"/>
                  </a:lnTo>
                  <a:lnTo>
                    <a:pt x="339" y="100"/>
                  </a:lnTo>
                  <a:lnTo>
                    <a:pt x="346" y="113"/>
                  </a:lnTo>
                  <a:lnTo>
                    <a:pt x="342" y="115"/>
                  </a:lnTo>
                  <a:lnTo>
                    <a:pt x="354" y="128"/>
                  </a:lnTo>
                  <a:lnTo>
                    <a:pt x="339" y="130"/>
                  </a:lnTo>
                  <a:lnTo>
                    <a:pt x="350" y="138"/>
                  </a:lnTo>
                  <a:lnTo>
                    <a:pt x="350" y="149"/>
                  </a:lnTo>
                  <a:lnTo>
                    <a:pt x="375" y="152"/>
                  </a:lnTo>
                  <a:lnTo>
                    <a:pt x="371" y="160"/>
                  </a:lnTo>
                  <a:lnTo>
                    <a:pt x="366" y="162"/>
                  </a:lnTo>
                  <a:lnTo>
                    <a:pt x="330" y="177"/>
                  </a:lnTo>
                  <a:lnTo>
                    <a:pt x="293" y="172"/>
                  </a:lnTo>
                  <a:lnTo>
                    <a:pt x="293" y="167"/>
                  </a:lnTo>
                  <a:lnTo>
                    <a:pt x="290" y="170"/>
                  </a:lnTo>
                  <a:lnTo>
                    <a:pt x="282" y="167"/>
                  </a:lnTo>
                  <a:lnTo>
                    <a:pt x="286" y="172"/>
                  </a:lnTo>
                  <a:lnTo>
                    <a:pt x="257" y="167"/>
                  </a:lnTo>
                  <a:lnTo>
                    <a:pt x="234" y="177"/>
                  </a:lnTo>
                  <a:lnTo>
                    <a:pt x="237" y="191"/>
                  </a:lnTo>
                  <a:lnTo>
                    <a:pt x="192" y="189"/>
                  </a:lnTo>
                  <a:lnTo>
                    <a:pt x="185" y="189"/>
                  </a:lnTo>
                  <a:lnTo>
                    <a:pt x="161" y="182"/>
                  </a:lnTo>
                  <a:lnTo>
                    <a:pt x="137" y="184"/>
                  </a:lnTo>
                  <a:lnTo>
                    <a:pt x="93" y="177"/>
                  </a:lnTo>
                  <a:lnTo>
                    <a:pt x="80" y="170"/>
                  </a:lnTo>
                  <a:lnTo>
                    <a:pt x="104" y="143"/>
                  </a:lnTo>
                  <a:lnTo>
                    <a:pt x="104" y="123"/>
                  </a:lnTo>
                  <a:lnTo>
                    <a:pt x="120" y="135"/>
                  </a:lnTo>
                  <a:lnTo>
                    <a:pt x="100" y="118"/>
                  </a:lnTo>
                  <a:lnTo>
                    <a:pt x="108" y="118"/>
                  </a:lnTo>
                  <a:lnTo>
                    <a:pt x="104" y="105"/>
                  </a:lnTo>
                  <a:lnTo>
                    <a:pt x="72" y="93"/>
                  </a:lnTo>
                  <a:lnTo>
                    <a:pt x="72" y="84"/>
                  </a:lnTo>
                  <a:lnTo>
                    <a:pt x="84" y="84"/>
                  </a:lnTo>
                  <a:lnTo>
                    <a:pt x="60" y="84"/>
                  </a:lnTo>
                  <a:lnTo>
                    <a:pt x="68" y="78"/>
                  </a:lnTo>
                  <a:lnTo>
                    <a:pt x="55" y="76"/>
                  </a:lnTo>
                  <a:lnTo>
                    <a:pt x="43" y="78"/>
                  </a:lnTo>
                  <a:lnTo>
                    <a:pt x="43" y="74"/>
                  </a:lnTo>
                  <a:lnTo>
                    <a:pt x="7" y="71"/>
                  </a:lnTo>
                  <a:lnTo>
                    <a:pt x="0" y="66"/>
                  </a:lnTo>
                  <a:lnTo>
                    <a:pt x="12" y="64"/>
                  </a:lnTo>
                  <a:lnTo>
                    <a:pt x="3" y="58"/>
                  </a:lnTo>
                  <a:lnTo>
                    <a:pt x="16" y="61"/>
                  </a:lnTo>
                  <a:lnTo>
                    <a:pt x="0" y="56"/>
                  </a:lnTo>
                  <a:lnTo>
                    <a:pt x="43" y="47"/>
                  </a:lnTo>
                  <a:lnTo>
                    <a:pt x="60" y="56"/>
                  </a:lnTo>
                  <a:lnTo>
                    <a:pt x="80" y="51"/>
                  </a:lnTo>
                  <a:lnTo>
                    <a:pt x="96" y="54"/>
                  </a:lnTo>
                  <a:lnTo>
                    <a:pt x="80" y="29"/>
                  </a:lnTo>
                  <a:lnTo>
                    <a:pt x="100" y="29"/>
                  </a:lnTo>
                  <a:lnTo>
                    <a:pt x="104" y="37"/>
                  </a:lnTo>
                  <a:lnTo>
                    <a:pt x="137" y="37"/>
                  </a:lnTo>
                  <a:lnTo>
                    <a:pt x="153" y="35"/>
                  </a:lnTo>
                  <a:lnTo>
                    <a:pt x="140" y="35"/>
                  </a:lnTo>
                  <a:lnTo>
                    <a:pt x="144" y="29"/>
                  </a:lnTo>
                  <a:lnTo>
                    <a:pt x="185" y="20"/>
                  </a:lnTo>
                  <a:lnTo>
                    <a:pt x="180" y="4"/>
                  </a:lnTo>
                  <a:lnTo>
                    <a:pt x="209" y="0"/>
                  </a:lnTo>
                  <a:lnTo>
                    <a:pt x="213" y="7"/>
                  </a:lnTo>
                  <a:lnTo>
                    <a:pt x="254" y="17"/>
                  </a:lnTo>
                  <a:lnTo>
                    <a:pt x="254" y="22"/>
                  </a:lnTo>
                  <a:lnTo>
                    <a:pt x="274" y="20"/>
                  </a:lnTo>
                  <a:lnTo>
                    <a:pt x="302" y="32"/>
                  </a:lnTo>
                  <a:lnTo>
                    <a:pt x="309" y="33"/>
                  </a:lnTo>
                  <a:lnTo>
                    <a:pt x="309" y="39"/>
                  </a:lnTo>
                  <a:lnTo>
                    <a:pt x="315" y="46"/>
                  </a:lnTo>
                  <a:lnTo>
                    <a:pt x="318" y="49"/>
                  </a:lnTo>
                  <a:lnTo>
                    <a:pt x="324" y="50"/>
                  </a:lnTo>
                  <a:lnTo>
                    <a:pt x="344" y="55"/>
                  </a:lnTo>
                  <a:lnTo>
                    <a:pt x="345" y="59"/>
                  </a:lnTo>
                  <a:lnTo>
                    <a:pt x="345" y="64"/>
                  </a:lnTo>
                  <a:lnTo>
                    <a:pt x="346" y="67"/>
                  </a:lnTo>
                  <a:lnTo>
                    <a:pt x="342" y="71"/>
                  </a:lnTo>
                  <a:lnTo>
                    <a:pt x="348" y="75"/>
                  </a:lnTo>
                  <a:lnTo>
                    <a:pt x="348" y="7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421360" y="1692000"/>
              <a:ext cx="10800" cy="122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4" y="0"/>
                  </a:moveTo>
                  <a:lnTo>
                    <a:pt x="24" y="0"/>
                  </a:lnTo>
                  <a:lnTo>
                    <a:pt x="32" y="19"/>
                  </a:lnTo>
                  <a:lnTo>
                    <a:pt x="24" y="36"/>
                  </a:lnTo>
                  <a:lnTo>
                    <a:pt x="4" y="26"/>
                  </a:lnTo>
                  <a:lnTo>
                    <a:pt x="0" y="11"/>
                  </a:lnTo>
                  <a:lnTo>
                    <a:pt x="20" y="4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643560" y="1832760"/>
              <a:ext cx="164520" cy="141120"/>
            </a:xfrm>
            <a:custGeom>
              <a:avLst/>
              <a:gdLst/>
              <a:ahLst/>
              <a:rect l="l" t="t" r="r" b="b"/>
              <a:pathLst>
                <a:path w="457" h="394">
                  <a:moveTo>
                    <a:pt x="303" y="346"/>
                  </a:moveTo>
                  <a:lnTo>
                    <a:pt x="278" y="337"/>
                  </a:lnTo>
                  <a:lnTo>
                    <a:pt x="270" y="343"/>
                  </a:lnTo>
                  <a:lnTo>
                    <a:pt x="270" y="332"/>
                  </a:lnTo>
                  <a:lnTo>
                    <a:pt x="258" y="324"/>
                  </a:lnTo>
                  <a:lnTo>
                    <a:pt x="250" y="334"/>
                  </a:lnTo>
                  <a:lnTo>
                    <a:pt x="247" y="317"/>
                  </a:lnTo>
                  <a:lnTo>
                    <a:pt x="234" y="312"/>
                  </a:lnTo>
                  <a:lnTo>
                    <a:pt x="205" y="285"/>
                  </a:lnTo>
                  <a:lnTo>
                    <a:pt x="189" y="263"/>
                  </a:lnTo>
                  <a:lnTo>
                    <a:pt x="210" y="241"/>
                  </a:lnTo>
                  <a:lnTo>
                    <a:pt x="262" y="236"/>
                  </a:lnTo>
                  <a:lnTo>
                    <a:pt x="278" y="238"/>
                  </a:lnTo>
                  <a:lnTo>
                    <a:pt x="286" y="233"/>
                  </a:lnTo>
                  <a:lnTo>
                    <a:pt x="278" y="211"/>
                  </a:lnTo>
                  <a:lnTo>
                    <a:pt x="274" y="204"/>
                  </a:lnTo>
                  <a:lnTo>
                    <a:pt x="230" y="182"/>
                  </a:lnTo>
                  <a:lnTo>
                    <a:pt x="214" y="154"/>
                  </a:lnTo>
                  <a:lnTo>
                    <a:pt x="173" y="135"/>
                  </a:lnTo>
                  <a:lnTo>
                    <a:pt x="149" y="133"/>
                  </a:lnTo>
                  <a:lnTo>
                    <a:pt x="145" y="140"/>
                  </a:lnTo>
                  <a:lnTo>
                    <a:pt x="137" y="149"/>
                  </a:lnTo>
                  <a:lnTo>
                    <a:pt x="109" y="140"/>
                  </a:lnTo>
                  <a:lnTo>
                    <a:pt x="97" y="149"/>
                  </a:lnTo>
                  <a:lnTo>
                    <a:pt x="81" y="157"/>
                  </a:lnTo>
                  <a:lnTo>
                    <a:pt x="81" y="145"/>
                  </a:lnTo>
                  <a:lnTo>
                    <a:pt x="56" y="105"/>
                  </a:lnTo>
                  <a:lnTo>
                    <a:pt x="32" y="105"/>
                  </a:lnTo>
                  <a:lnTo>
                    <a:pt x="24" y="91"/>
                  </a:lnTo>
                  <a:lnTo>
                    <a:pt x="0" y="86"/>
                  </a:lnTo>
                  <a:lnTo>
                    <a:pt x="0" y="73"/>
                  </a:lnTo>
                  <a:lnTo>
                    <a:pt x="12" y="71"/>
                  </a:lnTo>
                  <a:lnTo>
                    <a:pt x="12" y="51"/>
                  </a:lnTo>
                  <a:lnTo>
                    <a:pt x="24" y="61"/>
                  </a:lnTo>
                  <a:lnTo>
                    <a:pt x="40" y="64"/>
                  </a:lnTo>
                  <a:lnTo>
                    <a:pt x="36" y="51"/>
                  </a:lnTo>
                  <a:lnTo>
                    <a:pt x="12" y="34"/>
                  </a:lnTo>
                  <a:lnTo>
                    <a:pt x="12" y="27"/>
                  </a:lnTo>
                  <a:lnTo>
                    <a:pt x="28" y="29"/>
                  </a:lnTo>
                  <a:lnTo>
                    <a:pt x="32" y="19"/>
                  </a:lnTo>
                  <a:lnTo>
                    <a:pt x="56" y="27"/>
                  </a:lnTo>
                  <a:lnTo>
                    <a:pt x="61" y="17"/>
                  </a:lnTo>
                  <a:lnTo>
                    <a:pt x="73" y="22"/>
                  </a:lnTo>
                  <a:lnTo>
                    <a:pt x="89" y="24"/>
                  </a:lnTo>
                  <a:lnTo>
                    <a:pt x="84" y="17"/>
                  </a:lnTo>
                  <a:lnTo>
                    <a:pt x="104" y="14"/>
                  </a:lnTo>
                  <a:lnTo>
                    <a:pt x="113" y="0"/>
                  </a:lnTo>
                  <a:lnTo>
                    <a:pt x="125" y="4"/>
                  </a:lnTo>
                  <a:lnTo>
                    <a:pt x="173" y="12"/>
                  </a:lnTo>
                  <a:lnTo>
                    <a:pt x="173" y="22"/>
                  </a:lnTo>
                  <a:lnTo>
                    <a:pt x="189" y="34"/>
                  </a:lnTo>
                  <a:lnTo>
                    <a:pt x="242" y="44"/>
                  </a:lnTo>
                  <a:lnTo>
                    <a:pt x="226" y="51"/>
                  </a:lnTo>
                  <a:lnTo>
                    <a:pt x="234" y="59"/>
                  </a:lnTo>
                  <a:lnTo>
                    <a:pt x="210" y="61"/>
                  </a:lnTo>
                  <a:lnTo>
                    <a:pt x="222" y="68"/>
                  </a:lnTo>
                  <a:lnTo>
                    <a:pt x="214" y="68"/>
                  </a:lnTo>
                  <a:lnTo>
                    <a:pt x="222" y="81"/>
                  </a:lnTo>
                  <a:lnTo>
                    <a:pt x="210" y="98"/>
                  </a:lnTo>
                  <a:lnTo>
                    <a:pt x="218" y="118"/>
                  </a:lnTo>
                  <a:lnTo>
                    <a:pt x="258" y="137"/>
                  </a:lnTo>
                  <a:lnTo>
                    <a:pt x="262" y="147"/>
                  </a:lnTo>
                  <a:lnTo>
                    <a:pt x="274" y="152"/>
                  </a:lnTo>
                  <a:lnTo>
                    <a:pt x="339" y="184"/>
                  </a:lnTo>
                  <a:lnTo>
                    <a:pt x="359" y="187"/>
                  </a:lnTo>
                  <a:lnTo>
                    <a:pt x="396" y="211"/>
                  </a:lnTo>
                  <a:lnTo>
                    <a:pt x="448" y="275"/>
                  </a:lnTo>
                  <a:lnTo>
                    <a:pt x="452" y="283"/>
                  </a:lnTo>
                  <a:lnTo>
                    <a:pt x="444" y="278"/>
                  </a:lnTo>
                  <a:lnTo>
                    <a:pt x="440" y="287"/>
                  </a:lnTo>
                  <a:lnTo>
                    <a:pt x="448" y="294"/>
                  </a:lnTo>
                  <a:lnTo>
                    <a:pt x="456" y="307"/>
                  </a:lnTo>
                  <a:lnTo>
                    <a:pt x="423" y="334"/>
                  </a:lnTo>
                  <a:lnTo>
                    <a:pt x="400" y="343"/>
                  </a:lnTo>
                  <a:lnTo>
                    <a:pt x="387" y="341"/>
                  </a:lnTo>
                  <a:lnTo>
                    <a:pt x="379" y="337"/>
                  </a:lnTo>
                  <a:lnTo>
                    <a:pt x="375" y="341"/>
                  </a:lnTo>
                  <a:lnTo>
                    <a:pt x="384" y="346"/>
                  </a:lnTo>
                  <a:lnTo>
                    <a:pt x="371" y="346"/>
                  </a:lnTo>
                  <a:lnTo>
                    <a:pt x="371" y="346"/>
                  </a:lnTo>
                  <a:lnTo>
                    <a:pt x="387" y="351"/>
                  </a:lnTo>
                  <a:lnTo>
                    <a:pt x="384" y="356"/>
                  </a:lnTo>
                  <a:lnTo>
                    <a:pt x="367" y="349"/>
                  </a:lnTo>
                  <a:lnTo>
                    <a:pt x="367" y="349"/>
                  </a:lnTo>
                  <a:lnTo>
                    <a:pt x="384" y="359"/>
                  </a:lnTo>
                  <a:lnTo>
                    <a:pt x="363" y="349"/>
                  </a:lnTo>
                  <a:lnTo>
                    <a:pt x="384" y="366"/>
                  </a:lnTo>
                  <a:lnTo>
                    <a:pt x="355" y="354"/>
                  </a:lnTo>
                  <a:lnTo>
                    <a:pt x="355" y="354"/>
                  </a:lnTo>
                  <a:lnTo>
                    <a:pt x="371" y="371"/>
                  </a:lnTo>
                  <a:lnTo>
                    <a:pt x="331" y="393"/>
                  </a:lnTo>
                  <a:lnTo>
                    <a:pt x="335" y="390"/>
                  </a:lnTo>
                  <a:lnTo>
                    <a:pt x="323" y="364"/>
                  </a:lnTo>
                  <a:lnTo>
                    <a:pt x="326" y="356"/>
                  </a:lnTo>
                  <a:lnTo>
                    <a:pt x="303" y="34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743280" y="1956600"/>
              <a:ext cx="4320" cy="4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8" y="0"/>
                  </a:moveTo>
                  <a:lnTo>
                    <a:pt x="8" y="0"/>
                  </a:lnTo>
                  <a:lnTo>
                    <a:pt x="12" y="3"/>
                  </a:lnTo>
                  <a:lnTo>
                    <a:pt x="12" y="13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8320" y="3006720"/>
              <a:ext cx="169560" cy="52200"/>
            </a:xfrm>
            <a:custGeom>
              <a:avLst/>
              <a:gdLst/>
              <a:ahLst/>
              <a:rect l="l" t="t" r="r" b="b"/>
              <a:pathLst>
                <a:path w="473" h="144">
                  <a:moveTo>
                    <a:pt x="0" y="0"/>
                  </a:moveTo>
                  <a:lnTo>
                    <a:pt x="472" y="0"/>
                  </a:lnTo>
                  <a:lnTo>
                    <a:pt x="472" y="143"/>
                  </a:lnTo>
                  <a:lnTo>
                    <a:pt x="0" y="14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078920" y="1623600"/>
              <a:ext cx="1693080" cy="1357560"/>
            </a:xfrm>
            <a:custGeom>
              <a:avLst/>
              <a:gdLst/>
              <a:ahLst/>
              <a:rect l="l" t="t" r="r" b="b"/>
              <a:pathLst>
                <a:path w="4705" h="3774">
                  <a:moveTo>
                    <a:pt x="4184" y="1274"/>
                  </a:moveTo>
                  <a:lnTo>
                    <a:pt x="4188" y="1259"/>
                  </a:lnTo>
                  <a:lnTo>
                    <a:pt x="4180" y="1249"/>
                  </a:lnTo>
                  <a:lnTo>
                    <a:pt x="4197" y="1249"/>
                  </a:lnTo>
                  <a:lnTo>
                    <a:pt x="4188" y="1257"/>
                  </a:lnTo>
                  <a:lnTo>
                    <a:pt x="4200" y="1259"/>
                  </a:lnTo>
                  <a:lnTo>
                    <a:pt x="4184" y="1274"/>
                  </a:lnTo>
                  <a:close/>
                  <a:moveTo>
                    <a:pt x="3635" y="30"/>
                  </a:moveTo>
                  <a:lnTo>
                    <a:pt x="3643" y="24"/>
                  </a:lnTo>
                  <a:lnTo>
                    <a:pt x="3631" y="17"/>
                  </a:lnTo>
                  <a:lnTo>
                    <a:pt x="3618" y="14"/>
                  </a:lnTo>
                  <a:lnTo>
                    <a:pt x="3623" y="8"/>
                  </a:lnTo>
                  <a:lnTo>
                    <a:pt x="3599" y="0"/>
                  </a:lnTo>
                  <a:lnTo>
                    <a:pt x="3579" y="3"/>
                  </a:lnTo>
                  <a:lnTo>
                    <a:pt x="3571" y="8"/>
                  </a:lnTo>
                  <a:lnTo>
                    <a:pt x="3554" y="3"/>
                  </a:lnTo>
                  <a:lnTo>
                    <a:pt x="3534" y="10"/>
                  </a:lnTo>
                  <a:lnTo>
                    <a:pt x="3538" y="17"/>
                  </a:lnTo>
                  <a:lnTo>
                    <a:pt x="3579" y="27"/>
                  </a:lnTo>
                  <a:lnTo>
                    <a:pt x="3579" y="32"/>
                  </a:lnTo>
                  <a:lnTo>
                    <a:pt x="3599" y="30"/>
                  </a:lnTo>
                  <a:lnTo>
                    <a:pt x="3627" y="42"/>
                  </a:lnTo>
                  <a:lnTo>
                    <a:pt x="3635" y="30"/>
                  </a:lnTo>
                  <a:close/>
                  <a:moveTo>
                    <a:pt x="3579" y="3"/>
                  </a:moveTo>
                  <a:lnTo>
                    <a:pt x="3582" y="5"/>
                  </a:lnTo>
                  <a:lnTo>
                    <a:pt x="3579" y="3"/>
                  </a:lnTo>
                  <a:close/>
                  <a:moveTo>
                    <a:pt x="0" y="3628"/>
                  </a:moveTo>
                  <a:lnTo>
                    <a:pt x="472" y="3628"/>
                  </a:lnTo>
                  <a:lnTo>
                    <a:pt x="472" y="3773"/>
                  </a:lnTo>
                  <a:lnTo>
                    <a:pt x="0" y="3773"/>
                  </a:lnTo>
                  <a:lnTo>
                    <a:pt x="0" y="3628"/>
                  </a:lnTo>
                  <a:close/>
                  <a:moveTo>
                    <a:pt x="3986" y="1350"/>
                  </a:moveTo>
                  <a:lnTo>
                    <a:pt x="3994" y="1350"/>
                  </a:lnTo>
                  <a:lnTo>
                    <a:pt x="4043" y="1350"/>
                  </a:lnTo>
                  <a:lnTo>
                    <a:pt x="4058" y="1352"/>
                  </a:lnTo>
                  <a:lnTo>
                    <a:pt x="4074" y="1352"/>
                  </a:lnTo>
                  <a:lnTo>
                    <a:pt x="4083" y="1350"/>
                  </a:lnTo>
                  <a:lnTo>
                    <a:pt x="4107" y="1350"/>
                  </a:lnTo>
                  <a:lnTo>
                    <a:pt x="4116" y="1352"/>
                  </a:lnTo>
                  <a:lnTo>
                    <a:pt x="4136" y="1384"/>
                  </a:lnTo>
                  <a:lnTo>
                    <a:pt x="4156" y="1404"/>
                  </a:lnTo>
                  <a:lnTo>
                    <a:pt x="4172" y="1406"/>
                  </a:lnTo>
                  <a:lnTo>
                    <a:pt x="4204" y="1404"/>
                  </a:lnTo>
                  <a:lnTo>
                    <a:pt x="4228" y="1404"/>
                  </a:lnTo>
                  <a:lnTo>
                    <a:pt x="4232" y="1384"/>
                  </a:lnTo>
                  <a:lnTo>
                    <a:pt x="4236" y="1379"/>
                  </a:lnTo>
                  <a:lnTo>
                    <a:pt x="4244" y="1379"/>
                  </a:lnTo>
                  <a:lnTo>
                    <a:pt x="4265" y="1379"/>
                  </a:lnTo>
                  <a:lnTo>
                    <a:pt x="4273" y="1377"/>
                  </a:lnTo>
                  <a:lnTo>
                    <a:pt x="4273" y="1387"/>
                  </a:lnTo>
                  <a:lnTo>
                    <a:pt x="4305" y="1387"/>
                  </a:lnTo>
                  <a:lnTo>
                    <a:pt x="4321" y="1387"/>
                  </a:lnTo>
                  <a:lnTo>
                    <a:pt x="4321" y="1438"/>
                  </a:lnTo>
                  <a:lnTo>
                    <a:pt x="4338" y="1460"/>
                  </a:lnTo>
                  <a:lnTo>
                    <a:pt x="4333" y="1473"/>
                  </a:lnTo>
                  <a:lnTo>
                    <a:pt x="4333" y="1483"/>
                  </a:lnTo>
                  <a:lnTo>
                    <a:pt x="4402" y="1473"/>
                  </a:lnTo>
                  <a:lnTo>
                    <a:pt x="4419" y="1480"/>
                  </a:lnTo>
                  <a:lnTo>
                    <a:pt x="4419" y="1487"/>
                  </a:lnTo>
                  <a:lnTo>
                    <a:pt x="4454" y="1483"/>
                  </a:lnTo>
                  <a:lnTo>
                    <a:pt x="4458" y="1495"/>
                  </a:lnTo>
                  <a:lnTo>
                    <a:pt x="4507" y="1502"/>
                  </a:lnTo>
                  <a:lnTo>
                    <a:pt x="4527" y="1490"/>
                  </a:lnTo>
                  <a:lnTo>
                    <a:pt x="4543" y="1509"/>
                  </a:lnTo>
                  <a:lnTo>
                    <a:pt x="4572" y="1514"/>
                  </a:lnTo>
                  <a:lnTo>
                    <a:pt x="4592" y="1537"/>
                  </a:lnTo>
                  <a:lnTo>
                    <a:pt x="4612" y="1532"/>
                  </a:lnTo>
                  <a:lnTo>
                    <a:pt x="4619" y="1537"/>
                  </a:lnTo>
                  <a:lnTo>
                    <a:pt x="4624" y="1524"/>
                  </a:lnTo>
                  <a:lnTo>
                    <a:pt x="4624" y="1505"/>
                  </a:lnTo>
                  <a:lnTo>
                    <a:pt x="4595" y="1509"/>
                  </a:lnTo>
                  <a:lnTo>
                    <a:pt x="4572" y="1490"/>
                  </a:lnTo>
                  <a:lnTo>
                    <a:pt x="4588" y="1468"/>
                  </a:lnTo>
                  <a:lnTo>
                    <a:pt x="4592" y="1449"/>
                  </a:lnTo>
                  <a:lnTo>
                    <a:pt x="4583" y="1438"/>
                  </a:lnTo>
                  <a:lnTo>
                    <a:pt x="4580" y="1436"/>
                  </a:lnTo>
                  <a:lnTo>
                    <a:pt x="4600" y="1424"/>
                  </a:lnTo>
                  <a:lnTo>
                    <a:pt x="4600" y="1416"/>
                  </a:lnTo>
                  <a:lnTo>
                    <a:pt x="4608" y="1416"/>
                  </a:lnTo>
                  <a:lnTo>
                    <a:pt x="4619" y="1414"/>
                  </a:lnTo>
                  <a:lnTo>
                    <a:pt x="4632" y="1414"/>
                  </a:lnTo>
                  <a:lnTo>
                    <a:pt x="4653" y="1411"/>
                  </a:lnTo>
                  <a:lnTo>
                    <a:pt x="4669" y="1409"/>
                  </a:lnTo>
                  <a:lnTo>
                    <a:pt x="4677" y="1409"/>
                  </a:lnTo>
                  <a:lnTo>
                    <a:pt x="4660" y="1382"/>
                  </a:lnTo>
                  <a:lnTo>
                    <a:pt x="4632" y="1362"/>
                  </a:lnTo>
                  <a:lnTo>
                    <a:pt x="4628" y="1318"/>
                  </a:lnTo>
                  <a:lnTo>
                    <a:pt x="4619" y="1291"/>
                  </a:lnTo>
                  <a:lnTo>
                    <a:pt x="4612" y="1276"/>
                  </a:lnTo>
                  <a:lnTo>
                    <a:pt x="4608" y="1268"/>
                  </a:lnTo>
                  <a:lnTo>
                    <a:pt x="4608" y="1266"/>
                  </a:lnTo>
                  <a:lnTo>
                    <a:pt x="4624" y="1249"/>
                  </a:lnTo>
                  <a:lnTo>
                    <a:pt x="4636" y="1242"/>
                  </a:lnTo>
                  <a:lnTo>
                    <a:pt x="4640" y="1219"/>
                  </a:lnTo>
                  <a:lnTo>
                    <a:pt x="4640" y="1210"/>
                  </a:lnTo>
                  <a:lnTo>
                    <a:pt x="4653" y="1188"/>
                  </a:lnTo>
                  <a:lnTo>
                    <a:pt x="4673" y="1178"/>
                  </a:lnTo>
                  <a:lnTo>
                    <a:pt x="4704" y="1156"/>
                  </a:lnTo>
                  <a:lnTo>
                    <a:pt x="4681" y="1148"/>
                  </a:lnTo>
                  <a:lnTo>
                    <a:pt x="4685" y="1123"/>
                  </a:lnTo>
                  <a:lnTo>
                    <a:pt x="4636" y="1094"/>
                  </a:lnTo>
                  <a:lnTo>
                    <a:pt x="4619" y="1102"/>
                  </a:lnTo>
                  <a:lnTo>
                    <a:pt x="4605" y="1096"/>
                  </a:lnTo>
                  <a:lnTo>
                    <a:pt x="4588" y="1104"/>
                  </a:lnTo>
                  <a:lnTo>
                    <a:pt x="4551" y="1087"/>
                  </a:lnTo>
                  <a:lnTo>
                    <a:pt x="4535" y="1082"/>
                  </a:lnTo>
                  <a:lnTo>
                    <a:pt x="4475" y="1077"/>
                  </a:lnTo>
                  <a:lnTo>
                    <a:pt x="4462" y="1087"/>
                  </a:lnTo>
                  <a:lnTo>
                    <a:pt x="4431" y="1087"/>
                  </a:lnTo>
                  <a:lnTo>
                    <a:pt x="4390" y="1096"/>
                  </a:lnTo>
                  <a:lnTo>
                    <a:pt x="4374" y="1092"/>
                  </a:lnTo>
                  <a:lnTo>
                    <a:pt x="4366" y="1096"/>
                  </a:lnTo>
                  <a:lnTo>
                    <a:pt x="4350" y="1107"/>
                  </a:lnTo>
                  <a:lnTo>
                    <a:pt x="4277" y="1102"/>
                  </a:lnTo>
                  <a:lnTo>
                    <a:pt x="4244" y="1084"/>
                  </a:lnTo>
                  <a:lnTo>
                    <a:pt x="4224" y="1087"/>
                  </a:lnTo>
                  <a:lnTo>
                    <a:pt x="4197" y="1104"/>
                  </a:lnTo>
                  <a:lnTo>
                    <a:pt x="4204" y="1123"/>
                  </a:lnTo>
                  <a:lnTo>
                    <a:pt x="4188" y="1151"/>
                  </a:lnTo>
                  <a:lnTo>
                    <a:pt x="4180" y="1156"/>
                  </a:lnTo>
                  <a:lnTo>
                    <a:pt x="4168" y="1222"/>
                  </a:lnTo>
                  <a:lnTo>
                    <a:pt x="4107" y="1261"/>
                  </a:lnTo>
                  <a:lnTo>
                    <a:pt x="4103" y="1283"/>
                  </a:lnTo>
                  <a:lnTo>
                    <a:pt x="4107" y="1288"/>
                  </a:lnTo>
                  <a:lnTo>
                    <a:pt x="4096" y="1303"/>
                  </a:lnTo>
                  <a:lnTo>
                    <a:pt x="4043" y="1328"/>
                  </a:lnTo>
                  <a:lnTo>
                    <a:pt x="4035" y="1328"/>
                  </a:lnTo>
                  <a:lnTo>
                    <a:pt x="4035" y="1313"/>
                  </a:lnTo>
                  <a:lnTo>
                    <a:pt x="4006" y="1315"/>
                  </a:lnTo>
                  <a:lnTo>
                    <a:pt x="3994" y="1328"/>
                  </a:lnTo>
                  <a:lnTo>
                    <a:pt x="3982" y="1320"/>
                  </a:lnTo>
                  <a:lnTo>
                    <a:pt x="3958" y="1330"/>
                  </a:lnTo>
                  <a:lnTo>
                    <a:pt x="3958" y="1333"/>
                  </a:lnTo>
                  <a:lnTo>
                    <a:pt x="3958" y="1348"/>
                  </a:lnTo>
                  <a:lnTo>
                    <a:pt x="3946" y="1350"/>
                  </a:lnTo>
                  <a:lnTo>
                    <a:pt x="3954" y="1355"/>
                  </a:lnTo>
                  <a:lnTo>
                    <a:pt x="3986" y="13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497680" y="2010600"/>
              <a:ext cx="272520" cy="166320"/>
            </a:xfrm>
            <a:custGeom>
              <a:avLst/>
              <a:gdLst/>
              <a:ahLst/>
              <a:rect l="l" t="t" r="r" b="b"/>
              <a:pathLst>
                <a:path w="759" h="461">
                  <a:moveTo>
                    <a:pt x="40" y="273"/>
                  </a:moveTo>
                  <a:lnTo>
                    <a:pt x="48" y="273"/>
                  </a:lnTo>
                  <a:lnTo>
                    <a:pt x="97" y="273"/>
                  </a:lnTo>
                  <a:lnTo>
                    <a:pt x="112" y="275"/>
                  </a:lnTo>
                  <a:lnTo>
                    <a:pt x="128" y="275"/>
                  </a:lnTo>
                  <a:lnTo>
                    <a:pt x="137" y="273"/>
                  </a:lnTo>
                  <a:lnTo>
                    <a:pt x="161" y="273"/>
                  </a:lnTo>
                  <a:lnTo>
                    <a:pt x="170" y="275"/>
                  </a:lnTo>
                  <a:lnTo>
                    <a:pt x="190" y="307"/>
                  </a:lnTo>
                  <a:lnTo>
                    <a:pt x="210" y="327"/>
                  </a:lnTo>
                  <a:lnTo>
                    <a:pt x="226" y="329"/>
                  </a:lnTo>
                  <a:lnTo>
                    <a:pt x="258" y="327"/>
                  </a:lnTo>
                  <a:lnTo>
                    <a:pt x="282" y="327"/>
                  </a:lnTo>
                  <a:lnTo>
                    <a:pt x="286" y="307"/>
                  </a:lnTo>
                  <a:lnTo>
                    <a:pt x="290" y="302"/>
                  </a:lnTo>
                  <a:lnTo>
                    <a:pt x="298" y="302"/>
                  </a:lnTo>
                  <a:lnTo>
                    <a:pt x="319" y="302"/>
                  </a:lnTo>
                  <a:lnTo>
                    <a:pt x="327" y="300"/>
                  </a:lnTo>
                  <a:lnTo>
                    <a:pt x="327" y="310"/>
                  </a:lnTo>
                  <a:lnTo>
                    <a:pt x="359" y="310"/>
                  </a:lnTo>
                  <a:lnTo>
                    <a:pt x="375" y="310"/>
                  </a:lnTo>
                  <a:lnTo>
                    <a:pt x="375" y="361"/>
                  </a:lnTo>
                  <a:lnTo>
                    <a:pt x="392" y="383"/>
                  </a:lnTo>
                  <a:lnTo>
                    <a:pt x="387" y="396"/>
                  </a:lnTo>
                  <a:lnTo>
                    <a:pt x="387" y="406"/>
                  </a:lnTo>
                  <a:lnTo>
                    <a:pt x="456" y="396"/>
                  </a:lnTo>
                  <a:lnTo>
                    <a:pt x="473" y="403"/>
                  </a:lnTo>
                  <a:lnTo>
                    <a:pt x="473" y="410"/>
                  </a:lnTo>
                  <a:lnTo>
                    <a:pt x="508" y="406"/>
                  </a:lnTo>
                  <a:lnTo>
                    <a:pt x="512" y="418"/>
                  </a:lnTo>
                  <a:lnTo>
                    <a:pt x="561" y="425"/>
                  </a:lnTo>
                  <a:lnTo>
                    <a:pt x="581" y="413"/>
                  </a:lnTo>
                  <a:lnTo>
                    <a:pt x="597" y="432"/>
                  </a:lnTo>
                  <a:lnTo>
                    <a:pt x="626" y="437"/>
                  </a:lnTo>
                  <a:lnTo>
                    <a:pt x="646" y="460"/>
                  </a:lnTo>
                  <a:lnTo>
                    <a:pt x="666" y="455"/>
                  </a:lnTo>
                  <a:lnTo>
                    <a:pt x="673" y="460"/>
                  </a:lnTo>
                  <a:lnTo>
                    <a:pt x="678" y="447"/>
                  </a:lnTo>
                  <a:lnTo>
                    <a:pt x="678" y="428"/>
                  </a:lnTo>
                  <a:lnTo>
                    <a:pt x="649" y="432"/>
                  </a:lnTo>
                  <a:lnTo>
                    <a:pt x="626" y="413"/>
                  </a:lnTo>
                  <a:lnTo>
                    <a:pt x="642" y="391"/>
                  </a:lnTo>
                  <a:lnTo>
                    <a:pt x="646" y="372"/>
                  </a:lnTo>
                  <a:lnTo>
                    <a:pt x="637" y="361"/>
                  </a:lnTo>
                  <a:lnTo>
                    <a:pt x="634" y="359"/>
                  </a:lnTo>
                  <a:lnTo>
                    <a:pt x="654" y="347"/>
                  </a:lnTo>
                  <a:lnTo>
                    <a:pt x="654" y="339"/>
                  </a:lnTo>
                  <a:lnTo>
                    <a:pt x="662" y="339"/>
                  </a:lnTo>
                  <a:lnTo>
                    <a:pt x="673" y="337"/>
                  </a:lnTo>
                  <a:lnTo>
                    <a:pt x="673" y="337"/>
                  </a:lnTo>
                  <a:lnTo>
                    <a:pt x="686" y="337"/>
                  </a:lnTo>
                  <a:lnTo>
                    <a:pt x="707" y="334"/>
                  </a:lnTo>
                  <a:lnTo>
                    <a:pt x="723" y="332"/>
                  </a:lnTo>
                  <a:lnTo>
                    <a:pt x="731" y="332"/>
                  </a:lnTo>
                  <a:lnTo>
                    <a:pt x="714" y="305"/>
                  </a:lnTo>
                  <a:lnTo>
                    <a:pt x="686" y="285"/>
                  </a:lnTo>
                  <a:lnTo>
                    <a:pt x="682" y="241"/>
                  </a:lnTo>
                  <a:lnTo>
                    <a:pt x="673" y="214"/>
                  </a:lnTo>
                  <a:lnTo>
                    <a:pt x="666" y="199"/>
                  </a:lnTo>
                  <a:lnTo>
                    <a:pt x="662" y="191"/>
                  </a:lnTo>
                  <a:lnTo>
                    <a:pt x="662" y="189"/>
                  </a:lnTo>
                  <a:lnTo>
                    <a:pt x="678" y="172"/>
                  </a:lnTo>
                  <a:lnTo>
                    <a:pt x="690" y="165"/>
                  </a:lnTo>
                  <a:lnTo>
                    <a:pt x="694" y="142"/>
                  </a:lnTo>
                  <a:lnTo>
                    <a:pt x="694" y="133"/>
                  </a:lnTo>
                  <a:lnTo>
                    <a:pt x="707" y="111"/>
                  </a:lnTo>
                  <a:lnTo>
                    <a:pt x="727" y="101"/>
                  </a:lnTo>
                  <a:lnTo>
                    <a:pt x="758" y="79"/>
                  </a:lnTo>
                  <a:lnTo>
                    <a:pt x="758" y="79"/>
                  </a:lnTo>
                  <a:lnTo>
                    <a:pt x="735" y="71"/>
                  </a:lnTo>
                  <a:lnTo>
                    <a:pt x="739" y="46"/>
                  </a:lnTo>
                  <a:lnTo>
                    <a:pt x="690" y="17"/>
                  </a:lnTo>
                  <a:lnTo>
                    <a:pt x="673" y="25"/>
                  </a:lnTo>
                  <a:lnTo>
                    <a:pt x="659" y="19"/>
                  </a:lnTo>
                  <a:lnTo>
                    <a:pt x="642" y="27"/>
                  </a:lnTo>
                  <a:lnTo>
                    <a:pt x="605" y="10"/>
                  </a:lnTo>
                  <a:lnTo>
                    <a:pt x="589" y="5"/>
                  </a:lnTo>
                  <a:lnTo>
                    <a:pt x="529" y="0"/>
                  </a:lnTo>
                  <a:lnTo>
                    <a:pt x="516" y="10"/>
                  </a:lnTo>
                  <a:lnTo>
                    <a:pt x="485" y="10"/>
                  </a:lnTo>
                  <a:lnTo>
                    <a:pt x="444" y="19"/>
                  </a:lnTo>
                  <a:lnTo>
                    <a:pt x="428" y="15"/>
                  </a:lnTo>
                  <a:lnTo>
                    <a:pt x="420" y="19"/>
                  </a:lnTo>
                  <a:lnTo>
                    <a:pt x="404" y="30"/>
                  </a:lnTo>
                  <a:lnTo>
                    <a:pt x="331" y="25"/>
                  </a:lnTo>
                  <a:lnTo>
                    <a:pt x="298" y="7"/>
                  </a:lnTo>
                  <a:lnTo>
                    <a:pt x="278" y="10"/>
                  </a:lnTo>
                  <a:lnTo>
                    <a:pt x="251" y="27"/>
                  </a:lnTo>
                  <a:lnTo>
                    <a:pt x="258" y="46"/>
                  </a:lnTo>
                  <a:lnTo>
                    <a:pt x="242" y="74"/>
                  </a:lnTo>
                  <a:lnTo>
                    <a:pt x="234" y="79"/>
                  </a:lnTo>
                  <a:lnTo>
                    <a:pt x="222" y="145"/>
                  </a:lnTo>
                  <a:lnTo>
                    <a:pt x="161" y="184"/>
                  </a:lnTo>
                  <a:lnTo>
                    <a:pt x="157" y="206"/>
                  </a:lnTo>
                  <a:lnTo>
                    <a:pt x="161" y="211"/>
                  </a:lnTo>
                  <a:lnTo>
                    <a:pt x="150" y="226"/>
                  </a:lnTo>
                  <a:lnTo>
                    <a:pt x="97" y="251"/>
                  </a:lnTo>
                  <a:lnTo>
                    <a:pt x="89" y="251"/>
                  </a:lnTo>
                  <a:lnTo>
                    <a:pt x="89" y="236"/>
                  </a:lnTo>
                  <a:lnTo>
                    <a:pt x="60" y="238"/>
                  </a:lnTo>
                  <a:lnTo>
                    <a:pt x="48" y="251"/>
                  </a:lnTo>
                  <a:lnTo>
                    <a:pt x="36" y="243"/>
                  </a:lnTo>
                  <a:lnTo>
                    <a:pt x="12" y="253"/>
                  </a:lnTo>
                  <a:lnTo>
                    <a:pt x="12" y="256"/>
                  </a:lnTo>
                  <a:lnTo>
                    <a:pt x="12" y="271"/>
                  </a:lnTo>
                  <a:lnTo>
                    <a:pt x="0" y="273"/>
                  </a:lnTo>
                  <a:lnTo>
                    <a:pt x="8" y="278"/>
                  </a:lnTo>
                  <a:lnTo>
                    <a:pt x="40" y="27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583360" y="2072520"/>
              <a:ext cx="7560" cy="936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4" y="25"/>
                  </a:moveTo>
                  <a:lnTo>
                    <a:pt x="4" y="25"/>
                  </a:lnTo>
                  <a:lnTo>
                    <a:pt x="8" y="1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8" y="8"/>
                  </a:lnTo>
                  <a:lnTo>
                    <a:pt x="20" y="10"/>
                  </a:lnTo>
                  <a:lnTo>
                    <a:pt x="4" y="2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350080" y="1623600"/>
              <a:ext cx="39240" cy="15480"/>
            </a:xfrm>
            <a:custGeom>
              <a:avLst/>
              <a:gdLst/>
              <a:ahLst/>
              <a:rect l="l" t="t" r="r" b="b"/>
              <a:pathLst>
                <a:path w="110" h="43">
                  <a:moveTo>
                    <a:pt x="101" y="30"/>
                  </a:moveTo>
                  <a:lnTo>
                    <a:pt x="109" y="24"/>
                  </a:lnTo>
                  <a:lnTo>
                    <a:pt x="97" y="17"/>
                  </a:lnTo>
                  <a:lnTo>
                    <a:pt x="84" y="14"/>
                  </a:lnTo>
                  <a:lnTo>
                    <a:pt x="89" y="8"/>
                  </a:lnTo>
                  <a:lnTo>
                    <a:pt x="65" y="0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37" y="8"/>
                  </a:lnTo>
                  <a:lnTo>
                    <a:pt x="20" y="3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5" y="27"/>
                  </a:lnTo>
                  <a:lnTo>
                    <a:pt x="45" y="32"/>
                  </a:lnTo>
                  <a:lnTo>
                    <a:pt x="65" y="30"/>
                  </a:lnTo>
                  <a:lnTo>
                    <a:pt x="93" y="42"/>
                  </a:lnTo>
                  <a:lnTo>
                    <a:pt x="101" y="3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365920" y="1625400"/>
              <a:ext cx="108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3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078920" y="2928960"/>
              <a:ext cx="169200" cy="52200"/>
            </a:xfrm>
            <a:custGeom>
              <a:avLst/>
              <a:gdLst/>
              <a:ahLst/>
              <a:rect l="l" t="t" r="r" b="b"/>
              <a:pathLst>
                <a:path w="473" h="146">
                  <a:moveTo>
                    <a:pt x="0" y="0"/>
                  </a:moveTo>
                  <a:lnTo>
                    <a:pt x="472" y="0"/>
                  </a:lnTo>
                  <a:lnTo>
                    <a:pt x="472" y="145"/>
                  </a:lnTo>
                  <a:lnTo>
                    <a:pt x="0" y="14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078920" y="1609200"/>
              <a:ext cx="3141720" cy="1449720"/>
            </a:xfrm>
            <a:custGeom>
              <a:avLst/>
              <a:gdLst/>
              <a:ahLst/>
              <a:rect l="l" t="t" r="r" b="b"/>
              <a:pathLst>
                <a:path w="8730" h="4031">
                  <a:moveTo>
                    <a:pt x="7934" y="1134"/>
                  </a:moveTo>
                  <a:lnTo>
                    <a:pt x="7873" y="1129"/>
                  </a:lnTo>
                  <a:lnTo>
                    <a:pt x="7865" y="1141"/>
                  </a:lnTo>
                  <a:lnTo>
                    <a:pt x="7869" y="1163"/>
                  </a:lnTo>
                  <a:lnTo>
                    <a:pt x="7853" y="1171"/>
                  </a:lnTo>
                  <a:lnTo>
                    <a:pt x="7861" y="1180"/>
                  </a:lnTo>
                  <a:lnTo>
                    <a:pt x="7846" y="1188"/>
                  </a:lnTo>
                  <a:lnTo>
                    <a:pt x="7849" y="1193"/>
                  </a:lnTo>
                  <a:lnTo>
                    <a:pt x="7838" y="1210"/>
                  </a:lnTo>
                  <a:lnTo>
                    <a:pt x="7805" y="1217"/>
                  </a:lnTo>
                  <a:lnTo>
                    <a:pt x="7765" y="1207"/>
                  </a:lnTo>
                  <a:lnTo>
                    <a:pt x="7745" y="1222"/>
                  </a:lnTo>
                  <a:lnTo>
                    <a:pt x="7700" y="1227"/>
                  </a:lnTo>
                  <a:lnTo>
                    <a:pt x="7667" y="1207"/>
                  </a:lnTo>
                  <a:lnTo>
                    <a:pt x="7664" y="1193"/>
                  </a:lnTo>
                  <a:lnTo>
                    <a:pt x="7643" y="1207"/>
                  </a:lnTo>
                  <a:lnTo>
                    <a:pt x="7643" y="1217"/>
                  </a:lnTo>
                  <a:lnTo>
                    <a:pt x="7651" y="1212"/>
                  </a:lnTo>
                  <a:lnTo>
                    <a:pt x="7639" y="1227"/>
                  </a:lnTo>
                  <a:lnTo>
                    <a:pt x="7639" y="1242"/>
                  </a:lnTo>
                  <a:lnTo>
                    <a:pt x="7655" y="1249"/>
                  </a:lnTo>
                  <a:lnTo>
                    <a:pt x="7648" y="1264"/>
                  </a:lnTo>
                  <a:lnTo>
                    <a:pt x="7664" y="1271"/>
                  </a:lnTo>
                  <a:lnTo>
                    <a:pt x="7651" y="1274"/>
                  </a:lnTo>
                  <a:lnTo>
                    <a:pt x="7672" y="1274"/>
                  </a:lnTo>
                  <a:lnTo>
                    <a:pt x="7680" y="1286"/>
                  </a:lnTo>
                  <a:lnTo>
                    <a:pt x="7676" y="1301"/>
                  </a:lnTo>
                  <a:lnTo>
                    <a:pt x="7684" y="1321"/>
                  </a:lnTo>
                  <a:lnTo>
                    <a:pt x="7684" y="1333"/>
                  </a:lnTo>
                  <a:lnTo>
                    <a:pt x="7696" y="1335"/>
                  </a:lnTo>
                  <a:lnTo>
                    <a:pt x="7732" y="1333"/>
                  </a:lnTo>
                  <a:lnTo>
                    <a:pt x="7736" y="1325"/>
                  </a:lnTo>
                  <a:lnTo>
                    <a:pt x="7736" y="1333"/>
                  </a:lnTo>
                  <a:lnTo>
                    <a:pt x="7736" y="1348"/>
                  </a:lnTo>
                  <a:lnTo>
                    <a:pt x="7752" y="1343"/>
                  </a:lnTo>
                  <a:lnTo>
                    <a:pt x="7765" y="1345"/>
                  </a:lnTo>
                  <a:lnTo>
                    <a:pt x="7781" y="1330"/>
                  </a:lnTo>
                  <a:lnTo>
                    <a:pt x="7793" y="1340"/>
                  </a:lnTo>
                  <a:lnTo>
                    <a:pt x="7801" y="1338"/>
                  </a:lnTo>
                  <a:lnTo>
                    <a:pt x="7801" y="1348"/>
                  </a:lnTo>
                  <a:lnTo>
                    <a:pt x="7817" y="1338"/>
                  </a:lnTo>
                  <a:lnTo>
                    <a:pt x="7821" y="1345"/>
                  </a:lnTo>
                  <a:lnTo>
                    <a:pt x="7829" y="1348"/>
                  </a:lnTo>
                  <a:lnTo>
                    <a:pt x="7833" y="1343"/>
                  </a:lnTo>
                  <a:lnTo>
                    <a:pt x="7833" y="1367"/>
                  </a:lnTo>
                  <a:lnTo>
                    <a:pt x="7882" y="1350"/>
                  </a:lnTo>
                  <a:lnTo>
                    <a:pt x="7894" y="1338"/>
                  </a:lnTo>
                  <a:lnTo>
                    <a:pt x="7889" y="1328"/>
                  </a:lnTo>
                  <a:lnTo>
                    <a:pt x="7894" y="1335"/>
                  </a:lnTo>
                  <a:lnTo>
                    <a:pt x="7898" y="1328"/>
                  </a:lnTo>
                  <a:lnTo>
                    <a:pt x="7898" y="1321"/>
                  </a:lnTo>
                  <a:lnTo>
                    <a:pt x="7906" y="1313"/>
                  </a:lnTo>
                  <a:lnTo>
                    <a:pt x="7898" y="1310"/>
                  </a:lnTo>
                  <a:lnTo>
                    <a:pt x="7902" y="1301"/>
                  </a:lnTo>
                  <a:lnTo>
                    <a:pt x="7894" y="1301"/>
                  </a:lnTo>
                  <a:lnTo>
                    <a:pt x="7914" y="1288"/>
                  </a:lnTo>
                  <a:lnTo>
                    <a:pt x="7914" y="1279"/>
                  </a:lnTo>
                  <a:lnTo>
                    <a:pt x="7918" y="1286"/>
                  </a:lnTo>
                  <a:lnTo>
                    <a:pt x="7946" y="1271"/>
                  </a:lnTo>
                  <a:lnTo>
                    <a:pt x="7946" y="1261"/>
                  </a:lnTo>
                  <a:lnTo>
                    <a:pt x="7942" y="1247"/>
                  </a:lnTo>
                  <a:lnTo>
                    <a:pt x="7950" y="1230"/>
                  </a:lnTo>
                  <a:lnTo>
                    <a:pt x="7958" y="1227"/>
                  </a:lnTo>
                  <a:lnTo>
                    <a:pt x="7954" y="1220"/>
                  </a:lnTo>
                  <a:lnTo>
                    <a:pt x="7970" y="1227"/>
                  </a:lnTo>
                  <a:lnTo>
                    <a:pt x="7995" y="1222"/>
                  </a:lnTo>
                  <a:lnTo>
                    <a:pt x="7946" y="1193"/>
                  </a:lnTo>
                  <a:lnTo>
                    <a:pt x="7958" y="1185"/>
                  </a:lnTo>
                  <a:lnTo>
                    <a:pt x="7942" y="1165"/>
                  </a:lnTo>
                  <a:lnTo>
                    <a:pt x="7926" y="1160"/>
                  </a:lnTo>
                  <a:lnTo>
                    <a:pt x="7934" y="1156"/>
                  </a:lnTo>
                  <a:lnTo>
                    <a:pt x="7918" y="1151"/>
                  </a:lnTo>
                  <a:lnTo>
                    <a:pt x="7934" y="1151"/>
                  </a:lnTo>
                  <a:lnTo>
                    <a:pt x="7946" y="1149"/>
                  </a:lnTo>
                  <a:lnTo>
                    <a:pt x="7930" y="1136"/>
                  </a:lnTo>
                  <a:lnTo>
                    <a:pt x="7934" y="1134"/>
                  </a:lnTo>
                  <a:close/>
                  <a:moveTo>
                    <a:pt x="1305" y="1193"/>
                  </a:moveTo>
                  <a:lnTo>
                    <a:pt x="1334" y="1163"/>
                  </a:lnTo>
                  <a:lnTo>
                    <a:pt x="1318" y="1131"/>
                  </a:lnTo>
                  <a:lnTo>
                    <a:pt x="1330" y="1117"/>
                  </a:lnTo>
                  <a:lnTo>
                    <a:pt x="1338" y="1104"/>
                  </a:lnTo>
                  <a:lnTo>
                    <a:pt x="1297" y="1102"/>
                  </a:lnTo>
                  <a:lnTo>
                    <a:pt x="1305" y="1104"/>
                  </a:lnTo>
                  <a:lnTo>
                    <a:pt x="1294" y="1104"/>
                  </a:lnTo>
                  <a:lnTo>
                    <a:pt x="1266" y="1102"/>
                  </a:lnTo>
                  <a:lnTo>
                    <a:pt x="1266" y="1109"/>
                  </a:lnTo>
                  <a:lnTo>
                    <a:pt x="1224" y="1099"/>
                  </a:lnTo>
                  <a:lnTo>
                    <a:pt x="1213" y="1114"/>
                  </a:lnTo>
                  <a:lnTo>
                    <a:pt x="1210" y="1124"/>
                  </a:lnTo>
                  <a:lnTo>
                    <a:pt x="1185" y="1129"/>
                  </a:lnTo>
                  <a:lnTo>
                    <a:pt x="1177" y="1151"/>
                  </a:lnTo>
                  <a:lnTo>
                    <a:pt x="1189" y="1165"/>
                  </a:lnTo>
                  <a:lnTo>
                    <a:pt x="1205" y="1165"/>
                  </a:lnTo>
                  <a:lnTo>
                    <a:pt x="1210" y="1178"/>
                  </a:lnTo>
                  <a:lnTo>
                    <a:pt x="1233" y="1203"/>
                  </a:lnTo>
                  <a:lnTo>
                    <a:pt x="1257" y="1203"/>
                  </a:lnTo>
                  <a:lnTo>
                    <a:pt x="1249" y="1193"/>
                  </a:lnTo>
                  <a:lnTo>
                    <a:pt x="1253" y="1188"/>
                  </a:lnTo>
                  <a:lnTo>
                    <a:pt x="1305" y="1193"/>
                  </a:lnTo>
                  <a:close/>
                  <a:moveTo>
                    <a:pt x="3579" y="45"/>
                  </a:moveTo>
                  <a:lnTo>
                    <a:pt x="3554" y="42"/>
                  </a:lnTo>
                  <a:lnTo>
                    <a:pt x="3579" y="42"/>
                  </a:lnTo>
                  <a:lnTo>
                    <a:pt x="3575" y="40"/>
                  </a:lnTo>
                  <a:lnTo>
                    <a:pt x="3595" y="37"/>
                  </a:lnTo>
                  <a:lnTo>
                    <a:pt x="3590" y="35"/>
                  </a:lnTo>
                  <a:lnTo>
                    <a:pt x="3575" y="35"/>
                  </a:lnTo>
                  <a:lnTo>
                    <a:pt x="3575" y="32"/>
                  </a:lnTo>
                  <a:lnTo>
                    <a:pt x="3586" y="10"/>
                  </a:lnTo>
                  <a:lnTo>
                    <a:pt x="3618" y="0"/>
                  </a:lnTo>
                  <a:lnTo>
                    <a:pt x="3655" y="3"/>
                  </a:lnTo>
                  <a:lnTo>
                    <a:pt x="3643" y="17"/>
                  </a:lnTo>
                  <a:lnTo>
                    <a:pt x="3652" y="22"/>
                  </a:lnTo>
                  <a:lnTo>
                    <a:pt x="3647" y="32"/>
                  </a:lnTo>
                  <a:lnTo>
                    <a:pt x="3631" y="35"/>
                  </a:lnTo>
                  <a:lnTo>
                    <a:pt x="3627" y="35"/>
                  </a:lnTo>
                  <a:lnTo>
                    <a:pt x="3623" y="35"/>
                  </a:lnTo>
                  <a:lnTo>
                    <a:pt x="3631" y="59"/>
                  </a:lnTo>
                  <a:lnTo>
                    <a:pt x="3618" y="56"/>
                  </a:lnTo>
                  <a:lnTo>
                    <a:pt x="3623" y="50"/>
                  </a:lnTo>
                  <a:lnTo>
                    <a:pt x="3599" y="42"/>
                  </a:lnTo>
                  <a:lnTo>
                    <a:pt x="3579" y="45"/>
                  </a:lnTo>
                  <a:lnTo>
                    <a:pt x="3571" y="50"/>
                  </a:lnTo>
                  <a:lnTo>
                    <a:pt x="3554" y="45"/>
                  </a:lnTo>
                  <a:lnTo>
                    <a:pt x="3579" y="45"/>
                  </a:lnTo>
                  <a:close/>
                  <a:moveTo>
                    <a:pt x="3607" y="7"/>
                  </a:moveTo>
                  <a:lnTo>
                    <a:pt x="3599" y="10"/>
                  </a:lnTo>
                  <a:lnTo>
                    <a:pt x="3595" y="22"/>
                  </a:lnTo>
                  <a:lnTo>
                    <a:pt x="3607" y="25"/>
                  </a:lnTo>
                  <a:lnTo>
                    <a:pt x="3618" y="20"/>
                  </a:lnTo>
                  <a:lnTo>
                    <a:pt x="3607" y="7"/>
                  </a:lnTo>
                  <a:close/>
                  <a:moveTo>
                    <a:pt x="8713" y="1404"/>
                  </a:moveTo>
                  <a:lnTo>
                    <a:pt x="8713" y="1402"/>
                  </a:lnTo>
                  <a:lnTo>
                    <a:pt x="8717" y="1387"/>
                  </a:lnTo>
                  <a:lnTo>
                    <a:pt x="8721" y="1372"/>
                  </a:lnTo>
                  <a:lnTo>
                    <a:pt x="8725" y="1357"/>
                  </a:lnTo>
                  <a:lnTo>
                    <a:pt x="8725" y="1343"/>
                  </a:lnTo>
                  <a:lnTo>
                    <a:pt x="8729" y="1328"/>
                  </a:lnTo>
                  <a:lnTo>
                    <a:pt x="8690" y="1321"/>
                  </a:lnTo>
                  <a:lnTo>
                    <a:pt x="8629" y="1294"/>
                  </a:lnTo>
                  <a:lnTo>
                    <a:pt x="8604" y="1303"/>
                  </a:lnTo>
                  <a:lnTo>
                    <a:pt x="8604" y="1313"/>
                  </a:lnTo>
                  <a:lnTo>
                    <a:pt x="8580" y="1316"/>
                  </a:lnTo>
                  <a:lnTo>
                    <a:pt x="8548" y="1348"/>
                  </a:lnTo>
                  <a:lnTo>
                    <a:pt x="8531" y="1348"/>
                  </a:lnTo>
                  <a:lnTo>
                    <a:pt x="8519" y="1338"/>
                  </a:lnTo>
                  <a:lnTo>
                    <a:pt x="8519" y="1323"/>
                  </a:lnTo>
                  <a:lnTo>
                    <a:pt x="8511" y="1333"/>
                  </a:lnTo>
                  <a:lnTo>
                    <a:pt x="8503" y="1318"/>
                  </a:lnTo>
                  <a:lnTo>
                    <a:pt x="8507" y="1291"/>
                  </a:lnTo>
                  <a:lnTo>
                    <a:pt x="8503" y="1271"/>
                  </a:lnTo>
                  <a:lnTo>
                    <a:pt x="8451" y="1261"/>
                  </a:lnTo>
                  <a:lnTo>
                    <a:pt x="8410" y="1274"/>
                  </a:lnTo>
                  <a:lnTo>
                    <a:pt x="8398" y="1291"/>
                  </a:lnTo>
                  <a:lnTo>
                    <a:pt x="8434" y="1296"/>
                  </a:lnTo>
                  <a:lnTo>
                    <a:pt x="8434" y="1310"/>
                  </a:lnTo>
                  <a:lnTo>
                    <a:pt x="8455" y="1318"/>
                  </a:lnTo>
                  <a:lnTo>
                    <a:pt x="8499" y="1310"/>
                  </a:lnTo>
                  <a:lnTo>
                    <a:pt x="8491" y="1316"/>
                  </a:lnTo>
                  <a:lnTo>
                    <a:pt x="8499" y="1321"/>
                  </a:lnTo>
                  <a:lnTo>
                    <a:pt x="8487" y="1323"/>
                  </a:lnTo>
                  <a:lnTo>
                    <a:pt x="8487" y="1330"/>
                  </a:lnTo>
                  <a:lnTo>
                    <a:pt x="8480" y="1323"/>
                  </a:lnTo>
                  <a:lnTo>
                    <a:pt x="8475" y="1321"/>
                  </a:lnTo>
                  <a:lnTo>
                    <a:pt x="8455" y="1330"/>
                  </a:lnTo>
                  <a:lnTo>
                    <a:pt x="8430" y="1330"/>
                  </a:lnTo>
                  <a:lnTo>
                    <a:pt x="8455" y="1345"/>
                  </a:lnTo>
                  <a:lnTo>
                    <a:pt x="8459" y="1352"/>
                  </a:lnTo>
                  <a:lnTo>
                    <a:pt x="8455" y="1370"/>
                  </a:lnTo>
                  <a:lnTo>
                    <a:pt x="8475" y="1362"/>
                  </a:lnTo>
                  <a:lnTo>
                    <a:pt x="8491" y="1335"/>
                  </a:lnTo>
                  <a:lnTo>
                    <a:pt x="8482" y="1352"/>
                  </a:lnTo>
                  <a:lnTo>
                    <a:pt x="8491" y="1362"/>
                  </a:lnTo>
                  <a:lnTo>
                    <a:pt x="8499" y="1365"/>
                  </a:lnTo>
                  <a:lnTo>
                    <a:pt x="8524" y="1365"/>
                  </a:lnTo>
                  <a:lnTo>
                    <a:pt x="8511" y="1370"/>
                  </a:lnTo>
                  <a:lnTo>
                    <a:pt x="8527" y="1380"/>
                  </a:lnTo>
                  <a:lnTo>
                    <a:pt x="8596" y="1394"/>
                  </a:lnTo>
                  <a:lnTo>
                    <a:pt x="8617" y="1409"/>
                  </a:lnTo>
                  <a:lnTo>
                    <a:pt x="8617" y="1419"/>
                  </a:lnTo>
                  <a:lnTo>
                    <a:pt x="8617" y="1421"/>
                  </a:lnTo>
                  <a:lnTo>
                    <a:pt x="8625" y="1424"/>
                  </a:lnTo>
                  <a:lnTo>
                    <a:pt x="8625" y="1448"/>
                  </a:lnTo>
                  <a:lnTo>
                    <a:pt x="8640" y="1456"/>
                  </a:lnTo>
                  <a:lnTo>
                    <a:pt x="8620" y="1453"/>
                  </a:lnTo>
                  <a:lnTo>
                    <a:pt x="8640" y="1460"/>
                  </a:lnTo>
                  <a:lnTo>
                    <a:pt x="8620" y="1463"/>
                  </a:lnTo>
                  <a:lnTo>
                    <a:pt x="8632" y="1473"/>
                  </a:lnTo>
                  <a:lnTo>
                    <a:pt x="8617" y="1495"/>
                  </a:lnTo>
                  <a:lnTo>
                    <a:pt x="8632" y="1486"/>
                  </a:lnTo>
                  <a:lnTo>
                    <a:pt x="8632" y="1493"/>
                  </a:lnTo>
                  <a:lnTo>
                    <a:pt x="8661" y="1483"/>
                  </a:lnTo>
                  <a:lnTo>
                    <a:pt x="8652" y="1493"/>
                  </a:lnTo>
                  <a:lnTo>
                    <a:pt x="8673" y="1522"/>
                  </a:lnTo>
                  <a:lnTo>
                    <a:pt x="8677" y="1515"/>
                  </a:lnTo>
                  <a:lnTo>
                    <a:pt x="8685" y="1500"/>
                  </a:lnTo>
                  <a:lnTo>
                    <a:pt x="8690" y="1486"/>
                  </a:lnTo>
                  <a:lnTo>
                    <a:pt x="8693" y="1471"/>
                  </a:lnTo>
                  <a:lnTo>
                    <a:pt x="8701" y="1456"/>
                  </a:lnTo>
                  <a:lnTo>
                    <a:pt x="8706" y="1439"/>
                  </a:lnTo>
                  <a:lnTo>
                    <a:pt x="8706" y="1431"/>
                  </a:lnTo>
                  <a:lnTo>
                    <a:pt x="8709" y="1416"/>
                  </a:lnTo>
                  <a:lnTo>
                    <a:pt x="8713" y="1404"/>
                  </a:lnTo>
                  <a:close/>
                  <a:moveTo>
                    <a:pt x="8107" y="1380"/>
                  </a:moveTo>
                  <a:lnTo>
                    <a:pt x="8104" y="1402"/>
                  </a:lnTo>
                  <a:lnTo>
                    <a:pt x="8091" y="1402"/>
                  </a:lnTo>
                  <a:lnTo>
                    <a:pt x="8095" y="1387"/>
                  </a:lnTo>
                  <a:lnTo>
                    <a:pt x="8107" y="1380"/>
                  </a:lnTo>
                  <a:close/>
                  <a:moveTo>
                    <a:pt x="8124" y="1375"/>
                  </a:moveTo>
                  <a:lnTo>
                    <a:pt x="8124" y="1387"/>
                  </a:lnTo>
                  <a:lnTo>
                    <a:pt x="8116" y="1397"/>
                  </a:lnTo>
                  <a:lnTo>
                    <a:pt x="8124" y="1399"/>
                  </a:lnTo>
                  <a:lnTo>
                    <a:pt x="8107" y="1411"/>
                  </a:lnTo>
                  <a:lnTo>
                    <a:pt x="8099" y="1406"/>
                  </a:lnTo>
                  <a:lnTo>
                    <a:pt x="8124" y="1375"/>
                  </a:lnTo>
                  <a:close/>
                  <a:moveTo>
                    <a:pt x="8010" y="1406"/>
                  </a:moveTo>
                  <a:lnTo>
                    <a:pt x="7999" y="1406"/>
                  </a:lnTo>
                  <a:lnTo>
                    <a:pt x="7991" y="1406"/>
                  </a:lnTo>
                  <a:lnTo>
                    <a:pt x="8006" y="1362"/>
                  </a:lnTo>
                  <a:lnTo>
                    <a:pt x="8003" y="1348"/>
                  </a:lnTo>
                  <a:lnTo>
                    <a:pt x="7983" y="1348"/>
                  </a:lnTo>
                  <a:lnTo>
                    <a:pt x="7979" y="1338"/>
                  </a:lnTo>
                  <a:lnTo>
                    <a:pt x="7983" y="1325"/>
                  </a:lnTo>
                  <a:lnTo>
                    <a:pt x="8003" y="1303"/>
                  </a:lnTo>
                  <a:lnTo>
                    <a:pt x="8003" y="1286"/>
                  </a:lnTo>
                  <a:lnTo>
                    <a:pt x="8019" y="1269"/>
                  </a:lnTo>
                  <a:lnTo>
                    <a:pt x="8023" y="1274"/>
                  </a:lnTo>
                  <a:lnTo>
                    <a:pt x="8015" y="1249"/>
                  </a:lnTo>
                  <a:lnTo>
                    <a:pt x="8023" y="1249"/>
                  </a:lnTo>
                  <a:lnTo>
                    <a:pt x="8031" y="1230"/>
                  </a:lnTo>
                  <a:lnTo>
                    <a:pt x="8039" y="1222"/>
                  </a:lnTo>
                  <a:lnTo>
                    <a:pt x="8047" y="1230"/>
                  </a:lnTo>
                  <a:lnTo>
                    <a:pt x="8059" y="1212"/>
                  </a:lnTo>
                  <a:lnTo>
                    <a:pt x="8080" y="1215"/>
                  </a:lnTo>
                  <a:lnTo>
                    <a:pt x="8128" y="1227"/>
                  </a:lnTo>
                  <a:lnTo>
                    <a:pt x="8164" y="1227"/>
                  </a:lnTo>
                  <a:lnTo>
                    <a:pt x="8196" y="1200"/>
                  </a:lnTo>
                  <a:lnTo>
                    <a:pt x="8208" y="1207"/>
                  </a:lnTo>
                  <a:lnTo>
                    <a:pt x="8172" y="1240"/>
                  </a:lnTo>
                  <a:lnTo>
                    <a:pt x="8035" y="1240"/>
                  </a:lnTo>
                  <a:lnTo>
                    <a:pt x="8031" y="1269"/>
                  </a:lnTo>
                  <a:lnTo>
                    <a:pt x="8051" y="1288"/>
                  </a:lnTo>
                  <a:lnTo>
                    <a:pt x="8068" y="1288"/>
                  </a:lnTo>
                  <a:lnTo>
                    <a:pt x="8084" y="1274"/>
                  </a:lnTo>
                  <a:lnTo>
                    <a:pt x="8124" y="1274"/>
                  </a:lnTo>
                  <a:lnTo>
                    <a:pt x="8132" y="1271"/>
                  </a:lnTo>
                  <a:lnTo>
                    <a:pt x="8132" y="1267"/>
                  </a:lnTo>
                  <a:lnTo>
                    <a:pt x="8148" y="1271"/>
                  </a:lnTo>
                  <a:lnTo>
                    <a:pt x="8144" y="1281"/>
                  </a:lnTo>
                  <a:lnTo>
                    <a:pt x="8124" y="1276"/>
                  </a:lnTo>
                  <a:lnTo>
                    <a:pt x="8084" y="1303"/>
                  </a:lnTo>
                  <a:lnTo>
                    <a:pt x="8072" y="1301"/>
                  </a:lnTo>
                  <a:lnTo>
                    <a:pt x="8107" y="1340"/>
                  </a:lnTo>
                  <a:lnTo>
                    <a:pt x="8095" y="1352"/>
                  </a:lnTo>
                  <a:lnTo>
                    <a:pt x="8116" y="1365"/>
                  </a:lnTo>
                  <a:lnTo>
                    <a:pt x="8116" y="1375"/>
                  </a:lnTo>
                  <a:lnTo>
                    <a:pt x="8087" y="1377"/>
                  </a:lnTo>
                  <a:lnTo>
                    <a:pt x="8084" y="1387"/>
                  </a:lnTo>
                  <a:lnTo>
                    <a:pt x="8068" y="1384"/>
                  </a:lnTo>
                  <a:lnTo>
                    <a:pt x="8072" y="1375"/>
                  </a:lnTo>
                  <a:lnTo>
                    <a:pt x="8075" y="1365"/>
                  </a:lnTo>
                  <a:lnTo>
                    <a:pt x="8051" y="1350"/>
                  </a:lnTo>
                  <a:lnTo>
                    <a:pt x="8063" y="1328"/>
                  </a:lnTo>
                  <a:lnTo>
                    <a:pt x="8051" y="1323"/>
                  </a:lnTo>
                  <a:lnTo>
                    <a:pt x="8031" y="1333"/>
                  </a:lnTo>
                  <a:lnTo>
                    <a:pt x="8039" y="1343"/>
                  </a:lnTo>
                  <a:lnTo>
                    <a:pt x="8031" y="1372"/>
                  </a:lnTo>
                  <a:lnTo>
                    <a:pt x="8027" y="1409"/>
                  </a:lnTo>
                  <a:lnTo>
                    <a:pt x="8010" y="1406"/>
                  </a:lnTo>
                  <a:close/>
                  <a:moveTo>
                    <a:pt x="7643" y="1466"/>
                  </a:moveTo>
                  <a:lnTo>
                    <a:pt x="7704" y="1480"/>
                  </a:lnTo>
                  <a:lnTo>
                    <a:pt x="7736" y="1483"/>
                  </a:lnTo>
                  <a:lnTo>
                    <a:pt x="7757" y="1478"/>
                  </a:lnTo>
                  <a:lnTo>
                    <a:pt x="7797" y="1493"/>
                  </a:lnTo>
                  <a:lnTo>
                    <a:pt x="7793" y="1483"/>
                  </a:lnTo>
                  <a:lnTo>
                    <a:pt x="7801" y="1466"/>
                  </a:lnTo>
                  <a:lnTo>
                    <a:pt x="7788" y="1460"/>
                  </a:lnTo>
                  <a:lnTo>
                    <a:pt x="7761" y="1463"/>
                  </a:lnTo>
                  <a:lnTo>
                    <a:pt x="7745" y="1458"/>
                  </a:lnTo>
                  <a:lnTo>
                    <a:pt x="7745" y="1439"/>
                  </a:lnTo>
                  <a:lnTo>
                    <a:pt x="7696" y="1434"/>
                  </a:lnTo>
                  <a:lnTo>
                    <a:pt x="7691" y="1426"/>
                  </a:lnTo>
                  <a:lnTo>
                    <a:pt x="7680" y="1429"/>
                  </a:lnTo>
                  <a:lnTo>
                    <a:pt x="7667" y="1441"/>
                  </a:lnTo>
                  <a:lnTo>
                    <a:pt x="7610" y="1437"/>
                  </a:lnTo>
                  <a:lnTo>
                    <a:pt x="7599" y="1421"/>
                  </a:lnTo>
                  <a:lnTo>
                    <a:pt x="7554" y="1411"/>
                  </a:lnTo>
                  <a:lnTo>
                    <a:pt x="7547" y="1416"/>
                  </a:lnTo>
                  <a:lnTo>
                    <a:pt x="7518" y="1411"/>
                  </a:lnTo>
                  <a:lnTo>
                    <a:pt x="7494" y="1437"/>
                  </a:lnTo>
                  <a:lnTo>
                    <a:pt x="7486" y="1434"/>
                  </a:lnTo>
                  <a:lnTo>
                    <a:pt x="7530" y="1441"/>
                  </a:lnTo>
                  <a:lnTo>
                    <a:pt x="7523" y="1451"/>
                  </a:lnTo>
                  <a:lnTo>
                    <a:pt x="7571" y="1460"/>
                  </a:lnTo>
                  <a:lnTo>
                    <a:pt x="7643" y="1466"/>
                  </a:lnTo>
                  <a:close/>
                  <a:moveTo>
                    <a:pt x="7757" y="1441"/>
                  </a:moveTo>
                  <a:lnTo>
                    <a:pt x="7797" y="1441"/>
                  </a:lnTo>
                  <a:lnTo>
                    <a:pt x="7761" y="1448"/>
                  </a:lnTo>
                  <a:lnTo>
                    <a:pt x="7749" y="1446"/>
                  </a:lnTo>
                  <a:lnTo>
                    <a:pt x="7757" y="1441"/>
                  </a:lnTo>
                  <a:close/>
                  <a:moveTo>
                    <a:pt x="7801" y="1473"/>
                  </a:moveTo>
                  <a:lnTo>
                    <a:pt x="7829" y="1475"/>
                  </a:lnTo>
                  <a:lnTo>
                    <a:pt x="7841" y="1483"/>
                  </a:lnTo>
                  <a:lnTo>
                    <a:pt x="7817" y="1495"/>
                  </a:lnTo>
                  <a:lnTo>
                    <a:pt x="7801" y="1473"/>
                  </a:lnTo>
                  <a:close/>
                  <a:moveTo>
                    <a:pt x="7865" y="1478"/>
                  </a:moveTo>
                  <a:lnTo>
                    <a:pt x="7877" y="1483"/>
                  </a:lnTo>
                  <a:lnTo>
                    <a:pt x="7865" y="1497"/>
                  </a:lnTo>
                  <a:lnTo>
                    <a:pt x="7846" y="1497"/>
                  </a:lnTo>
                  <a:lnTo>
                    <a:pt x="7841" y="1493"/>
                  </a:lnTo>
                  <a:lnTo>
                    <a:pt x="7849" y="1493"/>
                  </a:lnTo>
                  <a:lnTo>
                    <a:pt x="7865" y="1478"/>
                  </a:lnTo>
                  <a:close/>
                  <a:moveTo>
                    <a:pt x="7894" y="1483"/>
                  </a:moveTo>
                  <a:lnTo>
                    <a:pt x="7914" y="1495"/>
                  </a:lnTo>
                  <a:lnTo>
                    <a:pt x="7926" y="1491"/>
                  </a:lnTo>
                  <a:lnTo>
                    <a:pt x="7914" y="1475"/>
                  </a:lnTo>
                  <a:lnTo>
                    <a:pt x="7942" y="1483"/>
                  </a:lnTo>
                  <a:lnTo>
                    <a:pt x="7942" y="1488"/>
                  </a:lnTo>
                  <a:lnTo>
                    <a:pt x="7946" y="1483"/>
                  </a:lnTo>
                  <a:lnTo>
                    <a:pt x="7954" y="1486"/>
                  </a:lnTo>
                  <a:lnTo>
                    <a:pt x="7958" y="1493"/>
                  </a:lnTo>
                  <a:lnTo>
                    <a:pt x="7938" y="1495"/>
                  </a:lnTo>
                  <a:lnTo>
                    <a:pt x="7946" y="1497"/>
                  </a:lnTo>
                  <a:lnTo>
                    <a:pt x="7930" y="1497"/>
                  </a:lnTo>
                  <a:lnTo>
                    <a:pt x="7930" y="1491"/>
                  </a:lnTo>
                  <a:lnTo>
                    <a:pt x="7918" y="1497"/>
                  </a:lnTo>
                  <a:lnTo>
                    <a:pt x="7877" y="1502"/>
                  </a:lnTo>
                  <a:lnTo>
                    <a:pt x="7869" y="1500"/>
                  </a:lnTo>
                  <a:lnTo>
                    <a:pt x="7873" y="1491"/>
                  </a:lnTo>
                  <a:lnTo>
                    <a:pt x="7894" y="1483"/>
                  </a:lnTo>
                  <a:close/>
                  <a:moveTo>
                    <a:pt x="7942" y="1515"/>
                  </a:moveTo>
                  <a:lnTo>
                    <a:pt x="7983" y="1515"/>
                  </a:lnTo>
                  <a:lnTo>
                    <a:pt x="7999" y="1529"/>
                  </a:lnTo>
                  <a:lnTo>
                    <a:pt x="7983" y="1540"/>
                  </a:lnTo>
                  <a:lnTo>
                    <a:pt x="7967" y="1529"/>
                  </a:lnTo>
                  <a:lnTo>
                    <a:pt x="7942" y="1522"/>
                  </a:lnTo>
                  <a:lnTo>
                    <a:pt x="7942" y="1515"/>
                  </a:lnTo>
                  <a:close/>
                  <a:moveTo>
                    <a:pt x="7999" y="1483"/>
                  </a:moveTo>
                  <a:lnTo>
                    <a:pt x="8039" y="1493"/>
                  </a:lnTo>
                  <a:lnTo>
                    <a:pt x="8063" y="1493"/>
                  </a:lnTo>
                  <a:lnTo>
                    <a:pt x="8087" y="1483"/>
                  </a:lnTo>
                  <a:lnTo>
                    <a:pt x="8087" y="1478"/>
                  </a:lnTo>
                  <a:lnTo>
                    <a:pt x="8091" y="1483"/>
                  </a:lnTo>
                  <a:lnTo>
                    <a:pt x="8072" y="1495"/>
                  </a:lnTo>
                  <a:lnTo>
                    <a:pt x="8015" y="1502"/>
                  </a:lnTo>
                  <a:lnTo>
                    <a:pt x="7979" y="1497"/>
                  </a:lnTo>
                  <a:lnTo>
                    <a:pt x="7983" y="1486"/>
                  </a:lnTo>
                  <a:lnTo>
                    <a:pt x="7999" y="1483"/>
                  </a:lnTo>
                  <a:close/>
                  <a:moveTo>
                    <a:pt x="8104" y="1483"/>
                  </a:moveTo>
                  <a:lnTo>
                    <a:pt x="8124" y="1483"/>
                  </a:lnTo>
                  <a:lnTo>
                    <a:pt x="8099" y="1493"/>
                  </a:lnTo>
                  <a:lnTo>
                    <a:pt x="8095" y="1491"/>
                  </a:lnTo>
                  <a:lnTo>
                    <a:pt x="8104" y="1483"/>
                  </a:lnTo>
                  <a:close/>
                  <a:moveTo>
                    <a:pt x="8140" y="1480"/>
                  </a:moveTo>
                  <a:lnTo>
                    <a:pt x="8161" y="1488"/>
                  </a:lnTo>
                  <a:lnTo>
                    <a:pt x="8136" y="1491"/>
                  </a:lnTo>
                  <a:lnTo>
                    <a:pt x="8140" y="1480"/>
                  </a:lnTo>
                  <a:close/>
                  <a:moveTo>
                    <a:pt x="8148" y="1520"/>
                  </a:moveTo>
                  <a:lnTo>
                    <a:pt x="8234" y="1491"/>
                  </a:lnTo>
                  <a:lnTo>
                    <a:pt x="8161" y="1495"/>
                  </a:lnTo>
                  <a:lnTo>
                    <a:pt x="8099" y="1522"/>
                  </a:lnTo>
                  <a:lnTo>
                    <a:pt x="8091" y="1535"/>
                  </a:lnTo>
                  <a:lnTo>
                    <a:pt x="8095" y="1535"/>
                  </a:lnTo>
                  <a:lnTo>
                    <a:pt x="8084" y="1542"/>
                  </a:lnTo>
                  <a:lnTo>
                    <a:pt x="8120" y="1537"/>
                  </a:lnTo>
                  <a:lnTo>
                    <a:pt x="8148" y="1520"/>
                  </a:lnTo>
                  <a:close/>
                  <a:moveTo>
                    <a:pt x="8196" y="1468"/>
                  </a:moveTo>
                  <a:lnTo>
                    <a:pt x="8225" y="1468"/>
                  </a:lnTo>
                  <a:lnTo>
                    <a:pt x="8213" y="1478"/>
                  </a:lnTo>
                  <a:lnTo>
                    <a:pt x="8188" y="1478"/>
                  </a:lnTo>
                  <a:lnTo>
                    <a:pt x="8196" y="1468"/>
                  </a:lnTo>
                  <a:close/>
                  <a:moveTo>
                    <a:pt x="7192" y="1188"/>
                  </a:moveTo>
                  <a:lnTo>
                    <a:pt x="7167" y="1180"/>
                  </a:lnTo>
                  <a:lnTo>
                    <a:pt x="7167" y="1173"/>
                  </a:lnTo>
                  <a:lnTo>
                    <a:pt x="7192" y="1188"/>
                  </a:lnTo>
                  <a:close/>
                  <a:moveTo>
                    <a:pt x="7293" y="1299"/>
                  </a:moveTo>
                  <a:lnTo>
                    <a:pt x="7272" y="1284"/>
                  </a:lnTo>
                  <a:lnTo>
                    <a:pt x="7280" y="1274"/>
                  </a:lnTo>
                  <a:lnTo>
                    <a:pt x="7293" y="1299"/>
                  </a:lnTo>
                  <a:close/>
                  <a:moveTo>
                    <a:pt x="7244" y="1225"/>
                  </a:moveTo>
                  <a:lnTo>
                    <a:pt x="7244" y="1237"/>
                  </a:lnTo>
                  <a:lnTo>
                    <a:pt x="7216" y="1212"/>
                  </a:lnTo>
                  <a:lnTo>
                    <a:pt x="7231" y="1212"/>
                  </a:lnTo>
                  <a:lnTo>
                    <a:pt x="7244" y="1225"/>
                  </a:lnTo>
                  <a:close/>
                  <a:moveTo>
                    <a:pt x="8390" y="1456"/>
                  </a:moveTo>
                  <a:lnTo>
                    <a:pt x="8387" y="1471"/>
                  </a:lnTo>
                  <a:lnTo>
                    <a:pt x="8366" y="1480"/>
                  </a:lnTo>
                  <a:lnTo>
                    <a:pt x="8370" y="1473"/>
                  </a:lnTo>
                  <a:lnTo>
                    <a:pt x="8390" y="1456"/>
                  </a:lnTo>
                  <a:close/>
                  <a:moveTo>
                    <a:pt x="8148" y="1286"/>
                  </a:moveTo>
                  <a:lnTo>
                    <a:pt x="8140" y="1296"/>
                  </a:lnTo>
                  <a:lnTo>
                    <a:pt x="8136" y="1286"/>
                  </a:lnTo>
                  <a:lnTo>
                    <a:pt x="8128" y="1296"/>
                  </a:lnTo>
                  <a:lnTo>
                    <a:pt x="8124" y="1291"/>
                  </a:lnTo>
                  <a:lnTo>
                    <a:pt x="8128" y="1284"/>
                  </a:lnTo>
                  <a:lnTo>
                    <a:pt x="8140" y="1284"/>
                  </a:lnTo>
                  <a:lnTo>
                    <a:pt x="8148" y="1286"/>
                  </a:lnTo>
                  <a:close/>
                  <a:moveTo>
                    <a:pt x="8180" y="1299"/>
                  </a:moveTo>
                  <a:lnTo>
                    <a:pt x="8208" y="1303"/>
                  </a:lnTo>
                  <a:lnTo>
                    <a:pt x="8176" y="1308"/>
                  </a:lnTo>
                  <a:lnTo>
                    <a:pt x="8180" y="1299"/>
                  </a:lnTo>
                  <a:close/>
                  <a:moveTo>
                    <a:pt x="8213" y="1301"/>
                  </a:moveTo>
                  <a:lnTo>
                    <a:pt x="8244" y="1303"/>
                  </a:lnTo>
                  <a:lnTo>
                    <a:pt x="8213" y="1306"/>
                  </a:lnTo>
                  <a:lnTo>
                    <a:pt x="8213" y="1301"/>
                  </a:lnTo>
                  <a:close/>
                  <a:moveTo>
                    <a:pt x="8234" y="1340"/>
                  </a:moveTo>
                  <a:lnTo>
                    <a:pt x="8257" y="1340"/>
                  </a:lnTo>
                  <a:lnTo>
                    <a:pt x="8269" y="1348"/>
                  </a:lnTo>
                  <a:lnTo>
                    <a:pt x="8265" y="1355"/>
                  </a:lnTo>
                  <a:lnTo>
                    <a:pt x="8249" y="1360"/>
                  </a:lnTo>
                  <a:lnTo>
                    <a:pt x="8234" y="1352"/>
                  </a:lnTo>
                  <a:lnTo>
                    <a:pt x="8234" y="1340"/>
                  </a:lnTo>
                  <a:close/>
                  <a:moveTo>
                    <a:pt x="8294" y="1352"/>
                  </a:moveTo>
                  <a:lnTo>
                    <a:pt x="8306" y="1350"/>
                  </a:lnTo>
                  <a:lnTo>
                    <a:pt x="8297" y="1360"/>
                  </a:lnTo>
                  <a:lnTo>
                    <a:pt x="8289" y="1357"/>
                  </a:lnTo>
                  <a:lnTo>
                    <a:pt x="8294" y="1352"/>
                  </a:lnTo>
                  <a:close/>
                  <a:moveTo>
                    <a:pt x="8302" y="1333"/>
                  </a:moveTo>
                  <a:lnTo>
                    <a:pt x="8354" y="1333"/>
                  </a:lnTo>
                  <a:lnTo>
                    <a:pt x="8382" y="1340"/>
                  </a:lnTo>
                  <a:lnTo>
                    <a:pt x="8387" y="1362"/>
                  </a:lnTo>
                  <a:lnTo>
                    <a:pt x="8358" y="1345"/>
                  </a:lnTo>
                  <a:lnTo>
                    <a:pt x="8309" y="1350"/>
                  </a:lnTo>
                  <a:lnTo>
                    <a:pt x="8302" y="1338"/>
                  </a:lnTo>
                  <a:lnTo>
                    <a:pt x="8289" y="1352"/>
                  </a:lnTo>
                  <a:lnTo>
                    <a:pt x="8289" y="1340"/>
                  </a:lnTo>
                  <a:lnTo>
                    <a:pt x="8302" y="1333"/>
                  </a:lnTo>
                  <a:close/>
                  <a:moveTo>
                    <a:pt x="8482" y="1429"/>
                  </a:moveTo>
                  <a:lnTo>
                    <a:pt x="8491" y="1441"/>
                  </a:lnTo>
                  <a:lnTo>
                    <a:pt x="8480" y="1451"/>
                  </a:lnTo>
                  <a:lnTo>
                    <a:pt x="8482" y="1429"/>
                  </a:lnTo>
                  <a:close/>
                  <a:moveTo>
                    <a:pt x="8499" y="1409"/>
                  </a:moveTo>
                  <a:lnTo>
                    <a:pt x="8503" y="1431"/>
                  </a:lnTo>
                  <a:lnTo>
                    <a:pt x="8487" y="1431"/>
                  </a:lnTo>
                  <a:lnTo>
                    <a:pt x="8487" y="1416"/>
                  </a:lnTo>
                  <a:lnTo>
                    <a:pt x="8499" y="1409"/>
                  </a:lnTo>
                  <a:close/>
                  <a:moveTo>
                    <a:pt x="8281" y="1291"/>
                  </a:moveTo>
                  <a:lnTo>
                    <a:pt x="8306" y="1296"/>
                  </a:lnTo>
                  <a:lnTo>
                    <a:pt x="8285" y="1301"/>
                  </a:lnTo>
                  <a:lnTo>
                    <a:pt x="8281" y="1291"/>
                  </a:lnTo>
                  <a:close/>
                  <a:moveTo>
                    <a:pt x="8285" y="1259"/>
                  </a:moveTo>
                  <a:lnTo>
                    <a:pt x="8297" y="1274"/>
                  </a:lnTo>
                  <a:lnTo>
                    <a:pt x="8294" y="1276"/>
                  </a:lnTo>
                  <a:lnTo>
                    <a:pt x="8277" y="1264"/>
                  </a:lnTo>
                  <a:lnTo>
                    <a:pt x="8285" y="1259"/>
                  </a:lnTo>
                  <a:close/>
                  <a:moveTo>
                    <a:pt x="8309" y="1193"/>
                  </a:moveTo>
                  <a:lnTo>
                    <a:pt x="8314" y="1178"/>
                  </a:lnTo>
                  <a:lnTo>
                    <a:pt x="8321" y="1180"/>
                  </a:lnTo>
                  <a:lnTo>
                    <a:pt x="8309" y="1193"/>
                  </a:lnTo>
                  <a:close/>
                  <a:moveTo>
                    <a:pt x="8333" y="1244"/>
                  </a:moveTo>
                  <a:lnTo>
                    <a:pt x="8302" y="1237"/>
                  </a:lnTo>
                  <a:lnTo>
                    <a:pt x="8297" y="1242"/>
                  </a:lnTo>
                  <a:lnTo>
                    <a:pt x="8318" y="1276"/>
                  </a:lnTo>
                  <a:lnTo>
                    <a:pt x="8294" y="1259"/>
                  </a:lnTo>
                  <a:lnTo>
                    <a:pt x="8285" y="1240"/>
                  </a:lnTo>
                  <a:lnTo>
                    <a:pt x="8281" y="1215"/>
                  </a:lnTo>
                  <a:lnTo>
                    <a:pt x="8302" y="1188"/>
                  </a:lnTo>
                  <a:lnTo>
                    <a:pt x="8294" y="1195"/>
                  </a:lnTo>
                  <a:lnTo>
                    <a:pt x="8302" y="1212"/>
                  </a:lnTo>
                  <a:lnTo>
                    <a:pt x="8289" y="1225"/>
                  </a:lnTo>
                  <a:lnTo>
                    <a:pt x="8321" y="1205"/>
                  </a:lnTo>
                  <a:lnTo>
                    <a:pt x="8325" y="1220"/>
                  </a:lnTo>
                  <a:lnTo>
                    <a:pt x="8309" y="1230"/>
                  </a:lnTo>
                  <a:lnTo>
                    <a:pt x="8333" y="1244"/>
                  </a:lnTo>
                  <a:close/>
                  <a:moveTo>
                    <a:pt x="8398" y="1252"/>
                  </a:moveTo>
                  <a:lnTo>
                    <a:pt x="8414" y="1259"/>
                  </a:lnTo>
                  <a:lnTo>
                    <a:pt x="8395" y="1252"/>
                  </a:lnTo>
                  <a:lnTo>
                    <a:pt x="8402" y="1261"/>
                  </a:lnTo>
                  <a:lnTo>
                    <a:pt x="8387" y="1264"/>
                  </a:lnTo>
                  <a:lnTo>
                    <a:pt x="8378" y="1256"/>
                  </a:lnTo>
                  <a:lnTo>
                    <a:pt x="8398" y="1252"/>
                  </a:lnTo>
                  <a:close/>
                  <a:moveTo>
                    <a:pt x="8378" y="1299"/>
                  </a:moveTo>
                  <a:lnTo>
                    <a:pt x="8378" y="1308"/>
                  </a:lnTo>
                  <a:lnTo>
                    <a:pt x="8358" y="1306"/>
                  </a:lnTo>
                  <a:lnTo>
                    <a:pt x="8378" y="1299"/>
                  </a:lnTo>
                  <a:close/>
                  <a:moveTo>
                    <a:pt x="8617" y="1468"/>
                  </a:moveTo>
                  <a:lnTo>
                    <a:pt x="8629" y="1473"/>
                  </a:lnTo>
                  <a:lnTo>
                    <a:pt x="8620" y="1488"/>
                  </a:lnTo>
                  <a:lnTo>
                    <a:pt x="8600" y="1497"/>
                  </a:lnTo>
                  <a:lnTo>
                    <a:pt x="8576" y="1497"/>
                  </a:lnTo>
                  <a:lnTo>
                    <a:pt x="8596" y="1475"/>
                  </a:lnTo>
                  <a:lnTo>
                    <a:pt x="8617" y="1468"/>
                  </a:lnTo>
                  <a:close/>
                  <a:moveTo>
                    <a:pt x="8552" y="1299"/>
                  </a:moveTo>
                  <a:lnTo>
                    <a:pt x="8596" y="1303"/>
                  </a:lnTo>
                  <a:lnTo>
                    <a:pt x="8552" y="1299"/>
                  </a:lnTo>
                  <a:close/>
                  <a:moveTo>
                    <a:pt x="8552" y="1269"/>
                  </a:moveTo>
                  <a:lnTo>
                    <a:pt x="8580" y="1284"/>
                  </a:lnTo>
                  <a:lnTo>
                    <a:pt x="8563" y="1284"/>
                  </a:lnTo>
                  <a:lnTo>
                    <a:pt x="8552" y="1269"/>
                  </a:lnTo>
                  <a:close/>
                  <a:moveTo>
                    <a:pt x="7530" y="1291"/>
                  </a:moveTo>
                  <a:lnTo>
                    <a:pt x="7547" y="1316"/>
                  </a:lnTo>
                  <a:lnTo>
                    <a:pt x="7563" y="1321"/>
                  </a:lnTo>
                  <a:lnTo>
                    <a:pt x="7554" y="1328"/>
                  </a:lnTo>
                  <a:lnTo>
                    <a:pt x="7559" y="1335"/>
                  </a:lnTo>
                  <a:lnTo>
                    <a:pt x="7550" y="1335"/>
                  </a:lnTo>
                  <a:lnTo>
                    <a:pt x="7530" y="1328"/>
                  </a:lnTo>
                  <a:lnTo>
                    <a:pt x="7527" y="1308"/>
                  </a:lnTo>
                  <a:lnTo>
                    <a:pt x="7502" y="1306"/>
                  </a:lnTo>
                  <a:lnTo>
                    <a:pt x="7514" y="1294"/>
                  </a:lnTo>
                  <a:lnTo>
                    <a:pt x="7530" y="1291"/>
                  </a:lnTo>
                  <a:close/>
                  <a:moveTo>
                    <a:pt x="7595" y="1321"/>
                  </a:moveTo>
                  <a:lnTo>
                    <a:pt x="7615" y="1328"/>
                  </a:lnTo>
                  <a:lnTo>
                    <a:pt x="7603" y="1338"/>
                  </a:lnTo>
                  <a:lnTo>
                    <a:pt x="7599" y="1333"/>
                  </a:lnTo>
                  <a:lnTo>
                    <a:pt x="7591" y="1338"/>
                  </a:lnTo>
                  <a:lnTo>
                    <a:pt x="7591" y="1328"/>
                  </a:lnTo>
                  <a:lnTo>
                    <a:pt x="7595" y="1321"/>
                  </a:lnTo>
                  <a:close/>
                  <a:moveTo>
                    <a:pt x="7433" y="1227"/>
                  </a:moveTo>
                  <a:lnTo>
                    <a:pt x="7417" y="1222"/>
                  </a:lnTo>
                  <a:lnTo>
                    <a:pt x="7433" y="1227"/>
                  </a:lnTo>
                  <a:close/>
                  <a:moveTo>
                    <a:pt x="7430" y="1230"/>
                  </a:moveTo>
                  <a:lnTo>
                    <a:pt x="7410" y="1227"/>
                  </a:lnTo>
                  <a:lnTo>
                    <a:pt x="7410" y="1220"/>
                  </a:lnTo>
                  <a:lnTo>
                    <a:pt x="7430" y="1230"/>
                  </a:lnTo>
                  <a:close/>
                  <a:moveTo>
                    <a:pt x="7410" y="1217"/>
                  </a:moveTo>
                  <a:lnTo>
                    <a:pt x="7405" y="1225"/>
                  </a:lnTo>
                  <a:lnTo>
                    <a:pt x="7401" y="1215"/>
                  </a:lnTo>
                  <a:lnTo>
                    <a:pt x="7410" y="1217"/>
                  </a:lnTo>
                  <a:close/>
                  <a:moveTo>
                    <a:pt x="7410" y="1212"/>
                  </a:moveTo>
                  <a:lnTo>
                    <a:pt x="7410" y="1217"/>
                  </a:lnTo>
                  <a:lnTo>
                    <a:pt x="7393" y="1207"/>
                  </a:lnTo>
                  <a:lnTo>
                    <a:pt x="7410" y="1212"/>
                  </a:lnTo>
                  <a:close/>
                  <a:moveTo>
                    <a:pt x="7385" y="1198"/>
                  </a:moveTo>
                  <a:lnTo>
                    <a:pt x="7381" y="1205"/>
                  </a:lnTo>
                  <a:lnTo>
                    <a:pt x="7369" y="1200"/>
                  </a:lnTo>
                  <a:lnTo>
                    <a:pt x="7377" y="1193"/>
                  </a:lnTo>
                  <a:lnTo>
                    <a:pt x="7385" y="1198"/>
                  </a:lnTo>
                  <a:close/>
                  <a:moveTo>
                    <a:pt x="0" y="3887"/>
                  </a:moveTo>
                  <a:lnTo>
                    <a:pt x="472" y="3887"/>
                  </a:lnTo>
                  <a:lnTo>
                    <a:pt x="472" y="4030"/>
                  </a:lnTo>
                  <a:lnTo>
                    <a:pt x="0" y="4030"/>
                  </a:lnTo>
                  <a:lnTo>
                    <a:pt x="0" y="3887"/>
                  </a:lnTo>
                  <a:close/>
                  <a:moveTo>
                    <a:pt x="7135" y="1102"/>
                  </a:moveTo>
                  <a:lnTo>
                    <a:pt x="7179" y="1111"/>
                  </a:lnTo>
                  <a:lnTo>
                    <a:pt x="7219" y="1111"/>
                  </a:lnTo>
                  <a:lnTo>
                    <a:pt x="7252" y="1134"/>
                  </a:lnTo>
                  <a:lnTo>
                    <a:pt x="7248" y="1141"/>
                  </a:lnTo>
                  <a:lnTo>
                    <a:pt x="7308" y="1165"/>
                  </a:lnTo>
                  <a:lnTo>
                    <a:pt x="7316" y="1180"/>
                  </a:lnTo>
                  <a:lnTo>
                    <a:pt x="7329" y="1183"/>
                  </a:lnTo>
                  <a:lnTo>
                    <a:pt x="7353" y="1200"/>
                  </a:lnTo>
                  <a:lnTo>
                    <a:pt x="7349" y="1190"/>
                  </a:lnTo>
                  <a:lnTo>
                    <a:pt x="7397" y="1212"/>
                  </a:lnTo>
                  <a:lnTo>
                    <a:pt x="7410" y="1230"/>
                  </a:lnTo>
                  <a:lnTo>
                    <a:pt x="7426" y="1232"/>
                  </a:lnTo>
                  <a:lnTo>
                    <a:pt x="7433" y="1240"/>
                  </a:lnTo>
                  <a:lnTo>
                    <a:pt x="7410" y="1244"/>
                  </a:lnTo>
                  <a:lnTo>
                    <a:pt x="7442" y="1237"/>
                  </a:lnTo>
                  <a:lnTo>
                    <a:pt x="7458" y="1242"/>
                  </a:lnTo>
                  <a:lnTo>
                    <a:pt x="7458" y="1249"/>
                  </a:lnTo>
                  <a:lnTo>
                    <a:pt x="7438" y="1256"/>
                  </a:lnTo>
                  <a:lnTo>
                    <a:pt x="7442" y="1261"/>
                  </a:lnTo>
                  <a:lnTo>
                    <a:pt x="7450" y="1261"/>
                  </a:lnTo>
                  <a:lnTo>
                    <a:pt x="7442" y="1269"/>
                  </a:lnTo>
                  <a:lnTo>
                    <a:pt x="7458" y="1279"/>
                  </a:lnTo>
                  <a:lnTo>
                    <a:pt x="7478" y="1279"/>
                  </a:lnTo>
                  <a:lnTo>
                    <a:pt x="7482" y="1303"/>
                  </a:lnTo>
                  <a:lnTo>
                    <a:pt x="7494" y="1308"/>
                  </a:lnTo>
                  <a:lnTo>
                    <a:pt x="7482" y="1325"/>
                  </a:lnTo>
                  <a:lnTo>
                    <a:pt x="7494" y="1313"/>
                  </a:lnTo>
                  <a:lnTo>
                    <a:pt x="7523" y="1316"/>
                  </a:lnTo>
                  <a:lnTo>
                    <a:pt x="7534" y="1338"/>
                  </a:lnTo>
                  <a:lnTo>
                    <a:pt x="7523" y="1350"/>
                  </a:lnTo>
                  <a:lnTo>
                    <a:pt x="7511" y="1409"/>
                  </a:lnTo>
                  <a:lnTo>
                    <a:pt x="7498" y="1397"/>
                  </a:lnTo>
                  <a:lnTo>
                    <a:pt x="7490" y="1406"/>
                  </a:lnTo>
                  <a:lnTo>
                    <a:pt x="7469" y="1399"/>
                  </a:lnTo>
                  <a:lnTo>
                    <a:pt x="7469" y="1411"/>
                  </a:lnTo>
                  <a:lnTo>
                    <a:pt x="7374" y="1338"/>
                  </a:lnTo>
                  <a:lnTo>
                    <a:pt x="7353" y="1313"/>
                  </a:lnTo>
                  <a:lnTo>
                    <a:pt x="7332" y="1274"/>
                  </a:lnTo>
                  <a:lnTo>
                    <a:pt x="7308" y="1249"/>
                  </a:lnTo>
                  <a:lnTo>
                    <a:pt x="7293" y="1244"/>
                  </a:lnTo>
                  <a:lnTo>
                    <a:pt x="7276" y="1203"/>
                  </a:lnTo>
                  <a:lnTo>
                    <a:pt x="7240" y="1190"/>
                  </a:lnTo>
                  <a:lnTo>
                    <a:pt x="7231" y="1173"/>
                  </a:lnTo>
                  <a:lnTo>
                    <a:pt x="7204" y="1153"/>
                  </a:lnTo>
                  <a:lnTo>
                    <a:pt x="7188" y="1151"/>
                  </a:lnTo>
                  <a:lnTo>
                    <a:pt x="7143" y="1124"/>
                  </a:lnTo>
                  <a:lnTo>
                    <a:pt x="7135" y="110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646800" y="2005920"/>
              <a:ext cx="144000" cy="110880"/>
            </a:xfrm>
            <a:custGeom>
              <a:avLst/>
              <a:gdLst/>
              <a:ahLst/>
              <a:rect l="l" t="t" r="r" b="b"/>
              <a:pathLst>
                <a:path w="400" h="310">
                  <a:moveTo>
                    <a:pt x="0" y="0"/>
                  </a:moveTo>
                  <a:lnTo>
                    <a:pt x="44" y="9"/>
                  </a:lnTo>
                  <a:lnTo>
                    <a:pt x="84" y="9"/>
                  </a:lnTo>
                  <a:lnTo>
                    <a:pt x="117" y="32"/>
                  </a:lnTo>
                  <a:lnTo>
                    <a:pt x="113" y="39"/>
                  </a:lnTo>
                  <a:lnTo>
                    <a:pt x="173" y="63"/>
                  </a:lnTo>
                  <a:lnTo>
                    <a:pt x="181" y="78"/>
                  </a:lnTo>
                  <a:lnTo>
                    <a:pt x="194" y="81"/>
                  </a:lnTo>
                  <a:lnTo>
                    <a:pt x="218" y="98"/>
                  </a:lnTo>
                  <a:lnTo>
                    <a:pt x="214" y="88"/>
                  </a:lnTo>
                  <a:lnTo>
                    <a:pt x="262" y="110"/>
                  </a:lnTo>
                  <a:lnTo>
                    <a:pt x="275" y="128"/>
                  </a:lnTo>
                  <a:lnTo>
                    <a:pt x="291" y="130"/>
                  </a:lnTo>
                  <a:lnTo>
                    <a:pt x="298" y="138"/>
                  </a:lnTo>
                  <a:lnTo>
                    <a:pt x="275" y="142"/>
                  </a:lnTo>
                  <a:lnTo>
                    <a:pt x="307" y="135"/>
                  </a:lnTo>
                  <a:lnTo>
                    <a:pt x="323" y="140"/>
                  </a:lnTo>
                  <a:lnTo>
                    <a:pt x="323" y="147"/>
                  </a:lnTo>
                  <a:lnTo>
                    <a:pt x="303" y="154"/>
                  </a:lnTo>
                  <a:lnTo>
                    <a:pt x="307" y="159"/>
                  </a:lnTo>
                  <a:lnTo>
                    <a:pt x="315" y="159"/>
                  </a:lnTo>
                  <a:lnTo>
                    <a:pt x="307" y="167"/>
                  </a:lnTo>
                  <a:lnTo>
                    <a:pt x="323" y="177"/>
                  </a:lnTo>
                  <a:lnTo>
                    <a:pt x="343" y="177"/>
                  </a:lnTo>
                  <a:lnTo>
                    <a:pt x="347" y="201"/>
                  </a:lnTo>
                  <a:lnTo>
                    <a:pt x="359" y="206"/>
                  </a:lnTo>
                  <a:lnTo>
                    <a:pt x="347" y="223"/>
                  </a:lnTo>
                  <a:lnTo>
                    <a:pt x="359" y="211"/>
                  </a:lnTo>
                  <a:lnTo>
                    <a:pt x="388" y="214"/>
                  </a:lnTo>
                  <a:lnTo>
                    <a:pt x="399" y="236"/>
                  </a:lnTo>
                  <a:lnTo>
                    <a:pt x="388" y="248"/>
                  </a:lnTo>
                  <a:lnTo>
                    <a:pt x="376" y="307"/>
                  </a:lnTo>
                  <a:lnTo>
                    <a:pt x="363" y="295"/>
                  </a:lnTo>
                  <a:lnTo>
                    <a:pt x="355" y="304"/>
                  </a:lnTo>
                  <a:lnTo>
                    <a:pt x="334" y="297"/>
                  </a:lnTo>
                  <a:lnTo>
                    <a:pt x="334" y="309"/>
                  </a:lnTo>
                  <a:lnTo>
                    <a:pt x="239" y="236"/>
                  </a:lnTo>
                  <a:lnTo>
                    <a:pt x="218" y="211"/>
                  </a:lnTo>
                  <a:lnTo>
                    <a:pt x="197" y="172"/>
                  </a:lnTo>
                  <a:lnTo>
                    <a:pt x="173" y="147"/>
                  </a:lnTo>
                  <a:lnTo>
                    <a:pt x="158" y="142"/>
                  </a:lnTo>
                  <a:lnTo>
                    <a:pt x="141" y="101"/>
                  </a:lnTo>
                  <a:lnTo>
                    <a:pt x="105" y="88"/>
                  </a:lnTo>
                  <a:lnTo>
                    <a:pt x="96" y="71"/>
                  </a:lnTo>
                  <a:lnTo>
                    <a:pt x="69" y="51"/>
                  </a:lnTo>
                  <a:lnTo>
                    <a:pt x="53" y="49"/>
                  </a:lnTo>
                  <a:lnTo>
                    <a:pt x="8" y="2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827160" y="2015280"/>
              <a:ext cx="128160" cy="85320"/>
            </a:xfrm>
            <a:custGeom>
              <a:avLst/>
              <a:gdLst/>
              <a:ahLst/>
              <a:rect l="l" t="t" r="r" b="b"/>
              <a:pathLst>
                <a:path w="357" h="239">
                  <a:moveTo>
                    <a:pt x="295" y="5"/>
                  </a:moveTo>
                  <a:lnTo>
                    <a:pt x="234" y="0"/>
                  </a:lnTo>
                  <a:lnTo>
                    <a:pt x="226" y="12"/>
                  </a:lnTo>
                  <a:lnTo>
                    <a:pt x="230" y="34"/>
                  </a:lnTo>
                  <a:lnTo>
                    <a:pt x="214" y="42"/>
                  </a:lnTo>
                  <a:lnTo>
                    <a:pt x="222" y="51"/>
                  </a:lnTo>
                  <a:lnTo>
                    <a:pt x="207" y="59"/>
                  </a:lnTo>
                  <a:lnTo>
                    <a:pt x="210" y="64"/>
                  </a:lnTo>
                  <a:lnTo>
                    <a:pt x="199" y="81"/>
                  </a:lnTo>
                  <a:lnTo>
                    <a:pt x="166" y="88"/>
                  </a:lnTo>
                  <a:lnTo>
                    <a:pt x="126" y="78"/>
                  </a:lnTo>
                  <a:lnTo>
                    <a:pt x="106" y="93"/>
                  </a:lnTo>
                  <a:lnTo>
                    <a:pt x="61" y="98"/>
                  </a:lnTo>
                  <a:lnTo>
                    <a:pt x="28" y="78"/>
                  </a:lnTo>
                  <a:lnTo>
                    <a:pt x="25" y="64"/>
                  </a:lnTo>
                  <a:lnTo>
                    <a:pt x="4" y="78"/>
                  </a:lnTo>
                  <a:lnTo>
                    <a:pt x="4" y="88"/>
                  </a:lnTo>
                  <a:lnTo>
                    <a:pt x="12" y="83"/>
                  </a:lnTo>
                  <a:lnTo>
                    <a:pt x="0" y="98"/>
                  </a:lnTo>
                  <a:lnTo>
                    <a:pt x="0" y="113"/>
                  </a:lnTo>
                  <a:lnTo>
                    <a:pt x="16" y="120"/>
                  </a:lnTo>
                  <a:lnTo>
                    <a:pt x="9" y="135"/>
                  </a:lnTo>
                  <a:lnTo>
                    <a:pt x="25" y="142"/>
                  </a:lnTo>
                  <a:lnTo>
                    <a:pt x="12" y="145"/>
                  </a:lnTo>
                  <a:lnTo>
                    <a:pt x="33" y="145"/>
                  </a:lnTo>
                  <a:lnTo>
                    <a:pt x="41" y="157"/>
                  </a:lnTo>
                  <a:lnTo>
                    <a:pt x="37" y="172"/>
                  </a:lnTo>
                  <a:lnTo>
                    <a:pt x="45" y="192"/>
                  </a:lnTo>
                  <a:lnTo>
                    <a:pt x="45" y="204"/>
                  </a:lnTo>
                  <a:lnTo>
                    <a:pt x="57" y="206"/>
                  </a:lnTo>
                  <a:lnTo>
                    <a:pt x="93" y="204"/>
                  </a:lnTo>
                  <a:lnTo>
                    <a:pt x="97" y="196"/>
                  </a:lnTo>
                  <a:lnTo>
                    <a:pt x="97" y="204"/>
                  </a:lnTo>
                  <a:lnTo>
                    <a:pt x="97" y="219"/>
                  </a:lnTo>
                  <a:lnTo>
                    <a:pt x="113" y="214"/>
                  </a:lnTo>
                  <a:lnTo>
                    <a:pt x="126" y="216"/>
                  </a:lnTo>
                  <a:lnTo>
                    <a:pt x="142" y="201"/>
                  </a:lnTo>
                  <a:lnTo>
                    <a:pt x="154" y="211"/>
                  </a:lnTo>
                  <a:lnTo>
                    <a:pt x="162" y="209"/>
                  </a:lnTo>
                  <a:lnTo>
                    <a:pt x="162" y="219"/>
                  </a:lnTo>
                  <a:lnTo>
                    <a:pt x="178" y="209"/>
                  </a:lnTo>
                  <a:lnTo>
                    <a:pt x="182" y="216"/>
                  </a:lnTo>
                  <a:lnTo>
                    <a:pt x="190" y="219"/>
                  </a:lnTo>
                  <a:lnTo>
                    <a:pt x="194" y="214"/>
                  </a:lnTo>
                  <a:lnTo>
                    <a:pt x="194" y="238"/>
                  </a:lnTo>
                  <a:lnTo>
                    <a:pt x="243" y="221"/>
                  </a:lnTo>
                  <a:lnTo>
                    <a:pt x="255" y="209"/>
                  </a:lnTo>
                  <a:lnTo>
                    <a:pt x="250" y="199"/>
                  </a:lnTo>
                  <a:lnTo>
                    <a:pt x="255" y="206"/>
                  </a:lnTo>
                  <a:lnTo>
                    <a:pt x="259" y="199"/>
                  </a:lnTo>
                  <a:lnTo>
                    <a:pt x="259" y="192"/>
                  </a:lnTo>
                  <a:lnTo>
                    <a:pt x="267" y="184"/>
                  </a:lnTo>
                  <a:lnTo>
                    <a:pt x="259" y="181"/>
                  </a:lnTo>
                  <a:lnTo>
                    <a:pt x="263" y="172"/>
                  </a:lnTo>
                  <a:lnTo>
                    <a:pt x="255" y="172"/>
                  </a:lnTo>
                  <a:lnTo>
                    <a:pt x="275" y="159"/>
                  </a:lnTo>
                  <a:lnTo>
                    <a:pt x="275" y="150"/>
                  </a:lnTo>
                  <a:lnTo>
                    <a:pt x="279" y="157"/>
                  </a:lnTo>
                  <a:lnTo>
                    <a:pt x="307" y="142"/>
                  </a:lnTo>
                  <a:lnTo>
                    <a:pt x="307" y="132"/>
                  </a:lnTo>
                  <a:lnTo>
                    <a:pt x="303" y="118"/>
                  </a:lnTo>
                  <a:lnTo>
                    <a:pt x="311" y="101"/>
                  </a:lnTo>
                  <a:lnTo>
                    <a:pt x="319" y="98"/>
                  </a:lnTo>
                  <a:lnTo>
                    <a:pt x="315" y="91"/>
                  </a:lnTo>
                  <a:lnTo>
                    <a:pt x="331" y="98"/>
                  </a:lnTo>
                  <a:lnTo>
                    <a:pt x="356" y="93"/>
                  </a:lnTo>
                  <a:lnTo>
                    <a:pt x="307" y="64"/>
                  </a:lnTo>
                  <a:lnTo>
                    <a:pt x="319" y="56"/>
                  </a:lnTo>
                  <a:lnTo>
                    <a:pt x="303" y="36"/>
                  </a:lnTo>
                  <a:lnTo>
                    <a:pt x="287" y="31"/>
                  </a:lnTo>
                  <a:lnTo>
                    <a:pt x="295" y="27"/>
                  </a:lnTo>
                  <a:lnTo>
                    <a:pt x="279" y="22"/>
                  </a:lnTo>
                  <a:lnTo>
                    <a:pt x="295" y="22"/>
                  </a:lnTo>
                  <a:lnTo>
                    <a:pt x="307" y="20"/>
                  </a:lnTo>
                  <a:lnTo>
                    <a:pt x="291" y="7"/>
                  </a:lnTo>
                  <a:lnTo>
                    <a:pt x="295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502640" y="2004120"/>
              <a:ext cx="58320" cy="37800"/>
            </a:xfrm>
            <a:custGeom>
              <a:avLst/>
              <a:gdLst/>
              <a:ahLst/>
              <a:rect l="l" t="t" r="r" b="b"/>
              <a:pathLst>
                <a:path w="162" h="105">
                  <a:moveTo>
                    <a:pt x="128" y="94"/>
                  </a:moveTo>
                  <a:lnTo>
                    <a:pt x="157" y="64"/>
                  </a:lnTo>
                  <a:lnTo>
                    <a:pt x="141" y="32"/>
                  </a:lnTo>
                  <a:lnTo>
                    <a:pt x="153" y="18"/>
                  </a:lnTo>
                  <a:lnTo>
                    <a:pt x="161" y="5"/>
                  </a:lnTo>
                  <a:lnTo>
                    <a:pt x="120" y="3"/>
                  </a:lnTo>
                  <a:lnTo>
                    <a:pt x="128" y="5"/>
                  </a:lnTo>
                  <a:lnTo>
                    <a:pt x="117" y="5"/>
                  </a:lnTo>
                  <a:lnTo>
                    <a:pt x="89" y="3"/>
                  </a:lnTo>
                  <a:lnTo>
                    <a:pt x="89" y="10"/>
                  </a:lnTo>
                  <a:lnTo>
                    <a:pt x="47" y="0"/>
                  </a:lnTo>
                  <a:lnTo>
                    <a:pt x="36" y="15"/>
                  </a:lnTo>
                  <a:lnTo>
                    <a:pt x="33" y="25"/>
                  </a:lnTo>
                  <a:lnTo>
                    <a:pt x="8" y="30"/>
                  </a:lnTo>
                  <a:lnTo>
                    <a:pt x="0" y="52"/>
                  </a:lnTo>
                  <a:lnTo>
                    <a:pt x="12" y="66"/>
                  </a:lnTo>
                  <a:lnTo>
                    <a:pt x="28" y="66"/>
                  </a:lnTo>
                  <a:lnTo>
                    <a:pt x="33" y="79"/>
                  </a:lnTo>
                  <a:lnTo>
                    <a:pt x="56" y="104"/>
                  </a:lnTo>
                  <a:lnTo>
                    <a:pt x="80" y="104"/>
                  </a:lnTo>
                  <a:lnTo>
                    <a:pt x="72" y="94"/>
                  </a:lnTo>
                  <a:lnTo>
                    <a:pt x="76" y="89"/>
                  </a:lnTo>
                  <a:lnTo>
                    <a:pt x="128" y="9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358000" y="1609200"/>
              <a:ext cx="36000" cy="2196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25" y="45"/>
                  </a:moveTo>
                  <a:lnTo>
                    <a:pt x="0" y="42"/>
                  </a:lnTo>
                  <a:lnTo>
                    <a:pt x="25" y="42"/>
                  </a:lnTo>
                  <a:lnTo>
                    <a:pt x="21" y="40"/>
                  </a:lnTo>
                  <a:lnTo>
                    <a:pt x="41" y="37"/>
                  </a:lnTo>
                  <a:lnTo>
                    <a:pt x="36" y="35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32" y="10"/>
                  </a:lnTo>
                  <a:lnTo>
                    <a:pt x="64" y="0"/>
                  </a:lnTo>
                  <a:lnTo>
                    <a:pt x="101" y="3"/>
                  </a:lnTo>
                  <a:lnTo>
                    <a:pt x="89" y="17"/>
                  </a:lnTo>
                  <a:lnTo>
                    <a:pt x="98" y="22"/>
                  </a:lnTo>
                  <a:lnTo>
                    <a:pt x="93" y="32"/>
                  </a:lnTo>
                  <a:lnTo>
                    <a:pt x="77" y="35"/>
                  </a:lnTo>
                  <a:lnTo>
                    <a:pt x="73" y="35"/>
                  </a:lnTo>
                  <a:lnTo>
                    <a:pt x="69" y="35"/>
                  </a:lnTo>
                  <a:lnTo>
                    <a:pt x="77" y="59"/>
                  </a:lnTo>
                  <a:lnTo>
                    <a:pt x="64" y="56"/>
                  </a:lnTo>
                  <a:lnTo>
                    <a:pt x="69" y="50"/>
                  </a:lnTo>
                  <a:lnTo>
                    <a:pt x="45" y="42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17" y="50"/>
                  </a:lnTo>
                  <a:lnTo>
                    <a:pt x="0" y="45"/>
                  </a:lnTo>
                  <a:lnTo>
                    <a:pt x="25" y="4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372400" y="1611000"/>
              <a:ext cx="7560" cy="6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2" y="0"/>
                  </a:moveTo>
                  <a:lnTo>
                    <a:pt x="12" y="0"/>
                  </a:lnTo>
                  <a:lnTo>
                    <a:pt x="4" y="3"/>
                  </a:lnTo>
                  <a:lnTo>
                    <a:pt x="0" y="15"/>
                  </a:lnTo>
                  <a:lnTo>
                    <a:pt x="12" y="18"/>
                  </a:lnTo>
                  <a:lnTo>
                    <a:pt x="23" y="13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100400" y="2063160"/>
              <a:ext cx="118440" cy="93240"/>
            </a:xfrm>
            <a:custGeom>
              <a:avLst/>
              <a:gdLst/>
              <a:ahLst/>
              <a:rect l="l" t="t" r="r" b="b"/>
              <a:pathLst>
                <a:path w="332" h="262">
                  <a:moveTo>
                    <a:pt x="315" y="143"/>
                  </a:moveTo>
                  <a:lnTo>
                    <a:pt x="315" y="141"/>
                  </a:lnTo>
                  <a:lnTo>
                    <a:pt x="319" y="126"/>
                  </a:lnTo>
                  <a:lnTo>
                    <a:pt x="323" y="111"/>
                  </a:lnTo>
                  <a:lnTo>
                    <a:pt x="327" y="96"/>
                  </a:lnTo>
                  <a:lnTo>
                    <a:pt x="327" y="82"/>
                  </a:lnTo>
                  <a:lnTo>
                    <a:pt x="331" y="67"/>
                  </a:lnTo>
                  <a:lnTo>
                    <a:pt x="292" y="60"/>
                  </a:lnTo>
                  <a:lnTo>
                    <a:pt x="231" y="33"/>
                  </a:lnTo>
                  <a:lnTo>
                    <a:pt x="206" y="42"/>
                  </a:lnTo>
                  <a:lnTo>
                    <a:pt x="206" y="52"/>
                  </a:lnTo>
                  <a:lnTo>
                    <a:pt x="182" y="55"/>
                  </a:lnTo>
                  <a:lnTo>
                    <a:pt x="150" y="87"/>
                  </a:lnTo>
                  <a:lnTo>
                    <a:pt x="133" y="87"/>
                  </a:lnTo>
                  <a:lnTo>
                    <a:pt x="121" y="77"/>
                  </a:lnTo>
                  <a:lnTo>
                    <a:pt x="121" y="62"/>
                  </a:lnTo>
                  <a:lnTo>
                    <a:pt x="113" y="72"/>
                  </a:lnTo>
                  <a:lnTo>
                    <a:pt x="105" y="57"/>
                  </a:lnTo>
                  <a:lnTo>
                    <a:pt x="109" y="30"/>
                  </a:lnTo>
                  <a:lnTo>
                    <a:pt x="105" y="10"/>
                  </a:lnTo>
                  <a:lnTo>
                    <a:pt x="53" y="0"/>
                  </a:lnTo>
                  <a:lnTo>
                    <a:pt x="12" y="13"/>
                  </a:lnTo>
                  <a:lnTo>
                    <a:pt x="0" y="30"/>
                  </a:lnTo>
                  <a:lnTo>
                    <a:pt x="36" y="35"/>
                  </a:lnTo>
                  <a:lnTo>
                    <a:pt x="36" y="49"/>
                  </a:lnTo>
                  <a:lnTo>
                    <a:pt x="57" y="57"/>
                  </a:lnTo>
                  <a:lnTo>
                    <a:pt x="101" y="49"/>
                  </a:lnTo>
                  <a:lnTo>
                    <a:pt x="93" y="55"/>
                  </a:lnTo>
                  <a:lnTo>
                    <a:pt x="101" y="60"/>
                  </a:lnTo>
                  <a:lnTo>
                    <a:pt x="89" y="62"/>
                  </a:lnTo>
                  <a:lnTo>
                    <a:pt x="89" y="69"/>
                  </a:lnTo>
                  <a:lnTo>
                    <a:pt x="82" y="62"/>
                  </a:lnTo>
                  <a:lnTo>
                    <a:pt x="77" y="60"/>
                  </a:lnTo>
                  <a:lnTo>
                    <a:pt x="57" y="69"/>
                  </a:lnTo>
                  <a:lnTo>
                    <a:pt x="32" y="69"/>
                  </a:lnTo>
                  <a:lnTo>
                    <a:pt x="57" y="84"/>
                  </a:lnTo>
                  <a:lnTo>
                    <a:pt x="61" y="91"/>
                  </a:lnTo>
                  <a:lnTo>
                    <a:pt x="57" y="109"/>
                  </a:lnTo>
                  <a:lnTo>
                    <a:pt x="77" y="101"/>
                  </a:lnTo>
                  <a:lnTo>
                    <a:pt x="93" y="74"/>
                  </a:lnTo>
                  <a:lnTo>
                    <a:pt x="84" y="91"/>
                  </a:lnTo>
                  <a:lnTo>
                    <a:pt x="93" y="101"/>
                  </a:lnTo>
                  <a:lnTo>
                    <a:pt x="101" y="104"/>
                  </a:lnTo>
                  <a:lnTo>
                    <a:pt x="126" y="104"/>
                  </a:lnTo>
                  <a:lnTo>
                    <a:pt x="113" y="109"/>
                  </a:lnTo>
                  <a:lnTo>
                    <a:pt x="129" y="119"/>
                  </a:lnTo>
                  <a:lnTo>
                    <a:pt x="198" y="133"/>
                  </a:lnTo>
                  <a:lnTo>
                    <a:pt x="219" y="148"/>
                  </a:lnTo>
                  <a:lnTo>
                    <a:pt x="219" y="158"/>
                  </a:lnTo>
                  <a:lnTo>
                    <a:pt x="219" y="160"/>
                  </a:lnTo>
                  <a:lnTo>
                    <a:pt x="227" y="163"/>
                  </a:lnTo>
                  <a:lnTo>
                    <a:pt x="227" y="187"/>
                  </a:lnTo>
                  <a:lnTo>
                    <a:pt x="242" y="195"/>
                  </a:lnTo>
                  <a:lnTo>
                    <a:pt x="222" y="192"/>
                  </a:lnTo>
                  <a:lnTo>
                    <a:pt x="242" y="199"/>
                  </a:lnTo>
                  <a:lnTo>
                    <a:pt x="222" y="202"/>
                  </a:lnTo>
                  <a:lnTo>
                    <a:pt x="234" y="212"/>
                  </a:lnTo>
                  <a:lnTo>
                    <a:pt x="219" y="234"/>
                  </a:lnTo>
                  <a:lnTo>
                    <a:pt x="234" y="225"/>
                  </a:lnTo>
                  <a:lnTo>
                    <a:pt x="234" y="232"/>
                  </a:lnTo>
                  <a:lnTo>
                    <a:pt x="263" y="222"/>
                  </a:lnTo>
                  <a:lnTo>
                    <a:pt x="254" y="232"/>
                  </a:lnTo>
                  <a:lnTo>
                    <a:pt x="275" y="261"/>
                  </a:lnTo>
                  <a:lnTo>
                    <a:pt x="279" y="254"/>
                  </a:lnTo>
                  <a:lnTo>
                    <a:pt x="287" y="239"/>
                  </a:lnTo>
                  <a:lnTo>
                    <a:pt x="292" y="225"/>
                  </a:lnTo>
                  <a:lnTo>
                    <a:pt x="295" y="210"/>
                  </a:lnTo>
                  <a:lnTo>
                    <a:pt x="303" y="195"/>
                  </a:lnTo>
                  <a:lnTo>
                    <a:pt x="308" y="178"/>
                  </a:lnTo>
                  <a:lnTo>
                    <a:pt x="308" y="170"/>
                  </a:lnTo>
                  <a:lnTo>
                    <a:pt x="311" y="155"/>
                  </a:lnTo>
                  <a:lnTo>
                    <a:pt x="315" y="14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989160" y="2106000"/>
              <a:ext cx="6120" cy="75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16" y="0"/>
                  </a:lnTo>
                  <a:lnTo>
                    <a:pt x="13" y="22"/>
                  </a:lnTo>
                  <a:lnTo>
                    <a:pt x="0" y="22"/>
                  </a:lnTo>
                  <a:lnTo>
                    <a:pt x="4" y="7"/>
                  </a:lnTo>
                  <a:lnTo>
                    <a:pt x="1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992400" y="2102760"/>
              <a:ext cx="9000" cy="1224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25" y="0"/>
                  </a:moveTo>
                  <a:lnTo>
                    <a:pt x="25" y="0"/>
                  </a:lnTo>
                  <a:lnTo>
                    <a:pt x="25" y="12"/>
                  </a:lnTo>
                  <a:lnTo>
                    <a:pt x="17" y="22"/>
                  </a:lnTo>
                  <a:lnTo>
                    <a:pt x="25" y="24"/>
                  </a:lnTo>
                  <a:lnTo>
                    <a:pt x="8" y="36"/>
                  </a:lnTo>
                  <a:lnTo>
                    <a:pt x="0" y="31"/>
                  </a:lnTo>
                  <a:lnTo>
                    <a:pt x="2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949560" y="2040840"/>
              <a:ext cx="82080" cy="75960"/>
            </a:xfrm>
            <a:custGeom>
              <a:avLst/>
              <a:gdLst/>
              <a:ahLst/>
              <a:rect l="l" t="t" r="r" b="b"/>
              <a:pathLst>
                <a:path w="230" h="210">
                  <a:moveTo>
                    <a:pt x="31" y="206"/>
                  </a:moveTo>
                  <a:lnTo>
                    <a:pt x="31" y="206"/>
                  </a:lnTo>
                  <a:lnTo>
                    <a:pt x="20" y="206"/>
                  </a:lnTo>
                  <a:lnTo>
                    <a:pt x="12" y="206"/>
                  </a:lnTo>
                  <a:lnTo>
                    <a:pt x="27" y="162"/>
                  </a:lnTo>
                  <a:lnTo>
                    <a:pt x="24" y="148"/>
                  </a:lnTo>
                  <a:lnTo>
                    <a:pt x="4" y="148"/>
                  </a:lnTo>
                  <a:lnTo>
                    <a:pt x="0" y="138"/>
                  </a:lnTo>
                  <a:lnTo>
                    <a:pt x="4" y="125"/>
                  </a:lnTo>
                  <a:lnTo>
                    <a:pt x="24" y="103"/>
                  </a:lnTo>
                  <a:lnTo>
                    <a:pt x="24" y="86"/>
                  </a:lnTo>
                  <a:lnTo>
                    <a:pt x="40" y="69"/>
                  </a:lnTo>
                  <a:lnTo>
                    <a:pt x="44" y="74"/>
                  </a:lnTo>
                  <a:lnTo>
                    <a:pt x="36" y="49"/>
                  </a:lnTo>
                  <a:lnTo>
                    <a:pt x="44" y="49"/>
                  </a:lnTo>
                  <a:lnTo>
                    <a:pt x="52" y="30"/>
                  </a:lnTo>
                  <a:lnTo>
                    <a:pt x="60" y="22"/>
                  </a:lnTo>
                  <a:lnTo>
                    <a:pt x="68" y="30"/>
                  </a:lnTo>
                  <a:lnTo>
                    <a:pt x="80" y="12"/>
                  </a:lnTo>
                  <a:lnTo>
                    <a:pt x="101" y="15"/>
                  </a:lnTo>
                  <a:lnTo>
                    <a:pt x="149" y="27"/>
                  </a:lnTo>
                  <a:lnTo>
                    <a:pt x="185" y="27"/>
                  </a:lnTo>
                  <a:lnTo>
                    <a:pt x="217" y="0"/>
                  </a:lnTo>
                  <a:lnTo>
                    <a:pt x="229" y="7"/>
                  </a:lnTo>
                  <a:lnTo>
                    <a:pt x="193" y="40"/>
                  </a:lnTo>
                  <a:lnTo>
                    <a:pt x="56" y="40"/>
                  </a:lnTo>
                  <a:lnTo>
                    <a:pt x="52" y="69"/>
                  </a:lnTo>
                  <a:lnTo>
                    <a:pt x="72" y="88"/>
                  </a:lnTo>
                  <a:lnTo>
                    <a:pt x="89" y="88"/>
                  </a:lnTo>
                  <a:lnTo>
                    <a:pt x="105" y="74"/>
                  </a:lnTo>
                  <a:lnTo>
                    <a:pt x="145" y="74"/>
                  </a:lnTo>
                  <a:lnTo>
                    <a:pt x="153" y="71"/>
                  </a:lnTo>
                  <a:lnTo>
                    <a:pt x="153" y="67"/>
                  </a:lnTo>
                  <a:lnTo>
                    <a:pt x="169" y="71"/>
                  </a:lnTo>
                  <a:lnTo>
                    <a:pt x="165" y="81"/>
                  </a:lnTo>
                  <a:lnTo>
                    <a:pt x="145" y="76"/>
                  </a:lnTo>
                  <a:lnTo>
                    <a:pt x="105" y="103"/>
                  </a:lnTo>
                  <a:lnTo>
                    <a:pt x="93" y="101"/>
                  </a:lnTo>
                  <a:lnTo>
                    <a:pt x="128" y="140"/>
                  </a:lnTo>
                  <a:lnTo>
                    <a:pt x="116" y="152"/>
                  </a:lnTo>
                  <a:lnTo>
                    <a:pt x="137" y="165"/>
                  </a:lnTo>
                  <a:lnTo>
                    <a:pt x="137" y="175"/>
                  </a:lnTo>
                  <a:lnTo>
                    <a:pt x="108" y="177"/>
                  </a:lnTo>
                  <a:lnTo>
                    <a:pt x="105" y="187"/>
                  </a:lnTo>
                  <a:lnTo>
                    <a:pt x="89" y="184"/>
                  </a:lnTo>
                  <a:lnTo>
                    <a:pt x="93" y="175"/>
                  </a:lnTo>
                  <a:lnTo>
                    <a:pt x="96" y="165"/>
                  </a:lnTo>
                  <a:lnTo>
                    <a:pt x="72" y="150"/>
                  </a:lnTo>
                  <a:lnTo>
                    <a:pt x="84" y="128"/>
                  </a:lnTo>
                  <a:lnTo>
                    <a:pt x="72" y="123"/>
                  </a:lnTo>
                  <a:lnTo>
                    <a:pt x="52" y="133"/>
                  </a:lnTo>
                  <a:lnTo>
                    <a:pt x="60" y="143"/>
                  </a:lnTo>
                  <a:lnTo>
                    <a:pt x="52" y="172"/>
                  </a:lnTo>
                  <a:lnTo>
                    <a:pt x="48" y="209"/>
                  </a:lnTo>
                  <a:lnTo>
                    <a:pt x="31" y="20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771720" y="2117160"/>
              <a:ext cx="113760" cy="29520"/>
            </a:xfrm>
            <a:custGeom>
              <a:avLst/>
              <a:gdLst/>
              <a:ahLst/>
              <a:rect l="l" t="t" r="r" b="b"/>
              <a:pathLst>
                <a:path w="316" h="83">
                  <a:moveTo>
                    <a:pt x="157" y="55"/>
                  </a:moveTo>
                  <a:lnTo>
                    <a:pt x="157" y="55"/>
                  </a:lnTo>
                  <a:lnTo>
                    <a:pt x="218" y="69"/>
                  </a:lnTo>
                  <a:lnTo>
                    <a:pt x="250" y="72"/>
                  </a:lnTo>
                  <a:lnTo>
                    <a:pt x="271" y="67"/>
                  </a:lnTo>
                  <a:lnTo>
                    <a:pt x="311" y="82"/>
                  </a:lnTo>
                  <a:lnTo>
                    <a:pt x="307" y="72"/>
                  </a:lnTo>
                  <a:lnTo>
                    <a:pt x="315" y="55"/>
                  </a:lnTo>
                  <a:lnTo>
                    <a:pt x="302" y="49"/>
                  </a:lnTo>
                  <a:lnTo>
                    <a:pt x="275" y="52"/>
                  </a:lnTo>
                  <a:lnTo>
                    <a:pt x="259" y="47"/>
                  </a:lnTo>
                  <a:lnTo>
                    <a:pt x="259" y="28"/>
                  </a:lnTo>
                  <a:lnTo>
                    <a:pt x="210" y="23"/>
                  </a:lnTo>
                  <a:lnTo>
                    <a:pt x="205" y="15"/>
                  </a:lnTo>
                  <a:lnTo>
                    <a:pt x="194" y="18"/>
                  </a:lnTo>
                  <a:lnTo>
                    <a:pt x="181" y="30"/>
                  </a:lnTo>
                  <a:lnTo>
                    <a:pt x="124" y="26"/>
                  </a:lnTo>
                  <a:lnTo>
                    <a:pt x="113" y="10"/>
                  </a:lnTo>
                  <a:lnTo>
                    <a:pt x="68" y="0"/>
                  </a:lnTo>
                  <a:lnTo>
                    <a:pt x="61" y="5"/>
                  </a:lnTo>
                  <a:lnTo>
                    <a:pt x="32" y="0"/>
                  </a:lnTo>
                  <a:lnTo>
                    <a:pt x="8" y="26"/>
                  </a:lnTo>
                  <a:lnTo>
                    <a:pt x="0" y="23"/>
                  </a:lnTo>
                  <a:lnTo>
                    <a:pt x="44" y="30"/>
                  </a:lnTo>
                  <a:lnTo>
                    <a:pt x="37" y="40"/>
                  </a:lnTo>
                  <a:lnTo>
                    <a:pt x="85" y="49"/>
                  </a:lnTo>
                  <a:lnTo>
                    <a:pt x="157" y="5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866760" y="2126520"/>
              <a:ext cx="17280" cy="288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8" y="0"/>
                  </a:moveTo>
                  <a:lnTo>
                    <a:pt x="8" y="0"/>
                  </a:lnTo>
                  <a:lnTo>
                    <a:pt x="48" y="0"/>
                  </a:lnTo>
                  <a:lnTo>
                    <a:pt x="12" y="7"/>
                  </a:ln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885840" y="2139120"/>
              <a:ext cx="14040" cy="756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0" y="0"/>
                  </a:moveTo>
                  <a:lnTo>
                    <a:pt x="0" y="0"/>
                  </a:lnTo>
                  <a:lnTo>
                    <a:pt x="28" y="2"/>
                  </a:lnTo>
                  <a:lnTo>
                    <a:pt x="40" y="10"/>
                  </a:lnTo>
                  <a:lnTo>
                    <a:pt x="16" y="2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900240" y="2140920"/>
              <a:ext cx="12240" cy="756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24" y="0"/>
                  </a:moveTo>
                  <a:lnTo>
                    <a:pt x="24" y="0"/>
                  </a:lnTo>
                  <a:lnTo>
                    <a:pt x="36" y="5"/>
                  </a:lnTo>
                  <a:lnTo>
                    <a:pt x="24" y="19"/>
                  </a:lnTo>
                  <a:lnTo>
                    <a:pt x="5" y="19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909960" y="2139120"/>
              <a:ext cx="31320" cy="936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25" y="8"/>
                  </a:moveTo>
                  <a:lnTo>
                    <a:pt x="25" y="8"/>
                  </a:lnTo>
                  <a:lnTo>
                    <a:pt x="45" y="20"/>
                  </a:lnTo>
                  <a:lnTo>
                    <a:pt x="57" y="16"/>
                  </a:lnTo>
                  <a:lnTo>
                    <a:pt x="45" y="0"/>
                  </a:lnTo>
                  <a:lnTo>
                    <a:pt x="73" y="8"/>
                  </a:lnTo>
                  <a:lnTo>
                    <a:pt x="73" y="13"/>
                  </a:lnTo>
                  <a:lnTo>
                    <a:pt x="77" y="8"/>
                  </a:lnTo>
                  <a:lnTo>
                    <a:pt x="85" y="11"/>
                  </a:lnTo>
                  <a:lnTo>
                    <a:pt x="89" y="18"/>
                  </a:lnTo>
                  <a:lnTo>
                    <a:pt x="69" y="20"/>
                  </a:lnTo>
                  <a:lnTo>
                    <a:pt x="77" y="22"/>
                  </a:lnTo>
                  <a:lnTo>
                    <a:pt x="61" y="22"/>
                  </a:lnTo>
                  <a:lnTo>
                    <a:pt x="61" y="16"/>
                  </a:lnTo>
                  <a:lnTo>
                    <a:pt x="49" y="22"/>
                  </a:lnTo>
                  <a:lnTo>
                    <a:pt x="8" y="27"/>
                  </a:lnTo>
                  <a:lnTo>
                    <a:pt x="0" y="25"/>
                  </a:lnTo>
                  <a:lnTo>
                    <a:pt x="4" y="16"/>
                  </a:lnTo>
                  <a:lnTo>
                    <a:pt x="25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936960" y="2153520"/>
              <a:ext cx="20160" cy="90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0" y="0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57" y="14"/>
                  </a:lnTo>
                  <a:lnTo>
                    <a:pt x="41" y="25"/>
                  </a:lnTo>
                  <a:lnTo>
                    <a:pt x="25" y="14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949560" y="2140920"/>
              <a:ext cx="40680" cy="9000"/>
            </a:xfrm>
            <a:custGeom>
              <a:avLst/>
              <a:gdLst/>
              <a:ahLst/>
              <a:rect l="l" t="t" r="r" b="b"/>
              <a:pathLst>
                <a:path w="113" h="25">
                  <a:moveTo>
                    <a:pt x="20" y="5"/>
                  </a:moveTo>
                  <a:lnTo>
                    <a:pt x="20" y="5"/>
                  </a:lnTo>
                  <a:lnTo>
                    <a:pt x="60" y="15"/>
                  </a:lnTo>
                  <a:lnTo>
                    <a:pt x="84" y="15"/>
                  </a:lnTo>
                  <a:lnTo>
                    <a:pt x="108" y="5"/>
                  </a:lnTo>
                  <a:lnTo>
                    <a:pt x="108" y="0"/>
                  </a:lnTo>
                  <a:lnTo>
                    <a:pt x="112" y="5"/>
                  </a:lnTo>
                  <a:lnTo>
                    <a:pt x="93" y="17"/>
                  </a:lnTo>
                  <a:lnTo>
                    <a:pt x="36" y="24"/>
                  </a:lnTo>
                  <a:lnTo>
                    <a:pt x="0" y="19"/>
                  </a:lnTo>
                  <a:lnTo>
                    <a:pt x="4" y="8"/>
                  </a:lnTo>
                  <a:lnTo>
                    <a:pt x="2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990600" y="2142360"/>
              <a:ext cx="10800" cy="288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9" y="0"/>
                  </a:moveTo>
                  <a:lnTo>
                    <a:pt x="9" y="0"/>
                  </a:lnTo>
                  <a:lnTo>
                    <a:pt x="29" y="0"/>
                  </a:lnTo>
                  <a:lnTo>
                    <a:pt x="4" y="10"/>
                  </a:lnTo>
                  <a:lnTo>
                    <a:pt x="0" y="8"/>
                  </a:lnTo>
                  <a:lnTo>
                    <a:pt x="9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006800" y="2140920"/>
              <a:ext cx="9000" cy="432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4" y="0"/>
                  </a:moveTo>
                  <a:lnTo>
                    <a:pt x="4" y="0"/>
                  </a:lnTo>
                  <a:lnTo>
                    <a:pt x="25" y="8"/>
                  </a:lnTo>
                  <a:lnTo>
                    <a:pt x="0" y="11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987720" y="2145600"/>
              <a:ext cx="53640" cy="18720"/>
            </a:xfrm>
            <a:custGeom>
              <a:avLst/>
              <a:gdLst/>
              <a:ahLst/>
              <a:rect l="l" t="t" r="r" b="b"/>
              <a:pathLst>
                <a:path w="151" h="52">
                  <a:moveTo>
                    <a:pt x="64" y="29"/>
                  </a:moveTo>
                  <a:lnTo>
                    <a:pt x="64" y="29"/>
                  </a:lnTo>
                  <a:lnTo>
                    <a:pt x="150" y="0"/>
                  </a:lnTo>
                  <a:lnTo>
                    <a:pt x="77" y="4"/>
                  </a:lnTo>
                  <a:lnTo>
                    <a:pt x="15" y="31"/>
                  </a:lnTo>
                  <a:lnTo>
                    <a:pt x="7" y="44"/>
                  </a:lnTo>
                  <a:lnTo>
                    <a:pt x="11" y="44"/>
                  </a:lnTo>
                  <a:lnTo>
                    <a:pt x="0" y="51"/>
                  </a:lnTo>
                  <a:lnTo>
                    <a:pt x="36" y="46"/>
                  </a:lnTo>
                  <a:lnTo>
                    <a:pt x="64" y="2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024080" y="2137680"/>
              <a:ext cx="14040" cy="288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8" y="0"/>
                  </a:moveTo>
                  <a:lnTo>
                    <a:pt x="8" y="0"/>
                  </a:lnTo>
                  <a:lnTo>
                    <a:pt x="37" y="0"/>
                  </a:lnTo>
                  <a:lnTo>
                    <a:pt x="25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657600" y="2031120"/>
              <a:ext cx="9360" cy="61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15"/>
                  </a:moveTo>
                  <a:lnTo>
                    <a:pt x="25" y="15"/>
                  </a:lnTo>
                  <a:lnTo>
                    <a:pt x="0" y="7"/>
                  </a:lnTo>
                  <a:lnTo>
                    <a:pt x="0" y="0"/>
                  </a:lnTo>
                  <a:lnTo>
                    <a:pt x="25" y="1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695760" y="2067840"/>
              <a:ext cx="7560" cy="90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25"/>
                  </a:moveTo>
                  <a:lnTo>
                    <a:pt x="21" y="25"/>
                  </a:lnTo>
                  <a:lnTo>
                    <a:pt x="0" y="10"/>
                  </a:lnTo>
                  <a:lnTo>
                    <a:pt x="8" y="0"/>
                  </a:lnTo>
                  <a:lnTo>
                    <a:pt x="21" y="2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675240" y="2045520"/>
              <a:ext cx="10800" cy="936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8" y="13"/>
                  </a:moveTo>
                  <a:lnTo>
                    <a:pt x="28" y="13"/>
                  </a:lnTo>
                  <a:lnTo>
                    <a:pt x="28" y="2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8" y="1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089240" y="2133000"/>
              <a:ext cx="9000" cy="90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0"/>
                  </a:moveTo>
                  <a:lnTo>
                    <a:pt x="24" y="0"/>
                  </a:lnTo>
                  <a:lnTo>
                    <a:pt x="21" y="15"/>
                  </a:lnTo>
                  <a:lnTo>
                    <a:pt x="0" y="24"/>
                  </a:lnTo>
                  <a:lnTo>
                    <a:pt x="4" y="17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001760" y="2071080"/>
              <a:ext cx="9360" cy="43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4" y="2"/>
                  </a:moveTo>
                  <a:lnTo>
                    <a:pt x="24" y="2"/>
                  </a:lnTo>
                  <a:lnTo>
                    <a:pt x="16" y="12"/>
                  </a:lnTo>
                  <a:lnTo>
                    <a:pt x="12" y="2"/>
                  </a:lnTo>
                  <a:lnTo>
                    <a:pt x="4" y="12"/>
                  </a:lnTo>
                  <a:lnTo>
                    <a:pt x="0" y="7"/>
                  </a:lnTo>
                  <a:lnTo>
                    <a:pt x="4" y="0"/>
                  </a:lnTo>
                  <a:lnTo>
                    <a:pt x="16" y="0"/>
                  </a:lnTo>
                  <a:lnTo>
                    <a:pt x="24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020840" y="2075760"/>
              <a:ext cx="10800" cy="288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4" y="0"/>
                  </a:moveTo>
                  <a:lnTo>
                    <a:pt x="4" y="0"/>
                  </a:lnTo>
                  <a:lnTo>
                    <a:pt x="32" y="4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033800" y="2077200"/>
              <a:ext cx="10440" cy="144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0" y="0"/>
                  </a:moveTo>
                  <a:lnTo>
                    <a:pt x="0" y="0"/>
                  </a:lnTo>
                  <a:lnTo>
                    <a:pt x="31" y="2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041720" y="2091600"/>
              <a:ext cx="12240" cy="756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0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35" y="8"/>
                  </a:lnTo>
                  <a:lnTo>
                    <a:pt x="31" y="15"/>
                  </a:lnTo>
                  <a:lnTo>
                    <a:pt x="15" y="20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60440" y="2094840"/>
              <a:ext cx="6120" cy="28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5" y="2"/>
                  </a:moveTo>
                  <a:lnTo>
                    <a:pt x="5" y="2"/>
                  </a:lnTo>
                  <a:lnTo>
                    <a:pt x="17" y="0"/>
                  </a:lnTo>
                  <a:lnTo>
                    <a:pt x="8" y="10"/>
                  </a:lnTo>
                  <a:lnTo>
                    <a:pt x="0" y="7"/>
                  </a:lnTo>
                  <a:lnTo>
                    <a:pt x="5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060440" y="2088360"/>
              <a:ext cx="34560" cy="10800"/>
            </a:xfrm>
            <a:custGeom>
              <a:avLst/>
              <a:gdLst/>
              <a:ahLst/>
              <a:rect l="l" t="t" r="r" b="b"/>
              <a:pathLst>
                <a:path w="99" h="30">
                  <a:moveTo>
                    <a:pt x="13" y="0"/>
                  </a:moveTo>
                  <a:lnTo>
                    <a:pt x="13" y="0"/>
                  </a:lnTo>
                  <a:lnTo>
                    <a:pt x="65" y="0"/>
                  </a:lnTo>
                  <a:lnTo>
                    <a:pt x="93" y="7"/>
                  </a:lnTo>
                  <a:lnTo>
                    <a:pt x="98" y="29"/>
                  </a:lnTo>
                  <a:lnTo>
                    <a:pt x="69" y="12"/>
                  </a:lnTo>
                  <a:lnTo>
                    <a:pt x="20" y="17"/>
                  </a:lnTo>
                  <a:lnTo>
                    <a:pt x="13" y="5"/>
                  </a:lnTo>
                  <a:lnTo>
                    <a:pt x="0" y="19"/>
                  </a:lnTo>
                  <a:lnTo>
                    <a:pt x="0" y="7"/>
                  </a:lnTo>
                  <a:lnTo>
                    <a:pt x="1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130640" y="2123280"/>
              <a:ext cx="4320" cy="756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2" y="0"/>
                  </a:moveTo>
                  <a:lnTo>
                    <a:pt x="2" y="0"/>
                  </a:lnTo>
                  <a:lnTo>
                    <a:pt x="11" y="12"/>
                  </a:lnTo>
                  <a:lnTo>
                    <a:pt x="0" y="22"/>
                  </a:lnTo>
                  <a:lnTo>
                    <a:pt x="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132080" y="2115360"/>
              <a:ext cx="6120" cy="75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2" y="0"/>
                  </a:moveTo>
                  <a:lnTo>
                    <a:pt x="12" y="0"/>
                  </a:lnTo>
                  <a:lnTo>
                    <a:pt x="16" y="22"/>
                  </a:lnTo>
                  <a:lnTo>
                    <a:pt x="0" y="22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059000" y="2072520"/>
              <a:ext cx="9360" cy="28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0" y="0"/>
                  </a:lnTo>
                  <a:lnTo>
                    <a:pt x="25" y="5"/>
                  </a:lnTo>
                  <a:lnTo>
                    <a:pt x="4" y="1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057560" y="2061360"/>
              <a:ext cx="7560" cy="612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8" y="0"/>
                  </a:moveTo>
                  <a:lnTo>
                    <a:pt x="8" y="0"/>
                  </a:lnTo>
                  <a:lnTo>
                    <a:pt x="20" y="15"/>
                  </a:lnTo>
                  <a:lnTo>
                    <a:pt x="17" y="17"/>
                  </a:ln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057560" y="20487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59000" y="2052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68720" y="2032920"/>
              <a:ext cx="4320" cy="576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15"/>
                  </a:moveTo>
                  <a:lnTo>
                    <a:pt x="0" y="15"/>
                  </a:lnTo>
                  <a:lnTo>
                    <a:pt x="5" y="0"/>
                  </a:lnTo>
                  <a:lnTo>
                    <a:pt x="12" y="2"/>
                  </a:lnTo>
                  <a:lnTo>
                    <a:pt x="0" y="1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059000" y="2036160"/>
              <a:ext cx="18720" cy="31320"/>
            </a:xfrm>
            <a:custGeom>
              <a:avLst/>
              <a:gdLst/>
              <a:ahLst/>
              <a:rect l="l" t="t" r="r" b="b"/>
              <a:pathLst>
                <a:path w="53" h="89">
                  <a:moveTo>
                    <a:pt x="52" y="56"/>
                  </a:moveTo>
                  <a:lnTo>
                    <a:pt x="52" y="56"/>
                  </a:lnTo>
                  <a:lnTo>
                    <a:pt x="21" y="49"/>
                  </a:lnTo>
                  <a:lnTo>
                    <a:pt x="16" y="54"/>
                  </a:lnTo>
                  <a:lnTo>
                    <a:pt x="37" y="88"/>
                  </a:lnTo>
                  <a:lnTo>
                    <a:pt x="13" y="71"/>
                  </a:lnTo>
                  <a:lnTo>
                    <a:pt x="4" y="52"/>
                  </a:lnTo>
                  <a:lnTo>
                    <a:pt x="0" y="27"/>
                  </a:lnTo>
                  <a:lnTo>
                    <a:pt x="21" y="0"/>
                  </a:lnTo>
                  <a:lnTo>
                    <a:pt x="13" y="7"/>
                  </a:lnTo>
                  <a:lnTo>
                    <a:pt x="21" y="24"/>
                  </a:lnTo>
                  <a:lnTo>
                    <a:pt x="8" y="37"/>
                  </a:lnTo>
                  <a:lnTo>
                    <a:pt x="40" y="17"/>
                  </a:lnTo>
                  <a:lnTo>
                    <a:pt x="44" y="32"/>
                  </a:lnTo>
                  <a:lnTo>
                    <a:pt x="28" y="42"/>
                  </a:lnTo>
                  <a:lnTo>
                    <a:pt x="52" y="5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093920" y="2059920"/>
              <a:ext cx="12240" cy="43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20" y="0"/>
                  </a:moveTo>
                  <a:lnTo>
                    <a:pt x="20" y="0"/>
                  </a:lnTo>
                  <a:lnTo>
                    <a:pt x="36" y="7"/>
                  </a:lnTo>
                  <a:lnTo>
                    <a:pt x="17" y="0"/>
                  </a:lnTo>
                  <a:lnTo>
                    <a:pt x="24" y="9"/>
                  </a:lnTo>
                  <a:lnTo>
                    <a:pt x="9" y="12"/>
                  </a:lnTo>
                  <a:lnTo>
                    <a:pt x="0" y="4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086000" y="2075760"/>
              <a:ext cx="7560" cy="28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20" y="0"/>
                  </a:moveTo>
                  <a:lnTo>
                    <a:pt x="20" y="0"/>
                  </a:lnTo>
                  <a:lnTo>
                    <a:pt x="20" y="9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163760" y="2137680"/>
              <a:ext cx="18720" cy="1080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41" y="0"/>
                  </a:moveTo>
                  <a:lnTo>
                    <a:pt x="41" y="0"/>
                  </a:lnTo>
                  <a:lnTo>
                    <a:pt x="53" y="5"/>
                  </a:lnTo>
                  <a:lnTo>
                    <a:pt x="44" y="20"/>
                  </a:lnTo>
                  <a:lnTo>
                    <a:pt x="24" y="29"/>
                  </a:lnTo>
                  <a:lnTo>
                    <a:pt x="0" y="29"/>
                  </a:lnTo>
                  <a:lnTo>
                    <a:pt x="20" y="7"/>
                  </a:lnTo>
                  <a:lnTo>
                    <a:pt x="4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155840" y="2075760"/>
              <a:ext cx="15480" cy="108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0" y="0"/>
                  </a:moveTo>
                  <a:lnTo>
                    <a:pt x="44" y="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155840" y="2064600"/>
              <a:ext cx="10800" cy="612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0"/>
                  </a:moveTo>
                  <a:lnTo>
                    <a:pt x="0" y="0"/>
                  </a:lnTo>
                  <a:lnTo>
                    <a:pt x="28" y="15"/>
                  </a:lnTo>
                  <a:lnTo>
                    <a:pt x="11" y="1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778200" y="2072520"/>
              <a:ext cx="21600" cy="1548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28" y="0"/>
                  </a:moveTo>
                  <a:lnTo>
                    <a:pt x="28" y="0"/>
                  </a:lnTo>
                  <a:lnTo>
                    <a:pt x="45" y="25"/>
                  </a:lnTo>
                  <a:lnTo>
                    <a:pt x="61" y="30"/>
                  </a:lnTo>
                  <a:lnTo>
                    <a:pt x="52" y="37"/>
                  </a:lnTo>
                  <a:lnTo>
                    <a:pt x="57" y="44"/>
                  </a:lnTo>
                  <a:lnTo>
                    <a:pt x="48" y="44"/>
                  </a:lnTo>
                  <a:lnTo>
                    <a:pt x="28" y="37"/>
                  </a:lnTo>
                  <a:lnTo>
                    <a:pt x="25" y="17"/>
                  </a:lnTo>
                  <a:lnTo>
                    <a:pt x="0" y="15"/>
                  </a:lnTo>
                  <a:lnTo>
                    <a:pt x="12" y="3"/>
                  </a:lnTo>
                  <a:lnTo>
                    <a:pt x="2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809880" y="2083680"/>
              <a:ext cx="9000" cy="612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4" y="0"/>
                  </a:moveTo>
                  <a:lnTo>
                    <a:pt x="4" y="0"/>
                  </a:lnTo>
                  <a:lnTo>
                    <a:pt x="24" y="7"/>
                  </a:lnTo>
                  <a:lnTo>
                    <a:pt x="12" y="17"/>
                  </a:lnTo>
                  <a:lnTo>
                    <a:pt x="8" y="12"/>
                  </a:lnTo>
                  <a:lnTo>
                    <a:pt x="0" y="17"/>
                  </a:lnTo>
                  <a:lnTo>
                    <a:pt x="0" y="7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747960" y="2048760"/>
              <a:ext cx="5760" cy="10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6" y="5"/>
                  </a:moveTo>
                  <a:lnTo>
                    <a:pt x="0" y="0"/>
                  </a:lnTo>
                  <a:lnTo>
                    <a:pt x="16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744720" y="2047320"/>
              <a:ext cx="7560" cy="252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0" y="10"/>
                  </a:moveTo>
                  <a:lnTo>
                    <a:pt x="20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20" y="1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741840" y="2045520"/>
              <a:ext cx="2880" cy="2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2"/>
                  </a:moveTo>
                  <a:lnTo>
                    <a:pt x="9" y="2"/>
                  </a:lnTo>
                  <a:lnTo>
                    <a:pt x="4" y="10"/>
                  </a:lnTo>
                  <a:lnTo>
                    <a:pt x="0" y="0"/>
                  </a:lnTo>
                  <a:lnTo>
                    <a:pt x="9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738600" y="2042280"/>
              <a:ext cx="6120" cy="28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5"/>
                  </a:moveTo>
                  <a:lnTo>
                    <a:pt x="17" y="5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730680" y="2037600"/>
              <a:ext cx="6120" cy="4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5"/>
                  </a:moveTo>
                  <a:lnTo>
                    <a:pt x="16" y="5"/>
                  </a:lnTo>
                  <a:lnTo>
                    <a:pt x="12" y="12"/>
                  </a:lnTo>
                  <a:lnTo>
                    <a:pt x="0" y="7"/>
                  </a:lnTo>
                  <a:lnTo>
                    <a:pt x="8" y="0"/>
                  </a:lnTo>
                  <a:lnTo>
                    <a:pt x="16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078920" y="3006720"/>
              <a:ext cx="169200" cy="52200"/>
            </a:xfrm>
            <a:custGeom>
              <a:avLst/>
              <a:gdLst/>
              <a:ahLst/>
              <a:rect l="l" t="t" r="r" b="b"/>
              <a:pathLst>
                <a:path w="473" h="144">
                  <a:moveTo>
                    <a:pt x="0" y="0"/>
                  </a:moveTo>
                  <a:lnTo>
                    <a:pt x="472" y="0"/>
                  </a:lnTo>
                  <a:lnTo>
                    <a:pt x="472" y="143"/>
                  </a:lnTo>
                  <a:lnTo>
                    <a:pt x="0" y="14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088000" y="1685520"/>
              <a:ext cx="271080" cy="1218240"/>
            </a:xfrm>
            <a:custGeom>
              <a:avLst/>
              <a:gdLst/>
              <a:ahLst/>
              <a:rect l="l" t="t" r="r" b="b"/>
              <a:pathLst>
                <a:path w="756" h="3388">
                  <a:moveTo>
                    <a:pt x="593" y="208"/>
                  </a:moveTo>
                  <a:lnTo>
                    <a:pt x="582" y="213"/>
                  </a:lnTo>
                  <a:lnTo>
                    <a:pt x="463" y="215"/>
                  </a:lnTo>
                  <a:lnTo>
                    <a:pt x="445" y="195"/>
                  </a:lnTo>
                  <a:lnTo>
                    <a:pt x="453" y="184"/>
                  </a:lnTo>
                  <a:lnTo>
                    <a:pt x="469" y="181"/>
                  </a:lnTo>
                  <a:lnTo>
                    <a:pt x="493" y="196"/>
                  </a:lnTo>
                  <a:lnTo>
                    <a:pt x="541" y="199"/>
                  </a:lnTo>
                  <a:lnTo>
                    <a:pt x="554" y="192"/>
                  </a:lnTo>
                  <a:lnTo>
                    <a:pt x="557" y="199"/>
                  </a:lnTo>
                  <a:lnTo>
                    <a:pt x="578" y="199"/>
                  </a:lnTo>
                  <a:lnTo>
                    <a:pt x="593" y="208"/>
                  </a:lnTo>
                  <a:close/>
                  <a:moveTo>
                    <a:pt x="339" y="380"/>
                  </a:moveTo>
                  <a:lnTo>
                    <a:pt x="339" y="388"/>
                  </a:lnTo>
                  <a:lnTo>
                    <a:pt x="335" y="400"/>
                  </a:lnTo>
                  <a:lnTo>
                    <a:pt x="335" y="413"/>
                  </a:lnTo>
                  <a:lnTo>
                    <a:pt x="319" y="413"/>
                  </a:lnTo>
                  <a:lnTo>
                    <a:pt x="299" y="413"/>
                  </a:lnTo>
                  <a:lnTo>
                    <a:pt x="279" y="413"/>
                  </a:lnTo>
                  <a:lnTo>
                    <a:pt x="263" y="413"/>
                  </a:lnTo>
                  <a:lnTo>
                    <a:pt x="242" y="413"/>
                  </a:lnTo>
                  <a:lnTo>
                    <a:pt x="226" y="413"/>
                  </a:lnTo>
                  <a:lnTo>
                    <a:pt x="215" y="413"/>
                  </a:lnTo>
                  <a:lnTo>
                    <a:pt x="211" y="423"/>
                  </a:lnTo>
                  <a:lnTo>
                    <a:pt x="211" y="435"/>
                  </a:lnTo>
                  <a:lnTo>
                    <a:pt x="211" y="447"/>
                  </a:lnTo>
                  <a:lnTo>
                    <a:pt x="206" y="459"/>
                  </a:lnTo>
                  <a:lnTo>
                    <a:pt x="206" y="472"/>
                  </a:lnTo>
                  <a:lnTo>
                    <a:pt x="182" y="477"/>
                  </a:lnTo>
                  <a:lnTo>
                    <a:pt x="166" y="484"/>
                  </a:lnTo>
                  <a:lnTo>
                    <a:pt x="162" y="492"/>
                  </a:lnTo>
                  <a:lnTo>
                    <a:pt x="166" y="496"/>
                  </a:lnTo>
                  <a:lnTo>
                    <a:pt x="162" y="509"/>
                  </a:lnTo>
                  <a:lnTo>
                    <a:pt x="162" y="523"/>
                  </a:lnTo>
                  <a:lnTo>
                    <a:pt x="146" y="523"/>
                  </a:lnTo>
                  <a:lnTo>
                    <a:pt x="138" y="523"/>
                  </a:lnTo>
                  <a:lnTo>
                    <a:pt x="122" y="523"/>
                  </a:lnTo>
                  <a:lnTo>
                    <a:pt x="110" y="523"/>
                  </a:lnTo>
                  <a:lnTo>
                    <a:pt x="93" y="523"/>
                  </a:lnTo>
                  <a:lnTo>
                    <a:pt x="73" y="523"/>
                  </a:lnTo>
                  <a:lnTo>
                    <a:pt x="53" y="523"/>
                  </a:lnTo>
                  <a:lnTo>
                    <a:pt x="37" y="523"/>
                  </a:lnTo>
                  <a:lnTo>
                    <a:pt x="16" y="523"/>
                  </a:lnTo>
                  <a:lnTo>
                    <a:pt x="13" y="526"/>
                  </a:lnTo>
                  <a:lnTo>
                    <a:pt x="9" y="536"/>
                  </a:lnTo>
                  <a:lnTo>
                    <a:pt x="16" y="509"/>
                  </a:lnTo>
                  <a:lnTo>
                    <a:pt x="69" y="462"/>
                  </a:lnTo>
                  <a:lnTo>
                    <a:pt x="57" y="467"/>
                  </a:lnTo>
                  <a:lnTo>
                    <a:pt x="101" y="442"/>
                  </a:lnTo>
                  <a:lnTo>
                    <a:pt x="122" y="408"/>
                  </a:lnTo>
                  <a:lnTo>
                    <a:pt x="158" y="393"/>
                  </a:lnTo>
                  <a:lnTo>
                    <a:pt x="178" y="373"/>
                  </a:lnTo>
                  <a:lnTo>
                    <a:pt x="195" y="373"/>
                  </a:lnTo>
                  <a:lnTo>
                    <a:pt x="211" y="373"/>
                  </a:lnTo>
                  <a:lnTo>
                    <a:pt x="231" y="373"/>
                  </a:lnTo>
                  <a:lnTo>
                    <a:pt x="247" y="373"/>
                  </a:lnTo>
                  <a:lnTo>
                    <a:pt x="267" y="373"/>
                  </a:lnTo>
                  <a:lnTo>
                    <a:pt x="283" y="373"/>
                  </a:lnTo>
                  <a:lnTo>
                    <a:pt x="303" y="373"/>
                  </a:lnTo>
                  <a:lnTo>
                    <a:pt x="319" y="373"/>
                  </a:lnTo>
                  <a:lnTo>
                    <a:pt x="339" y="373"/>
                  </a:lnTo>
                  <a:lnTo>
                    <a:pt x="339" y="380"/>
                  </a:lnTo>
                  <a:close/>
                  <a:moveTo>
                    <a:pt x="81" y="366"/>
                  </a:moveTo>
                  <a:lnTo>
                    <a:pt x="89" y="371"/>
                  </a:lnTo>
                  <a:lnTo>
                    <a:pt x="97" y="366"/>
                  </a:lnTo>
                  <a:lnTo>
                    <a:pt x="97" y="361"/>
                  </a:lnTo>
                  <a:lnTo>
                    <a:pt x="81" y="366"/>
                  </a:lnTo>
                  <a:close/>
                  <a:moveTo>
                    <a:pt x="69" y="351"/>
                  </a:moveTo>
                  <a:lnTo>
                    <a:pt x="45" y="356"/>
                  </a:lnTo>
                  <a:lnTo>
                    <a:pt x="49" y="364"/>
                  </a:lnTo>
                  <a:lnTo>
                    <a:pt x="69" y="351"/>
                  </a:lnTo>
                  <a:close/>
                  <a:moveTo>
                    <a:pt x="170" y="336"/>
                  </a:moveTo>
                  <a:lnTo>
                    <a:pt x="170" y="339"/>
                  </a:lnTo>
                  <a:lnTo>
                    <a:pt x="170" y="342"/>
                  </a:lnTo>
                  <a:lnTo>
                    <a:pt x="158" y="344"/>
                  </a:lnTo>
                  <a:lnTo>
                    <a:pt x="153" y="344"/>
                  </a:lnTo>
                  <a:lnTo>
                    <a:pt x="158" y="344"/>
                  </a:lnTo>
                  <a:lnTo>
                    <a:pt x="158" y="339"/>
                  </a:lnTo>
                  <a:lnTo>
                    <a:pt x="166" y="336"/>
                  </a:lnTo>
                  <a:lnTo>
                    <a:pt x="170" y="334"/>
                  </a:lnTo>
                  <a:lnTo>
                    <a:pt x="170" y="336"/>
                  </a:lnTo>
                  <a:close/>
                  <a:moveTo>
                    <a:pt x="146" y="351"/>
                  </a:moveTo>
                  <a:lnTo>
                    <a:pt x="142" y="359"/>
                  </a:lnTo>
                  <a:lnTo>
                    <a:pt x="134" y="361"/>
                  </a:lnTo>
                  <a:lnTo>
                    <a:pt x="130" y="361"/>
                  </a:lnTo>
                  <a:lnTo>
                    <a:pt x="134" y="364"/>
                  </a:lnTo>
                  <a:lnTo>
                    <a:pt x="146" y="359"/>
                  </a:lnTo>
                  <a:lnTo>
                    <a:pt x="149" y="359"/>
                  </a:lnTo>
                  <a:lnTo>
                    <a:pt x="153" y="354"/>
                  </a:lnTo>
                  <a:lnTo>
                    <a:pt x="153" y="346"/>
                  </a:lnTo>
                  <a:lnTo>
                    <a:pt x="146" y="351"/>
                  </a:lnTo>
                  <a:close/>
                  <a:moveTo>
                    <a:pt x="13" y="351"/>
                  </a:moveTo>
                  <a:lnTo>
                    <a:pt x="16" y="349"/>
                  </a:lnTo>
                  <a:lnTo>
                    <a:pt x="16" y="346"/>
                  </a:lnTo>
                  <a:lnTo>
                    <a:pt x="13" y="344"/>
                  </a:lnTo>
                  <a:lnTo>
                    <a:pt x="9" y="344"/>
                  </a:lnTo>
                  <a:lnTo>
                    <a:pt x="4" y="346"/>
                  </a:lnTo>
                  <a:lnTo>
                    <a:pt x="9" y="351"/>
                  </a:lnTo>
                  <a:lnTo>
                    <a:pt x="9" y="354"/>
                  </a:lnTo>
                  <a:lnTo>
                    <a:pt x="13" y="351"/>
                  </a:lnTo>
                  <a:close/>
                  <a:moveTo>
                    <a:pt x="0" y="368"/>
                  </a:moveTo>
                  <a:lnTo>
                    <a:pt x="4" y="368"/>
                  </a:lnTo>
                  <a:lnTo>
                    <a:pt x="0" y="368"/>
                  </a:lnTo>
                  <a:close/>
                  <a:moveTo>
                    <a:pt x="29" y="359"/>
                  </a:moveTo>
                  <a:lnTo>
                    <a:pt x="37" y="361"/>
                  </a:lnTo>
                  <a:lnTo>
                    <a:pt x="29" y="359"/>
                  </a:lnTo>
                  <a:close/>
                  <a:moveTo>
                    <a:pt x="25" y="3243"/>
                  </a:moveTo>
                  <a:lnTo>
                    <a:pt x="498" y="3243"/>
                  </a:lnTo>
                  <a:lnTo>
                    <a:pt x="498" y="3387"/>
                  </a:lnTo>
                  <a:lnTo>
                    <a:pt x="25" y="3387"/>
                  </a:lnTo>
                  <a:lnTo>
                    <a:pt x="25" y="3243"/>
                  </a:lnTo>
                  <a:close/>
                  <a:moveTo>
                    <a:pt x="472" y="174"/>
                  </a:moveTo>
                  <a:lnTo>
                    <a:pt x="505" y="162"/>
                  </a:lnTo>
                  <a:lnTo>
                    <a:pt x="582" y="162"/>
                  </a:lnTo>
                  <a:lnTo>
                    <a:pt x="598" y="147"/>
                  </a:lnTo>
                  <a:lnTo>
                    <a:pt x="630" y="142"/>
                  </a:lnTo>
                  <a:lnTo>
                    <a:pt x="634" y="130"/>
                  </a:lnTo>
                  <a:lnTo>
                    <a:pt x="655" y="118"/>
                  </a:lnTo>
                  <a:lnTo>
                    <a:pt x="662" y="116"/>
                  </a:lnTo>
                  <a:lnTo>
                    <a:pt x="650" y="110"/>
                  </a:lnTo>
                  <a:lnTo>
                    <a:pt x="642" y="98"/>
                  </a:lnTo>
                  <a:lnTo>
                    <a:pt x="655" y="88"/>
                  </a:lnTo>
                  <a:lnTo>
                    <a:pt x="687" y="64"/>
                  </a:lnTo>
                  <a:lnTo>
                    <a:pt x="719" y="59"/>
                  </a:lnTo>
                  <a:lnTo>
                    <a:pt x="755" y="44"/>
                  </a:lnTo>
                  <a:lnTo>
                    <a:pt x="755" y="31"/>
                  </a:lnTo>
                  <a:lnTo>
                    <a:pt x="710" y="29"/>
                  </a:lnTo>
                  <a:lnTo>
                    <a:pt x="703" y="29"/>
                  </a:lnTo>
                  <a:lnTo>
                    <a:pt x="679" y="22"/>
                  </a:lnTo>
                  <a:lnTo>
                    <a:pt x="655" y="24"/>
                  </a:lnTo>
                  <a:lnTo>
                    <a:pt x="611" y="17"/>
                  </a:lnTo>
                  <a:lnTo>
                    <a:pt x="598" y="10"/>
                  </a:lnTo>
                  <a:lnTo>
                    <a:pt x="513" y="10"/>
                  </a:lnTo>
                  <a:lnTo>
                    <a:pt x="472" y="2"/>
                  </a:lnTo>
                  <a:lnTo>
                    <a:pt x="436" y="7"/>
                  </a:lnTo>
                  <a:lnTo>
                    <a:pt x="408" y="0"/>
                  </a:lnTo>
                  <a:lnTo>
                    <a:pt x="400" y="12"/>
                  </a:lnTo>
                  <a:lnTo>
                    <a:pt x="396" y="10"/>
                  </a:lnTo>
                  <a:lnTo>
                    <a:pt x="377" y="12"/>
                  </a:lnTo>
                  <a:lnTo>
                    <a:pt x="364" y="17"/>
                  </a:lnTo>
                  <a:lnTo>
                    <a:pt x="377" y="22"/>
                  </a:lnTo>
                  <a:lnTo>
                    <a:pt x="380" y="24"/>
                  </a:lnTo>
                  <a:lnTo>
                    <a:pt x="384" y="34"/>
                  </a:lnTo>
                  <a:lnTo>
                    <a:pt x="377" y="41"/>
                  </a:lnTo>
                  <a:lnTo>
                    <a:pt x="396" y="36"/>
                  </a:lnTo>
                  <a:lnTo>
                    <a:pt x="396" y="44"/>
                  </a:lnTo>
                  <a:lnTo>
                    <a:pt x="449" y="41"/>
                  </a:lnTo>
                  <a:lnTo>
                    <a:pt x="457" y="51"/>
                  </a:lnTo>
                  <a:lnTo>
                    <a:pt x="433" y="64"/>
                  </a:lnTo>
                  <a:lnTo>
                    <a:pt x="424" y="93"/>
                  </a:lnTo>
                  <a:lnTo>
                    <a:pt x="408" y="93"/>
                  </a:lnTo>
                  <a:lnTo>
                    <a:pt x="424" y="108"/>
                  </a:lnTo>
                  <a:lnTo>
                    <a:pt x="412" y="123"/>
                  </a:lnTo>
                  <a:lnTo>
                    <a:pt x="424" y="127"/>
                  </a:lnTo>
                  <a:lnTo>
                    <a:pt x="404" y="142"/>
                  </a:lnTo>
                  <a:lnTo>
                    <a:pt x="404" y="152"/>
                  </a:lnTo>
                  <a:lnTo>
                    <a:pt x="424" y="150"/>
                  </a:lnTo>
                  <a:lnTo>
                    <a:pt x="445" y="157"/>
                  </a:lnTo>
                  <a:lnTo>
                    <a:pt x="436" y="162"/>
                  </a:lnTo>
                  <a:lnTo>
                    <a:pt x="449" y="174"/>
                  </a:lnTo>
                  <a:lnTo>
                    <a:pt x="472" y="17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219760" y="1685520"/>
              <a:ext cx="141120" cy="63360"/>
            </a:xfrm>
            <a:custGeom>
              <a:avLst/>
              <a:gdLst/>
              <a:ahLst/>
              <a:rect l="l" t="t" r="r" b="b"/>
              <a:pathLst>
                <a:path w="392" h="175">
                  <a:moveTo>
                    <a:pt x="108" y="174"/>
                  </a:moveTo>
                  <a:lnTo>
                    <a:pt x="141" y="162"/>
                  </a:lnTo>
                  <a:lnTo>
                    <a:pt x="218" y="162"/>
                  </a:lnTo>
                  <a:lnTo>
                    <a:pt x="234" y="147"/>
                  </a:lnTo>
                  <a:lnTo>
                    <a:pt x="266" y="142"/>
                  </a:lnTo>
                  <a:lnTo>
                    <a:pt x="270" y="130"/>
                  </a:lnTo>
                  <a:lnTo>
                    <a:pt x="291" y="118"/>
                  </a:lnTo>
                  <a:lnTo>
                    <a:pt x="298" y="116"/>
                  </a:lnTo>
                  <a:lnTo>
                    <a:pt x="286" y="110"/>
                  </a:lnTo>
                  <a:lnTo>
                    <a:pt x="278" y="98"/>
                  </a:lnTo>
                  <a:lnTo>
                    <a:pt x="291" y="88"/>
                  </a:lnTo>
                  <a:lnTo>
                    <a:pt x="323" y="64"/>
                  </a:lnTo>
                  <a:lnTo>
                    <a:pt x="355" y="59"/>
                  </a:lnTo>
                  <a:lnTo>
                    <a:pt x="391" y="44"/>
                  </a:lnTo>
                  <a:lnTo>
                    <a:pt x="391" y="31"/>
                  </a:lnTo>
                  <a:lnTo>
                    <a:pt x="346" y="29"/>
                  </a:lnTo>
                  <a:lnTo>
                    <a:pt x="339" y="29"/>
                  </a:lnTo>
                  <a:lnTo>
                    <a:pt x="315" y="22"/>
                  </a:lnTo>
                  <a:lnTo>
                    <a:pt x="291" y="24"/>
                  </a:lnTo>
                  <a:lnTo>
                    <a:pt x="247" y="17"/>
                  </a:lnTo>
                  <a:lnTo>
                    <a:pt x="234" y="10"/>
                  </a:lnTo>
                  <a:lnTo>
                    <a:pt x="149" y="10"/>
                  </a:lnTo>
                  <a:lnTo>
                    <a:pt x="108" y="2"/>
                  </a:lnTo>
                  <a:lnTo>
                    <a:pt x="72" y="7"/>
                  </a:lnTo>
                  <a:lnTo>
                    <a:pt x="44" y="0"/>
                  </a:lnTo>
                  <a:lnTo>
                    <a:pt x="36" y="12"/>
                  </a:lnTo>
                  <a:lnTo>
                    <a:pt x="32" y="10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0" y="17"/>
                  </a:lnTo>
                  <a:lnTo>
                    <a:pt x="13" y="22"/>
                  </a:lnTo>
                  <a:lnTo>
                    <a:pt x="16" y="24"/>
                  </a:lnTo>
                  <a:lnTo>
                    <a:pt x="20" y="34"/>
                  </a:lnTo>
                  <a:lnTo>
                    <a:pt x="13" y="41"/>
                  </a:lnTo>
                  <a:lnTo>
                    <a:pt x="32" y="36"/>
                  </a:lnTo>
                  <a:lnTo>
                    <a:pt x="32" y="44"/>
                  </a:lnTo>
                  <a:lnTo>
                    <a:pt x="85" y="41"/>
                  </a:lnTo>
                  <a:lnTo>
                    <a:pt x="93" y="51"/>
                  </a:lnTo>
                  <a:lnTo>
                    <a:pt x="69" y="64"/>
                  </a:lnTo>
                  <a:lnTo>
                    <a:pt x="60" y="93"/>
                  </a:lnTo>
                  <a:lnTo>
                    <a:pt x="44" y="93"/>
                  </a:lnTo>
                  <a:lnTo>
                    <a:pt x="60" y="108"/>
                  </a:lnTo>
                  <a:lnTo>
                    <a:pt x="48" y="123"/>
                  </a:lnTo>
                  <a:lnTo>
                    <a:pt x="60" y="127"/>
                  </a:lnTo>
                  <a:lnTo>
                    <a:pt x="40" y="142"/>
                  </a:lnTo>
                  <a:lnTo>
                    <a:pt x="40" y="152"/>
                  </a:lnTo>
                  <a:lnTo>
                    <a:pt x="60" y="150"/>
                  </a:lnTo>
                  <a:lnTo>
                    <a:pt x="81" y="157"/>
                  </a:lnTo>
                  <a:lnTo>
                    <a:pt x="72" y="162"/>
                  </a:lnTo>
                  <a:lnTo>
                    <a:pt x="85" y="174"/>
                  </a:lnTo>
                  <a:lnTo>
                    <a:pt x="108" y="17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248560" y="1750320"/>
              <a:ext cx="53640" cy="1224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148" y="27"/>
                  </a:moveTo>
                  <a:lnTo>
                    <a:pt x="137" y="32"/>
                  </a:lnTo>
                  <a:lnTo>
                    <a:pt x="18" y="34"/>
                  </a:lnTo>
                  <a:lnTo>
                    <a:pt x="0" y="14"/>
                  </a:lnTo>
                  <a:lnTo>
                    <a:pt x="8" y="3"/>
                  </a:lnTo>
                  <a:lnTo>
                    <a:pt x="24" y="0"/>
                  </a:lnTo>
                  <a:lnTo>
                    <a:pt x="48" y="15"/>
                  </a:lnTo>
                  <a:lnTo>
                    <a:pt x="96" y="18"/>
                  </a:lnTo>
                  <a:lnTo>
                    <a:pt x="109" y="11"/>
                  </a:lnTo>
                  <a:lnTo>
                    <a:pt x="112" y="18"/>
                  </a:lnTo>
                  <a:lnTo>
                    <a:pt x="133" y="18"/>
                  </a:lnTo>
                  <a:lnTo>
                    <a:pt x="148" y="2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091240" y="1818720"/>
              <a:ext cx="118800" cy="58320"/>
            </a:xfrm>
            <a:custGeom>
              <a:avLst/>
              <a:gdLst/>
              <a:ahLst/>
              <a:rect l="l" t="t" r="r" b="b"/>
              <a:pathLst>
                <a:path w="331" h="164">
                  <a:moveTo>
                    <a:pt x="330" y="7"/>
                  </a:moveTo>
                  <a:lnTo>
                    <a:pt x="330" y="15"/>
                  </a:lnTo>
                  <a:lnTo>
                    <a:pt x="326" y="27"/>
                  </a:lnTo>
                  <a:lnTo>
                    <a:pt x="326" y="40"/>
                  </a:lnTo>
                  <a:lnTo>
                    <a:pt x="310" y="40"/>
                  </a:lnTo>
                  <a:lnTo>
                    <a:pt x="290" y="40"/>
                  </a:lnTo>
                  <a:lnTo>
                    <a:pt x="270" y="40"/>
                  </a:lnTo>
                  <a:lnTo>
                    <a:pt x="254" y="40"/>
                  </a:lnTo>
                  <a:lnTo>
                    <a:pt x="233" y="40"/>
                  </a:lnTo>
                  <a:lnTo>
                    <a:pt x="217" y="40"/>
                  </a:lnTo>
                  <a:lnTo>
                    <a:pt x="206" y="40"/>
                  </a:lnTo>
                  <a:lnTo>
                    <a:pt x="202" y="50"/>
                  </a:lnTo>
                  <a:lnTo>
                    <a:pt x="202" y="62"/>
                  </a:lnTo>
                  <a:lnTo>
                    <a:pt x="202" y="74"/>
                  </a:lnTo>
                  <a:lnTo>
                    <a:pt x="197" y="86"/>
                  </a:lnTo>
                  <a:lnTo>
                    <a:pt x="197" y="99"/>
                  </a:lnTo>
                  <a:lnTo>
                    <a:pt x="197" y="99"/>
                  </a:lnTo>
                  <a:lnTo>
                    <a:pt x="173" y="104"/>
                  </a:lnTo>
                  <a:lnTo>
                    <a:pt x="157" y="111"/>
                  </a:lnTo>
                  <a:lnTo>
                    <a:pt x="153" y="119"/>
                  </a:lnTo>
                  <a:lnTo>
                    <a:pt x="157" y="123"/>
                  </a:lnTo>
                  <a:lnTo>
                    <a:pt x="153" y="136"/>
                  </a:lnTo>
                  <a:lnTo>
                    <a:pt x="153" y="150"/>
                  </a:lnTo>
                  <a:lnTo>
                    <a:pt x="137" y="150"/>
                  </a:lnTo>
                  <a:lnTo>
                    <a:pt x="129" y="150"/>
                  </a:lnTo>
                  <a:lnTo>
                    <a:pt x="113" y="150"/>
                  </a:lnTo>
                  <a:lnTo>
                    <a:pt x="101" y="150"/>
                  </a:lnTo>
                  <a:lnTo>
                    <a:pt x="84" y="150"/>
                  </a:lnTo>
                  <a:lnTo>
                    <a:pt x="64" y="150"/>
                  </a:lnTo>
                  <a:lnTo>
                    <a:pt x="44" y="150"/>
                  </a:lnTo>
                  <a:lnTo>
                    <a:pt x="28" y="150"/>
                  </a:lnTo>
                  <a:lnTo>
                    <a:pt x="7" y="150"/>
                  </a:lnTo>
                  <a:lnTo>
                    <a:pt x="4" y="153"/>
                  </a:lnTo>
                  <a:lnTo>
                    <a:pt x="0" y="163"/>
                  </a:lnTo>
                  <a:lnTo>
                    <a:pt x="7" y="136"/>
                  </a:lnTo>
                  <a:lnTo>
                    <a:pt x="60" y="89"/>
                  </a:lnTo>
                  <a:lnTo>
                    <a:pt x="48" y="94"/>
                  </a:lnTo>
                  <a:lnTo>
                    <a:pt x="92" y="69"/>
                  </a:lnTo>
                  <a:lnTo>
                    <a:pt x="113" y="35"/>
                  </a:lnTo>
                  <a:lnTo>
                    <a:pt x="149" y="20"/>
                  </a:lnTo>
                  <a:lnTo>
                    <a:pt x="169" y="0"/>
                  </a:lnTo>
                  <a:lnTo>
                    <a:pt x="186" y="0"/>
                  </a:lnTo>
                  <a:lnTo>
                    <a:pt x="202" y="0"/>
                  </a:lnTo>
                  <a:lnTo>
                    <a:pt x="222" y="0"/>
                  </a:lnTo>
                  <a:lnTo>
                    <a:pt x="238" y="0"/>
                  </a:lnTo>
                  <a:lnTo>
                    <a:pt x="258" y="0"/>
                  </a:lnTo>
                  <a:lnTo>
                    <a:pt x="274" y="0"/>
                  </a:lnTo>
                  <a:lnTo>
                    <a:pt x="294" y="0"/>
                  </a:lnTo>
                  <a:lnTo>
                    <a:pt x="310" y="0"/>
                  </a:lnTo>
                  <a:lnTo>
                    <a:pt x="330" y="0"/>
                  </a:lnTo>
                  <a:lnTo>
                    <a:pt x="330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118240" y="1815480"/>
              <a:ext cx="6120" cy="28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5"/>
                  </a:moveTo>
                  <a:lnTo>
                    <a:pt x="0" y="5"/>
                  </a:lnTo>
                  <a:lnTo>
                    <a:pt x="8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103840" y="1810440"/>
              <a:ext cx="9360" cy="468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4" y="0"/>
                  </a:moveTo>
                  <a:lnTo>
                    <a:pt x="24" y="0"/>
                  </a:lnTo>
                  <a:lnTo>
                    <a:pt x="0" y="5"/>
                  </a:lnTo>
                  <a:lnTo>
                    <a:pt x="4" y="13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143800" y="1804320"/>
              <a:ext cx="5760" cy="28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2"/>
                  </a:moveTo>
                  <a:lnTo>
                    <a:pt x="17" y="2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17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135520" y="1809000"/>
              <a:ext cx="7920" cy="6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6" y="5"/>
                  </a:moveTo>
                  <a:lnTo>
                    <a:pt x="16" y="5"/>
                  </a:lnTo>
                  <a:lnTo>
                    <a:pt x="12" y="13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16" y="13"/>
                  </a:lnTo>
                  <a:lnTo>
                    <a:pt x="19" y="13"/>
                  </a:lnTo>
                  <a:lnTo>
                    <a:pt x="23" y="8"/>
                  </a:lnTo>
                  <a:lnTo>
                    <a:pt x="23" y="0"/>
                  </a:lnTo>
                  <a:lnTo>
                    <a:pt x="16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089800" y="1809000"/>
              <a:ext cx="4320" cy="28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9" y="7"/>
                  </a:moveTo>
                  <a:lnTo>
                    <a:pt x="9" y="7"/>
                  </a:lnTo>
                  <a:lnTo>
                    <a:pt x="12" y="5"/>
                  </a:lnTo>
                  <a:lnTo>
                    <a:pt x="12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5" y="7"/>
                  </a:lnTo>
                  <a:lnTo>
                    <a:pt x="5" y="10"/>
                  </a:lnTo>
                  <a:lnTo>
                    <a:pt x="9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088000" y="1816920"/>
              <a:ext cx="144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099160" y="1813680"/>
              <a:ext cx="288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8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097720" y="2851200"/>
              <a:ext cx="169200" cy="52200"/>
            </a:xfrm>
            <a:custGeom>
              <a:avLst/>
              <a:gdLst/>
              <a:ahLst/>
              <a:rect l="l" t="t" r="r" b="b"/>
              <a:pathLst>
                <a:path w="474" h="145">
                  <a:moveTo>
                    <a:pt x="0" y="0"/>
                  </a:moveTo>
                  <a:lnTo>
                    <a:pt x="473" y="0"/>
                  </a:lnTo>
                  <a:lnTo>
                    <a:pt x="473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097720" y="1658520"/>
              <a:ext cx="948600" cy="1400400"/>
            </a:xfrm>
            <a:custGeom>
              <a:avLst/>
              <a:gdLst/>
              <a:ahLst/>
              <a:rect l="l" t="t" r="r" b="b"/>
              <a:pathLst>
                <a:path w="2637" h="3893">
                  <a:moveTo>
                    <a:pt x="1045" y="32"/>
                  </a:moveTo>
                  <a:lnTo>
                    <a:pt x="1037" y="29"/>
                  </a:lnTo>
                  <a:lnTo>
                    <a:pt x="1001" y="37"/>
                  </a:lnTo>
                  <a:lnTo>
                    <a:pt x="1013" y="47"/>
                  </a:lnTo>
                  <a:lnTo>
                    <a:pt x="1005" y="54"/>
                  </a:lnTo>
                  <a:lnTo>
                    <a:pt x="1013" y="63"/>
                  </a:lnTo>
                  <a:lnTo>
                    <a:pt x="1053" y="78"/>
                  </a:lnTo>
                  <a:lnTo>
                    <a:pt x="1069" y="98"/>
                  </a:lnTo>
                  <a:lnTo>
                    <a:pt x="1098" y="113"/>
                  </a:lnTo>
                  <a:lnTo>
                    <a:pt x="1143" y="115"/>
                  </a:lnTo>
                  <a:lnTo>
                    <a:pt x="1138" y="125"/>
                  </a:lnTo>
                  <a:lnTo>
                    <a:pt x="1211" y="142"/>
                  </a:lnTo>
                  <a:lnTo>
                    <a:pt x="1230" y="155"/>
                  </a:lnTo>
                  <a:lnTo>
                    <a:pt x="1226" y="162"/>
                  </a:lnTo>
                  <a:lnTo>
                    <a:pt x="1178" y="148"/>
                  </a:lnTo>
                  <a:lnTo>
                    <a:pt x="1166" y="157"/>
                  </a:lnTo>
                  <a:lnTo>
                    <a:pt x="1166" y="167"/>
                  </a:lnTo>
                  <a:lnTo>
                    <a:pt x="1190" y="172"/>
                  </a:lnTo>
                  <a:lnTo>
                    <a:pt x="1194" y="182"/>
                  </a:lnTo>
                  <a:lnTo>
                    <a:pt x="1174" y="187"/>
                  </a:lnTo>
                  <a:lnTo>
                    <a:pt x="1162" y="206"/>
                  </a:lnTo>
                  <a:lnTo>
                    <a:pt x="1150" y="204"/>
                  </a:lnTo>
                  <a:lnTo>
                    <a:pt x="1162" y="184"/>
                  </a:lnTo>
                  <a:lnTo>
                    <a:pt x="1138" y="157"/>
                  </a:lnTo>
                  <a:lnTo>
                    <a:pt x="1126" y="157"/>
                  </a:lnTo>
                  <a:lnTo>
                    <a:pt x="1105" y="145"/>
                  </a:lnTo>
                  <a:lnTo>
                    <a:pt x="1081" y="140"/>
                  </a:lnTo>
                  <a:lnTo>
                    <a:pt x="1069" y="130"/>
                  </a:lnTo>
                  <a:lnTo>
                    <a:pt x="1045" y="133"/>
                  </a:lnTo>
                  <a:lnTo>
                    <a:pt x="997" y="108"/>
                  </a:lnTo>
                  <a:lnTo>
                    <a:pt x="981" y="105"/>
                  </a:lnTo>
                  <a:lnTo>
                    <a:pt x="960" y="94"/>
                  </a:lnTo>
                  <a:lnTo>
                    <a:pt x="940" y="68"/>
                  </a:lnTo>
                  <a:lnTo>
                    <a:pt x="900" y="59"/>
                  </a:lnTo>
                  <a:lnTo>
                    <a:pt x="864" y="74"/>
                  </a:lnTo>
                  <a:lnTo>
                    <a:pt x="868" y="66"/>
                  </a:lnTo>
                  <a:lnTo>
                    <a:pt x="843" y="63"/>
                  </a:lnTo>
                  <a:lnTo>
                    <a:pt x="843" y="52"/>
                  </a:lnTo>
                  <a:lnTo>
                    <a:pt x="832" y="44"/>
                  </a:lnTo>
                  <a:lnTo>
                    <a:pt x="847" y="42"/>
                  </a:lnTo>
                  <a:lnTo>
                    <a:pt x="835" y="29"/>
                  </a:lnTo>
                  <a:lnTo>
                    <a:pt x="839" y="27"/>
                  </a:lnTo>
                  <a:lnTo>
                    <a:pt x="868" y="27"/>
                  </a:lnTo>
                  <a:lnTo>
                    <a:pt x="880" y="14"/>
                  </a:lnTo>
                  <a:lnTo>
                    <a:pt x="904" y="27"/>
                  </a:lnTo>
                  <a:lnTo>
                    <a:pt x="909" y="14"/>
                  </a:lnTo>
                  <a:lnTo>
                    <a:pt x="932" y="19"/>
                  </a:lnTo>
                  <a:lnTo>
                    <a:pt x="932" y="9"/>
                  </a:lnTo>
                  <a:lnTo>
                    <a:pt x="940" y="12"/>
                  </a:lnTo>
                  <a:lnTo>
                    <a:pt x="940" y="5"/>
                  </a:lnTo>
                  <a:lnTo>
                    <a:pt x="989" y="0"/>
                  </a:lnTo>
                  <a:lnTo>
                    <a:pt x="1037" y="12"/>
                  </a:lnTo>
                  <a:lnTo>
                    <a:pt x="1029" y="17"/>
                  </a:lnTo>
                  <a:lnTo>
                    <a:pt x="1033" y="24"/>
                  </a:lnTo>
                  <a:lnTo>
                    <a:pt x="1045" y="32"/>
                  </a:lnTo>
                  <a:close/>
                  <a:moveTo>
                    <a:pt x="1146" y="199"/>
                  </a:moveTo>
                  <a:lnTo>
                    <a:pt x="1134" y="216"/>
                  </a:lnTo>
                  <a:lnTo>
                    <a:pt x="1143" y="229"/>
                  </a:lnTo>
                  <a:lnTo>
                    <a:pt x="1138" y="236"/>
                  </a:lnTo>
                  <a:lnTo>
                    <a:pt x="1042" y="211"/>
                  </a:lnTo>
                  <a:lnTo>
                    <a:pt x="1050" y="201"/>
                  </a:lnTo>
                  <a:lnTo>
                    <a:pt x="1069" y="201"/>
                  </a:lnTo>
                  <a:lnTo>
                    <a:pt x="1086" y="206"/>
                  </a:lnTo>
                  <a:lnTo>
                    <a:pt x="1146" y="199"/>
                  </a:lnTo>
                  <a:close/>
                  <a:moveTo>
                    <a:pt x="924" y="133"/>
                  </a:moveTo>
                  <a:lnTo>
                    <a:pt x="949" y="148"/>
                  </a:lnTo>
                  <a:lnTo>
                    <a:pt x="944" y="177"/>
                  </a:lnTo>
                  <a:lnTo>
                    <a:pt x="940" y="182"/>
                  </a:lnTo>
                  <a:lnTo>
                    <a:pt x="924" y="177"/>
                  </a:lnTo>
                  <a:lnTo>
                    <a:pt x="920" y="187"/>
                  </a:lnTo>
                  <a:lnTo>
                    <a:pt x="904" y="182"/>
                  </a:lnTo>
                  <a:lnTo>
                    <a:pt x="909" y="164"/>
                  </a:lnTo>
                  <a:lnTo>
                    <a:pt x="892" y="145"/>
                  </a:lnTo>
                  <a:lnTo>
                    <a:pt x="892" y="138"/>
                  </a:lnTo>
                  <a:lnTo>
                    <a:pt x="924" y="133"/>
                  </a:lnTo>
                  <a:close/>
                  <a:moveTo>
                    <a:pt x="2305" y="799"/>
                  </a:moveTo>
                  <a:lnTo>
                    <a:pt x="2220" y="752"/>
                  </a:lnTo>
                  <a:lnTo>
                    <a:pt x="2179" y="745"/>
                  </a:lnTo>
                  <a:lnTo>
                    <a:pt x="2168" y="732"/>
                  </a:lnTo>
                  <a:lnTo>
                    <a:pt x="2164" y="742"/>
                  </a:lnTo>
                  <a:lnTo>
                    <a:pt x="2102" y="671"/>
                  </a:lnTo>
                  <a:lnTo>
                    <a:pt x="2094" y="683"/>
                  </a:lnTo>
                  <a:lnTo>
                    <a:pt x="2066" y="688"/>
                  </a:lnTo>
                  <a:lnTo>
                    <a:pt x="2046" y="693"/>
                  </a:lnTo>
                  <a:lnTo>
                    <a:pt x="2050" y="713"/>
                  </a:lnTo>
                  <a:lnTo>
                    <a:pt x="2038" y="740"/>
                  </a:lnTo>
                  <a:lnTo>
                    <a:pt x="2043" y="752"/>
                  </a:lnTo>
                  <a:lnTo>
                    <a:pt x="2043" y="760"/>
                  </a:lnTo>
                  <a:lnTo>
                    <a:pt x="2046" y="762"/>
                  </a:lnTo>
                  <a:lnTo>
                    <a:pt x="2066" y="760"/>
                  </a:lnTo>
                  <a:lnTo>
                    <a:pt x="2071" y="757"/>
                  </a:lnTo>
                  <a:lnTo>
                    <a:pt x="2075" y="760"/>
                  </a:lnTo>
                  <a:lnTo>
                    <a:pt x="2079" y="762"/>
                  </a:lnTo>
                  <a:lnTo>
                    <a:pt x="2083" y="765"/>
                  </a:lnTo>
                  <a:lnTo>
                    <a:pt x="2083" y="767"/>
                  </a:lnTo>
                  <a:lnTo>
                    <a:pt x="2091" y="760"/>
                  </a:lnTo>
                  <a:lnTo>
                    <a:pt x="2091" y="755"/>
                  </a:lnTo>
                  <a:lnTo>
                    <a:pt x="2094" y="752"/>
                  </a:lnTo>
                  <a:lnTo>
                    <a:pt x="2094" y="750"/>
                  </a:lnTo>
                  <a:lnTo>
                    <a:pt x="2111" y="752"/>
                  </a:lnTo>
                  <a:lnTo>
                    <a:pt x="2115" y="755"/>
                  </a:lnTo>
                  <a:lnTo>
                    <a:pt x="2115" y="757"/>
                  </a:lnTo>
                  <a:lnTo>
                    <a:pt x="2119" y="760"/>
                  </a:lnTo>
                  <a:lnTo>
                    <a:pt x="2139" y="755"/>
                  </a:lnTo>
                  <a:lnTo>
                    <a:pt x="2139" y="752"/>
                  </a:lnTo>
                  <a:lnTo>
                    <a:pt x="2147" y="755"/>
                  </a:lnTo>
                  <a:lnTo>
                    <a:pt x="2147" y="757"/>
                  </a:lnTo>
                  <a:lnTo>
                    <a:pt x="2160" y="755"/>
                  </a:lnTo>
                  <a:lnTo>
                    <a:pt x="2168" y="757"/>
                  </a:lnTo>
                  <a:lnTo>
                    <a:pt x="2179" y="757"/>
                  </a:lnTo>
                  <a:lnTo>
                    <a:pt x="2204" y="762"/>
                  </a:lnTo>
                  <a:lnTo>
                    <a:pt x="2216" y="770"/>
                  </a:lnTo>
                  <a:lnTo>
                    <a:pt x="2224" y="772"/>
                  </a:lnTo>
                  <a:lnTo>
                    <a:pt x="2240" y="781"/>
                  </a:lnTo>
                  <a:lnTo>
                    <a:pt x="2256" y="792"/>
                  </a:lnTo>
                  <a:lnTo>
                    <a:pt x="2272" y="801"/>
                  </a:lnTo>
                  <a:lnTo>
                    <a:pt x="2280" y="807"/>
                  </a:lnTo>
                  <a:lnTo>
                    <a:pt x="2280" y="804"/>
                  </a:lnTo>
                  <a:lnTo>
                    <a:pt x="2305" y="799"/>
                  </a:lnTo>
                  <a:close/>
                  <a:moveTo>
                    <a:pt x="2513" y="915"/>
                  </a:moveTo>
                  <a:lnTo>
                    <a:pt x="2543" y="829"/>
                  </a:lnTo>
                  <a:lnTo>
                    <a:pt x="2578" y="826"/>
                  </a:lnTo>
                  <a:lnTo>
                    <a:pt x="2603" y="814"/>
                  </a:lnTo>
                  <a:lnTo>
                    <a:pt x="2624" y="819"/>
                  </a:lnTo>
                  <a:lnTo>
                    <a:pt x="2620" y="853"/>
                  </a:lnTo>
                  <a:lnTo>
                    <a:pt x="2636" y="853"/>
                  </a:lnTo>
                  <a:lnTo>
                    <a:pt x="2616" y="855"/>
                  </a:lnTo>
                  <a:lnTo>
                    <a:pt x="2620" y="877"/>
                  </a:lnTo>
                  <a:lnTo>
                    <a:pt x="2522" y="1000"/>
                  </a:lnTo>
                  <a:lnTo>
                    <a:pt x="2502" y="1015"/>
                  </a:lnTo>
                  <a:lnTo>
                    <a:pt x="2498" y="1020"/>
                  </a:lnTo>
                  <a:lnTo>
                    <a:pt x="2483" y="1030"/>
                  </a:lnTo>
                  <a:lnTo>
                    <a:pt x="2479" y="1033"/>
                  </a:lnTo>
                  <a:lnTo>
                    <a:pt x="2450" y="1052"/>
                  </a:lnTo>
                  <a:lnTo>
                    <a:pt x="2446" y="1055"/>
                  </a:lnTo>
                  <a:lnTo>
                    <a:pt x="2434" y="1060"/>
                  </a:lnTo>
                  <a:lnTo>
                    <a:pt x="2413" y="1065"/>
                  </a:lnTo>
                  <a:lnTo>
                    <a:pt x="2394" y="1074"/>
                  </a:lnTo>
                  <a:lnTo>
                    <a:pt x="2385" y="1077"/>
                  </a:lnTo>
                  <a:lnTo>
                    <a:pt x="2357" y="1094"/>
                  </a:lnTo>
                  <a:lnTo>
                    <a:pt x="2345" y="1102"/>
                  </a:lnTo>
                  <a:lnTo>
                    <a:pt x="2317" y="1121"/>
                  </a:lnTo>
                  <a:lnTo>
                    <a:pt x="2293" y="1136"/>
                  </a:lnTo>
                  <a:lnTo>
                    <a:pt x="2276" y="1153"/>
                  </a:lnTo>
                  <a:lnTo>
                    <a:pt x="2272" y="1150"/>
                  </a:lnTo>
                  <a:lnTo>
                    <a:pt x="2264" y="1141"/>
                  </a:lnTo>
                  <a:lnTo>
                    <a:pt x="2260" y="1138"/>
                  </a:lnTo>
                  <a:lnTo>
                    <a:pt x="2256" y="1133"/>
                  </a:lnTo>
                  <a:lnTo>
                    <a:pt x="2256" y="1118"/>
                  </a:lnTo>
                  <a:lnTo>
                    <a:pt x="2252" y="1118"/>
                  </a:lnTo>
                  <a:lnTo>
                    <a:pt x="2252" y="1106"/>
                  </a:lnTo>
                  <a:lnTo>
                    <a:pt x="2252" y="1094"/>
                  </a:lnTo>
                  <a:lnTo>
                    <a:pt x="2252" y="1082"/>
                  </a:lnTo>
                  <a:lnTo>
                    <a:pt x="2252" y="1069"/>
                  </a:lnTo>
                  <a:lnTo>
                    <a:pt x="2252" y="1057"/>
                  </a:lnTo>
                  <a:lnTo>
                    <a:pt x="2252" y="1045"/>
                  </a:lnTo>
                  <a:lnTo>
                    <a:pt x="2252" y="1042"/>
                  </a:lnTo>
                  <a:lnTo>
                    <a:pt x="2256" y="1040"/>
                  </a:lnTo>
                  <a:lnTo>
                    <a:pt x="2264" y="1035"/>
                  </a:lnTo>
                  <a:lnTo>
                    <a:pt x="2276" y="1025"/>
                  </a:lnTo>
                  <a:lnTo>
                    <a:pt x="2288" y="1013"/>
                  </a:lnTo>
                  <a:lnTo>
                    <a:pt x="2353" y="991"/>
                  </a:lnTo>
                  <a:lnTo>
                    <a:pt x="2369" y="991"/>
                  </a:lnTo>
                  <a:lnTo>
                    <a:pt x="2402" y="991"/>
                  </a:lnTo>
                  <a:lnTo>
                    <a:pt x="2417" y="981"/>
                  </a:lnTo>
                  <a:lnTo>
                    <a:pt x="2434" y="969"/>
                  </a:lnTo>
                  <a:lnTo>
                    <a:pt x="2438" y="966"/>
                  </a:lnTo>
                  <a:lnTo>
                    <a:pt x="2450" y="959"/>
                  </a:lnTo>
                  <a:lnTo>
                    <a:pt x="2462" y="949"/>
                  </a:lnTo>
                  <a:lnTo>
                    <a:pt x="2470" y="944"/>
                  </a:lnTo>
                  <a:lnTo>
                    <a:pt x="2474" y="939"/>
                  </a:lnTo>
                  <a:lnTo>
                    <a:pt x="2490" y="929"/>
                  </a:lnTo>
                  <a:lnTo>
                    <a:pt x="2502" y="922"/>
                  </a:lnTo>
                  <a:lnTo>
                    <a:pt x="2506" y="920"/>
                  </a:lnTo>
                  <a:lnTo>
                    <a:pt x="2513" y="915"/>
                  </a:lnTo>
                  <a:close/>
                  <a:moveTo>
                    <a:pt x="0" y="3749"/>
                  </a:moveTo>
                  <a:lnTo>
                    <a:pt x="473" y="3749"/>
                  </a:lnTo>
                  <a:lnTo>
                    <a:pt x="473" y="3892"/>
                  </a:lnTo>
                  <a:lnTo>
                    <a:pt x="0" y="3892"/>
                  </a:lnTo>
                  <a:lnTo>
                    <a:pt x="0" y="3749"/>
                  </a:lnTo>
                  <a:close/>
                  <a:moveTo>
                    <a:pt x="1514" y="349"/>
                  </a:moveTo>
                  <a:lnTo>
                    <a:pt x="1506" y="342"/>
                  </a:lnTo>
                  <a:lnTo>
                    <a:pt x="1445" y="339"/>
                  </a:lnTo>
                  <a:lnTo>
                    <a:pt x="1437" y="327"/>
                  </a:lnTo>
                  <a:lnTo>
                    <a:pt x="1384" y="319"/>
                  </a:lnTo>
                  <a:lnTo>
                    <a:pt x="1332" y="339"/>
                  </a:lnTo>
                  <a:lnTo>
                    <a:pt x="1344" y="366"/>
                  </a:lnTo>
                  <a:lnTo>
                    <a:pt x="1320" y="383"/>
                  </a:lnTo>
                  <a:lnTo>
                    <a:pt x="1242" y="366"/>
                  </a:lnTo>
                  <a:lnTo>
                    <a:pt x="1190" y="359"/>
                  </a:lnTo>
                  <a:lnTo>
                    <a:pt x="1162" y="334"/>
                  </a:lnTo>
                  <a:lnTo>
                    <a:pt x="1093" y="322"/>
                  </a:lnTo>
                  <a:lnTo>
                    <a:pt x="1062" y="325"/>
                  </a:lnTo>
                  <a:lnTo>
                    <a:pt x="1029" y="317"/>
                  </a:lnTo>
                  <a:lnTo>
                    <a:pt x="1033" y="334"/>
                  </a:lnTo>
                  <a:lnTo>
                    <a:pt x="992" y="351"/>
                  </a:lnTo>
                  <a:lnTo>
                    <a:pt x="992" y="374"/>
                  </a:lnTo>
                  <a:lnTo>
                    <a:pt x="969" y="386"/>
                  </a:lnTo>
                  <a:lnTo>
                    <a:pt x="960" y="389"/>
                  </a:lnTo>
                  <a:lnTo>
                    <a:pt x="985" y="413"/>
                  </a:lnTo>
                  <a:lnTo>
                    <a:pt x="985" y="420"/>
                  </a:lnTo>
                  <a:lnTo>
                    <a:pt x="985" y="433"/>
                  </a:lnTo>
                  <a:lnTo>
                    <a:pt x="992" y="442"/>
                  </a:lnTo>
                  <a:lnTo>
                    <a:pt x="992" y="465"/>
                  </a:lnTo>
                  <a:lnTo>
                    <a:pt x="972" y="482"/>
                  </a:lnTo>
                  <a:lnTo>
                    <a:pt x="989" y="491"/>
                  </a:lnTo>
                  <a:lnTo>
                    <a:pt x="1001" y="501"/>
                  </a:lnTo>
                  <a:lnTo>
                    <a:pt x="1001" y="514"/>
                  </a:lnTo>
                  <a:lnTo>
                    <a:pt x="1008" y="519"/>
                  </a:lnTo>
                  <a:lnTo>
                    <a:pt x="1037" y="521"/>
                  </a:lnTo>
                  <a:lnTo>
                    <a:pt x="1058" y="526"/>
                  </a:lnTo>
                  <a:lnTo>
                    <a:pt x="1066" y="536"/>
                  </a:lnTo>
                  <a:lnTo>
                    <a:pt x="1077" y="546"/>
                  </a:lnTo>
                  <a:lnTo>
                    <a:pt x="1081" y="546"/>
                  </a:lnTo>
                  <a:lnTo>
                    <a:pt x="1102" y="548"/>
                  </a:lnTo>
                  <a:lnTo>
                    <a:pt x="1122" y="551"/>
                  </a:lnTo>
                  <a:lnTo>
                    <a:pt x="1126" y="551"/>
                  </a:lnTo>
                  <a:lnTo>
                    <a:pt x="1146" y="558"/>
                  </a:lnTo>
                  <a:lnTo>
                    <a:pt x="1166" y="566"/>
                  </a:lnTo>
                  <a:lnTo>
                    <a:pt x="1170" y="563"/>
                  </a:lnTo>
                  <a:lnTo>
                    <a:pt x="1187" y="558"/>
                  </a:lnTo>
                  <a:lnTo>
                    <a:pt x="1190" y="555"/>
                  </a:lnTo>
                  <a:lnTo>
                    <a:pt x="1206" y="551"/>
                  </a:lnTo>
                  <a:lnTo>
                    <a:pt x="1226" y="546"/>
                  </a:lnTo>
                  <a:lnTo>
                    <a:pt x="1235" y="548"/>
                  </a:lnTo>
                  <a:lnTo>
                    <a:pt x="1242" y="551"/>
                  </a:lnTo>
                  <a:lnTo>
                    <a:pt x="1259" y="553"/>
                  </a:lnTo>
                  <a:lnTo>
                    <a:pt x="1279" y="560"/>
                  </a:lnTo>
                  <a:lnTo>
                    <a:pt x="1296" y="563"/>
                  </a:lnTo>
                  <a:lnTo>
                    <a:pt x="1300" y="566"/>
                  </a:lnTo>
                  <a:lnTo>
                    <a:pt x="1324" y="573"/>
                  </a:lnTo>
                  <a:lnTo>
                    <a:pt x="1344" y="578"/>
                  </a:lnTo>
                  <a:lnTo>
                    <a:pt x="1348" y="580"/>
                  </a:lnTo>
                  <a:lnTo>
                    <a:pt x="1570" y="578"/>
                  </a:lnTo>
                  <a:lnTo>
                    <a:pt x="1566" y="566"/>
                  </a:lnTo>
                  <a:lnTo>
                    <a:pt x="1562" y="555"/>
                  </a:lnTo>
                  <a:lnTo>
                    <a:pt x="1562" y="543"/>
                  </a:lnTo>
                  <a:lnTo>
                    <a:pt x="1558" y="531"/>
                  </a:lnTo>
                  <a:lnTo>
                    <a:pt x="1554" y="519"/>
                  </a:lnTo>
                  <a:lnTo>
                    <a:pt x="1554" y="506"/>
                  </a:lnTo>
                  <a:lnTo>
                    <a:pt x="1549" y="494"/>
                  </a:lnTo>
                  <a:lnTo>
                    <a:pt x="1545" y="484"/>
                  </a:lnTo>
                  <a:lnTo>
                    <a:pt x="1542" y="472"/>
                  </a:lnTo>
                  <a:lnTo>
                    <a:pt x="1542" y="460"/>
                  </a:lnTo>
                  <a:lnTo>
                    <a:pt x="1538" y="447"/>
                  </a:lnTo>
                  <a:lnTo>
                    <a:pt x="1534" y="435"/>
                  </a:lnTo>
                  <a:lnTo>
                    <a:pt x="1530" y="423"/>
                  </a:lnTo>
                  <a:lnTo>
                    <a:pt x="1526" y="413"/>
                  </a:lnTo>
                  <a:lnTo>
                    <a:pt x="1526" y="405"/>
                  </a:lnTo>
                  <a:lnTo>
                    <a:pt x="1522" y="400"/>
                  </a:lnTo>
                  <a:lnTo>
                    <a:pt x="1509" y="386"/>
                  </a:lnTo>
                  <a:lnTo>
                    <a:pt x="1514" y="379"/>
                  </a:lnTo>
                  <a:lnTo>
                    <a:pt x="1514" y="374"/>
                  </a:lnTo>
                  <a:lnTo>
                    <a:pt x="1509" y="361"/>
                  </a:lnTo>
                  <a:lnTo>
                    <a:pt x="1514" y="349"/>
                  </a:lnTo>
                  <a:close/>
                </a:path>
              </a:pathLst>
            </a:custGeom>
            <a:solidFill>
              <a:srgbClr val="99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443680" y="1772640"/>
              <a:ext cx="220320" cy="94680"/>
            </a:xfrm>
            <a:custGeom>
              <a:avLst/>
              <a:gdLst/>
              <a:ahLst/>
              <a:rect l="l" t="t" r="r" b="b"/>
              <a:pathLst>
                <a:path w="611" h="264">
                  <a:moveTo>
                    <a:pt x="554" y="32"/>
                  </a:moveTo>
                  <a:lnTo>
                    <a:pt x="546" y="25"/>
                  </a:lnTo>
                  <a:lnTo>
                    <a:pt x="485" y="22"/>
                  </a:lnTo>
                  <a:lnTo>
                    <a:pt x="477" y="10"/>
                  </a:lnTo>
                  <a:lnTo>
                    <a:pt x="424" y="2"/>
                  </a:lnTo>
                  <a:lnTo>
                    <a:pt x="372" y="22"/>
                  </a:lnTo>
                  <a:lnTo>
                    <a:pt x="384" y="49"/>
                  </a:lnTo>
                  <a:lnTo>
                    <a:pt x="360" y="66"/>
                  </a:lnTo>
                  <a:lnTo>
                    <a:pt x="282" y="49"/>
                  </a:lnTo>
                  <a:lnTo>
                    <a:pt x="230" y="42"/>
                  </a:lnTo>
                  <a:lnTo>
                    <a:pt x="202" y="17"/>
                  </a:lnTo>
                  <a:lnTo>
                    <a:pt x="133" y="5"/>
                  </a:lnTo>
                  <a:lnTo>
                    <a:pt x="102" y="8"/>
                  </a:lnTo>
                  <a:lnTo>
                    <a:pt x="69" y="0"/>
                  </a:lnTo>
                  <a:lnTo>
                    <a:pt x="73" y="17"/>
                  </a:lnTo>
                  <a:lnTo>
                    <a:pt x="32" y="34"/>
                  </a:lnTo>
                  <a:lnTo>
                    <a:pt x="32" y="57"/>
                  </a:lnTo>
                  <a:lnTo>
                    <a:pt x="9" y="69"/>
                  </a:lnTo>
                  <a:lnTo>
                    <a:pt x="0" y="72"/>
                  </a:lnTo>
                  <a:lnTo>
                    <a:pt x="25" y="96"/>
                  </a:lnTo>
                  <a:lnTo>
                    <a:pt x="25" y="103"/>
                  </a:lnTo>
                  <a:lnTo>
                    <a:pt x="25" y="116"/>
                  </a:lnTo>
                  <a:lnTo>
                    <a:pt x="32" y="125"/>
                  </a:lnTo>
                  <a:lnTo>
                    <a:pt x="32" y="148"/>
                  </a:lnTo>
                  <a:lnTo>
                    <a:pt x="12" y="165"/>
                  </a:lnTo>
                  <a:lnTo>
                    <a:pt x="29" y="174"/>
                  </a:lnTo>
                  <a:lnTo>
                    <a:pt x="41" y="184"/>
                  </a:lnTo>
                  <a:lnTo>
                    <a:pt x="41" y="197"/>
                  </a:lnTo>
                  <a:lnTo>
                    <a:pt x="48" y="202"/>
                  </a:lnTo>
                  <a:lnTo>
                    <a:pt x="77" y="204"/>
                  </a:lnTo>
                  <a:lnTo>
                    <a:pt x="98" y="209"/>
                  </a:lnTo>
                  <a:lnTo>
                    <a:pt x="106" y="219"/>
                  </a:lnTo>
                  <a:lnTo>
                    <a:pt x="117" y="229"/>
                  </a:lnTo>
                  <a:lnTo>
                    <a:pt x="121" y="229"/>
                  </a:lnTo>
                  <a:lnTo>
                    <a:pt x="142" y="231"/>
                  </a:lnTo>
                  <a:lnTo>
                    <a:pt x="162" y="234"/>
                  </a:lnTo>
                  <a:lnTo>
                    <a:pt x="166" y="234"/>
                  </a:lnTo>
                  <a:lnTo>
                    <a:pt x="186" y="241"/>
                  </a:lnTo>
                  <a:lnTo>
                    <a:pt x="206" y="249"/>
                  </a:lnTo>
                  <a:lnTo>
                    <a:pt x="210" y="246"/>
                  </a:lnTo>
                  <a:lnTo>
                    <a:pt x="227" y="241"/>
                  </a:lnTo>
                  <a:lnTo>
                    <a:pt x="230" y="238"/>
                  </a:lnTo>
                  <a:lnTo>
                    <a:pt x="246" y="234"/>
                  </a:lnTo>
                  <a:lnTo>
                    <a:pt x="266" y="229"/>
                  </a:lnTo>
                  <a:lnTo>
                    <a:pt x="275" y="231"/>
                  </a:lnTo>
                  <a:lnTo>
                    <a:pt x="282" y="234"/>
                  </a:lnTo>
                  <a:lnTo>
                    <a:pt x="299" y="236"/>
                  </a:lnTo>
                  <a:lnTo>
                    <a:pt x="319" y="243"/>
                  </a:lnTo>
                  <a:lnTo>
                    <a:pt x="336" y="246"/>
                  </a:lnTo>
                  <a:lnTo>
                    <a:pt x="340" y="249"/>
                  </a:lnTo>
                  <a:lnTo>
                    <a:pt x="364" y="256"/>
                  </a:lnTo>
                  <a:lnTo>
                    <a:pt x="384" y="261"/>
                  </a:lnTo>
                  <a:lnTo>
                    <a:pt x="388" y="263"/>
                  </a:lnTo>
                  <a:lnTo>
                    <a:pt x="610" y="261"/>
                  </a:lnTo>
                  <a:lnTo>
                    <a:pt x="606" y="249"/>
                  </a:lnTo>
                  <a:lnTo>
                    <a:pt x="602" y="238"/>
                  </a:lnTo>
                  <a:lnTo>
                    <a:pt x="602" y="226"/>
                  </a:lnTo>
                  <a:lnTo>
                    <a:pt x="598" y="214"/>
                  </a:lnTo>
                  <a:lnTo>
                    <a:pt x="594" y="202"/>
                  </a:lnTo>
                  <a:lnTo>
                    <a:pt x="594" y="189"/>
                  </a:lnTo>
                  <a:lnTo>
                    <a:pt x="589" y="177"/>
                  </a:lnTo>
                  <a:lnTo>
                    <a:pt x="585" y="167"/>
                  </a:lnTo>
                  <a:lnTo>
                    <a:pt x="582" y="155"/>
                  </a:lnTo>
                  <a:lnTo>
                    <a:pt x="582" y="143"/>
                  </a:lnTo>
                  <a:lnTo>
                    <a:pt x="578" y="130"/>
                  </a:lnTo>
                  <a:lnTo>
                    <a:pt x="574" y="118"/>
                  </a:lnTo>
                  <a:lnTo>
                    <a:pt x="570" y="106"/>
                  </a:lnTo>
                  <a:lnTo>
                    <a:pt x="566" y="96"/>
                  </a:lnTo>
                  <a:lnTo>
                    <a:pt x="566" y="88"/>
                  </a:lnTo>
                  <a:lnTo>
                    <a:pt x="562" y="83"/>
                  </a:lnTo>
                  <a:lnTo>
                    <a:pt x="549" y="69"/>
                  </a:lnTo>
                  <a:lnTo>
                    <a:pt x="554" y="62"/>
                  </a:lnTo>
                  <a:lnTo>
                    <a:pt x="554" y="57"/>
                  </a:lnTo>
                  <a:lnTo>
                    <a:pt x="549" y="44"/>
                  </a:lnTo>
                  <a:lnTo>
                    <a:pt x="554" y="3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397600" y="1658520"/>
              <a:ext cx="142560" cy="74160"/>
            </a:xfrm>
            <a:custGeom>
              <a:avLst/>
              <a:gdLst/>
              <a:ahLst/>
              <a:rect l="l" t="t" r="r" b="b"/>
              <a:pathLst>
                <a:path w="399" h="207">
                  <a:moveTo>
                    <a:pt x="213" y="32"/>
                  </a:moveTo>
                  <a:lnTo>
                    <a:pt x="205" y="29"/>
                  </a:lnTo>
                  <a:lnTo>
                    <a:pt x="169" y="37"/>
                  </a:lnTo>
                  <a:lnTo>
                    <a:pt x="181" y="47"/>
                  </a:lnTo>
                  <a:lnTo>
                    <a:pt x="173" y="54"/>
                  </a:lnTo>
                  <a:lnTo>
                    <a:pt x="181" y="63"/>
                  </a:lnTo>
                  <a:lnTo>
                    <a:pt x="221" y="78"/>
                  </a:lnTo>
                  <a:lnTo>
                    <a:pt x="237" y="98"/>
                  </a:lnTo>
                  <a:lnTo>
                    <a:pt x="266" y="113"/>
                  </a:lnTo>
                  <a:lnTo>
                    <a:pt x="311" y="115"/>
                  </a:lnTo>
                  <a:lnTo>
                    <a:pt x="306" y="125"/>
                  </a:lnTo>
                  <a:lnTo>
                    <a:pt x="379" y="142"/>
                  </a:lnTo>
                  <a:lnTo>
                    <a:pt x="398" y="155"/>
                  </a:lnTo>
                  <a:lnTo>
                    <a:pt x="394" y="162"/>
                  </a:lnTo>
                  <a:lnTo>
                    <a:pt x="346" y="148"/>
                  </a:lnTo>
                  <a:lnTo>
                    <a:pt x="334" y="157"/>
                  </a:lnTo>
                  <a:lnTo>
                    <a:pt x="334" y="167"/>
                  </a:lnTo>
                  <a:lnTo>
                    <a:pt x="358" y="172"/>
                  </a:lnTo>
                  <a:lnTo>
                    <a:pt x="362" y="182"/>
                  </a:lnTo>
                  <a:lnTo>
                    <a:pt x="342" y="187"/>
                  </a:lnTo>
                  <a:lnTo>
                    <a:pt x="330" y="206"/>
                  </a:lnTo>
                  <a:lnTo>
                    <a:pt x="318" y="204"/>
                  </a:lnTo>
                  <a:lnTo>
                    <a:pt x="330" y="184"/>
                  </a:lnTo>
                  <a:lnTo>
                    <a:pt x="306" y="157"/>
                  </a:lnTo>
                  <a:lnTo>
                    <a:pt x="294" y="157"/>
                  </a:lnTo>
                  <a:lnTo>
                    <a:pt x="273" y="145"/>
                  </a:lnTo>
                  <a:lnTo>
                    <a:pt x="249" y="140"/>
                  </a:lnTo>
                  <a:lnTo>
                    <a:pt x="237" y="130"/>
                  </a:lnTo>
                  <a:lnTo>
                    <a:pt x="213" y="133"/>
                  </a:lnTo>
                  <a:lnTo>
                    <a:pt x="165" y="108"/>
                  </a:lnTo>
                  <a:lnTo>
                    <a:pt x="149" y="105"/>
                  </a:lnTo>
                  <a:lnTo>
                    <a:pt x="128" y="94"/>
                  </a:lnTo>
                  <a:lnTo>
                    <a:pt x="108" y="68"/>
                  </a:lnTo>
                  <a:lnTo>
                    <a:pt x="68" y="59"/>
                  </a:lnTo>
                  <a:lnTo>
                    <a:pt x="32" y="74"/>
                  </a:lnTo>
                  <a:lnTo>
                    <a:pt x="36" y="66"/>
                  </a:lnTo>
                  <a:lnTo>
                    <a:pt x="11" y="63"/>
                  </a:lnTo>
                  <a:lnTo>
                    <a:pt x="11" y="52"/>
                  </a:lnTo>
                  <a:lnTo>
                    <a:pt x="0" y="44"/>
                  </a:lnTo>
                  <a:lnTo>
                    <a:pt x="15" y="42"/>
                  </a:lnTo>
                  <a:lnTo>
                    <a:pt x="3" y="29"/>
                  </a:lnTo>
                  <a:lnTo>
                    <a:pt x="7" y="27"/>
                  </a:lnTo>
                  <a:lnTo>
                    <a:pt x="36" y="27"/>
                  </a:lnTo>
                  <a:lnTo>
                    <a:pt x="48" y="14"/>
                  </a:lnTo>
                  <a:lnTo>
                    <a:pt x="72" y="27"/>
                  </a:lnTo>
                  <a:lnTo>
                    <a:pt x="77" y="14"/>
                  </a:lnTo>
                  <a:lnTo>
                    <a:pt x="100" y="19"/>
                  </a:lnTo>
                  <a:lnTo>
                    <a:pt x="100" y="9"/>
                  </a:lnTo>
                  <a:lnTo>
                    <a:pt x="108" y="12"/>
                  </a:lnTo>
                  <a:lnTo>
                    <a:pt x="108" y="5"/>
                  </a:lnTo>
                  <a:lnTo>
                    <a:pt x="157" y="0"/>
                  </a:lnTo>
                  <a:lnTo>
                    <a:pt x="205" y="12"/>
                  </a:lnTo>
                  <a:lnTo>
                    <a:pt x="197" y="17"/>
                  </a:lnTo>
                  <a:lnTo>
                    <a:pt x="201" y="24"/>
                  </a:lnTo>
                  <a:lnTo>
                    <a:pt x="213" y="3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472120" y="1729800"/>
              <a:ext cx="37800" cy="13680"/>
            </a:xfrm>
            <a:custGeom>
              <a:avLst/>
              <a:gdLst/>
              <a:ahLst/>
              <a:rect l="l" t="t" r="r" b="b"/>
              <a:pathLst>
                <a:path w="105" h="38">
                  <a:moveTo>
                    <a:pt x="104" y="0"/>
                  </a:moveTo>
                  <a:lnTo>
                    <a:pt x="104" y="0"/>
                  </a:lnTo>
                  <a:lnTo>
                    <a:pt x="92" y="17"/>
                  </a:lnTo>
                  <a:lnTo>
                    <a:pt x="101" y="30"/>
                  </a:lnTo>
                  <a:lnTo>
                    <a:pt x="96" y="37"/>
                  </a:lnTo>
                  <a:lnTo>
                    <a:pt x="0" y="12"/>
                  </a:lnTo>
                  <a:lnTo>
                    <a:pt x="8" y="2"/>
                  </a:lnTo>
                  <a:lnTo>
                    <a:pt x="27" y="2"/>
                  </a:lnTo>
                  <a:lnTo>
                    <a:pt x="44" y="7"/>
                  </a:lnTo>
                  <a:lnTo>
                    <a:pt x="10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418120" y="1706040"/>
              <a:ext cx="20520" cy="18720"/>
            </a:xfrm>
            <a:custGeom>
              <a:avLst/>
              <a:gdLst/>
              <a:ahLst/>
              <a:rect l="l" t="t" r="r" b="b"/>
              <a:pathLst>
                <a:path w="58" h="55">
                  <a:moveTo>
                    <a:pt x="32" y="0"/>
                  </a:moveTo>
                  <a:lnTo>
                    <a:pt x="32" y="0"/>
                  </a:lnTo>
                  <a:lnTo>
                    <a:pt x="57" y="15"/>
                  </a:lnTo>
                  <a:lnTo>
                    <a:pt x="52" y="44"/>
                  </a:lnTo>
                  <a:lnTo>
                    <a:pt x="48" y="49"/>
                  </a:lnTo>
                  <a:lnTo>
                    <a:pt x="32" y="44"/>
                  </a:lnTo>
                  <a:lnTo>
                    <a:pt x="28" y="54"/>
                  </a:lnTo>
                  <a:lnTo>
                    <a:pt x="12" y="49"/>
                  </a:lnTo>
                  <a:lnTo>
                    <a:pt x="17" y="31"/>
                  </a:lnTo>
                  <a:lnTo>
                    <a:pt x="0" y="12"/>
                  </a:lnTo>
                  <a:lnTo>
                    <a:pt x="0" y="5"/>
                  </a:lnTo>
                  <a:lnTo>
                    <a:pt x="3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830680" y="1899360"/>
              <a:ext cx="96480" cy="48960"/>
            </a:xfrm>
            <a:custGeom>
              <a:avLst/>
              <a:gdLst/>
              <a:ahLst/>
              <a:rect l="l" t="t" r="r" b="b"/>
              <a:pathLst>
                <a:path w="268" h="137">
                  <a:moveTo>
                    <a:pt x="267" y="128"/>
                  </a:moveTo>
                  <a:lnTo>
                    <a:pt x="182" y="81"/>
                  </a:lnTo>
                  <a:lnTo>
                    <a:pt x="141" y="74"/>
                  </a:lnTo>
                  <a:lnTo>
                    <a:pt x="130" y="61"/>
                  </a:lnTo>
                  <a:lnTo>
                    <a:pt x="126" y="71"/>
                  </a:lnTo>
                  <a:lnTo>
                    <a:pt x="64" y="0"/>
                  </a:lnTo>
                  <a:lnTo>
                    <a:pt x="56" y="12"/>
                  </a:lnTo>
                  <a:lnTo>
                    <a:pt x="28" y="17"/>
                  </a:lnTo>
                  <a:lnTo>
                    <a:pt x="8" y="22"/>
                  </a:lnTo>
                  <a:lnTo>
                    <a:pt x="12" y="42"/>
                  </a:lnTo>
                  <a:lnTo>
                    <a:pt x="0" y="69"/>
                  </a:lnTo>
                  <a:lnTo>
                    <a:pt x="5" y="81"/>
                  </a:lnTo>
                  <a:lnTo>
                    <a:pt x="5" y="89"/>
                  </a:lnTo>
                  <a:lnTo>
                    <a:pt x="8" y="91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33" y="86"/>
                  </a:lnTo>
                  <a:lnTo>
                    <a:pt x="37" y="89"/>
                  </a:lnTo>
                  <a:lnTo>
                    <a:pt x="41" y="91"/>
                  </a:lnTo>
                  <a:lnTo>
                    <a:pt x="45" y="94"/>
                  </a:lnTo>
                  <a:lnTo>
                    <a:pt x="45" y="94"/>
                  </a:lnTo>
                  <a:lnTo>
                    <a:pt x="45" y="96"/>
                  </a:lnTo>
                  <a:lnTo>
                    <a:pt x="53" y="89"/>
                  </a:lnTo>
                  <a:lnTo>
                    <a:pt x="53" y="84"/>
                  </a:lnTo>
                  <a:lnTo>
                    <a:pt x="56" y="81"/>
                  </a:lnTo>
                  <a:lnTo>
                    <a:pt x="56" y="79"/>
                  </a:lnTo>
                  <a:lnTo>
                    <a:pt x="73" y="81"/>
                  </a:lnTo>
                  <a:lnTo>
                    <a:pt x="77" y="84"/>
                  </a:lnTo>
                  <a:lnTo>
                    <a:pt x="77" y="86"/>
                  </a:lnTo>
                  <a:lnTo>
                    <a:pt x="81" y="89"/>
                  </a:lnTo>
                  <a:lnTo>
                    <a:pt x="101" y="84"/>
                  </a:lnTo>
                  <a:lnTo>
                    <a:pt x="101" y="81"/>
                  </a:lnTo>
                  <a:lnTo>
                    <a:pt x="109" y="84"/>
                  </a:lnTo>
                  <a:lnTo>
                    <a:pt x="109" y="86"/>
                  </a:lnTo>
                  <a:lnTo>
                    <a:pt x="122" y="84"/>
                  </a:lnTo>
                  <a:lnTo>
                    <a:pt x="130" y="86"/>
                  </a:lnTo>
                  <a:lnTo>
                    <a:pt x="141" y="86"/>
                  </a:lnTo>
                  <a:lnTo>
                    <a:pt x="166" y="91"/>
                  </a:lnTo>
                  <a:lnTo>
                    <a:pt x="178" y="99"/>
                  </a:lnTo>
                  <a:lnTo>
                    <a:pt x="186" y="101"/>
                  </a:lnTo>
                  <a:lnTo>
                    <a:pt x="202" y="110"/>
                  </a:lnTo>
                  <a:lnTo>
                    <a:pt x="218" y="121"/>
                  </a:lnTo>
                  <a:lnTo>
                    <a:pt x="234" y="130"/>
                  </a:lnTo>
                  <a:lnTo>
                    <a:pt x="242" y="136"/>
                  </a:lnTo>
                  <a:lnTo>
                    <a:pt x="242" y="133"/>
                  </a:lnTo>
                  <a:lnTo>
                    <a:pt x="267" y="12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908440" y="1951920"/>
              <a:ext cx="137880" cy="122040"/>
            </a:xfrm>
            <a:custGeom>
              <a:avLst/>
              <a:gdLst/>
              <a:ahLst/>
              <a:rect l="l" t="t" r="r" b="b"/>
              <a:pathLst>
                <a:path w="385" h="340">
                  <a:moveTo>
                    <a:pt x="261" y="101"/>
                  </a:moveTo>
                  <a:lnTo>
                    <a:pt x="291" y="15"/>
                  </a:lnTo>
                  <a:lnTo>
                    <a:pt x="326" y="12"/>
                  </a:lnTo>
                  <a:lnTo>
                    <a:pt x="351" y="0"/>
                  </a:lnTo>
                  <a:lnTo>
                    <a:pt x="372" y="5"/>
                  </a:lnTo>
                  <a:lnTo>
                    <a:pt x="368" y="39"/>
                  </a:lnTo>
                  <a:lnTo>
                    <a:pt x="384" y="39"/>
                  </a:lnTo>
                  <a:lnTo>
                    <a:pt x="364" y="41"/>
                  </a:lnTo>
                  <a:lnTo>
                    <a:pt x="368" y="63"/>
                  </a:lnTo>
                  <a:lnTo>
                    <a:pt x="270" y="186"/>
                  </a:lnTo>
                  <a:lnTo>
                    <a:pt x="250" y="201"/>
                  </a:lnTo>
                  <a:lnTo>
                    <a:pt x="246" y="206"/>
                  </a:lnTo>
                  <a:lnTo>
                    <a:pt x="231" y="216"/>
                  </a:lnTo>
                  <a:lnTo>
                    <a:pt x="227" y="219"/>
                  </a:lnTo>
                  <a:lnTo>
                    <a:pt x="198" y="238"/>
                  </a:lnTo>
                  <a:lnTo>
                    <a:pt x="194" y="241"/>
                  </a:lnTo>
                  <a:lnTo>
                    <a:pt x="182" y="246"/>
                  </a:lnTo>
                  <a:lnTo>
                    <a:pt x="161" y="251"/>
                  </a:lnTo>
                  <a:lnTo>
                    <a:pt x="142" y="260"/>
                  </a:lnTo>
                  <a:lnTo>
                    <a:pt x="133" y="263"/>
                  </a:lnTo>
                  <a:lnTo>
                    <a:pt x="105" y="280"/>
                  </a:lnTo>
                  <a:lnTo>
                    <a:pt x="93" y="288"/>
                  </a:lnTo>
                  <a:lnTo>
                    <a:pt x="65" y="307"/>
                  </a:lnTo>
                  <a:lnTo>
                    <a:pt x="41" y="322"/>
                  </a:lnTo>
                  <a:lnTo>
                    <a:pt x="24" y="339"/>
                  </a:lnTo>
                  <a:lnTo>
                    <a:pt x="20" y="336"/>
                  </a:lnTo>
                  <a:lnTo>
                    <a:pt x="12" y="327"/>
                  </a:lnTo>
                  <a:lnTo>
                    <a:pt x="8" y="324"/>
                  </a:lnTo>
                  <a:lnTo>
                    <a:pt x="4" y="319"/>
                  </a:lnTo>
                  <a:lnTo>
                    <a:pt x="4" y="304"/>
                  </a:lnTo>
                  <a:lnTo>
                    <a:pt x="0" y="304"/>
                  </a:lnTo>
                  <a:lnTo>
                    <a:pt x="0" y="292"/>
                  </a:lnTo>
                  <a:lnTo>
                    <a:pt x="0" y="280"/>
                  </a:lnTo>
                  <a:lnTo>
                    <a:pt x="0" y="268"/>
                  </a:lnTo>
                  <a:lnTo>
                    <a:pt x="0" y="255"/>
                  </a:lnTo>
                  <a:lnTo>
                    <a:pt x="0" y="243"/>
                  </a:lnTo>
                  <a:lnTo>
                    <a:pt x="0" y="231"/>
                  </a:lnTo>
                  <a:lnTo>
                    <a:pt x="0" y="228"/>
                  </a:lnTo>
                  <a:lnTo>
                    <a:pt x="4" y="226"/>
                  </a:lnTo>
                  <a:lnTo>
                    <a:pt x="12" y="221"/>
                  </a:lnTo>
                  <a:lnTo>
                    <a:pt x="12" y="221"/>
                  </a:lnTo>
                  <a:lnTo>
                    <a:pt x="24" y="211"/>
                  </a:lnTo>
                  <a:lnTo>
                    <a:pt x="36" y="199"/>
                  </a:lnTo>
                  <a:lnTo>
                    <a:pt x="101" y="177"/>
                  </a:lnTo>
                  <a:lnTo>
                    <a:pt x="117" y="177"/>
                  </a:lnTo>
                  <a:lnTo>
                    <a:pt x="150" y="177"/>
                  </a:lnTo>
                  <a:lnTo>
                    <a:pt x="165" y="167"/>
                  </a:lnTo>
                  <a:lnTo>
                    <a:pt x="182" y="155"/>
                  </a:lnTo>
                  <a:lnTo>
                    <a:pt x="186" y="152"/>
                  </a:lnTo>
                  <a:lnTo>
                    <a:pt x="198" y="145"/>
                  </a:lnTo>
                  <a:lnTo>
                    <a:pt x="210" y="135"/>
                  </a:lnTo>
                  <a:lnTo>
                    <a:pt x="218" y="130"/>
                  </a:lnTo>
                  <a:lnTo>
                    <a:pt x="222" y="125"/>
                  </a:lnTo>
                  <a:lnTo>
                    <a:pt x="238" y="115"/>
                  </a:lnTo>
                  <a:lnTo>
                    <a:pt x="250" y="108"/>
                  </a:lnTo>
                  <a:lnTo>
                    <a:pt x="254" y="106"/>
                  </a:lnTo>
                  <a:lnTo>
                    <a:pt x="261" y="10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097720" y="3006720"/>
              <a:ext cx="169200" cy="52200"/>
            </a:xfrm>
            <a:custGeom>
              <a:avLst/>
              <a:gdLst/>
              <a:ahLst/>
              <a:rect l="l" t="t" r="r" b="b"/>
              <a:pathLst>
                <a:path w="474" h="144">
                  <a:moveTo>
                    <a:pt x="0" y="0"/>
                  </a:moveTo>
                  <a:lnTo>
                    <a:pt x="473" y="0"/>
                  </a:lnTo>
                  <a:lnTo>
                    <a:pt x="473" y="143"/>
                  </a:lnTo>
                  <a:lnTo>
                    <a:pt x="0" y="14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93320" y="2959200"/>
              <a:ext cx="34560" cy="2196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0" y="59"/>
                  </a:moveTo>
                  <a:lnTo>
                    <a:pt x="97" y="0"/>
                  </a:lnTo>
                  <a:lnTo>
                    <a:pt x="0" y="5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32840" y="2928960"/>
              <a:ext cx="85680" cy="52200"/>
            </a:xfrm>
            <a:custGeom>
              <a:avLst/>
              <a:gdLst/>
              <a:ahLst/>
              <a:rect l="l" t="t" r="r" b="b"/>
              <a:pathLst>
                <a:path w="236" h="145">
                  <a:moveTo>
                    <a:pt x="0" y="144"/>
                  </a:moveTo>
                  <a:lnTo>
                    <a:pt x="235" y="0"/>
                  </a:lnTo>
                  <a:lnTo>
                    <a:pt x="0" y="14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2720" y="2928960"/>
              <a:ext cx="85320" cy="52200"/>
            </a:xfrm>
            <a:custGeom>
              <a:avLst/>
              <a:gdLst/>
              <a:ahLst/>
              <a:rect l="l" t="t" r="r" b="b"/>
              <a:pathLst>
                <a:path w="237" h="145">
                  <a:moveTo>
                    <a:pt x="0" y="144"/>
                  </a:moveTo>
                  <a:lnTo>
                    <a:pt x="236" y="0"/>
                  </a:lnTo>
                  <a:lnTo>
                    <a:pt x="0" y="14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8320" y="2928960"/>
              <a:ext cx="39240" cy="25200"/>
            </a:xfrm>
            <a:custGeom>
              <a:avLst/>
              <a:gdLst/>
              <a:ahLst/>
              <a:rect l="l" t="t" r="r" b="b"/>
              <a:pathLst>
                <a:path w="112" h="69">
                  <a:moveTo>
                    <a:pt x="0" y="68"/>
                  </a:moveTo>
                  <a:lnTo>
                    <a:pt x="111" y="0"/>
                  </a:lnTo>
                  <a:lnTo>
                    <a:pt x="0" y="6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088000" y="1698120"/>
              <a:ext cx="807840" cy="1283400"/>
            </a:xfrm>
            <a:custGeom>
              <a:avLst/>
              <a:gdLst/>
              <a:ahLst/>
              <a:rect l="l" t="t" r="r" b="b"/>
              <a:pathLst>
                <a:path w="2246" h="3568">
                  <a:moveTo>
                    <a:pt x="1853" y="1655"/>
                  </a:moveTo>
                  <a:lnTo>
                    <a:pt x="1862" y="1636"/>
                  </a:lnTo>
                  <a:lnTo>
                    <a:pt x="1853" y="1640"/>
                  </a:lnTo>
                  <a:lnTo>
                    <a:pt x="1846" y="1633"/>
                  </a:lnTo>
                  <a:lnTo>
                    <a:pt x="1858" y="1626"/>
                  </a:lnTo>
                  <a:lnTo>
                    <a:pt x="1897" y="1614"/>
                  </a:lnTo>
                  <a:lnTo>
                    <a:pt x="1906" y="1611"/>
                  </a:lnTo>
                  <a:lnTo>
                    <a:pt x="1926" y="1609"/>
                  </a:lnTo>
                  <a:lnTo>
                    <a:pt x="1938" y="1606"/>
                  </a:lnTo>
                  <a:lnTo>
                    <a:pt x="1951" y="1603"/>
                  </a:lnTo>
                  <a:lnTo>
                    <a:pt x="1970" y="1589"/>
                  </a:lnTo>
                  <a:lnTo>
                    <a:pt x="1974" y="1581"/>
                  </a:lnTo>
                  <a:lnTo>
                    <a:pt x="1987" y="1544"/>
                  </a:lnTo>
                  <a:lnTo>
                    <a:pt x="1978" y="1552"/>
                  </a:lnTo>
                  <a:lnTo>
                    <a:pt x="1978" y="1544"/>
                  </a:lnTo>
                  <a:lnTo>
                    <a:pt x="1978" y="1513"/>
                  </a:lnTo>
                  <a:lnTo>
                    <a:pt x="1962" y="1503"/>
                  </a:lnTo>
                  <a:lnTo>
                    <a:pt x="1974" y="1488"/>
                  </a:lnTo>
                  <a:lnTo>
                    <a:pt x="1966" y="1481"/>
                  </a:lnTo>
                  <a:lnTo>
                    <a:pt x="1974" y="1488"/>
                  </a:lnTo>
                  <a:lnTo>
                    <a:pt x="1990" y="1481"/>
                  </a:lnTo>
                  <a:lnTo>
                    <a:pt x="2019" y="1466"/>
                  </a:lnTo>
                  <a:lnTo>
                    <a:pt x="2032" y="1464"/>
                  </a:lnTo>
                  <a:lnTo>
                    <a:pt x="2035" y="1466"/>
                  </a:lnTo>
                  <a:lnTo>
                    <a:pt x="2039" y="1464"/>
                  </a:lnTo>
                  <a:lnTo>
                    <a:pt x="2068" y="1444"/>
                  </a:lnTo>
                  <a:lnTo>
                    <a:pt x="2063" y="1441"/>
                  </a:lnTo>
                  <a:lnTo>
                    <a:pt x="2116" y="1424"/>
                  </a:lnTo>
                  <a:lnTo>
                    <a:pt x="2185" y="1407"/>
                  </a:lnTo>
                  <a:lnTo>
                    <a:pt x="2225" y="1377"/>
                  </a:lnTo>
                  <a:lnTo>
                    <a:pt x="2220" y="1375"/>
                  </a:lnTo>
                  <a:lnTo>
                    <a:pt x="2232" y="1365"/>
                  </a:lnTo>
                  <a:lnTo>
                    <a:pt x="2232" y="1358"/>
                  </a:lnTo>
                  <a:lnTo>
                    <a:pt x="2225" y="1360"/>
                  </a:lnTo>
                  <a:lnTo>
                    <a:pt x="2225" y="1350"/>
                  </a:lnTo>
                  <a:lnTo>
                    <a:pt x="2232" y="1321"/>
                  </a:lnTo>
                  <a:lnTo>
                    <a:pt x="2225" y="1321"/>
                  </a:lnTo>
                  <a:lnTo>
                    <a:pt x="2237" y="1316"/>
                  </a:lnTo>
                  <a:lnTo>
                    <a:pt x="2229" y="1281"/>
                  </a:lnTo>
                  <a:lnTo>
                    <a:pt x="2245" y="1264"/>
                  </a:lnTo>
                  <a:lnTo>
                    <a:pt x="2237" y="1259"/>
                  </a:lnTo>
                  <a:lnTo>
                    <a:pt x="2189" y="1277"/>
                  </a:lnTo>
                  <a:lnTo>
                    <a:pt x="2136" y="1279"/>
                  </a:lnTo>
                  <a:lnTo>
                    <a:pt x="2131" y="1287"/>
                  </a:lnTo>
                  <a:lnTo>
                    <a:pt x="2083" y="1292"/>
                  </a:lnTo>
                  <a:lnTo>
                    <a:pt x="2019" y="1287"/>
                  </a:lnTo>
                  <a:lnTo>
                    <a:pt x="2007" y="1287"/>
                  </a:lnTo>
                  <a:lnTo>
                    <a:pt x="1994" y="1301"/>
                  </a:lnTo>
                  <a:lnTo>
                    <a:pt x="1998" y="1328"/>
                  </a:lnTo>
                  <a:lnTo>
                    <a:pt x="2010" y="1333"/>
                  </a:lnTo>
                  <a:lnTo>
                    <a:pt x="2019" y="1338"/>
                  </a:lnTo>
                  <a:lnTo>
                    <a:pt x="2043" y="1368"/>
                  </a:lnTo>
                  <a:lnTo>
                    <a:pt x="2035" y="1395"/>
                  </a:lnTo>
                  <a:lnTo>
                    <a:pt x="2007" y="1407"/>
                  </a:lnTo>
                  <a:lnTo>
                    <a:pt x="2007" y="1422"/>
                  </a:lnTo>
                  <a:lnTo>
                    <a:pt x="2003" y="1414"/>
                  </a:lnTo>
                  <a:lnTo>
                    <a:pt x="1974" y="1392"/>
                  </a:lnTo>
                  <a:lnTo>
                    <a:pt x="1990" y="1375"/>
                  </a:lnTo>
                  <a:lnTo>
                    <a:pt x="1990" y="1360"/>
                  </a:lnTo>
                  <a:lnTo>
                    <a:pt x="1959" y="1358"/>
                  </a:lnTo>
                  <a:lnTo>
                    <a:pt x="1942" y="1345"/>
                  </a:lnTo>
                  <a:lnTo>
                    <a:pt x="1926" y="1348"/>
                  </a:lnTo>
                  <a:lnTo>
                    <a:pt x="1909" y="1353"/>
                  </a:lnTo>
                  <a:lnTo>
                    <a:pt x="1849" y="1363"/>
                  </a:lnTo>
                  <a:lnTo>
                    <a:pt x="1837" y="1365"/>
                  </a:lnTo>
                  <a:lnTo>
                    <a:pt x="1825" y="1368"/>
                  </a:lnTo>
                  <a:lnTo>
                    <a:pt x="1829" y="1385"/>
                  </a:lnTo>
                  <a:lnTo>
                    <a:pt x="1829" y="1392"/>
                  </a:lnTo>
                  <a:lnTo>
                    <a:pt x="1849" y="1392"/>
                  </a:lnTo>
                  <a:lnTo>
                    <a:pt x="1862" y="1395"/>
                  </a:lnTo>
                  <a:lnTo>
                    <a:pt x="1922" y="1412"/>
                  </a:lnTo>
                  <a:lnTo>
                    <a:pt x="1918" y="1451"/>
                  </a:lnTo>
                  <a:lnTo>
                    <a:pt x="1897" y="1466"/>
                  </a:lnTo>
                  <a:lnTo>
                    <a:pt x="1906" y="1490"/>
                  </a:lnTo>
                  <a:lnTo>
                    <a:pt x="1882" y="1505"/>
                  </a:lnTo>
                  <a:lnTo>
                    <a:pt x="1878" y="1522"/>
                  </a:lnTo>
                  <a:lnTo>
                    <a:pt x="1874" y="1522"/>
                  </a:lnTo>
                  <a:lnTo>
                    <a:pt x="1870" y="1525"/>
                  </a:lnTo>
                  <a:lnTo>
                    <a:pt x="1866" y="1528"/>
                  </a:lnTo>
                  <a:lnTo>
                    <a:pt x="1846" y="1537"/>
                  </a:lnTo>
                  <a:lnTo>
                    <a:pt x="1825" y="1547"/>
                  </a:lnTo>
                  <a:lnTo>
                    <a:pt x="1829" y="1567"/>
                  </a:lnTo>
                  <a:lnTo>
                    <a:pt x="1829" y="1572"/>
                  </a:lnTo>
                  <a:lnTo>
                    <a:pt x="1837" y="1596"/>
                  </a:lnTo>
                  <a:lnTo>
                    <a:pt x="1825" y="1633"/>
                  </a:lnTo>
                  <a:lnTo>
                    <a:pt x="1825" y="1653"/>
                  </a:lnTo>
                  <a:lnTo>
                    <a:pt x="1853" y="1655"/>
                  </a:lnTo>
                  <a:close/>
                  <a:moveTo>
                    <a:pt x="1555" y="1431"/>
                  </a:moveTo>
                  <a:lnTo>
                    <a:pt x="1502" y="1395"/>
                  </a:lnTo>
                  <a:lnTo>
                    <a:pt x="1506" y="1392"/>
                  </a:lnTo>
                  <a:lnTo>
                    <a:pt x="1506" y="1380"/>
                  </a:lnTo>
                  <a:lnTo>
                    <a:pt x="1506" y="1368"/>
                  </a:lnTo>
                  <a:lnTo>
                    <a:pt x="1510" y="1355"/>
                  </a:lnTo>
                  <a:lnTo>
                    <a:pt x="1510" y="1343"/>
                  </a:lnTo>
                  <a:lnTo>
                    <a:pt x="1510" y="1331"/>
                  </a:lnTo>
                  <a:lnTo>
                    <a:pt x="1514" y="1318"/>
                  </a:lnTo>
                  <a:lnTo>
                    <a:pt x="1531" y="1318"/>
                  </a:lnTo>
                  <a:lnTo>
                    <a:pt x="1539" y="1318"/>
                  </a:lnTo>
                  <a:lnTo>
                    <a:pt x="1551" y="1318"/>
                  </a:lnTo>
                  <a:lnTo>
                    <a:pt x="1570" y="1318"/>
                  </a:lnTo>
                  <a:lnTo>
                    <a:pt x="1591" y="1318"/>
                  </a:lnTo>
                  <a:lnTo>
                    <a:pt x="1595" y="1274"/>
                  </a:lnTo>
                  <a:lnTo>
                    <a:pt x="1595" y="1267"/>
                  </a:lnTo>
                  <a:lnTo>
                    <a:pt x="1526" y="1277"/>
                  </a:lnTo>
                  <a:lnTo>
                    <a:pt x="1526" y="1267"/>
                  </a:lnTo>
                  <a:lnTo>
                    <a:pt x="1531" y="1254"/>
                  </a:lnTo>
                  <a:lnTo>
                    <a:pt x="1514" y="1232"/>
                  </a:lnTo>
                  <a:lnTo>
                    <a:pt x="1514" y="1181"/>
                  </a:lnTo>
                  <a:lnTo>
                    <a:pt x="1498" y="1181"/>
                  </a:lnTo>
                  <a:lnTo>
                    <a:pt x="1466" y="1181"/>
                  </a:lnTo>
                  <a:lnTo>
                    <a:pt x="1466" y="1171"/>
                  </a:lnTo>
                  <a:lnTo>
                    <a:pt x="1458" y="1173"/>
                  </a:lnTo>
                  <a:lnTo>
                    <a:pt x="1437" y="1173"/>
                  </a:lnTo>
                  <a:lnTo>
                    <a:pt x="1429" y="1173"/>
                  </a:lnTo>
                  <a:lnTo>
                    <a:pt x="1425" y="1178"/>
                  </a:lnTo>
                  <a:lnTo>
                    <a:pt x="1421" y="1198"/>
                  </a:lnTo>
                  <a:lnTo>
                    <a:pt x="1397" y="1198"/>
                  </a:lnTo>
                  <a:lnTo>
                    <a:pt x="1365" y="1200"/>
                  </a:lnTo>
                  <a:lnTo>
                    <a:pt x="1349" y="1198"/>
                  </a:lnTo>
                  <a:lnTo>
                    <a:pt x="1329" y="1178"/>
                  </a:lnTo>
                  <a:lnTo>
                    <a:pt x="1309" y="1146"/>
                  </a:lnTo>
                  <a:lnTo>
                    <a:pt x="1300" y="1144"/>
                  </a:lnTo>
                  <a:lnTo>
                    <a:pt x="1276" y="1144"/>
                  </a:lnTo>
                  <a:lnTo>
                    <a:pt x="1267" y="1146"/>
                  </a:lnTo>
                  <a:lnTo>
                    <a:pt x="1251" y="1146"/>
                  </a:lnTo>
                  <a:lnTo>
                    <a:pt x="1236" y="1144"/>
                  </a:lnTo>
                  <a:lnTo>
                    <a:pt x="1187" y="1144"/>
                  </a:lnTo>
                  <a:lnTo>
                    <a:pt x="1179" y="1144"/>
                  </a:lnTo>
                  <a:lnTo>
                    <a:pt x="1139" y="1151"/>
                  </a:lnTo>
                  <a:lnTo>
                    <a:pt x="1183" y="1205"/>
                  </a:lnTo>
                  <a:lnTo>
                    <a:pt x="1183" y="1215"/>
                  </a:lnTo>
                  <a:lnTo>
                    <a:pt x="1168" y="1223"/>
                  </a:lnTo>
                  <a:lnTo>
                    <a:pt x="1195" y="1262"/>
                  </a:lnTo>
                  <a:lnTo>
                    <a:pt x="1195" y="1289"/>
                  </a:lnTo>
                  <a:lnTo>
                    <a:pt x="1183" y="1306"/>
                  </a:lnTo>
                  <a:lnTo>
                    <a:pt x="1143" y="1328"/>
                  </a:lnTo>
                  <a:lnTo>
                    <a:pt x="1127" y="1370"/>
                  </a:lnTo>
                  <a:lnTo>
                    <a:pt x="1106" y="1387"/>
                  </a:lnTo>
                  <a:lnTo>
                    <a:pt x="1106" y="1419"/>
                  </a:lnTo>
                  <a:lnTo>
                    <a:pt x="1159" y="1414"/>
                  </a:lnTo>
                  <a:lnTo>
                    <a:pt x="1187" y="1424"/>
                  </a:lnTo>
                  <a:lnTo>
                    <a:pt x="1199" y="1424"/>
                  </a:lnTo>
                  <a:lnTo>
                    <a:pt x="1219" y="1424"/>
                  </a:lnTo>
                  <a:lnTo>
                    <a:pt x="1240" y="1424"/>
                  </a:lnTo>
                  <a:lnTo>
                    <a:pt x="1260" y="1424"/>
                  </a:lnTo>
                  <a:lnTo>
                    <a:pt x="1276" y="1424"/>
                  </a:lnTo>
                  <a:lnTo>
                    <a:pt x="1300" y="1424"/>
                  </a:lnTo>
                  <a:lnTo>
                    <a:pt x="1321" y="1424"/>
                  </a:lnTo>
                  <a:lnTo>
                    <a:pt x="1329" y="1424"/>
                  </a:lnTo>
                  <a:lnTo>
                    <a:pt x="1349" y="1424"/>
                  </a:lnTo>
                  <a:lnTo>
                    <a:pt x="1361" y="1424"/>
                  </a:lnTo>
                  <a:lnTo>
                    <a:pt x="1381" y="1434"/>
                  </a:lnTo>
                  <a:lnTo>
                    <a:pt x="1453" y="1441"/>
                  </a:lnTo>
                  <a:lnTo>
                    <a:pt x="1474" y="1439"/>
                  </a:lnTo>
                  <a:lnTo>
                    <a:pt x="1478" y="1439"/>
                  </a:lnTo>
                  <a:lnTo>
                    <a:pt x="1494" y="1437"/>
                  </a:lnTo>
                  <a:lnTo>
                    <a:pt x="1518" y="1437"/>
                  </a:lnTo>
                  <a:lnTo>
                    <a:pt x="1531" y="1434"/>
                  </a:lnTo>
                  <a:lnTo>
                    <a:pt x="1539" y="1431"/>
                  </a:lnTo>
                  <a:lnTo>
                    <a:pt x="1555" y="1431"/>
                  </a:lnTo>
                  <a:close/>
                  <a:moveTo>
                    <a:pt x="404" y="116"/>
                  </a:moveTo>
                  <a:lnTo>
                    <a:pt x="404" y="106"/>
                  </a:lnTo>
                  <a:lnTo>
                    <a:pt x="424" y="91"/>
                  </a:lnTo>
                  <a:lnTo>
                    <a:pt x="412" y="87"/>
                  </a:lnTo>
                  <a:lnTo>
                    <a:pt x="424" y="72"/>
                  </a:lnTo>
                  <a:lnTo>
                    <a:pt x="408" y="57"/>
                  </a:lnTo>
                  <a:lnTo>
                    <a:pt x="424" y="57"/>
                  </a:lnTo>
                  <a:lnTo>
                    <a:pt x="433" y="28"/>
                  </a:lnTo>
                  <a:lnTo>
                    <a:pt x="457" y="15"/>
                  </a:lnTo>
                  <a:lnTo>
                    <a:pt x="449" y="5"/>
                  </a:lnTo>
                  <a:lnTo>
                    <a:pt x="396" y="8"/>
                  </a:lnTo>
                  <a:lnTo>
                    <a:pt x="396" y="0"/>
                  </a:lnTo>
                  <a:lnTo>
                    <a:pt x="377" y="5"/>
                  </a:lnTo>
                  <a:lnTo>
                    <a:pt x="380" y="32"/>
                  </a:lnTo>
                  <a:lnTo>
                    <a:pt x="339" y="80"/>
                  </a:lnTo>
                  <a:lnTo>
                    <a:pt x="348" y="87"/>
                  </a:lnTo>
                  <a:lnTo>
                    <a:pt x="372" y="87"/>
                  </a:lnTo>
                  <a:lnTo>
                    <a:pt x="360" y="84"/>
                  </a:lnTo>
                  <a:lnTo>
                    <a:pt x="356" y="116"/>
                  </a:lnTo>
                  <a:lnTo>
                    <a:pt x="356" y="119"/>
                  </a:lnTo>
                  <a:lnTo>
                    <a:pt x="388" y="119"/>
                  </a:lnTo>
                  <a:lnTo>
                    <a:pt x="404" y="116"/>
                  </a:lnTo>
                  <a:close/>
                  <a:moveTo>
                    <a:pt x="25" y="3422"/>
                  </a:moveTo>
                  <a:lnTo>
                    <a:pt x="498" y="3422"/>
                  </a:lnTo>
                  <a:lnTo>
                    <a:pt x="498" y="3567"/>
                  </a:lnTo>
                  <a:lnTo>
                    <a:pt x="25" y="3567"/>
                  </a:lnTo>
                  <a:lnTo>
                    <a:pt x="25" y="3422"/>
                  </a:lnTo>
                  <a:close/>
                  <a:moveTo>
                    <a:pt x="1175" y="1114"/>
                  </a:moveTo>
                  <a:lnTo>
                    <a:pt x="1163" y="1109"/>
                  </a:lnTo>
                  <a:lnTo>
                    <a:pt x="1147" y="1114"/>
                  </a:lnTo>
                  <a:lnTo>
                    <a:pt x="1130" y="1124"/>
                  </a:lnTo>
                  <a:lnTo>
                    <a:pt x="1139" y="1144"/>
                  </a:lnTo>
                  <a:lnTo>
                    <a:pt x="1151" y="1142"/>
                  </a:lnTo>
                  <a:lnTo>
                    <a:pt x="1151" y="1127"/>
                  </a:lnTo>
                  <a:lnTo>
                    <a:pt x="1151" y="1124"/>
                  </a:lnTo>
                  <a:lnTo>
                    <a:pt x="1175" y="1114"/>
                  </a:lnTo>
                  <a:close/>
                  <a:moveTo>
                    <a:pt x="66" y="736"/>
                  </a:moveTo>
                  <a:lnTo>
                    <a:pt x="77" y="723"/>
                  </a:lnTo>
                  <a:lnTo>
                    <a:pt x="117" y="718"/>
                  </a:lnTo>
                  <a:lnTo>
                    <a:pt x="110" y="709"/>
                  </a:lnTo>
                  <a:lnTo>
                    <a:pt x="117" y="704"/>
                  </a:lnTo>
                  <a:lnTo>
                    <a:pt x="117" y="694"/>
                  </a:lnTo>
                  <a:lnTo>
                    <a:pt x="97" y="694"/>
                  </a:lnTo>
                  <a:lnTo>
                    <a:pt x="77" y="694"/>
                  </a:lnTo>
                  <a:lnTo>
                    <a:pt x="61" y="694"/>
                  </a:lnTo>
                  <a:lnTo>
                    <a:pt x="57" y="694"/>
                  </a:lnTo>
                  <a:lnTo>
                    <a:pt x="0" y="704"/>
                  </a:lnTo>
                  <a:lnTo>
                    <a:pt x="25" y="701"/>
                  </a:lnTo>
                  <a:lnTo>
                    <a:pt x="13" y="709"/>
                  </a:lnTo>
                  <a:lnTo>
                    <a:pt x="20" y="714"/>
                  </a:lnTo>
                  <a:lnTo>
                    <a:pt x="41" y="711"/>
                  </a:lnTo>
                  <a:lnTo>
                    <a:pt x="29" y="718"/>
                  </a:lnTo>
                  <a:lnTo>
                    <a:pt x="66" y="711"/>
                  </a:lnTo>
                  <a:lnTo>
                    <a:pt x="69" y="716"/>
                  </a:lnTo>
                  <a:lnTo>
                    <a:pt x="66" y="714"/>
                  </a:lnTo>
                  <a:lnTo>
                    <a:pt x="45" y="718"/>
                  </a:lnTo>
                  <a:lnTo>
                    <a:pt x="57" y="716"/>
                  </a:lnTo>
                  <a:lnTo>
                    <a:pt x="66" y="720"/>
                  </a:lnTo>
                  <a:lnTo>
                    <a:pt x="49" y="726"/>
                  </a:lnTo>
                  <a:lnTo>
                    <a:pt x="57" y="731"/>
                  </a:lnTo>
                  <a:lnTo>
                    <a:pt x="57" y="736"/>
                  </a:lnTo>
                  <a:lnTo>
                    <a:pt x="66" y="731"/>
                  </a:lnTo>
                  <a:lnTo>
                    <a:pt x="66" y="73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088000" y="1947240"/>
              <a:ext cx="42480" cy="15480"/>
            </a:xfrm>
            <a:custGeom>
              <a:avLst/>
              <a:gdLst/>
              <a:ahLst/>
              <a:rect l="l" t="t" r="r" b="b"/>
              <a:pathLst>
                <a:path w="118" h="43">
                  <a:moveTo>
                    <a:pt x="66" y="42"/>
                  </a:moveTo>
                  <a:lnTo>
                    <a:pt x="77" y="29"/>
                  </a:lnTo>
                  <a:lnTo>
                    <a:pt x="117" y="24"/>
                  </a:lnTo>
                  <a:lnTo>
                    <a:pt x="110" y="15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97" y="0"/>
                  </a:lnTo>
                  <a:lnTo>
                    <a:pt x="77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0" y="10"/>
                  </a:lnTo>
                  <a:lnTo>
                    <a:pt x="25" y="7"/>
                  </a:lnTo>
                  <a:lnTo>
                    <a:pt x="13" y="15"/>
                  </a:lnTo>
                  <a:lnTo>
                    <a:pt x="20" y="20"/>
                  </a:lnTo>
                  <a:lnTo>
                    <a:pt x="41" y="17"/>
                  </a:lnTo>
                  <a:lnTo>
                    <a:pt x="29" y="24"/>
                  </a:lnTo>
                  <a:lnTo>
                    <a:pt x="66" y="17"/>
                  </a:lnTo>
                  <a:lnTo>
                    <a:pt x="69" y="22"/>
                  </a:lnTo>
                  <a:lnTo>
                    <a:pt x="66" y="20"/>
                  </a:lnTo>
                  <a:lnTo>
                    <a:pt x="45" y="24"/>
                  </a:lnTo>
                  <a:lnTo>
                    <a:pt x="57" y="22"/>
                  </a:lnTo>
                  <a:lnTo>
                    <a:pt x="66" y="26"/>
                  </a:lnTo>
                  <a:lnTo>
                    <a:pt x="49" y="32"/>
                  </a:lnTo>
                  <a:lnTo>
                    <a:pt x="57" y="37"/>
                  </a:lnTo>
                  <a:lnTo>
                    <a:pt x="57" y="42"/>
                  </a:lnTo>
                  <a:lnTo>
                    <a:pt x="66" y="37"/>
                  </a:lnTo>
                  <a:lnTo>
                    <a:pt x="66" y="4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745360" y="2150280"/>
              <a:ext cx="150480" cy="142560"/>
            </a:xfrm>
            <a:custGeom>
              <a:avLst/>
              <a:gdLst/>
              <a:ahLst/>
              <a:rect l="l" t="t" r="r" b="b"/>
              <a:pathLst>
                <a:path w="421" h="397">
                  <a:moveTo>
                    <a:pt x="28" y="396"/>
                  </a:moveTo>
                  <a:lnTo>
                    <a:pt x="37" y="377"/>
                  </a:lnTo>
                  <a:lnTo>
                    <a:pt x="28" y="381"/>
                  </a:lnTo>
                  <a:lnTo>
                    <a:pt x="21" y="374"/>
                  </a:lnTo>
                  <a:lnTo>
                    <a:pt x="33" y="367"/>
                  </a:lnTo>
                  <a:lnTo>
                    <a:pt x="72" y="355"/>
                  </a:lnTo>
                  <a:lnTo>
                    <a:pt x="81" y="352"/>
                  </a:lnTo>
                  <a:lnTo>
                    <a:pt x="101" y="350"/>
                  </a:lnTo>
                  <a:lnTo>
                    <a:pt x="113" y="347"/>
                  </a:lnTo>
                  <a:lnTo>
                    <a:pt x="126" y="344"/>
                  </a:lnTo>
                  <a:lnTo>
                    <a:pt x="145" y="330"/>
                  </a:lnTo>
                  <a:lnTo>
                    <a:pt x="149" y="322"/>
                  </a:lnTo>
                  <a:lnTo>
                    <a:pt x="162" y="285"/>
                  </a:lnTo>
                  <a:lnTo>
                    <a:pt x="153" y="293"/>
                  </a:lnTo>
                  <a:lnTo>
                    <a:pt x="153" y="285"/>
                  </a:lnTo>
                  <a:lnTo>
                    <a:pt x="153" y="254"/>
                  </a:lnTo>
                  <a:lnTo>
                    <a:pt x="137" y="244"/>
                  </a:lnTo>
                  <a:lnTo>
                    <a:pt x="149" y="229"/>
                  </a:lnTo>
                  <a:lnTo>
                    <a:pt x="141" y="222"/>
                  </a:lnTo>
                  <a:lnTo>
                    <a:pt x="149" y="229"/>
                  </a:lnTo>
                  <a:lnTo>
                    <a:pt x="165" y="222"/>
                  </a:lnTo>
                  <a:lnTo>
                    <a:pt x="194" y="207"/>
                  </a:lnTo>
                  <a:lnTo>
                    <a:pt x="207" y="205"/>
                  </a:lnTo>
                  <a:lnTo>
                    <a:pt x="210" y="207"/>
                  </a:lnTo>
                  <a:lnTo>
                    <a:pt x="214" y="205"/>
                  </a:lnTo>
                  <a:lnTo>
                    <a:pt x="243" y="185"/>
                  </a:lnTo>
                  <a:lnTo>
                    <a:pt x="238" y="182"/>
                  </a:lnTo>
                  <a:lnTo>
                    <a:pt x="291" y="165"/>
                  </a:lnTo>
                  <a:lnTo>
                    <a:pt x="360" y="148"/>
                  </a:lnTo>
                  <a:lnTo>
                    <a:pt x="400" y="118"/>
                  </a:lnTo>
                  <a:lnTo>
                    <a:pt x="395" y="116"/>
                  </a:lnTo>
                  <a:lnTo>
                    <a:pt x="407" y="106"/>
                  </a:lnTo>
                  <a:lnTo>
                    <a:pt x="407" y="99"/>
                  </a:lnTo>
                  <a:lnTo>
                    <a:pt x="400" y="101"/>
                  </a:lnTo>
                  <a:lnTo>
                    <a:pt x="400" y="91"/>
                  </a:lnTo>
                  <a:lnTo>
                    <a:pt x="407" y="62"/>
                  </a:lnTo>
                  <a:lnTo>
                    <a:pt x="400" y="62"/>
                  </a:lnTo>
                  <a:lnTo>
                    <a:pt x="412" y="57"/>
                  </a:lnTo>
                  <a:lnTo>
                    <a:pt x="404" y="22"/>
                  </a:lnTo>
                  <a:lnTo>
                    <a:pt x="420" y="5"/>
                  </a:lnTo>
                  <a:lnTo>
                    <a:pt x="412" y="0"/>
                  </a:lnTo>
                  <a:lnTo>
                    <a:pt x="364" y="18"/>
                  </a:lnTo>
                  <a:lnTo>
                    <a:pt x="311" y="20"/>
                  </a:lnTo>
                  <a:lnTo>
                    <a:pt x="306" y="28"/>
                  </a:lnTo>
                  <a:lnTo>
                    <a:pt x="258" y="33"/>
                  </a:lnTo>
                  <a:lnTo>
                    <a:pt x="194" y="28"/>
                  </a:lnTo>
                  <a:lnTo>
                    <a:pt x="182" y="28"/>
                  </a:lnTo>
                  <a:lnTo>
                    <a:pt x="169" y="42"/>
                  </a:lnTo>
                  <a:lnTo>
                    <a:pt x="173" y="69"/>
                  </a:lnTo>
                  <a:lnTo>
                    <a:pt x="185" y="74"/>
                  </a:lnTo>
                  <a:lnTo>
                    <a:pt x="194" y="79"/>
                  </a:lnTo>
                  <a:lnTo>
                    <a:pt x="218" y="109"/>
                  </a:lnTo>
                  <a:lnTo>
                    <a:pt x="210" y="136"/>
                  </a:lnTo>
                  <a:lnTo>
                    <a:pt x="182" y="148"/>
                  </a:lnTo>
                  <a:lnTo>
                    <a:pt x="182" y="163"/>
                  </a:lnTo>
                  <a:lnTo>
                    <a:pt x="178" y="155"/>
                  </a:lnTo>
                  <a:lnTo>
                    <a:pt x="149" y="133"/>
                  </a:lnTo>
                  <a:lnTo>
                    <a:pt x="165" y="116"/>
                  </a:lnTo>
                  <a:lnTo>
                    <a:pt x="165" y="101"/>
                  </a:lnTo>
                  <a:lnTo>
                    <a:pt x="134" y="99"/>
                  </a:lnTo>
                  <a:lnTo>
                    <a:pt x="117" y="86"/>
                  </a:lnTo>
                  <a:lnTo>
                    <a:pt x="101" y="89"/>
                  </a:lnTo>
                  <a:lnTo>
                    <a:pt x="84" y="94"/>
                  </a:lnTo>
                  <a:lnTo>
                    <a:pt x="24" y="104"/>
                  </a:lnTo>
                  <a:lnTo>
                    <a:pt x="12" y="106"/>
                  </a:lnTo>
                  <a:lnTo>
                    <a:pt x="0" y="109"/>
                  </a:lnTo>
                  <a:lnTo>
                    <a:pt x="4" y="126"/>
                  </a:lnTo>
                  <a:lnTo>
                    <a:pt x="4" y="133"/>
                  </a:lnTo>
                  <a:lnTo>
                    <a:pt x="24" y="133"/>
                  </a:lnTo>
                  <a:lnTo>
                    <a:pt x="37" y="136"/>
                  </a:lnTo>
                  <a:lnTo>
                    <a:pt x="97" y="153"/>
                  </a:lnTo>
                  <a:lnTo>
                    <a:pt x="93" y="192"/>
                  </a:lnTo>
                  <a:lnTo>
                    <a:pt x="72" y="207"/>
                  </a:lnTo>
                  <a:lnTo>
                    <a:pt x="81" y="231"/>
                  </a:lnTo>
                  <a:lnTo>
                    <a:pt x="57" y="246"/>
                  </a:lnTo>
                  <a:lnTo>
                    <a:pt x="53" y="263"/>
                  </a:lnTo>
                  <a:lnTo>
                    <a:pt x="49" y="263"/>
                  </a:lnTo>
                  <a:lnTo>
                    <a:pt x="45" y="266"/>
                  </a:lnTo>
                  <a:lnTo>
                    <a:pt x="41" y="269"/>
                  </a:lnTo>
                  <a:lnTo>
                    <a:pt x="21" y="278"/>
                  </a:lnTo>
                  <a:lnTo>
                    <a:pt x="0" y="288"/>
                  </a:lnTo>
                  <a:lnTo>
                    <a:pt x="4" y="308"/>
                  </a:lnTo>
                  <a:lnTo>
                    <a:pt x="4" y="313"/>
                  </a:lnTo>
                  <a:lnTo>
                    <a:pt x="12" y="337"/>
                  </a:lnTo>
                  <a:lnTo>
                    <a:pt x="0" y="374"/>
                  </a:lnTo>
                  <a:lnTo>
                    <a:pt x="0" y="394"/>
                  </a:lnTo>
                  <a:lnTo>
                    <a:pt x="28" y="39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486520" y="2109240"/>
              <a:ext cx="176040" cy="107280"/>
            </a:xfrm>
            <a:custGeom>
              <a:avLst/>
              <a:gdLst/>
              <a:ahLst/>
              <a:rect l="l" t="t" r="r" b="b"/>
              <a:pathLst>
                <a:path w="490" h="298">
                  <a:moveTo>
                    <a:pt x="449" y="287"/>
                  </a:moveTo>
                  <a:lnTo>
                    <a:pt x="396" y="251"/>
                  </a:lnTo>
                  <a:lnTo>
                    <a:pt x="400" y="248"/>
                  </a:lnTo>
                  <a:lnTo>
                    <a:pt x="400" y="236"/>
                  </a:lnTo>
                  <a:lnTo>
                    <a:pt x="400" y="224"/>
                  </a:lnTo>
                  <a:lnTo>
                    <a:pt x="404" y="211"/>
                  </a:lnTo>
                  <a:lnTo>
                    <a:pt x="404" y="199"/>
                  </a:lnTo>
                  <a:lnTo>
                    <a:pt x="404" y="187"/>
                  </a:lnTo>
                  <a:lnTo>
                    <a:pt x="408" y="174"/>
                  </a:lnTo>
                  <a:lnTo>
                    <a:pt x="425" y="174"/>
                  </a:lnTo>
                  <a:lnTo>
                    <a:pt x="433" y="174"/>
                  </a:lnTo>
                  <a:lnTo>
                    <a:pt x="445" y="174"/>
                  </a:lnTo>
                  <a:lnTo>
                    <a:pt x="464" y="174"/>
                  </a:lnTo>
                  <a:lnTo>
                    <a:pt x="485" y="174"/>
                  </a:lnTo>
                  <a:lnTo>
                    <a:pt x="489" y="130"/>
                  </a:lnTo>
                  <a:lnTo>
                    <a:pt x="489" y="123"/>
                  </a:lnTo>
                  <a:lnTo>
                    <a:pt x="420" y="133"/>
                  </a:lnTo>
                  <a:lnTo>
                    <a:pt x="420" y="123"/>
                  </a:lnTo>
                  <a:lnTo>
                    <a:pt x="425" y="110"/>
                  </a:lnTo>
                  <a:lnTo>
                    <a:pt x="408" y="88"/>
                  </a:lnTo>
                  <a:lnTo>
                    <a:pt x="408" y="37"/>
                  </a:lnTo>
                  <a:lnTo>
                    <a:pt x="392" y="37"/>
                  </a:lnTo>
                  <a:lnTo>
                    <a:pt x="360" y="37"/>
                  </a:lnTo>
                  <a:lnTo>
                    <a:pt x="360" y="27"/>
                  </a:lnTo>
                  <a:lnTo>
                    <a:pt x="352" y="29"/>
                  </a:lnTo>
                  <a:lnTo>
                    <a:pt x="331" y="29"/>
                  </a:lnTo>
                  <a:lnTo>
                    <a:pt x="323" y="29"/>
                  </a:lnTo>
                  <a:lnTo>
                    <a:pt x="319" y="34"/>
                  </a:lnTo>
                  <a:lnTo>
                    <a:pt x="315" y="54"/>
                  </a:lnTo>
                  <a:lnTo>
                    <a:pt x="291" y="54"/>
                  </a:lnTo>
                  <a:lnTo>
                    <a:pt x="259" y="56"/>
                  </a:lnTo>
                  <a:lnTo>
                    <a:pt x="243" y="54"/>
                  </a:lnTo>
                  <a:lnTo>
                    <a:pt x="223" y="34"/>
                  </a:lnTo>
                  <a:lnTo>
                    <a:pt x="203" y="2"/>
                  </a:lnTo>
                  <a:lnTo>
                    <a:pt x="194" y="0"/>
                  </a:lnTo>
                  <a:lnTo>
                    <a:pt x="170" y="0"/>
                  </a:lnTo>
                  <a:lnTo>
                    <a:pt x="161" y="2"/>
                  </a:lnTo>
                  <a:lnTo>
                    <a:pt x="145" y="2"/>
                  </a:lnTo>
                  <a:lnTo>
                    <a:pt x="130" y="0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33" y="7"/>
                  </a:lnTo>
                  <a:lnTo>
                    <a:pt x="77" y="61"/>
                  </a:lnTo>
                  <a:lnTo>
                    <a:pt x="77" y="71"/>
                  </a:lnTo>
                  <a:lnTo>
                    <a:pt x="62" y="79"/>
                  </a:lnTo>
                  <a:lnTo>
                    <a:pt x="89" y="118"/>
                  </a:lnTo>
                  <a:lnTo>
                    <a:pt x="89" y="145"/>
                  </a:lnTo>
                  <a:lnTo>
                    <a:pt x="77" y="162"/>
                  </a:lnTo>
                  <a:lnTo>
                    <a:pt x="37" y="184"/>
                  </a:lnTo>
                  <a:lnTo>
                    <a:pt x="21" y="226"/>
                  </a:lnTo>
                  <a:lnTo>
                    <a:pt x="0" y="243"/>
                  </a:lnTo>
                  <a:lnTo>
                    <a:pt x="0" y="275"/>
                  </a:lnTo>
                  <a:lnTo>
                    <a:pt x="53" y="270"/>
                  </a:lnTo>
                  <a:lnTo>
                    <a:pt x="81" y="280"/>
                  </a:lnTo>
                  <a:lnTo>
                    <a:pt x="93" y="280"/>
                  </a:lnTo>
                  <a:lnTo>
                    <a:pt x="113" y="280"/>
                  </a:lnTo>
                  <a:lnTo>
                    <a:pt x="134" y="280"/>
                  </a:lnTo>
                  <a:lnTo>
                    <a:pt x="154" y="280"/>
                  </a:lnTo>
                  <a:lnTo>
                    <a:pt x="170" y="280"/>
                  </a:lnTo>
                  <a:lnTo>
                    <a:pt x="194" y="280"/>
                  </a:lnTo>
                  <a:lnTo>
                    <a:pt x="215" y="280"/>
                  </a:lnTo>
                  <a:lnTo>
                    <a:pt x="223" y="280"/>
                  </a:lnTo>
                  <a:lnTo>
                    <a:pt x="243" y="280"/>
                  </a:lnTo>
                  <a:lnTo>
                    <a:pt x="255" y="280"/>
                  </a:lnTo>
                  <a:lnTo>
                    <a:pt x="275" y="290"/>
                  </a:lnTo>
                  <a:lnTo>
                    <a:pt x="347" y="297"/>
                  </a:lnTo>
                  <a:lnTo>
                    <a:pt x="368" y="295"/>
                  </a:lnTo>
                  <a:lnTo>
                    <a:pt x="372" y="295"/>
                  </a:lnTo>
                  <a:lnTo>
                    <a:pt x="388" y="293"/>
                  </a:lnTo>
                  <a:lnTo>
                    <a:pt x="412" y="293"/>
                  </a:lnTo>
                  <a:lnTo>
                    <a:pt x="425" y="290"/>
                  </a:lnTo>
                  <a:lnTo>
                    <a:pt x="433" y="287"/>
                  </a:lnTo>
                  <a:lnTo>
                    <a:pt x="449" y="28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210400" y="1698120"/>
              <a:ext cx="42480" cy="42480"/>
            </a:xfrm>
            <a:custGeom>
              <a:avLst/>
              <a:gdLst/>
              <a:ahLst/>
              <a:rect l="l" t="t" r="r" b="b"/>
              <a:pathLst>
                <a:path w="119" h="120">
                  <a:moveTo>
                    <a:pt x="65" y="116"/>
                  </a:moveTo>
                  <a:lnTo>
                    <a:pt x="65" y="106"/>
                  </a:lnTo>
                  <a:lnTo>
                    <a:pt x="85" y="91"/>
                  </a:lnTo>
                  <a:lnTo>
                    <a:pt x="73" y="87"/>
                  </a:lnTo>
                  <a:lnTo>
                    <a:pt x="85" y="72"/>
                  </a:lnTo>
                  <a:lnTo>
                    <a:pt x="69" y="57"/>
                  </a:lnTo>
                  <a:lnTo>
                    <a:pt x="85" y="57"/>
                  </a:lnTo>
                  <a:lnTo>
                    <a:pt x="94" y="28"/>
                  </a:lnTo>
                  <a:lnTo>
                    <a:pt x="118" y="15"/>
                  </a:lnTo>
                  <a:lnTo>
                    <a:pt x="110" y="5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38" y="5"/>
                  </a:lnTo>
                  <a:lnTo>
                    <a:pt x="41" y="32"/>
                  </a:lnTo>
                  <a:lnTo>
                    <a:pt x="0" y="80"/>
                  </a:lnTo>
                  <a:lnTo>
                    <a:pt x="9" y="87"/>
                  </a:lnTo>
                  <a:lnTo>
                    <a:pt x="33" y="87"/>
                  </a:lnTo>
                  <a:lnTo>
                    <a:pt x="21" y="84"/>
                  </a:lnTo>
                  <a:lnTo>
                    <a:pt x="17" y="116"/>
                  </a:lnTo>
                  <a:lnTo>
                    <a:pt x="17" y="119"/>
                  </a:lnTo>
                  <a:lnTo>
                    <a:pt x="49" y="119"/>
                  </a:lnTo>
                  <a:lnTo>
                    <a:pt x="65" y="11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097720" y="2928960"/>
              <a:ext cx="169200" cy="52200"/>
            </a:xfrm>
            <a:custGeom>
              <a:avLst/>
              <a:gdLst/>
              <a:ahLst/>
              <a:rect l="l" t="t" r="r" b="b"/>
              <a:pathLst>
                <a:path w="474" h="146">
                  <a:moveTo>
                    <a:pt x="0" y="0"/>
                  </a:moveTo>
                  <a:lnTo>
                    <a:pt x="473" y="0"/>
                  </a:lnTo>
                  <a:lnTo>
                    <a:pt x="473" y="145"/>
                  </a:lnTo>
                  <a:lnTo>
                    <a:pt x="0" y="14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494440" y="2096280"/>
              <a:ext cx="15480" cy="1260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5" y="5"/>
                  </a:moveTo>
                  <a:lnTo>
                    <a:pt x="33" y="0"/>
                  </a:lnTo>
                  <a:lnTo>
                    <a:pt x="17" y="5"/>
                  </a:lnTo>
                  <a:lnTo>
                    <a:pt x="0" y="15"/>
                  </a:lnTo>
                  <a:lnTo>
                    <a:pt x="9" y="35"/>
                  </a:lnTo>
                  <a:lnTo>
                    <a:pt x="21" y="33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45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464200" y="2032920"/>
              <a:ext cx="23400" cy="900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7" y="24"/>
                  </a:moveTo>
                  <a:lnTo>
                    <a:pt x="56" y="25"/>
                  </a:lnTo>
                  <a:lnTo>
                    <a:pt x="66" y="5"/>
                  </a:lnTo>
                  <a:lnTo>
                    <a:pt x="3" y="0"/>
                  </a:lnTo>
                  <a:lnTo>
                    <a:pt x="0" y="14"/>
                  </a:lnTo>
                  <a:lnTo>
                    <a:pt x="8" y="19"/>
                  </a:lnTo>
                  <a:lnTo>
                    <a:pt x="7" y="2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464200" y="2032920"/>
              <a:ext cx="23400" cy="900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7" y="24"/>
                  </a:moveTo>
                  <a:lnTo>
                    <a:pt x="56" y="25"/>
                  </a:lnTo>
                  <a:lnTo>
                    <a:pt x="66" y="5"/>
                  </a:lnTo>
                  <a:lnTo>
                    <a:pt x="3" y="0"/>
                  </a:lnTo>
                  <a:lnTo>
                    <a:pt x="0" y="14"/>
                  </a:lnTo>
                  <a:lnTo>
                    <a:pt x="8" y="19"/>
                  </a:lnTo>
                  <a:lnTo>
                    <a:pt x="7" y="24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078920" y="1593360"/>
              <a:ext cx="3301920" cy="1310400"/>
            </a:xfrm>
            <a:custGeom>
              <a:avLst/>
              <a:gdLst/>
              <a:ahLst/>
              <a:rect l="l" t="t" r="r" b="b"/>
              <a:pathLst>
                <a:path w="9175" h="3644">
                  <a:moveTo>
                    <a:pt x="4200" y="1893"/>
                  </a:moveTo>
                  <a:lnTo>
                    <a:pt x="4204" y="1886"/>
                  </a:lnTo>
                  <a:lnTo>
                    <a:pt x="4204" y="1876"/>
                  </a:lnTo>
                  <a:lnTo>
                    <a:pt x="4209" y="1864"/>
                  </a:lnTo>
                  <a:lnTo>
                    <a:pt x="4209" y="1851"/>
                  </a:lnTo>
                  <a:lnTo>
                    <a:pt x="4213" y="1839"/>
                  </a:lnTo>
                  <a:lnTo>
                    <a:pt x="4213" y="1826"/>
                  </a:lnTo>
                  <a:lnTo>
                    <a:pt x="4232" y="1826"/>
                  </a:lnTo>
                  <a:lnTo>
                    <a:pt x="4253" y="1826"/>
                  </a:lnTo>
                  <a:lnTo>
                    <a:pt x="4253" y="1814"/>
                  </a:lnTo>
                  <a:lnTo>
                    <a:pt x="4257" y="1802"/>
                  </a:lnTo>
                  <a:lnTo>
                    <a:pt x="4257" y="1792"/>
                  </a:lnTo>
                  <a:lnTo>
                    <a:pt x="4260" y="1780"/>
                  </a:lnTo>
                  <a:lnTo>
                    <a:pt x="4260" y="1768"/>
                  </a:lnTo>
                  <a:lnTo>
                    <a:pt x="4260" y="1756"/>
                  </a:lnTo>
                  <a:lnTo>
                    <a:pt x="4265" y="1743"/>
                  </a:lnTo>
                  <a:lnTo>
                    <a:pt x="4265" y="1738"/>
                  </a:lnTo>
                  <a:lnTo>
                    <a:pt x="4281" y="1738"/>
                  </a:lnTo>
                  <a:lnTo>
                    <a:pt x="4346" y="1731"/>
                  </a:lnTo>
                  <a:lnTo>
                    <a:pt x="4354" y="1731"/>
                  </a:lnTo>
                  <a:lnTo>
                    <a:pt x="4366" y="1743"/>
                  </a:lnTo>
                  <a:lnTo>
                    <a:pt x="4394" y="1731"/>
                  </a:lnTo>
                  <a:lnTo>
                    <a:pt x="4431" y="1729"/>
                  </a:lnTo>
                  <a:lnTo>
                    <a:pt x="4410" y="1721"/>
                  </a:lnTo>
                  <a:lnTo>
                    <a:pt x="4390" y="1719"/>
                  </a:lnTo>
                  <a:lnTo>
                    <a:pt x="4370" y="1721"/>
                  </a:lnTo>
                  <a:lnTo>
                    <a:pt x="4362" y="1723"/>
                  </a:lnTo>
                  <a:lnTo>
                    <a:pt x="4346" y="1723"/>
                  </a:lnTo>
                  <a:lnTo>
                    <a:pt x="4338" y="1726"/>
                  </a:lnTo>
                  <a:lnTo>
                    <a:pt x="4325" y="1729"/>
                  </a:lnTo>
                  <a:lnTo>
                    <a:pt x="4301" y="1729"/>
                  </a:lnTo>
                  <a:lnTo>
                    <a:pt x="4285" y="1731"/>
                  </a:lnTo>
                  <a:lnTo>
                    <a:pt x="4281" y="1731"/>
                  </a:lnTo>
                  <a:lnTo>
                    <a:pt x="4260" y="1733"/>
                  </a:lnTo>
                  <a:lnTo>
                    <a:pt x="4188" y="1726"/>
                  </a:lnTo>
                  <a:lnTo>
                    <a:pt x="4168" y="1716"/>
                  </a:lnTo>
                  <a:lnTo>
                    <a:pt x="4156" y="1716"/>
                  </a:lnTo>
                  <a:lnTo>
                    <a:pt x="4136" y="1716"/>
                  </a:lnTo>
                  <a:lnTo>
                    <a:pt x="4128" y="1716"/>
                  </a:lnTo>
                  <a:lnTo>
                    <a:pt x="4107" y="1716"/>
                  </a:lnTo>
                  <a:lnTo>
                    <a:pt x="4083" y="1716"/>
                  </a:lnTo>
                  <a:lnTo>
                    <a:pt x="4067" y="1716"/>
                  </a:lnTo>
                  <a:lnTo>
                    <a:pt x="4047" y="1716"/>
                  </a:lnTo>
                  <a:lnTo>
                    <a:pt x="4026" y="1716"/>
                  </a:lnTo>
                  <a:lnTo>
                    <a:pt x="4006" y="1716"/>
                  </a:lnTo>
                  <a:lnTo>
                    <a:pt x="3994" y="1716"/>
                  </a:lnTo>
                  <a:lnTo>
                    <a:pt x="3966" y="1706"/>
                  </a:lnTo>
                  <a:lnTo>
                    <a:pt x="3913" y="1711"/>
                  </a:lnTo>
                  <a:lnTo>
                    <a:pt x="3913" y="1733"/>
                  </a:lnTo>
                  <a:lnTo>
                    <a:pt x="3946" y="1765"/>
                  </a:lnTo>
                  <a:lnTo>
                    <a:pt x="3950" y="1770"/>
                  </a:lnTo>
                  <a:lnTo>
                    <a:pt x="3958" y="1778"/>
                  </a:lnTo>
                  <a:lnTo>
                    <a:pt x="4006" y="1841"/>
                  </a:lnTo>
                  <a:lnTo>
                    <a:pt x="4014" y="1857"/>
                  </a:lnTo>
                  <a:lnTo>
                    <a:pt x="4002" y="1854"/>
                  </a:lnTo>
                  <a:lnTo>
                    <a:pt x="4019" y="1952"/>
                  </a:lnTo>
                  <a:lnTo>
                    <a:pt x="4055" y="1982"/>
                  </a:lnTo>
                  <a:lnTo>
                    <a:pt x="4079" y="1970"/>
                  </a:lnTo>
                  <a:lnTo>
                    <a:pt x="4087" y="1986"/>
                  </a:lnTo>
                  <a:lnTo>
                    <a:pt x="4147" y="1991"/>
                  </a:lnTo>
                  <a:lnTo>
                    <a:pt x="4184" y="1979"/>
                  </a:lnTo>
                  <a:lnTo>
                    <a:pt x="4184" y="1970"/>
                  </a:lnTo>
                  <a:lnTo>
                    <a:pt x="4188" y="1957"/>
                  </a:lnTo>
                  <a:lnTo>
                    <a:pt x="4192" y="1947"/>
                  </a:lnTo>
                  <a:lnTo>
                    <a:pt x="4192" y="1935"/>
                  </a:lnTo>
                  <a:lnTo>
                    <a:pt x="4197" y="1922"/>
                  </a:lnTo>
                  <a:lnTo>
                    <a:pt x="4197" y="1911"/>
                  </a:lnTo>
                  <a:lnTo>
                    <a:pt x="4200" y="1898"/>
                  </a:lnTo>
                  <a:lnTo>
                    <a:pt x="4200" y="1893"/>
                  </a:lnTo>
                  <a:close/>
                  <a:moveTo>
                    <a:pt x="5044" y="1551"/>
                  </a:moveTo>
                  <a:lnTo>
                    <a:pt x="5015" y="1541"/>
                  </a:lnTo>
                  <a:lnTo>
                    <a:pt x="5015" y="1515"/>
                  </a:lnTo>
                  <a:lnTo>
                    <a:pt x="5007" y="1500"/>
                  </a:lnTo>
                  <a:lnTo>
                    <a:pt x="5015" y="1488"/>
                  </a:lnTo>
                  <a:lnTo>
                    <a:pt x="5007" y="1488"/>
                  </a:lnTo>
                  <a:lnTo>
                    <a:pt x="5019" y="1468"/>
                  </a:lnTo>
                  <a:lnTo>
                    <a:pt x="4992" y="1443"/>
                  </a:lnTo>
                  <a:lnTo>
                    <a:pt x="5011" y="1409"/>
                  </a:lnTo>
                  <a:lnTo>
                    <a:pt x="5000" y="1404"/>
                  </a:lnTo>
                  <a:lnTo>
                    <a:pt x="4992" y="1401"/>
                  </a:lnTo>
                  <a:lnTo>
                    <a:pt x="4976" y="1392"/>
                  </a:lnTo>
                  <a:lnTo>
                    <a:pt x="4959" y="1384"/>
                  </a:lnTo>
                  <a:lnTo>
                    <a:pt x="4951" y="1382"/>
                  </a:lnTo>
                  <a:lnTo>
                    <a:pt x="4955" y="1369"/>
                  </a:lnTo>
                  <a:lnTo>
                    <a:pt x="4947" y="1367"/>
                  </a:lnTo>
                  <a:lnTo>
                    <a:pt x="4938" y="1365"/>
                  </a:lnTo>
                  <a:lnTo>
                    <a:pt x="4919" y="1357"/>
                  </a:lnTo>
                  <a:lnTo>
                    <a:pt x="4903" y="1350"/>
                  </a:lnTo>
                  <a:lnTo>
                    <a:pt x="4898" y="1350"/>
                  </a:lnTo>
                  <a:lnTo>
                    <a:pt x="4886" y="1345"/>
                  </a:lnTo>
                  <a:lnTo>
                    <a:pt x="4866" y="1338"/>
                  </a:lnTo>
                  <a:lnTo>
                    <a:pt x="4853" y="1335"/>
                  </a:lnTo>
                  <a:lnTo>
                    <a:pt x="4846" y="1330"/>
                  </a:lnTo>
                  <a:lnTo>
                    <a:pt x="4826" y="1325"/>
                  </a:lnTo>
                  <a:lnTo>
                    <a:pt x="4814" y="1320"/>
                  </a:lnTo>
                  <a:lnTo>
                    <a:pt x="4810" y="1328"/>
                  </a:lnTo>
                  <a:lnTo>
                    <a:pt x="4801" y="1328"/>
                  </a:lnTo>
                  <a:lnTo>
                    <a:pt x="4810" y="1332"/>
                  </a:lnTo>
                  <a:lnTo>
                    <a:pt x="4797" y="1338"/>
                  </a:lnTo>
                  <a:lnTo>
                    <a:pt x="4785" y="1340"/>
                  </a:lnTo>
                  <a:lnTo>
                    <a:pt x="4794" y="1345"/>
                  </a:lnTo>
                  <a:lnTo>
                    <a:pt x="4781" y="1345"/>
                  </a:lnTo>
                  <a:lnTo>
                    <a:pt x="4805" y="1350"/>
                  </a:lnTo>
                  <a:lnTo>
                    <a:pt x="4789" y="1357"/>
                  </a:lnTo>
                  <a:lnTo>
                    <a:pt x="4769" y="1354"/>
                  </a:lnTo>
                  <a:lnTo>
                    <a:pt x="4773" y="1365"/>
                  </a:lnTo>
                  <a:lnTo>
                    <a:pt x="4761" y="1369"/>
                  </a:lnTo>
                  <a:lnTo>
                    <a:pt x="4766" y="1357"/>
                  </a:lnTo>
                  <a:lnTo>
                    <a:pt x="4742" y="1350"/>
                  </a:lnTo>
                  <a:lnTo>
                    <a:pt x="4725" y="1365"/>
                  </a:lnTo>
                  <a:lnTo>
                    <a:pt x="4716" y="1345"/>
                  </a:lnTo>
                  <a:lnTo>
                    <a:pt x="4725" y="1318"/>
                  </a:lnTo>
                  <a:lnTo>
                    <a:pt x="4721" y="1318"/>
                  </a:lnTo>
                  <a:lnTo>
                    <a:pt x="4704" y="1318"/>
                  </a:lnTo>
                  <a:lnTo>
                    <a:pt x="4685" y="1318"/>
                  </a:lnTo>
                  <a:lnTo>
                    <a:pt x="4673" y="1320"/>
                  </a:lnTo>
                  <a:lnTo>
                    <a:pt x="4659" y="1328"/>
                  </a:lnTo>
                  <a:lnTo>
                    <a:pt x="4638" y="1327"/>
                  </a:lnTo>
                  <a:lnTo>
                    <a:pt x="4621" y="1337"/>
                  </a:lnTo>
                  <a:lnTo>
                    <a:pt x="4608" y="1353"/>
                  </a:lnTo>
                  <a:lnTo>
                    <a:pt x="4619" y="1376"/>
                  </a:lnTo>
                  <a:lnTo>
                    <a:pt x="4628" y="1404"/>
                  </a:lnTo>
                  <a:lnTo>
                    <a:pt x="4632" y="1448"/>
                  </a:lnTo>
                  <a:lnTo>
                    <a:pt x="4660" y="1468"/>
                  </a:lnTo>
                  <a:lnTo>
                    <a:pt x="4677" y="1495"/>
                  </a:lnTo>
                  <a:lnTo>
                    <a:pt x="4685" y="1504"/>
                  </a:lnTo>
                  <a:lnTo>
                    <a:pt x="4689" y="1504"/>
                  </a:lnTo>
                  <a:lnTo>
                    <a:pt x="4758" y="1527"/>
                  </a:lnTo>
                  <a:lnTo>
                    <a:pt x="4794" y="1532"/>
                  </a:lnTo>
                  <a:lnTo>
                    <a:pt x="4797" y="1527"/>
                  </a:lnTo>
                  <a:lnTo>
                    <a:pt x="4810" y="1535"/>
                  </a:lnTo>
                  <a:lnTo>
                    <a:pt x="4817" y="1566"/>
                  </a:lnTo>
                  <a:lnTo>
                    <a:pt x="4826" y="1579"/>
                  </a:lnTo>
                  <a:lnTo>
                    <a:pt x="4890" y="1584"/>
                  </a:lnTo>
                  <a:lnTo>
                    <a:pt x="4938" y="1579"/>
                  </a:lnTo>
                  <a:lnTo>
                    <a:pt x="4943" y="1571"/>
                  </a:lnTo>
                  <a:lnTo>
                    <a:pt x="4996" y="1569"/>
                  </a:lnTo>
                  <a:lnTo>
                    <a:pt x="5044" y="1551"/>
                  </a:lnTo>
                  <a:close/>
                  <a:moveTo>
                    <a:pt x="4745" y="1495"/>
                  </a:moveTo>
                  <a:lnTo>
                    <a:pt x="4754" y="1500"/>
                  </a:lnTo>
                  <a:lnTo>
                    <a:pt x="4758" y="1500"/>
                  </a:lnTo>
                  <a:lnTo>
                    <a:pt x="4754" y="1502"/>
                  </a:lnTo>
                  <a:lnTo>
                    <a:pt x="4749" y="1502"/>
                  </a:lnTo>
                  <a:lnTo>
                    <a:pt x="4745" y="1502"/>
                  </a:lnTo>
                  <a:lnTo>
                    <a:pt x="4745" y="1497"/>
                  </a:lnTo>
                  <a:lnTo>
                    <a:pt x="4745" y="1495"/>
                  </a:lnTo>
                  <a:close/>
                  <a:moveTo>
                    <a:pt x="4721" y="1481"/>
                  </a:moveTo>
                  <a:lnTo>
                    <a:pt x="4729" y="1485"/>
                  </a:lnTo>
                  <a:lnTo>
                    <a:pt x="4737" y="1488"/>
                  </a:lnTo>
                  <a:lnTo>
                    <a:pt x="4745" y="1492"/>
                  </a:lnTo>
                  <a:lnTo>
                    <a:pt x="4737" y="1490"/>
                  </a:lnTo>
                  <a:lnTo>
                    <a:pt x="4733" y="1490"/>
                  </a:lnTo>
                  <a:lnTo>
                    <a:pt x="4721" y="1490"/>
                  </a:lnTo>
                  <a:lnTo>
                    <a:pt x="4716" y="1485"/>
                  </a:lnTo>
                  <a:lnTo>
                    <a:pt x="4716" y="1483"/>
                  </a:lnTo>
                  <a:lnTo>
                    <a:pt x="4721" y="1481"/>
                  </a:lnTo>
                  <a:close/>
                  <a:moveTo>
                    <a:pt x="3643" y="131"/>
                  </a:moveTo>
                  <a:lnTo>
                    <a:pt x="3647" y="123"/>
                  </a:lnTo>
                  <a:lnTo>
                    <a:pt x="3635" y="116"/>
                  </a:lnTo>
                  <a:lnTo>
                    <a:pt x="3643" y="110"/>
                  </a:lnTo>
                  <a:lnTo>
                    <a:pt x="3631" y="103"/>
                  </a:lnTo>
                  <a:lnTo>
                    <a:pt x="3623" y="79"/>
                  </a:lnTo>
                  <a:lnTo>
                    <a:pt x="3627" y="79"/>
                  </a:lnTo>
                  <a:lnTo>
                    <a:pt x="3631" y="79"/>
                  </a:lnTo>
                  <a:lnTo>
                    <a:pt x="3647" y="76"/>
                  </a:lnTo>
                  <a:lnTo>
                    <a:pt x="3652" y="66"/>
                  </a:lnTo>
                  <a:lnTo>
                    <a:pt x="3643" y="61"/>
                  </a:lnTo>
                  <a:lnTo>
                    <a:pt x="3655" y="47"/>
                  </a:lnTo>
                  <a:lnTo>
                    <a:pt x="3647" y="42"/>
                  </a:lnTo>
                  <a:lnTo>
                    <a:pt x="3671" y="37"/>
                  </a:lnTo>
                  <a:lnTo>
                    <a:pt x="3687" y="44"/>
                  </a:lnTo>
                  <a:lnTo>
                    <a:pt x="3691" y="32"/>
                  </a:lnTo>
                  <a:lnTo>
                    <a:pt x="3720" y="42"/>
                  </a:lnTo>
                  <a:lnTo>
                    <a:pt x="3696" y="32"/>
                  </a:lnTo>
                  <a:lnTo>
                    <a:pt x="3696" y="24"/>
                  </a:lnTo>
                  <a:lnTo>
                    <a:pt x="3687" y="24"/>
                  </a:lnTo>
                  <a:lnTo>
                    <a:pt x="3683" y="12"/>
                  </a:lnTo>
                  <a:lnTo>
                    <a:pt x="3708" y="12"/>
                  </a:lnTo>
                  <a:lnTo>
                    <a:pt x="3720" y="15"/>
                  </a:lnTo>
                  <a:lnTo>
                    <a:pt x="3720" y="22"/>
                  </a:lnTo>
                  <a:lnTo>
                    <a:pt x="3752" y="22"/>
                  </a:lnTo>
                  <a:lnTo>
                    <a:pt x="3748" y="32"/>
                  </a:lnTo>
                  <a:lnTo>
                    <a:pt x="3781" y="27"/>
                  </a:lnTo>
                  <a:lnTo>
                    <a:pt x="3788" y="19"/>
                  </a:lnTo>
                  <a:lnTo>
                    <a:pt x="3797" y="22"/>
                  </a:lnTo>
                  <a:lnTo>
                    <a:pt x="3784" y="24"/>
                  </a:lnTo>
                  <a:lnTo>
                    <a:pt x="3801" y="19"/>
                  </a:lnTo>
                  <a:lnTo>
                    <a:pt x="3837" y="35"/>
                  </a:lnTo>
                  <a:lnTo>
                    <a:pt x="3838" y="37"/>
                  </a:lnTo>
                  <a:lnTo>
                    <a:pt x="3849" y="39"/>
                  </a:lnTo>
                  <a:lnTo>
                    <a:pt x="3845" y="32"/>
                  </a:lnTo>
                  <a:lnTo>
                    <a:pt x="3837" y="32"/>
                  </a:lnTo>
                  <a:lnTo>
                    <a:pt x="3934" y="10"/>
                  </a:lnTo>
                  <a:lnTo>
                    <a:pt x="3950" y="15"/>
                  </a:lnTo>
                  <a:lnTo>
                    <a:pt x="3937" y="12"/>
                  </a:lnTo>
                  <a:lnTo>
                    <a:pt x="3946" y="19"/>
                  </a:lnTo>
                  <a:lnTo>
                    <a:pt x="3954" y="19"/>
                  </a:lnTo>
                  <a:lnTo>
                    <a:pt x="3970" y="17"/>
                  </a:lnTo>
                  <a:lnTo>
                    <a:pt x="3975" y="7"/>
                  </a:lnTo>
                  <a:lnTo>
                    <a:pt x="3994" y="2"/>
                  </a:lnTo>
                  <a:lnTo>
                    <a:pt x="3998" y="0"/>
                  </a:lnTo>
                  <a:lnTo>
                    <a:pt x="3990" y="7"/>
                  </a:lnTo>
                  <a:lnTo>
                    <a:pt x="4006" y="7"/>
                  </a:lnTo>
                  <a:lnTo>
                    <a:pt x="4006" y="0"/>
                  </a:lnTo>
                  <a:lnTo>
                    <a:pt x="4031" y="4"/>
                  </a:lnTo>
                  <a:lnTo>
                    <a:pt x="4038" y="4"/>
                  </a:lnTo>
                  <a:lnTo>
                    <a:pt x="4047" y="7"/>
                  </a:lnTo>
                  <a:lnTo>
                    <a:pt x="4051" y="7"/>
                  </a:lnTo>
                  <a:lnTo>
                    <a:pt x="4055" y="17"/>
                  </a:lnTo>
                  <a:lnTo>
                    <a:pt x="4079" y="27"/>
                  </a:lnTo>
                  <a:lnTo>
                    <a:pt x="4088" y="37"/>
                  </a:lnTo>
                  <a:lnTo>
                    <a:pt x="4044" y="59"/>
                  </a:lnTo>
                  <a:lnTo>
                    <a:pt x="3968" y="49"/>
                  </a:lnTo>
                  <a:lnTo>
                    <a:pt x="3923" y="65"/>
                  </a:lnTo>
                  <a:lnTo>
                    <a:pt x="3931" y="87"/>
                  </a:lnTo>
                  <a:lnTo>
                    <a:pt x="3958" y="108"/>
                  </a:lnTo>
                  <a:lnTo>
                    <a:pt x="3934" y="113"/>
                  </a:lnTo>
                  <a:lnTo>
                    <a:pt x="3921" y="110"/>
                  </a:lnTo>
                  <a:lnTo>
                    <a:pt x="3918" y="100"/>
                  </a:lnTo>
                  <a:lnTo>
                    <a:pt x="3882" y="94"/>
                  </a:lnTo>
                  <a:lnTo>
                    <a:pt x="3874" y="98"/>
                  </a:lnTo>
                  <a:lnTo>
                    <a:pt x="3857" y="94"/>
                  </a:lnTo>
                  <a:lnTo>
                    <a:pt x="3857" y="98"/>
                  </a:lnTo>
                  <a:lnTo>
                    <a:pt x="3824" y="108"/>
                  </a:lnTo>
                  <a:lnTo>
                    <a:pt x="3801" y="110"/>
                  </a:lnTo>
                  <a:lnTo>
                    <a:pt x="3821" y="131"/>
                  </a:lnTo>
                  <a:lnTo>
                    <a:pt x="3861" y="145"/>
                  </a:lnTo>
                  <a:lnTo>
                    <a:pt x="3857" y="150"/>
                  </a:lnTo>
                  <a:lnTo>
                    <a:pt x="3853" y="147"/>
                  </a:lnTo>
                  <a:lnTo>
                    <a:pt x="3833" y="160"/>
                  </a:lnTo>
                  <a:lnTo>
                    <a:pt x="3845" y="172"/>
                  </a:lnTo>
                  <a:lnTo>
                    <a:pt x="3821" y="167"/>
                  </a:lnTo>
                  <a:lnTo>
                    <a:pt x="3768" y="172"/>
                  </a:lnTo>
                  <a:lnTo>
                    <a:pt x="3760" y="180"/>
                  </a:lnTo>
                  <a:lnTo>
                    <a:pt x="3748" y="172"/>
                  </a:lnTo>
                  <a:lnTo>
                    <a:pt x="3744" y="172"/>
                  </a:lnTo>
                  <a:lnTo>
                    <a:pt x="3732" y="170"/>
                  </a:lnTo>
                  <a:lnTo>
                    <a:pt x="3728" y="170"/>
                  </a:lnTo>
                  <a:lnTo>
                    <a:pt x="3724" y="170"/>
                  </a:lnTo>
                  <a:lnTo>
                    <a:pt x="3720" y="170"/>
                  </a:lnTo>
                  <a:lnTo>
                    <a:pt x="3716" y="170"/>
                  </a:lnTo>
                  <a:lnTo>
                    <a:pt x="3712" y="167"/>
                  </a:lnTo>
                  <a:lnTo>
                    <a:pt x="3716" y="170"/>
                  </a:lnTo>
                  <a:lnTo>
                    <a:pt x="3712" y="172"/>
                  </a:lnTo>
                  <a:lnTo>
                    <a:pt x="3687" y="172"/>
                  </a:lnTo>
                  <a:lnTo>
                    <a:pt x="3683" y="172"/>
                  </a:lnTo>
                  <a:lnTo>
                    <a:pt x="3673" y="174"/>
                  </a:lnTo>
                  <a:lnTo>
                    <a:pt x="3673" y="171"/>
                  </a:lnTo>
                  <a:lnTo>
                    <a:pt x="3667" y="167"/>
                  </a:lnTo>
                  <a:lnTo>
                    <a:pt x="3671" y="163"/>
                  </a:lnTo>
                  <a:lnTo>
                    <a:pt x="3670" y="160"/>
                  </a:lnTo>
                  <a:lnTo>
                    <a:pt x="3670" y="155"/>
                  </a:lnTo>
                  <a:lnTo>
                    <a:pt x="3669" y="151"/>
                  </a:lnTo>
                  <a:lnTo>
                    <a:pt x="3649" y="146"/>
                  </a:lnTo>
                  <a:lnTo>
                    <a:pt x="3643" y="145"/>
                  </a:lnTo>
                  <a:lnTo>
                    <a:pt x="3640" y="142"/>
                  </a:lnTo>
                  <a:lnTo>
                    <a:pt x="3634" y="135"/>
                  </a:lnTo>
                  <a:lnTo>
                    <a:pt x="3634" y="129"/>
                  </a:lnTo>
                  <a:lnTo>
                    <a:pt x="3643" y="131"/>
                  </a:lnTo>
                  <a:close/>
                  <a:moveTo>
                    <a:pt x="8713" y="1448"/>
                  </a:moveTo>
                  <a:lnTo>
                    <a:pt x="8915" y="1551"/>
                  </a:lnTo>
                  <a:lnTo>
                    <a:pt x="8915" y="1539"/>
                  </a:lnTo>
                  <a:lnTo>
                    <a:pt x="8890" y="1519"/>
                  </a:lnTo>
                  <a:lnTo>
                    <a:pt x="8890" y="1500"/>
                  </a:lnTo>
                  <a:lnTo>
                    <a:pt x="8919" y="1497"/>
                  </a:lnTo>
                  <a:lnTo>
                    <a:pt x="8915" y="1475"/>
                  </a:lnTo>
                  <a:lnTo>
                    <a:pt x="8867" y="1460"/>
                  </a:lnTo>
                  <a:lnTo>
                    <a:pt x="8871" y="1441"/>
                  </a:lnTo>
                  <a:lnTo>
                    <a:pt x="8838" y="1409"/>
                  </a:lnTo>
                  <a:lnTo>
                    <a:pt x="8729" y="1372"/>
                  </a:lnTo>
                  <a:lnTo>
                    <a:pt x="8725" y="1387"/>
                  </a:lnTo>
                  <a:lnTo>
                    <a:pt x="8725" y="1401"/>
                  </a:lnTo>
                  <a:lnTo>
                    <a:pt x="8721" y="1416"/>
                  </a:lnTo>
                  <a:lnTo>
                    <a:pt x="8717" y="1431"/>
                  </a:lnTo>
                  <a:lnTo>
                    <a:pt x="8713" y="1446"/>
                  </a:lnTo>
                  <a:lnTo>
                    <a:pt x="8713" y="1448"/>
                  </a:lnTo>
                  <a:close/>
                  <a:moveTo>
                    <a:pt x="0" y="3499"/>
                  </a:moveTo>
                  <a:lnTo>
                    <a:pt x="472" y="3499"/>
                  </a:lnTo>
                  <a:lnTo>
                    <a:pt x="472" y="3643"/>
                  </a:lnTo>
                  <a:lnTo>
                    <a:pt x="0" y="3643"/>
                  </a:lnTo>
                  <a:lnTo>
                    <a:pt x="0" y="3499"/>
                  </a:lnTo>
                  <a:close/>
                  <a:moveTo>
                    <a:pt x="3498" y="1028"/>
                  </a:moveTo>
                  <a:lnTo>
                    <a:pt x="3498" y="1030"/>
                  </a:lnTo>
                  <a:lnTo>
                    <a:pt x="3494" y="1043"/>
                  </a:lnTo>
                  <a:lnTo>
                    <a:pt x="3514" y="1052"/>
                  </a:lnTo>
                  <a:lnTo>
                    <a:pt x="3526" y="1074"/>
                  </a:lnTo>
                  <a:lnTo>
                    <a:pt x="3526" y="1092"/>
                  </a:lnTo>
                  <a:lnTo>
                    <a:pt x="3526" y="1104"/>
                  </a:lnTo>
                  <a:lnTo>
                    <a:pt x="3526" y="1109"/>
                  </a:lnTo>
                  <a:lnTo>
                    <a:pt x="3522" y="1124"/>
                  </a:lnTo>
                  <a:lnTo>
                    <a:pt x="3526" y="1143"/>
                  </a:lnTo>
                  <a:lnTo>
                    <a:pt x="3510" y="1146"/>
                  </a:lnTo>
                  <a:lnTo>
                    <a:pt x="3481" y="1128"/>
                  </a:lnTo>
                  <a:lnTo>
                    <a:pt x="3490" y="1092"/>
                  </a:lnTo>
                  <a:lnTo>
                    <a:pt x="3478" y="1082"/>
                  </a:lnTo>
                  <a:lnTo>
                    <a:pt x="3481" y="1067"/>
                  </a:lnTo>
                  <a:lnTo>
                    <a:pt x="3469" y="1065"/>
                  </a:lnTo>
                  <a:lnTo>
                    <a:pt x="3478" y="1045"/>
                  </a:lnTo>
                  <a:lnTo>
                    <a:pt x="3462" y="1037"/>
                  </a:lnTo>
                  <a:lnTo>
                    <a:pt x="3457" y="1035"/>
                  </a:lnTo>
                  <a:lnTo>
                    <a:pt x="3462" y="1025"/>
                  </a:lnTo>
                  <a:lnTo>
                    <a:pt x="3457" y="1025"/>
                  </a:lnTo>
                  <a:lnTo>
                    <a:pt x="3462" y="1025"/>
                  </a:lnTo>
                  <a:lnTo>
                    <a:pt x="3498" y="1028"/>
                  </a:lnTo>
                  <a:close/>
                  <a:moveTo>
                    <a:pt x="9076" y="1421"/>
                  </a:moveTo>
                  <a:lnTo>
                    <a:pt x="9081" y="1438"/>
                  </a:lnTo>
                  <a:lnTo>
                    <a:pt x="9064" y="1448"/>
                  </a:lnTo>
                  <a:lnTo>
                    <a:pt x="9064" y="1460"/>
                  </a:lnTo>
                  <a:lnTo>
                    <a:pt x="9044" y="1465"/>
                  </a:lnTo>
                  <a:lnTo>
                    <a:pt x="9029" y="1481"/>
                  </a:lnTo>
                  <a:lnTo>
                    <a:pt x="8992" y="1488"/>
                  </a:lnTo>
                  <a:lnTo>
                    <a:pt x="8963" y="1478"/>
                  </a:lnTo>
                  <a:lnTo>
                    <a:pt x="8947" y="1470"/>
                  </a:lnTo>
                  <a:lnTo>
                    <a:pt x="8947" y="1460"/>
                  </a:lnTo>
                  <a:lnTo>
                    <a:pt x="8996" y="1463"/>
                  </a:lnTo>
                  <a:lnTo>
                    <a:pt x="9003" y="1448"/>
                  </a:lnTo>
                  <a:lnTo>
                    <a:pt x="9003" y="1465"/>
                  </a:lnTo>
                  <a:lnTo>
                    <a:pt x="9029" y="1463"/>
                  </a:lnTo>
                  <a:lnTo>
                    <a:pt x="9044" y="1448"/>
                  </a:lnTo>
                  <a:lnTo>
                    <a:pt x="9056" y="1446"/>
                  </a:lnTo>
                  <a:lnTo>
                    <a:pt x="9056" y="1424"/>
                  </a:lnTo>
                  <a:lnTo>
                    <a:pt x="9076" y="1421"/>
                  </a:lnTo>
                  <a:close/>
                  <a:moveTo>
                    <a:pt x="9044" y="1374"/>
                  </a:moveTo>
                  <a:lnTo>
                    <a:pt x="9101" y="1419"/>
                  </a:lnTo>
                  <a:lnTo>
                    <a:pt x="9105" y="1426"/>
                  </a:lnTo>
                  <a:lnTo>
                    <a:pt x="9097" y="1441"/>
                  </a:lnTo>
                  <a:lnTo>
                    <a:pt x="9085" y="1404"/>
                  </a:lnTo>
                  <a:lnTo>
                    <a:pt x="9040" y="1379"/>
                  </a:lnTo>
                  <a:lnTo>
                    <a:pt x="9044" y="1374"/>
                  </a:lnTo>
                  <a:close/>
                  <a:moveTo>
                    <a:pt x="9016" y="1369"/>
                  </a:moveTo>
                  <a:lnTo>
                    <a:pt x="9032" y="1369"/>
                  </a:lnTo>
                  <a:lnTo>
                    <a:pt x="9032" y="1377"/>
                  </a:lnTo>
                  <a:lnTo>
                    <a:pt x="9016" y="1369"/>
                  </a:lnTo>
                  <a:close/>
                  <a:moveTo>
                    <a:pt x="8935" y="1354"/>
                  </a:moveTo>
                  <a:lnTo>
                    <a:pt x="8911" y="1362"/>
                  </a:lnTo>
                  <a:lnTo>
                    <a:pt x="8911" y="1354"/>
                  </a:lnTo>
                  <a:lnTo>
                    <a:pt x="8935" y="1354"/>
                  </a:lnTo>
                  <a:close/>
                  <a:moveTo>
                    <a:pt x="9145" y="1463"/>
                  </a:moveTo>
                  <a:lnTo>
                    <a:pt x="9174" y="1492"/>
                  </a:lnTo>
                  <a:lnTo>
                    <a:pt x="9169" y="1507"/>
                  </a:lnTo>
                  <a:lnTo>
                    <a:pt x="9153" y="1504"/>
                  </a:lnTo>
                  <a:lnTo>
                    <a:pt x="9141" y="1481"/>
                  </a:lnTo>
                  <a:lnTo>
                    <a:pt x="9145" y="1463"/>
                  </a:lnTo>
                  <a:close/>
                  <a:moveTo>
                    <a:pt x="3860" y="1248"/>
                  </a:moveTo>
                  <a:lnTo>
                    <a:pt x="3851" y="1271"/>
                  </a:lnTo>
                  <a:lnTo>
                    <a:pt x="3911" y="1272"/>
                  </a:lnTo>
                  <a:lnTo>
                    <a:pt x="3986" y="1263"/>
                  </a:lnTo>
                  <a:lnTo>
                    <a:pt x="4014" y="1259"/>
                  </a:lnTo>
                  <a:lnTo>
                    <a:pt x="4033" y="1264"/>
                  </a:lnTo>
                  <a:lnTo>
                    <a:pt x="4062" y="1262"/>
                  </a:lnTo>
                  <a:lnTo>
                    <a:pt x="4087" y="1337"/>
                  </a:lnTo>
                  <a:lnTo>
                    <a:pt x="4127" y="1333"/>
                  </a:lnTo>
                  <a:lnTo>
                    <a:pt x="4107" y="1242"/>
                  </a:lnTo>
                  <a:lnTo>
                    <a:pt x="4145" y="1232"/>
                  </a:lnTo>
                  <a:lnTo>
                    <a:pt x="4130" y="1178"/>
                  </a:lnTo>
                  <a:lnTo>
                    <a:pt x="4107" y="1149"/>
                  </a:lnTo>
                  <a:lnTo>
                    <a:pt x="4074" y="1111"/>
                  </a:lnTo>
                  <a:lnTo>
                    <a:pt x="4062" y="1089"/>
                  </a:lnTo>
                  <a:lnTo>
                    <a:pt x="4079" y="1052"/>
                  </a:lnTo>
                  <a:lnTo>
                    <a:pt x="4055" y="1037"/>
                  </a:lnTo>
                  <a:lnTo>
                    <a:pt x="4043" y="989"/>
                  </a:lnTo>
                  <a:lnTo>
                    <a:pt x="4031" y="983"/>
                  </a:lnTo>
                  <a:lnTo>
                    <a:pt x="4022" y="986"/>
                  </a:lnTo>
                  <a:lnTo>
                    <a:pt x="4019" y="993"/>
                  </a:lnTo>
                  <a:lnTo>
                    <a:pt x="4014" y="993"/>
                  </a:lnTo>
                  <a:lnTo>
                    <a:pt x="4035" y="998"/>
                  </a:lnTo>
                  <a:lnTo>
                    <a:pt x="4035" y="1012"/>
                  </a:lnTo>
                  <a:lnTo>
                    <a:pt x="4002" y="1028"/>
                  </a:lnTo>
                  <a:lnTo>
                    <a:pt x="3982" y="1062"/>
                  </a:lnTo>
                  <a:lnTo>
                    <a:pt x="3970" y="1067"/>
                  </a:lnTo>
                  <a:lnTo>
                    <a:pt x="3966" y="1082"/>
                  </a:lnTo>
                  <a:lnTo>
                    <a:pt x="3946" y="1092"/>
                  </a:lnTo>
                  <a:lnTo>
                    <a:pt x="3925" y="1119"/>
                  </a:lnTo>
                  <a:lnTo>
                    <a:pt x="3934" y="1121"/>
                  </a:lnTo>
                  <a:lnTo>
                    <a:pt x="3909" y="1139"/>
                  </a:lnTo>
                  <a:lnTo>
                    <a:pt x="3882" y="1121"/>
                  </a:lnTo>
                  <a:lnTo>
                    <a:pt x="3877" y="1126"/>
                  </a:lnTo>
                  <a:lnTo>
                    <a:pt x="3849" y="1128"/>
                  </a:lnTo>
                  <a:lnTo>
                    <a:pt x="3813" y="1153"/>
                  </a:lnTo>
                  <a:lnTo>
                    <a:pt x="3804" y="1178"/>
                  </a:lnTo>
                  <a:lnTo>
                    <a:pt x="3801" y="1185"/>
                  </a:lnTo>
                  <a:lnTo>
                    <a:pt x="3809" y="1185"/>
                  </a:lnTo>
                  <a:lnTo>
                    <a:pt x="3804" y="1180"/>
                  </a:lnTo>
                  <a:lnTo>
                    <a:pt x="3817" y="1185"/>
                  </a:lnTo>
                  <a:lnTo>
                    <a:pt x="3824" y="1197"/>
                  </a:lnTo>
                  <a:lnTo>
                    <a:pt x="3849" y="1195"/>
                  </a:lnTo>
                  <a:lnTo>
                    <a:pt x="3849" y="1202"/>
                  </a:lnTo>
                  <a:lnTo>
                    <a:pt x="3840" y="1202"/>
                  </a:lnTo>
                  <a:lnTo>
                    <a:pt x="3845" y="1209"/>
                  </a:lnTo>
                  <a:lnTo>
                    <a:pt x="3857" y="1219"/>
                  </a:lnTo>
                  <a:lnTo>
                    <a:pt x="3856" y="1223"/>
                  </a:lnTo>
                  <a:lnTo>
                    <a:pt x="3919" y="1228"/>
                  </a:lnTo>
                  <a:lnTo>
                    <a:pt x="3909" y="1248"/>
                  </a:lnTo>
                  <a:lnTo>
                    <a:pt x="3860" y="1248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446920" y="1947240"/>
              <a:ext cx="123480" cy="128160"/>
            </a:xfrm>
            <a:custGeom>
              <a:avLst/>
              <a:gdLst/>
              <a:ahLst/>
              <a:rect l="l" t="t" r="r" b="b"/>
              <a:pathLst>
                <a:path w="345" h="355">
                  <a:moveTo>
                    <a:pt x="59" y="265"/>
                  </a:moveTo>
                  <a:lnTo>
                    <a:pt x="50" y="288"/>
                  </a:lnTo>
                  <a:lnTo>
                    <a:pt x="110" y="289"/>
                  </a:lnTo>
                  <a:lnTo>
                    <a:pt x="185" y="280"/>
                  </a:lnTo>
                  <a:lnTo>
                    <a:pt x="213" y="276"/>
                  </a:lnTo>
                  <a:lnTo>
                    <a:pt x="232" y="281"/>
                  </a:lnTo>
                  <a:lnTo>
                    <a:pt x="261" y="279"/>
                  </a:lnTo>
                  <a:lnTo>
                    <a:pt x="286" y="354"/>
                  </a:lnTo>
                  <a:lnTo>
                    <a:pt x="326" y="350"/>
                  </a:lnTo>
                  <a:lnTo>
                    <a:pt x="306" y="259"/>
                  </a:lnTo>
                  <a:lnTo>
                    <a:pt x="344" y="249"/>
                  </a:lnTo>
                  <a:lnTo>
                    <a:pt x="329" y="195"/>
                  </a:lnTo>
                  <a:lnTo>
                    <a:pt x="306" y="166"/>
                  </a:lnTo>
                  <a:lnTo>
                    <a:pt x="273" y="128"/>
                  </a:lnTo>
                  <a:lnTo>
                    <a:pt x="261" y="106"/>
                  </a:lnTo>
                  <a:lnTo>
                    <a:pt x="278" y="69"/>
                  </a:lnTo>
                  <a:lnTo>
                    <a:pt x="254" y="54"/>
                  </a:lnTo>
                  <a:lnTo>
                    <a:pt x="242" y="6"/>
                  </a:lnTo>
                  <a:lnTo>
                    <a:pt x="230" y="0"/>
                  </a:lnTo>
                  <a:lnTo>
                    <a:pt x="221" y="3"/>
                  </a:lnTo>
                  <a:lnTo>
                    <a:pt x="218" y="10"/>
                  </a:lnTo>
                  <a:lnTo>
                    <a:pt x="213" y="10"/>
                  </a:lnTo>
                  <a:lnTo>
                    <a:pt x="213" y="10"/>
                  </a:lnTo>
                  <a:lnTo>
                    <a:pt x="234" y="15"/>
                  </a:lnTo>
                  <a:lnTo>
                    <a:pt x="234" y="29"/>
                  </a:lnTo>
                  <a:lnTo>
                    <a:pt x="201" y="45"/>
                  </a:lnTo>
                  <a:lnTo>
                    <a:pt x="181" y="79"/>
                  </a:lnTo>
                  <a:lnTo>
                    <a:pt x="169" y="84"/>
                  </a:lnTo>
                  <a:lnTo>
                    <a:pt x="169" y="84"/>
                  </a:lnTo>
                  <a:lnTo>
                    <a:pt x="169" y="84"/>
                  </a:lnTo>
                  <a:lnTo>
                    <a:pt x="165" y="99"/>
                  </a:lnTo>
                  <a:lnTo>
                    <a:pt x="145" y="109"/>
                  </a:lnTo>
                  <a:lnTo>
                    <a:pt x="124" y="136"/>
                  </a:lnTo>
                  <a:lnTo>
                    <a:pt x="133" y="138"/>
                  </a:lnTo>
                  <a:lnTo>
                    <a:pt x="108" y="156"/>
                  </a:lnTo>
                  <a:lnTo>
                    <a:pt x="81" y="138"/>
                  </a:lnTo>
                  <a:lnTo>
                    <a:pt x="76" y="143"/>
                  </a:lnTo>
                  <a:lnTo>
                    <a:pt x="48" y="145"/>
                  </a:lnTo>
                  <a:lnTo>
                    <a:pt x="12" y="170"/>
                  </a:lnTo>
                  <a:lnTo>
                    <a:pt x="3" y="195"/>
                  </a:lnTo>
                  <a:lnTo>
                    <a:pt x="0" y="202"/>
                  </a:lnTo>
                  <a:lnTo>
                    <a:pt x="8" y="202"/>
                  </a:lnTo>
                  <a:lnTo>
                    <a:pt x="3" y="197"/>
                  </a:lnTo>
                  <a:lnTo>
                    <a:pt x="16" y="202"/>
                  </a:lnTo>
                  <a:lnTo>
                    <a:pt x="23" y="214"/>
                  </a:lnTo>
                  <a:lnTo>
                    <a:pt x="48" y="212"/>
                  </a:lnTo>
                  <a:lnTo>
                    <a:pt x="48" y="219"/>
                  </a:lnTo>
                  <a:lnTo>
                    <a:pt x="39" y="219"/>
                  </a:lnTo>
                  <a:lnTo>
                    <a:pt x="44" y="226"/>
                  </a:lnTo>
                  <a:lnTo>
                    <a:pt x="56" y="236"/>
                  </a:lnTo>
                  <a:lnTo>
                    <a:pt x="55" y="240"/>
                  </a:lnTo>
                  <a:lnTo>
                    <a:pt x="118" y="245"/>
                  </a:lnTo>
                  <a:lnTo>
                    <a:pt x="108" y="265"/>
                  </a:lnTo>
                  <a:lnTo>
                    <a:pt x="59" y="26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486520" y="2207160"/>
              <a:ext cx="186840" cy="102960"/>
            </a:xfrm>
            <a:custGeom>
              <a:avLst/>
              <a:gdLst/>
              <a:ahLst/>
              <a:rect l="l" t="t" r="r" b="b"/>
              <a:pathLst>
                <a:path w="519" h="286">
                  <a:moveTo>
                    <a:pt x="287" y="187"/>
                  </a:moveTo>
                  <a:lnTo>
                    <a:pt x="291" y="180"/>
                  </a:lnTo>
                  <a:lnTo>
                    <a:pt x="291" y="170"/>
                  </a:lnTo>
                  <a:lnTo>
                    <a:pt x="296" y="158"/>
                  </a:lnTo>
                  <a:lnTo>
                    <a:pt x="296" y="145"/>
                  </a:lnTo>
                  <a:lnTo>
                    <a:pt x="300" y="133"/>
                  </a:lnTo>
                  <a:lnTo>
                    <a:pt x="300" y="120"/>
                  </a:lnTo>
                  <a:lnTo>
                    <a:pt x="319" y="120"/>
                  </a:lnTo>
                  <a:lnTo>
                    <a:pt x="340" y="120"/>
                  </a:lnTo>
                  <a:lnTo>
                    <a:pt x="340" y="108"/>
                  </a:lnTo>
                  <a:lnTo>
                    <a:pt x="344" y="96"/>
                  </a:lnTo>
                  <a:lnTo>
                    <a:pt x="344" y="86"/>
                  </a:lnTo>
                  <a:lnTo>
                    <a:pt x="347" y="74"/>
                  </a:lnTo>
                  <a:lnTo>
                    <a:pt x="347" y="62"/>
                  </a:lnTo>
                  <a:lnTo>
                    <a:pt x="347" y="50"/>
                  </a:lnTo>
                  <a:lnTo>
                    <a:pt x="352" y="37"/>
                  </a:lnTo>
                  <a:lnTo>
                    <a:pt x="352" y="32"/>
                  </a:lnTo>
                  <a:lnTo>
                    <a:pt x="368" y="32"/>
                  </a:lnTo>
                  <a:lnTo>
                    <a:pt x="433" y="25"/>
                  </a:lnTo>
                  <a:lnTo>
                    <a:pt x="441" y="25"/>
                  </a:lnTo>
                  <a:lnTo>
                    <a:pt x="453" y="37"/>
                  </a:lnTo>
                  <a:lnTo>
                    <a:pt x="481" y="25"/>
                  </a:lnTo>
                  <a:lnTo>
                    <a:pt x="518" y="23"/>
                  </a:lnTo>
                  <a:lnTo>
                    <a:pt x="497" y="15"/>
                  </a:lnTo>
                  <a:lnTo>
                    <a:pt x="477" y="13"/>
                  </a:lnTo>
                  <a:lnTo>
                    <a:pt x="457" y="15"/>
                  </a:lnTo>
                  <a:lnTo>
                    <a:pt x="449" y="17"/>
                  </a:lnTo>
                  <a:lnTo>
                    <a:pt x="433" y="17"/>
                  </a:lnTo>
                  <a:lnTo>
                    <a:pt x="425" y="20"/>
                  </a:lnTo>
                  <a:lnTo>
                    <a:pt x="412" y="23"/>
                  </a:lnTo>
                  <a:lnTo>
                    <a:pt x="388" y="23"/>
                  </a:lnTo>
                  <a:lnTo>
                    <a:pt x="372" y="25"/>
                  </a:lnTo>
                  <a:lnTo>
                    <a:pt x="368" y="25"/>
                  </a:lnTo>
                  <a:lnTo>
                    <a:pt x="347" y="27"/>
                  </a:lnTo>
                  <a:lnTo>
                    <a:pt x="275" y="20"/>
                  </a:lnTo>
                  <a:lnTo>
                    <a:pt x="255" y="10"/>
                  </a:lnTo>
                  <a:lnTo>
                    <a:pt x="243" y="10"/>
                  </a:lnTo>
                  <a:lnTo>
                    <a:pt x="223" y="10"/>
                  </a:lnTo>
                  <a:lnTo>
                    <a:pt x="215" y="10"/>
                  </a:lnTo>
                  <a:lnTo>
                    <a:pt x="194" y="10"/>
                  </a:lnTo>
                  <a:lnTo>
                    <a:pt x="170" y="10"/>
                  </a:lnTo>
                  <a:lnTo>
                    <a:pt x="154" y="10"/>
                  </a:lnTo>
                  <a:lnTo>
                    <a:pt x="134" y="10"/>
                  </a:lnTo>
                  <a:lnTo>
                    <a:pt x="113" y="10"/>
                  </a:lnTo>
                  <a:lnTo>
                    <a:pt x="93" y="10"/>
                  </a:lnTo>
                  <a:lnTo>
                    <a:pt x="81" y="10"/>
                  </a:lnTo>
                  <a:lnTo>
                    <a:pt x="53" y="0"/>
                  </a:lnTo>
                  <a:lnTo>
                    <a:pt x="0" y="5"/>
                  </a:lnTo>
                  <a:lnTo>
                    <a:pt x="0" y="27"/>
                  </a:lnTo>
                  <a:lnTo>
                    <a:pt x="33" y="59"/>
                  </a:lnTo>
                  <a:lnTo>
                    <a:pt x="37" y="64"/>
                  </a:lnTo>
                  <a:lnTo>
                    <a:pt x="45" y="72"/>
                  </a:lnTo>
                  <a:lnTo>
                    <a:pt x="93" y="135"/>
                  </a:lnTo>
                  <a:lnTo>
                    <a:pt x="101" y="151"/>
                  </a:lnTo>
                  <a:lnTo>
                    <a:pt x="89" y="148"/>
                  </a:lnTo>
                  <a:lnTo>
                    <a:pt x="106" y="246"/>
                  </a:lnTo>
                  <a:lnTo>
                    <a:pt x="142" y="276"/>
                  </a:lnTo>
                  <a:lnTo>
                    <a:pt x="166" y="264"/>
                  </a:lnTo>
                  <a:lnTo>
                    <a:pt x="174" y="280"/>
                  </a:lnTo>
                  <a:lnTo>
                    <a:pt x="234" y="285"/>
                  </a:lnTo>
                  <a:lnTo>
                    <a:pt x="271" y="273"/>
                  </a:lnTo>
                  <a:lnTo>
                    <a:pt x="271" y="264"/>
                  </a:lnTo>
                  <a:lnTo>
                    <a:pt x="275" y="251"/>
                  </a:lnTo>
                  <a:lnTo>
                    <a:pt x="279" y="241"/>
                  </a:lnTo>
                  <a:lnTo>
                    <a:pt x="279" y="229"/>
                  </a:lnTo>
                  <a:lnTo>
                    <a:pt x="284" y="216"/>
                  </a:lnTo>
                  <a:lnTo>
                    <a:pt x="284" y="205"/>
                  </a:lnTo>
                  <a:lnTo>
                    <a:pt x="287" y="192"/>
                  </a:lnTo>
                  <a:lnTo>
                    <a:pt x="287" y="18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737440" y="2067840"/>
              <a:ext cx="156600" cy="96480"/>
            </a:xfrm>
            <a:custGeom>
              <a:avLst/>
              <a:gdLst/>
              <a:ahLst/>
              <a:rect l="l" t="t" r="r" b="b"/>
              <a:pathLst>
                <a:path w="437" h="267">
                  <a:moveTo>
                    <a:pt x="436" y="233"/>
                  </a:moveTo>
                  <a:lnTo>
                    <a:pt x="407" y="223"/>
                  </a:lnTo>
                  <a:lnTo>
                    <a:pt x="407" y="197"/>
                  </a:lnTo>
                  <a:lnTo>
                    <a:pt x="399" y="182"/>
                  </a:lnTo>
                  <a:lnTo>
                    <a:pt x="407" y="170"/>
                  </a:lnTo>
                  <a:lnTo>
                    <a:pt x="399" y="170"/>
                  </a:lnTo>
                  <a:lnTo>
                    <a:pt x="411" y="150"/>
                  </a:lnTo>
                  <a:lnTo>
                    <a:pt x="384" y="125"/>
                  </a:lnTo>
                  <a:lnTo>
                    <a:pt x="403" y="91"/>
                  </a:lnTo>
                  <a:lnTo>
                    <a:pt x="403" y="91"/>
                  </a:lnTo>
                  <a:lnTo>
                    <a:pt x="392" y="86"/>
                  </a:lnTo>
                  <a:lnTo>
                    <a:pt x="384" y="83"/>
                  </a:lnTo>
                  <a:lnTo>
                    <a:pt x="368" y="74"/>
                  </a:lnTo>
                  <a:lnTo>
                    <a:pt x="351" y="66"/>
                  </a:lnTo>
                  <a:lnTo>
                    <a:pt x="343" y="64"/>
                  </a:lnTo>
                  <a:lnTo>
                    <a:pt x="347" y="51"/>
                  </a:lnTo>
                  <a:lnTo>
                    <a:pt x="339" y="49"/>
                  </a:lnTo>
                  <a:lnTo>
                    <a:pt x="330" y="47"/>
                  </a:lnTo>
                  <a:lnTo>
                    <a:pt x="311" y="39"/>
                  </a:lnTo>
                  <a:lnTo>
                    <a:pt x="295" y="32"/>
                  </a:lnTo>
                  <a:lnTo>
                    <a:pt x="290" y="32"/>
                  </a:lnTo>
                  <a:lnTo>
                    <a:pt x="278" y="27"/>
                  </a:lnTo>
                  <a:lnTo>
                    <a:pt x="258" y="20"/>
                  </a:lnTo>
                  <a:lnTo>
                    <a:pt x="245" y="17"/>
                  </a:lnTo>
                  <a:lnTo>
                    <a:pt x="238" y="12"/>
                  </a:lnTo>
                  <a:lnTo>
                    <a:pt x="218" y="7"/>
                  </a:lnTo>
                  <a:lnTo>
                    <a:pt x="206" y="2"/>
                  </a:lnTo>
                  <a:lnTo>
                    <a:pt x="202" y="10"/>
                  </a:lnTo>
                  <a:lnTo>
                    <a:pt x="193" y="10"/>
                  </a:lnTo>
                  <a:lnTo>
                    <a:pt x="202" y="14"/>
                  </a:lnTo>
                  <a:lnTo>
                    <a:pt x="189" y="20"/>
                  </a:lnTo>
                  <a:lnTo>
                    <a:pt x="177" y="22"/>
                  </a:lnTo>
                  <a:lnTo>
                    <a:pt x="186" y="27"/>
                  </a:lnTo>
                  <a:lnTo>
                    <a:pt x="173" y="27"/>
                  </a:lnTo>
                  <a:lnTo>
                    <a:pt x="197" y="32"/>
                  </a:lnTo>
                  <a:lnTo>
                    <a:pt x="181" y="39"/>
                  </a:lnTo>
                  <a:lnTo>
                    <a:pt x="161" y="36"/>
                  </a:lnTo>
                  <a:lnTo>
                    <a:pt x="165" y="47"/>
                  </a:lnTo>
                  <a:lnTo>
                    <a:pt x="153" y="51"/>
                  </a:lnTo>
                  <a:lnTo>
                    <a:pt x="158" y="39"/>
                  </a:lnTo>
                  <a:lnTo>
                    <a:pt x="134" y="32"/>
                  </a:lnTo>
                  <a:lnTo>
                    <a:pt x="117" y="47"/>
                  </a:lnTo>
                  <a:lnTo>
                    <a:pt x="108" y="27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96" y="0"/>
                  </a:lnTo>
                  <a:lnTo>
                    <a:pt x="77" y="0"/>
                  </a:lnTo>
                  <a:lnTo>
                    <a:pt x="65" y="2"/>
                  </a:lnTo>
                  <a:lnTo>
                    <a:pt x="51" y="10"/>
                  </a:lnTo>
                  <a:lnTo>
                    <a:pt x="30" y="9"/>
                  </a:lnTo>
                  <a:lnTo>
                    <a:pt x="13" y="19"/>
                  </a:lnTo>
                  <a:lnTo>
                    <a:pt x="0" y="35"/>
                  </a:lnTo>
                  <a:lnTo>
                    <a:pt x="11" y="58"/>
                  </a:lnTo>
                  <a:lnTo>
                    <a:pt x="20" y="86"/>
                  </a:lnTo>
                  <a:lnTo>
                    <a:pt x="24" y="130"/>
                  </a:lnTo>
                  <a:lnTo>
                    <a:pt x="52" y="150"/>
                  </a:lnTo>
                  <a:lnTo>
                    <a:pt x="69" y="177"/>
                  </a:lnTo>
                  <a:lnTo>
                    <a:pt x="77" y="186"/>
                  </a:lnTo>
                  <a:lnTo>
                    <a:pt x="81" y="186"/>
                  </a:lnTo>
                  <a:lnTo>
                    <a:pt x="150" y="209"/>
                  </a:lnTo>
                  <a:lnTo>
                    <a:pt x="186" y="214"/>
                  </a:lnTo>
                  <a:lnTo>
                    <a:pt x="189" y="209"/>
                  </a:lnTo>
                  <a:lnTo>
                    <a:pt x="202" y="217"/>
                  </a:lnTo>
                  <a:lnTo>
                    <a:pt x="209" y="248"/>
                  </a:lnTo>
                  <a:lnTo>
                    <a:pt x="218" y="261"/>
                  </a:lnTo>
                  <a:lnTo>
                    <a:pt x="282" y="266"/>
                  </a:lnTo>
                  <a:lnTo>
                    <a:pt x="330" y="261"/>
                  </a:lnTo>
                  <a:lnTo>
                    <a:pt x="335" y="253"/>
                  </a:lnTo>
                  <a:lnTo>
                    <a:pt x="388" y="251"/>
                  </a:lnTo>
                  <a:lnTo>
                    <a:pt x="436" y="23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86400" y="2131200"/>
              <a:ext cx="4680" cy="288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3" y="5"/>
                  </a:lnTo>
                  <a:lnTo>
                    <a:pt x="9" y="7"/>
                  </a:lnTo>
                  <a:lnTo>
                    <a:pt x="9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775600" y="2126520"/>
              <a:ext cx="10440" cy="432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5" y="0"/>
                  </a:moveTo>
                  <a:lnTo>
                    <a:pt x="5" y="0"/>
                  </a:lnTo>
                  <a:lnTo>
                    <a:pt x="13" y="4"/>
                  </a:lnTo>
                  <a:lnTo>
                    <a:pt x="21" y="7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1" y="9"/>
                  </a:lnTo>
                  <a:lnTo>
                    <a:pt x="17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381760" y="1593360"/>
              <a:ext cx="167760" cy="64800"/>
            </a:xfrm>
            <a:custGeom>
              <a:avLst/>
              <a:gdLst/>
              <a:ahLst/>
              <a:rect l="l" t="t" r="r" b="b"/>
              <a:pathLst>
                <a:path w="466" h="181">
                  <a:moveTo>
                    <a:pt x="20" y="131"/>
                  </a:moveTo>
                  <a:lnTo>
                    <a:pt x="24" y="123"/>
                  </a:lnTo>
                  <a:lnTo>
                    <a:pt x="12" y="116"/>
                  </a:lnTo>
                  <a:lnTo>
                    <a:pt x="20" y="110"/>
                  </a:lnTo>
                  <a:lnTo>
                    <a:pt x="8" y="103"/>
                  </a:lnTo>
                  <a:lnTo>
                    <a:pt x="0" y="79"/>
                  </a:lnTo>
                  <a:lnTo>
                    <a:pt x="4" y="79"/>
                  </a:lnTo>
                  <a:lnTo>
                    <a:pt x="8" y="79"/>
                  </a:lnTo>
                  <a:lnTo>
                    <a:pt x="24" y="76"/>
                  </a:lnTo>
                  <a:lnTo>
                    <a:pt x="29" y="66"/>
                  </a:lnTo>
                  <a:lnTo>
                    <a:pt x="20" y="61"/>
                  </a:lnTo>
                  <a:lnTo>
                    <a:pt x="32" y="47"/>
                  </a:lnTo>
                  <a:lnTo>
                    <a:pt x="24" y="42"/>
                  </a:lnTo>
                  <a:lnTo>
                    <a:pt x="48" y="37"/>
                  </a:lnTo>
                  <a:lnTo>
                    <a:pt x="64" y="44"/>
                  </a:lnTo>
                  <a:lnTo>
                    <a:pt x="68" y="32"/>
                  </a:lnTo>
                  <a:lnTo>
                    <a:pt x="97" y="42"/>
                  </a:lnTo>
                  <a:lnTo>
                    <a:pt x="73" y="32"/>
                  </a:lnTo>
                  <a:lnTo>
                    <a:pt x="73" y="24"/>
                  </a:lnTo>
                  <a:lnTo>
                    <a:pt x="64" y="24"/>
                  </a:lnTo>
                  <a:lnTo>
                    <a:pt x="60" y="12"/>
                  </a:lnTo>
                  <a:lnTo>
                    <a:pt x="85" y="12"/>
                  </a:lnTo>
                  <a:lnTo>
                    <a:pt x="97" y="15"/>
                  </a:lnTo>
                  <a:lnTo>
                    <a:pt x="97" y="22"/>
                  </a:lnTo>
                  <a:lnTo>
                    <a:pt x="129" y="22"/>
                  </a:lnTo>
                  <a:lnTo>
                    <a:pt x="125" y="32"/>
                  </a:lnTo>
                  <a:lnTo>
                    <a:pt x="158" y="27"/>
                  </a:lnTo>
                  <a:lnTo>
                    <a:pt x="165" y="19"/>
                  </a:lnTo>
                  <a:lnTo>
                    <a:pt x="174" y="22"/>
                  </a:lnTo>
                  <a:lnTo>
                    <a:pt x="161" y="24"/>
                  </a:lnTo>
                  <a:lnTo>
                    <a:pt x="178" y="19"/>
                  </a:lnTo>
                  <a:lnTo>
                    <a:pt x="214" y="35"/>
                  </a:lnTo>
                  <a:lnTo>
                    <a:pt x="215" y="37"/>
                  </a:lnTo>
                  <a:lnTo>
                    <a:pt x="226" y="39"/>
                  </a:lnTo>
                  <a:lnTo>
                    <a:pt x="222" y="32"/>
                  </a:lnTo>
                  <a:lnTo>
                    <a:pt x="214" y="32"/>
                  </a:lnTo>
                  <a:lnTo>
                    <a:pt x="214" y="32"/>
                  </a:lnTo>
                  <a:lnTo>
                    <a:pt x="311" y="10"/>
                  </a:lnTo>
                  <a:lnTo>
                    <a:pt x="327" y="15"/>
                  </a:lnTo>
                  <a:lnTo>
                    <a:pt x="314" y="12"/>
                  </a:lnTo>
                  <a:lnTo>
                    <a:pt x="323" y="19"/>
                  </a:lnTo>
                  <a:lnTo>
                    <a:pt x="331" y="19"/>
                  </a:lnTo>
                  <a:lnTo>
                    <a:pt x="347" y="17"/>
                  </a:lnTo>
                  <a:lnTo>
                    <a:pt x="352" y="7"/>
                  </a:lnTo>
                  <a:lnTo>
                    <a:pt x="371" y="2"/>
                  </a:lnTo>
                  <a:lnTo>
                    <a:pt x="375" y="0"/>
                  </a:lnTo>
                  <a:lnTo>
                    <a:pt x="367" y="7"/>
                  </a:lnTo>
                  <a:lnTo>
                    <a:pt x="383" y="7"/>
                  </a:lnTo>
                  <a:lnTo>
                    <a:pt x="383" y="0"/>
                  </a:lnTo>
                  <a:lnTo>
                    <a:pt x="408" y="4"/>
                  </a:lnTo>
                  <a:lnTo>
                    <a:pt x="415" y="4"/>
                  </a:lnTo>
                  <a:lnTo>
                    <a:pt x="424" y="7"/>
                  </a:lnTo>
                  <a:lnTo>
                    <a:pt x="428" y="7"/>
                  </a:lnTo>
                  <a:lnTo>
                    <a:pt x="432" y="17"/>
                  </a:lnTo>
                  <a:lnTo>
                    <a:pt x="456" y="27"/>
                  </a:lnTo>
                  <a:lnTo>
                    <a:pt x="465" y="37"/>
                  </a:lnTo>
                  <a:lnTo>
                    <a:pt x="421" y="59"/>
                  </a:lnTo>
                  <a:lnTo>
                    <a:pt x="345" y="49"/>
                  </a:lnTo>
                  <a:lnTo>
                    <a:pt x="300" y="65"/>
                  </a:lnTo>
                  <a:lnTo>
                    <a:pt x="308" y="87"/>
                  </a:lnTo>
                  <a:lnTo>
                    <a:pt x="335" y="108"/>
                  </a:lnTo>
                  <a:lnTo>
                    <a:pt x="311" y="113"/>
                  </a:lnTo>
                  <a:lnTo>
                    <a:pt x="298" y="110"/>
                  </a:lnTo>
                  <a:lnTo>
                    <a:pt x="295" y="100"/>
                  </a:lnTo>
                  <a:lnTo>
                    <a:pt x="259" y="94"/>
                  </a:lnTo>
                  <a:lnTo>
                    <a:pt x="251" y="98"/>
                  </a:lnTo>
                  <a:lnTo>
                    <a:pt x="234" y="94"/>
                  </a:lnTo>
                  <a:lnTo>
                    <a:pt x="234" y="98"/>
                  </a:lnTo>
                  <a:lnTo>
                    <a:pt x="201" y="108"/>
                  </a:lnTo>
                  <a:lnTo>
                    <a:pt x="178" y="110"/>
                  </a:lnTo>
                  <a:lnTo>
                    <a:pt x="198" y="131"/>
                  </a:lnTo>
                  <a:lnTo>
                    <a:pt x="238" y="145"/>
                  </a:lnTo>
                  <a:lnTo>
                    <a:pt x="234" y="150"/>
                  </a:lnTo>
                  <a:lnTo>
                    <a:pt x="230" y="147"/>
                  </a:lnTo>
                  <a:lnTo>
                    <a:pt x="210" y="160"/>
                  </a:lnTo>
                  <a:lnTo>
                    <a:pt x="222" y="172"/>
                  </a:lnTo>
                  <a:lnTo>
                    <a:pt x="198" y="167"/>
                  </a:lnTo>
                  <a:lnTo>
                    <a:pt x="145" y="172"/>
                  </a:lnTo>
                  <a:lnTo>
                    <a:pt x="137" y="180"/>
                  </a:lnTo>
                  <a:lnTo>
                    <a:pt x="125" y="172"/>
                  </a:lnTo>
                  <a:lnTo>
                    <a:pt x="121" y="172"/>
                  </a:lnTo>
                  <a:lnTo>
                    <a:pt x="109" y="170"/>
                  </a:lnTo>
                  <a:lnTo>
                    <a:pt x="105" y="170"/>
                  </a:lnTo>
                  <a:lnTo>
                    <a:pt x="101" y="170"/>
                  </a:lnTo>
                  <a:lnTo>
                    <a:pt x="97" y="170"/>
                  </a:lnTo>
                  <a:lnTo>
                    <a:pt x="93" y="170"/>
                  </a:lnTo>
                  <a:lnTo>
                    <a:pt x="89" y="167"/>
                  </a:lnTo>
                  <a:lnTo>
                    <a:pt x="93" y="170"/>
                  </a:lnTo>
                  <a:lnTo>
                    <a:pt x="89" y="172"/>
                  </a:lnTo>
                  <a:lnTo>
                    <a:pt x="89" y="172"/>
                  </a:lnTo>
                  <a:lnTo>
                    <a:pt x="64" y="172"/>
                  </a:lnTo>
                  <a:lnTo>
                    <a:pt x="60" y="172"/>
                  </a:lnTo>
                  <a:lnTo>
                    <a:pt x="50" y="174"/>
                  </a:lnTo>
                  <a:lnTo>
                    <a:pt x="50" y="171"/>
                  </a:lnTo>
                  <a:lnTo>
                    <a:pt x="44" y="167"/>
                  </a:lnTo>
                  <a:lnTo>
                    <a:pt x="48" y="163"/>
                  </a:lnTo>
                  <a:lnTo>
                    <a:pt x="47" y="160"/>
                  </a:lnTo>
                  <a:lnTo>
                    <a:pt x="47" y="155"/>
                  </a:lnTo>
                  <a:lnTo>
                    <a:pt x="46" y="151"/>
                  </a:lnTo>
                  <a:lnTo>
                    <a:pt x="26" y="146"/>
                  </a:lnTo>
                  <a:lnTo>
                    <a:pt x="20" y="145"/>
                  </a:lnTo>
                  <a:lnTo>
                    <a:pt x="17" y="142"/>
                  </a:lnTo>
                  <a:lnTo>
                    <a:pt x="11" y="135"/>
                  </a:lnTo>
                  <a:lnTo>
                    <a:pt x="11" y="129"/>
                  </a:lnTo>
                  <a:lnTo>
                    <a:pt x="20" y="13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213080" y="2086920"/>
              <a:ext cx="74160" cy="64800"/>
            </a:xfrm>
            <a:custGeom>
              <a:avLst/>
              <a:gdLst/>
              <a:ahLst/>
              <a:rect l="l" t="t" r="r" b="b"/>
              <a:pathLst>
                <a:path w="207" h="180">
                  <a:moveTo>
                    <a:pt x="0" y="76"/>
                  </a:moveTo>
                  <a:lnTo>
                    <a:pt x="202" y="179"/>
                  </a:lnTo>
                  <a:lnTo>
                    <a:pt x="202" y="167"/>
                  </a:lnTo>
                  <a:lnTo>
                    <a:pt x="177" y="147"/>
                  </a:lnTo>
                  <a:lnTo>
                    <a:pt x="177" y="128"/>
                  </a:lnTo>
                  <a:lnTo>
                    <a:pt x="206" y="125"/>
                  </a:lnTo>
                  <a:lnTo>
                    <a:pt x="202" y="103"/>
                  </a:lnTo>
                  <a:lnTo>
                    <a:pt x="154" y="88"/>
                  </a:lnTo>
                  <a:lnTo>
                    <a:pt x="158" y="69"/>
                  </a:lnTo>
                  <a:lnTo>
                    <a:pt x="125" y="37"/>
                  </a:lnTo>
                  <a:lnTo>
                    <a:pt x="16" y="0"/>
                  </a:lnTo>
                  <a:lnTo>
                    <a:pt x="12" y="15"/>
                  </a:lnTo>
                  <a:lnTo>
                    <a:pt x="12" y="29"/>
                  </a:lnTo>
                  <a:lnTo>
                    <a:pt x="8" y="44"/>
                  </a:lnTo>
                  <a:lnTo>
                    <a:pt x="4" y="59"/>
                  </a:lnTo>
                  <a:lnTo>
                    <a:pt x="0" y="74"/>
                  </a:lnTo>
                  <a:lnTo>
                    <a:pt x="0" y="7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078920" y="2851200"/>
              <a:ext cx="169200" cy="52200"/>
            </a:xfrm>
            <a:custGeom>
              <a:avLst/>
              <a:gdLst/>
              <a:ahLst/>
              <a:rect l="l" t="t" r="r" b="b"/>
              <a:pathLst>
                <a:path w="473" h="145">
                  <a:moveTo>
                    <a:pt x="0" y="0"/>
                  </a:moveTo>
                  <a:lnTo>
                    <a:pt x="472" y="0"/>
                  </a:lnTo>
                  <a:lnTo>
                    <a:pt x="472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323080" y="1961280"/>
              <a:ext cx="24840" cy="44280"/>
            </a:xfrm>
            <a:custGeom>
              <a:avLst/>
              <a:gdLst/>
              <a:ahLst/>
              <a:rect l="l" t="t" r="r" b="b"/>
              <a:pathLst>
                <a:path w="70" h="122">
                  <a:moveTo>
                    <a:pt x="41" y="3"/>
                  </a:moveTo>
                  <a:lnTo>
                    <a:pt x="41" y="5"/>
                  </a:lnTo>
                  <a:lnTo>
                    <a:pt x="37" y="18"/>
                  </a:lnTo>
                  <a:lnTo>
                    <a:pt x="57" y="27"/>
                  </a:lnTo>
                  <a:lnTo>
                    <a:pt x="69" y="49"/>
                  </a:lnTo>
                  <a:lnTo>
                    <a:pt x="69" y="67"/>
                  </a:lnTo>
                  <a:lnTo>
                    <a:pt x="69" y="79"/>
                  </a:lnTo>
                  <a:lnTo>
                    <a:pt x="69" y="84"/>
                  </a:lnTo>
                  <a:lnTo>
                    <a:pt x="65" y="99"/>
                  </a:lnTo>
                  <a:lnTo>
                    <a:pt x="69" y="118"/>
                  </a:lnTo>
                  <a:lnTo>
                    <a:pt x="53" y="121"/>
                  </a:lnTo>
                  <a:lnTo>
                    <a:pt x="24" y="103"/>
                  </a:lnTo>
                  <a:lnTo>
                    <a:pt x="33" y="67"/>
                  </a:lnTo>
                  <a:lnTo>
                    <a:pt x="21" y="57"/>
                  </a:lnTo>
                  <a:lnTo>
                    <a:pt x="24" y="42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5" y="12"/>
                  </a:lnTo>
                  <a:lnTo>
                    <a:pt x="0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41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298760" y="2104200"/>
              <a:ext cx="48960" cy="23400"/>
            </a:xfrm>
            <a:custGeom>
              <a:avLst/>
              <a:gdLst/>
              <a:ahLst/>
              <a:rect l="l" t="t" r="r" b="b"/>
              <a:pathLst>
                <a:path w="135" h="68">
                  <a:moveTo>
                    <a:pt x="129" y="0"/>
                  </a:moveTo>
                  <a:lnTo>
                    <a:pt x="129" y="0"/>
                  </a:lnTo>
                  <a:lnTo>
                    <a:pt x="134" y="17"/>
                  </a:lnTo>
                  <a:lnTo>
                    <a:pt x="117" y="27"/>
                  </a:lnTo>
                  <a:lnTo>
                    <a:pt x="117" y="39"/>
                  </a:lnTo>
                  <a:lnTo>
                    <a:pt x="97" y="44"/>
                  </a:lnTo>
                  <a:lnTo>
                    <a:pt x="82" y="60"/>
                  </a:lnTo>
                  <a:lnTo>
                    <a:pt x="45" y="67"/>
                  </a:lnTo>
                  <a:lnTo>
                    <a:pt x="16" y="57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49" y="42"/>
                  </a:lnTo>
                  <a:lnTo>
                    <a:pt x="56" y="27"/>
                  </a:lnTo>
                  <a:lnTo>
                    <a:pt x="56" y="44"/>
                  </a:lnTo>
                  <a:lnTo>
                    <a:pt x="82" y="42"/>
                  </a:lnTo>
                  <a:lnTo>
                    <a:pt x="97" y="27"/>
                  </a:lnTo>
                  <a:lnTo>
                    <a:pt x="109" y="25"/>
                  </a:lnTo>
                  <a:lnTo>
                    <a:pt x="109" y="3"/>
                  </a:lnTo>
                  <a:lnTo>
                    <a:pt x="129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332240" y="2086920"/>
              <a:ext cx="23400" cy="2340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4" y="0"/>
                  </a:moveTo>
                  <a:lnTo>
                    <a:pt x="4" y="0"/>
                  </a:lnTo>
                  <a:lnTo>
                    <a:pt x="61" y="45"/>
                  </a:lnTo>
                  <a:lnTo>
                    <a:pt x="65" y="52"/>
                  </a:lnTo>
                  <a:lnTo>
                    <a:pt x="57" y="67"/>
                  </a:lnTo>
                  <a:lnTo>
                    <a:pt x="45" y="30"/>
                  </a:lnTo>
                  <a:lnTo>
                    <a:pt x="0" y="5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322520" y="2085120"/>
              <a:ext cx="6120" cy="288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284360" y="2080440"/>
              <a:ext cx="9360" cy="288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4" y="0"/>
                  </a:moveTo>
                  <a:lnTo>
                    <a:pt x="24" y="0"/>
                  </a:lnTo>
                  <a:lnTo>
                    <a:pt x="0" y="8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368600" y="2115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368600" y="2118600"/>
              <a:ext cx="12240" cy="1548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4" y="0"/>
                  </a:moveTo>
                  <a:lnTo>
                    <a:pt x="4" y="0"/>
                  </a:lnTo>
                  <a:lnTo>
                    <a:pt x="33" y="29"/>
                  </a:lnTo>
                  <a:lnTo>
                    <a:pt x="28" y="44"/>
                  </a:lnTo>
                  <a:lnTo>
                    <a:pt x="12" y="41"/>
                  </a:lnTo>
                  <a:lnTo>
                    <a:pt x="0" y="18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967400" y="1417320"/>
              <a:ext cx="282240" cy="115560"/>
            </a:xfrm>
            <a:custGeom>
              <a:avLst/>
              <a:gdLst/>
              <a:ahLst/>
              <a:rect l="l" t="t" r="r" b="b"/>
              <a:pathLst>
                <a:path w="785" h="323">
                  <a:moveTo>
                    <a:pt x="768" y="51"/>
                  </a:moveTo>
                  <a:lnTo>
                    <a:pt x="771" y="53"/>
                  </a:lnTo>
                  <a:lnTo>
                    <a:pt x="759" y="68"/>
                  </a:lnTo>
                  <a:lnTo>
                    <a:pt x="763" y="56"/>
                  </a:lnTo>
                  <a:lnTo>
                    <a:pt x="768" y="51"/>
                  </a:lnTo>
                  <a:close/>
                  <a:moveTo>
                    <a:pt x="759" y="78"/>
                  </a:moveTo>
                  <a:lnTo>
                    <a:pt x="763" y="85"/>
                  </a:lnTo>
                  <a:lnTo>
                    <a:pt x="743" y="85"/>
                  </a:lnTo>
                  <a:lnTo>
                    <a:pt x="759" y="78"/>
                  </a:lnTo>
                  <a:close/>
                  <a:moveTo>
                    <a:pt x="646" y="114"/>
                  </a:moveTo>
                  <a:lnTo>
                    <a:pt x="658" y="117"/>
                  </a:lnTo>
                  <a:lnTo>
                    <a:pt x="634" y="114"/>
                  </a:lnTo>
                  <a:lnTo>
                    <a:pt x="662" y="119"/>
                  </a:lnTo>
                  <a:lnTo>
                    <a:pt x="638" y="122"/>
                  </a:lnTo>
                  <a:lnTo>
                    <a:pt x="622" y="117"/>
                  </a:lnTo>
                  <a:lnTo>
                    <a:pt x="646" y="114"/>
                  </a:lnTo>
                  <a:close/>
                  <a:moveTo>
                    <a:pt x="670" y="125"/>
                  </a:moveTo>
                  <a:lnTo>
                    <a:pt x="667" y="129"/>
                  </a:lnTo>
                  <a:lnTo>
                    <a:pt x="634" y="122"/>
                  </a:lnTo>
                  <a:lnTo>
                    <a:pt x="670" y="125"/>
                  </a:lnTo>
                  <a:close/>
                  <a:moveTo>
                    <a:pt x="654" y="125"/>
                  </a:moveTo>
                  <a:lnTo>
                    <a:pt x="662" y="132"/>
                  </a:lnTo>
                  <a:lnTo>
                    <a:pt x="650" y="132"/>
                  </a:lnTo>
                  <a:lnTo>
                    <a:pt x="654" y="139"/>
                  </a:lnTo>
                  <a:lnTo>
                    <a:pt x="631" y="129"/>
                  </a:lnTo>
                  <a:lnTo>
                    <a:pt x="634" y="125"/>
                  </a:lnTo>
                  <a:lnTo>
                    <a:pt x="654" y="125"/>
                  </a:lnTo>
                  <a:close/>
                  <a:moveTo>
                    <a:pt x="582" y="159"/>
                  </a:moveTo>
                  <a:lnTo>
                    <a:pt x="582" y="166"/>
                  </a:lnTo>
                  <a:lnTo>
                    <a:pt x="533" y="169"/>
                  </a:lnTo>
                  <a:lnTo>
                    <a:pt x="582" y="159"/>
                  </a:lnTo>
                  <a:close/>
                  <a:moveTo>
                    <a:pt x="424" y="203"/>
                  </a:moveTo>
                  <a:lnTo>
                    <a:pt x="436" y="215"/>
                  </a:lnTo>
                  <a:lnTo>
                    <a:pt x="449" y="215"/>
                  </a:lnTo>
                  <a:lnTo>
                    <a:pt x="445" y="213"/>
                  </a:lnTo>
                  <a:lnTo>
                    <a:pt x="457" y="215"/>
                  </a:lnTo>
                  <a:lnTo>
                    <a:pt x="465" y="210"/>
                  </a:lnTo>
                  <a:lnTo>
                    <a:pt x="469" y="213"/>
                  </a:lnTo>
                  <a:lnTo>
                    <a:pt x="513" y="208"/>
                  </a:lnTo>
                  <a:lnTo>
                    <a:pt x="546" y="203"/>
                  </a:lnTo>
                  <a:lnTo>
                    <a:pt x="582" y="191"/>
                  </a:lnTo>
                  <a:lnTo>
                    <a:pt x="577" y="189"/>
                  </a:lnTo>
                  <a:lnTo>
                    <a:pt x="589" y="189"/>
                  </a:lnTo>
                  <a:lnTo>
                    <a:pt x="618" y="181"/>
                  </a:lnTo>
                  <a:lnTo>
                    <a:pt x="577" y="171"/>
                  </a:lnTo>
                  <a:lnTo>
                    <a:pt x="533" y="181"/>
                  </a:lnTo>
                  <a:lnTo>
                    <a:pt x="517" y="176"/>
                  </a:lnTo>
                  <a:lnTo>
                    <a:pt x="558" y="171"/>
                  </a:lnTo>
                  <a:lnTo>
                    <a:pt x="513" y="171"/>
                  </a:lnTo>
                  <a:lnTo>
                    <a:pt x="537" y="166"/>
                  </a:lnTo>
                  <a:lnTo>
                    <a:pt x="550" y="159"/>
                  </a:lnTo>
                  <a:lnTo>
                    <a:pt x="550" y="156"/>
                  </a:lnTo>
                  <a:lnTo>
                    <a:pt x="553" y="161"/>
                  </a:lnTo>
                  <a:lnTo>
                    <a:pt x="589" y="154"/>
                  </a:lnTo>
                  <a:lnTo>
                    <a:pt x="589" y="149"/>
                  </a:lnTo>
                  <a:lnTo>
                    <a:pt x="550" y="149"/>
                  </a:lnTo>
                  <a:lnTo>
                    <a:pt x="569" y="145"/>
                  </a:lnTo>
                  <a:lnTo>
                    <a:pt x="561" y="137"/>
                  </a:lnTo>
                  <a:lnTo>
                    <a:pt x="573" y="149"/>
                  </a:lnTo>
                  <a:lnTo>
                    <a:pt x="606" y="154"/>
                  </a:lnTo>
                  <a:lnTo>
                    <a:pt x="610" y="171"/>
                  </a:lnTo>
                  <a:lnTo>
                    <a:pt x="622" y="171"/>
                  </a:lnTo>
                  <a:lnTo>
                    <a:pt x="631" y="164"/>
                  </a:lnTo>
                  <a:lnTo>
                    <a:pt x="626" y="171"/>
                  </a:lnTo>
                  <a:lnTo>
                    <a:pt x="638" y="171"/>
                  </a:lnTo>
                  <a:lnTo>
                    <a:pt x="646" y="161"/>
                  </a:lnTo>
                  <a:lnTo>
                    <a:pt x="634" y="161"/>
                  </a:lnTo>
                  <a:lnTo>
                    <a:pt x="650" y="151"/>
                  </a:lnTo>
                  <a:lnTo>
                    <a:pt x="638" y="156"/>
                  </a:lnTo>
                  <a:lnTo>
                    <a:pt x="638" y="151"/>
                  </a:lnTo>
                  <a:lnTo>
                    <a:pt x="654" y="147"/>
                  </a:lnTo>
                  <a:lnTo>
                    <a:pt x="638" y="149"/>
                  </a:lnTo>
                  <a:lnTo>
                    <a:pt x="646" y="147"/>
                  </a:lnTo>
                  <a:lnTo>
                    <a:pt x="638" y="147"/>
                  </a:lnTo>
                  <a:lnTo>
                    <a:pt x="646" y="145"/>
                  </a:lnTo>
                  <a:lnTo>
                    <a:pt x="626" y="132"/>
                  </a:lnTo>
                  <a:lnTo>
                    <a:pt x="606" y="139"/>
                  </a:lnTo>
                  <a:lnTo>
                    <a:pt x="610" y="132"/>
                  </a:lnTo>
                  <a:lnTo>
                    <a:pt x="626" y="132"/>
                  </a:lnTo>
                  <a:lnTo>
                    <a:pt x="626" y="127"/>
                  </a:lnTo>
                  <a:lnTo>
                    <a:pt x="618" y="125"/>
                  </a:lnTo>
                  <a:lnTo>
                    <a:pt x="598" y="129"/>
                  </a:lnTo>
                  <a:lnTo>
                    <a:pt x="594" y="125"/>
                  </a:lnTo>
                  <a:lnTo>
                    <a:pt x="610" y="125"/>
                  </a:lnTo>
                  <a:lnTo>
                    <a:pt x="631" y="119"/>
                  </a:lnTo>
                  <a:lnTo>
                    <a:pt x="614" y="117"/>
                  </a:lnTo>
                  <a:lnTo>
                    <a:pt x="589" y="122"/>
                  </a:lnTo>
                  <a:lnTo>
                    <a:pt x="594" y="117"/>
                  </a:lnTo>
                  <a:lnTo>
                    <a:pt x="614" y="117"/>
                  </a:lnTo>
                  <a:lnTo>
                    <a:pt x="602" y="112"/>
                  </a:lnTo>
                  <a:lnTo>
                    <a:pt x="618" y="117"/>
                  </a:lnTo>
                  <a:lnTo>
                    <a:pt x="642" y="112"/>
                  </a:lnTo>
                  <a:lnTo>
                    <a:pt x="638" y="102"/>
                  </a:lnTo>
                  <a:lnTo>
                    <a:pt x="646" y="112"/>
                  </a:lnTo>
                  <a:lnTo>
                    <a:pt x="658" y="105"/>
                  </a:lnTo>
                  <a:lnTo>
                    <a:pt x="679" y="110"/>
                  </a:lnTo>
                  <a:lnTo>
                    <a:pt x="654" y="107"/>
                  </a:lnTo>
                  <a:lnTo>
                    <a:pt x="670" y="117"/>
                  </a:lnTo>
                  <a:lnTo>
                    <a:pt x="699" y="114"/>
                  </a:lnTo>
                  <a:lnTo>
                    <a:pt x="712" y="105"/>
                  </a:lnTo>
                  <a:lnTo>
                    <a:pt x="695" y="102"/>
                  </a:lnTo>
                  <a:lnTo>
                    <a:pt x="687" y="110"/>
                  </a:lnTo>
                  <a:lnTo>
                    <a:pt x="683" y="102"/>
                  </a:lnTo>
                  <a:lnTo>
                    <a:pt x="695" y="92"/>
                  </a:lnTo>
                  <a:lnTo>
                    <a:pt x="723" y="100"/>
                  </a:lnTo>
                  <a:lnTo>
                    <a:pt x="735" y="95"/>
                  </a:lnTo>
                  <a:lnTo>
                    <a:pt x="712" y="90"/>
                  </a:lnTo>
                  <a:lnTo>
                    <a:pt x="723" y="83"/>
                  </a:lnTo>
                  <a:lnTo>
                    <a:pt x="707" y="85"/>
                  </a:lnTo>
                  <a:lnTo>
                    <a:pt x="703" y="80"/>
                  </a:lnTo>
                  <a:lnTo>
                    <a:pt x="707" y="85"/>
                  </a:lnTo>
                  <a:lnTo>
                    <a:pt x="727" y="83"/>
                  </a:lnTo>
                  <a:lnTo>
                    <a:pt x="719" y="75"/>
                  </a:lnTo>
                  <a:lnTo>
                    <a:pt x="712" y="70"/>
                  </a:lnTo>
                  <a:lnTo>
                    <a:pt x="735" y="83"/>
                  </a:lnTo>
                  <a:lnTo>
                    <a:pt x="743" y="78"/>
                  </a:lnTo>
                  <a:lnTo>
                    <a:pt x="747" y="68"/>
                  </a:lnTo>
                  <a:lnTo>
                    <a:pt x="723" y="65"/>
                  </a:lnTo>
                  <a:lnTo>
                    <a:pt x="751" y="63"/>
                  </a:lnTo>
                  <a:lnTo>
                    <a:pt x="739" y="58"/>
                  </a:lnTo>
                  <a:lnTo>
                    <a:pt x="731" y="60"/>
                  </a:lnTo>
                  <a:lnTo>
                    <a:pt x="735" y="56"/>
                  </a:lnTo>
                  <a:lnTo>
                    <a:pt x="731" y="48"/>
                  </a:lnTo>
                  <a:lnTo>
                    <a:pt x="735" y="53"/>
                  </a:lnTo>
                  <a:lnTo>
                    <a:pt x="751" y="48"/>
                  </a:lnTo>
                  <a:lnTo>
                    <a:pt x="751" y="46"/>
                  </a:lnTo>
                  <a:lnTo>
                    <a:pt x="775" y="51"/>
                  </a:lnTo>
                  <a:lnTo>
                    <a:pt x="784" y="48"/>
                  </a:lnTo>
                  <a:lnTo>
                    <a:pt x="784" y="41"/>
                  </a:lnTo>
                  <a:lnTo>
                    <a:pt x="771" y="41"/>
                  </a:lnTo>
                  <a:lnTo>
                    <a:pt x="759" y="36"/>
                  </a:lnTo>
                  <a:lnTo>
                    <a:pt x="768" y="34"/>
                  </a:lnTo>
                  <a:lnTo>
                    <a:pt x="780" y="31"/>
                  </a:lnTo>
                  <a:lnTo>
                    <a:pt x="768" y="26"/>
                  </a:lnTo>
                  <a:lnTo>
                    <a:pt x="751" y="34"/>
                  </a:lnTo>
                  <a:lnTo>
                    <a:pt x="757" y="26"/>
                  </a:lnTo>
                  <a:lnTo>
                    <a:pt x="751" y="26"/>
                  </a:lnTo>
                  <a:lnTo>
                    <a:pt x="634" y="23"/>
                  </a:lnTo>
                  <a:lnTo>
                    <a:pt x="517" y="19"/>
                  </a:lnTo>
                  <a:lnTo>
                    <a:pt x="408" y="11"/>
                  </a:lnTo>
                  <a:lnTo>
                    <a:pt x="299" y="4"/>
                  </a:lnTo>
                  <a:lnTo>
                    <a:pt x="254" y="0"/>
                  </a:lnTo>
                  <a:lnTo>
                    <a:pt x="250" y="4"/>
                  </a:lnTo>
                  <a:lnTo>
                    <a:pt x="267" y="4"/>
                  </a:lnTo>
                  <a:lnTo>
                    <a:pt x="254" y="6"/>
                  </a:lnTo>
                  <a:lnTo>
                    <a:pt x="267" y="6"/>
                  </a:lnTo>
                  <a:lnTo>
                    <a:pt x="250" y="9"/>
                  </a:lnTo>
                  <a:lnTo>
                    <a:pt x="254" y="11"/>
                  </a:lnTo>
                  <a:lnTo>
                    <a:pt x="295" y="9"/>
                  </a:lnTo>
                  <a:lnTo>
                    <a:pt x="287" y="14"/>
                  </a:lnTo>
                  <a:lnTo>
                    <a:pt x="275" y="19"/>
                  </a:lnTo>
                  <a:lnTo>
                    <a:pt x="247" y="16"/>
                  </a:lnTo>
                  <a:lnTo>
                    <a:pt x="263" y="21"/>
                  </a:lnTo>
                  <a:lnTo>
                    <a:pt x="214" y="16"/>
                  </a:lnTo>
                  <a:lnTo>
                    <a:pt x="206" y="21"/>
                  </a:lnTo>
                  <a:lnTo>
                    <a:pt x="227" y="19"/>
                  </a:lnTo>
                  <a:lnTo>
                    <a:pt x="211" y="23"/>
                  </a:lnTo>
                  <a:lnTo>
                    <a:pt x="227" y="26"/>
                  </a:lnTo>
                  <a:lnTo>
                    <a:pt x="198" y="29"/>
                  </a:lnTo>
                  <a:lnTo>
                    <a:pt x="190" y="36"/>
                  </a:lnTo>
                  <a:lnTo>
                    <a:pt x="206" y="41"/>
                  </a:lnTo>
                  <a:lnTo>
                    <a:pt x="214" y="34"/>
                  </a:lnTo>
                  <a:lnTo>
                    <a:pt x="214" y="38"/>
                  </a:lnTo>
                  <a:lnTo>
                    <a:pt x="231" y="36"/>
                  </a:lnTo>
                  <a:lnTo>
                    <a:pt x="218" y="41"/>
                  </a:lnTo>
                  <a:lnTo>
                    <a:pt x="247" y="36"/>
                  </a:lnTo>
                  <a:lnTo>
                    <a:pt x="259" y="36"/>
                  </a:lnTo>
                  <a:lnTo>
                    <a:pt x="279" y="46"/>
                  </a:lnTo>
                  <a:lnTo>
                    <a:pt x="259" y="63"/>
                  </a:lnTo>
                  <a:lnTo>
                    <a:pt x="259" y="75"/>
                  </a:lnTo>
                  <a:lnTo>
                    <a:pt x="227" y="83"/>
                  </a:lnTo>
                  <a:lnTo>
                    <a:pt x="250" y="80"/>
                  </a:lnTo>
                  <a:lnTo>
                    <a:pt x="223" y="90"/>
                  </a:lnTo>
                  <a:lnTo>
                    <a:pt x="227" y="98"/>
                  </a:lnTo>
                  <a:lnTo>
                    <a:pt x="223" y="136"/>
                  </a:lnTo>
                  <a:lnTo>
                    <a:pt x="202" y="165"/>
                  </a:lnTo>
                  <a:lnTo>
                    <a:pt x="149" y="194"/>
                  </a:lnTo>
                  <a:lnTo>
                    <a:pt x="102" y="218"/>
                  </a:lnTo>
                  <a:lnTo>
                    <a:pt x="50" y="244"/>
                  </a:lnTo>
                  <a:lnTo>
                    <a:pt x="0" y="288"/>
                  </a:lnTo>
                  <a:lnTo>
                    <a:pt x="4" y="322"/>
                  </a:lnTo>
                  <a:lnTo>
                    <a:pt x="59" y="313"/>
                  </a:lnTo>
                  <a:lnTo>
                    <a:pt x="153" y="267"/>
                  </a:lnTo>
                  <a:lnTo>
                    <a:pt x="256" y="235"/>
                  </a:lnTo>
                  <a:lnTo>
                    <a:pt x="374" y="210"/>
                  </a:lnTo>
                  <a:lnTo>
                    <a:pt x="424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967400" y="1417320"/>
              <a:ext cx="282240" cy="115560"/>
            </a:xfrm>
            <a:custGeom>
              <a:avLst/>
              <a:gdLst/>
              <a:ahLst/>
              <a:rect l="l" t="t" r="r" b="b"/>
              <a:pathLst>
                <a:path w="785" h="323">
                  <a:moveTo>
                    <a:pt x="424" y="203"/>
                  </a:moveTo>
                  <a:lnTo>
                    <a:pt x="436" y="215"/>
                  </a:lnTo>
                  <a:lnTo>
                    <a:pt x="449" y="215"/>
                  </a:lnTo>
                  <a:lnTo>
                    <a:pt x="445" y="213"/>
                  </a:lnTo>
                  <a:lnTo>
                    <a:pt x="457" y="215"/>
                  </a:lnTo>
                  <a:lnTo>
                    <a:pt x="465" y="210"/>
                  </a:lnTo>
                  <a:lnTo>
                    <a:pt x="469" y="213"/>
                  </a:lnTo>
                  <a:lnTo>
                    <a:pt x="513" y="208"/>
                  </a:lnTo>
                  <a:lnTo>
                    <a:pt x="546" y="203"/>
                  </a:lnTo>
                  <a:lnTo>
                    <a:pt x="582" y="191"/>
                  </a:lnTo>
                  <a:lnTo>
                    <a:pt x="577" y="189"/>
                  </a:lnTo>
                  <a:lnTo>
                    <a:pt x="589" y="189"/>
                  </a:lnTo>
                  <a:lnTo>
                    <a:pt x="618" y="181"/>
                  </a:lnTo>
                  <a:lnTo>
                    <a:pt x="577" y="171"/>
                  </a:lnTo>
                  <a:lnTo>
                    <a:pt x="533" y="181"/>
                  </a:lnTo>
                  <a:lnTo>
                    <a:pt x="517" y="176"/>
                  </a:lnTo>
                  <a:lnTo>
                    <a:pt x="558" y="171"/>
                  </a:lnTo>
                  <a:lnTo>
                    <a:pt x="513" y="171"/>
                  </a:lnTo>
                  <a:lnTo>
                    <a:pt x="537" y="166"/>
                  </a:lnTo>
                  <a:lnTo>
                    <a:pt x="550" y="159"/>
                  </a:lnTo>
                  <a:lnTo>
                    <a:pt x="550" y="156"/>
                  </a:lnTo>
                  <a:lnTo>
                    <a:pt x="553" y="161"/>
                  </a:lnTo>
                  <a:lnTo>
                    <a:pt x="589" y="154"/>
                  </a:lnTo>
                  <a:lnTo>
                    <a:pt x="589" y="149"/>
                  </a:lnTo>
                  <a:lnTo>
                    <a:pt x="550" y="149"/>
                  </a:lnTo>
                  <a:lnTo>
                    <a:pt x="569" y="145"/>
                  </a:lnTo>
                  <a:lnTo>
                    <a:pt x="561" y="137"/>
                  </a:lnTo>
                  <a:lnTo>
                    <a:pt x="573" y="149"/>
                  </a:lnTo>
                  <a:lnTo>
                    <a:pt x="606" y="154"/>
                  </a:lnTo>
                  <a:lnTo>
                    <a:pt x="610" y="171"/>
                  </a:lnTo>
                  <a:lnTo>
                    <a:pt x="622" y="171"/>
                  </a:lnTo>
                  <a:lnTo>
                    <a:pt x="631" y="164"/>
                  </a:lnTo>
                  <a:lnTo>
                    <a:pt x="626" y="171"/>
                  </a:lnTo>
                  <a:lnTo>
                    <a:pt x="638" y="171"/>
                  </a:lnTo>
                  <a:lnTo>
                    <a:pt x="646" y="161"/>
                  </a:lnTo>
                  <a:lnTo>
                    <a:pt x="634" y="161"/>
                  </a:lnTo>
                  <a:lnTo>
                    <a:pt x="650" y="151"/>
                  </a:lnTo>
                  <a:lnTo>
                    <a:pt x="638" y="156"/>
                  </a:lnTo>
                  <a:lnTo>
                    <a:pt x="638" y="151"/>
                  </a:lnTo>
                  <a:lnTo>
                    <a:pt x="654" y="147"/>
                  </a:lnTo>
                  <a:lnTo>
                    <a:pt x="638" y="149"/>
                  </a:lnTo>
                  <a:lnTo>
                    <a:pt x="646" y="147"/>
                  </a:lnTo>
                  <a:lnTo>
                    <a:pt x="638" y="147"/>
                  </a:lnTo>
                  <a:lnTo>
                    <a:pt x="646" y="145"/>
                  </a:lnTo>
                  <a:lnTo>
                    <a:pt x="626" y="132"/>
                  </a:lnTo>
                  <a:lnTo>
                    <a:pt x="606" y="139"/>
                  </a:lnTo>
                  <a:lnTo>
                    <a:pt x="610" y="132"/>
                  </a:lnTo>
                  <a:lnTo>
                    <a:pt x="626" y="132"/>
                  </a:lnTo>
                  <a:lnTo>
                    <a:pt x="626" y="127"/>
                  </a:lnTo>
                  <a:lnTo>
                    <a:pt x="618" y="125"/>
                  </a:lnTo>
                  <a:lnTo>
                    <a:pt x="598" y="129"/>
                  </a:lnTo>
                  <a:lnTo>
                    <a:pt x="594" y="125"/>
                  </a:lnTo>
                  <a:lnTo>
                    <a:pt x="610" y="125"/>
                  </a:lnTo>
                  <a:lnTo>
                    <a:pt x="631" y="119"/>
                  </a:lnTo>
                  <a:lnTo>
                    <a:pt x="614" y="117"/>
                  </a:lnTo>
                  <a:lnTo>
                    <a:pt x="589" y="122"/>
                  </a:lnTo>
                  <a:lnTo>
                    <a:pt x="594" y="117"/>
                  </a:lnTo>
                  <a:lnTo>
                    <a:pt x="614" y="117"/>
                  </a:lnTo>
                  <a:lnTo>
                    <a:pt x="602" y="112"/>
                  </a:lnTo>
                  <a:lnTo>
                    <a:pt x="618" y="117"/>
                  </a:lnTo>
                  <a:lnTo>
                    <a:pt x="642" y="112"/>
                  </a:lnTo>
                  <a:lnTo>
                    <a:pt x="638" y="102"/>
                  </a:lnTo>
                  <a:lnTo>
                    <a:pt x="646" y="112"/>
                  </a:lnTo>
                  <a:lnTo>
                    <a:pt x="658" y="105"/>
                  </a:lnTo>
                  <a:lnTo>
                    <a:pt x="679" y="110"/>
                  </a:lnTo>
                  <a:lnTo>
                    <a:pt x="654" y="107"/>
                  </a:lnTo>
                  <a:lnTo>
                    <a:pt x="670" y="117"/>
                  </a:lnTo>
                  <a:lnTo>
                    <a:pt x="699" y="114"/>
                  </a:lnTo>
                  <a:lnTo>
                    <a:pt x="712" y="105"/>
                  </a:lnTo>
                  <a:lnTo>
                    <a:pt x="695" y="102"/>
                  </a:lnTo>
                  <a:lnTo>
                    <a:pt x="687" y="110"/>
                  </a:lnTo>
                  <a:lnTo>
                    <a:pt x="683" y="102"/>
                  </a:lnTo>
                  <a:lnTo>
                    <a:pt x="695" y="92"/>
                  </a:lnTo>
                  <a:lnTo>
                    <a:pt x="723" y="100"/>
                  </a:lnTo>
                  <a:lnTo>
                    <a:pt x="735" y="95"/>
                  </a:lnTo>
                  <a:lnTo>
                    <a:pt x="712" y="90"/>
                  </a:lnTo>
                  <a:lnTo>
                    <a:pt x="723" y="83"/>
                  </a:lnTo>
                  <a:lnTo>
                    <a:pt x="707" y="85"/>
                  </a:lnTo>
                  <a:lnTo>
                    <a:pt x="703" y="80"/>
                  </a:lnTo>
                  <a:lnTo>
                    <a:pt x="707" y="85"/>
                  </a:lnTo>
                  <a:lnTo>
                    <a:pt x="727" y="83"/>
                  </a:lnTo>
                  <a:lnTo>
                    <a:pt x="719" y="75"/>
                  </a:lnTo>
                  <a:lnTo>
                    <a:pt x="712" y="70"/>
                  </a:lnTo>
                  <a:lnTo>
                    <a:pt x="735" y="83"/>
                  </a:lnTo>
                  <a:lnTo>
                    <a:pt x="743" y="78"/>
                  </a:lnTo>
                  <a:lnTo>
                    <a:pt x="747" y="68"/>
                  </a:lnTo>
                  <a:lnTo>
                    <a:pt x="723" y="65"/>
                  </a:lnTo>
                  <a:lnTo>
                    <a:pt x="751" y="63"/>
                  </a:lnTo>
                  <a:lnTo>
                    <a:pt x="739" y="58"/>
                  </a:lnTo>
                  <a:lnTo>
                    <a:pt x="731" y="60"/>
                  </a:lnTo>
                  <a:lnTo>
                    <a:pt x="735" y="56"/>
                  </a:lnTo>
                  <a:lnTo>
                    <a:pt x="731" y="48"/>
                  </a:lnTo>
                  <a:lnTo>
                    <a:pt x="735" y="53"/>
                  </a:lnTo>
                  <a:lnTo>
                    <a:pt x="751" y="48"/>
                  </a:lnTo>
                  <a:lnTo>
                    <a:pt x="751" y="46"/>
                  </a:lnTo>
                  <a:lnTo>
                    <a:pt x="775" y="51"/>
                  </a:lnTo>
                  <a:lnTo>
                    <a:pt x="784" y="48"/>
                  </a:lnTo>
                  <a:lnTo>
                    <a:pt x="784" y="41"/>
                  </a:lnTo>
                  <a:lnTo>
                    <a:pt x="771" y="41"/>
                  </a:lnTo>
                  <a:lnTo>
                    <a:pt x="759" y="36"/>
                  </a:lnTo>
                  <a:lnTo>
                    <a:pt x="768" y="34"/>
                  </a:lnTo>
                  <a:lnTo>
                    <a:pt x="780" y="31"/>
                  </a:lnTo>
                  <a:lnTo>
                    <a:pt x="768" y="26"/>
                  </a:lnTo>
                  <a:lnTo>
                    <a:pt x="751" y="34"/>
                  </a:lnTo>
                  <a:lnTo>
                    <a:pt x="757" y="26"/>
                  </a:lnTo>
                  <a:lnTo>
                    <a:pt x="751" y="26"/>
                  </a:lnTo>
                  <a:lnTo>
                    <a:pt x="634" y="23"/>
                  </a:lnTo>
                  <a:lnTo>
                    <a:pt x="517" y="19"/>
                  </a:lnTo>
                  <a:lnTo>
                    <a:pt x="408" y="11"/>
                  </a:lnTo>
                  <a:lnTo>
                    <a:pt x="299" y="4"/>
                  </a:lnTo>
                  <a:lnTo>
                    <a:pt x="254" y="0"/>
                  </a:lnTo>
                  <a:lnTo>
                    <a:pt x="250" y="4"/>
                  </a:lnTo>
                  <a:lnTo>
                    <a:pt x="267" y="4"/>
                  </a:lnTo>
                  <a:lnTo>
                    <a:pt x="254" y="6"/>
                  </a:lnTo>
                  <a:lnTo>
                    <a:pt x="267" y="6"/>
                  </a:lnTo>
                  <a:lnTo>
                    <a:pt x="250" y="9"/>
                  </a:lnTo>
                  <a:lnTo>
                    <a:pt x="254" y="11"/>
                  </a:lnTo>
                  <a:lnTo>
                    <a:pt x="295" y="9"/>
                  </a:lnTo>
                  <a:lnTo>
                    <a:pt x="287" y="14"/>
                  </a:lnTo>
                  <a:lnTo>
                    <a:pt x="275" y="19"/>
                  </a:lnTo>
                  <a:lnTo>
                    <a:pt x="247" y="16"/>
                  </a:lnTo>
                  <a:lnTo>
                    <a:pt x="263" y="21"/>
                  </a:lnTo>
                  <a:lnTo>
                    <a:pt x="214" y="16"/>
                  </a:lnTo>
                  <a:lnTo>
                    <a:pt x="206" y="21"/>
                  </a:lnTo>
                  <a:lnTo>
                    <a:pt x="227" y="19"/>
                  </a:lnTo>
                  <a:lnTo>
                    <a:pt x="211" y="23"/>
                  </a:lnTo>
                  <a:lnTo>
                    <a:pt x="227" y="26"/>
                  </a:lnTo>
                  <a:lnTo>
                    <a:pt x="198" y="29"/>
                  </a:lnTo>
                  <a:lnTo>
                    <a:pt x="190" y="36"/>
                  </a:lnTo>
                  <a:lnTo>
                    <a:pt x="206" y="41"/>
                  </a:lnTo>
                  <a:lnTo>
                    <a:pt x="214" y="34"/>
                  </a:lnTo>
                  <a:lnTo>
                    <a:pt x="214" y="38"/>
                  </a:lnTo>
                  <a:lnTo>
                    <a:pt x="231" y="36"/>
                  </a:lnTo>
                  <a:lnTo>
                    <a:pt x="218" y="41"/>
                  </a:lnTo>
                  <a:lnTo>
                    <a:pt x="247" y="36"/>
                  </a:lnTo>
                  <a:lnTo>
                    <a:pt x="259" y="36"/>
                  </a:lnTo>
                  <a:lnTo>
                    <a:pt x="279" y="46"/>
                  </a:lnTo>
                  <a:lnTo>
                    <a:pt x="259" y="63"/>
                  </a:lnTo>
                  <a:lnTo>
                    <a:pt x="259" y="75"/>
                  </a:lnTo>
                  <a:lnTo>
                    <a:pt x="227" y="83"/>
                  </a:lnTo>
                  <a:lnTo>
                    <a:pt x="250" y="80"/>
                  </a:lnTo>
                  <a:lnTo>
                    <a:pt x="223" y="90"/>
                  </a:lnTo>
                  <a:lnTo>
                    <a:pt x="227" y="98"/>
                  </a:lnTo>
                  <a:lnTo>
                    <a:pt x="223" y="136"/>
                  </a:lnTo>
                  <a:lnTo>
                    <a:pt x="202" y="165"/>
                  </a:lnTo>
                  <a:lnTo>
                    <a:pt x="149" y="194"/>
                  </a:lnTo>
                  <a:lnTo>
                    <a:pt x="102" y="218"/>
                  </a:lnTo>
                  <a:lnTo>
                    <a:pt x="50" y="244"/>
                  </a:lnTo>
                  <a:lnTo>
                    <a:pt x="0" y="288"/>
                  </a:lnTo>
                  <a:lnTo>
                    <a:pt x="4" y="322"/>
                  </a:lnTo>
                  <a:lnTo>
                    <a:pt x="59" y="313"/>
                  </a:lnTo>
                  <a:lnTo>
                    <a:pt x="153" y="267"/>
                  </a:lnTo>
                  <a:lnTo>
                    <a:pt x="256" y="235"/>
                  </a:lnTo>
                  <a:lnTo>
                    <a:pt x="374" y="210"/>
                  </a:lnTo>
                  <a:lnTo>
                    <a:pt x="424" y="20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254680" y="14284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240640" y="1436400"/>
              <a:ext cx="4320" cy="576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9" y="0"/>
                  </a:moveTo>
                  <a:lnTo>
                    <a:pt x="9" y="0"/>
                  </a:lnTo>
                  <a:lnTo>
                    <a:pt x="12" y="2"/>
                  </a:lnTo>
                  <a:lnTo>
                    <a:pt x="0" y="17"/>
                  </a:lnTo>
                  <a:lnTo>
                    <a:pt x="4" y="5"/>
                  </a:lnTo>
                  <a:lnTo>
                    <a:pt x="9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235600" y="1445760"/>
              <a:ext cx="7560" cy="28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6" y="0"/>
                  </a:moveTo>
                  <a:lnTo>
                    <a:pt x="16" y="0"/>
                  </a:lnTo>
                  <a:lnTo>
                    <a:pt x="20" y="7"/>
                  </a:lnTo>
                  <a:lnTo>
                    <a:pt x="0" y="7"/>
                  </a:lnTo>
                  <a:lnTo>
                    <a:pt x="1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224440" y="1452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191320" y="1458720"/>
              <a:ext cx="14040" cy="252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24" y="0"/>
                  </a:moveTo>
                  <a:lnTo>
                    <a:pt x="24" y="0"/>
                  </a:lnTo>
                  <a:lnTo>
                    <a:pt x="36" y="3"/>
                  </a:lnTo>
                  <a:lnTo>
                    <a:pt x="12" y="0"/>
                  </a:lnTo>
                  <a:lnTo>
                    <a:pt x="40" y="5"/>
                  </a:lnTo>
                  <a:lnTo>
                    <a:pt x="16" y="8"/>
                  </a:lnTo>
                  <a:lnTo>
                    <a:pt x="0" y="3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196000" y="1461600"/>
              <a:ext cx="12240" cy="288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36" y="3"/>
                  </a:moveTo>
                  <a:lnTo>
                    <a:pt x="36" y="3"/>
                  </a:lnTo>
                  <a:lnTo>
                    <a:pt x="33" y="7"/>
                  </a:lnTo>
                  <a:lnTo>
                    <a:pt x="0" y="0"/>
                  </a:lnTo>
                  <a:lnTo>
                    <a:pt x="36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194560" y="1463400"/>
              <a:ext cx="10800" cy="432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23" y="0"/>
                  </a:moveTo>
                  <a:lnTo>
                    <a:pt x="23" y="0"/>
                  </a:lnTo>
                  <a:lnTo>
                    <a:pt x="31" y="7"/>
                  </a:lnTo>
                  <a:lnTo>
                    <a:pt x="19" y="7"/>
                  </a:lnTo>
                  <a:lnTo>
                    <a:pt x="23" y="14"/>
                  </a:lnTo>
                  <a:lnTo>
                    <a:pt x="0" y="4"/>
                  </a:lnTo>
                  <a:lnTo>
                    <a:pt x="3" y="0"/>
                  </a:lnTo>
                  <a:lnTo>
                    <a:pt x="2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159640" y="1476000"/>
              <a:ext cx="16920" cy="2880"/>
            </a:xfrm>
            <a:custGeom>
              <a:avLst/>
              <a:gdLst/>
              <a:ahLst/>
              <a:rect l="l" t="t" r="r" b="b"/>
              <a:pathLst>
                <a:path w="50" h="11">
                  <a:moveTo>
                    <a:pt x="49" y="0"/>
                  </a:moveTo>
                  <a:lnTo>
                    <a:pt x="49" y="0"/>
                  </a:lnTo>
                  <a:lnTo>
                    <a:pt x="49" y="7"/>
                  </a:lnTo>
                  <a:lnTo>
                    <a:pt x="0" y="10"/>
                  </a:lnTo>
                  <a:lnTo>
                    <a:pt x="49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275560" y="1476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386160" y="1552320"/>
              <a:ext cx="920520" cy="1351080"/>
            </a:xfrm>
            <a:custGeom>
              <a:avLst/>
              <a:gdLst/>
              <a:ahLst/>
              <a:rect l="l" t="t" r="r" b="b"/>
              <a:pathLst>
                <a:path w="2558" h="3757">
                  <a:moveTo>
                    <a:pt x="678" y="307"/>
                  </a:moveTo>
                  <a:lnTo>
                    <a:pt x="694" y="304"/>
                  </a:lnTo>
                  <a:lnTo>
                    <a:pt x="726" y="314"/>
                  </a:lnTo>
                  <a:lnTo>
                    <a:pt x="742" y="327"/>
                  </a:lnTo>
                  <a:lnTo>
                    <a:pt x="746" y="342"/>
                  </a:lnTo>
                  <a:lnTo>
                    <a:pt x="770" y="342"/>
                  </a:lnTo>
                  <a:lnTo>
                    <a:pt x="770" y="356"/>
                  </a:lnTo>
                  <a:lnTo>
                    <a:pt x="782" y="361"/>
                  </a:lnTo>
                  <a:lnTo>
                    <a:pt x="806" y="327"/>
                  </a:lnTo>
                  <a:lnTo>
                    <a:pt x="798" y="319"/>
                  </a:lnTo>
                  <a:lnTo>
                    <a:pt x="803" y="298"/>
                  </a:lnTo>
                  <a:lnTo>
                    <a:pt x="779" y="275"/>
                  </a:lnTo>
                  <a:lnTo>
                    <a:pt x="831" y="280"/>
                  </a:lnTo>
                  <a:lnTo>
                    <a:pt x="798" y="265"/>
                  </a:lnTo>
                  <a:lnTo>
                    <a:pt x="818" y="260"/>
                  </a:lnTo>
                  <a:lnTo>
                    <a:pt x="815" y="251"/>
                  </a:lnTo>
                  <a:lnTo>
                    <a:pt x="787" y="236"/>
                  </a:lnTo>
                  <a:lnTo>
                    <a:pt x="835" y="248"/>
                  </a:lnTo>
                  <a:lnTo>
                    <a:pt x="815" y="241"/>
                  </a:lnTo>
                  <a:lnTo>
                    <a:pt x="823" y="233"/>
                  </a:lnTo>
                  <a:lnTo>
                    <a:pt x="798" y="221"/>
                  </a:lnTo>
                  <a:lnTo>
                    <a:pt x="762" y="207"/>
                  </a:lnTo>
                  <a:lnTo>
                    <a:pt x="722" y="192"/>
                  </a:lnTo>
                  <a:lnTo>
                    <a:pt x="710" y="189"/>
                  </a:lnTo>
                  <a:lnTo>
                    <a:pt x="710" y="179"/>
                  </a:lnTo>
                  <a:lnTo>
                    <a:pt x="702" y="174"/>
                  </a:lnTo>
                  <a:lnTo>
                    <a:pt x="710" y="177"/>
                  </a:lnTo>
                  <a:lnTo>
                    <a:pt x="742" y="179"/>
                  </a:lnTo>
                  <a:lnTo>
                    <a:pt x="742" y="177"/>
                  </a:lnTo>
                  <a:lnTo>
                    <a:pt x="637" y="120"/>
                  </a:lnTo>
                  <a:lnTo>
                    <a:pt x="625" y="111"/>
                  </a:lnTo>
                  <a:lnTo>
                    <a:pt x="589" y="98"/>
                  </a:lnTo>
                  <a:lnTo>
                    <a:pt x="577" y="95"/>
                  </a:lnTo>
                  <a:lnTo>
                    <a:pt x="565" y="106"/>
                  </a:lnTo>
                  <a:lnTo>
                    <a:pt x="577" y="115"/>
                  </a:lnTo>
                  <a:lnTo>
                    <a:pt x="548" y="123"/>
                  </a:lnTo>
                  <a:lnTo>
                    <a:pt x="544" y="120"/>
                  </a:lnTo>
                  <a:lnTo>
                    <a:pt x="468" y="95"/>
                  </a:lnTo>
                  <a:lnTo>
                    <a:pt x="459" y="95"/>
                  </a:lnTo>
                  <a:lnTo>
                    <a:pt x="411" y="86"/>
                  </a:lnTo>
                  <a:lnTo>
                    <a:pt x="346" y="83"/>
                  </a:lnTo>
                  <a:lnTo>
                    <a:pt x="184" y="32"/>
                  </a:lnTo>
                  <a:lnTo>
                    <a:pt x="108" y="15"/>
                  </a:lnTo>
                  <a:lnTo>
                    <a:pt x="56" y="12"/>
                  </a:lnTo>
                  <a:lnTo>
                    <a:pt x="15" y="17"/>
                  </a:lnTo>
                  <a:lnTo>
                    <a:pt x="0" y="22"/>
                  </a:lnTo>
                  <a:lnTo>
                    <a:pt x="15" y="34"/>
                  </a:lnTo>
                  <a:lnTo>
                    <a:pt x="44" y="39"/>
                  </a:lnTo>
                  <a:lnTo>
                    <a:pt x="68" y="47"/>
                  </a:lnTo>
                  <a:lnTo>
                    <a:pt x="137" y="91"/>
                  </a:lnTo>
                  <a:lnTo>
                    <a:pt x="157" y="98"/>
                  </a:lnTo>
                  <a:lnTo>
                    <a:pt x="157" y="113"/>
                  </a:lnTo>
                  <a:lnTo>
                    <a:pt x="112" y="108"/>
                  </a:lnTo>
                  <a:lnTo>
                    <a:pt x="133" y="120"/>
                  </a:lnTo>
                  <a:lnTo>
                    <a:pt x="153" y="132"/>
                  </a:lnTo>
                  <a:lnTo>
                    <a:pt x="193" y="155"/>
                  </a:lnTo>
                  <a:lnTo>
                    <a:pt x="221" y="152"/>
                  </a:lnTo>
                  <a:lnTo>
                    <a:pt x="250" y="157"/>
                  </a:lnTo>
                  <a:lnTo>
                    <a:pt x="238" y="148"/>
                  </a:lnTo>
                  <a:lnTo>
                    <a:pt x="254" y="145"/>
                  </a:lnTo>
                  <a:lnTo>
                    <a:pt x="286" y="150"/>
                  </a:lnTo>
                  <a:lnTo>
                    <a:pt x="358" y="172"/>
                  </a:lnTo>
                  <a:lnTo>
                    <a:pt x="483" y="185"/>
                  </a:lnTo>
                  <a:lnTo>
                    <a:pt x="533" y="209"/>
                  </a:lnTo>
                  <a:lnTo>
                    <a:pt x="679" y="230"/>
                  </a:lnTo>
                  <a:lnTo>
                    <a:pt x="669" y="261"/>
                  </a:lnTo>
                  <a:lnTo>
                    <a:pt x="690" y="277"/>
                  </a:lnTo>
                  <a:lnTo>
                    <a:pt x="678" y="307"/>
                  </a:lnTo>
                  <a:close/>
                  <a:moveTo>
                    <a:pt x="532" y="8"/>
                  </a:moveTo>
                  <a:lnTo>
                    <a:pt x="548" y="12"/>
                  </a:lnTo>
                  <a:lnTo>
                    <a:pt x="697" y="66"/>
                  </a:lnTo>
                  <a:lnTo>
                    <a:pt x="758" y="83"/>
                  </a:lnTo>
                  <a:lnTo>
                    <a:pt x="839" y="115"/>
                  </a:lnTo>
                  <a:lnTo>
                    <a:pt x="887" y="132"/>
                  </a:lnTo>
                  <a:lnTo>
                    <a:pt x="847" y="111"/>
                  </a:lnTo>
                  <a:lnTo>
                    <a:pt x="871" y="113"/>
                  </a:lnTo>
                  <a:lnTo>
                    <a:pt x="907" y="125"/>
                  </a:lnTo>
                  <a:lnTo>
                    <a:pt x="887" y="115"/>
                  </a:lnTo>
                  <a:lnTo>
                    <a:pt x="855" y="106"/>
                  </a:lnTo>
                  <a:lnTo>
                    <a:pt x="851" y="106"/>
                  </a:lnTo>
                  <a:lnTo>
                    <a:pt x="775" y="86"/>
                  </a:lnTo>
                  <a:lnTo>
                    <a:pt x="762" y="81"/>
                  </a:lnTo>
                  <a:lnTo>
                    <a:pt x="758" y="78"/>
                  </a:lnTo>
                  <a:lnTo>
                    <a:pt x="726" y="66"/>
                  </a:lnTo>
                  <a:lnTo>
                    <a:pt x="710" y="59"/>
                  </a:lnTo>
                  <a:lnTo>
                    <a:pt x="694" y="54"/>
                  </a:lnTo>
                  <a:lnTo>
                    <a:pt x="697" y="49"/>
                  </a:lnTo>
                  <a:lnTo>
                    <a:pt x="681" y="47"/>
                  </a:lnTo>
                  <a:lnTo>
                    <a:pt x="710" y="49"/>
                  </a:lnTo>
                  <a:lnTo>
                    <a:pt x="762" y="59"/>
                  </a:lnTo>
                  <a:lnTo>
                    <a:pt x="537" y="0"/>
                  </a:lnTo>
                  <a:lnTo>
                    <a:pt x="532" y="8"/>
                  </a:lnTo>
                  <a:close/>
                  <a:moveTo>
                    <a:pt x="1384" y="541"/>
                  </a:moveTo>
                  <a:lnTo>
                    <a:pt x="1396" y="555"/>
                  </a:lnTo>
                  <a:lnTo>
                    <a:pt x="1384" y="541"/>
                  </a:lnTo>
                  <a:close/>
                  <a:moveTo>
                    <a:pt x="1291" y="504"/>
                  </a:moveTo>
                  <a:lnTo>
                    <a:pt x="1295" y="499"/>
                  </a:lnTo>
                  <a:lnTo>
                    <a:pt x="1291" y="504"/>
                  </a:lnTo>
                  <a:close/>
                  <a:moveTo>
                    <a:pt x="1336" y="496"/>
                  </a:moveTo>
                  <a:lnTo>
                    <a:pt x="1327" y="485"/>
                  </a:lnTo>
                  <a:lnTo>
                    <a:pt x="1307" y="477"/>
                  </a:lnTo>
                  <a:lnTo>
                    <a:pt x="1295" y="477"/>
                  </a:lnTo>
                  <a:lnTo>
                    <a:pt x="1283" y="467"/>
                  </a:lnTo>
                  <a:lnTo>
                    <a:pt x="1267" y="467"/>
                  </a:lnTo>
                  <a:lnTo>
                    <a:pt x="1254" y="459"/>
                  </a:lnTo>
                  <a:lnTo>
                    <a:pt x="1242" y="474"/>
                  </a:lnTo>
                  <a:lnTo>
                    <a:pt x="1251" y="479"/>
                  </a:lnTo>
                  <a:lnTo>
                    <a:pt x="1242" y="479"/>
                  </a:lnTo>
                  <a:lnTo>
                    <a:pt x="1276" y="492"/>
                  </a:lnTo>
                  <a:lnTo>
                    <a:pt x="1254" y="487"/>
                  </a:lnTo>
                  <a:lnTo>
                    <a:pt x="1267" y="492"/>
                  </a:lnTo>
                  <a:lnTo>
                    <a:pt x="1278" y="499"/>
                  </a:lnTo>
                  <a:lnTo>
                    <a:pt x="1291" y="494"/>
                  </a:lnTo>
                  <a:lnTo>
                    <a:pt x="1276" y="492"/>
                  </a:lnTo>
                  <a:lnTo>
                    <a:pt x="1267" y="482"/>
                  </a:lnTo>
                  <a:lnTo>
                    <a:pt x="1291" y="492"/>
                  </a:lnTo>
                  <a:lnTo>
                    <a:pt x="1299" y="494"/>
                  </a:lnTo>
                  <a:lnTo>
                    <a:pt x="1332" y="524"/>
                  </a:lnTo>
                  <a:lnTo>
                    <a:pt x="1336" y="528"/>
                  </a:lnTo>
                  <a:lnTo>
                    <a:pt x="1359" y="533"/>
                  </a:lnTo>
                  <a:lnTo>
                    <a:pt x="1348" y="528"/>
                  </a:lnTo>
                  <a:lnTo>
                    <a:pt x="1339" y="519"/>
                  </a:lnTo>
                  <a:lnTo>
                    <a:pt x="1352" y="526"/>
                  </a:lnTo>
                  <a:lnTo>
                    <a:pt x="1368" y="539"/>
                  </a:lnTo>
                  <a:lnTo>
                    <a:pt x="1359" y="526"/>
                  </a:lnTo>
                  <a:lnTo>
                    <a:pt x="1372" y="526"/>
                  </a:lnTo>
                  <a:lnTo>
                    <a:pt x="1336" y="496"/>
                  </a:lnTo>
                  <a:close/>
                  <a:moveTo>
                    <a:pt x="1150" y="440"/>
                  </a:moveTo>
                  <a:lnTo>
                    <a:pt x="1158" y="445"/>
                  </a:lnTo>
                  <a:lnTo>
                    <a:pt x="1150" y="440"/>
                  </a:lnTo>
                  <a:close/>
                  <a:moveTo>
                    <a:pt x="1182" y="445"/>
                  </a:moveTo>
                  <a:lnTo>
                    <a:pt x="1194" y="454"/>
                  </a:lnTo>
                  <a:lnTo>
                    <a:pt x="1182" y="445"/>
                  </a:lnTo>
                  <a:close/>
                  <a:moveTo>
                    <a:pt x="964" y="371"/>
                  </a:moveTo>
                  <a:lnTo>
                    <a:pt x="956" y="373"/>
                  </a:lnTo>
                  <a:lnTo>
                    <a:pt x="928" y="369"/>
                  </a:lnTo>
                  <a:lnTo>
                    <a:pt x="940" y="379"/>
                  </a:lnTo>
                  <a:lnTo>
                    <a:pt x="932" y="371"/>
                  </a:lnTo>
                  <a:lnTo>
                    <a:pt x="916" y="373"/>
                  </a:lnTo>
                  <a:lnTo>
                    <a:pt x="919" y="369"/>
                  </a:lnTo>
                  <a:lnTo>
                    <a:pt x="899" y="369"/>
                  </a:lnTo>
                  <a:lnTo>
                    <a:pt x="903" y="366"/>
                  </a:lnTo>
                  <a:lnTo>
                    <a:pt x="887" y="356"/>
                  </a:lnTo>
                  <a:lnTo>
                    <a:pt x="903" y="354"/>
                  </a:lnTo>
                  <a:lnTo>
                    <a:pt x="880" y="349"/>
                  </a:lnTo>
                  <a:lnTo>
                    <a:pt x="851" y="329"/>
                  </a:lnTo>
                  <a:lnTo>
                    <a:pt x="823" y="327"/>
                  </a:lnTo>
                  <a:lnTo>
                    <a:pt x="831" y="332"/>
                  </a:lnTo>
                  <a:lnTo>
                    <a:pt x="798" y="319"/>
                  </a:lnTo>
                  <a:lnTo>
                    <a:pt x="803" y="298"/>
                  </a:lnTo>
                  <a:lnTo>
                    <a:pt x="779" y="275"/>
                  </a:lnTo>
                  <a:lnTo>
                    <a:pt x="831" y="280"/>
                  </a:lnTo>
                  <a:lnTo>
                    <a:pt x="798" y="265"/>
                  </a:lnTo>
                  <a:lnTo>
                    <a:pt x="818" y="260"/>
                  </a:lnTo>
                  <a:lnTo>
                    <a:pt x="815" y="251"/>
                  </a:lnTo>
                  <a:lnTo>
                    <a:pt x="787" y="236"/>
                  </a:lnTo>
                  <a:lnTo>
                    <a:pt x="835" y="248"/>
                  </a:lnTo>
                  <a:lnTo>
                    <a:pt x="843" y="251"/>
                  </a:lnTo>
                  <a:lnTo>
                    <a:pt x="855" y="267"/>
                  </a:lnTo>
                  <a:lnTo>
                    <a:pt x="895" y="287"/>
                  </a:lnTo>
                  <a:lnTo>
                    <a:pt x="895" y="322"/>
                  </a:lnTo>
                  <a:lnTo>
                    <a:pt x="919" y="334"/>
                  </a:lnTo>
                  <a:lnTo>
                    <a:pt x="972" y="347"/>
                  </a:lnTo>
                  <a:lnTo>
                    <a:pt x="1073" y="383"/>
                  </a:lnTo>
                  <a:lnTo>
                    <a:pt x="1146" y="423"/>
                  </a:lnTo>
                  <a:lnTo>
                    <a:pt x="1154" y="437"/>
                  </a:lnTo>
                  <a:lnTo>
                    <a:pt x="1134" y="433"/>
                  </a:lnTo>
                  <a:lnTo>
                    <a:pt x="1141" y="437"/>
                  </a:lnTo>
                  <a:lnTo>
                    <a:pt x="1121" y="440"/>
                  </a:lnTo>
                  <a:lnTo>
                    <a:pt x="1134" y="450"/>
                  </a:lnTo>
                  <a:lnTo>
                    <a:pt x="1117" y="445"/>
                  </a:lnTo>
                  <a:lnTo>
                    <a:pt x="1134" y="454"/>
                  </a:lnTo>
                  <a:lnTo>
                    <a:pt x="1117" y="448"/>
                  </a:lnTo>
                  <a:lnTo>
                    <a:pt x="1117" y="462"/>
                  </a:lnTo>
                  <a:lnTo>
                    <a:pt x="1093" y="452"/>
                  </a:lnTo>
                  <a:lnTo>
                    <a:pt x="1105" y="452"/>
                  </a:lnTo>
                  <a:lnTo>
                    <a:pt x="1093" y="450"/>
                  </a:lnTo>
                  <a:lnTo>
                    <a:pt x="1098" y="448"/>
                  </a:lnTo>
                  <a:lnTo>
                    <a:pt x="1093" y="450"/>
                  </a:lnTo>
                  <a:lnTo>
                    <a:pt x="1073" y="440"/>
                  </a:lnTo>
                  <a:lnTo>
                    <a:pt x="1085" y="443"/>
                  </a:lnTo>
                  <a:lnTo>
                    <a:pt x="1073" y="437"/>
                  </a:lnTo>
                  <a:lnTo>
                    <a:pt x="1069" y="430"/>
                  </a:lnTo>
                  <a:lnTo>
                    <a:pt x="1056" y="428"/>
                  </a:lnTo>
                  <a:lnTo>
                    <a:pt x="1049" y="418"/>
                  </a:lnTo>
                  <a:lnTo>
                    <a:pt x="1053" y="415"/>
                  </a:lnTo>
                  <a:lnTo>
                    <a:pt x="1037" y="415"/>
                  </a:lnTo>
                  <a:lnTo>
                    <a:pt x="1013" y="398"/>
                  </a:lnTo>
                  <a:lnTo>
                    <a:pt x="1000" y="398"/>
                  </a:lnTo>
                  <a:lnTo>
                    <a:pt x="997" y="391"/>
                  </a:lnTo>
                  <a:lnTo>
                    <a:pt x="1020" y="398"/>
                  </a:lnTo>
                  <a:lnTo>
                    <a:pt x="1013" y="391"/>
                  </a:lnTo>
                  <a:lnTo>
                    <a:pt x="997" y="389"/>
                  </a:lnTo>
                  <a:lnTo>
                    <a:pt x="964" y="371"/>
                  </a:lnTo>
                  <a:close/>
                  <a:moveTo>
                    <a:pt x="1158" y="479"/>
                  </a:moveTo>
                  <a:lnTo>
                    <a:pt x="1166" y="487"/>
                  </a:lnTo>
                  <a:lnTo>
                    <a:pt x="1154" y="489"/>
                  </a:lnTo>
                  <a:lnTo>
                    <a:pt x="1158" y="479"/>
                  </a:lnTo>
                  <a:close/>
                  <a:moveTo>
                    <a:pt x="1242" y="329"/>
                  </a:moveTo>
                  <a:lnTo>
                    <a:pt x="1254" y="334"/>
                  </a:lnTo>
                  <a:lnTo>
                    <a:pt x="1259" y="342"/>
                  </a:lnTo>
                  <a:lnTo>
                    <a:pt x="1247" y="337"/>
                  </a:lnTo>
                  <a:lnTo>
                    <a:pt x="1242" y="329"/>
                  </a:lnTo>
                  <a:close/>
                  <a:moveTo>
                    <a:pt x="1344" y="448"/>
                  </a:moveTo>
                  <a:lnTo>
                    <a:pt x="1359" y="454"/>
                  </a:lnTo>
                  <a:lnTo>
                    <a:pt x="1372" y="472"/>
                  </a:lnTo>
                  <a:lnTo>
                    <a:pt x="1348" y="465"/>
                  </a:lnTo>
                  <a:lnTo>
                    <a:pt x="1344" y="474"/>
                  </a:lnTo>
                  <a:lnTo>
                    <a:pt x="1363" y="487"/>
                  </a:lnTo>
                  <a:lnTo>
                    <a:pt x="1339" y="485"/>
                  </a:lnTo>
                  <a:lnTo>
                    <a:pt x="1315" y="470"/>
                  </a:lnTo>
                  <a:lnTo>
                    <a:pt x="1307" y="474"/>
                  </a:lnTo>
                  <a:lnTo>
                    <a:pt x="1299" y="450"/>
                  </a:lnTo>
                  <a:lnTo>
                    <a:pt x="1319" y="452"/>
                  </a:lnTo>
                  <a:lnTo>
                    <a:pt x="1319" y="440"/>
                  </a:lnTo>
                  <a:lnTo>
                    <a:pt x="1344" y="448"/>
                  </a:lnTo>
                  <a:close/>
                  <a:moveTo>
                    <a:pt x="1336" y="435"/>
                  </a:moveTo>
                  <a:lnTo>
                    <a:pt x="1344" y="443"/>
                  </a:lnTo>
                  <a:lnTo>
                    <a:pt x="1336" y="443"/>
                  </a:lnTo>
                  <a:lnTo>
                    <a:pt x="1332" y="433"/>
                  </a:lnTo>
                  <a:lnTo>
                    <a:pt x="1336" y="435"/>
                  </a:lnTo>
                  <a:close/>
                  <a:moveTo>
                    <a:pt x="1134" y="244"/>
                  </a:moveTo>
                  <a:lnTo>
                    <a:pt x="1141" y="244"/>
                  </a:lnTo>
                  <a:lnTo>
                    <a:pt x="1190" y="263"/>
                  </a:lnTo>
                  <a:lnTo>
                    <a:pt x="1259" y="287"/>
                  </a:lnTo>
                  <a:lnTo>
                    <a:pt x="1295" y="312"/>
                  </a:lnTo>
                  <a:lnTo>
                    <a:pt x="1315" y="322"/>
                  </a:lnTo>
                  <a:lnTo>
                    <a:pt x="1307" y="327"/>
                  </a:lnTo>
                  <a:lnTo>
                    <a:pt x="1359" y="352"/>
                  </a:lnTo>
                  <a:lnTo>
                    <a:pt x="1396" y="376"/>
                  </a:lnTo>
                  <a:lnTo>
                    <a:pt x="1433" y="391"/>
                  </a:lnTo>
                  <a:lnTo>
                    <a:pt x="1444" y="405"/>
                  </a:lnTo>
                  <a:lnTo>
                    <a:pt x="1444" y="413"/>
                  </a:lnTo>
                  <a:lnTo>
                    <a:pt x="1433" y="408"/>
                  </a:lnTo>
                  <a:lnTo>
                    <a:pt x="1408" y="393"/>
                  </a:lnTo>
                  <a:lnTo>
                    <a:pt x="1428" y="408"/>
                  </a:lnTo>
                  <a:lnTo>
                    <a:pt x="1408" y="405"/>
                  </a:lnTo>
                  <a:lnTo>
                    <a:pt x="1433" y="423"/>
                  </a:lnTo>
                  <a:lnTo>
                    <a:pt x="1404" y="410"/>
                  </a:lnTo>
                  <a:lnTo>
                    <a:pt x="1416" y="425"/>
                  </a:lnTo>
                  <a:lnTo>
                    <a:pt x="1384" y="428"/>
                  </a:lnTo>
                  <a:lnTo>
                    <a:pt x="1388" y="425"/>
                  </a:lnTo>
                  <a:lnTo>
                    <a:pt x="1368" y="420"/>
                  </a:lnTo>
                  <a:lnTo>
                    <a:pt x="1375" y="425"/>
                  </a:lnTo>
                  <a:lnTo>
                    <a:pt x="1359" y="415"/>
                  </a:lnTo>
                  <a:lnTo>
                    <a:pt x="1368" y="428"/>
                  </a:lnTo>
                  <a:lnTo>
                    <a:pt x="1396" y="437"/>
                  </a:lnTo>
                  <a:lnTo>
                    <a:pt x="1384" y="443"/>
                  </a:lnTo>
                  <a:lnTo>
                    <a:pt x="1404" y="462"/>
                  </a:lnTo>
                  <a:lnTo>
                    <a:pt x="1363" y="452"/>
                  </a:lnTo>
                  <a:lnTo>
                    <a:pt x="1348" y="443"/>
                  </a:lnTo>
                  <a:lnTo>
                    <a:pt x="1336" y="430"/>
                  </a:lnTo>
                  <a:lnTo>
                    <a:pt x="1307" y="433"/>
                  </a:lnTo>
                  <a:lnTo>
                    <a:pt x="1295" y="448"/>
                  </a:lnTo>
                  <a:lnTo>
                    <a:pt x="1287" y="450"/>
                  </a:lnTo>
                  <a:lnTo>
                    <a:pt x="1276" y="448"/>
                  </a:lnTo>
                  <a:lnTo>
                    <a:pt x="1291" y="462"/>
                  </a:lnTo>
                  <a:lnTo>
                    <a:pt x="1271" y="454"/>
                  </a:lnTo>
                  <a:lnTo>
                    <a:pt x="1251" y="459"/>
                  </a:lnTo>
                  <a:lnTo>
                    <a:pt x="1230" y="448"/>
                  </a:lnTo>
                  <a:lnTo>
                    <a:pt x="1242" y="448"/>
                  </a:lnTo>
                  <a:lnTo>
                    <a:pt x="1235" y="413"/>
                  </a:lnTo>
                  <a:lnTo>
                    <a:pt x="1303" y="410"/>
                  </a:lnTo>
                  <a:lnTo>
                    <a:pt x="1311" y="408"/>
                  </a:lnTo>
                  <a:lnTo>
                    <a:pt x="1291" y="396"/>
                  </a:lnTo>
                  <a:lnTo>
                    <a:pt x="1276" y="373"/>
                  </a:lnTo>
                  <a:lnTo>
                    <a:pt x="1247" y="358"/>
                  </a:lnTo>
                  <a:lnTo>
                    <a:pt x="1259" y="354"/>
                  </a:lnTo>
                  <a:lnTo>
                    <a:pt x="1263" y="363"/>
                  </a:lnTo>
                  <a:lnTo>
                    <a:pt x="1287" y="371"/>
                  </a:lnTo>
                  <a:lnTo>
                    <a:pt x="1291" y="354"/>
                  </a:lnTo>
                  <a:lnTo>
                    <a:pt x="1271" y="329"/>
                  </a:lnTo>
                  <a:lnTo>
                    <a:pt x="1222" y="298"/>
                  </a:lnTo>
                  <a:lnTo>
                    <a:pt x="1197" y="287"/>
                  </a:lnTo>
                  <a:lnTo>
                    <a:pt x="1182" y="285"/>
                  </a:lnTo>
                  <a:lnTo>
                    <a:pt x="1174" y="278"/>
                  </a:lnTo>
                  <a:lnTo>
                    <a:pt x="1150" y="267"/>
                  </a:lnTo>
                  <a:lnTo>
                    <a:pt x="1150" y="260"/>
                  </a:lnTo>
                  <a:lnTo>
                    <a:pt x="1125" y="251"/>
                  </a:lnTo>
                  <a:lnTo>
                    <a:pt x="1158" y="258"/>
                  </a:lnTo>
                  <a:lnTo>
                    <a:pt x="1166" y="258"/>
                  </a:lnTo>
                  <a:lnTo>
                    <a:pt x="1146" y="248"/>
                  </a:lnTo>
                  <a:lnTo>
                    <a:pt x="1141" y="251"/>
                  </a:lnTo>
                  <a:lnTo>
                    <a:pt x="1121" y="241"/>
                  </a:lnTo>
                  <a:lnTo>
                    <a:pt x="1134" y="244"/>
                  </a:lnTo>
                  <a:close/>
                  <a:moveTo>
                    <a:pt x="912" y="142"/>
                  </a:moveTo>
                  <a:lnTo>
                    <a:pt x="1033" y="169"/>
                  </a:lnTo>
                  <a:lnTo>
                    <a:pt x="1065" y="172"/>
                  </a:lnTo>
                  <a:lnTo>
                    <a:pt x="1061" y="167"/>
                  </a:lnTo>
                  <a:lnTo>
                    <a:pt x="1053" y="160"/>
                  </a:lnTo>
                  <a:lnTo>
                    <a:pt x="1114" y="184"/>
                  </a:lnTo>
                  <a:lnTo>
                    <a:pt x="1121" y="182"/>
                  </a:lnTo>
                  <a:lnTo>
                    <a:pt x="1129" y="194"/>
                  </a:lnTo>
                  <a:lnTo>
                    <a:pt x="1110" y="199"/>
                  </a:lnTo>
                  <a:lnTo>
                    <a:pt x="1154" y="226"/>
                  </a:lnTo>
                  <a:lnTo>
                    <a:pt x="1081" y="211"/>
                  </a:lnTo>
                  <a:lnTo>
                    <a:pt x="1081" y="221"/>
                  </a:lnTo>
                  <a:lnTo>
                    <a:pt x="1053" y="216"/>
                  </a:lnTo>
                  <a:lnTo>
                    <a:pt x="1069" y="226"/>
                  </a:lnTo>
                  <a:lnTo>
                    <a:pt x="1114" y="233"/>
                  </a:lnTo>
                  <a:lnTo>
                    <a:pt x="1110" y="246"/>
                  </a:lnTo>
                  <a:lnTo>
                    <a:pt x="1037" y="218"/>
                  </a:lnTo>
                  <a:lnTo>
                    <a:pt x="1029" y="207"/>
                  </a:lnTo>
                  <a:lnTo>
                    <a:pt x="1009" y="197"/>
                  </a:lnTo>
                  <a:lnTo>
                    <a:pt x="1037" y="202"/>
                  </a:lnTo>
                  <a:lnTo>
                    <a:pt x="1033" y="197"/>
                  </a:lnTo>
                  <a:lnTo>
                    <a:pt x="961" y="162"/>
                  </a:lnTo>
                  <a:lnTo>
                    <a:pt x="919" y="150"/>
                  </a:lnTo>
                  <a:lnTo>
                    <a:pt x="912" y="142"/>
                  </a:lnTo>
                  <a:close/>
                  <a:moveTo>
                    <a:pt x="1061" y="152"/>
                  </a:moveTo>
                  <a:lnTo>
                    <a:pt x="1073" y="155"/>
                  </a:lnTo>
                  <a:lnTo>
                    <a:pt x="1098" y="174"/>
                  </a:lnTo>
                  <a:lnTo>
                    <a:pt x="1085" y="172"/>
                  </a:lnTo>
                  <a:lnTo>
                    <a:pt x="1061" y="152"/>
                  </a:lnTo>
                  <a:close/>
                  <a:moveTo>
                    <a:pt x="1049" y="120"/>
                  </a:moveTo>
                  <a:lnTo>
                    <a:pt x="1061" y="137"/>
                  </a:lnTo>
                  <a:lnTo>
                    <a:pt x="1081" y="152"/>
                  </a:lnTo>
                  <a:lnTo>
                    <a:pt x="1037" y="125"/>
                  </a:lnTo>
                  <a:lnTo>
                    <a:pt x="1049" y="120"/>
                  </a:lnTo>
                  <a:close/>
                  <a:moveTo>
                    <a:pt x="1053" y="115"/>
                  </a:moveTo>
                  <a:lnTo>
                    <a:pt x="1029" y="98"/>
                  </a:lnTo>
                  <a:lnTo>
                    <a:pt x="1053" y="115"/>
                  </a:lnTo>
                  <a:close/>
                  <a:moveTo>
                    <a:pt x="1004" y="71"/>
                  </a:moveTo>
                  <a:lnTo>
                    <a:pt x="1020" y="81"/>
                  </a:lnTo>
                  <a:lnTo>
                    <a:pt x="1004" y="71"/>
                  </a:lnTo>
                  <a:close/>
                  <a:moveTo>
                    <a:pt x="1291" y="713"/>
                  </a:moveTo>
                  <a:lnTo>
                    <a:pt x="1315" y="715"/>
                  </a:lnTo>
                  <a:lnTo>
                    <a:pt x="1359" y="799"/>
                  </a:lnTo>
                  <a:lnTo>
                    <a:pt x="1311" y="769"/>
                  </a:lnTo>
                  <a:lnTo>
                    <a:pt x="1295" y="755"/>
                  </a:lnTo>
                  <a:lnTo>
                    <a:pt x="1291" y="713"/>
                  </a:lnTo>
                  <a:close/>
                  <a:moveTo>
                    <a:pt x="1448" y="654"/>
                  </a:moveTo>
                  <a:lnTo>
                    <a:pt x="1452" y="676"/>
                  </a:lnTo>
                  <a:lnTo>
                    <a:pt x="1440" y="659"/>
                  </a:lnTo>
                  <a:lnTo>
                    <a:pt x="1448" y="654"/>
                  </a:lnTo>
                  <a:close/>
                  <a:moveTo>
                    <a:pt x="1433" y="607"/>
                  </a:moveTo>
                  <a:lnTo>
                    <a:pt x="1436" y="617"/>
                  </a:lnTo>
                  <a:lnTo>
                    <a:pt x="1425" y="614"/>
                  </a:lnTo>
                  <a:lnTo>
                    <a:pt x="1433" y="607"/>
                  </a:lnTo>
                  <a:close/>
                  <a:moveTo>
                    <a:pt x="2085" y="3612"/>
                  </a:moveTo>
                  <a:lnTo>
                    <a:pt x="2557" y="3612"/>
                  </a:lnTo>
                  <a:lnTo>
                    <a:pt x="2557" y="3756"/>
                  </a:lnTo>
                  <a:lnTo>
                    <a:pt x="2085" y="3756"/>
                  </a:lnTo>
                  <a:lnTo>
                    <a:pt x="2085" y="36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136760" y="2851200"/>
              <a:ext cx="169560" cy="52200"/>
            </a:xfrm>
            <a:custGeom>
              <a:avLst/>
              <a:gdLst/>
              <a:ahLst/>
              <a:rect l="l" t="t" r="r" b="b"/>
              <a:pathLst>
                <a:path w="473" h="145">
                  <a:moveTo>
                    <a:pt x="0" y="0"/>
                  </a:moveTo>
                  <a:lnTo>
                    <a:pt x="472" y="0"/>
                  </a:lnTo>
                  <a:lnTo>
                    <a:pt x="472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386160" y="1557000"/>
              <a:ext cx="301320" cy="124920"/>
            </a:xfrm>
            <a:custGeom>
              <a:avLst/>
              <a:gdLst/>
              <a:ahLst/>
              <a:rect l="l" t="t" r="r" b="b"/>
              <a:pathLst>
                <a:path w="836" h="350">
                  <a:moveTo>
                    <a:pt x="678" y="295"/>
                  </a:moveTo>
                  <a:lnTo>
                    <a:pt x="694" y="292"/>
                  </a:lnTo>
                  <a:lnTo>
                    <a:pt x="726" y="302"/>
                  </a:lnTo>
                  <a:lnTo>
                    <a:pt x="742" y="315"/>
                  </a:lnTo>
                  <a:lnTo>
                    <a:pt x="746" y="330"/>
                  </a:lnTo>
                  <a:lnTo>
                    <a:pt x="770" y="330"/>
                  </a:lnTo>
                  <a:lnTo>
                    <a:pt x="770" y="344"/>
                  </a:lnTo>
                  <a:lnTo>
                    <a:pt x="782" y="349"/>
                  </a:lnTo>
                  <a:lnTo>
                    <a:pt x="806" y="315"/>
                  </a:lnTo>
                  <a:lnTo>
                    <a:pt x="798" y="307"/>
                  </a:lnTo>
                  <a:lnTo>
                    <a:pt x="803" y="286"/>
                  </a:lnTo>
                  <a:lnTo>
                    <a:pt x="779" y="263"/>
                  </a:lnTo>
                  <a:lnTo>
                    <a:pt x="831" y="268"/>
                  </a:lnTo>
                  <a:lnTo>
                    <a:pt x="798" y="253"/>
                  </a:lnTo>
                  <a:lnTo>
                    <a:pt x="818" y="248"/>
                  </a:lnTo>
                  <a:lnTo>
                    <a:pt x="815" y="239"/>
                  </a:lnTo>
                  <a:lnTo>
                    <a:pt x="787" y="224"/>
                  </a:lnTo>
                  <a:lnTo>
                    <a:pt x="835" y="236"/>
                  </a:lnTo>
                  <a:lnTo>
                    <a:pt x="815" y="229"/>
                  </a:lnTo>
                  <a:lnTo>
                    <a:pt x="823" y="221"/>
                  </a:lnTo>
                  <a:lnTo>
                    <a:pt x="798" y="209"/>
                  </a:lnTo>
                  <a:lnTo>
                    <a:pt x="762" y="195"/>
                  </a:lnTo>
                  <a:lnTo>
                    <a:pt x="722" y="180"/>
                  </a:lnTo>
                  <a:lnTo>
                    <a:pt x="710" y="177"/>
                  </a:lnTo>
                  <a:lnTo>
                    <a:pt x="710" y="167"/>
                  </a:lnTo>
                  <a:lnTo>
                    <a:pt x="702" y="162"/>
                  </a:lnTo>
                  <a:lnTo>
                    <a:pt x="710" y="165"/>
                  </a:lnTo>
                  <a:lnTo>
                    <a:pt x="742" y="167"/>
                  </a:lnTo>
                  <a:lnTo>
                    <a:pt x="742" y="165"/>
                  </a:lnTo>
                  <a:lnTo>
                    <a:pt x="637" y="108"/>
                  </a:lnTo>
                  <a:lnTo>
                    <a:pt x="625" y="99"/>
                  </a:lnTo>
                  <a:lnTo>
                    <a:pt x="589" y="86"/>
                  </a:lnTo>
                  <a:lnTo>
                    <a:pt x="577" y="83"/>
                  </a:lnTo>
                  <a:lnTo>
                    <a:pt x="565" y="94"/>
                  </a:lnTo>
                  <a:lnTo>
                    <a:pt x="577" y="103"/>
                  </a:lnTo>
                  <a:lnTo>
                    <a:pt x="548" y="111"/>
                  </a:lnTo>
                  <a:lnTo>
                    <a:pt x="544" y="108"/>
                  </a:lnTo>
                  <a:lnTo>
                    <a:pt x="468" y="83"/>
                  </a:lnTo>
                  <a:lnTo>
                    <a:pt x="459" y="83"/>
                  </a:lnTo>
                  <a:lnTo>
                    <a:pt x="411" y="74"/>
                  </a:lnTo>
                  <a:lnTo>
                    <a:pt x="346" y="71"/>
                  </a:lnTo>
                  <a:lnTo>
                    <a:pt x="184" y="20"/>
                  </a:lnTo>
                  <a:lnTo>
                    <a:pt x="108" y="3"/>
                  </a:lnTo>
                  <a:lnTo>
                    <a:pt x="56" y="0"/>
                  </a:lnTo>
                  <a:lnTo>
                    <a:pt x="15" y="5"/>
                  </a:lnTo>
                  <a:lnTo>
                    <a:pt x="0" y="10"/>
                  </a:lnTo>
                  <a:lnTo>
                    <a:pt x="15" y="22"/>
                  </a:lnTo>
                  <a:lnTo>
                    <a:pt x="44" y="27"/>
                  </a:lnTo>
                  <a:lnTo>
                    <a:pt x="68" y="35"/>
                  </a:lnTo>
                  <a:lnTo>
                    <a:pt x="137" y="79"/>
                  </a:lnTo>
                  <a:lnTo>
                    <a:pt x="157" y="86"/>
                  </a:lnTo>
                  <a:lnTo>
                    <a:pt x="157" y="101"/>
                  </a:lnTo>
                  <a:lnTo>
                    <a:pt x="112" y="96"/>
                  </a:lnTo>
                  <a:lnTo>
                    <a:pt x="133" y="108"/>
                  </a:lnTo>
                  <a:lnTo>
                    <a:pt x="153" y="120"/>
                  </a:lnTo>
                  <a:lnTo>
                    <a:pt x="193" y="143"/>
                  </a:lnTo>
                  <a:lnTo>
                    <a:pt x="221" y="140"/>
                  </a:lnTo>
                  <a:lnTo>
                    <a:pt x="250" y="145"/>
                  </a:lnTo>
                  <a:lnTo>
                    <a:pt x="238" y="136"/>
                  </a:lnTo>
                  <a:lnTo>
                    <a:pt x="254" y="133"/>
                  </a:lnTo>
                  <a:lnTo>
                    <a:pt x="286" y="138"/>
                  </a:lnTo>
                  <a:lnTo>
                    <a:pt x="358" y="160"/>
                  </a:lnTo>
                  <a:lnTo>
                    <a:pt x="483" y="173"/>
                  </a:lnTo>
                  <a:lnTo>
                    <a:pt x="533" y="197"/>
                  </a:lnTo>
                  <a:lnTo>
                    <a:pt x="679" y="218"/>
                  </a:lnTo>
                  <a:lnTo>
                    <a:pt x="669" y="249"/>
                  </a:lnTo>
                  <a:lnTo>
                    <a:pt x="690" y="265"/>
                  </a:lnTo>
                  <a:lnTo>
                    <a:pt x="678" y="295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578400" y="1552320"/>
              <a:ext cx="134640" cy="47160"/>
            </a:xfrm>
            <a:custGeom>
              <a:avLst/>
              <a:gdLst/>
              <a:ahLst/>
              <a:rect l="l" t="t" r="r" b="b"/>
              <a:pathLst>
                <a:path w="376" h="133">
                  <a:moveTo>
                    <a:pt x="0" y="8"/>
                  </a:moveTo>
                  <a:lnTo>
                    <a:pt x="16" y="12"/>
                  </a:lnTo>
                  <a:lnTo>
                    <a:pt x="165" y="66"/>
                  </a:lnTo>
                  <a:lnTo>
                    <a:pt x="226" y="83"/>
                  </a:lnTo>
                  <a:lnTo>
                    <a:pt x="307" y="115"/>
                  </a:lnTo>
                  <a:lnTo>
                    <a:pt x="355" y="132"/>
                  </a:lnTo>
                  <a:lnTo>
                    <a:pt x="315" y="111"/>
                  </a:lnTo>
                  <a:lnTo>
                    <a:pt x="339" y="113"/>
                  </a:lnTo>
                  <a:lnTo>
                    <a:pt x="375" y="125"/>
                  </a:lnTo>
                  <a:lnTo>
                    <a:pt x="355" y="115"/>
                  </a:lnTo>
                  <a:lnTo>
                    <a:pt x="323" y="106"/>
                  </a:lnTo>
                  <a:lnTo>
                    <a:pt x="319" y="106"/>
                  </a:lnTo>
                  <a:lnTo>
                    <a:pt x="243" y="86"/>
                  </a:lnTo>
                  <a:lnTo>
                    <a:pt x="230" y="81"/>
                  </a:lnTo>
                  <a:lnTo>
                    <a:pt x="226" y="78"/>
                  </a:lnTo>
                  <a:lnTo>
                    <a:pt x="194" y="66"/>
                  </a:lnTo>
                  <a:lnTo>
                    <a:pt x="178" y="59"/>
                  </a:lnTo>
                  <a:lnTo>
                    <a:pt x="162" y="54"/>
                  </a:lnTo>
                  <a:lnTo>
                    <a:pt x="165" y="49"/>
                  </a:lnTo>
                  <a:lnTo>
                    <a:pt x="149" y="47"/>
                  </a:lnTo>
                  <a:lnTo>
                    <a:pt x="178" y="49"/>
                  </a:lnTo>
                  <a:lnTo>
                    <a:pt x="230" y="59"/>
                  </a:lnTo>
                  <a:lnTo>
                    <a:pt x="5" y="0"/>
                  </a:lnTo>
                  <a:lnTo>
                    <a:pt x="0" y="8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882960" y="1750320"/>
              <a:ext cx="1080" cy="108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884400" y="1747080"/>
              <a:ext cx="4320" cy="43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0"/>
                  </a:moveTo>
                  <a:lnTo>
                    <a:pt x="12" y="14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50920" y="1731240"/>
              <a:ext cx="1440" cy="10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5"/>
                  </a:moveTo>
                  <a:lnTo>
                    <a:pt x="4" y="0"/>
                  </a:lnTo>
                  <a:lnTo>
                    <a:pt x="0" y="5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52720" y="1732680"/>
              <a:ext cx="108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831840" y="1731240"/>
              <a:ext cx="1440" cy="108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831840" y="1728000"/>
              <a:ext cx="144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833640" y="1724760"/>
              <a:ext cx="108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827160" y="1720080"/>
              <a:ext cx="144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833640" y="1716840"/>
              <a:ext cx="47160" cy="28440"/>
            </a:xfrm>
            <a:custGeom>
              <a:avLst/>
              <a:gdLst/>
              <a:ahLst/>
              <a:rect l="l" t="t" r="r" b="b"/>
              <a:pathLst>
                <a:path w="131" h="81">
                  <a:moveTo>
                    <a:pt x="94" y="37"/>
                  </a:moveTo>
                  <a:lnTo>
                    <a:pt x="94" y="37"/>
                  </a:lnTo>
                  <a:lnTo>
                    <a:pt x="85" y="26"/>
                  </a:lnTo>
                  <a:lnTo>
                    <a:pt x="65" y="18"/>
                  </a:lnTo>
                  <a:lnTo>
                    <a:pt x="53" y="18"/>
                  </a:lnTo>
                  <a:lnTo>
                    <a:pt x="41" y="8"/>
                  </a:lnTo>
                  <a:lnTo>
                    <a:pt x="25" y="8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9" y="20"/>
                  </a:lnTo>
                  <a:lnTo>
                    <a:pt x="0" y="20"/>
                  </a:lnTo>
                  <a:lnTo>
                    <a:pt x="34" y="33"/>
                  </a:lnTo>
                  <a:lnTo>
                    <a:pt x="12" y="28"/>
                  </a:lnTo>
                  <a:lnTo>
                    <a:pt x="25" y="33"/>
                  </a:lnTo>
                  <a:lnTo>
                    <a:pt x="36" y="40"/>
                  </a:lnTo>
                  <a:lnTo>
                    <a:pt x="49" y="35"/>
                  </a:lnTo>
                  <a:lnTo>
                    <a:pt x="34" y="33"/>
                  </a:lnTo>
                  <a:lnTo>
                    <a:pt x="25" y="23"/>
                  </a:lnTo>
                  <a:lnTo>
                    <a:pt x="49" y="33"/>
                  </a:lnTo>
                  <a:lnTo>
                    <a:pt x="57" y="35"/>
                  </a:lnTo>
                  <a:lnTo>
                    <a:pt x="90" y="65"/>
                  </a:lnTo>
                  <a:lnTo>
                    <a:pt x="94" y="69"/>
                  </a:lnTo>
                  <a:lnTo>
                    <a:pt x="117" y="74"/>
                  </a:lnTo>
                  <a:lnTo>
                    <a:pt x="106" y="69"/>
                  </a:lnTo>
                  <a:lnTo>
                    <a:pt x="97" y="60"/>
                  </a:lnTo>
                  <a:lnTo>
                    <a:pt x="110" y="67"/>
                  </a:lnTo>
                  <a:lnTo>
                    <a:pt x="126" y="80"/>
                  </a:lnTo>
                  <a:lnTo>
                    <a:pt x="117" y="67"/>
                  </a:lnTo>
                  <a:lnTo>
                    <a:pt x="130" y="67"/>
                  </a:lnTo>
                  <a:lnTo>
                    <a:pt x="94" y="37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800160" y="1710720"/>
              <a:ext cx="2880" cy="1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816000" y="1716840"/>
              <a:ext cx="144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811320" y="1712160"/>
              <a:ext cx="4320" cy="28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12" y="9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667320" y="1638000"/>
              <a:ext cx="134640" cy="80640"/>
            </a:xfrm>
            <a:custGeom>
              <a:avLst/>
              <a:gdLst/>
              <a:ahLst/>
              <a:rect l="l" t="t" r="r" b="b"/>
              <a:pathLst>
                <a:path w="376" h="227">
                  <a:moveTo>
                    <a:pt x="185" y="135"/>
                  </a:moveTo>
                  <a:lnTo>
                    <a:pt x="177" y="137"/>
                  </a:lnTo>
                  <a:lnTo>
                    <a:pt x="149" y="133"/>
                  </a:lnTo>
                  <a:lnTo>
                    <a:pt x="161" y="143"/>
                  </a:lnTo>
                  <a:lnTo>
                    <a:pt x="153" y="135"/>
                  </a:lnTo>
                  <a:lnTo>
                    <a:pt x="137" y="137"/>
                  </a:lnTo>
                  <a:lnTo>
                    <a:pt x="140" y="133"/>
                  </a:lnTo>
                  <a:lnTo>
                    <a:pt x="120" y="133"/>
                  </a:lnTo>
                  <a:lnTo>
                    <a:pt x="124" y="130"/>
                  </a:lnTo>
                  <a:lnTo>
                    <a:pt x="108" y="120"/>
                  </a:lnTo>
                  <a:lnTo>
                    <a:pt x="124" y="118"/>
                  </a:lnTo>
                  <a:lnTo>
                    <a:pt x="101" y="113"/>
                  </a:lnTo>
                  <a:lnTo>
                    <a:pt x="72" y="93"/>
                  </a:lnTo>
                  <a:lnTo>
                    <a:pt x="44" y="91"/>
                  </a:lnTo>
                  <a:lnTo>
                    <a:pt x="52" y="96"/>
                  </a:lnTo>
                  <a:lnTo>
                    <a:pt x="19" y="83"/>
                  </a:lnTo>
                  <a:lnTo>
                    <a:pt x="24" y="62"/>
                  </a:lnTo>
                  <a:lnTo>
                    <a:pt x="0" y="39"/>
                  </a:lnTo>
                  <a:lnTo>
                    <a:pt x="52" y="44"/>
                  </a:lnTo>
                  <a:lnTo>
                    <a:pt x="19" y="29"/>
                  </a:lnTo>
                  <a:lnTo>
                    <a:pt x="39" y="24"/>
                  </a:lnTo>
                  <a:lnTo>
                    <a:pt x="36" y="15"/>
                  </a:lnTo>
                  <a:lnTo>
                    <a:pt x="8" y="0"/>
                  </a:lnTo>
                  <a:lnTo>
                    <a:pt x="56" y="12"/>
                  </a:lnTo>
                  <a:lnTo>
                    <a:pt x="64" y="15"/>
                  </a:lnTo>
                  <a:lnTo>
                    <a:pt x="76" y="31"/>
                  </a:lnTo>
                  <a:lnTo>
                    <a:pt x="116" y="51"/>
                  </a:lnTo>
                  <a:lnTo>
                    <a:pt x="116" y="86"/>
                  </a:lnTo>
                  <a:lnTo>
                    <a:pt x="140" y="98"/>
                  </a:lnTo>
                  <a:lnTo>
                    <a:pt x="193" y="111"/>
                  </a:lnTo>
                  <a:lnTo>
                    <a:pt x="294" y="147"/>
                  </a:lnTo>
                  <a:lnTo>
                    <a:pt x="367" y="187"/>
                  </a:lnTo>
                  <a:lnTo>
                    <a:pt x="375" y="201"/>
                  </a:lnTo>
                  <a:lnTo>
                    <a:pt x="355" y="197"/>
                  </a:lnTo>
                  <a:lnTo>
                    <a:pt x="362" y="201"/>
                  </a:lnTo>
                  <a:lnTo>
                    <a:pt x="342" y="204"/>
                  </a:lnTo>
                  <a:lnTo>
                    <a:pt x="355" y="214"/>
                  </a:lnTo>
                  <a:lnTo>
                    <a:pt x="338" y="209"/>
                  </a:lnTo>
                  <a:lnTo>
                    <a:pt x="355" y="218"/>
                  </a:lnTo>
                  <a:lnTo>
                    <a:pt x="338" y="212"/>
                  </a:lnTo>
                  <a:lnTo>
                    <a:pt x="338" y="226"/>
                  </a:lnTo>
                  <a:lnTo>
                    <a:pt x="314" y="216"/>
                  </a:lnTo>
                  <a:lnTo>
                    <a:pt x="326" y="216"/>
                  </a:lnTo>
                  <a:lnTo>
                    <a:pt x="314" y="214"/>
                  </a:lnTo>
                  <a:lnTo>
                    <a:pt x="319" y="212"/>
                  </a:lnTo>
                  <a:lnTo>
                    <a:pt x="314" y="214"/>
                  </a:lnTo>
                  <a:lnTo>
                    <a:pt x="294" y="204"/>
                  </a:lnTo>
                  <a:lnTo>
                    <a:pt x="306" y="207"/>
                  </a:lnTo>
                  <a:lnTo>
                    <a:pt x="294" y="201"/>
                  </a:lnTo>
                  <a:lnTo>
                    <a:pt x="290" y="194"/>
                  </a:lnTo>
                  <a:lnTo>
                    <a:pt x="277" y="192"/>
                  </a:lnTo>
                  <a:lnTo>
                    <a:pt x="270" y="182"/>
                  </a:lnTo>
                  <a:lnTo>
                    <a:pt x="274" y="179"/>
                  </a:lnTo>
                  <a:lnTo>
                    <a:pt x="258" y="179"/>
                  </a:lnTo>
                  <a:lnTo>
                    <a:pt x="234" y="162"/>
                  </a:lnTo>
                  <a:lnTo>
                    <a:pt x="221" y="162"/>
                  </a:lnTo>
                  <a:lnTo>
                    <a:pt x="218" y="155"/>
                  </a:lnTo>
                  <a:lnTo>
                    <a:pt x="241" y="162"/>
                  </a:lnTo>
                  <a:lnTo>
                    <a:pt x="234" y="155"/>
                  </a:lnTo>
                  <a:lnTo>
                    <a:pt x="218" y="153"/>
                  </a:lnTo>
                  <a:lnTo>
                    <a:pt x="185" y="135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801960" y="1724760"/>
              <a:ext cx="4320" cy="28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4" y="0"/>
                  </a:moveTo>
                  <a:lnTo>
                    <a:pt x="4" y="0"/>
                  </a:lnTo>
                  <a:lnTo>
                    <a:pt x="12" y="8"/>
                  </a:lnTo>
                  <a:lnTo>
                    <a:pt x="0" y="10"/>
                  </a:lnTo>
                  <a:lnTo>
                    <a:pt x="4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792240" y="1712160"/>
              <a:ext cx="144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784320" y="1716840"/>
              <a:ext cx="144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819240" y="1693440"/>
              <a:ext cx="144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833640" y="1671120"/>
              <a:ext cx="6120" cy="468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0"/>
                  </a:moveTo>
                  <a:lnTo>
                    <a:pt x="0" y="0"/>
                  </a:lnTo>
                  <a:lnTo>
                    <a:pt x="12" y="5"/>
                  </a:lnTo>
                  <a:lnTo>
                    <a:pt x="17" y="13"/>
                  </a:lnTo>
                  <a:lnTo>
                    <a:pt x="5" y="8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852720" y="1710720"/>
              <a:ext cx="26640" cy="1692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45" y="8"/>
                  </a:moveTo>
                  <a:lnTo>
                    <a:pt x="45" y="8"/>
                  </a:lnTo>
                  <a:lnTo>
                    <a:pt x="60" y="14"/>
                  </a:lnTo>
                  <a:lnTo>
                    <a:pt x="73" y="32"/>
                  </a:lnTo>
                  <a:lnTo>
                    <a:pt x="49" y="25"/>
                  </a:lnTo>
                  <a:lnTo>
                    <a:pt x="45" y="34"/>
                  </a:lnTo>
                  <a:lnTo>
                    <a:pt x="64" y="47"/>
                  </a:lnTo>
                  <a:lnTo>
                    <a:pt x="40" y="45"/>
                  </a:lnTo>
                  <a:lnTo>
                    <a:pt x="16" y="30"/>
                  </a:lnTo>
                  <a:lnTo>
                    <a:pt x="8" y="34"/>
                  </a:lnTo>
                  <a:lnTo>
                    <a:pt x="0" y="10"/>
                  </a:lnTo>
                  <a:lnTo>
                    <a:pt x="20" y="12"/>
                  </a:lnTo>
                  <a:lnTo>
                    <a:pt x="20" y="0"/>
                  </a:lnTo>
                  <a:lnTo>
                    <a:pt x="45" y="8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65320" y="1707840"/>
              <a:ext cx="4320" cy="28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4" y="2"/>
                  </a:moveTo>
                  <a:lnTo>
                    <a:pt x="4" y="2"/>
                  </a:lnTo>
                  <a:lnTo>
                    <a:pt x="12" y="10"/>
                  </a:lnTo>
                  <a:lnTo>
                    <a:pt x="4" y="10"/>
                  </a:lnTo>
                  <a:lnTo>
                    <a:pt x="0" y="0"/>
                  </a:lnTo>
                  <a:lnTo>
                    <a:pt x="4" y="2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789000" y="1639440"/>
              <a:ext cx="115560" cy="79200"/>
            </a:xfrm>
            <a:custGeom>
              <a:avLst/>
              <a:gdLst/>
              <a:ahLst/>
              <a:rect l="l" t="t" r="r" b="b"/>
              <a:pathLst>
                <a:path w="324" h="222">
                  <a:moveTo>
                    <a:pt x="13" y="3"/>
                  </a:moveTo>
                  <a:lnTo>
                    <a:pt x="13" y="3"/>
                  </a:lnTo>
                  <a:lnTo>
                    <a:pt x="20" y="3"/>
                  </a:lnTo>
                  <a:lnTo>
                    <a:pt x="69" y="22"/>
                  </a:lnTo>
                  <a:lnTo>
                    <a:pt x="138" y="46"/>
                  </a:lnTo>
                  <a:lnTo>
                    <a:pt x="174" y="71"/>
                  </a:lnTo>
                  <a:lnTo>
                    <a:pt x="194" y="81"/>
                  </a:lnTo>
                  <a:lnTo>
                    <a:pt x="186" y="86"/>
                  </a:lnTo>
                  <a:lnTo>
                    <a:pt x="238" y="111"/>
                  </a:lnTo>
                  <a:lnTo>
                    <a:pt x="275" y="135"/>
                  </a:lnTo>
                  <a:lnTo>
                    <a:pt x="312" y="150"/>
                  </a:lnTo>
                  <a:lnTo>
                    <a:pt x="323" y="164"/>
                  </a:lnTo>
                  <a:lnTo>
                    <a:pt x="323" y="172"/>
                  </a:lnTo>
                  <a:lnTo>
                    <a:pt x="312" y="167"/>
                  </a:lnTo>
                  <a:lnTo>
                    <a:pt x="287" y="152"/>
                  </a:lnTo>
                  <a:lnTo>
                    <a:pt x="307" y="167"/>
                  </a:lnTo>
                  <a:lnTo>
                    <a:pt x="287" y="164"/>
                  </a:lnTo>
                  <a:lnTo>
                    <a:pt x="312" y="182"/>
                  </a:lnTo>
                  <a:lnTo>
                    <a:pt x="283" y="169"/>
                  </a:lnTo>
                  <a:lnTo>
                    <a:pt x="295" y="184"/>
                  </a:lnTo>
                  <a:lnTo>
                    <a:pt x="263" y="187"/>
                  </a:lnTo>
                  <a:lnTo>
                    <a:pt x="267" y="184"/>
                  </a:lnTo>
                  <a:lnTo>
                    <a:pt x="247" y="179"/>
                  </a:lnTo>
                  <a:lnTo>
                    <a:pt x="254" y="184"/>
                  </a:lnTo>
                  <a:lnTo>
                    <a:pt x="238" y="174"/>
                  </a:lnTo>
                  <a:lnTo>
                    <a:pt x="247" y="187"/>
                  </a:lnTo>
                  <a:lnTo>
                    <a:pt x="275" y="196"/>
                  </a:lnTo>
                  <a:lnTo>
                    <a:pt x="263" y="202"/>
                  </a:lnTo>
                  <a:lnTo>
                    <a:pt x="283" y="221"/>
                  </a:lnTo>
                  <a:lnTo>
                    <a:pt x="242" y="211"/>
                  </a:lnTo>
                  <a:lnTo>
                    <a:pt x="227" y="202"/>
                  </a:lnTo>
                  <a:lnTo>
                    <a:pt x="215" y="189"/>
                  </a:lnTo>
                  <a:lnTo>
                    <a:pt x="186" y="192"/>
                  </a:lnTo>
                  <a:lnTo>
                    <a:pt x="174" y="207"/>
                  </a:lnTo>
                  <a:lnTo>
                    <a:pt x="166" y="209"/>
                  </a:lnTo>
                  <a:lnTo>
                    <a:pt x="155" y="207"/>
                  </a:lnTo>
                  <a:lnTo>
                    <a:pt x="170" y="221"/>
                  </a:lnTo>
                  <a:lnTo>
                    <a:pt x="150" y="213"/>
                  </a:lnTo>
                  <a:lnTo>
                    <a:pt x="130" y="218"/>
                  </a:lnTo>
                  <a:lnTo>
                    <a:pt x="109" y="207"/>
                  </a:lnTo>
                  <a:lnTo>
                    <a:pt x="121" y="207"/>
                  </a:lnTo>
                  <a:lnTo>
                    <a:pt x="114" y="172"/>
                  </a:lnTo>
                  <a:lnTo>
                    <a:pt x="182" y="169"/>
                  </a:lnTo>
                  <a:lnTo>
                    <a:pt x="190" y="167"/>
                  </a:lnTo>
                  <a:lnTo>
                    <a:pt x="170" y="155"/>
                  </a:lnTo>
                  <a:lnTo>
                    <a:pt x="155" y="132"/>
                  </a:lnTo>
                  <a:lnTo>
                    <a:pt x="126" y="117"/>
                  </a:lnTo>
                  <a:lnTo>
                    <a:pt x="138" y="113"/>
                  </a:lnTo>
                  <a:lnTo>
                    <a:pt x="142" y="122"/>
                  </a:lnTo>
                  <a:lnTo>
                    <a:pt x="166" y="130"/>
                  </a:lnTo>
                  <a:lnTo>
                    <a:pt x="170" y="113"/>
                  </a:lnTo>
                  <a:lnTo>
                    <a:pt x="150" y="88"/>
                  </a:lnTo>
                  <a:lnTo>
                    <a:pt x="101" y="57"/>
                  </a:lnTo>
                  <a:lnTo>
                    <a:pt x="76" y="46"/>
                  </a:lnTo>
                  <a:lnTo>
                    <a:pt x="61" y="44"/>
                  </a:lnTo>
                  <a:lnTo>
                    <a:pt x="53" y="37"/>
                  </a:lnTo>
                  <a:lnTo>
                    <a:pt x="29" y="26"/>
                  </a:lnTo>
                  <a:lnTo>
                    <a:pt x="29" y="19"/>
                  </a:lnTo>
                  <a:lnTo>
                    <a:pt x="4" y="10"/>
                  </a:lnTo>
                  <a:lnTo>
                    <a:pt x="37" y="17"/>
                  </a:lnTo>
                  <a:lnTo>
                    <a:pt x="45" y="17"/>
                  </a:lnTo>
                  <a:lnTo>
                    <a:pt x="25" y="7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13" y="3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14840" y="1603080"/>
              <a:ext cx="87120" cy="37800"/>
            </a:xfrm>
            <a:custGeom>
              <a:avLst/>
              <a:gdLst/>
              <a:ahLst/>
              <a:rect l="l" t="t" r="r" b="b"/>
              <a:pathLst>
                <a:path w="243" h="105">
                  <a:moveTo>
                    <a:pt x="0" y="0"/>
                  </a:moveTo>
                  <a:lnTo>
                    <a:pt x="0" y="0"/>
                  </a:lnTo>
                  <a:lnTo>
                    <a:pt x="121" y="27"/>
                  </a:lnTo>
                  <a:lnTo>
                    <a:pt x="153" y="30"/>
                  </a:lnTo>
                  <a:lnTo>
                    <a:pt x="149" y="25"/>
                  </a:lnTo>
                  <a:lnTo>
                    <a:pt x="141" y="18"/>
                  </a:lnTo>
                  <a:lnTo>
                    <a:pt x="202" y="42"/>
                  </a:lnTo>
                  <a:lnTo>
                    <a:pt x="209" y="40"/>
                  </a:lnTo>
                  <a:lnTo>
                    <a:pt x="217" y="52"/>
                  </a:lnTo>
                  <a:lnTo>
                    <a:pt x="198" y="57"/>
                  </a:lnTo>
                  <a:lnTo>
                    <a:pt x="242" y="84"/>
                  </a:lnTo>
                  <a:lnTo>
                    <a:pt x="169" y="69"/>
                  </a:lnTo>
                  <a:lnTo>
                    <a:pt x="169" y="79"/>
                  </a:lnTo>
                  <a:lnTo>
                    <a:pt x="141" y="74"/>
                  </a:lnTo>
                  <a:lnTo>
                    <a:pt x="157" y="84"/>
                  </a:lnTo>
                  <a:lnTo>
                    <a:pt x="202" y="91"/>
                  </a:lnTo>
                  <a:lnTo>
                    <a:pt x="198" y="104"/>
                  </a:lnTo>
                  <a:lnTo>
                    <a:pt x="125" y="76"/>
                  </a:lnTo>
                  <a:lnTo>
                    <a:pt x="117" y="65"/>
                  </a:lnTo>
                  <a:lnTo>
                    <a:pt x="97" y="55"/>
                  </a:lnTo>
                  <a:lnTo>
                    <a:pt x="125" y="60"/>
                  </a:lnTo>
                  <a:lnTo>
                    <a:pt x="121" y="55"/>
                  </a:lnTo>
                  <a:lnTo>
                    <a:pt x="49" y="20"/>
                  </a:ln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768480" y="1607760"/>
              <a:ext cx="14040" cy="75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0"/>
                  </a:moveTo>
                  <a:lnTo>
                    <a:pt x="0" y="0"/>
                  </a:lnTo>
                  <a:lnTo>
                    <a:pt x="12" y="3"/>
                  </a:lnTo>
                  <a:lnTo>
                    <a:pt x="37" y="22"/>
                  </a:lnTo>
                  <a:lnTo>
                    <a:pt x="24" y="20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759120" y="1595160"/>
              <a:ext cx="15480" cy="1080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12" y="0"/>
                  </a:moveTo>
                  <a:lnTo>
                    <a:pt x="12" y="0"/>
                  </a:lnTo>
                  <a:lnTo>
                    <a:pt x="24" y="17"/>
                  </a:lnTo>
                  <a:lnTo>
                    <a:pt x="44" y="32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55880" y="1587240"/>
              <a:ext cx="9000" cy="576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4" y="17"/>
                  </a:moveTo>
                  <a:lnTo>
                    <a:pt x="0" y="0"/>
                  </a:lnTo>
                  <a:lnTo>
                    <a:pt x="24" y="17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747960" y="1577520"/>
              <a:ext cx="5760" cy="28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16" y="10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850920" y="1809000"/>
              <a:ext cx="25200" cy="31320"/>
            </a:xfrm>
            <a:custGeom>
              <a:avLst/>
              <a:gdLst/>
              <a:ahLst/>
              <a:rect l="l" t="t" r="r" b="b"/>
              <a:pathLst>
                <a:path w="69" h="87">
                  <a:moveTo>
                    <a:pt x="0" y="0"/>
                  </a:moveTo>
                  <a:lnTo>
                    <a:pt x="0" y="0"/>
                  </a:lnTo>
                  <a:lnTo>
                    <a:pt x="24" y="2"/>
                  </a:lnTo>
                  <a:lnTo>
                    <a:pt x="68" y="86"/>
                  </a:lnTo>
                  <a:lnTo>
                    <a:pt x="20" y="56"/>
                  </a:lnTo>
                  <a:lnTo>
                    <a:pt x="4" y="42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054320" y="1778760"/>
              <a:ext cx="108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049640" y="1775520"/>
              <a:ext cx="108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885840" y="1813680"/>
              <a:ext cx="144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887640" y="1812240"/>
              <a:ext cx="1080" cy="108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97000" y="1809000"/>
              <a:ext cx="1440" cy="108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03480" y="1786680"/>
              <a:ext cx="4320" cy="75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8" y="0"/>
                  </a:moveTo>
                  <a:lnTo>
                    <a:pt x="8" y="0"/>
                  </a:lnTo>
                  <a:lnTo>
                    <a:pt x="12" y="22"/>
                  </a:ln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98800" y="1770840"/>
              <a:ext cx="4320" cy="28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8" y="0"/>
                  </a:moveTo>
                  <a:lnTo>
                    <a:pt x="8" y="0"/>
                  </a:lnTo>
                  <a:lnTo>
                    <a:pt x="11" y="10"/>
                  </a:lnTo>
                  <a:lnTo>
                    <a:pt x="0" y="7"/>
                  </a:lnTo>
                  <a:lnTo>
                    <a:pt x="8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893520" y="1387080"/>
              <a:ext cx="3143160" cy="1671840"/>
            </a:xfrm>
            <a:custGeom>
              <a:avLst/>
              <a:gdLst/>
              <a:ahLst/>
              <a:rect l="l" t="t" r="r" b="b"/>
              <a:pathLst>
                <a:path w="8737" h="4646">
                  <a:moveTo>
                    <a:pt x="8453" y="1547"/>
                  </a:moveTo>
                  <a:lnTo>
                    <a:pt x="8469" y="1572"/>
                  </a:lnTo>
                  <a:lnTo>
                    <a:pt x="8445" y="1589"/>
                  </a:lnTo>
                  <a:lnTo>
                    <a:pt x="8441" y="1606"/>
                  </a:lnTo>
                  <a:lnTo>
                    <a:pt x="8404" y="1633"/>
                  </a:lnTo>
                  <a:lnTo>
                    <a:pt x="8453" y="1572"/>
                  </a:lnTo>
                  <a:lnTo>
                    <a:pt x="8449" y="1560"/>
                  </a:lnTo>
                  <a:lnTo>
                    <a:pt x="8457" y="1567"/>
                  </a:lnTo>
                  <a:lnTo>
                    <a:pt x="8453" y="1547"/>
                  </a:lnTo>
                  <a:close/>
                  <a:moveTo>
                    <a:pt x="8453" y="1523"/>
                  </a:moveTo>
                  <a:lnTo>
                    <a:pt x="8469" y="1527"/>
                  </a:lnTo>
                  <a:lnTo>
                    <a:pt x="8465" y="1532"/>
                  </a:lnTo>
                  <a:lnTo>
                    <a:pt x="8453" y="1523"/>
                  </a:lnTo>
                  <a:close/>
                  <a:moveTo>
                    <a:pt x="8530" y="1532"/>
                  </a:moveTo>
                  <a:lnTo>
                    <a:pt x="8566" y="1545"/>
                  </a:lnTo>
                  <a:lnTo>
                    <a:pt x="8574" y="1542"/>
                  </a:lnTo>
                  <a:lnTo>
                    <a:pt x="8566" y="1562"/>
                  </a:lnTo>
                  <a:lnTo>
                    <a:pt x="8546" y="1572"/>
                  </a:lnTo>
                  <a:lnTo>
                    <a:pt x="8534" y="1537"/>
                  </a:lnTo>
                  <a:lnTo>
                    <a:pt x="8530" y="1532"/>
                  </a:lnTo>
                  <a:close/>
                  <a:moveTo>
                    <a:pt x="8595" y="1560"/>
                  </a:moveTo>
                  <a:lnTo>
                    <a:pt x="8595" y="1589"/>
                  </a:lnTo>
                  <a:lnTo>
                    <a:pt x="8606" y="1608"/>
                  </a:lnTo>
                  <a:lnTo>
                    <a:pt x="8595" y="1608"/>
                  </a:lnTo>
                  <a:lnTo>
                    <a:pt x="8570" y="1589"/>
                  </a:lnTo>
                  <a:lnTo>
                    <a:pt x="8583" y="1581"/>
                  </a:lnTo>
                  <a:lnTo>
                    <a:pt x="8574" y="1560"/>
                  </a:lnTo>
                  <a:lnTo>
                    <a:pt x="8595" y="1560"/>
                  </a:lnTo>
                  <a:close/>
                  <a:moveTo>
                    <a:pt x="8606" y="1549"/>
                  </a:moveTo>
                  <a:lnTo>
                    <a:pt x="8614" y="1572"/>
                  </a:lnTo>
                  <a:lnTo>
                    <a:pt x="8602" y="1599"/>
                  </a:lnTo>
                  <a:lnTo>
                    <a:pt x="8606" y="1549"/>
                  </a:lnTo>
                  <a:close/>
                  <a:moveTo>
                    <a:pt x="8635" y="1579"/>
                  </a:moveTo>
                  <a:lnTo>
                    <a:pt x="8643" y="1589"/>
                  </a:lnTo>
                  <a:lnTo>
                    <a:pt x="8619" y="1591"/>
                  </a:lnTo>
                  <a:lnTo>
                    <a:pt x="8622" y="1579"/>
                  </a:lnTo>
                  <a:lnTo>
                    <a:pt x="8635" y="1579"/>
                  </a:lnTo>
                  <a:close/>
                  <a:moveTo>
                    <a:pt x="8590" y="1677"/>
                  </a:moveTo>
                  <a:lnTo>
                    <a:pt x="8599" y="1680"/>
                  </a:lnTo>
                  <a:lnTo>
                    <a:pt x="8595" y="1684"/>
                  </a:lnTo>
                  <a:lnTo>
                    <a:pt x="8578" y="1680"/>
                  </a:lnTo>
                  <a:lnTo>
                    <a:pt x="8590" y="1677"/>
                  </a:lnTo>
                  <a:close/>
                  <a:moveTo>
                    <a:pt x="8671" y="1586"/>
                  </a:moveTo>
                  <a:lnTo>
                    <a:pt x="8703" y="1601"/>
                  </a:lnTo>
                  <a:lnTo>
                    <a:pt x="8711" y="1614"/>
                  </a:lnTo>
                  <a:lnTo>
                    <a:pt x="8707" y="1621"/>
                  </a:lnTo>
                  <a:lnTo>
                    <a:pt x="8720" y="1623"/>
                  </a:lnTo>
                  <a:lnTo>
                    <a:pt x="8736" y="1658"/>
                  </a:lnTo>
                  <a:lnTo>
                    <a:pt x="8732" y="1673"/>
                  </a:lnTo>
                  <a:lnTo>
                    <a:pt x="8723" y="1670"/>
                  </a:lnTo>
                  <a:lnTo>
                    <a:pt x="8732" y="1687"/>
                  </a:lnTo>
                  <a:lnTo>
                    <a:pt x="8711" y="1658"/>
                  </a:lnTo>
                  <a:lnTo>
                    <a:pt x="8707" y="1660"/>
                  </a:lnTo>
                  <a:lnTo>
                    <a:pt x="8699" y="1675"/>
                  </a:lnTo>
                  <a:lnTo>
                    <a:pt x="8716" y="1692"/>
                  </a:lnTo>
                  <a:lnTo>
                    <a:pt x="8711" y="1707"/>
                  </a:lnTo>
                  <a:lnTo>
                    <a:pt x="8699" y="1692"/>
                  </a:lnTo>
                  <a:lnTo>
                    <a:pt x="8695" y="1699"/>
                  </a:lnTo>
                  <a:lnTo>
                    <a:pt x="8676" y="1692"/>
                  </a:lnTo>
                  <a:lnTo>
                    <a:pt x="8659" y="1684"/>
                  </a:lnTo>
                  <a:lnTo>
                    <a:pt x="8651" y="1670"/>
                  </a:lnTo>
                  <a:lnTo>
                    <a:pt x="8655" y="1655"/>
                  </a:lnTo>
                  <a:lnTo>
                    <a:pt x="8635" y="1645"/>
                  </a:lnTo>
                  <a:lnTo>
                    <a:pt x="8626" y="1645"/>
                  </a:lnTo>
                  <a:lnTo>
                    <a:pt x="8631" y="1658"/>
                  </a:lnTo>
                  <a:lnTo>
                    <a:pt x="8614" y="1648"/>
                  </a:lnTo>
                  <a:lnTo>
                    <a:pt x="8606" y="1655"/>
                  </a:lnTo>
                  <a:lnTo>
                    <a:pt x="8599" y="1645"/>
                  </a:lnTo>
                  <a:lnTo>
                    <a:pt x="8590" y="1670"/>
                  </a:lnTo>
                  <a:lnTo>
                    <a:pt x="8578" y="1665"/>
                  </a:lnTo>
                  <a:lnTo>
                    <a:pt x="8583" y="1640"/>
                  </a:lnTo>
                  <a:lnTo>
                    <a:pt x="8606" y="1636"/>
                  </a:lnTo>
                  <a:lnTo>
                    <a:pt x="8614" y="1618"/>
                  </a:lnTo>
                  <a:lnTo>
                    <a:pt x="8635" y="1628"/>
                  </a:lnTo>
                  <a:lnTo>
                    <a:pt x="8631" y="1640"/>
                  </a:lnTo>
                  <a:lnTo>
                    <a:pt x="8647" y="1633"/>
                  </a:lnTo>
                  <a:lnTo>
                    <a:pt x="8651" y="1621"/>
                  </a:lnTo>
                  <a:lnTo>
                    <a:pt x="8663" y="1626"/>
                  </a:lnTo>
                  <a:lnTo>
                    <a:pt x="8659" y="1611"/>
                  </a:lnTo>
                  <a:lnTo>
                    <a:pt x="8671" y="1616"/>
                  </a:lnTo>
                  <a:lnTo>
                    <a:pt x="8671" y="1608"/>
                  </a:lnTo>
                  <a:lnTo>
                    <a:pt x="8683" y="1611"/>
                  </a:lnTo>
                  <a:lnTo>
                    <a:pt x="8671" y="1586"/>
                  </a:lnTo>
                  <a:close/>
                  <a:moveTo>
                    <a:pt x="8610" y="1540"/>
                  </a:moveTo>
                  <a:lnTo>
                    <a:pt x="8635" y="1542"/>
                  </a:lnTo>
                  <a:lnTo>
                    <a:pt x="8659" y="1574"/>
                  </a:lnTo>
                  <a:lnTo>
                    <a:pt x="8651" y="1574"/>
                  </a:lnTo>
                  <a:lnTo>
                    <a:pt x="8655" y="1581"/>
                  </a:lnTo>
                  <a:lnTo>
                    <a:pt x="8643" y="1574"/>
                  </a:lnTo>
                  <a:lnTo>
                    <a:pt x="8622" y="1557"/>
                  </a:lnTo>
                  <a:lnTo>
                    <a:pt x="8610" y="1540"/>
                  </a:lnTo>
                  <a:close/>
                  <a:moveTo>
                    <a:pt x="8595" y="1510"/>
                  </a:moveTo>
                  <a:lnTo>
                    <a:pt x="8631" y="1513"/>
                  </a:lnTo>
                  <a:lnTo>
                    <a:pt x="8647" y="1537"/>
                  </a:lnTo>
                  <a:lnTo>
                    <a:pt x="8667" y="1552"/>
                  </a:lnTo>
                  <a:lnTo>
                    <a:pt x="8639" y="1547"/>
                  </a:lnTo>
                  <a:lnTo>
                    <a:pt x="8631" y="1540"/>
                  </a:lnTo>
                  <a:lnTo>
                    <a:pt x="8631" y="1532"/>
                  </a:lnTo>
                  <a:lnTo>
                    <a:pt x="8622" y="1527"/>
                  </a:lnTo>
                  <a:lnTo>
                    <a:pt x="8606" y="1523"/>
                  </a:lnTo>
                  <a:lnTo>
                    <a:pt x="8595" y="1510"/>
                  </a:lnTo>
                  <a:close/>
                  <a:moveTo>
                    <a:pt x="8449" y="1488"/>
                  </a:moveTo>
                  <a:lnTo>
                    <a:pt x="8469" y="1488"/>
                  </a:lnTo>
                  <a:lnTo>
                    <a:pt x="8498" y="1498"/>
                  </a:lnTo>
                  <a:lnTo>
                    <a:pt x="8502" y="1520"/>
                  </a:lnTo>
                  <a:lnTo>
                    <a:pt x="8494" y="1523"/>
                  </a:lnTo>
                  <a:lnTo>
                    <a:pt x="8449" y="1488"/>
                  </a:lnTo>
                  <a:close/>
                  <a:moveTo>
                    <a:pt x="8562" y="1510"/>
                  </a:moveTo>
                  <a:lnTo>
                    <a:pt x="8587" y="1523"/>
                  </a:lnTo>
                  <a:lnTo>
                    <a:pt x="8599" y="1534"/>
                  </a:lnTo>
                  <a:lnTo>
                    <a:pt x="8574" y="1523"/>
                  </a:lnTo>
                  <a:lnTo>
                    <a:pt x="8566" y="1530"/>
                  </a:lnTo>
                  <a:lnTo>
                    <a:pt x="8562" y="1510"/>
                  </a:lnTo>
                  <a:close/>
                  <a:moveTo>
                    <a:pt x="8570" y="1469"/>
                  </a:moveTo>
                  <a:lnTo>
                    <a:pt x="8583" y="1481"/>
                  </a:lnTo>
                  <a:lnTo>
                    <a:pt x="8578" y="1483"/>
                  </a:lnTo>
                  <a:lnTo>
                    <a:pt x="8570" y="1469"/>
                  </a:lnTo>
                  <a:close/>
                  <a:moveTo>
                    <a:pt x="8421" y="1350"/>
                  </a:moveTo>
                  <a:lnTo>
                    <a:pt x="8433" y="1373"/>
                  </a:lnTo>
                  <a:lnTo>
                    <a:pt x="8457" y="1387"/>
                  </a:lnTo>
                  <a:lnTo>
                    <a:pt x="8465" y="1412"/>
                  </a:lnTo>
                  <a:lnTo>
                    <a:pt x="8461" y="1409"/>
                  </a:lnTo>
                  <a:lnTo>
                    <a:pt x="8449" y="1419"/>
                  </a:lnTo>
                  <a:lnTo>
                    <a:pt x="8453" y="1439"/>
                  </a:lnTo>
                  <a:lnTo>
                    <a:pt x="8494" y="1473"/>
                  </a:lnTo>
                  <a:lnTo>
                    <a:pt x="8506" y="1473"/>
                  </a:lnTo>
                  <a:lnTo>
                    <a:pt x="8498" y="1469"/>
                  </a:lnTo>
                  <a:lnTo>
                    <a:pt x="8510" y="1464"/>
                  </a:lnTo>
                  <a:lnTo>
                    <a:pt x="8530" y="1469"/>
                  </a:lnTo>
                  <a:lnTo>
                    <a:pt x="8538" y="1481"/>
                  </a:lnTo>
                  <a:lnTo>
                    <a:pt x="8538" y="1469"/>
                  </a:lnTo>
                  <a:lnTo>
                    <a:pt x="8566" y="1478"/>
                  </a:lnTo>
                  <a:lnTo>
                    <a:pt x="8554" y="1483"/>
                  </a:lnTo>
                  <a:lnTo>
                    <a:pt x="8570" y="1498"/>
                  </a:lnTo>
                  <a:lnTo>
                    <a:pt x="8587" y="1498"/>
                  </a:lnTo>
                  <a:lnTo>
                    <a:pt x="8590" y="1510"/>
                  </a:lnTo>
                  <a:lnTo>
                    <a:pt x="8574" y="1503"/>
                  </a:lnTo>
                  <a:lnTo>
                    <a:pt x="8578" y="1500"/>
                  </a:lnTo>
                  <a:lnTo>
                    <a:pt x="8554" y="1498"/>
                  </a:lnTo>
                  <a:lnTo>
                    <a:pt x="8542" y="1488"/>
                  </a:lnTo>
                  <a:lnTo>
                    <a:pt x="8514" y="1473"/>
                  </a:lnTo>
                  <a:lnTo>
                    <a:pt x="8530" y="1495"/>
                  </a:lnTo>
                  <a:lnTo>
                    <a:pt x="8489" y="1476"/>
                  </a:lnTo>
                  <a:lnTo>
                    <a:pt x="8477" y="1485"/>
                  </a:lnTo>
                  <a:lnTo>
                    <a:pt x="8461" y="1476"/>
                  </a:lnTo>
                  <a:lnTo>
                    <a:pt x="8453" y="1481"/>
                  </a:lnTo>
                  <a:lnTo>
                    <a:pt x="8445" y="1469"/>
                  </a:lnTo>
                  <a:lnTo>
                    <a:pt x="8453" y="1458"/>
                  </a:lnTo>
                  <a:lnTo>
                    <a:pt x="8433" y="1448"/>
                  </a:lnTo>
                  <a:lnTo>
                    <a:pt x="8441" y="1464"/>
                  </a:lnTo>
                  <a:lnTo>
                    <a:pt x="8421" y="1454"/>
                  </a:lnTo>
                  <a:lnTo>
                    <a:pt x="8380" y="1412"/>
                  </a:lnTo>
                  <a:lnTo>
                    <a:pt x="8401" y="1419"/>
                  </a:lnTo>
                  <a:lnTo>
                    <a:pt x="8404" y="1412"/>
                  </a:lnTo>
                  <a:lnTo>
                    <a:pt x="8376" y="1377"/>
                  </a:lnTo>
                  <a:lnTo>
                    <a:pt x="8364" y="1350"/>
                  </a:lnTo>
                  <a:lnTo>
                    <a:pt x="8421" y="1350"/>
                  </a:lnTo>
                  <a:close/>
                  <a:moveTo>
                    <a:pt x="880" y="288"/>
                  </a:moveTo>
                  <a:lnTo>
                    <a:pt x="836" y="293"/>
                  </a:lnTo>
                  <a:lnTo>
                    <a:pt x="849" y="288"/>
                  </a:lnTo>
                  <a:lnTo>
                    <a:pt x="872" y="283"/>
                  </a:lnTo>
                  <a:lnTo>
                    <a:pt x="880" y="288"/>
                  </a:lnTo>
                  <a:close/>
                  <a:moveTo>
                    <a:pt x="832" y="290"/>
                  </a:moveTo>
                  <a:lnTo>
                    <a:pt x="816" y="298"/>
                  </a:lnTo>
                  <a:lnTo>
                    <a:pt x="832" y="298"/>
                  </a:lnTo>
                  <a:lnTo>
                    <a:pt x="799" y="305"/>
                  </a:lnTo>
                  <a:lnTo>
                    <a:pt x="791" y="303"/>
                  </a:lnTo>
                  <a:lnTo>
                    <a:pt x="784" y="308"/>
                  </a:lnTo>
                  <a:lnTo>
                    <a:pt x="764" y="305"/>
                  </a:lnTo>
                  <a:lnTo>
                    <a:pt x="719" y="313"/>
                  </a:lnTo>
                  <a:lnTo>
                    <a:pt x="755" y="305"/>
                  </a:lnTo>
                  <a:lnTo>
                    <a:pt x="743" y="305"/>
                  </a:lnTo>
                  <a:lnTo>
                    <a:pt x="751" y="305"/>
                  </a:lnTo>
                  <a:lnTo>
                    <a:pt x="760" y="298"/>
                  </a:lnTo>
                  <a:lnTo>
                    <a:pt x="795" y="295"/>
                  </a:lnTo>
                  <a:lnTo>
                    <a:pt x="771" y="303"/>
                  </a:lnTo>
                  <a:lnTo>
                    <a:pt x="811" y="293"/>
                  </a:lnTo>
                  <a:lnTo>
                    <a:pt x="799" y="298"/>
                  </a:lnTo>
                  <a:lnTo>
                    <a:pt x="824" y="295"/>
                  </a:lnTo>
                  <a:lnTo>
                    <a:pt x="832" y="290"/>
                  </a:lnTo>
                  <a:close/>
                  <a:moveTo>
                    <a:pt x="453" y="318"/>
                  </a:moveTo>
                  <a:lnTo>
                    <a:pt x="428" y="325"/>
                  </a:lnTo>
                  <a:lnTo>
                    <a:pt x="388" y="325"/>
                  </a:lnTo>
                  <a:lnTo>
                    <a:pt x="400" y="320"/>
                  </a:lnTo>
                  <a:lnTo>
                    <a:pt x="432" y="315"/>
                  </a:lnTo>
                  <a:lnTo>
                    <a:pt x="453" y="318"/>
                  </a:lnTo>
                  <a:close/>
                  <a:moveTo>
                    <a:pt x="331" y="328"/>
                  </a:moveTo>
                  <a:lnTo>
                    <a:pt x="308" y="332"/>
                  </a:lnTo>
                  <a:lnTo>
                    <a:pt x="283" y="337"/>
                  </a:lnTo>
                  <a:lnTo>
                    <a:pt x="254" y="334"/>
                  </a:lnTo>
                  <a:lnTo>
                    <a:pt x="295" y="332"/>
                  </a:lnTo>
                  <a:lnTo>
                    <a:pt x="319" y="325"/>
                  </a:lnTo>
                  <a:lnTo>
                    <a:pt x="331" y="328"/>
                  </a:lnTo>
                  <a:close/>
                  <a:moveTo>
                    <a:pt x="271" y="332"/>
                  </a:moveTo>
                  <a:lnTo>
                    <a:pt x="198" y="342"/>
                  </a:lnTo>
                  <a:lnTo>
                    <a:pt x="263" y="330"/>
                  </a:lnTo>
                  <a:lnTo>
                    <a:pt x="271" y="332"/>
                  </a:lnTo>
                  <a:close/>
                  <a:moveTo>
                    <a:pt x="101" y="330"/>
                  </a:moveTo>
                  <a:lnTo>
                    <a:pt x="77" y="337"/>
                  </a:lnTo>
                  <a:lnTo>
                    <a:pt x="61" y="337"/>
                  </a:lnTo>
                  <a:lnTo>
                    <a:pt x="53" y="334"/>
                  </a:lnTo>
                  <a:lnTo>
                    <a:pt x="101" y="330"/>
                  </a:lnTo>
                  <a:close/>
                  <a:moveTo>
                    <a:pt x="37" y="330"/>
                  </a:moveTo>
                  <a:lnTo>
                    <a:pt x="16" y="334"/>
                  </a:lnTo>
                  <a:lnTo>
                    <a:pt x="0" y="337"/>
                  </a:lnTo>
                  <a:lnTo>
                    <a:pt x="37" y="330"/>
                  </a:lnTo>
                  <a:close/>
                  <a:moveTo>
                    <a:pt x="16" y="325"/>
                  </a:moveTo>
                  <a:lnTo>
                    <a:pt x="12" y="330"/>
                  </a:lnTo>
                  <a:lnTo>
                    <a:pt x="8" y="325"/>
                  </a:lnTo>
                  <a:lnTo>
                    <a:pt x="16" y="325"/>
                  </a:lnTo>
                  <a:close/>
                  <a:moveTo>
                    <a:pt x="1638" y="35"/>
                  </a:moveTo>
                  <a:lnTo>
                    <a:pt x="1638" y="35"/>
                  </a:lnTo>
                  <a:lnTo>
                    <a:pt x="1590" y="45"/>
                  </a:lnTo>
                  <a:lnTo>
                    <a:pt x="1619" y="40"/>
                  </a:lnTo>
                  <a:lnTo>
                    <a:pt x="1543" y="59"/>
                  </a:lnTo>
                  <a:lnTo>
                    <a:pt x="1510" y="64"/>
                  </a:lnTo>
                  <a:lnTo>
                    <a:pt x="1409" y="82"/>
                  </a:lnTo>
                  <a:lnTo>
                    <a:pt x="1429" y="79"/>
                  </a:lnTo>
                  <a:lnTo>
                    <a:pt x="1429" y="82"/>
                  </a:lnTo>
                  <a:lnTo>
                    <a:pt x="1437" y="79"/>
                  </a:lnTo>
                  <a:lnTo>
                    <a:pt x="1486" y="70"/>
                  </a:lnTo>
                  <a:lnTo>
                    <a:pt x="1498" y="72"/>
                  </a:lnTo>
                  <a:lnTo>
                    <a:pt x="1482" y="79"/>
                  </a:lnTo>
                  <a:lnTo>
                    <a:pt x="1490" y="82"/>
                  </a:lnTo>
                  <a:lnTo>
                    <a:pt x="1425" y="94"/>
                  </a:lnTo>
                  <a:lnTo>
                    <a:pt x="1421" y="99"/>
                  </a:lnTo>
                  <a:lnTo>
                    <a:pt x="1368" y="104"/>
                  </a:lnTo>
                  <a:lnTo>
                    <a:pt x="1377" y="96"/>
                  </a:lnTo>
                  <a:lnTo>
                    <a:pt x="1348" y="104"/>
                  </a:lnTo>
                  <a:lnTo>
                    <a:pt x="1340" y="101"/>
                  </a:lnTo>
                  <a:lnTo>
                    <a:pt x="1356" y="96"/>
                  </a:lnTo>
                  <a:lnTo>
                    <a:pt x="1340" y="101"/>
                  </a:lnTo>
                  <a:lnTo>
                    <a:pt x="1312" y="101"/>
                  </a:lnTo>
                  <a:lnTo>
                    <a:pt x="1300" y="106"/>
                  </a:lnTo>
                  <a:lnTo>
                    <a:pt x="1263" y="108"/>
                  </a:lnTo>
                  <a:lnTo>
                    <a:pt x="1244" y="111"/>
                  </a:lnTo>
                  <a:lnTo>
                    <a:pt x="1236" y="116"/>
                  </a:lnTo>
                  <a:lnTo>
                    <a:pt x="1236" y="114"/>
                  </a:lnTo>
                  <a:lnTo>
                    <a:pt x="1211" y="116"/>
                  </a:lnTo>
                  <a:lnTo>
                    <a:pt x="1248" y="108"/>
                  </a:lnTo>
                  <a:lnTo>
                    <a:pt x="1220" y="114"/>
                  </a:lnTo>
                  <a:lnTo>
                    <a:pt x="1252" y="101"/>
                  </a:lnTo>
                  <a:lnTo>
                    <a:pt x="1317" y="89"/>
                  </a:lnTo>
                  <a:lnTo>
                    <a:pt x="1308" y="79"/>
                  </a:lnTo>
                  <a:lnTo>
                    <a:pt x="1361" y="72"/>
                  </a:lnTo>
                  <a:lnTo>
                    <a:pt x="1397" y="67"/>
                  </a:lnTo>
                  <a:lnTo>
                    <a:pt x="1373" y="70"/>
                  </a:lnTo>
                  <a:lnTo>
                    <a:pt x="1397" y="64"/>
                  </a:lnTo>
                  <a:lnTo>
                    <a:pt x="1345" y="70"/>
                  </a:lnTo>
                  <a:lnTo>
                    <a:pt x="1305" y="77"/>
                  </a:lnTo>
                  <a:lnTo>
                    <a:pt x="1251" y="81"/>
                  </a:lnTo>
                  <a:lnTo>
                    <a:pt x="1638" y="35"/>
                  </a:lnTo>
                  <a:close/>
                  <a:moveTo>
                    <a:pt x="1929" y="0"/>
                  </a:moveTo>
                  <a:lnTo>
                    <a:pt x="1930" y="0"/>
                  </a:lnTo>
                  <a:lnTo>
                    <a:pt x="1938" y="3"/>
                  </a:lnTo>
                  <a:lnTo>
                    <a:pt x="1893" y="10"/>
                  </a:lnTo>
                  <a:lnTo>
                    <a:pt x="1874" y="7"/>
                  </a:lnTo>
                  <a:lnTo>
                    <a:pt x="1929" y="0"/>
                  </a:lnTo>
                  <a:close/>
                  <a:moveTo>
                    <a:pt x="1110" y="148"/>
                  </a:moveTo>
                  <a:lnTo>
                    <a:pt x="1151" y="136"/>
                  </a:lnTo>
                  <a:lnTo>
                    <a:pt x="1131" y="141"/>
                  </a:lnTo>
                  <a:lnTo>
                    <a:pt x="1134" y="136"/>
                  </a:lnTo>
                  <a:lnTo>
                    <a:pt x="1175" y="128"/>
                  </a:lnTo>
                  <a:lnTo>
                    <a:pt x="1151" y="145"/>
                  </a:lnTo>
                  <a:lnTo>
                    <a:pt x="1110" y="148"/>
                  </a:lnTo>
                  <a:close/>
                  <a:moveTo>
                    <a:pt x="900" y="204"/>
                  </a:moveTo>
                  <a:lnTo>
                    <a:pt x="868" y="214"/>
                  </a:lnTo>
                  <a:lnTo>
                    <a:pt x="840" y="217"/>
                  </a:lnTo>
                  <a:lnTo>
                    <a:pt x="868" y="202"/>
                  </a:lnTo>
                  <a:lnTo>
                    <a:pt x="900" y="204"/>
                  </a:lnTo>
                  <a:close/>
                  <a:moveTo>
                    <a:pt x="1025" y="401"/>
                  </a:moveTo>
                  <a:lnTo>
                    <a:pt x="986" y="414"/>
                  </a:lnTo>
                  <a:lnTo>
                    <a:pt x="937" y="424"/>
                  </a:lnTo>
                  <a:lnTo>
                    <a:pt x="933" y="424"/>
                  </a:lnTo>
                  <a:lnTo>
                    <a:pt x="944" y="416"/>
                  </a:lnTo>
                  <a:lnTo>
                    <a:pt x="977" y="411"/>
                  </a:lnTo>
                  <a:lnTo>
                    <a:pt x="957" y="414"/>
                  </a:lnTo>
                  <a:lnTo>
                    <a:pt x="973" y="411"/>
                  </a:lnTo>
                  <a:lnTo>
                    <a:pt x="1021" y="394"/>
                  </a:lnTo>
                  <a:lnTo>
                    <a:pt x="989" y="396"/>
                  </a:lnTo>
                  <a:lnTo>
                    <a:pt x="965" y="403"/>
                  </a:lnTo>
                  <a:lnTo>
                    <a:pt x="977" y="399"/>
                  </a:lnTo>
                  <a:lnTo>
                    <a:pt x="1021" y="391"/>
                  </a:lnTo>
                  <a:lnTo>
                    <a:pt x="1033" y="379"/>
                  </a:lnTo>
                  <a:lnTo>
                    <a:pt x="1062" y="369"/>
                  </a:lnTo>
                  <a:lnTo>
                    <a:pt x="1058" y="365"/>
                  </a:lnTo>
                  <a:lnTo>
                    <a:pt x="1078" y="362"/>
                  </a:lnTo>
                  <a:lnTo>
                    <a:pt x="1095" y="354"/>
                  </a:lnTo>
                  <a:lnTo>
                    <a:pt x="1090" y="360"/>
                  </a:lnTo>
                  <a:lnTo>
                    <a:pt x="1110" y="349"/>
                  </a:lnTo>
                  <a:lnTo>
                    <a:pt x="1110" y="352"/>
                  </a:lnTo>
                  <a:lnTo>
                    <a:pt x="1102" y="349"/>
                  </a:lnTo>
                  <a:lnTo>
                    <a:pt x="1114" y="345"/>
                  </a:lnTo>
                  <a:lnTo>
                    <a:pt x="1151" y="337"/>
                  </a:lnTo>
                  <a:lnTo>
                    <a:pt x="1122" y="342"/>
                  </a:lnTo>
                  <a:lnTo>
                    <a:pt x="1126" y="337"/>
                  </a:lnTo>
                  <a:lnTo>
                    <a:pt x="1199" y="315"/>
                  </a:lnTo>
                  <a:lnTo>
                    <a:pt x="1171" y="323"/>
                  </a:lnTo>
                  <a:lnTo>
                    <a:pt x="1106" y="340"/>
                  </a:lnTo>
                  <a:lnTo>
                    <a:pt x="1122" y="332"/>
                  </a:lnTo>
                  <a:lnTo>
                    <a:pt x="1106" y="334"/>
                  </a:lnTo>
                  <a:lnTo>
                    <a:pt x="1147" y="325"/>
                  </a:lnTo>
                  <a:lnTo>
                    <a:pt x="1155" y="320"/>
                  </a:lnTo>
                  <a:lnTo>
                    <a:pt x="1131" y="325"/>
                  </a:lnTo>
                  <a:lnTo>
                    <a:pt x="1143" y="318"/>
                  </a:lnTo>
                  <a:lnTo>
                    <a:pt x="1122" y="323"/>
                  </a:lnTo>
                  <a:lnTo>
                    <a:pt x="1131" y="325"/>
                  </a:lnTo>
                  <a:lnTo>
                    <a:pt x="1102" y="334"/>
                  </a:lnTo>
                  <a:lnTo>
                    <a:pt x="1099" y="325"/>
                  </a:lnTo>
                  <a:lnTo>
                    <a:pt x="1131" y="311"/>
                  </a:lnTo>
                  <a:lnTo>
                    <a:pt x="1139" y="300"/>
                  </a:lnTo>
                  <a:lnTo>
                    <a:pt x="1179" y="293"/>
                  </a:lnTo>
                  <a:lnTo>
                    <a:pt x="1147" y="300"/>
                  </a:lnTo>
                  <a:lnTo>
                    <a:pt x="1171" y="298"/>
                  </a:lnTo>
                  <a:lnTo>
                    <a:pt x="1182" y="290"/>
                  </a:lnTo>
                  <a:lnTo>
                    <a:pt x="1143" y="295"/>
                  </a:lnTo>
                  <a:lnTo>
                    <a:pt x="1143" y="290"/>
                  </a:lnTo>
                  <a:lnTo>
                    <a:pt x="1163" y="286"/>
                  </a:lnTo>
                  <a:lnTo>
                    <a:pt x="1143" y="288"/>
                  </a:lnTo>
                  <a:lnTo>
                    <a:pt x="1118" y="278"/>
                  </a:lnTo>
                  <a:lnTo>
                    <a:pt x="1131" y="271"/>
                  </a:lnTo>
                  <a:lnTo>
                    <a:pt x="1167" y="264"/>
                  </a:lnTo>
                  <a:lnTo>
                    <a:pt x="1131" y="268"/>
                  </a:lnTo>
                  <a:lnTo>
                    <a:pt x="1131" y="266"/>
                  </a:lnTo>
                  <a:lnTo>
                    <a:pt x="1151" y="264"/>
                  </a:lnTo>
                  <a:lnTo>
                    <a:pt x="1139" y="261"/>
                  </a:lnTo>
                  <a:lnTo>
                    <a:pt x="1159" y="258"/>
                  </a:lnTo>
                  <a:lnTo>
                    <a:pt x="1143" y="258"/>
                  </a:lnTo>
                  <a:lnTo>
                    <a:pt x="1159" y="258"/>
                  </a:lnTo>
                  <a:lnTo>
                    <a:pt x="1155" y="256"/>
                  </a:lnTo>
                  <a:lnTo>
                    <a:pt x="1179" y="251"/>
                  </a:lnTo>
                  <a:lnTo>
                    <a:pt x="1147" y="254"/>
                  </a:lnTo>
                  <a:lnTo>
                    <a:pt x="1167" y="249"/>
                  </a:lnTo>
                  <a:lnTo>
                    <a:pt x="1139" y="254"/>
                  </a:lnTo>
                  <a:lnTo>
                    <a:pt x="1175" y="246"/>
                  </a:lnTo>
                  <a:lnTo>
                    <a:pt x="1122" y="251"/>
                  </a:lnTo>
                  <a:lnTo>
                    <a:pt x="1114" y="256"/>
                  </a:lnTo>
                  <a:lnTo>
                    <a:pt x="1095" y="258"/>
                  </a:lnTo>
                  <a:lnTo>
                    <a:pt x="1110" y="258"/>
                  </a:lnTo>
                  <a:lnTo>
                    <a:pt x="1078" y="266"/>
                  </a:lnTo>
                  <a:lnTo>
                    <a:pt x="1050" y="268"/>
                  </a:lnTo>
                  <a:lnTo>
                    <a:pt x="1038" y="266"/>
                  </a:lnTo>
                  <a:lnTo>
                    <a:pt x="1058" y="261"/>
                  </a:lnTo>
                  <a:lnTo>
                    <a:pt x="1033" y="266"/>
                  </a:lnTo>
                  <a:lnTo>
                    <a:pt x="1014" y="271"/>
                  </a:lnTo>
                  <a:lnTo>
                    <a:pt x="1014" y="266"/>
                  </a:lnTo>
                  <a:lnTo>
                    <a:pt x="960" y="276"/>
                  </a:lnTo>
                  <a:lnTo>
                    <a:pt x="957" y="271"/>
                  </a:lnTo>
                  <a:lnTo>
                    <a:pt x="1010" y="264"/>
                  </a:lnTo>
                  <a:lnTo>
                    <a:pt x="989" y="266"/>
                  </a:lnTo>
                  <a:lnTo>
                    <a:pt x="998" y="261"/>
                  </a:lnTo>
                  <a:lnTo>
                    <a:pt x="1087" y="244"/>
                  </a:lnTo>
                  <a:lnTo>
                    <a:pt x="1122" y="241"/>
                  </a:lnTo>
                  <a:lnTo>
                    <a:pt x="1122" y="249"/>
                  </a:lnTo>
                  <a:lnTo>
                    <a:pt x="1139" y="241"/>
                  </a:lnTo>
                  <a:lnTo>
                    <a:pt x="1175" y="236"/>
                  </a:lnTo>
                  <a:lnTo>
                    <a:pt x="1147" y="239"/>
                  </a:lnTo>
                  <a:lnTo>
                    <a:pt x="1151" y="236"/>
                  </a:lnTo>
                  <a:lnTo>
                    <a:pt x="1038" y="249"/>
                  </a:lnTo>
                  <a:lnTo>
                    <a:pt x="1029" y="249"/>
                  </a:lnTo>
                  <a:lnTo>
                    <a:pt x="1002" y="256"/>
                  </a:lnTo>
                  <a:lnTo>
                    <a:pt x="973" y="258"/>
                  </a:lnTo>
                  <a:lnTo>
                    <a:pt x="917" y="266"/>
                  </a:lnTo>
                  <a:lnTo>
                    <a:pt x="912" y="271"/>
                  </a:lnTo>
                  <a:lnTo>
                    <a:pt x="892" y="276"/>
                  </a:lnTo>
                  <a:lnTo>
                    <a:pt x="828" y="286"/>
                  </a:lnTo>
                  <a:lnTo>
                    <a:pt x="735" y="293"/>
                  </a:lnTo>
                  <a:lnTo>
                    <a:pt x="706" y="300"/>
                  </a:lnTo>
                  <a:lnTo>
                    <a:pt x="683" y="300"/>
                  </a:lnTo>
                  <a:lnTo>
                    <a:pt x="667" y="305"/>
                  </a:lnTo>
                  <a:lnTo>
                    <a:pt x="638" y="305"/>
                  </a:lnTo>
                  <a:lnTo>
                    <a:pt x="622" y="308"/>
                  </a:lnTo>
                  <a:lnTo>
                    <a:pt x="625" y="311"/>
                  </a:lnTo>
                  <a:lnTo>
                    <a:pt x="602" y="313"/>
                  </a:lnTo>
                  <a:lnTo>
                    <a:pt x="618" y="311"/>
                  </a:lnTo>
                  <a:lnTo>
                    <a:pt x="577" y="313"/>
                  </a:lnTo>
                  <a:lnTo>
                    <a:pt x="549" y="318"/>
                  </a:lnTo>
                  <a:lnTo>
                    <a:pt x="574" y="313"/>
                  </a:lnTo>
                  <a:lnTo>
                    <a:pt x="509" y="318"/>
                  </a:lnTo>
                  <a:lnTo>
                    <a:pt x="517" y="313"/>
                  </a:lnTo>
                  <a:lnTo>
                    <a:pt x="530" y="311"/>
                  </a:lnTo>
                  <a:lnTo>
                    <a:pt x="481" y="320"/>
                  </a:lnTo>
                  <a:lnTo>
                    <a:pt x="488" y="313"/>
                  </a:lnTo>
                  <a:lnTo>
                    <a:pt x="461" y="320"/>
                  </a:lnTo>
                  <a:lnTo>
                    <a:pt x="465" y="315"/>
                  </a:lnTo>
                  <a:lnTo>
                    <a:pt x="436" y="320"/>
                  </a:lnTo>
                  <a:lnTo>
                    <a:pt x="465" y="315"/>
                  </a:lnTo>
                  <a:lnTo>
                    <a:pt x="549" y="305"/>
                  </a:lnTo>
                  <a:lnTo>
                    <a:pt x="561" y="308"/>
                  </a:lnTo>
                  <a:lnTo>
                    <a:pt x="557" y="313"/>
                  </a:lnTo>
                  <a:lnTo>
                    <a:pt x="602" y="300"/>
                  </a:lnTo>
                  <a:lnTo>
                    <a:pt x="670" y="295"/>
                  </a:lnTo>
                  <a:lnTo>
                    <a:pt x="662" y="298"/>
                  </a:lnTo>
                  <a:lnTo>
                    <a:pt x="714" y="288"/>
                  </a:lnTo>
                  <a:lnTo>
                    <a:pt x="739" y="288"/>
                  </a:lnTo>
                  <a:lnTo>
                    <a:pt x="787" y="276"/>
                  </a:lnTo>
                  <a:lnTo>
                    <a:pt x="799" y="276"/>
                  </a:lnTo>
                  <a:lnTo>
                    <a:pt x="811" y="271"/>
                  </a:lnTo>
                  <a:lnTo>
                    <a:pt x="888" y="258"/>
                  </a:lnTo>
                  <a:lnTo>
                    <a:pt x="824" y="264"/>
                  </a:lnTo>
                  <a:lnTo>
                    <a:pt x="856" y="254"/>
                  </a:lnTo>
                  <a:lnTo>
                    <a:pt x="852" y="258"/>
                  </a:lnTo>
                  <a:lnTo>
                    <a:pt x="864" y="251"/>
                  </a:lnTo>
                  <a:lnTo>
                    <a:pt x="799" y="266"/>
                  </a:lnTo>
                  <a:lnTo>
                    <a:pt x="836" y="251"/>
                  </a:lnTo>
                  <a:lnTo>
                    <a:pt x="828" y="251"/>
                  </a:lnTo>
                  <a:lnTo>
                    <a:pt x="780" y="254"/>
                  </a:lnTo>
                  <a:lnTo>
                    <a:pt x="784" y="249"/>
                  </a:lnTo>
                  <a:lnTo>
                    <a:pt x="828" y="244"/>
                  </a:lnTo>
                  <a:lnTo>
                    <a:pt x="828" y="241"/>
                  </a:lnTo>
                  <a:lnTo>
                    <a:pt x="864" y="234"/>
                  </a:lnTo>
                  <a:lnTo>
                    <a:pt x="929" y="217"/>
                  </a:lnTo>
                  <a:lnTo>
                    <a:pt x="969" y="212"/>
                  </a:lnTo>
                  <a:lnTo>
                    <a:pt x="921" y="217"/>
                  </a:lnTo>
                  <a:lnTo>
                    <a:pt x="900" y="224"/>
                  </a:lnTo>
                  <a:lnTo>
                    <a:pt x="868" y="224"/>
                  </a:lnTo>
                  <a:lnTo>
                    <a:pt x="917" y="204"/>
                  </a:lnTo>
                  <a:lnTo>
                    <a:pt x="933" y="202"/>
                  </a:lnTo>
                  <a:lnTo>
                    <a:pt x="960" y="197"/>
                  </a:lnTo>
                  <a:lnTo>
                    <a:pt x="953" y="202"/>
                  </a:lnTo>
                  <a:lnTo>
                    <a:pt x="929" y="207"/>
                  </a:lnTo>
                  <a:lnTo>
                    <a:pt x="957" y="204"/>
                  </a:lnTo>
                  <a:lnTo>
                    <a:pt x="944" y="210"/>
                  </a:lnTo>
                  <a:lnTo>
                    <a:pt x="960" y="202"/>
                  </a:lnTo>
                  <a:lnTo>
                    <a:pt x="969" y="204"/>
                  </a:lnTo>
                  <a:lnTo>
                    <a:pt x="957" y="197"/>
                  </a:lnTo>
                  <a:lnTo>
                    <a:pt x="977" y="195"/>
                  </a:lnTo>
                  <a:lnTo>
                    <a:pt x="981" y="192"/>
                  </a:lnTo>
                  <a:lnTo>
                    <a:pt x="1006" y="190"/>
                  </a:lnTo>
                  <a:lnTo>
                    <a:pt x="969" y="195"/>
                  </a:lnTo>
                  <a:lnTo>
                    <a:pt x="1010" y="183"/>
                  </a:lnTo>
                  <a:lnTo>
                    <a:pt x="1029" y="180"/>
                  </a:lnTo>
                  <a:lnTo>
                    <a:pt x="1038" y="180"/>
                  </a:lnTo>
                  <a:lnTo>
                    <a:pt x="1106" y="170"/>
                  </a:lnTo>
                  <a:lnTo>
                    <a:pt x="1102" y="173"/>
                  </a:lnTo>
                  <a:lnTo>
                    <a:pt x="1134" y="168"/>
                  </a:lnTo>
                  <a:lnTo>
                    <a:pt x="1131" y="168"/>
                  </a:lnTo>
                  <a:lnTo>
                    <a:pt x="1139" y="165"/>
                  </a:lnTo>
                  <a:lnTo>
                    <a:pt x="1179" y="160"/>
                  </a:lnTo>
                  <a:lnTo>
                    <a:pt x="1182" y="163"/>
                  </a:lnTo>
                  <a:lnTo>
                    <a:pt x="1159" y="168"/>
                  </a:lnTo>
                  <a:lnTo>
                    <a:pt x="1224" y="163"/>
                  </a:lnTo>
                  <a:lnTo>
                    <a:pt x="1236" y="165"/>
                  </a:lnTo>
                  <a:lnTo>
                    <a:pt x="1267" y="160"/>
                  </a:lnTo>
                  <a:lnTo>
                    <a:pt x="1312" y="150"/>
                  </a:lnTo>
                  <a:lnTo>
                    <a:pt x="1340" y="148"/>
                  </a:lnTo>
                  <a:lnTo>
                    <a:pt x="1368" y="143"/>
                  </a:lnTo>
                  <a:lnTo>
                    <a:pt x="1296" y="148"/>
                  </a:lnTo>
                  <a:lnTo>
                    <a:pt x="1325" y="141"/>
                  </a:lnTo>
                  <a:lnTo>
                    <a:pt x="1300" y="145"/>
                  </a:lnTo>
                  <a:lnTo>
                    <a:pt x="1292" y="133"/>
                  </a:lnTo>
                  <a:lnTo>
                    <a:pt x="1317" y="128"/>
                  </a:lnTo>
                  <a:lnTo>
                    <a:pt x="1348" y="121"/>
                  </a:lnTo>
                  <a:lnTo>
                    <a:pt x="1356" y="123"/>
                  </a:lnTo>
                  <a:lnTo>
                    <a:pt x="1381" y="111"/>
                  </a:lnTo>
                  <a:lnTo>
                    <a:pt x="1466" y="106"/>
                  </a:lnTo>
                  <a:lnTo>
                    <a:pt x="1501" y="106"/>
                  </a:lnTo>
                  <a:lnTo>
                    <a:pt x="1501" y="108"/>
                  </a:lnTo>
                  <a:lnTo>
                    <a:pt x="1462" y="114"/>
                  </a:lnTo>
                  <a:lnTo>
                    <a:pt x="1462" y="123"/>
                  </a:lnTo>
                  <a:lnTo>
                    <a:pt x="1494" y="121"/>
                  </a:lnTo>
                  <a:lnTo>
                    <a:pt x="1486" y="119"/>
                  </a:lnTo>
                  <a:lnTo>
                    <a:pt x="1550" y="106"/>
                  </a:lnTo>
                  <a:lnTo>
                    <a:pt x="1505" y="116"/>
                  </a:lnTo>
                  <a:lnTo>
                    <a:pt x="1514" y="121"/>
                  </a:lnTo>
                  <a:lnTo>
                    <a:pt x="1534" y="119"/>
                  </a:lnTo>
                  <a:lnTo>
                    <a:pt x="1514" y="116"/>
                  </a:lnTo>
                  <a:lnTo>
                    <a:pt x="1559" y="108"/>
                  </a:lnTo>
                  <a:lnTo>
                    <a:pt x="1550" y="106"/>
                  </a:lnTo>
                  <a:lnTo>
                    <a:pt x="1571" y="104"/>
                  </a:lnTo>
                  <a:lnTo>
                    <a:pt x="1555" y="101"/>
                  </a:lnTo>
                  <a:lnTo>
                    <a:pt x="1603" y="91"/>
                  </a:lnTo>
                  <a:lnTo>
                    <a:pt x="1659" y="74"/>
                  </a:lnTo>
                  <a:lnTo>
                    <a:pt x="1716" y="70"/>
                  </a:lnTo>
                  <a:lnTo>
                    <a:pt x="1748" y="72"/>
                  </a:lnTo>
                  <a:lnTo>
                    <a:pt x="1874" y="62"/>
                  </a:lnTo>
                  <a:lnTo>
                    <a:pt x="1922" y="62"/>
                  </a:lnTo>
                  <a:lnTo>
                    <a:pt x="1886" y="67"/>
                  </a:lnTo>
                  <a:lnTo>
                    <a:pt x="1922" y="64"/>
                  </a:lnTo>
                  <a:lnTo>
                    <a:pt x="1926" y="59"/>
                  </a:lnTo>
                  <a:lnTo>
                    <a:pt x="1934" y="62"/>
                  </a:lnTo>
                  <a:lnTo>
                    <a:pt x="1958" y="62"/>
                  </a:lnTo>
                  <a:lnTo>
                    <a:pt x="2023" y="59"/>
                  </a:lnTo>
                  <a:lnTo>
                    <a:pt x="1999" y="64"/>
                  </a:lnTo>
                  <a:lnTo>
                    <a:pt x="1963" y="70"/>
                  </a:lnTo>
                  <a:lnTo>
                    <a:pt x="2006" y="64"/>
                  </a:lnTo>
                  <a:lnTo>
                    <a:pt x="1978" y="72"/>
                  </a:lnTo>
                  <a:lnTo>
                    <a:pt x="1994" y="77"/>
                  </a:lnTo>
                  <a:lnTo>
                    <a:pt x="1966" y="79"/>
                  </a:lnTo>
                  <a:lnTo>
                    <a:pt x="1958" y="87"/>
                  </a:lnTo>
                  <a:lnTo>
                    <a:pt x="1966" y="106"/>
                  </a:lnTo>
                  <a:lnTo>
                    <a:pt x="1994" y="106"/>
                  </a:lnTo>
                  <a:lnTo>
                    <a:pt x="1974" y="119"/>
                  </a:lnTo>
                  <a:lnTo>
                    <a:pt x="1938" y="126"/>
                  </a:lnTo>
                  <a:lnTo>
                    <a:pt x="1893" y="133"/>
                  </a:lnTo>
                  <a:lnTo>
                    <a:pt x="1849" y="143"/>
                  </a:lnTo>
                  <a:lnTo>
                    <a:pt x="1805" y="150"/>
                  </a:lnTo>
                  <a:lnTo>
                    <a:pt x="1761" y="158"/>
                  </a:lnTo>
                  <a:lnTo>
                    <a:pt x="1716" y="168"/>
                  </a:lnTo>
                  <a:lnTo>
                    <a:pt x="1676" y="175"/>
                  </a:lnTo>
                  <a:lnTo>
                    <a:pt x="1631" y="183"/>
                  </a:lnTo>
                  <a:lnTo>
                    <a:pt x="1590" y="192"/>
                  </a:lnTo>
                  <a:lnTo>
                    <a:pt x="1546" y="202"/>
                  </a:lnTo>
                  <a:lnTo>
                    <a:pt x="1543" y="202"/>
                  </a:lnTo>
                  <a:lnTo>
                    <a:pt x="1505" y="210"/>
                  </a:lnTo>
                  <a:lnTo>
                    <a:pt x="1462" y="219"/>
                  </a:lnTo>
                  <a:lnTo>
                    <a:pt x="1421" y="227"/>
                  </a:lnTo>
                  <a:lnTo>
                    <a:pt x="1381" y="236"/>
                  </a:lnTo>
                  <a:lnTo>
                    <a:pt x="1340" y="246"/>
                  </a:lnTo>
                  <a:lnTo>
                    <a:pt x="1300" y="256"/>
                  </a:lnTo>
                  <a:lnTo>
                    <a:pt x="1260" y="264"/>
                  </a:lnTo>
                  <a:lnTo>
                    <a:pt x="1220" y="274"/>
                  </a:lnTo>
                  <a:lnTo>
                    <a:pt x="1182" y="283"/>
                  </a:lnTo>
                  <a:lnTo>
                    <a:pt x="1211" y="288"/>
                  </a:lnTo>
                  <a:lnTo>
                    <a:pt x="1191" y="293"/>
                  </a:lnTo>
                  <a:lnTo>
                    <a:pt x="1187" y="293"/>
                  </a:lnTo>
                  <a:lnTo>
                    <a:pt x="1122" y="320"/>
                  </a:lnTo>
                  <a:lnTo>
                    <a:pt x="1155" y="318"/>
                  </a:lnTo>
                  <a:lnTo>
                    <a:pt x="1220" y="308"/>
                  </a:lnTo>
                  <a:lnTo>
                    <a:pt x="1151" y="340"/>
                  </a:lnTo>
                  <a:lnTo>
                    <a:pt x="1042" y="382"/>
                  </a:lnTo>
                  <a:lnTo>
                    <a:pt x="1025" y="401"/>
                  </a:lnTo>
                  <a:close/>
                  <a:moveTo>
                    <a:pt x="1470" y="662"/>
                  </a:moveTo>
                  <a:lnTo>
                    <a:pt x="1445" y="655"/>
                  </a:lnTo>
                  <a:lnTo>
                    <a:pt x="1421" y="657"/>
                  </a:lnTo>
                  <a:lnTo>
                    <a:pt x="1409" y="642"/>
                  </a:lnTo>
                  <a:lnTo>
                    <a:pt x="1373" y="637"/>
                  </a:lnTo>
                  <a:lnTo>
                    <a:pt x="1377" y="632"/>
                  </a:lnTo>
                  <a:lnTo>
                    <a:pt x="1381" y="630"/>
                  </a:lnTo>
                  <a:lnTo>
                    <a:pt x="1389" y="622"/>
                  </a:lnTo>
                  <a:lnTo>
                    <a:pt x="1389" y="620"/>
                  </a:lnTo>
                  <a:lnTo>
                    <a:pt x="1381" y="625"/>
                  </a:lnTo>
                  <a:lnTo>
                    <a:pt x="1373" y="630"/>
                  </a:lnTo>
                  <a:lnTo>
                    <a:pt x="1368" y="630"/>
                  </a:lnTo>
                  <a:lnTo>
                    <a:pt x="1353" y="627"/>
                  </a:lnTo>
                  <a:lnTo>
                    <a:pt x="1333" y="627"/>
                  </a:lnTo>
                  <a:lnTo>
                    <a:pt x="1321" y="625"/>
                  </a:lnTo>
                  <a:lnTo>
                    <a:pt x="1305" y="625"/>
                  </a:lnTo>
                  <a:lnTo>
                    <a:pt x="1283" y="622"/>
                  </a:lnTo>
                  <a:lnTo>
                    <a:pt x="1267" y="622"/>
                  </a:lnTo>
                  <a:lnTo>
                    <a:pt x="1248" y="620"/>
                  </a:lnTo>
                  <a:lnTo>
                    <a:pt x="1227" y="618"/>
                  </a:lnTo>
                  <a:lnTo>
                    <a:pt x="1220" y="618"/>
                  </a:lnTo>
                  <a:lnTo>
                    <a:pt x="1203" y="615"/>
                  </a:lnTo>
                  <a:lnTo>
                    <a:pt x="1182" y="615"/>
                  </a:lnTo>
                  <a:lnTo>
                    <a:pt x="1167" y="613"/>
                  </a:lnTo>
                  <a:lnTo>
                    <a:pt x="1159" y="613"/>
                  </a:lnTo>
                  <a:lnTo>
                    <a:pt x="1139" y="610"/>
                  </a:lnTo>
                  <a:lnTo>
                    <a:pt x="1122" y="610"/>
                  </a:lnTo>
                  <a:lnTo>
                    <a:pt x="1102" y="608"/>
                  </a:lnTo>
                  <a:lnTo>
                    <a:pt x="1087" y="606"/>
                  </a:lnTo>
                  <a:lnTo>
                    <a:pt x="1066" y="606"/>
                  </a:lnTo>
                  <a:lnTo>
                    <a:pt x="1050" y="603"/>
                  </a:lnTo>
                  <a:lnTo>
                    <a:pt x="1029" y="600"/>
                  </a:lnTo>
                  <a:lnTo>
                    <a:pt x="1018" y="600"/>
                  </a:lnTo>
                  <a:lnTo>
                    <a:pt x="1002" y="598"/>
                  </a:lnTo>
                  <a:lnTo>
                    <a:pt x="981" y="595"/>
                  </a:lnTo>
                  <a:lnTo>
                    <a:pt x="965" y="595"/>
                  </a:lnTo>
                  <a:lnTo>
                    <a:pt x="948" y="593"/>
                  </a:lnTo>
                  <a:lnTo>
                    <a:pt x="929" y="590"/>
                  </a:lnTo>
                  <a:lnTo>
                    <a:pt x="925" y="590"/>
                  </a:lnTo>
                  <a:lnTo>
                    <a:pt x="909" y="588"/>
                  </a:lnTo>
                  <a:lnTo>
                    <a:pt x="888" y="588"/>
                  </a:lnTo>
                  <a:lnTo>
                    <a:pt x="880" y="586"/>
                  </a:lnTo>
                  <a:lnTo>
                    <a:pt x="864" y="586"/>
                  </a:lnTo>
                  <a:lnTo>
                    <a:pt x="856" y="583"/>
                  </a:lnTo>
                  <a:lnTo>
                    <a:pt x="844" y="583"/>
                  </a:lnTo>
                  <a:lnTo>
                    <a:pt x="840" y="583"/>
                  </a:lnTo>
                  <a:lnTo>
                    <a:pt x="824" y="581"/>
                  </a:lnTo>
                  <a:lnTo>
                    <a:pt x="807" y="578"/>
                  </a:lnTo>
                  <a:lnTo>
                    <a:pt x="791" y="575"/>
                  </a:lnTo>
                  <a:lnTo>
                    <a:pt x="771" y="575"/>
                  </a:lnTo>
                  <a:lnTo>
                    <a:pt x="755" y="573"/>
                  </a:lnTo>
                  <a:lnTo>
                    <a:pt x="739" y="571"/>
                  </a:lnTo>
                  <a:lnTo>
                    <a:pt x="731" y="571"/>
                  </a:lnTo>
                  <a:lnTo>
                    <a:pt x="714" y="581"/>
                  </a:lnTo>
                  <a:lnTo>
                    <a:pt x="691" y="595"/>
                  </a:lnTo>
                  <a:lnTo>
                    <a:pt x="646" y="610"/>
                  </a:lnTo>
                  <a:lnTo>
                    <a:pt x="618" y="613"/>
                  </a:lnTo>
                  <a:lnTo>
                    <a:pt x="642" y="610"/>
                  </a:lnTo>
                  <a:lnTo>
                    <a:pt x="675" y="595"/>
                  </a:lnTo>
                  <a:lnTo>
                    <a:pt x="634" y="606"/>
                  </a:lnTo>
                  <a:lnTo>
                    <a:pt x="630" y="608"/>
                  </a:lnTo>
                  <a:lnTo>
                    <a:pt x="675" y="595"/>
                  </a:lnTo>
                  <a:lnTo>
                    <a:pt x="687" y="590"/>
                  </a:lnTo>
                  <a:lnTo>
                    <a:pt x="654" y="578"/>
                  </a:lnTo>
                  <a:lnTo>
                    <a:pt x="585" y="613"/>
                  </a:lnTo>
                  <a:lnTo>
                    <a:pt x="594" y="615"/>
                  </a:lnTo>
                  <a:lnTo>
                    <a:pt x="585" y="615"/>
                  </a:lnTo>
                  <a:lnTo>
                    <a:pt x="582" y="620"/>
                  </a:lnTo>
                  <a:lnTo>
                    <a:pt x="557" y="627"/>
                  </a:lnTo>
                  <a:lnTo>
                    <a:pt x="549" y="630"/>
                  </a:lnTo>
                  <a:lnTo>
                    <a:pt x="565" y="635"/>
                  </a:lnTo>
                  <a:lnTo>
                    <a:pt x="549" y="632"/>
                  </a:lnTo>
                  <a:lnTo>
                    <a:pt x="412" y="691"/>
                  </a:lnTo>
                  <a:lnTo>
                    <a:pt x="355" y="711"/>
                  </a:lnTo>
                  <a:lnTo>
                    <a:pt x="323" y="731"/>
                  </a:lnTo>
                  <a:lnTo>
                    <a:pt x="271" y="760"/>
                  </a:lnTo>
                  <a:lnTo>
                    <a:pt x="242" y="770"/>
                  </a:lnTo>
                  <a:lnTo>
                    <a:pt x="227" y="785"/>
                  </a:lnTo>
                  <a:lnTo>
                    <a:pt x="186" y="807"/>
                  </a:lnTo>
                  <a:lnTo>
                    <a:pt x="174" y="831"/>
                  </a:lnTo>
                  <a:lnTo>
                    <a:pt x="162" y="834"/>
                  </a:lnTo>
                  <a:lnTo>
                    <a:pt x="169" y="839"/>
                  </a:lnTo>
                  <a:lnTo>
                    <a:pt x="207" y="831"/>
                  </a:lnTo>
                  <a:lnTo>
                    <a:pt x="207" y="837"/>
                  </a:lnTo>
                  <a:lnTo>
                    <a:pt x="182" y="834"/>
                  </a:lnTo>
                  <a:lnTo>
                    <a:pt x="165" y="849"/>
                  </a:lnTo>
                  <a:lnTo>
                    <a:pt x="169" y="839"/>
                  </a:lnTo>
                  <a:lnTo>
                    <a:pt x="153" y="847"/>
                  </a:lnTo>
                  <a:lnTo>
                    <a:pt x="146" y="866"/>
                  </a:lnTo>
                  <a:lnTo>
                    <a:pt x="121" y="878"/>
                  </a:lnTo>
                  <a:lnTo>
                    <a:pt x="105" y="910"/>
                  </a:lnTo>
                  <a:lnTo>
                    <a:pt x="81" y="925"/>
                  </a:lnTo>
                  <a:lnTo>
                    <a:pt x="121" y="943"/>
                  </a:lnTo>
                  <a:lnTo>
                    <a:pt x="118" y="972"/>
                  </a:lnTo>
                  <a:lnTo>
                    <a:pt x="105" y="984"/>
                  </a:lnTo>
                  <a:lnTo>
                    <a:pt x="126" y="984"/>
                  </a:lnTo>
                  <a:lnTo>
                    <a:pt x="146" y="984"/>
                  </a:lnTo>
                  <a:lnTo>
                    <a:pt x="153" y="984"/>
                  </a:lnTo>
                  <a:lnTo>
                    <a:pt x="169" y="984"/>
                  </a:lnTo>
                  <a:lnTo>
                    <a:pt x="182" y="984"/>
                  </a:lnTo>
                  <a:lnTo>
                    <a:pt x="169" y="989"/>
                  </a:lnTo>
                  <a:lnTo>
                    <a:pt x="182" y="997"/>
                  </a:lnTo>
                  <a:lnTo>
                    <a:pt x="194" y="1001"/>
                  </a:lnTo>
                  <a:lnTo>
                    <a:pt x="198" y="1003"/>
                  </a:lnTo>
                  <a:lnTo>
                    <a:pt x="207" y="1008"/>
                  </a:lnTo>
                  <a:lnTo>
                    <a:pt x="223" y="1013"/>
                  </a:lnTo>
                  <a:lnTo>
                    <a:pt x="227" y="1016"/>
                  </a:lnTo>
                  <a:lnTo>
                    <a:pt x="234" y="1021"/>
                  </a:lnTo>
                  <a:lnTo>
                    <a:pt x="242" y="1026"/>
                  </a:lnTo>
                  <a:lnTo>
                    <a:pt x="259" y="1026"/>
                  </a:lnTo>
                  <a:lnTo>
                    <a:pt x="271" y="1028"/>
                  </a:lnTo>
                  <a:lnTo>
                    <a:pt x="287" y="1028"/>
                  </a:lnTo>
                  <a:lnTo>
                    <a:pt x="304" y="1028"/>
                  </a:lnTo>
                  <a:lnTo>
                    <a:pt x="327" y="1031"/>
                  </a:lnTo>
                  <a:lnTo>
                    <a:pt x="343" y="1019"/>
                  </a:lnTo>
                  <a:lnTo>
                    <a:pt x="360" y="1021"/>
                  </a:lnTo>
                  <a:lnTo>
                    <a:pt x="376" y="1021"/>
                  </a:lnTo>
                  <a:lnTo>
                    <a:pt x="396" y="1021"/>
                  </a:lnTo>
                  <a:lnTo>
                    <a:pt x="408" y="1053"/>
                  </a:lnTo>
                  <a:lnTo>
                    <a:pt x="391" y="1078"/>
                  </a:lnTo>
                  <a:lnTo>
                    <a:pt x="391" y="1080"/>
                  </a:lnTo>
                  <a:lnTo>
                    <a:pt x="396" y="1087"/>
                  </a:lnTo>
                  <a:lnTo>
                    <a:pt x="412" y="1097"/>
                  </a:lnTo>
                  <a:lnTo>
                    <a:pt x="432" y="1090"/>
                  </a:lnTo>
                  <a:lnTo>
                    <a:pt x="465" y="1078"/>
                  </a:lnTo>
                  <a:lnTo>
                    <a:pt x="493" y="1080"/>
                  </a:lnTo>
                  <a:lnTo>
                    <a:pt x="497" y="1095"/>
                  </a:lnTo>
                  <a:lnTo>
                    <a:pt x="485" y="1119"/>
                  </a:lnTo>
                  <a:lnTo>
                    <a:pt x="493" y="1139"/>
                  </a:lnTo>
                  <a:lnTo>
                    <a:pt x="481" y="1153"/>
                  </a:lnTo>
                  <a:lnTo>
                    <a:pt x="476" y="1166"/>
                  </a:lnTo>
                  <a:lnTo>
                    <a:pt x="476" y="1171"/>
                  </a:lnTo>
                  <a:lnTo>
                    <a:pt x="517" y="1186"/>
                  </a:lnTo>
                  <a:lnTo>
                    <a:pt x="530" y="1183"/>
                  </a:lnTo>
                  <a:lnTo>
                    <a:pt x="538" y="1161"/>
                  </a:lnTo>
                  <a:lnTo>
                    <a:pt x="553" y="1151"/>
                  </a:lnTo>
                  <a:lnTo>
                    <a:pt x="542" y="1149"/>
                  </a:lnTo>
                  <a:lnTo>
                    <a:pt x="553" y="1149"/>
                  </a:lnTo>
                  <a:lnTo>
                    <a:pt x="569" y="1139"/>
                  </a:lnTo>
                  <a:lnTo>
                    <a:pt x="565" y="1134"/>
                  </a:lnTo>
                  <a:lnTo>
                    <a:pt x="574" y="1136"/>
                  </a:lnTo>
                  <a:lnTo>
                    <a:pt x="589" y="1129"/>
                  </a:lnTo>
                  <a:lnTo>
                    <a:pt x="602" y="1122"/>
                  </a:lnTo>
                  <a:lnTo>
                    <a:pt x="614" y="1122"/>
                  </a:lnTo>
                  <a:lnTo>
                    <a:pt x="614" y="1114"/>
                  </a:lnTo>
                  <a:lnTo>
                    <a:pt x="614" y="1119"/>
                  </a:lnTo>
                  <a:lnTo>
                    <a:pt x="634" y="1117"/>
                  </a:lnTo>
                  <a:lnTo>
                    <a:pt x="622" y="1122"/>
                  </a:lnTo>
                  <a:lnTo>
                    <a:pt x="658" y="1112"/>
                  </a:lnTo>
                  <a:lnTo>
                    <a:pt x="691" y="1099"/>
                  </a:lnTo>
                  <a:lnTo>
                    <a:pt x="691" y="1092"/>
                  </a:lnTo>
                  <a:lnTo>
                    <a:pt x="695" y="1095"/>
                  </a:lnTo>
                  <a:lnTo>
                    <a:pt x="706" y="1095"/>
                  </a:lnTo>
                  <a:lnTo>
                    <a:pt x="691" y="1099"/>
                  </a:lnTo>
                  <a:lnTo>
                    <a:pt x="731" y="1095"/>
                  </a:lnTo>
                  <a:lnTo>
                    <a:pt x="739" y="1087"/>
                  </a:lnTo>
                  <a:lnTo>
                    <a:pt x="731" y="1092"/>
                  </a:lnTo>
                  <a:lnTo>
                    <a:pt x="776" y="1099"/>
                  </a:lnTo>
                  <a:lnTo>
                    <a:pt x="787" y="1097"/>
                  </a:lnTo>
                  <a:lnTo>
                    <a:pt x="799" y="1092"/>
                  </a:lnTo>
                  <a:lnTo>
                    <a:pt x="811" y="1099"/>
                  </a:lnTo>
                  <a:lnTo>
                    <a:pt x="804" y="1107"/>
                  </a:lnTo>
                  <a:lnTo>
                    <a:pt x="816" y="1112"/>
                  </a:lnTo>
                  <a:lnTo>
                    <a:pt x="832" y="1107"/>
                  </a:lnTo>
                  <a:lnTo>
                    <a:pt x="832" y="1114"/>
                  </a:lnTo>
                  <a:lnTo>
                    <a:pt x="844" y="1109"/>
                  </a:lnTo>
                  <a:lnTo>
                    <a:pt x="844" y="1102"/>
                  </a:lnTo>
                  <a:lnTo>
                    <a:pt x="864" y="1112"/>
                  </a:lnTo>
                  <a:lnTo>
                    <a:pt x="856" y="1119"/>
                  </a:lnTo>
                  <a:lnTo>
                    <a:pt x="872" y="1112"/>
                  </a:lnTo>
                  <a:lnTo>
                    <a:pt x="861" y="1099"/>
                  </a:lnTo>
                  <a:lnTo>
                    <a:pt x="868" y="1099"/>
                  </a:lnTo>
                  <a:lnTo>
                    <a:pt x="884" y="1090"/>
                  </a:lnTo>
                  <a:lnTo>
                    <a:pt x="868" y="1095"/>
                  </a:lnTo>
                  <a:lnTo>
                    <a:pt x="876" y="1087"/>
                  </a:lnTo>
                  <a:lnTo>
                    <a:pt x="852" y="1087"/>
                  </a:lnTo>
                  <a:lnTo>
                    <a:pt x="864" y="1080"/>
                  </a:lnTo>
                  <a:lnTo>
                    <a:pt x="880" y="1087"/>
                  </a:lnTo>
                  <a:lnTo>
                    <a:pt x="925" y="1082"/>
                  </a:lnTo>
                  <a:lnTo>
                    <a:pt x="929" y="1085"/>
                  </a:lnTo>
                  <a:lnTo>
                    <a:pt x="944" y="1075"/>
                  </a:lnTo>
                  <a:lnTo>
                    <a:pt x="941" y="1087"/>
                  </a:lnTo>
                  <a:lnTo>
                    <a:pt x="933" y="1087"/>
                  </a:lnTo>
                  <a:lnTo>
                    <a:pt x="957" y="1082"/>
                  </a:lnTo>
                  <a:lnTo>
                    <a:pt x="948" y="1087"/>
                  </a:lnTo>
                  <a:lnTo>
                    <a:pt x="957" y="1085"/>
                  </a:lnTo>
                  <a:lnTo>
                    <a:pt x="973" y="1080"/>
                  </a:lnTo>
                  <a:lnTo>
                    <a:pt x="973" y="1085"/>
                  </a:lnTo>
                  <a:lnTo>
                    <a:pt x="960" y="1085"/>
                  </a:lnTo>
                  <a:lnTo>
                    <a:pt x="981" y="1085"/>
                  </a:lnTo>
                  <a:lnTo>
                    <a:pt x="998" y="1082"/>
                  </a:lnTo>
                  <a:lnTo>
                    <a:pt x="986" y="1085"/>
                  </a:lnTo>
                  <a:lnTo>
                    <a:pt x="1006" y="1092"/>
                  </a:lnTo>
                  <a:lnTo>
                    <a:pt x="1006" y="1090"/>
                  </a:lnTo>
                  <a:lnTo>
                    <a:pt x="1014" y="1090"/>
                  </a:lnTo>
                  <a:lnTo>
                    <a:pt x="1006" y="1092"/>
                  </a:lnTo>
                  <a:lnTo>
                    <a:pt x="1010" y="1099"/>
                  </a:lnTo>
                  <a:lnTo>
                    <a:pt x="1006" y="1104"/>
                  </a:lnTo>
                  <a:lnTo>
                    <a:pt x="1018" y="1104"/>
                  </a:lnTo>
                  <a:lnTo>
                    <a:pt x="1066" y="1099"/>
                  </a:lnTo>
                  <a:lnTo>
                    <a:pt x="1078" y="1127"/>
                  </a:lnTo>
                  <a:lnTo>
                    <a:pt x="1045" y="1153"/>
                  </a:lnTo>
                  <a:lnTo>
                    <a:pt x="1050" y="1156"/>
                  </a:lnTo>
                  <a:lnTo>
                    <a:pt x="1058" y="1149"/>
                  </a:lnTo>
                  <a:lnTo>
                    <a:pt x="1062" y="1153"/>
                  </a:lnTo>
                  <a:lnTo>
                    <a:pt x="1042" y="1161"/>
                  </a:lnTo>
                  <a:lnTo>
                    <a:pt x="1042" y="1178"/>
                  </a:lnTo>
                  <a:lnTo>
                    <a:pt x="1058" y="1176"/>
                  </a:lnTo>
                  <a:lnTo>
                    <a:pt x="1050" y="1183"/>
                  </a:lnTo>
                  <a:lnTo>
                    <a:pt x="1045" y="1188"/>
                  </a:lnTo>
                  <a:lnTo>
                    <a:pt x="1058" y="1183"/>
                  </a:lnTo>
                  <a:lnTo>
                    <a:pt x="1045" y="1188"/>
                  </a:lnTo>
                  <a:lnTo>
                    <a:pt x="1058" y="1220"/>
                  </a:lnTo>
                  <a:lnTo>
                    <a:pt x="1054" y="1218"/>
                  </a:lnTo>
                  <a:lnTo>
                    <a:pt x="1050" y="1223"/>
                  </a:lnTo>
                  <a:lnTo>
                    <a:pt x="1118" y="1183"/>
                  </a:lnTo>
                  <a:lnTo>
                    <a:pt x="1122" y="1173"/>
                  </a:lnTo>
                  <a:lnTo>
                    <a:pt x="1122" y="1171"/>
                  </a:lnTo>
                  <a:lnTo>
                    <a:pt x="1122" y="1163"/>
                  </a:lnTo>
                  <a:lnTo>
                    <a:pt x="1126" y="1156"/>
                  </a:lnTo>
                  <a:lnTo>
                    <a:pt x="1126" y="1147"/>
                  </a:lnTo>
                  <a:lnTo>
                    <a:pt x="1131" y="1136"/>
                  </a:lnTo>
                  <a:lnTo>
                    <a:pt x="1134" y="1132"/>
                  </a:lnTo>
                  <a:lnTo>
                    <a:pt x="1139" y="1136"/>
                  </a:lnTo>
                  <a:lnTo>
                    <a:pt x="1131" y="1147"/>
                  </a:lnTo>
                  <a:lnTo>
                    <a:pt x="1126" y="1156"/>
                  </a:lnTo>
                  <a:lnTo>
                    <a:pt x="1131" y="1147"/>
                  </a:lnTo>
                  <a:lnTo>
                    <a:pt x="1139" y="1139"/>
                  </a:lnTo>
                  <a:lnTo>
                    <a:pt x="1139" y="1136"/>
                  </a:lnTo>
                  <a:lnTo>
                    <a:pt x="1139" y="1127"/>
                  </a:lnTo>
                  <a:lnTo>
                    <a:pt x="1155" y="1082"/>
                  </a:lnTo>
                  <a:lnTo>
                    <a:pt x="1175" y="1070"/>
                  </a:lnTo>
                  <a:lnTo>
                    <a:pt x="1171" y="1067"/>
                  </a:lnTo>
                  <a:lnTo>
                    <a:pt x="1187" y="1058"/>
                  </a:lnTo>
                  <a:lnTo>
                    <a:pt x="1207" y="1053"/>
                  </a:lnTo>
                  <a:lnTo>
                    <a:pt x="1220" y="1048"/>
                  </a:lnTo>
                  <a:lnTo>
                    <a:pt x="1220" y="1041"/>
                  </a:lnTo>
                  <a:lnTo>
                    <a:pt x="1227" y="1046"/>
                  </a:lnTo>
                  <a:lnTo>
                    <a:pt x="1227" y="1041"/>
                  </a:lnTo>
                  <a:lnTo>
                    <a:pt x="1252" y="1038"/>
                  </a:lnTo>
                  <a:lnTo>
                    <a:pt x="1280" y="1031"/>
                  </a:lnTo>
                  <a:lnTo>
                    <a:pt x="1292" y="1026"/>
                  </a:lnTo>
                  <a:lnTo>
                    <a:pt x="1329" y="1011"/>
                  </a:lnTo>
                  <a:lnTo>
                    <a:pt x="1344" y="1011"/>
                  </a:lnTo>
                  <a:lnTo>
                    <a:pt x="1356" y="1004"/>
                  </a:lnTo>
                  <a:lnTo>
                    <a:pt x="1348" y="1008"/>
                  </a:lnTo>
                  <a:lnTo>
                    <a:pt x="1385" y="991"/>
                  </a:lnTo>
                  <a:lnTo>
                    <a:pt x="1385" y="997"/>
                  </a:lnTo>
                  <a:lnTo>
                    <a:pt x="1425" y="989"/>
                  </a:lnTo>
                  <a:lnTo>
                    <a:pt x="1406" y="984"/>
                  </a:lnTo>
                  <a:lnTo>
                    <a:pt x="1406" y="982"/>
                  </a:lnTo>
                  <a:lnTo>
                    <a:pt x="1413" y="986"/>
                  </a:lnTo>
                  <a:lnTo>
                    <a:pt x="1429" y="979"/>
                  </a:lnTo>
                  <a:lnTo>
                    <a:pt x="1417" y="972"/>
                  </a:lnTo>
                  <a:lnTo>
                    <a:pt x="1442" y="977"/>
                  </a:lnTo>
                  <a:lnTo>
                    <a:pt x="1462" y="972"/>
                  </a:lnTo>
                  <a:lnTo>
                    <a:pt x="1466" y="964"/>
                  </a:lnTo>
                  <a:lnTo>
                    <a:pt x="1454" y="969"/>
                  </a:lnTo>
                  <a:lnTo>
                    <a:pt x="1462" y="964"/>
                  </a:lnTo>
                  <a:lnTo>
                    <a:pt x="1437" y="962"/>
                  </a:lnTo>
                  <a:lnTo>
                    <a:pt x="1449" y="954"/>
                  </a:lnTo>
                  <a:lnTo>
                    <a:pt x="1445" y="962"/>
                  </a:lnTo>
                  <a:lnTo>
                    <a:pt x="1466" y="959"/>
                  </a:lnTo>
                  <a:lnTo>
                    <a:pt x="1474" y="954"/>
                  </a:lnTo>
                  <a:lnTo>
                    <a:pt x="1470" y="959"/>
                  </a:lnTo>
                  <a:lnTo>
                    <a:pt x="1474" y="950"/>
                  </a:lnTo>
                  <a:lnTo>
                    <a:pt x="1478" y="950"/>
                  </a:lnTo>
                  <a:lnTo>
                    <a:pt x="1482" y="945"/>
                  </a:lnTo>
                  <a:lnTo>
                    <a:pt x="1482" y="950"/>
                  </a:lnTo>
                  <a:lnTo>
                    <a:pt x="1486" y="940"/>
                  </a:lnTo>
                  <a:lnTo>
                    <a:pt x="1470" y="943"/>
                  </a:lnTo>
                  <a:lnTo>
                    <a:pt x="1474" y="932"/>
                  </a:lnTo>
                  <a:lnTo>
                    <a:pt x="1458" y="930"/>
                  </a:lnTo>
                  <a:lnTo>
                    <a:pt x="1482" y="935"/>
                  </a:lnTo>
                  <a:lnTo>
                    <a:pt x="1478" y="925"/>
                  </a:lnTo>
                  <a:lnTo>
                    <a:pt x="1482" y="930"/>
                  </a:lnTo>
                  <a:lnTo>
                    <a:pt x="1494" y="925"/>
                  </a:lnTo>
                  <a:lnTo>
                    <a:pt x="1486" y="908"/>
                  </a:lnTo>
                  <a:lnTo>
                    <a:pt x="1494" y="923"/>
                  </a:lnTo>
                  <a:lnTo>
                    <a:pt x="1505" y="915"/>
                  </a:lnTo>
                  <a:lnTo>
                    <a:pt x="1486" y="906"/>
                  </a:lnTo>
                  <a:lnTo>
                    <a:pt x="1505" y="891"/>
                  </a:lnTo>
                  <a:lnTo>
                    <a:pt x="1505" y="893"/>
                  </a:lnTo>
                  <a:lnTo>
                    <a:pt x="1490" y="903"/>
                  </a:lnTo>
                  <a:lnTo>
                    <a:pt x="1505" y="912"/>
                  </a:lnTo>
                  <a:lnTo>
                    <a:pt x="1510" y="903"/>
                  </a:lnTo>
                  <a:lnTo>
                    <a:pt x="1514" y="898"/>
                  </a:lnTo>
                  <a:lnTo>
                    <a:pt x="1514" y="906"/>
                  </a:lnTo>
                  <a:lnTo>
                    <a:pt x="1530" y="883"/>
                  </a:lnTo>
                  <a:lnTo>
                    <a:pt x="1563" y="876"/>
                  </a:lnTo>
                  <a:lnTo>
                    <a:pt x="1530" y="893"/>
                  </a:lnTo>
                  <a:lnTo>
                    <a:pt x="1534" y="895"/>
                  </a:lnTo>
                  <a:lnTo>
                    <a:pt x="1534" y="901"/>
                  </a:lnTo>
                  <a:lnTo>
                    <a:pt x="1522" y="903"/>
                  </a:lnTo>
                  <a:lnTo>
                    <a:pt x="1518" y="903"/>
                  </a:lnTo>
                  <a:lnTo>
                    <a:pt x="1530" y="906"/>
                  </a:lnTo>
                  <a:lnTo>
                    <a:pt x="1518" y="915"/>
                  </a:lnTo>
                  <a:lnTo>
                    <a:pt x="1527" y="915"/>
                  </a:lnTo>
                  <a:lnTo>
                    <a:pt x="1494" y="935"/>
                  </a:lnTo>
                  <a:lnTo>
                    <a:pt x="1534" y="915"/>
                  </a:lnTo>
                  <a:lnTo>
                    <a:pt x="1559" y="906"/>
                  </a:lnTo>
                  <a:lnTo>
                    <a:pt x="1567" y="880"/>
                  </a:lnTo>
                  <a:lnTo>
                    <a:pt x="1598" y="869"/>
                  </a:lnTo>
                  <a:lnTo>
                    <a:pt x="1571" y="878"/>
                  </a:lnTo>
                  <a:lnTo>
                    <a:pt x="1574" y="893"/>
                  </a:lnTo>
                  <a:lnTo>
                    <a:pt x="1631" y="868"/>
                  </a:lnTo>
                  <a:lnTo>
                    <a:pt x="1623" y="876"/>
                  </a:lnTo>
                  <a:lnTo>
                    <a:pt x="1644" y="861"/>
                  </a:lnTo>
                  <a:lnTo>
                    <a:pt x="1640" y="858"/>
                  </a:lnTo>
                  <a:lnTo>
                    <a:pt x="1671" y="839"/>
                  </a:lnTo>
                  <a:lnTo>
                    <a:pt x="1652" y="854"/>
                  </a:lnTo>
                  <a:lnTo>
                    <a:pt x="1671" y="847"/>
                  </a:lnTo>
                  <a:lnTo>
                    <a:pt x="1732" y="841"/>
                  </a:lnTo>
                  <a:lnTo>
                    <a:pt x="1761" y="831"/>
                  </a:lnTo>
                  <a:lnTo>
                    <a:pt x="1768" y="831"/>
                  </a:lnTo>
                  <a:lnTo>
                    <a:pt x="1761" y="839"/>
                  </a:lnTo>
                  <a:lnTo>
                    <a:pt x="1777" y="831"/>
                  </a:lnTo>
                  <a:lnTo>
                    <a:pt x="1801" y="837"/>
                  </a:lnTo>
                  <a:lnTo>
                    <a:pt x="1793" y="821"/>
                  </a:lnTo>
                  <a:lnTo>
                    <a:pt x="1793" y="816"/>
                  </a:lnTo>
                  <a:lnTo>
                    <a:pt x="1805" y="807"/>
                  </a:lnTo>
                  <a:lnTo>
                    <a:pt x="1812" y="802"/>
                  </a:lnTo>
                  <a:lnTo>
                    <a:pt x="1849" y="787"/>
                  </a:lnTo>
                  <a:lnTo>
                    <a:pt x="1862" y="787"/>
                  </a:lnTo>
                  <a:lnTo>
                    <a:pt x="1865" y="782"/>
                  </a:lnTo>
                  <a:lnTo>
                    <a:pt x="1862" y="787"/>
                  </a:lnTo>
                  <a:lnTo>
                    <a:pt x="1874" y="782"/>
                  </a:lnTo>
                  <a:lnTo>
                    <a:pt x="1869" y="785"/>
                  </a:lnTo>
                  <a:lnTo>
                    <a:pt x="1889" y="782"/>
                  </a:lnTo>
                  <a:lnTo>
                    <a:pt x="1913" y="770"/>
                  </a:lnTo>
                  <a:lnTo>
                    <a:pt x="1913" y="777"/>
                  </a:lnTo>
                  <a:lnTo>
                    <a:pt x="1922" y="772"/>
                  </a:lnTo>
                  <a:lnTo>
                    <a:pt x="1930" y="775"/>
                  </a:lnTo>
                  <a:lnTo>
                    <a:pt x="1963" y="770"/>
                  </a:lnTo>
                  <a:lnTo>
                    <a:pt x="1978" y="758"/>
                  </a:lnTo>
                  <a:lnTo>
                    <a:pt x="1974" y="745"/>
                  </a:lnTo>
                  <a:lnTo>
                    <a:pt x="2015" y="714"/>
                  </a:lnTo>
                  <a:lnTo>
                    <a:pt x="1990" y="711"/>
                  </a:lnTo>
                  <a:lnTo>
                    <a:pt x="1986" y="709"/>
                  </a:lnTo>
                  <a:lnTo>
                    <a:pt x="1986" y="704"/>
                  </a:lnTo>
                  <a:lnTo>
                    <a:pt x="1886" y="748"/>
                  </a:lnTo>
                  <a:lnTo>
                    <a:pt x="1869" y="751"/>
                  </a:lnTo>
                  <a:lnTo>
                    <a:pt x="1849" y="756"/>
                  </a:lnTo>
                  <a:lnTo>
                    <a:pt x="1829" y="756"/>
                  </a:lnTo>
                  <a:lnTo>
                    <a:pt x="1809" y="756"/>
                  </a:lnTo>
                  <a:lnTo>
                    <a:pt x="1797" y="753"/>
                  </a:lnTo>
                  <a:lnTo>
                    <a:pt x="1761" y="753"/>
                  </a:lnTo>
                  <a:lnTo>
                    <a:pt x="1756" y="753"/>
                  </a:lnTo>
                  <a:lnTo>
                    <a:pt x="1752" y="753"/>
                  </a:lnTo>
                  <a:lnTo>
                    <a:pt x="1712" y="762"/>
                  </a:lnTo>
                  <a:lnTo>
                    <a:pt x="1683" y="770"/>
                  </a:lnTo>
                  <a:lnTo>
                    <a:pt x="1692" y="772"/>
                  </a:lnTo>
                  <a:lnTo>
                    <a:pt x="1671" y="782"/>
                  </a:lnTo>
                  <a:lnTo>
                    <a:pt x="1652" y="787"/>
                  </a:lnTo>
                  <a:lnTo>
                    <a:pt x="1582" y="787"/>
                  </a:lnTo>
                  <a:lnTo>
                    <a:pt x="1574" y="790"/>
                  </a:lnTo>
                  <a:lnTo>
                    <a:pt x="1571" y="797"/>
                  </a:lnTo>
                  <a:lnTo>
                    <a:pt x="1530" y="810"/>
                  </a:lnTo>
                  <a:lnTo>
                    <a:pt x="1498" y="814"/>
                  </a:lnTo>
                  <a:lnTo>
                    <a:pt x="1421" y="827"/>
                  </a:lnTo>
                  <a:lnTo>
                    <a:pt x="1421" y="821"/>
                  </a:lnTo>
                  <a:lnTo>
                    <a:pt x="1406" y="816"/>
                  </a:lnTo>
                  <a:lnTo>
                    <a:pt x="1454" y="797"/>
                  </a:lnTo>
                  <a:lnTo>
                    <a:pt x="1478" y="787"/>
                  </a:lnTo>
                  <a:lnTo>
                    <a:pt x="1501" y="762"/>
                  </a:lnTo>
                  <a:lnTo>
                    <a:pt x="1458" y="770"/>
                  </a:lnTo>
                  <a:lnTo>
                    <a:pt x="1498" y="756"/>
                  </a:lnTo>
                  <a:lnTo>
                    <a:pt x="1522" y="741"/>
                  </a:lnTo>
                  <a:lnTo>
                    <a:pt x="1510" y="721"/>
                  </a:lnTo>
                  <a:lnTo>
                    <a:pt x="1494" y="723"/>
                  </a:lnTo>
                  <a:lnTo>
                    <a:pt x="1490" y="728"/>
                  </a:lnTo>
                  <a:lnTo>
                    <a:pt x="1454" y="743"/>
                  </a:lnTo>
                  <a:lnTo>
                    <a:pt x="1462" y="738"/>
                  </a:lnTo>
                  <a:lnTo>
                    <a:pt x="1470" y="731"/>
                  </a:lnTo>
                  <a:lnTo>
                    <a:pt x="1429" y="743"/>
                  </a:lnTo>
                  <a:lnTo>
                    <a:pt x="1385" y="767"/>
                  </a:lnTo>
                  <a:lnTo>
                    <a:pt x="1353" y="792"/>
                  </a:lnTo>
                  <a:lnTo>
                    <a:pt x="1308" y="810"/>
                  </a:lnTo>
                  <a:lnTo>
                    <a:pt x="1288" y="810"/>
                  </a:lnTo>
                  <a:lnTo>
                    <a:pt x="1308" y="792"/>
                  </a:lnTo>
                  <a:lnTo>
                    <a:pt x="1333" y="775"/>
                  </a:lnTo>
                  <a:lnTo>
                    <a:pt x="1406" y="738"/>
                  </a:lnTo>
                  <a:lnTo>
                    <a:pt x="1377" y="743"/>
                  </a:lnTo>
                  <a:lnTo>
                    <a:pt x="1409" y="731"/>
                  </a:lnTo>
                  <a:lnTo>
                    <a:pt x="1454" y="714"/>
                  </a:lnTo>
                  <a:lnTo>
                    <a:pt x="1445" y="718"/>
                  </a:lnTo>
                  <a:lnTo>
                    <a:pt x="1466" y="716"/>
                  </a:lnTo>
                  <a:lnTo>
                    <a:pt x="1454" y="721"/>
                  </a:lnTo>
                  <a:lnTo>
                    <a:pt x="1501" y="711"/>
                  </a:lnTo>
                  <a:lnTo>
                    <a:pt x="1514" y="718"/>
                  </a:lnTo>
                  <a:lnTo>
                    <a:pt x="1522" y="714"/>
                  </a:lnTo>
                  <a:lnTo>
                    <a:pt x="1539" y="718"/>
                  </a:lnTo>
                  <a:lnTo>
                    <a:pt x="1546" y="704"/>
                  </a:lnTo>
                  <a:lnTo>
                    <a:pt x="1530" y="704"/>
                  </a:lnTo>
                  <a:lnTo>
                    <a:pt x="1543" y="696"/>
                  </a:lnTo>
                  <a:lnTo>
                    <a:pt x="1470" y="699"/>
                  </a:lnTo>
                  <a:lnTo>
                    <a:pt x="1470" y="689"/>
                  </a:lnTo>
                  <a:lnTo>
                    <a:pt x="1449" y="691"/>
                  </a:lnTo>
                  <a:lnTo>
                    <a:pt x="1462" y="681"/>
                  </a:lnTo>
                  <a:lnTo>
                    <a:pt x="1389" y="694"/>
                  </a:lnTo>
                  <a:lnTo>
                    <a:pt x="1377" y="691"/>
                  </a:lnTo>
                  <a:lnTo>
                    <a:pt x="1393" y="684"/>
                  </a:lnTo>
                  <a:lnTo>
                    <a:pt x="1353" y="687"/>
                  </a:lnTo>
                  <a:lnTo>
                    <a:pt x="1470" y="662"/>
                  </a:lnTo>
                  <a:close/>
                  <a:moveTo>
                    <a:pt x="6180" y="4502"/>
                  </a:moveTo>
                  <a:lnTo>
                    <a:pt x="6652" y="4502"/>
                  </a:lnTo>
                  <a:lnTo>
                    <a:pt x="6652" y="4645"/>
                  </a:lnTo>
                  <a:lnTo>
                    <a:pt x="6180" y="4645"/>
                  </a:lnTo>
                  <a:lnTo>
                    <a:pt x="6180" y="4502"/>
                  </a:lnTo>
                  <a:close/>
                  <a:moveTo>
                    <a:pt x="1437" y="1402"/>
                  </a:moveTo>
                  <a:lnTo>
                    <a:pt x="1498" y="1407"/>
                  </a:lnTo>
                  <a:lnTo>
                    <a:pt x="1474" y="1414"/>
                  </a:lnTo>
                  <a:lnTo>
                    <a:pt x="1437" y="1412"/>
                  </a:lnTo>
                  <a:lnTo>
                    <a:pt x="1437" y="1402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410480" y="1891440"/>
              <a:ext cx="21960" cy="4680"/>
            </a:xfrm>
            <a:custGeom>
              <a:avLst/>
              <a:gdLst/>
              <a:ahLst/>
              <a:rect l="l" t="t" r="r" b="b"/>
              <a:pathLst>
                <a:path w="62" h="13">
                  <a:moveTo>
                    <a:pt x="0" y="0"/>
                  </a:moveTo>
                  <a:lnTo>
                    <a:pt x="0" y="0"/>
                  </a:lnTo>
                  <a:lnTo>
                    <a:pt x="61" y="5"/>
                  </a:lnTo>
                  <a:lnTo>
                    <a:pt x="37" y="12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917880" y="1944000"/>
              <a:ext cx="23400" cy="31320"/>
            </a:xfrm>
            <a:custGeom>
              <a:avLst/>
              <a:gdLst/>
              <a:ahLst/>
              <a:rect l="l" t="t" r="r" b="b"/>
              <a:pathLst>
                <a:path w="66" h="87">
                  <a:moveTo>
                    <a:pt x="49" y="0"/>
                  </a:moveTo>
                  <a:lnTo>
                    <a:pt x="49" y="0"/>
                  </a:lnTo>
                  <a:lnTo>
                    <a:pt x="65" y="25"/>
                  </a:lnTo>
                  <a:lnTo>
                    <a:pt x="41" y="42"/>
                  </a:lnTo>
                  <a:lnTo>
                    <a:pt x="37" y="59"/>
                  </a:lnTo>
                  <a:lnTo>
                    <a:pt x="0" y="86"/>
                  </a:lnTo>
                  <a:lnTo>
                    <a:pt x="49" y="25"/>
                  </a:lnTo>
                  <a:lnTo>
                    <a:pt x="45" y="13"/>
                  </a:lnTo>
                  <a:lnTo>
                    <a:pt x="53" y="20"/>
                  </a:lnTo>
                  <a:lnTo>
                    <a:pt x="49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935160" y="1936080"/>
              <a:ext cx="6120" cy="28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0"/>
                  </a:moveTo>
                  <a:lnTo>
                    <a:pt x="0" y="0"/>
                  </a:lnTo>
                  <a:lnTo>
                    <a:pt x="16" y="4"/>
                  </a:lnTo>
                  <a:lnTo>
                    <a:pt x="12" y="9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962160" y="1939320"/>
              <a:ext cx="15480" cy="1368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0"/>
                  </a:moveTo>
                  <a:lnTo>
                    <a:pt x="0" y="0"/>
                  </a:lnTo>
                  <a:lnTo>
                    <a:pt x="36" y="13"/>
                  </a:lnTo>
                  <a:lnTo>
                    <a:pt x="44" y="10"/>
                  </a:lnTo>
                  <a:lnTo>
                    <a:pt x="36" y="30"/>
                  </a:lnTo>
                  <a:lnTo>
                    <a:pt x="16" y="40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976560" y="1948680"/>
              <a:ext cx="12240" cy="17280"/>
            </a:xfrm>
            <a:custGeom>
              <a:avLst/>
              <a:gdLst/>
              <a:ahLst/>
              <a:rect l="l" t="t" r="r" b="b"/>
              <a:pathLst>
                <a:path w="37" h="49">
                  <a:moveTo>
                    <a:pt x="25" y="0"/>
                  </a:moveTo>
                  <a:lnTo>
                    <a:pt x="25" y="0"/>
                  </a:lnTo>
                  <a:lnTo>
                    <a:pt x="25" y="29"/>
                  </a:lnTo>
                  <a:lnTo>
                    <a:pt x="36" y="48"/>
                  </a:lnTo>
                  <a:lnTo>
                    <a:pt x="25" y="48"/>
                  </a:lnTo>
                  <a:lnTo>
                    <a:pt x="0" y="29"/>
                  </a:lnTo>
                  <a:lnTo>
                    <a:pt x="13" y="21"/>
                  </a:lnTo>
                  <a:lnTo>
                    <a:pt x="4" y="0"/>
                  </a:lnTo>
                  <a:lnTo>
                    <a:pt x="2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989160" y="1944000"/>
              <a:ext cx="4320" cy="18720"/>
            </a:xfrm>
            <a:custGeom>
              <a:avLst/>
              <a:gdLst/>
              <a:ahLst/>
              <a:rect l="l" t="t" r="r" b="b"/>
              <a:pathLst>
                <a:path w="13" h="51">
                  <a:moveTo>
                    <a:pt x="4" y="0"/>
                  </a:moveTo>
                  <a:lnTo>
                    <a:pt x="4" y="0"/>
                  </a:lnTo>
                  <a:lnTo>
                    <a:pt x="12" y="23"/>
                  </a:lnTo>
                  <a:lnTo>
                    <a:pt x="0" y="5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993840" y="1955160"/>
              <a:ext cx="9360" cy="43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16" y="0"/>
                  </a:moveTo>
                  <a:lnTo>
                    <a:pt x="16" y="0"/>
                  </a:lnTo>
                  <a:lnTo>
                    <a:pt x="24" y="10"/>
                  </a:lnTo>
                  <a:lnTo>
                    <a:pt x="0" y="12"/>
                  </a:lnTo>
                  <a:lnTo>
                    <a:pt x="3" y="0"/>
                  </a:lnTo>
                  <a:lnTo>
                    <a:pt x="1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979800" y="1991520"/>
              <a:ext cx="7560" cy="288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12" y="0"/>
                  </a:moveTo>
                  <a:lnTo>
                    <a:pt x="12" y="0"/>
                  </a:lnTo>
                  <a:lnTo>
                    <a:pt x="21" y="3"/>
                  </a:lnTo>
                  <a:lnTo>
                    <a:pt x="17" y="7"/>
                  </a:lnTo>
                  <a:lnTo>
                    <a:pt x="0" y="3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979800" y="1958400"/>
              <a:ext cx="56520" cy="43920"/>
            </a:xfrm>
            <a:custGeom>
              <a:avLst/>
              <a:gdLst/>
              <a:ahLst/>
              <a:rect l="l" t="t" r="r" b="b"/>
              <a:pathLst>
                <a:path w="159" h="122">
                  <a:moveTo>
                    <a:pt x="93" y="0"/>
                  </a:moveTo>
                  <a:lnTo>
                    <a:pt x="93" y="0"/>
                  </a:lnTo>
                  <a:lnTo>
                    <a:pt x="125" y="15"/>
                  </a:lnTo>
                  <a:lnTo>
                    <a:pt x="133" y="28"/>
                  </a:lnTo>
                  <a:lnTo>
                    <a:pt x="129" y="35"/>
                  </a:lnTo>
                  <a:lnTo>
                    <a:pt x="142" y="37"/>
                  </a:lnTo>
                  <a:lnTo>
                    <a:pt x="158" y="72"/>
                  </a:lnTo>
                  <a:lnTo>
                    <a:pt x="154" y="87"/>
                  </a:lnTo>
                  <a:lnTo>
                    <a:pt x="145" y="84"/>
                  </a:lnTo>
                  <a:lnTo>
                    <a:pt x="154" y="101"/>
                  </a:lnTo>
                  <a:lnTo>
                    <a:pt x="133" y="72"/>
                  </a:lnTo>
                  <a:lnTo>
                    <a:pt x="129" y="74"/>
                  </a:lnTo>
                  <a:lnTo>
                    <a:pt x="121" y="89"/>
                  </a:lnTo>
                  <a:lnTo>
                    <a:pt x="138" y="106"/>
                  </a:lnTo>
                  <a:lnTo>
                    <a:pt x="133" y="121"/>
                  </a:lnTo>
                  <a:lnTo>
                    <a:pt x="121" y="106"/>
                  </a:lnTo>
                  <a:lnTo>
                    <a:pt x="117" y="113"/>
                  </a:lnTo>
                  <a:lnTo>
                    <a:pt x="98" y="106"/>
                  </a:lnTo>
                  <a:lnTo>
                    <a:pt x="81" y="98"/>
                  </a:lnTo>
                  <a:lnTo>
                    <a:pt x="73" y="84"/>
                  </a:lnTo>
                  <a:lnTo>
                    <a:pt x="77" y="69"/>
                  </a:lnTo>
                  <a:lnTo>
                    <a:pt x="57" y="59"/>
                  </a:lnTo>
                  <a:lnTo>
                    <a:pt x="48" y="59"/>
                  </a:lnTo>
                  <a:lnTo>
                    <a:pt x="53" y="72"/>
                  </a:lnTo>
                  <a:lnTo>
                    <a:pt x="36" y="62"/>
                  </a:lnTo>
                  <a:lnTo>
                    <a:pt x="28" y="69"/>
                  </a:lnTo>
                  <a:lnTo>
                    <a:pt x="21" y="59"/>
                  </a:lnTo>
                  <a:lnTo>
                    <a:pt x="12" y="84"/>
                  </a:lnTo>
                  <a:lnTo>
                    <a:pt x="0" y="79"/>
                  </a:lnTo>
                  <a:lnTo>
                    <a:pt x="5" y="54"/>
                  </a:lnTo>
                  <a:lnTo>
                    <a:pt x="28" y="50"/>
                  </a:lnTo>
                  <a:lnTo>
                    <a:pt x="36" y="32"/>
                  </a:lnTo>
                  <a:lnTo>
                    <a:pt x="57" y="42"/>
                  </a:lnTo>
                  <a:lnTo>
                    <a:pt x="53" y="54"/>
                  </a:lnTo>
                  <a:lnTo>
                    <a:pt x="69" y="47"/>
                  </a:lnTo>
                  <a:lnTo>
                    <a:pt x="73" y="35"/>
                  </a:lnTo>
                  <a:lnTo>
                    <a:pt x="85" y="40"/>
                  </a:lnTo>
                  <a:lnTo>
                    <a:pt x="81" y="25"/>
                  </a:lnTo>
                  <a:lnTo>
                    <a:pt x="93" y="30"/>
                  </a:lnTo>
                  <a:lnTo>
                    <a:pt x="93" y="22"/>
                  </a:lnTo>
                  <a:lnTo>
                    <a:pt x="105" y="25"/>
                  </a:lnTo>
                  <a:lnTo>
                    <a:pt x="9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990600" y="1940760"/>
              <a:ext cx="17280" cy="1548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0"/>
                  </a:moveTo>
                  <a:lnTo>
                    <a:pt x="0" y="0"/>
                  </a:lnTo>
                  <a:lnTo>
                    <a:pt x="25" y="2"/>
                  </a:lnTo>
                  <a:lnTo>
                    <a:pt x="49" y="34"/>
                  </a:lnTo>
                  <a:lnTo>
                    <a:pt x="41" y="34"/>
                  </a:lnTo>
                  <a:lnTo>
                    <a:pt x="45" y="41"/>
                  </a:lnTo>
                  <a:lnTo>
                    <a:pt x="33" y="34"/>
                  </a:lnTo>
                  <a:lnTo>
                    <a:pt x="12" y="1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985920" y="1931400"/>
              <a:ext cx="26640" cy="15480"/>
            </a:xfrm>
            <a:custGeom>
              <a:avLst/>
              <a:gdLst/>
              <a:ahLst/>
              <a:rect l="l" t="t" r="r" b="b"/>
              <a:pathLst>
                <a:path w="73" h="43">
                  <a:moveTo>
                    <a:pt x="0" y="0"/>
                  </a:moveTo>
                  <a:lnTo>
                    <a:pt x="0" y="0"/>
                  </a:lnTo>
                  <a:lnTo>
                    <a:pt x="36" y="3"/>
                  </a:lnTo>
                  <a:lnTo>
                    <a:pt x="52" y="27"/>
                  </a:lnTo>
                  <a:lnTo>
                    <a:pt x="72" y="42"/>
                  </a:lnTo>
                  <a:lnTo>
                    <a:pt x="44" y="37"/>
                  </a:lnTo>
                  <a:lnTo>
                    <a:pt x="36" y="30"/>
                  </a:lnTo>
                  <a:lnTo>
                    <a:pt x="36" y="22"/>
                  </a:lnTo>
                  <a:lnTo>
                    <a:pt x="27" y="17"/>
                  </a:lnTo>
                  <a:lnTo>
                    <a:pt x="11" y="1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933720" y="1923480"/>
              <a:ext cx="18720" cy="1224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0" y="0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49" y="10"/>
                  </a:lnTo>
                  <a:lnTo>
                    <a:pt x="53" y="32"/>
                  </a:lnTo>
                  <a:lnTo>
                    <a:pt x="45" y="3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973320" y="1931400"/>
              <a:ext cx="14040" cy="900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0" y="0"/>
                  </a:moveTo>
                  <a:lnTo>
                    <a:pt x="0" y="0"/>
                  </a:lnTo>
                  <a:lnTo>
                    <a:pt x="25" y="13"/>
                  </a:lnTo>
                  <a:lnTo>
                    <a:pt x="37" y="24"/>
                  </a:lnTo>
                  <a:lnTo>
                    <a:pt x="12" y="13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976560" y="1915560"/>
              <a:ext cx="4320" cy="43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0"/>
                  </a:moveTo>
                  <a:lnTo>
                    <a:pt x="0" y="0"/>
                  </a:lnTo>
                  <a:lnTo>
                    <a:pt x="13" y="12"/>
                  </a:lnTo>
                  <a:lnTo>
                    <a:pt x="8" y="1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903480" y="1872360"/>
              <a:ext cx="80640" cy="58680"/>
            </a:xfrm>
            <a:custGeom>
              <a:avLst/>
              <a:gdLst/>
              <a:ahLst/>
              <a:rect l="l" t="t" r="r" b="b"/>
              <a:pathLst>
                <a:path w="227" h="161">
                  <a:moveTo>
                    <a:pt x="57" y="0"/>
                  </a:moveTo>
                  <a:lnTo>
                    <a:pt x="57" y="0"/>
                  </a:lnTo>
                  <a:lnTo>
                    <a:pt x="69" y="23"/>
                  </a:lnTo>
                  <a:lnTo>
                    <a:pt x="93" y="37"/>
                  </a:lnTo>
                  <a:lnTo>
                    <a:pt x="101" y="62"/>
                  </a:lnTo>
                  <a:lnTo>
                    <a:pt x="97" y="59"/>
                  </a:lnTo>
                  <a:lnTo>
                    <a:pt x="85" y="69"/>
                  </a:lnTo>
                  <a:lnTo>
                    <a:pt x="89" y="89"/>
                  </a:lnTo>
                  <a:lnTo>
                    <a:pt x="130" y="123"/>
                  </a:lnTo>
                  <a:lnTo>
                    <a:pt x="142" y="123"/>
                  </a:lnTo>
                  <a:lnTo>
                    <a:pt x="134" y="119"/>
                  </a:lnTo>
                  <a:lnTo>
                    <a:pt x="146" y="114"/>
                  </a:lnTo>
                  <a:lnTo>
                    <a:pt x="166" y="119"/>
                  </a:lnTo>
                  <a:lnTo>
                    <a:pt x="174" y="131"/>
                  </a:lnTo>
                  <a:lnTo>
                    <a:pt x="174" y="119"/>
                  </a:lnTo>
                  <a:lnTo>
                    <a:pt x="202" y="128"/>
                  </a:lnTo>
                  <a:lnTo>
                    <a:pt x="190" y="133"/>
                  </a:lnTo>
                  <a:lnTo>
                    <a:pt x="206" y="148"/>
                  </a:lnTo>
                  <a:lnTo>
                    <a:pt x="223" y="148"/>
                  </a:lnTo>
                  <a:lnTo>
                    <a:pt x="226" y="160"/>
                  </a:lnTo>
                  <a:lnTo>
                    <a:pt x="210" y="153"/>
                  </a:lnTo>
                  <a:lnTo>
                    <a:pt x="214" y="150"/>
                  </a:lnTo>
                  <a:lnTo>
                    <a:pt x="190" y="148"/>
                  </a:lnTo>
                  <a:lnTo>
                    <a:pt x="178" y="138"/>
                  </a:lnTo>
                  <a:lnTo>
                    <a:pt x="150" y="123"/>
                  </a:lnTo>
                  <a:lnTo>
                    <a:pt x="166" y="145"/>
                  </a:lnTo>
                  <a:lnTo>
                    <a:pt x="125" y="126"/>
                  </a:lnTo>
                  <a:lnTo>
                    <a:pt x="113" y="135"/>
                  </a:lnTo>
                  <a:lnTo>
                    <a:pt x="97" y="126"/>
                  </a:lnTo>
                  <a:lnTo>
                    <a:pt x="89" y="131"/>
                  </a:lnTo>
                  <a:lnTo>
                    <a:pt x="81" y="119"/>
                  </a:lnTo>
                  <a:lnTo>
                    <a:pt x="89" y="108"/>
                  </a:lnTo>
                  <a:lnTo>
                    <a:pt x="69" y="98"/>
                  </a:lnTo>
                  <a:lnTo>
                    <a:pt x="77" y="114"/>
                  </a:lnTo>
                  <a:lnTo>
                    <a:pt x="57" y="104"/>
                  </a:lnTo>
                  <a:lnTo>
                    <a:pt x="16" y="62"/>
                  </a:lnTo>
                  <a:lnTo>
                    <a:pt x="37" y="69"/>
                  </a:lnTo>
                  <a:lnTo>
                    <a:pt x="40" y="62"/>
                  </a:lnTo>
                  <a:lnTo>
                    <a:pt x="12" y="27"/>
                  </a:lnTo>
                  <a:lnTo>
                    <a:pt x="0" y="0"/>
                  </a:lnTo>
                  <a:lnTo>
                    <a:pt x="5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193040" y="1488600"/>
              <a:ext cx="15480" cy="2880"/>
            </a:xfrm>
            <a:custGeom>
              <a:avLst/>
              <a:gdLst/>
              <a:ahLst/>
              <a:rect l="l" t="t" r="r" b="b"/>
              <a:pathLst>
                <a:path w="45" h="11">
                  <a:moveTo>
                    <a:pt x="44" y="5"/>
                  </a:moveTo>
                  <a:lnTo>
                    <a:pt x="44" y="5"/>
                  </a:lnTo>
                  <a:lnTo>
                    <a:pt x="0" y="10"/>
                  </a:lnTo>
                  <a:lnTo>
                    <a:pt x="13" y="5"/>
                  </a:lnTo>
                  <a:lnTo>
                    <a:pt x="36" y="0"/>
                  </a:lnTo>
                  <a:lnTo>
                    <a:pt x="44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51640" y="1491840"/>
              <a:ext cx="41040" cy="7560"/>
            </a:xfrm>
            <a:custGeom>
              <a:avLst/>
              <a:gdLst/>
              <a:ahLst/>
              <a:rect l="l" t="t" r="r" b="b"/>
              <a:pathLst>
                <a:path w="114" h="24">
                  <a:moveTo>
                    <a:pt x="113" y="0"/>
                  </a:moveTo>
                  <a:lnTo>
                    <a:pt x="113" y="0"/>
                  </a:lnTo>
                  <a:lnTo>
                    <a:pt x="97" y="8"/>
                  </a:lnTo>
                  <a:lnTo>
                    <a:pt x="113" y="8"/>
                  </a:lnTo>
                  <a:lnTo>
                    <a:pt x="80" y="15"/>
                  </a:lnTo>
                  <a:lnTo>
                    <a:pt x="72" y="13"/>
                  </a:lnTo>
                  <a:lnTo>
                    <a:pt x="65" y="18"/>
                  </a:lnTo>
                  <a:lnTo>
                    <a:pt x="45" y="15"/>
                  </a:lnTo>
                  <a:lnTo>
                    <a:pt x="0" y="23"/>
                  </a:lnTo>
                  <a:lnTo>
                    <a:pt x="36" y="15"/>
                  </a:lnTo>
                  <a:lnTo>
                    <a:pt x="24" y="15"/>
                  </a:lnTo>
                  <a:lnTo>
                    <a:pt x="32" y="15"/>
                  </a:lnTo>
                  <a:lnTo>
                    <a:pt x="41" y="8"/>
                  </a:lnTo>
                  <a:lnTo>
                    <a:pt x="76" y="5"/>
                  </a:lnTo>
                  <a:lnTo>
                    <a:pt x="52" y="13"/>
                  </a:lnTo>
                  <a:lnTo>
                    <a:pt x="92" y="3"/>
                  </a:lnTo>
                  <a:lnTo>
                    <a:pt x="80" y="8"/>
                  </a:lnTo>
                  <a:lnTo>
                    <a:pt x="105" y="5"/>
                  </a:lnTo>
                  <a:lnTo>
                    <a:pt x="11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032840" y="1501560"/>
              <a:ext cx="23400" cy="2520"/>
            </a:xfrm>
            <a:custGeom>
              <a:avLst/>
              <a:gdLst/>
              <a:ahLst/>
              <a:rect l="l" t="t" r="r" b="b"/>
              <a:pathLst>
                <a:path w="66" h="11">
                  <a:moveTo>
                    <a:pt x="65" y="3"/>
                  </a:moveTo>
                  <a:lnTo>
                    <a:pt x="65" y="3"/>
                  </a:lnTo>
                  <a:lnTo>
                    <a:pt x="40" y="10"/>
                  </a:lnTo>
                  <a:lnTo>
                    <a:pt x="0" y="10"/>
                  </a:lnTo>
                  <a:lnTo>
                    <a:pt x="12" y="5"/>
                  </a:lnTo>
                  <a:lnTo>
                    <a:pt x="44" y="0"/>
                  </a:lnTo>
                  <a:lnTo>
                    <a:pt x="65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983520" y="1504440"/>
              <a:ext cx="28080" cy="4680"/>
            </a:xfrm>
            <a:custGeom>
              <a:avLst/>
              <a:gdLst/>
              <a:ahLst/>
              <a:rect l="l" t="t" r="r" b="b"/>
              <a:pathLst>
                <a:path w="78" h="13">
                  <a:moveTo>
                    <a:pt x="77" y="3"/>
                  </a:moveTo>
                  <a:lnTo>
                    <a:pt x="77" y="3"/>
                  </a:lnTo>
                  <a:lnTo>
                    <a:pt x="54" y="7"/>
                  </a:lnTo>
                  <a:lnTo>
                    <a:pt x="29" y="12"/>
                  </a:lnTo>
                  <a:lnTo>
                    <a:pt x="0" y="9"/>
                  </a:lnTo>
                  <a:lnTo>
                    <a:pt x="41" y="7"/>
                  </a:lnTo>
                  <a:lnTo>
                    <a:pt x="65" y="0"/>
                  </a:lnTo>
                  <a:lnTo>
                    <a:pt x="77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964440" y="1506240"/>
              <a:ext cx="26640" cy="4320"/>
            </a:xfrm>
            <a:custGeom>
              <a:avLst/>
              <a:gdLst/>
              <a:ahLst/>
              <a:rect l="l" t="t" r="r" b="b"/>
              <a:pathLst>
                <a:path w="74" h="13">
                  <a:moveTo>
                    <a:pt x="73" y="2"/>
                  </a:moveTo>
                  <a:lnTo>
                    <a:pt x="73" y="2"/>
                  </a:lnTo>
                  <a:lnTo>
                    <a:pt x="0" y="12"/>
                  </a:lnTo>
                  <a:lnTo>
                    <a:pt x="65" y="0"/>
                  </a:lnTo>
                  <a:lnTo>
                    <a:pt x="73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920520" y="15094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912600" y="1506240"/>
              <a:ext cx="16920" cy="288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8" y="0"/>
                  </a:moveTo>
                  <a:lnTo>
                    <a:pt x="48" y="0"/>
                  </a:lnTo>
                  <a:lnTo>
                    <a:pt x="24" y="7"/>
                  </a:lnTo>
                  <a:lnTo>
                    <a:pt x="8" y="7"/>
                  </a:lnTo>
                  <a:lnTo>
                    <a:pt x="0" y="4"/>
                  </a:lnTo>
                  <a:lnTo>
                    <a:pt x="4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93520" y="1506240"/>
              <a:ext cx="13680" cy="288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37" y="0"/>
                  </a:moveTo>
                  <a:lnTo>
                    <a:pt x="37" y="0"/>
                  </a:lnTo>
                  <a:lnTo>
                    <a:pt x="16" y="4"/>
                  </a:lnTo>
                  <a:lnTo>
                    <a:pt x="0" y="7"/>
                  </a:lnTo>
                  <a:lnTo>
                    <a:pt x="3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896400" y="1504440"/>
              <a:ext cx="2880" cy="14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8" y="0"/>
                  </a:lnTo>
                  <a:lnTo>
                    <a:pt x="4" y="5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28040" y="1399680"/>
              <a:ext cx="153720" cy="29880"/>
            </a:xfrm>
            <a:custGeom>
              <a:avLst/>
              <a:gdLst/>
              <a:ahLst/>
              <a:rect l="l" t="t" r="r" b="b"/>
              <a:pathLst>
                <a:path w="428" h="82">
                  <a:moveTo>
                    <a:pt x="427" y="0"/>
                  </a:moveTo>
                  <a:lnTo>
                    <a:pt x="427" y="0"/>
                  </a:lnTo>
                  <a:lnTo>
                    <a:pt x="379" y="10"/>
                  </a:lnTo>
                  <a:lnTo>
                    <a:pt x="408" y="5"/>
                  </a:lnTo>
                  <a:lnTo>
                    <a:pt x="332" y="24"/>
                  </a:lnTo>
                  <a:lnTo>
                    <a:pt x="299" y="29"/>
                  </a:lnTo>
                  <a:lnTo>
                    <a:pt x="198" y="47"/>
                  </a:lnTo>
                  <a:lnTo>
                    <a:pt x="218" y="44"/>
                  </a:lnTo>
                  <a:lnTo>
                    <a:pt x="218" y="47"/>
                  </a:lnTo>
                  <a:lnTo>
                    <a:pt x="226" y="44"/>
                  </a:lnTo>
                  <a:lnTo>
                    <a:pt x="275" y="35"/>
                  </a:lnTo>
                  <a:lnTo>
                    <a:pt x="287" y="37"/>
                  </a:lnTo>
                  <a:lnTo>
                    <a:pt x="271" y="44"/>
                  </a:lnTo>
                  <a:lnTo>
                    <a:pt x="279" y="47"/>
                  </a:lnTo>
                  <a:lnTo>
                    <a:pt x="214" y="59"/>
                  </a:lnTo>
                  <a:lnTo>
                    <a:pt x="210" y="64"/>
                  </a:lnTo>
                  <a:lnTo>
                    <a:pt x="157" y="69"/>
                  </a:lnTo>
                  <a:lnTo>
                    <a:pt x="166" y="61"/>
                  </a:lnTo>
                  <a:lnTo>
                    <a:pt x="137" y="69"/>
                  </a:lnTo>
                  <a:lnTo>
                    <a:pt x="129" y="66"/>
                  </a:lnTo>
                  <a:lnTo>
                    <a:pt x="145" y="61"/>
                  </a:lnTo>
                  <a:lnTo>
                    <a:pt x="129" y="66"/>
                  </a:lnTo>
                  <a:lnTo>
                    <a:pt x="101" y="66"/>
                  </a:lnTo>
                  <a:lnTo>
                    <a:pt x="89" y="71"/>
                  </a:lnTo>
                  <a:lnTo>
                    <a:pt x="52" y="73"/>
                  </a:lnTo>
                  <a:lnTo>
                    <a:pt x="33" y="76"/>
                  </a:lnTo>
                  <a:lnTo>
                    <a:pt x="25" y="81"/>
                  </a:lnTo>
                  <a:lnTo>
                    <a:pt x="25" y="79"/>
                  </a:lnTo>
                  <a:lnTo>
                    <a:pt x="0" y="81"/>
                  </a:lnTo>
                  <a:lnTo>
                    <a:pt x="37" y="73"/>
                  </a:lnTo>
                  <a:lnTo>
                    <a:pt x="9" y="79"/>
                  </a:lnTo>
                  <a:lnTo>
                    <a:pt x="41" y="66"/>
                  </a:lnTo>
                  <a:lnTo>
                    <a:pt x="106" y="54"/>
                  </a:lnTo>
                  <a:lnTo>
                    <a:pt x="97" y="44"/>
                  </a:lnTo>
                  <a:lnTo>
                    <a:pt x="150" y="37"/>
                  </a:lnTo>
                  <a:lnTo>
                    <a:pt x="186" y="32"/>
                  </a:lnTo>
                  <a:lnTo>
                    <a:pt x="162" y="35"/>
                  </a:lnTo>
                  <a:lnTo>
                    <a:pt x="186" y="29"/>
                  </a:lnTo>
                  <a:lnTo>
                    <a:pt x="134" y="35"/>
                  </a:lnTo>
                  <a:lnTo>
                    <a:pt x="94" y="42"/>
                  </a:lnTo>
                  <a:lnTo>
                    <a:pt x="40" y="46"/>
                  </a:lnTo>
                  <a:lnTo>
                    <a:pt x="42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567800" y="1387080"/>
              <a:ext cx="23400" cy="2880"/>
            </a:xfrm>
            <a:custGeom>
              <a:avLst/>
              <a:gdLst/>
              <a:ahLst/>
              <a:rect l="l" t="t" r="r" b="b"/>
              <a:pathLst>
                <a:path w="65" h="11">
                  <a:moveTo>
                    <a:pt x="55" y="0"/>
                  </a:moveTo>
                  <a:lnTo>
                    <a:pt x="56" y="0"/>
                  </a:lnTo>
                  <a:lnTo>
                    <a:pt x="64" y="3"/>
                  </a:lnTo>
                  <a:lnTo>
                    <a:pt x="19" y="10"/>
                  </a:lnTo>
                  <a:lnTo>
                    <a:pt x="0" y="7"/>
                  </a:lnTo>
                  <a:lnTo>
                    <a:pt x="5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293120" y="1433160"/>
              <a:ext cx="23400" cy="756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20"/>
                  </a:moveTo>
                  <a:lnTo>
                    <a:pt x="0" y="20"/>
                  </a:lnTo>
                  <a:lnTo>
                    <a:pt x="41" y="8"/>
                  </a:lnTo>
                  <a:lnTo>
                    <a:pt x="21" y="13"/>
                  </a:lnTo>
                  <a:lnTo>
                    <a:pt x="24" y="8"/>
                  </a:lnTo>
                  <a:lnTo>
                    <a:pt x="65" y="0"/>
                  </a:lnTo>
                  <a:lnTo>
                    <a:pt x="41" y="17"/>
                  </a:lnTo>
                  <a:lnTo>
                    <a:pt x="0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194840" y="1460160"/>
              <a:ext cx="21600" cy="612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0" y="2"/>
                  </a:moveTo>
                  <a:lnTo>
                    <a:pt x="60" y="2"/>
                  </a:lnTo>
                  <a:lnTo>
                    <a:pt x="28" y="12"/>
                  </a:lnTo>
                  <a:lnTo>
                    <a:pt x="0" y="15"/>
                  </a:lnTo>
                  <a:lnTo>
                    <a:pt x="28" y="0"/>
                  </a:lnTo>
                  <a:lnTo>
                    <a:pt x="6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050120" y="1409400"/>
              <a:ext cx="571320" cy="131400"/>
            </a:xfrm>
            <a:custGeom>
              <a:avLst/>
              <a:gdLst/>
              <a:ahLst/>
              <a:rect l="l" t="t" r="r" b="b"/>
              <a:pathLst>
                <a:path w="1588" h="366">
                  <a:moveTo>
                    <a:pt x="589" y="342"/>
                  </a:moveTo>
                  <a:lnTo>
                    <a:pt x="550" y="355"/>
                  </a:lnTo>
                  <a:lnTo>
                    <a:pt x="501" y="365"/>
                  </a:lnTo>
                  <a:lnTo>
                    <a:pt x="497" y="365"/>
                  </a:lnTo>
                  <a:lnTo>
                    <a:pt x="508" y="357"/>
                  </a:lnTo>
                  <a:lnTo>
                    <a:pt x="541" y="352"/>
                  </a:lnTo>
                  <a:lnTo>
                    <a:pt x="521" y="355"/>
                  </a:lnTo>
                  <a:lnTo>
                    <a:pt x="537" y="352"/>
                  </a:lnTo>
                  <a:lnTo>
                    <a:pt x="585" y="335"/>
                  </a:lnTo>
                  <a:lnTo>
                    <a:pt x="553" y="337"/>
                  </a:lnTo>
                  <a:lnTo>
                    <a:pt x="529" y="344"/>
                  </a:lnTo>
                  <a:lnTo>
                    <a:pt x="541" y="340"/>
                  </a:lnTo>
                  <a:lnTo>
                    <a:pt x="585" y="332"/>
                  </a:lnTo>
                  <a:lnTo>
                    <a:pt x="597" y="320"/>
                  </a:lnTo>
                  <a:lnTo>
                    <a:pt x="626" y="310"/>
                  </a:lnTo>
                  <a:lnTo>
                    <a:pt x="622" y="306"/>
                  </a:lnTo>
                  <a:lnTo>
                    <a:pt x="642" y="303"/>
                  </a:lnTo>
                  <a:lnTo>
                    <a:pt x="659" y="295"/>
                  </a:lnTo>
                  <a:lnTo>
                    <a:pt x="654" y="301"/>
                  </a:lnTo>
                  <a:lnTo>
                    <a:pt x="674" y="290"/>
                  </a:lnTo>
                  <a:lnTo>
                    <a:pt x="674" y="293"/>
                  </a:lnTo>
                  <a:lnTo>
                    <a:pt x="666" y="290"/>
                  </a:lnTo>
                  <a:lnTo>
                    <a:pt x="678" y="286"/>
                  </a:lnTo>
                  <a:lnTo>
                    <a:pt x="715" y="278"/>
                  </a:lnTo>
                  <a:lnTo>
                    <a:pt x="686" y="283"/>
                  </a:lnTo>
                  <a:lnTo>
                    <a:pt x="690" y="278"/>
                  </a:lnTo>
                  <a:lnTo>
                    <a:pt x="763" y="256"/>
                  </a:lnTo>
                  <a:lnTo>
                    <a:pt x="735" y="264"/>
                  </a:lnTo>
                  <a:lnTo>
                    <a:pt x="670" y="281"/>
                  </a:lnTo>
                  <a:lnTo>
                    <a:pt x="686" y="273"/>
                  </a:lnTo>
                  <a:lnTo>
                    <a:pt x="670" y="275"/>
                  </a:lnTo>
                  <a:lnTo>
                    <a:pt x="711" y="266"/>
                  </a:lnTo>
                  <a:lnTo>
                    <a:pt x="719" y="261"/>
                  </a:lnTo>
                  <a:lnTo>
                    <a:pt x="695" y="266"/>
                  </a:lnTo>
                  <a:lnTo>
                    <a:pt x="707" y="259"/>
                  </a:lnTo>
                  <a:lnTo>
                    <a:pt x="686" y="264"/>
                  </a:lnTo>
                  <a:lnTo>
                    <a:pt x="695" y="266"/>
                  </a:lnTo>
                  <a:lnTo>
                    <a:pt x="666" y="275"/>
                  </a:lnTo>
                  <a:lnTo>
                    <a:pt x="663" y="266"/>
                  </a:lnTo>
                  <a:lnTo>
                    <a:pt x="695" y="252"/>
                  </a:lnTo>
                  <a:lnTo>
                    <a:pt x="703" y="241"/>
                  </a:lnTo>
                  <a:lnTo>
                    <a:pt x="743" y="234"/>
                  </a:lnTo>
                  <a:lnTo>
                    <a:pt x="711" y="241"/>
                  </a:lnTo>
                  <a:lnTo>
                    <a:pt x="735" y="239"/>
                  </a:lnTo>
                  <a:lnTo>
                    <a:pt x="746" y="231"/>
                  </a:lnTo>
                  <a:lnTo>
                    <a:pt x="707" y="236"/>
                  </a:lnTo>
                  <a:lnTo>
                    <a:pt x="707" y="231"/>
                  </a:lnTo>
                  <a:lnTo>
                    <a:pt x="727" y="227"/>
                  </a:lnTo>
                  <a:lnTo>
                    <a:pt x="707" y="229"/>
                  </a:lnTo>
                  <a:lnTo>
                    <a:pt x="682" y="219"/>
                  </a:lnTo>
                  <a:lnTo>
                    <a:pt x="695" y="212"/>
                  </a:lnTo>
                  <a:lnTo>
                    <a:pt x="731" y="205"/>
                  </a:lnTo>
                  <a:lnTo>
                    <a:pt x="695" y="209"/>
                  </a:lnTo>
                  <a:lnTo>
                    <a:pt x="695" y="207"/>
                  </a:lnTo>
                  <a:lnTo>
                    <a:pt x="715" y="205"/>
                  </a:lnTo>
                  <a:lnTo>
                    <a:pt x="703" y="202"/>
                  </a:lnTo>
                  <a:lnTo>
                    <a:pt x="723" y="199"/>
                  </a:lnTo>
                  <a:lnTo>
                    <a:pt x="707" y="199"/>
                  </a:lnTo>
                  <a:lnTo>
                    <a:pt x="723" y="199"/>
                  </a:lnTo>
                  <a:lnTo>
                    <a:pt x="719" y="197"/>
                  </a:lnTo>
                  <a:lnTo>
                    <a:pt x="743" y="192"/>
                  </a:lnTo>
                  <a:lnTo>
                    <a:pt x="711" y="195"/>
                  </a:lnTo>
                  <a:lnTo>
                    <a:pt x="731" y="190"/>
                  </a:lnTo>
                  <a:lnTo>
                    <a:pt x="703" y="195"/>
                  </a:lnTo>
                  <a:lnTo>
                    <a:pt x="739" y="187"/>
                  </a:lnTo>
                  <a:lnTo>
                    <a:pt x="686" y="192"/>
                  </a:lnTo>
                  <a:lnTo>
                    <a:pt x="678" y="197"/>
                  </a:lnTo>
                  <a:lnTo>
                    <a:pt x="659" y="199"/>
                  </a:lnTo>
                  <a:lnTo>
                    <a:pt x="674" y="199"/>
                  </a:lnTo>
                  <a:lnTo>
                    <a:pt x="642" y="207"/>
                  </a:lnTo>
                  <a:lnTo>
                    <a:pt x="614" y="209"/>
                  </a:lnTo>
                  <a:lnTo>
                    <a:pt x="602" y="207"/>
                  </a:lnTo>
                  <a:lnTo>
                    <a:pt x="622" y="202"/>
                  </a:lnTo>
                  <a:lnTo>
                    <a:pt x="597" y="207"/>
                  </a:lnTo>
                  <a:lnTo>
                    <a:pt x="578" y="212"/>
                  </a:lnTo>
                  <a:lnTo>
                    <a:pt x="578" y="207"/>
                  </a:lnTo>
                  <a:lnTo>
                    <a:pt x="524" y="217"/>
                  </a:lnTo>
                  <a:lnTo>
                    <a:pt x="521" y="212"/>
                  </a:lnTo>
                  <a:lnTo>
                    <a:pt x="574" y="205"/>
                  </a:lnTo>
                  <a:lnTo>
                    <a:pt x="553" y="207"/>
                  </a:lnTo>
                  <a:lnTo>
                    <a:pt x="562" y="202"/>
                  </a:lnTo>
                  <a:lnTo>
                    <a:pt x="651" y="185"/>
                  </a:lnTo>
                  <a:lnTo>
                    <a:pt x="686" y="182"/>
                  </a:lnTo>
                  <a:lnTo>
                    <a:pt x="686" y="190"/>
                  </a:lnTo>
                  <a:lnTo>
                    <a:pt x="703" y="182"/>
                  </a:lnTo>
                  <a:lnTo>
                    <a:pt x="739" y="177"/>
                  </a:lnTo>
                  <a:lnTo>
                    <a:pt x="711" y="180"/>
                  </a:lnTo>
                  <a:lnTo>
                    <a:pt x="715" y="177"/>
                  </a:lnTo>
                  <a:lnTo>
                    <a:pt x="602" y="190"/>
                  </a:lnTo>
                  <a:lnTo>
                    <a:pt x="593" y="190"/>
                  </a:lnTo>
                  <a:lnTo>
                    <a:pt x="566" y="197"/>
                  </a:lnTo>
                  <a:lnTo>
                    <a:pt x="537" y="199"/>
                  </a:lnTo>
                  <a:lnTo>
                    <a:pt x="481" y="207"/>
                  </a:lnTo>
                  <a:lnTo>
                    <a:pt x="476" y="212"/>
                  </a:lnTo>
                  <a:lnTo>
                    <a:pt x="456" y="217"/>
                  </a:lnTo>
                  <a:lnTo>
                    <a:pt x="392" y="227"/>
                  </a:lnTo>
                  <a:lnTo>
                    <a:pt x="299" y="234"/>
                  </a:lnTo>
                  <a:lnTo>
                    <a:pt x="270" y="241"/>
                  </a:lnTo>
                  <a:lnTo>
                    <a:pt x="247" y="241"/>
                  </a:lnTo>
                  <a:lnTo>
                    <a:pt x="231" y="246"/>
                  </a:lnTo>
                  <a:lnTo>
                    <a:pt x="202" y="246"/>
                  </a:lnTo>
                  <a:lnTo>
                    <a:pt x="186" y="249"/>
                  </a:lnTo>
                  <a:lnTo>
                    <a:pt x="189" y="252"/>
                  </a:lnTo>
                  <a:lnTo>
                    <a:pt x="166" y="254"/>
                  </a:lnTo>
                  <a:lnTo>
                    <a:pt x="182" y="252"/>
                  </a:lnTo>
                  <a:lnTo>
                    <a:pt x="141" y="254"/>
                  </a:lnTo>
                  <a:lnTo>
                    <a:pt x="113" y="259"/>
                  </a:lnTo>
                  <a:lnTo>
                    <a:pt x="138" y="254"/>
                  </a:lnTo>
                  <a:lnTo>
                    <a:pt x="73" y="259"/>
                  </a:lnTo>
                  <a:lnTo>
                    <a:pt x="81" y="254"/>
                  </a:lnTo>
                  <a:lnTo>
                    <a:pt x="94" y="252"/>
                  </a:lnTo>
                  <a:lnTo>
                    <a:pt x="45" y="261"/>
                  </a:lnTo>
                  <a:lnTo>
                    <a:pt x="52" y="254"/>
                  </a:lnTo>
                  <a:lnTo>
                    <a:pt x="25" y="261"/>
                  </a:lnTo>
                  <a:lnTo>
                    <a:pt x="29" y="256"/>
                  </a:lnTo>
                  <a:lnTo>
                    <a:pt x="0" y="261"/>
                  </a:lnTo>
                  <a:lnTo>
                    <a:pt x="29" y="256"/>
                  </a:lnTo>
                  <a:lnTo>
                    <a:pt x="113" y="246"/>
                  </a:lnTo>
                  <a:lnTo>
                    <a:pt x="125" y="249"/>
                  </a:lnTo>
                  <a:lnTo>
                    <a:pt x="121" y="254"/>
                  </a:lnTo>
                  <a:lnTo>
                    <a:pt x="166" y="241"/>
                  </a:lnTo>
                  <a:lnTo>
                    <a:pt x="234" y="236"/>
                  </a:lnTo>
                  <a:lnTo>
                    <a:pt x="226" y="239"/>
                  </a:lnTo>
                  <a:lnTo>
                    <a:pt x="278" y="229"/>
                  </a:lnTo>
                  <a:lnTo>
                    <a:pt x="303" y="229"/>
                  </a:lnTo>
                  <a:lnTo>
                    <a:pt x="351" y="217"/>
                  </a:lnTo>
                  <a:lnTo>
                    <a:pt x="363" y="217"/>
                  </a:lnTo>
                  <a:lnTo>
                    <a:pt x="375" y="212"/>
                  </a:lnTo>
                  <a:lnTo>
                    <a:pt x="452" y="199"/>
                  </a:lnTo>
                  <a:lnTo>
                    <a:pt x="388" y="205"/>
                  </a:lnTo>
                  <a:lnTo>
                    <a:pt x="420" y="195"/>
                  </a:lnTo>
                  <a:lnTo>
                    <a:pt x="416" y="199"/>
                  </a:lnTo>
                  <a:lnTo>
                    <a:pt x="428" y="192"/>
                  </a:lnTo>
                  <a:lnTo>
                    <a:pt x="363" y="207"/>
                  </a:lnTo>
                  <a:lnTo>
                    <a:pt x="400" y="192"/>
                  </a:lnTo>
                  <a:lnTo>
                    <a:pt x="392" y="192"/>
                  </a:lnTo>
                  <a:lnTo>
                    <a:pt x="344" y="195"/>
                  </a:lnTo>
                  <a:lnTo>
                    <a:pt x="348" y="190"/>
                  </a:lnTo>
                  <a:lnTo>
                    <a:pt x="392" y="185"/>
                  </a:lnTo>
                  <a:lnTo>
                    <a:pt x="392" y="182"/>
                  </a:lnTo>
                  <a:lnTo>
                    <a:pt x="428" y="175"/>
                  </a:lnTo>
                  <a:lnTo>
                    <a:pt x="493" y="158"/>
                  </a:lnTo>
                  <a:lnTo>
                    <a:pt x="533" y="153"/>
                  </a:lnTo>
                  <a:lnTo>
                    <a:pt x="485" y="158"/>
                  </a:lnTo>
                  <a:lnTo>
                    <a:pt x="464" y="165"/>
                  </a:lnTo>
                  <a:lnTo>
                    <a:pt x="432" y="165"/>
                  </a:lnTo>
                  <a:lnTo>
                    <a:pt x="481" y="145"/>
                  </a:lnTo>
                  <a:lnTo>
                    <a:pt x="497" y="143"/>
                  </a:lnTo>
                  <a:lnTo>
                    <a:pt x="524" y="138"/>
                  </a:lnTo>
                  <a:lnTo>
                    <a:pt x="517" y="143"/>
                  </a:lnTo>
                  <a:lnTo>
                    <a:pt x="493" y="148"/>
                  </a:lnTo>
                  <a:lnTo>
                    <a:pt x="521" y="145"/>
                  </a:lnTo>
                  <a:lnTo>
                    <a:pt x="508" y="151"/>
                  </a:lnTo>
                  <a:lnTo>
                    <a:pt x="524" y="143"/>
                  </a:lnTo>
                  <a:lnTo>
                    <a:pt x="533" y="145"/>
                  </a:lnTo>
                  <a:lnTo>
                    <a:pt x="521" y="138"/>
                  </a:lnTo>
                  <a:lnTo>
                    <a:pt x="541" y="136"/>
                  </a:lnTo>
                  <a:lnTo>
                    <a:pt x="545" y="133"/>
                  </a:lnTo>
                  <a:lnTo>
                    <a:pt x="570" y="131"/>
                  </a:lnTo>
                  <a:lnTo>
                    <a:pt x="533" y="136"/>
                  </a:lnTo>
                  <a:lnTo>
                    <a:pt x="574" y="124"/>
                  </a:lnTo>
                  <a:lnTo>
                    <a:pt x="593" y="121"/>
                  </a:lnTo>
                  <a:lnTo>
                    <a:pt x="602" y="121"/>
                  </a:lnTo>
                  <a:lnTo>
                    <a:pt x="670" y="111"/>
                  </a:lnTo>
                  <a:lnTo>
                    <a:pt x="666" y="114"/>
                  </a:lnTo>
                  <a:lnTo>
                    <a:pt x="698" y="109"/>
                  </a:lnTo>
                  <a:lnTo>
                    <a:pt x="695" y="109"/>
                  </a:lnTo>
                  <a:lnTo>
                    <a:pt x="703" y="106"/>
                  </a:lnTo>
                  <a:lnTo>
                    <a:pt x="743" y="101"/>
                  </a:lnTo>
                  <a:lnTo>
                    <a:pt x="746" y="104"/>
                  </a:lnTo>
                  <a:lnTo>
                    <a:pt x="723" y="109"/>
                  </a:lnTo>
                  <a:lnTo>
                    <a:pt x="788" y="104"/>
                  </a:lnTo>
                  <a:lnTo>
                    <a:pt x="800" y="106"/>
                  </a:lnTo>
                  <a:lnTo>
                    <a:pt x="831" y="101"/>
                  </a:lnTo>
                  <a:lnTo>
                    <a:pt x="876" y="91"/>
                  </a:lnTo>
                  <a:lnTo>
                    <a:pt x="904" y="89"/>
                  </a:lnTo>
                  <a:lnTo>
                    <a:pt x="932" y="84"/>
                  </a:lnTo>
                  <a:lnTo>
                    <a:pt x="860" y="89"/>
                  </a:lnTo>
                  <a:lnTo>
                    <a:pt x="889" y="82"/>
                  </a:lnTo>
                  <a:lnTo>
                    <a:pt x="864" y="86"/>
                  </a:lnTo>
                  <a:lnTo>
                    <a:pt x="856" y="74"/>
                  </a:lnTo>
                  <a:lnTo>
                    <a:pt x="881" y="69"/>
                  </a:lnTo>
                  <a:lnTo>
                    <a:pt x="912" y="62"/>
                  </a:lnTo>
                  <a:lnTo>
                    <a:pt x="920" y="64"/>
                  </a:lnTo>
                  <a:lnTo>
                    <a:pt x="945" y="52"/>
                  </a:lnTo>
                  <a:lnTo>
                    <a:pt x="1030" y="47"/>
                  </a:lnTo>
                  <a:lnTo>
                    <a:pt x="1065" y="47"/>
                  </a:lnTo>
                  <a:lnTo>
                    <a:pt x="1065" y="49"/>
                  </a:lnTo>
                  <a:lnTo>
                    <a:pt x="1026" y="55"/>
                  </a:lnTo>
                  <a:lnTo>
                    <a:pt x="1026" y="64"/>
                  </a:lnTo>
                  <a:lnTo>
                    <a:pt x="1058" y="62"/>
                  </a:lnTo>
                  <a:lnTo>
                    <a:pt x="1050" y="60"/>
                  </a:lnTo>
                  <a:lnTo>
                    <a:pt x="1114" y="47"/>
                  </a:lnTo>
                  <a:lnTo>
                    <a:pt x="1069" y="57"/>
                  </a:lnTo>
                  <a:lnTo>
                    <a:pt x="1078" y="62"/>
                  </a:lnTo>
                  <a:lnTo>
                    <a:pt x="1098" y="60"/>
                  </a:lnTo>
                  <a:lnTo>
                    <a:pt x="1078" y="57"/>
                  </a:lnTo>
                  <a:lnTo>
                    <a:pt x="1123" y="49"/>
                  </a:lnTo>
                  <a:lnTo>
                    <a:pt x="1114" y="47"/>
                  </a:lnTo>
                  <a:lnTo>
                    <a:pt x="1135" y="45"/>
                  </a:lnTo>
                  <a:lnTo>
                    <a:pt x="1119" y="42"/>
                  </a:lnTo>
                  <a:lnTo>
                    <a:pt x="1167" y="32"/>
                  </a:lnTo>
                  <a:lnTo>
                    <a:pt x="1223" y="15"/>
                  </a:lnTo>
                  <a:lnTo>
                    <a:pt x="1280" y="11"/>
                  </a:lnTo>
                  <a:lnTo>
                    <a:pt x="1312" y="13"/>
                  </a:lnTo>
                  <a:lnTo>
                    <a:pt x="1438" y="3"/>
                  </a:lnTo>
                  <a:lnTo>
                    <a:pt x="1486" y="3"/>
                  </a:lnTo>
                  <a:lnTo>
                    <a:pt x="1450" y="8"/>
                  </a:lnTo>
                  <a:lnTo>
                    <a:pt x="1486" y="5"/>
                  </a:lnTo>
                  <a:lnTo>
                    <a:pt x="1490" y="0"/>
                  </a:lnTo>
                  <a:lnTo>
                    <a:pt x="1498" y="3"/>
                  </a:lnTo>
                  <a:lnTo>
                    <a:pt x="1522" y="3"/>
                  </a:lnTo>
                  <a:lnTo>
                    <a:pt x="1587" y="0"/>
                  </a:lnTo>
                  <a:lnTo>
                    <a:pt x="1563" y="5"/>
                  </a:lnTo>
                  <a:lnTo>
                    <a:pt x="1527" y="11"/>
                  </a:lnTo>
                  <a:lnTo>
                    <a:pt x="1570" y="5"/>
                  </a:lnTo>
                  <a:lnTo>
                    <a:pt x="1542" y="13"/>
                  </a:lnTo>
                  <a:lnTo>
                    <a:pt x="1558" y="18"/>
                  </a:lnTo>
                  <a:lnTo>
                    <a:pt x="1530" y="20"/>
                  </a:lnTo>
                  <a:lnTo>
                    <a:pt x="1522" y="28"/>
                  </a:lnTo>
                  <a:lnTo>
                    <a:pt x="1530" y="47"/>
                  </a:lnTo>
                  <a:lnTo>
                    <a:pt x="1558" y="47"/>
                  </a:lnTo>
                  <a:lnTo>
                    <a:pt x="1538" y="60"/>
                  </a:lnTo>
                  <a:lnTo>
                    <a:pt x="1502" y="67"/>
                  </a:lnTo>
                  <a:lnTo>
                    <a:pt x="1457" y="74"/>
                  </a:lnTo>
                  <a:lnTo>
                    <a:pt x="1413" y="84"/>
                  </a:lnTo>
                  <a:lnTo>
                    <a:pt x="1369" y="91"/>
                  </a:lnTo>
                  <a:lnTo>
                    <a:pt x="1325" y="99"/>
                  </a:lnTo>
                  <a:lnTo>
                    <a:pt x="1280" y="109"/>
                  </a:lnTo>
                  <a:lnTo>
                    <a:pt x="1240" y="116"/>
                  </a:lnTo>
                  <a:lnTo>
                    <a:pt x="1195" y="124"/>
                  </a:lnTo>
                  <a:lnTo>
                    <a:pt x="1154" y="133"/>
                  </a:lnTo>
                  <a:lnTo>
                    <a:pt x="1110" y="143"/>
                  </a:lnTo>
                  <a:lnTo>
                    <a:pt x="1107" y="143"/>
                  </a:lnTo>
                  <a:lnTo>
                    <a:pt x="1069" y="151"/>
                  </a:lnTo>
                  <a:lnTo>
                    <a:pt x="1026" y="160"/>
                  </a:lnTo>
                  <a:lnTo>
                    <a:pt x="985" y="168"/>
                  </a:lnTo>
                  <a:lnTo>
                    <a:pt x="945" y="177"/>
                  </a:lnTo>
                  <a:lnTo>
                    <a:pt x="904" y="187"/>
                  </a:lnTo>
                  <a:lnTo>
                    <a:pt x="864" y="197"/>
                  </a:lnTo>
                  <a:lnTo>
                    <a:pt x="824" y="205"/>
                  </a:lnTo>
                  <a:lnTo>
                    <a:pt x="784" y="215"/>
                  </a:lnTo>
                  <a:lnTo>
                    <a:pt x="746" y="224"/>
                  </a:lnTo>
                  <a:lnTo>
                    <a:pt x="775" y="229"/>
                  </a:lnTo>
                  <a:lnTo>
                    <a:pt x="755" y="234"/>
                  </a:lnTo>
                  <a:lnTo>
                    <a:pt x="751" y="234"/>
                  </a:lnTo>
                  <a:lnTo>
                    <a:pt x="686" y="261"/>
                  </a:lnTo>
                  <a:lnTo>
                    <a:pt x="719" y="259"/>
                  </a:lnTo>
                  <a:lnTo>
                    <a:pt x="784" y="249"/>
                  </a:lnTo>
                  <a:lnTo>
                    <a:pt x="715" y="281"/>
                  </a:lnTo>
                  <a:lnTo>
                    <a:pt x="606" y="323"/>
                  </a:lnTo>
                  <a:lnTo>
                    <a:pt x="589" y="34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921960" y="1593360"/>
              <a:ext cx="696600" cy="234720"/>
            </a:xfrm>
            <a:custGeom>
              <a:avLst/>
              <a:gdLst/>
              <a:ahLst/>
              <a:rect l="l" t="t" r="r" b="b"/>
              <a:pathLst>
                <a:path w="1935" h="653">
                  <a:moveTo>
                    <a:pt x="1389" y="91"/>
                  </a:moveTo>
                  <a:lnTo>
                    <a:pt x="1364" y="84"/>
                  </a:lnTo>
                  <a:lnTo>
                    <a:pt x="1340" y="86"/>
                  </a:lnTo>
                  <a:lnTo>
                    <a:pt x="1328" y="71"/>
                  </a:lnTo>
                  <a:lnTo>
                    <a:pt x="1292" y="66"/>
                  </a:lnTo>
                  <a:lnTo>
                    <a:pt x="1296" y="61"/>
                  </a:lnTo>
                  <a:lnTo>
                    <a:pt x="1300" y="59"/>
                  </a:lnTo>
                  <a:lnTo>
                    <a:pt x="1308" y="51"/>
                  </a:lnTo>
                  <a:lnTo>
                    <a:pt x="1308" y="49"/>
                  </a:lnTo>
                  <a:lnTo>
                    <a:pt x="1300" y="54"/>
                  </a:lnTo>
                  <a:lnTo>
                    <a:pt x="1292" y="59"/>
                  </a:lnTo>
                  <a:lnTo>
                    <a:pt x="1287" y="59"/>
                  </a:lnTo>
                  <a:lnTo>
                    <a:pt x="1272" y="56"/>
                  </a:lnTo>
                  <a:lnTo>
                    <a:pt x="1252" y="56"/>
                  </a:lnTo>
                  <a:lnTo>
                    <a:pt x="1240" y="54"/>
                  </a:lnTo>
                  <a:lnTo>
                    <a:pt x="1224" y="54"/>
                  </a:lnTo>
                  <a:lnTo>
                    <a:pt x="1202" y="51"/>
                  </a:lnTo>
                  <a:lnTo>
                    <a:pt x="1186" y="51"/>
                  </a:lnTo>
                  <a:lnTo>
                    <a:pt x="1167" y="49"/>
                  </a:lnTo>
                  <a:lnTo>
                    <a:pt x="1146" y="47"/>
                  </a:lnTo>
                  <a:lnTo>
                    <a:pt x="1139" y="47"/>
                  </a:lnTo>
                  <a:lnTo>
                    <a:pt x="1122" y="44"/>
                  </a:lnTo>
                  <a:lnTo>
                    <a:pt x="1101" y="44"/>
                  </a:lnTo>
                  <a:lnTo>
                    <a:pt x="1086" y="42"/>
                  </a:lnTo>
                  <a:lnTo>
                    <a:pt x="1078" y="42"/>
                  </a:lnTo>
                  <a:lnTo>
                    <a:pt x="1058" y="39"/>
                  </a:lnTo>
                  <a:lnTo>
                    <a:pt x="1041" y="39"/>
                  </a:lnTo>
                  <a:lnTo>
                    <a:pt x="1021" y="37"/>
                  </a:lnTo>
                  <a:lnTo>
                    <a:pt x="1006" y="35"/>
                  </a:lnTo>
                  <a:lnTo>
                    <a:pt x="985" y="35"/>
                  </a:lnTo>
                  <a:lnTo>
                    <a:pt x="969" y="32"/>
                  </a:lnTo>
                  <a:lnTo>
                    <a:pt x="948" y="29"/>
                  </a:lnTo>
                  <a:lnTo>
                    <a:pt x="937" y="29"/>
                  </a:lnTo>
                  <a:lnTo>
                    <a:pt x="921" y="27"/>
                  </a:lnTo>
                  <a:lnTo>
                    <a:pt x="900" y="24"/>
                  </a:lnTo>
                  <a:lnTo>
                    <a:pt x="884" y="24"/>
                  </a:lnTo>
                  <a:lnTo>
                    <a:pt x="867" y="22"/>
                  </a:lnTo>
                  <a:lnTo>
                    <a:pt x="848" y="19"/>
                  </a:lnTo>
                  <a:lnTo>
                    <a:pt x="844" y="19"/>
                  </a:lnTo>
                  <a:lnTo>
                    <a:pt x="828" y="17"/>
                  </a:lnTo>
                  <a:lnTo>
                    <a:pt x="807" y="17"/>
                  </a:lnTo>
                  <a:lnTo>
                    <a:pt x="799" y="15"/>
                  </a:lnTo>
                  <a:lnTo>
                    <a:pt x="783" y="15"/>
                  </a:lnTo>
                  <a:lnTo>
                    <a:pt x="775" y="12"/>
                  </a:lnTo>
                  <a:lnTo>
                    <a:pt x="763" y="12"/>
                  </a:lnTo>
                  <a:lnTo>
                    <a:pt x="759" y="12"/>
                  </a:lnTo>
                  <a:lnTo>
                    <a:pt x="743" y="10"/>
                  </a:lnTo>
                  <a:lnTo>
                    <a:pt x="726" y="7"/>
                  </a:lnTo>
                  <a:lnTo>
                    <a:pt x="710" y="4"/>
                  </a:lnTo>
                  <a:lnTo>
                    <a:pt x="690" y="4"/>
                  </a:lnTo>
                  <a:lnTo>
                    <a:pt x="674" y="2"/>
                  </a:lnTo>
                  <a:lnTo>
                    <a:pt x="658" y="0"/>
                  </a:lnTo>
                  <a:lnTo>
                    <a:pt x="650" y="0"/>
                  </a:lnTo>
                  <a:lnTo>
                    <a:pt x="633" y="10"/>
                  </a:lnTo>
                  <a:lnTo>
                    <a:pt x="610" y="24"/>
                  </a:lnTo>
                  <a:lnTo>
                    <a:pt x="565" y="39"/>
                  </a:lnTo>
                  <a:lnTo>
                    <a:pt x="537" y="42"/>
                  </a:lnTo>
                  <a:lnTo>
                    <a:pt x="561" y="39"/>
                  </a:lnTo>
                  <a:lnTo>
                    <a:pt x="594" y="24"/>
                  </a:lnTo>
                  <a:lnTo>
                    <a:pt x="553" y="35"/>
                  </a:lnTo>
                  <a:lnTo>
                    <a:pt x="549" y="37"/>
                  </a:lnTo>
                  <a:lnTo>
                    <a:pt x="594" y="24"/>
                  </a:lnTo>
                  <a:lnTo>
                    <a:pt x="606" y="19"/>
                  </a:lnTo>
                  <a:lnTo>
                    <a:pt x="573" y="7"/>
                  </a:lnTo>
                  <a:lnTo>
                    <a:pt x="504" y="42"/>
                  </a:lnTo>
                  <a:lnTo>
                    <a:pt x="513" y="44"/>
                  </a:lnTo>
                  <a:lnTo>
                    <a:pt x="504" y="44"/>
                  </a:lnTo>
                  <a:lnTo>
                    <a:pt x="501" y="49"/>
                  </a:lnTo>
                  <a:lnTo>
                    <a:pt x="476" y="56"/>
                  </a:lnTo>
                  <a:lnTo>
                    <a:pt x="468" y="59"/>
                  </a:lnTo>
                  <a:lnTo>
                    <a:pt x="484" y="64"/>
                  </a:lnTo>
                  <a:lnTo>
                    <a:pt x="468" y="61"/>
                  </a:lnTo>
                  <a:lnTo>
                    <a:pt x="331" y="120"/>
                  </a:lnTo>
                  <a:lnTo>
                    <a:pt x="274" y="140"/>
                  </a:lnTo>
                  <a:lnTo>
                    <a:pt x="242" y="160"/>
                  </a:lnTo>
                  <a:lnTo>
                    <a:pt x="190" y="189"/>
                  </a:lnTo>
                  <a:lnTo>
                    <a:pt x="161" y="199"/>
                  </a:lnTo>
                  <a:lnTo>
                    <a:pt x="146" y="214"/>
                  </a:lnTo>
                  <a:lnTo>
                    <a:pt x="105" y="236"/>
                  </a:lnTo>
                  <a:lnTo>
                    <a:pt x="93" y="260"/>
                  </a:lnTo>
                  <a:lnTo>
                    <a:pt x="81" y="263"/>
                  </a:lnTo>
                  <a:lnTo>
                    <a:pt x="88" y="268"/>
                  </a:lnTo>
                  <a:lnTo>
                    <a:pt x="126" y="260"/>
                  </a:lnTo>
                  <a:lnTo>
                    <a:pt x="126" y="266"/>
                  </a:lnTo>
                  <a:lnTo>
                    <a:pt x="101" y="263"/>
                  </a:lnTo>
                  <a:lnTo>
                    <a:pt x="84" y="278"/>
                  </a:lnTo>
                  <a:lnTo>
                    <a:pt x="88" y="268"/>
                  </a:lnTo>
                  <a:lnTo>
                    <a:pt x="72" y="276"/>
                  </a:lnTo>
                  <a:lnTo>
                    <a:pt x="65" y="295"/>
                  </a:lnTo>
                  <a:lnTo>
                    <a:pt x="40" y="307"/>
                  </a:lnTo>
                  <a:lnTo>
                    <a:pt x="24" y="339"/>
                  </a:lnTo>
                  <a:lnTo>
                    <a:pt x="0" y="354"/>
                  </a:lnTo>
                  <a:lnTo>
                    <a:pt x="40" y="372"/>
                  </a:lnTo>
                  <a:lnTo>
                    <a:pt x="37" y="401"/>
                  </a:lnTo>
                  <a:lnTo>
                    <a:pt x="24" y="413"/>
                  </a:lnTo>
                  <a:lnTo>
                    <a:pt x="45" y="413"/>
                  </a:lnTo>
                  <a:lnTo>
                    <a:pt x="65" y="413"/>
                  </a:lnTo>
                  <a:lnTo>
                    <a:pt x="72" y="413"/>
                  </a:lnTo>
                  <a:lnTo>
                    <a:pt x="88" y="413"/>
                  </a:lnTo>
                  <a:lnTo>
                    <a:pt x="101" y="413"/>
                  </a:lnTo>
                  <a:lnTo>
                    <a:pt x="88" y="418"/>
                  </a:lnTo>
                  <a:lnTo>
                    <a:pt x="101" y="426"/>
                  </a:lnTo>
                  <a:lnTo>
                    <a:pt x="113" y="430"/>
                  </a:lnTo>
                  <a:lnTo>
                    <a:pt x="117" y="432"/>
                  </a:lnTo>
                  <a:lnTo>
                    <a:pt x="126" y="437"/>
                  </a:lnTo>
                  <a:lnTo>
                    <a:pt x="142" y="442"/>
                  </a:lnTo>
                  <a:lnTo>
                    <a:pt x="146" y="445"/>
                  </a:lnTo>
                  <a:lnTo>
                    <a:pt x="153" y="450"/>
                  </a:lnTo>
                  <a:lnTo>
                    <a:pt x="161" y="455"/>
                  </a:lnTo>
                  <a:lnTo>
                    <a:pt x="178" y="455"/>
                  </a:lnTo>
                  <a:lnTo>
                    <a:pt x="190" y="457"/>
                  </a:lnTo>
                  <a:lnTo>
                    <a:pt x="206" y="457"/>
                  </a:lnTo>
                  <a:lnTo>
                    <a:pt x="223" y="457"/>
                  </a:lnTo>
                  <a:lnTo>
                    <a:pt x="246" y="460"/>
                  </a:lnTo>
                  <a:lnTo>
                    <a:pt x="262" y="448"/>
                  </a:lnTo>
                  <a:lnTo>
                    <a:pt x="279" y="450"/>
                  </a:lnTo>
                  <a:lnTo>
                    <a:pt x="295" y="450"/>
                  </a:lnTo>
                  <a:lnTo>
                    <a:pt x="315" y="450"/>
                  </a:lnTo>
                  <a:lnTo>
                    <a:pt x="327" y="482"/>
                  </a:lnTo>
                  <a:lnTo>
                    <a:pt x="310" y="507"/>
                  </a:lnTo>
                  <a:lnTo>
                    <a:pt x="310" y="509"/>
                  </a:lnTo>
                  <a:lnTo>
                    <a:pt x="315" y="516"/>
                  </a:lnTo>
                  <a:lnTo>
                    <a:pt x="331" y="526"/>
                  </a:lnTo>
                  <a:lnTo>
                    <a:pt x="351" y="519"/>
                  </a:lnTo>
                  <a:lnTo>
                    <a:pt x="384" y="507"/>
                  </a:lnTo>
                  <a:lnTo>
                    <a:pt x="412" y="509"/>
                  </a:lnTo>
                  <a:lnTo>
                    <a:pt x="416" y="524"/>
                  </a:lnTo>
                  <a:lnTo>
                    <a:pt x="404" y="548"/>
                  </a:lnTo>
                  <a:lnTo>
                    <a:pt x="412" y="568"/>
                  </a:lnTo>
                  <a:lnTo>
                    <a:pt x="400" y="582"/>
                  </a:lnTo>
                  <a:lnTo>
                    <a:pt x="395" y="595"/>
                  </a:lnTo>
                  <a:lnTo>
                    <a:pt x="395" y="600"/>
                  </a:lnTo>
                  <a:lnTo>
                    <a:pt x="436" y="615"/>
                  </a:lnTo>
                  <a:lnTo>
                    <a:pt x="449" y="612"/>
                  </a:lnTo>
                  <a:lnTo>
                    <a:pt x="457" y="590"/>
                  </a:lnTo>
                  <a:lnTo>
                    <a:pt x="472" y="580"/>
                  </a:lnTo>
                  <a:lnTo>
                    <a:pt x="461" y="578"/>
                  </a:lnTo>
                  <a:lnTo>
                    <a:pt x="472" y="578"/>
                  </a:lnTo>
                  <a:lnTo>
                    <a:pt x="488" y="568"/>
                  </a:lnTo>
                  <a:lnTo>
                    <a:pt x="484" y="563"/>
                  </a:lnTo>
                  <a:lnTo>
                    <a:pt x="493" y="565"/>
                  </a:lnTo>
                  <a:lnTo>
                    <a:pt x="508" y="558"/>
                  </a:lnTo>
                  <a:lnTo>
                    <a:pt x="521" y="551"/>
                  </a:lnTo>
                  <a:lnTo>
                    <a:pt x="533" y="551"/>
                  </a:lnTo>
                  <a:lnTo>
                    <a:pt x="533" y="543"/>
                  </a:lnTo>
                  <a:lnTo>
                    <a:pt x="533" y="548"/>
                  </a:lnTo>
                  <a:lnTo>
                    <a:pt x="553" y="546"/>
                  </a:lnTo>
                  <a:lnTo>
                    <a:pt x="541" y="551"/>
                  </a:lnTo>
                  <a:lnTo>
                    <a:pt x="577" y="541"/>
                  </a:lnTo>
                  <a:lnTo>
                    <a:pt x="610" y="528"/>
                  </a:lnTo>
                  <a:lnTo>
                    <a:pt x="610" y="521"/>
                  </a:lnTo>
                  <a:lnTo>
                    <a:pt x="614" y="524"/>
                  </a:lnTo>
                  <a:lnTo>
                    <a:pt x="625" y="524"/>
                  </a:lnTo>
                  <a:lnTo>
                    <a:pt x="610" y="528"/>
                  </a:lnTo>
                  <a:lnTo>
                    <a:pt x="650" y="524"/>
                  </a:lnTo>
                  <a:lnTo>
                    <a:pt x="658" y="516"/>
                  </a:lnTo>
                  <a:lnTo>
                    <a:pt x="650" y="521"/>
                  </a:lnTo>
                  <a:lnTo>
                    <a:pt x="695" y="528"/>
                  </a:lnTo>
                  <a:lnTo>
                    <a:pt x="706" y="526"/>
                  </a:lnTo>
                  <a:lnTo>
                    <a:pt x="718" y="521"/>
                  </a:lnTo>
                  <a:lnTo>
                    <a:pt x="730" y="528"/>
                  </a:lnTo>
                  <a:lnTo>
                    <a:pt x="723" y="536"/>
                  </a:lnTo>
                  <a:lnTo>
                    <a:pt x="735" y="541"/>
                  </a:lnTo>
                  <a:lnTo>
                    <a:pt x="751" y="536"/>
                  </a:lnTo>
                  <a:lnTo>
                    <a:pt x="751" y="543"/>
                  </a:lnTo>
                  <a:lnTo>
                    <a:pt x="763" y="538"/>
                  </a:lnTo>
                  <a:lnTo>
                    <a:pt x="763" y="531"/>
                  </a:lnTo>
                  <a:lnTo>
                    <a:pt x="783" y="541"/>
                  </a:lnTo>
                  <a:lnTo>
                    <a:pt x="775" y="548"/>
                  </a:lnTo>
                  <a:lnTo>
                    <a:pt x="791" y="541"/>
                  </a:lnTo>
                  <a:lnTo>
                    <a:pt x="780" y="528"/>
                  </a:lnTo>
                  <a:lnTo>
                    <a:pt x="787" y="528"/>
                  </a:lnTo>
                  <a:lnTo>
                    <a:pt x="803" y="519"/>
                  </a:lnTo>
                  <a:lnTo>
                    <a:pt x="787" y="524"/>
                  </a:lnTo>
                  <a:lnTo>
                    <a:pt x="795" y="516"/>
                  </a:lnTo>
                  <a:lnTo>
                    <a:pt x="771" y="516"/>
                  </a:lnTo>
                  <a:lnTo>
                    <a:pt x="783" y="509"/>
                  </a:lnTo>
                  <a:lnTo>
                    <a:pt x="799" y="516"/>
                  </a:lnTo>
                  <a:lnTo>
                    <a:pt x="844" y="511"/>
                  </a:lnTo>
                  <a:lnTo>
                    <a:pt x="848" y="514"/>
                  </a:lnTo>
                  <a:lnTo>
                    <a:pt x="863" y="504"/>
                  </a:lnTo>
                  <a:lnTo>
                    <a:pt x="860" y="516"/>
                  </a:lnTo>
                  <a:lnTo>
                    <a:pt x="852" y="516"/>
                  </a:lnTo>
                  <a:lnTo>
                    <a:pt x="876" y="511"/>
                  </a:lnTo>
                  <a:lnTo>
                    <a:pt x="867" y="516"/>
                  </a:lnTo>
                  <a:lnTo>
                    <a:pt x="876" y="514"/>
                  </a:lnTo>
                  <a:lnTo>
                    <a:pt x="892" y="509"/>
                  </a:lnTo>
                  <a:lnTo>
                    <a:pt x="892" y="514"/>
                  </a:lnTo>
                  <a:lnTo>
                    <a:pt x="879" y="514"/>
                  </a:lnTo>
                  <a:lnTo>
                    <a:pt x="900" y="514"/>
                  </a:lnTo>
                  <a:lnTo>
                    <a:pt x="917" y="511"/>
                  </a:lnTo>
                  <a:lnTo>
                    <a:pt x="905" y="514"/>
                  </a:lnTo>
                  <a:lnTo>
                    <a:pt x="925" y="521"/>
                  </a:lnTo>
                  <a:lnTo>
                    <a:pt x="925" y="519"/>
                  </a:lnTo>
                  <a:lnTo>
                    <a:pt x="933" y="519"/>
                  </a:lnTo>
                  <a:lnTo>
                    <a:pt x="925" y="521"/>
                  </a:lnTo>
                  <a:lnTo>
                    <a:pt x="929" y="528"/>
                  </a:lnTo>
                  <a:lnTo>
                    <a:pt x="925" y="533"/>
                  </a:lnTo>
                  <a:lnTo>
                    <a:pt x="937" y="533"/>
                  </a:lnTo>
                  <a:lnTo>
                    <a:pt x="985" y="528"/>
                  </a:lnTo>
                  <a:lnTo>
                    <a:pt x="997" y="556"/>
                  </a:lnTo>
                  <a:lnTo>
                    <a:pt x="964" y="582"/>
                  </a:lnTo>
                  <a:lnTo>
                    <a:pt x="969" y="585"/>
                  </a:lnTo>
                  <a:lnTo>
                    <a:pt x="977" y="578"/>
                  </a:lnTo>
                  <a:lnTo>
                    <a:pt x="981" y="582"/>
                  </a:lnTo>
                  <a:lnTo>
                    <a:pt x="961" y="590"/>
                  </a:lnTo>
                  <a:lnTo>
                    <a:pt x="961" y="607"/>
                  </a:lnTo>
                  <a:lnTo>
                    <a:pt x="977" y="605"/>
                  </a:lnTo>
                  <a:lnTo>
                    <a:pt x="969" y="612"/>
                  </a:lnTo>
                  <a:lnTo>
                    <a:pt x="964" y="617"/>
                  </a:lnTo>
                  <a:lnTo>
                    <a:pt x="977" y="612"/>
                  </a:lnTo>
                  <a:lnTo>
                    <a:pt x="964" y="617"/>
                  </a:lnTo>
                  <a:lnTo>
                    <a:pt x="977" y="649"/>
                  </a:lnTo>
                  <a:lnTo>
                    <a:pt x="973" y="647"/>
                  </a:lnTo>
                  <a:lnTo>
                    <a:pt x="969" y="652"/>
                  </a:lnTo>
                  <a:lnTo>
                    <a:pt x="1037" y="612"/>
                  </a:lnTo>
                  <a:lnTo>
                    <a:pt x="1041" y="602"/>
                  </a:lnTo>
                  <a:lnTo>
                    <a:pt x="1041" y="602"/>
                  </a:lnTo>
                  <a:lnTo>
                    <a:pt x="1041" y="600"/>
                  </a:lnTo>
                  <a:lnTo>
                    <a:pt x="1041" y="592"/>
                  </a:lnTo>
                  <a:lnTo>
                    <a:pt x="1045" y="585"/>
                  </a:lnTo>
                  <a:lnTo>
                    <a:pt x="1045" y="576"/>
                  </a:lnTo>
                  <a:lnTo>
                    <a:pt x="1050" y="565"/>
                  </a:lnTo>
                  <a:lnTo>
                    <a:pt x="1053" y="561"/>
                  </a:lnTo>
                  <a:lnTo>
                    <a:pt x="1058" y="565"/>
                  </a:lnTo>
                  <a:lnTo>
                    <a:pt x="1058" y="565"/>
                  </a:lnTo>
                  <a:lnTo>
                    <a:pt x="1050" y="576"/>
                  </a:lnTo>
                  <a:lnTo>
                    <a:pt x="1045" y="585"/>
                  </a:lnTo>
                  <a:lnTo>
                    <a:pt x="1050" y="576"/>
                  </a:lnTo>
                  <a:lnTo>
                    <a:pt x="1058" y="568"/>
                  </a:lnTo>
                  <a:lnTo>
                    <a:pt x="1058" y="565"/>
                  </a:lnTo>
                  <a:lnTo>
                    <a:pt x="1058" y="565"/>
                  </a:lnTo>
                  <a:lnTo>
                    <a:pt x="1058" y="556"/>
                  </a:lnTo>
                  <a:lnTo>
                    <a:pt x="1074" y="511"/>
                  </a:lnTo>
                  <a:lnTo>
                    <a:pt x="1094" y="499"/>
                  </a:lnTo>
                  <a:lnTo>
                    <a:pt x="1090" y="496"/>
                  </a:lnTo>
                  <a:lnTo>
                    <a:pt x="1106" y="487"/>
                  </a:lnTo>
                  <a:lnTo>
                    <a:pt x="1126" y="482"/>
                  </a:lnTo>
                  <a:lnTo>
                    <a:pt x="1139" y="477"/>
                  </a:lnTo>
                  <a:lnTo>
                    <a:pt x="1139" y="470"/>
                  </a:lnTo>
                  <a:lnTo>
                    <a:pt x="1146" y="475"/>
                  </a:lnTo>
                  <a:lnTo>
                    <a:pt x="1146" y="470"/>
                  </a:lnTo>
                  <a:lnTo>
                    <a:pt x="1171" y="467"/>
                  </a:lnTo>
                  <a:lnTo>
                    <a:pt x="1199" y="460"/>
                  </a:lnTo>
                  <a:lnTo>
                    <a:pt x="1211" y="455"/>
                  </a:lnTo>
                  <a:lnTo>
                    <a:pt x="1248" y="440"/>
                  </a:lnTo>
                  <a:lnTo>
                    <a:pt x="1263" y="440"/>
                  </a:lnTo>
                  <a:lnTo>
                    <a:pt x="1275" y="433"/>
                  </a:lnTo>
                  <a:lnTo>
                    <a:pt x="1267" y="437"/>
                  </a:lnTo>
                  <a:lnTo>
                    <a:pt x="1304" y="420"/>
                  </a:lnTo>
                  <a:lnTo>
                    <a:pt x="1304" y="426"/>
                  </a:lnTo>
                  <a:lnTo>
                    <a:pt x="1344" y="418"/>
                  </a:lnTo>
                  <a:lnTo>
                    <a:pt x="1325" y="413"/>
                  </a:lnTo>
                  <a:lnTo>
                    <a:pt x="1325" y="411"/>
                  </a:lnTo>
                  <a:lnTo>
                    <a:pt x="1332" y="415"/>
                  </a:lnTo>
                  <a:lnTo>
                    <a:pt x="1348" y="408"/>
                  </a:lnTo>
                  <a:lnTo>
                    <a:pt x="1336" y="401"/>
                  </a:lnTo>
                  <a:lnTo>
                    <a:pt x="1361" y="406"/>
                  </a:lnTo>
                  <a:lnTo>
                    <a:pt x="1381" y="401"/>
                  </a:lnTo>
                  <a:lnTo>
                    <a:pt x="1385" y="393"/>
                  </a:lnTo>
                  <a:lnTo>
                    <a:pt x="1373" y="398"/>
                  </a:lnTo>
                  <a:lnTo>
                    <a:pt x="1381" y="393"/>
                  </a:lnTo>
                  <a:lnTo>
                    <a:pt x="1356" y="391"/>
                  </a:lnTo>
                  <a:lnTo>
                    <a:pt x="1368" y="383"/>
                  </a:lnTo>
                  <a:lnTo>
                    <a:pt x="1364" y="391"/>
                  </a:lnTo>
                  <a:lnTo>
                    <a:pt x="1385" y="388"/>
                  </a:lnTo>
                  <a:lnTo>
                    <a:pt x="1393" y="383"/>
                  </a:lnTo>
                  <a:lnTo>
                    <a:pt x="1389" y="388"/>
                  </a:lnTo>
                  <a:lnTo>
                    <a:pt x="1393" y="379"/>
                  </a:lnTo>
                  <a:lnTo>
                    <a:pt x="1397" y="379"/>
                  </a:lnTo>
                  <a:lnTo>
                    <a:pt x="1401" y="374"/>
                  </a:lnTo>
                  <a:lnTo>
                    <a:pt x="1401" y="379"/>
                  </a:lnTo>
                  <a:lnTo>
                    <a:pt x="1405" y="369"/>
                  </a:lnTo>
                  <a:lnTo>
                    <a:pt x="1389" y="372"/>
                  </a:lnTo>
                  <a:lnTo>
                    <a:pt x="1393" y="361"/>
                  </a:lnTo>
                  <a:lnTo>
                    <a:pt x="1377" y="359"/>
                  </a:lnTo>
                  <a:lnTo>
                    <a:pt x="1401" y="364"/>
                  </a:lnTo>
                  <a:lnTo>
                    <a:pt x="1397" y="354"/>
                  </a:lnTo>
                  <a:lnTo>
                    <a:pt x="1401" y="359"/>
                  </a:lnTo>
                  <a:lnTo>
                    <a:pt x="1413" y="354"/>
                  </a:lnTo>
                  <a:lnTo>
                    <a:pt x="1405" y="337"/>
                  </a:lnTo>
                  <a:lnTo>
                    <a:pt x="1413" y="352"/>
                  </a:lnTo>
                  <a:lnTo>
                    <a:pt x="1424" y="344"/>
                  </a:lnTo>
                  <a:lnTo>
                    <a:pt x="1405" y="335"/>
                  </a:lnTo>
                  <a:lnTo>
                    <a:pt x="1424" y="320"/>
                  </a:lnTo>
                  <a:lnTo>
                    <a:pt x="1424" y="322"/>
                  </a:lnTo>
                  <a:lnTo>
                    <a:pt x="1409" y="332"/>
                  </a:lnTo>
                  <a:lnTo>
                    <a:pt x="1424" y="341"/>
                  </a:lnTo>
                  <a:lnTo>
                    <a:pt x="1429" y="332"/>
                  </a:lnTo>
                  <a:lnTo>
                    <a:pt x="1433" y="327"/>
                  </a:lnTo>
                  <a:lnTo>
                    <a:pt x="1433" y="335"/>
                  </a:lnTo>
                  <a:lnTo>
                    <a:pt x="1449" y="312"/>
                  </a:lnTo>
                  <a:lnTo>
                    <a:pt x="1482" y="305"/>
                  </a:lnTo>
                  <a:lnTo>
                    <a:pt x="1449" y="322"/>
                  </a:lnTo>
                  <a:lnTo>
                    <a:pt x="1453" y="324"/>
                  </a:lnTo>
                  <a:lnTo>
                    <a:pt x="1453" y="330"/>
                  </a:lnTo>
                  <a:lnTo>
                    <a:pt x="1441" y="332"/>
                  </a:lnTo>
                  <a:lnTo>
                    <a:pt x="1437" y="332"/>
                  </a:lnTo>
                  <a:lnTo>
                    <a:pt x="1449" y="335"/>
                  </a:lnTo>
                  <a:lnTo>
                    <a:pt x="1437" y="344"/>
                  </a:lnTo>
                  <a:lnTo>
                    <a:pt x="1446" y="344"/>
                  </a:lnTo>
                  <a:lnTo>
                    <a:pt x="1413" y="364"/>
                  </a:lnTo>
                  <a:lnTo>
                    <a:pt x="1453" y="344"/>
                  </a:lnTo>
                  <a:lnTo>
                    <a:pt x="1478" y="335"/>
                  </a:lnTo>
                  <a:lnTo>
                    <a:pt x="1486" y="309"/>
                  </a:lnTo>
                  <a:lnTo>
                    <a:pt x="1517" y="298"/>
                  </a:lnTo>
                  <a:lnTo>
                    <a:pt x="1490" y="307"/>
                  </a:lnTo>
                  <a:lnTo>
                    <a:pt x="1493" y="322"/>
                  </a:lnTo>
                  <a:lnTo>
                    <a:pt x="1550" y="297"/>
                  </a:lnTo>
                  <a:lnTo>
                    <a:pt x="1542" y="305"/>
                  </a:lnTo>
                  <a:lnTo>
                    <a:pt x="1563" y="290"/>
                  </a:lnTo>
                  <a:lnTo>
                    <a:pt x="1559" y="287"/>
                  </a:lnTo>
                  <a:lnTo>
                    <a:pt x="1590" y="268"/>
                  </a:lnTo>
                  <a:lnTo>
                    <a:pt x="1571" y="283"/>
                  </a:lnTo>
                  <a:lnTo>
                    <a:pt x="1590" y="276"/>
                  </a:lnTo>
                  <a:lnTo>
                    <a:pt x="1651" y="270"/>
                  </a:lnTo>
                  <a:lnTo>
                    <a:pt x="1680" y="260"/>
                  </a:lnTo>
                  <a:lnTo>
                    <a:pt x="1687" y="260"/>
                  </a:lnTo>
                  <a:lnTo>
                    <a:pt x="1680" y="268"/>
                  </a:lnTo>
                  <a:lnTo>
                    <a:pt x="1696" y="260"/>
                  </a:lnTo>
                  <a:lnTo>
                    <a:pt x="1720" y="266"/>
                  </a:lnTo>
                  <a:lnTo>
                    <a:pt x="1712" y="250"/>
                  </a:lnTo>
                  <a:lnTo>
                    <a:pt x="1712" y="245"/>
                  </a:lnTo>
                  <a:lnTo>
                    <a:pt x="1724" y="236"/>
                  </a:lnTo>
                  <a:lnTo>
                    <a:pt x="1731" y="231"/>
                  </a:lnTo>
                  <a:lnTo>
                    <a:pt x="1768" y="216"/>
                  </a:lnTo>
                  <a:lnTo>
                    <a:pt x="1781" y="216"/>
                  </a:lnTo>
                  <a:lnTo>
                    <a:pt x="1784" y="211"/>
                  </a:lnTo>
                  <a:lnTo>
                    <a:pt x="1781" y="216"/>
                  </a:lnTo>
                  <a:lnTo>
                    <a:pt x="1793" y="211"/>
                  </a:lnTo>
                  <a:lnTo>
                    <a:pt x="1788" y="214"/>
                  </a:lnTo>
                  <a:lnTo>
                    <a:pt x="1808" y="211"/>
                  </a:lnTo>
                  <a:lnTo>
                    <a:pt x="1832" y="199"/>
                  </a:lnTo>
                  <a:lnTo>
                    <a:pt x="1832" y="206"/>
                  </a:lnTo>
                  <a:lnTo>
                    <a:pt x="1841" y="201"/>
                  </a:lnTo>
                  <a:lnTo>
                    <a:pt x="1849" y="204"/>
                  </a:lnTo>
                  <a:lnTo>
                    <a:pt x="1882" y="199"/>
                  </a:lnTo>
                  <a:lnTo>
                    <a:pt x="1897" y="187"/>
                  </a:lnTo>
                  <a:lnTo>
                    <a:pt x="1893" y="174"/>
                  </a:lnTo>
                  <a:lnTo>
                    <a:pt x="1934" y="143"/>
                  </a:lnTo>
                  <a:lnTo>
                    <a:pt x="1909" y="140"/>
                  </a:lnTo>
                  <a:lnTo>
                    <a:pt x="1905" y="138"/>
                  </a:lnTo>
                  <a:lnTo>
                    <a:pt x="1905" y="133"/>
                  </a:lnTo>
                  <a:lnTo>
                    <a:pt x="1805" y="177"/>
                  </a:lnTo>
                  <a:lnTo>
                    <a:pt x="1788" y="180"/>
                  </a:lnTo>
                  <a:lnTo>
                    <a:pt x="1768" y="185"/>
                  </a:lnTo>
                  <a:lnTo>
                    <a:pt x="1748" y="185"/>
                  </a:lnTo>
                  <a:lnTo>
                    <a:pt x="1728" y="185"/>
                  </a:lnTo>
                  <a:lnTo>
                    <a:pt x="1716" y="182"/>
                  </a:lnTo>
                  <a:lnTo>
                    <a:pt x="1680" y="182"/>
                  </a:lnTo>
                  <a:lnTo>
                    <a:pt x="1675" y="182"/>
                  </a:lnTo>
                  <a:lnTo>
                    <a:pt x="1671" y="182"/>
                  </a:lnTo>
                  <a:lnTo>
                    <a:pt x="1631" y="191"/>
                  </a:lnTo>
                  <a:lnTo>
                    <a:pt x="1602" y="199"/>
                  </a:lnTo>
                  <a:lnTo>
                    <a:pt x="1611" y="201"/>
                  </a:lnTo>
                  <a:lnTo>
                    <a:pt x="1590" y="211"/>
                  </a:lnTo>
                  <a:lnTo>
                    <a:pt x="1571" y="216"/>
                  </a:lnTo>
                  <a:lnTo>
                    <a:pt x="1501" y="216"/>
                  </a:lnTo>
                  <a:lnTo>
                    <a:pt x="1493" y="219"/>
                  </a:lnTo>
                  <a:lnTo>
                    <a:pt x="1493" y="219"/>
                  </a:lnTo>
                  <a:lnTo>
                    <a:pt x="1490" y="226"/>
                  </a:lnTo>
                  <a:lnTo>
                    <a:pt x="1449" y="239"/>
                  </a:lnTo>
                  <a:lnTo>
                    <a:pt x="1417" y="243"/>
                  </a:lnTo>
                  <a:lnTo>
                    <a:pt x="1340" y="256"/>
                  </a:lnTo>
                  <a:lnTo>
                    <a:pt x="1340" y="250"/>
                  </a:lnTo>
                  <a:lnTo>
                    <a:pt x="1325" y="245"/>
                  </a:lnTo>
                  <a:lnTo>
                    <a:pt x="1373" y="226"/>
                  </a:lnTo>
                  <a:lnTo>
                    <a:pt x="1397" y="216"/>
                  </a:lnTo>
                  <a:lnTo>
                    <a:pt x="1420" y="191"/>
                  </a:lnTo>
                  <a:lnTo>
                    <a:pt x="1377" y="199"/>
                  </a:lnTo>
                  <a:lnTo>
                    <a:pt x="1417" y="185"/>
                  </a:lnTo>
                  <a:lnTo>
                    <a:pt x="1441" y="170"/>
                  </a:lnTo>
                  <a:lnTo>
                    <a:pt x="1429" y="150"/>
                  </a:lnTo>
                  <a:lnTo>
                    <a:pt x="1413" y="152"/>
                  </a:lnTo>
                  <a:lnTo>
                    <a:pt x="1409" y="157"/>
                  </a:lnTo>
                  <a:lnTo>
                    <a:pt x="1373" y="172"/>
                  </a:lnTo>
                  <a:lnTo>
                    <a:pt x="1381" y="167"/>
                  </a:lnTo>
                  <a:lnTo>
                    <a:pt x="1389" y="160"/>
                  </a:lnTo>
                  <a:lnTo>
                    <a:pt x="1348" y="172"/>
                  </a:lnTo>
                  <a:lnTo>
                    <a:pt x="1304" y="196"/>
                  </a:lnTo>
                  <a:lnTo>
                    <a:pt x="1272" y="221"/>
                  </a:lnTo>
                  <a:lnTo>
                    <a:pt x="1227" y="239"/>
                  </a:lnTo>
                  <a:lnTo>
                    <a:pt x="1207" y="239"/>
                  </a:lnTo>
                  <a:lnTo>
                    <a:pt x="1227" y="221"/>
                  </a:lnTo>
                  <a:lnTo>
                    <a:pt x="1252" y="204"/>
                  </a:lnTo>
                  <a:lnTo>
                    <a:pt x="1325" y="167"/>
                  </a:lnTo>
                  <a:lnTo>
                    <a:pt x="1296" y="172"/>
                  </a:lnTo>
                  <a:lnTo>
                    <a:pt x="1328" y="160"/>
                  </a:lnTo>
                  <a:lnTo>
                    <a:pt x="1373" y="143"/>
                  </a:lnTo>
                  <a:lnTo>
                    <a:pt x="1364" y="147"/>
                  </a:lnTo>
                  <a:lnTo>
                    <a:pt x="1385" y="145"/>
                  </a:lnTo>
                  <a:lnTo>
                    <a:pt x="1373" y="150"/>
                  </a:lnTo>
                  <a:lnTo>
                    <a:pt x="1420" y="140"/>
                  </a:lnTo>
                  <a:lnTo>
                    <a:pt x="1433" y="147"/>
                  </a:lnTo>
                  <a:lnTo>
                    <a:pt x="1441" y="143"/>
                  </a:lnTo>
                  <a:lnTo>
                    <a:pt x="1458" y="147"/>
                  </a:lnTo>
                  <a:lnTo>
                    <a:pt x="1465" y="133"/>
                  </a:lnTo>
                  <a:lnTo>
                    <a:pt x="1449" y="133"/>
                  </a:lnTo>
                  <a:lnTo>
                    <a:pt x="1462" y="125"/>
                  </a:lnTo>
                  <a:lnTo>
                    <a:pt x="1389" y="128"/>
                  </a:lnTo>
                  <a:lnTo>
                    <a:pt x="1389" y="118"/>
                  </a:lnTo>
                  <a:lnTo>
                    <a:pt x="1368" y="120"/>
                  </a:lnTo>
                  <a:lnTo>
                    <a:pt x="1381" y="110"/>
                  </a:lnTo>
                  <a:lnTo>
                    <a:pt x="1308" y="123"/>
                  </a:lnTo>
                  <a:lnTo>
                    <a:pt x="1296" y="120"/>
                  </a:lnTo>
                  <a:lnTo>
                    <a:pt x="1312" y="113"/>
                  </a:lnTo>
                  <a:lnTo>
                    <a:pt x="1272" y="116"/>
                  </a:lnTo>
                  <a:lnTo>
                    <a:pt x="1389" y="9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116520" y="3006720"/>
              <a:ext cx="169560" cy="52200"/>
            </a:xfrm>
            <a:custGeom>
              <a:avLst/>
              <a:gdLst/>
              <a:ahLst/>
              <a:rect l="l" t="t" r="r" b="b"/>
              <a:pathLst>
                <a:path w="473" h="144">
                  <a:moveTo>
                    <a:pt x="0" y="0"/>
                  </a:moveTo>
                  <a:lnTo>
                    <a:pt x="472" y="0"/>
                  </a:lnTo>
                  <a:lnTo>
                    <a:pt x="472" y="143"/>
                  </a:lnTo>
                  <a:lnTo>
                    <a:pt x="0" y="14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451600" y="1387080"/>
              <a:ext cx="1250280" cy="1594080"/>
            </a:xfrm>
            <a:custGeom>
              <a:avLst/>
              <a:gdLst/>
              <a:ahLst/>
              <a:rect l="l" t="t" r="r" b="b"/>
              <a:pathLst>
                <a:path w="3477" h="4431">
                  <a:moveTo>
                    <a:pt x="2797" y="406"/>
                  </a:moveTo>
                  <a:lnTo>
                    <a:pt x="2817" y="406"/>
                  </a:lnTo>
                  <a:lnTo>
                    <a:pt x="2797" y="396"/>
                  </a:lnTo>
                  <a:lnTo>
                    <a:pt x="2772" y="394"/>
                  </a:lnTo>
                  <a:lnTo>
                    <a:pt x="2797" y="406"/>
                  </a:lnTo>
                  <a:close/>
                  <a:moveTo>
                    <a:pt x="1832" y="49"/>
                  </a:moveTo>
                  <a:lnTo>
                    <a:pt x="1804" y="47"/>
                  </a:lnTo>
                  <a:lnTo>
                    <a:pt x="1820" y="52"/>
                  </a:lnTo>
                  <a:lnTo>
                    <a:pt x="1852" y="52"/>
                  </a:lnTo>
                  <a:lnTo>
                    <a:pt x="1832" y="49"/>
                  </a:lnTo>
                  <a:close/>
                  <a:moveTo>
                    <a:pt x="1086" y="47"/>
                  </a:moveTo>
                  <a:lnTo>
                    <a:pt x="1041" y="40"/>
                  </a:lnTo>
                  <a:lnTo>
                    <a:pt x="1086" y="47"/>
                  </a:lnTo>
                  <a:close/>
                  <a:moveTo>
                    <a:pt x="1171" y="47"/>
                  </a:moveTo>
                  <a:lnTo>
                    <a:pt x="1179" y="38"/>
                  </a:lnTo>
                  <a:lnTo>
                    <a:pt x="1159" y="38"/>
                  </a:lnTo>
                  <a:lnTo>
                    <a:pt x="1098" y="30"/>
                  </a:lnTo>
                  <a:lnTo>
                    <a:pt x="1154" y="38"/>
                  </a:lnTo>
                  <a:lnTo>
                    <a:pt x="1171" y="38"/>
                  </a:lnTo>
                  <a:lnTo>
                    <a:pt x="1134" y="27"/>
                  </a:lnTo>
                  <a:lnTo>
                    <a:pt x="1045" y="27"/>
                  </a:lnTo>
                  <a:lnTo>
                    <a:pt x="1098" y="35"/>
                  </a:lnTo>
                  <a:lnTo>
                    <a:pt x="1029" y="30"/>
                  </a:lnTo>
                  <a:lnTo>
                    <a:pt x="1045" y="38"/>
                  </a:lnTo>
                  <a:lnTo>
                    <a:pt x="1106" y="47"/>
                  </a:lnTo>
                  <a:lnTo>
                    <a:pt x="1159" y="49"/>
                  </a:lnTo>
                  <a:lnTo>
                    <a:pt x="1171" y="47"/>
                  </a:lnTo>
                  <a:close/>
                  <a:moveTo>
                    <a:pt x="1130" y="25"/>
                  </a:moveTo>
                  <a:lnTo>
                    <a:pt x="1166" y="30"/>
                  </a:lnTo>
                  <a:lnTo>
                    <a:pt x="1219" y="33"/>
                  </a:lnTo>
                  <a:lnTo>
                    <a:pt x="1222" y="27"/>
                  </a:lnTo>
                  <a:lnTo>
                    <a:pt x="1198" y="23"/>
                  </a:lnTo>
                  <a:lnTo>
                    <a:pt x="1179" y="25"/>
                  </a:lnTo>
                  <a:lnTo>
                    <a:pt x="1159" y="27"/>
                  </a:lnTo>
                  <a:lnTo>
                    <a:pt x="1130" y="25"/>
                  </a:lnTo>
                  <a:close/>
                  <a:moveTo>
                    <a:pt x="1263" y="57"/>
                  </a:moveTo>
                  <a:lnTo>
                    <a:pt x="1303" y="67"/>
                  </a:lnTo>
                  <a:lnTo>
                    <a:pt x="1332" y="59"/>
                  </a:lnTo>
                  <a:lnTo>
                    <a:pt x="1275" y="54"/>
                  </a:lnTo>
                  <a:lnTo>
                    <a:pt x="1263" y="57"/>
                  </a:lnTo>
                  <a:close/>
                  <a:moveTo>
                    <a:pt x="1260" y="59"/>
                  </a:moveTo>
                  <a:lnTo>
                    <a:pt x="1227" y="54"/>
                  </a:lnTo>
                  <a:lnTo>
                    <a:pt x="1222" y="52"/>
                  </a:lnTo>
                  <a:lnTo>
                    <a:pt x="1260" y="59"/>
                  </a:lnTo>
                  <a:close/>
                  <a:moveTo>
                    <a:pt x="1190" y="62"/>
                  </a:moveTo>
                  <a:lnTo>
                    <a:pt x="1227" y="67"/>
                  </a:lnTo>
                  <a:lnTo>
                    <a:pt x="1190" y="62"/>
                  </a:lnTo>
                  <a:close/>
                  <a:moveTo>
                    <a:pt x="1017" y="104"/>
                  </a:moveTo>
                  <a:lnTo>
                    <a:pt x="993" y="96"/>
                  </a:lnTo>
                  <a:lnTo>
                    <a:pt x="984" y="101"/>
                  </a:lnTo>
                  <a:lnTo>
                    <a:pt x="1017" y="104"/>
                  </a:lnTo>
                  <a:close/>
                  <a:moveTo>
                    <a:pt x="605" y="59"/>
                  </a:moveTo>
                  <a:lnTo>
                    <a:pt x="609" y="59"/>
                  </a:lnTo>
                  <a:lnTo>
                    <a:pt x="605" y="59"/>
                  </a:lnTo>
                  <a:close/>
                  <a:moveTo>
                    <a:pt x="738" y="180"/>
                  </a:moveTo>
                  <a:lnTo>
                    <a:pt x="734" y="175"/>
                  </a:lnTo>
                  <a:lnTo>
                    <a:pt x="750" y="177"/>
                  </a:lnTo>
                  <a:lnTo>
                    <a:pt x="738" y="180"/>
                  </a:lnTo>
                  <a:close/>
                  <a:moveTo>
                    <a:pt x="614" y="175"/>
                  </a:moveTo>
                  <a:lnTo>
                    <a:pt x="597" y="165"/>
                  </a:lnTo>
                  <a:lnTo>
                    <a:pt x="630" y="170"/>
                  </a:lnTo>
                  <a:lnTo>
                    <a:pt x="614" y="175"/>
                  </a:lnTo>
                  <a:close/>
                  <a:moveTo>
                    <a:pt x="602" y="244"/>
                  </a:moveTo>
                  <a:lnTo>
                    <a:pt x="581" y="239"/>
                  </a:lnTo>
                  <a:lnTo>
                    <a:pt x="581" y="234"/>
                  </a:lnTo>
                  <a:lnTo>
                    <a:pt x="634" y="246"/>
                  </a:lnTo>
                  <a:lnTo>
                    <a:pt x="602" y="244"/>
                  </a:lnTo>
                  <a:close/>
                  <a:moveTo>
                    <a:pt x="380" y="155"/>
                  </a:moveTo>
                  <a:lnTo>
                    <a:pt x="363" y="158"/>
                  </a:lnTo>
                  <a:lnTo>
                    <a:pt x="380" y="160"/>
                  </a:lnTo>
                  <a:lnTo>
                    <a:pt x="371" y="165"/>
                  </a:lnTo>
                  <a:lnTo>
                    <a:pt x="387" y="168"/>
                  </a:lnTo>
                  <a:lnTo>
                    <a:pt x="371" y="175"/>
                  </a:lnTo>
                  <a:lnTo>
                    <a:pt x="387" y="177"/>
                  </a:lnTo>
                  <a:lnTo>
                    <a:pt x="396" y="175"/>
                  </a:lnTo>
                  <a:lnTo>
                    <a:pt x="396" y="183"/>
                  </a:lnTo>
                  <a:lnTo>
                    <a:pt x="436" y="180"/>
                  </a:lnTo>
                  <a:lnTo>
                    <a:pt x="415" y="175"/>
                  </a:lnTo>
                  <a:lnTo>
                    <a:pt x="427" y="175"/>
                  </a:lnTo>
                  <a:lnTo>
                    <a:pt x="407" y="173"/>
                  </a:lnTo>
                  <a:lnTo>
                    <a:pt x="423" y="170"/>
                  </a:lnTo>
                  <a:lnTo>
                    <a:pt x="403" y="165"/>
                  </a:lnTo>
                  <a:lnTo>
                    <a:pt x="423" y="168"/>
                  </a:lnTo>
                  <a:lnTo>
                    <a:pt x="396" y="158"/>
                  </a:lnTo>
                  <a:lnTo>
                    <a:pt x="415" y="155"/>
                  </a:lnTo>
                  <a:lnTo>
                    <a:pt x="415" y="153"/>
                  </a:lnTo>
                  <a:lnTo>
                    <a:pt x="399" y="148"/>
                  </a:lnTo>
                  <a:lnTo>
                    <a:pt x="399" y="141"/>
                  </a:lnTo>
                  <a:lnTo>
                    <a:pt x="431" y="119"/>
                  </a:lnTo>
                  <a:lnTo>
                    <a:pt x="399" y="106"/>
                  </a:lnTo>
                  <a:lnTo>
                    <a:pt x="383" y="108"/>
                  </a:lnTo>
                  <a:lnTo>
                    <a:pt x="383" y="121"/>
                  </a:lnTo>
                  <a:lnTo>
                    <a:pt x="355" y="123"/>
                  </a:lnTo>
                  <a:lnTo>
                    <a:pt x="347" y="138"/>
                  </a:lnTo>
                  <a:lnTo>
                    <a:pt x="359" y="143"/>
                  </a:lnTo>
                  <a:lnTo>
                    <a:pt x="355" y="150"/>
                  </a:lnTo>
                  <a:lnTo>
                    <a:pt x="342" y="148"/>
                  </a:lnTo>
                  <a:lnTo>
                    <a:pt x="363" y="150"/>
                  </a:lnTo>
                  <a:lnTo>
                    <a:pt x="359" y="155"/>
                  </a:lnTo>
                  <a:lnTo>
                    <a:pt x="380" y="155"/>
                  </a:lnTo>
                  <a:close/>
                  <a:moveTo>
                    <a:pt x="419" y="214"/>
                  </a:moveTo>
                  <a:lnTo>
                    <a:pt x="419" y="202"/>
                  </a:lnTo>
                  <a:lnTo>
                    <a:pt x="411" y="197"/>
                  </a:lnTo>
                  <a:lnTo>
                    <a:pt x="396" y="197"/>
                  </a:lnTo>
                  <a:lnTo>
                    <a:pt x="392" y="185"/>
                  </a:lnTo>
                  <a:lnTo>
                    <a:pt x="436" y="185"/>
                  </a:lnTo>
                  <a:lnTo>
                    <a:pt x="427" y="187"/>
                  </a:lnTo>
                  <a:lnTo>
                    <a:pt x="431" y="190"/>
                  </a:lnTo>
                  <a:lnTo>
                    <a:pt x="443" y="190"/>
                  </a:lnTo>
                  <a:lnTo>
                    <a:pt x="436" y="192"/>
                  </a:lnTo>
                  <a:lnTo>
                    <a:pt x="443" y="199"/>
                  </a:lnTo>
                  <a:lnTo>
                    <a:pt x="468" y="210"/>
                  </a:lnTo>
                  <a:lnTo>
                    <a:pt x="549" y="230"/>
                  </a:lnTo>
                  <a:lnTo>
                    <a:pt x="537" y="232"/>
                  </a:lnTo>
                  <a:lnTo>
                    <a:pt x="533" y="232"/>
                  </a:lnTo>
                  <a:lnTo>
                    <a:pt x="541" y="234"/>
                  </a:lnTo>
                  <a:lnTo>
                    <a:pt x="516" y="232"/>
                  </a:lnTo>
                  <a:lnTo>
                    <a:pt x="508" y="234"/>
                  </a:lnTo>
                  <a:lnTo>
                    <a:pt x="484" y="232"/>
                  </a:lnTo>
                  <a:lnTo>
                    <a:pt x="472" y="227"/>
                  </a:lnTo>
                  <a:lnTo>
                    <a:pt x="484" y="227"/>
                  </a:lnTo>
                  <a:lnTo>
                    <a:pt x="468" y="224"/>
                  </a:lnTo>
                  <a:lnTo>
                    <a:pt x="468" y="219"/>
                  </a:lnTo>
                  <a:lnTo>
                    <a:pt x="468" y="222"/>
                  </a:lnTo>
                  <a:lnTo>
                    <a:pt x="456" y="217"/>
                  </a:lnTo>
                  <a:lnTo>
                    <a:pt x="440" y="217"/>
                  </a:lnTo>
                  <a:lnTo>
                    <a:pt x="436" y="222"/>
                  </a:lnTo>
                  <a:lnTo>
                    <a:pt x="419" y="214"/>
                  </a:lnTo>
                  <a:close/>
                  <a:moveTo>
                    <a:pt x="464" y="268"/>
                  </a:moveTo>
                  <a:lnTo>
                    <a:pt x="460" y="261"/>
                  </a:lnTo>
                  <a:lnTo>
                    <a:pt x="496" y="268"/>
                  </a:lnTo>
                  <a:lnTo>
                    <a:pt x="484" y="276"/>
                  </a:lnTo>
                  <a:lnTo>
                    <a:pt x="464" y="268"/>
                  </a:lnTo>
                  <a:close/>
                  <a:moveTo>
                    <a:pt x="2223" y="453"/>
                  </a:moveTo>
                  <a:lnTo>
                    <a:pt x="2235" y="453"/>
                  </a:lnTo>
                  <a:lnTo>
                    <a:pt x="2316" y="487"/>
                  </a:lnTo>
                  <a:lnTo>
                    <a:pt x="2337" y="499"/>
                  </a:lnTo>
                  <a:lnTo>
                    <a:pt x="2321" y="495"/>
                  </a:lnTo>
                  <a:lnTo>
                    <a:pt x="2329" y="502"/>
                  </a:lnTo>
                  <a:lnTo>
                    <a:pt x="2349" y="505"/>
                  </a:lnTo>
                  <a:lnTo>
                    <a:pt x="2358" y="532"/>
                  </a:lnTo>
                  <a:lnTo>
                    <a:pt x="2345" y="534"/>
                  </a:lnTo>
                  <a:lnTo>
                    <a:pt x="2370" y="546"/>
                  </a:lnTo>
                  <a:lnTo>
                    <a:pt x="2358" y="556"/>
                  </a:lnTo>
                  <a:lnTo>
                    <a:pt x="2321" y="553"/>
                  </a:lnTo>
                  <a:lnTo>
                    <a:pt x="2345" y="544"/>
                  </a:lnTo>
                  <a:lnTo>
                    <a:pt x="2329" y="522"/>
                  </a:lnTo>
                  <a:lnTo>
                    <a:pt x="2300" y="495"/>
                  </a:lnTo>
                  <a:lnTo>
                    <a:pt x="2223" y="453"/>
                  </a:lnTo>
                  <a:close/>
                  <a:moveTo>
                    <a:pt x="872" y="684"/>
                  </a:moveTo>
                  <a:lnTo>
                    <a:pt x="892" y="691"/>
                  </a:lnTo>
                  <a:lnTo>
                    <a:pt x="887" y="702"/>
                  </a:lnTo>
                  <a:lnTo>
                    <a:pt x="896" y="702"/>
                  </a:lnTo>
                  <a:lnTo>
                    <a:pt x="887" y="711"/>
                  </a:lnTo>
                  <a:lnTo>
                    <a:pt x="896" y="725"/>
                  </a:lnTo>
                  <a:lnTo>
                    <a:pt x="872" y="728"/>
                  </a:lnTo>
                  <a:lnTo>
                    <a:pt x="868" y="718"/>
                  </a:lnTo>
                  <a:lnTo>
                    <a:pt x="879" y="723"/>
                  </a:lnTo>
                  <a:lnTo>
                    <a:pt x="883" y="718"/>
                  </a:lnTo>
                  <a:lnTo>
                    <a:pt x="875" y="706"/>
                  </a:lnTo>
                  <a:lnTo>
                    <a:pt x="887" y="706"/>
                  </a:lnTo>
                  <a:lnTo>
                    <a:pt x="892" y="696"/>
                  </a:lnTo>
                  <a:lnTo>
                    <a:pt x="872" y="684"/>
                  </a:lnTo>
                  <a:close/>
                  <a:moveTo>
                    <a:pt x="1494" y="785"/>
                  </a:moveTo>
                  <a:lnTo>
                    <a:pt x="1485" y="777"/>
                  </a:lnTo>
                  <a:lnTo>
                    <a:pt x="1494" y="775"/>
                  </a:lnTo>
                  <a:lnTo>
                    <a:pt x="1498" y="767"/>
                  </a:lnTo>
                  <a:lnTo>
                    <a:pt x="1482" y="765"/>
                  </a:lnTo>
                  <a:lnTo>
                    <a:pt x="1456" y="751"/>
                  </a:lnTo>
                  <a:lnTo>
                    <a:pt x="1453" y="756"/>
                  </a:lnTo>
                  <a:lnTo>
                    <a:pt x="1440" y="743"/>
                  </a:lnTo>
                  <a:lnTo>
                    <a:pt x="1449" y="728"/>
                  </a:lnTo>
                  <a:lnTo>
                    <a:pt x="1437" y="725"/>
                  </a:lnTo>
                  <a:lnTo>
                    <a:pt x="1437" y="736"/>
                  </a:lnTo>
                  <a:lnTo>
                    <a:pt x="1413" y="728"/>
                  </a:lnTo>
                  <a:lnTo>
                    <a:pt x="1421" y="733"/>
                  </a:lnTo>
                  <a:lnTo>
                    <a:pt x="1396" y="736"/>
                  </a:lnTo>
                  <a:lnTo>
                    <a:pt x="1413" y="743"/>
                  </a:lnTo>
                  <a:lnTo>
                    <a:pt x="1400" y="741"/>
                  </a:lnTo>
                  <a:lnTo>
                    <a:pt x="1396" y="743"/>
                  </a:lnTo>
                  <a:lnTo>
                    <a:pt x="1409" y="753"/>
                  </a:lnTo>
                  <a:lnTo>
                    <a:pt x="1400" y="748"/>
                  </a:lnTo>
                  <a:lnTo>
                    <a:pt x="1384" y="751"/>
                  </a:lnTo>
                  <a:lnTo>
                    <a:pt x="1388" y="758"/>
                  </a:lnTo>
                  <a:lnTo>
                    <a:pt x="1393" y="775"/>
                  </a:lnTo>
                  <a:lnTo>
                    <a:pt x="1432" y="802"/>
                  </a:lnTo>
                  <a:lnTo>
                    <a:pt x="1444" y="800"/>
                  </a:lnTo>
                  <a:lnTo>
                    <a:pt x="1432" y="795"/>
                  </a:lnTo>
                  <a:lnTo>
                    <a:pt x="1449" y="797"/>
                  </a:lnTo>
                  <a:lnTo>
                    <a:pt x="1469" y="800"/>
                  </a:lnTo>
                  <a:lnTo>
                    <a:pt x="1477" y="807"/>
                  </a:lnTo>
                  <a:lnTo>
                    <a:pt x="1505" y="800"/>
                  </a:lnTo>
                  <a:lnTo>
                    <a:pt x="1489" y="792"/>
                  </a:lnTo>
                  <a:lnTo>
                    <a:pt x="1489" y="785"/>
                  </a:lnTo>
                  <a:lnTo>
                    <a:pt x="1494" y="785"/>
                  </a:lnTo>
                  <a:close/>
                  <a:moveTo>
                    <a:pt x="1801" y="721"/>
                  </a:moveTo>
                  <a:lnTo>
                    <a:pt x="1813" y="711"/>
                  </a:lnTo>
                  <a:lnTo>
                    <a:pt x="1873" y="714"/>
                  </a:lnTo>
                  <a:lnTo>
                    <a:pt x="1912" y="714"/>
                  </a:lnTo>
                  <a:lnTo>
                    <a:pt x="1909" y="706"/>
                  </a:lnTo>
                  <a:lnTo>
                    <a:pt x="1921" y="706"/>
                  </a:lnTo>
                  <a:lnTo>
                    <a:pt x="1929" y="709"/>
                  </a:lnTo>
                  <a:lnTo>
                    <a:pt x="1921" y="718"/>
                  </a:lnTo>
                  <a:lnTo>
                    <a:pt x="1828" y="716"/>
                  </a:lnTo>
                  <a:lnTo>
                    <a:pt x="1817" y="731"/>
                  </a:lnTo>
                  <a:lnTo>
                    <a:pt x="1849" y="753"/>
                  </a:lnTo>
                  <a:lnTo>
                    <a:pt x="1801" y="736"/>
                  </a:lnTo>
                  <a:lnTo>
                    <a:pt x="1801" y="721"/>
                  </a:lnTo>
                  <a:close/>
                  <a:moveTo>
                    <a:pt x="2010" y="718"/>
                  </a:moveTo>
                  <a:lnTo>
                    <a:pt x="1998" y="711"/>
                  </a:lnTo>
                  <a:lnTo>
                    <a:pt x="1998" y="709"/>
                  </a:lnTo>
                  <a:lnTo>
                    <a:pt x="2014" y="711"/>
                  </a:lnTo>
                  <a:lnTo>
                    <a:pt x="2026" y="718"/>
                  </a:lnTo>
                  <a:lnTo>
                    <a:pt x="2039" y="723"/>
                  </a:lnTo>
                  <a:lnTo>
                    <a:pt x="2042" y="723"/>
                  </a:lnTo>
                  <a:lnTo>
                    <a:pt x="2042" y="725"/>
                  </a:lnTo>
                  <a:lnTo>
                    <a:pt x="2034" y="723"/>
                  </a:lnTo>
                  <a:lnTo>
                    <a:pt x="2030" y="723"/>
                  </a:lnTo>
                  <a:lnTo>
                    <a:pt x="2014" y="721"/>
                  </a:lnTo>
                  <a:lnTo>
                    <a:pt x="2010" y="718"/>
                  </a:lnTo>
                  <a:close/>
                  <a:moveTo>
                    <a:pt x="649" y="765"/>
                  </a:moveTo>
                  <a:lnTo>
                    <a:pt x="678" y="765"/>
                  </a:lnTo>
                  <a:lnTo>
                    <a:pt x="715" y="785"/>
                  </a:lnTo>
                  <a:lnTo>
                    <a:pt x="682" y="772"/>
                  </a:lnTo>
                  <a:lnTo>
                    <a:pt x="649" y="765"/>
                  </a:lnTo>
                  <a:close/>
                  <a:moveTo>
                    <a:pt x="189" y="403"/>
                  </a:moveTo>
                  <a:lnTo>
                    <a:pt x="181" y="401"/>
                  </a:lnTo>
                  <a:lnTo>
                    <a:pt x="181" y="406"/>
                  </a:lnTo>
                  <a:lnTo>
                    <a:pt x="177" y="406"/>
                  </a:lnTo>
                  <a:lnTo>
                    <a:pt x="181" y="406"/>
                  </a:lnTo>
                  <a:lnTo>
                    <a:pt x="185" y="406"/>
                  </a:lnTo>
                  <a:lnTo>
                    <a:pt x="181" y="403"/>
                  </a:lnTo>
                  <a:lnTo>
                    <a:pt x="193" y="409"/>
                  </a:lnTo>
                  <a:lnTo>
                    <a:pt x="193" y="414"/>
                  </a:lnTo>
                  <a:lnTo>
                    <a:pt x="193" y="416"/>
                  </a:lnTo>
                  <a:lnTo>
                    <a:pt x="202" y="421"/>
                  </a:lnTo>
                  <a:lnTo>
                    <a:pt x="197" y="424"/>
                  </a:lnTo>
                  <a:lnTo>
                    <a:pt x="193" y="424"/>
                  </a:lnTo>
                  <a:lnTo>
                    <a:pt x="197" y="426"/>
                  </a:lnTo>
                  <a:lnTo>
                    <a:pt x="202" y="428"/>
                  </a:lnTo>
                  <a:lnTo>
                    <a:pt x="197" y="428"/>
                  </a:lnTo>
                  <a:lnTo>
                    <a:pt x="193" y="430"/>
                  </a:lnTo>
                  <a:lnTo>
                    <a:pt x="202" y="430"/>
                  </a:lnTo>
                  <a:lnTo>
                    <a:pt x="197" y="430"/>
                  </a:lnTo>
                  <a:lnTo>
                    <a:pt x="202" y="433"/>
                  </a:lnTo>
                  <a:lnTo>
                    <a:pt x="205" y="436"/>
                  </a:lnTo>
                  <a:lnTo>
                    <a:pt x="202" y="436"/>
                  </a:lnTo>
                  <a:lnTo>
                    <a:pt x="197" y="436"/>
                  </a:lnTo>
                  <a:lnTo>
                    <a:pt x="197" y="438"/>
                  </a:lnTo>
                  <a:lnTo>
                    <a:pt x="202" y="440"/>
                  </a:lnTo>
                  <a:lnTo>
                    <a:pt x="205" y="440"/>
                  </a:lnTo>
                  <a:lnTo>
                    <a:pt x="205" y="443"/>
                  </a:lnTo>
                  <a:lnTo>
                    <a:pt x="209" y="443"/>
                  </a:lnTo>
                  <a:lnTo>
                    <a:pt x="209" y="446"/>
                  </a:lnTo>
                  <a:lnTo>
                    <a:pt x="214" y="448"/>
                  </a:lnTo>
                  <a:lnTo>
                    <a:pt x="218" y="448"/>
                  </a:lnTo>
                  <a:lnTo>
                    <a:pt x="214" y="446"/>
                  </a:lnTo>
                  <a:lnTo>
                    <a:pt x="214" y="443"/>
                  </a:lnTo>
                  <a:lnTo>
                    <a:pt x="218" y="446"/>
                  </a:lnTo>
                  <a:lnTo>
                    <a:pt x="226" y="446"/>
                  </a:lnTo>
                  <a:lnTo>
                    <a:pt x="226" y="448"/>
                  </a:lnTo>
                  <a:lnTo>
                    <a:pt x="230" y="448"/>
                  </a:lnTo>
                  <a:lnTo>
                    <a:pt x="226" y="440"/>
                  </a:lnTo>
                  <a:lnTo>
                    <a:pt x="226" y="438"/>
                  </a:lnTo>
                  <a:lnTo>
                    <a:pt x="221" y="443"/>
                  </a:lnTo>
                  <a:lnTo>
                    <a:pt x="226" y="443"/>
                  </a:lnTo>
                  <a:lnTo>
                    <a:pt x="209" y="443"/>
                  </a:lnTo>
                  <a:lnTo>
                    <a:pt x="214" y="438"/>
                  </a:lnTo>
                  <a:lnTo>
                    <a:pt x="209" y="438"/>
                  </a:lnTo>
                  <a:lnTo>
                    <a:pt x="209" y="436"/>
                  </a:lnTo>
                  <a:lnTo>
                    <a:pt x="205" y="430"/>
                  </a:lnTo>
                  <a:lnTo>
                    <a:pt x="205" y="433"/>
                  </a:lnTo>
                  <a:lnTo>
                    <a:pt x="205" y="428"/>
                  </a:lnTo>
                  <a:lnTo>
                    <a:pt x="209" y="428"/>
                  </a:lnTo>
                  <a:lnTo>
                    <a:pt x="205" y="424"/>
                  </a:lnTo>
                  <a:lnTo>
                    <a:pt x="205" y="421"/>
                  </a:lnTo>
                  <a:lnTo>
                    <a:pt x="209" y="421"/>
                  </a:lnTo>
                  <a:lnTo>
                    <a:pt x="205" y="419"/>
                  </a:lnTo>
                  <a:lnTo>
                    <a:pt x="209" y="421"/>
                  </a:lnTo>
                  <a:lnTo>
                    <a:pt x="205" y="416"/>
                  </a:lnTo>
                  <a:lnTo>
                    <a:pt x="214" y="416"/>
                  </a:lnTo>
                  <a:lnTo>
                    <a:pt x="214" y="414"/>
                  </a:lnTo>
                  <a:lnTo>
                    <a:pt x="218" y="416"/>
                  </a:lnTo>
                  <a:lnTo>
                    <a:pt x="221" y="416"/>
                  </a:lnTo>
                  <a:lnTo>
                    <a:pt x="221" y="419"/>
                  </a:lnTo>
                  <a:lnTo>
                    <a:pt x="221" y="414"/>
                  </a:lnTo>
                  <a:lnTo>
                    <a:pt x="218" y="409"/>
                  </a:lnTo>
                  <a:lnTo>
                    <a:pt x="214" y="406"/>
                  </a:lnTo>
                  <a:lnTo>
                    <a:pt x="214" y="409"/>
                  </a:lnTo>
                  <a:lnTo>
                    <a:pt x="209" y="406"/>
                  </a:lnTo>
                  <a:lnTo>
                    <a:pt x="205" y="409"/>
                  </a:lnTo>
                  <a:lnTo>
                    <a:pt x="214" y="411"/>
                  </a:lnTo>
                  <a:lnTo>
                    <a:pt x="218" y="411"/>
                  </a:lnTo>
                  <a:lnTo>
                    <a:pt x="218" y="414"/>
                  </a:lnTo>
                  <a:lnTo>
                    <a:pt x="205" y="409"/>
                  </a:lnTo>
                  <a:lnTo>
                    <a:pt x="214" y="414"/>
                  </a:lnTo>
                  <a:lnTo>
                    <a:pt x="209" y="414"/>
                  </a:lnTo>
                  <a:lnTo>
                    <a:pt x="205" y="414"/>
                  </a:lnTo>
                  <a:lnTo>
                    <a:pt x="205" y="416"/>
                  </a:lnTo>
                  <a:lnTo>
                    <a:pt x="205" y="419"/>
                  </a:lnTo>
                  <a:lnTo>
                    <a:pt x="205" y="416"/>
                  </a:lnTo>
                  <a:lnTo>
                    <a:pt x="202" y="416"/>
                  </a:lnTo>
                  <a:lnTo>
                    <a:pt x="197" y="414"/>
                  </a:lnTo>
                  <a:lnTo>
                    <a:pt x="197" y="411"/>
                  </a:lnTo>
                  <a:lnTo>
                    <a:pt x="202" y="411"/>
                  </a:lnTo>
                  <a:lnTo>
                    <a:pt x="205" y="411"/>
                  </a:lnTo>
                  <a:lnTo>
                    <a:pt x="189" y="403"/>
                  </a:lnTo>
                  <a:close/>
                  <a:moveTo>
                    <a:pt x="262" y="443"/>
                  </a:moveTo>
                  <a:lnTo>
                    <a:pt x="270" y="443"/>
                  </a:lnTo>
                  <a:lnTo>
                    <a:pt x="274" y="443"/>
                  </a:lnTo>
                  <a:lnTo>
                    <a:pt x="270" y="443"/>
                  </a:lnTo>
                  <a:lnTo>
                    <a:pt x="266" y="440"/>
                  </a:lnTo>
                  <a:lnTo>
                    <a:pt x="262" y="443"/>
                  </a:lnTo>
                  <a:lnTo>
                    <a:pt x="254" y="443"/>
                  </a:lnTo>
                  <a:lnTo>
                    <a:pt x="250" y="440"/>
                  </a:lnTo>
                  <a:lnTo>
                    <a:pt x="245" y="440"/>
                  </a:lnTo>
                  <a:lnTo>
                    <a:pt x="245" y="436"/>
                  </a:lnTo>
                  <a:lnTo>
                    <a:pt x="241" y="433"/>
                  </a:lnTo>
                  <a:lnTo>
                    <a:pt x="245" y="433"/>
                  </a:lnTo>
                  <a:lnTo>
                    <a:pt x="245" y="436"/>
                  </a:lnTo>
                  <a:lnTo>
                    <a:pt x="250" y="436"/>
                  </a:lnTo>
                  <a:lnTo>
                    <a:pt x="254" y="433"/>
                  </a:lnTo>
                  <a:lnTo>
                    <a:pt x="250" y="430"/>
                  </a:lnTo>
                  <a:lnTo>
                    <a:pt x="245" y="430"/>
                  </a:lnTo>
                  <a:lnTo>
                    <a:pt x="254" y="430"/>
                  </a:lnTo>
                  <a:lnTo>
                    <a:pt x="262" y="436"/>
                  </a:lnTo>
                  <a:lnTo>
                    <a:pt x="262" y="430"/>
                  </a:lnTo>
                  <a:lnTo>
                    <a:pt x="266" y="428"/>
                  </a:lnTo>
                  <a:lnTo>
                    <a:pt x="270" y="428"/>
                  </a:lnTo>
                  <a:lnTo>
                    <a:pt x="257" y="424"/>
                  </a:lnTo>
                  <a:lnTo>
                    <a:pt x="262" y="426"/>
                  </a:lnTo>
                  <a:lnTo>
                    <a:pt x="250" y="424"/>
                  </a:lnTo>
                  <a:lnTo>
                    <a:pt x="241" y="419"/>
                  </a:lnTo>
                  <a:lnTo>
                    <a:pt x="234" y="419"/>
                  </a:lnTo>
                  <a:lnTo>
                    <a:pt x="230" y="414"/>
                  </a:lnTo>
                  <a:lnTo>
                    <a:pt x="241" y="419"/>
                  </a:lnTo>
                  <a:lnTo>
                    <a:pt x="234" y="414"/>
                  </a:lnTo>
                  <a:lnTo>
                    <a:pt x="230" y="409"/>
                  </a:lnTo>
                  <a:lnTo>
                    <a:pt x="218" y="403"/>
                  </a:lnTo>
                  <a:lnTo>
                    <a:pt x="214" y="399"/>
                  </a:lnTo>
                  <a:lnTo>
                    <a:pt x="209" y="396"/>
                  </a:lnTo>
                  <a:lnTo>
                    <a:pt x="205" y="394"/>
                  </a:lnTo>
                  <a:lnTo>
                    <a:pt x="202" y="394"/>
                  </a:lnTo>
                  <a:lnTo>
                    <a:pt x="218" y="399"/>
                  </a:lnTo>
                  <a:lnTo>
                    <a:pt x="218" y="401"/>
                  </a:lnTo>
                  <a:lnTo>
                    <a:pt x="221" y="403"/>
                  </a:lnTo>
                  <a:lnTo>
                    <a:pt x="226" y="406"/>
                  </a:lnTo>
                  <a:lnTo>
                    <a:pt x="230" y="406"/>
                  </a:lnTo>
                  <a:lnTo>
                    <a:pt x="230" y="403"/>
                  </a:lnTo>
                  <a:lnTo>
                    <a:pt x="234" y="403"/>
                  </a:lnTo>
                  <a:lnTo>
                    <a:pt x="238" y="406"/>
                  </a:lnTo>
                  <a:lnTo>
                    <a:pt x="241" y="403"/>
                  </a:lnTo>
                  <a:lnTo>
                    <a:pt x="245" y="411"/>
                  </a:lnTo>
                  <a:lnTo>
                    <a:pt x="257" y="416"/>
                  </a:lnTo>
                  <a:lnTo>
                    <a:pt x="266" y="416"/>
                  </a:lnTo>
                  <a:lnTo>
                    <a:pt x="266" y="419"/>
                  </a:lnTo>
                  <a:lnTo>
                    <a:pt x="257" y="416"/>
                  </a:lnTo>
                  <a:lnTo>
                    <a:pt x="254" y="416"/>
                  </a:lnTo>
                  <a:lnTo>
                    <a:pt x="257" y="416"/>
                  </a:lnTo>
                  <a:lnTo>
                    <a:pt x="254" y="414"/>
                  </a:lnTo>
                  <a:lnTo>
                    <a:pt x="245" y="416"/>
                  </a:lnTo>
                  <a:lnTo>
                    <a:pt x="241" y="411"/>
                  </a:lnTo>
                  <a:lnTo>
                    <a:pt x="238" y="411"/>
                  </a:lnTo>
                  <a:lnTo>
                    <a:pt x="234" y="411"/>
                  </a:lnTo>
                  <a:lnTo>
                    <a:pt x="241" y="416"/>
                  </a:lnTo>
                  <a:lnTo>
                    <a:pt x="245" y="416"/>
                  </a:lnTo>
                  <a:lnTo>
                    <a:pt x="245" y="419"/>
                  </a:lnTo>
                  <a:lnTo>
                    <a:pt x="245" y="421"/>
                  </a:lnTo>
                  <a:lnTo>
                    <a:pt x="254" y="421"/>
                  </a:lnTo>
                  <a:lnTo>
                    <a:pt x="257" y="421"/>
                  </a:lnTo>
                  <a:lnTo>
                    <a:pt x="262" y="421"/>
                  </a:lnTo>
                  <a:lnTo>
                    <a:pt x="262" y="419"/>
                  </a:lnTo>
                  <a:lnTo>
                    <a:pt x="257" y="416"/>
                  </a:lnTo>
                  <a:lnTo>
                    <a:pt x="266" y="421"/>
                  </a:lnTo>
                  <a:lnTo>
                    <a:pt x="270" y="424"/>
                  </a:lnTo>
                  <a:lnTo>
                    <a:pt x="262" y="421"/>
                  </a:lnTo>
                  <a:lnTo>
                    <a:pt x="266" y="424"/>
                  </a:lnTo>
                  <a:lnTo>
                    <a:pt x="270" y="416"/>
                  </a:lnTo>
                  <a:lnTo>
                    <a:pt x="270" y="414"/>
                  </a:lnTo>
                  <a:lnTo>
                    <a:pt x="282" y="416"/>
                  </a:lnTo>
                  <a:lnTo>
                    <a:pt x="279" y="416"/>
                  </a:lnTo>
                  <a:lnTo>
                    <a:pt x="279" y="414"/>
                  </a:lnTo>
                  <a:lnTo>
                    <a:pt x="279" y="411"/>
                  </a:lnTo>
                  <a:lnTo>
                    <a:pt x="286" y="419"/>
                  </a:lnTo>
                  <a:lnTo>
                    <a:pt x="282" y="419"/>
                  </a:lnTo>
                  <a:lnTo>
                    <a:pt x="286" y="421"/>
                  </a:lnTo>
                  <a:lnTo>
                    <a:pt x="290" y="421"/>
                  </a:lnTo>
                  <a:lnTo>
                    <a:pt x="294" y="421"/>
                  </a:lnTo>
                  <a:lnTo>
                    <a:pt x="294" y="424"/>
                  </a:lnTo>
                  <a:lnTo>
                    <a:pt x="290" y="421"/>
                  </a:lnTo>
                  <a:lnTo>
                    <a:pt x="282" y="421"/>
                  </a:lnTo>
                  <a:lnTo>
                    <a:pt x="282" y="424"/>
                  </a:lnTo>
                  <a:lnTo>
                    <a:pt x="286" y="424"/>
                  </a:lnTo>
                  <a:lnTo>
                    <a:pt x="290" y="428"/>
                  </a:lnTo>
                  <a:lnTo>
                    <a:pt x="274" y="433"/>
                  </a:lnTo>
                  <a:lnTo>
                    <a:pt x="274" y="436"/>
                  </a:lnTo>
                  <a:lnTo>
                    <a:pt x="270" y="438"/>
                  </a:lnTo>
                  <a:lnTo>
                    <a:pt x="274" y="440"/>
                  </a:lnTo>
                  <a:lnTo>
                    <a:pt x="270" y="438"/>
                  </a:lnTo>
                  <a:lnTo>
                    <a:pt x="279" y="438"/>
                  </a:lnTo>
                  <a:lnTo>
                    <a:pt x="282" y="440"/>
                  </a:lnTo>
                  <a:lnTo>
                    <a:pt x="286" y="440"/>
                  </a:lnTo>
                  <a:lnTo>
                    <a:pt x="266" y="446"/>
                  </a:lnTo>
                  <a:lnTo>
                    <a:pt x="262" y="443"/>
                  </a:lnTo>
                  <a:close/>
                  <a:moveTo>
                    <a:pt x="319" y="430"/>
                  </a:moveTo>
                  <a:lnTo>
                    <a:pt x="383" y="450"/>
                  </a:lnTo>
                  <a:lnTo>
                    <a:pt x="383" y="455"/>
                  </a:lnTo>
                  <a:lnTo>
                    <a:pt x="383" y="460"/>
                  </a:lnTo>
                  <a:lnTo>
                    <a:pt x="359" y="468"/>
                  </a:lnTo>
                  <a:lnTo>
                    <a:pt x="355" y="468"/>
                  </a:lnTo>
                  <a:lnTo>
                    <a:pt x="307" y="440"/>
                  </a:lnTo>
                  <a:lnTo>
                    <a:pt x="319" y="430"/>
                  </a:lnTo>
                  <a:close/>
                  <a:moveTo>
                    <a:pt x="375" y="403"/>
                  </a:moveTo>
                  <a:lnTo>
                    <a:pt x="407" y="411"/>
                  </a:lnTo>
                  <a:lnTo>
                    <a:pt x="415" y="421"/>
                  </a:lnTo>
                  <a:lnTo>
                    <a:pt x="452" y="438"/>
                  </a:lnTo>
                  <a:lnTo>
                    <a:pt x="443" y="443"/>
                  </a:lnTo>
                  <a:lnTo>
                    <a:pt x="443" y="446"/>
                  </a:lnTo>
                  <a:lnTo>
                    <a:pt x="419" y="443"/>
                  </a:lnTo>
                  <a:lnTo>
                    <a:pt x="415" y="440"/>
                  </a:lnTo>
                  <a:lnTo>
                    <a:pt x="436" y="440"/>
                  </a:lnTo>
                  <a:lnTo>
                    <a:pt x="392" y="426"/>
                  </a:lnTo>
                  <a:lnTo>
                    <a:pt x="371" y="411"/>
                  </a:lnTo>
                  <a:lnTo>
                    <a:pt x="396" y="421"/>
                  </a:lnTo>
                  <a:lnTo>
                    <a:pt x="380" y="414"/>
                  </a:lnTo>
                  <a:lnTo>
                    <a:pt x="380" y="411"/>
                  </a:lnTo>
                  <a:lnTo>
                    <a:pt x="403" y="421"/>
                  </a:lnTo>
                  <a:lnTo>
                    <a:pt x="399" y="416"/>
                  </a:lnTo>
                  <a:lnTo>
                    <a:pt x="411" y="416"/>
                  </a:lnTo>
                  <a:lnTo>
                    <a:pt x="375" y="403"/>
                  </a:lnTo>
                  <a:close/>
                  <a:moveTo>
                    <a:pt x="537" y="485"/>
                  </a:moveTo>
                  <a:lnTo>
                    <a:pt x="569" y="492"/>
                  </a:lnTo>
                  <a:lnTo>
                    <a:pt x="573" y="502"/>
                  </a:lnTo>
                  <a:lnTo>
                    <a:pt x="569" y="502"/>
                  </a:lnTo>
                  <a:lnTo>
                    <a:pt x="564" y="502"/>
                  </a:lnTo>
                  <a:lnTo>
                    <a:pt x="557" y="502"/>
                  </a:lnTo>
                  <a:lnTo>
                    <a:pt x="516" y="490"/>
                  </a:lnTo>
                  <a:lnTo>
                    <a:pt x="516" y="485"/>
                  </a:lnTo>
                  <a:lnTo>
                    <a:pt x="533" y="492"/>
                  </a:lnTo>
                  <a:lnTo>
                    <a:pt x="545" y="490"/>
                  </a:lnTo>
                  <a:lnTo>
                    <a:pt x="537" y="485"/>
                  </a:lnTo>
                  <a:lnTo>
                    <a:pt x="521" y="485"/>
                  </a:lnTo>
                  <a:lnTo>
                    <a:pt x="516" y="480"/>
                  </a:lnTo>
                  <a:lnTo>
                    <a:pt x="541" y="477"/>
                  </a:lnTo>
                  <a:lnTo>
                    <a:pt x="524" y="480"/>
                  </a:lnTo>
                  <a:lnTo>
                    <a:pt x="537" y="485"/>
                  </a:lnTo>
                  <a:close/>
                  <a:moveTo>
                    <a:pt x="274" y="455"/>
                  </a:moveTo>
                  <a:lnTo>
                    <a:pt x="290" y="453"/>
                  </a:lnTo>
                  <a:lnTo>
                    <a:pt x="290" y="455"/>
                  </a:lnTo>
                  <a:lnTo>
                    <a:pt x="307" y="463"/>
                  </a:lnTo>
                  <a:lnTo>
                    <a:pt x="339" y="468"/>
                  </a:lnTo>
                  <a:lnTo>
                    <a:pt x="311" y="468"/>
                  </a:lnTo>
                  <a:lnTo>
                    <a:pt x="290" y="473"/>
                  </a:lnTo>
                  <a:lnTo>
                    <a:pt x="294" y="480"/>
                  </a:lnTo>
                  <a:lnTo>
                    <a:pt x="238" y="475"/>
                  </a:lnTo>
                  <a:lnTo>
                    <a:pt x="193" y="487"/>
                  </a:lnTo>
                  <a:lnTo>
                    <a:pt x="197" y="495"/>
                  </a:lnTo>
                  <a:lnTo>
                    <a:pt x="202" y="497"/>
                  </a:lnTo>
                  <a:lnTo>
                    <a:pt x="209" y="505"/>
                  </a:lnTo>
                  <a:lnTo>
                    <a:pt x="230" y="505"/>
                  </a:lnTo>
                  <a:lnTo>
                    <a:pt x="234" y="515"/>
                  </a:lnTo>
                  <a:lnTo>
                    <a:pt x="241" y="526"/>
                  </a:lnTo>
                  <a:lnTo>
                    <a:pt x="230" y="534"/>
                  </a:lnTo>
                  <a:lnTo>
                    <a:pt x="214" y="529"/>
                  </a:lnTo>
                  <a:lnTo>
                    <a:pt x="193" y="517"/>
                  </a:lnTo>
                  <a:lnTo>
                    <a:pt x="173" y="522"/>
                  </a:lnTo>
                  <a:lnTo>
                    <a:pt x="169" y="529"/>
                  </a:lnTo>
                  <a:lnTo>
                    <a:pt x="169" y="549"/>
                  </a:lnTo>
                  <a:lnTo>
                    <a:pt x="173" y="553"/>
                  </a:lnTo>
                  <a:lnTo>
                    <a:pt x="189" y="571"/>
                  </a:lnTo>
                  <a:lnTo>
                    <a:pt x="214" y="575"/>
                  </a:lnTo>
                  <a:lnTo>
                    <a:pt x="221" y="575"/>
                  </a:lnTo>
                  <a:lnTo>
                    <a:pt x="230" y="578"/>
                  </a:lnTo>
                  <a:lnTo>
                    <a:pt x="234" y="578"/>
                  </a:lnTo>
                  <a:lnTo>
                    <a:pt x="238" y="590"/>
                  </a:lnTo>
                  <a:lnTo>
                    <a:pt x="238" y="588"/>
                  </a:lnTo>
                  <a:lnTo>
                    <a:pt x="262" y="598"/>
                  </a:lnTo>
                  <a:lnTo>
                    <a:pt x="271" y="608"/>
                  </a:lnTo>
                  <a:lnTo>
                    <a:pt x="227" y="630"/>
                  </a:lnTo>
                  <a:lnTo>
                    <a:pt x="151" y="620"/>
                  </a:lnTo>
                  <a:lnTo>
                    <a:pt x="106" y="636"/>
                  </a:lnTo>
                  <a:lnTo>
                    <a:pt x="114" y="658"/>
                  </a:lnTo>
                  <a:lnTo>
                    <a:pt x="141" y="679"/>
                  </a:lnTo>
                  <a:lnTo>
                    <a:pt x="144" y="678"/>
                  </a:lnTo>
                  <a:lnTo>
                    <a:pt x="170" y="679"/>
                  </a:lnTo>
                  <a:lnTo>
                    <a:pt x="176" y="684"/>
                  </a:lnTo>
                  <a:lnTo>
                    <a:pt x="184" y="684"/>
                  </a:lnTo>
                  <a:lnTo>
                    <a:pt x="191" y="681"/>
                  </a:lnTo>
                  <a:lnTo>
                    <a:pt x="193" y="681"/>
                  </a:lnTo>
                  <a:lnTo>
                    <a:pt x="196" y="683"/>
                  </a:lnTo>
                  <a:lnTo>
                    <a:pt x="199" y="682"/>
                  </a:lnTo>
                  <a:lnTo>
                    <a:pt x="200" y="678"/>
                  </a:lnTo>
                  <a:lnTo>
                    <a:pt x="205" y="676"/>
                  </a:lnTo>
                  <a:lnTo>
                    <a:pt x="223" y="680"/>
                  </a:lnTo>
                  <a:lnTo>
                    <a:pt x="245" y="676"/>
                  </a:lnTo>
                  <a:lnTo>
                    <a:pt x="250" y="672"/>
                  </a:lnTo>
                  <a:lnTo>
                    <a:pt x="259" y="672"/>
                  </a:lnTo>
                  <a:lnTo>
                    <a:pt x="279" y="662"/>
                  </a:lnTo>
                  <a:lnTo>
                    <a:pt x="297" y="662"/>
                  </a:lnTo>
                  <a:lnTo>
                    <a:pt x="298" y="666"/>
                  </a:lnTo>
                  <a:lnTo>
                    <a:pt x="303" y="667"/>
                  </a:lnTo>
                  <a:lnTo>
                    <a:pt x="336" y="660"/>
                  </a:lnTo>
                  <a:lnTo>
                    <a:pt x="339" y="656"/>
                  </a:lnTo>
                  <a:lnTo>
                    <a:pt x="351" y="655"/>
                  </a:lnTo>
                  <a:lnTo>
                    <a:pt x="366" y="657"/>
                  </a:lnTo>
                  <a:lnTo>
                    <a:pt x="380" y="659"/>
                  </a:lnTo>
                  <a:lnTo>
                    <a:pt x="401" y="673"/>
                  </a:lnTo>
                  <a:lnTo>
                    <a:pt x="398" y="692"/>
                  </a:lnTo>
                  <a:lnTo>
                    <a:pt x="416" y="697"/>
                  </a:lnTo>
                  <a:lnTo>
                    <a:pt x="417" y="702"/>
                  </a:lnTo>
                  <a:lnTo>
                    <a:pt x="418" y="705"/>
                  </a:lnTo>
                  <a:lnTo>
                    <a:pt x="427" y="718"/>
                  </a:lnTo>
                  <a:lnTo>
                    <a:pt x="423" y="721"/>
                  </a:lnTo>
                  <a:lnTo>
                    <a:pt x="436" y="718"/>
                  </a:lnTo>
                  <a:lnTo>
                    <a:pt x="460" y="721"/>
                  </a:lnTo>
                  <a:lnTo>
                    <a:pt x="472" y="723"/>
                  </a:lnTo>
                  <a:lnTo>
                    <a:pt x="476" y="723"/>
                  </a:lnTo>
                  <a:lnTo>
                    <a:pt x="484" y="725"/>
                  </a:lnTo>
                  <a:lnTo>
                    <a:pt x="492" y="725"/>
                  </a:lnTo>
                  <a:lnTo>
                    <a:pt x="500" y="738"/>
                  </a:lnTo>
                  <a:lnTo>
                    <a:pt x="512" y="741"/>
                  </a:lnTo>
                  <a:lnTo>
                    <a:pt x="524" y="751"/>
                  </a:lnTo>
                  <a:lnTo>
                    <a:pt x="533" y="758"/>
                  </a:lnTo>
                  <a:lnTo>
                    <a:pt x="541" y="760"/>
                  </a:lnTo>
                  <a:lnTo>
                    <a:pt x="516" y="760"/>
                  </a:lnTo>
                  <a:lnTo>
                    <a:pt x="512" y="758"/>
                  </a:lnTo>
                  <a:lnTo>
                    <a:pt x="512" y="770"/>
                  </a:lnTo>
                  <a:lnTo>
                    <a:pt x="508" y="775"/>
                  </a:lnTo>
                  <a:lnTo>
                    <a:pt x="504" y="782"/>
                  </a:lnTo>
                  <a:lnTo>
                    <a:pt x="496" y="785"/>
                  </a:lnTo>
                  <a:lnTo>
                    <a:pt x="512" y="790"/>
                  </a:lnTo>
                  <a:lnTo>
                    <a:pt x="516" y="790"/>
                  </a:lnTo>
                  <a:lnTo>
                    <a:pt x="533" y="785"/>
                  </a:lnTo>
                  <a:lnTo>
                    <a:pt x="545" y="790"/>
                  </a:lnTo>
                  <a:lnTo>
                    <a:pt x="533" y="775"/>
                  </a:lnTo>
                  <a:lnTo>
                    <a:pt x="541" y="780"/>
                  </a:lnTo>
                  <a:lnTo>
                    <a:pt x="553" y="772"/>
                  </a:lnTo>
                  <a:lnTo>
                    <a:pt x="557" y="758"/>
                  </a:lnTo>
                  <a:lnTo>
                    <a:pt x="573" y="753"/>
                  </a:lnTo>
                  <a:lnTo>
                    <a:pt x="589" y="756"/>
                  </a:lnTo>
                  <a:lnTo>
                    <a:pt x="577" y="743"/>
                  </a:lnTo>
                  <a:lnTo>
                    <a:pt x="593" y="756"/>
                  </a:lnTo>
                  <a:lnTo>
                    <a:pt x="614" y="756"/>
                  </a:lnTo>
                  <a:lnTo>
                    <a:pt x="605" y="760"/>
                  </a:lnTo>
                  <a:lnTo>
                    <a:pt x="581" y="758"/>
                  </a:lnTo>
                  <a:lnTo>
                    <a:pt x="597" y="760"/>
                  </a:lnTo>
                  <a:lnTo>
                    <a:pt x="593" y="762"/>
                  </a:lnTo>
                  <a:lnTo>
                    <a:pt x="645" y="765"/>
                  </a:lnTo>
                  <a:lnTo>
                    <a:pt x="653" y="770"/>
                  </a:lnTo>
                  <a:lnTo>
                    <a:pt x="626" y="782"/>
                  </a:lnTo>
                  <a:lnTo>
                    <a:pt x="661" y="790"/>
                  </a:lnTo>
                  <a:lnTo>
                    <a:pt x="661" y="802"/>
                  </a:lnTo>
                  <a:lnTo>
                    <a:pt x="674" y="805"/>
                  </a:lnTo>
                  <a:lnTo>
                    <a:pt x="718" y="787"/>
                  </a:lnTo>
                  <a:lnTo>
                    <a:pt x="746" y="790"/>
                  </a:lnTo>
                  <a:lnTo>
                    <a:pt x="746" y="780"/>
                  </a:lnTo>
                  <a:lnTo>
                    <a:pt x="706" y="780"/>
                  </a:lnTo>
                  <a:lnTo>
                    <a:pt x="682" y="765"/>
                  </a:lnTo>
                  <a:lnTo>
                    <a:pt x="690" y="758"/>
                  </a:lnTo>
                  <a:lnTo>
                    <a:pt x="690" y="767"/>
                  </a:lnTo>
                  <a:lnTo>
                    <a:pt x="706" y="753"/>
                  </a:lnTo>
                  <a:lnTo>
                    <a:pt x="734" y="753"/>
                  </a:lnTo>
                  <a:lnTo>
                    <a:pt x="738" y="748"/>
                  </a:lnTo>
                  <a:lnTo>
                    <a:pt x="766" y="741"/>
                  </a:lnTo>
                  <a:lnTo>
                    <a:pt x="783" y="736"/>
                  </a:lnTo>
                  <a:lnTo>
                    <a:pt x="775" y="741"/>
                  </a:lnTo>
                  <a:lnTo>
                    <a:pt x="798" y="741"/>
                  </a:lnTo>
                  <a:lnTo>
                    <a:pt x="778" y="748"/>
                  </a:lnTo>
                  <a:lnTo>
                    <a:pt x="788" y="751"/>
                  </a:lnTo>
                  <a:lnTo>
                    <a:pt x="759" y="751"/>
                  </a:lnTo>
                  <a:lnTo>
                    <a:pt x="795" y="765"/>
                  </a:lnTo>
                  <a:lnTo>
                    <a:pt x="783" y="770"/>
                  </a:lnTo>
                  <a:lnTo>
                    <a:pt x="778" y="765"/>
                  </a:lnTo>
                  <a:lnTo>
                    <a:pt x="783" y="782"/>
                  </a:lnTo>
                  <a:lnTo>
                    <a:pt x="750" y="785"/>
                  </a:lnTo>
                  <a:lnTo>
                    <a:pt x="831" y="805"/>
                  </a:lnTo>
                  <a:lnTo>
                    <a:pt x="883" y="824"/>
                  </a:lnTo>
                  <a:lnTo>
                    <a:pt x="892" y="819"/>
                  </a:lnTo>
                  <a:lnTo>
                    <a:pt x="916" y="824"/>
                  </a:lnTo>
                  <a:lnTo>
                    <a:pt x="932" y="827"/>
                  </a:lnTo>
                  <a:lnTo>
                    <a:pt x="941" y="827"/>
                  </a:lnTo>
                  <a:lnTo>
                    <a:pt x="964" y="827"/>
                  </a:lnTo>
                  <a:lnTo>
                    <a:pt x="988" y="831"/>
                  </a:lnTo>
                  <a:lnTo>
                    <a:pt x="1013" y="839"/>
                  </a:lnTo>
                  <a:lnTo>
                    <a:pt x="1022" y="839"/>
                  </a:lnTo>
                  <a:lnTo>
                    <a:pt x="1025" y="837"/>
                  </a:lnTo>
                  <a:lnTo>
                    <a:pt x="1045" y="834"/>
                  </a:lnTo>
                  <a:lnTo>
                    <a:pt x="1049" y="837"/>
                  </a:lnTo>
                  <a:lnTo>
                    <a:pt x="1073" y="841"/>
                  </a:lnTo>
                  <a:lnTo>
                    <a:pt x="1078" y="849"/>
                  </a:lnTo>
                  <a:lnTo>
                    <a:pt x="1106" y="854"/>
                  </a:lnTo>
                  <a:lnTo>
                    <a:pt x="1109" y="856"/>
                  </a:lnTo>
                  <a:lnTo>
                    <a:pt x="1134" y="861"/>
                  </a:lnTo>
                  <a:lnTo>
                    <a:pt x="1159" y="868"/>
                  </a:lnTo>
                  <a:lnTo>
                    <a:pt x="1162" y="868"/>
                  </a:lnTo>
                  <a:lnTo>
                    <a:pt x="1162" y="866"/>
                  </a:lnTo>
                  <a:lnTo>
                    <a:pt x="1162" y="861"/>
                  </a:lnTo>
                  <a:lnTo>
                    <a:pt x="1166" y="861"/>
                  </a:lnTo>
                  <a:lnTo>
                    <a:pt x="1171" y="851"/>
                  </a:lnTo>
                  <a:lnTo>
                    <a:pt x="1114" y="827"/>
                  </a:lnTo>
                  <a:lnTo>
                    <a:pt x="1106" y="807"/>
                  </a:lnTo>
                  <a:lnTo>
                    <a:pt x="1086" y="800"/>
                  </a:lnTo>
                  <a:lnTo>
                    <a:pt x="1061" y="792"/>
                  </a:lnTo>
                  <a:lnTo>
                    <a:pt x="1069" y="777"/>
                  </a:lnTo>
                  <a:lnTo>
                    <a:pt x="1058" y="765"/>
                  </a:lnTo>
                  <a:lnTo>
                    <a:pt x="1069" y="770"/>
                  </a:lnTo>
                  <a:lnTo>
                    <a:pt x="1065" y="765"/>
                  </a:lnTo>
                  <a:lnTo>
                    <a:pt x="1098" y="762"/>
                  </a:lnTo>
                  <a:lnTo>
                    <a:pt x="1090" y="756"/>
                  </a:lnTo>
                  <a:lnTo>
                    <a:pt x="1098" y="751"/>
                  </a:lnTo>
                  <a:lnTo>
                    <a:pt x="1098" y="745"/>
                  </a:lnTo>
                  <a:lnTo>
                    <a:pt x="1138" y="731"/>
                  </a:lnTo>
                  <a:lnTo>
                    <a:pt x="1175" y="738"/>
                  </a:lnTo>
                  <a:lnTo>
                    <a:pt x="1190" y="733"/>
                  </a:lnTo>
                  <a:lnTo>
                    <a:pt x="1215" y="748"/>
                  </a:lnTo>
                  <a:lnTo>
                    <a:pt x="1219" y="765"/>
                  </a:lnTo>
                  <a:lnTo>
                    <a:pt x="1239" y="770"/>
                  </a:lnTo>
                  <a:lnTo>
                    <a:pt x="1187" y="770"/>
                  </a:lnTo>
                  <a:lnTo>
                    <a:pt x="1183" y="782"/>
                  </a:lnTo>
                  <a:lnTo>
                    <a:pt x="1206" y="790"/>
                  </a:lnTo>
                  <a:lnTo>
                    <a:pt x="1166" y="790"/>
                  </a:lnTo>
                  <a:lnTo>
                    <a:pt x="1194" y="797"/>
                  </a:lnTo>
                  <a:lnTo>
                    <a:pt x="1227" y="821"/>
                  </a:lnTo>
                  <a:lnTo>
                    <a:pt x="1279" y="829"/>
                  </a:lnTo>
                  <a:lnTo>
                    <a:pt x="1291" y="851"/>
                  </a:lnTo>
                  <a:lnTo>
                    <a:pt x="1320" y="868"/>
                  </a:lnTo>
                  <a:lnTo>
                    <a:pt x="1303" y="854"/>
                  </a:lnTo>
                  <a:lnTo>
                    <a:pt x="1303" y="844"/>
                  </a:lnTo>
                  <a:lnTo>
                    <a:pt x="1320" y="841"/>
                  </a:lnTo>
                  <a:lnTo>
                    <a:pt x="1340" y="851"/>
                  </a:lnTo>
                  <a:lnTo>
                    <a:pt x="1381" y="866"/>
                  </a:lnTo>
                  <a:lnTo>
                    <a:pt x="1364" y="871"/>
                  </a:lnTo>
                  <a:lnTo>
                    <a:pt x="1376" y="876"/>
                  </a:lnTo>
                  <a:lnTo>
                    <a:pt x="1355" y="876"/>
                  </a:lnTo>
                  <a:lnTo>
                    <a:pt x="1348" y="871"/>
                  </a:lnTo>
                  <a:lnTo>
                    <a:pt x="1324" y="868"/>
                  </a:lnTo>
                  <a:lnTo>
                    <a:pt x="1328" y="881"/>
                  </a:lnTo>
                  <a:lnTo>
                    <a:pt x="1348" y="898"/>
                  </a:lnTo>
                  <a:lnTo>
                    <a:pt x="1340" y="891"/>
                  </a:lnTo>
                  <a:lnTo>
                    <a:pt x="1364" y="893"/>
                  </a:lnTo>
                  <a:lnTo>
                    <a:pt x="1364" y="898"/>
                  </a:lnTo>
                  <a:lnTo>
                    <a:pt x="1376" y="903"/>
                  </a:lnTo>
                  <a:lnTo>
                    <a:pt x="1360" y="903"/>
                  </a:lnTo>
                  <a:lnTo>
                    <a:pt x="1368" y="910"/>
                  </a:lnTo>
                  <a:lnTo>
                    <a:pt x="1364" y="906"/>
                  </a:lnTo>
                  <a:lnTo>
                    <a:pt x="1396" y="915"/>
                  </a:lnTo>
                  <a:lnTo>
                    <a:pt x="1425" y="952"/>
                  </a:lnTo>
                  <a:lnTo>
                    <a:pt x="1449" y="950"/>
                  </a:lnTo>
                  <a:lnTo>
                    <a:pt x="1461" y="935"/>
                  </a:lnTo>
                  <a:lnTo>
                    <a:pt x="1513" y="928"/>
                  </a:lnTo>
                  <a:lnTo>
                    <a:pt x="1525" y="935"/>
                  </a:lnTo>
                  <a:lnTo>
                    <a:pt x="1593" y="943"/>
                  </a:lnTo>
                  <a:lnTo>
                    <a:pt x="1610" y="950"/>
                  </a:lnTo>
                  <a:lnTo>
                    <a:pt x="1647" y="964"/>
                  </a:lnTo>
                  <a:lnTo>
                    <a:pt x="1671" y="962"/>
                  </a:lnTo>
                  <a:lnTo>
                    <a:pt x="1699" y="986"/>
                  </a:lnTo>
                  <a:lnTo>
                    <a:pt x="1740" y="997"/>
                  </a:lnTo>
                  <a:lnTo>
                    <a:pt x="1759" y="989"/>
                  </a:lnTo>
                  <a:lnTo>
                    <a:pt x="1751" y="979"/>
                  </a:lnTo>
                  <a:lnTo>
                    <a:pt x="1779" y="974"/>
                  </a:lnTo>
                  <a:lnTo>
                    <a:pt x="1788" y="964"/>
                  </a:lnTo>
                  <a:lnTo>
                    <a:pt x="1776" y="947"/>
                  </a:lnTo>
                  <a:lnTo>
                    <a:pt x="1801" y="945"/>
                  </a:lnTo>
                  <a:lnTo>
                    <a:pt x="1801" y="937"/>
                  </a:lnTo>
                  <a:lnTo>
                    <a:pt x="1828" y="940"/>
                  </a:lnTo>
                  <a:lnTo>
                    <a:pt x="1869" y="943"/>
                  </a:lnTo>
                  <a:lnTo>
                    <a:pt x="1873" y="943"/>
                  </a:lnTo>
                  <a:lnTo>
                    <a:pt x="1869" y="943"/>
                  </a:lnTo>
                  <a:lnTo>
                    <a:pt x="1885" y="950"/>
                  </a:lnTo>
                  <a:lnTo>
                    <a:pt x="1900" y="937"/>
                  </a:lnTo>
                  <a:lnTo>
                    <a:pt x="1921" y="940"/>
                  </a:lnTo>
                  <a:lnTo>
                    <a:pt x="1917" y="932"/>
                  </a:lnTo>
                  <a:lnTo>
                    <a:pt x="1938" y="930"/>
                  </a:lnTo>
                  <a:lnTo>
                    <a:pt x="1925" y="923"/>
                  </a:lnTo>
                  <a:lnTo>
                    <a:pt x="1938" y="910"/>
                  </a:lnTo>
                  <a:lnTo>
                    <a:pt x="1958" y="912"/>
                  </a:lnTo>
                  <a:lnTo>
                    <a:pt x="1962" y="923"/>
                  </a:lnTo>
                  <a:lnTo>
                    <a:pt x="1974" y="923"/>
                  </a:lnTo>
                  <a:lnTo>
                    <a:pt x="1985" y="943"/>
                  </a:lnTo>
                  <a:lnTo>
                    <a:pt x="2006" y="950"/>
                  </a:lnTo>
                  <a:lnTo>
                    <a:pt x="2039" y="930"/>
                  </a:lnTo>
                  <a:lnTo>
                    <a:pt x="2051" y="930"/>
                  </a:lnTo>
                  <a:lnTo>
                    <a:pt x="2055" y="935"/>
                  </a:lnTo>
                  <a:lnTo>
                    <a:pt x="2071" y="930"/>
                  </a:lnTo>
                  <a:lnTo>
                    <a:pt x="2091" y="935"/>
                  </a:lnTo>
                  <a:lnTo>
                    <a:pt x="2095" y="930"/>
                  </a:lnTo>
                  <a:lnTo>
                    <a:pt x="2058" y="906"/>
                  </a:lnTo>
                  <a:lnTo>
                    <a:pt x="2030" y="906"/>
                  </a:lnTo>
                  <a:lnTo>
                    <a:pt x="2010" y="895"/>
                  </a:lnTo>
                  <a:lnTo>
                    <a:pt x="1994" y="883"/>
                  </a:lnTo>
                  <a:lnTo>
                    <a:pt x="1989" y="868"/>
                  </a:lnTo>
                  <a:lnTo>
                    <a:pt x="2006" y="861"/>
                  </a:lnTo>
                  <a:lnTo>
                    <a:pt x="2018" y="851"/>
                  </a:lnTo>
                  <a:lnTo>
                    <a:pt x="2034" y="861"/>
                  </a:lnTo>
                  <a:lnTo>
                    <a:pt x="2051" y="858"/>
                  </a:lnTo>
                  <a:lnTo>
                    <a:pt x="2046" y="841"/>
                  </a:lnTo>
                  <a:lnTo>
                    <a:pt x="2082" y="839"/>
                  </a:lnTo>
                  <a:lnTo>
                    <a:pt x="2082" y="827"/>
                  </a:lnTo>
                  <a:lnTo>
                    <a:pt x="2115" y="814"/>
                  </a:lnTo>
                  <a:lnTo>
                    <a:pt x="2107" y="810"/>
                  </a:lnTo>
                  <a:lnTo>
                    <a:pt x="2099" y="807"/>
                  </a:lnTo>
                  <a:lnTo>
                    <a:pt x="2107" y="810"/>
                  </a:lnTo>
                  <a:lnTo>
                    <a:pt x="2091" y="800"/>
                  </a:lnTo>
                  <a:lnTo>
                    <a:pt x="2095" y="792"/>
                  </a:lnTo>
                  <a:lnTo>
                    <a:pt x="2095" y="787"/>
                  </a:lnTo>
                  <a:lnTo>
                    <a:pt x="2046" y="765"/>
                  </a:lnTo>
                  <a:lnTo>
                    <a:pt x="2030" y="751"/>
                  </a:lnTo>
                  <a:lnTo>
                    <a:pt x="2010" y="748"/>
                  </a:lnTo>
                  <a:lnTo>
                    <a:pt x="2042" y="736"/>
                  </a:lnTo>
                  <a:lnTo>
                    <a:pt x="2074" y="738"/>
                  </a:lnTo>
                  <a:lnTo>
                    <a:pt x="2055" y="728"/>
                  </a:lnTo>
                  <a:lnTo>
                    <a:pt x="2010" y="689"/>
                  </a:lnTo>
                  <a:lnTo>
                    <a:pt x="2071" y="696"/>
                  </a:lnTo>
                  <a:lnTo>
                    <a:pt x="2082" y="687"/>
                  </a:lnTo>
                  <a:lnTo>
                    <a:pt x="2051" y="669"/>
                  </a:lnTo>
                  <a:lnTo>
                    <a:pt x="2039" y="660"/>
                  </a:lnTo>
                  <a:lnTo>
                    <a:pt x="2055" y="655"/>
                  </a:lnTo>
                  <a:lnTo>
                    <a:pt x="2039" y="642"/>
                  </a:lnTo>
                  <a:lnTo>
                    <a:pt x="2051" y="640"/>
                  </a:lnTo>
                  <a:lnTo>
                    <a:pt x="2058" y="637"/>
                  </a:lnTo>
                  <a:lnTo>
                    <a:pt x="2058" y="630"/>
                  </a:lnTo>
                  <a:lnTo>
                    <a:pt x="2082" y="627"/>
                  </a:lnTo>
                  <a:lnTo>
                    <a:pt x="2074" y="618"/>
                  </a:lnTo>
                  <a:lnTo>
                    <a:pt x="2099" y="593"/>
                  </a:lnTo>
                  <a:lnTo>
                    <a:pt x="2123" y="595"/>
                  </a:lnTo>
                  <a:lnTo>
                    <a:pt x="2159" y="595"/>
                  </a:lnTo>
                  <a:lnTo>
                    <a:pt x="2192" y="608"/>
                  </a:lnTo>
                  <a:lnTo>
                    <a:pt x="2268" y="608"/>
                  </a:lnTo>
                  <a:lnTo>
                    <a:pt x="2264" y="595"/>
                  </a:lnTo>
                  <a:lnTo>
                    <a:pt x="2220" y="581"/>
                  </a:lnTo>
                  <a:lnTo>
                    <a:pt x="2192" y="552"/>
                  </a:lnTo>
                  <a:lnTo>
                    <a:pt x="2304" y="564"/>
                  </a:lnTo>
                  <a:lnTo>
                    <a:pt x="2345" y="581"/>
                  </a:lnTo>
                  <a:lnTo>
                    <a:pt x="2389" y="586"/>
                  </a:lnTo>
                  <a:lnTo>
                    <a:pt x="2422" y="575"/>
                  </a:lnTo>
                  <a:lnTo>
                    <a:pt x="2474" y="581"/>
                  </a:lnTo>
                  <a:lnTo>
                    <a:pt x="2507" y="583"/>
                  </a:lnTo>
                  <a:lnTo>
                    <a:pt x="2551" y="595"/>
                  </a:lnTo>
                  <a:lnTo>
                    <a:pt x="2611" y="595"/>
                  </a:lnTo>
                  <a:lnTo>
                    <a:pt x="2640" y="583"/>
                  </a:lnTo>
                  <a:lnTo>
                    <a:pt x="2632" y="561"/>
                  </a:lnTo>
                  <a:lnTo>
                    <a:pt x="2676" y="569"/>
                  </a:lnTo>
                  <a:lnTo>
                    <a:pt x="2708" y="566"/>
                  </a:lnTo>
                  <a:lnTo>
                    <a:pt x="2753" y="571"/>
                  </a:lnTo>
                  <a:lnTo>
                    <a:pt x="2753" y="556"/>
                  </a:lnTo>
                  <a:lnTo>
                    <a:pt x="2733" y="549"/>
                  </a:lnTo>
                  <a:lnTo>
                    <a:pt x="2664" y="505"/>
                  </a:lnTo>
                  <a:lnTo>
                    <a:pt x="2640" y="497"/>
                  </a:lnTo>
                  <a:lnTo>
                    <a:pt x="2611" y="492"/>
                  </a:lnTo>
                  <a:lnTo>
                    <a:pt x="2596" y="480"/>
                  </a:lnTo>
                  <a:lnTo>
                    <a:pt x="2611" y="475"/>
                  </a:lnTo>
                  <a:lnTo>
                    <a:pt x="2652" y="470"/>
                  </a:lnTo>
                  <a:lnTo>
                    <a:pt x="2704" y="473"/>
                  </a:lnTo>
                  <a:lnTo>
                    <a:pt x="2780" y="490"/>
                  </a:lnTo>
                  <a:lnTo>
                    <a:pt x="2942" y="541"/>
                  </a:lnTo>
                  <a:lnTo>
                    <a:pt x="3007" y="544"/>
                  </a:lnTo>
                  <a:lnTo>
                    <a:pt x="3055" y="553"/>
                  </a:lnTo>
                  <a:lnTo>
                    <a:pt x="3064" y="553"/>
                  </a:lnTo>
                  <a:lnTo>
                    <a:pt x="3140" y="578"/>
                  </a:lnTo>
                  <a:lnTo>
                    <a:pt x="3144" y="581"/>
                  </a:lnTo>
                  <a:lnTo>
                    <a:pt x="3173" y="573"/>
                  </a:lnTo>
                  <a:lnTo>
                    <a:pt x="3161" y="564"/>
                  </a:lnTo>
                  <a:lnTo>
                    <a:pt x="3173" y="553"/>
                  </a:lnTo>
                  <a:lnTo>
                    <a:pt x="3185" y="556"/>
                  </a:lnTo>
                  <a:lnTo>
                    <a:pt x="3221" y="569"/>
                  </a:lnTo>
                  <a:lnTo>
                    <a:pt x="3233" y="578"/>
                  </a:lnTo>
                  <a:lnTo>
                    <a:pt x="3338" y="635"/>
                  </a:lnTo>
                  <a:lnTo>
                    <a:pt x="3338" y="637"/>
                  </a:lnTo>
                  <a:lnTo>
                    <a:pt x="3306" y="635"/>
                  </a:lnTo>
                  <a:lnTo>
                    <a:pt x="3298" y="632"/>
                  </a:lnTo>
                  <a:lnTo>
                    <a:pt x="3306" y="637"/>
                  </a:lnTo>
                  <a:lnTo>
                    <a:pt x="3306" y="647"/>
                  </a:lnTo>
                  <a:lnTo>
                    <a:pt x="3318" y="650"/>
                  </a:lnTo>
                  <a:lnTo>
                    <a:pt x="3358" y="665"/>
                  </a:lnTo>
                  <a:lnTo>
                    <a:pt x="3394" y="679"/>
                  </a:lnTo>
                  <a:lnTo>
                    <a:pt x="3419" y="691"/>
                  </a:lnTo>
                  <a:lnTo>
                    <a:pt x="3411" y="699"/>
                  </a:lnTo>
                  <a:lnTo>
                    <a:pt x="3431" y="706"/>
                  </a:lnTo>
                  <a:lnTo>
                    <a:pt x="3439" y="709"/>
                  </a:lnTo>
                  <a:lnTo>
                    <a:pt x="3419" y="699"/>
                  </a:lnTo>
                  <a:lnTo>
                    <a:pt x="3435" y="699"/>
                  </a:lnTo>
                  <a:lnTo>
                    <a:pt x="3411" y="679"/>
                  </a:lnTo>
                  <a:lnTo>
                    <a:pt x="3414" y="679"/>
                  </a:lnTo>
                  <a:lnTo>
                    <a:pt x="3423" y="687"/>
                  </a:lnTo>
                  <a:lnTo>
                    <a:pt x="3423" y="679"/>
                  </a:lnTo>
                  <a:lnTo>
                    <a:pt x="3447" y="691"/>
                  </a:lnTo>
                  <a:lnTo>
                    <a:pt x="3476" y="694"/>
                  </a:lnTo>
                  <a:lnTo>
                    <a:pt x="3476" y="667"/>
                  </a:lnTo>
                  <a:lnTo>
                    <a:pt x="3399" y="606"/>
                  </a:lnTo>
                  <a:lnTo>
                    <a:pt x="3281" y="536"/>
                  </a:lnTo>
                  <a:lnTo>
                    <a:pt x="3185" y="497"/>
                  </a:lnTo>
                  <a:lnTo>
                    <a:pt x="3137" y="485"/>
                  </a:lnTo>
                  <a:lnTo>
                    <a:pt x="3059" y="448"/>
                  </a:lnTo>
                  <a:lnTo>
                    <a:pt x="3031" y="446"/>
                  </a:lnTo>
                  <a:lnTo>
                    <a:pt x="3003" y="433"/>
                  </a:lnTo>
                  <a:lnTo>
                    <a:pt x="2975" y="430"/>
                  </a:lnTo>
                  <a:lnTo>
                    <a:pt x="2975" y="424"/>
                  </a:lnTo>
                  <a:lnTo>
                    <a:pt x="2873" y="406"/>
                  </a:lnTo>
                  <a:lnTo>
                    <a:pt x="2853" y="411"/>
                  </a:lnTo>
                  <a:lnTo>
                    <a:pt x="2906" y="428"/>
                  </a:lnTo>
                  <a:lnTo>
                    <a:pt x="2873" y="419"/>
                  </a:lnTo>
                  <a:lnTo>
                    <a:pt x="2886" y="430"/>
                  </a:lnTo>
                  <a:lnTo>
                    <a:pt x="2866" y="421"/>
                  </a:lnTo>
                  <a:lnTo>
                    <a:pt x="2846" y="419"/>
                  </a:lnTo>
                  <a:lnTo>
                    <a:pt x="2837" y="414"/>
                  </a:lnTo>
                  <a:lnTo>
                    <a:pt x="2842" y="419"/>
                  </a:lnTo>
                  <a:lnTo>
                    <a:pt x="2866" y="426"/>
                  </a:lnTo>
                  <a:lnTo>
                    <a:pt x="2857" y="426"/>
                  </a:lnTo>
                  <a:lnTo>
                    <a:pt x="2801" y="409"/>
                  </a:lnTo>
                  <a:lnTo>
                    <a:pt x="2769" y="411"/>
                  </a:lnTo>
                  <a:lnTo>
                    <a:pt x="2753" y="406"/>
                  </a:lnTo>
                  <a:lnTo>
                    <a:pt x="2691" y="367"/>
                  </a:lnTo>
                  <a:lnTo>
                    <a:pt x="2623" y="332"/>
                  </a:lnTo>
                  <a:lnTo>
                    <a:pt x="2547" y="298"/>
                  </a:lnTo>
                  <a:lnTo>
                    <a:pt x="2571" y="286"/>
                  </a:lnTo>
                  <a:lnTo>
                    <a:pt x="2599" y="288"/>
                  </a:lnTo>
                  <a:lnTo>
                    <a:pt x="2579" y="283"/>
                  </a:lnTo>
                  <a:lnTo>
                    <a:pt x="2608" y="278"/>
                  </a:lnTo>
                  <a:lnTo>
                    <a:pt x="2628" y="281"/>
                  </a:lnTo>
                  <a:lnTo>
                    <a:pt x="2608" y="276"/>
                  </a:lnTo>
                  <a:lnTo>
                    <a:pt x="2596" y="268"/>
                  </a:lnTo>
                  <a:lnTo>
                    <a:pt x="2635" y="271"/>
                  </a:lnTo>
                  <a:lnTo>
                    <a:pt x="2632" y="266"/>
                  </a:lnTo>
                  <a:lnTo>
                    <a:pt x="2672" y="271"/>
                  </a:lnTo>
                  <a:lnTo>
                    <a:pt x="2668" y="276"/>
                  </a:lnTo>
                  <a:lnTo>
                    <a:pt x="2691" y="281"/>
                  </a:lnTo>
                  <a:lnTo>
                    <a:pt x="2688" y="274"/>
                  </a:lnTo>
                  <a:lnTo>
                    <a:pt x="2708" y="274"/>
                  </a:lnTo>
                  <a:lnTo>
                    <a:pt x="2684" y="266"/>
                  </a:lnTo>
                  <a:lnTo>
                    <a:pt x="2708" y="268"/>
                  </a:lnTo>
                  <a:lnTo>
                    <a:pt x="2712" y="264"/>
                  </a:lnTo>
                  <a:lnTo>
                    <a:pt x="2680" y="256"/>
                  </a:lnTo>
                  <a:lnTo>
                    <a:pt x="2676" y="261"/>
                  </a:lnTo>
                  <a:lnTo>
                    <a:pt x="2640" y="251"/>
                  </a:lnTo>
                  <a:lnTo>
                    <a:pt x="2511" y="207"/>
                  </a:lnTo>
                  <a:lnTo>
                    <a:pt x="2543" y="202"/>
                  </a:lnTo>
                  <a:lnTo>
                    <a:pt x="2523" y="195"/>
                  </a:lnTo>
                  <a:lnTo>
                    <a:pt x="2538" y="197"/>
                  </a:lnTo>
                  <a:lnTo>
                    <a:pt x="2579" y="210"/>
                  </a:lnTo>
                  <a:lnTo>
                    <a:pt x="2611" y="214"/>
                  </a:lnTo>
                  <a:lnTo>
                    <a:pt x="2608" y="212"/>
                  </a:lnTo>
                  <a:lnTo>
                    <a:pt x="2644" y="219"/>
                  </a:lnTo>
                  <a:lnTo>
                    <a:pt x="2608" y="207"/>
                  </a:lnTo>
                  <a:lnTo>
                    <a:pt x="2571" y="195"/>
                  </a:lnTo>
                  <a:lnTo>
                    <a:pt x="2579" y="190"/>
                  </a:lnTo>
                  <a:lnTo>
                    <a:pt x="2495" y="175"/>
                  </a:lnTo>
                  <a:lnTo>
                    <a:pt x="2527" y="170"/>
                  </a:lnTo>
                  <a:lnTo>
                    <a:pt x="2531" y="177"/>
                  </a:lnTo>
                  <a:lnTo>
                    <a:pt x="2616" y="195"/>
                  </a:lnTo>
                  <a:lnTo>
                    <a:pt x="2656" y="204"/>
                  </a:lnTo>
                  <a:lnTo>
                    <a:pt x="2676" y="217"/>
                  </a:lnTo>
                  <a:lnTo>
                    <a:pt x="2853" y="276"/>
                  </a:lnTo>
                  <a:lnTo>
                    <a:pt x="2850" y="283"/>
                  </a:lnTo>
                  <a:lnTo>
                    <a:pt x="2906" y="298"/>
                  </a:lnTo>
                  <a:lnTo>
                    <a:pt x="2934" y="308"/>
                  </a:lnTo>
                  <a:lnTo>
                    <a:pt x="3052" y="342"/>
                  </a:lnTo>
                  <a:lnTo>
                    <a:pt x="3083" y="347"/>
                  </a:lnTo>
                  <a:lnTo>
                    <a:pt x="3095" y="352"/>
                  </a:lnTo>
                  <a:lnTo>
                    <a:pt x="3140" y="362"/>
                  </a:lnTo>
                  <a:lnTo>
                    <a:pt x="3161" y="367"/>
                  </a:lnTo>
                  <a:lnTo>
                    <a:pt x="3185" y="372"/>
                  </a:lnTo>
                  <a:lnTo>
                    <a:pt x="3229" y="384"/>
                  </a:lnTo>
                  <a:lnTo>
                    <a:pt x="3241" y="386"/>
                  </a:lnTo>
                  <a:lnTo>
                    <a:pt x="3402" y="428"/>
                  </a:lnTo>
                  <a:lnTo>
                    <a:pt x="3346" y="399"/>
                  </a:lnTo>
                  <a:lnTo>
                    <a:pt x="3261" y="377"/>
                  </a:lnTo>
                  <a:lnTo>
                    <a:pt x="3261" y="365"/>
                  </a:lnTo>
                  <a:lnTo>
                    <a:pt x="3277" y="369"/>
                  </a:lnTo>
                  <a:lnTo>
                    <a:pt x="3241" y="360"/>
                  </a:lnTo>
                  <a:lnTo>
                    <a:pt x="3192" y="345"/>
                  </a:lnTo>
                  <a:lnTo>
                    <a:pt x="3173" y="334"/>
                  </a:lnTo>
                  <a:lnTo>
                    <a:pt x="3173" y="325"/>
                  </a:lnTo>
                  <a:lnTo>
                    <a:pt x="3104" y="313"/>
                  </a:lnTo>
                  <a:lnTo>
                    <a:pt x="3036" y="293"/>
                  </a:lnTo>
                  <a:lnTo>
                    <a:pt x="3039" y="288"/>
                  </a:lnTo>
                  <a:lnTo>
                    <a:pt x="3052" y="295"/>
                  </a:lnTo>
                  <a:lnTo>
                    <a:pt x="3072" y="298"/>
                  </a:lnTo>
                  <a:lnTo>
                    <a:pt x="3064" y="293"/>
                  </a:lnTo>
                  <a:lnTo>
                    <a:pt x="3014" y="283"/>
                  </a:lnTo>
                  <a:lnTo>
                    <a:pt x="2958" y="274"/>
                  </a:lnTo>
                  <a:lnTo>
                    <a:pt x="2926" y="264"/>
                  </a:lnTo>
                  <a:lnTo>
                    <a:pt x="2902" y="261"/>
                  </a:lnTo>
                  <a:lnTo>
                    <a:pt x="2915" y="266"/>
                  </a:lnTo>
                  <a:lnTo>
                    <a:pt x="2886" y="261"/>
                  </a:lnTo>
                  <a:lnTo>
                    <a:pt x="2801" y="239"/>
                  </a:lnTo>
                  <a:lnTo>
                    <a:pt x="2814" y="239"/>
                  </a:lnTo>
                  <a:lnTo>
                    <a:pt x="2729" y="219"/>
                  </a:lnTo>
                  <a:lnTo>
                    <a:pt x="2753" y="219"/>
                  </a:lnTo>
                  <a:lnTo>
                    <a:pt x="2741" y="217"/>
                  </a:lnTo>
                  <a:lnTo>
                    <a:pt x="2765" y="219"/>
                  </a:lnTo>
                  <a:lnTo>
                    <a:pt x="2745" y="214"/>
                  </a:lnTo>
                  <a:lnTo>
                    <a:pt x="2712" y="202"/>
                  </a:lnTo>
                  <a:lnTo>
                    <a:pt x="2772" y="214"/>
                  </a:lnTo>
                  <a:lnTo>
                    <a:pt x="2761" y="210"/>
                  </a:lnTo>
                  <a:lnTo>
                    <a:pt x="2724" y="199"/>
                  </a:lnTo>
                  <a:lnTo>
                    <a:pt x="2729" y="190"/>
                  </a:lnTo>
                  <a:lnTo>
                    <a:pt x="2805" y="199"/>
                  </a:lnTo>
                  <a:lnTo>
                    <a:pt x="2757" y="187"/>
                  </a:lnTo>
                  <a:lnTo>
                    <a:pt x="2733" y="175"/>
                  </a:lnTo>
                  <a:lnTo>
                    <a:pt x="2708" y="173"/>
                  </a:lnTo>
                  <a:lnTo>
                    <a:pt x="2680" y="163"/>
                  </a:lnTo>
                  <a:lnTo>
                    <a:pt x="2656" y="155"/>
                  </a:lnTo>
                  <a:lnTo>
                    <a:pt x="2604" y="128"/>
                  </a:lnTo>
                  <a:lnTo>
                    <a:pt x="2571" y="126"/>
                  </a:lnTo>
                  <a:lnTo>
                    <a:pt x="2579" y="123"/>
                  </a:lnTo>
                  <a:lnTo>
                    <a:pt x="2604" y="128"/>
                  </a:lnTo>
                  <a:lnTo>
                    <a:pt x="2644" y="128"/>
                  </a:lnTo>
                  <a:lnTo>
                    <a:pt x="2599" y="119"/>
                  </a:lnTo>
                  <a:lnTo>
                    <a:pt x="2511" y="108"/>
                  </a:lnTo>
                  <a:lnTo>
                    <a:pt x="2531" y="111"/>
                  </a:lnTo>
                  <a:lnTo>
                    <a:pt x="2511" y="111"/>
                  </a:lnTo>
                  <a:lnTo>
                    <a:pt x="2507" y="106"/>
                  </a:lnTo>
                  <a:lnTo>
                    <a:pt x="2422" y="96"/>
                  </a:lnTo>
                  <a:lnTo>
                    <a:pt x="2446" y="101"/>
                  </a:lnTo>
                  <a:lnTo>
                    <a:pt x="2418" y="99"/>
                  </a:lnTo>
                  <a:lnTo>
                    <a:pt x="2381" y="94"/>
                  </a:lnTo>
                  <a:lnTo>
                    <a:pt x="2401" y="101"/>
                  </a:lnTo>
                  <a:lnTo>
                    <a:pt x="2361" y="96"/>
                  </a:lnTo>
                  <a:lnTo>
                    <a:pt x="2373" y="106"/>
                  </a:lnTo>
                  <a:lnTo>
                    <a:pt x="2358" y="96"/>
                  </a:lnTo>
                  <a:lnTo>
                    <a:pt x="2381" y="94"/>
                  </a:lnTo>
                  <a:lnTo>
                    <a:pt x="2345" y="94"/>
                  </a:lnTo>
                  <a:lnTo>
                    <a:pt x="2410" y="94"/>
                  </a:lnTo>
                  <a:lnTo>
                    <a:pt x="2389" y="87"/>
                  </a:lnTo>
                  <a:lnTo>
                    <a:pt x="2370" y="81"/>
                  </a:lnTo>
                  <a:lnTo>
                    <a:pt x="1941" y="30"/>
                  </a:lnTo>
                  <a:lnTo>
                    <a:pt x="1852" y="30"/>
                  </a:lnTo>
                  <a:lnTo>
                    <a:pt x="1840" y="38"/>
                  </a:lnTo>
                  <a:lnTo>
                    <a:pt x="1801" y="40"/>
                  </a:lnTo>
                  <a:lnTo>
                    <a:pt x="1837" y="45"/>
                  </a:lnTo>
                  <a:lnTo>
                    <a:pt x="1852" y="49"/>
                  </a:lnTo>
                  <a:lnTo>
                    <a:pt x="1917" y="54"/>
                  </a:lnTo>
                  <a:lnTo>
                    <a:pt x="1945" y="59"/>
                  </a:lnTo>
                  <a:lnTo>
                    <a:pt x="1933" y="62"/>
                  </a:lnTo>
                  <a:lnTo>
                    <a:pt x="1881" y="59"/>
                  </a:lnTo>
                  <a:lnTo>
                    <a:pt x="1824" y="52"/>
                  </a:lnTo>
                  <a:lnTo>
                    <a:pt x="1849" y="59"/>
                  </a:lnTo>
                  <a:lnTo>
                    <a:pt x="1804" y="67"/>
                  </a:lnTo>
                  <a:lnTo>
                    <a:pt x="1828" y="74"/>
                  </a:lnTo>
                  <a:lnTo>
                    <a:pt x="1909" y="87"/>
                  </a:lnTo>
                  <a:lnTo>
                    <a:pt x="1905" y="89"/>
                  </a:lnTo>
                  <a:lnTo>
                    <a:pt x="1804" y="72"/>
                  </a:lnTo>
                  <a:lnTo>
                    <a:pt x="1784" y="74"/>
                  </a:lnTo>
                  <a:lnTo>
                    <a:pt x="1732" y="64"/>
                  </a:lnTo>
                  <a:lnTo>
                    <a:pt x="1671" y="59"/>
                  </a:lnTo>
                  <a:lnTo>
                    <a:pt x="1627" y="64"/>
                  </a:lnTo>
                  <a:lnTo>
                    <a:pt x="1635" y="77"/>
                  </a:lnTo>
                  <a:lnTo>
                    <a:pt x="1570" y="72"/>
                  </a:lnTo>
                  <a:lnTo>
                    <a:pt x="1579" y="77"/>
                  </a:lnTo>
                  <a:lnTo>
                    <a:pt x="1554" y="72"/>
                  </a:lnTo>
                  <a:lnTo>
                    <a:pt x="1521" y="72"/>
                  </a:lnTo>
                  <a:lnTo>
                    <a:pt x="1505" y="67"/>
                  </a:lnTo>
                  <a:lnTo>
                    <a:pt x="1456" y="64"/>
                  </a:lnTo>
                  <a:lnTo>
                    <a:pt x="1449" y="67"/>
                  </a:lnTo>
                  <a:lnTo>
                    <a:pt x="1494" y="77"/>
                  </a:lnTo>
                  <a:lnTo>
                    <a:pt x="1498" y="82"/>
                  </a:lnTo>
                  <a:lnTo>
                    <a:pt x="1469" y="77"/>
                  </a:lnTo>
                  <a:lnTo>
                    <a:pt x="1477" y="74"/>
                  </a:lnTo>
                  <a:lnTo>
                    <a:pt x="1444" y="72"/>
                  </a:lnTo>
                  <a:lnTo>
                    <a:pt x="1461" y="72"/>
                  </a:lnTo>
                  <a:lnTo>
                    <a:pt x="1485" y="77"/>
                  </a:lnTo>
                  <a:lnTo>
                    <a:pt x="1449" y="67"/>
                  </a:lnTo>
                  <a:lnTo>
                    <a:pt x="1432" y="74"/>
                  </a:lnTo>
                  <a:lnTo>
                    <a:pt x="1444" y="67"/>
                  </a:lnTo>
                  <a:lnTo>
                    <a:pt x="1352" y="72"/>
                  </a:lnTo>
                  <a:lnTo>
                    <a:pt x="1384" y="77"/>
                  </a:lnTo>
                  <a:lnTo>
                    <a:pt x="1400" y="84"/>
                  </a:lnTo>
                  <a:lnTo>
                    <a:pt x="1413" y="84"/>
                  </a:lnTo>
                  <a:lnTo>
                    <a:pt x="1428" y="89"/>
                  </a:lnTo>
                  <a:lnTo>
                    <a:pt x="1477" y="94"/>
                  </a:lnTo>
                  <a:lnTo>
                    <a:pt x="1449" y="94"/>
                  </a:lnTo>
                  <a:lnTo>
                    <a:pt x="1461" y="99"/>
                  </a:lnTo>
                  <a:lnTo>
                    <a:pt x="1494" y="104"/>
                  </a:lnTo>
                  <a:lnTo>
                    <a:pt x="1428" y="101"/>
                  </a:lnTo>
                  <a:lnTo>
                    <a:pt x="1449" y="108"/>
                  </a:lnTo>
                  <a:lnTo>
                    <a:pt x="1432" y="108"/>
                  </a:lnTo>
                  <a:lnTo>
                    <a:pt x="1372" y="101"/>
                  </a:lnTo>
                  <a:lnTo>
                    <a:pt x="1425" y="114"/>
                  </a:lnTo>
                  <a:lnTo>
                    <a:pt x="1465" y="123"/>
                  </a:lnTo>
                  <a:lnTo>
                    <a:pt x="1421" y="121"/>
                  </a:lnTo>
                  <a:lnTo>
                    <a:pt x="1364" y="111"/>
                  </a:lnTo>
                  <a:lnTo>
                    <a:pt x="1336" y="108"/>
                  </a:lnTo>
                  <a:lnTo>
                    <a:pt x="1360" y="111"/>
                  </a:lnTo>
                  <a:lnTo>
                    <a:pt x="1283" y="106"/>
                  </a:lnTo>
                  <a:lnTo>
                    <a:pt x="1320" y="111"/>
                  </a:lnTo>
                  <a:lnTo>
                    <a:pt x="1372" y="121"/>
                  </a:lnTo>
                  <a:lnTo>
                    <a:pt x="1283" y="106"/>
                  </a:lnTo>
                  <a:lnTo>
                    <a:pt x="1190" y="106"/>
                  </a:lnTo>
                  <a:lnTo>
                    <a:pt x="1175" y="108"/>
                  </a:lnTo>
                  <a:lnTo>
                    <a:pt x="1138" y="106"/>
                  </a:lnTo>
                  <a:lnTo>
                    <a:pt x="1114" y="101"/>
                  </a:lnTo>
                  <a:lnTo>
                    <a:pt x="1069" y="111"/>
                  </a:lnTo>
                  <a:lnTo>
                    <a:pt x="1117" y="121"/>
                  </a:lnTo>
                  <a:lnTo>
                    <a:pt x="1142" y="126"/>
                  </a:lnTo>
                  <a:lnTo>
                    <a:pt x="1036" y="106"/>
                  </a:lnTo>
                  <a:lnTo>
                    <a:pt x="1022" y="108"/>
                  </a:lnTo>
                  <a:lnTo>
                    <a:pt x="1009" y="106"/>
                  </a:lnTo>
                  <a:lnTo>
                    <a:pt x="1009" y="111"/>
                  </a:lnTo>
                  <a:lnTo>
                    <a:pt x="1025" y="111"/>
                  </a:lnTo>
                  <a:lnTo>
                    <a:pt x="1036" y="116"/>
                  </a:lnTo>
                  <a:lnTo>
                    <a:pt x="1025" y="128"/>
                  </a:lnTo>
                  <a:lnTo>
                    <a:pt x="1041" y="136"/>
                  </a:lnTo>
                  <a:lnTo>
                    <a:pt x="964" y="94"/>
                  </a:lnTo>
                  <a:lnTo>
                    <a:pt x="925" y="82"/>
                  </a:lnTo>
                  <a:lnTo>
                    <a:pt x="875" y="77"/>
                  </a:lnTo>
                  <a:lnTo>
                    <a:pt x="912" y="79"/>
                  </a:lnTo>
                  <a:lnTo>
                    <a:pt x="887" y="74"/>
                  </a:lnTo>
                  <a:lnTo>
                    <a:pt x="852" y="70"/>
                  </a:lnTo>
                  <a:lnTo>
                    <a:pt x="864" y="72"/>
                  </a:lnTo>
                  <a:lnTo>
                    <a:pt x="831" y="70"/>
                  </a:lnTo>
                  <a:lnTo>
                    <a:pt x="795" y="64"/>
                  </a:lnTo>
                  <a:lnTo>
                    <a:pt x="775" y="74"/>
                  </a:lnTo>
                  <a:lnTo>
                    <a:pt x="750" y="67"/>
                  </a:lnTo>
                  <a:lnTo>
                    <a:pt x="730" y="67"/>
                  </a:lnTo>
                  <a:lnTo>
                    <a:pt x="710" y="67"/>
                  </a:lnTo>
                  <a:lnTo>
                    <a:pt x="706" y="62"/>
                  </a:lnTo>
                  <a:lnTo>
                    <a:pt x="661" y="57"/>
                  </a:lnTo>
                  <a:lnTo>
                    <a:pt x="694" y="74"/>
                  </a:lnTo>
                  <a:lnTo>
                    <a:pt x="726" y="79"/>
                  </a:lnTo>
                  <a:lnTo>
                    <a:pt x="750" y="82"/>
                  </a:lnTo>
                  <a:lnTo>
                    <a:pt x="710" y="84"/>
                  </a:lnTo>
                  <a:lnTo>
                    <a:pt x="750" y="89"/>
                  </a:lnTo>
                  <a:lnTo>
                    <a:pt x="819" y="104"/>
                  </a:lnTo>
                  <a:lnTo>
                    <a:pt x="783" y="99"/>
                  </a:lnTo>
                  <a:lnTo>
                    <a:pt x="726" y="87"/>
                  </a:lnTo>
                  <a:lnTo>
                    <a:pt x="734" y="96"/>
                  </a:lnTo>
                  <a:lnTo>
                    <a:pt x="726" y="96"/>
                  </a:lnTo>
                  <a:lnTo>
                    <a:pt x="710" y="94"/>
                  </a:lnTo>
                  <a:lnTo>
                    <a:pt x="690" y="96"/>
                  </a:lnTo>
                  <a:lnTo>
                    <a:pt x="698" y="101"/>
                  </a:lnTo>
                  <a:lnTo>
                    <a:pt x="710" y="99"/>
                  </a:lnTo>
                  <a:lnTo>
                    <a:pt x="690" y="111"/>
                  </a:lnTo>
                  <a:lnTo>
                    <a:pt x="690" y="119"/>
                  </a:lnTo>
                  <a:lnTo>
                    <a:pt x="706" y="121"/>
                  </a:lnTo>
                  <a:lnTo>
                    <a:pt x="726" y="128"/>
                  </a:lnTo>
                  <a:lnTo>
                    <a:pt x="706" y="128"/>
                  </a:lnTo>
                  <a:lnTo>
                    <a:pt x="742" y="133"/>
                  </a:lnTo>
                  <a:lnTo>
                    <a:pt x="730" y="133"/>
                  </a:lnTo>
                  <a:lnTo>
                    <a:pt x="734" y="136"/>
                  </a:lnTo>
                  <a:lnTo>
                    <a:pt x="778" y="141"/>
                  </a:lnTo>
                  <a:lnTo>
                    <a:pt x="783" y="150"/>
                  </a:lnTo>
                  <a:lnTo>
                    <a:pt x="823" y="158"/>
                  </a:lnTo>
                  <a:lnTo>
                    <a:pt x="783" y="150"/>
                  </a:lnTo>
                  <a:lnTo>
                    <a:pt x="766" y="141"/>
                  </a:lnTo>
                  <a:lnTo>
                    <a:pt x="715" y="155"/>
                  </a:lnTo>
                  <a:lnTo>
                    <a:pt x="778" y="173"/>
                  </a:lnTo>
                  <a:lnTo>
                    <a:pt x="868" y="185"/>
                  </a:lnTo>
                  <a:lnTo>
                    <a:pt x="887" y="195"/>
                  </a:lnTo>
                  <a:lnTo>
                    <a:pt x="932" y="210"/>
                  </a:lnTo>
                  <a:lnTo>
                    <a:pt x="949" y="214"/>
                  </a:lnTo>
                  <a:lnTo>
                    <a:pt x="937" y="214"/>
                  </a:lnTo>
                  <a:lnTo>
                    <a:pt x="892" y="197"/>
                  </a:lnTo>
                  <a:lnTo>
                    <a:pt x="932" y="214"/>
                  </a:lnTo>
                  <a:lnTo>
                    <a:pt x="908" y="207"/>
                  </a:lnTo>
                  <a:lnTo>
                    <a:pt x="856" y="185"/>
                  </a:lnTo>
                  <a:lnTo>
                    <a:pt x="836" y="187"/>
                  </a:lnTo>
                  <a:lnTo>
                    <a:pt x="759" y="177"/>
                  </a:lnTo>
                  <a:lnTo>
                    <a:pt x="759" y="185"/>
                  </a:lnTo>
                  <a:lnTo>
                    <a:pt x="778" y="187"/>
                  </a:lnTo>
                  <a:lnTo>
                    <a:pt x="750" y="190"/>
                  </a:lnTo>
                  <a:lnTo>
                    <a:pt x="771" y="195"/>
                  </a:lnTo>
                  <a:lnTo>
                    <a:pt x="807" y="197"/>
                  </a:lnTo>
                  <a:lnTo>
                    <a:pt x="836" y="204"/>
                  </a:lnTo>
                  <a:lnTo>
                    <a:pt x="839" y="202"/>
                  </a:lnTo>
                  <a:lnTo>
                    <a:pt x="839" y="204"/>
                  </a:lnTo>
                  <a:lnTo>
                    <a:pt x="775" y="202"/>
                  </a:lnTo>
                  <a:lnTo>
                    <a:pt x="763" y="197"/>
                  </a:lnTo>
                  <a:lnTo>
                    <a:pt x="715" y="177"/>
                  </a:lnTo>
                  <a:lnTo>
                    <a:pt x="686" y="173"/>
                  </a:lnTo>
                  <a:lnTo>
                    <a:pt x="726" y="187"/>
                  </a:lnTo>
                  <a:lnTo>
                    <a:pt x="738" y="202"/>
                  </a:lnTo>
                  <a:lnTo>
                    <a:pt x="802" y="219"/>
                  </a:lnTo>
                  <a:lnTo>
                    <a:pt x="864" y="244"/>
                  </a:lnTo>
                  <a:lnTo>
                    <a:pt x="932" y="244"/>
                  </a:lnTo>
                  <a:lnTo>
                    <a:pt x="972" y="256"/>
                  </a:lnTo>
                  <a:lnTo>
                    <a:pt x="988" y="266"/>
                  </a:lnTo>
                  <a:lnTo>
                    <a:pt x="1025" y="268"/>
                  </a:lnTo>
                  <a:lnTo>
                    <a:pt x="980" y="266"/>
                  </a:lnTo>
                  <a:lnTo>
                    <a:pt x="949" y="251"/>
                  </a:lnTo>
                  <a:lnTo>
                    <a:pt x="912" y="244"/>
                  </a:lnTo>
                  <a:lnTo>
                    <a:pt x="896" y="251"/>
                  </a:lnTo>
                  <a:lnTo>
                    <a:pt x="949" y="271"/>
                  </a:lnTo>
                  <a:lnTo>
                    <a:pt x="972" y="303"/>
                  </a:lnTo>
                  <a:lnTo>
                    <a:pt x="916" y="300"/>
                  </a:lnTo>
                  <a:lnTo>
                    <a:pt x="896" y="295"/>
                  </a:lnTo>
                  <a:lnTo>
                    <a:pt x="928" y="293"/>
                  </a:lnTo>
                  <a:lnTo>
                    <a:pt x="928" y="295"/>
                  </a:lnTo>
                  <a:lnTo>
                    <a:pt x="941" y="298"/>
                  </a:lnTo>
                  <a:lnTo>
                    <a:pt x="941" y="293"/>
                  </a:lnTo>
                  <a:lnTo>
                    <a:pt x="928" y="288"/>
                  </a:lnTo>
                  <a:lnTo>
                    <a:pt x="925" y="271"/>
                  </a:lnTo>
                  <a:lnTo>
                    <a:pt x="892" y="256"/>
                  </a:lnTo>
                  <a:lnTo>
                    <a:pt x="852" y="249"/>
                  </a:lnTo>
                  <a:lnTo>
                    <a:pt x="763" y="212"/>
                  </a:lnTo>
                  <a:lnTo>
                    <a:pt x="718" y="202"/>
                  </a:lnTo>
                  <a:lnTo>
                    <a:pt x="670" y="177"/>
                  </a:lnTo>
                  <a:lnTo>
                    <a:pt x="614" y="177"/>
                  </a:lnTo>
                  <a:lnTo>
                    <a:pt x="622" y="183"/>
                  </a:lnTo>
                  <a:lnTo>
                    <a:pt x="661" y="202"/>
                  </a:lnTo>
                  <a:lnTo>
                    <a:pt x="665" y="214"/>
                  </a:lnTo>
                  <a:lnTo>
                    <a:pt x="690" y="219"/>
                  </a:lnTo>
                  <a:lnTo>
                    <a:pt x="738" y="244"/>
                  </a:lnTo>
                  <a:lnTo>
                    <a:pt x="759" y="241"/>
                  </a:lnTo>
                  <a:lnTo>
                    <a:pt x="791" y="254"/>
                  </a:lnTo>
                  <a:lnTo>
                    <a:pt x="802" y="254"/>
                  </a:lnTo>
                  <a:lnTo>
                    <a:pt x="823" y="266"/>
                  </a:lnTo>
                  <a:lnTo>
                    <a:pt x="823" y="268"/>
                  </a:lnTo>
                  <a:lnTo>
                    <a:pt x="722" y="251"/>
                  </a:lnTo>
                  <a:lnTo>
                    <a:pt x="634" y="244"/>
                  </a:lnTo>
                  <a:lnTo>
                    <a:pt x="634" y="249"/>
                  </a:lnTo>
                  <a:lnTo>
                    <a:pt x="658" y="256"/>
                  </a:lnTo>
                  <a:lnTo>
                    <a:pt x="674" y="261"/>
                  </a:lnTo>
                  <a:lnTo>
                    <a:pt x="665" y="268"/>
                  </a:lnTo>
                  <a:lnTo>
                    <a:pt x="678" y="274"/>
                  </a:lnTo>
                  <a:lnTo>
                    <a:pt x="637" y="261"/>
                  </a:lnTo>
                  <a:lnTo>
                    <a:pt x="630" y="274"/>
                  </a:lnTo>
                  <a:lnTo>
                    <a:pt x="597" y="274"/>
                  </a:lnTo>
                  <a:lnTo>
                    <a:pt x="605" y="283"/>
                  </a:lnTo>
                  <a:lnTo>
                    <a:pt x="589" y="281"/>
                  </a:lnTo>
                  <a:lnTo>
                    <a:pt x="577" y="283"/>
                  </a:lnTo>
                  <a:lnTo>
                    <a:pt x="573" y="281"/>
                  </a:lnTo>
                  <a:lnTo>
                    <a:pt x="581" y="278"/>
                  </a:lnTo>
                  <a:lnTo>
                    <a:pt x="557" y="268"/>
                  </a:lnTo>
                  <a:lnTo>
                    <a:pt x="569" y="266"/>
                  </a:lnTo>
                  <a:lnTo>
                    <a:pt x="553" y="271"/>
                  </a:lnTo>
                  <a:lnTo>
                    <a:pt x="557" y="278"/>
                  </a:lnTo>
                  <a:lnTo>
                    <a:pt x="557" y="281"/>
                  </a:lnTo>
                  <a:lnTo>
                    <a:pt x="545" y="276"/>
                  </a:lnTo>
                  <a:lnTo>
                    <a:pt x="504" y="293"/>
                  </a:lnTo>
                  <a:lnTo>
                    <a:pt x="524" y="298"/>
                  </a:lnTo>
                  <a:lnTo>
                    <a:pt x="504" y="300"/>
                  </a:lnTo>
                  <a:lnTo>
                    <a:pt x="521" y="315"/>
                  </a:lnTo>
                  <a:lnTo>
                    <a:pt x="496" y="315"/>
                  </a:lnTo>
                  <a:lnTo>
                    <a:pt x="460" y="305"/>
                  </a:lnTo>
                  <a:lnTo>
                    <a:pt x="456" y="298"/>
                  </a:lnTo>
                  <a:lnTo>
                    <a:pt x="476" y="295"/>
                  </a:lnTo>
                  <a:lnTo>
                    <a:pt x="443" y="283"/>
                  </a:lnTo>
                  <a:lnTo>
                    <a:pt x="396" y="281"/>
                  </a:lnTo>
                  <a:lnTo>
                    <a:pt x="407" y="286"/>
                  </a:lnTo>
                  <a:lnTo>
                    <a:pt x="427" y="295"/>
                  </a:lnTo>
                  <a:lnTo>
                    <a:pt x="443" y="311"/>
                  </a:lnTo>
                  <a:lnTo>
                    <a:pt x="492" y="337"/>
                  </a:lnTo>
                  <a:lnTo>
                    <a:pt x="476" y="330"/>
                  </a:lnTo>
                  <a:lnTo>
                    <a:pt x="472" y="334"/>
                  </a:lnTo>
                  <a:lnTo>
                    <a:pt x="460" y="328"/>
                  </a:lnTo>
                  <a:lnTo>
                    <a:pt x="436" y="325"/>
                  </a:lnTo>
                  <a:lnTo>
                    <a:pt x="415" y="345"/>
                  </a:lnTo>
                  <a:lnTo>
                    <a:pt x="456" y="367"/>
                  </a:lnTo>
                  <a:lnTo>
                    <a:pt x="407" y="362"/>
                  </a:lnTo>
                  <a:lnTo>
                    <a:pt x="407" y="367"/>
                  </a:lnTo>
                  <a:lnTo>
                    <a:pt x="407" y="362"/>
                  </a:lnTo>
                  <a:lnTo>
                    <a:pt x="371" y="354"/>
                  </a:lnTo>
                  <a:lnTo>
                    <a:pt x="375" y="365"/>
                  </a:lnTo>
                  <a:lnTo>
                    <a:pt x="411" y="372"/>
                  </a:lnTo>
                  <a:lnTo>
                    <a:pt x="415" y="384"/>
                  </a:lnTo>
                  <a:lnTo>
                    <a:pt x="359" y="374"/>
                  </a:lnTo>
                  <a:lnTo>
                    <a:pt x="342" y="369"/>
                  </a:lnTo>
                  <a:lnTo>
                    <a:pt x="315" y="352"/>
                  </a:lnTo>
                  <a:lnTo>
                    <a:pt x="322" y="345"/>
                  </a:lnTo>
                  <a:lnTo>
                    <a:pt x="294" y="337"/>
                  </a:lnTo>
                  <a:lnTo>
                    <a:pt x="279" y="334"/>
                  </a:lnTo>
                  <a:lnTo>
                    <a:pt x="282" y="332"/>
                  </a:lnTo>
                  <a:lnTo>
                    <a:pt x="274" y="330"/>
                  </a:lnTo>
                  <a:lnTo>
                    <a:pt x="270" y="328"/>
                  </a:lnTo>
                  <a:lnTo>
                    <a:pt x="234" y="318"/>
                  </a:lnTo>
                  <a:lnTo>
                    <a:pt x="294" y="330"/>
                  </a:lnTo>
                  <a:lnTo>
                    <a:pt x="367" y="337"/>
                  </a:lnTo>
                  <a:lnTo>
                    <a:pt x="403" y="332"/>
                  </a:lnTo>
                  <a:lnTo>
                    <a:pt x="403" y="313"/>
                  </a:lnTo>
                  <a:lnTo>
                    <a:pt x="383" y="303"/>
                  </a:lnTo>
                  <a:lnTo>
                    <a:pt x="257" y="276"/>
                  </a:lnTo>
                  <a:lnTo>
                    <a:pt x="221" y="274"/>
                  </a:lnTo>
                  <a:lnTo>
                    <a:pt x="214" y="283"/>
                  </a:lnTo>
                  <a:lnTo>
                    <a:pt x="214" y="278"/>
                  </a:lnTo>
                  <a:lnTo>
                    <a:pt x="209" y="271"/>
                  </a:lnTo>
                  <a:lnTo>
                    <a:pt x="202" y="271"/>
                  </a:lnTo>
                  <a:lnTo>
                    <a:pt x="181" y="271"/>
                  </a:lnTo>
                  <a:lnTo>
                    <a:pt x="197" y="268"/>
                  </a:lnTo>
                  <a:lnTo>
                    <a:pt x="197" y="266"/>
                  </a:lnTo>
                  <a:lnTo>
                    <a:pt x="173" y="264"/>
                  </a:lnTo>
                  <a:lnTo>
                    <a:pt x="177" y="268"/>
                  </a:lnTo>
                  <a:lnTo>
                    <a:pt x="158" y="266"/>
                  </a:lnTo>
                  <a:lnTo>
                    <a:pt x="165" y="271"/>
                  </a:lnTo>
                  <a:lnTo>
                    <a:pt x="146" y="283"/>
                  </a:lnTo>
                  <a:lnTo>
                    <a:pt x="133" y="268"/>
                  </a:lnTo>
                  <a:lnTo>
                    <a:pt x="104" y="261"/>
                  </a:lnTo>
                  <a:lnTo>
                    <a:pt x="81" y="271"/>
                  </a:lnTo>
                  <a:lnTo>
                    <a:pt x="88" y="286"/>
                  </a:lnTo>
                  <a:lnTo>
                    <a:pt x="81" y="293"/>
                  </a:lnTo>
                  <a:lnTo>
                    <a:pt x="36" y="290"/>
                  </a:lnTo>
                  <a:lnTo>
                    <a:pt x="7" y="281"/>
                  </a:lnTo>
                  <a:lnTo>
                    <a:pt x="0" y="286"/>
                  </a:lnTo>
                  <a:lnTo>
                    <a:pt x="68" y="305"/>
                  </a:lnTo>
                  <a:lnTo>
                    <a:pt x="113" y="349"/>
                  </a:lnTo>
                  <a:lnTo>
                    <a:pt x="141" y="354"/>
                  </a:lnTo>
                  <a:lnTo>
                    <a:pt x="153" y="367"/>
                  </a:lnTo>
                  <a:lnTo>
                    <a:pt x="137" y="369"/>
                  </a:lnTo>
                  <a:lnTo>
                    <a:pt x="108" y="396"/>
                  </a:lnTo>
                  <a:lnTo>
                    <a:pt x="113" y="401"/>
                  </a:lnTo>
                  <a:lnTo>
                    <a:pt x="92" y="414"/>
                  </a:lnTo>
                  <a:lnTo>
                    <a:pt x="125" y="438"/>
                  </a:lnTo>
                  <a:lnTo>
                    <a:pt x="129" y="458"/>
                  </a:lnTo>
                  <a:lnTo>
                    <a:pt x="158" y="463"/>
                  </a:lnTo>
                  <a:lnTo>
                    <a:pt x="158" y="465"/>
                  </a:lnTo>
                  <a:lnTo>
                    <a:pt x="169" y="463"/>
                  </a:lnTo>
                  <a:lnTo>
                    <a:pt x="169" y="468"/>
                  </a:lnTo>
                  <a:lnTo>
                    <a:pt x="177" y="470"/>
                  </a:lnTo>
                  <a:lnTo>
                    <a:pt x="173" y="475"/>
                  </a:lnTo>
                  <a:lnTo>
                    <a:pt x="234" y="463"/>
                  </a:lnTo>
                  <a:lnTo>
                    <a:pt x="241" y="455"/>
                  </a:lnTo>
                  <a:lnTo>
                    <a:pt x="250" y="460"/>
                  </a:lnTo>
                  <a:lnTo>
                    <a:pt x="274" y="455"/>
                  </a:lnTo>
                  <a:close/>
                  <a:moveTo>
                    <a:pt x="1848" y="4285"/>
                  </a:moveTo>
                  <a:lnTo>
                    <a:pt x="2320" y="4285"/>
                  </a:lnTo>
                  <a:lnTo>
                    <a:pt x="2320" y="4430"/>
                  </a:lnTo>
                  <a:lnTo>
                    <a:pt x="1848" y="4430"/>
                  </a:lnTo>
                  <a:lnTo>
                    <a:pt x="1848" y="4285"/>
                  </a:lnTo>
                  <a:close/>
                  <a:moveTo>
                    <a:pt x="1755" y="8"/>
                  </a:moveTo>
                  <a:lnTo>
                    <a:pt x="1764" y="10"/>
                  </a:lnTo>
                  <a:lnTo>
                    <a:pt x="1699" y="3"/>
                  </a:lnTo>
                  <a:lnTo>
                    <a:pt x="1692" y="0"/>
                  </a:lnTo>
                  <a:lnTo>
                    <a:pt x="1695" y="0"/>
                  </a:lnTo>
                  <a:lnTo>
                    <a:pt x="1755" y="8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060720" y="1387080"/>
              <a:ext cx="26640" cy="288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63" y="8"/>
                  </a:moveTo>
                  <a:lnTo>
                    <a:pt x="72" y="10"/>
                  </a:lnTo>
                  <a:lnTo>
                    <a:pt x="7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63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449880" y="1530000"/>
              <a:ext cx="15480" cy="432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25" y="12"/>
                  </a:moveTo>
                  <a:lnTo>
                    <a:pt x="25" y="12"/>
                  </a:lnTo>
                  <a:lnTo>
                    <a:pt x="45" y="12"/>
                  </a:lnTo>
                  <a:lnTo>
                    <a:pt x="25" y="2"/>
                  </a:lnTo>
                  <a:lnTo>
                    <a:pt x="0" y="0"/>
                  </a:lnTo>
                  <a:lnTo>
                    <a:pt x="25" y="1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100680" y="1404720"/>
              <a:ext cx="16920" cy="1080"/>
            </a:xfrm>
            <a:custGeom>
              <a:avLst/>
              <a:gdLst/>
              <a:ahLst/>
              <a:rect l="l" t="t" r="r" b="b"/>
              <a:pathLst>
                <a:path w="49" h="6">
                  <a:moveTo>
                    <a:pt x="28" y="2"/>
                  </a:moveTo>
                  <a:lnTo>
                    <a:pt x="28" y="2"/>
                  </a:lnTo>
                  <a:lnTo>
                    <a:pt x="0" y="0"/>
                  </a:lnTo>
                  <a:lnTo>
                    <a:pt x="16" y="5"/>
                  </a:lnTo>
                  <a:lnTo>
                    <a:pt x="48" y="5"/>
                  </a:lnTo>
                  <a:lnTo>
                    <a:pt x="28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826000" y="1401480"/>
              <a:ext cx="15480" cy="2880"/>
            </a:xfrm>
            <a:custGeom>
              <a:avLst/>
              <a:gdLst/>
              <a:ahLst/>
              <a:rect l="l" t="t" r="r" b="b"/>
              <a:pathLst>
                <a:path w="46" h="8">
                  <a:moveTo>
                    <a:pt x="45" y="7"/>
                  </a:moveTo>
                  <a:lnTo>
                    <a:pt x="0" y="0"/>
                  </a:lnTo>
                  <a:lnTo>
                    <a:pt x="45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822760" y="1396800"/>
              <a:ext cx="53640" cy="7560"/>
            </a:xfrm>
            <a:custGeom>
              <a:avLst/>
              <a:gdLst/>
              <a:ahLst/>
              <a:rect l="l" t="t" r="r" b="b"/>
              <a:pathLst>
                <a:path w="151" h="23">
                  <a:moveTo>
                    <a:pt x="142" y="20"/>
                  </a:moveTo>
                  <a:lnTo>
                    <a:pt x="142" y="20"/>
                  </a:lnTo>
                  <a:lnTo>
                    <a:pt x="150" y="11"/>
                  </a:lnTo>
                  <a:lnTo>
                    <a:pt x="130" y="11"/>
                  </a:lnTo>
                  <a:lnTo>
                    <a:pt x="69" y="3"/>
                  </a:lnTo>
                  <a:lnTo>
                    <a:pt x="125" y="11"/>
                  </a:lnTo>
                  <a:lnTo>
                    <a:pt x="142" y="11"/>
                  </a:lnTo>
                  <a:lnTo>
                    <a:pt x="105" y="0"/>
                  </a:lnTo>
                  <a:lnTo>
                    <a:pt x="16" y="0"/>
                  </a:lnTo>
                  <a:lnTo>
                    <a:pt x="69" y="8"/>
                  </a:lnTo>
                  <a:lnTo>
                    <a:pt x="0" y="3"/>
                  </a:lnTo>
                  <a:lnTo>
                    <a:pt x="16" y="11"/>
                  </a:lnTo>
                  <a:lnTo>
                    <a:pt x="77" y="20"/>
                  </a:lnTo>
                  <a:lnTo>
                    <a:pt x="130" y="22"/>
                  </a:lnTo>
                  <a:lnTo>
                    <a:pt x="142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857680" y="1395000"/>
              <a:ext cx="33120" cy="2880"/>
            </a:xfrm>
            <a:custGeom>
              <a:avLst/>
              <a:gdLst/>
              <a:ahLst/>
              <a:rect l="l" t="t" r="r" b="b"/>
              <a:pathLst>
                <a:path w="93" h="11">
                  <a:moveTo>
                    <a:pt x="0" y="2"/>
                  </a:moveTo>
                  <a:lnTo>
                    <a:pt x="0" y="2"/>
                  </a:lnTo>
                  <a:lnTo>
                    <a:pt x="36" y="7"/>
                  </a:lnTo>
                  <a:lnTo>
                    <a:pt x="89" y="10"/>
                  </a:lnTo>
                  <a:lnTo>
                    <a:pt x="92" y="4"/>
                  </a:lnTo>
                  <a:lnTo>
                    <a:pt x="68" y="0"/>
                  </a:lnTo>
                  <a:lnTo>
                    <a:pt x="49" y="2"/>
                  </a:lnTo>
                  <a:lnTo>
                    <a:pt x="29" y="4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907000" y="1406160"/>
              <a:ext cx="24840" cy="4320"/>
            </a:xfrm>
            <a:custGeom>
              <a:avLst/>
              <a:gdLst/>
              <a:ahLst/>
              <a:rect l="l" t="t" r="r" b="b"/>
              <a:pathLst>
                <a:path w="70" h="14">
                  <a:moveTo>
                    <a:pt x="0" y="3"/>
                  </a:moveTo>
                  <a:lnTo>
                    <a:pt x="0" y="3"/>
                  </a:lnTo>
                  <a:lnTo>
                    <a:pt x="40" y="13"/>
                  </a:lnTo>
                  <a:lnTo>
                    <a:pt x="69" y="5"/>
                  </a:lnTo>
                  <a:lnTo>
                    <a:pt x="12" y="0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891160" y="1406160"/>
              <a:ext cx="13680" cy="2880"/>
            </a:xfrm>
            <a:custGeom>
              <a:avLst/>
              <a:gdLst/>
              <a:ahLst/>
              <a:rect l="l" t="t" r="r" b="b"/>
              <a:pathLst>
                <a:path w="39" h="8">
                  <a:moveTo>
                    <a:pt x="38" y="7"/>
                  </a:moveTo>
                  <a:lnTo>
                    <a:pt x="38" y="7"/>
                  </a:lnTo>
                  <a:lnTo>
                    <a:pt x="5" y="2"/>
                  </a:lnTo>
                  <a:lnTo>
                    <a:pt x="0" y="0"/>
                  </a:lnTo>
                  <a:lnTo>
                    <a:pt x="38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880000" y="1409400"/>
              <a:ext cx="13680" cy="1080"/>
            </a:xfrm>
            <a:custGeom>
              <a:avLst/>
              <a:gdLst/>
              <a:ahLst/>
              <a:rect l="l" t="t" r="r" b="b"/>
              <a:pathLst>
                <a:path w="38" h="6">
                  <a:moveTo>
                    <a:pt x="0" y="0"/>
                  </a:moveTo>
                  <a:lnTo>
                    <a:pt x="37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05480" y="1422000"/>
              <a:ext cx="12600" cy="288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33" y="8"/>
                  </a:moveTo>
                  <a:lnTo>
                    <a:pt x="33" y="8"/>
                  </a:lnTo>
                  <a:lnTo>
                    <a:pt x="9" y="0"/>
                  </a:lnTo>
                  <a:lnTo>
                    <a:pt x="0" y="5"/>
                  </a:lnTo>
                  <a:lnTo>
                    <a:pt x="33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669040" y="1409400"/>
              <a:ext cx="1440" cy="10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716560" y="1450440"/>
              <a:ext cx="6120" cy="144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4" y="5"/>
                  </a:moveTo>
                  <a:lnTo>
                    <a:pt x="4" y="5"/>
                  </a:lnTo>
                  <a:lnTo>
                    <a:pt x="0" y="0"/>
                  </a:lnTo>
                  <a:lnTo>
                    <a:pt x="16" y="2"/>
                  </a:lnTo>
                  <a:lnTo>
                    <a:pt x="4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667600" y="1447560"/>
              <a:ext cx="12240" cy="252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7" y="1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33" y="5"/>
                  </a:lnTo>
                  <a:lnTo>
                    <a:pt x="17" y="1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661120" y="1471320"/>
              <a:ext cx="18720" cy="4320"/>
            </a:xfrm>
            <a:custGeom>
              <a:avLst/>
              <a:gdLst/>
              <a:ahLst/>
              <a:rect l="l" t="t" r="r" b="b"/>
              <a:pathLst>
                <a:path w="54" h="13">
                  <a:moveTo>
                    <a:pt x="21" y="10"/>
                  </a:moveTo>
                  <a:lnTo>
                    <a:pt x="21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53" y="12"/>
                  </a:lnTo>
                  <a:lnTo>
                    <a:pt x="21" y="1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575440" y="1425240"/>
              <a:ext cx="34560" cy="28080"/>
            </a:xfrm>
            <a:custGeom>
              <a:avLst/>
              <a:gdLst/>
              <a:ahLst/>
              <a:rect l="l" t="t" r="r" b="b"/>
              <a:pathLst>
                <a:path w="95" h="78">
                  <a:moveTo>
                    <a:pt x="38" y="49"/>
                  </a:moveTo>
                  <a:lnTo>
                    <a:pt x="38" y="49"/>
                  </a:lnTo>
                  <a:lnTo>
                    <a:pt x="21" y="52"/>
                  </a:lnTo>
                  <a:lnTo>
                    <a:pt x="38" y="54"/>
                  </a:lnTo>
                  <a:lnTo>
                    <a:pt x="29" y="59"/>
                  </a:lnTo>
                  <a:lnTo>
                    <a:pt x="45" y="62"/>
                  </a:lnTo>
                  <a:lnTo>
                    <a:pt x="29" y="69"/>
                  </a:lnTo>
                  <a:lnTo>
                    <a:pt x="45" y="71"/>
                  </a:lnTo>
                  <a:lnTo>
                    <a:pt x="54" y="69"/>
                  </a:lnTo>
                  <a:lnTo>
                    <a:pt x="54" y="77"/>
                  </a:lnTo>
                  <a:lnTo>
                    <a:pt x="94" y="74"/>
                  </a:lnTo>
                  <a:lnTo>
                    <a:pt x="73" y="69"/>
                  </a:lnTo>
                  <a:lnTo>
                    <a:pt x="85" y="69"/>
                  </a:lnTo>
                  <a:lnTo>
                    <a:pt x="65" y="67"/>
                  </a:lnTo>
                  <a:lnTo>
                    <a:pt x="81" y="64"/>
                  </a:lnTo>
                  <a:lnTo>
                    <a:pt x="61" y="59"/>
                  </a:lnTo>
                  <a:lnTo>
                    <a:pt x="81" y="62"/>
                  </a:lnTo>
                  <a:lnTo>
                    <a:pt x="54" y="52"/>
                  </a:lnTo>
                  <a:lnTo>
                    <a:pt x="73" y="49"/>
                  </a:lnTo>
                  <a:lnTo>
                    <a:pt x="73" y="47"/>
                  </a:lnTo>
                  <a:lnTo>
                    <a:pt x="57" y="42"/>
                  </a:lnTo>
                  <a:lnTo>
                    <a:pt x="57" y="35"/>
                  </a:lnTo>
                  <a:lnTo>
                    <a:pt x="89" y="13"/>
                  </a:lnTo>
                  <a:lnTo>
                    <a:pt x="57" y="0"/>
                  </a:lnTo>
                  <a:lnTo>
                    <a:pt x="41" y="2"/>
                  </a:lnTo>
                  <a:lnTo>
                    <a:pt x="41" y="15"/>
                  </a:lnTo>
                  <a:lnTo>
                    <a:pt x="13" y="17"/>
                  </a:lnTo>
                  <a:lnTo>
                    <a:pt x="5" y="32"/>
                  </a:lnTo>
                  <a:lnTo>
                    <a:pt x="17" y="37"/>
                  </a:lnTo>
                  <a:lnTo>
                    <a:pt x="13" y="44"/>
                  </a:lnTo>
                  <a:lnTo>
                    <a:pt x="0" y="42"/>
                  </a:lnTo>
                  <a:lnTo>
                    <a:pt x="21" y="44"/>
                  </a:lnTo>
                  <a:lnTo>
                    <a:pt x="17" y="49"/>
                  </a:lnTo>
                  <a:lnTo>
                    <a:pt x="38" y="4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592720" y="1453680"/>
              <a:ext cx="56880" cy="17280"/>
            </a:xfrm>
            <a:custGeom>
              <a:avLst/>
              <a:gdLst/>
              <a:ahLst/>
              <a:rect l="l" t="t" r="r" b="b"/>
              <a:pathLst>
                <a:path w="158" h="50">
                  <a:moveTo>
                    <a:pt x="27" y="29"/>
                  </a:moveTo>
                  <a:lnTo>
                    <a:pt x="27" y="29"/>
                  </a:lnTo>
                  <a:lnTo>
                    <a:pt x="27" y="17"/>
                  </a:lnTo>
                  <a:lnTo>
                    <a:pt x="19" y="12"/>
                  </a:lnTo>
                  <a:lnTo>
                    <a:pt x="4" y="12"/>
                  </a:lnTo>
                  <a:lnTo>
                    <a:pt x="0" y="0"/>
                  </a:lnTo>
                  <a:lnTo>
                    <a:pt x="44" y="0"/>
                  </a:lnTo>
                  <a:lnTo>
                    <a:pt x="35" y="2"/>
                  </a:lnTo>
                  <a:lnTo>
                    <a:pt x="39" y="5"/>
                  </a:lnTo>
                  <a:lnTo>
                    <a:pt x="51" y="5"/>
                  </a:lnTo>
                  <a:lnTo>
                    <a:pt x="44" y="7"/>
                  </a:lnTo>
                  <a:lnTo>
                    <a:pt x="51" y="14"/>
                  </a:lnTo>
                  <a:lnTo>
                    <a:pt x="76" y="25"/>
                  </a:lnTo>
                  <a:lnTo>
                    <a:pt x="157" y="45"/>
                  </a:lnTo>
                  <a:lnTo>
                    <a:pt x="145" y="47"/>
                  </a:lnTo>
                  <a:lnTo>
                    <a:pt x="141" y="47"/>
                  </a:lnTo>
                  <a:lnTo>
                    <a:pt x="149" y="49"/>
                  </a:lnTo>
                  <a:lnTo>
                    <a:pt x="124" y="47"/>
                  </a:lnTo>
                  <a:lnTo>
                    <a:pt x="116" y="49"/>
                  </a:lnTo>
                  <a:lnTo>
                    <a:pt x="92" y="47"/>
                  </a:lnTo>
                  <a:lnTo>
                    <a:pt x="80" y="42"/>
                  </a:lnTo>
                  <a:lnTo>
                    <a:pt x="92" y="42"/>
                  </a:lnTo>
                  <a:lnTo>
                    <a:pt x="76" y="39"/>
                  </a:lnTo>
                  <a:lnTo>
                    <a:pt x="76" y="34"/>
                  </a:lnTo>
                  <a:lnTo>
                    <a:pt x="76" y="37"/>
                  </a:lnTo>
                  <a:lnTo>
                    <a:pt x="64" y="32"/>
                  </a:lnTo>
                  <a:lnTo>
                    <a:pt x="48" y="32"/>
                  </a:lnTo>
                  <a:lnTo>
                    <a:pt x="44" y="37"/>
                  </a:lnTo>
                  <a:lnTo>
                    <a:pt x="27" y="2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618280" y="1480680"/>
              <a:ext cx="12240" cy="612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4" y="7"/>
                  </a:moveTo>
                  <a:lnTo>
                    <a:pt x="4" y="7"/>
                  </a:lnTo>
                  <a:lnTo>
                    <a:pt x="0" y="0"/>
                  </a:lnTo>
                  <a:lnTo>
                    <a:pt x="36" y="7"/>
                  </a:lnTo>
                  <a:lnTo>
                    <a:pt x="24" y="15"/>
                  </a:lnTo>
                  <a:lnTo>
                    <a:pt x="4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251520" y="1550520"/>
              <a:ext cx="53280" cy="37800"/>
            </a:xfrm>
            <a:custGeom>
              <a:avLst/>
              <a:gdLst/>
              <a:ahLst/>
              <a:rect l="l" t="t" r="r" b="b"/>
              <a:pathLst>
                <a:path w="148" h="104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93" y="34"/>
                  </a:lnTo>
                  <a:lnTo>
                    <a:pt x="114" y="46"/>
                  </a:lnTo>
                  <a:lnTo>
                    <a:pt x="98" y="42"/>
                  </a:lnTo>
                  <a:lnTo>
                    <a:pt x="106" y="49"/>
                  </a:lnTo>
                  <a:lnTo>
                    <a:pt x="126" y="52"/>
                  </a:lnTo>
                  <a:lnTo>
                    <a:pt x="135" y="79"/>
                  </a:lnTo>
                  <a:lnTo>
                    <a:pt x="122" y="81"/>
                  </a:lnTo>
                  <a:lnTo>
                    <a:pt x="147" y="93"/>
                  </a:lnTo>
                  <a:lnTo>
                    <a:pt x="135" y="103"/>
                  </a:lnTo>
                  <a:lnTo>
                    <a:pt x="98" y="100"/>
                  </a:lnTo>
                  <a:lnTo>
                    <a:pt x="122" y="91"/>
                  </a:lnTo>
                  <a:lnTo>
                    <a:pt x="106" y="69"/>
                  </a:lnTo>
                  <a:lnTo>
                    <a:pt x="77" y="4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764440" y="1633320"/>
              <a:ext cx="10800" cy="1548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4" y="0"/>
                  </a:moveTo>
                  <a:lnTo>
                    <a:pt x="4" y="0"/>
                  </a:lnTo>
                  <a:lnTo>
                    <a:pt x="24" y="7"/>
                  </a:lnTo>
                  <a:lnTo>
                    <a:pt x="19" y="18"/>
                  </a:lnTo>
                  <a:lnTo>
                    <a:pt x="28" y="18"/>
                  </a:lnTo>
                  <a:lnTo>
                    <a:pt x="19" y="27"/>
                  </a:lnTo>
                  <a:lnTo>
                    <a:pt x="28" y="41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0" y="34"/>
                  </a:lnTo>
                  <a:lnTo>
                    <a:pt x="11" y="39"/>
                  </a:lnTo>
                  <a:lnTo>
                    <a:pt x="15" y="34"/>
                  </a:lnTo>
                  <a:lnTo>
                    <a:pt x="7" y="22"/>
                  </a:lnTo>
                  <a:lnTo>
                    <a:pt x="19" y="22"/>
                  </a:lnTo>
                  <a:lnTo>
                    <a:pt x="24" y="12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949840" y="1649160"/>
              <a:ext cx="43920" cy="29520"/>
            </a:xfrm>
            <a:custGeom>
              <a:avLst/>
              <a:gdLst/>
              <a:ahLst/>
              <a:rect l="l" t="t" r="r" b="b"/>
              <a:pathLst>
                <a:path w="122" h="83">
                  <a:moveTo>
                    <a:pt x="110" y="60"/>
                  </a:moveTo>
                  <a:lnTo>
                    <a:pt x="101" y="52"/>
                  </a:lnTo>
                  <a:lnTo>
                    <a:pt x="110" y="50"/>
                  </a:lnTo>
                  <a:lnTo>
                    <a:pt x="114" y="42"/>
                  </a:lnTo>
                  <a:lnTo>
                    <a:pt x="98" y="40"/>
                  </a:lnTo>
                  <a:lnTo>
                    <a:pt x="72" y="26"/>
                  </a:lnTo>
                  <a:lnTo>
                    <a:pt x="69" y="31"/>
                  </a:lnTo>
                  <a:lnTo>
                    <a:pt x="56" y="18"/>
                  </a:lnTo>
                  <a:lnTo>
                    <a:pt x="65" y="3"/>
                  </a:lnTo>
                  <a:lnTo>
                    <a:pt x="53" y="0"/>
                  </a:lnTo>
                  <a:lnTo>
                    <a:pt x="53" y="11"/>
                  </a:lnTo>
                  <a:lnTo>
                    <a:pt x="29" y="3"/>
                  </a:lnTo>
                  <a:lnTo>
                    <a:pt x="37" y="8"/>
                  </a:lnTo>
                  <a:lnTo>
                    <a:pt x="12" y="11"/>
                  </a:lnTo>
                  <a:lnTo>
                    <a:pt x="29" y="18"/>
                  </a:lnTo>
                  <a:lnTo>
                    <a:pt x="16" y="16"/>
                  </a:lnTo>
                  <a:lnTo>
                    <a:pt x="12" y="18"/>
                  </a:lnTo>
                  <a:lnTo>
                    <a:pt x="25" y="28"/>
                  </a:lnTo>
                  <a:lnTo>
                    <a:pt x="16" y="23"/>
                  </a:lnTo>
                  <a:lnTo>
                    <a:pt x="0" y="26"/>
                  </a:lnTo>
                  <a:lnTo>
                    <a:pt x="4" y="33"/>
                  </a:lnTo>
                  <a:lnTo>
                    <a:pt x="9" y="50"/>
                  </a:lnTo>
                  <a:lnTo>
                    <a:pt x="48" y="77"/>
                  </a:lnTo>
                  <a:lnTo>
                    <a:pt x="60" y="75"/>
                  </a:lnTo>
                  <a:lnTo>
                    <a:pt x="48" y="70"/>
                  </a:lnTo>
                  <a:lnTo>
                    <a:pt x="65" y="72"/>
                  </a:lnTo>
                  <a:lnTo>
                    <a:pt x="85" y="75"/>
                  </a:lnTo>
                  <a:lnTo>
                    <a:pt x="93" y="82"/>
                  </a:lnTo>
                  <a:lnTo>
                    <a:pt x="121" y="75"/>
                  </a:lnTo>
                  <a:lnTo>
                    <a:pt x="105" y="67"/>
                  </a:lnTo>
                  <a:lnTo>
                    <a:pt x="105" y="60"/>
                  </a:lnTo>
                  <a:lnTo>
                    <a:pt x="110" y="6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100680" y="1641240"/>
              <a:ext cx="45360" cy="16920"/>
            </a:xfrm>
            <a:custGeom>
              <a:avLst/>
              <a:gdLst/>
              <a:ahLst/>
              <a:rect l="l" t="t" r="r" b="b"/>
              <a:pathLst>
                <a:path w="129" h="48">
                  <a:moveTo>
                    <a:pt x="0" y="15"/>
                  </a:moveTo>
                  <a:lnTo>
                    <a:pt x="0" y="15"/>
                  </a:lnTo>
                  <a:lnTo>
                    <a:pt x="12" y="5"/>
                  </a:lnTo>
                  <a:lnTo>
                    <a:pt x="72" y="8"/>
                  </a:lnTo>
                  <a:lnTo>
                    <a:pt x="111" y="8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28" y="3"/>
                  </a:lnTo>
                  <a:lnTo>
                    <a:pt x="120" y="12"/>
                  </a:lnTo>
                  <a:lnTo>
                    <a:pt x="27" y="10"/>
                  </a:lnTo>
                  <a:lnTo>
                    <a:pt x="16" y="25"/>
                  </a:lnTo>
                  <a:lnTo>
                    <a:pt x="48" y="47"/>
                  </a:lnTo>
                  <a:lnTo>
                    <a:pt x="0" y="30"/>
                  </a:lnTo>
                  <a:lnTo>
                    <a:pt x="0" y="1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70520" y="1642680"/>
              <a:ext cx="15480" cy="612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12" y="9"/>
                  </a:moveTo>
                  <a:lnTo>
                    <a:pt x="12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2"/>
                  </a:lnTo>
                  <a:lnTo>
                    <a:pt x="28" y="9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36" y="14"/>
                  </a:lnTo>
                  <a:lnTo>
                    <a:pt x="32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2" y="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684880" y="1663200"/>
              <a:ext cx="23400" cy="7560"/>
            </a:xfrm>
            <a:custGeom>
              <a:avLst/>
              <a:gdLst/>
              <a:ahLst/>
              <a:rect l="l" t="t" r="r" b="b"/>
              <a:pathLst>
                <a:path w="67" h="21">
                  <a:moveTo>
                    <a:pt x="0" y="0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66" y="20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514960" y="1531440"/>
              <a:ext cx="18720" cy="1728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12" y="2"/>
                  </a:moveTo>
                  <a:lnTo>
                    <a:pt x="12" y="2"/>
                  </a:lnTo>
                  <a:lnTo>
                    <a:pt x="1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0" y="5"/>
                  </a:lnTo>
                  <a:lnTo>
                    <a:pt x="4" y="5"/>
                  </a:lnTo>
                  <a:lnTo>
                    <a:pt x="8" y="5"/>
                  </a:lnTo>
                  <a:lnTo>
                    <a:pt x="4" y="2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25" y="20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16" y="23"/>
                  </a:lnTo>
                  <a:lnTo>
                    <a:pt x="20" y="25"/>
                  </a:lnTo>
                  <a:lnTo>
                    <a:pt x="25" y="27"/>
                  </a:lnTo>
                  <a:lnTo>
                    <a:pt x="20" y="27"/>
                  </a:lnTo>
                  <a:lnTo>
                    <a:pt x="16" y="29"/>
                  </a:lnTo>
                  <a:lnTo>
                    <a:pt x="25" y="29"/>
                  </a:lnTo>
                  <a:lnTo>
                    <a:pt x="20" y="29"/>
                  </a:lnTo>
                  <a:lnTo>
                    <a:pt x="25" y="32"/>
                  </a:lnTo>
                  <a:lnTo>
                    <a:pt x="28" y="35"/>
                  </a:lnTo>
                  <a:lnTo>
                    <a:pt x="25" y="35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5" y="39"/>
                  </a:lnTo>
                  <a:lnTo>
                    <a:pt x="28" y="39"/>
                  </a:lnTo>
                  <a:lnTo>
                    <a:pt x="28" y="42"/>
                  </a:lnTo>
                  <a:lnTo>
                    <a:pt x="32" y="42"/>
                  </a:lnTo>
                  <a:lnTo>
                    <a:pt x="32" y="45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41" y="47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41" y="45"/>
                  </a:lnTo>
                  <a:lnTo>
                    <a:pt x="49" y="45"/>
                  </a:lnTo>
                  <a:lnTo>
                    <a:pt x="49" y="47"/>
                  </a:lnTo>
                  <a:lnTo>
                    <a:pt x="53" y="47"/>
                  </a:lnTo>
                  <a:lnTo>
                    <a:pt x="49" y="39"/>
                  </a:lnTo>
                  <a:lnTo>
                    <a:pt x="49" y="39"/>
                  </a:lnTo>
                  <a:lnTo>
                    <a:pt x="49" y="39"/>
                  </a:lnTo>
                  <a:lnTo>
                    <a:pt x="49" y="37"/>
                  </a:lnTo>
                  <a:lnTo>
                    <a:pt x="44" y="42"/>
                  </a:lnTo>
                  <a:lnTo>
                    <a:pt x="49" y="42"/>
                  </a:lnTo>
                  <a:lnTo>
                    <a:pt x="49" y="42"/>
                  </a:lnTo>
                  <a:lnTo>
                    <a:pt x="32" y="42"/>
                  </a:lnTo>
                  <a:lnTo>
                    <a:pt x="37" y="37"/>
                  </a:lnTo>
                  <a:lnTo>
                    <a:pt x="32" y="37"/>
                  </a:lnTo>
                  <a:lnTo>
                    <a:pt x="32" y="35"/>
                  </a:lnTo>
                  <a:lnTo>
                    <a:pt x="28" y="29"/>
                  </a:lnTo>
                  <a:lnTo>
                    <a:pt x="28" y="32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28" y="23"/>
                  </a:lnTo>
                  <a:lnTo>
                    <a:pt x="28" y="20"/>
                  </a:lnTo>
                  <a:lnTo>
                    <a:pt x="32" y="20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32" y="20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37" y="15"/>
                  </a:lnTo>
                  <a:lnTo>
                    <a:pt x="37" y="13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4" y="15"/>
                  </a:lnTo>
                  <a:lnTo>
                    <a:pt x="44" y="18"/>
                  </a:lnTo>
                  <a:lnTo>
                    <a:pt x="44" y="13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7" y="8"/>
                  </a:lnTo>
                  <a:lnTo>
                    <a:pt x="32" y="5"/>
                  </a:lnTo>
                  <a:lnTo>
                    <a:pt x="28" y="8"/>
                  </a:lnTo>
                  <a:lnTo>
                    <a:pt x="37" y="10"/>
                  </a:lnTo>
                  <a:lnTo>
                    <a:pt x="41" y="10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37" y="13"/>
                  </a:lnTo>
                  <a:lnTo>
                    <a:pt x="32" y="13"/>
                  </a:lnTo>
                  <a:lnTo>
                    <a:pt x="28" y="13"/>
                  </a:lnTo>
                  <a:lnTo>
                    <a:pt x="28" y="15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12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524680" y="1530000"/>
              <a:ext cx="32760" cy="1872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60" y="49"/>
                  </a:moveTo>
                  <a:lnTo>
                    <a:pt x="60" y="49"/>
                  </a:lnTo>
                  <a:lnTo>
                    <a:pt x="68" y="49"/>
                  </a:lnTo>
                  <a:lnTo>
                    <a:pt x="68" y="49"/>
                  </a:lnTo>
                  <a:lnTo>
                    <a:pt x="72" y="49"/>
                  </a:lnTo>
                  <a:lnTo>
                    <a:pt x="68" y="49"/>
                  </a:lnTo>
                  <a:lnTo>
                    <a:pt x="68" y="49"/>
                  </a:lnTo>
                  <a:lnTo>
                    <a:pt x="64" y="46"/>
                  </a:lnTo>
                  <a:lnTo>
                    <a:pt x="60" y="49"/>
                  </a:lnTo>
                  <a:lnTo>
                    <a:pt x="52" y="49"/>
                  </a:lnTo>
                  <a:lnTo>
                    <a:pt x="48" y="46"/>
                  </a:lnTo>
                  <a:lnTo>
                    <a:pt x="43" y="46"/>
                  </a:lnTo>
                  <a:lnTo>
                    <a:pt x="43" y="42"/>
                  </a:lnTo>
                  <a:lnTo>
                    <a:pt x="39" y="39"/>
                  </a:lnTo>
                  <a:lnTo>
                    <a:pt x="43" y="39"/>
                  </a:lnTo>
                  <a:lnTo>
                    <a:pt x="43" y="42"/>
                  </a:lnTo>
                  <a:lnTo>
                    <a:pt x="48" y="42"/>
                  </a:lnTo>
                  <a:lnTo>
                    <a:pt x="52" y="39"/>
                  </a:lnTo>
                  <a:lnTo>
                    <a:pt x="52" y="39"/>
                  </a:lnTo>
                  <a:lnTo>
                    <a:pt x="48" y="36"/>
                  </a:lnTo>
                  <a:lnTo>
                    <a:pt x="43" y="36"/>
                  </a:lnTo>
                  <a:lnTo>
                    <a:pt x="52" y="36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0" y="36"/>
                  </a:lnTo>
                  <a:lnTo>
                    <a:pt x="64" y="34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55" y="30"/>
                  </a:lnTo>
                  <a:lnTo>
                    <a:pt x="60" y="32"/>
                  </a:lnTo>
                  <a:lnTo>
                    <a:pt x="48" y="30"/>
                  </a:lnTo>
                  <a:lnTo>
                    <a:pt x="39" y="25"/>
                  </a:lnTo>
                  <a:lnTo>
                    <a:pt x="32" y="25"/>
                  </a:lnTo>
                  <a:lnTo>
                    <a:pt x="28" y="20"/>
                  </a:lnTo>
                  <a:lnTo>
                    <a:pt x="39" y="25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16" y="9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7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9" y="9"/>
                  </a:lnTo>
                  <a:lnTo>
                    <a:pt x="24" y="12"/>
                  </a:lnTo>
                  <a:lnTo>
                    <a:pt x="28" y="12"/>
                  </a:lnTo>
                  <a:lnTo>
                    <a:pt x="28" y="9"/>
                  </a:lnTo>
                  <a:lnTo>
                    <a:pt x="32" y="9"/>
                  </a:lnTo>
                  <a:lnTo>
                    <a:pt x="36" y="12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43" y="17"/>
                  </a:lnTo>
                  <a:lnTo>
                    <a:pt x="55" y="22"/>
                  </a:lnTo>
                  <a:lnTo>
                    <a:pt x="64" y="22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55" y="22"/>
                  </a:lnTo>
                  <a:lnTo>
                    <a:pt x="52" y="20"/>
                  </a:lnTo>
                  <a:lnTo>
                    <a:pt x="43" y="22"/>
                  </a:lnTo>
                  <a:lnTo>
                    <a:pt x="39" y="17"/>
                  </a:lnTo>
                  <a:lnTo>
                    <a:pt x="36" y="17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39" y="22"/>
                  </a:lnTo>
                  <a:lnTo>
                    <a:pt x="43" y="22"/>
                  </a:lnTo>
                  <a:lnTo>
                    <a:pt x="43" y="25"/>
                  </a:lnTo>
                  <a:lnTo>
                    <a:pt x="43" y="27"/>
                  </a:lnTo>
                  <a:lnTo>
                    <a:pt x="52" y="27"/>
                  </a:lnTo>
                  <a:lnTo>
                    <a:pt x="55" y="27"/>
                  </a:lnTo>
                  <a:lnTo>
                    <a:pt x="60" y="27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55" y="22"/>
                  </a:lnTo>
                  <a:lnTo>
                    <a:pt x="64" y="27"/>
                  </a:lnTo>
                  <a:lnTo>
                    <a:pt x="68" y="30"/>
                  </a:lnTo>
                  <a:lnTo>
                    <a:pt x="60" y="27"/>
                  </a:lnTo>
                  <a:lnTo>
                    <a:pt x="64" y="30"/>
                  </a:lnTo>
                  <a:lnTo>
                    <a:pt x="68" y="22"/>
                  </a:lnTo>
                  <a:lnTo>
                    <a:pt x="68" y="20"/>
                  </a:lnTo>
                  <a:lnTo>
                    <a:pt x="68" y="20"/>
                  </a:lnTo>
                  <a:lnTo>
                    <a:pt x="80" y="22"/>
                  </a:lnTo>
                  <a:lnTo>
                    <a:pt x="77" y="22"/>
                  </a:lnTo>
                  <a:lnTo>
                    <a:pt x="77" y="20"/>
                  </a:lnTo>
                  <a:lnTo>
                    <a:pt x="77" y="20"/>
                  </a:lnTo>
                  <a:lnTo>
                    <a:pt x="77" y="17"/>
                  </a:lnTo>
                  <a:lnTo>
                    <a:pt x="84" y="25"/>
                  </a:lnTo>
                  <a:lnTo>
                    <a:pt x="84" y="25"/>
                  </a:lnTo>
                  <a:lnTo>
                    <a:pt x="80" y="25"/>
                  </a:lnTo>
                  <a:lnTo>
                    <a:pt x="84" y="27"/>
                  </a:lnTo>
                  <a:lnTo>
                    <a:pt x="88" y="27"/>
                  </a:lnTo>
                  <a:lnTo>
                    <a:pt x="92" y="27"/>
                  </a:lnTo>
                  <a:lnTo>
                    <a:pt x="92" y="30"/>
                  </a:lnTo>
                  <a:lnTo>
                    <a:pt x="88" y="27"/>
                  </a:lnTo>
                  <a:lnTo>
                    <a:pt x="80" y="27"/>
                  </a:lnTo>
                  <a:lnTo>
                    <a:pt x="80" y="30"/>
                  </a:lnTo>
                  <a:lnTo>
                    <a:pt x="84" y="30"/>
                  </a:lnTo>
                  <a:lnTo>
                    <a:pt x="88" y="34"/>
                  </a:lnTo>
                  <a:lnTo>
                    <a:pt x="72" y="39"/>
                  </a:lnTo>
                  <a:lnTo>
                    <a:pt x="72" y="39"/>
                  </a:lnTo>
                  <a:lnTo>
                    <a:pt x="72" y="39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68" y="44"/>
                  </a:lnTo>
                  <a:lnTo>
                    <a:pt x="72" y="46"/>
                  </a:lnTo>
                  <a:lnTo>
                    <a:pt x="68" y="44"/>
                  </a:lnTo>
                  <a:lnTo>
                    <a:pt x="77" y="44"/>
                  </a:lnTo>
                  <a:lnTo>
                    <a:pt x="80" y="46"/>
                  </a:lnTo>
                  <a:lnTo>
                    <a:pt x="84" y="46"/>
                  </a:lnTo>
                  <a:lnTo>
                    <a:pt x="64" y="52"/>
                  </a:lnTo>
                  <a:lnTo>
                    <a:pt x="60" y="4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562840" y="1542600"/>
              <a:ext cx="26640" cy="14040"/>
            </a:xfrm>
            <a:custGeom>
              <a:avLst/>
              <a:gdLst/>
              <a:ahLst/>
              <a:rect l="l" t="t" r="r" b="b"/>
              <a:pathLst>
                <a:path w="77" h="39">
                  <a:moveTo>
                    <a:pt x="12" y="0"/>
                  </a:moveTo>
                  <a:lnTo>
                    <a:pt x="12" y="0"/>
                  </a:lnTo>
                  <a:lnTo>
                    <a:pt x="76" y="20"/>
                  </a:lnTo>
                  <a:lnTo>
                    <a:pt x="76" y="25"/>
                  </a:lnTo>
                  <a:lnTo>
                    <a:pt x="76" y="30"/>
                  </a:lnTo>
                  <a:lnTo>
                    <a:pt x="52" y="38"/>
                  </a:lnTo>
                  <a:lnTo>
                    <a:pt x="48" y="38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584800" y="1533240"/>
              <a:ext cx="29880" cy="1548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4" y="0"/>
                  </a:moveTo>
                  <a:lnTo>
                    <a:pt x="4" y="0"/>
                  </a:lnTo>
                  <a:lnTo>
                    <a:pt x="36" y="8"/>
                  </a:lnTo>
                  <a:lnTo>
                    <a:pt x="44" y="18"/>
                  </a:lnTo>
                  <a:lnTo>
                    <a:pt x="81" y="35"/>
                  </a:lnTo>
                  <a:lnTo>
                    <a:pt x="72" y="40"/>
                  </a:lnTo>
                  <a:lnTo>
                    <a:pt x="72" y="43"/>
                  </a:lnTo>
                  <a:lnTo>
                    <a:pt x="48" y="40"/>
                  </a:lnTo>
                  <a:lnTo>
                    <a:pt x="44" y="37"/>
                  </a:lnTo>
                  <a:lnTo>
                    <a:pt x="65" y="37"/>
                  </a:lnTo>
                  <a:lnTo>
                    <a:pt x="21" y="23"/>
                  </a:lnTo>
                  <a:lnTo>
                    <a:pt x="0" y="8"/>
                  </a:lnTo>
                  <a:lnTo>
                    <a:pt x="25" y="18"/>
                  </a:lnTo>
                  <a:lnTo>
                    <a:pt x="9" y="11"/>
                  </a:lnTo>
                  <a:lnTo>
                    <a:pt x="9" y="8"/>
                  </a:lnTo>
                  <a:lnTo>
                    <a:pt x="32" y="18"/>
                  </a:lnTo>
                  <a:lnTo>
                    <a:pt x="28" y="13"/>
                  </a:lnTo>
                  <a:lnTo>
                    <a:pt x="40" y="13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637360" y="1558440"/>
              <a:ext cx="20160" cy="936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21" y="8"/>
                  </a:moveTo>
                  <a:lnTo>
                    <a:pt x="21" y="8"/>
                  </a:lnTo>
                  <a:lnTo>
                    <a:pt x="53" y="15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8" y="25"/>
                  </a:lnTo>
                  <a:lnTo>
                    <a:pt x="41" y="2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7" y="15"/>
                  </a:lnTo>
                  <a:lnTo>
                    <a:pt x="29" y="13"/>
                  </a:lnTo>
                  <a:lnTo>
                    <a:pt x="21" y="8"/>
                  </a:lnTo>
                  <a:lnTo>
                    <a:pt x="5" y="8"/>
                  </a:lnTo>
                  <a:lnTo>
                    <a:pt x="0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8" y="3"/>
                  </a:lnTo>
                  <a:lnTo>
                    <a:pt x="21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451600" y="1398240"/>
              <a:ext cx="1250280" cy="348840"/>
            </a:xfrm>
            <a:custGeom>
              <a:avLst/>
              <a:gdLst/>
              <a:ahLst/>
              <a:rect l="l" t="t" r="r" b="b"/>
              <a:pathLst>
                <a:path w="3477" h="968">
                  <a:moveTo>
                    <a:pt x="274" y="425"/>
                  </a:moveTo>
                  <a:lnTo>
                    <a:pt x="290" y="423"/>
                  </a:lnTo>
                  <a:lnTo>
                    <a:pt x="290" y="425"/>
                  </a:lnTo>
                  <a:lnTo>
                    <a:pt x="307" y="433"/>
                  </a:lnTo>
                  <a:lnTo>
                    <a:pt x="339" y="438"/>
                  </a:lnTo>
                  <a:lnTo>
                    <a:pt x="339" y="438"/>
                  </a:lnTo>
                  <a:lnTo>
                    <a:pt x="311" y="438"/>
                  </a:lnTo>
                  <a:lnTo>
                    <a:pt x="290" y="443"/>
                  </a:lnTo>
                  <a:lnTo>
                    <a:pt x="294" y="450"/>
                  </a:lnTo>
                  <a:lnTo>
                    <a:pt x="238" y="445"/>
                  </a:lnTo>
                  <a:lnTo>
                    <a:pt x="193" y="457"/>
                  </a:lnTo>
                  <a:lnTo>
                    <a:pt x="197" y="465"/>
                  </a:lnTo>
                  <a:lnTo>
                    <a:pt x="202" y="467"/>
                  </a:lnTo>
                  <a:lnTo>
                    <a:pt x="209" y="475"/>
                  </a:lnTo>
                  <a:lnTo>
                    <a:pt x="230" y="475"/>
                  </a:lnTo>
                  <a:lnTo>
                    <a:pt x="234" y="485"/>
                  </a:lnTo>
                  <a:lnTo>
                    <a:pt x="234" y="485"/>
                  </a:lnTo>
                  <a:lnTo>
                    <a:pt x="234" y="485"/>
                  </a:lnTo>
                  <a:lnTo>
                    <a:pt x="241" y="496"/>
                  </a:lnTo>
                  <a:lnTo>
                    <a:pt x="230" y="504"/>
                  </a:lnTo>
                  <a:lnTo>
                    <a:pt x="214" y="499"/>
                  </a:lnTo>
                  <a:lnTo>
                    <a:pt x="193" y="487"/>
                  </a:lnTo>
                  <a:lnTo>
                    <a:pt x="173" y="492"/>
                  </a:lnTo>
                  <a:lnTo>
                    <a:pt x="169" y="499"/>
                  </a:lnTo>
                  <a:lnTo>
                    <a:pt x="169" y="519"/>
                  </a:lnTo>
                  <a:lnTo>
                    <a:pt x="173" y="523"/>
                  </a:lnTo>
                  <a:lnTo>
                    <a:pt x="189" y="541"/>
                  </a:lnTo>
                  <a:lnTo>
                    <a:pt x="214" y="545"/>
                  </a:lnTo>
                  <a:lnTo>
                    <a:pt x="221" y="545"/>
                  </a:lnTo>
                  <a:lnTo>
                    <a:pt x="230" y="548"/>
                  </a:lnTo>
                  <a:lnTo>
                    <a:pt x="234" y="548"/>
                  </a:lnTo>
                  <a:lnTo>
                    <a:pt x="238" y="560"/>
                  </a:lnTo>
                  <a:lnTo>
                    <a:pt x="238" y="558"/>
                  </a:lnTo>
                  <a:lnTo>
                    <a:pt x="262" y="568"/>
                  </a:lnTo>
                  <a:lnTo>
                    <a:pt x="271" y="578"/>
                  </a:lnTo>
                  <a:lnTo>
                    <a:pt x="227" y="600"/>
                  </a:lnTo>
                  <a:lnTo>
                    <a:pt x="151" y="590"/>
                  </a:lnTo>
                  <a:lnTo>
                    <a:pt x="106" y="606"/>
                  </a:lnTo>
                  <a:lnTo>
                    <a:pt x="114" y="628"/>
                  </a:lnTo>
                  <a:lnTo>
                    <a:pt x="141" y="649"/>
                  </a:lnTo>
                  <a:lnTo>
                    <a:pt x="144" y="648"/>
                  </a:lnTo>
                  <a:lnTo>
                    <a:pt x="170" y="649"/>
                  </a:lnTo>
                  <a:lnTo>
                    <a:pt x="176" y="654"/>
                  </a:lnTo>
                  <a:lnTo>
                    <a:pt x="184" y="654"/>
                  </a:lnTo>
                  <a:lnTo>
                    <a:pt x="191" y="651"/>
                  </a:lnTo>
                  <a:lnTo>
                    <a:pt x="193" y="651"/>
                  </a:lnTo>
                  <a:lnTo>
                    <a:pt x="196" y="653"/>
                  </a:lnTo>
                  <a:lnTo>
                    <a:pt x="199" y="652"/>
                  </a:lnTo>
                  <a:lnTo>
                    <a:pt x="200" y="648"/>
                  </a:lnTo>
                  <a:lnTo>
                    <a:pt x="205" y="646"/>
                  </a:lnTo>
                  <a:lnTo>
                    <a:pt x="223" y="650"/>
                  </a:lnTo>
                  <a:lnTo>
                    <a:pt x="245" y="646"/>
                  </a:lnTo>
                  <a:lnTo>
                    <a:pt x="250" y="642"/>
                  </a:lnTo>
                  <a:lnTo>
                    <a:pt x="259" y="642"/>
                  </a:lnTo>
                  <a:lnTo>
                    <a:pt x="279" y="632"/>
                  </a:lnTo>
                  <a:lnTo>
                    <a:pt x="297" y="632"/>
                  </a:lnTo>
                  <a:lnTo>
                    <a:pt x="298" y="636"/>
                  </a:lnTo>
                  <a:lnTo>
                    <a:pt x="303" y="637"/>
                  </a:lnTo>
                  <a:lnTo>
                    <a:pt x="336" y="630"/>
                  </a:lnTo>
                  <a:lnTo>
                    <a:pt x="339" y="626"/>
                  </a:lnTo>
                  <a:lnTo>
                    <a:pt x="351" y="625"/>
                  </a:lnTo>
                  <a:lnTo>
                    <a:pt x="366" y="627"/>
                  </a:lnTo>
                  <a:lnTo>
                    <a:pt x="380" y="629"/>
                  </a:lnTo>
                  <a:lnTo>
                    <a:pt x="401" y="643"/>
                  </a:lnTo>
                  <a:lnTo>
                    <a:pt x="398" y="662"/>
                  </a:lnTo>
                  <a:lnTo>
                    <a:pt x="416" y="667"/>
                  </a:lnTo>
                  <a:lnTo>
                    <a:pt x="417" y="672"/>
                  </a:lnTo>
                  <a:lnTo>
                    <a:pt x="418" y="675"/>
                  </a:lnTo>
                  <a:lnTo>
                    <a:pt x="427" y="688"/>
                  </a:lnTo>
                  <a:lnTo>
                    <a:pt x="423" y="691"/>
                  </a:lnTo>
                  <a:lnTo>
                    <a:pt x="436" y="688"/>
                  </a:lnTo>
                  <a:lnTo>
                    <a:pt x="460" y="691"/>
                  </a:lnTo>
                  <a:lnTo>
                    <a:pt x="472" y="693"/>
                  </a:lnTo>
                  <a:lnTo>
                    <a:pt x="476" y="693"/>
                  </a:lnTo>
                  <a:lnTo>
                    <a:pt x="484" y="695"/>
                  </a:lnTo>
                  <a:lnTo>
                    <a:pt x="492" y="695"/>
                  </a:lnTo>
                  <a:lnTo>
                    <a:pt x="500" y="708"/>
                  </a:lnTo>
                  <a:lnTo>
                    <a:pt x="512" y="711"/>
                  </a:lnTo>
                  <a:lnTo>
                    <a:pt x="524" y="721"/>
                  </a:lnTo>
                  <a:lnTo>
                    <a:pt x="533" y="728"/>
                  </a:lnTo>
                  <a:lnTo>
                    <a:pt x="541" y="730"/>
                  </a:lnTo>
                  <a:lnTo>
                    <a:pt x="516" y="730"/>
                  </a:lnTo>
                  <a:lnTo>
                    <a:pt x="512" y="728"/>
                  </a:lnTo>
                  <a:lnTo>
                    <a:pt x="512" y="740"/>
                  </a:lnTo>
                  <a:lnTo>
                    <a:pt x="508" y="745"/>
                  </a:lnTo>
                  <a:lnTo>
                    <a:pt x="508" y="745"/>
                  </a:lnTo>
                  <a:lnTo>
                    <a:pt x="504" y="752"/>
                  </a:lnTo>
                  <a:lnTo>
                    <a:pt x="496" y="755"/>
                  </a:lnTo>
                  <a:lnTo>
                    <a:pt x="512" y="760"/>
                  </a:lnTo>
                  <a:lnTo>
                    <a:pt x="516" y="760"/>
                  </a:lnTo>
                  <a:lnTo>
                    <a:pt x="533" y="755"/>
                  </a:lnTo>
                  <a:lnTo>
                    <a:pt x="545" y="760"/>
                  </a:lnTo>
                  <a:lnTo>
                    <a:pt x="533" y="745"/>
                  </a:lnTo>
                  <a:lnTo>
                    <a:pt x="541" y="750"/>
                  </a:lnTo>
                  <a:lnTo>
                    <a:pt x="553" y="742"/>
                  </a:lnTo>
                  <a:lnTo>
                    <a:pt x="557" y="728"/>
                  </a:lnTo>
                  <a:lnTo>
                    <a:pt x="573" y="723"/>
                  </a:lnTo>
                  <a:lnTo>
                    <a:pt x="589" y="726"/>
                  </a:lnTo>
                  <a:lnTo>
                    <a:pt x="577" y="713"/>
                  </a:lnTo>
                  <a:lnTo>
                    <a:pt x="593" y="726"/>
                  </a:lnTo>
                  <a:lnTo>
                    <a:pt x="614" y="726"/>
                  </a:lnTo>
                  <a:lnTo>
                    <a:pt x="614" y="726"/>
                  </a:lnTo>
                  <a:lnTo>
                    <a:pt x="605" y="730"/>
                  </a:lnTo>
                  <a:lnTo>
                    <a:pt x="581" y="728"/>
                  </a:lnTo>
                  <a:lnTo>
                    <a:pt x="597" y="730"/>
                  </a:lnTo>
                  <a:lnTo>
                    <a:pt x="593" y="732"/>
                  </a:lnTo>
                  <a:lnTo>
                    <a:pt x="645" y="735"/>
                  </a:lnTo>
                  <a:lnTo>
                    <a:pt x="653" y="740"/>
                  </a:lnTo>
                  <a:lnTo>
                    <a:pt x="626" y="752"/>
                  </a:lnTo>
                  <a:lnTo>
                    <a:pt x="661" y="760"/>
                  </a:lnTo>
                  <a:lnTo>
                    <a:pt x="661" y="772"/>
                  </a:lnTo>
                  <a:lnTo>
                    <a:pt x="674" y="775"/>
                  </a:lnTo>
                  <a:lnTo>
                    <a:pt x="718" y="757"/>
                  </a:lnTo>
                  <a:lnTo>
                    <a:pt x="746" y="760"/>
                  </a:lnTo>
                  <a:lnTo>
                    <a:pt x="746" y="750"/>
                  </a:lnTo>
                  <a:lnTo>
                    <a:pt x="706" y="750"/>
                  </a:lnTo>
                  <a:lnTo>
                    <a:pt x="682" y="735"/>
                  </a:lnTo>
                  <a:lnTo>
                    <a:pt x="690" y="728"/>
                  </a:lnTo>
                  <a:lnTo>
                    <a:pt x="690" y="737"/>
                  </a:lnTo>
                  <a:lnTo>
                    <a:pt x="706" y="723"/>
                  </a:lnTo>
                  <a:lnTo>
                    <a:pt x="734" y="723"/>
                  </a:lnTo>
                  <a:lnTo>
                    <a:pt x="738" y="718"/>
                  </a:lnTo>
                  <a:lnTo>
                    <a:pt x="766" y="711"/>
                  </a:lnTo>
                  <a:lnTo>
                    <a:pt x="783" y="706"/>
                  </a:lnTo>
                  <a:lnTo>
                    <a:pt x="775" y="711"/>
                  </a:lnTo>
                  <a:lnTo>
                    <a:pt x="798" y="711"/>
                  </a:lnTo>
                  <a:lnTo>
                    <a:pt x="778" y="718"/>
                  </a:lnTo>
                  <a:lnTo>
                    <a:pt x="788" y="721"/>
                  </a:lnTo>
                  <a:lnTo>
                    <a:pt x="759" y="721"/>
                  </a:lnTo>
                  <a:lnTo>
                    <a:pt x="795" y="735"/>
                  </a:lnTo>
                  <a:lnTo>
                    <a:pt x="783" y="740"/>
                  </a:lnTo>
                  <a:lnTo>
                    <a:pt x="778" y="735"/>
                  </a:lnTo>
                  <a:lnTo>
                    <a:pt x="783" y="752"/>
                  </a:lnTo>
                  <a:lnTo>
                    <a:pt x="750" y="755"/>
                  </a:lnTo>
                  <a:lnTo>
                    <a:pt x="831" y="775"/>
                  </a:lnTo>
                  <a:lnTo>
                    <a:pt x="883" y="794"/>
                  </a:lnTo>
                  <a:lnTo>
                    <a:pt x="892" y="789"/>
                  </a:lnTo>
                  <a:lnTo>
                    <a:pt x="916" y="794"/>
                  </a:lnTo>
                  <a:lnTo>
                    <a:pt x="932" y="797"/>
                  </a:lnTo>
                  <a:lnTo>
                    <a:pt x="932" y="797"/>
                  </a:lnTo>
                  <a:lnTo>
                    <a:pt x="941" y="797"/>
                  </a:lnTo>
                  <a:lnTo>
                    <a:pt x="964" y="797"/>
                  </a:lnTo>
                  <a:lnTo>
                    <a:pt x="988" y="801"/>
                  </a:lnTo>
                  <a:lnTo>
                    <a:pt x="988" y="801"/>
                  </a:lnTo>
                  <a:lnTo>
                    <a:pt x="1013" y="809"/>
                  </a:lnTo>
                  <a:lnTo>
                    <a:pt x="1022" y="809"/>
                  </a:lnTo>
                  <a:lnTo>
                    <a:pt x="1025" y="807"/>
                  </a:lnTo>
                  <a:lnTo>
                    <a:pt x="1045" y="804"/>
                  </a:lnTo>
                  <a:lnTo>
                    <a:pt x="1049" y="807"/>
                  </a:lnTo>
                  <a:lnTo>
                    <a:pt x="1073" y="811"/>
                  </a:lnTo>
                  <a:lnTo>
                    <a:pt x="1078" y="819"/>
                  </a:lnTo>
                  <a:lnTo>
                    <a:pt x="1106" y="824"/>
                  </a:lnTo>
                  <a:lnTo>
                    <a:pt x="1109" y="826"/>
                  </a:lnTo>
                  <a:lnTo>
                    <a:pt x="1134" y="831"/>
                  </a:lnTo>
                  <a:lnTo>
                    <a:pt x="1159" y="838"/>
                  </a:lnTo>
                  <a:lnTo>
                    <a:pt x="1162" y="838"/>
                  </a:lnTo>
                  <a:lnTo>
                    <a:pt x="1162" y="836"/>
                  </a:lnTo>
                  <a:lnTo>
                    <a:pt x="1162" y="831"/>
                  </a:lnTo>
                  <a:lnTo>
                    <a:pt x="1166" y="831"/>
                  </a:lnTo>
                  <a:lnTo>
                    <a:pt x="1171" y="821"/>
                  </a:lnTo>
                  <a:lnTo>
                    <a:pt x="1114" y="797"/>
                  </a:lnTo>
                  <a:lnTo>
                    <a:pt x="1106" y="777"/>
                  </a:lnTo>
                  <a:lnTo>
                    <a:pt x="1086" y="770"/>
                  </a:lnTo>
                  <a:lnTo>
                    <a:pt x="1061" y="762"/>
                  </a:lnTo>
                  <a:lnTo>
                    <a:pt x="1069" y="747"/>
                  </a:lnTo>
                  <a:lnTo>
                    <a:pt x="1058" y="735"/>
                  </a:lnTo>
                  <a:lnTo>
                    <a:pt x="1069" y="740"/>
                  </a:lnTo>
                  <a:lnTo>
                    <a:pt x="1065" y="735"/>
                  </a:lnTo>
                  <a:lnTo>
                    <a:pt x="1098" y="732"/>
                  </a:lnTo>
                  <a:lnTo>
                    <a:pt x="1090" y="726"/>
                  </a:lnTo>
                  <a:lnTo>
                    <a:pt x="1098" y="721"/>
                  </a:lnTo>
                  <a:lnTo>
                    <a:pt x="1098" y="721"/>
                  </a:lnTo>
                  <a:lnTo>
                    <a:pt x="1098" y="715"/>
                  </a:lnTo>
                  <a:lnTo>
                    <a:pt x="1138" y="701"/>
                  </a:lnTo>
                  <a:lnTo>
                    <a:pt x="1175" y="708"/>
                  </a:lnTo>
                  <a:lnTo>
                    <a:pt x="1190" y="703"/>
                  </a:lnTo>
                  <a:lnTo>
                    <a:pt x="1215" y="718"/>
                  </a:lnTo>
                  <a:lnTo>
                    <a:pt x="1219" y="735"/>
                  </a:lnTo>
                  <a:lnTo>
                    <a:pt x="1239" y="740"/>
                  </a:lnTo>
                  <a:lnTo>
                    <a:pt x="1187" y="740"/>
                  </a:lnTo>
                  <a:lnTo>
                    <a:pt x="1183" y="752"/>
                  </a:lnTo>
                  <a:lnTo>
                    <a:pt x="1206" y="760"/>
                  </a:lnTo>
                  <a:lnTo>
                    <a:pt x="1166" y="760"/>
                  </a:lnTo>
                  <a:lnTo>
                    <a:pt x="1194" y="767"/>
                  </a:lnTo>
                  <a:lnTo>
                    <a:pt x="1227" y="791"/>
                  </a:lnTo>
                  <a:lnTo>
                    <a:pt x="1279" y="799"/>
                  </a:lnTo>
                  <a:lnTo>
                    <a:pt x="1291" y="821"/>
                  </a:lnTo>
                  <a:lnTo>
                    <a:pt x="1320" y="838"/>
                  </a:lnTo>
                  <a:lnTo>
                    <a:pt x="1303" y="824"/>
                  </a:lnTo>
                  <a:lnTo>
                    <a:pt x="1303" y="814"/>
                  </a:lnTo>
                  <a:lnTo>
                    <a:pt x="1320" y="811"/>
                  </a:lnTo>
                  <a:lnTo>
                    <a:pt x="1340" y="821"/>
                  </a:lnTo>
                  <a:lnTo>
                    <a:pt x="1381" y="836"/>
                  </a:lnTo>
                  <a:lnTo>
                    <a:pt x="1364" y="841"/>
                  </a:lnTo>
                  <a:lnTo>
                    <a:pt x="1376" y="846"/>
                  </a:lnTo>
                  <a:lnTo>
                    <a:pt x="1355" y="846"/>
                  </a:lnTo>
                  <a:lnTo>
                    <a:pt x="1348" y="841"/>
                  </a:lnTo>
                  <a:lnTo>
                    <a:pt x="1324" y="838"/>
                  </a:lnTo>
                  <a:lnTo>
                    <a:pt x="1328" y="851"/>
                  </a:lnTo>
                  <a:lnTo>
                    <a:pt x="1348" y="868"/>
                  </a:lnTo>
                  <a:lnTo>
                    <a:pt x="1340" y="861"/>
                  </a:lnTo>
                  <a:lnTo>
                    <a:pt x="1364" y="863"/>
                  </a:lnTo>
                  <a:lnTo>
                    <a:pt x="1364" y="868"/>
                  </a:lnTo>
                  <a:lnTo>
                    <a:pt x="1376" y="873"/>
                  </a:lnTo>
                  <a:lnTo>
                    <a:pt x="1360" y="873"/>
                  </a:lnTo>
                  <a:lnTo>
                    <a:pt x="1368" y="880"/>
                  </a:lnTo>
                  <a:lnTo>
                    <a:pt x="1364" y="876"/>
                  </a:lnTo>
                  <a:lnTo>
                    <a:pt x="1396" y="885"/>
                  </a:lnTo>
                  <a:lnTo>
                    <a:pt x="1425" y="922"/>
                  </a:lnTo>
                  <a:lnTo>
                    <a:pt x="1449" y="920"/>
                  </a:lnTo>
                  <a:lnTo>
                    <a:pt x="1461" y="905"/>
                  </a:lnTo>
                  <a:lnTo>
                    <a:pt x="1513" y="898"/>
                  </a:lnTo>
                  <a:lnTo>
                    <a:pt x="1525" y="905"/>
                  </a:lnTo>
                  <a:lnTo>
                    <a:pt x="1593" y="913"/>
                  </a:lnTo>
                  <a:lnTo>
                    <a:pt x="1610" y="920"/>
                  </a:lnTo>
                  <a:lnTo>
                    <a:pt x="1647" y="934"/>
                  </a:lnTo>
                  <a:lnTo>
                    <a:pt x="1671" y="932"/>
                  </a:lnTo>
                  <a:lnTo>
                    <a:pt x="1699" y="956"/>
                  </a:lnTo>
                  <a:lnTo>
                    <a:pt x="1740" y="967"/>
                  </a:lnTo>
                  <a:lnTo>
                    <a:pt x="1759" y="959"/>
                  </a:lnTo>
                  <a:lnTo>
                    <a:pt x="1751" y="949"/>
                  </a:lnTo>
                  <a:lnTo>
                    <a:pt x="1779" y="944"/>
                  </a:lnTo>
                  <a:lnTo>
                    <a:pt x="1788" y="934"/>
                  </a:lnTo>
                  <a:lnTo>
                    <a:pt x="1776" y="917"/>
                  </a:lnTo>
                  <a:lnTo>
                    <a:pt x="1801" y="915"/>
                  </a:lnTo>
                  <a:lnTo>
                    <a:pt x="1801" y="907"/>
                  </a:lnTo>
                  <a:lnTo>
                    <a:pt x="1828" y="910"/>
                  </a:lnTo>
                  <a:lnTo>
                    <a:pt x="1828" y="910"/>
                  </a:lnTo>
                  <a:lnTo>
                    <a:pt x="1828" y="910"/>
                  </a:lnTo>
                  <a:lnTo>
                    <a:pt x="1869" y="913"/>
                  </a:lnTo>
                  <a:lnTo>
                    <a:pt x="1873" y="913"/>
                  </a:lnTo>
                  <a:lnTo>
                    <a:pt x="1869" y="913"/>
                  </a:lnTo>
                  <a:lnTo>
                    <a:pt x="1885" y="920"/>
                  </a:lnTo>
                  <a:lnTo>
                    <a:pt x="1900" y="907"/>
                  </a:lnTo>
                  <a:lnTo>
                    <a:pt x="1921" y="910"/>
                  </a:lnTo>
                  <a:lnTo>
                    <a:pt x="1917" y="902"/>
                  </a:lnTo>
                  <a:lnTo>
                    <a:pt x="1938" y="900"/>
                  </a:lnTo>
                  <a:lnTo>
                    <a:pt x="1925" y="893"/>
                  </a:lnTo>
                  <a:lnTo>
                    <a:pt x="1938" y="880"/>
                  </a:lnTo>
                  <a:lnTo>
                    <a:pt x="1958" y="882"/>
                  </a:lnTo>
                  <a:lnTo>
                    <a:pt x="1962" y="893"/>
                  </a:lnTo>
                  <a:lnTo>
                    <a:pt x="1974" y="893"/>
                  </a:lnTo>
                  <a:lnTo>
                    <a:pt x="1985" y="913"/>
                  </a:lnTo>
                  <a:lnTo>
                    <a:pt x="2006" y="920"/>
                  </a:lnTo>
                  <a:lnTo>
                    <a:pt x="2039" y="900"/>
                  </a:lnTo>
                  <a:lnTo>
                    <a:pt x="2051" y="900"/>
                  </a:lnTo>
                  <a:lnTo>
                    <a:pt x="2055" y="905"/>
                  </a:lnTo>
                  <a:lnTo>
                    <a:pt x="2071" y="900"/>
                  </a:lnTo>
                  <a:lnTo>
                    <a:pt x="2091" y="905"/>
                  </a:lnTo>
                  <a:lnTo>
                    <a:pt x="2095" y="900"/>
                  </a:lnTo>
                  <a:lnTo>
                    <a:pt x="2058" y="876"/>
                  </a:lnTo>
                  <a:lnTo>
                    <a:pt x="2030" y="876"/>
                  </a:lnTo>
                  <a:lnTo>
                    <a:pt x="2010" y="865"/>
                  </a:lnTo>
                  <a:lnTo>
                    <a:pt x="1994" y="853"/>
                  </a:lnTo>
                  <a:lnTo>
                    <a:pt x="1994" y="853"/>
                  </a:lnTo>
                  <a:lnTo>
                    <a:pt x="1994" y="853"/>
                  </a:lnTo>
                  <a:lnTo>
                    <a:pt x="1989" y="838"/>
                  </a:lnTo>
                  <a:lnTo>
                    <a:pt x="2006" y="831"/>
                  </a:lnTo>
                  <a:lnTo>
                    <a:pt x="2018" y="821"/>
                  </a:lnTo>
                  <a:lnTo>
                    <a:pt x="2034" y="831"/>
                  </a:lnTo>
                  <a:lnTo>
                    <a:pt x="2051" y="828"/>
                  </a:lnTo>
                  <a:lnTo>
                    <a:pt x="2046" y="811"/>
                  </a:lnTo>
                  <a:lnTo>
                    <a:pt x="2082" y="809"/>
                  </a:lnTo>
                  <a:lnTo>
                    <a:pt x="2082" y="797"/>
                  </a:lnTo>
                  <a:lnTo>
                    <a:pt x="2115" y="784"/>
                  </a:lnTo>
                  <a:lnTo>
                    <a:pt x="2107" y="780"/>
                  </a:lnTo>
                  <a:lnTo>
                    <a:pt x="2099" y="777"/>
                  </a:lnTo>
                  <a:lnTo>
                    <a:pt x="2107" y="780"/>
                  </a:lnTo>
                  <a:lnTo>
                    <a:pt x="2091" y="770"/>
                  </a:lnTo>
                  <a:lnTo>
                    <a:pt x="2095" y="762"/>
                  </a:lnTo>
                  <a:lnTo>
                    <a:pt x="2095" y="757"/>
                  </a:lnTo>
                  <a:lnTo>
                    <a:pt x="2046" y="735"/>
                  </a:lnTo>
                  <a:lnTo>
                    <a:pt x="2030" y="721"/>
                  </a:lnTo>
                  <a:lnTo>
                    <a:pt x="2010" y="718"/>
                  </a:lnTo>
                  <a:lnTo>
                    <a:pt x="2042" y="706"/>
                  </a:lnTo>
                  <a:lnTo>
                    <a:pt x="2074" y="708"/>
                  </a:lnTo>
                  <a:lnTo>
                    <a:pt x="2055" y="698"/>
                  </a:lnTo>
                  <a:lnTo>
                    <a:pt x="2010" y="659"/>
                  </a:lnTo>
                  <a:lnTo>
                    <a:pt x="2071" y="666"/>
                  </a:lnTo>
                  <a:lnTo>
                    <a:pt x="2082" y="657"/>
                  </a:lnTo>
                  <a:lnTo>
                    <a:pt x="2051" y="639"/>
                  </a:lnTo>
                  <a:lnTo>
                    <a:pt x="2039" y="630"/>
                  </a:lnTo>
                  <a:lnTo>
                    <a:pt x="2055" y="625"/>
                  </a:lnTo>
                  <a:lnTo>
                    <a:pt x="2039" y="612"/>
                  </a:lnTo>
                  <a:lnTo>
                    <a:pt x="2051" y="610"/>
                  </a:lnTo>
                  <a:lnTo>
                    <a:pt x="2058" y="607"/>
                  </a:lnTo>
                  <a:lnTo>
                    <a:pt x="2058" y="600"/>
                  </a:lnTo>
                  <a:lnTo>
                    <a:pt x="2082" y="597"/>
                  </a:lnTo>
                  <a:lnTo>
                    <a:pt x="2074" y="588"/>
                  </a:lnTo>
                  <a:lnTo>
                    <a:pt x="2099" y="563"/>
                  </a:lnTo>
                  <a:lnTo>
                    <a:pt x="2123" y="565"/>
                  </a:lnTo>
                  <a:lnTo>
                    <a:pt x="2123" y="565"/>
                  </a:lnTo>
                  <a:lnTo>
                    <a:pt x="2159" y="565"/>
                  </a:lnTo>
                  <a:lnTo>
                    <a:pt x="2192" y="578"/>
                  </a:lnTo>
                  <a:lnTo>
                    <a:pt x="2268" y="578"/>
                  </a:lnTo>
                  <a:lnTo>
                    <a:pt x="2264" y="565"/>
                  </a:lnTo>
                  <a:lnTo>
                    <a:pt x="2220" y="551"/>
                  </a:lnTo>
                  <a:lnTo>
                    <a:pt x="2192" y="522"/>
                  </a:lnTo>
                  <a:lnTo>
                    <a:pt x="2304" y="534"/>
                  </a:lnTo>
                  <a:lnTo>
                    <a:pt x="2345" y="551"/>
                  </a:lnTo>
                  <a:lnTo>
                    <a:pt x="2389" y="556"/>
                  </a:lnTo>
                  <a:lnTo>
                    <a:pt x="2422" y="545"/>
                  </a:lnTo>
                  <a:lnTo>
                    <a:pt x="2474" y="551"/>
                  </a:lnTo>
                  <a:lnTo>
                    <a:pt x="2507" y="553"/>
                  </a:lnTo>
                  <a:lnTo>
                    <a:pt x="2551" y="565"/>
                  </a:lnTo>
                  <a:lnTo>
                    <a:pt x="2611" y="565"/>
                  </a:lnTo>
                  <a:lnTo>
                    <a:pt x="2640" y="553"/>
                  </a:lnTo>
                  <a:lnTo>
                    <a:pt x="2632" y="531"/>
                  </a:lnTo>
                  <a:lnTo>
                    <a:pt x="2676" y="539"/>
                  </a:lnTo>
                  <a:lnTo>
                    <a:pt x="2708" y="536"/>
                  </a:lnTo>
                  <a:lnTo>
                    <a:pt x="2753" y="541"/>
                  </a:lnTo>
                  <a:lnTo>
                    <a:pt x="2753" y="526"/>
                  </a:lnTo>
                  <a:lnTo>
                    <a:pt x="2733" y="519"/>
                  </a:lnTo>
                  <a:lnTo>
                    <a:pt x="2664" y="475"/>
                  </a:lnTo>
                  <a:lnTo>
                    <a:pt x="2640" y="467"/>
                  </a:lnTo>
                  <a:lnTo>
                    <a:pt x="2611" y="462"/>
                  </a:lnTo>
                  <a:lnTo>
                    <a:pt x="2596" y="450"/>
                  </a:lnTo>
                  <a:lnTo>
                    <a:pt x="2611" y="445"/>
                  </a:lnTo>
                  <a:lnTo>
                    <a:pt x="2652" y="440"/>
                  </a:lnTo>
                  <a:lnTo>
                    <a:pt x="2704" y="443"/>
                  </a:lnTo>
                  <a:lnTo>
                    <a:pt x="2780" y="460"/>
                  </a:lnTo>
                  <a:lnTo>
                    <a:pt x="2942" y="511"/>
                  </a:lnTo>
                  <a:lnTo>
                    <a:pt x="3007" y="514"/>
                  </a:lnTo>
                  <a:lnTo>
                    <a:pt x="3055" y="523"/>
                  </a:lnTo>
                  <a:lnTo>
                    <a:pt x="3064" y="523"/>
                  </a:lnTo>
                  <a:lnTo>
                    <a:pt x="3140" y="548"/>
                  </a:lnTo>
                  <a:lnTo>
                    <a:pt x="3144" y="551"/>
                  </a:lnTo>
                  <a:lnTo>
                    <a:pt x="3173" y="543"/>
                  </a:lnTo>
                  <a:lnTo>
                    <a:pt x="3161" y="534"/>
                  </a:lnTo>
                  <a:lnTo>
                    <a:pt x="3173" y="523"/>
                  </a:lnTo>
                  <a:lnTo>
                    <a:pt x="3185" y="526"/>
                  </a:lnTo>
                  <a:lnTo>
                    <a:pt x="3221" y="539"/>
                  </a:lnTo>
                  <a:lnTo>
                    <a:pt x="3233" y="548"/>
                  </a:lnTo>
                  <a:lnTo>
                    <a:pt x="3338" y="605"/>
                  </a:lnTo>
                  <a:lnTo>
                    <a:pt x="3338" y="607"/>
                  </a:lnTo>
                  <a:lnTo>
                    <a:pt x="3306" y="605"/>
                  </a:lnTo>
                  <a:lnTo>
                    <a:pt x="3298" y="602"/>
                  </a:lnTo>
                  <a:lnTo>
                    <a:pt x="3306" y="607"/>
                  </a:lnTo>
                  <a:lnTo>
                    <a:pt x="3306" y="617"/>
                  </a:lnTo>
                  <a:lnTo>
                    <a:pt x="3318" y="620"/>
                  </a:lnTo>
                  <a:lnTo>
                    <a:pt x="3358" y="635"/>
                  </a:lnTo>
                  <a:lnTo>
                    <a:pt x="3394" y="649"/>
                  </a:lnTo>
                  <a:lnTo>
                    <a:pt x="3419" y="661"/>
                  </a:lnTo>
                  <a:lnTo>
                    <a:pt x="3411" y="669"/>
                  </a:lnTo>
                  <a:lnTo>
                    <a:pt x="3431" y="676"/>
                  </a:lnTo>
                  <a:lnTo>
                    <a:pt x="3439" y="679"/>
                  </a:lnTo>
                  <a:lnTo>
                    <a:pt x="3419" y="669"/>
                  </a:lnTo>
                  <a:lnTo>
                    <a:pt x="3435" y="669"/>
                  </a:lnTo>
                  <a:lnTo>
                    <a:pt x="3411" y="649"/>
                  </a:lnTo>
                  <a:lnTo>
                    <a:pt x="3414" y="649"/>
                  </a:lnTo>
                  <a:lnTo>
                    <a:pt x="3423" y="657"/>
                  </a:lnTo>
                  <a:lnTo>
                    <a:pt x="3423" y="649"/>
                  </a:lnTo>
                  <a:lnTo>
                    <a:pt x="3447" y="661"/>
                  </a:lnTo>
                  <a:lnTo>
                    <a:pt x="3476" y="664"/>
                  </a:lnTo>
                  <a:lnTo>
                    <a:pt x="3476" y="637"/>
                  </a:lnTo>
                  <a:lnTo>
                    <a:pt x="3399" y="576"/>
                  </a:lnTo>
                  <a:lnTo>
                    <a:pt x="3281" y="506"/>
                  </a:lnTo>
                  <a:lnTo>
                    <a:pt x="3185" y="467"/>
                  </a:lnTo>
                  <a:lnTo>
                    <a:pt x="3137" y="455"/>
                  </a:lnTo>
                  <a:lnTo>
                    <a:pt x="3059" y="418"/>
                  </a:lnTo>
                  <a:lnTo>
                    <a:pt x="3031" y="416"/>
                  </a:lnTo>
                  <a:lnTo>
                    <a:pt x="3003" y="403"/>
                  </a:lnTo>
                  <a:lnTo>
                    <a:pt x="2975" y="400"/>
                  </a:lnTo>
                  <a:lnTo>
                    <a:pt x="2975" y="400"/>
                  </a:lnTo>
                  <a:lnTo>
                    <a:pt x="2975" y="394"/>
                  </a:lnTo>
                  <a:lnTo>
                    <a:pt x="2873" y="376"/>
                  </a:lnTo>
                  <a:lnTo>
                    <a:pt x="2853" y="381"/>
                  </a:lnTo>
                  <a:lnTo>
                    <a:pt x="2906" y="398"/>
                  </a:lnTo>
                  <a:lnTo>
                    <a:pt x="2873" y="389"/>
                  </a:lnTo>
                  <a:lnTo>
                    <a:pt x="2886" y="400"/>
                  </a:lnTo>
                  <a:lnTo>
                    <a:pt x="2866" y="391"/>
                  </a:lnTo>
                  <a:lnTo>
                    <a:pt x="2846" y="389"/>
                  </a:lnTo>
                  <a:lnTo>
                    <a:pt x="2837" y="384"/>
                  </a:lnTo>
                  <a:lnTo>
                    <a:pt x="2842" y="389"/>
                  </a:lnTo>
                  <a:lnTo>
                    <a:pt x="2866" y="396"/>
                  </a:lnTo>
                  <a:lnTo>
                    <a:pt x="2857" y="396"/>
                  </a:lnTo>
                  <a:lnTo>
                    <a:pt x="2801" y="379"/>
                  </a:lnTo>
                  <a:lnTo>
                    <a:pt x="2769" y="381"/>
                  </a:lnTo>
                  <a:lnTo>
                    <a:pt x="2753" y="376"/>
                  </a:lnTo>
                  <a:lnTo>
                    <a:pt x="2691" y="337"/>
                  </a:lnTo>
                  <a:lnTo>
                    <a:pt x="2623" y="302"/>
                  </a:lnTo>
                  <a:lnTo>
                    <a:pt x="2547" y="268"/>
                  </a:lnTo>
                  <a:lnTo>
                    <a:pt x="2571" y="256"/>
                  </a:lnTo>
                  <a:lnTo>
                    <a:pt x="2599" y="258"/>
                  </a:lnTo>
                  <a:lnTo>
                    <a:pt x="2579" y="253"/>
                  </a:lnTo>
                  <a:lnTo>
                    <a:pt x="2608" y="248"/>
                  </a:lnTo>
                  <a:lnTo>
                    <a:pt x="2628" y="251"/>
                  </a:lnTo>
                  <a:lnTo>
                    <a:pt x="2608" y="246"/>
                  </a:lnTo>
                  <a:lnTo>
                    <a:pt x="2596" y="238"/>
                  </a:lnTo>
                  <a:lnTo>
                    <a:pt x="2635" y="241"/>
                  </a:lnTo>
                  <a:lnTo>
                    <a:pt x="2632" y="236"/>
                  </a:lnTo>
                  <a:lnTo>
                    <a:pt x="2672" y="241"/>
                  </a:lnTo>
                  <a:lnTo>
                    <a:pt x="2668" y="246"/>
                  </a:lnTo>
                  <a:lnTo>
                    <a:pt x="2691" y="251"/>
                  </a:lnTo>
                  <a:lnTo>
                    <a:pt x="2688" y="244"/>
                  </a:lnTo>
                  <a:lnTo>
                    <a:pt x="2708" y="244"/>
                  </a:lnTo>
                  <a:lnTo>
                    <a:pt x="2684" y="236"/>
                  </a:lnTo>
                  <a:lnTo>
                    <a:pt x="2708" y="238"/>
                  </a:lnTo>
                  <a:lnTo>
                    <a:pt x="2712" y="234"/>
                  </a:lnTo>
                  <a:lnTo>
                    <a:pt x="2680" y="226"/>
                  </a:lnTo>
                  <a:lnTo>
                    <a:pt x="2676" y="231"/>
                  </a:lnTo>
                  <a:lnTo>
                    <a:pt x="2640" y="221"/>
                  </a:lnTo>
                  <a:lnTo>
                    <a:pt x="2511" y="177"/>
                  </a:lnTo>
                  <a:lnTo>
                    <a:pt x="2543" y="172"/>
                  </a:lnTo>
                  <a:lnTo>
                    <a:pt x="2523" y="165"/>
                  </a:lnTo>
                  <a:lnTo>
                    <a:pt x="2538" y="167"/>
                  </a:lnTo>
                  <a:lnTo>
                    <a:pt x="2579" y="180"/>
                  </a:lnTo>
                  <a:lnTo>
                    <a:pt x="2611" y="184"/>
                  </a:lnTo>
                  <a:lnTo>
                    <a:pt x="2608" y="182"/>
                  </a:lnTo>
                  <a:lnTo>
                    <a:pt x="2644" y="189"/>
                  </a:lnTo>
                  <a:lnTo>
                    <a:pt x="2608" y="177"/>
                  </a:lnTo>
                  <a:lnTo>
                    <a:pt x="2571" y="165"/>
                  </a:lnTo>
                  <a:lnTo>
                    <a:pt x="2579" y="160"/>
                  </a:lnTo>
                  <a:lnTo>
                    <a:pt x="2495" y="145"/>
                  </a:lnTo>
                  <a:lnTo>
                    <a:pt x="2527" y="140"/>
                  </a:lnTo>
                  <a:lnTo>
                    <a:pt x="2531" y="147"/>
                  </a:lnTo>
                  <a:lnTo>
                    <a:pt x="2616" y="165"/>
                  </a:lnTo>
                  <a:lnTo>
                    <a:pt x="2656" y="174"/>
                  </a:lnTo>
                  <a:lnTo>
                    <a:pt x="2676" y="187"/>
                  </a:lnTo>
                  <a:lnTo>
                    <a:pt x="2853" y="246"/>
                  </a:lnTo>
                  <a:lnTo>
                    <a:pt x="2850" y="253"/>
                  </a:lnTo>
                  <a:lnTo>
                    <a:pt x="2906" y="268"/>
                  </a:lnTo>
                  <a:lnTo>
                    <a:pt x="2934" y="278"/>
                  </a:lnTo>
                  <a:lnTo>
                    <a:pt x="3052" y="312"/>
                  </a:lnTo>
                  <a:lnTo>
                    <a:pt x="3083" y="317"/>
                  </a:lnTo>
                  <a:lnTo>
                    <a:pt x="3095" y="322"/>
                  </a:lnTo>
                  <a:lnTo>
                    <a:pt x="3140" y="332"/>
                  </a:lnTo>
                  <a:lnTo>
                    <a:pt x="3161" y="337"/>
                  </a:lnTo>
                  <a:lnTo>
                    <a:pt x="3185" y="342"/>
                  </a:lnTo>
                  <a:lnTo>
                    <a:pt x="3229" y="354"/>
                  </a:lnTo>
                  <a:lnTo>
                    <a:pt x="3241" y="356"/>
                  </a:lnTo>
                  <a:lnTo>
                    <a:pt x="3402" y="398"/>
                  </a:lnTo>
                  <a:lnTo>
                    <a:pt x="3346" y="369"/>
                  </a:lnTo>
                  <a:lnTo>
                    <a:pt x="3261" y="347"/>
                  </a:lnTo>
                  <a:lnTo>
                    <a:pt x="3261" y="335"/>
                  </a:lnTo>
                  <a:lnTo>
                    <a:pt x="3277" y="339"/>
                  </a:lnTo>
                  <a:lnTo>
                    <a:pt x="3241" y="330"/>
                  </a:lnTo>
                  <a:lnTo>
                    <a:pt x="3192" y="315"/>
                  </a:lnTo>
                  <a:lnTo>
                    <a:pt x="3173" y="304"/>
                  </a:lnTo>
                  <a:lnTo>
                    <a:pt x="3173" y="295"/>
                  </a:lnTo>
                  <a:lnTo>
                    <a:pt x="3104" y="283"/>
                  </a:lnTo>
                  <a:lnTo>
                    <a:pt x="3036" y="263"/>
                  </a:lnTo>
                  <a:lnTo>
                    <a:pt x="3039" y="258"/>
                  </a:lnTo>
                  <a:lnTo>
                    <a:pt x="3052" y="265"/>
                  </a:lnTo>
                  <a:lnTo>
                    <a:pt x="3072" y="268"/>
                  </a:lnTo>
                  <a:lnTo>
                    <a:pt x="3064" y="263"/>
                  </a:lnTo>
                  <a:lnTo>
                    <a:pt x="3014" y="253"/>
                  </a:lnTo>
                  <a:lnTo>
                    <a:pt x="2958" y="244"/>
                  </a:lnTo>
                  <a:lnTo>
                    <a:pt x="2926" y="234"/>
                  </a:lnTo>
                  <a:lnTo>
                    <a:pt x="2902" y="231"/>
                  </a:lnTo>
                  <a:lnTo>
                    <a:pt x="2915" y="236"/>
                  </a:lnTo>
                  <a:lnTo>
                    <a:pt x="2886" y="231"/>
                  </a:lnTo>
                  <a:lnTo>
                    <a:pt x="2801" y="209"/>
                  </a:lnTo>
                  <a:lnTo>
                    <a:pt x="2814" y="209"/>
                  </a:lnTo>
                  <a:lnTo>
                    <a:pt x="2729" y="189"/>
                  </a:lnTo>
                  <a:lnTo>
                    <a:pt x="2753" y="189"/>
                  </a:lnTo>
                  <a:lnTo>
                    <a:pt x="2741" y="187"/>
                  </a:lnTo>
                  <a:lnTo>
                    <a:pt x="2765" y="189"/>
                  </a:lnTo>
                  <a:lnTo>
                    <a:pt x="2745" y="184"/>
                  </a:lnTo>
                  <a:lnTo>
                    <a:pt x="2712" y="172"/>
                  </a:lnTo>
                  <a:lnTo>
                    <a:pt x="2772" y="184"/>
                  </a:lnTo>
                  <a:lnTo>
                    <a:pt x="2761" y="180"/>
                  </a:lnTo>
                  <a:lnTo>
                    <a:pt x="2724" y="169"/>
                  </a:lnTo>
                  <a:lnTo>
                    <a:pt x="2729" y="160"/>
                  </a:lnTo>
                  <a:lnTo>
                    <a:pt x="2805" y="169"/>
                  </a:lnTo>
                  <a:lnTo>
                    <a:pt x="2757" y="157"/>
                  </a:lnTo>
                  <a:lnTo>
                    <a:pt x="2733" y="145"/>
                  </a:lnTo>
                  <a:lnTo>
                    <a:pt x="2708" y="143"/>
                  </a:lnTo>
                  <a:lnTo>
                    <a:pt x="2680" y="133"/>
                  </a:lnTo>
                  <a:lnTo>
                    <a:pt x="2656" y="125"/>
                  </a:lnTo>
                  <a:lnTo>
                    <a:pt x="2604" y="98"/>
                  </a:lnTo>
                  <a:lnTo>
                    <a:pt x="2571" y="96"/>
                  </a:lnTo>
                  <a:lnTo>
                    <a:pt x="2579" y="93"/>
                  </a:lnTo>
                  <a:lnTo>
                    <a:pt x="2604" y="98"/>
                  </a:lnTo>
                  <a:lnTo>
                    <a:pt x="2644" y="98"/>
                  </a:lnTo>
                  <a:lnTo>
                    <a:pt x="2599" y="89"/>
                  </a:lnTo>
                  <a:lnTo>
                    <a:pt x="2511" y="78"/>
                  </a:lnTo>
                  <a:lnTo>
                    <a:pt x="2531" y="81"/>
                  </a:lnTo>
                  <a:lnTo>
                    <a:pt x="2511" y="81"/>
                  </a:lnTo>
                  <a:lnTo>
                    <a:pt x="2507" y="76"/>
                  </a:lnTo>
                  <a:lnTo>
                    <a:pt x="2422" y="66"/>
                  </a:lnTo>
                  <a:lnTo>
                    <a:pt x="2446" y="71"/>
                  </a:lnTo>
                  <a:lnTo>
                    <a:pt x="2418" y="69"/>
                  </a:lnTo>
                  <a:lnTo>
                    <a:pt x="2381" y="64"/>
                  </a:lnTo>
                  <a:lnTo>
                    <a:pt x="2401" y="71"/>
                  </a:lnTo>
                  <a:lnTo>
                    <a:pt x="2361" y="66"/>
                  </a:lnTo>
                  <a:lnTo>
                    <a:pt x="2373" y="76"/>
                  </a:lnTo>
                  <a:lnTo>
                    <a:pt x="2358" y="66"/>
                  </a:lnTo>
                  <a:lnTo>
                    <a:pt x="2381" y="64"/>
                  </a:lnTo>
                  <a:lnTo>
                    <a:pt x="2345" y="64"/>
                  </a:lnTo>
                  <a:lnTo>
                    <a:pt x="2410" y="64"/>
                  </a:lnTo>
                  <a:lnTo>
                    <a:pt x="2389" y="57"/>
                  </a:lnTo>
                  <a:lnTo>
                    <a:pt x="2370" y="51"/>
                  </a:lnTo>
                  <a:lnTo>
                    <a:pt x="1941" y="0"/>
                  </a:lnTo>
                  <a:lnTo>
                    <a:pt x="1852" y="0"/>
                  </a:lnTo>
                  <a:lnTo>
                    <a:pt x="1840" y="8"/>
                  </a:lnTo>
                  <a:lnTo>
                    <a:pt x="1801" y="10"/>
                  </a:lnTo>
                  <a:lnTo>
                    <a:pt x="1837" y="15"/>
                  </a:lnTo>
                  <a:lnTo>
                    <a:pt x="1852" y="19"/>
                  </a:lnTo>
                  <a:lnTo>
                    <a:pt x="1917" y="24"/>
                  </a:lnTo>
                  <a:lnTo>
                    <a:pt x="1945" y="29"/>
                  </a:lnTo>
                  <a:lnTo>
                    <a:pt x="1933" y="32"/>
                  </a:lnTo>
                  <a:lnTo>
                    <a:pt x="1881" y="29"/>
                  </a:lnTo>
                  <a:lnTo>
                    <a:pt x="1824" y="22"/>
                  </a:lnTo>
                  <a:lnTo>
                    <a:pt x="1849" y="29"/>
                  </a:lnTo>
                  <a:lnTo>
                    <a:pt x="1804" y="37"/>
                  </a:lnTo>
                  <a:lnTo>
                    <a:pt x="1828" y="44"/>
                  </a:lnTo>
                  <a:lnTo>
                    <a:pt x="1909" y="57"/>
                  </a:lnTo>
                  <a:lnTo>
                    <a:pt x="1905" y="59"/>
                  </a:lnTo>
                  <a:lnTo>
                    <a:pt x="1905" y="59"/>
                  </a:lnTo>
                  <a:lnTo>
                    <a:pt x="1804" y="42"/>
                  </a:lnTo>
                  <a:lnTo>
                    <a:pt x="1784" y="44"/>
                  </a:lnTo>
                  <a:lnTo>
                    <a:pt x="1732" y="34"/>
                  </a:lnTo>
                  <a:lnTo>
                    <a:pt x="1671" y="29"/>
                  </a:lnTo>
                  <a:lnTo>
                    <a:pt x="1627" y="34"/>
                  </a:lnTo>
                  <a:lnTo>
                    <a:pt x="1635" y="47"/>
                  </a:lnTo>
                  <a:lnTo>
                    <a:pt x="1570" y="42"/>
                  </a:lnTo>
                  <a:lnTo>
                    <a:pt x="1579" y="47"/>
                  </a:lnTo>
                  <a:lnTo>
                    <a:pt x="1554" y="42"/>
                  </a:lnTo>
                  <a:lnTo>
                    <a:pt x="1521" y="42"/>
                  </a:lnTo>
                  <a:lnTo>
                    <a:pt x="1505" y="37"/>
                  </a:lnTo>
                  <a:lnTo>
                    <a:pt x="1456" y="34"/>
                  </a:lnTo>
                  <a:lnTo>
                    <a:pt x="1449" y="37"/>
                  </a:lnTo>
                  <a:lnTo>
                    <a:pt x="1494" y="47"/>
                  </a:lnTo>
                  <a:lnTo>
                    <a:pt x="1498" y="52"/>
                  </a:lnTo>
                  <a:lnTo>
                    <a:pt x="1469" y="47"/>
                  </a:lnTo>
                  <a:lnTo>
                    <a:pt x="1477" y="44"/>
                  </a:lnTo>
                  <a:lnTo>
                    <a:pt x="1444" y="42"/>
                  </a:lnTo>
                  <a:lnTo>
                    <a:pt x="1461" y="42"/>
                  </a:lnTo>
                  <a:lnTo>
                    <a:pt x="1485" y="47"/>
                  </a:lnTo>
                  <a:lnTo>
                    <a:pt x="1449" y="37"/>
                  </a:lnTo>
                  <a:lnTo>
                    <a:pt x="1432" y="44"/>
                  </a:lnTo>
                  <a:lnTo>
                    <a:pt x="1444" y="37"/>
                  </a:lnTo>
                  <a:lnTo>
                    <a:pt x="1352" y="42"/>
                  </a:lnTo>
                  <a:lnTo>
                    <a:pt x="1384" y="47"/>
                  </a:lnTo>
                  <a:lnTo>
                    <a:pt x="1400" y="54"/>
                  </a:lnTo>
                  <a:lnTo>
                    <a:pt x="1413" y="54"/>
                  </a:lnTo>
                  <a:lnTo>
                    <a:pt x="1428" y="59"/>
                  </a:lnTo>
                  <a:lnTo>
                    <a:pt x="1477" y="64"/>
                  </a:lnTo>
                  <a:lnTo>
                    <a:pt x="1449" y="64"/>
                  </a:lnTo>
                  <a:lnTo>
                    <a:pt x="1461" y="69"/>
                  </a:lnTo>
                  <a:lnTo>
                    <a:pt x="1494" y="74"/>
                  </a:lnTo>
                  <a:lnTo>
                    <a:pt x="1428" y="71"/>
                  </a:lnTo>
                  <a:lnTo>
                    <a:pt x="1449" y="78"/>
                  </a:lnTo>
                  <a:lnTo>
                    <a:pt x="1432" y="78"/>
                  </a:lnTo>
                  <a:lnTo>
                    <a:pt x="1372" y="71"/>
                  </a:lnTo>
                  <a:lnTo>
                    <a:pt x="1425" y="84"/>
                  </a:lnTo>
                  <a:lnTo>
                    <a:pt x="1465" y="93"/>
                  </a:lnTo>
                  <a:lnTo>
                    <a:pt x="1421" y="91"/>
                  </a:lnTo>
                  <a:lnTo>
                    <a:pt x="1364" y="81"/>
                  </a:lnTo>
                  <a:lnTo>
                    <a:pt x="1336" y="78"/>
                  </a:lnTo>
                  <a:lnTo>
                    <a:pt x="1360" y="81"/>
                  </a:lnTo>
                  <a:lnTo>
                    <a:pt x="1283" y="76"/>
                  </a:lnTo>
                  <a:lnTo>
                    <a:pt x="1320" y="81"/>
                  </a:lnTo>
                  <a:lnTo>
                    <a:pt x="1372" y="91"/>
                  </a:lnTo>
                  <a:lnTo>
                    <a:pt x="1372" y="91"/>
                  </a:lnTo>
                  <a:lnTo>
                    <a:pt x="1283" y="76"/>
                  </a:lnTo>
                  <a:lnTo>
                    <a:pt x="1190" y="76"/>
                  </a:lnTo>
                  <a:lnTo>
                    <a:pt x="1175" y="78"/>
                  </a:lnTo>
                  <a:lnTo>
                    <a:pt x="1138" y="76"/>
                  </a:lnTo>
                  <a:lnTo>
                    <a:pt x="1114" y="71"/>
                  </a:lnTo>
                  <a:lnTo>
                    <a:pt x="1069" y="81"/>
                  </a:lnTo>
                  <a:lnTo>
                    <a:pt x="1117" y="91"/>
                  </a:lnTo>
                  <a:lnTo>
                    <a:pt x="1142" y="96"/>
                  </a:lnTo>
                  <a:lnTo>
                    <a:pt x="1036" y="76"/>
                  </a:lnTo>
                  <a:lnTo>
                    <a:pt x="1022" y="78"/>
                  </a:lnTo>
                  <a:lnTo>
                    <a:pt x="1009" y="76"/>
                  </a:lnTo>
                  <a:lnTo>
                    <a:pt x="1009" y="81"/>
                  </a:lnTo>
                  <a:lnTo>
                    <a:pt x="1025" y="81"/>
                  </a:lnTo>
                  <a:lnTo>
                    <a:pt x="1036" y="86"/>
                  </a:lnTo>
                  <a:lnTo>
                    <a:pt x="1025" y="98"/>
                  </a:lnTo>
                  <a:lnTo>
                    <a:pt x="1041" y="106"/>
                  </a:lnTo>
                  <a:lnTo>
                    <a:pt x="964" y="64"/>
                  </a:lnTo>
                  <a:lnTo>
                    <a:pt x="925" y="52"/>
                  </a:lnTo>
                  <a:lnTo>
                    <a:pt x="875" y="47"/>
                  </a:lnTo>
                  <a:lnTo>
                    <a:pt x="912" y="49"/>
                  </a:lnTo>
                  <a:lnTo>
                    <a:pt x="887" y="44"/>
                  </a:lnTo>
                  <a:lnTo>
                    <a:pt x="852" y="40"/>
                  </a:lnTo>
                  <a:lnTo>
                    <a:pt x="864" y="42"/>
                  </a:lnTo>
                  <a:lnTo>
                    <a:pt x="831" y="40"/>
                  </a:lnTo>
                  <a:lnTo>
                    <a:pt x="795" y="34"/>
                  </a:lnTo>
                  <a:lnTo>
                    <a:pt x="775" y="44"/>
                  </a:lnTo>
                  <a:lnTo>
                    <a:pt x="750" y="37"/>
                  </a:lnTo>
                  <a:lnTo>
                    <a:pt x="730" y="37"/>
                  </a:lnTo>
                  <a:lnTo>
                    <a:pt x="710" y="37"/>
                  </a:lnTo>
                  <a:lnTo>
                    <a:pt x="706" y="32"/>
                  </a:lnTo>
                  <a:lnTo>
                    <a:pt x="661" y="27"/>
                  </a:lnTo>
                  <a:lnTo>
                    <a:pt x="694" y="44"/>
                  </a:lnTo>
                  <a:lnTo>
                    <a:pt x="726" y="49"/>
                  </a:lnTo>
                  <a:lnTo>
                    <a:pt x="750" y="52"/>
                  </a:lnTo>
                  <a:lnTo>
                    <a:pt x="710" y="54"/>
                  </a:lnTo>
                  <a:lnTo>
                    <a:pt x="750" y="59"/>
                  </a:lnTo>
                  <a:lnTo>
                    <a:pt x="819" y="74"/>
                  </a:lnTo>
                  <a:lnTo>
                    <a:pt x="783" y="69"/>
                  </a:lnTo>
                  <a:lnTo>
                    <a:pt x="726" y="57"/>
                  </a:lnTo>
                  <a:lnTo>
                    <a:pt x="734" y="66"/>
                  </a:lnTo>
                  <a:lnTo>
                    <a:pt x="726" y="66"/>
                  </a:lnTo>
                  <a:lnTo>
                    <a:pt x="710" y="64"/>
                  </a:lnTo>
                  <a:lnTo>
                    <a:pt x="690" y="66"/>
                  </a:lnTo>
                  <a:lnTo>
                    <a:pt x="698" y="71"/>
                  </a:lnTo>
                  <a:lnTo>
                    <a:pt x="710" y="69"/>
                  </a:lnTo>
                  <a:lnTo>
                    <a:pt x="690" y="81"/>
                  </a:lnTo>
                  <a:lnTo>
                    <a:pt x="690" y="89"/>
                  </a:lnTo>
                  <a:lnTo>
                    <a:pt x="706" y="91"/>
                  </a:lnTo>
                  <a:lnTo>
                    <a:pt x="726" y="98"/>
                  </a:lnTo>
                  <a:lnTo>
                    <a:pt x="706" y="98"/>
                  </a:lnTo>
                  <a:lnTo>
                    <a:pt x="742" y="103"/>
                  </a:lnTo>
                  <a:lnTo>
                    <a:pt x="730" y="103"/>
                  </a:lnTo>
                  <a:lnTo>
                    <a:pt x="734" y="106"/>
                  </a:lnTo>
                  <a:lnTo>
                    <a:pt x="778" y="111"/>
                  </a:lnTo>
                  <a:lnTo>
                    <a:pt x="783" y="120"/>
                  </a:lnTo>
                  <a:lnTo>
                    <a:pt x="823" y="128"/>
                  </a:lnTo>
                  <a:lnTo>
                    <a:pt x="783" y="120"/>
                  </a:lnTo>
                  <a:lnTo>
                    <a:pt x="766" y="111"/>
                  </a:lnTo>
                  <a:lnTo>
                    <a:pt x="715" y="125"/>
                  </a:lnTo>
                  <a:lnTo>
                    <a:pt x="778" y="143"/>
                  </a:lnTo>
                  <a:lnTo>
                    <a:pt x="868" y="155"/>
                  </a:lnTo>
                  <a:lnTo>
                    <a:pt x="887" y="165"/>
                  </a:lnTo>
                  <a:lnTo>
                    <a:pt x="932" y="180"/>
                  </a:lnTo>
                  <a:lnTo>
                    <a:pt x="949" y="184"/>
                  </a:lnTo>
                  <a:lnTo>
                    <a:pt x="949" y="184"/>
                  </a:lnTo>
                  <a:lnTo>
                    <a:pt x="937" y="184"/>
                  </a:lnTo>
                  <a:lnTo>
                    <a:pt x="892" y="167"/>
                  </a:lnTo>
                  <a:lnTo>
                    <a:pt x="932" y="184"/>
                  </a:lnTo>
                  <a:lnTo>
                    <a:pt x="908" y="177"/>
                  </a:lnTo>
                  <a:lnTo>
                    <a:pt x="856" y="155"/>
                  </a:lnTo>
                  <a:lnTo>
                    <a:pt x="836" y="157"/>
                  </a:lnTo>
                  <a:lnTo>
                    <a:pt x="759" y="147"/>
                  </a:lnTo>
                  <a:lnTo>
                    <a:pt x="759" y="155"/>
                  </a:lnTo>
                  <a:lnTo>
                    <a:pt x="778" y="157"/>
                  </a:lnTo>
                  <a:lnTo>
                    <a:pt x="750" y="160"/>
                  </a:lnTo>
                  <a:lnTo>
                    <a:pt x="771" y="165"/>
                  </a:lnTo>
                  <a:lnTo>
                    <a:pt x="807" y="167"/>
                  </a:lnTo>
                  <a:lnTo>
                    <a:pt x="836" y="174"/>
                  </a:lnTo>
                  <a:lnTo>
                    <a:pt x="839" y="172"/>
                  </a:lnTo>
                  <a:lnTo>
                    <a:pt x="839" y="174"/>
                  </a:lnTo>
                  <a:lnTo>
                    <a:pt x="775" y="172"/>
                  </a:lnTo>
                  <a:lnTo>
                    <a:pt x="763" y="167"/>
                  </a:lnTo>
                  <a:lnTo>
                    <a:pt x="715" y="147"/>
                  </a:lnTo>
                  <a:lnTo>
                    <a:pt x="686" y="143"/>
                  </a:lnTo>
                  <a:lnTo>
                    <a:pt x="726" y="157"/>
                  </a:lnTo>
                  <a:lnTo>
                    <a:pt x="738" y="172"/>
                  </a:lnTo>
                  <a:lnTo>
                    <a:pt x="802" y="189"/>
                  </a:lnTo>
                  <a:lnTo>
                    <a:pt x="864" y="214"/>
                  </a:lnTo>
                  <a:lnTo>
                    <a:pt x="932" y="214"/>
                  </a:lnTo>
                  <a:lnTo>
                    <a:pt x="972" y="226"/>
                  </a:lnTo>
                  <a:lnTo>
                    <a:pt x="988" y="236"/>
                  </a:lnTo>
                  <a:lnTo>
                    <a:pt x="1025" y="238"/>
                  </a:lnTo>
                  <a:lnTo>
                    <a:pt x="980" y="236"/>
                  </a:lnTo>
                  <a:lnTo>
                    <a:pt x="949" y="221"/>
                  </a:lnTo>
                  <a:lnTo>
                    <a:pt x="912" y="214"/>
                  </a:lnTo>
                  <a:lnTo>
                    <a:pt x="896" y="221"/>
                  </a:lnTo>
                  <a:lnTo>
                    <a:pt x="949" y="241"/>
                  </a:lnTo>
                  <a:lnTo>
                    <a:pt x="972" y="273"/>
                  </a:lnTo>
                  <a:lnTo>
                    <a:pt x="916" y="270"/>
                  </a:lnTo>
                  <a:lnTo>
                    <a:pt x="896" y="265"/>
                  </a:lnTo>
                  <a:lnTo>
                    <a:pt x="896" y="265"/>
                  </a:lnTo>
                  <a:lnTo>
                    <a:pt x="928" y="263"/>
                  </a:lnTo>
                  <a:lnTo>
                    <a:pt x="928" y="265"/>
                  </a:lnTo>
                  <a:lnTo>
                    <a:pt x="941" y="268"/>
                  </a:lnTo>
                  <a:lnTo>
                    <a:pt x="941" y="263"/>
                  </a:lnTo>
                  <a:lnTo>
                    <a:pt x="928" y="258"/>
                  </a:lnTo>
                  <a:lnTo>
                    <a:pt x="925" y="241"/>
                  </a:lnTo>
                  <a:lnTo>
                    <a:pt x="892" y="226"/>
                  </a:lnTo>
                  <a:lnTo>
                    <a:pt x="852" y="219"/>
                  </a:lnTo>
                  <a:lnTo>
                    <a:pt x="763" y="182"/>
                  </a:lnTo>
                  <a:lnTo>
                    <a:pt x="718" y="172"/>
                  </a:lnTo>
                  <a:lnTo>
                    <a:pt x="670" y="147"/>
                  </a:lnTo>
                  <a:lnTo>
                    <a:pt x="614" y="147"/>
                  </a:lnTo>
                  <a:lnTo>
                    <a:pt x="622" y="153"/>
                  </a:lnTo>
                  <a:lnTo>
                    <a:pt x="661" y="172"/>
                  </a:lnTo>
                  <a:lnTo>
                    <a:pt x="665" y="184"/>
                  </a:lnTo>
                  <a:lnTo>
                    <a:pt x="690" y="189"/>
                  </a:lnTo>
                  <a:lnTo>
                    <a:pt x="738" y="214"/>
                  </a:lnTo>
                  <a:lnTo>
                    <a:pt x="759" y="211"/>
                  </a:lnTo>
                  <a:lnTo>
                    <a:pt x="791" y="224"/>
                  </a:lnTo>
                  <a:lnTo>
                    <a:pt x="802" y="224"/>
                  </a:lnTo>
                  <a:lnTo>
                    <a:pt x="823" y="236"/>
                  </a:lnTo>
                  <a:lnTo>
                    <a:pt x="823" y="238"/>
                  </a:lnTo>
                  <a:lnTo>
                    <a:pt x="722" y="221"/>
                  </a:lnTo>
                  <a:lnTo>
                    <a:pt x="634" y="214"/>
                  </a:lnTo>
                  <a:lnTo>
                    <a:pt x="634" y="219"/>
                  </a:lnTo>
                  <a:lnTo>
                    <a:pt x="658" y="226"/>
                  </a:lnTo>
                  <a:lnTo>
                    <a:pt x="674" y="231"/>
                  </a:lnTo>
                  <a:lnTo>
                    <a:pt x="665" y="238"/>
                  </a:lnTo>
                  <a:lnTo>
                    <a:pt x="678" y="244"/>
                  </a:lnTo>
                  <a:lnTo>
                    <a:pt x="637" y="231"/>
                  </a:lnTo>
                  <a:lnTo>
                    <a:pt x="630" y="244"/>
                  </a:lnTo>
                  <a:lnTo>
                    <a:pt x="597" y="244"/>
                  </a:lnTo>
                  <a:lnTo>
                    <a:pt x="605" y="253"/>
                  </a:lnTo>
                  <a:lnTo>
                    <a:pt x="589" y="251"/>
                  </a:lnTo>
                  <a:lnTo>
                    <a:pt x="577" y="253"/>
                  </a:lnTo>
                  <a:lnTo>
                    <a:pt x="573" y="251"/>
                  </a:lnTo>
                  <a:lnTo>
                    <a:pt x="581" y="248"/>
                  </a:lnTo>
                  <a:lnTo>
                    <a:pt x="557" y="238"/>
                  </a:lnTo>
                  <a:lnTo>
                    <a:pt x="569" y="236"/>
                  </a:lnTo>
                  <a:lnTo>
                    <a:pt x="553" y="241"/>
                  </a:lnTo>
                  <a:lnTo>
                    <a:pt x="557" y="248"/>
                  </a:lnTo>
                  <a:lnTo>
                    <a:pt x="557" y="251"/>
                  </a:lnTo>
                  <a:lnTo>
                    <a:pt x="545" y="246"/>
                  </a:lnTo>
                  <a:lnTo>
                    <a:pt x="504" y="263"/>
                  </a:lnTo>
                  <a:lnTo>
                    <a:pt x="524" y="268"/>
                  </a:lnTo>
                  <a:lnTo>
                    <a:pt x="504" y="270"/>
                  </a:lnTo>
                  <a:lnTo>
                    <a:pt x="521" y="285"/>
                  </a:lnTo>
                  <a:lnTo>
                    <a:pt x="496" y="285"/>
                  </a:lnTo>
                  <a:lnTo>
                    <a:pt x="460" y="275"/>
                  </a:lnTo>
                  <a:lnTo>
                    <a:pt x="456" y="268"/>
                  </a:lnTo>
                  <a:lnTo>
                    <a:pt x="476" y="265"/>
                  </a:lnTo>
                  <a:lnTo>
                    <a:pt x="443" y="253"/>
                  </a:lnTo>
                  <a:lnTo>
                    <a:pt x="396" y="251"/>
                  </a:lnTo>
                  <a:lnTo>
                    <a:pt x="407" y="256"/>
                  </a:lnTo>
                  <a:lnTo>
                    <a:pt x="427" y="265"/>
                  </a:lnTo>
                  <a:lnTo>
                    <a:pt x="443" y="281"/>
                  </a:lnTo>
                  <a:lnTo>
                    <a:pt x="492" y="307"/>
                  </a:lnTo>
                  <a:lnTo>
                    <a:pt x="476" y="300"/>
                  </a:lnTo>
                  <a:lnTo>
                    <a:pt x="472" y="304"/>
                  </a:lnTo>
                  <a:lnTo>
                    <a:pt x="460" y="298"/>
                  </a:lnTo>
                  <a:lnTo>
                    <a:pt x="436" y="295"/>
                  </a:lnTo>
                  <a:lnTo>
                    <a:pt x="415" y="315"/>
                  </a:lnTo>
                  <a:lnTo>
                    <a:pt x="456" y="337"/>
                  </a:lnTo>
                  <a:lnTo>
                    <a:pt x="456" y="337"/>
                  </a:lnTo>
                  <a:lnTo>
                    <a:pt x="407" y="332"/>
                  </a:lnTo>
                  <a:lnTo>
                    <a:pt x="407" y="337"/>
                  </a:lnTo>
                  <a:lnTo>
                    <a:pt x="407" y="332"/>
                  </a:lnTo>
                  <a:lnTo>
                    <a:pt x="371" y="324"/>
                  </a:lnTo>
                  <a:lnTo>
                    <a:pt x="375" y="335"/>
                  </a:lnTo>
                  <a:lnTo>
                    <a:pt x="411" y="342"/>
                  </a:lnTo>
                  <a:lnTo>
                    <a:pt x="415" y="354"/>
                  </a:lnTo>
                  <a:lnTo>
                    <a:pt x="359" y="344"/>
                  </a:lnTo>
                  <a:lnTo>
                    <a:pt x="342" y="339"/>
                  </a:lnTo>
                  <a:lnTo>
                    <a:pt x="315" y="322"/>
                  </a:lnTo>
                  <a:lnTo>
                    <a:pt x="322" y="315"/>
                  </a:lnTo>
                  <a:lnTo>
                    <a:pt x="294" y="307"/>
                  </a:lnTo>
                  <a:lnTo>
                    <a:pt x="279" y="304"/>
                  </a:lnTo>
                  <a:lnTo>
                    <a:pt x="282" y="302"/>
                  </a:lnTo>
                  <a:lnTo>
                    <a:pt x="274" y="300"/>
                  </a:lnTo>
                  <a:lnTo>
                    <a:pt x="270" y="298"/>
                  </a:lnTo>
                  <a:lnTo>
                    <a:pt x="234" y="288"/>
                  </a:lnTo>
                  <a:lnTo>
                    <a:pt x="294" y="300"/>
                  </a:lnTo>
                  <a:lnTo>
                    <a:pt x="367" y="307"/>
                  </a:lnTo>
                  <a:lnTo>
                    <a:pt x="403" y="302"/>
                  </a:lnTo>
                  <a:lnTo>
                    <a:pt x="403" y="283"/>
                  </a:lnTo>
                  <a:lnTo>
                    <a:pt x="383" y="273"/>
                  </a:lnTo>
                  <a:lnTo>
                    <a:pt x="257" y="246"/>
                  </a:lnTo>
                  <a:lnTo>
                    <a:pt x="221" y="244"/>
                  </a:lnTo>
                  <a:lnTo>
                    <a:pt x="214" y="253"/>
                  </a:lnTo>
                  <a:lnTo>
                    <a:pt x="214" y="248"/>
                  </a:lnTo>
                  <a:lnTo>
                    <a:pt x="209" y="241"/>
                  </a:lnTo>
                  <a:lnTo>
                    <a:pt x="202" y="241"/>
                  </a:lnTo>
                  <a:lnTo>
                    <a:pt x="181" y="241"/>
                  </a:lnTo>
                  <a:lnTo>
                    <a:pt x="197" y="238"/>
                  </a:lnTo>
                  <a:lnTo>
                    <a:pt x="197" y="236"/>
                  </a:lnTo>
                  <a:lnTo>
                    <a:pt x="173" y="234"/>
                  </a:lnTo>
                  <a:lnTo>
                    <a:pt x="177" y="238"/>
                  </a:lnTo>
                  <a:lnTo>
                    <a:pt x="158" y="236"/>
                  </a:lnTo>
                  <a:lnTo>
                    <a:pt x="165" y="241"/>
                  </a:lnTo>
                  <a:lnTo>
                    <a:pt x="146" y="253"/>
                  </a:lnTo>
                  <a:lnTo>
                    <a:pt x="133" y="238"/>
                  </a:lnTo>
                  <a:lnTo>
                    <a:pt x="104" y="231"/>
                  </a:lnTo>
                  <a:lnTo>
                    <a:pt x="81" y="241"/>
                  </a:lnTo>
                  <a:lnTo>
                    <a:pt x="88" y="256"/>
                  </a:lnTo>
                  <a:lnTo>
                    <a:pt x="81" y="263"/>
                  </a:lnTo>
                  <a:lnTo>
                    <a:pt x="36" y="260"/>
                  </a:lnTo>
                  <a:lnTo>
                    <a:pt x="7" y="251"/>
                  </a:lnTo>
                  <a:lnTo>
                    <a:pt x="0" y="256"/>
                  </a:lnTo>
                  <a:lnTo>
                    <a:pt x="68" y="275"/>
                  </a:lnTo>
                  <a:lnTo>
                    <a:pt x="113" y="319"/>
                  </a:lnTo>
                  <a:lnTo>
                    <a:pt x="141" y="324"/>
                  </a:lnTo>
                  <a:lnTo>
                    <a:pt x="153" y="337"/>
                  </a:lnTo>
                  <a:lnTo>
                    <a:pt x="137" y="339"/>
                  </a:lnTo>
                  <a:lnTo>
                    <a:pt x="108" y="366"/>
                  </a:lnTo>
                  <a:lnTo>
                    <a:pt x="113" y="371"/>
                  </a:lnTo>
                  <a:lnTo>
                    <a:pt x="92" y="384"/>
                  </a:lnTo>
                  <a:lnTo>
                    <a:pt x="125" y="408"/>
                  </a:lnTo>
                  <a:lnTo>
                    <a:pt x="129" y="428"/>
                  </a:lnTo>
                  <a:lnTo>
                    <a:pt x="158" y="433"/>
                  </a:lnTo>
                  <a:lnTo>
                    <a:pt x="158" y="435"/>
                  </a:lnTo>
                  <a:lnTo>
                    <a:pt x="169" y="433"/>
                  </a:lnTo>
                  <a:lnTo>
                    <a:pt x="169" y="438"/>
                  </a:lnTo>
                  <a:lnTo>
                    <a:pt x="177" y="440"/>
                  </a:lnTo>
                  <a:lnTo>
                    <a:pt x="173" y="445"/>
                  </a:lnTo>
                  <a:lnTo>
                    <a:pt x="234" y="433"/>
                  </a:lnTo>
                  <a:lnTo>
                    <a:pt x="241" y="425"/>
                  </a:lnTo>
                  <a:lnTo>
                    <a:pt x="250" y="430"/>
                  </a:lnTo>
                  <a:lnTo>
                    <a:pt x="274" y="42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116520" y="2928960"/>
              <a:ext cx="169560" cy="52200"/>
            </a:xfrm>
            <a:custGeom>
              <a:avLst/>
              <a:gdLst/>
              <a:ahLst/>
              <a:rect l="l" t="t" r="r" b="b"/>
              <a:pathLst>
                <a:path w="473" h="146">
                  <a:moveTo>
                    <a:pt x="0" y="0"/>
                  </a:moveTo>
                  <a:lnTo>
                    <a:pt x="472" y="0"/>
                  </a:lnTo>
                  <a:lnTo>
                    <a:pt x="472" y="145"/>
                  </a:lnTo>
                  <a:lnTo>
                    <a:pt x="0" y="14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937160" y="1453680"/>
              <a:ext cx="1348920" cy="1449720"/>
            </a:xfrm>
            <a:custGeom>
              <a:avLst/>
              <a:gdLst/>
              <a:ahLst/>
              <a:rect l="l" t="t" r="r" b="b"/>
              <a:pathLst>
                <a:path w="3750" h="4032">
                  <a:moveTo>
                    <a:pt x="1388" y="373"/>
                  </a:moveTo>
                  <a:lnTo>
                    <a:pt x="1388" y="398"/>
                  </a:lnTo>
                  <a:lnTo>
                    <a:pt x="1360" y="392"/>
                  </a:lnTo>
                  <a:lnTo>
                    <a:pt x="1348" y="381"/>
                  </a:lnTo>
                  <a:lnTo>
                    <a:pt x="1360" y="381"/>
                  </a:lnTo>
                  <a:lnTo>
                    <a:pt x="1356" y="376"/>
                  </a:lnTo>
                  <a:lnTo>
                    <a:pt x="1372" y="376"/>
                  </a:lnTo>
                  <a:lnTo>
                    <a:pt x="1376" y="376"/>
                  </a:lnTo>
                  <a:lnTo>
                    <a:pt x="1380" y="381"/>
                  </a:lnTo>
                  <a:lnTo>
                    <a:pt x="1372" y="376"/>
                  </a:lnTo>
                  <a:lnTo>
                    <a:pt x="1388" y="373"/>
                  </a:lnTo>
                  <a:close/>
                  <a:moveTo>
                    <a:pt x="1364" y="398"/>
                  </a:moveTo>
                  <a:lnTo>
                    <a:pt x="1380" y="403"/>
                  </a:lnTo>
                  <a:lnTo>
                    <a:pt x="1372" y="405"/>
                  </a:lnTo>
                  <a:lnTo>
                    <a:pt x="1356" y="403"/>
                  </a:lnTo>
                  <a:lnTo>
                    <a:pt x="1364" y="398"/>
                  </a:lnTo>
                  <a:close/>
                  <a:moveTo>
                    <a:pt x="1344" y="386"/>
                  </a:moveTo>
                  <a:lnTo>
                    <a:pt x="1348" y="395"/>
                  </a:lnTo>
                  <a:lnTo>
                    <a:pt x="1332" y="395"/>
                  </a:lnTo>
                  <a:lnTo>
                    <a:pt x="1320" y="386"/>
                  </a:lnTo>
                  <a:lnTo>
                    <a:pt x="1344" y="386"/>
                  </a:lnTo>
                  <a:close/>
                  <a:moveTo>
                    <a:pt x="634" y="208"/>
                  </a:moveTo>
                  <a:lnTo>
                    <a:pt x="605" y="208"/>
                  </a:lnTo>
                  <a:lnTo>
                    <a:pt x="609" y="201"/>
                  </a:lnTo>
                  <a:lnTo>
                    <a:pt x="642" y="196"/>
                  </a:lnTo>
                  <a:lnTo>
                    <a:pt x="625" y="199"/>
                  </a:lnTo>
                  <a:lnTo>
                    <a:pt x="642" y="191"/>
                  </a:lnTo>
                  <a:lnTo>
                    <a:pt x="625" y="186"/>
                  </a:lnTo>
                  <a:lnTo>
                    <a:pt x="593" y="186"/>
                  </a:lnTo>
                  <a:lnTo>
                    <a:pt x="642" y="184"/>
                  </a:lnTo>
                  <a:lnTo>
                    <a:pt x="625" y="179"/>
                  </a:lnTo>
                  <a:lnTo>
                    <a:pt x="650" y="174"/>
                  </a:lnTo>
                  <a:lnTo>
                    <a:pt x="593" y="171"/>
                  </a:lnTo>
                  <a:lnTo>
                    <a:pt x="609" y="171"/>
                  </a:lnTo>
                  <a:lnTo>
                    <a:pt x="605" y="166"/>
                  </a:lnTo>
                  <a:lnTo>
                    <a:pt x="621" y="169"/>
                  </a:lnTo>
                  <a:lnTo>
                    <a:pt x="614" y="164"/>
                  </a:lnTo>
                  <a:lnTo>
                    <a:pt x="625" y="166"/>
                  </a:lnTo>
                  <a:lnTo>
                    <a:pt x="614" y="162"/>
                  </a:lnTo>
                  <a:lnTo>
                    <a:pt x="625" y="159"/>
                  </a:lnTo>
                  <a:lnTo>
                    <a:pt x="637" y="166"/>
                  </a:lnTo>
                  <a:lnTo>
                    <a:pt x="634" y="159"/>
                  </a:lnTo>
                  <a:lnTo>
                    <a:pt x="645" y="157"/>
                  </a:lnTo>
                  <a:lnTo>
                    <a:pt x="634" y="154"/>
                  </a:lnTo>
                  <a:lnTo>
                    <a:pt x="661" y="164"/>
                  </a:lnTo>
                  <a:lnTo>
                    <a:pt x="650" y="169"/>
                  </a:lnTo>
                  <a:lnTo>
                    <a:pt x="657" y="182"/>
                  </a:lnTo>
                  <a:lnTo>
                    <a:pt x="666" y="171"/>
                  </a:lnTo>
                  <a:lnTo>
                    <a:pt x="670" y="174"/>
                  </a:lnTo>
                  <a:lnTo>
                    <a:pt x="678" y="171"/>
                  </a:lnTo>
                  <a:lnTo>
                    <a:pt x="682" y="162"/>
                  </a:lnTo>
                  <a:lnTo>
                    <a:pt x="694" y="169"/>
                  </a:lnTo>
                  <a:lnTo>
                    <a:pt x="698" y="162"/>
                  </a:lnTo>
                  <a:lnTo>
                    <a:pt x="718" y="164"/>
                  </a:lnTo>
                  <a:lnTo>
                    <a:pt x="722" y="171"/>
                  </a:lnTo>
                  <a:lnTo>
                    <a:pt x="722" y="162"/>
                  </a:lnTo>
                  <a:lnTo>
                    <a:pt x="734" y="166"/>
                  </a:lnTo>
                  <a:lnTo>
                    <a:pt x="746" y="162"/>
                  </a:lnTo>
                  <a:lnTo>
                    <a:pt x="754" y="164"/>
                  </a:lnTo>
                  <a:lnTo>
                    <a:pt x="767" y="154"/>
                  </a:lnTo>
                  <a:lnTo>
                    <a:pt x="779" y="162"/>
                  </a:lnTo>
                  <a:lnTo>
                    <a:pt x="796" y="157"/>
                  </a:lnTo>
                  <a:lnTo>
                    <a:pt x="783" y="164"/>
                  </a:lnTo>
                  <a:lnTo>
                    <a:pt x="791" y="166"/>
                  </a:lnTo>
                  <a:lnTo>
                    <a:pt x="783" y="171"/>
                  </a:lnTo>
                  <a:lnTo>
                    <a:pt x="796" y="171"/>
                  </a:lnTo>
                  <a:lnTo>
                    <a:pt x="807" y="177"/>
                  </a:lnTo>
                  <a:lnTo>
                    <a:pt x="796" y="182"/>
                  </a:lnTo>
                  <a:lnTo>
                    <a:pt x="803" y="184"/>
                  </a:lnTo>
                  <a:lnTo>
                    <a:pt x="791" y="186"/>
                  </a:lnTo>
                  <a:lnTo>
                    <a:pt x="799" y="189"/>
                  </a:lnTo>
                  <a:lnTo>
                    <a:pt x="783" y="191"/>
                  </a:lnTo>
                  <a:lnTo>
                    <a:pt x="779" y="199"/>
                  </a:lnTo>
                  <a:lnTo>
                    <a:pt x="758" y="199"/>
                  </a:lnTo>
                  <a:lnTo>
                    <a:pt x="694" y="216"/>
                  </a:lnTo>
                  <a:lnTo>
                    <a:pt x="653" y="213"/>
                  </a:lnTo>
                  <a:lnTo>
                    <a:pt x="653" y="208"/>
                  </a:lnTo>
                  <a:lnTo>
                    <a:pt x="634" y="208"/>
                  </a:lnTo>
                  <a:close/>
                  <a:moveTo>
                    <a:pt x="508" y="105"/>
                  </a:moveTo>
                  <a:lnTo>
                    <a:pt x="496" y="122"/>
                  </a:lnTo>
                  <a:lnTo>
                    <a:pt x="472" y="125"/>
                  </a:lnTo>
                  <a:lnTo>
                    <a:pt x="428" y="147"/>
                  </a:lnTo>
                  <a:lnTo>
                    <a:pt x="419" y="149"/>
                  </a:lnTo>
                  <a:lnTo>
                    <a:pt x="396" y="147"/>
                  </a:lnTo>
                  <a:lnTo>
                    <a:pt x="392" y="154"/>
                  </a:lnTo>
                  <a:lnTo>
                    <a:pt x="375" y="154"/>
                  </a:lnTo>
                  <a:lnTo>
                    <a:pt x="363" y="159"/>
                  </a:lnTo>
                  <a:lnTo>
                    <a:pt x="367" y="154"/>
                  </a:lnTo>
                  <a:lnTo>
                    <a:pt x="355" y="162"/>
                  </a:lnTo>
                  <a:lnTo>
                    <a:pt x="347" y="157"/>
                  </a:lnTo>
                  <a:lnTo>
                    <a:pt x="371" y="149"/>
                  </a:lnTo>
                  <a:lnTo>
                    <a:pt x="359" y="147"/>
                  </a:lnTo>
                  <a:lnTo>
                    <a:pt x="359" y="149"/>
                  </a:lnTo>
                  <a:lnTo>
                    <a:pt x="347" y="157"/>
                  </a:lnTo>
                  <a:lnTo>
                    <a:pt x="338" y="154"/>
                  </a:lnTo>
                  <a:lnTo>
                    <a:pt x="334" y="162"/>
                  </a:lnTo>
                  <a:lnTo>
                    <a:pt x="315" y="159"/>
                  </a:lnTo>
                  <a:lnTo>
                    <a:pt x="311" y="164"/>
                  </a:lnTo>
                  <a:lnTo>
                    <a:pt x="290" y="164"/>
                  </a:lnTo>
                  <a:lnTo>
                    <a:pt x="286" y="171"/>
                  </a:lnTo>
                  <a:lnTo>
                    <a:pt x="266" y="171"/>
                  </a:lnTo>
                  <a:lnTo>
                    <a:pt x="258" y="186"/>
                  </a:lnTo>
                  <a:lnTo>
                    <a:pt x="234" y="189"/>
                  </a:lnTo>
                  <a:lnTo>
                    <a:pt x="250" y="191"/>
                  </a:lnTo>
                  <a:lnTo>
                    <a:pt x="242" y="201"/>
                  </a:lnTo>
                  <a:lnTo>
                    <a:pt x="226" y="196"/>
                  </a:lnTo>
                  <a:lnTo>
                    <a:pt x="230" y="203"/>
                  </a:lnTo>
                  <a:lnTo>
                    <a:pt x="222" y="203"/>
                  </a:lnTo>
                  <a:lnTo>
                    <a:pt x="218" y="206"/>
                  </a:lnTo>
                  <a:lnTo>
                    <a:pt x="214" y="203"/>
                  </a:lnTo>
                  <a:lnTo>
                    <a:pt x="218" y="208"/>
                  </a:lnTo>
                  <a:lnTo>
                    <a:pt x="206" y="203"/>
                  </a:lnTo>
                  <a:lnTo>
                    <a:pt x="210" y="211"/>
                  </a:lnTo>
                  <a:lnTo>
                    <a:pt x="197" y="208"/>
                  </a:lnTo>
                  <a:lnTo>
                    <a:pt x="194" y="208"/>
                  </a:lnTo>
                  <a:lnTo>
                    <a:pt x="194" y="218"/>
                  </a:lnTo>
                  <a:lnTo>
                    <a:pt x="172" y="218"/>
                  </a:lnTo>
                  <a:lnTo>
                    <a:pt x="161" y="218"/>
                  </a:lnTo>
                  <a:lnTo>
                    <a:pt x="172" y="226"/>
                  </a:lnTo>
                  <a:lnTo>
                    <a:pt x="161" y="223"/>
                  </a:lnTo>
                  <a:lnTo>
                    <a:pt x="170" y="228"/>
                  </a:lnTo>
                  <a:lnTo>
                    <a:pt x="153" y="236"/>
                  </a:lnTo>
                  <a:lnTo>
                    <a:pt x="149" y="241"/>
                  </a:lnTo>
                  <a:lnTo>
                    <a:pt x="145" y="238"/>
                  </a:lnTo>
                  <a:lnTo>
                    <a:pt x="153" y="241"/>
                  </a:lnTo>
                  <a:lnTo>
                    <a:pt x="145" y="243"/>
                  </a:lnTo>
                  <a:lnTo>
                    <a:pt x="133" y="243"/>
                  </a:lnTo>
                  <a:lnTo>
                    <a:pt x="145" y="243"/>
                  </a:lnTo>
                  <a:lnTo>
                    <a:pt x="137" y="247"/>
                  </a:lnTo>
                  <a:lnTo>
                    <a:pt x="125" y="247"/>
                  </a:lnTo>
                  <a:lnTo>
                    <a:pt x="121" y="250"/>
                  </a:lnTo>
                  <a:lnTo>
                    <a:pt x="133" y="253"/>
                  </a:lnTo>
                  <a:lnTo>
                    <a:pt x="113" y="250"/>
                  </a:lnTo>
                  <a:lnTo>
                    <a:pt x="129" y="253"/>
                  </a:lnTo>
                  <a:lnTo>
                    <a:pt x="109" y="255"/>
                  </a:lnTo>
                  <a:lnTo>
                    <a:pt x="121" y="257"/>
                  </a:lnTo>
                  <a:lnTo>
                    <a:pt x="104" y="257"/>
                  </a:lnTo>
                  <a:lnTo>
                    <a:pt x="104" y="260"/>
                  </a:lnTo>
                  <a:lnTo>
                    <a:pt x="113" y="263"/>
                  </a:lnTo>
                  <a:lnTo>
                    <a:pt x="96" y="263"/>
                  </a:lnTo>
                  <a:lnTo>
                    <a:pt x="85" y="260"/>
                  </a:lnTo>
                  <a:lnTo>
                    <a:pt x="100" y="265"/>
                  </a:lnTo>
                  <a:lnTo>
                    <a:pt x="89" y="267"/>
                  </a:lnTo>
                  <a:lnTo>
                    <a:pt x="100" y="267"/>
                  </a:lnTo>
                  <a:lnTo>
                    <a:pt x="96" y="272"/>
                  </a:lnTo>
                  <a:lnTo>
                    <a:pt x="73" y="270"/>
                  </a:lnTo>
                  <a:lnTo>
                    <a:pt x="80" y="267"/>
                  </a:lnTo>
                  <a:lnTo>
                    <a:pt x="60" y="275"/>
                  </a:lnTo>
                  <a:lnTo>
                    <a:pt x="52" y="272"/>
                  </a:lnTo>
                  <a:lnTo>
                    <a:pt x="52" y="270"/>
                  </a:lnTo>
                  <a:lnTo>
                    <a:pt x="80" y="257"/>
                  </a:lnTo>
                  <a:lnTo>
                    <a:pt x="56" y="265"/>
                  </a:lnTo>
                  <a:lnTo>
                    <a:pt x="68" y="260"/>
                  </a:lnTo>
                  <a:lnTo>
                    <a:pt x="68" y="257"/>
                  </a:lnTo>
                  <a:lnTo>
                    <a:pt x="44" y="260"/>
                  </a:lnTo>
                  <a:lnTo>
                    <a:pt x="68" y="253"/>
                  </a:lnTo>
                  <a:lnTo>
                    <a:pt x="44" y="257"/>
                  </a:lnTo>
                  <a:lnTo>
                    <a:pt x="77" y="247"/>
                  </a:lnTo>
                  <a:lnTo>
                    <a:pt x="52" y="253"/>
                  </a:lnTo>
                  <a:lnTo>
                    <a:pt x="68" y="245"/>
                  </a:lnTo>
                  <a:lnTo>
                    <a:pt x="32" y="255"/>
                  </a:lnTo>
                  <a:lnTo>
                    <a:pt x="32" y="250"/>
                  </a:lnTo>
                  <a:lnTo>
                    <a:pt x="4" y="253"/>
                  </a:lnTo>
                  <a:lnTo>
                    <a:pt x="20" y="250"/>
                  </a:lnTo>
                  <a:lnTo>
                    <a:pt x="24" y="247"/>
                  </a:lnTo>
                  <a:lnTo>
                    <a:pt x="12" y="247"/>
                  </a:lnTo>
                  <a:lnTo>
                    <a:pt x="15" y="243"/>
                  </a:lnTo>
                  <a:lnTo>
                    <a:pt x="4" y="241"/>
                  </a:lnTo>
                  <a:lnTo>
                    <a:pt x="24" y="238"/>
                  </a:lnTo>
                  <a:lnTo>
                    <a:pt x="0" y="238"/>
                  </a:lnTo>
                  <a:lnTo>
                    <a:pt x="20" y="236"/>
                  </a:lnTo>
                  <a:lnTo>
                    <a:pt x="8" y="236"/>
                  </a:lnTo>
                  <a:lnTo>
                    <a:pt x="24" y="228"/>
                  </a:lnTo>
                  <a:lnTo>
                    <a:pt x="8" y="236"/>
                  </a:lnTo>
                  <a:lnTo>
                    <a:pt x="28" y="226"/>
                  </a:lnTo>
                  <a:lnTo>
                    <a:pt x="8" y="228"/>
                  </a:lnTo>
                  <a:lnTo>
                    <a:pt x="20" y="226"/>
                  </a:lnTo>
                  <a:lnTo>
                    <a:pt x="24" y="223"/>
                  </a:lnTo>
                  <a:lnTo>
                    <a:pt x="8" y="218"/>
                  </a:lnTo>
                  <a:lnTo>
                    <a:pt x="36" y="206"/>
                  </a:lnTo>
                  <a:lnTo>
                    <a:pt x="15" y="211"/>
                  </a:lnTo>
                  <a:lnTo>
                    <a:pt x="28" y="206"/>
                  </a:lnTo>
                  <a:lnTo>
                    <a:pt x="20" y="203"/>
                  </a:lnTo>
                  <a:lnTo>
                    <a:pt x="36" y="203"/>
                  </a:lnTo>
                  <a:lnTo>
                    <a:pt x="15" y="201"/>
                  </a:lnTo>
                  <a:lnTo>
                    <a:pt x="32" y="199"/>
                  </a:lnTo>
                  <a:lnTo>
                    <a:pt x="20" y="199"/>
                  </a:lnTo>
                  <a:lnTo>
                    <a:pt x="32" y="196"/>
                  </a:lnTo>
                  <a:lnTo>
                    <a:pt x="40" y="194"/>
                  </a:lnTo>
                  <a:lnTo>
                    <a:pt x="20" y="196"/>
                  </a:lnTo>
                  <a:lnTo>
                    <a:pt x="40" y="186"/>
                  </a:lnTo>
                  <a:lnTo>
                    <a:pt x="28" y="189"/>
                  </a:lnTo>
                  <a:lnTo>
                    <a:pt x="28" y="184"/>
                  </a:lnTo>
                  <a:lnTo>
                    <a:pt x="68" y="184"/>
                  </a:lnTo>
                  <a:lnTo>
                    <a:pt x="56" y="182"/>
                  </a:lnTo>
                  <a:lnTo>
                    <a:pt x="32" y="182"/>
                  </a:lnTo>
                  <a:lnTo>
                    <a:pt x="68" y="179"/>
                  </a:lnTo>
                  <a:lnTo>
                    <a:pt x="64" y="174"/>
                  </a:lnTo>
                  <a:lnTo>
                    <a:pt x="73" y="171"/>
                  </a:lnTo>
                  <a:lnTo>
                    <a:pt x="80" y="182"/>
                  </a:lnTo>
                  <a:lnTo>
                    <a:pt x="89" y="169"/>
                  </a:lnTo>
                  <a:lnTo>
                    <a:pt x="77" y="171"/>
                  </a:lnTo>
                  <a:lnTo>
                    <a:pt x="80" y="162"/>
                  </a:lnTo>
                  <a:lnTo>
                    <a:pt x="73" y="171"/>
                  </a:lnTo>
                  <a:lnTo>
                    <a:pt x="60" y="169"/>
                  </a:lnTo>
                  <a:lnTo>
                    <a:pt x="28" y="182"/>
                  </a:lnTo>
                  <a:lnTo>
                    <a:pt x="44" y="171"/>
                  </a:lnTo>
                  <a:lnTo>
                    <a:pt x="68" y="164"/>
                  </a:lnTo>
                  <a:lnTo>
                    <a:pt x="44" y="169"/>
                  </a:lnTo>
                  <a:lnTo>
                    <a:pt x="64" y="159"/>
                  </a:lnTo>
                  <a:lnTo>
                    <a:pt x="56" y="157"/>
                  </a:lnTo>
                  <a:lnTo>
                    <a:pt x="85" y="151"/>
                  </a:lnTo>
                  <a:lnTo>
                    <a:pt x="104" y="151"/>
                  </a:lnTo>
                  <a:lnTo>
                    <a:pt x="89" y="149"/>
                  </a:lnTo>
                  <a:lnTo>
                    <a:pt x="56" y="157"/>
                  </a:lnTo>
                  <a:lnTo>
                    <a:pt x="68" y="151"/>
                  </a:lnTo>
                  <a:lnTo>
                    <a:pt x="68" y="147"/>
                  </a:lnTo>
                  <a:lnTo>
                    <a:pt x="56" y="149"/>
                  </a:lnTo>
                  <a:lnTo>
                    <a:pt x="96" y="145"/>
                  </a:lnTo>
                  <a:lnTo>
                    <a:pt x="73" y="145"/>
                  </a:lnTo>
                  <a:lnTo>
                    <a:pt x="60" y="145"/>
                  </a:lnTo>
                  <a:lnTo>
                    <a:pt x="129" y="128"/>
                  </a:lnTo>
                  <a:lnTo>
                    <a:pt x="145" y="130"/>
                  </a:lnTo>
                  <a:lnTo>
                    <a:pt x="137" y="128"/>
                  </a:lnTo>
                  <a:lnTo>
                    <a:pt x="158" y="128"/>
                  </a:lnTo>
                  <a:lnTo>
                    <a:pt x="141" y="125"/>
                  </a:lnTo>
                  <a:lnTo>
                    <a:pt x="64" y="142"/>
                  </a:lnTo>
                  <a:lnTo>
                    <a:pt x="77" y="137"/>
                  </a:lnTo>
                  <a:lnTo>
                    <a:pt x="68" y="137"/>
                  </a:lnTo>
                  <a:lnTo>
                    <a:pt x="77" y="132"/>
                  </a:lnTo>
                  <a:lnTo>
                    <a:pt x="100" y="132"/>
                  </a:lnTo>
                  <a:lnTo>
                    <a:pt x="85" y="130"/>
                  </a:lnTo>
                  <a:lnTo>
                    <a:pt x="100" y="130"/>
                  </a:lnTo>
                  <a:lnTo>
                    <a:pt x="113" y="128"/>
                  </a:lnTo>
                  <a:lnTo>
                    <a:pt x="100" y="125"/>
                  </a:lnTo>
                  <a:lnTo>
                    <a:pt x="100" y="122"/>
                  </a:lnTo>
                  <a:lnTo>
                    <a:pt x="89" y="122"/>
                  </a:lnTo>
                  <a:lnTo>
                    <a:pt x="133" y="117"/>
                  </a:lnTo>
                  <a:lnTo>
                    <a:pt x="158" y="122"/>
                  </a:lnTo>
                  <a:lnTo>
                    <a:pt x="141" y="122"/>
                  </a:lnTo>
                  <a:lnTo>
                    <a:pt x="149" y="117"/>
                  </a:lnTo>
                  <a:lnTo>
                    <a:pt x="96" y="117"/>
                  </a:lnTo>
                  <a:lnTo>
                    <a:pt x="141" y="110"/>
                  </a:lnTo>
                  <a:lnTo>
                    <a:pt x="170" y="117"/>
                  </a:lnTo>
                  <a:lnTo>
                    <a:pt x="161" y="115"/>
                  </a:lnTo>
                  <a:lnTo>
                    <a:pt x="181" y="112"/>
                  </a:lnTo>
                  <a:lnTo>
                    <a:pt x="158" y="110"/>
                  </a:lnTo>
                  <a:lnTo>
                    <a:pt x="177" y="110"/>
                  </a:lnTo>
                  <a:lnTo>
                    <a:pt x="170" y="107"/>
                  </a:lnTo>
                  <a:lnTo>
                    <a:pt x="149" y="110"/>
                  </a:lnTo>
                  <a:lnTo>
                    <a:pt x="145" y="107"/>
                  </a:lnTo>
                  <a:lnTo>
                    <a:pt x="161" y="105"/>
                  </a:lnTo>
                  <a:lnTo>
                    <a:pt x="109" y="112"/>
                  </a:lnTo>
                  <a:lnTo>
                    <a:pt x="137" y="103"/>
                  </a:lnTo>
                  <a:lnTo>
                    <a:pt x="153" y="105"/>
                  </a:lnTo>
                  <a:lnTo>
                    <a:pt x="141" y="100"/>
                  </a:lnTo>
                  <a:lnTo>
                    <a:pt x="185" y="107"/>
                  </a:lnTo>
                  <a:lnTo>
                    <a:pt x="172" y="103"/>
                  </a:lnTo>
                  <a:lnTo>
                    <a:pt x="172" y="100"/>
                  </a:lnTo>
                  <a:lnTo>
                    <a:pt x="194" y="95"/>
                  </a:lnTo>
                  <a:lnTo>
                    <a:pt x="177" y="98"/>
                  </a:lnTo>
                  <a:lnTo>
                    <a:pt x="158" y="100"/>
                  </a:lnTo>
                  <a:lnTo>
                    <a:pt x="145" y="98"/>
                  </a:lnTo>
                  <a:lnTo>
                    <a:pt x="197" y="93"/>
                  </a:lnTo>
                  <a:lnTo>
                    <a:pt x="206" y="91"/>
                  </a:lnTo>
                  <a:lnTo>
                    <a:pt x="210" y="83"/>
                  </a:lnTo>
                  <a:lnTo>
                    <a:pt x="214" y="88"/>
                  </a:lnTo>
                  <a:lnTo>
                    <a:pt x="218" y="83"/>
                  </a:lnTo>
                  <a:lnTo>
                    <a:pt x="230" y="83"/>
                  </a:lnTo>
                  <a:lnTo>
                    <a:pt x="214" y="83"/>
                  </a:lnTo>
                  <a:lnTo>
                    <a:pt x="238" y="75"/>
                  </a:lnTo>
                  <a:lnTo>
                    <a:pt x="226" y="75"/>
                  </a:lnTo>
                  <a:lnTo>
                    <a:pt x="254" y="66"/>
                  </a:lnTo>
                  <a:lnTo>
                    <a:pt x="222" y="66"/>
                  </a:lnTo>
                  <a:lnTo>
                    <a:pt x="210" y="51"/>
                  </a:lnTo>
                  <a:lnTo>
                    <a:pt x="238" y="51"/>
                  </a:lnTo>
                  <a:lnTo>
                    <a:pt x="258" y="61"/>
                  </a:lnTo>
                  <a:lnTo>
                    <a:pt x="270" y="56"/>
                  </a:lnTo>
                  <a:lnTo>
                    <a:pt x="258" y="58"/>
                  </a:lnTo>
                  <a:lnTo>
                    <a:pt x="270" y="53"/>
                  </a:lnTo>
                  <a:lnTo>
                    <a:pt x="262" y="51"/>
                  </a:lnTo>
                  <a:lnTo>
                    <a:pt x="274" y="53"/>
                  </a:lnTo>
                  <a:lnTo>
                    <a:pt x="262" y="47"/>
                  </a:lnTo>
                  <a:lnTo>
                    <a:pt x="278" y="49"/>
                  </a:lnTo>
                  <a:lnTo>
                    <a:pt x="278" y="44"/>
                  </a:lnTo>
                  <a:lnTo>
                    <a:pt x="262" y="44"/>
                  </a:lnTo>
                  <a:lnTo>
                    <a:pt x="282" y="39"/>
                  </a:lnTo>
                  <a:lnTo>
                    <a:pt x="262" y="44"/>
                  </a:lnTo>
                  <a:lnTo>
                    <a:pt x="290" y="39"/>
                  </a:lnTo>
                  <a:lnTo>
                    <a:pt x="262" y="39"/>
                  </a:lnTo>
                  <a:lnTo>
                    <a:pt x="295" y="34"/>
                  </a:lnTo>
                  <a:lnTo>
                    <a:pt x="270" y="31"/>
                  </a:lnTo>
                  <a:lnTo>
                    <a:pt x="290" y="27"/>
                  </a:lnTo>
                  <a:lnTo>
                    <a:pt x="270" y="31"/>
                  </a:lnTo>
                  <a:lnTo>
                    <a:pt x="290" y="19"/>
                  </a:lnTo>
                  <a:lnTo>
                    <a:pt x="274" y="29"/>
                  </a:lnTo>
                  <a:lnTo>
                    <a:pt x="250" y="36"/>
                  </a:lnTo>
                  <a:lnTo>
                    <a:pt x="230" y="36"/>
                  </a:lnTo>
                  <a:lnTo>
                    <a:pt x="230" y="31"/>
                  </a:lnTo>
                  <a:lnTo>
                    <a:pt x="274" y="21"/>
                  </a:lnTo>
                  <a:lnTo>
                    <a:pt x="246" y="24"/>
                  </a:lnTo>
                  <a:lnTo>
                    <a:pt x="274" y="19"/>
                  </a:lnTo>
                  <a:lnTo>
                    <a:pt x="266" y="16"/>
                  </a:lnTo>
                  <a:lnTo>
                    <a:pt x="286" y="16"/>
                  </a:lnTo>
                  <a:lnTo>
                    <a:pt x="278" y="14"/>
                  </a:lnTo>
                  <a:lnTo>
                    <a:pt x="298" y="7"/>
                  </a:lnTo>
                  <a:lnTo>
                    <a:pt x="290" y="4"/>
                  </a:lnTo>
                  <a:lnTo>
                    <a:pt x="311" y="0"/>
                  </a:lnTo>
                  <a:lnTo>
                    <a:pt x="307" y="38"/>
                  </a:lnTo>
                  <a:lnTo>
                    <a:pt x="286" y="67"/>
                  </a:lnTo>
                  <a:lnTo>
                    <a:pt x="228" y="98"/>
                  </a:lnTo>
                  <a:lnTo>
                    <a:pt x="189" y="119"/>
                  </a:lnTo>
                  <a:lnTo>
                    <a:pt x="134" y="146"/>
                  </a:lnTo>
                  <a:lnTo>
                    <a:pt x="84" y="190"/>
                  </a:lnTo>
                  <a:lnTo>
                    <a:pt x="88" y="224"/>
                  </a:lnTo>
                  <a:lnTo>
                    <a:pt x="142" y="215"/>
                  </a:lnTo>
                  <a:lnTo>
                    <a:pt x="237" y="169"/>
                  </a:lnTo>
                  <a:lnTo>
                    <a:pt x="341" y="137"/>
                  </a:lnTo>
                  <a:lnTo>
                    <a:pt x="458" y="112"/>
                  </a:lnTo>
                  <a:lnTo>
                    <a:pt x="508" y="105"/>
                  </a:lnTo>
                  <a:close/>
                  <a:moveTo>
                    <a:pt x="201" y="58"/>
                  </a:moveTo>
                  <a:lnTo>
                    <a:pt x="218" y="73"/>
                  </a:lnTo>
                  <a:lnTo>
                    <a:pt x="172" y="81"/>
                  </a:lnTo>
                  <a:lnTo>
                    <a:pt x="170" y="75"/>
                  </a:lnTo>
                  <a:lnTo>
                    <a:pt x="189" y="73"/>
                  </a:lnTo>
                  <a:lnTo>
                    <a:pt x="170" y="68"/>
                  </a:lnTo>
                  <a:lnTo>
                    <a:pt x="177" y="71"/>
                  </a:lnTo>
                  <a:lnTo>
                    <a:pt x="177" y="66"/>
                  </a:lnTo>
                  <a:lnTo>
                    <a:pt x="189" y="66"/>
                  </a:lnTo>
                  <a:lnTo>
                    <a:pt x="185" y="61"/>
                  </a:lnTo>
                  <a:lnTo>
                    <a:pt x="201" y="58"/>
                  </a:lnTo>
                  <a:close/>
                  <a:moveTo>
                    <a:pt x="3277" y="3887"/>
                  </a:moveTo>
                  <a:lnTo>
                    <a:pt x="3749" y="3887"/>
                  </a:lnTo>
                  <a:lnTo>
                    <a:pt x="3749" y="4031"/>
                  </a:lnTo>
                  <a:lnTo>
                    <a:pt x="3277" y="4031"/>
                  </a:lnTo>
                  <a:lnTo>
                    <a:pt x="3277" y="3887"/>
                  </a:lnTo>
                  <a:close/>
                  <a:moveTo>
                    <a:pt x="1320" y="400"/>
                  </a:moveTo>
                  <a:lnTo>
                    <a:pt x="1324" y="400"/>
                  </a:lnTo>
                  <a:lnTo>
                    <a:pt x="1315" y="395"/>
                  </a:lnTo>
                  <a:lnTo>
                    <a:pt x="1324" y="383"/>
                  </a:lnTo>
                  <a:lnTo>
                    <a:pt x="1315" y="383"/>
                  </a:lnTo>
                  <a:lnTo>
                    <a:pt x="1328" y="383"/>
                  </a:lnTo>
                  <a:lnTo>
                    <a:pt x="1332" y="370"/>
                  </a:lnTo>
                  <a:lnTo>
                    <a:pt x="1344" y="373"/>
                  </a:lnTo>
                  <a:lnTo>
                    <a:pt x="1348" y="366"/>
                  </a:lnTo>
                  <a:lnTo>
                    <a:pt x="1328" y="366"/>
                  </a:lnTo>
                  <a:lnTo>
                    <a:pt x="1320" y="353"/>
                  </a:lnTo>
                  <a:lnTo>
                    <a:pt x="1332" y="349"/>
                  </a:lnTo>
                  <a:lnTo>
                    <a:pt x="1328" y="339"/>
                  </a:lnTo>
                  <a:lnTo>
                    <a:pt x="1303" y="351"/>
                  </a:lnTo>
                  <a:lnTo>
                    <a:pt x="1279" y="358"/>
                  </a:lnTo>
                  <a:lnTo>
                    <a:pt x="1287" y="363"/>
                  </a:lnTo>
                  <a:lnTo>
                    <a:pt x="1291" y="353"/>
                  </a:lnTo>
                  <a:lnTo>
                    <a:pt x="1320" y="353"/>
                  </a:lnTo>
                  <a:lnTo>
                    <a:pt x="1299" y="356"/>
                  </a:lnTo>
                  <a:lnTo>
                    <a:pt x="1308" y="363"/>
                  </a:lnTo>
                  <a:lnTo>
                    <a:pt x="1299" y="358"/>
                  </a:lnTo>
                  <a:lnTo>
                    <a:pt x="1276" y="363"/>
                  </a:lnTo>
                  <a:lnTo>
                    <a:pt x="1279" y="386"/>
                  </a:lnTo>
                  <a:lnTo>
                    <a:pt x="1295" y="388"/>
                  </a:lnTo>
                  <a:lnTo>
                    <a:pt x="1295" y="400"/>
                  </a:lnTo>
                  <a:lnTo>
                    <a:pt x="1320" y="40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397600" y="1576080"/>
              <a:ext cx="26640" cy="219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44" y="61"/>
                  </a:moveTo>
                  <a:lnTo>
                    <a:pt x="48" y="61"/>
                  </a:lnTo>
                  <a:lnTo>
                    <a:pt x="39" y="56"/>
                  </a:lnTo>
                  <a:lnTo>
                    <a:pt x="48" y="44"/>
                  </a:lnTo>
                  <a:lnTo>
                    <a:pt x="39" y="44"/>
                  </a:lnTo>
                  <a:lnTo>
                    <a:pt x="52" y="44"/>
                  </a:lnTo>
                  <a:lnTo>
                    <a:pt x="56" y="31"/>
                  </a:lnTo>
                  <a:lnTo>
                    <a:pt x="68" y="34"/>
                  </a:lnTo>
                  <a:lnTo>
                    <a:pt x="72" y="27"/>
                  </a:lnTo>
                  <a:lnTo>
                    <a:pt x="52" y="27"/>
                  </a:lnTo>
                  <a:lnTo>
                    <a:pt x="44" y="14"/>
                  </a:lnTo>
                  <a:lnTo>
                    <a:pt x="56" y="10"/>
                  </a:lnTo>
                  <a:lnTo>
                    <a:pt x="52" y="0"/>
                  </a:lnTo>
                  <a:lnTo>
                    <a:pt x="27" y="12"/>
                  </a:lnTo>
                  <a:lnTo>
                    <a:pt x="3" y="19"/>
                  </a:lnTo>
                  <a:lnTo>
                    <a:pt x="11" y="24"/>
                  </a:lnTo>
                  <a:lnTo>
                    <a:pt x="15" y="14"/>
                  </a:lnTo>
                  <a:lnTo>
                    <a:pt x="44" y="14"/>
                  </a:lnTo>
                  <a:lnTo>
                    <a:pt x="23" y="17"/>
                  </a:lnTo>
                  <a:lnTo>
                    <a:pt x="32" y="24"/>
                  </a:lnTo>
                  <a:lnTo>
                    <a:pt x="23" y="19"/>
                  </a:lnTo>
                  <a:lnTo>
                    <a:pt x="0" y="24"/>
                  </a:lnTo>
                  <a:lnTo>
                    <a:pt x="3" y="47"/>
                  </a:lnTo>
                  <a:lnTo>
                    <a:pt x="19" y="49"/>
                  </a:lnTo>
                  <a:lnTo>
                    <a:pt x="19" y="61"/>
                  </a:lnTo>
                  <a:lnTo>
                    <a:pt x="44" y="6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423160" y="1587240"/>
              <a:ext cx="13680" cy="9000"/>
            </a:xfrm>
            <a:custGeom>
              <a:avLst/>
              <a:gdLst/>
              <a:ahLst/>
              <a:rect l="l" t="t" r="r" b="b"/>
              <a:pathLst>
                <a:path w="41" h="26">
                  <a:moveTo>
                    <a:pt x="40" y="0"/>
                  </a:moveTo>
                  <a:lnTo>
                    <a:pt x="40" y="25"/>
                  </a:lnTo>
                  <a:lnTo>
                    <a:pt x="12" y="19"/>
                  </a:lnTo>
                  <a:lnTo>
                    <a:pt x="0" y="8"/>
                  </a:lnTo>
                  <a:lnTo>
                    <a:pt x="12" y="8"/>
                  </a:lnTo>
                  <a:lnTo>
                    <a:pt x="8" y="3"/>
                  </a:lnTo>
                  <a:lnTo>
                    <a:pt x="24" y="3"/>
                  </a:lnTo>
                  <a:lnTo>
                    <a:pt x="28" y="3"/>
                  </a:lnTo>
                  <a:lnTo>
                    <a:pt x="32" y="8"/>
                  </a:lnTo>
                  <a:lnTo>
                    <a:pt x="24" y="3"/>
                  </a:lnTo>
                  <a:lnTo>
                    <a:pt x="4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437200" y="1595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434320" y="1596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426040" y="1596600"/>
              <a:ext cx="9360" cy="288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8" y="0"/>
                  </a:moveTo>
                  <a:lnTo>
                    <a:pt x="24" y="5"/>
                  </a:lnTo>
                  <a:lnTo>
                    <a:pt x="16" y="7"/>
                  </a:ln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426040" y="1595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419920" y="15793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413440" y="1591920"/>
              <a:ext cx="10800" cy="288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4" y="0"/>
                  </a:moveTo>
                  <a:lnTo>
                    <a:pt x="28" y="9"/>
                  </a:lnTo>
                  <a:lnTo>
                    <a:pt x="12" y="9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419920" y="15886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413440" y="1595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404080" y="15807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400840" y="1593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408760" y="1599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402280" y="15984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400840" y="15984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427840" y="1599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151720" y="1509480"/>
              <a:ext cx="77400" cy="21600"/>
            </a:xfrm>
            <a:custGeom>
              <a:avLst/>
              <a:gdLst/>
              <a:ahLst/>
              <a:rect l="l" t="t" r="r" b="b"/>
              <a:pathLst>
                <a:path w="215" h="63">
                  <a:moveTo>
                    <a:pt x="41" y="54"/>
                  </a:moveTo>
                  <a:lnTo>
                    <a:pt x="41" y="54"/>
                  </a:lnTo>
                  <a:lnTo>
                    <a:pt x="12" y="54"/>
                  </a:lnTo>
                  <a:lnTo>
                    <a:pt x="16" y="47"/>
                  </a:lnTo>
                  <a:lnTo>
                    <a:pt x="49" y="42"/>
                  </a:lnTo>
                  <a:lnTo>
                    <a:pt x="32" y="45"/>
                  </a:lnTo>
                  <a:lnTo>
                    <a:pt x="49" y="37"/>
                  </a:lnTo>
                  <a:lnTo>
                    <a:pt x="32" y="32"/>
                  </a:lnTo>
                  <a:lnTo>
                    <a:pt x="0" y="32"/>
                  </a:lnTo>
                  <a:lnTo>
                    <a:pt x="49" y="30"/>
                  </a:lnTo>
                  <a:lnTo>
                    <a:pt x="32" y="25"/>
                  </a:lnTo>
                  <a:lnTo>
                    <a:pt x="57" y="20"/>
                  </a:lnTo>
                  <a:lnTo>
                    <a:pt x="0" y="17"/>
                  </a:lnTo>
                  <a:lnTo>
                    <a:pt x="16" y="17"/>
                  </a:lnTo>
                  <a:lnTo>
                    <a:pt x="12" y="12"/>
                  </a:lnTo>
                  <a:lnTo>
                    <a:pt x="28" y="15"/>
                  </a:lnTo>
                  <a:lnTo>
                    <a:pt x="21" y="10"/>
                  </a:lnTo>
                  <a:lnTo>
                    <a:pt x="32" y="12"/>
                  </a:lnTo>
                  <a:lnTo>
                    <a:pt x="21" y="8"/>
                  </a:lnTo>
                  <a:lnTo>
                    <a:pt x="32" y="5"/>
                  </a:lnTo>
                  <a:lnTo>
                    <a:pt x="44" y="12"/>
                  </a:lnTo>
                  <a:lnTo>
                    <a:pt x="41" y="5"/>
                  </a:lnTo>
                  <a:lnTo>
                    <a:pt x="52" y="3"/>
                  </a:lnTo>
                  <a:lnTo>
                    <a:pt x="41" y="0"/>
                  </a:lnTo>
                  <a:lnTo>
                    <a:pt x="68" y="10"/>
                  </a:lnTo>
                  <a:lnTo>
                    <a:pt x="57" y="15"/>
                  </a:lnTo>
                  <a:lnTo>
                    <a:pt x="64" y="28"/>
                  </a:lnTo>
                  <a:lnTo>
                    <a:pt x="73" y="17"/>
                  </a:lnTo>
                  <a:lnTo>
                    <a:pt x="77" y="20"/>
                  </a:lnTo>
                  <a:lnTo>
                    <a:pt x="85" y="17"/>
                  </a:lnTo>
                  <a:lnTo>
                    <a:pt x="89" y="8"/>
                  </a:lnTo>
                  <a:lnTo>
                    <a:pt x="101" y="15"/>
                  </a:lnTo>
                  <a:lnTo>
                    <a:pt x="105" y="8"/>
                  </a:lnTo>
                  <a:lnTo>
                    <a:pt x="125" y="10"/>
                  </a:lnTo>
                  <a:lnTo>
                    <a:pt x="129" y="17"/>
                  </a:lnTo>
                  <a:lnTo>
                    <a:pt x="129" y="8"/>
                  </a:lnTo>
                  <a:lnTo>
                    <a:pt x="141" y="12"/>
                  </a:lnTo>
                  <a:lnTo>
                    <a:pt x="153" y="8"/>
                  </a:lnTo>
                  <a:lnTo>
                    <a:pt x="161" y="10"/>
                  </a:lnTo>
                  <a:lnTo>
                    <a:pt x="174" y="0"/>
                  </a:lnTo>
                  <a:lnTo>
                    <a:pt x="186" y="8"/>
                  </a:lnTo>
                  <a:lnTo>
                    <a:pt x="203" y="3"/>
                  </a:lnTo>
                  <a:lnTo>
                    <a:pt x="190" y="10"/>
                  </a:lnTo>
                  <a:lnTo>
                    <a:pt x="198" y="12"/>
                  </a:lnTo>
                  <a:lnTo>
                    <a:pt x="190" y="17"/>
                  </a:lnTo>
                  <a:lnTo>
                    <a:pt x="203" y="17"/>
                  </a:lnTo>
                  <a:lnTo>
                    <a:pt x="214" y="23"/>
                  </a:lnTo>
                  <a:lnTo>
                    <a:pt x="203" y="28"/>
                  </a:lnTo>
                  <a:lnTo>
                    <a:pt x="203" y="28"/>
                  </a:lnTo>
                  <a:lnTo>
                    <a:pt x="210" y="30"/>
                  </a:lnTo>
                  <a:lnTo>
                    <a:pt x="198" y="32"/>
                  </a:lnTo>
                  <a:lnTo>
                    <a:pt x="206" y="35"/>
                  </a:lnTo>
                  <a:lnTo>
                    <a:pt x="190" y="37"/>
                  </a:lnTo>
                  <a:lnTo>
                    <a:pt x="186" y="45"/>
                  </a:lnTo>
                  <a:lnTo>
                    <a:pt x="165" y="45"/>
                  </a:lnTo>
                  <a:lnTo>
                    <a:pt x="101" y="62"/>
                  </a:lnTo>
                  <a:lnTo>
                    <a:pt x="60" y="59"/>
                  </a:lnTo>
                  <a:lnTo>
                    <a:pt x="60" y="54"/>
                  </a:lnTo>
                  <a:lnTo>
                    <a:pt x="41" y="5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937160" y="1453680"/>
              <a:ext cx="182160" cy="99720"/>
            </a:xfrm>
            <a:custGeom>
              <a:avLst/>
              <a:gdLst/>
              <a:ahLst/>
              <a:rect l="l" t="t" r="r" b="b"/>
              <a:pathLst>
                <a:path w="509" h="276">
                  <a:moveTo>
                    <a:pt x="508" y="105"/>
                  </a:moveTo>
                  <a:lnTo>
                    <a:pt x="496" y="122"/>
                  </a:lnTo>
                  <a:lnTo>
                    <a:pt x="472" y="125"/>
                  </a:lnTo>
                  <a:lnTo>
                    <a:pt x="428" y="147"/>
                  </a:lnTo>
                  <a:lnTo>
                    <a:pt x="419" y="149"/>
                  </a:lnTo>
                  <a:lnTo>
                    <a:pt x="396" y="147"/>
                  </a:lnTo>
                  <a:lnTo>
                    <a:pt x="392" y="154"/>
                  </a:lnTo>
                  <a:lnTo>
                    <a:pt x="375" y="154"/>
                  </a:lnTo>
                  <a:lnTo>
                    <a:pt x="363" y="159"/>
                  </a:lnTo>
                  <a:lnTo>
                    <a:pt x="367" y="154"/>
                  </a:lnTo>
                  <a:lnTo>
                    <a:pt x="355" y="162"/>
                  </a:lnTo>
                  <a:lnTo>
                    <a:pt x="347" y="157"/>
                  </a:lnTo>
                  <a:lnTo>
                    <a:pt x="371" y="149"/>
                  </a:lnTo>
                  <a:lnTo>
                    <a:pt x="359" y="147"/>
                  </a:lnTo>
                  <a:lnTo>
                    <a:pt x="359" y="149"/>
                  </a:lnTo>
                  <a:lnTo>
                    <a:pt x="347" y="157"/>
                  </a:lnTo>
                  <a:lnTo>
                    <a:pt x="338" y="154"/>
                  </a:lnTo>
                  <a:lnTo>
                    <a:pt x="334" y="162"/>
                  </a:lnTo>
                  <a:lnTo>
                    <a:pt x="315" y="159"/>
                  </a:lnTo>
                  <a:lnTo>
                    <a:pt x="311" y="164"/>
                  </a:lnTo>
                  <a:lnTo>
                    <a:pt x="290" y="164"/>
                  </a:lnTo>
                  <a:lnTo>
                    <a:pt x="286" y="171"/>
                  </a:lnTo>
                  <a:lnTo>
                    <a:pt x="266" y="171"/>
                  </a:lnTo>
                  <a:lnTo>
                    <a:pt x="258" y="186"/>
                  </a:lnTo>
                  <a:lnTo>
                    <a:pt x="234" y="189"/>
                  </a:lnTo>
                  <a:lnTo>
                    <a:pt x="250" y="191"/>
                  </a:lnTo>
                  <a:lnTo>
                    <a:pt x="242" y="201"/>
                  </a:lnTo>
                  <a:lnTo>
                    <a:pt x="226" y="196"/>
                  </a:lnTo>
                  <a:lnTo>
                    <a:pt x="230" y="203"/>
                  </a:lnTo>
                  <a:lnTo>
                    <a:pt x="222" y="203"/>
                  </a:lnTo>
                  <a:lnTo>
                    <a:pt x="218" y="206"/>
                  </a:lnTo>
                  <a:lnTo>
                    <a:pt x="214" y="203"/>
                  </a:lnTo>
                  <a:lnTo>
                    <a:pt x="218" y="208"/>
                  </a:lnTo>
                  <a:lnTo>
                    <a:pt x="206" y="203"/>
                  </a:lnTo>
                  <a:lnTo>
                    <a:pt x="210" y="211"/>
                  </a:lnTo>
                  <a:lnTo>
                    <a:pt x="197" y="208"/>
                  </a:lnTo>
                  <a:lnTo>
                    <a:pt x="194" y="208"/>
                  </a:lnTo>
                  <a:lnTo>
                    <a:pt x="194" y="218"/>
                  </a:lnTo>
                  <a:lnTo>
                    <a:pt x="172" y="218"/>
                  </a:lnTo>
                  <a:lnTo>
                    <a:pt x="161" y="218"/>
                  </a:lnTo>
                  <a:lnTo>
                    <a:pt x="172" y="226"/>
                  </a:lnTo>
                  <a:lnTo>
                    <a:pt x="161" y="223"/>
                  </a:lnTo>
                  <a:lnTo>
                    <a:pt x="170" y="228"/>
                  </a:lnTo>
                  <a:lnTo>
                    <a:pt x="153" y="236"/>
                  </a:lnTo>
                  <a:lnTo>
                    <a:pt x="149" y="241"/>
                  </a:lnTo>
                  <a:lnTo>
                    <a:pt x="145" y="238"/>
                  </a:lnTo>
                  <a:lnTo>
                    <a:pt x="153" y="241"/>
                  </a:lnTo>
                  <a:lnTo>
                    <a:pt x="145" y="243"/>
                  </a:lnTo>
                  <a:lnTo>
                    <a:pt x="133" y="243"/>
                  </a:lnTo>
                  <a:lnTo>
                    <a:pt x="145" y="243"/>
                  </a:lnTo>
                  <a:lnTo>
                    <a:pt x="137" y="247"/>
                  </a:lnTo>
                  <a:lnTo>
                    <a:pt x="125" y="247"/>
                  </a:lnTo>
                  <a:lnTo>
                    <a:pt x="121" y="250"/>
                  </a:lnTo>
                  <a:lnTo>
                    <a:pt x="133" y="253"/>
                  </a:lnTo>
                  <a:lnTo>
                    <a:pt x="113" y="250"/>
                  </a:lnTo>
                  <a:lnTo>
                    <a:pt x="129" y="253"/>
                  </a:lnTo>
                  <a:lnTo>
                    <a:pt x="109" y="255"/>
                  </a:lnTo>
                  <a:lnTo>
                    <a:pt x="121" y="257"/>
                  </a:lnTo>
                  <a:lnTo>
                    <a:pt x="104" y="257"/>
                  </a:lnTo>
                  <a:lnTo>
                    <a:pt x="104" y="260"/>
                  </a:lnTo>
                  <a:lnTo>
                    <a:pt x="113" y="263"/>
                  </a:lnTo>
                  <a:lnTo>
                    <a:pt x="96" y="263"/>
                  </a:lnTo>
                  <a:lnTo>
                    <a:pt x="85" y="260"/>
                  </a:lnTo>
                  <a:lnTo>
                    <a:pt x="100" y="265"/>
                  </a:lnTo>
                  <a:lnTo>
                    <a:pt x="89" y="267"/>
                  </a:lnTo>
                  <a:lnTo>
                    <a:pt x="100" y="267"/>
                  </a:lnTo>
                  <a:lnTo>
                    <a:pt x="96" y="272"/>
                  </a:lnTo>
                  <a:lnTo>
                    <a:pt x="73" y="270"/>
                  </a:lnTo>
                  <a:lnTo>
                    <a:pt x="80" y="267"/>
                  </a:lnTo>
                  <a:lnTo>
                    <a:pt x="60" y="275"/>
                  </a:lnTo>
                  <a:lnTo>
                    <a:pt x="52" y="272"/>
                  </a:lnTo>
                  <a:lnTo>
                    <a:pt x="52" y="270"/>
                  </a:lnTo>
                  <a:lnTo>
                    <a:pt x="80" y="257"/>
                  </a:lnTo>
                  <a:lnTo>
                    <a:pt x="56" y="265"/>
                  </a:lnTo>
                  <a:lnTo>
                    <a:pt x="68" y="260"/>
                  </a:lnTo>
                  <a:lnTo>
                    <a:pt x="68" y="257"/>
                  </a:lnTo>
                  <a:lnTo>
                    <a:pt x="44" y="260"/>
                  </a:lnTo>
                  <a:lnTo>
                    <a:pt x="68" y="253"/>
                  </a:lnTo>
                  <a:lnTo>
                    <a:pt x="44" y="257"/>
                  </a:lnTo>
                  <a:lnTo>
                    <a:pt x="77" y="247"/>
                  </a:lnTo>
                  <a:lnTo>
                    <a:pt x="52" y="253"/>
                  </a:lnTo>
                  <a:lnTo>
                    <a:pt x="68" y="245"/>
                  </a:lnTo>
                  <a:lnTo>
                    <a:pt x="32" y="255"/>
                  </a:lnTo>
                  <a:lnTo>
                    <a:pt x="32" y="250"/>
                  </a:lnTo>
                  <a:lnTo>
                    <a:pt x="4" y="253"/>
                  </a:lnTo>
                  <a:lnTo>
                    <a:pt x="20" y="250"/>
                  </a:lnTo>
                  <a:lnTo>
                    <a:pt x="24" y="247"/>
                  </a:lnTo>
                  <a:lnTo>
                    <a:pt x="12" y="247"/>
                  </a:lnTo>
                  <a:lnTo>
                    <a:pt x="15" y="243"/>
                  </a:lnTo>
                  <a:lnTo>
                    <a:pt x="4" y="241"/>
                  </a:lnTo>
                  <a:lnTo>
                    <a:pt x="24" y="238"/>
                  </a:lnTo>
                  <a:lnTo>
                    <a:pt x="0" y="238"/>
                  </a:lnTo>
                  <a:lnTo>
                    <a:pt x="20" y="236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24" y="228"/>
                  </a:lnTo>
                  <a:lnTo>
                    <a:pt x="8" y="236"/>
                  </a:lnTo>
                  <a:lnTo>
                    <a:pt x="28" y="226"/>
                  </a:lnTo>
                  <a:lnTo>
                    <a:pt x="8" y="228"/>
                  </a:lnTo>
                  <a:lnTo>
                    <a:pt x="20" y="226"/>
                  </a:lnTo>
                  <a:lnTo>
                    <a:pt x="24" y="223"/>
                  </a:lnTo>
                  <a:lnTo>
                    <a:pt x="8" y="218"/>
                  </a:lnTo>
                  <a:lnTo>
                    <a:pt x="36" y="206"/>
                  </a:lnTo>
                  <a:lnTo>
                    <a:pt x="15" y="211"/>
                  </a:lnTo>
                  <a:lnTo>
                    <a:pt x="28" y="206"/>
                  </a:lnTo>
                  <a:lnTo>
                    <a:pt x="20" y="203"/>
                  </a:lnTo>
                  <a:lnTo>
                    <a:pt x="36" y="203"/>
                  </a:lnTo>
                  <a:lnTo>
                    <a:pt x="15" y="201"/>
                  </a:lnTo>
                  <a:lnTo>
                    <a:pt x="32" y="199"/>
                  </a:lnTo>
                  <a:lnTo>
                    <a:pt x="20" y="199"/>
                  </a:lnTo>
                  <a:lnTo>
                    <a:pt x="32" y="196"/>
                  </a:lnTo>
                  <a:lnTo>
                    <a:pt x="40" y="194"/>
                  </a:lnTo>
                  <a:lnTo>
                    <a:pt x="20" y="196"/>
                  </a:lnTo>
                  <a:lnTo>
                    <a:pt x="40" y="186"/>
                  </a:lnTo>
                  <a:lnTo>
                    <a:pt x="28" y="189"/>
                  </a:lnTo>
                  <a:lnTo>
                    <a:pt x="28" y="184"/>
                  </a:lnTo>
                  <a:lnTo>
                    <a:pt x="68" y="184"/>
                  </a:lnTo>
                  <a:lnTo>
                    <a:pt x="56" y="182"/>
                  </a:lnTo>
                  <a:lnTo>
                    <a:pt x="32" y="182"/>
                  </a:lnTo>
                  <a:lnTo>
                    <a:pt x="68" y="179"/>
                  </a:lnTo>
                  <a:lnTo>
                    <a:pt x="64" y="174"/>
                  </a:lnTo>
                  <a:lnTo>
                    <a:pt x="73" y="171"/>
                  </a:lnTo>
                  <a:lnTo>
                    <a:pt x="80" y="182"/>
                  </a:lnTo>
                  <a:lnTo>
                    <a:pt x="89" y="169"/>
                  </a:lnTo>
                  <a:lnTo>
                    <a:pt x="77" y="171"/>
                  </a:lnTo>
                  <a:lnTo>
                    <a:pt x="80" y="162"/>
                  </a:lnTo>
                  <a:lnTo>
                    <a:pt x="73" y="171"/>
                  </a:lnTo>
                  <a:lnTo>
                    <a:pt x="60" y="169"/>
                  </a:lnTo>
                  <a:lnTo>
                    <a:pt x="28" y="182"/>
                  </a:lnTo>
                  <a:lnTo>
                    <a:pt x="44" y="171"/>
                  </a:lnTo>
                  <a:lnTo>
                    <a:pt x="68" y="164"/>
                  </a:lnTo>
                  <a:lnTo>
                    <a:pt x="44" y="169"/>
                  </a:lnTo>
                  <a:lnTo>
                    <a:pt x="64" y="159"/>
                  </a:lnTo>
                  <a:lnTo>
                    <a:pt x="56" y="157"/>
                  </a:lnTo>
                  <a:lnTo>
                    <a:pt x="85" y="151"/>
                  </a:lnTo>
                  <a:lnTo>
                    <a:pt x="104" y="151"/>
                  </a:lnTo>
                  <a:lnTo>
                    <a:pt x="89" y="149"/>
                  </a:lnTo>
                  <a:lnTo>
                    <a:pt x="56" y="157"/>
                  </a:lnTo>
                  <a:lnTo>
                    <a:pt x="68" y="151"/>
                  </a:lnTo>
                  <a:lnTo>
                    <a:pt x="68" y="147"/>
                  </a:lnTo>
                  <a:lnTo>
                    <a:pt x="56" y="149"/>
                  </a:lnTo>
                  <a:lnTo>
                    <a:pt x="56" y="149"/>
                  </a:lnTo>
                  <a:lnTo>
                    <a:pt x="96" y="145"/>
                  </a:lnTo>
                  <a:lnTo>
                    <a:pt x="73" y="145"/>
                  </a:lnTo>
                  <a:lnTo>
                    <a:pt x="60" y="145"/>
                  </a:lnTo>
                  <a:lnTo>
                    <a:pt x="129" y="128"/>
                  </a:lnTo>
                  <a:lnTo>
                    <a:pt x="145" y="130"/>
                  </a:lnTo>
                  <a:lnTo>
                    <a:pt x="137" y="128"/>
                  </a:lnTo>
                  <a:lnTo>
                    <a:pt x="158" y="128"/>
                  </a:lnTo>
                  <a:lnTo>
                    <a:pt x="141" y="125"/>
                  </a:lnTo>
                  <a:lnTo>
                    <a:pt x="64" y="142"/>
                  </a:lnTo>
                  <a:lnTo>
                    <a:pt x="77" y="137"/>
                  </a:lnTo>
                  <a:lnTo>
                    <a:pt x="68" y="137"/>
                  </a:lnTo>
                  <a:lnTo>
                    <a:pt x="77" y="132"/>
                  </a:lnTo>
                  <a:lnTo>
                    <a:pt x="100" y="132"/>
                  </a:lnTo>
                  <a:lnTo>
                    <a:pt x="85" y="130"/>
                  </a:lnTo>
                  <a:lnTo>
                    <a:pt x="100" y="130"/>
                  </a:lnTo>
                  <a:lnTo>
                    <a:pt x="113" y="128"/>
                  </a:lnTo>
                  <a:lnTo>
                    <a:pt x="100" y="125"/>
                  </a:lnTo>
                  <a:lnTo>
                    <a:pt x="100" y="122"/>
                  </a:lnTo>
                  <a:lnTo>
                    <a:pt x="89" y="122"/>
                  </a:lnTo>
                  <a:lnTo>
                    <a:pt x="133" y="117"/>
                  </a:lnTo>
                  <a:lnTo>
                    <a:pt x="158" y="122"/>
                  </a:lnTo>
                  <a:lnTo>
                    <a:pt x="141" y="122"/>
                  </a:lnTo>
                  <a:lnTo>
                    <a:pt x="149" y="117"/>
                  </a:lnTo>
                  <a:lnTo>
                    <a:pt x="96" y="117"/>
                  </a:lnTo>
                  <a:lnTo>
                    <a:pt x="141" y="110"/>
                  </a:lnTo>
                  <a:lnTo>
                    <a:pt x="170" y="117"/>
                  </a:lnTo>
                  <a:lnTo>
                    <a:pt x="161" y="115"/>
                  </a:lnTo>
                  <a:lnTo>
                    <a:pt x="181" y="112"/>
                  </a:lnTo>
                  <a:lnTo>
                    <a:pt x="158" y="110"/>
                  </a:lnTo>
                  <a:lnTo>
                    <a:pt x="177" y="110"/>
                  </a:lnTo>
                  <a:lnTo>
                    <a:pt x="170" y="107"/>
                  </a:lnTo>
                  <a:lnTo>
                    <a:pt x="149" y="110"/>
                  </a:lnTo>
                  <a:lnTo>
                    <a:pt x="145" y="107"/>
                  </a:lnTo>
                  <a:lnTo>
                    <a:pt x="161" y="105"/>
                  </a:lnTo>
                  <a:lnTo>
                    <a:pt x="109" y="112"/>
                  </a:lnTo>
                  <a:lnTo>
                    <a:pt x="137" y="103"/>
                  </a:lnTo>
                  <a:lnTo>
                    <a:pt x="153" y="105"/>
                  </a:lnTo>
                  <a:lnTo>
                    <a:pt x="141" y="100"/>
                  </a:lnTo>
                  <a:lnTo>
                    <a:pt x="185" y="107"/>
                  </a:lnTo>
                  <a:lnTo>
                    <a:pt x="172" y="103"/>
                  </a:lnTo>
                  <a:lnTo>
                    <a:pt x="172" y="100"/>
                  </a:lnTo>
                  <a:lnTo>
                    <a:pt x="194" y="95"/>
                  </a:lnTo>
                  <a:lnTo>
                    <a:pt x="177" y="98"/>
                  </a:lnTo>
                  <a:lnTo>
                    <a:pt x="158" y="100"/>
                  </a:lnTo>
                  <a:lnTo>
                    <a:pt x="145" y="98"/>
                  </a:lnTo>
                  <a:lnTo>
                    <a:pt x="197" y="93"/>
                  </a:lnTo>
                  <a:lnTo>
                    <a:pt x="206" y="91"/>
                  </a:lnTo>
                  <a:lnTo>
                    <a:pt x="210" y="83"/>
                  </a:lnTo>
                  <a:lnTo>
                    <a:pt x="214" y="88"/>
                  </a:lnTo>
                  <a:lnTo>
                    <a:pt x="218" y="83"/>
                  </a:lnTo>
                  <a:lnTo>
                    <a:pt x="230" y="83"/>
                  </a:lnTo>
                  <a:lnTo>
                    <a:pt x="214" y="83"/>
                  </a:lnTo>
                  <a:lnTo>
                    <a:pt x="238" y="75"/>
                  </a:lnTo>
                  <a:lnTo>
                    <a:pt x="226" y="75"/>
                  </a:lnTo>
                  <a:lnTo>
                    <a:pt x="254" y="66"/>
                  </a:lnTo>
                  <a:lnTo>
                    <a:pt x="222" y="66"/>
                  </a:lnTo>
                  <a:lnTo>
                    <a:pt x="210" y="51"/>
                  </a:lnTo>
                  <a:lnTo>
                    <a:pt x="238" y="51"/>
                  </a:lnTo>
                  <a:lnTo>
                    <a:pt x="258" y="61"/>
                  </a:lnTo>
                  <a:lnTo>
                    <a:pt x="270" y="56"/>
                  </a:lnTo>
                  <a:lnTo>
                    <a:pt x="258" y="58"/>
                  </a:lnTo>
                  <a:lnTo>
                    <a:pt x="270" y="53"/>
                  </a:lnTo>
                  <a:lnTo>
                    <a:pt x="262" y="51"/>
                  </a:lnTo>
                  <a:lnTo>
                    <a:pt x="274" y="53"/>
                  </a:lnTo>
                  <a:lnTo>
                    <a:pt x="262" y="47"/>
                  </a:lnTo>
                  <a:lnTo>
                    <a:pt x="278" y="49"/>
                  </a:lnTo>
                  <a:lnTo>
                    <a:pt x="278" y="44"/>
                  </a:lnTo>
                  <a:lnTo>
                    <a:pt x="262" y="44"/>
                  </a:lnTo>
                  <a:lnTo>
                    <a:pt x="282" y="39"/>
                  </a:lnTo>
                  <a:lnTo>
                    <a:pt x="262" y="44"/>
                  </a:lnTo>
                  <a:lnTo>
                    <a:pt x="290" y="39"/>
                  </a:lnTo>
                  <a:lnTo>
                    <a:pt x="262" y="39"/>
                  </a:lnTo>
                  <a:lnTo>
                    <a:pt x="295" y="34"/>
                  </a:lnTo>
                  <a:lnTo>
                    <a:pt x="270" y="31"/>
                  </a:lnTo>
                  <a:lnTo>
                    <a:pt x="290" y="27"/>
                  </a:lnTo>
                  <a:lnTo>
                    <a:pt x="270" y="31"/>
                  </a:lnTo>
                  <a:lnTo>
                    <a:pt x="290" y="19"/>
                  </a:lnTo>
                  <a:lnTo>
                    <a:pt x="274" y="29"/>
                  </a:lnTo>
                  <a:lnTo>
                    <a:pt x="250" y="36"/>
                  </a:lnTo>
                  <a:lnTo>
                    <a:pt x="230" y="36"/>
                  </a:lnTo>
                  <a:lnTo>
                    <a:pt x="230" y="31"/>
                  </a:lnTo>
                  <a:lnTo>
                    <a:pt x="274" y="21"/>
                  </a:lnTo>
                  <a:lnTo>
                    <a:pt x="246" y="24"/>
                  </a:lnTo>
                  <a:lnTo>
                    <a:pt x="274" y="19"/>
                  </a:lnTo>
                  <a:lnTo>
                    <a:pt x="266" y="16"/>
                  </a:lnTo>
                  <a:lnTo>
                    <a:pt x="286" y="16"/>
                  </a:lnTo>
                  <a:lnTo>
                    <a:pt x="278" y="14"/>
                  </a:lnTo>
                  <a:lnTo>
                    <a:pt x="298" y="7"/>
                  </a:lnTo>
                  <a:lnTo>
                    <a:pt x="290" y="4"/>
                  </a:lnTo>
                  <a:lnTo>
                    <a:pt x="311" y="0"/>
                  </a:lnTo>
                  <a:lnTo>
                    <a:pt x="307" y="38"/>
                  </a:lnTo>
                  <a:lnTo>
                    <a:pt x="286" y="67"/>
                  </a:lnTo>
                  <a:lnTo>
                    <a:pt x="228" y="98"/>
                  </a:lnTo>
                  <a:lnTo>
                    <a:pt x="189" y="119"/>
                  </a:lnTo>
                  <a:lnTo>
                    <a:pt x="134" y="146"/>
                  </a:lnTo>
                  <a:lnTo>
                    <a:pt x="84" y="190"/>
                  </a:lnTo>
                  <a:lnTo>
                    <a:pt x="88" y="224"/>
                  </a:lnTo>
                  <a:lnTo>
                    <a:pt x="142" y="215"/>
                  </a:lnTo>
                  <a:lnTo>
                    <a:pt x="237" y="169"/>
                  </a:lnTo>
                  <a:lnTo>
                    <a:pt x="341" y="137"/>
                  </a:lnTo>
                  <a:lnTo>
                    <a:pt x="458" y="112"/>
                  </a:lnTo>
                  <a:lnTo>
                    <a:pt x="508" y="10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999080" y="1474560"/>
              <a:ext cx="17280" cy="756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31" y="0"/>
                  </a:moveTo>
                  <a:lnTo>
                    <a:pt x="31" y="0"/>
                  </a:lnTo>
                  <a:lnTo>
                    <a:pt x="48" y="15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19" y="15"/>
                  </a:lnTo>
                  <a:lnTo>
                    <a:pt x="0" y="10"/>
                  </a:lnTo>
                  <a:lnTo>
                    <a:pt x="7" y="13"/>
                  </a:lnTo>
                  <a:lnTo>
                    <a:pt x="7" y="8"/>
                  </a:lnTo>
                  <a:lnTo>
                    <a:pt x="19" y="8"/>
                  </a:lnTo>
                  <a:lnTo>
                    <a:pt x="15" y="3"/>
                  </a:lnTo>
                  <a:lnTo>
                    <a:pt x="3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116520" y="2851200"/>
              <a:ext cx="169560" cy="52200"/>
            </a:xfrm>
            <a:custGeom>
              <a:avLst/>
              <a:gdLst/>
              <a:ahLst/>
              <a:rect l="l" t="t" r="r" b="b"/>
              <a:pathLst>
                <a:path w="473" h="145">
                  <a:moveTo>
                    <a:pt x="0" y="0"/>
                  </a:moveTo>
                  <a:lnTo>
                    <a:pt x="472" y="0"/>
                  </a:lnTo>
                  <a:lnTo>
                    <a:pt x="472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53520" y="2859120"/>
              <a:ext cx="29880" cy="21960"/>
            </a:xfrm>
            <a:custGeom>
              <a:avLst/>
              <a:gdLst/>
              <a:ahLst/>
              <a:rect l="l" t="t" r="r" b="b"/>
              <a:pathLst>
                <a:path w="82" h="62">
                  <a:moveTo>
                    <a:pt x="15" y="25"/>
                  </a:moveTo>
                  <a:lnTo>
                    <a:pt x="37" y="25"/>
                  </a:lnTo>
                  <a:lnTo>
                    <a:pt x="41" y="25"/>
                  </a:lnTo>
                  <a:lnTo>
                    <a:pt x="45" y="25"/>
                  </a:lnTo>
                  <a:lnTo>
                    <a:pt x="48" y="25"/>
                  </a:lnTo>
                  <a:lnTo>
                    <a:pt x="50" y="25"/>
                  </a:lnTo>
                  <a:lnTo>
                    <a:pt x="53" y="24"/>
                  </a:lnTo>
                  <a:lnTo>
                    <a:pt x="56" y="23"/>
                  </a:lnTo>
                  <a:lnTo>
                    <a:pt x="57" y="23"/>
                  </a:lnTo>
                  <a:lnTo>
                    <a:pt x="59" y="21"/>
                  </a:lnTo>
                  <a:lnTo>
                    <a:pt x="59" y="20"/>
                  </a:lnTo>
                  <a:lnTo>
                    <a:pt x="61" y="19"/>
                  </a:lnTo>
                  <a:lnTo>
                    <a:pt x="61" y="17"/>
                  </a:lnTo>
                  <a:lnTo>
                    <a:pt x="61" y="16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59" y="12"/>
                  </a:lnTo>
                  <a:lnTo>
                    <a:pt x="59" y="11"/>
                  </a:lnTo>
                  <a:lnTo>
                    <a:pt x="57" y="10"/>
                  </a:lnTo>
                  <a:lnTo>
                    <a:pt x="56" y="9"/>
                  </a:lnTo>
                  <a:lnTo>
                    <a:pt x="53" y="8"/>
                  </a:lnTo>
                  <a:lnTo>
                    <a:pt x="51" y="8"/>
                  </a:lnTo>
                  <a:lnTo>
                    <a:pt x="48" y="7"/>
                  </a:lnTo>
                  <a:lnTo>
                    <a:pt x="45" y="7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15" y="7"/>
                  </a:lnTo>
                  <a:lnTo>
                    <a:pt x="15" y="25"/>
                  </a:lnTo>
                  <a:close/>
                  <a:moveTo>
                    <a:pt x="15" y="53"/>
                  </a:moveTo>
                  <a:lnTo>
                    <a:pt x="41" y="53"/>
                  </a:lnTo>
                  <a:lnTo>
                    <a:pt x="44" y="53"/>
                  </a:lnTo>
                  <a:lnTo>
                    <a:pt x="46" y="53"/>
                  </a:lnTo>
                  <a:lnTo>
                    <a:pt x="49" y="53"/>
                  </a:lnTo>
                  <a:lnTo>
                    <a:pt x="50" y="53"/>
                  </a:lnTo>
                  <a:lnTo>
                    <a:pt x="53" y="53"/>
                  </a:lnTo>
                  <a:lnTo>
                    <a:pt x="56" y="52"/>
                  </a:lnTo>
                  <a:lnTo>
                    <a:pt x="57" y="52"/>
                  </a:lnTo>
                  <a:lnTo>
                    <a:pt x="59" y="51"/>
                  </a:lnTo>
                  <a:lnTo>
                    <a:pt x="61" y="51"/>
                  </a:lnTo>
                  <a:lnTo>
                    <a:pt x="61" y="50"/>
                  </a:lnTo>
                  <a:lnTo>
                    <a:pt x="63" y="49"/>
                  </a:lnTo>
                  <a:lnTo>
                    <a:pt x="65" y="48"/>
                  </a:lnTo>
                  <a:lnTo>
                    <a:pt x="65" y="47"/>
                  </a:lnTo>
                  <a:lnTo>
                    <a:pt x="66" y="45"/>
                  </a:lnTo>
                  <a:lnTo>
                    <a:pt x="66" y="44"/>
                  </a:lnTo>
                  <a:lnTo>
                    <a:pt x="66" y="43"/>
                  </a:lnTo>
                  <a:lnTo>
                    <a:pt x="66" y="41"/>
                  </a:lnTo>
                  <a:lnTo>
                    <a:pt x="65" y="39"/>
                  </a:lnTo>
                  <a:lnTo>
                    <a:pt x="64" y="38"/>
                  </a:lnTo>
                  <a:lnTo>
                    <a:pt x="63" y="37"/>
                  </a:lnTo>
                  <a:lnTo>
                    <a:pt x="61" y="35"/>
                  </a:lnTo>
                  <a:lnTo>
                    <a:pt x="59" y="35"/>
                  </a:lnTo>
                  <a:lnTo>
                    <a:pt x="56" y="34"/>
                  </a:lnTo>
                  <a:lnTo>
                    <a:pt x="54" y="34"/>
                  </a:lnTo>
                  <a:lnTo>
                    <a:pt x="50" y="33"/>
                  </a:lnTo>
                  <a:lnTo>
                    <a:pt x="47" y="33"/>
                  </a:lnTo>
                  <a:lnTo>
                    <a:pt x="43" y="33"/>
                  </a:lnTo>
                  <a:lnTo>
                    <a:pt x="39" y="33"/>
                  </a:lnTo>
                  <a:lnTo>
                    <a:pt x="15" y="33"/>
                  </a:lnTo>
                  <a:lnTo>
                    <a:pt x="15" y="53"/>
                  </a:lnTo>
                  <a:close/>
                  <a:moveTo>
                    <a:pt x="0" y="61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0" y="1"/>
                  </a:lnTo>
                  <a:lnTo>
                    <a:pt x="63" y="3"/>
                  </a:lnTo>
                  <a:lnTo>
                    <a:pt x="66" y="4"/>
                  </a:lnTo>
                  <a:lnTo>
                    <a:pt x="69" y="5"/>
                  </a:lnTo>
                  <a:lnTo>
                    <a:pt x="72" y="7"/>
                  </a:lnTo>
                  <a:lnTo>
                    <a:pt x="73" y="9"/>
                  </a:lnTo>
                  <a:lnTo>
                    <a:pt x="74" y="11"/>
                  </a:lnTo>
                  <a:lnTo>
                    <a:pt x="75" y="13"/>
                  </a:lnTo>
                  <a:lnTo>
                    <a:pt x="75" y="16"/>
                  </a:lnTo>
                  <a:lnTo>
                    <a:pt x="75" y="17"/>
                  </a:lnTo>
                  <a:lnTo>
                    <a:pt x="74" y="19"/>
                  </a:lnTo>
                  <a:lnTo>
                    <a:pt x="73" y="21"/>
                  </a:lnTo>
                  <a:lnTo>
                    <a:pt x="72" y="23"/>
                  </a:lnTo>
                  <a:lnTo>
                    <a:pt x="69" y="25"/>
                  </a:lnTo>
                  <a:lnTo>
                    <a:pt x="67" y="26"/>
                  </a:lnTo>
                  <a:lnTo>
                    <a:pt x="63" y="27"/>
                  </a:lnTo>
                  <a:lnTo>
                    <a:pt x="60" y="28"/>
                  </a:lnTo>
                  <a:lnTo>
                    <a:pt x="65" y="29"/>
                  </a:lnTo>
                  <a:lnTo>
                    <a:pt x="68" y="30"/>
                  </a:lnTo>
                  <a:lnTo>
                    <a:pt x="72" y="32"/>
                  </a:lnTo>
                  <a:lnTo>
                    <a:pt x="75" y="34"/>
                  </a:lnTo>
                  <a:lnTo>
                    <a:pt x="77" y="36"/>
                  </a:lnTo>
                  <a:lnTo>
                    <a:pt x="79" y="38"/>
                  </a:lnTo>
                  <a:lnTo>
                    <a:pt x="80" y="41"/>
                  </a:lnTo>
                  <a:lnTo>
                    <a:pt x="81" y="43"/>
                  </a:lnTo>
                  <a:lnTo>
                    <a:pt x="80" y="45"/>
                  </a:lnTo>
                  <a:lnTo>
                    <a:pt x="79" y="47"/>
                  </a:lnTo>
                  <a:lnTo>
                    <a:pt x="79" y="49"/>
                  </a:lnTo>
                  <a:lnTo>
                    <a:pt x="78" y="51"/>
                  </a:lnTo>
                  <a:lnTo>
                    <a:pt x="75" y="53"/>
                  </a:lnTo>
                  <a:lnTo>
                    <a:pt x="74" y="54"/>
                  </a:lnTo>
                  <a:lnTo>
                    <a:pt x="72" y="55"/>
                  </a:lnTo>
                  <a:lnTo>
                    <a:pt x="70" y="57"/>
                  </a:lnTo>
                  <a:lnTo>
                    <a:pt x="67" y="57"/>
                  </a:lnTo>
                  <a:lnTo>
                    <a:pt x="65" y="58"/>
                  </a:lnTo>
                  <a:lnTo>
                    <a:pt x="61" y="59"/>
                  </a:lnTo>
                  <a:lnTo>
                    <a:pt x="58" y="59"/>
                  </a:lnTo>
                  <a:lnTo>
                    <a:pt x="54" y="60"/>
                  </a:lnTo>
                  <a:lnTo>
                    <a:pt x="50" y="60"/>
                  </a:lnTo>
                  <a:lnTo>
                    <a:pt x="45" y="60"/>
                  </a:lnTo>
                  <a:lnTo>
                    <a:pt x="41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88440" y="2865600"/>
              <a:ext cx="15480" cy="154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0" y="45"/>
                  </a:moveTo>
                  <a:lnTo>
                    <a:pt x="0" y="1"/>
                  </a:lnTo>
                  <a:lnTo>
                    <a:pt x="12" y="1"/>
                  </a:lnTo>
                  <a:lnTo>
                    <a:pt x="12" y="7"/>
                  </a:lnTo>
                  <a:lnTo>
                    <a:pt x="14" y="5"/>
                  </a:lnTo>
                  <a:lnTo>
                    <a:pt x="16" y="3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1" y="2"/>
                  </a:lnTo>
                  <a:lnTo>
                    <a:pt x="37" y="9"/>
                  </a:lnTo>
                  <a:lnTo>
                    <a:pt x="34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06080" y="285912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0" y="61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1"/>
                  </a:lnTo>
                  <a:lnTo>
                    <a:pt x="0" y="61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15440" y="2859120"/>
              <a:ext cx="14040" cy="21960"/>
            </a:xfrm>
            <a:custGeom>
              <a:avLst/>
              <a:gdLst/>
              <a:ahLst/>
              <a:rect l="l" t="t" r="r" b="b"/>
              <a:pathLst>
                <a:path w="39" h="61">
                  <a:moveTo>
                    <a:pt x="37" y="53"/>
                  </a:moveTo>
                  <a:lnTo>
                    <a:pt x="38" y="60"/>
                  </a:lnTo>
                  <a:lnTo>
                    <a:pt x="35" y="60"/>
                  </a:lnTo>
                  <a:lnTo>
                    <a:pt x="32" y="60"/>
                  </a:lnTo>
                  <a:lnTo>
                    <a:pt x="30" y="60"/>
                  </a:lnTo>
                  <a:lnTo>
                    <a:pt x="28" y="60"/>
                  </a:lnTo>
                  <a:lnTo>
                    <a:pt x="24" y="60"/>
                  </a:lnTo>
                  <a:lnTo>
                    <a:pt x="21" y="60"/>
                  </a:lnTo>
                  <a:lnTo>
                    <a:pt x="19" y="60"/>
                  </a:lnTo>
                  <a:lnTo>
                    <a:pt x="17" y="59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10" y="54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0" y="47"/>
                  </a:lnTo>
                  <a:lnTo>
                    <a:pt x="10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16"/>
                  </a:lnTo>
                  <a:lnTo>
                    <a:pt x="37" y="16"/>
                  </a:lnTo>
                  <a:lnTo>
                    <a:pt x="37" y="22"/>
                  </a:lnTo>
                  <a:lnTo>
                    <a:pt x="23" y="22"/>
                  </a:lnTo>
                  <a:lnTo>
                    <a:pt x="23" y="47"/>
                  </a:lnTo>
                  <a:lnTo>
                    <a:pt x="23" y="48"/>
                  </a:lnTo>
                  <a:lnTo>
                    <a:pt x="23" y="50"/>
                  </a:lnTo>
                  <a:lnTo>
                    <a:pt x="23" y="51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6" y="53"/>
                  </a:lnTo>
                  <a:lnTo>
                    <a:pt x="26" y="53"/>
                  </a:lnTo>
                  <a:lnTo>
                    <a:pt x="28" y="53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3" y="53"/>
                  </a:lnTo>
                  <a:lnTo>
                    <a:pt x="35" y="53"/>
                  </a:lnTo>
                  <a:lnTo>
                    <a:pt x="37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31280" y="2865600"/>
              <a:ext cx="25200" cy="15480"/>
            </a:xfrm>
            <a:custGeom>
              <a:avLst/>
              <a:gdLst/>
              <a:ahLst/>
              <a:rect l="l" t="t" r="r" b="b"/>
              <a:pathLst>
                <a:path w="72" h="46">
                  <a:moveTo>
                    <a:pt x="55" y="23"/>
                  </a:moveTo>
                  <a:lnTo>
                    <a:pt x="50" y="23"/>
                  </a:lnTo>
                  <a:lnTo>
                    <a:pt x="45" y="24"/>
                  </a:lnTo>
                  <a:lnTo>
                    <a:pt x="38" y="25"/>
                  </a:lnTo>
                  <a:lnTo>
                    <a:pt x="33" y="25"/>
                  </a:lnTo>
                  <a:lnTo>
                    <a:pt x="28" y="25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5" y="29"/>
                  </a:lnTo>
                  <a:lnTo>
                    <a:pt x="15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5"/>
                  </a:lnTo>
                  <a:lnTo>
                    <a:pt x="15" y="36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9" y="39"/>
                  </a:lnTo>
                  <a:lnTo>
                    <a:pt x="33" y="39"/>
                  </a:lnTo>
                  <a:lnTo>
                    <a:pt x="37" y="39"/>
                  </a:lnTo>
                  <a:lnTo>
                    <a:pt x="40" y="38"/>
                  </a:lnTo>
                  <a:lnTo>
                    <a:pt x="44" y="38"/>
                  </a:lnTo>
                  <a:lnTo>
                    <a:pt x="46" y="37"/>
                  </a:lnTo>
                  <a:lnTo>
                    <a:pt x="49" y="36"/>
                  </a:lnTo>
                  <a:lnTo>
                    <a:pt x="50" y="34"/>
                  </a:lnTo>
                  <a:lnTo>
                    <a:pt x="52" y="33"/>
                  </a:lnTo>
                  <a:lnTo>
                    <a:pt x="53" y="31"/>
                  </a:lnTo>
                  <a:lnTo>
                    <a:pt x="54" y="29"/>
                  </a:lnTo>
                  <a:lnTo>
                    <a:pt x="54" y="27"/>
                  </a:lnTo>
                  <a:lnTo>
                    <a:pt x="55" y="25"/>
                  </a:lnTo>
                  <a:lnTo>
                    <a:pt x="55" y="23"/>
                  </a:lnTo>
                  <a:close/>
                  <a:moveTo>
                    <a:pt x="55" y="39"/>
                  </a:moveTo>
                  <a:lnTo>
                    <a:pt x="51" y="40"/>
                  </a:lnTo>
                  <a:lnTo>
                    <a:pt x="48" y="42"/>
                  </a:lnTo>
                  <a:lnTo>
                    <a:pt x="44" y="43"/>
                  </a:lnTo>
                  <a:lnTo>
                    <a:pt x="42" y="44"/>
                  </a:lnTo>
                  <a:lnTo>
                    <a:pt x="38" y="44"/>
                  </a:lnTo>
                  <a:lnTo>
                    <a:pt x="34" y="45"/>
                  </a:lnTo>
                  <a:lnTo>
                    <a:pt x="30" y="45"/>
                  </a:lnTo>
                  <a:lnTo>
                    <a:pt x="27" y="45"/>
                  </a:lnTo>
                  <a:lnTo>
                    <a:pt x="20" y="45"/>
                  </a:lnTo>
                  <a:lnTo>
                    <a:pt x="15" y="44"/>
                  </a:lnTo>
                  <a:lnTo>
                    <a:pt x="10" y="43"/>
                  </a:lnTo>
                  <a:lnTo>
                    <a:pt x="7" y="42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0"/>
                  </a:lnTo>
                  <a:lnTo>
                    <a:pt x="21" y="20"/>
                  </a:lnTo>
                  <a:lnTo>
                    <a:pt x="24" y="19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8" y="19"/>
                  </a:lnTo>
                  <a:lnTo>
                    <a:pt x="44" y="18"/>
                  </a:lnTo>
                  <a:lnTo>
                    <a:pt x="50" y="17"/>
                  </a:lnTo>
                  <a:lnTo>
                    <a:pt x="55" y="17"/>
                  </a:lnTo>
                  <a:lnTo>
                    <a:pt x="55" y="16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4" y="12"/>
                  </a:lnTo>
                  <a:lnTo>
                    <a:pt x="53" y="11"/>
                  </a:lnTo>
                  <a:lnTo>
                    <a:pt x="52" y="9"/>
                  </a:lnTo>
                  <a:lnTo>
                    <a:pt x="51" y="9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6"/>
                  </a:lnTo>
                  <a:lnTo>
                    <a:pt x="35" y="6"/>
                  </a:lnTo>
                  <a:lnTo>
                    <a:pt x="31" y="6"/>
                  </a:lnTo>
                  <a:lnTo>
                    <a:pt x="27" y="6"/>
                  </a:lnTo>
                  <a:lnTo>
                    <a:pt x="24" y="7"/>
                  </a:lnTo>
                  <a:lnTo>
                    <a:pt x="22" y="7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8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5" y="8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67" y="12"/>
                  </a:lnTo>
                  <a:lnTo>
                    <a:pt x="67" y="14"/>
                  </a:lnTo>
                  <a:lnTo>
                    <a:pt x="67" y="16"/>
                  </a:lnTo>
                  <a:lnTo>
                    <a:pt x="67" y="26"/>
                  </a:lnTo>
                  <a:lnTo>
                    <a:pt x="67" y="31"/>
                  </a:lnTo>
                  <a:lnTo>
                    <a:pt x="67" y="34"/>
                  </a:lnTo>
                  <a:lnTo>
                    <a:pt x="67" y="37"/>
                  </a:lnTo>
                  <a:lnTo>
                    <a:pt x="68" y="39"/>
                  </a:lnTo>
                  <a:lnTo>
                    <a:pt x="68" y="40"/>
                  </a:lnTo>
                  <a:lnTo>
                    <a:pt x="69" y="41"/>
                  </a:lnTo>
                  <a:lnTo>
                    <a:pt x="70" y="43"/>
                  </a:lnTo>
                  <a:lnTo>
                    <a:pt x="71" y="45"/>
                  </a:lnTo>
                  <a:lnTo>
                    <a:pt x="58" y="45"/>
                  </a:lnTo>
                  <a:lnTo>
                    <a:pt x="56" y="43"/>
                  </a:lnTo>
                  <a:lnTo>
                    <a:pt x="56" y="42"/>
                  </a:lnTo>
                  <a:lnTo>
                    <a:pt x="55" y="40"/>
                  </a:lnTo>
                  <a:lnTo>
                    <a:pt x="5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63320" y="2865600"/>
              <a:ext cx="21600" cy="154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0" y="45"/>
                  </a:moveTo>
                  <a:lnTo>
                    <a:pt x="0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6" y="3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4" y="3"/>
                  </a:lnTo>
                  <a:lnTo>
                    <a:pt x="56" y="3"/>
                  </a:lnTo>
                  <a:lnTo>
                    <a:pt x="58" y="5"/>
                  </a:lnTo>
                  <a:lnTo>
                    <a:pt x="59" y="6"/>
                  </a:lnTo>
                  <a:lnTo>
                    <a:pt x="60" y="7"/>
                  </a:lnTo>
                  <a:lnTo>
                    <a:pt x="61" y="9"/>
                  </a:lnTo>
                  <a:lnTo>
                    <a:pt x="61" y="10"/>
                  </a:lnTo>
                  <a:lnTo>
                    <a:pt x="61" y="11"/>
                  </a:lnTo>
                  <a:lnTo>
                    <a:pt x="61" y="13"/>
                  </a:lnTo>
                  <a:lnTo>
                    <a:pt x="61" y="15"/>
                  </a:lnTo>
                  <a:lnTo>
                    <a:pt x="62" y="18"/>
                  </a:lnTo>
                  <a:lnTo>
                    <a:pt x="62" y="45"/>
                  </a:lnTo>
                  <a:lnTo>
                    <a:pt x="49" y="45"/>
                  </a:lnTo>
                  <a:lnTo>
                    <a:pt x="49" y="18"/>
                  </a:lnTo>
                  <a:lnTo>
                    <a:pt x="49" y="16"/>
                  </a:lnTo>
                  <a:lnTo>
                    <a:pt x="49" y="14"/>
                  </a:lnTo>
                  <a:lnTo>
                    <a:pt x="48" y="12"/>
                  </a:lnTo>
                  <a:lnTo>
                    <a:pt x="48" y="11"/>
                  </a:lnTo>
                  <a:lnTo>
                    <a:pt x="47" y="10"/>
                  </a:lnTo>
                  <a:lnTo>
                    <a:pt x="45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0" y="7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93200" y="2865600"/>
              <a:ext cx="21960" cy="154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0" y="45"/>
                  </a:moveTo>
                  <a:lnTo>
                    <a:pt x="0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6" y="3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4" y="3"/>
                  </a:lnTo>
                  <a:lnTo>
                    <a:pt x="56" y="3"/>
                  </a:lnTo>
                  <a:lnTo>
                    <a:pt x="58" y="5"/>
                  </a:lnTo>
                  <a:lnTo>
                    <a:pt x="59" y="6"/>
                  </a:lnTo>
                  <a:lnTo>
                    <a:pt x="60" y="7"/>
                  </a:lnTo>
                  <a:lnTo>
                    <a:pt x="60" y="9"/>
                  </a:lnTo>
                  <a:lnTo>
                    <a:pt x="61" y="10"/>
                  </a:lnTo>
                  <a:lnTo>
                    <a:pt x="61" y="11"/>
                  </a:lnTo>
                  <a:lnTo>
                    <a:pt x="61" y="13"/>
                  </a:lnTo>
                  <a:lnTo>
                    <a:pt x="61" y="15"/>
                  </a:lnTo>
                  <a:lnTo>
                    <a:pt x="62" y="18"/>
                  </a:lnTo>
                  <a:lnTo>
                    <a:pt x="62" y="45"/>
                  </a:lnTo>
                  <a:lnTo>
                    <a:pt x="49" y="45"/>
                  </a:lnTo>
                  <a:lnTo>
                    <a:pt x="49" y="18"/>
                  </a:lnTo>
                  <a:lnTo>
                    <a:pt x="48" y="16"/>
                  </a:lnTo>
                  <a:lnTo>
                    <a:pt x="48" y="14"/>
                  </a:lnTo>
                  <a:lnTo>
                    <a:pt x="47" y="12"/>
                  </a:lnTo>
                  <a:lnTo>
                    <a:pt x="47" y="11"/>
                  </a:lnTo>
                  <a:lnTo>
                    <a:pt x="47" y="10"/>
                  </a:lnTo>
                  <a:lnTo>
                    <a:pt x="45" y="9"/>
                  </a:lnTo>
                  <a:lnTo>
                    <a:pt x="43" y="8"/>
                  </a:lnTo>
                  <a:lnTo>
                    <a:pt x="42" y="7"/>
                  </a:lnTo>
                  <a:lnTo>
                    <a:pt x="40" y="7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5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3" y="17"/>
                  </a:lnTo>
                  <a:lnTo>
                    <a:pt x="13" y="21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23440" y="285912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0" y="61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1"/>
                  </a:lnTo>
                  <a:lnTo>
                    <a:pt x="0" y="61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33160" y="2865600"/>
              <a:ext cx="24840" cy="2196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14" y="22"/>
                  </a:moveTo>
                  <a:lnTo>
                    <a:pt x="14" y="26"/>
                  </a:lnTo>
                  <a:lnTo>
                    <a:pt x="15" y="29"/>
                  </a:lnTo>
                  <a:lnTo>
                    <a:pt x="18" y="32"/>
                  </a:lnTo>
                  <a:lnTo>
                    <a:pt x="20" y="35"/>
                  </a:lnTo>
                  <a:lnTo>
                    <a:pt x="23" y="37"/>
                  </a:lnTo>
                  <a:lnTo>
                    <a:pt x="27" y="38"/>
                  </a:lnTo>
                  <a:lnTo>
                    <a:pt x="31" y="39"/>
                  </a:lnTo>
                  <a:lnTo>
                    <a:pt x="36" y="39"/>
                  </a:lnTo>
                  <a:lnTo>
                    <a:pt x="40" y="39"/>
                  </a:lnTo>
                  <a:lnTo>
                    <a:pt x="43" y="38"/>
                  </a:lnTo>
                  <a:lnTo>
                    <a:pt x="47" y="37"/>
                  </a:lnTo>
                  <a:lnTo>
                    <a:pt x="50" y="35"/>
                  </a:lnTo>
                  <a:lnTo>
                    <a:pt x="52" y="33"/>
                  </a:lnTo>
                  <a:lnTo>
                    <a:pt x="54" y="30"/>
                  </a:lnTo>
                  <a:lnTo>
                    <a:pt x="56" y="27"/>
                  </a:lnTo>
                  <a:lnTo>
                    <a:pt x="56" y="23"/>
                  </a:lnTo>
                  <a:lnTo>
                    <a:pt x="56" y="19"/>
                  </a:lnTo>
                  <a:lnTo>
                    <a:pt x="54" y="15"/>
                  </a:lnTo>
                  <a:lnTo>
                    <a:pt x="52" y="12"/>
                  </a:lnTo>
                  <a:lnTo>
                    <a:pt x="50" y="10"/>
                  </a:lnTo>
                  <a:lnTo>
                    <a:pt x="47" y="8"/>
                  </a:lnTo>
                  <a:lnTo>
                    <a:pt x="43" y="7"/>
                  </a:lnTo>
                  <a:lnTo>
                    <a:pt x="39" y="5"/>
                  </a:lnTo>
                  <a:lnTo>
                    <a:pt x="35" y="5"/>
                  </a:lnTo>
                  <a:lnTo>
                    <a:pt x="30" y="5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8" y="12"/>
                  </a:lnTo>
                  <a:lnTo>
                    <a:pt x="15" y="15"/>
                  </a:lnTo>
                  <a:lnTo>
                    <a:pt x="14" y="18"/>
                  </a:lnTo>
                  <a:lnTo>
                    <a:pt x="14" y="22"/>
                  </a:lnTo>
                  <a:close/>
                  <a:moveTo>
                    <a:pt x="55" y="61"/>
                  </a:moveTo>
                  <a:lnTo>
                    <a:pt x="55" y="39"/>
                  </a:lnTo>
                  <a:lnTo>
                    <a:pt x="53" y="41"/>
                  </a:lnTo>
                  <a:lnTo>
                    <a:pt x="52" y="42"/>
                  </a:lnTo>
                  <a:lnTo>
                    <a:pt x="49" y="43"/>
                  </a:lnTo>
                  <a:lnTo>
                    <a:pt x="47" y="44"/>
                  </a:lnTo>
                  <a:lnTo>
                    <a:pt x="43" y="44"/>
                  </a:lnTo>
                  <a:lnTo>
                    <a:pt x="41" y="45"/>
                  </a:lnTo>
                  <a:lnTo>
                    <a:pt x="38" y="45"/>
                  </a:lnTo>
                  <a:lnTo>
                    <a:pt x="35" y="45"/>
                  </a:lnTo>
                  <a:lnTo>
                    <a:pt x="28" y="45"/>
                  </a:lnTo>
                  <a:lnTo>
                    <a:pt x="22" y="44"/>
                  </a:lnTo>
                  <a:lnTo>
                    <a:pt x="16" y="42"/>
                  </a:lnTo>
                  <a:lnTo>
                    <a:pt x="11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2" y="3"/>
                  </a:lnTo>
                  <a:lnTo>
                    <a:pt x="56" y="7"/>
                  </a:lnTo>
                  <a:lnTo>
                    <a:pt x="56" y="1"/>
                  </a:lnTo>
                  <a:lnTo>
                    <a:pt x="69" y="1"/>
                  </a:lnTo>
                  <a:lnTo>
                    <a:pt x="69" y="61"/>
                  </a:lnTo>
                  <a:lnTo>
                    <a:pt x="5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64840" y="2865600"/>
              <a:ext cx="23400" cy="1548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51" y="44"/>
                  </a:moveTo>
                  <a:lnTo>
                    <a:pt x="51" y="37"/>
                  </a:lnTo>
                  <a:lnTo>
                    <a:pt x="45" y="40"/>
                  </a:lnTo>
                  <a:lnTo>
                    <a:pt x="40" y="42"/>
                  </a:lnTo>
                  <a:lnTo>
                    <a:pt x="34" y="44"/>
                  </a:lnTo>
                  <a:lnTo>
                    <a:pt x="27" y="44"/>
                  </a:lnTo>
                  <a:lnTo>
                    <a:pt x="23" y="44"/>
                  </a:lnTo>
                  <a:lnTo>
                    <a:pt x="20" y="44"/>
                  </a:lnTo>
                  <a:lnTo>
                    <a:pt x="17" y="43"/>
                  </a:lnTo>
                  <a:lnTo>
                    <a:pt x="14" y="43"/>
                  </a:lnTo>
                  <a:lnTo>
                    <a:pt x="11" y="42"/>
                  </a:lnTo>
                  <a:lnTo>
                    <a:pt x="9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5" y="32"/>
                  </a:lnTo>
                  <a:lnTo>
                    <a:pt x="15" y="33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20" y="36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7" y="38"/>
                  </a:lnTo>
                  <a:lnTo>
                    <a:pt x="29" y="38"/>
                  </a:lnTo>
                  <a:lnTo>
                    <a:pt x="33" y="38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0" y="36"/>
                  </a:lnTo>
                  <a:lnTo>
                    <a:pt x="42" y="35"/>
                  </a:lnTo>
                  <a:lnTo>
                    <a:pt x="44" y="34"/>
                  </a:lnTo>
                  <a:lnTo>
                    <a:pt x="45" y="33"/>
                  </a:lnTo>
                  <a:lnTo>
                    <a:pt x="47" y="32"/>
                  </a:lnTo>
                  <a:lnTo>
                    <a:pt x="48" y="30"/>
                  </a:lnTo>
                  <a:lnTo>
                    <a:pt x="49" y="28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44"/>
                  </a:lnTo>
                  <a:lnTo>
                    <a:pt x="5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9184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14" y="18"/>
                  </a:moveTo>
                  <a:lnTo>
                    <a:pt x="59" y="18"/>
                  </a:lnTo>
                  <a:lnTo>
                    <a:pt x="58" y="16"/>
                  </a:lnTo>
                  <a:lnTo>
                    <a:pt x="57" y="13"/>
                  </a:lnTo>
                  <a:lnTo>
                    <a:pt x="55" y="11"/>
                  </a:lnTo>
                  <a:lnTo>
                    <a:pt x="54" y="10"/>
                  </a:lnTo>
                  <a:lnTo>
                    <a:pt x="50" y="8"/>
                  </a:lnTo>
                  <a:lnTo>
                    <a:pt x="46" y="7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2" y="6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1" y="9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4" y="18"/>
                  </a:lnTo>
                  <a:close/>
                  <a:moveTo>
                    <a:pt x="59" y="30"/>
                  </a:moveTo>
                  <a:lnTo>
                    <a:pt x="71" y="31"/>
                  </a:lnTo>
                  <a:lnTo>
                    <a:pt x="70" y="34"/>
                  </a:lnTo>
                  <a:lnTo>
                    <a:pt x="67" y="37"/>
                  </a:lnTo>
                  <a:lnTo>
                    <a:pt x="63" y="39"/>
                  </a:lnTo>
                  <a:lnTo>
                    <a:pt x="59" y="41"/>
                  </a:lnTo>
                  <a:lnTo>
                    <a:pt x="54" y="43"/>
                  </a:lnTo>
                  <a:lnTo>
                    <a:pt x="49" y="44"/>
                  </a:lnTo>
                  <a:lnTo>
                    <a:pt x="43" y="45"/>
                  </a:lnTo>
                  <a:lnTo>
                    <a:pt x="37" y="45"/>
                  </a:lnTo>
                  <a:lnTo>
                    <a:pt x="29" y="45"/>
                  </a:lnTo>
                  <a:lnTo>
                    <a:pt x="22" y="44"/>
                  </a:lnTo>
                  <a:lnTo>
                    <a:pt x="16" y="42"/>
                  </a:lnTo>
                  <a:lnTo>
                    <a:pt x="11" y="39"/>
                  </a:lnTo>
                  <a:lnTo>
                    <a:pt x="6" y="36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6" y="9"/>
                  </a:lnTo>
                  <a:lnTo>
                    <a:pt x="11" y="5"/>
                  </a:lnTo>
                  <a:lnTo>
                    <a:pt x="16" y="3"/>
                  </a:lnTo>
                  <a:lnTo>
                    <a:pt x="21" y="1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7" y="3"/>
                  </a:lnTo>
                  <a:lnTo>
                    <a:pt x="62" y="5"/>
                  </a:lnTo>
                  <a:lnTo>
                    <a:pt x="66" y="9"/>
                  </a:lnTo>
                  <a:lnTo>
                    <a:pt x="69" y="13"/>
                  </a:lnTo>
                  <a:lnTo>
                    <a:pt x="71" y="17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5"/>
                  </a:lnTo>
                  <a:lnTo>
                    <a:pt x="13" y="25"/>
                  </a:lnTo>
                  <a:lnTo>
                    <a:pt x="14" y="28"/>
                  </a:lnTo>
                  <a:lnTo>
                    <a:pt x="15" y="31"/>
                  </a:lnTo>
                  <a:lnTo>
                    <a:pt x="18" y="33"/>
                  </a:lnTo>
                  <a:lnTo>
                    <a:pt x="21" y="35"/>
                  </a:lnTo>
                  <a:lnTo>
                    <a:pt x="24" y="37"/>
                  </a:lnTo>
                  <a:lnTo>
                    <a:pt x="28" y="38"/>
                  </a:lnTo>
                  <a:lnTo>
                    <a:pt x="32" y="39"/>
                  </a:lnTo>
                  <a:lnTo>
                    <a:pt x="38" y="39"/>
                  </a:lnTo>
                  <a:lnTo>
                    <a:pt x="41" y="39"/>
                  </a:lnTo>
                  <a:lnTo>
                    <a:pt x="44" y="39"/>
                  </a:lnTo>
                  <a:lnTo>
                    <a:pt x="47" y="38"/>
                  </a:lnTo>
                  <a:lnTo>
                    <a:pt x="50" y="37"/>
                  </a:lnTo>
                  <a:lnTo>
                    <a:pt x="52" y="36"/>
                  </a:lnTo>
                  <a:lnTo>
                    <a:pt x="54" y="34"/>
                  </a:lnTo>
                  <a:lnTo>
                    <a:pt x="56" y="32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53520" y="2924280"/>
              <a:ext cx="31680" cy="21960"/>
            </a:xfrm>
            <a:custGeom>
              <a:avLst/>
              <a:gdLst/>
              <a:ahLst/>
              <a:rect l="l" t="t" r="r" b="b"/>
              <a:pathLst>
                <a:path w="89" h="61">
                  <a:moveTo>
                    <a:pt x="15" y="53"/>
                  </a:moveTo>
                  <a:lnTo>
                    <a:pt x="37" y="5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50" y="52"/>
                  </a:lnTo>
                  <a:lnTo>
                    <a:pt x="54" y="52"/>
                  </a:lnTo>
                  <a:lnTo>
                    <a:pt x="56" y="51"/>
                  </a:lnTo>
                  <a:lnTo>
                    <a:pt x="59" y="51"/>
                  </a:lnTo>
                  <a:lnTo>
                    <a:pt x="60" y="49"/>
                  </a:lnTo>
                  <a:lnTo>
                    <a:pt x="63" y="49"/>
                  </a:lnTo>
                  <a:lnTo>
                    <a:pt x="65" y="47"/>
                  </a:lnTo>
                  <a:lnTo>
                    <a:pt x="67" y="45"/>
                  </a:lnTo>
                  <a:lnTo>
                    <a:pt x="69" y="43"/>
                  </a:lnTo>
                  <a:lnTo>
                    <a:pt x="71" y="41"/>
                  </a:lnTo>
                  <a:lnTo>
                    <a:pt x="72" y="38"/>
                  </a:lnTo>
                  <a:lnTo>
                    <a:pt x="73" y="36"/>
                  </a:lnTo>
                  <a:lnTo>
                    <a:pt x="73" y="33"/>
                  </a:lnTo>
                  <a:lnTo>
                    <a:pt x="73" y="29"/>
                  </a:lnTo>
                  <a:lnTo>
                    <a:pt x="73" y="25"/>
                  </a:lnTo>
                  <a:lnTo>
                    <a:pt x="72" y="21"/>
                  </a:lnTo>
                  <a:lnTo>
                    <a:pt x="70" y="18"/>
                  </a:lnTo>
                  <a:lnTo>
                    <a:pt x="68" y="15"/>
                  </a:lnTo>
                  <a:lnTo>
                    <a:pt x="65" y="13"/>
                  </a:lnTo>
                  <a:lnTo>
                    <a:pt x="62" y="11"/>
                  </a:lnTo>
                  <a:lnTo>
                    <a:pt x="58" y="9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15" y="7"/>
                  </a:lnTo>
                  <a:lnTo>
                    <a:pt x="15" y="53"/>
                  </a:lnTo>
                  <a:close/>
                  <a:moveTo>
                    <a:pt x="0" y="60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4" y="2"/>
                  </a:lnTo>
                  <a:lnTo>
                    <a:pt x="67" y="3"/>
                  </a:lnTo>
                  <a:lnTo>
                    <a:pt x="71" y="5"/>
                  </a:lnTo>
                  <a:lnTo>
                    <a:pt x="74" y="7"/>
                  </a:lnTo>
                  <a:lnTo>
                    <a:pt x="78" y="9"/>
                  </a:lnTo>
                  <a:lnTo>
                    <a:pt x="81" y="12"/>
                  </a:lnTo>
                  <a:lnTo>
                    <a:pt x="83" y="15"/>
                  </a:lnTo>
                  <a:lnTo>
                    <a:pt x="85" y="19"/>
                  </a:lnTo>
                  <a:lnTo>
                    <a:pt x="87" y="22"/>
                  </a:lnTo>
                  <a:lnTo>
                    <a:pt x="87" y="26"/>
                  </a:lnTo>
                  <a:lnTo>
                    <a:pt x="88" y="29"/>
                  </a:lnTo>
                  <a:lnTo>
                    <a:pt x="87" y="33"/>
                  </a:lnTo>
                  <a:lnTo>
                    <a:pt x="87" y="36"/>
                  </a:lnTo>
                  <a:lnTo>
                    <a:pt x="86" y="39"/>
                  </a:lnTo>
                  <a:lnTo>
                    <a:pt x="85" y="42"/>
                  </a:lnTo>
                  <a:lnTo>
                    <a:pt x="83" y="44"/>
                  </a:lnTo>
                  <a:lnTo>
                    <a:pt x="82" y="47"/>
                  </a:lnTo>
                  <a:lnTo>
                    <a:pt x="80" y="49"/>
                  </a:lnTo>
                  <a:lnTo>
                    <a:pt x="78" y="51"/>
                  </a:lnTo>
                  <a:lnTo>
                    <a:pt x="76" y="52"/>
                  </a:lnTo>
                  <a:lnTo>
                    <a:pt x="73" y="53"/>
                  </a:lnTo>
                  <a:lnTo>
                    <a:pt x="71" y="55"/>
                  </a:lnTo>
                  <a:lnTo>
                    <a:pt x="68" y="56"/>
                  </a:lnTo>
                  <a:lnTo>
                    <a:pt x="65" y="57"/>
                  </a:lnTo>
                  <a:lnTo>
                    <a:pt x="62" y="58"/>
                  </a:lnTo>
                  <a:lnTo>
                    <a:pt x="59" y="59"/>
                  </a:lnTo>
                  <a:lnTo>
                    <a:pt x="55" y="59"/>
                  </a:lnTo>
                  <a:lnTo>
                    <a:pt x="51" y="60"/>
                  </a:lnTo>
                  <a:lnTo>
                    <a:pt x="47" y="60"/>
                  </a:lnTo>
                  <a:lnTo>
                    <a:pt x="43" y="60"/>
                  </a:lnTo>
                  <a:lnTo>
                    <a:pt x="38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90240" y="2928960"/>
              <a:ext cx="26640" cy="1728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13" y="23"/>
                  </a:moveTo>
                  <a:lnTo>
                    <a:pt x="13" y="27"/>
                  </a:lnTo>
                  <a:lnTo>
                    <a:pt x="15" y="31"/>
                  </a:lnTo>
                  <a:lnTo>
                    <a:pt x="17" y="34"/>
                  </a:lnTo>
                  <a:lnTo>
                    <a:pt x="20" y="36"/>
                  </a:lnTo>
                  <a:lnTo>
                    <a:pt x="23" y="38"/>
                  </a:lnTo>
                  <a:lnTo>
                    <a:pt x="27" y="39"/>
                  </a:lnTo>
                  <a:lnTo>
                    <a:pt x="31" y="40"/>
                  </a:lnTo>
                  <a:lnTo>
                    <a:pt x="36" y="40"/>
                  </a:lnTo>
                  <a:lnTo>
                    <a:pt x="40" y="40"/>
                  </a:lnTo>
                  <a:lnTo>
                    <a:pt x="45" y="39"/>
                  </a:lnTo>
                  <a:lnTo>
                    <a:pt x="49" y="38"/>
                  </a:lnTo>
                  <a:lnTo>
                    <a:pt x="52" y="36"/>
                  </a:lnTo>
                  <a:lnTo>
                    <a:pt x="54" y="33"/>
                  </a:lnTo>
                  <a:lnTo>
                    <a:pt x="57" y="30"/>
                  </a:lnTo>
                  <a:lnTo>
                    <a:pt x="58" y="27"/>
                  </a:lnTo>
                  <a:lnTo>
                    <a:pt x="58" y="23"/>
                  </a:lnTo>
                  <a:lnTo>
                    <a:pt x="58" y="19"/>
                  </a:lnTo>
                  <a:lnTo>
                    <a:pt x="57" y="16"/>
                  </a:lnTo>
                  <a:lnTo>
                    <a:pt x="54" y="13"/>
                  </a:lnTo>
                  <a:lnTo>
                    <a:pt x="52" y="11"/>
                  </a:lnTo>
                  <a:lnTo>
                    <a:pt x="49" y="9"/>
                  </a:lnTo>
                  <a:lnTo>
                    <a:pt x="45" y="8"/>
                  </a:lnTo>
                  <a:lnTo>
                    <a:pt x="40" y="7"/>
                  </a:lnTo>
                  <a:lnTo>
                    <a:pt x="36" y="7"/>
                  </a:lnTo>
                  <a:lnTo>
                    <a:pt x="31" y="7"/>
                  </a:lnTo>
                  <a:lnTo>
                    <a:pt x="27" y="8"/>
                  </a:lnTo>
                  <a:lnTo>
                    <a:pt x="23" y="9"/>
                  </a:lnTo>
                  <a:lnTo>
                    <a:pt x="20" y="11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3" y="20"/>
                  </a:lnTo>
                  <a:lnTo>
                    <a:pt x="13" y="23"/>
                  </a:lnTo>
                  <a:close/>
                  <a:moveTo>
                    <a:pt x="0" y="23"/>
                  </a:moveTo>
                  <a:lnTo>
                    <a:pt x="0" y="18"/>
                  </a:lnTo>
                  <a:lnTo>
                    <a:pt x="3" y="13"/>
                  </a:lnTo>
                  <a:lnTo>
                    <a:pt x="6" y="9"/>
                  </a:lnTo>
                  <a:lnTo>
                    <a:pt x="11" y="5"/>
                  </a:lnTo>
                  <a:lnTo>
                    <a:pt x="17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62" y="6"/>
                  </a:lnTo>
                  <a:lnTo>
                    <a:pt x="66" y="9"/>
                  </a:lnTo>
                  <a:lnTo>
                    <a:pt x="69" y="13"/>
                  </a:lnTo>
                  <a:lnTo>
                    <a:pt x="71" y="18"/>
                  </a:lnTo>
                  <a:lnTo>
                    <a:pt x="72" y="23"/>
                  </a:lnTo>
                  <a:lnTo>
                    <a:pt x="71" y="27"/>
                  </a:lnTo>
                  <a:lnTo>
                    <a:pt x="71" y="30"/>
                  </a:lnTo>
                  <a:lnTo>
                    <a:pt x="69" y="33"/>
                  </a:lnTo>
                  <a:lnTo>
                    <a:pt x="68" y="36"/>
                  </a:lnTo>
                  <a:lnTo>
                    <a:pt x="65" y="38"/>
                  </a:lnTo>
                  <a:lnTo>
                    <a:pt x="62" y="40"/>
                  </a:lnTo>
                  <a:lnTo>
                    <a:pt x="58" y="42"/>
                  </a:lnTo>
                  <a:lnTo>
                    <a:pt x="54" y="44"/>
                  </a:lnTo>
                  <a:lnTo>
                    <a:pt x="50" y="45"/>
                  </a:lnTo>
                  <a:lnTo>
                    <a:pt x="45" y="45"/>
                  </a:lnTo>
                  <a:lnTo>
                    <a:pt x="40" y="46"/>
                  </a:lnTo>
                  <a:lnTo>
                    <a:pt x="36" y="46"/>
                  </a:lnTo>
                  <a:lnTo>
                    <a:pt x="28" y="46"/>
                  </a:lnTo>
                  <a:lnTo>
                    <a:pt x="21" y="45"/>
                  </a:lnTo>
                  <a:lnTo>
                    <a:pt x="15" y="43"/>
                  </a:lnTo>
                  <a:lnTo>
                    <a:pt x="10" y="40"/>
                  </a:lnTo>
                  <a:lnTo>
                    <a:pt x="6" y="37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21920" y="2928960"/>
              <a:ext cx="37800" cy="1548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0" y="45"/>
                  </a:moveTo>
                  <a:lnTo>
                    <a:pt x="0" y="2"/>
                  </a:lnTo>
                  <a:lnTo>
                    <a:pt x="13" y="2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3" y="1"/>
                  </a:lnTo>
                  <a:lnTo>
                    <a:pt x="47" y="2"/>
                  </a:lnTo>
                  <a:lnTo>
                    <a:pt x="50" y="2"/>
                  </a:lnTo>
                  <a:lnTo>
                    <a:pt x="52" y="4"/>
                  </a:lnTo>
                  <a:lnTo>
                    <a:pt x="54" y="5"/>
                  </a:lnTo>
                  <a:lnTo>
                    <a:pt x="56" y="6"/>
                  </a:lnTo>
                  <a:lnTo>
                    <a:pt x="57" y="8"/>
                  </a:lnTo>
                  <a:lnTo>
                    <a:pt x="62" y="5"/>
                  </a:lnTo>
                  <a:lnTo>
                    <a:pt x="68" y="2"/>
                  </a:lnTo>
                  <a:lnTo>
                    <a:pt x="74" y="1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6" y="2"/>
                  </a:lnTo>
                  <a:lnTo>
                    <a:pt x="99" y="4"/>
                  </a:lnTo>
                  <a:lnTo>
                    <a:pt x="102" y="6"/>
                  </a:lnTo>
                  <a:lnTo>
                    <a:pt x="103" y="9"/>
                  </a:lnTo>
                  <a:lnTo>
                    <a:pt x="104" y="12"/>
                  </a:lnTo>
                  <a:lnTo>
                    <a:pt x="105" y="15"/>
                  </a:lnTo>
                  <a:lnTo>
                    <a:pt x="105" y="45"/>
                  </a:lnTo>
                  <a:lnTo>
                    <a:pt x="92" y="45"/>
                  </a:lnTo>
                  <a:lnTo>
                    <a:pt x="92" y="18"/>
                  </a:lnTo>
                  <a:lnTo>
                    <a:pt x="92" y="16"/>
                  </a:lnTo>
                  <a:lnTo>
                    <a:pt x="92" y="14"/>
                  </a:lnTo>
                  <a:lnTo>
                    <a:pt x="91" y="12"/>
                  </a:lnTo>
                  <a:lnTo>
                    <a:pt x="91" y="11"/>
                  </a:lnTo>
                  <a:lnTo>
                    <a:pt x="90" y="10"/>
                  </a:lnTo>
                  <a:lnTo>
                    <a:pt x="89" y="9"/>
                  </a:lnTo>
                  <a:lnTo>
                    <a:pt x="87" y="9"/>
                  </a:lnTo>
                  <a:lnTo>
                    <a:pt x="86" y="8"/>
                  </a:lnTo>
                  <a:lnTo>
                    <a:pt x="84" y="7"/>
                  </a:lnTo>
                  <a:lnTo>
                    <a:pt x="82" y="7"/>
                  </a:lnTo>
                  <a:lnTo>
                    <a:pt x="80" y="7"/>
                  </a:lnTo>
                  <a:lnTo>
                    <a:pt x="78" y="7"/>
                  </a:lnTo>
                  <a:lnTo>
                    <a:pt x="74" y="7"/>
                  </a:lnTo>
                  <a:lnTo>
                    <a:pt x="70" y="8"/>
                  </a:lnTo>
                  <a:lnTo>
                    <a:pt x="67" y="9"/>
                  </a:lnTo>
                  <a:lnTo>
                    <a:pt x="65" y="10"/>
                  </a:lnTo>
                  <a:lnTo>
                    <a:pt x="63" y="12"/>
                  </a:lnTo>
                  <a:lnTo>
                    <a:pt x="61" y="14"/>
                  </a:lnTo>
                  <a:lnTo>
                    <a:pt x="59" y="16"/>
                  </a:lnTo>
                  <a:lnTo>
                    <a:pt x="59" y="20"/>
                  </a:lnTo>
                  <a:lnTo>
                    <a:pt x="59" y="45"/>
                  </a:lnTo>
                  <a:lnTo>
                    <a:pt x="46" y="45"/>
                  </a:lnTo>
                  <a:lnTo>
                    <a:pt x="46" y="17"/>
                  </a:lnTo>
                  <a:lnTo>
                    <a:pt x="45" y="14"/>
                  </a:lnTo>
                  <a:lnTo>
                    <a:pt x="45" y="12"/>
                  </a:lnTo>
                  <a:lnTo>
                    <a:pt x="45" y="11"/>
                  </a:lnTo>
                  <a:lnTo>
                    <a:pt x="43" y="9"/>
                  </a:lnTo>
                  <a:lnTo>
                    <a:pt x="41" y="8"/>
                  </a:lnTo>
                  <a:lnTo>
                    <a:pt x="39" y="7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14" y="20"/>
                  </a:lnTo>
                  <a:lnTo>
                    <a:pt x="14" y="23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66200" y="2924280"/>
              <a:ext cx="4680" cy="21960"/>
            </a:xfrm>
            <a:custGeom>
              <a:avLst/>
              <a:gdLst/>
              <a:ahLst/>
              <a:rect l="l" t="t" r="r" b="b"/>
              <a:pathLst>
                <a:path w="14" h="61">
                  <a:moveTo>
                    <a:pt x="0" y="60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0"/>
                  </a:lnTo>
                  <a:lnTo>
                    <a:pt x="0" y="6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79160" y="2928960"/>
              <a:ext cx="21600" cy="1548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0" y="45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8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4" y="4"/>
                  </a:lnTo>
                  <a:lnTo>
                    <a:pt x="55" y="4"/>
                  </a:lnTo>
                  <a:lnTo>
                    <a:pt x="57" y="5"/>
                  </a:lnTo>
                  <a:lnTo>
                    <a:pt x="58" y="7"/>
                  </a:lnTo>
                  <a:lnTo>
                    <a:pt x="59" y="8"/>
                  </a:lnTo>
                  <a:lnTo>
                    <a:pt x="59" y="10"/>
                  </a:lnTo>
                  <a:lnTo>
                    <a:pt x="61" y="11"/>
                  </a:lnTo>
                  <a:lnTo>
                    <a:pt x="61" y="12"/>
                  </a:lnTo>
                  <a:lnTo>
                    <a:pt x="61" y="14"/>
                  </a:lnTo>
                  <a:lnTo>
                    <a:pt x="61" y="16"/>
                  </a:lnTo>
                  <a:lnTo>
                    <a:pt x="61" y="18"/>
                  </a:lnTo>
                  <a:lnTo>
                    <a:pt x="61" y="45"/>
                  </a:lnTo>
                  <a:lnTo>
                    <a:pt x="48" y="45"/>
                  </a:lnTo>
                  <a:lnTo>
                    <a:pt x="48" y="19"/>
                  </a:lnTo>
                  <a:lnTo>
                    <a:pt x="48" y="16"/>
                  </a:lnTo>
                  <a:lnTo>
                    <a:pt x="48" y="15"/>
                  </a:lnTo>
                  <a:lnTo>
                    <a:pt x="47" y="13"/>
                  </a:lnTo>
                  <a:lnTo>
                    <a:pt x="47" y="12"/>
                  </a:lnTo>
                  <a:lnTo>
                    <a:pt x="46" y="11"/>
                  </a:lnTo>
                  <a:lnTo>
                    <a:pt x="45" y="10"/>
                  </a:lnTo>
                  <a:lnTo>
                    <a:pt x="43" y="9"/>
                  </a:lnTo>
                  <a:lnTo>
                    <a:pt x="42" y="8"/>
                  </a:lnTo>
                  <a:lnTo>
                    <a:pt x="39" y="8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5" y="8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3" y="18"/>
                  </a:lnTo>
                  <a:lnTo>
                    <a:pt x="13" y="22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06160" y="2928960"/>
              <a:ext cx="26640" cy="1728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55" y="23"/>
                  </a:moveTo>
                  <a:lnTo>
                    <a:pt x="51" y="24"/>
                  </a:lnTo>
                  <a:lnTo>
                    <a:pt x="46" y="25"/>
                  </a:lnTo>
                  <a:lnTo>
                    <a:pt x="40" y="25"/>
                  </a:lnTo>
                  <a:lnTo>
                    <a:pt x="33" y="26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7"/>
                  </a:lnTo>
                  <a:lnTo>
                    <a:pt x="22" y="27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6" y="30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5" y="36"/>
                  </a:lnTo>
                  <a:lnTo>
                    <a:pt x="16" y="37"/>
                  </a:lnTo>
                  <a:lnTo>
                    <a:pt x="18" y="38"/>
                  </a:lnTo>
                  <a:lnTo>
                    <a:pt x="20" y="39"/>
                  </a:lnTo>
                  <a:lnTo>
                    <a:pt x="23" y="40"/>
                  </a:lnTo>
                  <a:lnTo>
                    <a:pt x="26" y="40"/>
                  </a:lnTo>
                  <a:lnTo>
                    <a:pt x="30" y="40"/>
                  </a:lnTo>
                  <a:lnTo>
                    <a:pt x="34" y="40"/>
                  </a:lnTo>
                  <a:lnTo>
                    <a:pt x="37" y="40"/>
                  </a:lnTo>
                  <a:lnTo>
                    <a:pt x="40" y="39"/>
                  </a:lnTo>
                  <a:lnTo>
                    <a:pt x="44" y="38"/>
                  </a:lnTo>
                  <a:lnTo>
                    <a:pt x="46" y="38"/>
                  </a:lnTo>
                  <a:lnTo>
                    <a:pt x="49" y="36"/>
                  </a:lnTo>
                  <a:lnTo>
                    <a:pt x="51" y="35"/>
                  </a:lnTo>
                  <a:lnTo>
                    <a:pt x="52" y="34"/>
                  </a:lnTo>
                  <a:lnTo>
                    <a:pt x="53" y="32"/>
                  </a:lnTo>
                  <a:lnTo>
                    <a:pt x="54" y="30"/>
                  </a:lnTo>
                  <a:lnTo>
                    <a:pt x="54" y="28"/>
                  </a:lnTo>
                  <a:lnTo>
                    <a:pt x="55" y="26"/>
                  </a:lnTo>
                  <a:lnTo>
                    <a:pt x="55" y="23"/>
                  </a:lnTo>
                  <a:close/>
                  <a:moveTo>
                    <a:pt x="56" y="40"/>
                  </a:moveTo>
                  <a:lnTo>
                    <a:pt x="52" y="41"/>
                  </a:lnTo>
                  <a:lnTo>
                    <a:pt x="49" y="43"/>
                  </a:lnTo>
                  <a:lnTo>
                    <a:pt x="45" y="44"/>
                  </a:lnTo>
                  <a:lnTo>
                    <a:pt x="42" y="45"/>
                  </a:lnTo>
                  <a:lnTo>
                    <a:pt x="38" y="45"/>
                  </a:lnTo>
                  <a:lnTo>
                    <a:pt x="34" y="45"/>
                  </a:lnTo>
                  <a:lnTo>
                    <a:pt x="31" y="46"/>
                  </a:lnTo>
                  <a:lnTo>
                    <a:pt x="27" y="46"/>
                  </a:lnTo>
                  <a:lnTo>
                    <a:pt x="21" y="46"/>
                  </a:lnTo>
                  <a:lnTo>
                    <a:pt x="16" y="45"/>
                  </a:lnTo>
                  <a:lnTo>
                    <a:pt x="11" y="44"/>
                  </a:lnTo>
                  <a:lnTo>
                    <a:pt x="7" y="43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31"/>
                  </a:lnTo>
                  <a:lnTo>
                    <a:pt x="2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3"/>
                  </a:lnTo>
                  <a:lnTo>
                    <a:pt x="15" y="22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31" y="20"/>
                  </a:lnTo>
                  <a:lnTo>
                    <a:pt x="39" y="20"/>
                  </a:lnTo>
                  <a:lnTo>
                    <a:pt x="45" y="19"/>
                  </a:lnTo>
                  <a:lnTo>
                    <a:pt x="51" y="18"/>
                  </a:lnTo>
                  <a:lnTo>
                    <a:pt x="55" y="18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4" y="13"/>
                  </a:lnTo>
                  <a:lnTo>
                    <a:pt x="54" y="12"/>
                  </a:lnTo>
                  <a:lnTo>
                    <a:pt x="52" y="10"/>
                  </a:lnTo>
                  <a:lnTo>
                    <a:pt x="52" y="9"/>
                  </a:lnTo>
                  <a:lnTo>
                    <a:pt x="48" y="8"/>
                  </a:lnTo>
                  <a:lnTo>
                    <a:pt x="45" y="7"/>
                  </a:lnTo>
                  <a:lnTo>
                    <a:pt x="40" y="7"/>
                  </a:lnTo>
                  <a:lnTo>
                    <a:pt x="36" y="7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5" y="8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4" y="2"/>
                  </a:lnTo>
                  <a:lnTo>
                    <a:pt x="57" y="2"/>
                  </a:lnTo>
                  <a:lnTo>
                    <a:pt x="59" y="3"/>
                  </a:lnTo>
                  <a:lnTo>
                    <a:pt x="61" y="4"/>
                  </a:lnTo>
                  <a:lnTo>
                    <a:pt x="63" y="5"/>
                  </a:lnTo>
                  <a:lnTo>
                    <a:pt x="64" y="6"/>
                  </a:lnTo>
                  <a:lnTo>
                    <a:pt x="65" y="7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7" y="11"/>
                  </a:lnTo>
                  <a:lnTo>
                    <a:pt x="67" y="13"/>
                  </a:lnTo>
                  <a:lnTo>
                    <a:pt x="67" y="14"/>
                  </a:lnTo>
                  <a:lnTo>
                    <a:pt x="68" y="17"/>
                  </a:lnTo>
                  <a:lnTo>
                    <a:pt x="68" y="27"/>
                  </a:lnTo>
                  <a:lnTo>
                    <a:pt x="68" y="32"/>
                  </a:lnTo>
                  <a:lnTo>
                    <a:pt x="68" y="35"/>
                  </a:lnTo>
                  <a:lnTo>
                    <a:pt x="69" y="38"/>
                  </a:lnTo>
                  <a:lnTo>
                    <a:pt x="69" y="40"/>
                  </a:lnTo>
                  <a:lnTo>
                    <a:pt x="69" y="41"/>
                  </a:lnTo>
                  <a:lnTo>
                    <a:pt x="69" y="42"/>
                  </a:lnTo>
                  <a:lnTo>
                    <a:pt x="70" y="44"/>
                  </a:lnTo>
                  <a:lnTo>
                    <a:pt x="72" y="45"/>
                  </a:lnTo>
                  <a:lnTo>
                    <a:pt x="58" y="45"/>
                  </a:lnTo>
                  <a:lnTo>
                    <a:pt x="58" y="44"/>
                  </a:lnTo>
                  <a:lnTo>
                    <a:pt x="56" y="43"/>
                  </a:lnTo>
                  <a:lnTo>
                    <a:pt x="56" y="41"/>
                  </a:lnTo>
                  <a:lnTo>
                    <a:pt x="5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34600" y="2924280"/>
              <a:ext cx="14040" cy="21960"/>
            </a:xfrm>
            <a:custGeom>
              <a:avLst/>
              <a:gdLst/>
              <a:ahLst/>
              <a:rect l="l" t="t" r="r" b="b"/>
              <a:pathLst>
                <a:path w="39" h="61">
                  <a:moveTo>
                    <a:pt x="36" y="53"/>
                  </a:moveTo>
                  <a:lnTo>
                    <a:pt x="38" y="60"/>
                  </a:lnTo>
                  <a:lnTo>
                    <a:pt x="35" y="60"/>
                  </a:lnTo>
                  <a:lnTo>
                    <a:pt x="32" y="60"/>
                  </a:lnTo>
                  <a:lnTo>
                    <a:pt x="30" y="60"/>
                  </a:lnTo>
                  <a:lnTo>
                    <a:pt x="28" y="60"/>
                  </a:lnTo>
                  <a:lnTo>
                    <a:pt x="24" y="60"/>
                  </a:lnTo>
                  <a:lnTo>
                    <a:pt x="21" y="60"/>
                  </a:lnTo>
                  <a:lnTo>
                    <a:pt x="19" y="59"/>
                  </a:lnTo>
                  <a:lnTo>
                    <a:pt x="17" y="59"/>
                  </a:lnTo>
                  <a:lnTo>
                    <a:pt x="15" y="58"/>
                  </a:lnTo>
                  <a:lnTo>
                    <a:pt x="13" y="57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0" y="54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0" y="47"/>
                  </a:lnTo>
                  <a:lnTo>
                    <a:pt x="10" y="21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16"/>
                  </a:lnTo>
                  <a:lnTo>
                    <a:pt x="36" y="16"/>
                  </a:lnTo>
                  <a:lnTo>
                    <a:pt x="36" y="21"/>
                  </a:lnTo>
                  <a:lnTo>
                    <a:pt x="23" y="21"/>
                  </a:lnTo>
                  <a:lnTo>
                    <a:pt x="23" y="47"/>
                  </a:lnTo>
                  <a:lnTo>
                    <a:pt x="23" y="48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3" y="51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8" y="53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5" y="53"/>
                  </a:lnTo>
                  <a:lnTo>
                    <a:pt x="36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53680" y="292428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1">
                  <a:moveTo>
                    <a:pt x="0" y="60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0"/>
                  </a:lnTo>
                  <a:lnTo>
                    <a:pt x="0" y="6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63040" y="2928960"/>
              <a:ext cx="26640" cy="1728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14" y="23"/>
                  </a:moveTo>
                  <a:lnTo>
                    <a:pt x="14" y="27"/>
                  </a:lnTo>
                  <a:lnTo>
                    <a:pt x="15" y="31"/>
                  </a:lnTo>
                  <a:lnTo>
                    <a:pt x="17" y="34"/>
                  </a:lnTo>
                  <a:lnTo>
                    <a:pt x="20" y="36"/>
                  </a:lnTo>
                  <a:lnTo>
                    <a:pt x="23" y="38"/>
                  </a:lnTo>
                  <a:lnTo>
                    <a:pt x="27" y="39"/>
                  </a:lnTo>
                  <a:lnTo>
                    <a:pt x="31" y="40"/>
                  </a:lnTo>
                  <a:lnTo>
                    <a:pt x="36" y="40"/>
                  </a:lnTo>
                  <a:lnTo>
                    <a:pt x="41" y="40"/>
                  </a:lnTo>
                  <a:lnTo>
                    <a:pt x="45" y="39"/>
                  </a:lnTo>
                  <a:lnTo>
                    <a:pt x="49" y="38"/>
                  </a:lnTo>
                  <a:lnTo>
                    <a:pt x="52" y="36"/>
                  </a:lnTo>
                  <a:lnTo>
                    <a:pt x="55" y="33"/>
                  </a:lnTo>
                  <a:lnTo>
                    <a:pt x="57" y="30"/>
                  </a:lnTo>
                  <a:lnTo>
                    <a:pt x="58" y="27"/>
                  </a:lnTo>
                  <a:lnTo>
                    <a:pt x="59" y="23"/>
                  </a:lnTo>
                  <a:lnTo>
                    <a:pt x="58" y="19"/>
                  </a:lnTo>
                  <a:lnTo>
                    <a:pt x="57" y="16"/>
                  </a:lnTo>
                  <a:lnTo>
                    <a:pt x="55" y="13"/>
                  </a:lnTo>
                  <a:lnTo>
                    <a:pt x="52" y="11"/>
                  </a:lnTo>
                  <a:lnTo>
                    <a:pt x="49" y="9"/>
                  </a:lnTo>
                  <a:lnTo>
                    <a:pt x="45" y="8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1" y="7"/>
                  </a:lnTo>
                  <a:lnTo>
                    <a:pt x="27" y="8"/>
                  </a:lnTo>
                  <a:lnTo>
                    <a:pt x="23" y="9"/>
                  </a:lnTo>
                  <a:lnTo>
                    <a:pt x="20" y="11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4" y="20"/>
                  </a:lnTo>
                  <a:lnTo>
                    <a:pt x="14" y="23"/>
                  </a:lnTo>
                  <a:close/>
                  <a:moveTo>
                    <a:pt x="0" y="23"/>
                  </a:moveTo>
                  <a:lnTo>
                    <a:pt x="1" y="18"/>
                  </a:lnTo>
                  <a:lnTo>
                    <a:pt x="4" y="13"/>
                  </a:lnTo>
                  <a:lnTo>
                    <a:pt x="7" y="9"/>
                  </a:lnTo>
                  <a:lnTo>
                    <a:pt x="12" y="5"/>
                  </a:lnTo>
                  <a:lnTo>
                    <a:pt x="17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62" y="6"/>
                  </a:lnTo>
                  <a:lnTo>
                    <a:pt x="67" y="9"/>
                  </a:lnTo>
                  <a:lnTo>
                    <a:pt x="69" y="13"/>
                  </a:lnTo>
                  <a:lnTo>
                    <a:pt x="71" y="18"/>
                  </a:lnTo>
                  <a:lnTo>
                    <a:pt x="72" y="23"/>
                  </a:lnTo>
                  <a:lnTo>
                    <a:pt x="72" y="27"/>
                  </a:lnTo>
                  <a:lnTo>
                    <a:pt x="71" y="30"/>
                  </a:lnTo>
                  <a:lnTo>
                    <a:pt x="70" y="33"/>
                  </a:lnTo>
                  <a:lnTo>
                    <a:pt x="68" y="36"/>
                  </a:lnTo>
                  <a:lnTo>
                    <a:pt x="65" y="38"/>
                  </a:lnTo>
                  <a:lnTo>
                    <a:pt x="62" y="40"/>
                  </a:lnTo>
                  <a:lnTo>
                    <a:pt x="59" y="42"/>
                  </a:lnTo>
                  <a:lnTo>
                    <a:pt x="55" y="44"/>
                  </a:lnTo>
                  <a:lnTo>
                    <a:pt x="50" y="45"/>
                  </a:lnTo>
                  <a:lnTo>
                    <a:pt x="45" y="45"/>
                  </a:lnTo>
                  <a:lnTo>
                    <a:pt x="41" y="46"/>
                  </a:lnTo>
                  <a:lnTo>
                    <a:pt x="36" y="46"/>
                  </a:lnTo>
                  <a:lnTo>
                    <a:pt x="28" y="46"/>
                  </a:lnTo>
                  <a:lnTo>
                    <a:pt x="22" y="45"/>
                  </a:lnTo>
                  <a:lnTo>
                    <a:pt x="16" y="43"/>
                  </a:lnTo>
                  <a:lnTo>
                    <a:pt x="10" y="40"/>
                  </a:lnTo>
                  <a:lnTo>
                    <a:pt x="5" y="37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95080" y="2928960"/>
              <a:ext cx="21600" cy="154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0" y="45"/>
                  </a:moveTo>
                  <a:lnTo>
                    <a:pt x="0" y="2"/>
                  </a:lnTo>
                  <a:lnTo>
                    <a:pt x="13" y="2"/>
                  </a:lnTo>
                  <a:lnTo>
                    <a:pt x="13" y="8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8" y="5"/>
                  </a:lnTo>
                  <a:lnTo>
                    <a:pt x="59" y="7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62" y="11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2" y="45"/>
                  </a:lnTo>
                  <a:lnTo>
                    <a:pt x="49" y="45"/>
                  </a:lnTo>
                  <a:lnTo>
                    <a:pt x="49" y="19"/>
                  </a:lnTo>
                  <a:lnTo>
                    <a:pt x="49" y="16"/>
                  </a:lnTo>
                  <a:lnTo>
                    <a:pt x="49" y="15"/>
                  </a:lnTo>
                  <a:lnTo>
                    <a:pt x="48" y="13"/>
                  </a:lnTo>
                  <a:lnTo>
                    <a:pt x="48" y="12"/>
                  </a:lnTo>
                  <a:lnTo>
                    <a:pt x="47" y="11"/>
                  </a:lnTo>
                  <a:lnTo>
                    <a:pt x="45" y="10"/>
                  </a:lnTo>
                  <a:lnTo>
                    <a:pt x="44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29" y="7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8"/>
                  </a:lnTo>
                  <a:lnTo>
                    <a:pt x="14" y="22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52080" y="2963880"/>
              <a:ext cx="25200" cy="2196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12" y="38"/>
                  </a:moveTo>
                  <a:lnTo>
                    <a:pt x="12" y="42"/>
                  </a:lnTo>
                  <a:lnTo>
                    <a:pt x="13" y="45"/>
                  </a:lnTo>
                  <a:lnTo>
                    <a:pt x="14" y="47"/>
                  </a:lnTo>
                  <a:lnTo>
                    <a:pt x="16" y="49"/>
                  </a:lnTo>
                  <a:lnTo>
                    <a:pt x="20" y="52"/>
                  </a:lnTo>
                  <a:lnTo>
                    <a:pt x="23" y="53"/>
                  </a:lnTo>
                  <a:lnTo>
                    <a:pt x="27" y="55"/>
                  </a:lnTo>
                  <a:lnTo>
                    <a:pt x="33" y="55"/>
                  </a:lnTo>
                  <a:lnTo>
                    <a:pt x="38" y="55"/>
                  </a:lnTo>
                  <a:lnTo>
                    <a:pt x="41" y="54"/>
                  </a:lnTo>
                  <a:lnTo>
                    <a:pt x="45" y="53"/>
                  </a:lnTo>
                  <a:lnTo>
                    <a:pt x="48" y="51"/>
                  </a:lnTo>
                  <a:lnTo>
                    <a:pt x="50" y="48"/>
                  </a:lnTo>
                  <a:lnTo>
                    <a:pt x="53" y="46"/>
                  </a:lnTo>
                  <a:lnTo>
                    <a:pt x="54" y="42"/>
                  </a:lnTo>
                  <a:lnTo>
                    <a:pt x="55" y="38"/>
                  </a:lnTo>
                  <a:lnTo>
                    <a:pt x="54" y="35"/>
                  </a:lnTo>
                  <a:lnTo>
                    <a:pt x="53" y="31"/>
                  </a:lnTo>
                  <a:lnTo>
                    <a:pt x="51" y="28"/>
                  </a:lnTo>
                  <a:lnTo>
                    <a:pt x="49" y="26"/>
                  </a:lnTo>
                  <a:lnTo>
                    <a:pt x="45" y="24"/>
                  </a:lnTo>
                  <a:lnTo>
                    <a:pt x="42" y="23"/>
                  </a:lnTo>
                  <a:lnTo>
                    <a:pt x="38" y="22"/>
                  </a:lnTo>
                  <a:lnTo>
                    <a:pt x="34" y="22"/>
                  </a:lnTo>
                  <a:lnTo>
                    <a:pt x="29" y="22"/>
                  </a:lnTo>
                  <a:lnTo>
                    <a:pt x="25" y="23"/>
                  </a:lnTo>
                  <a:lnTo>
                    <a:pt x="21" y="24"/>
                  </a:lnTo>
                  <a:lnTo>
                    <a:pt x="19" y="26"/>
                  </a:lnTo>
                  <a:lnTo>
                    <a:pt x="16" y="28"/>
                  </a:lnTo>
                  <a:lnTo>
                    <a:pt x="14" y="31"/>
                  </a:lnTo>
                  <a:lnTo>
                    <a:pt x="12" y="34"/>
                  </a:lnTo>
                  <a:lnTo>
                    <a:pt x="12" y="38"/>
                  </a:lnTo>
                  <a:close/>
                  <a:moveTo>
                    <a:pt x="13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1"/>
                  </a:lnTo>
                  <a:lnTo>
                    <a:pt x="18" y="19"/>
                  </a:lnTo>
                  <a:lnTo>
                    <a:pt x="23" y="17"/>
                  </a:lnTo>
                  <a:lnTo>
                    <a:pt x="29" y="16"/>
                  </a:lnTo>
                  <a:lnTo>
                    <a:pt x="35" y="15"/>
                  </a:lnTo>
                  <a:lnTo>
                    <a:pt x="38" y="15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9" y="17"/>
                  </a:lnTo>
                  <a:lnTo>
                    <a:pt x="52" y="18"/>
                  </a:lnTo>
                  <a:lnTo>
                    <a:pt x="54" y="19"/>
                  </a:lnTo>
                  <a:lnTo>
                    <a:pt x="57" y="20"/>
                  </a:lnTo>
                  <a:lnTo>
                    <a:pt x="59" y="22"/>
                  </a:lnTo>
                  <a:lnTo>
                    <a:pt x="61" y="23"/>
                  </a:lnTo>
                  <a:lnTo>
                    <a:pt x="63" y="25"/>
                  </a:lnTo>
                  <a:lnTo>
                    <a:pt x="64" y="27"/>
                  </a:lnTo>
                  <a:lnTo>
                    <a:pt x="66" y="29"/>
                  </a:lnTo>
                  <a:lnTo>
                    <a:pt x="66" y="31"/>
                  </a:lnTo>
                  <a:lnTo>
                    <a:pt x="67" y="33"/>
                  </a:lnTo>
                  <a:lnTo>
                    <a:pt x="67" y="35"/>
                  </a:lnTo>
                  <a:lnTo>
                    <a:pt x="68" y="38"/>
                  </a:lnTo>
                  <a:lnTo>
                    <a:pt x="67" y="43"/>
                  </a:lnTo>
                  <a:lnTo>
                    <a:pt x="65" y="47"/>
                  </a:lnTo>
                  <a:lnTo>
                    <a:pt x="62" y="51"/>
                  </a:lnTo>
                  <a:lnTo>
                    <a:pt x="58" y="55"/>
                  </a:lnTo>
                  <a:lnTo>
                    <a:pt x="53" y="58"/>
                  </a:lnTo>
                  <a:lnTo>
                    <a:pt x="47" y="60"/>
                  </a:lnTo>
                  <a:lnTo>
                    <a:pt x="41" y="61"/>
                  </a:lnTo>
                  <a:lnTo>
                    <a:pt x="34" y="61"/>
                  </a:lnTo>
                  <a:lnTo>
                    <a:pt x="27" y="61"/>
                  </a:lnTo>
                  <a:lnTo>
                    <a:pt x="21" y="59"/>
                  </a:lnTo>
                  <a:lnTo>
                    <a:pt x="17" y="57"/>
                  </a:lnTo>
                  <a:lnTo>
                    <a:pt x="13" y="55"/>
                  </a:lnTo>
                  <a:lnTo>
                    <a:pt x="13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82320" y="2970360"/>
              <a:ext cx="15480" cy="154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0" y="45"/>
                  </a:moveTo>
                  <a:lnTo>
                    <a:pt x="0" y="2"/>
                  </a:lnTo>
                  <a:lnTo>
                    <a:pt x="11" y="2"/>
                  </a:lnTo>
                  <a:lnTo>
                    <a:pt x="11" y="8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2"/>
                  </a:lnTo>
                  <a:lnTo>
                    <a:pt x="41" y="3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3" y="22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99600" y="296388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0" y="60"/>
                  </a:moveTo>
                  <a:lnTo>
                    <a:pt x="0" y="17"/>
                  </a:lnTo>
                  <a:lnTo>
                    <a:pt x="14" y="17"/>
                  </a:lnTo>
                  <a:lnTo>
                    <a:pt x="14" y="60"/>
                  </a:lnTo>
                  <a:lnTo>
                    <a:pt x="0" y="6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09320" y="2965680"/>
              <a:ext cx="13680" cy="21960"/>
            </a:xfrm>
            <a:custGeom>
              <a:avLst/>
              <a:gdLst/>
              <a:ahLst/>
              <a:rect l="l" t="t" r="r" b="b"/>
              <a:pathLst>
                <a:path w="39" h="61">
                  <a:moveTo>
                    <a:pt x="37" y="53"/>
                  </a:moveTo>
                  <a:lnTo>
                    <a:pt x="38" y="60"/>
                  </a:lnTo>
                  <a:lnTo>
                    <a:pt x="35" y="60"/>
                  </a:lnTo>
                  <a:lnTo>
                    <a:pt x="33" y="60"/>
                  </a:lnTo>
                  <a:lnTo>
                    <a:pt x="30" y="60"/>
                  </a:lnTo>
                  <a:lnTo>
                    <a:pt x="29" y="60"/>
                  </a:lnTo>
                  <a:lnTo>
                    <a:pt x="24" y="60"/>
                  </a:lnTo>
                  <a:lnTo>
                    <a:pt x="22" y="60"/>
                  </a:lnTo>
                  <a:lnTo>
                    <a:pt x="19" y="59"/>
                  </a:lnTo>
                  <a:lnTo>
                    <a:pt x="18" y="59"/>
                  </a:lnTo>
                  <a:lnTo>
                    <a:pt x="15" y="58"/>
                  </a:lnTo>
                  <a:lnTo>
                    <a:pt x="13" y="57"/>
                  </a:lnTo>
                  <a:lnTo>
                    <a:pt x="13" y="56"/>
                  </a:lnTo>
                  <a:lnTo>
                    <a:pt x="12" y="56"/>
                  </a:lnTo>
                  <a:lnTo>
                    <a:pt x="11" y="54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0" y="47"/>
                  </a:lnTo>
                  <a:lnTo>
                    <a:pt x="10" y="21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10" y="5"/>
                  </a:lnTo>
                  <a:lnTo>
                    <a:pt x="24" y="0"/>
                  </a:lnTo>
                  <a:lnTo>
                    <a:pt x="24" y="16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24" y="21"/>
                  </a:lnTo>
                  <a:lnTo>
                    <a:pt x="24" y="47"/>
                  </a:lnTo>
                  <a:lnTo>
                    <a:pt x="24" y="48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7" y="52"/>
                  </a:lnTo>
                  <a:lnTo>
                    <a:pt x="28" y="53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5" y="53"/>
                  </a:lnTo>
                  <a:lnTo>
                    <a:pt x="37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25160" y="2970360"/>
              <a:ext cx="24840" cy="1728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54" y="23"/>
                  </a:moveTo>
                  <a:lnTo>
                    <a:pt x="49" y="24"/>
                  </a:lnTo>
                  <a:lnTo>
                    <a:pt x="44" y="25"/>
                  </a:lnTo>
                  <a:lnTo>
                    <a:pt x="38" y="25"/>
                  </a:lnTo>
                  <a:lnTo>
                    <a:pt x="32" y="26"/>
                  </a:lnTo>
                  <a:lnTo>
                    <a:pt x="28" y="26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5" y="30"/>
                  </a:lnTo>
                  <a:lnTo>
                    <a:pt x="14" y="31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4" y="36"/>
                  </a:lnTo>
                  <a:lnTo>
                    <a:pt x="15" y="37"/>
                  </a:lnTo>
                  <a:lnTo>
                    <a:pt x="17" y="38"/>
                  </a:lnTo>
                  <a:lnTo>
                    <a:pt x="19" y="39"/>
                  </a:lnTo>
                  <a:lnTo>
                    <a:pt x="22" y="40"/>
                  </a:lnTo>
                  <a:lnTo>
                    <a:pt x="25" y="40"/>
                  </a:lnTo>
                  <a:lnTo>
                    <a:pt x="28" y="40"/>
                  </a:lnTo>
                  <a:lnTo>
                    <a:pt x="32" y="40"/>
                  </a:lnTo>
                  <a:lnTo>
                    <a:pt x="36" y="40"/>
                  </a:lnTo>
                  <a:lnTo>
                    <a:pt x="39" y="39"/>
                  </a:lnTo>
                  <a:lnTo>
                    <a:pt x="43" y="38"/>
                  </a:lnTo>
                  <a:lnTo>
                    <a:pt x="45" y="38"/>
                  </a:lnTo>
                  <a:lnTo>
                    <a:pt x="48" y="36"/>
                  </a:lnTo>
                  <a:lnTo>
                    <a:pt x="50" y="35"/>
                  </a:lnTo>
                  <a:lnTo>
                    <a:pt x="51" y="34"/>
                  </a:lnTo>
                  <a:lnTo>
                    <a:pt x="52" y="32"/>
                  </a:lnTo>
                  <a:lnTo>
                    <a:pt x="53" y="30"/>
                  </a:lnTo>
                  <a:lnTo>
                    <a:pt x="53" y="28"/>
                  </a:lnTo>
                  <a:lnTo>
                    <a:pt x="54" y="26"/>
                  </a:lnTo>
                  <a:lnTo>
                    <a:pt x="54" y="23"/>
                  </a:lnTo>
                  <a:close/>
                  <a:moveTo>
                    <a:pt x="54" y="40"/>
                  </a:moveTo>
                  <a:lnTo>
                    <a:pt x="50" y="41"/>
                  </a:lnTo>
                  <a:lnTo>
                    <a:pt x="47" y="43"/>
                  </a:lnTo>
                  <a:lnTo>
                    <a:pt x="44" y="44"/>
                  </a:lnTo>
                  <a:lnTo>
                    <a:pt x="41" y="45"/>
                  </a:lnTo>
                  <a:lnTo>
                    <a:pt x="37" y="45"/>
                  </a:lnTo>
                  <a:lnTo>
                    <a:pt x="33" y="45"/>
                  </a:lnTo>
                  <a:lnTo>
                    <a:pt x="29" y="46"/>
                  </a:lnTo>
                  <a:lnTo>
                    <a:pt x="26" y="46"/>
                  </a:lnTo>
                  <a:lnTo>
                    <a:pt x="19" y="46"/>
                  </a:lnTo>
                  <a:lnTo>
                    <a:pt x="14" y="45"/>
                  </a:lnTo>
                  <a:lnTo>
                    <a:pt x="10" y="44"/>
                  </a:lnTo>
                  <a:lnTo>
                    <a:pt x="6" y="43"/>
                  </a:lnTo>
                  <a:lnTo>
                    <a:pt x="3" y="41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2" y="28"/>
                  </a:lnTo>
                  <a:lnTo>
                    <a:pt x="3" y="27"/>
                  </a:lnTo>
                  <a:lnTo>
                    <a:pt x="5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3" y="22"/>
                  </a:lnTo>
                  <a:lnTo>
                    <a:pt x="16" y="22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7" y="20"/>
                  </a:lnTo>
                  <a:lnTo>
                    <a:pt x="44" y="19"/>
                  </a:lnTo>
                  <a:lnTo>
                    <a:pt x="49" y="18"/>
                  </a:lnTo>
                  <a:lnTo>
                    <a:pt x="54" y="18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3" y="13"/>
                  </a:lnTo>
                  <a:lnTo>
                    <a:pt x="52" y="12"/>
                  </a:lnTo>
                  <a:lnTo>
                    <a:pt x="51" y="10"/>
                  </a:lnTo>
                  <a:lnTo>
                    <a:pt x="50" y="9"/>
                  </a:lnTo>
                  <a:lnTo>
                    <a:pt x="46" y="8"/>
                  </a:lnTo>
                  <a:lnTo>
                    <a:pt x="43" y="7"/>
                  </a:lnTo>
                  <a:lnTo>
                    <a:pt x="39" y="7"/>
                  </a:lnTo>
                  <a:lnTo>
                    <a:pt x="34" y="7"/>
                  </a:lnTo>
                  <a:lnTo>
                    <a:pt x="30" y="7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1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7" y="3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3" y="6"/>
                  </a:lnTo>
                  <a:lnTo>
                    <a:pt x="64" y="7"/>
                  </a:lnTo>
                  <a:lnTo>
                    <a:pt x="64" y="9"/>
                  </a:lnTo>
                  <a:lnTo>
                    <a:pt x="66" y="10"/>
                  </a:lnTo>
                  <a:lnTo>
                    <a:pt x="66" y="11"/>
                  </a:lnTo>
                  <a:lnTo>
                    <a:pt x="66" y="13"/>
                  </a:lnTo>
                  <a:lnTo>
                    <a:pt x="66" y="14"/>
                  </a:lnTo>
                  <a:lnTo>
                    <a:pt x="66" y="17"/>
                  </a:lnTo>
                  <a:lnTo>
                    <a:pt x="66" y="27"/>
                  </a:lnTo>
                  <a:lnTo>
                    <a:pt x="66" y="32"/>
                  </a:lnTo>
                  <a:lnTo>
                    <a:pt x="66" y="35"/>
                  </a:lnTo>
                  <a:lnTo>
                    <a:pt x="66" y="38"/>
                  </a:lnTo>
                  <a:lnTo>
                    <a:pt x="67" y="40"/>
                  </a:lnTo>
                  <a:lnTo>
                    <a:pt x="67" y="41"/>
                  </a:lnTo>
                  <a:lnTo>
                    <a:pt x="68" y="42"/>
                  </a:lnTo>
                  <a:lnTo>
                    <a:pt x="69" y="44"/>
                  </a:lnTo>
                  <a:lnTo>
                    <a:pt x="70" y="45"/>
                  </a:lnTo>
                  <a:lnTo>
                    <a:pt x="57" y="45"/>
                  </a:lnTo>
                  <a:lnTo>
                    <a:pt x="55" y="44"/>
                  </a:lnTo>
                  <a:lnTo>
                    <a:pt x="55" y="43"/>
                  </a:lnTo>
                  <a:lnTo>
                    <a:pt x="54" y="41"/>
                  </a:lnTo>
                  <a:lnTo>
                    <a:pt x="54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56840" y="2970360"/>
              <a:ext cx="21960" cy="154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0" y="45"/>
                  </a:moveTo>
                  <a:lnTo>
                    <a:pt x="0" y="2"/>
                  </a:lnTo>
                  <a:lnTo>
                    <a:pt x="13" y="2"/>
                  </a:lnTo>
                  <a:lnTo>
                    <a:pt x="13" y="8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8" y="5"/>
                  </a:lnTo>
                  <a:lnTo>
                    <a:pt x="58" y="7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61" y="11"/>
                  </a:lnTo>
                  <a:lnTo>
                    <a:pt x="61" y="12"/>
                  </a:lnTo>
                  <a:lnTo>
                    <a:pt x="61" y="14"/>
                  </a:lnTo>
                  <a:lnTo>
                    <a:pt x="61" y="16"/>
                  </a:lnTo>
                  <a:lnTo>
                    <a:pt x="62" y="18"/>
                  </a:lnTo>
                  <a:lnTo>
                    <a:pt x="62" y="45"/>
                  </a:lnTo>
                  <a:lnTo>
                    <a:pt x="49" y="45"/>
                  </a:lnTo>
                  <a:lnTo>
                    <a:pt x="49" y="19"/>
                  </a:lnTo>
                  <a:lnTo>
                    <a:pt x="48" y="16"/>
                  </a:lnTo>
                  <a:lnTo>
                    <a:pt x="48" y="15"/>
                  </a:lnTo>
                  <a:lnTo>
                    <a:pt x="47" y="13"/>
                  </a:lnTo>
                  <a:lnTo>
                    <a:pt x="47" y="12"/>
                  </a:lnTo>
                  <a:lnTo>
                    <a:pt x="47" y="11"/>
                  </a:lnTo>
                  <a:lnTo>
                    <a:pt x="45" y="10"/>
                  </a:lnTo>
                  <a:lnTo>
                    <a:pt x="43" y="9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3" y="18"/>
                  </a:lnTo>
                  <a:lnTo>
                    <a:pt x="13" y="22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87080" y="2970360"/>
              <a:ext cx="21960" cy="1548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0" y="45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8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3" y="4"/>
                  </a:lnTo>
                  <a:lnTo>
                    <a:pt x="55" y="4"/>
                  </a:lnTo>
                  <a:lnTo>
                    <a:pt x="57" y="5"/>
                  </a:lnTo>
                  <a:lnTo>
                    <a:pt x="58" y="7"/>
                  </a:lnTo>
                  <a:lnTo>
                    <a:pt x="59" y="8"/>
                  </a:lnTo>
                  <a:lnTo>
                    <a:pt x="59" y="10"/>
                  </a:lnTo>
                  <a:lnTo>
                    <a:pt x="61" y="11"/>
                  </a:lnTo>
                  <a:lnTo>
                    <a:pt x="61" y="12"/>
                  </a:lnTo>
                  <a:lnTo>
                    <a:pt x="61" y="14"/>
                  </a:lnTo>
                  <a:lnTo>
                    <a:pt x="61" y="16"/>
                  </a:lnTo>
                  <a:lnTo>
                    <a:pt x="61" y="18"/>
                  </a:lnTo>
                  <a:lnTo>
                    <a:pt x="61" y="45"/>
                  </a:lnTo>
                  <a:lnTo>
                    <a:pt x="48" y="45"/>
                  </a:lnTo>
                  <a:lnTo>
                    <a:pt x="48" y="19"/>
                  </a:lnTo>
                  <a:lnTo>
                    <a:pt x="47" y="16"/>
                  </a:lnTo>
                  <a:lnTo>
                    <a:pt x="47" y="15"/>
                  </a:lnTo>
                  <a:lnTo>
                    <a:pt x="47" y="13"/>
                  </a:lnTo>
                  <a:lnTo>
                    <a:pt x="47" y="12"/>
                  </a:lnTo>
                  <a:lnTo>
                    <a:pt x="46" y="11"/>
                  </a:lnTo>
                  <a:lnTo>
                    <a:pt x="45" y="10"/>
                  </a:lnTo>
                  <a:lnTo>
                    <a:pt x="43" y="9"/>
                  </a:lnTo>
                  <a:lnTo>
                    <a:pt x="41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3" y="18"/>
                  </a:lnTo>
                  <a:lnTo>
                    <a:pt x="13" y="22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15520" y="296388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0" y="60"/>
                  </a:moveTo>
                  <a:lnTo>
                    <a:pt x="0" y="17"/>
                  </a:lnTo>
                  <a:lnTo>
                    <a:pt x="14" y="17"/>
                  </a:lnTo>
                  <a:lnTo>
                    <a:pt x="14" y="60"/>
                  </a:lnTo>
                  <a:lnTo>
                    <a:pt x="0" y="6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26680" y="2970360"/>
              <a:ext cx="23400" cy="21960"/>
            </a:xfrm>
            <a:custGeom>
              <a:avLst/>
              <a:gdLst/>
              <a:ahLst/>
              <a:rect l="l" t="t" r="r" b="b"/>
              <a:pathLst>
                <a:path w="68" h="63">
                  <a:moveTo>
                    <a:pt x="13" y="23"/>
                  </a:moveTo>
                  <a:lnTo>
                    <a:pt x="13" y="27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20" y="36"/>
                  </a:lnTo>
                  <a:lnTo>
                    <a:pt x="22" y="38"/>
                  </a:lnTo>
                  <a:lnTo>
                    <a:pt x="26" y="39"/>
                  </a:lnTo>
                  <a:lnTo>
                    <a:pt x="31" y="40"/>
                  </a:lnTo>
                  <a:lnTo>
                    <a:pt x="35" y="40"/>
                  </a:lnTo>
                  <a:lnTo>
                    <a:pt x="38" y="40"/>
                  </a:lnTo>
                  <a:lnTo>
                    <a:pt x="42" y="39"/>
                  </a:lnTo>
                  <a:lnTo>
                    <a:pt x="46" y="38"/>
                  </a:lnTo>
                  <a:lnTo>
                    <a:pt x="49" y="36"/>
                  </a:lnTo>
                  <a:lnTo>
                    <a:pt x="52" y="34"/>
                  </a:lnTo>
                  <a:lnTo>
                    <a:pt x="53" y="31"/>
                  </a:lnTo>
                  <a:lnTo>
                    <a:pt x="54" y="28"/>
                  </a:lnTo>
                  <a:lnTo>
                    <a:pt x="55" y="24"/>
                  </a:lnTo>
                  <a:lnTo>
                    <a:pt x="54" y="20"/>
                  </a:lnTo>
                  <a:lnTo>
                    <a:pt x="53" y="16"/>
                  </a:lnTo>
                  <a:lnTo>
                    <a:pt x="51" y="13"/>
                  </a:lnTo>
                  <a:lnTo>
                    <a:pt x="49" y="11"/>
                  </a:lnTo>
                  <a:lnTo>
                    <a:pt x="45" y="9"/>
                  </a:lnTo>
                  <a:lnTo>
                    <a:pt x="41" y="7"/>
                  </a:lnTo>
                  <a:lnTo>
                    <a:pt x="38" y="6"/>
                  </a:lnTo>
                  <a:lnTo>
                    <a:pt x="34" y="6"/>
                  </a:lnTo>
                  <a:lnTo>
                    <a:pt x="29" y="6"/>
                  </a:lnTo>
                  <a:lnTo>
                    <a:pt x="25" y="7"/>
                  </a:lnTo>
                  <a:lnTo>
                    <a:pt x="22" y="8"/>
                  </a:lnTo>
                  <a:lnTo>
                    <a:pt x="20" y="10"/>
                  </a:lnTo>
                  <a:lnTo>
                    <a:pt x="16" y="13"/>
                  </a:lnTo>
                  <a:lnTo>
                    <a:pt x="14" y="16"/>
                  </a:lnTo>
                  <a:lnTo>
                    <a:pt x="13" y="19"/>
                  </a:lnTo>
                  <a:lnTo>
                    <a:pt x="13" y="23"/>
                  </a:lnTo>
                  <a:close/>
                  <a:moveTo>
                    <a:pt x="54" y="62"/>
                  </a:moveTo>
                  <a:lnTo>
                    <a:pt x="54" y="40"/>
                  </a:lnTo>
                  <a:lnTo>
                    <a:pt x="52" y="42"/>
                  </a:lnTo>
                  <a:lnTo>
                    <a:pt x="50" y="43"/>
                  </a:lnTo>
                  <a:lnTo>
                    <a:pt x="48" y="44"/>
                  </a:lnTo>
                  <a:lnTo>
                    <a:pt x="46" y="45"/>
                  </a:lnTo>
                  <a:lnTo>
                    <a:pt x="42" y="45"/>
                  </a:lnTo>
                  <a:lnTo>
                    <a:pt x="40" y="45"/>
                  </a:lnTo>
                  <a:lnTo>
                    <a:pt x="36" y="46"/>
                  </a:lnTo>
                  <a:lnTo>
                    <a:pt x="34" y="46"/>
                  </a:lnTo>
                  <a:lnTo>
                    <a:pt x="27" y="46"/>
                  </a:lnTo>
                  <a:lnTo>
                    <a:pt x="20" y="45"/>
                  </a:lnTo>
                  <a:lnTo>
                    <a:pt x="14" y="43"/>
                  </a:lnTo>
                  <a:lnTo>
                    <a:pt x="10" y="40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6" y="3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50" y="4"/>
                  </a:lnTo>
                  <a:lnTo>
                    <a:pt x="55" y="7"/>
                  </a:lnTo>
                  <a:lnTo>
                    <a:pt x="55" y="2"/>
                  </a:lnTo>
                  <a:lnTo>
                    <a:pt x="67" y="2"/>
                  </a:lnTo>
                  <a:lnTo>
                    <a:pt x="67" y="62"/>
                  </a:lnTo>
                  <a:lnTo>
                    <a:pt x="54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56920" y="2970360"/>
              <a:ext cx="21960" cy="15480"/>
            </a:xfrm>
            <a:custGeom>
              <a:avLst/>
              <a:gdLst/>
              <a:ahLst/>
              <a:rect l="l" t="t" r="r" b="b"/>
              <a:pathLst>
                <a:path w="63" h="45">
                  <a:moveTo>
                    <a:pt x="50" y="43"/>
                  </a:moveTo>
                  <a:lnTo>
                    <a:pt x="50" y="37"/>
                  </a:lnTo>
                  <a:lnTo>
                    <a:pt x="45" y="40"/>
                  </a:lnTo>
                  <a:lnTo>
                    <a:pt x="39" y="42"/>
                  </a:lnTo>
                  <a:lnTo>
                    <a:pt x="33" y="44"/>
                  </a:lnTo>
                  <a:lnTo>
                    <a:pt x="27" y="44"/>
                  </a:lnTo>
                  <a:lnTo>
                    <a:pt x="23" y="44"/>
                  </a:lnTo>
                  <a:lnTo>
                    <a:pt x="19" y="43"/>
                  </a:lnTo>
                  <a:lnTo>
                    <a:pt x="16" y="43"/>
                  </a:lnTo>
                  <a:lnTo>
                    <a:pt x="14" y="43"/>
                  </a:lnTo>
                  <a:lnTo>
                    <a:pt x="10" y="42"/>
                  </a:lnTo>
                  <a:lnTo>
                    <a:pt x="9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5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21" y="37"/>
                  </a:lnTo>
                  <a:lnTo>
                    <a:pt x="23" y="37"/>
                  </a:lnTo>
                  <a:lnTo>
                    <a:pt x="27" y="38"/>
                  </a:lnTo>
                  <a:lnTo>
                    <a:pt x="29" y="38"/>
                  </a:lnTo>
                  <a:lnTo>
                    <a:pt x="32" y="38"/>
                  </a:lnTo>
                  <a:lnTo>
                    <a:pt x="34" y="37"/>
                  </a:lnTo>
                  <a:lnTo>
                    <a:pt x="37" y="37"/>
                  </a:lnTo>
                  <a:lnTo>
                    <a:pt x="40" y="36"/>
                  </a:lnTo>
                  <a:lnTo>
                    <a:pt x="42" y="35"/>
                  </a:lnTo>
                  <a:lnTo>
                    <a:pt x="43" y="34"/>
                  </a:lnTo>
                  <a:lnTo>
                    <a:pt x="45" y="33"/>
                  </a:lnTo>
                  <a:lnTo>
                    <a:pt x="47" y="32"/>
                  </a:lnTo>
                  <a:lnTo>
                    <a:pt x="48" y="30"/>
                  </a:lnTo>
                  <a:lnTo>
                    <a:pt x="48" y="28"/>
                  </a:lnTo>
                  <a:lnTo>
                    <a:pt x="48" y="25"/>
                  </a:lnTo>
                  <a:lnTo>
                    <a:pt x="48" y="23"/>
                  </a:lnTo>
                  <a:lnTo>
                    <a:pt x="48" y="0"/>
                  </a:lnTo>
                  <a:lnTo>
                    <a:pt x="62" y="0"/>
                  </a:lnTo>
                  <a:lnTo>
                    <a:pt x="62" y="43"/>
                  </a:lnTo>
                  <a:lnTo>
                    <a:pt x="5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85360" y="2970360"/>
              <a:ext cx="26640" cy="1728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14" y="19"/>
                  </a:moveTo>
                  <a:lnTo>
                    <a:pt x="59" y="19"/>
                  </a:lnTo>
                  <a:lnTo>
                    <a:pt x="58" y="16"/>
                  </a:lnTo>
                  <a:lnTo>
                    <a:pt x="57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0" y="9"/>
                  </a:lnTo>
                  <a:lnTo>
                    <a:pt x="46" y="8"/>
                  </a:lnTo>
                  <a:lnTo>
                    <a:pt x="41" y="7"/>
                  </a:lnTo>
                  <a:lnTo>
                    <a:pt x="37" y="7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4" y="19"/>
                  </a:lnTo>
                  <a:close/>
                  <a:moveTo>
                    <a:pt x="59" y="31"/>
                  </a:moveTo>
                  <a:lnTo>
                    <a:pt x="71" y="32"/>
                  </a:lnTo>
                  <a:lnTo>
                    <a:pt x="70" y="35"/>
                  </a:lnTo>
                  <a:lnTo>
                    <a:pt x="67" y="38"/>
                  </a:lnTo>
                  <a:lnTo>
                    <a:pt x="63" y="40"/>
                  </a:lnTo>
                  <a:lnTo>
                    <a:pt x="60" y="42"/>
                  </a:lnTo>
                  <a:lnTo>
                    <a:pt x="54" y="44"/>
                  </a:lnTo>
                  <a:lnTo>
                    <a:pt x="49" y="45"/>
                  </a:lnTo>
                  <a:lnTo>
                    <a:pt x="43" y="46"/>
                  </a:lnTo>
                  <a:lnTo>
                    <a:pt x="38" y="46"/>
                  </a:lnTo>
                  <a:lnTo>
                    <a:pt x="29" y="46"/>
                  </a:lnTo>
                  <a:lnTo>
                    <a:pt x="22" y="45"/>
                  </a:lnTo>
                  <a:lnTo>
                    <a:pt x="16" y="43"/>
                  </a:lnTo>
                  <a:lnTo>
                    <a:pt x="11" y="40"/>
                  </a:lnTo>
                  <a:lnTo>
                    <a:pt x="6" y="37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11" y="6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1" y="2"/>
                  </a:lnTo>
                  <a:lnTo>
                    <a:pt x="57" y="4"/>
                  </a:lnTo>
                  <a:lnTo>
                    <a:pt x="62" y="6"/>
                  </a:lnTo>
                  <a:lnTo>
                    <a:pt x="66" y="10"/>
                  </a:lnTo>
                  <a:lnTo>
                    <a:pt x="69" y="14"/>
                  </a:lnTo>
                  <a:lnTo>
                    <a:pt x="71" y="18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5"/>
                  </a:lnTo>
                  <a:lnTo>
                    <a:pt x="14" y="25"/>
                  </a:lnTo>
                  <a:lnTo>
                    <a:pt x="14" y="29"/>
                  </a:lnTo>
                  <a:lnTo>
                    <a:pt x="16" y="32"/>
                  </a:lnTo>
                  <a:lnTo>
                    <a:pt x="18" y="34"/>
                  </a:lnTo>
                  <a:lnTo>
                    <a:pt x="21" y="36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2" y="40"/>
                  </a:lnTo>
                  <a:lnTo>
                    <a:pt x="38" y="40"/>
                  </a:lnTo>
                  <a:lnTo>
                    <a:pt x="41" y="40"/>
                  </a:lnTo>
                  <a:lnTo>
                    <a:pt x="44" y="40"/>
                  </a:lnTo>
                  <a:lnTo>
                    <a:pt x="47" y="39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4" y="35"/>
                  </a:lnTo>
                  <a:lnTo>
                    <a:pt x="56" y="33"/>
                  </a:lnTo>
                  <a:lnTo>
                    <a:pt x="5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53520" y="3021120"/>
              <a:ext cx="28440" cy="2196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0" y="61"/>
                  </a:moveTo>
                  <a:lnTo>
                    <a:pt x="0" y="0"/>
                  </a:lnTo>
                  <a:lnTo>
                    <a:pt x="77" y="0"/>
                  </a:lnTo>
                  <a:lnTo>
                    <a:pt x="77" y="7"/>
                  </a:lnTo>
                  <a:lnTo>
                    <a:pt x="16" y="7"/>
                  </a:lnTo>
                  <a:lnTo>
                    <a:pt x="16" y="26"/>
                  </a:lnTo>
                  <a:lnTo>
                    <a:pt x="70" y="26"/>
                  </a:lnTo>
                  <a:lnTo>
                    <a:pt x="70" y="33"/>
                  </a:lnTo>
                  <a:lnTo>
                    <a:pt x="16" y="33"/>
                  </a:lnTo>
                  <a:lnTo>
                    <a:pt x="16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88440" y="3025800"/>
              <a:ext cx="15480" cy="1548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0" y="45"/>
                  </a:moveTo>
                  <a:lnTo>
                    <a:pt x="0" y="1"/>
                  </a:lnTo>
                  <a:lnTo>
                    <a:pt x="12" y="1"/>
                  </a:lnTo>
                  <a:lnTo>
                    <a:pt x="12" y="7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39" y="9"/>
                  </a:lnTo>
                  <a:lnTo>
                    <a:pt x="37" y="8"/>
                  </a:lnTo>
                  <a:lnTo>
                    <a:pt x="34" y="8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2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6080" y="3025800"/>
              <a:ext cx="26640" cy="1728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59" y="23"/>
                  </a:moveTo>
                  <a:lnTo>
                    <a:pt x="54" y="23"/>
                  </a:lnTo>
                  <a:lnTo>
                    <a:pt x="48" y="24"/>
                  </a:lnTo>
                  <a:lnTo>
                    <a:pt x="42" y="25"/>
                  </a:lnTo>
                  <a:lnTo>
                    <a:pt x="35" y="25"/>
                  </a:lnTo>
                  <a:lnTo>
                    <a:pt x="30" y="25"/>
                  </a:lnTo>
                  <a:lnTo>
                    <a:pt x="27" y="26"/>
                  </a:lnTo>
                  <a:lnTo>
                    <a:pt x="25" y="26"/>
                  </a:lnTo>
                  <a:lnTo>
                    <a:pt x="23" y="27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6" y="30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6" y="35"/>
                  </a:lnTo>
                  <a:lnTo>
                    <a:pt x="17" y="37"/>
                  </a:lnTo>
                  <a:lnTo>
                    <a:pt x="19" y="38"/>
                  </a:lnTo>
                  <a:lnTo>
                    <a:pt x="21" y="38"/>
                  </a:lnTo>
                  <a:lnTo>
                    <a:pt x="25" y="39"/>
                  </a:lnTo>
                  <a:lnTo>
                    <a:pt x="27" y="39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9"/>
                  </a:lnTo>
                  <a:lnTo>
                    <a:pt x="43" y="38"/>
                  </a:lnTo>
                  <a:lnTo>
                    <a:pt x="47" y="38"/>
                  </a:lnTo>
                  <a:lnTo>
                    <a:pt x="49" y="37"/>
                  </a:lnTo>
                  <a:lnTo>
                    <a:pt x="52" y="36"/>
                  </a:lnTo>
                  <a:lnTo>
                    <a:pt x="54" y="34"/>
                  </a:lnTo>
                  <a:lnTo>
                    <a:pt x="56" y="33"/>
                  </a:lnTo>
                  <a:lnTo>
                    <a:pt x="57" y="31"/>
                  </a:lnTo>
                  <a:lnTo>
                    <a:pt x="58" y="29"/>
                  </a:lnTo>
                  <a:lnTo>
                    <a:pt x="58" y="27"/>
                  </a:lnTo>
                  <a:lnTo>
                    <a:pt x="59" y="25"/>
                  </a:lnTo>
                  <a:lnTo>
                    <a:pt x="59" y="23"/>
                  </a:lnTo>
                  <a:close/>
                  <a:moveTo>
                    <a:pt x="59" y="39"/>
                  </a:moveTo>
                  <a:lnTo>
                    <a:pt x="56" y="40"/>
                  </a:lnTo>
                  <a:lnTo>
                    <a:pt x="52" y="42"/>
                  </a:lnTo>
                  <a:lnTo>
                    <a:pt x="48" y="43"/>
                  </a:lnTo>
                  <a:lnTo>
                    <a:pt x="45" y="44"/>
                  </a:lnTo>
                  <a:lnTo>
                    <a:pt x="41" y="44"/>
                  </a:lnTo>
                  <a:lnTo>
                    <a:pt x="37" y="45"/>
                  </a:lnTo>
                  <a:lnTo>
                    <a:pt x="32" y="45"/>
                  </a:lnTo>
                  <a:lnTo>
                    <a:pt x="28" y="46"/>
                  </a:lnTo>
                  <a:lnTo>
                    <a:pt x="22" y="45"/>
                  </a:lnTo>
                  <a:lnTo>
                    <a:pt x="16" y="44"/>
                  </a:lnTo>
                  <a:lnTo>
                    <a:pt x="11" y="43"/>
                  </a:lnTo>
                  <a:lnTo>
                    <a:pt x="8" y="42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2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1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19"/>
                  </a:lnTo>
                  <a:lnTo>
                    <a:pt x="33" y="19"/>
                  </a:lnTo>
                  <a:lnTo>
                    <a:pt x="41" y="19"/>
                  </a:lnTo>
                  <a:lnTo>
                    <a:pt x="48" y="18"/>
                  </a:lnTo>
                  <a:lnTo>
                    <a:pt x="54" y="17"/>
                  </a:lnTo>
                  <a:lnTo>
                    <a:pt x="59" y="17"/>
                  </a:lnTo>
                  <a:lnTo>
                    <a:pt x="59" y="16"/>
                  </a:lnTo>
                  <a:lnTo>
                    <a:pt x="59" y="15"/>
                  </a:lnTo>
                  <a:lnTo>
                    <a:pt x="59" y="15"/>
                  </a:lnTo>
                  <a:lnTo>
                    <a:pt x="59" y="15"/>
                  </a:lnTo>
                  <a:lnTo>
                    <a:pt x="58" y="13"/>
                  </a:lnTo>
                  <a:lnTo>
                    <a:pt x="57" y="11"/>
                  </a:lnTo>
                  <a:lnTo>
                    <a:pt x="56" y="9"/>
                  </a:lnTo>
                  <a:lnTo>
                    <a:pt x="55" y="9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3" y="6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7" y="7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6" y="7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7" y="1"/>
                  </a:lnTo>
                  <a:lnTo>
                    <a:pt x="60" y="2"/>
                  </a:lnTo>
                  <a:lnTo>
                    <a:pt x="63" y="2"/>
                  </a:lnTo>
                  <a:lnTo>
                    <a:pt x="65" y="3"/>
                  </a:lnTo>
                  <a:lnTo>
                    <a:pt x="67" y="4"/>
                  </a:lnTo>
                  <a:lnTo>
                    <a:pt x="68" y="5"/>
                  </a:lnTo>
                  <a:lnTo>
                    <a:pt x="70" y="6"/>
                  </a:lnTo>
                  <a:lnTo>
                    <a:pt x="70" y="8"/>
                  </a:lnTo>
                  <a:lnTo>
                    <a:pt x="72" y="9"/>
                  </a:lnTo>
                  <a:lnTo>
                    <a:pt x="72" y="10"/>
                  </a:lnTo>
                  <a:lnTo>
                    <a:pt x="72" y="12"/>
                  </a:lnTo>
                  <a:lnTo>
                    <a:pt x="72" y="14"/>
                  </a:lnTo>
                  <a:lnTo>
                    <a:pt x="72" y="16"/>
                  </a:lnTo>
                  <a:lnTo>
                    <a:pt x="72" y="26"/>
                  </a:lnTo>
                  <a:lnTo>
                    <a:pt x="72" y="31"/>
                  </a:lnTo>
                  <a:lnTo>
                    <a:pt x="72" y="35"/>
                  </a:lnTo>
                  <a:lnTo>
                    <a:pt x="73" y="37"/>
                  </a:lnTo>
                  <a:lnTo>
                    <a:pt x="74" y="39"/>
                  </a:lnTo>
                  <a:lnTo>
                    <a:pt x="74" y="40"/>
                  </a:lnTo>
                  <a:lnTo>
                    <a:pt x="74" y="42"/>
                  </a:lnTo>
                  <a:lnTo>
                    <a:pt x="75" y="43"/>
                  </a:lnTo>
                  <a:lnTo>
                    <a:pt x="76" y="45"/>
                  </a:lnTo>
                  <a:lnTo>
                    <a:pt x="62" y="45"/>
                  </a:lnTo>
                  <a:lnTo>
                    <a:pt x="61" y="43"/>
                  </a:lnTo>
                  <a:lnTo>
                    <a:pt x="59" y="42"/>
                  </a:lnTo>
                  <a:lnTo>
                    <a:pt x="59" y="40"/>
                  </a:lnTo>
                  <a:lnTo>
                    <a:pt x="5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39200" y="3025800"/>
              <a:ext cx="23760" cy="154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0" y="45"/>
                  </a:moveTo>
                  <a:lnTo>
                    <a:pt x="0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8" y="4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5" y="2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3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6" y="13"/>
                  </a:lnTo>
                  <a:lnTo>
                    <a:pt x="66" y="15"/>
                  </a:lnTo>
                  <a:lnTo>
                    <a:pt x="67" y="18"/>
                  </a:lnTo>
                  <a:lnTo>
                    <a:pt x="67" y="45"/>
                  </a:lnTo>
                  <a:lnTo>
                    <a:pt x="53" y="45"/>
                  </a:lnTo>
                  <a:lnTo>
                    <a:pt x="53" y="18"/>
                  </a:lnTo>
                  <a:lnTo>
                    <a:pt x="52" y="16"/>
                  </a:lnTo>
                  <a:lnTo>
                    <a:pt x="52" y="14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0" y="10"/>
                  </a:lnTo>
                  <a:lnTo>
                    <a:pt x="49" y="9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1" y="6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5" y="17"/>
                  </a:lnTo>
                  <a:lnTo>
                    <a:pt x="15" y="21"/>
                  </a:lnTo>
                  <a:lnTo>
                    <a:pt x="15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69440" y="3025800"/>
              <a:ext cx="26640" cy="23400"/>
            </a:xfrm>
            <a:custGeom>
              <a:avLst/>
              <a:gdLst/>
              <a:ahLst/>
              <a:rect l="l" t="t" r="r" b="b"/>
              <a:pathLst>
                <a:path w="74" h="64">
                  <a:moveTo>
                    <a:pt x="25" y="52"/>
                  </a:moveTo>
                  <a:lnTo>
                    <a:pt x="30" y="45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41" y="49"/>
                  </a:lnTo>
                  <a:lnTo>
                    <a:pt x="43" y="49"/>
                  </a:lnTo>
                  <a:lnTo>
                    <a:pt x="46" y="50"/>
                  </a:lnTo>
                  <a:lnTo>
                    <a:pt x="48" y="51"/>
                  </a:lnTo>
                  <a:lnTo>
                    <a:pt x="50" y="51"/>
                  </a:lnTo>
                  <a:lnTo>
                    <a:pt x="50" y="53"/>
                  </a:lnTo>
                  <a:lnTo>
                    <a:pt x="51" y="53"/>
                  </a:lnTo>
                  <a:lnTo>
                    <a:pt x="52" y="55"/>
                  </a:lnTo>
                  <a:lnTo>
                    <a:pt x="51" y="56"/>
                  </a:lnTo>
                  <a:lnTo>
                    <a:pt x="50" y="57"/>
                  </a:lnTo>
                  <a:lnTo>
                    <a:pt x="48" y="59"/>
                  </a:lnTo>
                  <a:lnTo>
                    <a:pt x="46" y="60"/>
                  </a:lnTo>
                  <a:lnTo>
                    <a:pt x="42" y="61"/>
                  </a:lnTo>
                  <a:lnTo>
                    <a:pt x="39" y="62"/>
                  </a:lnTo>
                  <a:lnTo>
                    <a:pt x="34" y="62"/>
                  </a:lnTo>
                  <a:lnTo>
                    <a:pt x="28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19" y="63"/>
                  </a:lnTo>
                  <a:lnTo>
                    <a:pt x="17" y="63"/>
                  </a:lnTo>
                  <a:lnTo>
                    <a:pt x="17" y="58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5" y="58"/>
                  </a:lnTo>
                  <a:lnTo>
                    <a:pt x="28" y="58"/>
                  </a:lnTo>
                  <a:lnTo>
                    <a:pt x="32" y="57"/>
                  </a:lnTo>
                  <a:lnTo>
                    <a:pt x="34" y="57"/>
                  </a:lnTo>
                  <a:lnTo>
                    <a:pt x="36" y="57"/>
                  </a:lnTo>
                  <a:lnTo>
                    <a:pt x="37" y="56"/>
                  </a:lnTo>
                  <a:lnTo>
                    <a:pt x="38" y="56"/>
                  </a:lnTo>
                  <a:lnTo>
                    <a:pt x="38" y="55"/>
                  </a:lnTo>
                  <a:lnTo>
                    <a:pt x="39" y="55"/>
                  </a:lnTo>
                  <a:lnTo>
                    <a:pt x="38" y="54"/>
                  </a:lnTo>
                  <a:lnTo>
                    <a:pt x="38" y="54"/>
                  </a:lnTo>
                  <a:lnTo>
                    <a:pt x="38" y="53"/>
                  </a:lnTo>
                  <a:lnTo>
                    <a:pt x="38" y="53"/>
                  </a:lnTo>
                  <a:lnTo>
                    <a:pt x="37" y="53"/>
                  </a:lnTo>
                  <a:lnTo>
                    <a:pt x="36" y="53"/>
                  </a:lnTo>
                  <a:lnTo>
                    <a:pt x="35" y="53"/>
                  </a:lnTo>
                  <a:lnTo>
                    <a:pt x="34" y="53"/>
                  </a:lnTo>
                  <a:lnTo>
                    <a:pt x="32" y="52"/>
                  </a:lnTo>
                  <a:lnTo>
                    <a:pt x="30" y="52"/>
                  </a:lnTo>
                  <a:lnTo>
                    <a:pt x="28" y="52"/>
                  </a:lnTo>
                  <a:lnTo>
                    <a:pt x="25" y="52"/>
                  </a:lnTo>
                  <a:close/>
                  <a:moveTo>
                    <a:pt x="58" y="29"/>
                  </a:moveTo>
                  <a:lnTo>
                    <a:pt x="73" y="29"/>
                  </a:lnTo>
                  <a:lnTo>
                    <a:pt x="71" y="33"/>
                  </a:lnTo>
                  <a:lnTo>
                    <a:pt x="68" y="36"/>
                  </a:lnTo>
                  <a:lnTo>
                    <a:pt x="64" y="39"/>
                  </a:lnTo>
                  <a:lnTo>
                    <a:pt x="61" y="41"/>
                  </a:lnTo>
                  <a:lnTo>
                    <a:pt x="56" y="43"/>
                  </a:lnTo>
                  <a:lnTo>
                    <a:pt x="50" y="44"/>
                  </a:lnTo>
                  <a:lnTo>
                    <a:pt x="44" y="45"/>
                  </a:lnTo>
                  <a:lnTo>
                    <a:pt x="38" y="46"/>
                  </a:lnTo>
                  <a:lnTo>
                    <a:pt x="30" y="45"/>
                  </a:lnTo>
                  <a:lnTo>
                    <a:pt x="23" y="44"/>
                  </a:lnTo>
                  <a:lnTo>
                    <a:pt x="16" y="42"/>
                  </a:lnTo>
                  <a:lnTo>
                    <a:pt x="10" y="40"/>
                  </a:lnTo>
                  <a:lnTo>
                    <a:pt x="6" y="37"/>
                  </a:lnTo>
                  <a:lnTo>
                    <a:pt x="3" y="33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0" y="5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5" y="2"/>
                  </a:lnTo>
                  <a:lnTo>
                    <a:pt x="59" y="3"/>
                  </a:lnTo>
                  <a:lnTo>
                    <a:pt x="63" y="5"/>
                  </a:lnTo>
                  <a:lnTo>
                    <a:pt x="66" y="8"/>
                  </a:lnTo>
                  <a:lnTo>
                    <a:pt x="69" y="11"/>
                  </a:lnTo>
                  <a:lnTo>
                    <a:pt x="71" y="14"/>
                  </a:lnTo>
                  <a:lnTo>
                    <a:pt x="57" y="15"/>
                  </a:lnTo>
                  <a:lnTo>
                    <a:pt x="55" y="13"/>
                  </a:lnTo>
                  <a:lnTo>
                    <a:pt x="53" y="11"/>
                  </a:lnTo>
                  <a:lnTo>
                    <a:pt x="52" y="9"/>
                  </a:lnTo>
                  <a:lnTo>
                    <a:pt x="50" y="8"/>
                  </a:lnTo>
                  <a:lnTo>
                    <a:pt x="46" y="7"/>
                  </a:lnTo>
                  <a:lnTo>
                    <a:pt x="44" y="6"/>
                  </a:lnTo>
                  <a:lnTo>
                    <a:pt x="41" y="6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28" y="7"/>
                  </a:lnTo>
                  <a:lnTo>
                    <a:pt x="25" y="8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6" y="15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4" y="27"/>
                  </a:lnTo>
                  <a:lnTo>
                    <a:pt x="16" y="30"/>
                  </a:lnTo>
                  <a:lnTo>
                    <a:pt x="18" y="33"/>
                  </a:lnTo>
                  <a:lnTo>
                    <a:pt x="21" y="35"/>
                  </a:lnTo>
                  <a:lnTo>
                    <a:pt x="25" y="37"/>
                  </a:lnTo>
                  <a:lnTo>
                    <a:pt x="28" y="38"/>
                  </a:lnTo>
                  <a:lnTo>
                    <a:pt x="32" y="39"/>
                  </a:lnTo>
                  <a:lnTo>
                    <a:pt x="37" y="39"/>
                  </a:lnTo>
                  <a:lnTo>
                    <a:pt x="41" y="39"/>
                  </a:lnTo>
                  <a:lnTo>
                    <a:pt x="44" y="38"/>
                  </a:lnTo>
                  <a:lnTo>
                    <a:pt x="48" y="38"/>
                  </a:lnTo>
                  <a:lnTo>
                    <a:pt x="52" y="37"/>
                  </a:lnTo>
                  <a:lnTo>
                    <a:pt x="54" y="35"/>
                  </a:lnTo>
                  <a:lnTo>
                    <a:pt x="56" y="33"/>
                  </a:lnTo>
                  <a:lnTo>
                    <a:pt x="57" y="31"/>
                  </a:lnTo>
                  <a:lnTo>
                    <a:pt x="5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98240" y="3025800"/>
              <a:ext cx="26640" cy="1728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58" y="23"/>
                  </a:moveTo>
                  <a:lnTo>
                    <a:pt x="53" y="23"/>
                  </a:lnTo>
                  <a:lnTo>
                    <a:pt x="48" y="24"/>
                  </a:lnTo>
                  <a:lnTo>
                    <a:pt x="41" y="25"/>
                  </a:lnTo>
                  <a:lnTo>
                    <a:pt x="35" y="25"/>
                  </a:lnTo>
                  <a:lnTo>
                    <a:pt x="30" y="25"/>
                  </a:lnTo>
                  <a:lnTo>
                    <a:pt x="27" y="26"/>
                  </a:lnTo>
                  <a:lnTo>
                    <a:pt x="24" y="26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7" y="37"/>
                  </a:lnTo>
                  <a:lnTo>
                    <a:pt x="19" y="38"/>
                  </a:lnTo>
                  <a:lnTo>
                    <a:pt x="21" y="38"/>
                  </a:lnTo>
                  <a:lnTo>
                    <a:pt x="24" y="39"/>
                  </a:lnTo>
                  <a:lnTo>
                    <a:pt x="27" y="39"/>
                  </a:lnTo>
                  <a:lnTo>
                    <a:pt x="31" y="40"/>
                  </a:lnTo>
                  <a:lnTo>
                    <a:pt x="35" y="39"/>
                  </a:lnTo>
                  <a:lnTo>
                    <a:pt x="39" y="39"/>
                  </a:lnTo>
                  <a:lnTo>
                    <a:pt x="42" y="38"/>
                  </a:lnTo>
                  <a:lnTo>
                    <a:pt x="46" y="38"/>
                  </a:lnTo>
                  <a:lnTo>
                    <a:pt x="49" y="37"/>
                  </a:lnTo>
                  <a:lnTo>
                    <a:pt x="52" y="36"/>
                  </a:lnTo>
                  <a:lnTo>
                    <a:pt x="54" y="34"/>
                  </a:lnTo>
                  <a:lnTo>
                    <a:pt x="56" y="33"/>
                  </a:lnTo>
                  <a:lnTo>
                    <a:pt x="56" y="31"/>
                  </a:lnTo>
                  <a:lnTo>
                    <a:pt x="57" y="29"/>
                  </a:lnTo>
                  <a:lnTo>
                    <a:pt x="57" y="27"/>
                  </a:lnTo>
                  <a:lnTo>
                    <a:pt x="58" y="25"/>
                  </a:lnTo>
                  <a:lnTo>
                    <a:pt x="58" y="23"/>
                  </a:lnTo>
                  <a:close/>
                  <a:moveTo>
                    <a:pt x="58" y="39"/>
                  </a:moveTo>
                  <a:lnTo>
                    <a:pt x="55" y="40"/>
                  </a:lnTo>
                  <a:lnTo>
                    <a:pt x="51" y="42"/>
                  </a:lnTo>
                  <a:lnTo>
                    <a:pt x="47" y="43"/>
                  </a:lnTo>
                  <a:lnTo>
                    <a:pt x="44" y="44"/>
                  </a:lnTo>
                  <a:lnTo>
                    <a:pt x="40" y="44"/>
                  </a:lnTo>
                  <a:lnTo>
                    <a:pt x="37" y="45"/>
                  </a:lnTo>
                  <a:lnTo>
                    <a:pt x="32" y="45"/>
                  </a:lnTo>
                  <a:lnTo>
                    <a:pt x="28" y="46"/>
                  </a:lnTo>
                  <a:lnTo>
                    <a:pt x="22" y="45"/>
                  </a:lnTo>
                  <a:lnTo>
                    <a:pt x="16" y="44"/>
                  </a:lnTo>
                  <a:lnTo>
                    <a:pt x="11" y="43"/>
                  </a:lnTo>
                  <a:lnTo>
                    <a:pt x="8" y="42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8" y="24"/>
                  </a:lnTo>
                  <a:lnTo>
                    <a:pt x="10" y="23"/>
                  </a:lnTo>
                  <a:lnTo>
                    <a:pt x="12" y="22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8" y="19"/>
                  </a:lnTo>
                  <a:lnTo>
                    <a:pt x="33" y="19"/>
                  </a:lnTo>
                  <a:lnTo>
                    <a:pt x="41" y="19"/>
                  </a:lnTo>
                  <a:lnTo>
                    <a:pt x="47" y="18"/>
                  </a:lnTo>
                  <a:lnTo>
                    <a:pt x="53" y="17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57" y="13"/>
                  </a:lnTo>
                  <a:lnTo>
                    <a:pt x="57" y="11"/>
                  </a:lnTo>
                  <a:lnTo>
                    <a:pt x="56" y="9"/>
                  </a:lnTo>
                  <a:lnTo>
                    <a:pt x="55" y="9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2" y="6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5" y="3"/>
                  </a:lnTo>
                  <a:lnTo>
                    <a:pt x="67" y="4"/>
                  </a:lnTo>
                  <a:lnTo>
                    <a:pt x="68" y="5"/>
                  </a:lnTo>
                  <a:lnTo>
                    <a:pt x="69" y="6"/>
                  </a:lnTo>
                  <a:lnTo>
                    <a:pt x="70" y="8"/>
                  </a:lnTo>
                  <a:lnTo>
                    <a:pt x="71" y="9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4"/>
                  </a:lnTo>
                  <a:lnTo>
                    <a:pt x="72" y="16"/>
                  </a:lnTo>
                  <a:lnTo>
                    <a:pt x="72" y="26"/>
                  </a:lnTo>
                  <a:lnTo>
                    <a:pt x="72" y="31"/>
                  </a:lnTo>
                  <a:lnTo>
                    <a:pt x="72" y="35"/>
                  </a:lnTo>
                  <a:lnTo>
                    <a:pt x="73" y="37"/>
                  </a:lnTo>
                  <a:lnTo>
                    <a:pt x="73" y="39"/>
                  </a:lnTo>
                  <a:lnTo>
                    <a:pt x="73" y="40"/>
                  </a:lnTo>
                  <a:lnTo>
                    <a:pt x="73" y="42"/>
                  </a:lnTo>
                  <a:lnTo>
                    <a:pt x="74" y="43"/>
                  </a:lnTo>
                  <a:lnTo>
                    <a:pt x="76" y="45"/>
                  </a:lnTo>
                  <a:lnTo>
                    <a:pt x="62" y="45"/>
                  </a:lnTo>
                  <a:lnTo>
                    <a:pt x="60" y="43"/>
                  </a:lnTo>
                  <a:lnTo>
                    <a:pt x="59" y="42"/>
                  </a:lnTo>
                  <a:lnTo>
                    <a:pt x="58" y="40"/>
                  </a:lnTo>
                  <a:lnTo>
                    <a:pt x="5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31360" y="302112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2">
                  <a:moveTo>
                    <a:pt x="0" y="61"/>
                  </a:moveTo>
                  <a:lnTo>
                    <a:pt x="0" y="17"/>
                  </a:lnTo>
                  <a:lnTo>
                    <a:pt x="14" y="17"/>
                  </a:lnTo>
                  <a:lnTo>
                    <a:pt x="14" y="61"/>
                  </a:lnTo>
                  <a:lnTo>
                    <a:pt x="0" y="61"/>
                  </a:lnTo>
                  <a:close/>
                  <a:moveTo>
                    <a:pt x="0" y="9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42520" y="3025800"/>
              <a:ext cx="25200" cy="17280"/>
            </a:xfrm>
            <a:custGeom>
              <a:avLst/>
              <a:gdLst/>
              <a:ahLst/>
              <a:rect l="l" t="t" r="r" b="b"/>
              <a:pathLst>
                <a:path w="69" h="47">
                  <a:moveTo>
                    <a:pt x="0" y="31"/>
                  </a:moveTo>
                  <a:lnTo>
                    <a:pt x="14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18" y="35"/>
                  </a:lnTo>
                  <a:lnTo>
                    <a:pt x="21" y="37"/>
                  </a:lnTo>
                  <a:lnTo>
                    <a:pt x="23" y="38"/>
                  </a:lnTo>
                  <a:lnTo>
                    <a:pt x="27" y="39"/>
                  </a:lnTo>
                  <a:lnTo>
                    <a:pt x="30" y="39"/>
                  </a:lnTo>
                  <a:lnTo>
                    <a:pt x="35" y="39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6" y="38"/>
                  </a:lnTo>
                  <a:lnTo>
                    <a:pt x="49" y="37"/>
                  </a:lnTo>
                  <a:lnTo>
                    <a:pt x="51" y="36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54" y="33"/>
                  </a:lnTo>
                  <a:lnTo>
                    <a:pt x="53" y="31"/>
                  </a:lnTo>
                  <a:lnTo>
                    <a:pt x="52" y="30"/>
                  </a:lnTo>
                  <a:lnTo>
                    <a:pt x="51" y="29"/>
                  </a:lnTo>
                  <a:lnTo>
                    <a:pt x="49" y="29"/>
                  </a:lnTo>
                  <a:lnTo>
                    <a:pt x="47" y="28"/>
                  </a:lnTo>
                  <a:lnTo>
                    <a:pt x="44" y="27"/>
                  </a:lnTo>
                  <a:lnTo>
                    <a:pt x="40" y="27"/>
                  </a:lnTo>
                  <a:lnTo>
                    <a:pt x="35" y="26"/>
                  </a:lnTo>
                  <a:lnTo>
                    <a:pt x="28" y="25"/>
                  </a:lnTo>
                  <a:lnTo>
                    <a:pt x="22" y="24"/>
                  </a:lnTo>
                  <a:lnTo>
                    <a:pt x="18" y="23"/>
                  </a:lnTo>
                  <a:lnTo>
                    <a:pt x="14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9" y="1"/>
                  </a:lnTo>
                  <a:lnTo>
                    <a:pt x="52" y="2"/>
                  </a:lnTo>
                  <a:lnTo>
                    <a:pt x="56" y="3"/>
                  </a:lnTo>
                  <a:lnTo>
                    <a:pt x="58" y="4"/>
                  </a:lnTo>
                  <a:lnTo>
                    <a:pt x="61" y="5"/>
                  </a:lnTo>
                  <a:lnTo>
                    <a:pt x="61" y="7"/>
                  </a:lnTo>
                  <a:lnTo>
                    <a:pt x="63" y="8"/>
                  </a:lnTo>
                  <a:lnTo>
                    <a:pt x="63" y="10"/>
                  </a:lnTo>
                  <a:lnTo>
                    <a:pt x="65" y="13"/>
                  </a:lnTo>
                  <a:lnTo>
                    <a:pt x="51" y="13"/>
                  </a:lnTo>
                  <a:lnTo>
                    <a:pt x="50" y="11"/>
                  </a:lnTo>
                  <a:lnTo>
                    <a:pt x="49" y="10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3" y="7"/>
                  </a:lnTo>
                  <a:lnTo>
                    <a:pt x="40" y="6"/>
                  </a:lnTo>
                  <a:lnTo>
                    <a:pt x="37" y="6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3" y="16"/>
                  </a:lnTo>
                  <a:lnTo>
                    <a:pt x="24" y="16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4" y="18"/>
                  </a:lnTo>
                  <a:lnTo>
                    <a:pt x="41" y="19"/>
                  </a:lnTo>
                  <a:lnTo>
                    <a:pt x="46" y="20"/>
                  </a:lnTo>
                  <a:lnTo>
                    <a:pt x="51" y="20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1" y="23"/>
                  </a:lnTo>
                  <a:lnTo>
                    <a:pt x="62" y="24"/>
                  </a:lnTo>
                  <a:lnTo>
                    <a:pt x="65" y="25"/>
                  </a:lnTo>
                  <a:lnTo>
                    <a:pt x="66" y="27"/>
                  </a:lnTo>
                  <a:lnTo>
                    <a:pt x="67" y="28"/>
                  </a:lnTo>
                  <a:lnTo>
                    <a:pt x="67" y="30"/>
                  </a:lnTo>
                  <a:lnTo>
                    <a:pt x="68" y="32"/>
                  </a:lnTo>
                  <a:lnTo>
                    <a:pt x="67" y="33"/>
                  </a:lnTo>
                  <a:lnTo>
                    <a:pt x="67" y="35"/>
                  </a:lnTo>
                  <a:lnTo>
                    <a:pt x="65" y="37"/>
                  </a:lnTo>
                  <a:lnTo>
                    <a:pt x="64" y="39"/>
                  </a:lnTo>
                  <a:lnTo>
                    <a:pt x="61" y="40"/>
                  </a:lnTo>
                  <a:lnTo>
                    <a:pt x="59" y="42"/>
                  </a:lnTo>
                  <a:lnTo>
                    <a:pt x="56" y="43"/>
                  </a:lnTo>
                  <a:lnTo>
                    <a:pt x="52" y="44"/>
                  </a:lnTo>
                  <a:lnTo>
                    <a:pt x="48" y="44"/>
                  </a:lnTo>
                  <a:lnTo>
                    <a:pt x="44" y="45"/>
                  </a:lnTo>
                  <a:lnTo>
                    <a:pt x="40" y="45"/>
                  </a:lnTo>
                  <a:lnTo>
                    <a:pt x="35" y="46"/>
                  </a:lnTo>
                  <a:lnTo>
                    <a:pt x="28" y="45"/>
                  </a:lnTo>
                  <a:lnTo>
                    <a:pt x="21" y="44"/>
                  </a:lnTo>
                  <a:lnTo>
                    <a:pt x="15" y="43"/>
                  </a:lnTo>
                  <a:lnTo>
                    <a:pt x="11" y="42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1" y="35"/>
                  </a:lnTo>
                  <a:lnTo>
                    <a:pt x="0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359720" y="2859120"/>
              <a:ext cx="34560" cy="2196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29" y="35"/>
                  </a:moveTo>
                  <a:lnTo>
                    <a:pt x="66" y="35"/>
                  </a:lnTo>
                  <a:lnTo>
                    <a:pt x="55" y="19"/>
                  </a:lnTo>
                  <a:lnTo>
                    <a:pt x="53" y="15"/>
                  </a:lnTo>
                  <a:lnTo>
                    <a:pt x="51" y="12"/>
                  </a:lnTo>
                  <a:lnTo>
                    <a:pt x="49" y="9"/>
                  </a:lnTo>
                  <a:lnTo>
                    <a:pt x="47" y="6"/>
                  </a:lnTo>
                  <a:lnTo>
                    <a:pt x="46" y="9"/>
                  </a:lnTo>
                  <a:lnTo>
                    <a:pt x="44" y="12"/>
                  </a:lnTo>
                  <a:lnTo>
                    <a:pt x="42" y="15"/>
                  </a:lnTo>
                  <a:lnTo>
                    <a:pt x="42" y="18"/>
                  </a:lnTo>
                  <a:lnTo>
                    <a:pt x="29" y="35"/>
                  </a:lnTo>
                  <a:close/>
                  <a:moveTo>
                    <a:pt x="0" y="61"/>
                  </a:moveTo>
                  <a:lnTo>
                    <a:pt x="40" y="0"/>
                  </a:lnTo>
                  <a:lnTo>
                    <a:pt x="55" y="0"/>
                  </a:lnTo>
                  <a:lnTo>
                    <a:pt x="98" y="61"/>
                  </a:lnTo>
                  <a:lnTo>
                    <a:pt x="82" y="61"/>
                  </a:lnTo>
                  <a:lnTo>
                    <a:pt x="71" y="42"/>
                  </a:lnTo>
                  <a:lnTo>
                    <a:pt x="26" y="42"/>
                  </a:lnTo>
                  <a:lnTo>
                    <a:pt x="15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399320" y="2859120"/>
              <a:ext cx="4680" cy="2196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0" y="61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410480" y="285912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0" y="61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421640" y="2865600"/>
              <a:ext cx="25200" cy="15480"/>
            </a:xfrm>
            <a:custGeom>
              <a:avLst/>
              <a:gdLst/>
              <a:ahLst/>
              <a:rect l="l" t="t" r="r" b="b"/>
              <a:pathLst>
                <a:path w="71" h="46">
                  <a:moveTo>
                    <a:pt x="14" y="18"/>
                  </a:moveTo>
                  <a:lnTo>
                    <a:pt x="58" y="18"/>
                  </a:lnTo>
                  <a:lnTo>
                    <a:pt x="56" y="16"/>
                  </a:lnTo>
                  <a:lnTo>
                    <a:pt x="56" y="13"/>
                  </a:lnTo>
                  <a:lnTo>
                    <a:pt x="54" y="11"/>
                  </a:lnTo>
                  <a:lnTo>
                    <a:pt x="52" y="10"/>
                  </a:lnTo>
                  <a:lnTo>
                    <a:pt x="49" y="8"/>
                  </a:lnTo>
                  <a:lnTo>
                    <a:pt x="45" y="7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4" y="18"/>
                  </a:lnTo>
                  <a:close/>
                  <a:moveTo>
                    <a:pt x="58" y="30"/>
                  </a:moveTo>
                  <a:lnTo>
                    <a:pt x="70" y="31"/>
                  </a:lnTo>
                  <a:lnTo>
                    <a:pt x="69" y="34"/>
                  </a:lnTo>
                  <a:lnTo>
                    <a:pt x="66" y="37"/>
                  </a:lnTo>
                  <a:lnTo>
                    <a:pt x="62" y="39"/>
                  </a:lnTo>
                  <a:lnTo>
                    <a:pt x="59" y="41"/>
                  </a:lnTo>
                  <a:lnTo>
                    <a:pt x="54" y="43"/>
                  </a:lnTo>
                  <a:lnTo>
                    <a:pt x="49" y="44"/>
                  </a:lnTo>
                  <a:lnTo>
                    <a:pt x="43" y="45"/>
                  </a:lnTo>
                  <a:lnTo>
                    <a:pt x="36" y="45"/>
                  </a:lnTo>
                  <a:lnTo>
                    <a:pt x="29" y="45"/>
                  </a:lnTo>
                  <a:lnTo>
                    <a:pt x="22" y="44"/>
                  </a:lnTo>
                  <a:lnTo>
                    <a:pt x="15" y="42"/>
                  </a:lnTo>
                  <a:lnTo>
                    <a:pt x="11" y="39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5" y="9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6" y="3"/>
                  </a:lnTo>
                  <a:lnTo>
                    <a:pt x="61" y="5"/>
                  </a:lnTo>
                  <a:lnTo>
                    <a:pt x="65" y="9"/>
                  </a:lnTo>
                  <a:lnTo>
                    <a:pt x="68" y="13"/>
                  </a:lnTo>
                  <a:lnTo>
                    <a:pt x="70" y="17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25"/>
                  </a:lnTo>
                  <a:lnTo>
                    <a:pt x="13" y="25"/>
                  </a:lnTo>
                  <a:lnTo>
                    <a:pt x="14" y="28"/>
                  </a:lnTo>
                  <a:lnTo>
                    <a:pt x="15" y="31"/>
                  </a:lnTo>
                  <a:lnTo>
                    <a:pt x="17" y="33"/>
                  </a:lnTo>
                  <a:lnTo>
                    <a:pt x="20" y="35"/>
                  </a:lnTo>
                  <a:lnTo>
                    <a:pt x="23" y="37"/>
                  </a:lnTo>
                  <a:lnTo>
                    <a:pt x="27" y="38"/>
                  </a:lnTo>
                  <a:lnTo>
                    <a:pt x="32" y="39"/>
                  </a:lnTo>
                  <a:lnTo>
                    <a:pt x="37" y="39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6" y="38"/>
                  </a:lnTo>
                  <a:lnTo>
                    <a:pt x="49" y="37"/>
                  </a:lnTo>
                  <a:lnTo>
                    <a:pt x="51" y="36"/>
                  </a:lnTo>
                  <a:lnTo>
                    <a:pt x="54" y="34"/>
                  </a:lnTo>
                  <a:lnTo>
                    <a:pt x="56" y="32"/>
                  </a:lnTo>
                  <a:lnTo>
                    <a:pt x="5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451880" y="2865600"/>
              <a:ext cx="37800" cy="15480"/>
            </a:xfrm>
            <a:custGeom>
              <a:avLst/>
              <a:gdLst/>
              <a:ahLst/>
              <a:rect l="l" t="t" r="r" b="b"/>
              <a:pathLst>
                <a:path w="104" h="46">
                  <a:moveTo>
                    <a:pt x="0" y="45"/>
                  </a:moveTo>
                  <a:lnTo>
                    <a:pt x="0" y="1"/>
                  </a:lnTo>
                  <a:lnTo>
                    <a:pt x="12" y="1"/>
                  </a:lnTo>
                  <a:lnTo>
                    <a:pt x="12" y="7"/>
                  </a:lnTo>
                  <a:lnTo>
                    <a:pt x="14" y="5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1" y="3"/>
                  </a:lnTo>
                  <a:lnTo>
                    <a:pt x="53" y="4"/>
                  </a:lnTo>
                  <a:lnTo>
                    <a:pt x="55" y="5"/>
                  </a:lnTo>
                  <a:lnTo>
                    <a:pt x="56" y="7"/>
                  </a:lnTo>
                  <a:lnTo>
                    <a:pt x="60" y="4"/>
                  </a:lnTo>
                  <a:lnTo>
                    <a:pt x="66" y="1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4" y="1"/>
                  </a:lnTo>
                  <a:lnTo>
                    <a:pt x="98" y="3"/>
                  </a:lnTo>
                  <a:lnTo>
                    <a:pt x="100" y="5"/>
                  </a:lnTo>
                  <a:lnTo>
                    <a:pt x="102" y="8"/>
                  </a:lnTo>
                  <a:lnTo>
                    <a:pt x="103" y="11"/>
                  </a:lnTo>
                  <a:lnTo>
                    <a:pt x="103" y="14"/>
                  </a:lnTo>
                  <a:lnTo>
                    <a:pt x="103" y="45"/>
                  </a:lnTo>
                  <a:lnTo>
                    <a:pt x="91" y="45"/>
                  </a:lnTo>
                  <a:lnTo>
                    <a:pt x="91" y="17"/>
                  </a:lnTo>
                  <a:lnTo>
                    <a:pt x="90" y="15"/>
                  </a:lnTo>
                  <a:lnTo>
                    <a:pt x="90" y="13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88" y="9"/>
                  </a:lnTo>
                  <a:lnTo>
                    <a:pt x="87" y="9"/>
                  </a:lnTo>
                  <a:lnTo>
                    <a:pt x="85" y="8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80" y="6"/>
                  </a:lnTo>
                  <a:lnTo>
                    <a:pt x="78" y="6"/>
                  </a:lnTo>
                  <a:lnTo>
                    <a:pt x="76" y="6"/>
                  </a:lnTo>
                  <a:lnTo>
                    <a:pt x="73" y="6"/>
                  </a:lnTo>
                  <a:lnTo>
                    <a:pt x="69" y="7"/>
                  </a:lnTo>
                  <a:lnTo>
                    <a:pt x="65" y="8"/>
                  </a:lnTo>
                  <a:lnTo>
                    <a:pt x="64" y="9"/>
                  </a:lnTo>
                  <a:lnTo>
                    <a:pt x="61" y="11"/>
                  </a:lnTo>
                  <a:lnTo>
                    <a:pt x="60" y="13"/>
                  </a:lnTo>
                  <a:lnTo>
                    <a:pt x="58" y="16"/>
                  </a:lnTo>
                  <a:lnTo>
                    <a:pt x="58" y="19"/>
                  </a:lnTo>
                  <a:lnTo>
                    <a:pt x="58" y="45"/>
                  </a:lnTo>
                  <a:lnTo>
                    <a:pt x="45" y="45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4" y="11"/>
                  </a:lnTo>
                  <a:lnTo>
                    <a:pt x="44" y="10"/>
                  </a:lnTo>
                  <a:lnTo>
                    <a:pt x="42" y="9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3" y="19"/>
                  </a:lnTo>
                  <a:lnTo>
                    <a:pt x="13" y="22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494720" y="2865600"/>
              <a:ext cx="25200" cy="15480"/>
            </a:xfrm>
            <a:custGeom>
              <a:avLst/>
              <a:gdLst/>
              <a:ahLst/>
              <a:rect l="l" t="t" r="r" b="b"/>
              <a:pathLst>
                <a:path w="71" h="46">
                  <a:moveTo>
                    <a:pt x="53" y="23"/>
                  </a:moveTo>
                  <a:lnTo>
                    <a:pt x="49" y="23"/>
                  </a:lnTo>
                  <a:lnTo>
                    <a:pt x="44" y="24"/>
                  </a:lnTo>
                  <a:lnTo>
                    <a:pt x="38" y="25"/>
                  </a:lnTo>
                  <a:lnTo>
                    <a:pt x="31" y="25"/>
                  </a:lnTo>
                  <a:lnTo>
                    <a:pt x="28" y="25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5" y="29"/>
                  </a:lnTo>
                  <a:lnTo>
                    <a:pt x="14" y="30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4"/>
                  </a:lnTo>
                  <a:lnTo>
                    <a:pt x="14" y="35"/>
                  </a:lnTo>
                  <a:lnTo>
                    <a:pt x="15" y="36"/>
                  </a:lnTo>
                  <a:lnTo>
                    <a:pt x="17" y="38"/>
                  </a:lnTo>
                  <a:lnTo>
                    <a:pt x="19" y="38"/>
                  </a:lnTo>
                  <a:lnTo>
                    <a:pt x="22" y="39"/>
                  </a:lnTo>
                  <a:lnTo>
                    <a:pt x="25" y="39"/>
                  </a:lnTo>
                  <a:lnTo>
                    <a:pt x="29" y="39"/>
                  </a:lnTo>
                  <a:lnTo>
                    <a:pt x="32" y="39"/>
                  </a:lnTo>
                  <a:lnTo>
                    <a:pt x="36" y="39"/>
                  </a:lnTo>
                  <a:lnTo>
                    <a:pt x="39" y="38"/>
                  </a:lnTo>
                  <a:lnTo>
                    <a:pt x="42" y="38"/>
                  </a:lnTo>
                  <a:lnTo>
                    <a:pt x="45" y="37"/>
                  </a:lnTo>
                  <a:lnTo>
                    <a:pt x="47" y="36"/>
                  </a:lnTo>
                  <a:lnTo>
                    <a:pt x="49" y="34"/>
                  </a:lnTo>
                  <a:lnTo>
                    <a:pt x="51" y="33"/>
                  </a:lnTo>
                  <a:lnTo>
                    <a:pt x="52" y="31"/>
                  </a:lnTo>
                  <a:lnTo>
                    <a:pt x="53" y="29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3" y="23"/>
                  </a:lnTo>
                  <a:close/>
                  <a:moveTo>
                    <a:pt x="54" y="39"/>
                  </a:moveTo>
                  <a:lnTo>
                    <a:pt x="51" y="40"/>
                  </a:lnTo>
                  <a:lnTo>
                    <a:pt x="47" y="42"/>
                  </a:lnTo>
                  <a:lnTo>
                    <a:pt x="44" y="43"/>
                  </a:lnTo>
                  <a:lnTo>
                    <a:pt x="41" y="44"/>
                  </a:lnTo>
                  <a:lnTo>
                    <a:pt x="37" y="44"/>
                  </a:lnTo>
                  <a:lnTo>
                    <a:pt x="33" y="45"/>
                  </a:lnTo>
                  <a:lnTo>
                    <a:pt x="29" y="45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5" y="44"/>
                  </a:lnTo>
                  <a:lnTo>
                    <a:pt x="10" y="43"/>
                  </a:lnTo>
                  <a:lnTo>
                    <a:pt x="6" y="42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7" y="23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9" y="20"/>
                  </a:lnTo>
                  <a:lnTo>
                    <a:pt x="20" y="20"/>
                  </a:lnTo>
                  <a:lnTo>
                    <a:pt x="23" y="19"/>
                  </a:lnTo>
                  <a:lnTo>
                    <a:pt x="26" y="19"/>
                  </a:lnTo>
                  <a:lnTo>
                    <a:pt x="30" y="19"/>
                  </a:lnTo>
                  <a:lnTo>
                    <a:pt x="37" y="19"/>
                  </a:lnTo>
                  <a:lnTo>
                    <a:pt x="44" y="18"/>
                  </a:lnTo>
                  <a:lnTo>
                    <a:pt x="49" y="17"/>
                  </a:lnTo>
                  <a:lnTo>
                    <a:pt x="53" y="17"/>
                  </a:lnTo>
                  <a:lnTo>
                    <a:pt x="53" y="16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3" y="12"/>
                  </a:lnTo>
                  <a:lnTo>
                    <a:pt x="52" y="11"/>
                  </a:lnTo>
                  <a:lnTo>
                    <a:pt x="51" y="9"/>
                  </a:lnTo>
                  <a:lnTo>
                    <a:pt x="50" y="9"/>
                  </a:lnTo>
                  <a:lnTo>
                    <a:pt x="47" y="7"/>
                  </a:lnTo>
                  <a:lnTo>
                    <a:pt x="43" y="7"/>
                  </a:lnTo>
                  <a:lnTo>
                    <a:pt x="39" y="6"/>
                  </a:lnTo>
                  <a:lnTo>
                    <a:pt x="35" y="6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4" y="7"/>
                  </a:lnTo>
                  <a:lnTo>
                    <a:pt x="22" y="7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7" y="2"/>
                  </a:lnTo>
                  <a:lnTo>
                    <a:pt x="60" y="3"/>
                  </a:lnTo>
                  <a:lnTo>
                    <a:pt x="62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4" y="8"/>
                  </a:lnTo>
                  <a:lnTo>
                    <a:pt x="65" y="9"/>
                  </a:lnTo>
                  <a:lnTo>
                    <a:pt x="65" y="10"/>
                  </a:lnTo>
                  <a:lnTo>
                    <a:pt x="65" y="12"/>
                  </a:lnTo>
                  <a:lnTo>
                    <a:pt x="65" y="14"/>
                  </a:lnTo>
                  <a:lnTo>
                    <a:pt x="66" y="16"/>
                  </a:lnTo>
                  <a:lnTo>
                    <a:pt x="66" y="26"/>
                  </a:lnTo>
                  <a:lnTo>
                    <a:pt x="66" y="31"/>
                  </a:lnTo>
                  <a:lnTo>
                    <a:pt x="66" y="34"/>
                  </a:lnTo>
                  <a:lnTo>
                    <a:pt x="67" y="37"/>
                  </a:lnTo>
                  <a:lnTo>
                    <a:pt x="67" y="39"/>
                  </a:lnTo>
                  <a:lnTo>
                    <a:pt x="67" y="40"/>
                  </a:lnTo>
                  <a:lnTo>
                    <a:pt x="67" y="41"/>
                  </a:lnTo>
                  <a:lnTo>
                    <a:pt x="69" y="43"/>
                  </a:lnTo>
                  <a:lnTo>
                    <a:pt x="70" y="45"/>
                  </a:lnTo>
                  <a:lnTo>
                    <a:pt x="57" y="45"/>
                  </a:lnTo>
                  <a:lnTo>
                    <a:pt x="56" y="43"/>
                  </a:lnTo>
                  <a:lnTo>
                    <a:pt x="55" y="42"/>
                  </a:lnTo>
                  <a:lnTo>
                    <a:pt x="54" y="40"/>
                  </a:lnTo>
                  <a:lnTo>
                    <a:pt x="5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526400" y="2865600"/>
              <a:ext cx="21960" cy="1548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0" y="45"/>
                  </a:moveTo>
                  <a:lnTo>
                    <a:pt x="0" y="1"/>
                  </a:lnTo>
                  <a:lnTo>
                    <a:pt x="12" y="1"/>
                  </a:lnTo>
                  <a:lnTo>
                    <a:pt x="12" y="7"/>
                  </a:lnTo>
                  <a:lnTo>
                    <a:pt x="16" y="3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56" y="5"/>
                  </a:lnTo>
                  <a:lnTo>
                    <a:pt x="57" y="6"/>
                  </a:lnTo>
                  <a:lnTo>
                    <a:pt x="59" y="7"/>
                  </a:lnTo>
                  <a:lnTo>
                    <a:pt x="59" y="9"/>
                  </a:lnTo>
                  <a:lnTo>
                    <a:pt x="61" y="10"/>
                  </a:lnTo>
                  <a:lnTo>
                    <a:pt x="61" y="11"/>
                  </a:lnTo>
                  <a:lnTo>
                    <a:pt x="61" y="13"/>
                  </a:lnTo>
                  <a:lnTo>
                    <a:pt x="61" y="15"/>
                  </a:lnTo>
                  <a:lnTo>
                    <a:pt x="61" y="18"/>
                  </a:lnTo>
                  <a:lnTo>
                    <a:pt x="61" y="45"/>
                  </a:lnTo>
                  <a:lnTo>
                    <a:pt x="48" y="45"/>
                  </a:lnTo>
                  <a:lnTo>
                    <a:pt x="48" y="18"/>
                  </a:lnTo>
                  <a:lnTo>
                    <a:pt x="47" y="16"/>
                  </a:lnTo>
                  <a:lnTo>
                    <a:pt x="47" y="14"/>
                  </a:lnTo>
                  <a:lnTo>
                    <a:pt x="46" y="12"/>
                  </a:lnTo>
                  <a:lnTo>
                    <a:pt x="46" y="11"/>
                  </a:lnTo>
                  <a:lnTo>
                    <a:pt x="46" y="10"/>
                  </a:lnTo>
                  <a:lnTo>
                    <a:pt x="44" y="9"/>
                  </a:lnTo>
                  <a:lnTo>
                    <a:pt x="43" y="8"/>
                  </a:lnTo>
                  <a:lnTo>
                    <a:pt x="41" y="7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6"/>
                  </a:lnTo>
                  <a:lnTo>
                    <a:pt x="32" y="6"/>
                  </a:lnTo>
                  <a:lnTo>
                    <a:pt x="28" y="6"/>
                  </a:lnTo>
                  <a:lnTo>
                    <a:pt x="25" y="7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3" y="17"/>
                  </a:lnTo>
                  <a:lnTo>
                    <a:pt x="13" y="21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53400" y="2859120"/>
              <a:ext cx="23400" cy="2196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12" y="39"/>
                  </a:moveTo>
                  <a:lnTo>
                    <a:pt x="12" y="42"/>
                  </a:lnTo>
                  <a:lnTo>
                    <a:pt x="14" y="46"/>
                  </a:lnTo>
                  <a:lnTo>
                    <a:pt x="16" y="49"/>
                  </a:lnTo>
                  <a:lnTo>
                    <a:pt x="19" y="51"/>
                  </a:lnTo>
                  <a:lnTo>
                    <a:pt x="21" y="53"/>
                  </a:lnTo>
                  <a:lnTo>
                    <a:pt x="25" y="54"/>
                  </a:lnTo>
                  <a:lnTo>
                    <a:pt x="29" y="55"/>
                  </a:lnTo>
                  <a:lnTo>
                    <a:pt x="34" y="55"/>
                  </a:lnTo>
                  <a:lnTo>
                    <a:pt x="38" y="55"/>
                  </a:lnTo>
                  <a:lnTo>
                    <a:pt x="42" y="54"/>
                  </a:lnTo>
                  <a:lnTo>
                    <a:pt x="45" y="53"/>
                  </a:lnTo>
                  <a:lnTo>
                    <a:pt x="49" y="51"/>
                  </a:lnTo>
                  <a:lnTo>
                    <a:pt x="51" y="49"/>
                  </a:lnTo>
                  <a:lnTo>
                    <a:pt x="53" y="46"/>
                  </a:lnTo>
                  <a:lnTo>
                    <a:pt x="54" y="43"/>
                  </a:lnTo>
                  <a:lnTo>
                    <a:pt x="55" y="39"/>
                  </a:lnTo>
                  <a:lnTo>
                    <a:pt x="54" y="35"/>
                  </a:lnTo>
                  <a:lnTo>
                    <a:pt x="53" y="31"/>
                  </a:lnTo>
                  <a:lnTo>
                    <a:pt x="50" y="28"/>
                  </a:lnTo>
                  <a:lnTo>
                    <a:pt x="48" y="26"/>
                  </a:lnTo>
                  <a:lnTo>
                    <a:pt x="45" y="24"/>
                  </a:lnTo>
                  <a:lnTo>
                    <a:pt x="41" y="23"/>
                  </a:lnTo>
                  <a:lnTo>
                    <a:pt x="37" y="22"/>
                  </a:lnTo>
                  <a:lnTo>
                    <a:pt x="33" y="22"/>
                  </a:lnTo>
                  <a:lnTo>
                    <a:pt x="29" y="22"/>
                  </a:lnTo>
                  <a:lnTo>
                    <a:pt x="25" y="23"/>
                  </a:lnTo>
                  <a:lnTo>
                    <a:pt x="21" y="24"/>
                  </a:lnTo>
                  <a:lnTo>
                    <a:pt x="19" y="26"/>
                  </a:lnTo>
                  <a:lnTo>
                    <a:pt x="16" y="28"/>
                  </a:lnTo>
                  <a:lnTo>
                    <a:pt x="14" y="31"/>
                  </a:lnTo>
                  <a:lnTo>
                    <a:pt x="12" y="35"/>
                  </a:lnTo>
                  <a:lnTo>
                    <a:pt x="12" y="39"/>
                  </a:lnTo>
                  <a:close/>
                  <a:moveTo>
                    <a:pt x="54" y="61"/>
                  </a:moveTo>
                  <a:lnTo>
                    <a:pt x="54" y="55"/>
                  </a:lnTo>
                  <a:lnTo>
                    <a:pt x="50" y="57"/>
                  </a:lnTo>
                  <a:lnTo>
                    <a:pt x="45" y="59"/>
                  </a:lnTo>
                  <a:lnTo>
                    <a:pt x="39" y="61"/>
                  </a:lnTo>
                  <a:lnTo>
                    <a:pt x="32" y="61"/>
                  </a:lnTo>
                  <a:lnTo>
                    <a:pt x="28" y="61"/>
                  </a:lnTo>
                  <a:lnTo>
                    <a:pt x="23" y="61"/>
                  </a:lnTo>
                  <a:lnTo>
                    <a:pt x="20" y="59"/>
                  </a:lnTo>
                  <a:lnTo>
                    <a:pt x="16" y="59"/>
                  </a:lnTo>
                  <a:lnTo>
                    <a:pt x="12" y="57"/>
                  </a:lnTo>
                  <a:lnTo>
                    <a:pt x="9" y="55"/>
                  </a:lnTo>
                  <a:lnTo>
                    <a:pt x="6" y="53"/>
                  </a:lnTo>
                  <a:lnTo>
                    <a:pt x="4" y="50"/>
                  </a:lnTo>
                  <a:lnTo>
                    <a:pt x="2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3" y="26"/>
                  </a:lnTo>
                  <a:lnTo>
                    <a:pt x="5" y="24"/>
                  </a:lnTo>
                  <a:lnTo>
                    <a:pt x="8" y="21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8" y="17"/>
                  </a:lnTo>
                  <a:lnTo>
                    <a:pt x="23" y="16"/>
                  </a:lnTo>
                  <a:lnTo>
                    <a:pt x="27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7"/>
                  </a:lnTo>
                  <a:lnTo>
                    <a:pt x="47" y="18"/>
                  </a:lnTo>
                  <a:lnTo>
                    <a:pt x="49" y="19"/>
                  </a:lnTo>
                  <a:lnTo>
                    <a:pt x="50" y="20"/>
                  </a:lnTo>
                  <a:lnTo>
                    <a:pt x="53" y="22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66" y="61"/>
                  </a:lnTo>
                  <a:lnTo>
                    <a:pt x="54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364400" y="2943360"/>
              <a:ext cx="28440" cy="21960"/>
            </a:xfrm>
            <a:custGeom>
              <a:avLst/>
              <a:gdLst/>
              <a:ahLst/>
              <a:rect l="l" t="t" r="r" b="b"/>
              <a:pathLst>
                <a:path w="81" h="61">
                  <a:moveTo>
                    <a:pt x="14" y="25"/>
                  </a:moveTo>
                  <a:lnTo>
                    <a:pt x="36" y="25"/>
                  </a:lnTo>
                  <a:lnTo>
                    <a:pt x="40" y="25"/>
                  </a:lnTo>
                  <a:lnTo>
                    <a:pt x="44" y="25"/>
                  </a:lnTo>
                  <a:lnTo>
                    <a:pt x="47" y="25"/>
                  </a:lnTo>
                  <a:lnTo>
                    <a:pt x="50" y="25"/>
                  </a:lnTo>
                  <a:lnTo>
                    <a:pt x="52" y="24"/>
                  </a:lnTo>
                  <a:lnTo>
                    <a:pt x="54" y="23"/>
                  </a:lnTo>
                  <a:lnTo>
                    <a:pt x="56" y="22"/>
                  </a:lnTo>
                  <a:lnTo>
                    <a:pt x="58" y="21"/>
                  </a:lnTo>
                  <a:lnTo>
                    <a:pt x="58" y="20"/>
                  </a:lnTo>
                  <a:lnTo>
                    <a:pt x="60" y="19"/>
                  </a:lnTo>
                  <a:lnTo>
                    <a:pt x="60" y="17"/>
                  </a:lnTo>
                  <a:lnTo>
                    <a:pt x="60" y="16"/>
                  </a:lnTo>
                  <a:lnTo>
                    <a:pt x="60" y="15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8" y="11"/>
                  </a:lnTo>
                  <a:lnTo>
                    <a:pt x="56" y="10"/>
                  </a:lnTo>
                  <a:lnTo>
                    <a:pt x="54" y="9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7"/>
                  </a:lnTo>
                  <a:lnTo>
                    <a:pt x="34" y="7"/>
                  </a:lnTo>
                  <a:lnTo>
                    <a:pt x="14" y="7"/>
                  </a:lnTo>
                  <a:lnTo>
                    <a:pt x="14" y="25"/>
                  </a:lnTo>
                  <a:close/>
                  <a:moveTo>
                    <a:pt x="14" y="53"/>
                  </a:moveTo>
                  <a:lnTo>
                    <a:pt x="40" y="53"/>
                  </a:lnTo>
                  <a:lnTo>
                    <a:pt x="43" y="53"/>
                  </a:lnTo>
                  <a:lnTo>
                    <a:pt x="45" y="53"/>
                  </a:lnTo>
                  <a:lnTo>
                    <a:pt x="48" y="53"/>
                  </a:lnTo>
                  <a:lnTo>
                    <a:pt x="50" y="53"/>
                  </a:lnTo>
                  <a:lnTo>
                    <a:pt x="52" y="53"/>
                  </a:lnTo>
                  <a:lnTo>
                    <a:pt x="54" y="52"/>
                  </a:lnTo>
                  <a:lnTo>
                    <a:pt x="56" y="51"/>
                  </a:lnTo>
                  <a:lnTo>
                    <a:pt x="58" y="51"/>
                  </a:lnTo>
                  <a:lnTo>
                    <a:pt x="60" y="51"/>
                  </a:lnTo>
                  <a:lnTo>
                    <a:pt x="61" y="50"/>
                  </a:lnTo>
                  <a:lnTo>
                    <a:pt x="61" y="49"/>
                  </a:lnTo>
                  <a:lnTo>
                    <a:pt x="63" y="48"/>
                  </a:lnTo>
                  <a:lnTo>
                    <a:pt x="64" y="47"/>
                  </a:lnTo>
                  <a:lnTo>
                    <a:pt x="65" y="45"/>
                  </a:lnTo>
                  <a:lnTo>
                    <a:pt x="65" y="44"/>
                  </a:lnTo>
                  <a:lnTo>
                    <a:pt x="65" y="43"/>
                  </a:lnTo>
                  <a:lnTo>
                    <a:pt x="65" y="41"/>
                  </a:lnTo>
                  <a:lnTo>
                    <a:pt x="64" y="39"/>
                  </a:lnTo>
                  <a:lnTo>
                    <a:pt x="63" y="38"/>
                  </a:lnTo>
                  <a:lnTo>
                    <a:pt x="61" y="37"/>
                  </a:lnTo>
                  <a:lnTo>
                    <a:pt x="60" y="35"/>
                  </a:lnTo>
                  <a:lnTo>
                    <a:pt x="58" y="35"/>
                  </a:lnTo>
                  <a:lnTo>
                    <a:pt x="55" y="34"/>
                  </a:lnTo>
                  <a:lnTo>
                    <a:pt x="53" y="33"/>
                  </a:lnTo>
                  <a:lnTo>
                    <a:pt x="50" y="33"/>
                  </a:lnTo>
                  <a:lnTo>
                    <a:pt x="46" y="33"/>
                  </a:lnTo>
                  <a:lnTo>
                    <a:pt x="42" y="33"/>
                  </a:lnTo>
                  <a:lnTo>
                    <a:pt x="38" y="33"/>
                  </a:lnTo>
                  <a:lnTo>
                    <a:pt x="14" y="33"/>
                  </a:lnTo>
                  <a:lnTo>
                    <a:pt x="14" y="53"/>
                  </a:lnTo>
                  <a:close/>
                  <a:moveTo>
                    <a:pt x="0" y="60"/>
                  </a:moveTo>
                  <a:lnTo>
                    <a:pt x="0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4" y="1"/>
                  </a:lnTo>
                  <a:lnTo>
                    <a:pt x="59" y="1"/>
                  </a:lnTo>
                  <a:lnTo>
                    <a:pt x="62" y="2"/>
                  </a:lnTo>
                  <a:lnTo>
                    <a:pt x="65" y="4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2" y="9"/>
                  </a:lnTo>
                  <a:lnTo>
                    <a:pt x="73" y="11"/>
                  </a:lnTo>
                  <a:lnTo>
                    <a:pt x="74" y="13"/>
                  </a:lnTo>
                  <a:lnTo>
                    <a:pt x="74" y="15"/>
                  </a:lnTo>
                  <a:lnTo>
                    <a:pt x="74" y="17"/>
                  </a:lnTo>
                  <a:lnTo>
                    <a:pt x="73" y="19"/>
                  </a:lnTo>
                  <a:lnTo>
                    <a:pt x="72" y="20"/>
                  </a:lnTo>
                  <a:lnTo>
                    <a:pt x="71" y="23"/>
                  </a:lnTo>
                  <a:lnTo>
                    <a:pt x="68" y="24"/>
                  </a:lnTo>
                  <a:lnTo>
                    <a:pt x="66" y="26"/>
                  </a:lnTo>
                  <a:lnTo>
                    <a:pt x="62" y="27"/>
                  </a:lnTo>
                  <a:lnTo>
                    <a:pt x="59" y="28"/>
                  </a:lnTo>
                  <a:lnTo>
                    <a:pt x="63" y="29"/>
                  </a:lnTo>
                  <a:lnTo>
                    <a:pt x="67" y="30"/>
                  </a:lnTo>
                  <a:lnTo>
                    <a:pt x="71" y="32"/>
                  </a:lnTo>
                  <a:lnTo>
                    <a:pt x="74" y="34"/>
                  </a:lnTo>
                  <a:lnTo>
                    <a:pt x="76" y="36"/>
                  </a:lnTo>
                  <a:lnTo>
                    <a:pt x="78" y="38"/>
                  </a:lnTo>
                  <a:lnTo>
                    <a:pt x="79" y="40"/>
                  </a:lnTo>
                  <a:lnTo>
                    <a:pt x="80" y="43"/>
                  </a:lnTo>
                  <a:lnTo>
                    <a:pt x="79" y="45"/>
                  </a:lnTo>
                  <a:lnTo>
                    <a:pt x="78" y="47"/>
                  </a:lnTo>
                  <a:lnTo>
                    <a:pt x="78" y="49"/>
                  </a:lnTo>
                  <a:lnTo>
                    <a:pt x="76" y="51"/>
                  </a:lnTo>
                  <a:lnTo>
                    <a:pt x="74" y="53"/>
                  </a:lnTo>
                  <a:lnTo>
                    <a:pt x="72" y="54"/>
                  </a:lnTo>
                  <a:lnTo>
                    <a:pt x="71" y="55"/>
                  </a:lnTo>
                  <a:lnTo>
                    <a:pt x="69" y="57"/>
                  </a:lnTo>
                  <a:lnTo>
                    <a:pt x="66" y="57"/>
                  </a:lnTo>
                  <a:lnTo>
                    <a:pt x="63" y="58"/>
                  </a:lnTo>
                  <a:lnTo>
                    <a:pt x="60" y="59"/>
                  </a:lnTo>
                  <a:lnTo>
                    <a:pt x="57" y="59"/>
                  </a:lnTo>
                  <a:lnTo>
                    <a:pt x="53" y="60"/>
                  </a:lnTo>
                  <a:lnTo>
                    <a:pt x="49" y="60"/>
                  </a:lnTo>
                  <a:lnTo>
                    <a:pt x="45" y="60"/>
                  </a:lnTo>
                  <a:lnTo>
                    <a:pt x="4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397880" y="2949840"/>
              <a:ext cx="26640" cy="16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15" y="19"/>
                  </a:moveTo>
                  <a:lnTo>
                    <a:pt x="59" y="19"/>
                  </a:lnTo>
                  <a:lnTo>
                    <a:pt x="58" y="16"/>
                  </a:lnTo>
                  <a:lnTo>
                    <a:pt x="57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0" y="9"/>
                  </a:lnTo>
                  <a:lnTo>
                    <a:pt x="46" y="8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3" y="7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5" y="19"/>
                  </a:lnTo>
                  <a:close/>
                  <a:moveTo>
                    <a:pt x="59" y="31"/>
                  </a:moveTo>
                  <a:lnTo>
                    <a:pt x="71" y="32"/>
                  </a:lnTo>
                  <a:lnTo>
                    <a:pt x="70" y="35"/>
                  </a:lnTo>
                  <a:lnTo>
                    <a:pt x="67" y="38"/>
                  </a:lnTo>
                  <a:lnTo>
                    <a:pt x="63" y="40"/>
                  </a:lnTo>
                  <a:lnTo>
                    <a:pt x="60" y="42"/>
                  </a:lnTo>
                  <a:lnTo>
                    <a:pt x="54" y="44"/>
                  </a:lnTo>
                  <a:lnTo>
                    <a:pt x="49" y="45"/>
                  </a:lnTo>
                  <a:lnTo>
                    <a:pt x="43" y="46"/>
                  </a:lnTo>
                  <a:lnTo>
                    <a:pt x="38" y="46"/>
                  </a:lnTo>
                  <a:lnTo>
                    <a:pt x="29" y="46"/>
                  </a:lnTo>
                  <a:lnTo>
                    <a:pt x="22" y="45"/>
                  </a:lnTo>
                  <a:lnTo>
                    <a:pt x="16" y="43"/>
                  </a:lnTo>
                  <a:lnTo>
                    <a:pt x="11" y="40"/>
                  </a:lnTo>
                  <a:lnTo>
                    <a:pt x="6" y="37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11" y="6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1" y="2"/>
                  </a:lnTo>
                  <a:lnTo>
                    <a:pt x="57" y="4"/>
                  </a:lnTo>
                  <a:lnTo>
                    <a:pt x="62" y="6"/>
                  </a:lnTo>
                  <a:lnTo>
                    <a:pt x="66" y="10"/>
                  </a:lnTo>
                  <a:lnTo>
                    <a:pt x="69" y="14"/>
                  </a:lnTo>
                  <a:lnTo>
                    <a:pt x="70" y="1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5"/>
                  </a:lnTo>
                  <a:lnTo>
                    <a:pt x="14" y="25"/>
                  </a:lnTo>
                  <a:lnTo>
                    <a:pt x="15" y="29"/>
                  </a:lnTo>
                  <a:lnTo>
                    <a:pt x="16" y="32"/>
                  </a:lnTo>
                  <a:lnTo>
                    <a:pt x="18" y="34"/>
                  </a:lnTo>
                  <a:lnTo>
                    <a:pt x="22" y="36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3" y="40"/>
                  </a:lnTo>
                  <a:lnTo>
                    <a:pt x="38" y="40"/>
                  </a:lnTo>
                  <a:lnTo>
                    <a:pt x="41" y="40"/>
                  </a:lnTo>
                  <a:lnTo>
                    <a:pt x="44" y="40"/>
                  </a:lnTo>
                  <a:lnTo>
                    <a:pt x="47" y="39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4" y="35"/>
                  </a:lnTo>
                  <a:lnTo>
                    <a:pt x="56" y="33"/>
                  </a:lnTo>
                  <a:lnTo>
                    <a:pt x="5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429560" y="294336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1">
                  <a:moveTo>
                    <a:pt x="0" y="60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60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439280" y="2949840"/>
              <a:ext cx="23400" cy="23400"/>
            </a:xfrm>
            <a:custGeom>
              <a:avLst/>
              <a:gdLst/>
              <a:ahLst/>
              <a:rect l="l" t="t" r="r" b="b"/>
              <a:pathLst>
                <a:path w="68" h="64">
                  <a:moveTo>
                    <a:pt x="13" y="23"/>
                  </a:moveTo>
                  <a:lnTo>
                    <a:pt x="13" y="26"/>
                  </a:lnTo>
                  <a:lnTo>
                    <a:pt x="14" y="30"/>
                  </a:lnTo>
                  <a:lnTo>
                    <a:pt x="17" y="33"/>
                  </a:lnTo>
                  <a:lnTo>
                    <a:pt x="19" y="35"/>
                  </a:lnTo>
                  <a:lnTo>
                    <a:pt x="22" y="37"/>
                  </a:lnTo>
                  <a:lnTo>
                    <a:pt x="26" y="38"/>
                  </a:lnTo>
                  <a:lnTo>
                    <a:pt x="29" y="39"/>
                  </a:lnTo>
                  <a:lnTo>
                    <a:pt x="34" y="39"/>
                  </a:lnTo>
                  <a:lnTo>
                    <a:pt x="38" y="39"/>
                  </a:lnTo>
                  <a:lnTo>
                    <a:pt x="42" y="38"/>
                  </a:lnTo>
                  <a:lnTo>
                    <a:pt x="46" y="37"/>
                  </a:lnTo>
                  <a:lnTo>
                    <a:pt x="49" y="35"/>
                  </a:lnTo>
                  <a:lnTo>
                    <a:pt x="51" y="33"/>
                  </a:lnTo>
                  <a:lnTo>
                    <a:pt x="53" y="30"/>
                  </a:lnTo>
                  <a:lnTo>
                    <a:pt x="55" y="26"/>
                  </a:lnTo>
                  <a:lnTo>
                    <a:pt x="55" y="23"/>
                  </a:lnTo>
                  <a:lnTo>
                    <a:pt x="55" y="19"/>
                  </a:lnTo>
                  <a:lnTo>
                    <a:pt x="53" y="16"/>
                  </a:lnTo>
                  <a:lnTo>
                    <a:pt x="51" y="13"/>
                  </a:lnTo>
                  <a:lnTo>
                    <a:pt x="49" y="11"/>
                  </a:lnTo>
                  <a:lnTo>
                    <a:pt x="45" y="9"/>
                  </a:lnTo>
                  <a:lnTo>
                    <a:pt x="42" y="8"/>
                  </a:lnTo>
                  <a:lnTo>
                    <a:pt x="38" y="7"/>
                  </a:lnTo>
                  <a:lnTo>
                    <a:pt x="34" y="7"/>
                  </a:lnTo>
                  <a:lnTo>
                    <a:pt x="29" y="7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19" y="11"/>
                  </a:lnTo>
                  <a:lnTo>
                    <a:pt x="17" y="13"/>
                  </a:lnTo>
                  <a:lnTo>
                    <a:pt x="14" y="16"/>
                  </a:lnTo>
                  <a:lnTo>
                    <a:pt x="13" y="19"/>
                  </a:lnTo>
                  <a:lnTo>
                    <a:pt x="13" y="23"/>
                  </a:lnTo>
                  <a:close/>
                  <a:moveTo>
                    <a:pt x="2" y="49"/>
                  </a:moveTo>
                  <a:lnTo>
                    <a:pt x="16" y="50"/>
                  </a:lnTo>
                  <a:lnTo>
                    <a:pt x="16" y="51"/>
                  </a:lnTo>
                  <a:lnTo>
                    <a:pt x="17" y="52"/>
                  </a:lnTo>
                  <a:lnTo>
                    <a:pt x="19" y="53"/>
                  </a:lnTo>
                  <a:lnTo>
                    <a:pt x="20" y="54"/>
                  </a:lnTo>
                  <a:lnTo>
                    <a:pt x="22" y="55"/>
                  </a:lnTo>
                  <a:lnTo>
                    <a:pt x="26" y="56"/>
                  </a:lnTo>
                  <a:lnTo>
                    <a:pt x="29" y="56"/>
                  </a:lnTo>
                  <a:lnTo>
                    <a:pt x="33" y="57"/>
                  </a:lnTo>
                  <a:lnTo>
                    <a:pt x="37" y="56"/>
                  </a:lnTo>
                  <a:lnTo>
                    <a:pt x="40" y="56"/>
                  </a:lnTo>
                  <a:lnTo>
                    <a:pt x="44" y="55"/>
                  </a:lnTo>
                  <a:lnTo>
                    <a:pt x="47" y="54"/>
                  </a:lnTo>
                  <a:lnTo>
                    <a:pt x="49" y="53"/>
                  </a:lnTo>
                  <a:lnTo>
                    <a:pt x="50" y="52"/>
                  </a:lnTo>
                  <a:lnTo>
                    <a:pt x="52" y="51"/>
                  </a:lnTo>
                  <a:lnTo>
                    <a:pt x="53" y="49"/>
                  </a:lnTo>
                  <a:lnTo>
                    <a:pt x="53" y="48"/>
                  </a:lnTo>
                  <a:lnTo>
                    <a:pt x="54" y="45"/>
                  </a:lnTo>
                  <a:lnTo>
                    <a:pt x="54" y="43"/>
                  </a:lnTo>
                  <a:lnTo>
                    <a:pt x="55" y="40"/>
                  </a:lnTo>
                  <a:lnTo>
                    <a:pt x="50" y="42"/>
                  </a:lnTo>
                  <a:lnTo>
                    <a:pt x="45" y="44"/>
                  </a:lnTo>
                  <a:lnTo>
                    <a:pt x="39" y="45"/>
                  </a:lnTo>
                  <a:lnTo>
                    <a:pt x="33" y="45"/>
                  </a:lnTo>
                  <a:lnTo>
                    <a:pt x="25" y="45"/>
                  </a:lnTo>
                  <a:lnTo>
                    <a:pt x="19" y="43"/>
                  </a:lnTo>
                  <a:lnTo>
                    <a:pt x="13" y="42"/>
                  </a:lnTo>
                  <a:lnTo>
                    <a:pt x="8" y="39"/>
                  </a:lnTo>
                  <a:lnTo>
                    <a:pt x="4" y="35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6" y="9"/>
                  </a:lnTo>
                  <a:lnTo>
                    <a:pt x="8" y="7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9" y="1"/>
                  </a:lnTo>
                  <a:lnTo>
                    <a:pt x="45" y="2"/>
                  </a:lnTo>
                  <a:lnTo>
                    <a:pt x="50" y="4"/>
                  </a:lnTo>
                  <a:lnTo>
                    <a:pt x="56" y="7"/>
                  </a:lnTo>
                  <a:lnTo>
                    <a:pt x="56" y="2"/>
                  </a:lnTo>
                  <a:lnTo>
                    <a:pt x="67" y="2"/>
                  </a:lnTo>
                  <a:lnTo>
                    <a:pt x="67" y="40"/>
                  </a:lnTo>
                  <a:lnTo>
                    <a:pt x="67" y="44"/>
                  </a:lnTo>
                  <a:lnTo>
                    <a:pt x="66" y="48"/>
                  </a:lnTo>
                  <a:lnTo>
                    <a:pt x="65" y="51"/>
                  </a:lnTo>
                  <a:lnTo>
                    <a:pt x="64" y="54"/>
                  </a:lnTo>
                  <a:lnTo>
                    <a:pt x="62" y="55"/>
                  </a:lnTo>
                  <a:lnTo>
                    <a:pt x="59" y="57"/>
                  </a:lnTo>
                  <a:lnTo>
                    <a:pt x="56" y="59"/>
                  </a:lnTo>
                  <a:lnTo>
                    <a:pt x="53" y="60"/>
                  </a:lnTo>
                  <a:lnTo>
                    <a:pt x="48" y="61"/>
                  </a:lnTo>
                  <a:lnTo>
                    <a:pt x="44" y="62"/>
                  </a:lnTo>
                  <a:lnTo>
                    <a:pt x="38" y="62"/>
                  </a:lnTo>
                  <a:lnTo>
                    <a:pt x="33" y="63"/>
                  </a:lnTo>
                  <a:lnTo>
                    <a:pt x="26" y="62"/>
                  </a:lnTo>
                  <a:lnTo>
                    <a:pt x="20" y="62"/>
                  </a:lnTo>
                  <a:lnTo>
                    <a:pt x="15" y="60"/>
                  </a:lnTo>
                  <a:lnTo>
                    <a:pt x="11" y="59"/>
                  </a:lnTo>
                  <a:lnTo>
                    <a:pt x="7" y="57"/>
                  </a:lnTo>
                  <a:lnTo>
                    <a:pt x="4" y="54"/>
                  </a:lnTo>
                  <a:lnTo>
                    <a:pt x="2" y="52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467720" y="2949840"/>
              <a:ext cx="26640" cy="16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14" y="19"/>
                  </a:moveTo>
                  <a:lnTo>
                    <a:pt x="59" y="19"/>
                  </a:lnTo>
                  <a:lnTo>
                    <a:pt x="57" y="16"/>
                  </a:lnTo>
                  <a:lnTo>
                    <a:pt x="57" y="14"/>
                  </a:lnTo>
                  <a:lnTo>
                    <a:pt x="55" y="12"/>
                  </a:lnTo>
                  <a:lnTo>
                    <a:pt x="53" y="11"/>
                  </a:lnTo>
                  <a:lnTo>
                    <a:pt x="50" y="9"/>
                  </a:lnTo>
                  <a:lnTo>
                    <a:pt x="46" y="8"/>
                  </a:lnTo>
                  <a:lnTo>
                    <a:pt x="41" y="7"/>
                  </a:lnTo>
                  <a:lnTo>
                    <a:pt x="37" y="7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4" y="19"/>
                  </a:lnTo>
                  <a:close/>
                  <a:moveTo>
                    <a:pt x="59" y="31"/>
                  </a:moveTo>
                  <a:lnTo>
                    <a:pt x="71" y="32"/>
                  </a:lnTo>
                  <a:lnTo>
                    <a:pt x="69" y="35"/>
                  </a:lnTo>
                  <a:lnTo>
                    <a:pt x="66" y="38"/>
                  </a:lnTo>
                  <a:lnTo>
                    <a:pt x="63" y="40"/>
                  </a:lnTo>
                  <a:lnTo>
                    <a:pt x="59" y="42"/>
                  </a:lnTo>
                  <a:lnTo>
                    <a:pt x="54" y="44"/>
                  </a:lnTo>
                  <a:lnTo>
                    <a:pt x="49" y="45"/>
                  </a:lnTo>
                  <a:lnTo>
                    <a:pt x="43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5"/>
                  </a:lnTo>
                  <a:lnTo>
                    <a:pt x="16" y="43"/>
                  </a:lnTo>
                  <a:lnTo>
                    <a:pt x="10" y="40"/>
                  </a:lnTo>
                  <a:lnTo>
                    <a:pt x="6" y="37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10" y="6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7" y="4"/>
                  </a:lnTo>
                  <a:lnTo>
                    <a:pt x="62" y="6"/>
                  </a:lnTo>
                  <a:lnTo>
                    <a:pt x="66" y="10"/>
                  </a:lnTo>
                  <a:lnTo>
                    <a:pt x="69" y="14"/>
                  </a:lnTo>
                  <a:lnTo>
                    <a:pt x="70" y="1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5"/>
                  </a:lnTo>
                  <a:lnTo>
                    <a:pt x="14" y="25"/>
                  </a:lnTo>
                  <a:lnTo>
                    <a:pt x="14" y="29"/>
                  </a:lnTo>
                  <a:lnTo>
                    <a:pt x="16" y="32"/>
                  </a:lnTo>
                  <a:lnTo>
                    <a:pt x="18" y="34"/>
                  </a:lnTo>
                  <a:lnTo>
                    <a:pt x="21" y="36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2" y="40"/>
                  </a:lnTo>
                  <a:lnTo>
                    <a:pt x="37" y="40"/>
                  </a:lnTo>
                  <a:lnTo>
                    <a:pt x="41" y="40"/>
                  </a:lnTo>
                  <a:lnTo>
                    <a:pt x="44" y="40"/>
                  </a:lnTo>
                  <a:lnTo>
                    <a:pt x="47" y="39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4" y="35"/>
                  </a:lnTo>
                  <a:lnTo>
                    <a:pt x="56" y="33"/>
                  </a:lnTo>
                  <a:lnTo>
                    <a:pt x="5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364400" y="3021120"/>
              <a:ext cx="31680" cy="219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6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70" y="47"/>
                  </a:lnTo>
                  <a:lnTo>
                    <a:pt x="70" y="0"/>
                  </a:lnTo>
                  <a:lnTo>
                    <a:pt x="86" y="0"/>
                  </a:lnTo>
                  <a:lnTo>
                    <a:pt x="86" y="61"/>
                  </a:lnTo>
                  <a:lnTo>
                    <a:pt x="70" y="61"/>
                  </a:lnTo>
                  <a:lnTo>
                    <a:pt x="14" y="13"/>
                  </a:lnTo>
                  <a:lnTo>
                    <a:pt x="14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402560" y="3021120"/>
              <a:ext cx="26640" cy="21960"/>
            </a:xfrm>
            <a:custGeom>
              <a:avLst/>
              <a:gdLst/>
              <a:ahLst/>
              <a:rect l="l" t="t" r="r" b="b"/>
              <a:pathLst>
                <a:path w="75" h="62">
                  <a:moveTo>
                    <a:pt x="14" y="34"/>
                  </a:moveTo>
                  <a:lnTo>
                    <a:pt x="60" y="34"/>
                  </a:lnTo>
                  <a:lnTo>
                    <a:pt x="59" y="32"/>
                  </a:lnTo>
                  <a:lnTo>
                    <a:pt x="58" y="29"/>
                  </a:lnTo>
                  <a:lnTo>
                    <a:pt x="56" y="27"/>
                  </a:lnTo>
                  <a:lnTo>
                    <a:pt x="55" y="26"/>
                  </a:lnTo>
                  <a:lnTo>
                    <a:pt x="51" y="24"/>
                  </a:lnTo>
                  <a:lnTo>
                    <a:pt x="47" y="23"/>
                  </a:lnTo>
                  <a:lnTo>
                    <a:pt x="42" y="22"/>
                  </a:lnTo>
                  <a:lnTo>
                    <a:pt x="37" y="22"/>
                  </a:lnTo>
                  <a:lnTo>
                    <a:pt x="33" y="22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21" y="25"/>
                  </a:lnTo>
                  <a:lnTo>
                    <a:pt x="19" y="27"/>
                  </a:lnTo>
                  <a:lnTo>
                    <a:pt x="16" y="29"/>
                  </a:lnTo>
                  <a:lnTo>
                    <a:pt x="15" y="31"/>
                  </a:lnTo>
                  <a:lnTo>
                    <a:pt x="14" y="34"/>
                  </a:lnTo>
                  <a:close/>
                  <a:moveTo>
                    <a:pt x="26" y="11"/>
                  </a:moveTo>
                  <a:lnTo>
                    <a:pt x="37" y="0"/>
                  </a:lnTo>
                  <a:lnTo>
                    <a:pt x="55" y="0"/>
                  </a:lnTo>
                  <a:lnTo>
                    <a:pt x="37" y="11"/>
                  </a:lnTo>
                  <a:lnTo>
                    <a:pt x="26" y="11"/>
                  </a:lnTo>
                  <a:close/>
                  <a:moveTo>
                    <a:pt x="60" y="46"/>
                  </a:moveTo>
                  <a:lnTo>
                    <a:pt x="73" y="47"/>
                  </a:lnTo>
                  <a:lnTo>
                    <a:pt x="72" y="50"/>
                  </a:lnTo>
                  <a:lnTo>
                    <a:pt x="69" y="53"/>
                  </a:lnTo>
                  <a:lnTo>
                    <a:pt x="65" y="55"/>
                  </a:lnTo>
                  <a:lnTo>
                    <a:pt x="62" y="57"/>
                  </a:lnTo>
                  <a:lnTo>
                    <a:pt x="56" y="59"/>
                  </a:lnTo>
                  <a:lnTo>
                    <a:pt x="51" y="60"/>
                  </a:lnTo>
                  <a:lnTo>
                    <a:pt x="45" y="61"/>
                  </a:lnTo>
                  <a:lnTo>
                    <a:pt x="38" y="61"/>
                  </a:lnTo>
                  <a:lnTo>
                    <a:pt x="29" y="61"/>
                  </a:lnTo>
                  <a:lnTo>
                    <a:pt x="22" y="60"/>
                  </a:lnTo>
                  <a:lnTo>
                    <a:pt x="16" y="58"/>
                  </a:lnTo>
                  <a:lnTo>
                    <a:pt x="10" y="55"/>
                  </a:lnTo>
                  <a:lnTo>
                    <a:pt x="6" y="52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6" y="25"/>
                  </a:lnTo>
                  <a:lnTo>
                    <a:pt x="10" y="21"/>
                  </a:lnTo>
                  <a:lnTo>
                    <a:pt x="16" y="19"/>
                  </a:lnTo>
                  <a:lnTo>
                    <a:pt x="22" y="17"/>
                  </a:lnTo>
                  <a:lnTo>
                    <a:pt x="29" y="16"/>
                  </a:lnTo>
                  <a:lnTo>
                    <a:pt x="37" y="15"/>
                  </a:lnTo>
                  <a:lnTo>
                    <a:pt x="45" y="16"/>
                  </a:lnTo>
                  <a:lnTo>
                    <a:pt x="52" y="17"/>
                  </a:lnTo>
                  <a:lnTo>
                    <a:pt x="58" y="19"/>
                  </a:lnTo>
                  <a:lnTo>
                    <a:pt x="64" y="21"/>
                  </a:lnTo>
                  <a:lnTo>
                    <a:pt x="68" y="25"/>
                  </a:lnTo>
                  <a:lnTo>
                    <a:pt x="71" y="29"/>
                  </a:lnTo>
                  <a:lnTo>
                    <a:pt x="73" y="33"/>
                  </a:lnTo>
                  <a:lnTo>
                    <a:pt x="74" y="39"/>
                  </a:lnTo>
                  <a:lnTo>
                    <a:pt x="74" y="39"/>
                  </a:lnTo>
                  <a:lnTo>
                    <a:pt x="74" y="39"/>
                  </a:lnTo>
                  <a:lnTo>
                    <a:pt x="74" y="39"/>
                  </a:lnTo>
                  <a:lnTo>
                    <a:pt x="74" y="41"/>
                  </a:lnTo>
                  <a:lnTo>
                    <a:pt x="13" y="41"/>
                  </a:lnTo>
                  <a:lnTo>
                    <a:pt x="14" y="44"/>
                  </a:lnTo>
                  <a:lnTo>
                    <a:pt x="15" y="47"/>
                  </a:lnTo>
                  <a:lnTo>
                    <a:pt x="18" y="49"/>
                  </a:lnTo>
                  <a:lnTo>
                    <a:pt x="21" y="51"/>
                  </a:lnTo>
                  <a:lnTo>
                    <a:pt x="24" y="53"/>
                  </a:lnTo>
                  <a:lnTo>
                    <a:pt x="28" y="54"/>
                  </a:lnTo>
                  <a:lnTo>
                    <a:pt x="33" y="55"/>
                  </a:lnTo>
                  <a:lnTo>
                    <a:pt x="38" y="55"/>
                  </a:lnTo>
                  <a:lnTo>
                    <a:pt x="42" y="55"/>
                  </a:lnTo>
                  <a:lnTo>
                    <a:pt x="46" y="55"/>
                  </a:lnTo>
                  <a:lnTo>
                    <a:pt x="48" y="54"/>
                  </a:lnTo>
                  <a:lnTo>
                    <a:pt x="51" y="53"/>
                  </a:lnTo>
                  <a:lnTo>
                    <a:pt x="54" y="52"/>
                  </a:lnTo>
                  <a:lnTo>
                    <a:pt x="56" y="50"/>
                  </a:lnTo>
                  <a:lnTo>
                    <a:pt x="58" y="48"/>
                  </a:lnTo>
                  <a:lnTo>
                    <a:pt x="6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432800" y="3025800"/>
              <a:ext cx="26640" cy="172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15" y="19"/>
                  </a:moveTo>
                  <a:lnTo>
                    <a:pt x="61" y="19"/>
                  </a:lnTo>
                  <a:lnTo>
                    <a:pt x="60" y="17"/>
                  </a:lnTo>
                  <a:lnTo>
                    <a:pt x="59" y="14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2" y="9"/>
                  </a:lnTo>
                  <a:lnTo>
                    <a:pt x="48" y="8"/>
                  </a:lnTo>
                  <a:lnTo>
                    <a:pt x="43" y="7"/>
                  </a:lnTo>
                  <a:lnTo>
                    <a:pt x="38" y="7"/>
                  </a:lnTo>
                  <a:lnTo>
                    <a:pt x="33" y="7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5" y="16"/>
                  </a:lnTo>
                  <a:lnTo>
                    <a:pt x="15" y="19"/>
                  </a:lnTo>
                  <a:close/>
                  <a:moveTo>
                    <a:pt x="61" y="31"/>
                  </a:moveTo>
                  <a:lnTo>
                    <a:pt x="74" y="32"/>
                  </a:lnTo>
                  <a:lnTo>
                    <a:pt x="72" y="35"/>
                  </a:lnTo>
                  <a:lnTo>
                    <a:pt x="69" y="38"/>
                  </a:lnTo>
                  <a:lnTo>
                    <a:pt x="66" y="40"/>
                  </a:lnTo>
                  <a:lnTo>
                    <a:pt x="62" y="42"/>
                  </a:lnTo>
                  <a:lnTo>
                    <a:pt x="57" y="44"/>
                  </a:lnTo>
                  <a:lnTo>
                    <a:pt x="51" y="45"/>
                  </a:lnTo>
                  <a:lnTo>
                    <a:pt x="45" y="46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5"/>
                  </a:lnTo>
                  <a:lnTo>
                    <a:pt x="17" y="43"/>
                  </a:lnTo>
                  <a:lnTo>
                    <a:pt x="11" y="40"/>
                  </a:lnTo>
                  <a:lnTo>
                    <a:pt x="6" y="37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11" y="6"/>
                  </a:lnTo>
                  <a:lnTo>
                    <a:pt x="17" y="4"/>
                  </a:lnTo>
                  <a:lnTo>
                    <a:pt x="22" y="2"/>
                  </a:lnTo>
                  <a:lnTo>
                    <a:pt x="30" y="1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3" y="2"/>
                  </a:lnTo>
                  <a:lnTo>
                    <a:pt x="59" y="4"/>
                  </a:lnTo>
                  <a:lnTo>
                    <a:pt x="65" y="6"/>
                  </a:lnTo>
                  <a:lnTo>
                    <a:pt x="69" y="10"/>
                  </a:lnTo>
                  <a:lnTo>
                    <a:pt x="72" y="14"/>
                  </a:lnTo>
                  <a:lnTo>
                    <a:pt x="74" y="18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26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6" y="32"/>
                  </a:lnTo>
                  <a:lnTo>
                    <a:pt x="18" y="34"/>
                  </a:lnTo>
                  <a:lnTo>
                    <a:pt x="22" y="36"/>
                  </a:lnTo>
                  <a:lnTo>
                    <a:pt x="25" y="38"/>
                  </a:lnTo>
                  <a:lnTo>
                    <a:pt x="29" y="39"/>
                  </a:lnTo>
                  <a:lnTo>
                    <a:pt x="34" y="40"/>
                  </a:lnTo>
                  <a:lnTo>
                    <a:pt x="40" y="40"/>
                  </a:lnTo>
                  <a:lnTo>
                    <a:pt x="42" y="40"/>
                  </a:lnTo>
                  <a:lnTo>
                    <a:pt x="46" y="40"/>
                  </a:lnTo>
                  <a:lnTo>
                    <a:pt x="49" y="39"/>
                  </a:lnTo>
                  <a:lnTo>
                    <a:pt x="52" y="38"/>
                  </a:lnTo>
                  <a:lnTo>
                    <a:pt x="54" y="37"/>
                  </a:lnTo>
                  <a:lnTo>
                    <a:pt x="57" y="35"/>
                  </a:lnTo>
                  <a:lnTo>
                    <a:pt x="58" y="33"/>
                  </a:lnTo>
                  <a:lnTo>
                    <a:pt x="6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466280" y="3025800"/>
              <a:ext cx="15480" cy="172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0" y="46"/>
                  </a:moveTo>
                  <a:lnTo>
                    <a:pt x="0" y="2"/>
                  </a:lnTo>
                  <a:lnTo>
                    <a:pt x="11" y="2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37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3" y="22"/>
                  </a:lnTo>
                  <a:lnTo>
                    <a:pt x="13" y="46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485360" y="302112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2">
                  <a:moveTo>
                    <a:pt x="0" y="61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494720" y="3025800"/>
              <a:ext cx="26640" cy="17280"/>
            </a:xfrm>
            <a:custGeom>
              <a:avLst/>
              <a:gdLst/>
              <a:ahLst/>
              <a:rect l="l" t="t" r="r" b="b"/>
              <a:pathLst>
                <a:path w="75" h="47">
                  <a:moveTo>
                    <a:pt x="57" y="24"/>
                  </a:moveTo>
                  <a:lnTo>
                    <a:pt x="52" y="24"/>
                  </a:lnTo>
                  <a:lnTo>
                    <a:pt x="47" y="25"/>
                  </a:lnTo>
                  <a:lnTo>
                    <a:pt x="41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2" y="27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6" y="31"/>
                  </a:lnTo>
                  <a:lnTo>
                    <a:pt x="15" y="32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9" y="38"/>
                  </a:lnTo>
                  <a:lnTo>
                    <a:pt x="21" y="39"/>
                  </a:lnTo>
                  <a:lnTo>
                    <a:pt x="24" y="40"/>
                  </a:lnTo>
                  <a:lnTo>
                    <a:pt x="27" y="40"/>
                  </a:lnTo>
                  <a:lnTo>
                    <a:pt x="31" y="40"/>
                  </a:lnTo>
                  <a:lnTo>
                    <a:pt x="35" y="40"/>
                  </a:lnTo>
                  <a:lnTo>
                    <a:pt x="38" y="40"/>
                  </a:lnTo>
                  <a:lnTo>
                    <a:pt x="42" y="39"/>
                  </a:lnTo>
                  <a:lnTo>
                    <a:pt x="45" y="38"/>
                  </a:lnTo>
                  <a:lnTo>
                    <a:pt x="48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54" y="34"/>
                  </a:lnTo>
                  <a:lnTo>
                    <a:pt x="55" y="32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7" y="26"/>
                  </a:lnTo>
                  <a:lnTo>
                    <a:pt x="57" y="24"/>
                  </a:lnTo>
                  <a:close/>
                  <a:moveTo>
                    <a:pt x="57" y="40"/>
                  </a:moveTo>
                  <a:lnTo>
                    <a:pt x="54" y="41"/>
                  </a:lnTo>
                  <a:lnTo>
                    <a:pt x="50" y="43"/>
                  </a:lnTo>
                  <a:lnTo>
                    <a:pt x="46" y="44"/>
                  </a:lnTo>
                  <a:lnTo>
                    <a:pt x="43" y="45"/>
                  </a:lnTo>
                  <a:lnTo>
                    <a:pt x="39" y="45"/>
                  </a:lnTo>
                  <a:lnTo>
                    <a:pt x="36" y="46"/>
                  </a:lnTo>
                  <a:lnTo>
                    <a:pt x="32" y="46"/>
                  </a:lnTo>
                  <a:lnTo>
                    <a:pt x="28" y="46"/>
                  </a:lnTo>
                  <a:lnTo>
                    <a:pt x="21" y="46"/>
                  </a:lnTo>
                  <a:lnTo>
                    <a:pt x="16" y="45"/>
                  </a:lnTo>
                  <a:lnTo>
                    <a:pt x="11" y="44"/>
                  </a:lnTo>
                  <a:lnTo>
                    <a:pt x="8" y="43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3" y="28"/>
                  </a:lnTo>
                  <a:lnTo>
                    <a:pt x="5" y="27"/>
                  </a:lnTo>
                  <a:lnTo>
                    <a:pt x="7" y="26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2" y="23"/>
                  </a:lnTo>
                  <a:lnTo>
                    <a:pt x="15" y="22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20"/>
                  </a:lnTo>
                  <a:lnTo>
                    <a:pt x="32" y="20"/>
                  </a:lnTo>
                  <a:lnTo>
                    <a:pt x="40" y="20"/>
                  </a:lnTo>
                  <a:lnTo>
                    <a:pt x="46" y="19"/>
                  </a:lnTo>
                  <a:lnTo>
                    <a:pt x="52" y="18"/>
                  </a:lnTo>
                  <a:lnTo>
                    <a:pt x="57" y="18"/>
                  </a:lnTo>
                  <a:lnTo>
                    <a:pt x="57" y="17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6" y="13"/>
                  </a:lnTo>
                  <a:lnTo>
                    <a:pt x="55" y="12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0" y="8"/>
                  </a:lnTo>
                  <a:lnTo>
                    <a:pt x="46" y="8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6" y="8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5" y="2"/>
                  </a:lnTo>
                  <a:lnTo>
                    <a:pt x="59" y="2"/>
                  </a:lnTo>
                  <a:lnTo>
                    <a:pt x="61" y="3"/>
                  </a:lnTo>
                  <a:lnTo>
                    <a:pt x="63" y="4"/>
                  </a:lnTo>
                  <a:lnTo>
                    <a:pt x="65" y="5"/>
                  </a:lnTo>
                  <a:lnTo>
                    <a:pt x="66" y="6"/>
                  </a:lnTo>
                  <a:lnTo>
                    <a:pt x="68" y="7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0" y="11"/>
                  </a:lnTo>
                  <a:lnTo>
                    <a:pt x="70" y="13"/>
                  </a:lnTo>
                  <a:lnTo>
                    <a:pt x="70" y="15"/>
                  </a:lnTo>
                  <a:lnTo>
                    <a:pt x="70" y="17"/>
                  </a:lnTo>
                  <a:lnTo>
                    <a:pt x="70" y="27"/>
                  </a:lnTo>
                  <a:lnTo>
                    <a:pt x="70" y="32"/>
                  </a:lnTo>
                  <a:lnTo>
                    <a:pt x="70" y="35"/>
                  </a:lnTo>
                  <a:lnTo>
                    <a:pt x="70" y="38"/>
                  </a:lnTo>
                  <a:lnTo>
                    <a:pt x="71" y="40"/>
                  </a:lnTo>
                  <a:lnTo>
                    <a:pt x="71" y="41"/>
                  </a:lnTo>
                  <a:lnTo>
                    <a:pt x="72" y="42"/>
                  </a:lnTo>
                  <a:lnTo>
                    <a:pt x="73" y="44"/>
                  </a:lnTo>
                  <a:lnTo>
                    <a:pt x="74" y="46"/>
                  </a:lnTo>
                  <a:lnTo>
                    <a:pt x="61" y="46"/>
                  </a:lnTo>
                  <a:lnTo>
                    <a:pt x="59" y="44"/>
                  </a:lnTo>
                  <a:lnTo>
                    <a:pt x="58" y="43"/>
                  </a:lnTo>
                  <a:lnTo>
                    <a:pt x="57" y="41"/>
                  </a:lnTo>
                  <a:lnTo>
                    <a:pt x="5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528200" y="3025800"/>
              <a:ext cx="23400" cy="17280"/>
            </a:xfrm>
            <a:custGeom>
              <a:avLst/>
              <a:gdLst/>
              <a:ahLst/>
              <a:rect l="l" t="t" r="r" b="b"/>
              <a:pathLst>
                <a:path w="65" h="47">
                  <a:moveTo>
                    <a:pt x="0" y="46"/>
                  </a:moveTo>
                  <a:lnTo>
                    <a:pt x="0" y="2"/>
                  </a:lnTo>
                  <a:lnTo>
                    <a:pt x="13" y="2"/>
                  </a:lnTo>
                  <a:lnTo>
                    <a:pt x="13" y="8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3" y="2"/>
                  </a:lnTo>
                  <a:lnTo>
                    <a:pt x="56" y="4"/>
                  </a:lnTo>
                  <a:lnTo>
                    <a:pt x="58" y="4"/>
                  </a:lnTo>
                  <a:lnTo>
                    <a:pt x="59" y="6"/>
                  </a:lnTo>
                  <a:lnTo>
                    <a:pt x="60" y="7"/>
                  </a:lnTo>
                  <a:lnTo>
                    <a:pt x="62" y="8"/>
                  </a:lnTo>
                  <a:lnTo>
                    <a:pt x="62" y="10"/>
                  </a:lnTo>
                  <a:lnTo>
                    <a:pt x="64" y="11"/>
                  </a:lnTo>
                  <a:lnTo>
                    <a:pt x="64" y="12"/>
                  </a:lnTo>
                  <a:lnTo>
                    <a:pt x="64" y="14"/>
                  </a:lnTo>
                  <a:lnTo>
                    <a:pt x="64" y="16"/>
                  </a:lnTo>
                  <a:lnTo>
                    <a:pt x="64" y="18"/>
                  </a:lnTo>
                  <a:lnTo>
                    <a:pt x="64" y="46"/>
                  </a:lnTo>
                  <a:lnTo>
                    <a:pt x="50" y="46"/>
                  </a:lnTo>
                  <a:lnTo>
                    <a:pt x="50" y="19"/>
                  </a:lnTo>
                  <a:lnTo>
                    <a:pt x="49" y="17"/>
                  </a:lnTo>
                  <a:lnTo>
                    <a:pt x="49" y="15"/>
                  </a:lnTo>
                  <a:lnTo>
                    <a:pt x="49" y="13"/>
                  </a:lnTo>
                  <a:lnTo>
                    <a:pt x="49" y="12"/>
                  </a:lnTo>
                  <a:lnTo>
                    <a:pt x="48" y="11"/>
                  </a:lnTo>
                  <a:lnTo>
                    <a:pt x="47" y="10"/>
                  </a:lnTo>
                  <a:lnTo>
                    <a:pt x="45" y="9"/>
                  </a:lnTo>
                  <a:lnTo>
                    <a:pt x="44" y="8"/>
                  </a:lnTo>
                  <a:lnTo>
                    <a:pt x="41" y="8"/>
                  </a:lnTo>
                  <a:lnTo>
                    <a:pt x="39" y="7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7"/>
                  </a:lnTo>
                  <a:lnTo>
                    <a:pt x="26" y="8"/>
                  </a:lnTo>
                  <a:lnTo>
                    <a:pt x="23" y="9"/>
                  </a:lnTo>
                  <a:lnTo>
                    <a:pt x="20" y="10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4" y="18"/>
                  </a:lnTo>
                  <a:lnTo>
                    <a:pt x="14" y="22"/>
                  </a:lnTo>
                  <a:lnTo>
                    <a:pt x="14" y="46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556640" y="3021120"/>
              <a:ext cx="24840" cy="219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14" y="39"/>
                  </a:moveTo>
                  <a:lnTo>
                    <a:pt x="14" y="42"/>
                  </a:lnTo>
                  <a:lnTo>
                    <a:pt x="15" y="46"/>
                  </a:lnTo>
                  <a:lnTo>
                    <a:pt x="18" y="49"/>
                  </a:lnTo>
                  <a:lnTo>
                    <a:pt x="21" y="51"/>
                  </a:lnTo>
                  <a:lnTo>
                    <a:pt x="23" y="53"/>
                  </a:lnTo>
                  <a:lnTo>
                    <a:pt x="27" y="54"/>
                  </a:lnTo>
                  <a:lnTo>
                    <a:pt x="31" y="55"/>
                  </a:lnTo>
                  <a:lnTo>
                    <a:pt x="36" y="55"/>
                  </a:lnTo>
                  <a:lnTo>
                    <a:pt x="40" y="55"/>
                  </a:lnTo>
                  <a:lnTo>
                    <a:pt x="45" y="54"/>
                  </a:lnTo>
                  <a:lnTo>
                    <a:pt x="48" y="53"/>
                  </a:lnTo>
                  <a:lnTo>
                    <a:pt x="52" y="51"/>
                  </a:lnTo>
                  <a:lnTo>
                    <a:pt x="55" y="49"/>
                  </a:lnTo>
                  <a:lnTo>
                    <a:pt x="57" y="46"/>
                  </a:lnTo>
                  <a:lnTo>
                    <a:pt x="58" y="43"/>
                  </a:lnTo>
                  <a:lnTo>
                    <a:pt x="58" y="39"/>
                  </a:lnTo>
                  <a:lnTo>
                    <a:pt x="58" y="35"/>
                  </a:lnTo>
                  <a:lnTo>
                    <a:pt x="57" y="31"/>
                  </a:lnTo>
                  <a:lnTo>
                    <a:pt x="54" y="28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1" y="22"/>
                  </a:lnTo>
                  <a:lnTo>
                    <a:pt x="27" y="23"/>
                  </a:lnTo>
                  <a:lnTo>
                    <a:pt x="23" y="24"/>
                  </a:lnTo>
                  <a:lnTo>
                    <a:pt x="21" y="26"/>
                  </a:lnTo>
                  <a:lnTo>
                    <a:pt x="18" y="28"/>
                  </a:lnTo>
                  <a:lnTo>
                    <a:pt x="15" y="31"/>
                  </a:lnTo>
                  <a:lnTo>
                    <a:pt x="14" y="35"/>
                  </a:lnTo>
                  <a:lnTo>
                    <a:pt x="14" y="39"/>
                  </a:lnTo>
                  <a:close/>
                  <a:moveTo>
                    <a:pt x="58" y="61"/>
                  </a:moveTo>
                  <a:lnTo>
                    <a:pt x="58" y="55"/>
                  </a:lnTo>
                  <a:lnTo>
                    <a:pt x="53" y="57"/>
                  </a:lnTo>
                  <a:lnTo>
                    <a:pt x="48" y="59"/>
                  </a:lnTo>
                  <a:lnTo>
                    <a:pt x="41" y="61"/>
                  </a:lnTo>
                  <a:lnTo>
                    <a:pt x="35" y="61"/>
                  </a:lnTo>
                  <a:lnTo>
                    <a:pt x="30" y="61"/>
                  </a:lnTo>
                  <a:lnTo>
                    <a:pt x="25" y="61"/>
                  </a:lnTo>
                  <a:lnTo>
                    <a:pt x="21" y="59"/>
                  </a:lnTo>
                  <a:lnTo>
                    <a:pt x="18" y="59"/>
                  </a:lnTo>
                  <a:lnTo>
                    <a:pt x="13" y="57"/>
                  </a:lnTo>
                  <a:lnTo>
                    <a:pt x="11" y="55"/>
                  </a:lnTo>
                  <a:lnTo>
                    <a:pt x="7" y="53"/>
                  </a:lnTo>
                  <a:lnTo>
                    <a:pt x="5" y="50"/>
                  </a:lnTo>
                  <a:lnTo>
                    <a:pt x="3" y="48"/>
                  </a:lnTo>
                  <a:lnTo>
                    <a:pt x="2" y="45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1" y="32"/>
                  </a:lnTo>
                  <a:lnTo>
                    <a:pt x="2" y="29"/>
                  </a:lnTo>
                  <a:lnTo>
                    <a:pt x="5" y="26"/>
                  </a:lnTo>
                  <a:lnTo>
                    <a:pt x="6" y="24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6" y="18"/>
                  </a:lnTo>
                  <a:lnTo>
                    <a:pt x="20" y="17"/>
                  </a:lnTo>
                  <a:lnTo>
                    <a:pt x="25" y="16"/>
                  </a:lnTo>
                  <a:lnTo>
                    <a:pt x="29" y="15"/>
                  </a:lnTo>
                  <a:lnTo>
                    <a:pt x="34" y="15"/>
                  </a:lnTo>
                  <a:lnTo>
                    <a:pt x="38" y="15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7"/>
                  </a:lnTo>
                  <a:lnTo>
                    <a:pt x="50" y="18"/>
                  </a:lnTo>
                  <a:lnTo>
                    <a:pt x="52" y="19"/>
                  </a:lnTo>
                  <a:lnTo>
                    <a:pt x="54" y="20"/>
                  </a:lnTo>
                  <a:lnTo>
                    <a:pt x="57" y="22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70" y="61"/>
                  </a:lnTo>
                  <a:lnTo>
                    <a:pt x="58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588320" y="3025800"/>
              <a:ext cx="26640" cy="17280"/>
            </a:xfrm>
            <a:custGeom>
              <a:avLst/>
              <a:gdLst/>
              <a:ahLst/>
              <a:rect l="l" t="t" r="r" b="b"/>
              <a:pathLst>
                <a:path w="75" h="47">
                  <a:moveTo>
                    <a:pt x="57" y="24"/>
                  </a:moveTo>
                  <a:lnTo>
                    <a:pt x="52" y="24"/>
                  </a:lnTo>
                  <a:lnTo>
                    <a:pt x="47" y="25"/>
                  </a:lnTo>
                  <a:lnTo>
                    <a:pt x="41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2" y="27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5" y="36"/>
                  </a:lnTo>
                  <a:lnTo>
                    <a:pt x="17" y="37"/>
                  </a:lnTo>
                  <a:lnTo>
                    <a:pt x="19" y="38"/>
                  </a:lnTo>
                  <a:lnTo>
                    <a:pt x="21" y="39"/>
                  </a:lnTo>
                  <a:lnTo>
                    <a:pt x="24" y="40"/>
                  </a:lnTo>
                  <a:lnTo>
                    <a:pt x="27" y="40"/>
                  </a:lnTo>
                  <a:lnTo>
                    <a:pt x="31" y="40"/>
                  </a:lnTo>
                  <a:lnTo>
                    <a:pt x="35" y="40"/>
                  </a:lnTo>
                  <a:lnTo>
                    <a:pt x="38" y="40"/>
                  </a:lnTo>
                  <a:lnTo>
                    <a:pt x="42" y="39"/>
                  </a:lnTo>
                  <a:lnTo>
                    <a:pt x="45" y="38"/>
                  </a:lnTo>
                  <a:lnTo>
                    <a:pt x="48" y="38"/>
                  </a:lnTo>
                  <a:lnTo>
                    <a:pt x="51" y="37"/>
                  </a:lnTo>
                  <a:lnTo>
                    <a:pt x="53" y="35"/>
                  </a:lnTo>
                  <a:lnTo>
                    <a:pt x="54" y="34"/>
                  </a:lnTo>
                  <a:lnTo>
                    <a:pt x="55" y="32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7" y="26"/>
                  </a:lnTo>
                  <a:lnTo>
                    <a:pt x="57" y="24"/>
                  </a:lnTo>
                  <a:close/>
                  <a:moveTo>
                    <a:pt x="58" y="40"/>
                  </a:moveTo>
                  <a:lnTo>
                    <a:pt x="54" y="41"/>
                  </a:lnTo>
                  <a:lnTo>
                    <a:pt x="51" y="43"/>
                  </a:lnTo>
                  <a:lnTo>
                    <a:pt x="47" y="44"/>
                  </a:lnTo>
                  <a:lnTo>
                    <a:pt x="44" y="45"/>
                  </a:lnTo>
                  <a:lnTo>
                    <a:pt x="40" y="45"/>
                  </a:lnTo>
                  <a:lnTo>
                    <a:pt x="36" y="46"/>
                  </a:lnTo>
                  <a:lnTo>
                    <a:pt x="32" y="46"/>
                  </a:lnTo>
                  <a:lnTo>
                    <a:pt x="28" y="46"/>
                  </a:lnTo>
                  <a:lnTo>
                    <a:pt x="22" y="46"/>
                  </a:lnTo>
                  <a:lnTo>
                    <a:pt x="16" y="45"/>
                  </a:lnTo>
                  <a:lnTo>
                    <a:pt x="11" y="44"/>
                  </a:lnTo>
                  <a:lnTo>
                    <a:pt x="8" y="43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31"/>
                  </a:lnTo>
                  <a:lnTo>
                    <a:pt x="2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3" y="23"/>
                  </a:lnTo>
                  <a:lnTo>
                    <a:pt x="15" y="22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20"/>
                  </a:lnTo>
                  <a:lnTo>
                    <a:pt x="33" y="20"/>
                  </a:lnTo>
                  <a:lnTo>
                    <a:pt x="40" y="20"/>
                  </a:lnTo>
                  <a:lnTo>
                    <a:pt x="47" y="19"/>
                  </a:lnTo>
                  <a:lnTo>
                    <a:pt x="52" y="18"/>
                  </a:lnTo>
                  <a:lnTo>
                    <a:pt x="57" y="18"/>
                  </a:lnTo>
                  <a:lnTo>
                    <a:pt x="57" y="17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6" y="13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0" y="8"/>
                  </a:lnTo>
                  <a:lnTo>
                    <a:pt x="46" y="8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3" y="7"/>
                  </a:lnTo>
                  <a:lnTo>
                    <a:pt x="29" y="7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59" y="2"/>
                  </a:lnTo>
                  <a:lnTo>
                    <a:pt x="61" y="3"/>
                  </a:lnTo>
                  <a:lnTo>
                    <a:pt x="63" y="4"/>
                  </a:lnTo>
                  <a:lnTo>
                    <a:pt x="65" y="5"/>
                  </a:lnTo>
                  <a:lnTo>
                    <a:pt x="67" y="6"/>
                  </a:lnTo>
                  <a:lnTo>
                    <a:pt x="68" y="7"/>
                  </a:lnTo>
                  <a:lnTo>
                    <a:pt x="68" y="9"/>
                  </a:lnTo>
                  <a:lnTo>
                    <a:pt x="69" y="10"/>
                  </a:lnTo>
                  <a:lnTo>
                    <a:pt x="69" y="11"/>
                  </a:lnTo>
                  <a:lnTo>
                    <a:pt x="69" y="13"/>
                  </a:lnTo>
                  <a:lnTo>
                    <a:pt x="69" y="15"/>
                  </a:lnTo>
                  <a:lnTo>
                    <a:pt x="70" y="17"/>
                  </a:lnTo>
                  <a:lnTo>
                    <a:pt x="70" y="27"/>
                  </a:lnTo>
                  <a:lnTo>
                    <a:pt x="70" y="32"/>
                  </a:lnTo>
                  <a:lnTo>
                    <a:pt x="70" y="35"/>
                  </a:lnTo>
                  <a:lnTo>
                    <a:pt x="71" y="38"/>
                  </a:lnTo>
                  <a:lnTo>
                    <a:pt x="71" y="40"/>
                  </a:lnTo>
                  <a:lnTo>
                    <a:pt x="71" y="41"/>
                  </a:lnTo>
                  <a:lnTo>
                    <a:pt x="72" y="42"/>
                  </a:lnTo>
                  <a:lnTo>
                    <a:pt x="73" y="44"/>
                  </a:lnTo>
                  <a:lnTo>
                    <a:pt x="74" y="46"/>
                  </a:lnTo>
                  <a:lnTo>
                    <a:pt x="60" y="46"/>
                  </a:lnTo>
                  <a:lnTo>
                    <a:pt x="59" y="44"/>
                  </a:lnTo>
                  <a:lnTo>
                    <a:pt x="58" y="43"/>
                  </a:lnTo>
                  <a:lnTo>
                    <a:pt x="58" y="41"/>
                  </a:lnTo>
                  <a:lnTo>
                    <a:pt x="5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620000" y="3021120"/>
              <a:ext cx="4680" cy="21960"/>
            </a:xfrm>
            <a:custGeom>
              <a:avLst/>
              <a:gdLst/>
              <a:ahLst/>
              <a:rect l="l" t="t" r="r" b="b"/>
              <a:pathLst>
                <a:path w="15" h="62">
                  <a:moveTo>
                    <a:pt x="0" y="61"/>
                  </a:moveTo>
                  <a:lnTo>
                    <a:pt x="0" y="17"/>
                  </a:lnTo>
                  <a:lnTo>
                    <a:pt x="14" y="17"/>
                  </a:lnTo>
                  <a:lnTo>
                    <a:pt x="14" y="61"/>
                  </a:lnTo>
                  <a:lnTo>
                    <a:pt x="0" y="61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631160" y="3025800"/>
              <a:ext cx="23400" cy="1728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0" y="32"/>
                  </a:moveTo>
                  <a:lnTo>
                    <a:pt x="14" y="31"/>
                  </a:lnTo>
                  <a:lnTo>
                    <a:pt x="14" y="33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20" y="38"/>
                  </a:lnTo>
                  <a:lnTo>
                    <a:pt x="23" y="39"/>
                  </a:lnTo>
                  <a:lnTo>
                    <a:pt x="26" y="40"/>
                  </a:lnTo>
                  <a:lnTo>
                    <a:pt x="29" y="40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44" y="39"/>
                  </a:lnTo>
                  <a:lnTo>
                    <a:pt x="48" y="38"/>
                  </a:lnTo>
                  <a:lnTo>
                    <a:pt x="50" y="37"/>
                  </a:lnTo>
                  <a:lnTo>
                    <a:pt x="51" y="36"/>
                  </a:lnTo>
                  <a:lnTo>
                    <a:pt x="52" y="34"/>
                  </a:lnTo>
                  <a:lnTo>
                    <a:pt x="52" y="33"/>
                  </a:lnTo>
                  <a:lnTo>
                    <a:pt x="52" y="32"/>
                  </a:lnTo>
                  <a:lnTo>
                    <a:pt x="51" y="31"/>
                  </a:lnTo>
                  <a:lnTo>
                    <a:pt x="50" y="30"/>
                  </a:lnTo>
                  <a:lnTo>
                    <a:pt x="48" y="29"/>
                  </a:lnTo>
                  <a:lnTo>
                    <a:pt x="45" y="29"/>
                  </a:lnTo>
                  <a:lnTo>
                    <a:pt x="43" y="28"/>
                  </a:lnTo>
                  <a:lnTo>
                    <a:pt x="39" y="27"/>
                  </a:lnTo>
                  <a:lnTo>
                    <a:pt x="34" y="27"/>
                  </a:lnTo>
                  <a:lnTo>
                    <a:pt x="27" y="26"/>
                  </a:lnTo>
                  <a:lnTo>
                    <a:pt x="21" y="25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0" y="22"/>
                  </a:lnTo>
                  <a:lnTo>
                    <a:pt x="8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2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59" y="6"/>
                  </a:lnTo>
                  <a:lnTo>
                    <a:pt x="60" y="8"/>
                  </a:lnTo>
                  <a:lnTo>
                    <a:pt x="61" y="9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49" y="14"/>
                  </a:lnTo>
                  <a:lnTo>
                    <a:pt x="48" y="12"/>
                  </a:lnTo>
                  <a:lnTo>
                    <a:pt x="47" y="11"/>
                  </a:lnTo>
                  <a:lnTo>
                    <a:pt x="46" y="10"/>
                  </a:lnTo>
                  <a:lnTo>
                    <a:pt x="44" y="9"/>
                  </a:lnTo>
                  <a:lnTo>
                    <a:pt x="42" y="8"/>
                  </a:lnTo>
                  <a:lnTo>
                    <a:pt x="39" y="7"/>
                  </a:lnTo>
                  <a:lnTo>
                    <a:pt x="36" y="7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1" y="8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7"/>
                  </a:lnTo>
                  <a:lnTo>
                    <a:pt x="23" y="17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34" y="19"/>
                  </a:lnTo>
                  <a:lnTo>
                    <a:pt x="39" y="20"/>
                  </a:lnTo>
                  <a:lnTo>
                    <a:pt x="44" y="20"/>
                  </a:lnTo>
                  <a:lnTo>
                    <a:pt x="50" y="21"/>
                  </a:lnTo>
                  <a:lnTo>
                    <a:pt x="53" y="22"/>
                  </a:lnTo>
                  <a:lnTo>
                    <a:pt x="55" y="23"/>
                  </a:lnTo>
                  <a:lnTo>
                    <a:pt x="59" y="24"/>
                  </a:lnTo>
                  <a:lnTo>
                    <a:pt x="61" y="25"/>
                  </a:lnTo>
                  <a:lnTo>
                    <a:pt x="62" y="26"/>
                  </a:lnTo>
                  <a:lnTo>
                    <a:pt x="64" y="27"/>
                  </a:lnTo>
                  <a:lnTo>
                    <a:pt x="64" y="29"/>
                  </a:lnTo>
                  <a:lnTo>
                    <a:pt x="65" y="31"/>
                  </a:lnTo>
                  <a:lnTo>
                    <a:pt x="66" y="33"/>
                  </a:lnTo>
                  <a:lnTo>
                    <a:pt x="65" y="34"/>
                  </a:lnTo>
                  <a:lnTo>
                    <a:pt x="64" y="36"/>
                  </a:lnTo>
                  <a:lnTo>
                    <a:pt x="63" y="38"/>
                  </a:lnTo>
                  <a:lnTo>
                    <a:pt x="62" y="40"/>
                  </a:lnTo>
                  <a:lnTo>
                    <a:pt x="60" y="41"/>
                  </a:lnTo>
                  <a:lnTo>
                    <a:pt x="57" y="42"/>
                  </a:lnTo>
                  <a:lnTo>
                    <a:pt x="53" y="44"/>
                  </a:lnTo>
                  <a:lnTo>
                    <a:pt x="51" y="44"/>
                  </a:lnTo>
                  <a:lnTo>
                    <a:pt x="46" y="45"/>
                  </a:lnTo>
                  <a:lnTo>
                    <a:pt x="43" y="46"/>
                  </a:lnTo>
                  <a:lnTo>
                    <a:pt x="38" y="46"/>
                  </a:lnTo>
                  <a:lnTo>
                    <a:pt x="34" y="46"/>
                  </a:lnTo>
                  <a:lnTo>
                    <a:pt x="27" y="46"/>
                  </a:lnTo>
                  <a:lnTo>
                    <a:pt x="20" y="45"/>
                  </a:lnTo>
                  <a:lnTo>
                    <a:pt x="15" y="44"/>
                  </a:lnTo>
                  <a:lnTo>
                    <a:pt x="10" y="43"/>
                  </a:lnTo>
                  <a:lnTo>
                    <a:pt x="7" y="41"/>
                  </a:lnTo>
                  <a:lnTo>
                    <a:pt x="3" y="38"/>
                  </a:lnTo>
                  <a:lnTo>
                    <a:pt x="1" y="35"/>
                  </a:lnTo>
                  <a:lnTo>
                    <a:pt x="0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400840" y="302112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2">
                  <a:moveTo>
                    <a:pt x="0" y="61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412000" y="3021120"/>
              <a:ext cx="12240" cy="2196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35" y="53"/>
                  </a:moveTo>
                  <a:lnTo>
                    <a:pt x="36" y="60"/>
                  </a:lnTo>
                  <a:lnTo>
                    <a:pt x="34" y="60"/>
                  </a:lnTo>
                  <a:lnTo>
                    <a:pt x="31" y="60"/>
                  </a:lnTo>
                  <a:lnTo>
                    <a:pt x="29" y="60"/>
                  </a:lnTo>
                  <a:lnTo>
                    <a:pt x="27" y="61"/>
                  </a:lnTo>
                  <a:lnTo>
                    <a:pt x="23" y="60"/>
                  </a:lnTo>
                  <a:lnTo>
                    <a:pt x="20" y="60"/>
                  </a:lnTo>
                  <a:lnTo>
                    <a:pt x="18" y="60"/>
                  </a:lnTo>
                  <a:lnTo>
                    <a:pt x="16" y="59"/>
                  </a:lnTo>
                  <a:lnTo>
                    <a:pt x="14" y="58"/>
                  </a:lnTo>
                  <a:lnTo>
                    <a:pt x="12" y="58"/>
                  </a:lnTo>
                  <a:lnTo>
                    <a:pt x="11" y="57"/>
                  </a:lnTo>
                  <a:lnTo>
                    <a:pt x="11" y="56"/>
                  </a:lnTo>
                  <a:lnTo>
                    <a:pt x="10" y="54"/>
                  </a:lnTo>
                  <a:lnTo>
                    <a:pt x="9" y="52"/>
                  </a:lnTo>
                  <a:lnTo>
                    <a:pt x="9" y="50"/>
                  </a:lnTo>
                  <a:lnTo>
                    <a:pt x="9" y="47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5"/>
                  </a:lnTo>
                  <a:lnTo>
                    <a:pt x="22" y="0"/>
                  </a:lnTo>
                  <a:lnTo>
                    <a:pt x="22" y="16"/>
                  </a:lnTo>
                  <a:lnTo>
                    <a:pt x="35" y="16"/>
                  </a:lnTo>
                  <a:lnTo>
                    <a:pt x="35" y="22"/>
                  </a:lnTo>
                  <a:lnTo>
                    <a:pt x="22" y="22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2" y="50"/>
                  </a:lnTo>
                  <a:lnTo>
                    <a:pt x="22" y="51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27" y="53"/>
                  </a:lnTo>
                  <a:lnTo>
                    <a:pt x="27" y="53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5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427840" y="3025800"/>
              <a:ext cx="24840" cy="17280"/>
            </a:xfrm>
            <a:custGeom>
              <a:avLst/>
              <a:gdLst/>
              <a:ahLst/>
              <a:rect l="l" t="t" r="r" b="b"/>
              <a:pathLst>
                <a:path w="70" h="47">
                  <a:moveTo>
                    <a:pt x="53" y="23"/>
                  </a:moveTo>
                  <a:lnTo>
                    <a:pt x="49" y="23"/>
                  </a:lnTo>
                  <a:lnTo>
                    <a:pt x="44" y="24"/>
                  </a:lnTo>
                  <a:lnTo>
                    <a:pt x="38" y="25"/>
                  </a:lnTo>
                  <a:lnTo>
                    <a:pt x="31" y="25"/>
                  </a:lnTo>
                  <a:lnTo>
                    <a:pt x="27" y="25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5" y="29"/>
                  </a:lnTo>
                  <a:lnTo>
                    <a:pt x="14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5" y="37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22" y="39"/>
                  </a:lnTo>
                  <a:lnTo>
                    <a:pt x="25" y="39"/>
                  </a:lnTo>
                  <a:lnTo>
                    <a:pt x="29" y="40"/>
                  </a:lnTo>
                  <a:lnTo>
                    <a:pt x="32" y="39"/>
                  </a:lnTo>
                  <a:lnTo>
                    <a:pt x="36" y="39"/>
                  </a:lnTo>
                  <a:lnTo>
                    <a:pt x="39" y="38"/>
                  </a:lnTo>
                  <a:lnTo>
                    <a:pt x="42" y="38"/>
                  </a:lnTo>
                  <a:lnTo>
                    <a:pt x="44" y="37"/>
                  </a:lnTo>
                  <a:lnTo>
                    <a:pt x="47" y="36"/>
                  </a:lnTo>
                  <a:lnTo>
                    <a:pt x="49" y="34"/>
                  </a:lnTo>
                  <a:lnTo>
                    <a:pt x="50" y="33"/>
                  </a:lnTo>
                  <a:lnTo>
                    <a:pt x="51" y="31"/>
                  </a:lnTo>
                  <a:lnTo>
                    <a:pt x="52" y="29"/>
                  </a:lnTo>
                  <a:lnTo>
                    <a:pt x="52" y="27"/>
                  </a:lnTo>
                  <a:lnTo>
                    <a:pt x="53" y="25"/>
                  </a:lnTo>
                  <a:lnTo>
                    <a:pt x="53" y="23"/>
                  </a:lnTo>
                  <a:close/>
                  <a:moveTo>
                    <a:pt x="53" y="39"/>
                  </a:moveTo>
                  <a:lnTo>
                    <a:pt x="50" y="40"/>
                  </a:lnTo>
                  <a:lnTo>
                    <a:pt x="47" y="42"/>
                  </a:lnTo>
                  <a:lnTo>
                    <a:pt x="43" y="43"/>
                  </a:lnTo>
                  <a:lnTo>
                    <a:pt x="40" y="44"/>
                  </a:lnTo>
                  <a:lnTo>
                    <a:pt x="36" y="44"/>
                  </a:lnTo>
                  <a:lnTo>
                    <a:pt x="33" y="45"/>
                  </a:lnTo>
                  <a:lnTo>
                    <a:pt x="29" y="45"/>
                  </a:lnTo>
                  <a:lnTo>
                    <a:pt x="26" y="46"/>
                  </a:lnTo>
                  <a:lnTo>
                    <a:pt x="20" y="45"/>
                  </a:lnTo>
                  <a:lnTo>
                    <a:pt x="14" y="44"/>
                  </a:lnTo>
                  <a:lnTo>
                    <a:pt x="10" y="43"/>
                  </a:lnTo>
                  <a:lnTo>
                    <a:pt x="7" y="42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0"/>
                  </a:lnTo>
                  <a:lnTo>
                    <a:pt x="20" y="20"/>
                  </a:lnTo>
                  <a:lnTo>
                    <a:pt x="23" y="20"/>
                  </a:lnTo>
                  <a:lnTo>
                    <a:pt x="26" y="19"/>
                  </a:lnTo>
                  <a:lnTo>
                    <a:pt x="30" y="19"/>
                  </a:lnTo>
                  <a:lnTo>
                    <a:pt x="37" y="19"/>
                  </a:lnTo>
                  <a:lnTo>
                    <a:pt x="43" y="18"/>
                  </a:lnTo>
                  <a:lnTo>
                    <a:pt x="49" y="17"/>
                  </a:lnTo>
                  <a:lnTo>
                    <a:pt x="53" y="17"/>
                  </a:lnTo>
                  <a:lnTo>
                    <a:pt x="53" y="16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6" y="7"/>
                  </a:lnTo>
                  <a:lnTo>
                    <a:pt x="43" y="7"/>
                  </a:lnTo>
                  <a:lnTo>
                    <a:pt x="39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7" y="2"/>
                  </a:lnTo>
                  <a:lnTo>
                    <a:pt x="59" y="3"/>
                  </a:lnTo>
                  <a:lnTo>
                    <a:pt x="61" y="4"/>
                  </a:lnTo>
                  <a:lnTo>
                    <a:pt x="61" y="5"/>
                  </a:lnTo>
                  <a:lnTo>
                    <a:pt x="63" y="6"/>
                  </a:lnTo>
                  <a:lnTo>
                    <a:pt x="63" y="8"/>
                  </a:lnTo>
                  <a:lnTo>
                    <a:pt x="65" y="9"/>
                  </a:lnTo>
                  <a:lnTo>
                    <a:pt x="65" y="10"/>
                  </a:lnTo>
                  <a:lnTo>
                    <a:pt x="65" y="12"/>
                  </a:lnTo>
                  <a:lnTo>
                    <a:pt x="65" y="14"/>
                  </a:lnTo>
                  <a:lnTo>
                    <a:pt x="65" y="16"/>
                  </a:lnTo>
                  <a:lnTo>
                    <a:pt x="65" y="26"/>
                  </a:lnTo>
                  <a:lnTo>
                    <a:pt x="65" y="31"/>
                  </a:lnTo>
                  <a:lnTo>
                    <a:pt x="65" y="35"/>
                  </a:lnTo>
                  <a:lnTo>
                    <a:pt x="66" y="37"/>
                  </a:lnTo>
                  <a:lnTo>
                    <a:pt x="66" y="39"/>
                  </a:lnTo>
                  <a:lnTo>
                    <a:pt x="66" y="40"/>
                  </a:lnTo>
                  <a:lnTo>
                    <a:pt x="67" y="42"/>
                  </a:lnTo>
                  <a:lnTo>
                    <a:pt x="68" y="43"/>
                  </a:lnTo>
                  <a:lnTo>
                    <a:pt x="69" y="45"/>
                  </a:lnTo>
                  <a:lnTo>
                    <a:pt x="56" y="45"/>
                  </a:lnTo>
                  <a:lnTo>
                    <a:pt x="55" y="43"/>
                  </a:lnTo>
                  <a:lnTo>
                    <a:pt x="54" y="42"/>
                  </a:lnTo>
                  <a:lnTo>
                    <a:pt x="53" y="40"/>
                  </a:lnTo>
                  <a:lnTo>
                    <a:pt x="5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458080" y="3021120"/>
              <a:ext cx="4320" cy="21960"/>
            </a:xfrm>
            <a:custGeom>
              <a:avLst/>
              <a:gdLst/>
              <a:ahLst/>
              <a:rect l="l" t="t" r="r" b="b"/>
              <a:pathLst>
                <a:path w="13" h="62">
                  <a:moveTo>
                    <a:pt x="0" y="61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470680" y="302112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0" y="61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1"/>
                  </a:lnTo>
                  <a:lnTo>
                    <a:pt x="0" y="61"/>
                  </a:lnTo>
                  <a:close/>
                  <a:moveTo>
                    <a:pt x="0" y="9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478600" y="3025800"/>
              <a:ext cx="25200" cy="1728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4" y="18"/>
                  </a:moveTo>
                  <a:lnTo>
                    <a:pt x="57" y="18"/>
                  </a:lnTo>
                  <a:lnTo>
                    <a:pt x="55" y="16"/>
                  </a:lnTo>
                  <a:lnTo>
                    <a:pt x="55" y="13"/>
                  </a:lnTo>
                  <a:lnTo>
                    <a:pt x="53" y="11"/>
                  </a:lnTo>
                  <a:lnTo>
                    <a:pt x="52" y="10"/>
                  </a:lnTo>
                  <a:lnTo>
                    <a:pt x="48" y="8"/>
                  </a:lnTo>
                  <a:lnTo>
                    <a:pt x="44" y="7"/>
                  </a:lnTo>
                  <a:lnTo>
                    <a:pt x="40" y="6"/>
                  </a:lnTo>
                  <a:lnTo>
                    <a:pt x="35" y="6"/>
                  </a:lnTo>
                  <a:lnTo>
                    <a:pt x="31" y="6"/>
                  </a:lnTo>
                  <a:lnTo>
                    <a:pt x="27" y="7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4" y="18"/>
                  </a:lnTo>
                  <a:close/>
                  <a:moveTo>
                    <a:pt x="57" y="31"/>
                  </a:moveTo>
                  <a:lnTo>
                    <a:pt x="69" y="31"/>
                  </a:lnTo>
                  <a:lnTo>
                    <a:pt x="68" y="35"/>
                  </a:lnTo>
                  <a:lnTo>
                    <a:pt x="64" y="37"/>
                  </a:lnTo>
                  <a:lnTo>
                    <a:pt x="61" y="40"/>
                  </a:lnTo>
                  <a:lnTo>
                    <a:pt x="58" y="42"/>
                  </a:lnTo>
                  <a:lnTo>
                    <a:pt x="53" y="43"/>
                  </a:lnTo>
                  <a:lnTo>
                    <a:pt x="48" y="44"/>
                  </a:lnTo>
                  <a:lnTo>
                    <a:pt x="42" y="45"/>
                  </a:lnTo>
                  <a:lnTo>
                    <a:pt x="36" y="46"/>
                  </a:lnTo>
                  <a:lnTo>
                    <a:pt x="28" y="45"/>
                  </a:lnTo>
                  <a:lnTo>
                    <a:pt x="21" y="44"/>
                  </a:lnTo>
                  <a:lnTo>
                    <a:pt x="16" y="42"/>
                  </a:lnTo>
                  <a:lnTo>
                    <a:pt x="10" y="40"/>
                  </a:lnTo>
                  <a:lnTo>
                    <a:pt x="6" y="37"/>
                  </a:lnTo>
                  <a:lnTo>
                    <a:pt x="3" y="33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10" y="6"/>
                  </a:lnTo>
                  <a:lnTo>
                    <a:pt x="16" y="3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9" y="1"/>
                  </a:lnTo>
                  <a:lnTo>
                    <a:pt x="55" y="3"/>
                  </a:lnTo>
                  <a:lnTo>
                    <a:pt x="60" y="6"/>
                  </a:lnTo>
                  <a:lnTo>
                    <a:pt x="64" y="9"/>
                  </a:lnTo>
                  <a:lnTo>
                    <a:pt x="67" y="13"/>
                  </a:lnTo>
                  <a:lnTo>
                    <a:pt x="68" y="17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24"/>
                  </a:lnTo>
                  <a:lnTo>
                    <a:pt x="70" y="25"/>
                  </a:lnTo>
                  <a:lnTo>
                    <a:pt x="13" y="25"/>
                  </a:lnTo>
                  <a:lnTo>
                    <a:pt x="14" y="28"/>
                  </a:lnTo>
                  <a:lnTo>
                    <a:pt x="15" y="31"/>
                  </a:lnTo>
                  <a:lnTo>
                    <a:pt x="17" y="33"/>
                  </a:lnTo>
                  <a:lnTo>
                    <a:pt x="21" y="35"/>
                  </a:lnTo>
                  <a:lnTo>
                    <a:pt x="23" y="37"/>
                  </a:lnTo>
                  <a:lnTo>
                    <a:pt x="27" y="38"/>
                  </a:lnTo>
                  <a:lnTo>
                    <a:pt x="32" y="39"/>
                  </a:lnTo>
                  <a:lnTo>
                    <a:pt x="37" y="39"/>
                  </a:lnTo>
                  <a:lnTo>
                    <a:pt x="39" y="39"/>
                  </a:lnTo>
                  <a:lnTo>
                    <a:pt x="43" y="39"/>
                  </a:lnTo>
                  <a:lnTo>
                    <a:pt x="46" y="38"/>
                  </a:lnTo>
                  <a:lnTo>
                    <a:pt x="48" y="37"/>
                  </a:lnTo>
                  <a:lnTo>
                    <a:pt x="51" y="36"/>
                  </a:lnTo>
                  <a:lnTo>
                    <a:pt x="53" y="34"/>
                  </a:lnTo>
                  <a:lnTo>
                    <a:pt x="55" y="33"/>
                  </a:lnTo>
                  <a:lnTo>
                    <a:pt x="5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510280" y="3025800"/>
              <a:ext cx="21960" cy="1548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0" y="45"/>
                  </a:moveTo>
                  <a:lnTo>
                    <a:pt x="0" y="1"/>
                  </a:lnTo>
                  <a:lnTo>
                    <a:pt x="12" y="1"/>
                  </a:lnTo>
                  <a:lnTo>
                    <a:pt x="12" y="7"/>
                  </a:lnTo>
                  <a:lnTo>
                    <a:pt x="16" y="4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54" y="4"/>
                  </a:lnTo>
                  <a:lnTo>
                    <a:pt x="55" y="5"/>
                  </a:lnTo>
                  <a:lnTo>
                    <a:pt x="57" y="6"/>
                  </a:lnTo>
                  <a:lnTo>
                    <a:pt x="58" y="7"/>
                  </a:lnTo>
                  <a:lnTo>
                    <a:pt x="59" y="9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0" y="13"/>
                  </a:lnTo>
                  <a:lnTo>
                    <a:pt x="60" y="15"/>
                  </a:lnTo>
                  <a:lnTo>
                    <a:pt x="60" y="18"/>
                  </a:lnTo>
                  <a:lnTo>
                    <a:pt x="60" y="45"/>
                  </a:lnTo>
                  <a:lnTo>
                    <a:pt x="47" y="45"/>
                  </a:lnTo>
                  <a:lnTo>
                    <a:pt x="47" y="18"/>
                  </a:lnTo>
                  <a:lnTo>
                    <a:pt x="47" y="16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1"/>
                  </a:lnTo>
                  <a:lnTo>
                    <a:pt x="45" y="10"/>
                  </a:lnTo>
                  <a:lnTo>
                    <a:pt x="44" y="9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28" y="6"/>
                  </a:lnTo>
                  <a:lnTo>
                    <a:pt x="25" y="7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3" y="17"/>
                  </a:lnTo>
                  <a:lnTo>
                    <a:pt x="13" y="21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400840" y="2943360"/>
              <a:ext cx="29880" cy="21960"/>
            </a:xfrm>
            <a:custGeom>
              <a:avLst/>
              <a:gdLst/>
              <a:ahLst/>
              <a:rect l="l" t="t" r="r" b="b"/>
              <a:pathLst>
                <a:path w="85" h="61">
                  <a:moveTo>
                    <a:pt x="15" y="29"/>
                  </a:moveTo>
                  <a:lnTo>
                    <a:pt x="43" y="29"/>
                  </a:lnTo>
                  <a:lnTo>
                    <a:pt x="50" y="28"/>
                  </a:lnTo>
                  <a:lnTo>
                    <a:pt x="55" y="28"/>
                  </a:lnTo>
                  <a:lnTo>
                    <a:pt x="60" y="27"/>
                  </a:lnTo>
                  <a:lnTo>
                    <a:pt x="63" y="26"/>
                  </a:lnTo>
                  <a:lnTo>
                    <a:pt x="65" y="24"/>
                  </a:lnTo>
                  <a:lnTo>
                    <a:pt x="67" y="22"/>
                  </a:lnTo>
                  <a:lnTo>
                    <a:pt x="68" y="20"/>
                  </a:lnTo>
                  <a:lnTo>
                    <a:pt x="69" y="17"/>
                  </a:lnTo>
                  <a:lnTo>
                    <a:pt x="68" y="15"/>
                  </a:lnTo>
                  <a:lnTo>
                    <a:pt x="68" y="14"/>
                  </a:lnTo>
                  <a:lnTo>
                    <a:pt x="67" y="12"/>
                  </a:lnTo>
                  <a:lnTo>
                    <a:pt x="66" y="11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6" y="8"/>
                  </a:lnTo>
                  <a:lnTo>
                    <a:pt x="53" y="7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15" y="7"/>
                  </a:lnTo>
                  <a:lnTo>
                    <a:pt x="15" y="29"/>
                  </a:lnTo>
                  <a:close/>
                  <a:moveTo>
                    <a:pt x="0" y="6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69" y="2"/>
                  </a:lnTo>
                  <a:lnTo>
                    <a:pt x="71" y="3"/>
                  </a:lnTo>
                  <a:lnTo>
                    <a:pt x="74" y="4"/>
                  </a:lnTo>
                  <a:lnTo>
                    <a:pt x="77" y="6"/>
                  </a:lnTo>
                  <a:lnTo>
                    <a:pt x="78" y="7"/>
                  </a:lnTo>
                  <a:lnTo>
                    <a:pt x="81" y="9"/>
                  </a:lnTo>
                  <a:lnTo>
                    <a:pt x="82" y="11"/>
                  </a:lnTo>
                  <a:lnTo>
                    <a:pt x="82" y="13"/>
                  </a:lnTo>
                  <a:lnTo>
                    <a:pt x="83" y="15"/>
                  </a:lnTo>
                  <a:lnTo>
                    <a:pt x="84" y="17"/>
                  </a:lnTo>
                  <a:lnTo>
                    <a:pt x="83" y="20"/>
                  </a:lnTo>
                  <a:lnTo>
                    <a:pt x="81" y="24"/>
                  </a:lnTo>
                  <a:lnTo>
                    <a:pt x="78" y="27"/>
                  </a:lnTo>
                  <a:lnTo>
                    <a:pt x="75" y="30"/>
                  </a:lnTo>
                  <a:lnTo>
                    <a:pt x="70" y="33"/>
                  </a:lnTo>
                  <a:lnTo>
                    <a:pt x="62" y="34"/>
                  </a:lnTo>
                  <a:lnTo>
                    <a:pt x="53" y="35"/>
                  </a:lnTo>
                  <a:lnTo>
                    <a:pt x="42" y="36"/>
                  </a:lnTo>
                  <a:lnTo>
                    <a:pt x="15" y="36"/>
                  </a:lnTo>
                  <a:lnTo>
                    <a:pt x="15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435760" y="2949840"/>
              <a:ext cx="26640" cy="1692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15" y="24"/>
                  </a:moveTo>
                  <a:lnTo>
                    <a:pt x="15" y="27"/>
                  </a:lnTo>
                  <a:lnTo>
                    <a:pt x="15" y="31"/>
                  </a:lnTo>
                  <a:lnTo>
                    <a:pt x="18" y="34"/>
                  </a:lnTo>
                  <a:lnTo>
                    <a:pt x="21" y="36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3" y="40"/>
                  </a:lnTo>
                  <a:lnTo>
                    <a:pt x="38" y="40"/>
                  </a:lnTo>
                  <a:lnTo>
                    <a:pt x="43" y="40"/>
                  </a:lnTo>
                  <a:lnTo>
                    <a:pt x="47" y="39"/>
                  </a:lnTo>
                  <a:lnTo>
                    <a:pt x="51" y="38"/>
                  </a:lnTo>
                  <a:lnTo>
                    <a:pt x="55" y="36"/>
                  </a:lnTo>
                  <a:lnTo>
                    <a:pt x="57" y="33"/>
                  </a:lnTo>
                  <a:lnTo>
                    <a:pt x="60" y="30"/>
                  </a:lnTo>
                  <a:lnTo>
                    <a:pt x="61" y="27"/>
                  </a:lnTo>
                  <a:lnTo>
                    <a:pt x="62" y="23"/>
                  </a:lnTo>
                  <a:lnTo>
                    <a:pt x="61" y="19"/>
                  </a:lnTo>
                  <a:lnTo>
                    <a:pt x="60" y="16"/>
                  </a:lnTo>
                  <a:lnTo>
                    <a:pt x="57" y="13"/>
                  </a:lnTo>
                  <a:lnTo>
                    <a:pt x="55" y="11"/>
                  </a:lnTo>
                  <a:lnTo>
                    <a:pt x="51" y="9"/>
                  </a:lnTo>
                  <a:lnTo>
                    <a:pt x="47" y="8"/>
                  </a:lnTo>
                  <a:lnTo>
                    <a:pt x="43" y="7"/>
                  </a:lnTo>
                  <a:lnTo>
                    <a:pt x="38" y="7"/>
                  </a:lnTo>
                  <a:lnTo>
                    <a:pt x="33" y="7"/>
                  </a:lnTo>
                  <a:lnTo>
                    <a:pt x="28" y="8"/>
                  </a:lnTo>
                  <a:lnTo>
                    <a:pt x="24" y="9"/>
                  </a:lnTo>
                  <a:lnTo>
                    <a:pt x="21" y="11"/>
                  </a:lnTo>
                  <a:lnTo>
                    <a:pt x="18" y="13"/>
                  </a:lnTo>
                  <a:lnTo>
                    <a:pt x="15" y="16"/>
                  </a:lnTo>
                  <a:lnTo>
                    <a:pt x="15" y="20"/>
                  </a:lnTo>
                  <a:lnTo>
                    <a:pt x="15" y="24"/>
                  </a:lnTo>
                  <a:close/>
                  <a:moveTo>
                    <a:pt x="0" y="24"/>
                  </a:moveTo>
                  <a:lnTo>
                    <a:pt x="1" y="18"/>
                  </a:lnTo>
                  <a:lnTo>
                    <a:pt x="4" y="13"/>
                  </a:lnTo>
                  <a:lnTo>
                    <a:pt x="7" y="9"/>
                  </a:lnTo>
                  <a:lnTo>
                    <a:pt x="13" y="5"/>
                  </a:lnTo>
                  <a:lnTo>
                    <a:pt x="18" y="3"/>
                  </a:lnTo>
                  <a:lnTo>
                    <a:pt x="24" y="2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3" y="2"/>
                  </a:lnTo>
                  <a:lnTo>
                    <a:pt x="59" y="4"/>
                  </a:lnTo>
                  <a:lnTo>
                    <a:pt x="65" y="6"/>
                  </a:lnTo>
                  <a:lnTo>
                    <a:pt x="69" y="9"/>
                  </a:lnTo>
                  <a:lnTo>
                    <a:pt x="73" y="13"/>
                  </a:lnTo>
                  <a:lnTo>
                    <a:pt x="74" y="18"/>
                  </a:lnTo>
                  <a:lnTo>
                    <a:pt x="75" y="23"/>
                  </a:lnTo>
                  <a:lnTo>
                    <a:pt x="74" y="27"/>
                  </a:lnTo>
                  <a:lnTo>
                    <a:pt x="74" y="30"/>
                  </a:lnTo>
                  <a:lnTo>
                    <a:pt x="73" y="33"/>
                  </a:lnTo>
                  <a:lnTo>
                    <a:pt x="71" y="36"/>
                  </a:lnTo>
                  <a:lnTo>
                    <a:pt x="68" y="38"/>
                  </a:lnTo>
                  <a:lnTo>
                    <a:pt x="65" y="40"/>
                  </a:lnTo>
                  <a:lnTo>
                    <a:pt x="62" y="42"/>
                  </a:lnTo>
                  <a:lnTo>
                    <a:pt x="57" y="44"/>
                  </a:lnTo>
                  <a:lnTo>
                    <a:pt x="53" y="45"/>
                  </a:lnTo>
                  <a:lnTo>
                    <a:pt x="47" y="45"/>
                  </a:lnTo>
                  <a:lnTo>
                    <a:pt x="43" y="46"/>
                  </a:lnTo>
                  <a:lnTo>
                    <a:pt x="38" y="46"/>
                  </a:lnTo>
                  <a:lnTo>
                    <a:pt x="29" y="46"/>
                  </a:lnTo>
                  <a:lnTo>
                    <a:pt x="22" y="45"/>
                  </a:lnTo>
                  <a:lnTo>
                    <a:pt x="16" y="43"/>
                  </a:lnTo>
                  <a:lnTo>
                    <a:pt x="11" y="40"/>
                  </a:lnTo>
                  <a:lnTo>
                    <a:pt x="6" y="37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469240" y="2949840"/>
              <a:ext cx="15480" cy="1548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0" y="45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8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19" y="2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0" y="2"/>
                  </a:lnTo>
                  <a:lnTo>
                    <a:pt x="43" y="3"/>
                  </a:lnTo>
                  <a:lnTo>
                    <a:pt x="38" y="10"/>
                  </a:lnTo>
                  <a:lnTo>
                    <a:pt x="36" y="9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5" y="16"/>
                  </a:lnTo>
                  <a:lnTo>
                    <a:pt x="14" y="18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485080" y="2943360"/>
              <a:ext cx="13680" cy="2196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37" y="53"/>
                  </a:moveTo>
                  <a:lnTo>
                    <a:pt x="39" y="60"/>
                  </a:lnTo>
                  <a:lnTo>
                    <a:pt x="37" y="60"/>
                  </a:lnTo>
                  <a:lnTo>
                    <a:pt x="34" y="60"/>
                  </a:lnTo>
                  <a:lnTo>
                    <a:pt x="31" y="60"/>
                  </a:lnTo>
                  <a:lnTo>
                    <a:pt x="29" y="60"/>
                  </a:lnTo>
                  <a:lnTo>
                    <a:pt x="25" y="60"/>
                  </a:lnTo>
                  <a:lnTo>
                    <a:pt x="22" y="60"/>
                  </a:lnTo>
                  <a:lnTo>
                    <a:pt x="19" y="59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14" y="57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0" y="54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0" y="47"/>
                  </a:lnTo>
                  <a:lnTo>
                    <a:pt x="10" y="21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10" y="5"/>
                  </a:lnTo>
                  <a:lnTo>
                    <a:pt x="24" y="0"/>
                  </a:lnTo>
                  <a:lnTo>
                    <a:pt x="24" y="16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24" y="21"/>
                  </a:lnTo>
                  <a:lnTo>
                    <a:pt x="24" y="47"/>
                  </a:lnTo>
                  <a:lnTo>
                    <a:pt x="24" y="48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28" y="53"/>
                  </a:lnTo>
                  <a:lnTo>
                    <a:pt x="30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4" y="53"/>
                  </a:lnTo>
                  <a:lnTo>
                    <a:pt x="36" y="53"/>
                  </a:lnTo>
                  <a:lnTo>
                    <a:pt x="37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504160" y="2949840"/>
              <a:ext cx="23400" cy="15480"/>
            </a:xfrm>
            <a:custGeom>
              <a:avLst/>
              <a:gdLst/>
              <a:ahLst/>
              <a:rect l="l" t="t" r="r" b="b"/>
              <a:pathLst>
                <a:path w="66" h="45">
                  <a:moveTo>
                    <a:pt x="52" y="43"/>
                  </a:moveTo>
                  <a:lnTo>
                    <a:pt x="52" y="37"/>
                  </a:lnTo>
                  <a:lnTo>
                    <a:pt x="46" y="40"/>
                  </a:lnTo>
                  <a:lnTo>
                    <a:pt x="41" y="42"/>
                  </a:lnTo>
                  <a:lnTo>
                    <a:pt x="34" y="44"/>
                  </a:lnTo>
                  <a:lnTo>
                    <a:pt x="27" y="44"/>
                  </a:lnTo>
                  <a:lnTo>
                    <a:pt x="23" y="44"/>
                  </a:lnTo>
                  <a:lnTo>
                    <a:pt x="20" y="43"/>
                  </a:lnTo>
                  <a:lnTo>
                    <a:pt x="16" y="43"/>
                  </a:lnTo>
                  <a:lnTo>
                    <a:pt x="14" y="43"/>
                  </a:lnTo>
                  <a:lnTo>
                    <a:pt x="11" y="42"/>
                  </a:lnTo>
                  <a:lnTo>
                    <a:pt x="8" y="41"/>
                  </a:lnTo>
                  <a:lnTo>
                    <a:pt x="5" y="40"/>
                  </a:lnTo>
                  <a:lnTo>
                    <a:pt x="5" y="39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5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20" y="36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7" y="38"/>
                  </a:lnTo>
                  <a:lnTo>
                    <a:pt x="30" y="38"/>
                  </a:lnTo>
                  <a:lnTo>
                    <a:pt x="33" y="38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1" y="36"/>
                  </a:lnTo>
                  <a:lnTo>
                    <a:pt x="43" y="35"/>
                  </a:lnTo>
                  <a:lnTo>
                    <a:pt x="45" y="34"/>
                  </a:lnTo>
                  <a:lnTo>
                    <a:pt x="47" y="33"/>
                  </a:lnTo>
                  <a:lnTo>
                    <a:pt x="49" y="32"/>
                  </a:lnTo>
                  <a:lnTo>
                    <a:pt x="49" y="30"/>
                  </a:lnTo>
                  <a:lnTo>
                    <a:pt x="50" y="28"/>
                  </a:lnTo>
                  <a:lnTo>
                    <a:pt x="50" y="25"/>
                  </a:lnTo>
                  <a:lnTo>
                    <a:pt x="50" y="23"/>
                  </a:lnTo>
                  <a:lnTo>
                    <a:pt x="50" y="0"/>
                  </a:lnTo>
                  <a:lnTo>
                    <a:pt x="65" y="0"/>
                  </a:lnTo>
                  <a:lnTo>
                    <a:pt x="65" y="43"/>
                  </a:lnTo>
                  <a:lnTo>
                    <a:pt x="5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32600" y="2949840"/>
              <a:ext cx="24840" cy="23400"/>
            </a:xfrm>
            <a:custGeom>
              <a:avLst/>
              <a:gdLst/>
              <a:ahLst/>
              <a:rect l="l" t="t" r="r" b="b"/>
              <a:pathLst>
                <a:path w="72" h="64">
                  <a:moveTo>
                    <a:pt x="14" y="23"/>
                  </a:moveTo>
                  <a:lnTo>
                    <a:pt x="14" y="26"/>
                  </a:lnTo>
                  <a:lnTo>
                    <a:pt x="15" y="30"/>
                  </a:lnTo>
                  <a:lnTo>
                    <a:pt x="17" y="33"/>
                  </a:lnTo>
                  <a:lnTo>
                    <a:pt x="21" y="35"/>
                  </a:lnTo>
                  <a:lnTo>
                    <a:pt x="24" y="37"/>
                  </a:lnTo>
                  <a:lnTo>
                    <a:pt x="27" y="38"/>
                  </a:lnTo>
                  <a:lnTo>
                    <a:pt x="31" y="39"/>
                  </a:lnTo>
                  <a:lnTo>
                    <a:pt x="35" y="39"/>
                  </a:lnTo>
                  <a:lnTo>
                    <a:pt x="40" y="39"/>
                  </a:lnTo>
                  <a:lnTo>
                    <a:pt x="44" y="38"/>
                  </a:lnTo>
                  <a:lnTo>
                    <a:pt x="48" y="37"/>
                  </a:lnTo>
                  <a:lnTo>
                    <a:pt x="52" y="35"/>
                  </a:lnTo>
                  <a:lnTo>
                    <a:pt x="54" y="33"/>
                  </a:lnTo>
                  <a:lnTo>
                    <a:pt x="56" y="30"/>
                  </a:lnTo>
                  <a:lnTo>
                    <a:pt x="57" y="26"/>
                  </a:lnTo>
                  <a:lnTo>
                    <a:pt x="58" y="23"/>
                  </a:lnTo>
                  <a:lnTo>
                    <a:pt x="57" y="19"/>
                  </a:lnTo>
                  <a:lnTo>
                    <a:pt x="56" y="16"/>
                  </a:lnTo>
                  <a:lnTo>
                    <a:pt x="54" y="13"/>
                  </a:lnTo>
                  <a:lnTo>
                    <a:pt x="52" y="11"/>
                  </a:lnTo>
                  <a:lnTo>
                    <a:pt x="48" y="9"/>
                  </a:lnTo>
                  <a:lnTo>
                    <a:pt x="44" y="8"/>
                  </a:lnTo>
                  <a:lnTo>
                    <a:pt x="40" y="7"/>
                  </a:lnTo>
                  <a:lnTo>
                    <a:pt x="35" y="7"/>
                  </a:lnTo>
                  <a:lnTo>
                    <a:pt x="31" y="7"/>
                  </a:lnTo>
                  <a:lnTo>
                    <a:pt x="27" y="8"/>
                  </a:lnTo>
                  <a:lnTo>
                    <a:pt x="24" y="9"/>
                  </a:lnTo>
                  <a:lnTo>
                    <a:pt x="21" y="11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4" y="23"/>
                  </a:lnTo>
                  <a:close/>
                  <a:moveTo>
                    <a:pt x="3" y="49"/>
                  </a:moveTo>
                  <a:lnTo>
                    <a:pt x="17" y="50"/>
                  </a:lnTo>
                  <a:lnTo>
                    <a:pt x="17" y="51"/>
                  </a:lnTo>
                  <a:lnTo>
                    <a:pt x="18" y="52"/>
                  </a:lnTo>
                  <a:lnTo>
                    <a:pt x="19" y="53"/>
                  </a:lnTo>
                  <a:lnTo>
                    <a:pt x="21" y="54"/>
                  </a:lnTo>
                  <a:lnTo>
                    <a:pt x="24" y="55"/>
                  </a:lnTo>
                  <a:lnTo>
                    <a:pt x="27" y="56"/>
                  </a:lnTo>
                  <a:lnTo>
                    <a:pt x="31" y="56"/>
                  </a:lnTo>
                  <a:lnTo>
                    <a:pt x="35" y="57"/>
                  </a:lnTo>
                  <a:lnTo>
                    <a:pt x="39" y="56"/>
                  </a:lnTo>
                  <a:lnTo>
                    <a:pt x="43" y="56"/>
                  </a:lnTo>
                  <a:lnTo>
                    <a:pt x="46" y="55"/>
                  </a:lnTo>
                  <a:lnTo>
                    <a:pt x="50" y="54"/>
                  </a:lnTo>
                  <a:lnTo>
                    <a:pt x="52" y="53"/>
                  </a:lnTo>
                  <a:lnTo>
                    <a:pt x="53" y="52"/>
                  </a:lnTo>
                  <a:lnTo>
                    <a:pt x="55" y="51"/>
                  </a:lnTo>
                  <a:lnTo>
                    <a:pt x="56" y="49"/>
                  </a:lnTo>
                  <a:lnTo>
                    <a:pt x="56" y="48"/>
                  </a:lnTo>
                  <a:lnTo>
                    <a:pt x="57" y="45"/>
                  </a:lnTo>
                  <a:lnTo>
                    <a:pt x="57" y="43"/>
                  </a:lnTo>
                  <a:lnTo>
                    <a:pt x="57" y="40"/>
                  </a:lnTo>
                  <a:lnTo>
                    <a:pt x="53" y="42"/>
                  </a:lnTo>
                  <a:lnTo>
                    <a:pt x="47" y="44"/>
                  </a:lnTo>
                  <a:lnTo>
                    <a:pt x="41" y="45"/>
                  </a:lnTo>
                  <a:lnTo>
                    <a:pt x="35" y="45"/>
                  </a:lnTo>
                  <a:lnTo>
                    <a:pt x="26" y="45"/>
                  </a:lnTo>
                  <a:lnTo>
                    <a:pt x="20" y="43"/>
                  </a:lnTo>
                  <a:lnTo>
                    <a:pt x="14" y="42"/>
                  </a:lnTo>
                  <a:lnTo>
                    <a:pt x="9" y="39"/>
                  </a:lnTo>
                  <a:lnTo>
                    <a:pt x="5" y="35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5" y="12"/>
                  </a:lnTo>
                  <a:lnTo>
                    <a:pt x="6" y="9"/>
                  </a:lnTo>
                  <a:lnTo>
                    <a:pt x="9" y="7"/>
                  </a:lnTo>
                  <a:lnTo>
                    <a:pt x="12" y="5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1" y="1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59" y="7"/>
                  </a:lnTo>
                  <a:lnTo>
                    <a:pt x="59" y="2"/>
                  </a:lnTo>
                  <a:lnTo>
                    <a:pt x="71" y="2"/>
                  </a:lnTo>
                  <a:lnTo>
                    <a:pt x="71" y="40"/>
                  </a:lnTo>
                  <a:lnTo>
                    <a:pt x="71" y="44"/>
                  </a:lnTo>
                  <a:lnTo>
                    <a:pt x="70" y="48"/>
                  </a:lnTo>
                  <a:lnTo>
                    <a:pt x="69" y="51"/>
                  </a:lnTo>
                  <a:lnTo>
                    <a:pt x="68" y="54"/>
                  </a:lnTo>
                  <a:lnTo>
                    <a:pt x="65" y="55"/>
                  </a:lnTo>
                  <a:lnTo>
                    <a:pt x="62" y="57"/>
                  </a:lnTo>
                  <a:lnTo>
                    <a:pt x="59" y="59"/>
                  </a:lnTo>
                  <a:lnTo>
                    <a:pt x="55" y="60"/>
                  </a:lnTo>
                  <a:lnTo>
                    <a:pt x="51" y="61"/>
                  </a:lnTo>
                  <a:lnTo>
                    <a:pt x="46" y="62"/>
                  </a:lnTo>
                  <a:lnTo>
                    <a:pt x="41" y="62"/>
                  </a:lnTo>
                  <a:lnTo>
                    <a:pt x="35" y="63"/>
                  </a:lnTo>
                  <a:lnTo>
                    <a:pt x="28" y="62"/>
                  </a:lnTo>
                  <a:lnTo>
                    <a:pt x="22" y="62"/>
                  </a:lnTo>
                  <a:lnTo>
                    <a:pt x="16" y="60"/>
                  </a:lnTo>
                  <a:lnTo>
                    <a:pt x="12" y="59"/>
                  </a:lnTo>
                  <a:lnTo>
                    <a:pt x="7" y="57"/>
                  </a:lnTo>
                  <a:lnTo>
                    <a:pt x="5" y="54"/>
                  </a:lnTo>
                  <a:lnTo>
                    <a:pt x="3" y="52"/>
                  </a:lnTo>
                  <a:lnTo>
                    <a:pt x="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564280" y="2949840"/>
              <a:ext cx="26640" cy="16920"/>
            </a:xfrm>
            <a:custGeom>
              <a:avLst/>
              <a:gdLst/>
              <a:ahLst/>
              <a:rect l="l" t="t" r="r" b="b"/>
              <a:pathLst>
                <a:path w="75" h="47">
                  <a:moveTo>
                    <a:pt x="56" y="24"/>
                  </a:moveTo>
                  <a:lnTo>
                    <a:pt x="52" y="24"/>
                  </a:lnTo>
                  <a:lnTo>
                    <a:pt x="46" y="25"/>
                  </a:lnTo>
                  <a:lnTo>
                    <a:pt x="40" y="25"/>
                  </a:lnTo>
                  <a:lnTo>
                    <a:pt x="34" y="26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7"/>
                  </a:lnTo>
                  <a:lnTo>
                    <a:pt x="21" y="27"/>
                  </a:lnTo>
                  <a:lnTo>
                    <a:pt x="19" y="28"/>
                  </a:lnTo>
                  <a:lnTo>
                    <a:pt x="18" y="28"/>
                  </a:lnTo>
                  <a:lnTo>
                    <a:pt x="16" y="29"/>
                  </a:lnTo>
                  <a:lnTo>
                    <a:pt x="16" y="30"/>
                  </a:lnTo>
                  <a:lnTo>
                    <a:pt x="15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5" y="36"/>
                  </a:lnTo>
                  <a:lnTo>
                    <a:pt x="16" y="37"/>
                  </a:lnTo>
                  <a:lnTo>
                    <a:pt x="18" y="38"/>
                  </a:lnTo>
                  <a:lnTo>
                    <a:pt x="20" y="39"/>
                  </a:lnTo>
                  <a:lnTo>
                    <a:pt x="23" y="40"/>
                  </a:lnTo>
                  <a:lnTo>
                    <a:pt x="26" y="40"/>
                  </a:lnTo>
                  <a:lnTo>
                    <a:pt x="30" y="40"/>
                  </a:lnTo>
                  <a:lnTo>
                    <a:pt x="34" y="40"/>
                  </a:lnTo>
                  <a:lnTo>
                    <a:pt x="37" y="40"/>
                  </a:lnTo>
                  <a:lnTo>
                    <a:pt x="41" y="39"/>
                  </a:lnTo>
                  <a:lnTo>
                    <a:pt x="45" y="38"/>
                  </a:lnTo>
                  <a:lnTo>
                    <a:pt x="47" y="38"/>
                  </a:lnTo>
                  <a:lnTo>
                    <a:pt x="50" y="36"/>
                  </a:lnTo>
                  <a:lnTo>
                    <a:pt x="52" y="35"/>
                  </a:lnTo>
                  <a:lnTo>
                    <a:pt x="54" y="34"/>
                  </a:lnTo>
                  <a:lnTo>
                    <a:pt x="55" y="32"/>
                  </a:lnTo>
                  <a:lnTo>
                    <a:pt x="55" y="30"/>
                  </a:lnTo>
                  <a:lnTo>
                    <a:pt x="55" y="28"/>
                  </a:lnTo>
                  <a:lnTo>
                    <a:pt x="56" y="26"/>
                  </a:lnTo>
                  <a:lnTo>
                    <a:pt x="56" y="24"/>
                  </a:lnTo>
                  <a:close/>
                  <a:moveTo>
                    <a:pt x="57" y="40"/>
                  </a:moveTo>
                  <a:lnTo>
                    <a:pt x="54" y="41"/>
                  </a:lnTo>
                  <a:lnTo>
                    <a:pt x="50" y="43"/>
                  </a:lnTo>
                  <a:lnTo>
                    <a:pt x="46" y="44"/>
                  </a:lnTo>
                  <a:lnTo>
                    <a:pt x="43" y="45"/>
                  </a:lnTo>
                  <a:lnTo>
                    <a:pt x="39" y="45"/>
                  </a:lnTo>
                  <a:lnTo>
                    <a:pt x="35" y="45"/>
                  </a:lnTo>
                  <a:lnTo>
                    <a:pt x="31" y="46"/>
                  </a:lnTo>
                  <a:lnTo>
                    <a:pt x="27" y="46"/>
                  </a:lnTo>
                  <a:lnTo>
                    <a:pt x="21" y="46"/>
                  </a:lnTo>
                  <a:lnTo>
                    <a:pt x="16" y="45"/>
                  </a:lnTo>
                  <a:lnTo>
                    <a:pt x="10" y="44"/>
                  </a:lnTo>
                  <a:lnTo>
                    <a:pt x="7" y="43"/>
                  </a:lnTo>
                  <a:lnTo>
                    <a:pt x="3" y="41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7" y="24"/>
                  </a:lnTo>
                  <a:lnTo>
                    <a:pt x="10" y="24"/>
                  </a:lnTo>
                  <a:lnTo>
                    <a:pt x="12" y="23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2" y="20"/>
                  </a:lnTo>
                  <a:lnTo>
                    <a:pt x="39" y="20"/>
                  </a:lnTo>
                  <a:lnTo>
                    <a:pt x="46" y="19"/>
                  </a:lnTo>
                  <a:lnTo>
                    <a:pt x="52" y="18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5" y="13"/>
                  </a:lnTo>
                  <a:lnTo>
                    <a:pt x="55" y="12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49" y="8"/>
                  </a:lnTo>
                  <a:lnTo>
                    <a:pt x="45" y="7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5" y="2"/>
                  </a:lnTo>
                  <a:lnTo>
                    <a:pt x="58" y="2"/>
                  </a:lnTo>
                  <a:lnTo>
                    <a:pt x="61" y="3"/>
                  </a:lnTo>
                  <a:lnTo>
                    <a:pt x="63" y="4"/>
                  </a:lnTo>
                  <a:lnTo>
                    <a:pt x="65" y="5"/>
                  </a:lnTo>
                  <a:lnTo>
                    <a:pt x="66" y="6"/>
                  </a:lnTo>
                  <a:lnTo>
                    <a:pt x="67" y="7"/>
                  </a:lnTo>
                  <a:lnTo>
                    <a:pt x="68" y="9"/>
                  </a:lnTo>
                  <a:lnTo>
                    <a:pt x="69" y="10"/>
                  </a:lnTo>
                  <a:lnTo>
                    <a:pt x="69" y="11"/>
                  </a:lnTo>
                  <a:lnTo>
                    <a:pt x="69" y="13"/>
                  </a:lnTo>
                  <a:lnTo>
                    <a:pt x="69" y="14"/>
                  </a:lnTo>
                  <a:lnTo>
                    <a:pt x="70" y="17"/>
                  </a:lnTo>
                  <a:lnTo>
                    <a:pt x="70" y="27"/>
                  </a:lnTo>
                  <a:lnTo>
                    <a:pt x="70" y="32"/>
                  </a:lnTo>
                  <a:lnTo>
                    <a:pt x="70" y="35"/>
                  </a:lnTo>
                  <a:lnTo>
                    <a:pt x="70" y="38"/>
                  </a:lnTo>
                  <a:lnTo>
                    <a:pt x="71" y="40"/>
                  </a:lnTo>
                  <a:lnTo>
                    <a:pt x="71" y="41"/>
                  </a:lnTo>
                  <a:lnTo>
                    <a:pt x="72" y="42"/>
                  </a:lnTo>
                  <a:lnTo>
                    <a:pt x="73" y="44"/>
                  </a:lnTo>
                  <a:lnTo>
                    <a:pt x="74" y="45"/>
                  </a:lnTo>
                  <a:lnTo>
                    <a:pt x="60" y="45"/>
                  </a:lnTo>
                  <a:lnTo>
                    <a:pt x="59" y="44"/>
                  </a:lnTo>
                  <a:lnTo>
                    <a:pt x="57" y="43"/>
                  </a:lnTo>
                  <a:lnTo>
                    <a:pt x="57" y="41"/>
                  </a:lnTo>
                  <a:lnTo>
                    <a:pt x="5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597760" y="294336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1">
                  <a:moveTo>
                    <a:pt x="0" y="60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0"/>
                  </a:lnTo>
                  <a:lnTo>
                    <a:pt x="0" y="6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607120" y="2949840"/>
              <a:ext cx="23400" cy="1692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0" y="32"/>
                  </a:moveTo>
                  <a:lnTo>
                    <a:pt x="14" y="31"/>
                  </a:lnTo>
                  <a:lnTo>
                    <a:pt x="14" y="33"/>
                  </a:lnTo>
                  <a:lnTo>
                    <a:pt x="15" y="35"/>
                  </a:lnTo>
                  <a:lnTo>
                    <a:pt x="17" y="36"/>
                  </a:lnTo>
                  <a:lnTo>
                    <a:pt x="20" y="38"/>
                  </a:lnTo>
                  <a:lnTo>
                    <a:pt x="23" y="39"/>
                  </a:lnTo>
                  <a:lnTo>
                    <a:pt x="26" y="40"/>
                  </a:lnTo>
                  <a:lnTo>
                    <a:pt x="29" y="40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45" y="39"/>
                  </a:lnTo>
                  <a:lnTo>
                    <a:pt x="48" y="38"/>
                  </a:lnTo>
                  <a:lnTo>
                    <a:pt x="50" y="36"/>
                  </a:lnTo>
                  <a:lnTo>
                    <a:pt x="51" y="36"/>
                  </a:lnTo>
                  <a:lnTo>
                    <a:pt x="52" y="34"/>
                  </a:lnTo>
                  <a:lnTo>
                    <a:pt x="53" y="33"/>
                  </a:lnTo>
                  <a:lnTo>
                    <a:pt x="52" y="32"/>
                  </a:lnTo>
                  <a:lnTo>
                    <a:pt x="51" y="31"/>
                  </a:lnTo>
                  <a:lnTo>
                    <a:pt x="50" y="30"/>
                  </a:lnTo>
                  <a:lnTo>
                    <a:pt x="48" y="29"/>
                  </a:lnTo>
                  <a:lnTo>
                    <a:pt x="45" y="29"/>
                  </a:lnTo>
                  <a:lnTo>
                    <a:pt x="43" y="28"/>
                  </a:lnTo>
                  <a:lnTo>
                    <a:pt x="39" y="27"/>
                  </a:lnTo>
                  <a:lnTo>
                    <a:pt x="34" y="27"/>
                  </a:lnTo>
                  <a:lnTo>
                    <a:pt x="27" y="26"/>
                  </a:lnTo>
                  <a:lnTo>
                    <a:pt x="22" y="25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1" y="22"/>
                  </a:lnTo>
                  <a:lnTo>
                    <a:pt x="8" y="21"/>
                  </a:lnTo>
                  <a:lnTo>
                    <a:pt x="6" y="20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2"/>
                  </a:lnTo>
                  <a:lnTo>
                    <a:pt x="54" y="4"/>
                  </a:lnTo>
                  <a:lnTo>
                    <a:pt x="56" y="5"/>
                  </a:lnTo>
                  <a:lnTo>
                    <a:pt x="59" y="6"/>
                  </a:lnTo>
                  <a:lnTo>
                    <a:pt x="60" y="7"/>
                  </a:lnTo>
                  <a:lnTo>
                    <a:pt x="62" y="9"/>
                  </a:lnTo>
                  <a:lnTo>
                    <a:pt x="62" y="11"/>
                  </a:lnTo>
                  <a:lnTo>
                    <a:pt x="63" y="13"/>
                  </a:lnTo>
                  <a:lnTo>
                    <a:pt x="49" y="14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6" y="10"/>
                  </a:lnTo>
                  <a:lnTo>
                    <a:pt x="44" y="9"/>
                  </a:lnTo>
                  <a:lnTo>
                    <a:pt x="42" y="8"/>
                  </a:lnTo>
                  <a:lnTo>
                    <a:pt x="39" y="7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2" y="7"/>
                  </a:lnTo>
                  <a:lnTo>
                    <a:pt x="20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6" y="18"/>
                  </a:lnTo>
                  <a:lnTo>
                    <a:pt x="29" y="18"/>
                  </a:lnTo>
                  <a:lnTo>
                    <a:pt x="34" y="19"/>
                  </a:lnTo>
                  <a:lnTo>
                    <a:pt x="40" y="20"/>
                  </a:lnTo>
                  <a:lnTo>
                    <a:pt x="45" y="20"/>
                  </a:lnTo>
                  <a:lnTo>
                    <a:pt x="50" y="21"/>
                  </a:lnTo>
                  <a:lnTo>
                    <a:pt x="54" y="22"/>
                  </a:lnTo>
                  <a:lnTo>
                    <a:pt x="56" y="23"/>
                  </a:lnTo>
                  <a:lnTo>
                    <a:pt x="59" y="24"/>
                  </a:lnTo>
                  <a:lnTo>
                    <a:pt x="61" y="25"/>
                  </a:lnTo>
                  <a:lnTo>
                    <a:pt x="63" y="26"/>
                  </a:lnTo>
                  <a:lnTo>
                    <a:pt x="64" y="27"/>
                  </a:lnTo>
                  <a:lnTo>
                    <a:pt x="65" y="29"/>
                  </a:lnTo>
                  <a:lnTo>
                    <a:pt x="65" y="31"/>
                  </a:lnTo>
                  <a:lnTo>
                    <a:pt x="66" y="33"/>
                  </a:lnTo>
                  <a:lnTo>
                    <a:pt x="65" y="34"/>
                  </a:lnTo>
                  <a:lnTo>
                    <a:pt x="65" y="36"/>
                  </a:lnTo>
                  <a:lnTo>
                    <a:pt x="63" y="38"/>
                  </a:lnTo>
                  <a:lnTo>
                    <a:pt x="63" y="40"/>
                  </a:lnTo>
                  <a:lnTo>
                    <a:pt x="60" y="41"/>
                  </a:lnTo>
                  <a:lnTo>
                    <a:pt x="57" y="42"/>
                  </a:lnTo>
                  <a:lnTo>
                    <a:pt x="54" y="43"/>
                  </a:lnTo>
                  <a:lnTo>
                    <a:pt x="51" y="44"/>
                  </a:lnTo>
                  <a:lnTo>
                    <a:pt x="47" y="45"/>
                  </a:lnTo>
                  <a:lnTo>
                    <a:pt x="43" y="45"/>
                  </a:lnTo>
                  <a:lnTo>
                    <a:pt x="38" y="46"/>
                  </a:lnTo>
                  <a:lnTo>
                    <a:pt x="34" y="46"/>
                  </a:lnTo>
                  <a:lnTo>
                    <a:pt x="27" y="46"/>
                  </a:lnTo>
                  <a:lnTo>
                    <a:pt x="20" y="45"/>
                  </a:lnTo>
                  <a:lnTo>
                    <a:pt x="15" y="44"/>
                  </a:lnTo>
                  <a:lnTo>
                    <a:pt x="11" y="43"/>
                  </a:lnTo>
                  <a:lnTo>
                    <a:pt x="6" y="41"/>
                  </a:lnTo>
                  <a:lnTo>
                    <a:pt x="4" y="38"/>
                  </a:lnTo>
                  <a:lnTo>
                    <a:pt x="1" y="35"/>
                  </a:lnTo>
                  <a:lnTo>
                    <a:pt x="0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400840" y="2859120"/>
              <a:ext cx="29880" cy="21960"/>
            </a:xfrm>
            <a:custGeom>
              <a:avLst/>
              <a:gdLst/>
              <a:ahLst/>
              <a:rect l="l" t="t" r="r" b="b"/>
              <a:pathLst>
                <a:path w="83" h="62">
                  <a:moveTo>
                    <a:pt x="0" y="61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7"/>
                  </a:lnTo>
                  <a:lnTo>
                    <a:pt x="16" y="7"/>
                  </a:lnTo>
                  <a:lnTo>
                    <a:pt x="16" y="25"/>
                  </a:lnTo>
                  <a:lnTo>
                    <a:pt x="76" y="25"/>
                  </a:lnTo>
                  <a:lnTo>
                    <a:pt x="76" y="33"/>
                  </a:lnTo>
                  <a:lnTo>
                    <a:pt x="16" y="33"/>
                  </a:lnTo>
                  <a:lnTo>
                    <a:pt x="16" y="53"/>
                  </a:lnTo>
                  <a:lnTo>
                    <a:pt x="82" y="53"/>
                  </a:lnTo>
                  <a:lnTo>
                    <a:pt x="82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435760" y="2865600"/>
              <a:ext cx="23400" cy="15480"/>
            </a:xfrm>
            <a:custGeom>
              <a:avLst/>
              <a:gdLst/>
              <a:ahLst/>
              <a:rect l="l" t="t" r="r" b="b"/>
              <a:pathLst>
                <a:path w="67" h="46">
                  <a:moveTo>
                    <a:pt x="0" y="31"/>
                  </a:moveTo>
                  <a:lnTo>
                    <a:pt x="14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18" y="35"/>
                  </a:lnTo>
                  <a:lnTo>
                    <a:pt x="20" y="37"/>
                  </a:lnTo>
                  <a:lnTo>
                    <a:pt x="23" y="38"/>
                  </a:lnTo>
                  <a:lnTo>
                    <a:pt x="26" y="39"/>
                  </a:lnTo>
                  <a:lnTo>
                    <a:pt x="29" y="39"/>
                  </a:lnTo>
                  <a:lnTo>
                    <a:pt x="34" y="39"/>
                  </a:lnTo>
                  <a:lnTo>
                    <a:pt x="38" y="39"/>
                  </a:lnTo>
                  <a:lnTo>
                    <a:pt x="42" y="39"/>
                  </a:lnTo>
                  <a:lnTo>
                    <a:pt x="45" y="38"/>
                  </a:lnTo>
                  <a:lnTo>
                    <a:pt x="48" y="37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3"/>
                  </a:lnTo>
                  <a:lnTo>
                    <a:pt x="52" y="32"/>
                  </a:lnTo>
                  <a:lnTo>
                    <a:pt x="52" y="31"/>
                  </a:lnTo>
                  <a:lnTo>
                    <a:pt x="51" y="30"/>
                  </a:lnTo>
                  <a:lnTo>
                    <a:pt x="50" y="29"/>
                  </a:lnTo>
                  <a:lnTo>
                    <a:pt x="48" y="28"/>
                  </a:lnTo>
                  <a:lnTo>
                    <a:pt x="45" y="28"/>
                  </a:lnTo>
                  <a:lnTo>
                    <a:pt x="43" y="27"/>
                  </a:lnTo>
                  <a:lnTo>
                    <a:pt x="39" y="27"/>
                  </a:lnTo>
                  <a:lnTo>
                    <a:pt x="34" y="26"/>
                  </a:lnTo>
                  <a:lnTo>
                    <a:pt x="27" y="25"/>
                  </a:lnTo>
                  <a:lnTo>
                    <a:pt x="21" y="24"/>
                  </a:lnTo>
                  <a:lnTo>
                    <a:pt x="18" y="23"/>
                  </a:lnTo>
                  <a:lnTo>
                    <a:pt x="14" y="22"/>
                  </a:lnTo>
                  <a:lnTo>
                    <a:pt x="10" y="21"/>
                  </a:lnTo>
                  <a:lnTo>
                    <a:pt x="9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4" y="3"/>
                  </a:lnTo>
                  <a:lnTo>
                    <a:pt x="56" y="4"/>
                  </a:lnTo>
                  <a:lnTo>
                    <a:pt x="59" y="5"/>
                  </a:lnTo>
                  <a:lnTo>
                    <a:pt x="59" y="7"/>
                  </a:lnTo>
                  <a:lnTo>
                    <a:pt x="61" y="8"/>
                  </a:lnTo>
                  <a:lnTo>
                    <a:pt x="61" y="10"/>
                  </a:lnTo>
                  <a:lnTo>
                    <a:pt x="63" y="12"/>
                  </a:lnTo>
                  <a:lnTo>
                    <a:pt x="49" y="13"/>
                  </a:lnTo>
                  <a:lnTo>
                    <a:pt x="48" y="11"/>
                  </a:lnTo>
                  <a:lnTo>
                    <a:pt x="47" y="10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2" y="6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9" y="15"/>
                  </a:lnTo>
                  <a:lnTo>
                    <a:pt x="20" y="15"/>
                  </a:lnTo>
                  <a:lnTo>
                    <a:pt x="22" y="16"/>
                  </a:lnTo>
                  <a:lnTo>
                    <a:pt x="23" y="16"/>
                  </a:lnTo>
                  <a:lnTo>
                    <a:pt x="26" y="17"/>
                  </a:lnTo>
                  <a:lnTo>
                    <a:pt x="28" y="17"/>
                  </a:lnTo>
                  <a:lnTo>
                    <a:pt x="34" y="18"/>
                  </a:lnTo>
                  <a:lnTo>
                    <a:pt x="39" y="19"/>
                  </a:lnTo>
                  <a:lnTo>
                    <a:pt x="45" y="19"/>
                  </a:lnTo>
                  <a:lnTo>
                    <a:pt x="50" y="20"/>
                  </a:lnTo>
                  <a:lnTo>
                    <a:pt x="53" y="21"/>
                  </a:lnTo>
                  <a:lnTo>
                    <a:pt x="56" y="22"/>
                  </a:lnTo>
                  <a:lnTo>
                    <a:pt x="59" y="23"/>
                  </a:lnTo>
                  <a:lnTo>
                    <a:pt x="60" y="24"/>
                  </a:lnTo>
                  <a:lnTo>
                    <a:pt x="63" y="25"/>
                  </a:lnTo>
                  <a:lnTo>
                    <a:pt x="64" y="27"/>
                  </a:lnTo>
                  <a:lnTo>
                    <a:pt x="65" y="28"/>
                  </a:lnTo>
                  <a:lnTo>
                    <a:pt x="65" y="30"/>
                  </a:lnTo>
                  <a:lnTo>
                    <a:pt x="66" y="32"/>
                  </a:lnTo>
                  <a:lnTo>
                    <a:pt x="65" y="33"/>
                  </a:lnTo>
                  <a:lnTo>
                    <a:pt x="65" y="35"/>
                  </a:lnTo>
                  <a:lnTo>
                    <a:pt x="63" y="37"/>
                  </a:lnTo>
                  <a:lnTo>
                    <a:pt x="62" y="39"/>
                  </a:lnTo>
                  <a:lnTo>
                    <a:pt x="59" y="40"/>
                  </a:lnTo>
                  <a:lnTo>
                    <a:pt x="57" y="41"/>
                  </a:lnTo>
                  <a:lnTo>
                    <a:pt x="54" y="43"/>
                  </a:lnTo>
                  <a:lnTo>
                    <a:pt x="51" y="43"/>
                  </a:lnTo>
                  <a:lnTo>
                    <a:pt x="46" y="44"/>
                  </a:lnTo>
                  <a:lnTo>
                    <a:pt x="43" y="45"/>
                  </a:lnTo>
                  <a:lnTo>
                    <a:pt x="38" y="45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44"/>
                  </a:lnTo>
                  <a:lnTo>
                    <a:pt x="15" y="43"/>
                  </a:lnTo>
                  <a:lnTo>
                    <a:pt x="10" y="42"/>
                  </a:lnTo>
                  <a:lnTo>
                    <a:pt x="7" y="40"/>
                  </a:lnTo>
                  <a:lnTo>
                    <a:pt x="3" y="37"/>
                  </a:lnTo>
                  <a:lnTo>
                    <a:pt x="1" y="34"/>
                  </a:lnTo>
                  <a:lnTo>
                    <a:pt x="0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464200" y="2865600"/>
              <a:ext cx="25200" cy="219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12" y="23"/>
                  </a:moveTo>
                  <a:lnTo>
                    <a:pt x="12" y="27"/>
                  </a:lnTo>
                  <a:lnTo>
                    <a:pt x="13" y="30"/>
                  </a:lnTo>
                  <a:lnTo>
                    <a:pt x="16" y="33"/>
                  </a:lnTo>
                  <a:lnTo>
                    <a:pt x="19" y="35"/>
                  </a:lnTo>
                  <a:lnTo>
                    <a:pt x="21" y="37"/>
                  </a:lnTo>
                  <a:lnTo>
                    <a:pt x="25" y="38"/>
                  </a:lnTo>
                  <a:lnTo>
                    <a:pt x="29" y="39"/>
                  </a:lnTo>
                  <a:lnTo>
                    <a:pt x="34" y="39"/>
                  </a:lnTo>
                  <a:lnTo>
                    <a:pt x="38" y="39"/>
                  </a:lnTo>
                  <a:lnTo>
                    <a:pt x="43" y="38"/>
                  </a:lnTo>
                  <a:lnTo>
                    <a:pt x="46" y="37"/>
                  </a:lnTo>
                  <a:lnTo>
                    <a:pt x="50" y="35"/>
                  </a:lnTo>
                  <a:lnTo>
                    <a:pt x="52" y="33"/>
                  </a:lnTo>
                  <a:lnTo>
                    <a:pt x="54" y="30"/>
                  </a:lnTo>
                  <a:lnTo>
                    <a:pt x="56" y="26"/>
                  </a:lnTo>
                  <a:lnTo>
                    <a:pt x="56" y="22"/>
                  </a:lnTo>
                  <a:lnTo>
                    <a:pt x="56" y="18"/>
                  </a:lnTo>
                  <a:lnTo>
                    <a:pt x="54" y="15"/>
                  </a:lnTo>
                  <a:lnTo>
                    <a:pt x="52" y="12"/>
                  </a:lnTo>
                  <a:lnTo>
                    <a:pt x="50" y="9"/>
                  </a:lnTo>
                  <a:lnTo>
                    <a:pt x="47" y="7"/>
                  </a:lnTo>
                  <a:lnTo>
                    <a:pt x="43" y="7"/>
                  </a:lnTo>
                  <a:lnTo>
                    <a:pt x="39" y="5"/>
                  </a:lnTo>
                  <a:lnTo>
                    <a:pt x="35" y="5"/>
                  </a:lnTo>
                  <a:lnTo>
                    <a:pt x="30" y="5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4" y="15"/>
                  </a:lnTo>
                  <a:lnTo>
                    <a:pt x="12" y="19"/>
                  </a:lnTo>
                  <a:lnTo>
                    <a:pt x="12" y="23"/>
                  </a:lnTo>
                  <a:close/>
                  <a:moveTo>
                    <a:pt x="0" y="61"/>
                  </a:moveTo>
                  <a:lnTo>
                    <a:pt x="0" y="1"/>
                  </a:lnTo>
                  <a:lnTo>
                    <a:pt x="12" y="1"/>
                  </a:lnTo>
                  <a:lnTo>
                    <a:pt x="12" y="7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4" y="3"/>
                  </a:lnTo>
                  <a:lnTo>
                    <a:pt x="58" y="4"/>
                  </a:lnTo>
                  <a:lnTo>
                    <a:pt x="61" y="6"/>
                  </a:lnTo>
                  <a:lnTo>
                    <a:pt x="64" y="8"/>
                  </a:lnTo>
                  <a:lnTo>
                    <a:pt x="66" y="11"/>
                  </a:lnTo>
                  <a:lnTo>
                    <a:pt x="68" y="13"/>
                  </a:lnTo>
                  <a:lnTo>
                    <a:pt x="68" y="16"/>
                  </a:lnTo>
                  <a:lnTo>
                    <a:pt x="69" y="19"/>
                  </a:lnTo>
                  <a:lnTo>
                    <a:pt x="70" y="22"/>
                  </a:lnTo>
                  <a:lnTo>
                    <a:pt x="69" y="25"/>
                  </a:lnTo>
                  <a:lnTo>
                    <a:pt x="68" y="28"/>
                  </a:lnTo>
                  <a:lnTo>
                    <a:pt x="68" y="31"/>
                  </a:lnTo>
                  <a:lnTo>
                    <a:pt x="66" y="34"/>
                  </a:lnTo>
                  <a:lnTo>
                    <a:pt x="63" y="37"/>
                  </a:lnTo>
                  <a:lnTo>
                    <a:pt x="60" y="39"/>
                  </a:lnTo>
                  <a:lnTo>
                    <a:pt x="56" y="41"/>
                  </a:lnTo>
                  <a:lnTo>
                    <a:pt x="52" y="43"/>
                  </a:lnTo>
                  <a:lnTo>
                    <a:pt x="48" y="43"/>
                  </a:lnTo>
                  <a:lnTo>
                    <a:pt x="44" y="45"/>
                  </a:lnTo>
                  <a:lnTo>
                    <a:pt x="39" y="45"/>
                  </a:lnTo>
                  <a:lnTo>
                    <a:pt x="35" y="45"/>
                  </a:lnTo>
                  <a:lnTo>
                    <a:pt x="31" y="45"/>
                  </a:lnTo>
                  <a:lnTo>
                    <a:pt x="28" y="45"/>
                  </a:lnTo>
                  <a:lnTo>
                    <a:pt x="25" y="44"/>
                  </a:lnTo>
                  <a:lnTo>
                    <a:pt x="23" y="44"/>
                  </a:lnTo>
                  <a:lnTo>
                    <a:pt x="20" y="43"/>
                  </a:lnTo>
                  <a:lnTo>
                    <a:pt x="18" y="42"/>
                  </a:lnTo>
                  <a:lnTo>
                    <a:pt x="16" y="41"/>
                  </a:lnTo>
                  <a:lnTo>
                    <a:pt x="14" y="40"/>
                  </a:lnTo>
                  <a:lnTo>
                    <a:pt x="14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49444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56" y="23"/>
                  </a:moveTo>
                  <a:lnTo>
                    <a:pt x="51" y="23"/>
                  </a:lnTo>
                  <a:lnTo>
                    <a:pt x="46" y="24"/>
                  </a:lnTo>
                  <a:lnTo>
                    <a:pt x="40" y="25"/>
                  </a:lnTo>
                  <a:lnTo>
                    <a:pt x="33" y="25"/>
                  </a:lnTo>
                  <a:lnTo>
                    <a:pt x="29" y="25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5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5"/>
                  </a:lnTo>
                  <a:lnTo>
                    <a:pt x="16" y="36"/>
                  </a:lnTo>
                  <a:lnTo>
                    <a:pt x="19" y="38"/>
                  </a:lnTo>
                  <a:lnTo>
                    <a:pt x="20" y="38"/>
                  </a:lnTo>
                  <a:lnTo>
                    <a:pt x="23" y="39"/>
                  </a:lnTo>
                  <a:lnTo>
                    <a:pt x="26" y="39"/>
                  </a:lnTo>
                  <a:lnTo>
                    <a:pt x="30" y="39"/>
                  </a:lnTo>
                  <a:lnTo>
                    <a:pt x="34" y="39"/>
                  </a:lnTo>
                  <a:lnTo>
                    <a:pt x="37" y="39"/>
                  </a:lnTo>
                  <a:lnTo>
                    <a:pt x="41" y="38"/>
                  </a:lnTo>
                  <a:lnTo>
                    <a:pt x="44" y="38"/>
                  </a:lnTo>
                  <a:lnTo>
                    <a:pt x="47" y="37"/>
                  </a:lnTo>
                  <a:lnTo>
                    <a:pt x="50" y="36"/>
                  </a:lnTo>
                  <a:lnTo>
                    <a:pt x="51" y="34"/>
                  </a:lnTo>
                  <a:lnTo>
                    <a:pt x="53" y="33"/>
                  </a:lnTo>
                  <a:lnTo>
                    <a:pt x="54" y="31"/>
                  </a:lnTo>
                  <a:lnTo>
                    <a:pt x="55" y="29"/>
                  </a:lnTo>
                  <a:lnTo>
                    <a:pt x="55" y="27"/>
                  </a:lnTo>
                  <a:lnTo>
                    <a:pt x="56" y="25"/>
                  </a:lnTo>
                  <a:lnTo>
                    <a:pt x="56" y="23"/>
                  </a:lnTo>
                  <a:close/>
                  <a:moveTo>
                    <a:pt x="57" y="39"/>
                  </a:moveTo>
                  <a:lnTo>
                    <a:pt x="53" y="40"/>
                  </a:lnTo>
                  <a:lnTo>
                    <a:pt x="49" y="42"/>
                  </a:lnTo>
                  <a:lnTo>
                    <a:pt x="46" y="43"/>
                  </a:lnTo>
                  <a:lnTo>
                    <a:pt x="43" y="44"/>
                  </a:lnTo>
                  <a:lnTo>
                    <a:pt x="39" y="44"/>
                  </a:lnTo>
                  <a:lnTo>
                    <a:pt x="35" y="45"/>
                  </a:lnTo>
                  <a:lnTo>
                    <a:pt x="31" y="45"/>
                  </a:lnTo>
                  <a:lnTo>
                    <a:pt x="27" y="45"/>
                  </a:lnTo>
                  <a:lnTo>
                    <a:pt x="21" y="45"/>
                  </a:lnTo>
                  <a:lnTo>
                    <a:pt x="15" y="44"/>
                  </a:lnTo>
                  <a:lnTo>
                    <a:pt x="11" y="43"/>
                  </a:lnTo>
                  <a:lnTo>
                    <a:pt x="7" y="42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4" y="21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21" y="20"/>
                  </a:lnTo>
                  <a:lnTo>
                    <a:pt x="24" y="19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9" y="19"/>
                  </a:lnTo>
                  <a:lnTo>
                    <a:pt x="46" y="18"/>
                  </a:lnTo>
                  <a:lnTo>
                    <a:pt x="51" y="17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5" y="12"/>
                  </a:lnTo>
                  <a:lnTo>
                    <a:pt x="55" y="11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49" y="7"/>
                  </a:lnTo>
                  <a:lnTo>
                    <a:pt x="45" y="7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8" y="6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0" y="2"/>
                  </a:lnTo>
                  <a:lnTo>
                    <a:pt x="62" y="3"/>
                  </a:lnTo>
                  <a:lnTo>
                    <a:pt x="64" y="4"/>
                  </a:lnTo>
                  <a:lnTo>
                    <a:pt x="66" y="5"/>
                  </a:lnTo>
                  <a:lnTo>
                    <a:pt x="67" y="6"/>
                  </a:lnTo>
                  <a:lnTo>
                    <a:pt x="67" y="8"/>
                  </a:lnTo>
                  <a:lnTo>
                    <a:pt x="68" y="9"/>
                  </a:lnTo>
                  <a:lnTo>
                    <a:pt x="68" y="10"/>
                  </a:lnTo>
                  <a:lnTo>
                    <a:pt x="68" y="12"/>
                  </a:lnTo>
                  <a:lnTo>
                    <a:pt x="68" y="14"/>
                  </a:lnTo>
                  <a:lnTo>
                    <a:pt x="69" y="16"/>
                  </a:lnTo>
                  <a:lnTo>
                    <a:pt x="69" y="26"/>
                  </a:lnTo>
                  <a:lnTo>
                    <a:pt x="69" y="31"/>
                  </a:lnTo>
                  <a:lnTo>
                    <a:pt x="69" y="34"/>
                  </a:lnTo>
                  <a:lnTo>
                    <a:pt x="69" y="37"/>
                  </a:lnTo>
                  <a:lnTo>
                    <a:pt x="70" y="39"/>
                  </a:lnTo>
                  <a:lnTo>
                    <a:pt x="70" y="40"/>
                  </a:lnTo>
                  <a:lnTo>
                    <a:pt x="71" y="41"/>
                  </a:lnTo>
                  <a:lnTo>
                    <a:pt x="72" y="43"/>
                  </a:lnTo>
                  <a:lnTo>
                    <a:pt x="73" y="45"/>
                  </a:lnTo>
                  <a:lnTo>
                    <a:pt x="60" y="45"/>
                  </a:lnTo>
                  <a:lnTo>
                    <a:pt x="58" y="43"/>
                  </a:lnTo>
                  <a:lnTo>
                    <a:pt x="57" y="42"/>
                  </a:lnTo>
                  <a:lnTo>
                    <a:pt x="57" y="40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524680" y="2865600"/>
              <a:ext cx="24840" cy="219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14" y="22"/>
                  </a:moveTo>
                  <a:lnTo>
                    <a:pt x="14" y="25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20" y="34"/>
                  </a:lnTo>
                  <a:lnTo>
                    <a:pt x="23" y="36"/>
                  </a:lnTo>
                  <a:lnTo>
                    <a:pt x="27" y="37"/>
                  </a:lnTo>
                  <a:lnTo>
                    <a:pt x="30" y="38"/>
                  </a:lnTo>
                  <a:lnTo>
                    <a:pt x="35" y="38"/>
                  </a:lnTo>
                  <a:lnTo>
                    <a:pt x="39" y="38"/>
                  </a:lnTo>
                  <a:lnTo>
                    <a:pt x="44" y="37"/>
                  </a:lnTo>
                  <a:lnTo>
                    <a:pt x="48" y="36"/>
                  </a:lnTo>
                  <a:lnTo>
                    <a:pt x="51" y="34"/>
                  </a:lnTo>
                  <a:lnTo>
                    <a:pt x="54" y="32"/>
                  </a:lnTo>
                  <a:lnTo>
                    <a:pt x="55" y="29"/>
                  </a:lnTo>
                  <a:lnTo>
                    <a:pt x="57" y="25"/>
                  </a:lnTo>
                  <a:lnTo>
                    <a:pt x="57" y="22"/>
                  </a:lnTo>
                  <a:lnTo>
                    <a:pt x="57" y="18"/>
                  </a:lnTo>
                  <a:lnTo>
                    <a:pt x="55" y="15"/>
                  </a:lnTo>
                  <a:lnTo>
                    <a:pt x="53" y="12"/>
                  </a:lnTo>
                  <a:lnTo>
                    <a:pt x="50" y="10"/>
                  </a:lnTo>
                  <a:lnTo>
                    <a:pt x="47" y="8"/>
                  </a:lnTo>
                  <a:lnTo>
                    <a:pt x="43" y="7"/>
                  </a:lnTo>
                  <a:lnTo>
                    <a:pt x="39" y="6"/>
                  </a:lnTo>
                  <a:lnTo>
                    <a:pt x="35" y="6"/>
                  </a:lnTo>
                  <a:lnTo>
                    <a:pt x="30" y="6"/>
                  </a:lnTo>
                  <a:lnTo>
                    <a:pt x="27" y="7"/>
                  </a:lnTo>
                  <a:lnTo>
                    <a:pt x="23" y="8"/>
                  </a:lnTo>
                  <a:lnTo>
                    <a:pt x="20" y="10"/>
                  </a:lnTo>
                  <a:lnTo>
                    <a:pt x="17" y="12"/>
                  </a:lnTo>
                  <a:lnTo>
                    <a:pt x="15" y="15"/>
                  </a:lnTo>
                  <a:lnTo>
                    <a:pt x="14" y="18"/>
                  </a:lnTo>
                  <a:lnTo>
                    <a:pt x="14" y="22"/>
                  </a:lnTo>
                  <a:close/>
                  <a:moveTo>
                    <a:pt x="3" y="48"/>
                  </a:moveTo>
                  <a:lnTo>
                    <a:pt x="17" y="49"/>
                  </a:lnTo>
                  <a:lnTo>
                    <a:pt x="17" y="50"/>
                  </a:lnTo>
                  <a:lnTo>
                    <a:pt x="18" y="51"/>
                  </a:lnTo>
                  <a:lnTo>
                    <a:pt x="19" y="52"/>
                  </a:lnTo>
                  <a:lnTo>
                    <a:pt x="21" y="54"/>
                  </a:lnTo>
                  <a:lnTo>
                    <a:pt x="23" y="54"/>
                  </a:lnTo>
                  <a:lnTo>
                    <a:pt x="27" y="55"/>
                  </a:lnTo>
                  <a:lnTo>
                    <a:pt x="30" y="56"/>
                  </a:lnTo>
                  <a:lnTo>
                    <a:pt x="34" y="56"/>
                  </a:lnTo>
                  <a:lnTo>
                    <a:pt x="39" y="56"/>
                  </a:lnTo>
                  <a:lnTo>
                    <a:pt x="42" y="55"/>
                  </a:lnTo>
                  <a:lnTo>
                    <a:pt x="46" y="54"/>
                  </a:lnTo>
                  <a:lnTo>
                    <a:pt x="49" y="54"/>
                  </a:lnTo>
                  <a:lnTo>
                    <a:pt x="50" y="52"/>
                  </a:lnTo>
                  <a:lnTo>
                    <a:pt x="52" y="51"/>
                  </a:lnTo>
                  <a:lnTo>
                    <a:pt x="54" y="50"/>
                  </a:lnTo>
                  <a:lnTo>
                    <a:pt x="55" y="48"/>
                  </a:lnTo>
                  <a:lnTo>
                    <a:pt x="55" y="47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7" y="39"/>
                  </a:lnTo>
                  <a:lnTo>
                    <a:pt x="52" y="41"/>
                  </a:lnTo>
                  <a:lnTo>
                    <a:pt x="46" y="43"/>
                  </a:lnTo>
                  <a:lnTo>
                    <a:pt x="41" y="44"/>
                  </a:lnTo>
                  <a:lnTo>
                    <a:pt x="34" y="45"/>
                  </a:lnTo>
                  <a:lnTo>
                    <a:pt x="26" y="44"/>
                  </a:lnTo>
                  <a:lnTo>
                    <a:pt x="19" y="43"/>
                  </a:lnTo>
                  <a:lnTo>
                    <a:pt x="14" y="41"/>
                  </a:lnTo>
                  <a:lnTo>
                    <a:pt x="9" y="38"/>
                  </a:lnTo>
                  <a:lnTo>
                    <a:pt x="5" y="34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4" y="11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6" y="3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2" y="3"/>
                  </a:lnTo>
                  <a:lnTo>
                    <a:pt x="57" y="6"/>
                  </a:lnTo>
                  <a:lnTo>
                    <a:pt x="57" y="1"/>
                  </a:lnTo>
                  <a:lnTo>
                    <a:pt x="70" y="1"/>
                  </a:lnTo>
                  <a:lnTo>
                    <a:pt x="70" y="39"/>
                  </a:lnTo>
                  <a:lnTo>
                    <a:pt x="70" y="43"/>
                  </a:lnTo>
                  <a:lnTo>
                    <a:pt x="69" y="47"/>
                  </a:lnTo>
                  <a:lnTo>
                    <a:pt x="68" y="50"/>
                  </a:lnTo>
                  <a:lnTo>
                    <a:pt x="66" y="53"/>
                  </a:lnTo>
                  <a:lnTo>
                    <a:pt x="65" y="54"/>
                  </a:lnTo>
                  <a:lnTo>
                    <a:pt x="61" y="56"/>
                  </a:lnTo>
                  <a:lnTo>
                    <a:pt x="58" y="58"/>
                  </a:lnTo>
                  <a:lnTo>
                    <a:pt x="55" y="59"/>
                  </a:lnTo>
                  <a:lnTo>
                    <a:pt x="50" y="60"/>
                  </a:lnTo>
                  <a:lnTo>
                    <a:pt x="45" y="61"/>
                  </a:lnTo>
                  <a:lnTo>
                    <a:pt x="40" y="61"/>
                  </a:lnTo>
                  <a:lnTo>
                    <a:pt x="34" y="62"/>
                  </a:lnTo>
                  <a:lnTo>
                    <a:pt x="27" y="61"/>
                  </a:lnTo>
                  <a:lnTo>
                    <a:pt x="21" y="61"/>
                  </a:lnTo>
                  <a:lnTo>
                    <a:pt x="16" y="59"/>
                  </a:lnTo>
                  <a:lnTo>
                    <a:pt x="11" y="58"/>
                  </a:lnTo>
                  <a:lnTo>
                    <a:pt x="7" y="56"/>
                  </a:lnTo>
                  <a:lnTo>
                    <a:pt x="4" y="54"/>
                  </a:lnTo>
                  <a:lnTo>
                    <a:pt x="3" y="51"/>
                  </a:lnTo>
                  <a:lnTo>
                    <a:pt x="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557800" y="2865600"/>
              <a:ext cx="23760" cy="154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0" y="45"/>
                  </a:moveTo>
                  <a:lnTo>
                    <a:pt x="0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3"/>
                  </a:lnTo>
                  <a:lnTo>
                    <a:pt x="57" y="3"/>
                  </a:lnTo>
                  <a:lnTo>
                    <a:pt x="59" y="5"/>
                  </a:lnTo>
                  <a:lnTo>
                    <a:pt x="60" y="6"/>
                  </a:lnTo>
                  <a:lnTo>
                    <a:pt x="62" y="7"/>
                  </a:lnTo>
                  <a:lnTo>
                    <a:pt x="62" y="9"/>
                  </a:lnTo>
                  <a:lnTo>
                    <a:pt x="64" y="10"/>
                  </a:lnTo>
                  <a:lnTo>
                    <a:pt x="64" y="11"/>
                  </a:lnTo>
                  <a:lnTo>
                    <a:pt x="64" y="13"/>
                  </a:lnTo>
                  <a:lnTo>
                    <a:pt x="64" y="15"/>
                  </a:lnTo>
                  <a:lnTo>
                    <a:pt x="64" y="18"/>
                  </a:lnTo>
                  <a:lnTo>
                    <a:pt x="64" y="45"/>
                  </a:lnTo>
                  <a:lnTo>
                    <a:pt x="50" y="45"/>
                  </a:lnTo>
                  <a:lnTo>
                    <a:pt x="50" y="18"/>
                  </a:lnTo>
                  <a:lnTo>
                    <a:pt x="49" y="16"/>
                  </a:lnTo>
                  <a:lnTo>
                    <a:pt x="49" y="14"/>
                  </a:lnTo>
                  <a:lnTo>
                    <a:pt x="49" y="12"/>
                  </a:lnTo>
                  <a:lnTo>
                    <a:pt x="49" y="11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1" y="7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58660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5" h="46">
                  <a:moveTo>
                    <a:pt x="14" y="23"/>
                  </a:moveTo>
                  <a:lnTo>
                    <a:pt x="14" y="26"/>
                  </a:lnTo>
                  <a:lnTo>
                    <a:pt x="15" y="30"/>
                  </a:lnTo>
                  <a:lnTo>
                    <a:pt x="17" y="33"/>
                  </a:lnTo>
                  <a:lnTo>
                    <a:pt x="20" y="35"/>
                  </a:lnTo>
                  <a:lnTo>
                    <a:pt x="23" y="37"/>
                  </a:lnTo>
                  <a:lnTo>
                    <a:pt x="27" y="38"/>
                  </a:lnTo>
                  <a:lnTo>
                    <a:pt x="32" y="39"/>
                  </a:lnTo>
                  <a:lnTo>
                    <a:pt x="37" y="39"/>
                  </a:lnTo>
                  <a:lnTo>
                    <a:pt x="41" y="39"/>
                  </a:lnTo>
                  <a:lnTo>
                    <a:pt x="46" y="38"/>
                  </a:lnTo>
                  <a:lnTo>
                    <a:pt x="50" y="37"/>
                  </a:lnTo>
                  <a:lnTo>
                    <a:pt x="54" y="35"/>
                  </a:lnTo>
                  <a:lnTo>
                    <a:pt x="56" y="32"/>
                  </a:lnTo>
                  <a:lnTo>
                    <a:pt x="58" y="29"/>
                  </a:lnTo>
                  <a:lnTo>
                    <a:pt x="59" y="26"/>
                  </a:lnTo>
                  <a:lnTo>
                    <a:pt x="60" y="22"/>
                  </a:lnTo>
                  <a:lnTo>
                    <a:pt x="59" y="18"/>
                  </a:lnTo>
                  <a:lnTo>
                    <a:pt x="58" y="15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0" y="8"/>
                  </a:lnTo>
                  <a:lnTo>
                    <a:pt x="46" y="7"/>
                  </a:lnTo>
                  <a:lnTo>
                    <a:pt x="41" y="6"/>
                  </a:lnTo>
                  <a:lnTo>
                    <a:pt x="37" y="6"/>
                  </a:lnTo>
                  <a:lnTo>
                    <a:pt x="32" y="6"/>
                  </a:lnTo>
                  <a:lnTo>
                    <a:pt x="27" y="7"/>
                  </a:lnTo>
                  <a:lnTo>
                    <a:pt x="23" y="8"/>
                  </a:lnTo>
                  <a:lnTo>
                    <a:pt x="20" y="10"/>
                  </a:lnTo>
                  <a:lnTo>
                    <a:pt x="17" y="12"/>
                  </a:lnTo>
                  <a:lnTo>
                    <a:pt x="15" y="15"/>
                  </a:lnTo>
                  <a:lnTo>
                    <a:pt x="14" y="19"/>
                  </a:lnTo>
                  <a:lnTo>
                    <a:pt x="14" y="23"/>
                  </a:lnTo>
                  <a:close/>
                  <a:moveTo>
                    <a:pt x="0" y="23"/>
                  </a:moveTo>
                  <a:lnTo>
                    <a:pt x="1" y="17"/>
                  </a:lnTo>
                  <a:lnTo>
                    <a:pt x="3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7" y="2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58" y="3"/>
                  </a:lnTo>
                  <a:lnTo>
                    <a:pt x="64" y="5"/>
                  </a:lnTo>
                  <a:lnTo>
                    <a:pt x="68" y="9"/>
                  </a:lnTo>
                  <a:lnTo>
                    <a:pt x="71" y="12"/>
                  </a:lnTo>
                  <a:lnTo>
                    <a:pt x="73" y="17"/>
                  </a:lnTo>
                  <a:lnTo>
                    <a:pt x="74" y="22"/>
                  </a:lnTo>
                  <a:lnTo>
                    <a:pt x="74" y="26"/>
                  </a:lnTo>
                  <a:lnTo>
                    <a:pt x="73" y="29"/>
                  </a:lnTo>
                  <a:lnTo>
                    <a:pt x="72" y="32"/>
                  </a:lnTo>
                  <a:lnTo>
                    <a:pt x="70" y="35"/>
                  </a:lnTo>
                  <a:lnTo>
                    <a:pt x="67" y="38"/>
                  </a:lnTo>
                  <a:lnTo>
                    <a:pt x="64" y="39"/>
                  </a:lnTo>
                  <a:lnTo>
                    <a:pt x="60" y="41"/>
                  </a:lnTo>
                  <a:lnTo>
                    <a:pt x="56" y="43"/>
                  </a:lnTo>
                  <a:lnTo>
                    <a:pt x="51" y="44"/>
                  </a:lnTo>
                  <a:lnTo>
                    <a:pt x="47" y="45"/>
                  </a:lnTo>
                  <a:lnTo>
                    <a:pt x="41" y="45"/>
                  </a:lnTo>
                  <a:lnTo>
                    <a:pt x="37" y="45"/>
                  </a:lnTo>
                  <a:lnTo>
                    <a:pt x="29" y="45"/>
                  </a:lnTo>
                  <a:lnTo>
                    <a:pt x="22" y="44"/>
                  </a:lnTo>
                  <a:lnTo>
                    <a:pt x="16" y="42"/>
                  </a:lnTo>
                  <a:lnTo>
                    <a:pt x="10" y="39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618280" y="285912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2">
                  <a:moveTo>
                    <a:pt x="0" y="61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430800" y="2859120"/>
              <a:ext cx="32760" cy="21960"/>
            </a:xfrm>
            <a:custGeom>
              <a:avLst/>
              <a:gdLst/>
              <a:ahLst/>
              <a:rect l="l" t="t" r="r" b="b"/>
              <a:pathLst>
                <a:path w="93" h="62">
                  <a:moveTo>
                    <a:pt x="16" y="53"/>
                  </a:moveTo>
                  <a:lnTo>
                    <a:pt x="40" y="53"/>
                  </a:lnTo>
                  <a:lnTo>
                    <a:pt x="44" y="53"/>
                  </a:lnTo>
                  <a:lnTo>
                    <a:pt x="49" y="53"/>
                  </a:lnTo>
                  <a:lnTo>
                    <a:pt x="53" y="52"/>
                  </a:lnTo>
                  <a:lnTo>
                    <a:pt x="56" y="52"/>
                  </a:lnTo>
                  <a:lnTo>
                    <a:pt x="59" y="51"/>
                  </a:lnTo>
                  <a:lnTo>
                    <a:pt x="62" y="51"/>
                  </a:lnTo>
                  <a:lnTo>
                    <a:pt x="64" y="50"/>
                  </a:lnTo>
                  <a:lnTo>
                    <a:pt x="67" y="49"/>
                  </a:lnTo>
                  <a:lnTo>
                    <a:pt x="69" y="47"/>
                  </a:lnTo>
                  <a:lnTo>
                    <a:pt x="71" y="45"/>
                  </a:lnTo>
                  <a:lnTo>
                    <a:pt x="73" y="43"/>
                  </a:lnTo>
                  <a:lnTo>
                    <a:pt x="75" y="41"/>
                  </a:lnTo>
                  <a:lnTo>
                    <a:pt x="76" y="39"/>
                  </a:lnTo>
                  <a:lnTo>
                    <a:pt x="77" y="36"/>
                  </a:lnTo>
                  <a:lnTo>
                    <a:pt x="77" y="33"/>
                  </a:lnTo>
                  <a:lnTo>
                    <a:pt x="78" y="30"/>
                  </a:lnTo>
                  <a:lnTo>
                    <a:pt x="77" y="25"/>
                  </a:lnTo>
                  <a:lnTo>
                    <a:pt x="76" y="21"/>
                  </a:lnTo>
                  <a:lnTo>
                    <a:pt x="74" y="18"/>
                  </a:lnTo>
                  <a:lnTo>
                    <a:pt x="72" y="15"/>
                  </a:lnTo>
                  <a:lnTo>
                    <a:pt x="68" y="13"/>
                  </a:lnTo>
                  <a:lnTo>
                    <a:pt x="65" y="11"/>
                  </a:lnTo>
                  <a:lnTo>
                    <a:pt x="61" y="9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0" y="7"/>
                  </a:lnTo>
                  <a:lnTo>
                    <a:pt x="44" y="7"/>
                  </a:lnTo>
                  <a:lnTo>
                    <a:pt x="39" y="7"/>
                  </a:lnTo>
                  <a:lnTo>
                    <a:pt x="16" y="7"/>
                  </a:lnTo>
                  <a:lnTo>
                    <a:pt x="16" y="53"/>
                  </a:lnTo>
                  <a:close/>
                  <a:moveTo>
                    <a:pt x="0" y="61"/>
                  </a:moveTo>
                  <a:lnTo>
                    <a:pt x="0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8" y="1"/>
                  </a:lnTo>
                  <a:lnTo>
                    <a:pt x="63" y="1"/>
                  </a:lnTo>
                  <a:lnTo>
                    <a:pt x="68" y="2"/>
                  </a:lnTo>
                  <a:lnTo>
                    <a:pt x="71" y="3"/>
                  </a:lnTo>
                  <a:lnTo>
                    <a:pt x="75" y="5"/>
                  </a:lnTo>
                  <a:lnTo>
                    <a:pt x="79" y="7"/>
                  </a:lnTo>
                  <a:lnTo>
                    <a:pt x="82" y="9"/>
                  </a:lnTo>
                  <a:lnTo>
                    <a:pt x="85" y="12"/>
                  </a:lnTo>
                  <a:lnTo>
                    <a:pt x="88" y="15"/>
                  </a:lnTo>
                  <a:lnTo>
                    <a:pt x="90" y="19"/>
                  </a:lnTo>
                  <a:lnTo>
                    <a:pt x="92" y="22"/>
                  </a:lnTo>
                  <a:lnTo>
                    <a:pt x="92" y="26"/>
                  </a:lnTo>
                  <a:lnTo>
                    <a:pt x="92" y="30"/>
                  </a:lnTo>
                  <a:lnTo>
                    <a:pt x="92" y="33"/>
                  </a:lnTo>
                  <a:lnTo>
                    <a:pt x="92" y="36"/>
                  </a:lnTo>
                  <a:lnTo>
                    <a:pt x="91" y="39"/>
                  </a:lnTo>
                  <a:lnTo>
                    <a:pt x="90" y="42"/>
                  </a:lnTo>
                  <a:lnTo>
                    <a:pt x="88" y="44"/>
                  </a:lnTo>
                  <a:lnTo>
                    <a:pt x="86" y="47"/>
                  </a:lnTo>
                  <a:lnTo>
                    <a:pt x="84" y="49"/>
                  </a:lnTo>
                  <a:lnTo>
                    <a:pt x="82" y="51"/>
                  </a:lnTo>
                  <a:lnTo>
                    <a:pt x="80" y="52"/>
                  </a:lnTo>
                  <a:lnTo>
                    <a:pt x="77" y="54"/>
                  </a:lnTo>
                  <a:lnTo>
                    <a:pt x="74" y="55"/>
                  </a:lnTo>
                  <a:lnTo>
                    <a:pt x="72" y="56"/>
                  </a:lnTo>
                  <a:lnTo>
                    <a:pt x="69" y="57"/>
                  </a:lnTo>
                  <a:lnTo>
                    <a:pt x="66" y="58"/>
                  </a:lnTo>
                  <a:lnTo>
                    <a:pt x="62" y="59"/>
                  </a:lnTo>
                  <a:lnTo>
                    <a:pt x="58" y="59"/>
                  </a:lnTo>
                  <a:lnTo>
                    <a:pt x="54" y="60"/>
                  </a:lnTo>
                  <a:lnTo>
                    <a:pt x="50" y="60"/>
                  </a:lnTo>
                  <a:lnTo>
                    <a:pt x="45" y="60"/>
                  </a:lnTo>
                  <a:lnTo>
                    <a:pt x="41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46896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58" y="23"/>
                  </a:moveTo>
                  <a:lnTo>
                    <a:pt x="53" y="23"/>
                  </a:lnTo>
                  <a:lnTo>
                    <a:pt x="48" y="24"/>
                  </a:lnTo>
                  <a:lnTo>
                    <a:pt x="41" y="25"/>
                  </a:lnTo>
                  <a:lnTo>
                    <a:pt x="35" y="25"/>
                  </a:lnTo>
                  <a:lnTo>
                    <a:pt x="30" y="25"/>
                  </a:lnTo>
                  <a:lnTo>
                    <a:pt x="27" y="26"/>
                  </a:lnTo>
                  <a:lnTo>
                    <a:pt x="24" y="26"/>
                  </a:lnTo>
                  <a:lnTo>
                    <a:pt x="22" y="27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6" y="30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9" y="38"/>
                  </a:lnTo>
                  <a:lnTo>
                    <a:pt x="21" y="38"/>
                  </a:lnTo>
                  <a:lnTo>
                    <a:pt x="24" y="39"/>
                  </a:lnTo>
                  <a:lnTo>
                    <a:pt x="27" y="39"/>
                  </a:lnTo>
                  <a:lnTo>
                    <a:pt x="32" y="39"/>
                  </a:lnTo>
                  <a:lnTo>
                    <a:pt x="35" y="39"/>
                  </a:lnTo>
                  <a:lnTo>
                    <a:pt x="39" y="39"/>
                  </a:lnTo>
                  <a:lnTo>
                    <a:pt x="43" y="38"/>
                  </a:lnTo>
                  <a:lnTo>
                    <a:pt x="46" y="38"/>
                  </a:lnTo>
                  <a:lnTo>
                    <a:pt x="48" y="37"/>
                  </a:lnTo>
                  <a:lnTo>
                    <a:pt x="52" y="36"/>
                  </a:lnTo>
                  <a:lnTo>
                    <a:pt x="54" y="34"/>
                  </a:lnTo>
                  <a:lnTo>
                    <a:pt x="55" y="33"/>
                  </a:lnTo>
                  <a:lnTo>
                    <a:pt x="56" y="31"/>
                  </a:lnTo>
                  <a:lnTo>
                    <a:pt x="57" y="29"/>
                  </a:lnTo>
                  <a:lnTo>
                    <a:pt x="57" y="27"/>
                  </a:lnTo>
                  <a:lnTo>
                    <a:pt x="58" y="25"/>
                  </a:lnTo>
                  <a:lnTo>
                    <a:pt x="58" y="23"/>
                  </a:lnTo>
                  <a:close/>
                  <a:moveTo>
                    <a:pt x="59" y="39"/>
                  </a:moveTo>
                  <a:lnTo>
                    <a:pt x="55" y="40"/>
                  </a:lnTo>
                  <a:lnTo>
                    <a:pt x="51" y="42"/>
                  </a:lnTo>
                  <a:lnTo>
                    <a:pt x="47" y="43"/>
                  </a:lnTo>
                  <a:lnTo>
                    <a:pt x="45" y="44"/>
                  </a:lnTo>
                  <a:lnTo>
                    <a:pt x="40" y="44"/>
                  </a:lnTo>
                  <a:lnTo>
                    <a:pt x="36" y="45"/>
                  </a:lnTo>
                  <a:lnTo>
                    <a:pt x="32" y="45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16" y="44"/>
                  </a:lnTo>
                  <a:lnTo>
                    <a:pt x="11" y="43"/>
                  </a:lnTo>
                  <a:lnTo>
                    <a:pt x="8" y="42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7" y="25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2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19"/>
                  </a:lnTo>
                  <a:lnTo>
                    <a:pt x="28" y="19"/>
                  </a:lnTo>
                  <a:lnTo>
                    <a:pt x="33" y="19"/>
                  </a:lnTo>
                  <a:lnTo>
                    <a:pt x="41" y="19"/>
                  </a:lnTo>
                  <a:lnTo>
                    <a:pt x="47" y="18"/>
                  </a:lnTo>
                  <a:lnTo>
                    <a:pt x="53" y="17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57" y="12"/>
                  </a:lnTo>
                  <a:lnTo>
                    <a:pt x="57" y="11"/>
                  </a:lnTo>
                  <a:lnTo>
                    <a:pt x="55" y="9"/>
                  </a:lnTo>
                  <a:lnTo>
                    <a:pt x="54" y="9"/>
                  </a:lnTo>
                  <a:lnTo>
                    <a:pt x="50" y="7"/>
                  </a:lnTo>
                  <a:lnTo>
                    <a:pt x="47" y="7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6" y="7"/>
                  </a:lnTo>
                  <a:lnTo>
                    <a:pt x="23" y="7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2" y="2"/>
                  </a:lnTo>
                  <a:lnTo>
                    <a:pt x="64" y="3"/>
                  </a:lnTo>
                  <a:lnTo>
                    <a:pt x="66" y="4"/>
                  </a:lnTo>
                  <a:lnTo>
                    <a:pt x="68" y="5"/>
                  </a:lnTo>
                  <a:lnTo>
                    <a:pt x="69" y="6"/>
                  </a:lnTo>
                  <a:lnTo>
                    <a:pt x="70" y="8"/>
                  </a:lnTo>
                  <a:lnTo>
                    <a:pt x="71" y="9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4"/>
                  </a:lnTo>
                  <a:lnTo>
                    <a:pt x="72" y="16"/>
                  </a:lnTo>
                  <a:lnTo>
                    <a:pt x="72" y="26"/>
                  </a:lnTo>
                  <a:lnTo>
                    <a:pt x="72" y="31"/>
                  </a:lnTo>
                  <a:lnTo>
                    <a:pt x="72" y="34"/>
                  </a:lnTo>
                  <a:lnTo>
                    <a:pt x="72" y="37"/>
                  </a:lnTo>
                  <a:lnTo>
                    <a:pt x="72" y="39"/>
                  </a:lnTo>
                  <a:lnTo>
                    <a:pt x="72" y="40"/>
                  </a:lnTo>
                  <a:lnTo>
                    <a:pt x="73" y="41"/>
                  </a:lnTo>
                  <a:lnTo>
                    <a:pt x="74" y="43"/>
                  </a:lnTo>
                  <a:lnTo>
                    <a:pt x="75" y="45"/>
                  </a:lnTo>
                  <a:lnTo>
                    <a:pt x="61" y="45"/>
                  </a:lnTo>
                  <a:lnTo>
                    <a:pt x="60" y="43"/>
                  </a:lnTo>
                  <a:lnTo>
                    <a:pt x="59" y="42"/>
                  </a:lnTo>
                  <a:lnTo>
                    <a:pt x="59" y="40"/>
                  </a:lnTo>
                  <a:lnTo>
                    <a:pt x="5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502080" y="2865600"/>
              <a:ext cx="23400" cy="15480"/>
            </a:xfrm>
            <a:custGeom>
              <a:avLst/>
              <a:gdLst/>
              <a:ahLst/>
              <a:rect l="l" t="t" r="r" b="b"/>
              <a:pathLst>
                <a:path w="66" h="46">
                  <a:moveTo>
                    <a:pt x="0" y="45"/>
                  </a:moveTo>
                  <a:lnTo>
                    <a:pt x="0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6" y="3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6" y="3"/>
                  </a:lnTo>
                  <a:lnTo>
                    <a:pt x="58" y="3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3" y="7"/>
                  </a:lnTo>
                  <a:lnTo>
                    <a:pt x="63" y="9"/>
                  </a:lnTo>
                  <a:lnTo>
                    <a:pt x="65" y="10"/>
                  </a:lnTo>
                  <a:lnTo>
                    <a:pt x="65" y="11"/>
                  </a:lnTo>
                  <a:lnTo>
                    <a:pt x="65" y="13"/>
                  </a:lnTo>
                  <a:lnTo>
                    <a:pt x="65" y="15"/>
                  </a:lnTo>
                  <a:lnTo>
                    <a:pt x="65" y="18"/>
                  </a:lnTo>
                  <a:lnTo>
                    <a:pt x="65" y="45"/>
                  </a:lnTo>
                  <a:lnTo>
                    <a:pt x="51" y="45"/>
                  </a:lnTo>
                  <a:lnTo>
                    <a:pt x="51" y="18"/>
                  </a:lnTo>
                  <a:lnTo>
                    <a:pt x="51" y="16"/>
                  </a:lnTo>
                  <a:lnTo>
                    <a:pt x="51" y="14"/>
                  </a:lnTo>
                  <a:lnTo>
                    <a:pt x="50" y="12"/>
                  </a:lnTo>
                  <a:lnTo>
                    <a:pt x="50" y="11"/>
                  </a:lnTo>
                  <a:lnTo>
                    <a:pt x="49" y="10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6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7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53232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7" h="46">
                  <a:moveTo>
                    <a:pt x="15" y="23"/>
                  </a:moveTo>
                  <a:lnTo>
                    <a:pt x="15" y="26"/>
                  </a:lnTo>
                  <a:lnTo>
                    <a:pt x="16" y="30"/>
                  </a:lnTo>
                  <a:lnTo>
                    <a:pt x="18" y="33"/>
                  </a:lnTo>
                  <a:lnTo>
                    <a:pt x="21" y="35"/>
                  </a:lnTo>
                  <a:lnTo>
                    <a:pt x="24" y="37"/>
                  </a:lnTo>
                  <a:lnTo>
                    <a:pt x="29" y="38"/>
                  </a:lnTo>
                  <a:lnTo>
                    <a:pt x="33" y="39"/>
                  </a:lnTo>
                  <a:lnTo>
                    <a:pt x="38" y="39"/>
                  </a:lnTo>
                  <a:lnTo>
                    <a:pt x="44" y="39"/>
                  </a:lnTo>
                  <a:lnTo>
                    <a:pt x="47" y="38"/>
                  </a:lnTo>
                  <a:lnTo>
                    <a:pt x="52" y="37"/>
                  </a:lnTo>
                  <a:lnTo>
                    <a:pt x="56" y="35"/>
                  </a:lnTo>
                  <a:lnTo>
                    <a:pt x="58" y="32"/>
                  </a:lnTo>
                  <a:lnTo>
                    <a:pt x="60" y="29"/>
                  </a:lnTo>
                  <a:lnTo>
                    <a:pt x="62" y="26"/>
                  </a:lnTo>
                  <a:lnTo>
                    <a:pt x="62" y="22"/>
                  </a:lnTo>
                  <a:lnTo>
                    <a:pt x="62" y="18"/>
                  </a:lnTo>
                  <a:lnTo>
                    <a:pt x="60" y="15"/>
                  </a:lnTo>
                  <a:lnTo>
                    <a:pt x="58" y="12"/>
                  </a:lnTo>
                  <a:lnTo>
                    <a:pt x="56" y="10"/>
                  </a:lnTo>
                  <a:lnTo>
                    <a:pt x="52" y="8"/>
                  </a:lnTo>
                  <a:lnTo>
                    <a:pt x="47" y="7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29" y="7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6" y="15"/>
                  </a:lnTo>
                  <a:lnTo>
                    <a:pt x="15" y="19"/>
                  </a:lnTo>
                  <a:lnTo>
                    <a:pt x="15" y="23"/>
                  </a:lnTo>
                  <a:close/>
                  <a:moveTo>
                    <a:pt x="0" y="23"/>
                  </a:moveTo>
                  <a:lnTo>
                    <a:pt x="1" y="17"/>
                  </a:lnTo>
                  <a:lnTo>
                    <a:pt x="4" y="12"/>
                  </a:lnTo>
                  <a:lnTo>
                    <a:pt x="8" y="8"/>
                  </a:lnTo>
                  <a:lnTo>
                    <a:pt x="13" y="5"/>
                  </a:lnTo>
                  <a:lnTo>
                    <a:pt x="18" y="2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3" y="1"/>
                  </a:lnTo>
                  <a:lnTo>
                    <a:pt x="60" y="3"/>
                  </a:lnTo>
                  <a:lnTo>
                    <a:pt x="66" y="5"/>
                  </a:lnTo>
                  <a:lnTo>
                    <a:pt x="70" y="9"/>
                  </a:lnTo>
                  <a:lnTo>
                    <a:pt x="73" y="12"/>
                  </a:lnTo>
                  <a:lnTo>
                    <a:pt x="75" y="17"/>
                  </a:lnTo>
                  <a:lnTo>
                    <a:pt x="76" y="22"/>
                  </a:lnTo>
                  <a:lnTo>
                    <a:pt x="76" y="26"/>
                  </a:lnTo>
                  <a:lnTo>
                    <a:pt x="75" y="29"/>
                  </a:lnTo>
                  <a:lnTo>
                    <a:pt x="74" y="32"/>
                  </a:lnTo>
                  <a:lnTo>
                    <a:pt x="72" y="35"/>
                  </a:lnTo>
                  <a:lnTo>
                    <a:pt x="69" y="38"/>
                  </a:lnTo>
                  <a:lnTo>
                    <a:pt x="66" y="39"/>
                  </a:lnTo>
                  <a:lnTo>
                    <a:pt x="62" y="41"/>
                  </a:lnTo>
                  <a:lnTo>
                    <a:pt x="58" y="43"/>
                  </a:lnTo>
                  <a:lnTo>
                    <a:pt x="53" y="44"/>
                  </a:lnTo>
                  <a:lnTo>
                    <a:pt x="48" y="45"/>
                  </a:lnTo>
                  <a:lnTo>
                    <a:pt x="44" y="45"/>
                  </a:lnTo>
                  <a:lnTo>
                    <a:pt x="38" y="45"/>
                  </a:lnTo>
                  <a:lnTo>
                    <a:pt x="30" y="45"/>
                  </a:lnTo>
                  <a:lnTo>
                    <a:pt x="22" y="44"/>
                  </a:lnTo>
                  <a:lnTo>
                    <a:pt x="17" y="42"/>
                  </a:lnTo>
                  <a:lnTo>
                    <a:pt x="11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1" y="2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565800" y="285912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0" y="61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1"/>
                  </a:lnTo>
                  <a:lnTo>
                    <a:pt x="0" y="61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576960" y="2865600"/>
              <a:ext cx="23400" cy="154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0" y="31"/>
                  </a:moveTo>
                  <a:lnTo>
                    <a:pt x="14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18" y="35"/>
                  </a:lnTo>
                  <a:lnTo>
                    <a:pt x="21" y="37"/>
                  </a:lnTo>
                  <a:lnTo>
                    <a:pt x="23" y="38"/>
                  </a:lnTo>
                  <a:lnTo>
                    <a:pt x="26" y="39"/>
                  </a:lnTo>
                  <a:lnTo>
                    <a:pt x="30" y="39"/>
                  </a:lnTo>
                  <a:lnTo>
                    <a:pt x="34" y="39"/>
                  </a:lnTo>
                  <a:lnTo>
                    <a:pt x="39" y="39"/>
                  </a:lnTo>
                  <a:lnTo>
                    <a:pt x="43" y="39"/>
                  </a:lnTo>
                  <a:lnTo>
                    <a:pt x="46" y="38"/>
                  </a:lnTo>
                  <a:lnTo>
                    <a:pt x="49" y="37"/>
                  </a:lnTo>
                  <a:lnTo>
                    <a:pt x="50" y="36"/>
                  </a:lnTo>
                  <a:lnTo>
                    <a:pt x="52" y="35"/>
                  </a:lnTo>
                  <a:lnTo>
                    <a:pt x="52" y="33"/>
                  </a:lnTo>
                  <a:lnTo>
                    <a:pt x="53" y="32"/>
                  </a:lnTo>
                  <a:lnTo>
                    <a:pt x="52" y="31"/>
                  </a:lnTo>
                  <a:lnTo>
                    <a:pt x="52" y="30"/>
                  </a:lnTo>
                  <a:lnTo>
                    <a:pt x="50" y="29"/>
                  </a:lnTo>
                  <a:lnTo>
                    <a:pt x="49" y="28"/>
                  </a:lnTo>
                  <a:lnTo>
                    <a:pt x="46" y="28"/>
                  </a:lnTo>
                  <a:lnTo>
                    <a:pt x="43" y="27"/>
                  </a:lnTo>
                  <a:lnTo>
                    <a:pt x="40" y="27"/>
                  </a:lnTo>
                  <a:lnTo>
                    <a:pt x="34" y="26"/>
                  </a:lnTo>
                  <a:lnTo>
                    <a:pt x="27" y="25"/>
                  </a:lnTo>
                  <a:lnTo>
                    <a:pt x="22" y="24"/>
                  </a:lnTo>
                  <a:lnTo>
                    <a:pt x="18" y="23"/>
                  </a:lnTo>
                  <a:lnTo>
                    <a:pt x="14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59" y="5"/>
                  </a:lnTo>
                  <a:lnTo>
                    <a:pt x="61" y="7"/>
                  </a:lnTo>
                  <a:lnTo>
                    <a:pt x="62" y="8"/>
                  </a:lnTo>
                  <a:lnTo>
                    <a:pt x="63" y="10"/>
                  </a:lnTo>
                  <a:lnTo>
                    <a:pt x="64" y="12"/>
                  </a:lnTo>
                  <a:lnTo>
                    <a:pt x="50" y="13"/>
                  </a:lnTo>
                  <a:lnTo>
                    <a:pt x="49" y="11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3" y="7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2" y="16"/>
                  </a:lnTo>
                  <a:lnTo>
                    <a:pt x="23" y="16"/>
                  </a:lnTo>
                  <a:lnTo>
                    <a:pt x="26" y="17"/>
                  </a:lnTo>
                  <a:lnTo>
                    <a:pt x="29" y="17"/>
                  </a:lnTo>
                  <a:lnTo>
                    <a:pt x="34" y="18"/>
                  </a:lnTo>
                  <a:lnTo>
                    <a:pt x="40" y="19"/>
                  </a:lnTo>
                  <a:lnTo>
                    <a:pt x="46" y="19"/>
                  </a:lnTo>
                  <a:lnTo>
                    <a:pt x="50" y="20"/>
                  </a:lnTo>
                  <a:lnTo>
                    <a:pt x="54" y="21"/>
                  </a:lnTo>
                  <a:lnTo>
                    <a:pt x="57" y="22"/>
                  </a:lnTo>
                  <a:lnTo>
                    <a:pt x="59" y="23"/>
                  </a:lnTo>
                  <a:lnTo>
                    <a:pt x="61" y="24"/>
                  </a:lnTo>
                  <a:lnTo>
                    <a:pt x="64" y="25"/>
                  </a:lnTo>
                  <a:lnTo>
                    <a:pt x="65" y="27"/>
                  </a:lnTo>
                  <a:lnTo>
                    <a:pt x="66" y="28"/>
                  </a:lnTo>
                  <a:lnTo>
                    <a:pt x="67" y="30"/>
                  </a:lnTo>
                  <a:lnTo>
                    <a:pt x="67" y="32"/>
                  </a:lnTo>
                  <a:lnTo>
                    <a:pt x="67" y="33"/>
                  </a:lnTo>
                  <a:lnTo>
                    <a:pt x="66" y="35"/>
                  </a:lnTo>
                  <a:lnTo>
                    <a:pt x="65" y="37"/>
                  </a:lnTo>
                  <a:lnTo>
                    <a:pt x="63" y="39"/>
                  </a:lnTo>
                  <a:lnTo>
                    <a:pt x="61" y="40"/>
                  </a:lnTo>
                  <a:lnTo>
                    <a:pt x="58" y="41"/>
                  </a:lnTo>
                  <a:lnTo>
                    <a:pt x="55" y="43"/>
                  </a:lnTo>
                  <a:lnTo>
                    <a:pt x="52" y="43"/>
                  </a:lnTo>
                  <a:lnTo>
                    <a:pt x="47" y="44"/>
                  </a:lnTo>
                  <a:lnTo>
                    <a:pt x="43" y="45"/>
                  </a:lnTo>
                  <a:lnTo>
                    <a:pt x="39" y="45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1" y="44"/>
                  </a:lnTo>
                  <a:lnTo>
                    <a:pt x="15" y="43"/>
                  </a:lnTo>
                  <a:lnTo>
                    <a:pt x="11" y="42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1" y="34"/>
                  </a:lnTo>
                  <a:lnTo>
                    <a:pt x="0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430800" y="2943360"/>
              <a:ext cx="37800" cy="21960"/>
            </a:xfrm>
            <a:custGeom>
              <a:avLst/>
              <a:gdLst/>
              <a:ahLst/>
              <a:rect l="l" t="t" r="r" b="b"/>
              <a:pathLst>
                <a:path w="107" h="61">
                  <a:moveTo>
                    <a:pt x="16" y="26"/>
                  </a:moveTo>
                  <a:lnTo>
                    <a:pt x="50" y="26"/>
                  </a:lnTo>
                  <a:lnTo>
                    <a:pt x="55" y="26"/>
                  </a:lnTo>
                  <a:lnTo>
                    <a:pt x="59" y="26"/>
                  </a:lnTo>
                  <a:lnTo>
                    <a:pt x="63" y="25"/>
                  </a:lnTo>
                  <a:lnTo>
                    <a:pt x="67" y="25"/>
                  </a:lnTo>
                  <a:lnTo>
                    <a:pt x="70" y="24"/>
                  </a:lnTo>
                  <a:lnTo>
                    <a:pt x="73" y="23"/>
                  </a:lnTo>
                  <a:lnTo>
                    <a:pt x="75" y="22"/>
                  </a:lnTo>
                  <a:lnTo>
                    <a:pt x="77" y="21"/>
                  </a:lnTo>
                  <a:lnTo>
                    <a:pt x="78" y="20"/>
                  </a:lnTo>
                  <a:lnTo>
                    <a:pt x="79" y="19"/>
                  </a:lnTo>
                  <a:lnTo>
                    <a:pt x="79" y="17"/>
                  </a:lnTo>
                  <a:lnTo>
                    <a:pt x="80" y="16"/>
                  </a:lnTo>
                  <a:lnTo>
                    <a:pt x="79" y="14"/>
                  </a:lnTo>
                  <a:lnTo>
                    <a:pt x="78" y="12"/>
                  </a:lnTo>
                  <a:lnTo>
                    <a:pt x="76" y="10"/>
                  </a:lnTo>
                  <a:lnTo>
                    <a:pt x="74" y="9"/>
                  </a:lnTo>
                  <a:lnTo>
                    <a:pt x="70" y="8"/>
                  </a:lnTo>
                  <a:lnTo>
                    <a:pt x="65" y="7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16" y="6"/>
                  </a:lnTo>
                  <a:lnTo>
                    <a:pt x="16" y="26"/>
                  </a:lnTo>
                  <a:close/>
                  <a:moveTo>
                    <a:pt x="0" y="60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1"/>
                  </a:lnTo>
                  <a:lnTo>
                    <a:pt x="78" y="1"/>
                  </a:lnTo>
                  <a:lnTo>
                    <a:pt x="82" y="2"/>
                  </a:lnTo>
                  <a:lnTo>
                    <a:pt x="86" y="3"/>
                  </a:lnTo>
                  <a:lnTo>
                    <a:pt x="88" y="5"/>
                  </a:lnTo>
                  <a:lnTo>
                    <a:pt x="92" y="7"/>
                  </a:lnTo>
                  <a:lnTo>
                    <a:pt x="94" y="9"/>
                  </a:lnTo>
                  <a:lnTo>
                    <a:pt x="95" y="11"/>
                  </a:lnTo>
                  <a:lnTo>
                    <a:pt x="95" y="14"/>
                  </a:lnTo>
                  <a:lnTo>
                    <a:pt x="96" y="17"/>
                  </a:lnTo>
                  <a:lnTo>
                    <a:pt x="95" y="19"/>
                  </a:lnTo>
                  <a:lnTo>
                    <a:pt x="94" y="22"/>
                  </a:lnTo>
                  <a:lnTo>
                    <a:pt x="92" y="25"/>
                  </a:lnTo>
                  <a:lnTo>
                    <a:pt x="88" y="27"/>
                  </a:lnTo>
                  <a:lnTo>
                    <a:pt x="83" y="29"/>
                  </a:lnTo>
                  <a:lnTo>
                    <a:pt x="77" y="31"/>
                  </a:lnTo>
                  <a:lnTo>
                    <a:pt x="70" y="32"/>
                  </a:lnTo>
                  <a:lnTo>
                    <a:pt x="62" y="33"/>
                  </a:lnTo>
                  <a:lnTo>
                    <a:pt x="65" y="33"/>
                  </a:lnTo>
                  <a:lnTo>
                    <a:pt x="68" y="34"/>
                  </a:lnTo>
                  <a:lnTo>
                    <a:pt x="70" y="35"/>
                  </a:lnTo>
                  <a:lnTo>
                    <a:pt x="72" y="36"/>
                  </a:lnTo>
                  <a:lnTo>
                    <a:pt x="76" y="37"/>
                  </a:lnTo>
                  <a:lnTo>
                    <a:pt x="78" y="39"/>
                  </a:lnTo>
                  <a:lnTo>
                    <a:pt x="81" y="41"/>
                  </a:lnTo>
                  <a:lnTo>
                    <a:pt x="85" y="44"/>
                  </a:lnTo>
                  <a:lnTo>
                    <a:pt x="106" y="60"/>
                  </a:lnTo>
                  <a:lnTo>
                    <a:pt x="86" y="60"/>
                  </a:lnTo>
                  <a:lnTo>
                    <a:pt x="70" y="48"/>
                  </a:lnTo>
                  <a:lnTo>
                    <a:pt x="67" y="45"/>
                  </a:lnTo>
                  <a:lnTo>
                    <a:pt x="63" y="43"/>
                  </a:lnTo>
                  <a:lnTo>
                    <a:pt x="61" y="41"/>
                  </a:lnTo>
                  <a:lnTo>
                    <a:pt x="59" y="39"/>
                  </a:lnTo>
                  <a:lnTo>
                    <a:pt x="56" y="38"/>
                  </a:lnTo>
                  <a:lnTo>
                    <a:pt x="54" y="37"/>
                  </a:lnTo>
                  <a:lnTo>
                    <a:pt x="52" y="36"/>
                  </a:lnTo>
                  <a:lnTo>
                    <a:pt x="51" y="35"/>
                  </a:lnTo>
                  <a:lnTo>
                    <a:pt x="49" y="35"/>
                  </a:lnTo>
                  <a:lnTo>
                    <a:pt x="47" y="34"/>
                  </a:lnTo>
                  <a:lnTo>
                    <a:pt x="45" y="34"/>
                  </a:lnTo>
                  <a:lnTo>
                    <a:pt x="43" y="34"/>
                  </a:lnTo>
                  <a:lnTo>
                    <a:pt x="41" y="33"/>
                  </a:lnTo>
                  <a:lnTo>
                    <a:pt x="40" y="33"/>
                  </a:lnTo>
                  <a:lnTo>
                    <a:pt x="37" y="33"/>
                  </a:lnTo>
                  <a:lnTo>
                    <a:pt x="34" y="33"/>
                  </a:lnTo>
                  <a:lnTo>
                    <a:pt x="16" y="33"/>
                  </a:lnTo>
                  <a:lnTo>
                    <a:pt x="16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475080" y="2949840"/>
              <a:ext cx="25200" cy="15480"/>
            </a:xfrm>
            <a:custGeom>
              <a:avLst/>
              <a:gdLst/>
              <a:ahLst/>
              <a:rect l="l" t="t" r="r" b="b"/>
              <a:pathLst>
                <a:path w="72" h="45">
                  <a:moveTo>
                    <a:pt x="57" y="43"/>
                  </a:moveTo>
                  <a:lnTo>
                    <a:pt x="57" y="37"/>
                  </a:lnTo>
                  <a:lnTo>
                    <a:pt x="51" y="40"/>
                  </a:lnTo>
                  <a:lnTo>
                    <a:pt x="45" y="42"/>
                  </a:lnTo>
                  <a:lnTo>
                    <a:pt x="38" y="44"/>
                  </a:lnTo>
                  <a:lnTo>
                    <a:pt x="30" y="44"/>
                  </a:lnTo>
                  <a:lnTo>
                    <a:pt x="26" y="44"/>
                  </a:lnTo>
                  <a:lnTo>
                    <a:pt x="22" y="43"/>
                  </a:lnTo>
                  <a:lnTo>
                    <a:pt x="19" y="43"/>
                  </a:lnTo>
                  <a:lnTo>
                    <a:pt x="15" y="43"/>
                  </a:lnTo>
                  <a:lnTo>
                    <a:pt x="12" y="42"/>
                  </a:lnTo>
                  <a:lnTo>
                    <a:pt x="10" y="41"/>
                  </a:lnTo>
                  <a:lnTo>
                    <a:pt x="7" y="40"/>
                  </a:lnTo>
                  <a:lnTo>
                    <a:pt x="6" y="39"/>
                  </a:lnTo>
                  <a:lnTo>
                    <a:pt x="4" y="38"/>
                  </a:lnTo>
                  <a:lnTo>
                    <a:pt x="3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5" y="29"/>
                  </a:lnTo>
                  <a:lnTo>
                    <a:pt x="15" y="30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5"/>
                  </a:lnTo>
                  <a:lnTo>
                    <a:pt x="22" y="36"/>
                  </a:lnTo>
                  <a:lnTo>
                    <a:pt x="24" y="37"/>
                  </a:lnTo>
                  <a:lnTo>
                    <a:pt x="26" y="37"/>
                  </a:lnTo>
                  <a:lnTo>
                    <a:pt x="30" y="38"/>
                  </a:lnTo>
                  <a:lnTo>
                    <a:pt x="33" y="38"/>
                  </a:lnTo>
                  <a:lnTo>
                    <a:pt x="37" y="38"/>
                  </a:lnTo>
                  <a:lnTo>
                    <a:pt x="39" y="37"/>
                  </a:lnTo>
                  <a:lnTo>
                    <a:pt x="42" y="37"/>
                  </a:lnTo>
                  <a:lnTo>
                    <a:pt x="46" y="36"/>
                  </a:lnTo>
                  <a:lnTo>
                    <a:pt x="48" y="35"/>
                  </a:lnTo>
                  <a:lnTo>
                    <a:pt x="49" y="34"/>
                  </a:lnTo>
                  <a:lnTo>
                    <a:pt x="52" y="33"/>
                  </a:lnTo>
                  <a:lnTo>
                    <a:pt x="54" y="32"/>
                  </a:lnTo>
                  <a:lnTo>
                    <a:pt x="55" y="30"/>
                  </a:lnTo>
                  <a:lnTo>
                    <a:pt x="55" y="28"/>
                  </a:lnTo>
                  <a:lnTo>
                    <a:pt x="55" y="25"/>
                  </a:lnTo>
                  <a:lnTo>
                    <a:pt x="56" y="23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71" y="43"/>
                  </a:lnTo>
                  <a:lnTo>
                    <a:pt x="57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506760" y="2949840"/>
              <a:ext cx="26640" cy="16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2"/>
                  </a:moveTo>
                  <a:lnTo>
                    <a:pt x="15" y="31"/>
                  </a:lnTo>
                  <a:lnTo>
                    <a:pt x="16" y="33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22" y="38"/>
                  </a:lnTo>
                  <a:lnTo>
                    <a:pt x="25" y="39"/>
                  </a:lnTo>
                  <a:lnTo>
                    <a:pt x="28" y="40"/>
                  </a:lnTo>
                  <a:lnTo>
                    <a:pt x="32" y="40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46" y="40"/>
                  </a:lnTo>
                  <a:lnTo>
                    <a:pt x="49" y="39"/>
                  </a:lnTo>
                  <a:lnTo>
                    <a:pt x="52" y="38"/>
                  </a:lnTo>
                  <a:lnTo>
                    <a:pt x="54" y="36"/>
                  </a:lnTo>
                  <a:lnTo>
                    <a:pt x="56" y="36"/>
                  </a:lnTo>
                  <a:lnTo>
                    <a:pt x="56" y="34"/>
                  </a:lnTo>
                  <a:lnTo>
                    <a:pt x="57" y="33"/>
                  </a:lnTo>
                  <a:lnTo>
                    <a:pt x="56" y="32"/>
                  </a:lnTo>
                  <a:lnTo>
                    <a:pt x="56" y="31"/>
                  </a:lnTo>
                  <a:lnTo>
                    <a:pt x="54" y="30"/>
                  </a:lnTo>
                  <a:lnTo>
                    <a:pt x="52" y="29"/>
                  </a:lnTo>
                  <a:lnTo>
                    <a:pt x="50" y="29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38" y="27"/>
                  </a:lnTo>
                  <a:lnTo>
                    <a:pt x="29" y="26"/>
                  </a:lnTo>
                  <a:lnTo>
                    <a:pt x="23" y="25"/>
                  </a:lnTo>
                  <a:lnTo>
                    <a:pt x="19" y="24"/>
                  </a:lnTo>
                  <a:lnTo>
                    <a:pt x="15" y="23"/>
                  </a:lnTo>
                  <a:lnTo>
                    <a:pt x="11" y="22"/>
                  </a:lnTo>
                  <a:lnTo>
                    <a:pt x="9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2" y="2"/>
                  </a:lnTo>
                  <a:lnTo>
                    <a:pt x="56" y="2"/>
                  </a:lnTo>
                  <a:lnTo>
                    <a:pt x="59" y="4"/>
                  </a:lnTo>
                  <a:lnTo>
                    <a:pt x="61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9"/>
                  </a:lnTo>
                  <a:lnTo>
                    <a:pt x="68" y="11"/>
                  </a:lnTo>
                  <a:lnTo>
                    <a:pt x="69" y="13"/>
                  </a:lnTo>
                  <a:lnTo>
                    <a:pt x="54" y="14"/>
                  </a:lnTo>
                  <a:lnTo>
                    <a:pt x="53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9" y="9"/>
                  </a:lnTo>
                  <a:lnTo>
                    <a:pt x="46" y="8"/>
                  </a:lnTo>
                  <a:lnTo>
                    <a:pt x="43" y="7"/>
                  </a:lnTo>
                  <a:lnTo>
                    <a:pt x="40" y="7"/>
                  </a:lnTo>
                  <a:lnTo>
                    <a:pt x="35" y="7"/>
                  </a:lnTo>
                  <a:lnTo>
                    <a:pt x="31" y="7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5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4" y="17"/>
                  </a:lnTo>
                  <a:lnTo>
                    <a:pt x="25" y="17"/>
                  </a:lnTo>
                  <a:lnTo>
                    <a:pt x="28" y="18"/>
                  </a:lnTo>
                  <a:lnTo>
                    <a:pt x="31" y="18"/>
                  </a:lnTo>
                  <a:lnTo>
                    <a:pt x="36" y="19"/>
                  </a:lnTo>
                  <a:lnTo>
                    <a:pt x="43" y="20"/>
                  </a:lnTo>
                  <a:lnTo>
                    <a:pt x="49" y="20"/>
                  </a:lnTo>
                  <a:lnTo>
                    <a:pt x="54" y="21"/>
                  </a:lnTo>
                  <a:lnTo>
                    <a:pt x="58" y="22"/>
                  </a:lnTo>
                  <a:lnTo>
                    <a:pt x="61" y="23"/>
                  </a:lnTo>
                  <a:lnTo>
                    <a:pt x="65" y="24"/>
                  </a:lnTo>
                  <a:lnTo>
                    <a:pt x="67" y="25"/>
                  </a:lnTo>
                  <a:lnTo>
                    <a:pt x="69" y="26"/>
                  </a:lnTo>
                  <a:lnTo>
                    <a:pt x="70" y="27"/>
                  </a:lnTo>
                  <a:lnTo>
                    <a:pt x="71" y="29"/>
                  </a:lnTo>
                  <a:lnTo>
                    <a:pt x="72" y="31"/>
                  </a:lnTo>
                  <a:lnTo>
                    <a:pt x="72" y="33"/>
                  </a:lnTo>
                  <a:lnTo>
                    <a:pt x="72" y="34"/>
                  </a:lnTo>
                  <a:lnTo>
                    <a:pt x="71" y="36"/>
                  </a:lnTo>
                  <a:lnTo>
                    <a:pt x="70" y="38"/>
                  </a:lnTo>
                  <a:lnTo>
                    <a:pt x="69" y="40"/>
                  </a:lnTo>
                  <a:lnTo>
                    <a:pt x="66" y="41"/>
                  </a:lnTo>
                  <a:lnTo>
                    <a:pt x="63" y="42"/>
                  </a:lnTo>
                  <a:lnTo>
                    <a:pt x="59" y="43"/>
                  </a:lnTo>
                  <a:lnTo>
                    <a:pt x="56" y="44"/>
                  </a:lnTo>
                  <a:lnTo>
                    <a:pt x="51" y="45"/>
                  </a:lnTo>
                  <a:lnTo>
                    <a:pt x="47" y="45"/>
                  </a:lnTo>
                  <a:lnTo>
                    <a:pt x="42" y="46"/>
                  </a:lnTo>
                  <a:lnTo>
                    <a:pt x="38" y="46"/>
                  </a:lnTo>
                  <a:lnTo>
                    <a:pt x="29" y="46"/>
                  </a:lnTo>
                  <a:lnTo>
                    <a:pt x="22" y="45"/>
                  </a:lnTo>
                  <a:lnTo>
                    <a:pt x="16" y="44"/>
                  </a:lnTo>
                  <a:lnTo>
                    <a:pt x="11" y="43"/>
                  </a:lnTo>
                  <a:lnTo>
                    <a:pt x="7" y="41"/>
                  </a:lnTo>
                  <a:lnTo>
                    <a:pt x="4" y="38"/>
                  </a:lnTo>
                  <a:lnTo>
                    <a:pt x="1" y="35"/>
                  </a:lnTo>
                  <a:lnTo>
                    <a:pt x="0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537000" y="2949840"/>
              <a:ext cx="26640" cy="16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2"/>
                  </a:moveTo>
                  <a:lnTo>
                    <a:pt x="15" y="31"/>
                  </a:lnTo>
                  <a:lnTo>
                    <a:pt x="16" y="33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22" y="38"/>
                  </a:lnTo>
                  <a:lnTo>
                    <a:pt x="25" y="39"/>
                  </a:lnTo>
                  <a:lnTo>
                    <a:pt x="29" y="40"/>
                  </a:lnTo>
                  <a:lnTo>
                    <a:pt x="32" y="40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46" y="40"/>
                  </a:lnTo>
                  <a:lnTo>
                    <a:pt x="49" y="39"/>
                  </a:lnTo>
                  <a:lnTo>
                    <a:pt x="53" y="38"/>
                  </a:lnTo>
                  <a:lnTo>
                    <a:pt x="55" y="36"/>
                  </a:lnTo>
                  <a:lnTo>
                    <a:pt x="56" y="36"/>
                  </a:lnTo>
                  <a:lnTo>
                    <a:pt x="57" y="34"/>
                  </a:lnTo>
                  <a:lnTo>
                    <a:pt x="57" y="33"/>
                  </a:lnTo>
                  <a:lnTo>
                    <a:pt x="57" y="32"/>
                  </a:lnTo>
                  <a:lnTo>
                    <a:pt x="56" y="31"/>
                  </a:lnTo>
                  <a:lnTo>
                    <a:pt x="55" y="30"/>
                  </a:lnTo>
                  <a:lnTo>
                    <a:pt x="53" y="29"/>
                  </a:lnTo>
                  <a:lnTo>
                    <a:pt x="50" y="29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38" y="27"/>
                  </a:lnTo>
                  <a:lnTo>
                    <a:pt x="30" y="26"/>
                  </a:lnTo>
                  <a:lnTo>
                    <a:pt x="23" y="25"/>
                  </a:lnTo>
                  <a:lnTo>
                    <a:pt x="19" y="24"/>
                  </a:lnTo>
                  <a:lnTo>
                    <a:pt x="15" y="23"/>
                  </a:lnTo>
                  <a:lnTo>
                    <a:pt x="12" y="22"/>
                  </a:lnTo>
                  <a:lnTo>
                    <a:pt x="9" y="21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56" y="2"/>
                  </a:lnTo>
                  <a:lnTo>
                    <a:pt x="59" y="4"/>
                  </a:lnTo>
                  <a:lnTo>
                    <a:pt x="62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9"/>
                  </a:lnTo>
                  <a:lnTo>
                    <a:pt x="68" y="11"/>
                  </a:lnTo>
                  <a:lnTo>
                    <a:pt x="69" y="13"/>
                  </a:lnTo>
                  <a:lnTo>
                    <a:pt x="54" y="14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0" y="10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3" y="7"/>
                  </a:lnTo>
                  <a:lnTo>
                    <a:pt x="39" y="7"/>
                  </a:lnTo>
                  <a:lnTo>
                    <a:pt x="36" y="7"/>
                  </a:lnTo>
                  <a:lnTo>
                    <a:pt x="31" y="7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5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4" y="17"/>
                  </a:lnTo>
                  <a:lnTo>
                    <a:pt x="25" y="17"/>
                  </a:lnTo>
                  <a:lnTo>
                    <a:pt x="29" y="18"/>
                  </a:lnTo>
                  <a:lnTo>
                    <a:pt x="32" y="18"/>
                  </a:lnTo>
                  <a:lnTo>
                    <a:pt x="37" y="19"/>
                  </a:lnTo>
                  <a:lnTo>
                    <a:pt x="43" y="20"/>
                  </a:lnTo>
                  <a:lnTo>
                    <a:pt x="49" y="20"/>
                  </a:lnTo>
                  <a:lnTo>
                    <a:pt x="55" y="21"/>
                  </a:lnTo>
                  <a:lnTo>
                    <a:pt x="59" y="22"/>
                  </a:lnTo>
                  <a:lnTo>
                    <a:pt x="61" y="23"/>
                  </a:lnTo>
                  <a:lnTo>
                    <a:pt x="65" y="24"/>
                  </a:lnTo>
                  <a:lnTo>
                    <a:pt x="66" y="25"/>
                  </a:lnTo>
                  <a:lnTo>
                    <a:pt x="69" y="26"/>
                  </a:lnTo>
                  <a:lnTo>
                    <a:pt x="70" y="27"/>
                  </a:lnTo>
                  <a:lnTo>
                    <a:pt x="71" y="29"/>
                  </a:lnTo>
                  <a:lnTo>
                    <a:pt x="72" y="31"/>
                  </a:lnTo>
                  <a:lnTo>
                    <a:pt x="72" y="33"/>
                  </a:lnTo>
                  <a:lnTo>
                    <a:pt x="72" y="34"/>
                  </a:lnTo>
                  <a:lnTo>
                    <a:pt x="71" y="36"/>
                  </a:lnTo>
                  <a:lnTo>
                    <a:pt x="70" y="38"/>
                  </a:lnTo>
                  <a:lnTo>
                    <a:pt x="68" y="40"/>
                  </a:lnTo>
                  <a:lnTo>
                    <a:pt x="66" y="41"/>
                  </a:lnTo>
                  <a:lnTo>
                    <a:pt x="63" y="42"/>
                  </a:lnTo>
                  <a:lnTo>
                    <a:pt x="59" y="43"/>
                  </a:lnTo>
                  <a:lnTo>
                    <a:pt x="56" y="44"/>
                  </a:lnTo>
                  <a:lnTo>
                    <a:pt x="52" y="45"/>
                  </a:lnTo>
                  <a:lnTo>
                    <a:pt x="47" y="45"/>
                  </a:lnTo>
                  <a:lnTo>
                    <a:pt x="42" y="46"/>
                  </a:lnTo>
                  <a:lnTo>
                    <a:pt x="38" y="46"/>
                  </a:lnTo>
                  <a:lnTo>
                    <a:pt x="30" y="46"/>
                  </a:lnTo>
                  <a:lnTo>
                    <a:pt x="22" y="45"/>
                  </a:lnTo>
                  <a:lnTo>
                    <a:pt x="16" y="44"/>
                  </a:lnTo>
                  <a:lnTo>
                    <a:pt x="12" y="43"/>
                  </a:lnTo>
                  <a:lnTo>
                    <a:pt x="7" y="41"/>
                  </a:lnTo>
                  <a:lnTo>
                    <a:pt x="4" y="38"/>
                  </a:lnTo>
                  <a:lnTo>
                    <a:pt x="1" y="35"/>
                  </a:lnTo>
                  <a:lnTo>
                    <a:pt x="0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567240" y="2949840"/>
              <a:ext cx="29880" cy="16920"/>
            </a:xfrm>
            <a:custGeom>
              <a:avLst/>
              <a:gdLst/>
              <a:ahLst/>
              <a:rect l="l" t="t" r="r" b="b"/>
              <a:pathLst>
                <a:path w="83" h="47">
                  <a:moveTo>
                    <a:pt x="16" y="19"/>
                  </a:moveTo>
                  <a:lnTo>
                    <a:pt x="67" y="19"/>
                  </a:lnTo>
                  <a:lnTo>
                    <a:pt x="65" y="16"/>
                  </a:lnTo>
                  <a:lnTo>
                    <a:pt x="64" y="14"/>
                  </a:lnTo>
                  <a:lnTo>
                    <a:pt x="63" y="12"/>
                  </a:lnTo>
                  <a:lnTo>
                    <a:pt x="61" y="11"/>
                  </a:lnTo>
                  <a:lnTo>
                    <a:pt x="57" y="9"/>
                  </a:lnTo>
                  <a:lnTo>
                    <a:pt x="52" y="8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36" y="7"/>
                  </a:lnTo>
                  <a:lnTo>
                    <a:pt x="32" y="7"/>
                  </a:lnTo>
                  <a:lnTo>
                    <a:pt x="27" y="8"/>
                  </a:lnTo>
                  <a:lnTo>
                    <a:pt x="24" y="10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6" y="19"/>
                  </a:lnTo>
                  <a:close/>
                  <a:moveTo>
                    <a:pt x="67" y="31"/>
                  </a:moveTo>
                  <a:lnTo>
                    <a:pt x="81" y="32"/>
                  </a:lnTo>
                  <a:lnTo>
                    <a:pt x="79" y="35"/>
                  </a:lnTo>
                  <a:lnTo>
                    <a:pt x="76" y="38"/>
                  </a:lnTo>
                  <a:lnTo>
                    <a:pt x="72" y="40"/>
                  </a:lnTo>
                  <a:lnTo>
                    <a:pt x="68" y="42"/>
                  </a:lnTo>
                  <a:lnTo>
                    <a:pt x="62" y="44"/>
                  </a:lnTo>
                  <a:lnTo>
                    <a:pt x="56" y="45"/>
                  </a:lnTo>
                  <a:lnTo>
                    <a:pt x="50" y="46"/>
                  </a:lnTo>
                  <a:lnTo>
                    <a:pt x="43" y="46"/>
                  </a:lnTo>
                  <a:lnTo>
                    <a:pt x="33" y="46"/>
                  </a:lnTo>
                  <a:lnTo>
                    <a:pt x="25" y="45"/>
                  </a:lnTo>
                  <a:lnTo>
                    <a:pt x="18" y="43"/>
                  </a:lnTo>
                  <a:lnTo>
                    <a:pt x="12" y="40"/>
                  </a:lnTo>
                  <a:lnTo>
                    <a:pt x="7" y="37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7" y="10"/>
                  </a:lnTo>
                  <a:lnTo>
                    <a:pt x="12" y="6"/>
                  </a:lnTo>
                  <a:lnTo>
                    <a:pt x="18" y="4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2" y="0"/>
                  </a:lnTo>
                  <a:lnTo>
                    <a:pt x="50" y="1"/>
                  </a:lnTo>
                  <a:lnTo>
                    <a:pt x="57" y="2"/>
                  </a:lnTo>
                  <a:lnTo>
                    <a:pt x="64" y="4"/>
                  </a:lnTo>
                  <a:lnTo>
                    <a:pt x="71" y="6"/>
                  </a:lnTo>
                  <a:lnTo>
                    <a:pt x="75" y="10"/>
                  </a:lnTo>
                  <a:lnTo>
                    <a:pt x="79" y="14"/>
                  </a:lnTo>
                  <a:lnTo>
                    <a:pt x="81" y="18"/>
                  </a:lnTo>
                  <a:lnTo>
                    <a:pt x="82" y="24"/>
                  </a:lnTo>
                  <a:lnTo>
                    <a:pt x="82" y="24"/>
                  </a:lnTo>
                  <a:lnTo>
                    <a:pt x="82" y="24"/>
                  </a:lnTo>
                  <a:lnTo>
                    <a:pt x="82" y="24"/>
                  </a:lnTo>
                  <a:lnTo>
                    <a:pt x="82" y="25"/>
                  </a:lnTo>
                  <a:lnTo>
                    <a:pt x="15" y="25"/>
                  </a:lnTo>
                  <a:lnTo>
                    <a:pt x="16" y="29"/>
                  </a:lnTo>
                  <a:lnTo>
                    <a:pt x="18" y="32"/>
                  </a:lnTo>
                  <a:lnTo>
                    <a:pt x="20" y="34"/>
                  </a:lnTo>
                  <a:lnTo>
                    <a:pt x="24" y="36"/>
                  </a:lnTo>
                  <a:lnTo>
                    <a:pt x="27" y="38"/>
                  </a:lnTo>
                  <a:lnTo>
                    <a:pt x="32" y="39"/>
                  </a:lnTo>
                  <a:lnTo>
                    <a:pt x="37" y="40"/>
                  </a:lnTo>
                  <a:lnTo>
                    <a:pt x="43" y="40"/>
                  </a:lnTo>
                  <a:lnTo>
                    <a:pt x="46" y="40"/>
                  </a:lnTo>
                  <a:lnTo>
                    <a:pt x="50" y="40"/>
                  </a:lnTo>
                  <a:lnTo>
                    <a:pt x="54" y="39"/>
                  </a:lnTo>
                  <a:lnTo>
                    <a:pt x="57" y="38"/>
                  </a:lnTo>
                  <a:lnTo>
                    <a:pt x="59" y="36"/>
                  </a:lnTo>
                  <a:lnTo>
                    <a:pt x="62" y="35"/>
                  </a:lnTo>
                  <a:lnTo>
                    <a:pt x="64" y="33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426120" y="3021120"/>
              <a:ext cx="36000" cy="21960"/>
            </a:xfrm>
            <a:custGeom>
              <a:avLst/>
              <a:gdLst/>
              <a:ahLst/>
              <a:rect l="l" t="t" r="r" b="b"/>
              <a:pathLst>
                <a:path w="101" h="62">
                  <a:moveTo>
                    <a:pt x="31" y="35"/>
                  </a:moveTo>
                  <a:lnTo>
                    <a:pt x="68" y="35"/>
                  </a:lnTo>
                  <a:lnTo>
                    <a:pt x="57" y="19"/>
                  </a:lnTo>
                  <a:lnTo>
                    <a:pt x="54" y="15"/>
                  </a:lnTo>
                  <a:lnTo>
                    <a:pt x="53" y="12"/>
                  </a:lnTo>
                  <a:lnTo>
                    <a:pt x="51" y="9"/>
                  </a:lnTo>
                  <a:lnTo>
                    <a:pt x="49" y="6"/>
                  </a:lnTo>
                  <a:lnTo>
                    <a:pt x="47" y="9"/>
                  </a:lnTo>
                  <a:lnTo>
                    <a:pt x="46" y="12"/>
                  </a:lnTo>
                  <a:lnTo>
                    <a:pt x="44" y="15"/>
                  </a:lnTo>
                  <a:lnTo>
                    <a:pt x="43" y="18"/>
                  </a:lnTo>
                  <a:lnTo>
                    <a:pt x="31" y="35"/>
                  </a:lnTo>
                  <a:close/>
                  <a:moveTo>
                    <a:pt x="0" y="61"/>
                  </a:moveTo>
                  <a:lnTo>
                    <a:pt x="41" y="0"/>
                  </a:lnTo>
                  <a:lnTo>
                    <a:pt x="57" y="0"/>
                  </a:lnTo>
                  <a:lnTo>
                    <a:pt x="100" y="61"/>
                  </a:lnTo>
                  <a:lnTo>
                    <a:pt x="85" y="61"/>
                  </a:lnTo>
                  <a:lnTo>
                    <a:pt x="73" y="42"/>
                  </a:lnTo>
                  <a:lnTo>
                    <a:pt x="27" y="42"/>
                  </a:lnTo>
                  <a:lnTo>
                    <a:pt x="16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465720" y="3025800"/>
              <a:ext cx="37800" cy="17280"/>
            </a:xfrm>
            <a:custGeom>
              <a:avLst/>
              <a:gdLst/>
              <a:ahLst/>
              <a:rect l="l" t="t" r="r" b="b"/>
              <a:pathLst>
                <a:path w="107" h="47">
                  <a:moveTo>
                    <a:pt x="0" y="46"/>
                  </a:moveTo>
                  <a:lnTo>
                    <a:pt x="0" y="2"/>
                  </a:lnTo>
                  <a:lnTo>
                    <a:pt x="13" y="2"/>
                  </a:lnTo>
                  <a:lnTo>
                    <a:pt x="13" y="8"/>
                  </a:lnTo>
                  <a:lnTo>
                    <a:pt x="15" y="6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4" y="1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3" y="4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8"/>
                  </a:lnTo>
                  <a:lnTo>
                    <a:pt x="62" y="5"/>
                  </a:lnTo>
                  <a:lnTo>
                    <a:pt x="68" y="2"/>
                  </a:lnTo>
                  <a:lnTo>
                    <a:pt x="74" y="1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92" y="1"/>
                  </a:lnTo>
                  <a:lnTo>
                    <a:pt x="97" y="2"/>
                  </a:lnTo>
                  <a:lnTo>
                    <a:pt x="100" y="4"/>
                  </a:lnTo>
                  <a:lnTo>
                    <a:pt x="103" y="6"/>
                  </a:lnTo>
                  <a:lnTo>
                    <a:pt x="105" y="9"/>
                  </a:lnTo>
                  <a:lnTo>
                    <a:pt x="105" y="12"/>
                  </a:lnTo>
                  <a:lnTo>
                    <a:pt x="106" y="15"/>
                  </a:lnTo>
                  <a:lnTo>
                    <a:pt x="106" y="46"/>
                  </a:lnTo>
                  <a:lnTo>
                    <a:pt x="92" y="46"/>
                  </a:lnTo>
                  <a:lnTo>
                    <a:pt x="92" y="18"/>
                  </a:lnTo>
                  <a:lnTo>
                    <a:pt x="92" y="16"/>
                  </a:lnTo>
                  <a:lnTo>
                    <a:pt x="92" y="14"/>
                  </a:lnTo>
                  <a:lnTo>
                    <a:pt x="92" y="12"/>
                  </a:lnTo>
                  <a:lnTo>
                    <a:pt x="92" y="11"/>
                  </a:lnTo>
                  <a:lnTo>
                    <a:pt x="91" y="10"/>
                  </a:lnTo>
                  <a:lnTo>
                    <a:pt x="90" y="9"/>
                  </a:lnTo>
                  <a:lnTo>
                    <a:pt x="88" y="9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9" y="7"/>
                  </a:lnTo>
                  <a:lnTo>
                    <a:pt x="74" y="7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5" y="10"/>
                  </a:lnTo>
                  <a:lnTo>
                    <a:pt x="63" y="12"/>
                  </a:lnTo>
                  <a:lnTo>
                    <a:pt x="62" y="14"/>
                  </a:lnTo>
                  <a:lnTo>
                    <a:pt x="60" y="17"/>
                  </a:lnTo>
                  <a:lnTo>
                    <a:pt x="60" y="20"/>
                  </a:lnTo>
                  <a:lnTo>
                    <a:pt x="60" y="46"/>
                  </a:lnTo>
                  <a:lnTo>
                    <a:pt x="47" y="46"/>
                  </a:lnTo>
                  <a:lnTo>
                    <a:pt x="47" y="17"/>
                  </a:lnTo>
                  <a:lnTo>
                    <a:pt x="46" y="14"/>
                  </a:lnTo>
                  <a:lnTo>
                    <a:pt x="46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42" y="8"/>
                  </a:lnTo>
                  <a:lnTo>
                    <a:pt x="39" y="8"/>
                  </a:lnTo>
                  <a:lnTo>
                    <a:pt x="37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8" y="8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14" y="20"/>
                  </a:lnTo>
                  <a:lnTo>
                    <a:pt x="14" y="23"/>
                  </a:lnTo>
                  <a:lnTo>
                    <a:pt x="14" y="46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508560" y="3021120"/>
              <a:ext cx="26640" cy="219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15" y="34"/>
                  </a:moveTo>
                  <a:lnTo>
                    <a:pt x="59" y="34"/>
                  </a:lnTo>
                  <a:lnTo>
                    <a:pt x="58" y="32"/>
                  </a:lnTo>
                  <a:lnTo>
                    <a:pt x="58" y="29"/>
                  </a:lnTo>
                  <a:lnTo>
                    <a:pt x="56" y="27"/>
                  </a:lnTo>
                  <a:lnTo>
                    <a:pt x="54" y="26"/>
                  </a:lnTo>
                  <a:lnTo>
                    <a:pt x="51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7" y="22"/>
                  </a:lnTo>
                  <a:lnTo>
                    <a:pt x="33" y="22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22" y="25"/>
                  </a:lnTo>
                  <a:lnTo>
                    <a:pt x="18" y="27"/>
                  </a:lnTo>
                  <a:lnTo>
                    <a:pt x="16" y="29"/>
                  </a:lnTo>
                  <a:lnTo>
                    <a:pt x="15" y="31"/>
                  </a:lnTo>
                  <a:lnTo>
                    <a:pt x="15" y="34"/>
                  </a:lnTo>
                  <a:close/>
                  <a:moveTo>
                    <a:pt x="26" y="11"/>
                  </a:moveTo>
                  <a:lnTo>
                    <a:pt x="36" y="0"/>
                  </a:lnTo>
                  <a:lnTo>
                    <a:pt x="53" y="0"/>
                  </a:lnTo>
                  <a:lnTo>
                    <a:pt x="37" y="11"/>
                  </a:lnTo>
                  <a:lnTo>
                    <a:pt x="26" y="11"/>
                  </a:lnTo>
                  <a:close/>
                  <a:moveTo>
                    <a:pt x="59" y="46"/>
                  </a:moveTo>
                  <a:lnTo>
                    <a:pt x="72" y="47"/>
                  </a:lnTo>
                  <a:lnTo>
                    <a:pt x="71" y="50"/>
                  </a:lnTo>
                  <a:lnTo>
                    <a:pt x="67" y="53"/>
                  </a:lnTo>
                  <a:lnTo>
                    <a:pt x="64" y="55"/>
                  </a:lnTo>
                  <a:lnTo>
                    <a:pt x="60" y="57"/>
                  </a:lnTo>
                  <a:lnTo>
                    <a:pt x="55" y="59"/>
                  </a:lnTo>
                  <a:lnTo>
                    <a:pt x="50" y="60"/>
                  </a:lnTo>
                  <a:lnTo>
                    <a:pt x="44" y="61"/>
                  </a:lnTo>
                  <a:lnTo>
                    <a:pt x="38" y="61"/>
                  </a:lnTo>
                  <a:lnTo>
                    <a:pt x="29" y="61"/>
                  </a:lnTo>
                  <a:lnTo>
                    <a:pt x="22" y="60"/>
                  </a:lnTo>
                  <a:lnTo>
                    <a:pt x="16" y="58"/>
                  </a:lnTo>
                  <a:lnTo>
                    <a:pt x="11" y="55"/>
                  </a:lnTo>
                  <a:lnTo>
                    <a:pt x="6" y="52"/>
                  </a:lnTo>
                  <a:lnTo>
                    <a:pt x="3" y="48"/>
                  </a:lnTo>
                  <a:lnTo>
                    <a:pt x="1" y="44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11" y="21"/>
                  </a:lnTo>
                  <a:lnTo>
                    <a:pt x="16" y="19"/>
                  </a:lnTo>
                  <a:lnTo>
                    <a:pt x="22" y="17"/>
                  </a:lnTo>
                  <a:lnTo>
                    <a:pt x="29" y="16"/>
                  </a:lnTo>
                  <a:lnTo>
                    <a:pt x="37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8" y="19"/>
                  </a:lnTo>
                  <a:lnTo>
                    <a:pt x="63" y="21"/>
                  </a:lnTo>
                  <a:lnTo>
                    <a:pt x="67" y="25"/>
                  </a:lnTo>
                  <a:lnTo>
                    <a:pt x="70" y="29"/>
                  </a:lnTo>
                  <a:lnTo>
                    <a:pt x="71" y="33"/>
                  </a:lnTo>
                  <a:lnTo>
                    <a:pt x="72" y="39"/>
                  </a:lnTo>
                  <a:lnTo>
                    <a:pt x="72" y="39"/>
                  </a:lnTo>
                  <a:lnTo>
                    <a:pt x="72" y="39"/>
                  </a:lnTo>
                  <a:lnTo>
                    <a:pt x="72" y="39"/>
                  </a:lnTo>
                  <a:lnTo>
                    <a:pt x="72" y="41"/>
                  </a:lnTo>
                  <a:lnTo>
                    <a:pt x="14" y="41"/>
                  </a:lnTo>
                  <a:lnTo>
                    <a:pt x="15" y="44"/>
                  </a:lnTo>
                  <a:lnTo>
                    <a:pt x="15" y="47"/>
                  </a:lnTo>
                  <a:lnTo>
                    <a:pt x="18" y="49"/>
                  </a:lnTo>
                  <a:lnTo>
                    <a:pt x="22" y="51"/>
                  </a:lnTo>
                  <a:lnTo>
                    <a:pt x="24" y="53"/>
                  </a:lnTo>
                  <a:lnTo>
                    <a:pt x="28" y="54"/>
                  </a:lnTo>
                  <a:lnTo>
                    <a:pt x="33" y="55"/>
                  </a:lnTo>
                  <a:lnTo>
                    <a:pt x="38" y="55"/>
                  </a:lnTo>
                  <a:lnTo>
                    <a:pt x="41" y="55"/>
                  </a:lnTo>
                  <a:lnTo>
                    <a:pt x="45" y="55"/>
                  </a:lnTo>
                  <a:lnTo>
                    <a:pt x="47" y="54"/>
                  </a:lnTo>
                  <a:lnTo>
                    <a:pt x="51" y="53"/>
                  </a:lnTo>
                  <a:lnTo>
                    <a:pt x="53" y="52"/>
                  </a:lnTo>
                  <a:lnTo>
                    <a:pt x="55" y="50"/>
                  </a:lnTo>
                  <a:lnTo>
                    <a:pt x="57" y="48"/>
                  </a:lnTo>
                  <a:lnTo>
                    <a:pt x="5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542040" y="3025800"/>
              <a:ext cx="15480" cy="1728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0" y="46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3" y="22"/>
                  </a:lnTo>
                  <a:lnTo>
                    <a:pt x="13" y="46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559320" y="302112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0" y="61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1"/>
                  </a:lnTo>
                  <a:lnTo>
                    <a:pt x="0" y="61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570480" y="3025800"/>
              <a:ext cx="24840" cy="17280"/>
            </a:xfrm>
            <a:custGeom>
              <a:avLst/>
              <a:gdLst/>
              <a:ahLst/>
              <a:rect l="l" t="t" r="r" b="b"/>
              <a:pathLst>
                <a:path w="69" h="47">
                  <a:moveTo>
                    <a:pt x="54" y="29"/>
                  </a:moveTo>
                  <a:lnTo>
                    <a:pt x="68" y="30"/>
                  </a:lnTo>
                  <a:lnTo>
                    <a:pt x="66" y="34"/>
                  </a:lnTo>
                  <a:lnTo>
                    <a:pt x="64" y="37"/>
                  </a:lnTo>
                  <a:lnTo>
                    <a:pt x="60" y="40"/>
                  </a:lnTo>
                  <a:lnTo>
                    <a:pt x="57" y="42"/>
                  </a:lnTo>
                  <a:lnTo>
                    <a:pt x="52" y="44"/>
                  </a:lnTo>
                  <a:lnTo>
                    <a:pt x="47" y="45"/>
                  </a:lnTo>
                  <a:lnTo>
                    <a:pt x="41" y="46"/>
                  </a:lnTo>
                  <a:lnTo>
                    <a:pt x="35" y="46"/>
                  </a:lnTo>
                  <a:lnTo>
                    <a:pt x="28" y="46"/>
                  </a:lnTo>
                  <a:lnTo>
                    <a:pt x="21" y="45"/>
                  </a:lnTo>
                  <a:lnTo>
                    <a:pt x="14" y="43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6" y="8"/>
                  </a:lnTo>
                  <a:lnTo>
                    <a:pt x="9" y="6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1" y="2"/>
                  </a:lnTo>
                  <a:lnTo>
                    <a:pt x="56" y="4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5" y="11"/>
                  </a:lnTo>
                  <a:lnTo>
                    <a:pt x="66" y="15"/>
                  </a:lnTo>
                  <a:lnTo>
                    <a:pt x="52" y="16"/>
                  </a:lnTo>
                  <a:lnTo>
                    <a:pt x="52" y="13"/>
                  </a:lnTo>
                  <a:lnTo>
                    <a:pt x="50" y="12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1" y="7"/>
                  </a:lnTo>
                  <a:lnTo>
                    <a:pt x="38" y="7"/>
                  </a:lnTo>
                  <a:lnTo>
                    <a:pt x="35" y="7"/>
                  </a:lnTo>
                  <a:lnTo>
                    <a:pt x="31" y="7"/>
                  </a:lnTo>
                  <a:lnTo>
                    <a:pt x="27" y="8"/>
                  </a:lnTo>
                  <a:lnTo>
                    <a:pt x="22" y="9"/>
                  </a:lnTo>
                  <a:lnTo>
                    <a:pt x="20" y="11"/>
                  </a:lnTo>
                  <a:lnTo>
                    <a:pt x="16" y="13"/>
                  </a:lnTo>
                  <a:lnTo>
                    <a:pt x="14" y="16"/>
                  </a:lnTo>
                  <a:lnTo>
                    <a:pt x="13" y="19"/>
                  </a:lnTo>
                  <a:lnTo>
                    <a:pt x="13" y="24"/>
                  </a:lnTo>
                  <a:lnTo>
                    <a:pt x="13" y="27"/>
                  </a:lnTo>
                  <a:lnTo>
                    <a:pt x="14" y="31"/>
                  </a:lnTo>
                  <a:lnTo>
                    <a:pt x="16" y="34"/>
                  </a:lnTo>
                  <a:lnTo>
                    <a:pt x="20" y="36"/>
                  </a:lnTo>
                  <a:lnTo>
                    <a:pt x="22" y="38"/>
                  </a:lnTo>
                  <a:lnTo>
                    <a:pt x="26" y="39"/>
                  </a:lnTo>
                  <a:lnTo>
                    <a:pt x="30" y="40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1" y="39"/>
                  </a:lnTo>
                  <a:lnTo>
                    <a:pt x="45" y="38"/>
                  </a:lnTo>
                  <a:lnTo>
                    <a:pt x="48" y="38"/>
                  </a:lnTo>
                  <a:lnTo>
                    <a:pt x="50" y="36"/>
                  </a:lnTo>
                  <a:lnTo>
                    <a:pt x="52" y="34"/>
                  </a:lnTo>
                  <a:lnTo>
                    <a:pt x="53" y="32"/>
                  </a:lnTo>
                  <a:lnTo>
                    <a:pt x="54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597480" y="3025800"/>
              <a:ext cx="24840" cy="172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55" y="24"/>
                  </a:moveTo>
                  <a:lnTo>
                    <a:pt x="50" y="24"/>
                  </a:lnTo>
                  <a:lnTo>
                    <a:pt x="46" y="25"/>
                  </a:lnTo>
                  <a:lnTo>
                    <a:pt x="39" y="26"/>
                  </a:lnTo>
                  <a:lnTo>
                    <a:pt x="33" y="26"/>
                  </a:lnTo>
                  <a:lnTo>
                    <a:pt x="28" y="26"/>
                  </a:lnTo>
                  <a:lnTo>
                    <a:pt x="26" y="27"/>
                  </a:lnTo>
                  <a:lnTo>
                    <a:pt x="22" y="27"/>
                  </a:lnTo>
                  <a:lnTo>
                    <a:pt x="21" y="27"/>
                  </a:lnTo>
                  <a:lnTo>
                    <a:pt x="19" y="28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5" y="36"/>
                  </a:lnTo>
                  <a:lnTo>
                    <a:pt x="15" y="37"/>
                  </a:lnTo>
                  <a:lnTo>
                    <a:pt x="18" y="38"/>
                  </a:lnTo>
                  <a:lnTo>
                    <a:pt x="20" y="39"/>
                  </a:lnTo>
                  <a:lnTo>
                    <a:pt x="22" y="40"/>
                  </a:lnTo>
                  <a:lnTo>
                    <a:pt x="26" y="40"/>
                  </a:lnTo>
                  <a:lnTo>
                    <a:pt x="29" y="40"/>
                  </a:lnTo>
                  <a:lnTo>
                    <a:pt x="33" y="40"/>
                  </a:lnTo>
                  <a:lnTo>
                    <a:pt x="37" y="40"/>
                  </a:lnTo>
                  <a:lnTo>
                    <a:pt x="40" y="39"/>
                  </a:lnTo>
                  <a:lnTo>
                    <a:pt x="44" y="38"/>
                  </a:lnTo>
                  <a:lnTo>
                    <a:pt x="46" y="38"/>
                  </a:lnTo>
                  <a:lnTo>
                    <a:pt x="49" y="37"/>
                  </a:lnTo>
                  <a:lnTo>
                    <a:pt x="51" y="35"/>
                  </a:lnTo>
                  <a:lnTo>
                    <a:pt x="52" y="34"/>
                  </a:lnTo>
                  <a:lnTo>
                    <a:pt x="53" y="32"/>
                  </a:lnTo>
                  <a:lnTo>
                    <a:pt x="54" y="30"/>
                  </a:lnTo>
                  <a:lnTo>
                    <a:pt x="54" y="28"/>
                  </a:lnTo>
                  <a:lnTo>
                    <a:pt x="55" y="26"/>
                  </a:lnTo>
                  <a:lnTo>
                    <a:pt x="55" y="24"/>
                  </a:lnTo>
                  <a:close/>
                  <a:moveTo>
                    <a:pt x="55" y="40"/>
                  </a:moveTo>
                  <a:lnTo>
                    <a:pt x="52" y="41"/>
                  </a:lnTo>
                  <a:lnTo>
                    <a:pt x="48" y="43"/>
                  </a:lnTo>
                  <a:lnTo>
                    <a:pt x="45" y="44"/>
                  </a:lnTo>
                  <a:lnTo>
                    <a:pt x="42" y="45"/>
                  </a:lnTo>
                  <a:lnTo>
                    <a:pt x="38" y="45"/>
                  </a:lnTo>
                  <a:lnTo>
                    <a:pt x="34" y="46"/>
                  </a:lnTo>
                  <a:lnTo>
                    <a:pt x="30" y="46"/>
                  </a:lnTo>
                  <a:lnTo>
                    <a:pt x="27" y="46"/>
                  </a:lnTo>
                  <a:lnTo>
                    <a:pt x="20" y="46"/>
                  </a:lnTo>
                  <a:lnTo>
                    <a:pt x="15" y="45"/>
                  </a:lnTo>
                  <a:lnTo>
                    <a:pt x="10" y="44"/>
                  </a:lnTo>
                  <a:lnTo>
                    <a:pt x="7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4" y="27"/>
                  </a:lnTo>
                  <a:lnTo>
                    <a:pt x="6" y="26"/>
                  </a:lnTo>
                  <a:lnTo>
                    <a:pt x="8" y="24"/>
                  </a:lnTo>
                  <a:lnTo>
                    <a:pt x="10" y="24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31" y="20"/>
                  </a:lnTo>
                  <a:lnTo>
                    <a:pt x="38" y="20"/>
                  </a:lnTo>
                  <a:lnTo>
                    <a:pt x="45" y="19"/>
                  </a:lnTo>
                  <a:lnTo>
                    <a:pt x="50" y="18"/>
                  </a:lnTo>
                  <a:lnTo>
                    <a:pt x="55" y="18"/>
                  </a:lnTo>
                  <a:lnTo>
                    <a:pt x="55" y="17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4" y="13"/>
                  </a:lnTo>
                  <a:lnTo>
                    <a:pt x="53" y="12"/>
                  </a:lnTo>
                  <a:lnTo>
                    <a:pt x="52" y="10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7"/>
                  </a:lnTo>
                  <a:lnTo>
                    <a:pt x="35" y="7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5" y="8"/>
                  </a:lnTo>
                  <a:lnTo>
                    <a:pt x="8" y="6"/>
                  </a:lnTo>
                  <a:lnTo>
                    <a:pt x="9" y="5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7" y="2"/>
                  </a:lnTo>
                  <a:lnTo>
                    <a:pt x="58" y="3"/>
                  </a:lnTo>
                  <a:lnTo>
                    <a:pt x="61" y="4"/>
                  </a:lnTo>
                  <a:lnTo>
                    <a:pt x="63" y="5"/>
                  </a:lnTo>
                  <a:lnTo>
                    <a:pt x="64" y="6"/>
                  </a:lnTo>
                  <a:lnTo>
                    <a:pt x="65" y="7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7" y="11"/>
                  </a:lnTo>
                  <a:lnTo>
                    <a:pt x="67" y="13"/>
                  </a:lnTo>
                  <a:lnTo>
                    <a:pt x="67" y="15"/>
                  </a:lnTo>
                  <a:lnTo>
                    <a:pt x="67" y="17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35"/>
                  </a:lnTo>
                  <a:lnTo>
                    <a:pt x="68" y="38"/>
                  </a:lnTo>
                  <a:lnTo>
                    <a:pt x="69" y="40"/>
                  </a:lnTo>
                  <a:lnTo>
                    <a:pt x="69" y="41"/>
                  </a:lnTo>
                  <a:lnTo>
                    <a:pt x="69" y="42"/>
                  </a:lnTo>
                  <a:lnTo>
                    <a:pt x="71" y="44"/>
                  </a:lnTo>
                  <a:lnTo>
                    <a:pt x="71" y="46"/>
                  </a:lnTo>
                  <a:lnTo>
                    <a:pt x="58" y="46"/>
                  </a:lnTo>
                  <a:lnTo>
                    <a:pt x="57" y="44"/>
                  </a:lnTo>
                  <a:lnTo>
                    <a:pt x="56" y="43"/>
                  </a:lnTo>
                  <a:lnTo>
                    <a:pt x="55" y="41"/>
                  </a:lnTo>
                  <a:lnTo>
                    <a:pt x="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629160" y="302112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2">
                  <a:moveTo>
                    <a:pt x="0" y="61"/>
                  </a:moveTo>
                  <a:lnTo>
                    <a:pt x="0" y="17"/>
                  </a:lnTo>
                  <a:lnTo>
                    <a:pt x="14" y="17"/>
                  </a:lnTo>
                  <a:lnTo>
                    <a:pt x="14" y="61"/>
                  </a:lnTo>
                  <a:lnTo>
                    <a:pt x="0" y="61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640320" y="3025800"/>
              <a:ext cx="21960" cy="17280"/>
            </a:xfrm>
            <a:custGeom>
              <a:avLst/>
              <a:gdLst/>
              <a:ahLst/>
              <a:rect l="l" t="t" r="r" b="b"/>
              <a:pathLst>
                <a:path w="63" h="47">
                  <a:moveTo>
                    <a:pt x="0" y="46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8"/>
                  </a:lnTo>
                  <a:lnTo>
                    <a:pt x="17" y="4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5" y="4"/>
                  </a:lnTo>
                  <a:lnTo>
                    <a:pt x="56" y="4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60" y="8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2" y="46"/>
                  </a:lnTo>
                  <a:lnTo>
                    <a:pt x="49" y="46"/>
                  </a:lnTo>
                  <a:lnTo>
                    <a:pt x="49" y="19"/>
                  </a:lnTo>
                  <a:lnTo>
                    <a:pt x="49" y="17"/>
                  </a:lnTo>
                  <a:lnTo>
                    <a:pt x="49" y="15"/>
                  </a:lnTo>
                  <a:lnTo>
                    <a:pt x="48" y="13"/>
                  </a:lnTo>
                  <a:lnTo>
                    <a:pt x="48" y="12"/>
                  </a:lnTo>
                  <a:lnTo>
                    <a:pt x="47" y="11"/>
                  </a:lnTo>
                  <a:lnTo>
                    <a:pt x="45" y="10"/>
                  </a:lnTo>
                  <a:lnTo>
                    <a:pt x="44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29" y="7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8"/>
                  </a:lnTo>
                  <a:lnTo>
                    <a:pt x="13" y="22"/>
                  </a:lnTo>
                  <a:lnTo>
                    <a:pt x="13" y="46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458960" y="2859120"/>
              <a:ext cx="21960" cy="2196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0" y="43"/>
                  </a:moveTo>
                  <a:lnTo>
                    <a:pt x="13" y="43"/>
                  </a:lnTo>
                  <a:lnTo>
                    <a:pt x="13" y="45"/>
                  </a:lnTo>
                  <a:lnTo>
                    <a:pt x="15" y="48"/>
                  </a:lnTo>
                  <a:lnTo>
                    <a:pt x="16" y="50"/>
                  </a:lnTo>
                  <a:lnTo>
                    <a:pt x="18" y="52"/>
                  </a:lnTo>
                  <a:lnTo>
                    <a:pt x="20" y="53"/>
                  </a:lnTo>
                  <a:lnTo>
                    <a:pt x="22" y="53"/>
                  </a:lnTo>
                  <a:lnTo>
                    <a:pt x="26" y="54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4" y="54"/>
                  </a:lnTo>
                  <a:lnTo>
                    <a:pt x="36" y="53"/>
                  </a:lnTo>
                  <a:lnTo>
                    <a:pt x="38" y="53"/>
                  </a:lnTo>
                  <a:lnTo>
                    <a:pt x="40" y="52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4" y="49"/>
                  </a:lnTo>
                  <a:lnTo>
                    <a:pt x="44" y="47"/>
                  </a:lnTo>
                  <a:lnTo>
                    <a:pt x="44" y="46"/>
                  </a:lnTo>
                  <a:lnTo>
                    <a:pt x="44" y="44"/>
                  </a:lnTo>
                  <a:lnTo>
                    <a:pt x="45" y="41"/>
                  </a:lnTo>
                  <a:lnTo>
                    <a:pt x="45" y="0"/>
                  </a:lnTo>
                  <a:lnTo>
                    <a:pt x="60" y="0"/>
                  </a:lnTo>
                  <a:lnTo>
                    <a:pt x="60" y="41"/>
                  </a:lnTo>
                  <a:lnTo>
                    <a:pt x="60" y="44"/>
                  </a:lnTo>
                  <a:lnTo>
                    <a:pt x="59" y="48"/>
                  </a:lnTo>
                  <a:lnTo>
                    <a:pt x="58" y="50"/>
                  </a:lnTo>
                  <a:lnTo>
                    <a:pt x="57" y="53"/>
                  </a:lnTo>
                  <a:lnTo>
                    <a:pt x="54" y="55"/>
                  </a:lnTo>
                  <a:lnTo>
                    <a:pt x="53" y="57"/>
                  </a:lnTo>
                  <a:lnTo>
                    <a:pt x="49" y="58"/>
                  </a:lnTo>
                  <a:lnTo>
                    <a:pt x="46" y="59"/>
                  </a:lnTo>
                  <a:lnTo>
                    <a:pt x="42" y="60"/>
                  </a:lnTo>
                  <a:lnTo>
                    <a:pt x="38" y="61"/>
                  </a:lnTo>
                  <a:lnTo>
                    <a:pt x="34" y="61"/>
                  </a:lnTo>
                  <a:lnTo>
                    <a:pt x="29" y="61"/>
                  </a:lnTo>
                  <a:lnTo>
                    <a:pt x="22" y="61"/>
                  </a:lnTo>
                  <a:lnTo>
                    <a:pt x="17" y="60"/>
                  </a:lnTo>
                  <a:lnTo>
                    <a:pt x="11" y="59"/>
                  </a:lnTo>
                  <a:lnTo>
                    <a:pt x="8" y="57"/>
                  </a:lnTo>
                  <a:lnTo>
                    <a:pt x="4" y="54"/>
                  </a:lnTo>
                  <a:lnTo>
                    <a:pt x="1" y="51"/>
                  </a:lnTo>
                  <a:lnTo>
                    <a:pt x="0" y="47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48776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56" y="23"/>
                  </a:moveTo>
                  <a:lnTo>
                    <a:pt x="51" y="23"/>
                  </a:lnTo>
                  <a:lnTo>
                    <a:pt x="46" y="24"/>
                  </a:lnTo>
                  <a:lnTo>
                    <a:pt x="40" y="25"/>
                  </a:lnTo>
                  <a:lnTo>
                    <a:pt x="33" y="25"/>
                  </a:lnTo>
                  <a:lnTo>
                    <a:pt x="29" y="25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5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5"/>
                  </a:lnTo>
                  <a:lnTo>
                    <a:pt x="16" y="36"/>
                  </a:lnTo>
                  <a:lnTo>
                    <a:pt x="19" y="38"/>
                  </a:lnTo>
                  <a:lnTo>
                    <a:pt x="20" y="38"/>
                  </a:lnTo>
                  <a:lnTo>
                    <a:pt x="23" y="39"/>
                  </a:lnTo>
                  <a:lnTo>
                    <a:pt x="26" y="39"/>
                  </a:lnTo>
                  <a:lnTo>
                    <a:pt x="30" y="39"/>
                  </a:lnTo>
                  <a:lnTo>
                    <a:pt x="34" y="39"/>
                  </a:lnTo>
                  <a:lnTo>
                    <a:pt x="37" y="39"/>
                  </a:lnTo>
                  <a:lnTo>
                    <a:pt x="41" y="38"/>
                  </a:lnTo>
                  <a:lnTo>
                    <a:pt x="45" y="38"/>
                  </a:lnTo>
                  <a:lnTo>
                    <a:pt x="47" y="37"/>
                  </a:lnTo>
                  <a:lnTo>
                    <a:pt x="50" y="36"/>
                  </a:lnTo>
                  <a:lnTo>
                    <a:pt x="52" y="34"/>
                  </a:lnTo>
                  <a:lnTo>
                    <a:pt x="54" y="33"/>
                  </a:lnTo>
                  <a:lnTo>
                    <a:pt x="54" y="31"/>
                  </a:lnTo>
                  <a:lnTo>
                    <a:pt x="55" y="29"/>
                  </a:lnTo>
                  <a:lnTo>
                    <a:pt x="55" y="27"/>
                  </a:lnTo>
                  <a:lnTo>
                    <a:pt x="56" y="25"/>
                  </a:lnTo>
                  <a:lnTo>
                    <a:pt x="56" y="23"/>
                  </a:lnTo>
                  <a:close/>
                  <a:moveTo>
                    <a:pt x="57" y="39"/>
                  </a:moveTo>
                  <a:lnTo>
                    <a:pt x="53" y="40"/>
                  </a:lnTo>
                  <a:lnTo>
                    <a:pt x="49" y="42"/>
                  </a:lnTo>
                  <a:lnTo>
                    <a:pt x="46" y="43"/>
                  </a:lnTo>
                  <a:lnTo>
                    <a:pt x="43" y="44"/>
                  </a:lnTo>
                  <a:lnTo>
                    <a:pt x="39" y="44"/>
                  </a:lnTo>
                  <a:lnTo>
                    <a:pt x="35" y="45"/>
                  </a:lnTo>
                  <a:lnTo>
                    <a:pt x="31" y="45"/>
                  </a:lnTo>
                  <a:lnTo>
                    <a:pt x="28" y="45"/>
                  </a:lnTo>
                  <a:lnTo>
                    <a:pt x="21" y="45"/>
                  </a:lnTo>
                  <a:lnTo>
                    <a:pt x="15" y="44"/>
                  </a:lnTo>
                  <a:lnTo>
                    <a:pt x="10" y="43"/>
                  </a:lnTo>
                  <a:lnTo>
                    <a:pt x="7" y="42"/>
                  </a:lnTo>
                  <a:lnTo>
                    <a:pt x="3" y="40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4" y="21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21" y="20"/>
                  </a:lnTo>
                  <a:lnTo>
                    <a:pt x="24" y="19"/>
                  </a:lnTo>
                  <a:lnTo>
                    <a:pt x="28" y="19"/>
                  </a:lnTo>
                  <a:lnTo>
                    <a:pt x="31" y="19"/>
                  </a:lnTo>
                  <a:lnTo>
                    <a:pt x="39" y="19"/>
                  </a:lnTo>
                  <a:lnTo>
                    <a:pt x="46" y="18"/>
                  </a:lnTo>
                  <a:lnTo>
                    <a:pt x="51" y="17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5" y="12"/>
                  </a:lnTo>
                  <a:lnTo>
                    <a:pt x="55" y="11"/>
                  </a:lnTo>
                  <a:lnTo>
                    <a:pt x="54" y="9"/>
                  </a:lnTo>
                  <a:lnTo>
                    <a:pt x="53" y="9"/>
                  </a:lnTo>
                  <a:lnTo>
                    <a:pt x="49" y="7"/>
                  </a:lnTo>
                  <a:lnTo>
                    <a:pt x="45" y="7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8" y="6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0" y="2"/>
                  </a:lnTo>
                  <a:lnTo>
                    <a:pt x="63" y="3"/>
                  </a:lnTo>
                  <a:lnTo>
                    <a:pt x="64" y="4"/>
                  </a:lnTo>
                  <a:lnTo>
                    <a:pt x="66" y="5"/>
                  </a:lnTo>
                  <a:lnTo>
                    <a:pt x="67" y="6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69" y="10"/>
                  </a:lnTo>
                  <a:lnTo>
                    <a:pt x="69" y="12"/>
                  </a:lnTo>
                  <a:lnTo>
                    <a:pt x="69" y="14"/>
                  </a:lnTo>
                  <a:lnTo>
                    <a:pt x="69" y="16"/>
                  </a:lnTo>
                  <a:lnTo>
                    <a:pt x="69" y="26"/>
                  </a:lnTo>
                  <a:lnTo>
                    <a:pt x="69" y="31"/>
                  </a:lnTo>
                  <a:lnTo>
                    <a:pt x="69" y="34"/>
                  </a:lnTo>
                  <a:lnTo>
                    <a:pt x="70" y="37"/>
                  </a:lnTo>
                  <a:lnTo>
                    <a:pt x="71" y="39"/>
                  </a:lnTo>
                  <a:lnTo>
                    <a:pt x="71" y="40"/>
                  </a:lnTo>
                  <a:lnTo>
                    <a:pt x="71" y="41"/>
                  </a:lnTo>
                  <a:lnTo>
                    <a:pt x="72" y="43"/>
                  </a:lnTo>
                  <a:lnTo>
                    <a:pt x="73" y="45"/>
                  </a:lnTo>
                  <a:lnTo>
                    <a:pt x="60" y="45"/>
                  </a:lnTo>
                  <a:lnTo>
                    <a:pt x="58" y="43"/>
                  </a:lnTo>
                  <a:lnTo>
                    <a:pt x="57" y="42"/>
                  </a:lnTo>
                  <a:lnTo>
                    <a:pt x="57" y="40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519440" y="2865600"/>
              <a:ext cx="24840" cy="219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12" y="23"/>
                  </a:moveTo>
                  <a:lnTo>
                    <a:pt x="12" y="27"/>
                  </a:lnTo>
                  <a:lnTo>
                    <a:pt x="13" y="30"/>
                  </a:lnTo>
                  <a:lnTo>
                    <a:pt x="16" y="33"/>
                  </a:lnTo>
                  <a:lnTo>
                    <a:pt x="18" y="35"/>
                  </a:lnTo>
                  <a:lnTo>
                    <a:pt x="22" y="37"/>
                  </a:lnTo>
                  <a:lnTo>
                    <a:pt x="25" y="38"/>
                  </a:lnTo>
                  <a:lnTo>
                    <a:pt x="29" y="39"/>
                  </a:lnTo>
                  <a:lnTo>
                    <a:pt x="34" y="39"/>
                  </a:lnTo>
                  <a:lnTo>
                    <a:pt x="38" y="39"/>
                  </a:lnTo>
                  <a:lnTo>
                    <a:pt x="43" y="38"/>
                  </a:lnTo>
                  <a:lnTo>
                    <a:pt x="46" y="37"/>
                  </a:lnTo>
                  <a:lnTo>
                    <a:pt x="50" y="35"/>
                  </a:lnTo>
                  <a:lnTo>
                    <a:pt x="52" y="33"/>
                  </a:lnTo>
                  <a:lnTo>
                    <a:pt x="54" y="30"/>
                  </a:lnTo>
                  <a:lnTo>
                    <a:pt x="56" y="26"/>
                  </a:lnTo>
                  <a:lnTo>
                    <a:pt x="56" y="22"/>
                  </a:lnTo>
                  <a:lnTo>
                    <a:pt x="56" y="18"/>
                  </a:lnTo>
                  <a:lnTo>
                    <a:pt x="54" y="15"/>
                  </a:lnTo>
                  <a:lnTo>
                    <a:pt x="53" y="12"/>
                  </a:lnTo>
                  <a:lnTo>
                    <a:pt x="50" y="9"/>
                  </a:lnTo>
                  <a:lnTo>
                    <a:pt x="47" y="7"/>
                  </a:lnTo>
                  <a:lnTo>
                    <a:pt x="43" y="7"/>
                  </a:lnTo>
                  <a:lnTo>
                    <a:pt x="39" y="5"/>
                  </a:lnTo>
                  <a:lnTo>
                    <a:pt x="35" y="5"/>
                  </a:lnTo>
                  <a:lnTo>
                    <a:pt x="30" y="5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9" y="10"/>
                  </a:lnTo>
                  <a:lnTo>
                    <a:pt x="16" y="12"/>
                  </a:lnTo>
                  <a:lnTo>
                    <a:pt x="14" y="15"/>
                  </a:lnTo>
                  <a:lnTo>
                    <a:pt x="12" y="19"/>
                  </a:lnTo>
                  <a:lnTo>
                    <a:pt x="12" y="23"/>
                  </a:lnTo>
                  <a:close/>
                  <a:moveTo>
                    <a:pt x="0" y="61"/>
                  </a:moveTo>
                  <a:lnTo>
                    <a:pt x="0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4" y="3"/>
                  </a:lnTo>
                  <a:lnTo>
                    <a:pt x="58" y="4"/>
                  </a:lnTo>
                  <a:lnTo>
                    <a:pt x="61" y="6"/>
                  </a:lnTo>
                  <a:lnTo>
                    <a:pt x="64" y="8"/>
                  </a:lnTo>
                  <a:lnTo>
                    <a:pt x="67" y="11"/>
                  </a:lnTo>
                  <a:lnTo>
                    <a:pt x="68" y="13"/>
                  </a:lnTo>
                  <a:lnTo>
                    <a:pt x="69" y="16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0" y="25"/>
                  </a:lnTo>
                  <a:lnTo>
                    <a:pt x="69" y="28"/>
                  </a:lnTo>
                  <a:lnTo>
                    <a:pt x="68" y="31"/>
                  </a:lnTo>
                  <a:lnTo>
                    <a:pt x="66" y="34"/>
                  </a:lnTo>
                  <a:lnTo>
                    <a:pt x="63" y="37"/>
                  </a:lnTo>
                  <a:lnTo>
                    <a:pt x="60" y="39"/>
                  </a:lnTo>
                  <a:lnTo>
                    <a:pt x="56" y="41"/>
                  </a:lnTo>
                  <a:lnTo>
                    <a:pt x="53" y="43"/>
                  </a:lnTo>
                  <a:lnTo>
                    <a:pt x="49" y="43"/>
                  </a:lnTo>
                  <a:lnTo>
                    <a:pt x="44" y="45"/>
                  </a:lnTo>
                  <a:lnTo>
                    <a:pt x="40" y="45"/>
                  </a:lnTo>
                  <a:lnTo>
                    <a:pt x="35" y="45"/>
                  </a:lnTo>
                  <a:lnTo>
                    <a:pt x="31" y="45"/>
                  </a:lnTo>
                  <a:lnTo>
                    <a:pt x="28" y="45"/>
                  </a:lnTo>
                  <a:lnTo>
                    <a:pt x="25" y="44"/>
                  </a:lnTo>
                  <a:lnTo>
                    <a:pt x="23" y="44"/>
                  </a:lnTo>
                  <a:lnTo>
                    <a:pt x="20" y="43"/>
                  </a:lnTo>
                  <a:lnTo>
                    <a:pt x="18" y="42"/>
                  </a:lnTo>
                  <a:lnTo>
                    <a:pt x="16" y="41"/>
                  </a:lnTo>
                  <a:lnTo>
                    <a:pt x="14" y="40"/>
                  </a:lnTo>
                  <a:lnTo>
                    <a:pt x="14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54968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15" y="23"/>
                  </a:moveTo>
                  <a:lnTo>
                    <a:pt x="15" y="26"/>
                  </a:lnTo>
                  <a:lnTo>
                    <a:pt x="16" y="30"/>
                  </a:lnTo>
                  <a:lnTo>
                    <a:pt x="18" y="33"/>
                  </a:lnTo>
                  <a:lnTo>
                    <a:pt x="21" y="35"/>
                  </a:lnTo>
                  <a:lnTo>
                    <a:pt x="24" y="37"/>
                  </a:lnTo>
                  <a:lnTo>
                    <a:pt x="28" y="38"/>
                  </a:lnTo>
                  <a:lnTo>
                    <a:pt x="33" y="39"/>
                  </a:lnTo>
                  <a:lnTo>
                    <a:pt x="38" y="39"/>
                  </a:lnTo>
                  <a:lnTo>
                    <a:pt x="43" y="39"/>
                  </a:lnTo>
                  <a:lnTo>
                    <a:pt x="47" y="38"/>
                  </a:lnTo>
                  <a:lnTo>
                    <a:pt x="51" y="37"/>
                  </a:lnTo>
                  <a:lnTo>
                    <a:pt x="54" y="35"/>
                  </a:lnTo>
                  <a:lnTo>
                    <a:pt x="57" y="32"/>
                  </a:lnTo>
                  <a:lnTo>
                    <a:pt x="60" y="29"/>
                  </a:lnTo>
                  <a:lnTo>
                    <a:pt x="61" y="26"/>
                  </a:lnTo>
                  <a:lnTo>
                    <a:pt x="61" y="22"/>
                  </a:lnTo>
                  <a:lnTo>
                    <a:pt x="61" y="18"/>
                  </a:lnTo>
                  <a:lnTo>
                    <a:pt x="60" y="15"/>
                  </a:lnTo>
                  <a:lnTo>
                    <a:pt x="57" y="12"/>
                  </a:lnTo>
                  <a:lnTo>
                    <a:pt x="54" y="10"/>
                  </a:lnTo>
                  <a:lnTo>
                    <a:pt x="51" y="8"/>
                  </a:lnTo>
                  <a:lnTo>
                    <a:pt x="47" y="7"/>
                  </a:lnTo>
                  <a:lnTo>
                    <a:pt x="43" y="6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6" y="15"/>
                  </a:lnTo>
                  <a:lnTo>
                    <a:pt x="15" y="19"/>
                  </a:lnTo>
                  <a:lnTo>
                    <a:pt x="15" y="23"/>
                  </a:lnTo>
                  <a:close/>
                  <a:moveTo>
                    <a:pt x="0" y="23"/>
                  </a:moveTo>
                  <a:lnTo>
                    <a:pt x="1" y="17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3" y="5"/>
                  </a:lnTo>
                  <a:lnTo>
                    <a:pt x="18" y="2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5" y="5"/>
                  </a:lnTo>
                  <a:lnTo>
                    <a:pt x="69" y="9"/>
                  </a:lnTo>
                  <a:lnTo>
                    <a:pt x="72" y="12"/>
                  </a:lnTo>
                  <a:lnTo>
                    <a:pt x="74" y="17"/>
                  </a:lnTo>
                  <a:lnTo>
                    <a:pt x="75" y="22"/>
                  </a:lnTo>
                  <a:lnTo>
                    <a:pt x="74" y="26"/>
                  </a:lnTo>
                  <a:lnTo>
                    <a:pt x="74" y="29"/>
                  </a:lnTo>
                  <a:lnTo>
                    <a:pt x="72" y="32"/>
                  </a:lnTo>
                  <a:lnTo>
                    <a:pt x="70" y="35"/>
                  </a:lnTo>
                  <a:lnTo>
                    <a:pt x="68" y="38"/>
                  </a:lnTo>
                  <a:lnTo>
                    <a:pt x="65" y="39"/>
                  </a:lnTo>
                  <a:lnTo>
                    <a:pt x="61" y="41"/>
                  </a:lnTo>
                  <a:lnTo>
                    <a:pt x="57" y="43"/>
                  </a:lnTo>
                  <a:lnTo>
                    <a:pt x="52" y="44"/>
                  </a:lnTo>
                  <a:lnTo>
                    <a:pt x="47" y="45"/>
                  </a:lnTo>
                  <a:lnTo>
                    <a:pt x="43" y="45"/>
                  </a:lnTo>
                  <a:lnTo>
                    <a:pt x="38" y="45"/>
                  </a:lnTo>
                  <a:lnTo>
                    <a:pt x="29" y="45"/>
                  </a:lnTo>
                  <a:lnTo>
                    <a:pt x="22" y="44"/>
                  </a:lnTo>
                  <a:lnTo>
                    <a:pt x="16" y="42"/>
                  </a:lnTo>
                  <a:lnTo>
                    <a:pt x="11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1" y="2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582800" y="2865600"/>
              <a:ext cx="23400" cy="154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0" y="45"/>
                  </a:moveTo>
                  <a:lnTo>
                    <a:pt x="0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6" y="3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0" y="1"/>
                  </a:lnTo>
                  <a:lnTo>
                    <a:pt x="52" y="1"/>
                  </a:lnTo>
                  <a:lnTo>
                    <a:pt x="56" y="3"/>
                  </a:lnTo>
                  <a:lnTo>
                    <a:pt x="58" y="3"/>
                  </a:lnTo>
                  <a:lnTo>
                    <a:pt x="59" y="5"/>
                  </a:lnTo>
                  <a:lnTo>
                    <a:pt x="60" y="6"/>
                  </a:lnTo>
                  <a:lnTo>
                    <a:pt x="61" y="7"/>
                  </a:lnTo>
                  <a:lnTo>
                    <a:pt x="62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3" y="13"/>
                  </a:lnTo>
                  <a:lnTo>
                    <a:pt x="63" y="15"/>
                  </a:lnTo>
                  <a:lnTo>
                    <a:pt x="64" y="18"/>
                  </a:lnTo>
                  <a:lnTo>
                    <a:pt x="64" y="45"/>
                  </a:lnTo>
                  <a:lnTo>
                    <a:pt x="50" y="45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50" y="14"/>
                  </a:lnTo>
                  <a:lnTo>
                    <a:pt x="49" y="12"/>
                  </a:lnTo>
                  <a:lnTo>
                    <a:pt x="49" y="11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3" y="7"/>
                  </a:lnTo>
                  <a:lnTo>
                    <a:pt x="41" y="7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61160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5" h="46">
                  <a:moveTo>
                    <a:pt x="56" y="23"/>
                  </a:moveTo>
                  <a:lnTo>
                    <a:pt x="51" y="23"/>
                  </a:lnTo>
                  <a:lnTo>
                    <a:pt x="47" y="24"/>
                  </a:lnTo>
                  <a:lnTo>
                    <a:pt x="40" y="25"/>
                  </a:lnTo>
                  <a:lnTo>
                    <a:pt x="33" y="25"/>
                  </a:lnTo>
                  <a:lnTo>
                    <a:pt x="29" y="25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8"/>
                  </a:lnTo>
                  <a:lnTo>
                    <a:pt x="16" y="29"/>
                  </a:lnTo>
                  <a:lnTo>
                    <a:pt x="15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5"/>
                  </a:lnTo>
                  <a:lnTo>
                    <a:pt x="16" y="36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3" y="39"/>
                  </a:lnTo>
                  <a:lnTo>
                    <a:pt x="26" y="39"/>
                  </a:lnTo>
                  <a:lnTo>
                    <a:pt x="31" y="39"/>
                  </a:lnTo>
                  <a:lnTo>
                    <a:pt x="34" y="39"/>
                  </a:lnTo>
                  <a:lnTo>
                    <a:pt x="38" y="39"/>
                  </a:lnTo>
                  <a:lnTo>
                    <a:pt x="41" y="38"/>
                  </a:lnTo>
                  <a:lnTo>
                    <a:pt x="45" y="38"/>
                  </a:lnTo>
                  <a:lnTo>
                    <a:pt x="47" y="37"/>
                  </a:lnTo>
                  <a:lnTo>
                    <a:pt x="50" y="36"/>
                  </a:lnTo>
                  <a:lnTo>
                    <a:pt x="52" y="34"/>
                  </a:lnTo>
                  <a:lnTo>
                    <a:pt x="54" y="33"/>
                  </a:lnTo>
                  <a:lnTo>
                    <a:pt x="54" y="31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6" y="25"/>
                  </a:lnTo>
                  <a:lnTo>
                    <a:pt x="56" y="23"/>
                  </a:lnTo>
                  <a:close/>
                  <a:moveTo>
                    <a:pt x="57" y="39"/>
                  </a:moveTo>
                  <a:lnTo>
                    <a:pt x="53" y="40"/>
                  </a:lnTo>
                  <a:lnTo>
                    <a:pt x="49" y="42"/>
                  </a:lnTo>
                  <a:lnTo>
                    <a:pt x="46" y="43"/>
                  </a:lnTo>
                  <a:lnTo>
                    <a:pt x="43" y="44"/>
                  </a:lnTo>
                  <a:lnTo>
                    <a:pt x="39" y="44"/>
                  </a:lnTo>
                  <a:lnTo>
                    <a:pt x="35" y="45"/>
                  </a:lnTo>
                  <a:lnTo>
                    <a:pt x="31" y="45"/>
                  </a:lnTo>
                  <a:lnTo>
                    <a:pt x="27" y="45"/>
                  </a:lnTo>
                  <a:lnTo>
                    <a:pt x="21" y="45"/>
                  </a:lnTo>
                  <a:lnTo>
                    <a:pt x="15" y="44"/>
                  </a:lnTo>
                  <a:lnTo>
                    <a:pt x="11" y="43"/>
                  </a:lnTo>
                  <a:lnTo>
                    <a:pt x="7" y="42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7" y="23"/>
                  </a:lnTo>
                  <a:lnTo>
                    <a:pt x="10" y="23"/>
                  </a:lnTo>
                  <a:lnTo>
                    <a:pt x="12" y="22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0" y="20"/>
                  </a:lnTo>
                  <a:lnTo>
                    <a:pt x="22" y="20"/>
                  </a:lnTo>
                  <a:lnTo>
                    <a:pt x="24" y="19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40" y="19"/>
                  </a:lnTo>
                  <a:lnTo>
                    <a:pt x="46" y="18"/>
                  </a:lnTo>
                  <a:lnTo>
                    <a:pt x="51" y="17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2"/>
                  </a:lnTo>
                  <a:lnTo>
                    <a:pt x="55" y="11"/>
                  </a:lnTo>
                  <a:lnTo>
                    <a:pt x="54" y="9"/>
                  </a:lnTo>
                  <a:lnTo>
                    <a:pt x="52" y="9"/>
                  </a:lnTo>
                  <a:lnTo>
                    <a:pt x="49" y="7"/>
                  </a:lnTo>
                  <a:lnTo>
                    <a:pt x="45" y="7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8" y="6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3" y="3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0" y="2"/>
                  </a:lnTo>
                  <a:lnTo>
                    <a:pt x="63" y="3"/>
                  </a:lnTo>
                  <a:lnTo>
                    <a:pt x="65" y="4"/>
                  </a:lnTo>
                  <a:lnTo>
                    <a:pt x="66" y="5"/>
                  </a:lnTo>
                  <a:lnTo>
                    <a:pt x="67" y="6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69" y="10"/>
                  </a:lnTo>
                  <a:lnTo>
                    <a:pt x="69" y="12"/>
                  </a:lnTo>
                  <a:lnTo>
                    <a:pt x="69" y="14"/>
                  </a:lnTo>
                  <a:lnTo>
                    <a:pt x="69" y="16"/>
                  </a:lnTo>
                  <a:lnTo>
                    <a:pt x="69" y="26"/>
                  </a:lnTo>
                  <a:lnTo>
                    <a:pt x="69" y="31"/>
                  </a:lnTo>
                  <a:lnTo>
                    <a:pt x="69" y="34"/>
                  </a:lnTo>
                  <a:lnTo>
                    <a:pt x="70" y="37"/>
                  </a:lnTo>
                  <a:lnTo>
                    <a:pt x="71" y="39"/>
                  </a:lnTo>
                  <a:lnTo>
                    <a:pt x="71" y="40"/>
                  </a:lnTo>
                  <a:lnTo>
                    <a:pt x="71" y="41"/>
                  </a:lnTo>
                  <a:lnTo>
                    <a:pt x="72" y="43"/>
                  </a:lnTo>
                  <a:lnTo>
                    <a:pt x="74" y="45"/>
                  </a:lnTo>
                  <a:lnTo>
                    <a:pt x="60" y="45"/>
                  </a:lnTo>
                  <a:lnTo>
                    <a:pt x="58" y="43"/>
                  </a:lnTo>
                  <a:lnTo>
                    <a:pt x="58" y="42"/>
                  </a:lnTo>
                  <a:lnTo>
                    <a:pt x="57" y="40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643280" y="285912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2">
                  <a:moveTo>
                    <a:pt x="0" y="61"/>
                  </a:moveTo>
                  <a:lnTo>
                    <a:pt x="0" y="17"/>
                  </a:lnTo>
                  <a:lnTo>
                    <a:pt x="14" y="17"/>
                  </a:lnTo>
                  <a:lnTo>
                    <a:pt x="14" y="61"/>
                  </a:lnTo>
                  <a:lnTo>
                    <a:pt x="0" y="61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54440" y="2865600"/>
              <a:ext cx="23400" cy="15480"/>
            </a:xfrm>
            <a:custGeom>
              <a:avLst/>
              <a:gdLst/>
              <a:ahLst/>
              <a:rect l="l" t="t" r="r" b="b"/>
              <a:pathLst>
                <a:path w="67" h="46">
                  <a:moveTo>
                    <a:pt x="0" y="31"/>
                  </a:moveTo>
                  <a:lnTo>
                    <a:pt x="14" y="30"/>
                  </a:lnTo>
                  <a:lnTo>
                    <a:pt x="15" y="32"/>
                  </a:lnTo>
                  <a:lnTo>
                    <a:pt x="16" y="34"/>
                  </a:lnTo>
                  <a:lnTo>
                    <a:pt x="18" y="35"/>
                  </a:lnTo>
                  <a:lnTo>
                    <a:pt x="20" y="37"/>
                  </a:lnTo>
                  <a:lnTo>
                    <a:pt x="23" y="38"/>
                  </a:lnTo>
                  <a:lnTo>
                    <a:pt x="26" y="39"/>
                  </a:lnTo>
                  <a:lnTo>
                    <a:pt x="29" y="39"/>
                  </a:lnTo>
                  <a:lnTo>
                    <a:pt x="34" y="39"/>
                  </a:lnTo>
                  <a:lnTo>
                    <a:pt x="38" y="39"/>
                  </a:lnTo>
                  <a:lnTo>
                    <a:pt x="42" y="39"/>
                  </a:lnTo>
                  <a:lnTo>
                    <a:pt x="45" y="38"/>
                  </a:lnTo>
                  <a:lnTo>
                    <a:pt x="48" y="37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3"/>
                  </a:lnTo>
                  <a:lnTo>
                    <a:pt x="52" y="32"/>
                  </a:lnTo>
                  <a:lnTo>
                    <a:pt x="52" y="31"/>
                  </a:lnTo>
                  <a:lnTo>
                    <a:pt x="51" y="30"/>
                  </a:lnTo>
                  <a:lnTo>
                    <a:pt x="50" y="29"/>
                  </a:lnTo>
                  <a:lnTo>
                    <a:pt x="48" y="28"/>
                  </a:lnTo>
                  <a:lnTo>
                    <a:pt x="45" y="28"/>
                  </a:lnTo>
                  <a:lnTo>
                    <a:pt x="43" y="27"/>
                  </a:lnTo>
                  <a:lnTo>
                    <a:pt x="39" y="27"/>
                  </a:lnTo>
                  <a:lnTo>
                    <a:pt x="34" y="26"/>
                  </a:lnTo>
                  <a:lnTo>
                    <a:pt x="27" y="25"/>
                  </a:lnTo>
                  <a:lnTo>
                    <a:pt x="22" y="24"/>
                  </a:lnTo>
                  <a:lnTo>
                    <a:pt x="18" y="23"/>
                  </a:lnTo>
                  <a:lnTo>
                    <a:pt x="14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4" y="3"/>
                  </a:lnTo>
                  <a:lnTo>
                    <a:pt x="56" y="4"/>
                  </a:lnTo>
                  <a:lnTo>
                    <a:pt x="59" y="5"/>
                  </a:lnTo>
                  <a:lnTo>
                    <a:pt x="60" y="7"/>
                  </a:lnTo>
                  <a:lnTo>
                    <a:pt x="61" y="8"/>
                  </a:lnTo>
                  <a:lnTo>
                    <a:pt x="62" y="10"/>
                  </a:lnTo>
                  <a:lnTo>
                    <a:pt x="63" y="12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47" y="10"/>
                  </a:lnTo>
                  <a:lnTo>
                    <a:pt x="46" y="9"/>
                  </a:lnTo>
                  <a:lnTo>
                    <a:pt x="45" y="8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20" y="15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9" y="17"/>
                  </a:lnTo>
                  <a:lnTo>
                    <a:pt x="34" y="18"/>
                  </a:lnTo>
                  <a:lnTo>
                    <a:pt x="40" y="19"/>
                  </a:lnTo>
                  <a:lnTo>
                    <a:pt x="45" y="19"/>
                  </a:lnTo>
                  <a:lnTo>
                    <a:pt x="50" y="20"/>
                  </a:lnTo>
                  <a:lnTo>
                    <a:pt x="54" y="21"/>
                  </a:lnTo>
                  <a:lnTo>
                    <a:pt x="56" y="22"/>
                  </a:lnTo>
                  <a:lnTo>
                    <a:pt x="59" y="23"/>
                  </a:lnTo>
                  <a:lnTo>
                    <a:pt x="61" y="24"/>
                  </a:lnTo>
                  <a:lnTo>
                    <a:pt x="63" y="25"/>
                  </a:lnTo>
                  <a:lnTo>
                    <a:pt x="64" y="27"/>
                  </a:lnTo>
                  <a:lnTo>
                    <a:pt x="65" y="28"/>
                  </a:lnTo>
                  <a:lnTo>
                    <a:pt x="65" y="30"/>
                  </a:lnTo>
                  <a:lnTo>
                    <a:pt x="66" y="32"/>
                  </a:lnTo>
                  <a:lnTo>
                    <a:pt x="65" y="33"/>
                  </a:lnTo>
                  <a:lnTo>
                    <a:pt x="65" y="35"/>
                  </a:lnTo>
                  <a:lnTo>
                    <a:pt x="63" y="37"/>
                  </a:lnTo>
                  <a:lnTo>
                    <a:pt x="63" y="39"/>
                  </a:lnTo>
                  <a:lnTo>
                    <a:pt x="60" y="40"/>
                  </a:lnTo>
                  <a:lnTo>
                    <a:pt x="57" y="41"/>
                  </a:lnTo>
                  <a:lnTo>
                    <a:pt x="54" y="43"/>
                  </a:lnTo>
                  <a:lnTo>
                    <a:pt x="51" y="43"/>
                  </a:lnTo>
                  <a:lnTo>
                    <a:pt x="47" y="44"/>
                  </a:lnTo>
                  <a:lnTo>
                    <a:pt x="43" y="45"/>
                  </a:lnTo>
                  <a:lnTo>
                    <a:pt x="38" y="45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44"/>
                  </a:lnTo>
                  <a:lnTo>
                    <a:pt x="15" y="43"/>
                  </a:lnTo>
                  <a:lnTo>
                    <a:pt x="11" y="42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1" y="34"/>
                  </a:lnTo>
                  <a:lnTo>
                    <a:pt x="0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451880" y="1260360"/>
              <a:ext cx="53640" cy="42480"/>
            </a:xfrm>
            <a:custGeom>
              <a:avLst/>
              <a:gdLst/>
              <a:ahLst/>
              <a:rect l="l" t="t" r="r" b="b"/>
              <a:pathLst>
                <a:path w="148" h="121">
                  <a:moveTo>
                    <a:pt x="0" y="120"/>
                  </a:moveTo>
                  <a:lnTo>
                    <a:pt x="0" y="0"/>
                  </a:lnTo>
                  <a:lnTo>
                    <a:pt x="43" y="0"/>
                  </a:lnTo>
                  <a:lnTo>
                    <a:pt x="43" y="100"/>
                  </a:lnTo>
                  <a:lnTo>
                    <a:pt x="147" y="100"/>
                  </a:lnTo>
                  <a:lnTo>
                    <a:pt x="147" y="120"/>
                  </a:lnTo>
                  <a:lnTo>
                    <a:pt x="0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513800" y="1260360"/>
              <a:ext cx="15480" cy="1872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3" y="0"/>
                  </a:moveTo>
                  <a:lnTo>
                    <a:pt x="43" y="0"/>
                  </a:lnTo>
                  <a:lnTo>
                    <a:pt x="43" y="17"/>
                  </a:lnTo>
                  <a:lnTo>
                    <a:pt x="42" y="21"/>
                  </a:lnTo>
                  <a:lnTo>
                    <a:pt x="41" y="25"/>
                  </a:lnTo>
                  <a:lnTo>
                    <a:pt x="41" y="29"/>
                  </a:lnTo>
                  <a:lnTo>
                    <a:pt x="39" y="32"/>
                  </a:lnTo>
                  <a:lnTo>
                    <a:pt x="38" y="35"/>
                  </a:lnTo>
                  <a:lnTo>
                    <a:pt x="35" y="38"/>
                  </a:lnTo>
                  <a:lnTo>
                    <a:pt x="32" y="41"/>
                  </a:lnTo>
                  <a:lnTo>
                    <a:pt x="29" y="43"/>
                  </a:lnTo>
                  <a:lnTo>
                    <a:pt x="23" y="45"/>
                  </a:lnTo>
                  <a:lnTo>
                    <a:pt x="18" y="47"/>
                  </a:lnTo>
                  <a:lnTo>
                    <a:pt x="12" y="49"/>
                  </a:lnTo>
                  <a:lnTo>
                    <a:pt x="7" y="50"/>
                  </a:lnTo>
                  <a:lnTo>
                    <a:pt x="0" y="41"/>
                  </a:lnTo>
                  <a:lnTo>
                    <a:pt x="5" y="40"/>
                  </a:lnTo>
                  <a:lnTo>
                    <a:pt x="9" y="38"/>
                  </a:lnTo>
                  <a:lnTo>
                    <a:pt x="13" y="36"/>
                  </a:lnTo>
                  <a:lnTo>
                    <a:pt x="17" y="34"/>
                  </a:lnTo>
                  <a:lnTo>
                    <a:pt x="19" y="32"/>
                  </a:lnTo>
                  <a:lnTo>
                    <a:pt x="20" y="30"/>
                  </a:lnTo>
                  <a:lnTo>
                    <a:pt x="21" y="27"/>
                  </a:lnTo>
                  <a:lnTo>
                    <a:pt x="22" y="23"/>
                  </a:lnTo>
                  <a:lnTo>
                    <a:pt x="3" y="23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544040" y="1260360"/>
              <a:ext cx="56520" cy="44280"/>
            </a:xfrm>
            <a:custGeom>
              <a:avLst/>
              <a:gdLst/>
              <a:ahLst/>
              <a:rect l="l" t="t" r="r" b="b"/>
              <a:pathLst>
                <a:path w="159" h="122">
                  <a:moveTo>
                    <a:pt x="0" y="121"/>
                  </a:moveTo>
                  <a:lnTo>
                    <a:pt x="0" y="0"/>
                  </a:lnTo>
                  <a:lnTo>
                    <a:pt x="155" y="0"/>
                  </a:lnTo>
                  <a:lnTo>
                    <a:pt x="155" y="20"/>
                  </a:lnTo>
                  <a:lnTo>
                    <a:pt x="42" y="20"/>
                  </a:lnTo>
                  <a:lnTo>
                    <a:pt x="42" y="47"/>
                  </a:lnTo>
                  <a:lnTo>
                    <a:pt x="147" y="47"/>
                  </a:lnTo>
                  <a:lnTo>
                    <a:pt x="147" y="68"/>
                  </a:lnTo>
                  <a:lnTo>
                    <a:pt x="42" y="68"/>
                  </a:lnTo>
                  <a:lnTo>
                    <a:pt x="42" y="101"/>
                  </a:lnTo>
                  <a:lnTo>
                    <a:pt x="158" y="101"/>
                  </a:lnTo>
                  <a:lnTo>
                    <a:pt x="158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613880" y="1260360"/>
              <a:ext cx="59760" cy="44280"/>
            </a:xfrm>
            <a:custGeom>
              <a:avLst/>
              <a:gdLst/>
              <a:ahLst/>
              <a:rect l="l" t="t" r="r" b="b"/>
              <a:pathLst>
                <a:path w="167" h="125">
                  <a:moveTo>
                    <a:pt x="0" y="0"/>
                  </a:moveTo>
                  <a:lnTo>
                    <a:pt x="42" y="0"/>
                  </a:lnTo>
                  <a:lnTo>
                    <a:pt x="42" y="66"/>
                  </a:lnTo>
                  <a:lnTo>
                    <a:pt x="42" y="73"/>
                  </a:lnTo>
                  <a:lnTo>
                    <a:pt x="42" y="79"/>
                  </a:lnTo>
                  <a:lnTo>
                    <a:pt x="43" y="83"/>
                  </a:lnTo>
                  <a:lnTo>
                    <a:pt x="44" y="87"/>
                  </a:lnTo>
                  <a:lnTo>
                    <a:pt x="45" y="90"/>
                  </a:lnTo>
                  <a:lnTo>
                    <a:pt x="47" y="93"/>
                  </a:lnTo>
                  <a:lnTo>
                    <a:pt x="51" y="96"/>
                  </a:lnTo>
                  <a:lnTo>
                    <a:pt x="56" y="98"/>
                  </a:lnTo>
                  <a:lnTo>
                    <a:pt x="62" y="100"/>
                  </a:lnTo>
                  <a:lnTo>
                    <a:pt x="69" y="102"/>
                  </a:lnTo>
                  <a:lnTo>
                    <a:pt x="75" y="103"/>
                  </a:lnTo>
                  <a:lnTo>
                    <a:pt x="84" y="103"/>
                  </a:lnTo>
                  <a:lnTo>
                    <a:pt x="92" y="103"/>
                  </a:lnTo>
                  <a:lnTo>
                    <a:pt x="99" y="102"/>
                  </a:lnTo>
                  <a:lnTo>
                    <a:pt x="105" y="101"/>
                  </a:lnTo>
                  <a:lnTo>
                    <a:pt x="111" y="99"/>
                  </a:lnTo>
                  <a:lnTo>
                    <a:pt x="115" y="97"/>
                  </a:lnTo>
                  <a:lnTo>
                    <a:pt x="118" y="94"/>
                  </a:lnTo>
                  <a:lnTo>
                    <a:pt x="120" y="91"/>
                  </a:lnTo>
                  <a:lnTo>
                    <a:pt x="122" y="88"/>
                  </a:lnTo>
                  <a:lnTo>
                    <a:pt x="123" y="85"/>
                  </a:lnTo>
                  <a:lnTo>
                    <a:pt x="123" y="80"/>
                  </a:lnTo>
                  <a:lnTo>
                    <a:pt x="123" y="74"/>
                  </a:lnTo>
                  <a:lnTo>
                    <a:pt x="124" y="68"/>
                  </a:lnTo>
                  <a:lnTo>
                    <a:pt x="124" y="0"/>
                  </a:lnTo>
                  <a:lnTo>
                    <a:pt x="166" y="0"/>
                  </a:lnTo>
                  <a:lnTo>
                    <a:pt x="166" y="64"/>
                  </a:lnTo>
                  <a:lnTo>
                    <a:pt x="165" y="74"/>
                  </a:lnTo>
                  <a:lnTo>
                    <a:pt x="164" y="82"/>
                  </a:lnTo>
                  <a:lnTo>
                    <a:pt x="164" y="89"/>
                  </a:lnTo>
                  <a:lnTo>
                    <a:pt x="163" y="95"/>
                  </a:lnTo>
                  <a:lnTo>
                    <a:pt x="160" y="99"/>
                  </a:lnTo>
                  <a:lnTo>
                    <a:pt x="157" y="103"/>
                  </a:lnTo>
                  <a:lnTo>
                    <a:pt x="154" y="107"/>
                  </a:lnTo>
                  <a:lnTo>
                    <a:pt x="150" y="110"/>
                  </a:lnTo>
                  <a:lnTo>
                    <a:pt x="144" y="113"/>
                  </a:lnTo>
                  <a:lnTo>
                    <a:pt x="139" y="116"/>
                  </a:lnTo>
                  <a:lnTo>
                    <a:pt x="132" y="118"/>
                  </a:lnTo>
                  <a:lnTo>
                    <a:pt x="125" y="120"/>
                  </a:lnTo>
                  <a:lnTo>
                    <a:pt x="117" y="121"/>
                  </a:lnTo>
                  <a:lnTo>
                    <a:pt x="107" y="122"/>
                  </a:lnTo>
                  <a:lnTo>
                    <a:pt x="97" y="123"/>
                  </a:lnTo>
                  <a:lnTo>
                    <a:pt x="85" y="124"/>
                  </a:lnTo>
                  <a:lnTo>
                    <a:pt x="72" y="123"/>
                  </a:lnTo>
                  <a:lnTo>
                    <a:pt x="59" y="122"/>
                  </a:lnTo>
                  <a:lnTo>
                    <a:pt x="49" y="121"/>
                  </a:lnTo>
                  <a:lnTo>
                    <a:pt x="41" y="119"/>
                  </a:lnTo>
                  <a:lnTo>
                    <a:pt x="33" y="117"/>
                  </a:lnTo>
                  <a:lnTo>
                    <a:pt x="26" y="115"/>
                  </a:lnTo>
                  <a:lnTo>
                    <a:pt x="20" y="112"/>
                  </a:lnTo>
                  <a:lnTo>
                    <a:pt x="16" y="109"/>
                  </a:lnTo>
                  <a:lnTo>
                    <a:pt x="12" y="106"/>
                  </a:lnTo>
                  <a:lnTo>
                    <a:pt x="8" y="102"/>
                  </a:lnTo>
                  <a:lnTo>
                    <a:pt x="6" y="99"/>
                  </a:lnTo>
                  <a:lnTo>
                    <a:pt x="4" y="96"/>
                  </a:lnTo>
                  <a:lnTo>
                    <a:pt x="2" y="90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689840" y="1260360"/>
              <a:ext cx="68040" cy="44280"/>
            </a:xfrm>
            <a:custGeom>
              <a:avLst/>
              <a:gdLst/>
              <a:ahLst/>
              <a:rect l="l" t="t" r="r" b="b"/>
              <a:pathLst>
                <a:path w="188" h="122">
                  <a:moveTo>
                    <a:pt x="43" y="51"/>
                  </a:moveTo>
                  <a:lnTo>
                    <a:pt x="73" y="51"/>
                  </a:lnTo>
                  <a:lnTo>
                    <a:pt x="87" y="51"/>
                  </a:lnTo>
                  <a:lnTo>
                    <a:pt x="98" y="51"/>
                  </a:lnTo>
                  <a:lnTo>
                    <a:pt x="106" y="50"/>
                  </a:lnTo>
                  <a:lnTo>
                    <a:pt x="111" y="50"/>
                  </a:lnTo>
                  <a:lnTo>
                    <a:pt x="115" y="49"/>
                  </a:lnTo>
                  <a:lnTo>
                    <a:pt x="117" y="47"/>
                  </a:lnTo>
                  <a:lnTo>
                    <a:pt x="120" y="46"/>
                  </a:lnTo>
                  <a:lnTo>
                    <a:pt x="123" y="45"/>
                  </a:lnTo>
                  <a:lnTo>
                    <a:pt x="125" y="42"/>
                  </a:lnTo>
                  <a:lnTo>
                    <a:pt x="126" y="40"/>
                  </a:lnTo>
                  <a:lnTo>
                    <a:pt x="127" y="38"/>
                  </a:lnTo>
                  <a:lnTo>
                    <a:pt x="127" y="36"/>
                  </a:lnTo>
                  <a:lnTo>
                    <a:pt x="127" y="32"/>
                  </a:lnTo>
                  <a:lnTo>
                    <a:pt x="126" y="30"/>
                  </a:lnTo>
                  <a:lnTo>
                    <a:pt x="124" y="27"/>
                  </a:lnTo>
                  <a:lnTo>
                    <a:pt x="122" y="25"/>
                  </a:lnTo>
                  <a:lnTo>
                    <a:pt x="118" y="24"/>
                  </a:lnTo>
                  <a:lnTo>
                    <a:pt x="115" y="22"/>
                  </a:lnTo>
                  <a:lnTo>
                    <a:pt x="110" y="21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5" y="20"/>
                  </a:lnTo>
                  <a:lnTo>
                    <a:pt x="86" y="20"/>
                  </a:lnTo>
                  <a:lnTo>
                    <a:pt x="75" y="20"/>
                  </a:lnTo>
                  <a:lnTo>
                    <a:pt x="43" y="20"/>
                  </a:lnTo>
                  <a:lnTo>
                    <a:pt x="43" y="51"/>
                  </a:lnTo>
                  <a:close/>
                  <a:moveTo>
                    <a:pt x="0" y="121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104" y="0"/>
                  </a:lnTo>
                  <a:lnTo>
                    <a:pt x="117" y="1"/>
                  </a:lnTo>
                  <a:lnTo>
                    <a:pt x="128" y="2"/>
                  </a:lnTo>
                  <a:lnTo>
                    <a:pt x="137" y="3"/>
                  </a:lnTo>
                  <a:lnTo>
                    <a:pt x="144" y="5"/>
                  </a:lnTo>
                  <a:lnTo>
                    <a:pt x="151" y="8"/>
                  </a:lnTo>
                  <a:lnTo>
                    <a:pt x="156" y="11"/>
                  </a:lnTo>
                  <a:lnTo>
                    <a:pt x="162" y="14"/>
                  </a:lnTo>
                  <a:lnTo>
                    <a:pt x="165" y="19"/>
                  </a:lnTo>
                  <a:lnTo>
                    <a:pt x="168" y="23"/>
                  </a:lnTo>
                  <a:lnTo>
                    <a:pt x="170" y="29"/>
                  </a:lnTo>
                  <a:lnTo>
                    <a:pt x="171" y="34"/>
                  </a:lnTo>
                  <a:lnTo>
                    <a:pt x="169" y="40"/>
                  </a:lnTo>
                  <a:lnTo>
                    <a:pt x="167" y="46"/>
                  </a:lnTo>
                  <a:lnTo>
                    <a:pt x="163" y="52"/>
                  </a:lnTo>
                  <a:lnTo>
                    <a:pt x="157" y="56"/>
                  </a:lnTo>
                  <a:lnTo>
                    <a:pt x="149" y="60"/>
                  </a:lnTo>
                  <a:lnTo>
                    <a:pt x="140" y="64"/>
                  </a:lnTo>
                  <a:lnTo>
                    <a:pt x="129" y="66"/>
                  </a:lnTo>
                  <a:lnTo>
                    <a:pt x="117" y="68"/>
                  </a:lnTo>
                  <a:lnTo>
                    <a:pt x="123" y="70"/>
                  </a:lnTo>
                  <a:lnTo>
                    <a:pt x="128" y="72"/>
                  </a:lnTo>
                  <a:lnTo>
                    <a:pt x="133" y="75"/>
                  </a:lnTo>
                  <a:lnTo>
                    <a:pt x="138" y="78"/>
                  </a:lnTo>
                  <a:lnTo>
                    <a:pt x="143" y="81"/>
                  </a:lnTo>
                  <a:lnTo>
                    <a:pt x="149" y="86"/>
                  </a:lnTo>
                  <a:lnTo>
                    <a:pt x="155" y="91"/>
                  </a:lnTo>
                  <a:lnTo>
                    <a:pt x="162" y="98"/>
                  </a:lnTo>
                  <a:lnTo>
                    <a:pt x="187" y="121"/>
                  </a:lnTo>
                  <a:lnTo>
                    <a:pt x="138" y="121"/>
                  </a:lnTo>
                  <a:lnTo>
                    <a:pt x="108" y="95"/>
                  </a:lnTo>
                  <a:lnTo>
                    <a:pt x="100" y="88"/>
                  </a:lnTo>
                  <a:lnTo>
                    <a:pt x="94" y="83"/>
                  </a:lnTo>
                  <a:lnTo>
                    <a:pt x="89" y="79"/>
                  </a:lnTo>
                  <a:lnTo>
                    <a:pt x="86" y="77"/>
                  </a:lnTo>
                  <a:lnTo>
                    <a:pt x="82" y="75"/>
                  </a:lnTo>
                  <a:lnTo>
                    <a:pt x="79" y="74"/>
                  </a:lnTo>
                  <a:lnTo>
                    <a:pt x="75" y="72"/>
                  </a:lnTo>
                  <a:lnTo>
                    <a:pt x="73" y="72"/>
                  </a:lnTo>
                  <a:lnTo>
                    <a:pt x="68" y="71"/>
                  </a:lnTo>
                  <a:lnTo>
                    <a:pt x="64" y="70"/>
                  </a:lnTo>
                  <a:lnTo>
                    <a:pt x="57" y="70"/>
                  </a:lnTo>
                  <a:lnTo>
                    <a:pt x="51" y="70"/>
                  </a:lnTo>
                  <a:lnTo>
                    <a:pt x="43" y="70"/>
                  </a:lnTo>
                  <a:lnTo>
                    <a:pt x="43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762920" y="1260360"/>
              <a:ext cx="72720" cy="45720"/>
            </a:xfrm>
            <a:custGeom>
              <a:avLst/>
              <a:gdLst/>
              <a:ahLst/>
              <a:rect l="l" t="t" r="r" b="b"/>
              <a:pathLst>
                <a:path w="203" h="127">
                  <a:moveTo>
                    <a:pt x="43" y="63"/>
                  </a:moveTo>
                  <a:lnTo>
                    <a:pt x="44" y="72"/>
                  </a:lnTo>
                  <a:lnTo>
                    <a:pt x="47" y="81"/>
                  </a:lnTo>
                  <a:lnTo>
                    <a:pt x="52" y="88"/>
                  </a:lnTo>
                  <a:lnTo>
                    <a:pt x="59" y="94"/>
                  </a:lnTo>
                  <a:lnTo>
                    <a:pt x="68" y="99"/>
                  </a:lnTo>
                  <a:lnTo>
                    <a:pt x="78" y="102"/>
                  </a:lnTo>
                  <a:lnTo>
                    <a:pt x="88" y="104"/>
                  </a:lnTo>
                  <a:lnTo>
                    <a:pt x="101" y="105"/>
                  </a:lnTo>
                  <a:lnTo>
                    <a:pt x="113" y="104"/>
                  </a:lnTo>
                  <a:lnTo>
                    <a:pt x="124" y="102"/>
                  </a:lnTo>
                  <a:lnTo>
                    <a:pt x="135" y="99"/>
                  </a:lnTo>
                  <a:lnTo>
                    <a:pt x="143" y="94"/>
                  </a:lnTo>
                  <a:lnTo>
                    <a:pt x="150" y="88"/>
                  </a:lnTo>
                  <a:lnTo>
                    <a:pt x="154" y="81"/>
                  </a:lnTo>
                  <a:lnTo>
                    <a:pt x="158" y="72"/>
                  </a:lnTo>
                  <a:lnTo>
                    <a:pt x="159" y="62"/>
                  </a:lnTo>
                  <a:lnTo>
                    <a:pt x="158" y="52"/>
                  </a:lnTo>
                  <a:lnTo>
                    <a:pt x="154" y="44"/>
                  </a:lnTo>
                  <a:lnTo>
                    <a:pt x="150" y="36"/>
                  </a:lnTo>
                  <a:lnTo>
                    <a:pt x="143" y="31"/>
                  </a:lnTo>
                  <a:lnTo>
                    <a:pt x="135" y="26"/>
                  </a:lnTo>
                  <a:lnTo>
                    <a:pt x="124" y="23"/>
                  </a:lnTo>
                  <a:lnTo>
                    <a:pt x="113" y="21"/>
                  </a:lnTo>
                  <a:lnTo>
                    <a:pt x="101" y="21"/>
                  </a:lnTo>
                  <a:lnTo>
                    <a:pt x="88" y="21"/>
                  </a:lnTo>
                  <a:lnTo>
                    <a:pt x="78" y="23"/>
                  </a:lnTo>
                  <a:lnTo>
                    <a:pt x="68" y="26"/>
                  </a:lnTo>
                  <a:lnTo>
                    <a:pt x="59" y="31"/>
                  </a:lnTo>
                  <a:lnTo>
                    <a:pt x="52" y="37"/>
                  </a:lnTo>
                  <a:lnTo>
                    <a:pt x="47" y="44"/>
                  </a:lnTo>
                  <a:lnTo>
                    <a:pt x="44" y="52"/>
                  </a:lnTo>
                  <a:lnTo>
                    <a:pt x="43" y="63"/>
                  </a:lnTo>
                  <a:close/>
                  <a:moveTo>
                    <a:pt x="0" y="63"/>
                  </a:moveTo>
                  <a:lnTo>
                    <a:pt x="0" y="54"/>
                  </a:lnTo>
                  <a:lnTo>
                    <a:pt x="2" y="46"/>
                  </a:lnTo>
                  <a:lnTo>
                    <a:pt x="5" y="39"/>
                  </a:lnTo>
                  <a:lnTo>
                    <a:pt x="9" y="33"/>
                  </a:lnTo>
                  <a:lnTo>
                    <a:pt x="13" y="27"/>
                  </a:lnTo>
                  <a:lnTo>
                    <a:pt x="18" y="23"/>
                  </a:lnTo>
                  <a:lnTo>
                    <a:pt x="23" y="19"/>
                  </a:lnTo>
                  <a:lnTo>
                    <a:pt x="30" y="16"/>
                  </a:lnTo>
                  <a:lnTo>
                    <a:pt x="35" y="12"/>
                  </a:lnTo>
                  <a:lnTo>
                    <a:pt x="42" y="9"/>
                  </a:lnTo>
                  <a:lnTo>
                    <a:pt x="48" y="6"/>
                  </a:lnTo>
                  <a:lnTo>
                    <a:pt x="56" y="5"/>
                  </a:lnTo>
                  <a:lnTo>
                    <a:pt x="66" y="2"/>
                  </a:lnTo>
                  <a:lnTo>
                    <a:pt x="77" y="1"/>
                  </a:lnTo>
                  <a:lnTo>
                    <a:pt x="88" y="0"/>
                  </a:lnTo>
                  <a:lnTo>
                    <a:pt x="101" y="0"/>
                  </a:lnTo>
                  <a:lnTo>
                    <a:pt x="122" y="0"/>
                  </a:lnTo>
                  <a:lnTo>
                    <a:pt x="142" y="4"/>
                  </a:lnTo>
                  <a:lnTo>
                    <a:pt x="160" y="9"/>
                  </a:lnTo>
                  <a:lnTo>
                    <a:pt x="174" y="16"/>
                  </a:lnTo>
                  <a:lnTo>
                    <a:pt x="187" y="25"/>
                  </a:lnTo>
                  <a:lnTo>
                    <a:pt x="194" y="36"/>
                  </a:lnTo>
                  <a:lnTo>
                    <a:pt x="200" y="49"/>
                  </a:lnTo>
                  <a:lnTo>
                    <a:pt x="202" y="63"/>
                  </a:lnTo>
                  <a:lnTo>
                    <a:pt x="200" y="77"/>
                  </a:lnTo>
                  <a:lnTo>
                    <a:pt x="195" y="89"/>
                  </a:lnTo>
                  <a:lnTo>
                    <a:pt x="187" y="100"/>
                  </a:lnTo>
                  <a:lnTo>
                    <a:pt x="175" y="109"/>
                  </a:lnTo>
                  <a:lnTo>
                    <a:pt x="160" y="116"/>
                  </a:lnTo>
                  <a:lnTo>
                    <a:pt x="142" y="121"/>
                  </a:lnTo>
                  <a:lnTo>
                    <a:pt x="123" y="124"/>
                  </a:lnTo>
                  <a:lnTo>
                    <a:pt x="101" y="126"/>
                  </a:lnTo>
                  <a:lnTo>
                    <a:pt x="79" y="124"/>
                  </a:lnTo>
                  <a:lnTo>
                    <a:pt x="59" y="121"/>
                  </a:lnTo>
                  <a:lnTo>
                    <a:pt x="42" y="116"/>
                  </a:lnTo>
                  <a:lnTo>
                    <a:pt x="28" y="109"/>
                  </a:lnTo>
                  <a:lnTo>
                    <a:pt x="15" y="100"/>
                  </a:lnTo>
                  <a:lnTo>
                    <a:pt x="7" y="89"/>
                  </a:lnTo>
                  <a:lnTo>
                    <a:pt x="1" y="77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847160" y="1260360"/>
              <a:ext cx="58320" cy="44280"/>
            </a:xfrm>
            <a:custGeom>
              <a:avLst/>
              <a:gdLst/>
              <a:ahLst/>
              <a:rect l="l" t="t" r="r" b="b"/>
              <a:pathLst>
                <a:path w="162" h="122">
                  <a:moveTo>
                    <a:pt x="42" y="20"/>
                  </a:moveTo>
                  <a:lnTo>
                    <a:pt x="42" y="55"/>
                  </a:lnTo>
                  <a:lnTo>
                    <a:pt x="65" y="55"/>
                  </a:lnTo>
                  <a:lnTo>
                    <a:pt x="77" y="55"/>
                  </a:lnTo>
                  <a:lnTo>
                    <a:pt x="87" y="54"/>
                  </a:lnTo>
                  <a:lnTo>
                    <a:pt x="94" y="54"/>
                  </a:lnTo>
                  <a:lnTo>
                    <a:pt x="100" y="53"/>
                  </a:lnTo>
                  <a:lnTo>
                    <a:pt x="103" y="52"/>
                  </a:lnTo>
                  <a:lnTo>
                    <a:pt x="107" y="50"/>
                  </a:lnTo>
                  <a:lnTo>
                    <a:pt x="110" y="49"/>
                  </a:lnTo>
                  <a:lnTo>
                    <a:pt x="113" y="47"/>
                  </a:lnTo>
                  <a:lnTo>
                    <a:pt x="115" y="45"/>
                  </a:lnTo>
                  <a:lnTo>
                    <a:pt x="116" y="43"/>
                  </a:lnTo>
                  <a:lnTo>
                    <a:pt x="117" y="40"/>
                  </a:lnTo>
                  <a:lnTo>
                    <a:pt x="118" y="38"/>
                  </a:lnTo>
                  <a:lnTo>
                    <a:pt x="117" y="34"/>
                  </a:lnTo>
                  <a:lnTo>
                    <a:pt x="116" y="31"/>
                  </a:lnTo>
                  <a:lnTo>
                    <a:pt x="114" y="29"/>
                  </a:lnTo>
                  <a:lnTo>
                    <a:pt x="111" y="27"/>
                  </a:lnTo>
                  <a:lnTo>
                    <a:pt x="107" y="25"/>
                  </a:lnTo>
                  <a:lnTo>
                    <a:pt x="103" y="23"/>
                  </a:lnTo>
                  <a:lnTo>
                    <a:pt x="98" y="22"/>
                  </a:lnTo>
                  <a:lnTo>
                    <a:pt x="93" y="21"/>
                  </a:lnTo>
                  <a:lnTo>
                    <a:pt x="89" y="21"/>
                  </a:lnTo>
                  <a:lnTo>
                    <a:pt x="82" y="20"/>
                  </a:lnTo>
                  <a:lnTo>
                    <a:pt x="73" y="20"/>
                  </a:lnTo>
                  <a:lnTo>
                    <a:pt x="64" y="20"/>
                  </a:lnTo>
                  <a:lnTo>
                    <a:pt x="42" y="20"/>
                  </a:lnTo>
                  <a:close/>
                  <a:moveTo>
                    <a:pt x="0" y="121"/>
                  </a:moveTo>
                  <a:lnTo>
                    <a:pt x="0" y="0"/>
                  </a:lnTo>
                  <a:lnTo>
                    <a:pt x="68" y="0"/>
                  </a:lnTo>
                  <a:lnTo>
                    <a:pt x="85" y="0"/>
                  </a:lnTo>
                  <a:lnTo>
                    <a:pt x="100" y="0"/>
                  </a:lnTo>
                  <a:lnTo>
                    <a:pt x="110" y="1"/>
                  </a:lnTo>
                  <a:lnTo>
                    <a:pt x="118" y="2"/>
                  </a:lnTo>
                  <a:lnTo>
                    <a:pt x="127" y="3"/>
                  </a:lnTo>
                  <a:lnTo>
                    <a:pt x="135" y="6"/>
                  </a:lnTo>
                  <a:lnTo>
                    <a:pt x="142" y="9"/>
                  </a:lnTo>
                  <a:lnTo>
                    <a:pt x="148" y="14"/>
                  </a:lnTo>
                  <a:lnTo>
                    <a:pt x="154" y="18"/>
                  </a:lnTo>
                  <a:lnTo>
                    <a:pt x="157" y="24"/>
                  </a:lnTo>
                  <a:lnTo>
                    <a:pt x="159" y="31"/>
                  </a:lnTo>
                  <a:lnTo>
                    <a:pt x="161" y="37"/>
                  </a:lnTo>
                  <a:lnTo>
                    <a:pt x="160" y="43"/>
                  </a:lnTo>
                  <a:lnTo>
                    <a:pt x="159" y="47"/>
                  </a:lnTo>
                  <a:lnTo>
                    <a:pt x="156" y="52"/>
                  </a:lnTo>
                  <a:lnTo>
                    <a:pt x="154" y="56"/>
                  </a:lnTo>
                  <a:lnTo>
                    <a:pt x="150" y="60"/>
                  </a:lnTo>
                  <a:lnTo>
                    <a:pt x="145" y="63"/>
                  </a:lnTo>
                  <a:lnTo>
                    <a:pt x="141" y="66"/>
                  </a:lnTo>
                  <a:lnTo>
                    <a:pt x="136" y="68"/>
                  </a:lnTo>
                  <a:lnTo>
                    <a:pt x="130" y="70"/>
                  </a:lnTo>
                  <a:lnTo>
                    <a:pt x="125" y="71"/>
                  </a:lnTo>
                  <a:lnTo>
                    <a:pt x="119" y="73"/>
                  </a:lnTo>
                  <a:lnTo>
                    <a:pt x="114" y="74"/>
                  </a:lnTo>
                  <a:lnTo>
                    <a:pt x="105" y="75"/>
                  </a:lnTo>
                  <a:lnTo>
                    <a:pt x="95" y="75"/>
                  </a:lnTo>
                  <a:lnTo>
                    <a:pt x="83" y="75"/>
                  </a:lnTo>
                  <a:lnTo>
                    <a:pt x="70" y="76"/>
                  </a:lnTo>
                  <a:lnTo>
                    <a:pt x="42" y="76"/>
                  </a:lnTo>
                  <a:lnTo>
                    <a:pt x="42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916640" y="1260360"/>
              <a:ext cx="56880" cy="44280"/>
            </a:xfrm>
            <a:custGeom>
              <a:avLst/>
              <a:gdLst/>
              <a:ahLst/>
              <a:rect l="l" t="t" r="r" b="b"/>
              <a:pathLst>
                <a:path w="159" h="122">
                  <a:moveTo>
                    <a:pt x="0" y="121"/>
                  </a:moveTo>
                  <a:lnTo>
                    <a:pt x="0" y="0"/>
                  </a:lnTo>
                  <a:lnTo>
                    <a:pt x="154" y="0"/>
                  </a:lnTo>
                  <a:lnTo>
                    <a:pt x="154" y="20"/>
                  </a:lnTo>
                  <a:lnTo>
                    <a:pt x="42" y="20"/>
                  </a:lnTo>
                  <a:lnTo>
                    <a:pt x="42" y="47"/>
                  </a:lnTo>
                  <a:lnTo>
                    <a:pt x="146" y="47"/>
                  </a:lnTo>
                  <a:lnTo>
                    <a:pt x="146" y="68"/>
                  </a:lnTo>
                  <a:lnTo>
                    <a:pt x="42" y="68"/>
                  </a:lnTo>
                  <a:lnTo>
                    <a:pt x="42" y="101"/>
                  </a:lnTo>
                  <a:lnTo>
                    <a:pt x="158" y="101"/>
                  </a:lnTo>
                  <a:lnTo>
                    <a:pt x="158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014920" y="1260360"/>
              <a:ext cx="56880" cy="44280"/>
            </a:xfrm>
            <a:custGeom>
              <a:avLst/>
              <a:gdLst/>
              <a:ahLst/>
              <a:rect l="l" t="t" r="r" b="b"/>
              <a:pathLst>
                <a:path w="160" h="122">
                  <a:moveTo>
                    <a:pt x="0" y="121"/>
                  </a:moveTo>
                  <a:lnTo>
                    <a:pt x="0" y="0"/>
                  </a:lnTo>
                  <a:lnTo>
                    <a:pt x="155" y="0"/>
                  </a:lnTo>
                  <a:lnTo>
                    <a:pt x="155" y="20"/>
                  </a:lnTo>
                  <a:lnTo>
                    <a:pt x="43" y="20"/>
                  </a:lnTo>
                  <a:lnTo>
                    <a:pt x="43" y="47"/>
                  </a:lnTo>
                  <a:lnTo>
                    <a:pt x="148" y="47"/>
                  </a:lnTo>
                  <a:lnTo>
                    <a:pt x="148" y="68"/>
                  </a:lnTo>
                  <a:lnTo>
                    <a:pt x="43" y="68"/>
                  </a:lnTo>
                  <a:lnTo>
                    <a:pt x="43" y="101"/>
                  </a:lnTo>
                  <a:lnTo>
                    <a:pt x="159" y="101"/>
                  </a:lnTo>
                  <a:lnTo>
                    <a:pt x="159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080080" y="1260360"/>
              <a:ext cx="60120" cy="44280"/>
            </a:xfrm>
            <a:custGeom>
              <a:avLst/>
              <a:gdLst/>
              <a:ahLst/>
              <a:rect l="l" t="t" r="r" b="b"/>
              <a:pathLst>
                <a:path w="166" h="122">
                  <a:moveTo>
                    <a:pt x="62" y="121"/>
                  </a:moveTo>
                  <a:lnTo>
                    <a:pt x="62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65" y="0"/>
                  </a:lnTo>
                  <a:lnTo>
                    <a:pt x="165" y="20"/>
                  </a:lnTo>
                  <a:lnTo>
                    <a:pt x="104" y="20"/>
                  </a:lnTo>
                  <a:lnTo>
                    <a:pt x="104" y="121"/>
                  </a:lnTo>
                  <a:lnTo>
                    <a:pt x="62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180160" y="1260360"/>
              <a:ext cx="51840" cy="42480"/>
            </a:xfrm>
            <a:custGeom>
              <a:avLst/>
              <a:gdLst/>
              <a:ahLst/>
              <a:rect l="l" t="t" r="r" b="b"/>
              <a:pathLst>
                <a:path w="147" h="121">
                  <a:moveTo>
                    <a:pt x="0" y="12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00"/>
                  </a:lnTo>
                  <a:lnTo>
                    <a:pt x="146" y="100"/>
                  </a:lnTo>
                  <a:lnTo>
                    <a:pt x="146" y="120"/>
                  </a:lnTo>
                  <a:lnTo>
                    <a:pt x="0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242080" y="1260360"/>
              <a:ext cx="56880" cy="44280"/>
            </a:xfrm>
            <a:custGeom>
              <a:avLst/>
              <a:gdLst/>
              <a:ahLst/>
              <a:rect l="l" t="t" r="r" b="b"/>
              <a:pathLst>
                <a:path w="160" h="122">
                  <a:moveTo>
                    <a:pt x="0" y="121"/>
                  </a:moveTo>
                  <a:lnTo>
                    <a:pt x="0" y="0"/>
                  </a:lnTo>
                  <a:lnTo>
                    <a:pt x="155" y="0"/>
                  </a:lnTo>
                  <a:lnTo>
                    <a:pt x="155" y="20"/>
                  </a:lnTo>
                  <a:lnTo>
                    <a:pt x="42" y="20"/>
                  </a:lnTo>
                  <a:lnTo>
                    <a:pt x="42" y="47"/>
                  </a:lnTo>
                  <a:lnTo>
                    <a:pt x="147" y="47"/>
                  </a:lnTo>
                  <a:lnTo>
                    <a:pt x="147" y="68"/>
                  </a:lnTo>
                  <a:lnTo>
                    <a:pt x="42" y="68"/>
                  </a:lnTo>
                  <a:lnTo>
                    <a:pt x="42" y="101"/>
                  </a:lnTo>
                  <a:lnTo>
                    <a:pt x="159" y="101"/>
                  </a:lnTo>
                  <a:lnTo>
                    <a:pt x="159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342160" y="1260360"/>
              <a:ext cx="72720" cy="44280"/>
            </a:xfrm>
            <a:custGeom>
              <a:avLst/>
              <a:gdLst/>
              <a:ahLst/>
              <a:rect l="l" t="t" r="r" b="b"/>
              <a:pathLst>
                <a:path w="203" h="122">
                  <a:moveTo>
                    <a:pt x="0" y="121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102" y="83"/>
                  </a:lnTo>
                  <a:lnTo>
                    <a:pt x="138" y="0"/>
                  </a:lnTo>
                  <a:lnTo>
                    <a:pt x="202" y="0"/>
                  </a:lnTo>
                  <a:lnTo>
                    <a:pt x="202" y="121"/>
                  </a:lnTo>
                  <a:lnTo>
                    <a:pt x="162" y="121"/>
                  </a:lnTo>
                  <a:lnTo>
                    <a:pt x="162" y="26"/>
                  </a:lnTo>
                  <a:lnTo>
                    <a:pt x="122" y="121"/>
                  </a:lnTo>
                  <a:lnTo>
                    <a:pt x="81" y="121"/>
                  </a:lnTo>
                  <a:lnTo>
                    <a:pt x="40" y="26"/>
                  </a:lnTo>
                  <a:lnTo>
                    <a:pt x="40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426040" y="1260360"/>
              <a:ext cx="72720" cy="45720"/>
            </a:xfrm>
            <a:custGeom>
              <a:avLst/>
              <a:gdLst/>
              <a:ahLst/>
              <a:rect l="l" t="t" r="r" b="b"/>
              <a:pathLst>
                <a:path w="204" h="127">
                  <a:moveTo>
                    <a:pt x="44" y="63"/>
                  </a:moveTo>
                  <a:lnTo>
                    <a:pt x="45" y="72"/>
                  </a:lnTo>
                  <a:lnTo>
                    <a:pt x="48" y="81"/>
                  </a:lnTo>
                  <a:lnTo>
                    <a:pt x="53" y="88"/>
                  </a:lnTo>
                  <a:lnTo>
                    <a:pt x="60" y="94"/>
                  </a:lnTo>
                  <a:lnTo>
                    <a:pt x="68" y="99"/>
                  </a:lnTo>
                  <a:lnTo>
                    <a:pt x="79" y="102"/>
                  </a:lnTo>
                  <a:lnTo>
                    <a:pt x="89" y="104"/>
                  </a:lnTo>
                  <a:lnTo>
                    <a:pt x="102" y="105"/>
                  </a:lnTo>
                  <a:lnTo>
                    <a:pt x="113" y="104"/>
                  </a:lnTo>
                  <a:lnTo>
                    <a:pt x="125" y="102"/>
                  </a:lnTo>
                  <a:lnTo>
                    <a:pt x="135" y="99"/>
                  </a:lnTo>
                  <a:lnTo>
                    <a:pt x="144" y="94"/>
                  </a:lnTo>
                  <a:lnTo>
                    <a:pt x="151" y="88"/>
                  </a:lnTo>
                  <a:lnTo>
                    <a:pt x="155" y="81"/>
                  </a:lnTo>
                  <a:lnTo>
                    <a:pt x="158" y="72"/>
                  </a:lnTo>
                  <a:lnTo>
                    <a:pt x="160" y="62"/>
                  </a:lnTo>
                  <a:lnTo>
                    <a:pt x="158" y="52"/>
                  </a:lnTo>
                  <a:lnTo>
                    <a:pt x="155" y="44"/>
                  </a:lnTo>
                  <a:lnTo>
                    <a:pt x="151" y="36"/>
                  </a:lnTo>
                  <a:lnTo>
                    <a:pt x="144" y="31"/>
                  </a:lnTo>
                  <a:lnTo>
                    <a:pt x="135" y="26"/>
                  </a:lnTo>
                  <a:lnTo>
                    <a:pt x="125" y="23"/>
                  </a:lnTo>
                  <a:lnTo>
                    <a:pt x="113" y="21"/>
                  </a:lnTo>
                  <a:lnTo>
                    <a:pt x="102" y="21"/>
                  </a:lnTo>
                  <a:lnTo>
                    <a:pt x="89" y="21"/>
                  </a:lnTo>
                  <a:lnTo>
                    <a:pt x="79" y="23"/>
                  </a:lnTo>
                  <a:lnTo>
                    <a:pt x="68" y="26"/>
                  </a:lnTo>
                  <a:lnTo>
                    <a:pt x="60" y="31"/>
                  </a:lnTo>
                  <a:lnTo>
                    <a:pt x="53" y="37"/>
                  </a:lnTo>
                  <a:lnTo>
                    <a:pt x="48" y="44"/>
                  </a:lnTo>
                  <a:lnTo>
                    <a:pt x="45" y="52"/>
                  </a:lnTo>
                  <a:lnTo>
                    <a:pt x="44" y="63"/>
                  </a:lnTo>
                  <a:close/>
                  <a:moveTo>
                    <a:pt x="0" y="63"/>
                  </a:moveTo>
                  <a:lnTo>
                    <a:pt x="0" y="54"/>
                  </a:lnTo>
                  <a:lnTo>
                    <a:pt x="2" y="46"/>
                  </a:lnTo>
                  <a:lnTo>
                    <a:pt x="5" y="39"/>
                  </a:lnTo>
                  <a:lnTo>
                    <a:pt x="10" y="33"/>
                  </a:lnTo>
                  <a:lnTo>
                    <a:pt x="14" y="27"/>
                  </a:lnTo>
                  <a:lnTo>
                    <a:pt x="19" y="23"/>
                  </a:lnTo>
                  <a:lnTo>
                    <a:pt x="24" y="19"/>
                  </a:lnTo>
                  <a:lnTo>
                    <a:pt x="30" y="16"/>
                  </a:lnTo>
                  <a:lnTo>
                    <a:pt x="36" y="12"/>
                  </a:lnTo>
                  <a:lnTo>
                    <a:pt x="43" y="9"/>
                  </a:lnTo>
                  <a:lnTo>
                    <a:pt x="49" y="6"/>
                  </a:lnTo>
                  <a:lnTo>
                    <a:pt x="56" y="5"/>
                  </a:lnTo>
                  <a:lnTo>
                    <a:pt x="66" y="2"/>
                  </a:lnTo>
                  <a:lnTo>
                    <a:pt x="77" y="1"/>
                  </a:lnTo>
                  <a:lnTo>
                    <a:pt x="89" y="0"/>
                  </a:lnTo>
                  <a:lnTo>
                    <a:pt x="102" y="0"/>
                  </a:lnTo>
                  <a:lnTo>
                    <a:pt x="123" y="0"/>
                  </a:lnTo>
                  <a:lnTo>
                    <a:pt x="143" y="4"/>
                  </a:lnTo>
                  <a:lnTo>
                    <a:pt x="160" y="9"/>
                  </a:lnTo>
                  <a:lnTo>
                    <a:pt x="175" y="16"/>
                  </a:lnTo>
                  <a:lnTo>
                    <a:pt x="187" y="25"/>
                  </a:lnTo>
                  <a:lnTo>
                    <a:pt x="195" y="36"/>
                  </a:lnTo>
                  <a:lnTo>
                    <a:pt x="201" y="49"/>
                  </a:lnTo>
                  <a:lnTo>
                    <a:pt x="203" y="63"/>
                  </a:lnTo>
                  <a:lnTo>
                    <a:pt x="201" y="77"/>
                  </a:lnTo>
                  <a:lnTo>
                    <a:pt x="196" y="89"/>
                  </a:lnTo>
                  <a:lnTo>
                    <a:pt x="187" y="100"/>
                  </a:lnTo>
                  <a:lnTo>
                    <a:pt x="176" y="109"/>
                  </a:lnTo>
                  <a:lnTo>
                    <a:pt x="160" y="116"/>
                  </a:lnTo>
                  <a:lnTo>
                    <a:pt x="143" y="121"/>
                  </a:lnTo>
                  <a:lnTo>
                    <a:pt x="124" y="124"/>
                  </a:lnTo>
                  <a:lnTo>
                    <a:pt x="102" y="126"/>
                  </a:lnTo>
                  <a:lnTo>
                    <a:pt x="80" y="124"/>
                  </a:lnTo>
                  <a:lnTo>
                    <a:pt x="60" y="121"/>
                  </a:lnTo>
                  <a:lnTo>
                    <a:pt x="43" y="116"/>
                  </a:lnTo>
                  <a:lnTo>
                    <a:pt x="28" y="109"/>
                  </a:lnTo>
                  <a:lnTo>
                    <a:pt x="16" y="100"/>
                  </a:lnTo>
                  <a:lnTo>
                    <a:pt x="7" y="89"/>
                  </a:lnTo>
                  <a:lnTo>
                    <a:pt x="1" y="77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510280" y="1260360"/>
              <a:ext cx="60120" cy="44280"/>
            </a:xfrm>
            <a:custGeom>
              <a:avLst/>
              <a:gdLst/>
              <a:ahLst/>
              <a:rect l="l" t="t" r="r" b="b"/>
              <a:pathLst>
                <a:path w="167" h="122">
                  <a:moveTo>
                    <a:pt x="0" y="121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127" y="81"/>
                  </a:lnTo>
                  <a:lnTo>
                    <a:pt x="127" y="0"/>
                  </a:lnTo>
                  <a:lnTo>
                    <a:pt x="166" y="0"/>
                  </a:lnTo>
                  <a:lnTo>
                    <a:pt x="166" y="121"/>
                  </a:lnTo>
                  <a:lnTo>
                    <a:pt x="124" y="121"/>
                  </a:lnTo>
                  <a:lnTo>
                    <a:pt x="39" y="41"/>
                  </a:lnTo>
                  <a:lnTo>
                    <a:pt x="39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586600" y="1260360"/>
              <a:ext cx="63000" cy="44280"/>
            </a:xfrm>
            <a:custGeom>
              <a:avLst/>
              <a:gdLst/>
              <a:ahLst/>
              <a:rect l="l" t="t" r="r" b="b"/>
              <a:pathLst>
                <a:path w="175" h="122">
                  <a:moveTo>
                    <a:pt x="41" y="20"/>
                  </a:moveTo>
                  <a:lnTo>
                    <a:pt x="41" y="101"/>
                  </a:lnTo>
                  <a:lnTo>
                    <a:pt x="73" y="101"/>
                  </a:lnTo>
                  <a:lnTo>
                    <a:pt x="81" y="101"/>
                  </a:lnTo>
                  <a:lnTo>
                    <a:pt x="88" y="101"/>
                  </a:lnTo>
                  <a:lnTo>
                    <a:pt x="93" y="100"/>
                  </a:lnTo>
                  <a:lnTo>
                    <a:pt x="99" y="100"/>
                  </a:lnTo>
                  <a:lnTo>
                    <a:pt x="103" y="99"/>
                  </a:lnTo>
                  <a:lnTo>
                    <a:pt x="108" y="98"/>
                  </a:lnTo>
                  <a:lnTo>
                    <a:pt x="112" y="96"/>
                  </a:lnTo>
                  <a:lnTo>
                    <a:pt x="115" y="95"/>
                  </a:lnTo>
                  <a:lnTo>
                    <a:pt x="118" y="92"/>
                  </a:lnTo>
                  <a:lnTo>
                    <a:pt x="121" y="90"/>
                  </a:lnTo>
                  <a:lnTo>
                    <a:pt x="124" y="87"/>
                  </a:lnTo>
                  <a:lnTo>
                    <a:pt x="126" y="83"/>
                  </a:lnTo>
                  <a:lnTo>
                    <a:pt x="128" y="78"/>
                  </a:lnTo>
                  <a:lnTo>
                    <a:pt x="129" y="73"/>
                  </a:lnTo>
                  <a:lnTo>
                    <a:pt x="130" y="67"/>
                  </a:lnTo>
                  <a:lnTo>
                    <a:pt x="131" y="61"/>
                  </a:lnTo>
                  <a:lnTo>
                    <a:pt x="130" y="54"/>
                  </a:lnTo>
                  <a:lnTo>
                    <a:pt x="129" y="48"/>
                  </a:lnTo>
                  <a:lnTo>
                    <a:pt x="128" y="43"/>
                  </a:lnTo>
                  <a:lnTo>
                    <a:pt x="126" y="39"/>
                  </a:lnTo>
                  <a:lnTo>
                    <a:pt x="124" y="36"/>
                  </a:lnTo>
                  <a:lnTo>
                    <a:pt x="120" y="32"/>
                  </a:lnTo>
                  <a:lnTo>
                    <a:pt x="117" y="29"/>
                  </a:lnTo>
                  <a:lnTo>
                    <a:pt x="114" y="27"/>
                  </a:lnTo>
                  <a:lnTo>
                    <a:pt x="110" y="25"/>
                  </a:lnTo>
                  <a:lnTo>
                    <a:pt x="106" y="24"/>
                  </a:lnTo>
                  <a:lnTo>
                    <a:pt x="101" y="22"/>
                  </a:lnTo>
                  <a:lnTo>
                    <a:pt x="95" y="22"/>
                  </a:lnTo>
                  <a:lnTo>
                    <a:pt x="89" y="21"/>
                  </a:lnTo>
                  <a:lnTo>
                    <a:pt x="82" y="20"/>
                  </a:lnTo>
                  <a:lnTo>
                    <a:pt x="72" y="20"/>
                  </a:lnTo>
                  <a:lnTo>
                    <a:pt x="60" y="20"/>
                  </a:lnTo>
                  <a:lnTo>
                    <a:pt x="41" y="20"/>
                  </a:lnTo>
                  <a:close/>
                  <a:moveTo>
                    <a:pt x="0" y="0"/>
                  </a:moveTo>
                  <a:lnTo>
                    <a:pt x="76" y="0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108" y="1"/>
                  </a:lnTo>
                  <a:lnTo>
                    <a:pt x="115" y="2"/>
                  </a:lnTo>
                  <a:lnTo>
                    <a:pt x="124" y="4"/>
                  </a:lnTo>
                  <a:lnTo>
                    <a:pt x="133" y="7"/>
                  </a:lnTo>
                  <a:lnTo>
                    <a:pt x="140" y="9"/>
                  </a:lnTo>
                  <a:lnTo>
                    <a:pt x="147" y="14"/>
                  </a:lnTo>
                  <a:lnTo>
                    <a:pt x="153" y="18"/>
                  </a:lnTo>
                  <a:lnTo>
                    <a:pt x="158" y="22"/>
                  </a:lnTo>
                  <a:lnTo>
                    <a:pt x="164" y="27"/>
                  </a:lnTo>
                  <a:lnTo>
                    <a:pt x="167" y="33"/>
                  </a:lnTo>
                  <a:lnTo>
                    <a:pt x="169" y="39"/>
                  </a:lnTo>
                  <a:lnTo>
                    <a:pt x="172" y="46"/>
                  </a:lnTo>
                  <a:lnTo>
                    <a:pt x="173" y="53"/>
                  </a:lnTo>
                  <a:lnTo>
                    <a:pt x="174" y="62"/>
                  </a:lnTo>
                  <a:lnTo>
                    <a:pt x="173" y="69"/>
                  </a:lnTo>
                  <a:lnTo>
                    <a:pt x="172" y="76"/>
                  </a:lnTo>
                  <a:lnTo>
                    <a:pt x="170" y="82"/>
                  </a:lnTo>
                  <a:lnTo>
                    <a:pt x="167" y="88"/>
                  </a:lnTo>
                  <a:lnTo>
                    <a:pt x="163" y="94"/>
                  </a:lnTo>
                  <a:lnTo>
                    <a:pt x="158" y="99"/>
                  </a:lnTo>
                  <a:lnTo>
                    <a:pt x="151" y="104"/>
                  </a:lnTo>
                  <a:lnTo>
                    <a:pt x="145" y="109"/>
                  </a:lnTo>
                  <a:lnTo>
                    <a:pt x="139" y="112"/>
                  </a:lnTo>
                  <a:lnTo>
                    <a:pt x="132" y="114"/>
                  </a:lnTo>
                  <a:lnTo>
                    <a:pt x="124" y="117"/>
                  </a:lnTo>
                  <a:lnTo>
                    <a:pt x="115" y="119"/>
                  </a:lnTo>
                  <a:lnTo>
                    <a:pt x="108" y="120"/>
                  </a:lnTo>
                  <a:lnTo>
                    <a:pt x="99" y="121"/>
                  </a:lnTo>
                  <a:lnTo>
                    <a:pt x="89" y="121"/>
                  </a:lnTo>
                  <a:lnTo>
                    <a:pt x="79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662920" y="1260360"/>
              <a:ext cx="56520" cy="44280"/>
            </a:xfrm>
            <a:custGeom>
              <a:avLst/>
              <a:gdLst/>
              <a:ahLst/>
              <a:rect l="l" t="t" r="r" b="b"/>
              <a:pathLst>
                <a:path w="159" h="122">
                  <a:moveTo>
                    <a:pt x="0" y="121"/>
                  </a:moveTo>
                  <a:lnTo>
                    <a:pt x="0" y="0"/>
                  </a:lnTo>
                  <a:lnTo>
                    <a:pt x="154" y="0"/>
                  </a:lnTo>
                  <a:lnTo>
                    <a:pt x="154" y="20"/>
                  </a:lnTo>
                  <a:lnTo>
                    <a:pt x="42" y="20"/>
                  </a:lnTo>
                  <a:lnTo>
                    <a:pt x="42" y="47"/>
                  </a:lnTo>
                  <a:lnTo>
                    <a:pt x="147" y="47"/>
                  </a:lnTo>
                  <a:lnTo>
                    <a:pt x="147" y="68"/>
                  </a:lnTo>
                  <a:lnTo>
                    <a:pt x="42" y="68"/>
                  </a:lnTo>
                  <a:lnTo>
                    <a:pt x="42" y="101"/>
                  </a:lnTo>
                  <a:lnTo>
                    <a:pt x="158" y="101"/>
                  </a:lnTo>
                  <a:lnTo>
                    <a:pt x="158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761200" y="1260360"/>
              <a:ext cx="56880" cy="44280"/>
            </a:xfrm>
            <a:custGeom>
              <a:avLst/>
              <a:gdLst/>
              <a:ahLst/>
              <a:rect l="l" t="t" r="r" b="b"/>
              <a:pathLst>
                <a:path w="159" h="122">
                  <a:moveTo>
                    <a:pt x="0" y="121"/>
                  </a:moveTo>
                  <a:lnTo>
                    <a:pt x="0" y="0"/>
                  </a:lnTo>
                  <a:lnTo>
                    <a:pt x="155" y="0"/>
                  </a:lnTo>
                  <a:lnTo>
                    <a:pt x="155" y="20"/>
                  </a:lnTo>
                  <a:lnTo>
                    <a:pt x="42" y="20"/>
                  </a:lnTo>
                  <a:lnTo>
                    <a:pt x="42" y="47"/>
                  </a:lnTo>
                  <a:lnTo>
                    <a:pt x="147" y="47"/>
                  </a:lnTo>
                  <a:lnTo>
                    <a:pt x="147" y="68"/>
                  </a:lnTo>
                  <a:lnTo>
                    <a:pt x="42" y="68"/>
                  </a:lnTo>
                  <a:lnTo>
                    <a:pt x="42" y="101"/>
                  </a:lnTo>
                  <a:lnTo>
                    <a:pt x="158" y="101"/>
                  </a:lnTo>
                  <a:lnTo>
                    <a:pt x="158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830680" y="1260360"/>
              <a:ext cx="60120" cy="44280"/>
            </a:xfrm>
            <a:custGeom>
              <a:avLst/>
              <a:gdLst/>
              <a:ahLst/>
              <a:rect l="l" t="t" r="r" b="b"/>
              <a:pathLst>
                <a:path w="167" h="122">
                  <a:moveTo>
                    <a:pt x="0" y="121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127" y="81"/>
                  </a:lnTo>
                  <a:lnTo>
                    <a:pt x="127" y="0"/>
                  </a:lnTo>
                  <a:lnTo>
                    <a:pt x="166" y="0"/>
                  </a:lnTo>
                  <a:lnTo>
                    <a:pt x="166" y="121"/>
                  </a:lnTo>
                  <a:lnTo>
                    <a:pt x="124" y="121"/>
                  </a:lnTo>
                  <a:lnTo>
                    <a:pt x="39" y="41"/>
                  </a:lnTo>
                  <a:lnTo>
                    <a:pt x="39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936880" y="1260360"/>
              <a:ext cx="33120" cy="44280"/>
            </a:xfrm>
            <a:custGeom>
              <a:avLst/>
              <a:gdLst/>
              <a:ahLst/>
              <a:rect l="l" t="t" r="r" b="b"/>
              <a:pathLst>
                <a:path w="93" h="123">
                  <a:moveTo>
                    <a:pt x="92" y="122"/>
                  </a:moveTo>
                  <a:lnTo>
                    <a:pt x="52" y="122"/>
                  </a:lnTo>
                  <a:lnTo>
                    <a:pt x="52" y="35"/>
                  </a:lnTo>
                  <a:lnTo>
                    <a:pt x="40" y="40"/>
                  </a:lnTo>
                  <a:lnTo>
                    <a:pt x="28" y="44"/>
                  </a:lnTo>
                  <a:lnTo>
                    <a:pt x="14" y="48"/>
                  </a:lnTo>
                  <a:lnTo>
                    <a:pt x="0" y="52"/>
                  </a:lnTo>
                  <a:lnTo>
                    <a:pt x="0" y="31"/>
                  </a:lnTo>
                  <a:lnTo>
                    <a:pt x="8" y="29"/>
                  </a:lnTo>
                  <a:lnTo>
                    <a:pt x="17" y="26"/>
                  </a:lnTo>
                  <a:lnTo>
                    <a:pt x="25" y="23"/>
                  </a:lnTo>
                  <a:lnTo>
                    <a:pt x="34" y="20"/>
                  </a:lnTo>
                  <a:lnTo>
                    <a:pt x="43" y="15"/>
                  </a:lnTo>
                  <a:lnTo>
                    <a:pt x="49" y="10"/>
                  </a:lnTo>
                  <a:lnTo>
                    <a:pt x="55" y="5"/>
                  </a:lnTo>
                  <a:lnTo>
                    <a:pt x="59" y="0"/>
                  </a:lnTo>
                  <a:lnTo>
                    <a:pt x="92" y="0"/>
                  </a:lnTo>
                  <a:lnTo>
                    <a:pt x="92" y="1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989440" y="1260360"/>
              <a:ext cx="50400" cy="45720"/>
            </a:xfrm>
            <a:custGeom>
              <a:avLst/>
              <a:gdLst/>
              <a:ahLst/>
              <a:rect l="l" t="t" r="r" b="b"/>
              <a:pathLst>
                <a:path w="139" h="126">
                  <a:moveTo>
                    <a:pt x="94" y="43"/>
                  </a:moveTo>
                  <a:lnTo>
                    <a:pt x="93" y="37"/>
                  </a:lnTo>
                  <a:lnTo>
                    <a:pt x="91" y="33"/>
                  </a:lnTo>
                  <a:lnTo>
                    <a:pt x="88" y="29"/>
                  </a:lnTo>
                  <a:lnTo>
                    <a:pt x="85" y="26"/>
                  </a:lnTo>
                  <a:lnTo>
                    <a:pt x="80" y="23"/>
                  </a:lnTo>
                  <a:lnTo>
                    <a:pt x="76" y="21"/>
                  </a:lnTo>
                  <a:lnTo>
                    <a:pt x="70" y="20"/>
                  </a:lnTo>
                  <a:lnTo>
                    <a:pt x="65" y="20"/>
                  </a:lnTo>
                  <a:lnTo>
                    <a:pt x="59" y="20"/>
                  </a:lnTo>
                  <a:lnTo>
                    <a:pt x="54" y="21"/>
                  </a:lnTo>
                  <a:lnTo>
                    <a:pt x="50" y="23"/>
                  </a:lnTo>
                  <a:lnTo>
                    <a:pt x="47" y="25"/>
                  </a:lnTo>
                  <a:lnTo>
                    <a:pt x="43" y="27"/>
                  </a:lnTo>
                  <a:lnTo>
                    <a:pt x="41" y="32"/>
                  </a:lnTo>
                  <a:lnTo>
                    <a:pt x="39" y="36"/>
                  </a:lnTo>
                  <a:lnTo>
                    <a:pt x="39" y="41"/>
                  </a:lnTo>
                  <a:lnTo>
                    <a:pt x="39" y="46"/>
                  </a:lnTo>
                  <a:lnTo>
                    <a:pt x="41" y="51"/>
                  </a:lnTo>
                  <a:lnTo>
                    <a:pt x="43" y="55"/>
                  </a:lnTo>
                  <a:lnTo>
                    <a:pt x="47" y="59"/>
                  </a:lnTo>
                  <a:lnTo>
                    <a:pt x="51" y="61"/>
                  </a:lnTo>
                  <a:lnTo>
                    <a:pt x="56" y="62"/>
                  </a:lnTo>
                  <a:lnTo>
                    <a:pt x="60" y="64"/>
                  </a:lnTo>
                  <a:lnTo>
                    <a:pt x="67" y="64"/>
                  </a:lnTo>
                  <a:lnTo>
                    <a:pt x="72" y="64"/>
                  </a:lnTo>
                  <a:lnTo>
                    <a:pt x="77" y="62"/>
                  </a:lnTo>
                  <a:lnTo>
                    <a:pt x="82" y="61"/>
                  </a:lnTo>
                  <a:lnTo>
                    <a:pt x="86" y="59"/>
                  </a:lnTo>
                  <a:lnTo>
                    <a:pt x="89" y="55"/>
                  </a:lnTo>
                  <a:lnTo>
                    <a:pt x="92" y="52"/>
                  </a:lnTo>
                  <a:lnTo>
                    <a:pt x="93" y="48"/>
                  </a:lnTo>
                  <a:lnTo>
                    <a:pt x="94" y="43"/>
                  </a:lnTo>
                  <a:close/>
                  <a:moveTo>
                    <a:pt x="4" y="94"/>
                  </a:moveTo>
                  <a:lnTo>
                    <a:pt x="43" y="92"/>
                  </a:lnTo>
                  <a:lnTo>
                    <a:pt x="43" y="95"/>
                  </a:lnTo>
                  <a:lnTo>
                    <a:pt x="45" y="98"/>
                  </a:lnTo>
                  <a:lnTo>
                    <a:pt x="47" y="100"/>
                  </a:lnTo>
                  <a:lnTo>
                    <a:pt x="50" y="102"/>
                  </a:lnTo>
                  <a:lnTo>
                    <a:pt x="53" y="103"/>
                  </a:lnTo>
                  <a:lnTo>
                    <a:pt x="57" y="104"/>
                  </a:lnTo>
                  <a:lnTo>
                    <a:pt x="60" y="105"/>
                  </a:lnTo>
                  <a:lnTo>
                    <a:pt x="65" y="105"/>
                  </a:lnTo>
                  <a:lnTo>
                    <a:pt x="71" y="104"/>
                  </a:lnTo>
                  <a:lnTo>
                    <a:pt x="77" y="103"/>
                  </a:lnTo>
                  <a:lnTo>
                    <a:pt x="82" y="101"/>
                  </a:lnTo>
                  <a:lnTo>
                    <a:pt x="87" y="98"/>
                  </a:lnTo>
                  <a:lnTo>
                    <a:pt x="90" y="94"/>
                  </a:lnTo>
                  <a:lnTo>
                    <a:pt x="93" y="88"/>
                  </a:lnTo>
                  <a:lnTo>
                    <a:pt x="96" y="80"/>
                  </a:lnTo>
                  <a:lnTo>
                    <a:pt x="97" y="71"/>
                  </a:lnTo>
                  <a:lnTo>
                    <a:pt x="89" y="75"/>
                  </a:lnTo>
                  <a:lnTo>
                    <a:pt x="81" y="79"/>
                  </a:lnTo>
                  <a:lnTo>
                    <a:pt x="70" y="80"/>
                  </a:lnTo>
                  <a:lnTo>
                    <a:pt x="60" y="81"/>
                  </a:lnTo>
                  <a:lnTo>
                    <a:pt x="48" y="80"/>
                  </a:lnTo>
                  <a:lnTo>
                    <a:pt x="36" y="78"/>
                  </a:lnTo>
                  <a:lnTo>
                    <a:pt x="27" y="75"/>
                  </a:lnTo>
                  <a:lnTo>
                    <a:pt x="18" y="70"/>
                  </a:lnTo>
                  <a:lnTo>
                    <a:pt x="9" y="64"/>
                  </a:lnTo>
                  <a:lnTo>
                    <a:pt x="4" y="57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4" y="25"/>
                  </a:lnTo>
                  <a:lnTo>
                    <a:pt x="9" y="17"/>
                  </a:lnTo>
                  <a:lnTo>
                    <a:pt x="18" y="12"/>
                  </a:lnTo>
                  <a:lnTo>
                    <a:pt x="28" y="6"/>
                  </a:lnTo>
                  <a:lnTo>
                    <a:pt x="39" y="3"/>
                  </a:lnTo>
                  <a:lnTo>
                    <a:pt x="52" y="1"/>
                  </a:lnTo>
                  <a:lnTo>
                    <a:pt x="66" y="0"/>
                  </a:lnTo>
                  <a:lnTo>
                    <a:pt x="81" y="1"/>
                  </a:lnTo>
                  <a:lnTo>
                    <a:pt x="94" y="4"/>
                  </a:lnTo>
                  <a:lnTo>
                    <a:pt x="107" y="8"/>
                  </a:lnTo>
                  <a:lnTo>
                    <a:pt x="118" y="15"/>
                  </a:lnTo>
                  <a:lnTo>
                    <a:pt x="126" y="23"/>
                  </a:lnTo>
                  <a:lnTo>
                    <a:pt x="133" y="33"/>
                  </a:lnTo>
                  <a:lnTo>
                    <a:pt x="137" y="46"/>
                  </a:lnTo>
                  <a:lnTo>
                    <a:pt x="138" y="62"/>
                  </a:lnTo>
                  <a:lnTo>
                    <a:pt x="137" y="77"/>
                  </a:lnTo>
                  <a:lnTo>
                    <a:pt x="133" y="90"/>
                  </a:lnTo>
                  <a:lnTo>
                    <a:pt x="126" y="101"/>
                  </a:lnTo>
                  <a:lnTo>
                    <a:pt x="117" y="109"/>
                  </a:lnTo>
                  <a:lnTo>
                    <a:pt x="106" y="116"/>
                  </a:lnTo>
                  <a:lnTo>
                    <a:pt x="92" y="120"/>
                  </a:lnTo>
                  <a:lnTo>
                    <a:pt x="78" y="123"/>
                  </a:lnTo>
                  <a:lnTo>
                    <a:pt x="62" y="125"/>
                  </a:lnTo>
                  <a:lnTo>
                    <a:pt x="50" y="124"/>
                  </a:lnTo>
                  <a:lnTo>
                    <a:pt x="40" y="122"/>
                  </a:lnTo>
                  <a:lnTo>
                    <a:pt x="31" y="120"/>
                  </a:lnTo>
                  <a:lnTo>
                    <a:pt x="23" y="117"/>
                  </a:lnTo>
                  <a:lnTo>
                    <a:pt x="16" y="113"/>
                  </a:lnTo>
                  <a:lnTo>
                    <a:pt x="11" y="107"/>
                  </a:lnTo>
                  <a:lnTo>
                    <a:pt x="6" y="101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052800" y="1260360"/>
              <a:ext cx="33120" cy="44280"/>
            </a:xfrm>
            <a:custGeom>
              <a:avLst/>
              <a:gdLst/>
              <a:ahLst/>
              <a:rect l="l" t="t" r="r" b="b"/>
              <a:pathLst>
                <a:path w="93" h="123">
                  <a:moveTo>
                    <a:pt x="92" y="122"/>
                  </a:moveTo>
                  <a:lnTo>
                    <a:pt x="52" y="122"/>
                  </a:lnTo>
                  <a:lnTo>
                    <a:pt x="52" y="35"/>
                  </a:lnTo>
                  <a:lnTo>
                    <a:pt x="40" y="40"/>
                  </a:lnTo>
                  <a:lnTo>
                    <a:pt x="28" y="44"/>
                  </a:lnTo>
                  <a:lnTo>
                    <a:pt x="14" y="48"/>
                  </a:lnTo>
                  <a:lnTo>
                    <a:pt x="0" y="52"/>
                  </a:lnTo>
                  <a:lnTo>
                    <a:pt x="0" y="31"/>
                  </a:lnTo>
                  <a:lnTo>
                    <a:pt x="8" y="29"/>
                  </a:lnTo>
                  <a:lnTo>
                    <a:pt x="16" y="26"/>
                  </a:lnTo>
                  <a:lnTo>
                    <a:pt x="25" y="23"/>
                  </a:lnTo>
                  <a:lnTo>
                    <a:pt x="34" y="20"/>
                  </a:lnTo>
                  <a:lnTo>
                    <a:pt x="42" y="15"/>
                  </a:lnTo>
                  <a:lnTo>
                    <a:pt x="49" y="10"/>
                  </a:lnTo>
                  <a:lnTo>
                    <a:pt x="55" y="5"/>
                  </a:lnTo>
                  <a:lnTo>
                    <a:pt x="59" y="0"/>
                  </a:lnTo>
                  <a:lnTo>
                    <a:pt x="92" y="0"/>
                  </a:lnTo>
                  <a:lnTo>
                    <a:pt x="92" y="1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105360" y="1260360"/>
              <a:ext cx="53640" cy="44280"/>
            </a:xfrm>
            <a:custGeom>
              <a:avLst/>
              <a:gdLst/>
              <a:ahLst/>
              <a:rect l="l" t="t" r="r" b="b"/>
              <a:pathLst>
                <a:path w="151" h="123">
                  <a:moveTo>
                    <a:pt x="85" y="77"/>
                  </a:moveTo>
                  <a:lnTo>
                    <a:pt x="85" y="36"/>
                  </a:lnTo>
                  <a:lnTo>
                    <a:pt x="37" y="77"/>
                  </a:lnTo>
                  <a:lnTo>
                    <a:pt x="85" y="77"/>
                  </a:lnTo>
                  <a:close/>
                  <a:moveTo>
                    <a:pt x="85" y="122"/>
                  </a:moveTo>
                  <a:lnTo>
                    <a:pt x="85" y="98"/>
                  </a:lnTo>
                  <a:lnTo>
                    <a:pt x="0" y="98"/>
                  </a:lnTo>
                  <a:lnTo>
                    <a:pt x="0" y="77"/>
                  </a:lnTo>
                  <a:lnTo>
                    <a:pt x="90" y="0"/>
                  </a:lnTo>
                  <a:lnTo>
                    <a:pt x="125" y="0"/>
                  </a:lnTo>
                  <a:lnTo>
                    <a:pt x="125" y="77"/>
                  </a:lnTo>
                  <a:lnTo>
                    <a:pt x="150" y="77"/>
                  </a:lnTo>
                  <a:lnTo>
                    <a:pt x="150" y="98"/>
                  </a:lnTo>
                  <a:lnTo>
                    <a:pt x="125" y="98"/>
                  </a:lnTo>
                  <a:lnTo>
                    <a:pt x="125" y="122"/>
                  </a:lnTo>
                  <a:lnTo>
                    <a:pt x="85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320" y="2784600"/>
              <a:ext cx="39240" cy="2664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41" y="76"/>
                  </a:moveTo>
                  <a:lnTo>
                    <a:pt x="4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09" y="0"/>
                  </a:lnTo>
                  <a:lnTo>
                    <a:pt x="109" y="13"/>
                  </a:lnTo>
                  <a:lnTo>
                    <a:pt x="68" y="13"/>
                  </a:lnTo>
                  <a:lnTo>
                    <a:pt x="68" y="76"/>
                  </a:lnTo>
                  <a:lnTo>
                    <a:pt x="41" y="7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7160" y="2792520"/>
              <a:ext cx="33120" cy="20160"/>
            </a:xfrm>
            <a:custGeom>
              <a:avLst/>
              <a:gdLst/>
              <a:ahLst/>
              <a:rect l="l" t="t" r="r" b="b"/>
              <a:pathLst>
                <a:path w="94" h="58">
                  <a:moveTo>
                    <a:pt x="67" y="23"/>
                  </a:moveTo>
                  <a:lnTo>
                    <a:pt x="66" y="20"/>
                  </a:lnTo>
                  <a:lnTo>
                    <a:pt x="65" y="18"/>
                  </a:lnTo>
                  <a:lnTo>
                    <a:pt x="64" y="15"/>
                  </a:lnTo>
                  <a:lnTo>
                    <a:pt x="62" y="14"/>
                  </a:lnTo>
                  <a:lnTo>
                    <a:pt x="58" y="12"/>
                  </a:lnTo>
                  <a:lnTo>
                    <a:pt x="55" y="11"/>
                  </a:lnTo>
                  <a:lnTo>
                    <a:pt x="51" y="11"/>
                  </a:lnTo>
                  <a:lnTo>
                    <a:pt x="47" y="11"/>
                  </a:lnTo>
                  <a:lnTo>
                    <a:pt x="43" y="11"/>
                  </a:lnTo>
                  <a:lnTo>
                    <a:pt x="39" y="11"/>
                  </a:lnTo>
                  <a:lnTo>
                    <a:pt x="36" y="12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9" y="18"/>
                  </a:lnTo>
                  <a:lnTo>
                    <a:pt x="27" y="20"/>
                  </a:lnTo>
                  <a:lnTo>
                    <a:pt x="27" y="23"/>
                  </a:lnTo>
                  <a:lnTo>
                    <a:pt x="67" y="23"/>
                  </a:lnTo>
                  <a:close/>
                  <a:moveTo>
                    <a:pt x="65" y="38"/>
                  </a:moveTo>
                  <a:lnTo>
                    <a:pt x="92" y="41"/>
                  </a:lnTo>
                  <a:lnTo>
                    <a:pt x="88" y="44"/>
                  </a:lnTo>
                  <a:lnTo>
                    <a:pt x="84" y="48"/>
                  </a:lnTo>
                  <a:lnTo>
                    <a:pt x="81" y="51"/>
                  </a:lnTo>
                  <a:lnTo>
                    <a:pt x="76" y="53"/>
                  </a:lnTo>
                  <a:lnTo>
                    <a:pt x="70" y="54"/>
                  </a:lnTo>
                  <a:lnTo>
                    <a:pt x="63" y="56"/>
                  </a:lnTo>
                  <a:lnTo>
                    <a:pt x="56" y="56"/>
                  </a:lnTo>
                  <a:lnTo>
                    <a:pt x="48" y="57"/>
                  </a:lnTo>
                  <a:lnTo>
                    <a:pt x="36" y="56"/>
                  </a:lnTo>
                  <a:lnTo>
                    <a:pt x="25" y="54"/>
                  </a:lnTo>
                  <a:lnTo>
                    <a:pt x="17" y="52"/>
                  </a:lnTo>
                  <a:lnTo>
                    <a:pt x="10" y="48"/>
                  </a:lnTo>
                  <a:lnTo>
                    <a:pt x="5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1" y="22"/>
                  </a:lnTo>
                  <a:lnTo>
                    <a:pt x="3" y="16"/>
                  </a:lnTo>
                  <a:lnTo>
                    <a:pt x="7" y="11"/>
                  </a:lnTo>
                  <a:lnTo>
                    <a:pt x="13" y="7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5" y="2"/>
                  </a:lnTo>
                  <a:lnTo>
                    <a:pt x="74" y="4"/>
                  </a:lnTo>
                  <a:lnTo>
                    <a:pt x="81" y="7"/>
                  </a:lnTo>
                  <a:lnTo>
                    <a:pt x="86" y="12"/>
                  </a:lnTo>
                  <a:lnTo>
                    <a:pt x="90" y="18"/>
                  </a:lnTo>
                  <a:lnTo>
                    <a:pt x="93" y="24"/>
                  </a:lnTo>
                  <a:lnTo>
                    <a:pt x="93" y="32"/>
                  </a:lnTo>
                  <a:lnTo>
                    <a:pt x="27" y="32"/>
                  </a:lnTo>
                  <a:lnTo>
                    <a:pt x="27" y="36"/>
                  </a:lnTo>
                  <a:lnTo>
                    <a:pt x="28" y="38"/>
                  </a:lnTo>
                  <a:lnTo>
                    <a:pt x="30" y="40"/>
                  </a:lnTo>
                  <a:lnTo>
                    <a:pt x="33" y="42"/>
                  </a:lnTo>
                  <a:lnTo>
                    <a:pt x="36" y="44"/>
                  </a:lnTo>
                  <a:lnTo>
                    <a:pt x="40" y="45"/>
                  </a:lnTo>
                  <a:lnTo>
                    <a:pt x="44" y="46"/>
                  </a:lnTo>
                  <a:lnTo>
                    <a:pt x="48" y="46"/>
                  </a:lnTo>
                  <a:lnTo>
                    <a:pt x="50" y="46"/>
                  </a:lnTo>
                  <a:lnTo>
                    <a:pt x="54" y="45"/>
                  </a:lnTo>
                  <a:lnTo>
                    <a:pt x="56" y="45"/>
                  </a:lnTo>
                  <a:lnTo>
                    <a:pt x="59" y="44"/>
                  </a:lnTo>
                  <a:lnTo>
                    <a:pt x="61" y="43"/>
                  </a:lnTo>
                  <a:lnTo>
                    <a:pt x="63" y="42"/>
                  </a:lnTo>
                  <a:lnTo>
                    <a:pt x="64" y="40"/>
                  </a:lnTo>
                  <a:lnTo>
                    <a:pt x="6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7120" y="2792520"/>
              <a:ext cx="23400" cy="2016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27" y="56"/>
                  </a:moveTo>
                  <a:lnTo>
                    <a:pt x="0" y="56"/>
                  </a:lnTo>
                  <a:lnTo>
                    <a:pt x="0" y="1"/>
                  </a:lnTo>
                  <a:lnTo>
                    <a:pt x="25" y="1"/>
                  </a:lnTo>
                  <a:lnTo>
                    <a:pt x="25" y="9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1"/>
                  </a:lnTo>
                  <a:lnTo>
                    <a:pt x="65" y="2"/>
                  </a:lnTo>
                  <a:lnTo>
                    <a:pt x="57" y="15"/>
                  </a:lnTo>
                  <a:lnTo>
                    <a:pt x="53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5" y="13"/>
                  </a:lnTo>
                  <a:lnTo>
                    <a:pt x="42" y="13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5" y="14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30" y="18"/>
                  </a:lnTo>
                  <a:lnTo>
                    <a:pt x="29" y="20"/>
                  </a:lnTo>
                  <a:lnTo>
                    <a:pt x="28" y="23"/>
                  </a:lnTo>
                  <a:lnTo>
                    <a:pt x="27" y="27"/>
                  </a:lnTo>
                  <a:lnTo>
                    <a:pt x="27" y="32"/>
                  </a:lnTo>
                  <a:lnTo>
                    <a:pt x="27" y="38"/>
                  </a:lnTo>
                  <a:lnTo>
                    <a:pt x="27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14120" y="2792520"/>
              <a:ext cx="23400" cy="2016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26" y="56"/>
                  </a:moveTo>
                  <a:lnTo>
                    <a:pt x="0" y="56"/>
                  </a:lnTo>
                  <a:lnTo>
                    <a:pt x="0" y="1"/>
                  </a:lnTo>
                  <a:lnTo>
                    <a:pt x="24" y="1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0" y="4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5" y="2"/>
                  </a:lnTo>
                  <a:lnTo>
                    <a:pt x="57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5" y="14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30" y="18"/>
                  </a:lnTo>
                  <a:lnTo>
                    <a:pt x="29" y="20"/>
                  </a:lnTo>
                  <a:lnTo>
                    <a:pt x="28" y="23"/>
                  </a:lnTo>
                  <a:lnTo>
                    <a:pt x="26" y="27"/>
                  </a:lnTo>
                  <a:lnTo>
                    <a:pt x="26" y="32"/>
                  </a:lnTo>
                  <a:lnTo>
                    <a:pt x="26" y="38"/>
                  </a:lnTo>
                  <a:lnTo>
                    <a:pt x="26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42560" y="2784600"/>
              <a:ext cx="9000" cy="2664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0" y="76"/>
                  </a:moveTo>
                  <a:lnTo>
                    <a:pt x="0" y="21"/>
                  </a:lnTo>
                  <a:lnTo>
                    <a:pt x="26" y="21"/>
                  </a:lnTo>
                  <a:lnTo>
                    <a:pt x="26" y="76"/>
                  </a:lnTo>
                  <a:lnTo>
                    <a:pt x="0" y="76"/>
                  </a:lnTo>
                  <a:close/>
                  <a:moveTo>
                    <a:pt x="0" y="13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960" y="2786040"/>
              <a:ext cx="21600" cy="26640"/>
            </a:xfrm>
            <a:custGeom>
              <a:avLst/>
              <a:gdLst/>
              <a:ahLst/>
              <a:rect l="l" t="t" r="r" b="b"/>
              <a:pathLst>
                <a:path w="60" h="76">
                  <a:moveTo>
                    <a:pt x="57" y="19"/>
                  </a:moveTo>
                  <a:lnTo>
                    <a:pt x="57" y="31"/>
                  </a:lnTo>
                  <a:lnTo>
                    <a:pt x="39" y="31"/>
                  </a:lnTo>
                  <a:lnTo>
                    <a:pt x="39" y="53"/>
                  </a:lnTo>
                  <a:lnTo>
                    <a:pt x="39" y="56"/>
                  </a:lnTo>
                  <a:lnTo>
                    <a:pt x="39" y="58"/>
                  </a:lnTo>
                  <a:lnTo>
                    <a:pt x="39" y="59"/>
                  </a:lnTo>
                  <a:lnTo>
                    <a:pt x="39" y="60"/>
                  </a:lnTo>
                  <a:lnTo>
                    <a:pt x="39" y="61"/>
                  </a:lnTo>
                  <a:lnTo>
                    <a:pt x="40" y="61"/>
                  </a:lnTo>
                  <a:lnTo>
                    <a:pt x="41" y="62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43" y="63"/>
                  </a:lnTo>
                  <a:lnTo>
                    <a:pt x="44" y="63"/>
                  </a:lnTo>
                  <a:lnTo>
                    <a:pt x="46" y="63"/>
                  </a:lnTo>
                  <a:lnTo>
                    <a:pt x="48" y="63"/>
                  </a:lnTo>
                  <a:lnTo>
                    <a:pt x="50" y="63"/>
                  </a:lnTo>
                  <a:lnTo>
                    <a:pt x="53" y="62"/>
                  </a:lnTo>
                  <a:lnTo>
                    <a:pt x="57" y="62"/>
                  </a:lnTo>
                  <a:lnTo>
                    <a:pt x="59" y="73"/>
                  </a:lnTo>
                  <a:lnTo>
                    <a:pt x="54" y="74"/>
                  </a:lnTo>
                  <a:lnTo>
                    <a:pt x="49" y="74"/>
                  </a:lnTo>
                  <a:lnTo>
                    <a:pt x="43" y="75"/>
                  </a:lnTo>
                  <a:lnTo>
                    <a:pt x="38" y="75"/>
                  </a:lnTo>
                  <a:lnTo>
                    <a:pt x="35" y="75"/>
                  </a:lnTo>
                  <a:lnTo>
                    <a:pt x="32" y="74"/>
                  </a:lnTo>
                  <a:lnTo>
                    <a:pt x="28" y="74"/>
                  </a:lnTo>
                  <a:lnTo>
                    <a:pt x="26" y="74"/>
                  </a:lnTo>
                  <a:lnTo>
                    <a:pt x="23" y="72"/>
                  </a:lnTo>
                  <a:lnTo>
                    <a:pt x="20" y="72"/>
                  </a:lnTo>
                  <a:lnTo>
                    <a:pt x="18" y="71"/>
                  </a:lnTo>
                  <a:lnTo>
                    <a:pt x="17" y="70"/>
                  </a:lnTo>
                  <a:lnTo>
                    <a:pt x="15" y="69"/>
                  </a:lnTo>
                  <a:lnTo>
                    <a:pt x="15" y="68"/>
                  </a:lnTo>
                  <a:lnTo>
                    <a:pt x="14" y="66"/>
                  </a:lnTo>
                  <a:lnTo>
                    <a:pt x="14" y="65"/>
                  </a:lnTo>
                  <a:lnTo>
                    <a:pt x="13" y="63"/>
                  </a:lnTo>
                  <a:lnTo>
                    <a:pt x="13" y="61"/>
                  </a:lnTo>
                  <a:lnTo>
                    <a:pt x="13" y="58"/>
                  </a:lnTo>
                  <a:lnTo>
                    <a:pt x="13" y="54"/>
                  </a:lnTo>
                  <a:lnTo>
                    <a:pt x="13" y="31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13" y="19"/>
                  </a:lnTo>
                  <a:lnTo>
                    <a:pt x="13" y="9"/>
                  </a:lnTo>
                  <a:lnTo>
                    <a:pt x="39" y="0"/>
                  </a:lnTo>
                  <a:lnTo>
                    <a:pt x="39" y="19"/>
                  </a:lnTo>
                  <a:lnTo>
                    <a:pt x="57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82160" y="2792520"/>
              <a:ext cx="37800" cy="20160"/>
            </a:xfrm>
            <a:custGeom>
              <a:avLst/>
              <a:gdLst/>
              <a:ahLst/>
              <a:rect l="l" t="t" r="r" b="b"/>
              <a:pathLst>
                <a:path w="104" h="58">
                  <a:moveTo>
                    <a:pt x="26" y="28"/>
                  </a:moveTo>
                  <a:lnTo>
                    <a:pt x="26" y="32"/>
                  </a:lnTo>
                  <a:lnTo>
                    <a:pt x="28" y="36"/>
                  </a:lnTo>
                  <a:lnTo>
                    <a:pt x="30" y="38"/>
                  </a:lnTo>
                  <a:lnTo>
                    <a:pt x="34" y="41"/>
                  </a:lnTo>
                  <a:lnTo>
                    <a:pt x="37" y="42"/>
                  </a:lnTo>
                  <a:lnTo>
                    <a:pt x="42" y="44"/>
                  </a:lnTo>
                  <a:lnTo>
                    <a:pt x="46" y="45"/>
                  </a:lnTo>
                  <a:lnTo>
                    <a:pt x="51" y="45"/>
                  </a:lnTo>
                  <a:lnTo>
                    <a:pt x="56" y="45"/>
                  </a:lnTo>
                  <a:lnTo>
                    <a:pt x="60" y="44"/>
                  </a:lnTo>
                  <a:lnTo>
                    <a:pt x="65" y="42"/>
                  </a:lnTo>
                  <a:lnTo>
                    <a:pt x="68" y="41"/>
                  </a:lnTo>
                  <a:lnTo>
                    <a:pt x="71" y="38"/>
                  </a:lnTo>
                  <a:lnTo>
                    <a:pt x="73" y="36"/>
                  </a:lnTo>
                  <a:lnTo>
                    <a:pt x="74" y="32"/>
                  </a:lnTo>
                  <a:lnTo>
                    <a:pt x="75" y="28"/>
                  </a:lnTo>
                  <a:lnTo>
                    <a:pt x="74" y="24"/>
                  </a:lnTo>
                  <a:lnTo>
                    <a:pt x="73" y="21"/>
                  </a:lnTo>
                  <a:lnTo>
                    <a:pt x="71" y="18"/>
                  </a:lnTo>
                  <a:lnTo>
                    <a:pt x="68" y="16"/>
                  </a:lnTo>
                  <a:lnTo>
                    <a:pt x="65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1" y="12"/>
                  </a:lnTo>
                  <a:lnTo>
                    <a:pt x="46" y="12"/>
                  </a:lnTo>
                  <a:lnTo>
                    <a:pt x="42" y="13"/>
                  </a:lnTo>
                  <a:lnTo>
                    <a:pt x="37" y="14"/>
                  </a:lnTo>
                  <a:lnTo>
                    <a:pt x="34" y="16"/>
                  </a:lnTo>
                  <a:lnTo>
                    <a:pt x="30" y="18"/>
                  </a:lnTo>
                  <a:lnTo>
                    <a:pt x="28" y="21"/>
                  </a:lnTo>
                  <a:lnTo>
                    <a:pt x="26" y="24"/>
                  </a:lnTo>
                  <a:lnTo>
                    <a:pt x="26" y="28"/>
                  </a:lnTo>
                  <a:close/>
                  <a:moveTo>
                    <a:pt x="0" y="28"/>
                  </a:moveTo>
                  <a:lnTo>
                    <a:pt x="0" y="24"/>
                  </a:lnTo>
                  <a:lnTo>
                    <a:pt x="1" y="20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4" y="7"/>
                  </a:lnTo>
                  <a:lnTo>
                    <a:pt x="19" y="5"/>
                  </a:lnTo>
                  <a:lnTo>
                    <a:pt x="25" y="3"/>
                  </a:lnTo>
                  <a:lnTo>
                    <a:pt x="30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2" y="0"/>
                  </a:lnTo>
                  <a:lnTo>
                    <a:pt x="72" y="2"/>
                  </a:lnTo>
                  <a:lnTo>
                    <a:pt x="81" y="4"/>
                  </a:lnTo>
                  <a:lnTo>
                    <a:pt x="89" y="7"/>
                  </a:lnTo>
                  <a:lnTo>
                    <a:pt x="94" y="12"/>
                  </a:lnTo>
                  <a:lnTo>
                    <a:pt x="100" y="17"/>
                  </a:lnTo>
                  <a:lnTo>
                    <a:pt x="102" y="22"/>
                  </a:lnTo>
                  <a:lnTo>
                    <a:pt x="103" y="28"/>
                  </a:lnTo>
                  <a:lnTo>
                    <a:pt x="102" y="34"/>
                  </a:lnTo>
                  <a:lnTo>
                    <a:pt x="100" y="40"/>
                  </a:lnTo>
                  <a:lnTo>
                    <a:pt x="94" y="44"/>
                  </a:lnTo>
                  <a:lnTo>
                    <a:pt x="89" y="49"/>
                  </a:lnTo>
                  <a:lnTo>
                    <a:pt x="81" y="52"/>
                  </a:lnTo>
                  <a:lnTo>
                    <a:pt x="72" y="54"/>
                  </a:lnTo>
                  <a:lnTo>
                    <a:pt x="62" y="56"/>
                  </a:lnTo>
                  <a:lnTo>
                    <a:pt x="51" y="57"/>
                  </a:lnTo>
                  <a:lnTo>
                    <a:pt x="44" y="56"/>
                  </a:lnTo>
                  <a:lnTo>
                    <a:pt x="38" y="56"/>
                  </a:lnTo>
                  <a:lnTo>
                    <a:pt x="31" y="54"/>
                  </a:lnTo>
                  <a:lnTo>
                    <a:pt x="26" y="54"/>
                  </a:lnTo>
                  <a:lnTo>
                    <a:pt x="19" y="52"/>
                  </a:lnTo>
                  <a:lnTo>
                    <a:pt x="14" y="49"/>
                  </a:lnTo>
                  <a:lnTo>
                    <a:pt x="10" y="47"/>
                  </a:lnTo>
                  <a:lnTo>
                    <a:pt x="6" y="43"/>
                  </a:lnTo>
                  <a:lnTo>
                    <a:pt x="4" y="40"/>
                  </a:lnTo>
                  <a:lnTo>
                    <a:pt x="1" y="36"/>
                  </a:lnTo>
                  <a:lnTo>
                    <a:pt x="0" y="3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26800" y="2784600"/>
              <a:ext cx="9000" cy="2664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0" y="76"/>
                  </a:moveTo>
                  <a:lnTo>
                    <a:pt x="0" y="21"/>
                  </a:lnTo>
                  <a:lnTo>
                    <a:pt x="26" y="21"/>
                  </a:lnTo>
                  <a:lnTo>
                    <a:pt x="26" y="76"/>
                  </a:lnTo>
                  <a:lnTo>
                    <a:pt x="0" y="76"/>
                  </a:lnTo>
                  <a:close/>
                  <a:moveTo>
                    <a:pt x="0" y="13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45880" y="2792520"/>
              <a:ext cx="23400" cy="2016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26" y="56"/>
                  </a:moveTo>
                  <a:lnTo>
                    <a:pt x="0" y="56"/>
                  </a:lnTo>
                  <a:lnTo>
                    <a:pt x="0" y="1"/>
                  </a:lnTo>
                  <a:lnTo>
                    <a:pt x="25" y="1"/>
                  </a:lnTo>
                  <a:lnTo>
                    <a:pt x="25" y="9"/>
                  </a:lnTo>
                  <a:lnTo>
                    <a:pt x="28" y="6"/>
                  </a:lnTo>
                  <a:lnTo>
                    <a:pt x="30" y="4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1"/>
                  </a:lnTo>
                  <a:lnTo>
                    <a:pt x="65" y="2"/>
                  </a:lnTo>
                  <a:lnTo>
                    <a:pt x="57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5" y="14"/>
                  </a:lnTo>
                  <a:lnTo>
                    <a:pt x="32" y="15"/>
                  </a:lnTo>
                  <a:lnTo>
                    <a:pt x="30" y="16"/>
                  </a:lnTo>
                  <a:lnTo>
                    <a:pt x="29" y="18"/>
                  </a:lnTo>
                  <a:lnTo>
                    <a:pt x="29" y="20"/>
                  </a:lnTo>
                  <a:lnTo>
                    <a:pt x="28" y="23"/>
                  </a:lnTo>
                  <a:lnTo>
                    <a:pt x="26" y="27"/>
                  </a:lnTo>
                  <a:lnTo>
                    <a:pt x="26" y="32"/>
                  </a:lnTo>
                  <a:lnTo>
                    <a:pt x="26" y="38"/>
                  </a:lnTo>
                  <a:lnTo>
                    <a:pt x="26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69640" y="2792520"/>
              <a:ext cx="34560" cy="20160"/>
            </a:xfrm>
            <a:custGeom>
              <a:avLst/>
              <a:gdLst/>
              <a:ahLst/>
              <a:rect l="l" t="t" r="r" b="b"/>
              <a:pathLst>
                <a:path w="95" h="58">
                  <a:moveTo>
                    <a:pt x="68" y="23"/>
                  </a:moveTo>
                  <a:lnTo>
                    <a:pt x="67" y="20"/>
                  </a:lnTo>
                  <a:lnTo>
                    <a:pt x="66" y="18"/>
                  </a:lnTo>
                  <a:lnTo>
                    <a:pt x="64" y="15"/>
                  </a:lnTo>
                  <a:lnTo>
                    <a:pt x="62" y="14"/>
                  </a:lnTo>
                  <a:lnTo>
                    <a:pt x="59" y="12"/>
                  </a:lnTo>
                  <a:lnTo>
                    <a:pt x="56" y="11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3" y="11"/>
                  </a:lnTo>
                  <a:lnTo>
                    <a:pt x="40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1" y="16"/>
                  </a:lnTo>
                  <a:lnTo>
                    <a:pt x="29" y="18"/>
                  </a:lnTo>
                  <a:lnTo>
                    <a:pt x="28" y="20"/>
                  </a:lnTo>
                  <a:lnTo>
                    <a:pt x="28" y="23"/>
                  </a:lnTo>
                  <a:lnTo>
                    <a:pt x="68" y="23"/>
                  </a:lnTo>
                  <a:close/>
                  <a:moveTo>
                    <a:pt x="65" y="38"/>
                  </a:moveTo>
                  <a:lnTo>
                    <a:pt x="92" y="41"/>
                  </a:lnTo>
                  <a:lnTo>
                    <a:pt x="89" y="44"/>
                  </a:lnTo>
                  <a:lnTo>
                    <a:pt x="85" y="48"/>
                  </a:lnTo>
                  <a:lnTo>
                    <a:pt x="81" y="51"/>
                  </a:lnTo>
                  <a:lnTo>
                    <a:pt x="77" y="53"/>
                  </a:lnTo>
                  <a:lnTo>
                    <a:pt x="70" y="54"/>
                  </a:lnTo>
                  <a:lnTo>
                    <a:pt x="63" y="56"/>
                  </a:lnTo>
                  <a:lnTo>
                    <a:pt x="56" y="56"/>
                  </a:lnTo>
                  <a:lnTo>
                    <a:pt x="49" y="57"/>
                  </a:lnTo>
                  <a:lnTo>
                    <a:pt x="36" y="56"/>
                  </a:lnTo>
                  <a:lnTo>
                    <a:pt x="26" y="54"/>
                  </a:lnTo>
                  <a:lnTo>
                    <a:pt x="18" y="52"/>
                  </a:lnTo>
                  <a:lnTo>
                    <a:pt x="11" y="48"/>
                  </a:lnTo>
                  <a:lnTo>
                    <a:pt x="5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1" y="22"/>
                  </a:lnTo>
                  <a:lnTo>
                    <a:pt x="3" y="16"/>
                  </a:lnTo>
                  <a:lnTo>
                    <a:pt x="7" y="11"/>
                  </a:lnTo>
                  <a:lnTo>
                    <a:pt x="14" y="7"/>
                  </a:lnTo>
                  <a:lnTo>
                    <a:pt x="20" y="4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57" y="0"/>
                  </a:lnTo>
                  <a:lnTo>
                    <a:pt x="66" y="2"/>
                  </a:lnTo>
                  <a:lnTo>
                    <a:pt x="74" y="4"/>
                  </a:lnTo>
                  <a:lnTo>
                    <a:pt x="81" y="7"/>
                  </a:lnTo>
                  <a:lnTo>
                    <a:pt x="87" y="12"/>
                  </a:lnTo>
                  <a:lnTo>
                    <a:pt x="91" y="18"/>
                  </a:lnTo>
                  <a:lnTo>
                    <a:pt x="94" y="24"/>
                  </a:lnTo>
                  <a:lnTo>
                    <a:pt x="94" y="32"/>
                  </a:lnTo>
                  <a:lnTo>
                    <a:pt x="27" y="32"/>
                  </a:lnTo>
                  <a:lnTo>
                    <a:pt x="27" y="36"/>
                  </a:lnTo>
                  <a:lnTo>
                    <a:pt x="29" y="38"/>
                  </a:lnTo>
                  <a:lnTo>
                    <a:pt x="31" y="40"/>
                  </a:lnTo>
                  <a:lnTo>
                    <a:pt x="34" y="42"/>
                  </a:lnTo>
                  <a:lnTo>
                    <a:pt x="37" y="44"/>
                  </a:lnTo>
                  <a:lnTo>
                    <a:pt x="40" y="45"/>
                  </a:lnTo>
                  <a:lnTo>
                    <a:pt x="44" y="46"/>
                  </a:lnTo>
                  <a:lnTo>
                    <a:pt x="49" y="46"/>
                  </a:lnTo>
                  <a:lnTo>
                    <a:pt x="51" y="46"/>
                  </a:lnTo>
                  <a:lnTo>
                    <a:pt x="54" y="45"/>
                  </a:lnTo>
                  <a:lnTo>
                    <a:pt x="57" y="45"/>
                  </a:lnTo>
                  <a:lnTo>
                    <a:pt x="59" y="44"/>
                  </a:lnTo>
                  <a:lnTo>
                    <a:pt x="61" y="43"/>
                  </a:lnTo>
                  <a:lnTo>
                    <a:pt x="63" y="42"/>
                  </a:lnTo>
                  <a:lnTo>
                    <a:pt x="64" y="40"/>
                  </a:lnTo>
                  <a:lnTo>
                    <a:pt x="6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164600" y="1571400"/>
              <a:ext cx="1080" cy="1080"/>
            </a:xfrm>
            <a:prstGeom prst="line">
              <a:avLst/>
            </a:prstGeom>
            <a:ln w="432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183680" y="1474560"/>
              <a:ext cx="199440" cy="121680"/>
            </a:xfrm>
            <a:custGeom>
              <a:avLst/>
              <a:gdLst/>
              <a:ahLst/>
              <a:rect l="l" t="t" r="r" b="b"/>
              <a:pathLst>
                <a:path w="556" h="339">
                  <a:moveTo>
                    <a:pt x="0" y="338"/>
                  </a:moveTo>
                  <a:lnTo>
                    <a:pt x="555" y="0"/>
                  </a:lnTo>
                  <a:lnTo>
                    <a:pt x="0" y="33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235880" y="1453680"/>
              <a:ext cx="240840" cy="147240"/>
            </a:xfrm>
            <a:custGeom>
              <a:avLst/>
              <a:gdLst/>
              <a:ahLst/>
              <a:rect l="l" t="t" r="r" b="b"/>
              <a:pathLst>
                <a:path w="672" h="410">
                  <a:moveTo>
                    <a:pt x="0" y="409"/>
                  </a:moveTo>
                  <a:lnTo>
                    <a:pt x="671" y="0"/>
                  </a:lnTo>
                  <a:lnTo>
                    <a:pt x="0" y="40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286640" y="1437840"/>
              <a:ext cx="276120" cy="168120"/>
            </a:xfrm>
            <a:custGeom>
              <a:avLst/>
              <a:gdLst/>
              <a:ahLst/>
              <a:rect l="l" t="t" r="r" b="b"/>
              <a:pathLst>
                <a:path w="767" h="468">
                  <a:moveTo>
                    <a:pt x="0" y="467"/>
                  </a:moveTo>
                  <a:lnTo>
                    <a:pt x="766" y="0"/>
                  </a:lnTo>
                  <a:lnTo>
                    <a:pt x="0" y="46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339200" y="1439640"/>
              <a:ext cx="280440" cy="171000"/>
            </a:xfrm>
            <a:custGeom>
              <a:avLst/>
              <a:gdLst/>
              <a:ahLst/>
              <a:rect l="l" t="t" r="r" b="b"/>
              <a:pathLst>
                <a:path w="779" h="475">
                  <a:moveTo>
                    <a:pt x="0" y="474"/>
                  </a:moveTo>
                  <a:lnTo>
                    <a:pt x="778" y="0"/>
                  </a:lnTo>
                  <a:lnTo>
                    <a:pt x="0" y="47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620000" y="1437840"/>
              <a:ext cx="28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7" y="0"/>
                  </a:lnTo>
                  <a:lnTo>
                    <a:pt x="0" y="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389960" y="1445760"/>
              <a:ext cx="282240" cy="171360"/>
            </a:xfrm>
            <a:custGeom>
              <a:avLst/>
              <a:gdLst/>
              <a:ahLst/>
              <a:rect l="l" t="t" r="r" b="b"/>
              <a:pathLst>
                <a:path w="784" h="478">
                  <a:moveTo>
                    <a:pt x="0" y="477"/>
                  </a:moveTo>
                  <a:lnTo>
                    <a:pt x="783" y="0"/>
                  </a:lnTo>
                  <a:lnTo>
                    <a:pt x="0" y="47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40720" y="1552320"/>
              <a:ext cx="115560" cy="70920"/>
            </a:xfrm>
            <a:custGeom>
              <a:avLst/>
              <a:gdLst/>
              <a:ahLst/>
              <a:rect l="l" t="t" r="r" b="b"/>
              <a:pathLst>
                <a:path w="322" h="197">
                  <a:moveTo>
                    <a:pt x="0" y="196"/>
                  </a:moveTo>
                  <a:lnTo>
                    <a:pt x="321" y="0"/>
                  </a:lnTo>
                  <a:lnTo>
                    <a:pt x="0" y="196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604160" y="1464840"/>
              <a:ext cx="96480" cy="58320"/>
            </a:xfrm>
            <a:custGeom>
              <a:avLst/>
              <a:gdLst/>
              <a:ahLst/>
              <a:rect l="l" t="t" r="r" b="b"/>
              <a:pathLst>
                <a:path w="268" h="163">
                  <a:moveTo>
                    <a:pt x="0" y="162"/>
                  </a:moveTo>
                  <a:lnTo>
                    <a:pt x="267" y="0"/>
                  </a:lnTo>
                  <a:lnTo>
                    <a:pt x="0" y="16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701000" y="1460160"/>
              <a:ext cx="6120" cy="43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11"/>
                  </a:moveTo>
                  <a:lnTo>
                    <a:pt x="18" y="0"/>
                  </a:lnTo>
                  <a:lnTo>
                    <a:pt x="0" y="1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708920" y="1447560"/>
              <a:ext cx="18720" cy="108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0" y="31"/>
                  </a:moveTo>
                  <a:lnTo>
                    <a:pt x="51" y="0"/>
                  </a:lnTo>
                  <a:lnTo>
                    <a:pt x="0" y="3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731240" y="1437840"/>
              <a:ext cx="10800" cy="75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0" y="20"/>
                  </a:moveTo>
                  <a:lnTo>
                    <a:pt x="31" y="0"/>
                  </a:lnTo>
                  <a:lnTo>
                    <a:pt x="0" y="20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745640" y="1433160"/>
              <a:ext cx="5760" cy="28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9"/>
                  </a:moveTo>
                  <a:lnTo>
                    <a:pt x="16" y="0"/>
                  </a:lnTo>
                  <a:lnTo>
                    <a:pt x="0" y="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756800" y="1422000"/>
              <a:ext cx="12240" cy="75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0" y="22"/>
                  </a:moveTo>
                  <a:lnTo>
                    <a:pt x="36" y="0"/>
                  </a:lnTo>
                  <a:lnTo>
                    <a:pt x="0" y="2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407240" y="1676160"/>
              <a:ext cx="4680" cy="2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8"/>
                  </a:moveTo>
                  <a:lnTo>
                    <a:pt x="13" y="0"/>
                  </a:lnTo>
                  <a:lnTo>
                    <a:pt x="0" y="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464480" y="1571400"/>
              <a:ext cx="120240" cy="72360"/>
            </a:xfrm>
            <a:custGeom>
              <a:avLst/>
              <a:gdLst/>
              <a:ahLst/>
              <a:rect l="l" t="t" r="r" b="b"/>
              <a:pathLst>
                <a:path w="333" h="203">
                  <a:moveTo>
                    <a:pt x="0" y="202"/>
                  </a:moveTo>
                  <a:lnTo>
                    <a:pt x="332" y="0"/>
                  </a:lnTo>
                  <a:lnTo>
                    <a:pt x="0" y="20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697760" y="1472760"/>
              <a:ext cx="48960" cy="29880"/>
            </a:xfrm>
            <a:custGeom>
              <a:avLst/>
              <a:gdLst/>
              <a:ahLst/>
              <a:rect l="l" t="t" r="r" b="b"/>
              <a:pathLst>
                <a:path w="135" h="82">
                  <a:moveTo>
                    <a:pt x="0" y="81"/>
                  </a:moveTo>
                  <a:lnTo>
                    <a:pt x="134" y="0"/>
                  </a:lnTo>
                  <a:lnTo>
                    <a:pt x="0" y="8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750320" y="1469520"/>
              <a:ext cx="108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753560" y="1461600"/>
              <a:ext cx="10800" cy="61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8"/>
                  </a:moveTo>
                  <a:lnTo>
                    <a:pt x="31" y="0"/>
                  </a:lnTo>
                  <a:lnTo>
                    <a:pt x="0" y="1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794600" y="1436400"/>
              <a:ext cx="12600" cy="756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0" y="21"/>
                  </a:moveTo>
                  <a:lnTo>
                    <a:pt x="33" y="0"/>
                  </a:lnTo>
                  <a:lnTo>
                    <a:pt x="0" y="2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488240" y="1665000"/>
              <a:ext cx="2880" cy="1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5"/>
                  </a:moveTo>
                  <a:lnTo>
                    <a:pt x="7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491480" y="1571400"/>
              <a:ext cx="153720" cy="93240"/>
            </a:xfrm>
            <a:custGeom>
              <a:avLst/>
              <a:gdLst/>
              <a:ahLst/>
              <a:rect l="l" t="t" r="r" b="b"/>
              <a:pathLst>
                <a:path w="426" h="260">
                  <a:moveTo>
                    <a:pt x="0" y="259"/>
                  </a:moveTo>
                  <a:lnTo>
                    <a:pt x="425" y="0"/>
                  </a:lnTo>
                  <a:lnTo>
                    <a:pt x="0" y="25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678680" y="1544400"/>
              <a:ext cx="10800" cy="75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9"/>
                  </a:moveTo>
                  <a:lnTo>
                    <a:pt x="31" y="0"/>
                  </a:lnTo>
                  <a:lnTo>
                    <a:pt x="0" y="1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723320" y="1522080"/>
              <a:ext cx="4320" cy="288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7"/>
                  </a:moveTo>
                  <a:lnTo>
                    <a:pt x="11" y="0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742400" y="1507680"/>
              <a:ext cx="4320" cy="2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8"/>
                  </a:moveTo>
                  <a:lnTo>
                    <a:pt x="14" y="0"/>
                  </a:lnTo>
                  <a:lnTo>
                    <a:pt x="0" y="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783800" y="1485720"/>
              <a:ext cx="1080" cy="1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lnTo>
                    <a:pt x="4" y="0"/>
                  </a:lnTo>
                  <a:lnTo>
                    <a:pt x="0" y="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786680" y="1476000"/>
              <a:ext cx="15480" cy="936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0" y="27"/>
                  </a:moveTo>
                  <a:lnTo>
                    <a:pt x="43" y="0"/>
                  </a:lnTo>
                  <a:lnTo>
                    <a:pt x="0" y="2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561320" y="1644120"/>
              <a:ext cx="23400" cy="1404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0" y="40"/>
                  </a:moveTo>
                  <a:lnTo>
                    <a:pt x="65" y="0"/>
                  </a:lnTo>
                  <a:lnTo>
                    <a:pt x="0" y="40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586880" y="1633320"/>
              <a:ext cx="16920" cy="1044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0" y="29"/>
                  </a:moveTo>
                  <a:lnTo>
                    <a:pt x="47" y="0"/>
                  </a:lnTo>
                  <a:lnTo>
                    <a:pt x="0" y="2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604160" y="1533240"/>
              <a:ext cx="164880" cy="99720"/>
            </a:xfrm>
            <a:custGeom>
              <a:avLst/>
              <a:gdLst/>
              <a:ahLst/>
              <a:rect l="l" t="t" r="r" b="b"/>
              <a:pathLst>
                <a:path w="457" h="279">
                  <a:moveTo>
                    <a:pt x="0" y="278"/>
                  </a:moveTo>
                  <a:lnTo>
                    <a:pt x="456" y="0"/>
                  </a:lnTo>
                  <a:lnTo>
                    <a:pt x="0" y="27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767600" y="1530000"/>
              <a:ext cx="4680" cy="288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7"/>
                  </a:moveTo>
                  <a:lnTo>
                    <a:pt x="11" y="0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805760" y="1509480"/>
              <a:ext cx="144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809000" y="1501560"/>
              <a:ext cx="10800" cy="756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0" y="19"/>
                  </a:moveTo>
                  <a:lnTo>
                    <a:pt x="30" y="0"/>
                  </a:lnTo>
                  <a:lnTo>
                    <a:pt x="0" y="1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828080" y="1495080"/>
              <a:ext cx="108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843920" y="1479240"/>
              <a:ext cx="10800" cy="75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0" y="20"/>
                  </a:moveTo>
                  <a:lnTo>
                    <a:pt x="31" y="0"/>
                  </a:lnTo>
                  <a:lnTo>
                    <a:pt x="0" y="20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881720" y="1444320"/>
              <a:ext cx="31320" cy="1872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0" y="52"/>
                  </a:moveTo>
                  <a:lnTo>
                    <a:pt x="85" y="0"/>
                  </a:lnTo>
                  <a:lnTo>
                    <a:pt x="0" y="5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913400" y="1442520"/>
              <a:ext cx="2880" cy="14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5"/>
                  </a:moveTo>
                  <a:lnTo>
                    <a:pt x="9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918080" y="1439640"/>
              <a:ext cx="2880" cy="25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6"/>
                  </a:moveTo>
                  <a:lnTo>
                    <a:pt x="10" y="0"/>
                  </a:lnTo>
                  <a:lnTo>
                    <a:pt x="0" y="6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929240" y="1431720"/>
              <a:ext cx="2880" cy="25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7"/>
                  </a:moveTo>
                  <a:lnTo>
                    <a:pt x="10" y="0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933920" y="1423800"/>
              <a:ext cx="12600" cy="756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20"/>
                  </a:moveTo>
                  <a:lnTo>
                    <a:pt x="35" y="0"/>
                  </a:lnTo>
                  <a:lnTo>
                    <a:pt x="0" y="20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951560" y="1415520"/>
              <a:ext cx="7560" cy="468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0" y="13"/>
                  </a:moveTo>
                  <a:lnTo>
                    <a:pt x="21" y="0"/>
                  </a:lnTo>
                  <a:lnTo>
                    <a:pt x="0" y="13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607400" y="1666440"/>
              <a:ext cx="108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618560" y="1645920"/>
              <a:ext cx="23400" cy="1548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0" y="41"/>
                  </a:moveTo>
                  <a:lnTo>
                    <a:pt x="67" y="0"/>
                  </a:lnTo>
                  <a:lnTo>
                    <a:pt x="0" y="4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643760" y="1641240"/>
              <a:ext cx="6120" cy="25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10"/>
                  </a:moveTo>
                  <a:lnTo>
                    <a:pt x="17" y="0"/>
                  </a:lnTo>
                  <a:lnTo>
                    <a:pt x="0" y="10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656720" y="1630080"/>
              <a:ext cx="13680" cy="75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2"/>
                  </a:moveTo>
                  <a:lnTo>
                    <a:pt x="37" y="0"/>
                  </a:lnTo>
                  <a:lnTo>
                    <a:pt x="0" y="2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685160" y="1552320"/>
              <a:ext cx="109080" cy="66240"/>
            </a:xfrm>
            <a:custGeom>
              <a:avLst/>
              <a:gdLst/>
              <a:ahLst/>
              <a:rect l="l" t="t" r="r" b="b"/>
              <a:pathLst>
                <a:path w="306" h="187">
                  <a:moveTo>
                    <a:pt x="0" y="186"/>
                  </a:moveTo>
                  <a:lnTo>
                    <a:pt x="305" y="0"/>
                  </a:lnTo>
                  <a:lnTo>
                    <a:pt x="0" y="186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796400" y="1549080"/>
              <a:ext cx="4320" cy="288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7"/>
                  </a:moveTo>
                  <a:lnTo>
                    <a:pt x="11" y="0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01080" y="1549080"/>
              <a:ext cx="108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3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850400" y="1514160"/>
              <a:ext cx="7560" cy="43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14"/>
                  </a:move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880280" y="1499760"/>
              <a:ext cx="1080" cy="1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0"/>
                  </a:lnTo>
                  <a:lnTo>
                    <a:pt x="0" y="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881720" y="1485720"/>
              <a:ext cx="23400" cy="1368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0" y="39"/>
                  </a:moveTo>
                  <a:lnTo>
                    <a:pt x="64" y="0"/>
                  </a:lnTo>
                  <a:lnTo>
                    <a:pt x="0" y="3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919880" y="1476000"/>
              <a:ext cx="1080" cy="10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3"/>
                  </a:moveTo>
                  <a:lnTo>
                    <a:pt x="5" y="0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924560" y="1469520"/>
              <a:ext cx="6120" cy="28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10"/>
                  </a:moveTo>
                  <a:lnTo>
                    <a:pt x="17" y="0"/>
                  </a:lnTo>
                  <a:lnTo>
                    <a:pt x="0" y="10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932480" y="1466640"/>
              <a:ext cx="6120" cy="25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9"/>
                  </a:moveTo>
                  <a:lnTo>
                    <a:pt x="15" y="0"/>
                  </a:lnTo>
                  <a:lnTo>
                    <a:pt x="0" y="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002320" y="1420560"/>
              <a:ext cx="9360" cy="57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15"/>
                  </a:moveTo>
                  <a:lnTo>
                    <a:pt x="25" y="0"/>
                  </a:lnTo>
                  <a:lnTo>
                    <a:pt x="0" y="15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013480" y="1417320"/>
              <a:ext cx="432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8"/>
                  </a:moveTo>
                  <a:lnTo>
                    <a:pt x="13" y="0"/>
                  </a:lnTo>
                  <a:lnTo>
                    <a:pt x="0" y="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18160" y="1414080"/>
              <a:ext cx="4320" cy="288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7"/>
                  </a:moveTo>
                  <a:lnTo>
                    <a:pt x="11" y="0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753560" y="1591920"/>
              <a:ext cx="37800" cy="21960"/>
            </a:xfrm>
            <a:custGeom>
              <a:avLst/>
              <a:gdLst/>
              <a:ahLst/>
              <a:rect l="l" t="t" r="r" b="b"/>
              <a:pathLst>
                <a:path w="104" h="63">
                  <a:moveTo>
                    <a:pt x="0" y="62"/>
                  </a:moveTo>
                  <a:lnTo>
                    <a:pt x="103" y="0"/>
                  </a:lnTo>
                  <a:lnTo>
                    <a:pt x="0" y="6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794600" y="1588680"/>
              <a:ext cx="1440" cy="14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761480" y="1644120"/>
              <a:ext cx="2880" cy="14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5"/>
                  </a:moveTo>
                  <a:lnTo>
                    <a:pt x="9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767600" y="1642680"/>
              <a:ext cx="1440" cy="10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3"/>
                  </a:moveTo>
                  <a:lnTo>
                    <a:pt x="5" y="0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772640" y="1638000"/>
              <a:ext cx="2520" cy="10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4"/>
                  </a:moveTo>
                  <a:lnTo>
                    <a:pt x="6" y="0"/>
                  </a:lnTo>
                  <a:lnTo>
                    <a:pt x="0" y="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537280" y="2302560"/>
              <a:ext cx="9360" cy="43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14"/>
                  </a:moveTo>
                  <a:lnTo>
                    <a:pt x="24" y="0"/>
                  </a:lnTo>
                  <a:lnTo>
                    <a:pt x="0" y="1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589840" y="2275560"/>
              <a:ext cx="108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3" y="0"/>
                  </a:lnTo>
                  <a:lnTo>
                    <a:pt x="0" y="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554920" y="2281680"/>
              <a:ext cx="85320" cy="52200"/>
            </a:xfrm>
            <a:custGeom>
              <a:avLst/>
              <a:gdLst/>
              <a:ahLst/>
              <a:rect l="l" t="t" r="r" b="b"/>
              <a:pathLst>
                <a:path w="239" h="147">
                  <a:moveTo>
                    <a:pt x="0" y="146"/>
                  </a:moveTo>
                  <a:lnTo>
                    <a:pt x="238" y="0"/>
                  </a:lnTo>
                  <a:lnTo>
                    <a:pt x="0" y="146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576880" y="2254680"/>
              <a:ext cx="166320" cy="101160"/>
            </a:xfrm>
            <a:custGeom>
              <a:avLst/>
              <a:gdLst/>
              <a:ahLst/>
              <a:rect l="l" t="t" r="r" b="b"/>
              <a:pathLst>
                <a:path w="465" h="283">
                  <a:moveTo>
                    <a:pt x="0" y="282"/>
                  </a:moveTo>
                  <a:lnTo>
                    <a:pt x="464" y="0"/>
                  </a:lnTo>
                  <a:lnTo>
                    <a:pt x="0" y="28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646720" y="2291400"/>
              <a:ext cx="99720" cy="59760"/>
            </a:xfrm>
            <a:custGeom>
              <a:avLst/>
              <a:gdLst/>
              <a:ahLst/>
              <a:rect l="l" t="t" r="r" b="b"/>
              <a:pathLst>
                <a:path w="276" h="168">
                  <a:moveTo>
                    <a:pt x="0" y="167"/>
                  </a:moveTo>
                  <a:lnTo>
                    <a:pt x="275" y="0"/>
                  </a:lnTo>
                  <a:lnTo>
                    <a:pt x="0" y="16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719520" y="2256480"/>
              <a:ext cx="163440" cy="99360"/>
            </a:xfrm>
            <a:custGeom>
              <a:avLst/>
              <a:gdLst/>
              <a:ahLst/>
              <a:rect l="l" t="t" r="r" b="b"/>
              <a:pathLst>
                <a:path w="455" h="277">
                  <a:moveTo>
                    <a:pt x="0" y="276"/>
                  </a:moveTo>
                  <a:lnTo>
                    <a:pt x="454" y="0"/>
                  </a:lnTo>
                  <a:lnTo>
                    <a:pt x="0" y="276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718080" y="2210400"/>
              <a:ext cx="299520" cy="182160"/>
            </a:xfrm>
            <a:custGeom>
              <a:avLst/>
              <a:gdLst/>
              <a:ahLst/>
              <a:rect l="l" t="t" r="r" b="b"/>
              <a:pathLst>
                <a:path w="834" h="509">
                  <a:moveTo>
                    <a:pt x="0" y="508"/>
                  </a:moveTo>
                  <a:lnTo>
                    <a:pt x="833" y="0"/>
                  </a:lnTo>
                  <a:lnTo>
                    <a:pt x="0" y="50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794040" y="2186640"/>
              <a:ext cx="321840" cy="196200"/>
            </a:xfrm>
            <a:custGeom>
              <a:avLst/>
              <a:gdLst/>
              <a:ahLst/>
              <a:rect l="l" t="t" r="r" b="b"/>
              <a:pathLst>
                <a:path w="895" h="546">
                  <a:moveTo>
                    <a:pt x="0" y="545"/>
                  </a:moveTo>
                  <a:lnTo>
                    <a:pt x="894" y="0"/>
                  </a:lnTo>
                  <a:lnTo>
                    <a:pt x="0" y="545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865320" y="2226240"/>
              <a:ext cx="247320" cy="150480"/>
            </a:xfrm>
            <a:custGeom>
              <a:avLst/>
              <a:gdLst/>
              <a:ahLst/>
              <a:rect l="l" t="t" r="r" b="b"/>
              <a:pathLst>
                <a:path w="688" h="419">
                  <a:moveTo>
                    <a:pt x="0" y="418"/>
                  </a:moveTo>
                  <a:lnTo>
                    <a:pt x="687" y="0"/>
                  </a:lnTo>
                  <a:lnTo>
                    <a:pt x="0" y="41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866760" y="2208600"/>
              <a:ext cx="334800" cy="204480"/>
            </a:xfrm>
            <a:custGeom>
              <a:avLst/>
              <a:gdLst/>
              <a:ahLst/>
              <a:rect l="l" t="t" r="r" b="b"/>
              <a:pathLst>
                <a:path w="931" h="567">
                  <a:moveTo>
                    <a:pt x="0" y="566"/>
                  </a:moveTo>
                  <a:lnTo>
                    <a:pt x="930" y="0"/>
                  </a:lnTo>
                  <a:lnTo>
                    <a:pt x="0" y="566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858840" y="2246760"/>
              <a:ext cx="339480" cy="205920"/>
            </a:xfrm>
            <a:custGeom>
              <a:avLst/>
              <a:gdLst/>
              <a:ahLst/>
              <a:rect l="l" t="t" r="r" b="b"/>
              <a:pathLst>
                <a:path w="944" h="575">
                  <a:moveTo>
                    <a:pt x="0" y="574"/>
                  </a:moveTo>
                  <a:lnTo>
                    <a:pt x="943" y="0"/>
                  </a:lnTo>
                  <a:lnTo>
                    <a:pt x="0" y="57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922560" y="2284920"/>
              <a:ext cx="274320" cy="166320"/>
            </a:xfrm>
            <a:custGeom>
              <a:avLst/>
              <a:gdLst/>
              <a:ahLst/>
              <a:rect l="l" t="t" r="r" b="b"/>
              <a:pathLst>
                <a:path w="763" h="464">
                  <a:moveTo>
                    <a:pt x="0" y="463"/>
                  </a:moveTo>
                  <a:lnTo>
                    <a:pt x="762" y="0"/>
                  </a:lnTo>
                  <a:lnTo>
                    <a:pt x="0" y="463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057560" y="2332440"/>
              <a:ext cx="121680" cy="74520"/>
            </a:xfrm>
            <a:custGeom>
              <a:avLst/>
              <a:gdLst/>
              <a:ahLst/>
              <a:rect l="l" t="t" r="r" b="b"/>
              <a:pathLst>
                <a:path w="338" h="206">
                  <a:moveTo>
                    <a:pt x="0" y="205"/>
                  </a:moveTo>
                  <a:lnTo>
                    <a:pt x="337" y="0"/>
                  </a:lnTo>
                  <a:lnTo>
                    <a:pt x="0" y="205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871800" y="2540520"/>
              <a:ext cx="24840" cy="15480"/>
            </a:xfrm>
            <a:custGeom>
              <a:avLst/>
              <a:gdLst/>
              <a:ahLst/>
              <a:rect l="l" t="t" r="r" b="b"/>
              <a:pathLst>
                <a:path w="72" h="45">
                  <a:moveTo>
                    <a:pt x="0" y="44"/>
                  </a:moveTo>
                  <a:lnTo>
                    <a:pt x="71" y="0"/>
                  </a:lnTo>
                  <a:lnTo>
                    <a:pt x="0" y="4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958920" y="2532600"/>
              <a:ext cx="10800" cy="612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0" y="18"/>
                  </a:moveTo>
                  <a:lnTo>
                    <a:pt x="30" y="0"/>
                  </a:lnTo>
                  <a:lnTo>
                    <a:pt x="0" y="1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970080" y="2524680"/>
              <a:ext cx="12240" cy="756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0"/>
                  </a:moveTo>
                  <a:lnTo>
                    <a:pt x="33" y="0"/>
                  </a:lnTo>
                  <a:lnTo>
                    <a:pt x="0" y="20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055760" y="2508840"/>
              <a:ext cx="12600" cy="75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1"/>
                  </a:moveTo>
                  <a:lnTo>
                    <a:pt x="34" y="0"/>
                  </a:lnTo>
                  <a:lnTo>
                    <a:pt x="0" y="2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73400" y="2495880"/>
              <a:ext cx="16920" cy="1080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0" y="28"/>
                  </a:moveTo>
                  <a:lnTo>
                    <a:pt x="46" y="0"/>
                  </a:lnTo>
                  <a:lnTo>
                    <a:pt x="0" y="2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000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741240" y="63360"/>
            <a:ext cx="8609040" cy="1702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Город Владимир остается на протяжении многих веков историческим цетром.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 type="subTitle"/>
          </p:nvPr>
        </p:nvSpPr>
        <p:spPr>
          <a:xfrm>
            <a:off x="741240" y="200772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Совершайте увлекательные экскурсии в этот замечательный город всей семьей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  <p:transition spd="med" advTm="1000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1:35:44Z</dcterms:created>
  <dc:creator/>
  <dc:description/>
  <dc:language>en-US</dc:language>
  <cp:lastModifiedBy>imc</cp:lastModifiedBy>
  <dcterms:modified xsi:type="dcterms:W3CDTF">2013-02-13T07:28:11Z</dcterms:modified>
  <cp:revision>2</cp:revision>
  <dc:subject/>
  <dc:title>Город Владимир</dc:title>
</cp:coreProperties>
</file>