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B52-407E-4D1A-AEE0-EE3B9FE0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0FA-0BBE-44EF-A704-9636914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B0B-D7D6-47CF-91D3-2A22E800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5B8-0139-4158-9F23-DC6814A4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D90-2528-466A-879C-A5A725E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99B-BF4D-43B2-8E77-9E681B4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B89-1DFF-4013-AFC7-2C29BD2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2F8-5421-409B-99F7-F0D9D6AF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684-DEBF-4744-A757-6DBEF461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3B6-B776-4118-AB07-206C504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33B-1225-41C8-BE02-E6E6905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F40-3768-4731-A12B-E76BE3D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6CD70-8597-47A7-97E2-64AAA62F45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 дейст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туева Светлана Анатол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ДОУ № 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целостной карт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ра,расширение кругозора с помощ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средственно организован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ижние ц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30080" y="214488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я методику программы дошк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я «От рождения до школы» под редакцией Н.Е.Вераксы,чтобы способств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ю у детей познавательной мотивации,интереса к школе, кни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79280" y="1955520"/>
            <a:ext cx="753876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 детей познавательную мотивацию.Продолжение знакомства с детским садом как ближайшим социальным окружением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ДАГОГИЧЕСКИЕ МЕТОДЫ И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9640" y="1955880"/>
            <a:ext cx="7538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ормировать дружеские отношения между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Обратить внимания на произошедшие изменения:(покрашен забор,появились новые столы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асширять представления о сотрудниках детского сада:(воспитатель,помощник воспитателя,музыкальный руководител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УДНОСТИ И РЕ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умение детей доброжелательно общатся со сверст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умение детей учавствовать в беседе,понятно для слушателей отвечать на вопро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родолжение работы по формированию интереса к книг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одействие(используя разные приемы и педагогические ситуации)правильному восприятию содержания произведения,формированию способности сопереживать его героя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144440"/>
            <a:ext cx="849456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еп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Бублик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продолжать знакомить с материалом, учить свёртывать палочку в кольцо (соединять концы, плотно прижимая, их друг к другу). Закреплять умение раскатывать глину прямыми движениями, пользоваться материалом аккуратно. Развивать образное воспри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од занят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етьс детьми бублик. Предложить каждому слепить такой же. Вызвать кого-нибудь из детей показать, как вначале слепить большую толстую колбаску, потом свернуть её в кольцо и скрепить два конца, плотно прижав, их друг к другу. В процессе лепки обращать внимание на приёмы, которые используют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занятия с другими сторонами воспитательной работы: собирать палочки на участке, рассматривать их, обращать внимание детей на то, что они длинные, ровные. Рассматривать кольца, бара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79320" y="1995840"/>
            <a:ext cx="4991760" cy="2459880"/>
            <a:chOff x="3379320" y="1995840"/>
            <a:chExt cx="4991760" cy="2459880"/>
          </a:xfrm>
        </p:grpSpPr>
        <p:grpSp>
          <p:nvGrpSpPr>
            <p:cNvPr id="96" name=""/>
            <p:cNvGrpSpPr/>
            <p:nvPr/>
          </p:nvGrpSpPr>
          <p:grpSpPr>
            <a:xfrm>
              <a:off x="3546000" y="2057760"/>
              <a:ext cx="532080" cy="2376720"/>
              <a:chOff x="3546000" y="2057760"/>
              <a:chExt cx="532080" cy="2376720"/>
            </a:xfrm>
          </p:grpSpPr>
          <p:sp>
            <p:nvSpPr>
              <p:cNvPr id="97" name=""/>
              <p:cNvSpPr/>
              <p:nvPr/>
            </p:nvSpPr>
            <p:spPr>
              <a:xfrm rot="19740000">
                <a:off x="3830040" y="34290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740000">
                <a:off x="3731400" y="272952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9740000">
                <a:off x="3940920" y="41274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9740000">
                <a:off x="3622320" y="205092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168440" y="2057760"/>
              <a:ext cx="532080" cy="2376720"/>
              <a:chOff x="4168440" y="2057760"/>
              <a:chExt cx="532080" cy="2376720"/>
            </a:xfrm>
          </p:grpSpPr>
          <p:sp>
            <p:nvSpPr>
              <p:cNvPr id="102" name=""/>
              <p:cNvSpPr/>
              <p:nvPr/>
            </p:nvSpPr>
            <p:spPr>
              <a:xfrm rot="19740000">
                <a:off x="4452480" y="342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740000">
                <a:off x="4355280" y="272952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9740000">
                <a:off x="4563000" y="41274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9740000">
                <a:off x="4244760" y="205092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803120" y="1995840"/>
              <a:ext cx="532080" cy="2376720"/>
              <a:chOff x="4803120" y="1995840"/>
              <a:chExt cx="532080" cy="2376720"/>
            </a:xfrm>
          </p:grpSpPr>
          <p:sp>
            <p:nvSpPr>
              <p:cNvPr id="107" name=""/>
              <p:cNvSpPr/>
              <p:nvPr/>
            </p:nvSpPr>
            <p:spPr>
              <a:xfrm rot="19740000">
                <a:off x="5087160" y="33670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740000">
                <a:off x="4989960" y="266760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9740000">
                <a:off x="5198040" y="40654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9740000">
                <a:off x="4879440" y="198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425560" y="1995840"/>
              <a:ext cx="532080" cy="2376720"/>
              <a:chOff x="5425560" y="1995840"/>
              <a:chExt cx="532080" cy="2376720"/>
            </a:xfrm>
          </p:grpSpPr>
          <p:sp>
            <p:nvSpPr>
              <p:cNvPr id="112" name=""/>
              <p:cNvSpPr/>
              <p:nvPr/>
            </p:nvSpPr>
            <p:spPr>
              <a:xfrm rot="19740000">
                <a:off x="5709960" y="33670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40000">
                <a:off x="5612760" y="266760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5820480" y="40654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740000">
                <a:off x="5501880" y="19890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123960" y="2057760"/>
              <a:ext cx="532080" cy="2376720"/>
              <a:chOff x="6123960" y="2057760"/>
              <a:chExt cx="532080" cy="2376720"/>
            </a:xfrm>
          </p:grpSpPr>
          <p:sp>
            <p:nvSpPr>
              <p:cNvPr id="117" name=""/>
              <p:cNvSpPr/>
              <p:nvPr/>
            </p:nvSpPr>
            <p:spPr>
              <a:xfrm rot="19740000">
                <a:off x="6408000" y="342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740000">
                <a:off x="6310800" y="272952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740000">
                <a:off x="6518880" y="41274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9740000">
                <a:off x="6200280" y="205092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46400" y="2057760"/>
              <a:ext cx="532080" cy="2376720"/>
              <a:chOff x="6746400" y="2057760"/>
              <a:chExt cx="532080" cy="2376720"/>
            </a:xfrm>
          </p:grpSpPr>
          <p:sp>
            <p:nvSpPr>
              <p:cNvPr id="122" name=""/>
              <p:cNvSpPr/>
              <p:nvPr/>
            </p:nvSpPr>
            <p:spPr>
              <a:xfrm rot="19740000">
                <a:off x="7030440" y="34290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740000">
                <a:off x="6933240" y="2729160"/>
                <a:ext cx="60840" cy="31536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1431">
                    <a:moveTo>
                      <a:pt x="600" y="0"/>
                    </a:moveTo>
                    <a:arcTo wR="600" hR="600" stAng="16200000" swAng="-5400000"/>
                    <a:lnTo>
                      <a:pt x="0" y="110831"/>
                    </a:lnTo>
                    <a:arcTo wR="600" hR="600" stAng="10800000" swAng="-5400000"/>
                    <a:lnTo>
                      <a:pt x="21000" y="111431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40000">
                <a:off x="7141320" y="41274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9740000">
                <a:off x="6822720" y="205092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381440" y="1995840"/>
              <a:ext cx="532080" cy="2376720"/>
              <a:chOff x="7381440" y="1995840"/>
              <a:chExt cx="532080" cy="2376720"/>
            </a:xfrm>
          </p:grpSpPr>
          <p:sp>
            <p:nvSpPr>
              <p:cNvPr id="127" name=""/>
              <p:cNvSpPr/>
              <p:nvPr/>
            </p:nvSpPr>
            <p:spPr>
              <a:xfrm rot="19740000">
                <a:off x="7665480" y="336708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9740000">
                <a:off x="7568280" y="2667240"/>
                <a:ext cx="60840" cy="31536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1431">
                    <a:moveTo>
                      <a:pt x="600" y="0"/>
                    </a:moveTo>
                    <a:arcTo wR="600" hR="600" stAng="16200000" swAng="-5400000"/>
                    <a:lnTo>
                      <a:pt x="0" y="110831"/>
                    </a:lnTo>
                    <a:arcTo wR="600" hR="600" stAng="10800000" swAng="-5400000"/>
                    <a:lnTo>
                      <a:pt x="21000" y="111431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740000">
                <a:off x="7776360" y="40654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740000">
                <a:off x="7457760" y="198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379320" y="1996920"/>
              <a:ext cx="4991760" cy="2458800"/>
              <a:chOff x="3379320" y="1996920"/>
              <a:chExt cx="4991760" cy="2458800"/>
            </a:xfrm>
          </p:grpSpPr>
          <p:sp>
            <p:nvSpPr>
              <p:cNvPr id="132" name=""/>
              <p:cNvSpPr/>
              <p:nvPr/>
            </p:nvSpPr>
            <p:spPr>
              <a:xfrm rot="19740000">
                <a:off x="8238600" y="3366000"/>
                <a:ext cx="55800" cy="313560"/>
              </a:xfrm>
              <a:custGeom>
                <a:avLst/>
                <a:gdLst>
                  <a:gd name="textAreaLeft" fmla="*/ 360 w 55800"/>
                  <a:gd name="textAreaRight" fmla="*/ 55440 w 55800"/>
                  <a:gd name="textAreaTop" fmla="*/ 360 h 313560"/>
                  <a:gd name="textAreaBottom" fmla="*/ 313200 h 313560"/>
                </a:gdLst>
                <a:ahLst/>
                <a:rect l="textAreaLeft" t="textAreaTop" r="textAreaRight" b="textAreaBottom"/>
                <a:pathLst>
                  <a:path w="21600" h="120738">
                    <a:moveTo>
                      <a:pt x="600" y="0"/>
                    </a:moveTo>
                    <a:arcTo wR="600" hR="600" stAng="16200000" swAng="-5400000"/>
                    <a:lnTo>
                      <a:pt x="0" y="120138"/>
                    </a:lnTo>
                    <a:arcTo wR="600" hR="600" stAng="10800000" swAng="-5400000"/>
                    <a:lnTo>
                      <a:pt x="21000" y="12073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9740000">
                <a:off x="8149320" y="2666520"/>
                <a:ext cx="55800" cy="315000"/>
              </a:xfrm>
              <a:custGeom>
                <a:avLst/>
                <a:gdLst>
                  <a:gd name="textAreaLeft" fmla="*/ 360 w 55800"/>
                  <a:gd name="textAreaRight" fmla="*/ 55440 w 5580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21292">
                    <a:moveTo>
                      <a:pt x="600" y="0"/>
                    </a:moveTo>
                    <a:arcTo wR="600" hR="600" stAng="16200000" swAng="-5400000"/>
                    <a:lnTo>
                      <a:pt x="0" y="120692"/>
                    </a:lnTo>
                    <a:arcTo wR="600" hR="600" stAng="10800000" swAng="-5400000"/>
                    <a:lnTo>
                      <a:pt x="21000" y="12129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9740000">
                <a:off x="3456000" y="4149720"/>
                <a:ext cx="56160" cy="313560"/>
              </a:xfrm>
              <a:custGeom>
                <a:avLst/>
                <a:gdLst>
                  <a:gd name="textAreaLeft" fmla="*/ 360 w 56160"/>
                  <a:gd name="textAreaRight" fmla="*/ 55800 w 56160"/>
                  <a:gd name="textAreaTop" fmla="*/ 360 h 313560"/>
                  <a:gd name="textAreaBottom" fmla="*/ 313200 h 313560"/>
                </a:gdLst>
                <a:ahLst/>
                <a:rect l="textAreaLeft" t="textAreaTop" r="textAreaRight" b="textAreaBottom"/>
                <a:pathLst>
                  <a:path w="21600" h="119969">
                    <a:moveTo>
                      <a:pt x="600" y="0"/>
                    </a:moveTo>
                    <a:arcTo wR="600" hR="600" stAng="16200000" swAng="-5400000"/>
                    <a:lnTo>
                      <a:pt x="0" y="119369"/>
                    </a:lnTo>
                    <a:arcTo wR="600" hR="600" stAng="10800000" swAng="-5400000"/>
                    <a:lnTo>
                      <a:pt x="21000" y="11996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9740000">
                <a:off x="8046720" y="1988640"/>
                <a:ext cx="56160" cy="313560"/>
              </a:xfrm>
              <a:custGeom>
                <a:avLst/>
                <a:gdLst>
                  <a:gd name="textAreaLeft" fmla="*/ 360 w 56160"/>
                  <a:gd name="textAreaRight" fmla="*/ 55800 w 56160"/>
                  <a:gd name="textAreaTop" fmla="*/ 360 h 313560"/>
                  <a:gd name="textAreaBottom" fmla="*/ 313200 h 313560"/>
                </a:gdLst>
                <a:ahLst/>
                <a:rect l="textAreaLeft" t="textAreaTop" r="textAreaRight" b="textAreaBottom"/>
                <a:pathLst>
                  <a:path w="21600" h="119969">
                    <a:moveTo>
                      <a:pt x="600" y="0"/>
                    </a:moveTo>
                    <a:arcTo wR="600" hR="600" stAng="16200000" swAng="-5400000"/>
                    <a:lnTo>
                      <a:pt x="0" y="119369"/>
                    </a:lnTo>
                    <a:arcTo wR="600" hR="600" stAng="10800000" swAng="-5400000"/>
                    <a:lnTo>
                      <a:pt x="21000" y="11996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968640" y="264960"/>
            <a:ext cx="5210280" cy="1533600"/>
            <a:chOff x="3968640" y="264960"/>
            <a:chExt cx="5210280" cy="1533600"/>
          </a:xfrm>
        </p:grpSpPr>
        <p:sp>
          <p:nvSpPr>
            <p:cNvPr id="137" name=""/>
            <p:cNvSpPr/>
            <p:nvPr/>
          </p:nvSpPr>
          <p:spPr>
            <a:xfrm>
              <a:off x="6575400" y="264960"/>
              <a:ext cx="1881360" cy="601920"/>
            </a:xfrm>
            <a:custGeom>
              <a:avLst/>
              <a:gdLst/>
              <a:ahLst/>
              <a:rect l="l" t="t" r="r" b="b"/>
              <a:pathLst>
                <a:path w="5230" h="1677">
                  <a:moveTo>
                    <a:pt x="0" y="578"/>
                  </a:moveTo>
                  <a:cubicBezTo>
                    <a:pt x="512" y="229"/>
                    <a:pt x="1385" y="0"/>
                    <a:pt x="2376" y="0"/>
                  </a:cubicBezTo>
                  <a:cubicBezTo>
                    <a:pt x="3951" y="0"/>
                    <a:pt x="5229" y="581"/>
                    <a:pt x="5229" y="1297"/>
                  </a:cubicBezTo>
                  <a:cubicBezTo>
                    <a:pt x="5229" y="1429"/>
                    <a:pt x="5185" y="1556"/>
                    <a:pt x="5104" y="1676"/>
                  </a:cubicBezTo>
                  <a:lnTo>
                    <a:pt x="0" y="5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61240" y="866880"/>
              <a:ext cx="1417680" cy="925560"/>
            </a:xfrm>
            <a:custGeom>
              <a:avLst/>
              <a:gdLst/>
              <a:ahLst/>
              <a:rect l="l" t="t" r="r" b="b"/>
              <a:pathLst>
                <a:path w="3943" h="2576">
                  <a:moveTo>
                    <a:pt x="1799" y="0"/>
                  </a:moveTo>
                  <a:cubicBezTo>
                    <a:pt x="3071" y="226"/>
                    <a:pt x="3942" y="684"/>
                    <a:pt x="3942" y="1213"/>
                  </a:cubicBezTo>
                  <a:cubicBezTo>
                    <a:pt x="3942" y="1965"/>
                    <a:pt x="2177" y="2575"/>
                    <a:pt x="0" y="2575"/>
                  </a:cubicBezTo>
                  <a:lnTo>
                    <a:pt x="179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8640" y="858960"/>
              <a:ext cx="1271520" cy="936360"/>
            </a:xfrm>
            <a:custGeom>
              <a:avLst/>
              <a:gdLst/>
              <a:ahLst/>
              <a:rect l="l" t="t" r="r" b="b"/>
              <a:pathLst>
                <a:path w="3536" h="2607">
                  <a:moveTo>
                    <a:pt x="3535" y="2606"/>
                  </a:moveTo>
                  <a:cubicBezTo>
                    <a:pt x="3516" y="2606"/>
                    <a:pt x="3497" y="2606"/>
                    <a:pt x="3478" y="2606"/>
                  </a:cubicBezTo>
                  <a:cubicBezTo>
                    <a:pt x="1557" y="2606"/>
                    <a:pt x="0" y="1986"/>
                    <a:pt x="0" y="1222"/>
                  </a:cubicBezTo>
                  <a:cubicBezTo>
                    <a:pt x="0" y="693"/>
                    <a:pt x="746" y="233"/>
                    <a:pt x="1843" y="0"/>
                  </a:cubicBezTo>
                  <a:lnTo>
                    <a:pt x="3535" y="260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64080" y="341280"/>
              <a:ext cx="2028960" cy="519120"/>
            </a:xfrm>
            <a:custGeom>
              <a:avLst/>
              <a:gdLst/>
              <a:ahLst/>
              <a:rect l="l" t="t" r="r" b="b"/>
              <a:pathLst>
                <a:path w="5641" h="1446">
                  <a:moveTo>
                    <a:pt x="187" y="1445"/>
                  </a:moveTo>
                  <a:cubicBezTo>
                    <a:pt x="65" y="1331"/>
                    <a:pt x="0" y="1208"/>
                    <a:pt x="0" y="1081"/>
                  </a:cubicBezTo>
                  <a:cubicBezTo>
                    <a:pt x="0" y="484"/>
                    <a:pt x="1440" y="0"/>
                    <a:pt x="3216" y="0"/>
                  </a:cubicBezTo>
                  <a:cubicBezTo>
                    <a:pt x="4183" y="0"/>
                    <a:pt x="5051" y="143"/>
                    <a:pt x="5640" y="371"/>
                  </a:cubicBezTo>
                  <a:lnTo>
                    <a:pt x="187" y="144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1797120"/>
              <a:ext cx="2550960" cy="360"/>
            </a:xfrm>
            <a:custGeom>
              <a:avLst/>
              <a:gdLst/>
              <a:ahLst/>
              <a:rect l="l" t="t" r="r" b="b"/>
              <a:pathLst>
                <a:path w="7089" h="2">
                  <a:moveTo>
                    <a:pt x="7088" y="0"/>
                  </a:moveTo>
                  <a:lnTo>
                    <a:pt x="0" y="1"/>
                  </a:lnTo>
                  <a:lnTo>
                    <a:pt x="708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24560" y="474840"/>
              <a:ext cx="3781080" cy="1323720"/>
            </a:xfrm>
            <a:custGeom>
              <a:avLst/>
              <a:gdLst/>
              <a:ahLst/>
              <a:rect l="l" t="t" r="r" b="b"/>
              <a:pathLst>
                <a:path w="10507" h="3682">
                  <a:moveTo>
                    <a:pt x="1695" y="3662"/>
                  </a:moveTo>
                  <a:lnTo>
                    <a:pt x="8750" y="3662"/>
                  </a:lnTo>
                  <a:lnTo>
                    <a:pt x="10506" y="1087"/>
                  </a:lnTo>
                  <a:lnTo>
                    <a:pt x="5421" y="0"/>
                  </a:lnTo>
                  <a:lnTo>
                    <a:pt x="0" y="1087"/>
                  </a:lnTo>
                  <a:lnTo>
                    <a:pt x="1707" y="3681"/>
                  </a:lnTo>
                  <a:lnTo>
                    <a:pt x="1695" y="366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30080" y="1800000"/>
            <a:ext cx="8609040" cy="52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ь и поддержка коллег по рабо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образовательная программа «От рождения до школы» под редакцией Верак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3774960"/>
            <a:ext cx="6105600" cy="19843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ЛАЕМ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ВОРЧЕСКИХ УСПЕХОВ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19640" y="720720"/>
            <a:ext cx="3059280" cy="3597120"/>
            <a:chOff x="6119640" y="720720"/>
            <a:chExt cx="3059280" cy="3597120"/>
          </a:xfrm>
        </p:grpSpPr>
        <p:sp>
          <p:nvSpPr>
            <p:cNvPr id="147" name=""/>
            <p:cNvSpPr/>
            <p:nvPr/>
          </p:nvSpPr>
          <p:spPr>
            <a:xfrm>
              <a:off x="6119640" y="720720"/>
              <a:ext cx="3059280" cy="3597120"/>
            </a:xfrm>
            <a:custGeom>
              <a:avLst/>
              <a:gdLst/>
              <a:ahLst/>
              <a:rect l="l" t="t" r="r" b="b"/>
              <a:pathLst>
                <a:path w="10446" h="11329">
                  <a:moveTo>
                    <a:pt x="4866" y="3806"/>
                  </a:moveTo>
                  <a:cubicBezTo>
                    <a:pt x="5445" y="3806"/>
                    <a:pt x="5341" y="742"/>
                    <a:pt x="5914" y="1086"/>
                  </a:cubicBezTo>
                  <a:cubicBezTo>
                    <a:pt x="6487" y="1430"/>
                    <a:pt x="5418" y="3849"/>
                    <a:pt x="6112" y="3946"/>
                  </a:cubicBezTo>
                  <a:cubicBezTo>
                    <a:pt x="6806" y="4043"/>
                    <a:pt x="6722" y="2573"/>
                    <a:pt x="7440" y="2984"/>
                  </a:cubicBezTo>
                  <a:cubicBezTo>
                    <a:pt x="8158" y="3395"/>
                    <a:pt x="6037" y="4926"/>
                    <a:pt x="6984" y="4977"/>
                  </a:cubicBezTo>
                  <a:cubicBezTo>
                    <a:pt x="7931" y="5028"/>
                    <a:pt x="10028" y="2346"/>
                    <a:pt x="9840" y="3451"/>
                  </a:cubicBezTo>
                  <a:cubicBezTo>
                    <a:pt x="9652" y="4556"/>
                    <a:pt x="7627" y="4935"/>
                    <a:pt x="7287" y="5879"/>
                  </a:cubicBezTo>
                  <a:cubicBezTo>
                    <a:pt x="6947" y="6823"/>
                    <a:pt x="10445" y="7455"/>
                    <a:pt x="9191" y="8600"/>
                  </a:cubicBezTo>
                  <a:cubicBezTo>
                    <a:pt x="7937" y="9745"/>
                    <a:pt x="7203" y="7171"/>
                    <a:pt x="6152" y="7287"/>
                  </a:cubicBezTo>
                  <a:cubicBezTo>
                    <a:pt x="5817" y="7324"/>
                    <a:pt x="7803" y="10392"/>
                    <a:pt x="6715" y="10860"/>
                  </a:cubicBezTo>
                  <a:cubicBezTo>
                    <a:pt x="5627" y="11328"/>
                    <a:pt x="5758" y="8582"/>
                    <a:pt x="5216" y="8633"/>
                  </a:cubicBezTo>
                  <a:cubicBezTo>
                    <a:pt x="4674" y="8684"/>
                    <a:pt x="5176" y="11087"/>
                    <a:pt x="4203" y="10518"/>
                  </a:cubicBezTo>
                  <a:cubicBezTo>
                    <a:pt x="3230" y="9949"/>
                    <a:pt x="4881" y="7603"/>
                    <a:pt x="3993" y="7334"/>
                  </a:cubicBezTo>
                  <a:cubicBezTo>
                    <a:pt x="3105" y="7065"/>
                    <a:pt x="1968" y="8956"/>
                    <a:pt x="1418" y="8277"/>
                  </a:cubicBezTo>
                  <a:cubicBezTo>
                    <a:pt x="989" y="7747"/>
                    <a:pt x="3664" y="6108"/>
                    <a:pt x="3805" y="4834"/>
                  </a:cubicBezTo>
                  <a:cubicBezTo>
                    <a:pt x="3946" y="3560"/>
                    <a:pt x="0" y="2242"/>
                    <a:pt x="1844" y="1121"/>
                  </a:cubicBezTo>
                  <a:cubicBezTo>
                    <a:pt x="3688" y="0"/>
                    <a:pt x="3113" y="3806"/>
                    <a:pt x="4866" y="3806"/>
                  </a:cubicBez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1:04:52Z</dcterms:created>
  <dc:creator/>
  <dc:description/>
  <dc:language>en-US</dc:language>
  <cp:lastModifiedBy/>
  <dcterms:modified xsi:type="dcterms:W3CDTF">2012-11-20T12:31:04Z</dcterms:modified>
  <cp:revision>4</cp:revision>
  <dc:subject/>
  <dc:title/>
</cp:coreProperties>
</file>