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5CC1-652E-4DDA-9663-D15C5A05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91C2-ED9C-4105-BB6A-B0A780FB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BEDF-A26C-4556-A905-12E26BE5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1339-0E5C-4A90-AA10-D4894028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03F0-6ED1-4298-84AD-90EF0FDB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F696-6EA6-4CBB-8E38-6303E6AF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6D1A-0CF9-42CC-86A6-9657104A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B8AC-8872-4F33-9605-D8FCAD66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E83E-445B-4133-830C-30525AAF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B7FA-F492-4B1D-A4AB-08EF87FC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514B-6F9E-4599-BE33-41D4F0B4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9AAF-2468-4711-BBEA-D8570D30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13848-8E7F-47B8-A429-97C5280FE0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ролёв Михаи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ник нед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 А кла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5-20 октября 2012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630680" y="1440000"/>
            <a:ext cx="1307880" cy="1604160"/>
            <a:chOff x="4630680" y="1440000"/>
            <a:chExt cx="1307880" cy="1604160"/>
          </a:xfrm>
        </p:grpSpPr>
        <p:grpSp>
          <p:nvGrpSpPr>
            <p:cNvPr id="85" name=""/>
            <p:cNvGrpSpPr/>
            <p:nvPr/>
          </p:nvGrpSpPr>
          <p:grpSpPr>
            <a:xfrm>
              <a:off x="5332320" y="1878840"/>
              <a:ext cx="606240" cy="432360"/>
              <a:chOff x="5332320" y="1878840"/>
              <a:chExt cx="606240" cy="432360"/>
            </a:xfrm>
          </p:grpSpPr>
          <p:sp>
            <p:nvSpPr>
              <p:cNvPr id="86" name=""/>
              <p:cNvSpPr/>
              <p:nvPr/>
            </p:nvSpPr>
            <p:spPr>
              <a:xfrm>
                <a:off x="5332320" y="1878840"/>
                <a:ext cx="581400" cy="378720"/>
              </a:xfrm>
              <a:custGeom>
                <a:avLst/>
                <a:gdLst/>
                <a:ahLst/>
                <a:rect l="l" t="t" r="r" b="b"/>
                <a:pathLst>
                  <a:path w="1620" h="1057">
                    <a:moveTo>
                      <a:pt x="0" y="0"/>
                    </a:moveTo>
                    <a:cubicBezTo>
                      <a:pt x="1619" y="305"/>
                      <a:pt x="1498" y="1029"/>
                      <a:pt x="1481" y="1056"/>
                    </a:cubicBez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779080" y="2213640"/>
                <a:ext cx="159480" cy="9756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5041800" y="1440000"/>
              <a:ext cx="685800" cy="43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"/>
            <p:cNvGrpSpPr/>
            <p:nvPr/>
          </p:nvGrpSpPr>
          <p:grpSpPr>
            <a:xfrm>
              <a:off x="4843440" y="2475360"/>
              <a:ext cx="439200" cy="568800"/>
              <a:chOff x="4843440" y="2475360"/>
              <a:chExt cx="439200" cy="568800"/>
            </a:xfrm>
          </p:grpSpPr>
          <p:sp>
            <p:nvSpPr>
              <p:cNvPr id="90" name=""/>
              <p:cNvSpPr/>
              <p:nvPr/>
            </p:nvSpPr>
            <p:spPr>
              <a:xfrm flipH="1">
                <a:off x="5059080" y="2475360"/>
                <a:ext cx="223560" cy="543960"/>
              </a:xfrm>
              <a:prstGeom prst="line">
                <a:avLst/>
              </a:prstGeom>
              <a:ln w="36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43440" y="2941560"/>
                <a:ext cx="326520" cy="10260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5373720" y="2459520"/>
              <a:ext cx="500040" cy="452880"/>
              <a:chOff x="5373720" y="2459520"/>
              <a:chExt cx="500040" cy="452880"/>
            </a:xfrm>
          </p:grpSpPr>
          <p:sp>
            <p:nvSpPr>
              <p:cNvPr id="93" name=""/>
              <p:cNvSpPr/>
              <p:nvPr/>
            </p:nvSpPr>
            <p:spPr>
              <a:xfrm>
                <a:off x="5570640" y="2840040"/>
                <a:ext cx="303120" cy="7236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373720" y="2459520"/>
                <a:ext cx="250920" cy="392760"/>
              </a:xfrm>
              <a:prstGeom prst="line">
                <a:avLst/>
              </a:prstGeom>
              <a:ln w="36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630680" y="1758600"/>
              <a:ext cx="674280" cy="291240"/>
              <a:chOff x="4630680" y="1758600"/>
              <a:chExt cx="674280" cy="291240"/>
            </a:xfrm>
          </p:grpSpPr>
          <p:sp>
            <p:nvSpPr>
              <p:cNvPr id="96" name=""/>
              <p:cNvSpPr/>
              <p:nvPr/>
            </p:nvSpPr>
            <p:spPr>
              <a:xfrm>
                <a:off x="4766400" y="1843560"/>
                <a:ext cx="538560" cy="206280"/>
              </a:xfrm>
              <a:custGeom>
                <a:avLst/>
                <a:gdLst/>
                <a:ahLst/>
                <a:rect l="l" t="t" r="r" b="b"/>
                <a:pathLst>
                  <a:path w="1503" h="579">
                    <a:moveTo>
                      <a:pt x="1502" y="145"/>
                    </a:moveTo>
                    <a:lnTo>
                      <a:pt x="645" y="578"/>
                    </a:lnTo>
                    <a:lnTo>
                      <a:pt x="0" y="0"/>
                    </a:ln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30680" y="1758600"/>
                <a:ext cx="186480" cy="12276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162400" y="1874160"/>
              <a:ext cx="339840" cy="621360"/>
            </a:xfrm>
            <a:prstGeom prst="ellips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1563840"/>
            <a:ext cx="9070920" cy="14954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нтересные факты о Михаил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30080" y="1660680"/>
            <a:ext cx="8609040" cy="58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79640" y="3060720"/>
            <a:ext cx="8496000" cy="34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нь рождения Михаила 12 сентяб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Михаила есть брат Алексан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хаил любит пла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хаил имеет 1 разряд по плав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257720" y="360360"/>
            <a:ext cx="1860120" cy="1617120"/>
            <a:chOff x="4257720" y="360360"/>
            <a:chExt cx="1860120" cy="161712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4862520" y="360360"/>
              <a:ext cx="652320" cy="496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" name=""/>
            <p:cNvGrpSpPr/>
            <p:nvPr/>
          </p:nvGrpSpPr>
          <p:grpSpPr>
            <a:xfrm>
              <a:off x="5268960" y="372600"/>
              <a:ext cx="830160" cy="548640"/>
              <a:chOff x="5268960" y="372600"/>
              <a:chExt cx="830160" cy="548640"/>
            </a:xfrm>
          </p:grpSpPr>
          <p:sp>
            <p:nvSpPr>
              <p:cNvPr id="105" name=""/>
              <p:cNvSpPr/>
              <p:nvPr/>
            </p:nvSpPr>
            <p:spPr>
              <a:xfrm>
                <a:off x="5268960" y="443880"/>
                <a:ext cx="830160" cy="477360"/>
              </a:xfrm>
              <a:custGeom>
                <a:avLst/>
                <a:gdLst/>
                <a:ahLst/>
                <a:rect l="l" t="t" r="r" b="b"/>
                <a:pathLst>
                  <a:path w="2522" h="1863">
                    <a:moveTo>
                      <a:pt x="0" y="1025"/>
                    </a:moveTo>
                    <a:cubicBezTo>
                      <a:pt x="2521" y="1862"/>
                      <a:pt x="2080" y="0"/>
                      <a:pt x="2080" y="0"/>
                    </a:cubicBez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0800000">
                <a:off x="5846400" y="372600"/>
                <a:ext cx="184320" cy="10512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257720" y="415440"/>
              <a:ext cx="961560" cy="538920"/>
              <a:chOff x="4257720" y="415440"/>
              <a:chExt cx="961560" cy="538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368600" y="492120"/>
                <a:ext cx="850680" cy="462240"/>
              </a:xfrm>
              <a:custGeom>
                <a:avLst/>
                <a:gdLst/>
                <a:ahLst/>
                <a:rect l="l" t="t" r="r" b="b"/>
                <a:pathLst>
                  <a:path w="2367" h="1863">
                    <a:moveTo>
                      <a:pt x="2366" y="931"/>
                    </a:moveTo>
                    <a:cubicBezTo>
                      <a:pt x="417" y="1862"/>
                      <a:pt x="0" y="0"/>
                      <a:pt x="0" y="0"/>
                    </a:cubicBez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257720" y="415440"/>
                <a:ext cx="212040" cy="9864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5369040" y="1473840"/>
              <a:ext cx="748800" cy="503640"/>
              <a:chOff x="5369040" y="1473840"/>
              <a:chExt cx="748800" cy="503640"/>
            </a:xfrm>
          </p:grpSpPr>
          <p:sp>
            <p:nvSpPr>
              <p:cNvPr id="111" name=""/>
              <p:cNvSpPr/>
              <p:nvPr/>
            </p:nvSpPr>
            <p:spPr>
              <a:xfrm>
                <a:off x="5369040" y="1473840"/>
                <a:ext cx="671400" cy="408600"/>
              </a:xfrm>
              <a:custGeom>
                <a:avLst/>
                <a:gdLst/>
                <a:ahLst/>
                <a:rect l="l" t="t" r="r" b="b"/>
                <a:pathLst>
                  <a:path w="1869" h="1138">
                    <a:moveTo>
                      <a:pt x="0" y="0"/>
                    </a:moveTo>
                    <a:cubicBezTo>
                      <a:pt x="1868" y="387"/>
                      <a:pt x="1438" y="1137"/>
                      <a:pt x="1438" y="1137"/>
                    </a:cubicBez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12200" y="1846080"/>
                <a:ext cx="305640" cy="13140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584600" y="1483200"/>
              <a:ext cx="687240" cy="451440"/>
              <a:chOff x="4584600" y="1483200"/>
              <a:chExt cx="687240" cy="451440"/>
            </a:xfrm>
          </p:grpSpPr>
          <p:sp>
            <p:nvSpPr>
              <p:cNvPr id="114" name=""/>
              <p:cNvSpPr/>
              <p:nvPr/>
            </p:nvSpPr>
            <p:spPr>
              <a:xfrm>
                <a:off x="4661640" y="1483200"/>
                <a:ext cx="610200" cy="356400"/>
              </a:xfrm>
              <a:custGeom>
                <a:avLst/>
                <a:gdLst/>
                <a:ahLst/>
                <a:rect l="l" t="t" r="r" b="b"/>
                <a:pathLst>
                  <a:path w="1702" h="991">
                    <a:moveTo>
                      <a:pt x="1701" y="0"/>
                    </a:moveTo>
                    <a:cubicBezTo>
                      <a:pt x="0" y="298"/>
                      <a:pt x="408" y="990"/>
                      <a:pt x="408" y="990"/>
                    </a:cubicBez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584600" y="1825560"/>
                <a:ext cx="306360" cy="10908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rot="21180000">
              <a:off x="5116320" y="821160"/>
              <a:ext cx="323640" cy="708840"/>
            </a:xfrm>
            <a:prstGeom prst="ellips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стижения Михаила на этой недел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200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лучшил результат по плавани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ил 7 пятёрок за недел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имал активное участие в жизни класс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бедил в викторине  о спор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41880" y="2100240"/>
            <a:ext cx="4200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одец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480000" y="3419640"/>
            <a:ext cx="1617480" cy="3561840"/>
            <a:chOff x="6480000" y="3419640"/>
            <a:chExt cx="1617480" cy="356184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6931080" y="3419640"/>
              <a:ext cx="830160" cy="94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" name=""/>
            <p:cNvGrpSpPr/>
            <p:nvPr/>
          </p:nvGrpSpPr>
          <p:grpSpPr>
            <a:xfrm>
              <a:off x="7362720" y="4425840"/>
              <a:ext cx="734760" cy="944280"/>
              <a:chOff x="7362720" y="4425840"/>
              <a:chExt cx="734760" cy="944280"/>
            </a:xfrm>
          </p:grpSpPr>
          <p:sp>
            <p:nvSpPr>
              <p:cNvPr id="123" name=""/>
              <p:cNvSpPr/>
              <p:nvPr/>
            </p:nvSpPr>
            <p:spPr>
              <a:xfrm>
                <a:off x="7362720" y="4425840"/>
                <a:ext cx="706680" cy="825480"/>
              </a:xfrm>
              <a:custGeom>
                <a:avLst/>
                <a:gdLst/>
                <a:ahLst/>
                <a:rect l="l" t="t" r="r" b="b"/>
                <a:pathLst>
                  <a:path w="1965" h="2298">
                    <a:moveTo>
                      <a:pt x="0" y="0"/>
                    </a:moveTo>
                    <a:cubicBezTo>
                      <a:pt x="1964" y="663"/>
                      <a:pt x="1817" y="2239"/>
                      <a:pt x="1797" y="2297"/>
                    </a:cubicBez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903080" y="5158080"/>
                <a:ext cx="194400" cy="21204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851520" y="5689440"/>
              <a:ext cx="423360" cy="1292040"/>
              <a:chOff x="6851520" y="5689440"/>
              <a:chExt cx="423360" cy="1292040"/>
            </a:xfrm>
          </p:grpSpPr>
          <p:sp>
            <p:nvSpPr>
              <p:cNvPr id="126" name=""/>
              <p:cNvSpPr/>
              <p:nvPr/>
            </p:nvSpPr>
            <p:spPr>
              <a:xfrm flipH="1">
                <a:off x="7059960" y="5689440"/>
                <a:ext cx="214920" cy="1231920"/>
              </a:xfrm>
              <a:prstGeom prst="line">
                <a:avLst/>
              </a:prstGeom>
              <a:ln w="36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851520" y="6747120"/>
                <a:ext cx="313920" cy="23436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385040" y="5656320"/>
              <a:ext cx="499680" cy="1095120"/>
              <a:chOff x="7385040" y="5656320"/>
              <a:chExt cx="499680" cy="1095120"/>
            </a:xfrm>
          </p:grpSpPr>
          <p:sp>
            <p:nvSpPr>
              <p:cNvPr id="129" name=""/>
              <p:cNvSpPr/>
              <p:nvPr/>
            </p:nvSpPr>
            <p:spPr>
              <a:xfrm>
                <a:off x="7582680" y="6577560"/>
                <a:ext cx="302040" cy="17388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85040" y="5656320"/>
                <a:ext cx="249840" cy="950040"/>
              </a:xfrm>
              <a:prstGeom prst="line">
                <a:avLst/>
              </a:prstGeom>
              <a:ln w="36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6480000" y="3675240"/>
              <a:ext cx="796680" cy="1177560"/>
              <a:chOff x="6480000" y="3675240"/>
              <a:chExt cx="796680" cy="1177560"/>
            </a:xfrm>
          </p:grpSpPr>
          <p:sp>
            <p:nvSpPr>
              <p:cNvPr id="132" name=""/>
              <p:cNvSpPr/>
              <p:nvPr/>
            </p:nvSpPr>
            <p:spPr>
              <a:xfrm>
                <a:off x="6480000" y="3952440"/>
                <a:ext cx="202680" cy="26964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622560" y="4196520"/>
                <a:ext cx="654120" cy="656280"/>
              </a:xfrm>
              <a:custGeom>
                <a:avLst/>
                <a:gdLst/>
                <a:ahLst/>
                <a:rect l="l" t="t" r="r" b="b"/>
                <a:pathLst>
                  <a:path w="1820" h="1824">
                    <a:moveTo>
                      <a:pt x="1819" y="685"/>
                    </a:moveTo>
                    <a:lnTo>
                      <a:pt x="927" y="1823"/>
                    </a:lnTo>
                    <a:lnTo>
                      <a:pt x="0" y="0"/>
                    </a:ln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587640" y="3675240"/>
                <a:ext cx="71280" cy="44208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7130880" y="4381560"/>
              <a:ext cx="412920" cy="1352520"/>
            </a:xfrm>
            <a:prstGeom prst="ellips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0080" y="2144880"/>
            <a:ext cx="8609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Поздравляем Михаила с присвоением з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Ученик недели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680000" y="539640"/>
            <a:ext cx="2158920" cy="2877480"/>
            <a:chOff x="4680000" y="539640"/>
            <a:chExt cx="2158920" cy="2877480"/>
          </a:xfrm>
        </p:grpSpPr>
        <p:grpSp>
          <p:nvGrpSpPr>
            <p:cNvPr id="138" name=""/>
            <p:cNvGrpSpPr/>
            <p:nvPr/>
          </p:nvGrpSpPr>
          <p:grpSpPr>
            <a:xfrm>
              <a:off x="4680000" y="1064520"/>
              <a:ext cx="882720" cy="602640"/>
              <a:chOff x="4680000" y="1064520"/>
              <a:chExt cx="882720" cy="602640"/>
            </a:xfrm>
          </p:grpSpPr>
          <p:sp>
            <p:nvSpPr>
              <p:cNvPr id="139" name=""/>
              <p:cNvSpPr/>
              <p:nvPr/>
            </p:nvSpPr>
            <p:spPr>
              <a:xfrm>
                <a:off x="4680000" y="1227960"/>
                <a:ext cx="882720" cy="439200"/>
              </a:xfrm>
              <a:custGeom>
                <a:avLst/>
                <a:gdLst/>
                <a:ahLst/>
                <a:rect l="l" t="t" r="r" b="b"/>
                <a:pathLst>
                  <a:path w="2459" h="1165">
                    <a:moveTo>
                      <a:pt x="2458" y="294"/>
                    </a:moveTo>
                    <a:lnTo>
                      <a:pt x="0" y="1164"/>
                    </a:lnTo>
                    <a:lnTo>
                      <a:pt x="242" y="0"/>
                    </a:ln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3720000">
                <a:off x="4771440" y="1088640"/>
                <a:ext cx="237600" cy="30384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4962600" y="539640"/>
              <a:ext cx="1377720" cy="76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"/>
            <p:cNvGrpSpPr/>
            <p:nvPr/>
          </p:nvGrpSpPr>
          <p:grpSpPr>
            <a:xfrm>
              <a:off x="5762520" y="2373480"/>
              <a:ext cx="706320" cy="1043640"/>
              <a:chOff x="5762520" y="2373480"/>
              <a:chExt cx="706320" cy="1043640"/>
            </a:xfrm>
          </p:grpSpPr>
          <p:sp>
            <p:nvSpPr>
              <p:cNvPr id="143" name=""/>
              <p:cNvSpPr/>
              <p:nvPr/>
            </p:nvSpPr>
            <p:spPr>
              <a:xfrm>
                <a:off x="5762520" y="2373480"/>
                <a:ext cx="354600" cy="996120"/>
              </a:xfrm>
              <a:prstGeom prst="line">
                <a:avLst/>
              </a:prstGeom>
              <a:ln w="36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944320" y="3228480"/>
                <a:ext cx="524520" cy="18864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754520" y="2346480"/>
              <a:ext cx="828000" cy="884880"/>
              <a:chOff x="4754520" y="2346480"/>
              <a:chExt cx="828000" cy="884880"/>
            </a:xfrm>
          </p:grpSpPr>
          <p:sp>
            <p:nvSpPr>
              <p:cNvPr id="146" name=""/>
              <p:cNvSpPr/>
              <p:nvPr/>
            </p:nvSpPr>
            <p:spPr>
              <a:xfrm>
                <a:off x="4754520" y="3090600"/>
                <a:ext cx="501120" cy="14076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5166720" y="2346480"/>
                <a:ext cx="415800" cy="766080"/>
              </a:xfrm>
              <a:prstGeom prst="line">
                <a:avLst/>
              </a:prstGeom>
              <a:ln w="36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5718240" y="1350360"/>
              <a:ext cx="1120680" cy="532080"/>
              <a:chOff x="5718240" y="1350360"/>
              <a:chExt cx="1120680" cy="532080"/>
            </a:xfrm>
          </p:grpSpPr>
          <p:sp>
            <p:nvSpPr>
              <p:cNvPr id="149" name=""/>
              <p:cNvSpPr/>
              <p:nvPr/>
            </p:nvSpPr>
            <p:spPr>
              <a:xfrm>
                <a:off x="5718240" y="1350360"/>
                <a:ext cx="1120680" cy="322920"/>
              </a:xfrm>
              <a:custGeom>
                <a:avLst/>
                <a:gdLst/>
                <a:ahLst/>
                <a:rect l="l" t="t" r="r" b="b"/>
                <a:pathLst>
                  <a:path w="3119" h="1003">
                    <a:moveTo>
                      <a:pt x="0" y="0"/>
                    </a:moveTo>
                    <a:lnTo>
                      <a:pt x="3118" y="601"/>
                    </a:lnTo>
                    <a:lnTo>
                      <a:pt x="1559" y="1002"/>
                    </a:ln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7940000">
                <a:off x="6096600" y="1555200"/>
                <a:ext cx="207360" cy="31860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5324400" y="1316880"/>
              <a:ext cx="684360" cy="1091520"/>
            </a:xfrm>
            <a:prstGeom prst="ellips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1:30:34Z</dcterms:created>
  <dc:creator/>
  <dc:description/>
  <dc:language>en-US</dc:language>
  <cp:lastModifiedBy>imc</cp:lastModifiedBy>
  <dcterms:modified xsi:type="dcterms:W3CDTF">2013-02-13T07:45:34Z</dcterms:modified>
  <cp:revision>2</cp:revision>
  <dc:subject/>
  <dc:title>Королёв Михаил</dc:title>
</cp:coreProperties>
</file>