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0D51-6460-4183-95EC-BC2ACCAE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73B-577B-4975-8187-26D14F46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FE0B-FFBB-42E7-9517-4BA9CEAE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96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84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5B3-35E7-4789-90AC-3929F21F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580680"/>
            <a:ext cx="860292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C30-C110-4BE4-9320-DFFA62C7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96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584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0B4-A570-46C0-BD49-11C5E06D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EF1-F073-4B4A-8CA1-11B83785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58DE-16F6-4E02-9ABF-70CE4F5C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80680"/>
            <a:ext cx="860292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0D9C-B00F-45BD-9096-B61369D4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54B-18CB-4483-A3CC-CCE51B6E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9AB-B7F0-4FB7-9652-FF2B7CE1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253-A955-4F98-AA86-9730D79D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76325-1C09-457B-A3FC-6DEBC1EB05F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1058760"/>
            <a:ext cx="9070920" cy="20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атематические игры как средство развития логического мышле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3280" y="5754600"/>
            <a:ext cx="9036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8080"/>
                </a:solidFill>
                <a:latin typeface="Times New Roman"/>
              </a:rPr>
              <a:t>Щукина Вера Станиславовна</a:t>
            </a:r>
            <a:endParaRPr b="0" lang="en-US" sz="2600" spc="-1" strike="noStrike">
              <a:solidFill>
                <a:srgbClr val="00808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8080"/>
                </a:solidFill>
                <a:latin typeface="Times New Roman"/>
              </a:rPr>
              <a:t>МБДОУ №50</a:t>
            </a:r>
            <a:endParaRPr b="0" lang="en-US" sz="2600" spc="-1" strike="noStrike">
              <a:solidFill>
                <a:srgbClr val="00808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8080"/>
                </a:solidFill>
                <a:latin typeface="Times New Roman"/>
              </a:rPr>
              <a:t>Средняя группа</a:t>
            </a:r>
            <a:endParaRPr b="0" lang="en-US" sz="2600" spc="-1" strike="noStrike">
              <a:solidFill>
                <a:srgbClr val="00808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267760" y="3240000"/>
            <a:ext cx="552240" cy="540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856720" y="4432320"/>
            <a:ext cx="863640" cy="608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199280" y="3959280"/>
            <a:ext cx="808200" cy="90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580000" y="4680000"/>
            <a:ext cx="72072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альние цел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0880" y="2879280"/>
            <a:ext cx="8799480" cy="3894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Формировать навыки логического мышления, настойчивость, целенаправленность, способность действовать в уме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67320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лижние цел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1240" y="2879280"/>
            <a:ext cx="8439120" cy="3894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Создать каждому ребёнку условия для полного раскрытия его возможностей и способностей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Развивать у детей внимание, память, логическое мышление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76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дагогические методы и задач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Индивидуальная работа с детьми с низким уровнем развития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Объединение в группы детей с высоким, средним и низким уровнем развития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Помочь детям преодолеть отставание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87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Использовать работу в группах  для привития детям чувства взаимопомощи, взаимовыручки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178920"/>
            <a:ext cx="84391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рудности и реш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1240" y="1260000"/>
            <a:ext cx="4119840" cy="6178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9000"/>
          </a:bodyPr>
          <a:p>
            <a:pPr marL="42732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8a8a"/>
                </a:solidFill>
                <a:latin typeface="Times New Roman"/>
              </a:rPr>
              <a:t>Трудности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427320" indent="-31716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Недостаток  игр и по собий по данной теме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7320" indent="-31716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Небольшой опыт пользования компьютером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7320" indent="-31716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Непонимание родителями важности развития логического мышления у детей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1600" y="1260000"/>
            <a:ext cx="4208400" cy="6178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8a8a"/>
                </a:solidFill>
                <a:latin typeface="Times New Roman"/>
              </a:rPr>
              <a:t>Решения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Попрошу родителей изготовить и сделаю сама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Попрошу помощи у коллег, обучение на курсах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Подготовлю материал для проведения консудьтаций и бесед с родителями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2400" y="74520"/>
            <a:ext cx="8607600" cy="569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нсультация для родителей.</a:t>
            </a: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Играем дома вместе сдетьми»</a:t>
            </a:r>
            <a:br>
              <a:rPr sz="3600"/>
            </a:b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(Подбор игр на развитие логического мышления)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40880" y="5394240"/>
            <a:ext cx="8618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imes New Roman"/>
              </a:rPr>
              <a:t>Воспитатель: Щукина В. С.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808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808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8080"/>
                </a:solidFill>
                <a:latin typeface="Times New Roman"/>
              </a:rPr>
              <a:t>МБДОУ №50</a:t>
            </a:r>
            <a:endParaRPr b="0" lang="en-US" sz="2600" spc="-1" strike="noStrike">
              <a:solidFill>
                <a:srgbClr val="00808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3780000"/>
            <a:ext cx="2700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3247920"/>
            <a:ext cx="86072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Изучение новой методической литературы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Интернет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Помощь и поддержка коллег и родителей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740720" y="539640"/>
            <a:ext cx="1800000" cy="1979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9640" y="5400720"/>
            <a:ext cx="126072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264960"/>
            <a:ext cx="8604360" cy="13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лан-граф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0880" y="1800360"/>
            <a:ext cx="231948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Месяц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Август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Сентябрь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Ноябрь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Март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Май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800360"/>
            <a:ext cx="648036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Мероприятия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Изучение литературы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Создание развивающей среды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Консультация для родителей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Родительское собрание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Анализ полученного опыта 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06:35:10Z</dcterms:created>
  <dc:creator/>
  <dc:description/>
  <dc:language>en-US</dc:language>
  <cp:lastModifiedBy>imc</cp:lastModifiedBy>
  <dcterms:modified xsi:type="dcterms:W3CDTF">2013-02-13T06:45:52Z</dcterms:modified>
  <cp:revision>1</cp:revision>
  <dc:subject/>
  <dc:title>Математические игры как средство развития логического мышления.</dc:title>
</cp:coreProperties>
</file>