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62C-814B-48F5-BB16-3CDEED18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E99-04EC-4E4F-AEA3-C0544F6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E80-2B39-4173-A156-5920D47A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221-9A8F-4118-87AD-B0BBF856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D7-1404-40B7-9A87-A7B4D774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838-4AC7-4001-BBDA-56BE0B5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6AE-3E68-431F-859B-A4C5935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5E6-F79F-4E14-B057-F6751E0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24A-CD82-428F-8993-EC7B82F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652-6928-4E5B-9598-86445BD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E39-C726-4BEA-9B50-AED6A8D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A83-5714-41CF-A5AB-D7D41E2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9B669-C895-455F-8FCF-9FE119C791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60000"/>
            <a:ext cx="92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 № 50 « КОЛОКОЛЬЧИК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ов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90360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лено воспитател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укиной В.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ой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ь 2012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2340000"/>
            <a:ext cx="1978200" cy="3036960"/>
            <a:chOff x="6119640" y="2340000"/>
            <a:chExt cx="1978200" cy="3036960"/>
          </a:xfrm>
        </p:grpSpPr>
        <p:grpSp>
          <p:nvGrpSpPr>
            <p:cNvPr id="87" name=""/>
            <p:cNvGrpSpPr/>
            <p:nvPr/>
          </p:nvGrpSpPr>
          <p:grpSpPr>
            <a:xfrm>
              <a:off x="6119640" y="2340000"/>
              <a:ext cx="1978200" cy="3036960"/>
              <a:chOff x="6119640" y="2340000"/>
              <a:chExt cx="1978200" cy="3036960"/>
            </a:xfrm>
          </p:grpSpPr>
          <p:sp>
            <p:nvSpPr>
              <p:cNvPr id="88" name=""/>
              <p:cNvSpPr/>
              <p:nvPr/>
            </p:nvSpPr>
            <p:spPr>
              <a:xfrm>
                <a:off x="6119640" y="2340000"/>
                <a:ext cx="1978200" cy="3036960"/>
              </a:xfrm>
              <a:custGeom>
                <a:avLst/>
                <a:gdLst>
                  <a:gd name="textAreaLeft" fmla="*/ 360 w 1978200"/>
                  <a:gd name="textAreaRight" fmla="*/ 1977840 w 1978200"/>
                  <a:gd name="textAreaTop" fmla="*/ 360 h 3036960"/>
                  <a:gd name="textAreaBottom" fmla="*/ 3036600 h 3036960"/>
                </a:gdLst>
                <a:ahLst/>
                <a:rect l="textAreaLeft" t="textAreaTop" r="textAreaRight" b="textAreaBottom"/>
                <a:pathLst>
                  <a:path w="21600" h="33159">
                    <a:moveTo>
                      <a:pt x="17" y="0"/>
                    </a:moveTo>
                    <a:arcTo wR="17" hR="17" stAng="16200000" swAng="-5400000"/>
                    <a:lnTo>
                      <a:pt x="0" y="33142"/>
                    </a:lnTo>
                    <a:arcTo wR="17" hR="17" stAng="10800000" swAng="-5400000"/>
                    <a:lnTo>
                      <a:pt x="21583" y="33159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00280" y="2463480"/>
                <a:ext cx="1816560" cy="2787840"/>
              </a:xfrm>
              <a:custGeom>
                <a:avLst/>
                <a:gdLst>
                  <a:gd name="textAreaLeft" fmla="*/ 360 w 1816560"/>
                  <a:gd name="textAreaRight" fmla="*/ 1816200 w 1816560"/>
                  <a:gd name="textAreaTop" fmla="*/ 360 h 2787840"/>
                  <a:gd name="textAreaBottom" fmla="*/ 2787480 h 2787840"/>
                </a:gdLst>
                <a:ahLst/>
                <a:rect l="textAreaLeft" t="textAreaTop" r="textAreaRight" b="textAreaBottom"/>
                <a:pathLst>
                  <a:path w="21600" h="33147">
                    <a:moveTo>
                      <a:pt x="18" y="0"/>
                    </a:moveTo>
                    <a:arcTo wR="18" hR="18" stAng="16200000" swAng="-5400000"/>
                    <a:lnTo>
                      <a:pt x="0" y="33129"/>
                    </a:lnTo>
                    <a:arcTo wR="18" hR="18" stAng="10800000" swAng="-5400000"/>
                    <a:lnTo>
                      <a:pt x="21582" y="33147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19640" y="3814200"/>
                <a:ext cx="1919520" cy="90000"/>
              </a:xfrm>
              <a:prstGeom prst="roundRect">
                <a:avLst>
                  <a:gd name="adj" fmla="val 17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8600" y="2633400"/>
                <a:ext cx="3884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8600" y="3007800"/>
                <a:ext cx="3884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8600" y="3382200"/>
                <a:ext cx="3884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2800" y="2633400"/>
                <a:ext cx="3902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2800" y="3007800"/>
                <a:ext cx="3902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72800" y="3382200"/>
                <a:ext cx="3902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05520" y="4340160"/>
              <a:ext cx="515880" cy="588960"/>
            </a:xfrm>
            <a:custGeom>
              <a:avLst/>
              <a:gdLst/>
              <a:ahLst/>
              <a:rect l="l" t="t" r="r" b="b"/>
              <a:pathLst>
                <a:path w="1434" h="1638">
                  <a:moveTo>
                    <a:pt x="245" y="641"/>
                  </a:moveTo>
                  <a:cubicBezTo>
                    <a:pt x="371" y="603"/>
                    <a:pt x="511" y="578"/>
                    <a:pt x="679" y="578"/>
                  </a:cubicBezTo>
                  <a:cubicBezTo>
                    <a:pt x="910" y="578"/>
                    <a:pt x="1092" y="622"/>
                    <a:pt x="1229" y="709"/>
                  </a:cubicBezTo>
                  <a:cubicBezTo>
                    <a:pt x="1364" y="797"/>
                    <a:pt x="1433" y="917"/>
                    <a:pt x="1433" y="1067"/>
                  </a:cubicBezTo>
                  <a:cubicBezTo>
                    <a:pt x="1433" y="1236"/>
                    <a:pt x="1342" y="1371"/>
                    <a:pt x="1174" y="1477"/>
                  </a:cubicBezTo>
                  <a:cubicBezTo>
                    <a:pt x="1001" y="1584"/>
                    <a:pt x="775" y="1637"/>
                    <a:pt x="503" y="1637"/>
                  </a:cubicBezTo>
                  <a:cubicBezTo>
                    <a:pt x="335" y="1637"/>
                    <a:pt x="168" y="1612"/>
                    <a:pt x="0" y="1569"/>
                  </a:cubicBezTo>
                  <a:cubicBezTo>
                    <a:pt x="8" y="1544"/>
                    <a:pt x="16" y="1519"/>
                    <a:pt x="27" y="1491"/>
                  </a:cubicBezTo>
                  <a:cubicBezTo>
                    <a:pt x="176" y="1531"/>
                    <a:pt x="316" y="1550"/>
                    <a:pt x="440" y="1550"/>
                  </a:cubicBezTo>
                  <a:cubicBezTo>
                    <a:pt x="635" y="1550"/>
                    <a:pt x="789" y="1512"/>
                    <a:pt x="916" y="1424"/>
                  </a:cubicBezTo>
                  <a:cubicBezTo>
                    <a:pt x="1042" y="1342"/>
                    <a:pt x="1105" y="1230"/>
                    <a:pt x="1105" y="1086"/>
                  </a:cubicBezTo>
                  <a:cubicBezTo>
                    <a:pt x="1105" y="966"/>
                    <a:pt x="1056" y="869"/>
                    <a:pt x="971" y="797"/>
                  </a:cubicBezTo>
                  <a:cubicBezTo>
                    <a:pt x="880" y="728"/>
                    <a:pt x="762" y="690"/>
                    <a:pt x="608" y="690"/>
                  </a:cubicBezTo>
                  <a:cubicBezTo>
                    <a:pt x="448" y="690"/>
                    <a:pt x="302" y="725"/>
                    <a:pt x="162" y="791"/>
                  </a:cubicBezTo>
                  <a:cubicBezTo>
                    <a:pt x="135" y="789"/>
                    <a:pt x="107" y="787"/>
                    <a:pt x="77" y="782"/>
                  </a:cubicBezTo>
                  <a:cubicBezTo>
                    <a:pt x="115" y="521"/>
                    <a:pt x="154" y="261"/>
                    <a:pt x="195" y="0"/>
                  </a:cubicBezTo>
                  <a:cubicBezTo>
                    <a:pt x="550" y="0"/>
                    <a:pt x="905" y="0"/>
                    <a:pt x="1265" y="0"/>
                  </a:cubicBezTo>
                  <a:cubicBezTo>
                    <a:pt x="1265" y="57"/>
                    <a:pt x="1265" y="114"/>
                    <a:pt x="1265" y="173"/>
                  </a:cubicBezTo>
                  <a:cubicBezTo>
                    <a:pt x="949" y="173"/>
                    <a:pt x="632" y="173"/>
                    <a:pt x="316" y="173"/>
                  </a:cubicBezTo>
                  <a:cubicBezTo>
                    <a:pt x="294" y="329"/>
                    <a:pt x="272" y="485"/>
                    <a:pt x="245" y="6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        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           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ир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едметным  ми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социальной действи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4960" y="1800360"/>
            <a:ext cx="4414320" cy="5397120"/>
            <a:chOff x="5484960" y="1800360"/>
            <a:chExt cx="4414320" cy="5397120"/>
          </a:xfrm>
        </p:grpSpPr>
        <p:sp>
          <p:nvSpPr>
            <p:cNvPr id="104" name=""/>
            <p:cNvSpPr/>
            <p:nvPr/>
          </p:nvSpPr>
          <p:spPr>
            <a:xfrm>
              <a:off x="6093360" y="1800360"/>
              <a:ext cx="3400200" cy="5168160"/>
            </a:xfrm>
            <a:custGeom>
              <a:avLst/>
              <a:gdLst/>
              <a:ahLst/>
              <a:rect l="l" t="t" r="r" b="b"/>
              <a:pathLst>
                <a:path w="9611" h="14720">
                  <a:moveTo>
                    <a:pt x="3949" y="293"/>
                  </a:moveTo>
                  <a:cubicBezTo>
                    <a:pt x="4840" y="0"/>
                    <a:pt x="6023" y="447"/>
                    <a:pt x="6456" y="1256"/>
                  </a:cubicBezTo>
                  <a:cubicBezTo>
                    <a:pt x="7068" y="2395"/>
                    <a:pt x="6840" y="3574"/>
                    <a:pt x="6935" y="4060"/>
                  </a:cubicBezTo>
                  <a:cubicBezTo>
                    <a:pt x="7042" y="4586"/>
                    <a:pt x="7689" y="5695"/>
                    <a:pt x="8052" y="6368"/>
                  </a:cubicBezTo>
                  <a:cubicBezTo>
                    <a:pt x="8416" y="7041"/>
                    <a:pt x="8719" y="6894"/>
                    <a:pt x="9026" y="7886"/>
                  </a:cubicBezTo>
                  <a:cubicBezTo>
                    <a:pt x="9333" y="8879"/>
                    <a:pt x="9445" y="8908"/>
                    <a:pt x="9528" y="9785"/>
                  </a:cubicBezTo>
                  <a:cubicBezTo>
                    <a:pt x="9610" y="10662"/>
                    <a:pt x="8469" y="12850"/>
                    <a:pt x="8525" y="12704"/>
                  </a:cubicBezTo>
                  <a:cubicBezTo>
                    <a:pt x="8581" y="12558"/>
                    <a:pt x="7353" y="14577"/>
                    <a:pt x="6490" y="14543"/>
                  </a:cubicBezTo>
                  <a:cubicBezTo>
                    <a:pt x="5760" y="14514"/>
                    <a:pt x="5233" y="14398"/>
                    <a:pt x="4619" y="14427"/>
                  </a:cubicBezTo>
                  <a:cubicBezTo>
                    <a:pt x="4006" y="14455"/>
                    <a:pt x="3142" y="14719"/>
                    <a:pt x="2731" y="14661"/>
                  </a:cubicBezTo>
                  <a:cubicBezTo>
                    <a:pt x="2145" y="14579"/>
                    <a:pt x="584" y="13054"/>
                    <a:pt x="724" y="12412"/>
                  </a:cubicBezTo>
                  <a:cubicBezTo>
                    <a:pt x="864" y="11770"/>
                    <a:pt x="0" y="10719"/>
                    <a:pt x="557" y="9493"/>
                  </a:cubicBezTo>
                  <a:cubicBezTo>
                    <a:pt x="1114" y="8267"/>
                    <a:pt x="1344" y="7002"/>
                    <a:pt x="2033" y="6308"/>
                  </a:cubicBezTo>
                  <a:cubicBezTo>
                    <a:pt x="2529" y="5810"/>
                    <a:pt x="2863" y="5259"/>
                    <a:pt x="2667" y="4119"/>
                  </a:cubicBezTo>
                  <a:cubicBezTo>
                    <a:pt x="2563" y="3501"/>
                    <a:pt x="2371" y="2025"/>
                    <a:pt x="2639" y="1489"/>
                  </a:cubicBezTo>
                  <a:cubicBezTo>
                    <a:pt x="2946" y="876"/>
                    <a:pt x="3057" y="584"/>
                    <a:pt x="3949" y="293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67120" y="3317400"/>
              <a:ext cx="2141640" cy="3251160"/>
              <a:chOff x="6567120" y="3317400"/>
              <a:chExt cx="2141640" cy="3251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567120" y="3436200"/>
                <a:ext cx="2141640" cy="3132360"/>
              </a:xfrm>
              <a:custGeom>
                <a:avLst/>
                <a:gdLst/>
                <a:ahLst/>
                <a:rect l="l" t="t" r="r" b="b"/>
                <a:pathLst>
                  <a:path w="6376" h="9287">
                    <a:moveTo>
                      <a:pt x="2616" y="9258"/>
                    </a:moveTo>
                    <a:cubicBezTo>
                      <a:pt x="3840" y="9226"/>
                      <a:pt x="4622" y="8903"/>
                      <a:pt x="5289" y="8138"/>
                    </a:cubicBezTo>
                    <a:cubicBezTo>
                      <a:pt x="5960" y="7370"/>
                      <a:pt x="6375" y="5926"/>
                      <a:pt x="6182" y="4569"/>
                    </a:cubicBezTo>
                    <a:cubicBezTo>
                      <a:pt x="5989" y="3211"/>
                      <a:pt x="5903" y="2977"/>
                      <a:pt x="5540" y="2565"/>
                    </a:cubicBezTo>
                    <a:cubicBezTo>
                      <a:pt x="5177" y="2153"/>
                      <a:pt x="5400" y="2322"/>
                      <a:pt x="5374" y="2210"/>
                    </a:cubicBezTo>
                    <a:cubicBezTo>
                      <a:pt x="5345" y="2092"/>
                      <a:pt x="4956" y="470"/>
                      <a:pt x="4622" y="236"/>
                    </a:cubicBezTo>
                    <a:cubicBezTo>
                      <a:pt x="4286" y="0"/>
                      <a:pt x="3507" y="470"/>
                      <a:pt x="2949" y="470"/>
                    </a:cubicBezTo>
                    <a:cubicBezTo>
                      <a:pt x="2391" y="470"/>
                      <a:pt x="2120" y="203"/>
                      <a:pt x="1954" y="414"/>
                    </a:cubicBezTo>
                    <a:cubicBezTo>
                      <a:pt x="1675" y="771"/>
                      <a:pt x="1919" y="853"/>
                      <a:pt x="1752" y="1061"/>
                    </a:cubicBezTo>
                    <a:cubicBezTo>
                      <a:pt x="1585" y="1269"/>
                      <a:pt x="1445" y="1385"/>
                      <a:pt x="1307" y="1709"/>
                    </a:cubicBezTo>
                    <a:cubicBezTo>
                      <a:pt x="1168" y="2033"/>
                      <a:pt x="944" y="3124"/>
                      <a:pt x="776" y="3301"/>
                    </a:cubicBezTo>
                    <a:cubicBezTo>
                      <a:pt x="607" y="3478"/>
                      <a:pt x="135" y="4805"/>
                      <a:pt x="191" y="5335"/>
                    </a:cubicBezTo>
                    <a:cubicBezTo>
                      <a:pt x="247" y="5865"/>
                      <a:pt x="0" y="6455"/>
                      <a:pt x="442" y="7075"/>
                    </a:cubicBezTo>
                    <a:cubicBezTo>
                      <a:pt x="1027" y="7894"/>
                      <a:pt x="1474" y="9286"/>
                      <a:pt x="2616" y="92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22600" y="3317400"/>
                <a:ext cx="1190880" cy="695880"/>
              </a:xfrm>
              <a:custGeom>
                <a:avLst/>
                <a:gdLst/>
                <a:ahLst/>
                <a:rect l="l" t="t" r="r" b="b"/>
                <a:pathLst>
                  <a:path w="3547" h="2062">
                    <a:moveTo>
                      <a:pt x="1152" y="2061"/>
                    </a:moveTo>
                    <a:cubicBezTo>
                      <a:pt x="1632" y="2061"/>
                      <a:pt x="1641" y="1650"/>
                      <a:pt x="2086" y="1533"/>
                    </a:cubicBezTo>
                    <a:cubicBezTo>
                      <a:pt x="2532" y="1415"/>
                      <a:pt x="2511" y="1064"/>
                      <a:pt x="2794" y="1030"/>
                    </a:cubicBezTo>
                    <a:cubicBezTo>
                      <a:pt x="3063" y="1127"/>
                      <a:pt x="3157" y="1384"/>
                      <a:pt x="3351" y="1618"/>
                    </a:cubicBezTo>
                    <a:cubicBezTo>
                      <a:pt x="3546" y="1852"/>
                      <a:pt x="3111" y="888"/>
                      <a:pt x="2988" y="444"/>
                    </a:cubicBezTo>
                    <a:cubicBezTo>
                      <a:pt x="2866" y="0"/>
                      <a:pt x="2656" y="1232"/>
                      <a:pt x="1346" y="1262"/>
                    </a:cubicBezTo>
                    <a:cubicBezTo>
                      <a:pt x="35" y="1292"/>
                      <a:pt x="789" y="735"/>
                      <a:pt x="232" y="765"/>
                    </a:cubicBezTo>
                    <a:cubicBezTo>
                      <a:pt x="0" y="1416"/>
                      <a:pt x="316" y="1349"/>
                      <a:pt x="343" y="1379"/>
                    </a:cubicBezTo>
                    <a:cubicBezTo>
                      <a:pt x="477" y="1527"/>
                      <a:pt x="749" y="2061"/>
                      <a:pt x="1152" y="206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9600" y="4154760"/>
                <a:ext cx="257400" cy="350640"/>
              </a:xfrm>
              <a:custGeom>
                <a:avLst/>
                <a:gdLst/>
                <a:ahLst/>
                <a:rect l="l" t="t" r="r" b="b"/>
                <a:pathLst>
                  <a:path w="767" h="1041">
                    <a:moveTo>
                      <a:pt x="766" y="601"/>
                    </a:moveTo>
                    <a:cubicBezTo>
                      <a:pt x="597" y="337"/>
                      <a:pt x="317" y="415"/>
                      <a:pt x="348" y="0"/>
                    </a:cubicBezTo>
                    <a:cubicBezTo>
                      <a:pt x="139" y="345"/>
                      <a:pt x="134" y="624"/>
                      <a:pt x="0" y="1040"/>
                    </a:cubicBezTo>
                    <a:cubicBezTo>
                      <a:pt x="274" y="740"/>
                      <a:pt x="570" y="572"/>
                      <a:pt x="766" y="60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0280" y="4218480"/>
                <a:ext cx="610200" cy="367200"/>
              </a:xfrm>
              <a:custGeom>
                <a:avLst/>
                <a:gdLst/>
                <a:ahLst/>
                <a:rect l="l" t="t" r="r" b="b"/>
                <a:pathLst>
                  <a:path w="1816" h="1088">
                    <a:moveTo>
                      <a:pt x="0" y="240"/>
                    </a:moveTo>
                    <a:cubicBezTo>
                      <a:pt x="341" y="7"/>
                      <a:pt x="1074" y="369"/>
                      <a:pt x="1010" y="0"/>
                    </a:cubicBezTo>
                    <a:cubicBezTo>
                      <a:pt x="1431" y="306"/>
                      <a:pt x="1548" y="717"/>
                      <a:pt x="1815" y="1087"/>
                    </a:cubicBezTo>
                    <a:cubicBezTo>
                      <a:pt x="1312" y="716"/>
                      <a:pt x="392" y="211"/>
                      <a:pt x="0" y="24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7040" y="4203720"/>
                <a:ext cx="272160" cy="223200"/>
              </a:xfrm>
              <a:custGeom>
                <a:avLst/>
                <a:gdLst/>
                <a:ahLst/>
                <a:rect l="l" t="t" r="r" b="b"/>
                <a:pathLst>
                  <a:path w="812" h="661">
                    <a:moveTo>
                      <a:pt x="811" y="339"/>
                    </a:moveTo>
                    <a:cubicBezTo>
                      <a:pt x="648" y="142"/>
                      <a:pt x="425" y="371"/>
                      <a:pt x="448" y="0"/>
                    </a:cubicBezTo>
                    <a:cubicBezTo>
                      <a:pt x="299" y="306"/>
                      <a:pt x="269" y="142"/>
                      <a:pt x="0" y="185"/>
                    </a:cubicBezTo>
                    <a:cubicBezTo>
                      <a:pt x="198" y="304"/>
                      <a:pt x="312" y="141"/>
                      <a:pt x="269" y="660"/>
                    </a:cubicBezTo>
                    <a:cubicBezTo>
                      <a:pt x="421" y="210"/>
                      <a:pt x="540" y="305"/>
                      <a:pt x="811" y="339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46520" y="5737320"/>
                <a:ext cx="230760" cy="447480"/>
              </a:xfrm>
              <a:custGeom>
                <a:avLst/>
                <a:gdLst/>
                <a:ahLst/>
                <a:rect l="l" t="t" r="r" b="b"/>
                <a:pathLst>
                  <a:path w="689" h="1326">
                    <a:moveTo>
                      <a:pt x="536" y="0"/>
                    </a:moveTo>
                    <a:cubicBezTo>
                      <a:pt x="688" y="635"/>
                      <a:pt x="562" y="928"/>
                      <a:pt x="562" y="928"/>
                    </a:cubicBezTo>
                    <a:lnTo>
                      <a:pt x="259" y="1325"/>
                    </a:lnTo>
                    <a:cubicBezTo>
                      <a:pt x="259" y="1325"/>
                      <a:pt x="0" y="484"/>
                      <a:pt x="184" y="293"/>
                    </a:cubicBezTo>
                    <a:cubicBezTo>
                      <a:pt x="259" y="214"/>
                      <a:pt x="108" y="293"/>
                      <a:pt x="53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7800" y="4736160"/>
                <a:ext cx="169920" cy="927720"/>
              </a:xfrm>
              <a:custGeom>
                <a:avLst/>
                <a:gdLst/>
                <a:ahLst/>
                <a:rect l="l" t="t" r="r" b="b"/>
                <a:pathLst>
                  <a:path w="507" h="2752">
                    <a:moveTo>
                      <a:pt x="506" y="0"/>
                    </a:moveTo>
                    <a:cubicBezTo>
                      <a:pt x="201" y="1005"/>
                      <a:pt x="0" y="1454"/>
                      <a:pt x="355" y="2751"/>
                    </a:cubicBezTo>
                    <a:cubicBezTo>
                      <a:pt x="202" y="1402"/>
                      <a:pt x="456" y="1006"/>
                      <a:pt x="50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158520" y="3622680"/>
              <a:ext cx="1062000" cy="2648880"/>
              <a:chOff x="6158520" y="3622680"/>
              <a:chExt cx="1062000" cy="264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158520" y="3622680"/>
                <a:ext cx="1062000" cy="2648880"/>
              </a:xfrm>
              <a:custGeom>
                <a:avLst/>
                <a:gdLst/>
                <a:ahLst/>
                <a:rect l="l" t="t" r="r" b="b"/>
                <a:pathLst>
                  <a:path w="3039" h="7953">
                    <a:moveTo>
                      <a:pt x="1757" y="2754"/>
                    </a:moveTo>
                    <a:cubicBezTo>
                      <a:pt x="1412" y="3601"/>
                      <a:pt x="1283" y="3660"/>
                      <a:pt x="1198" y="4827"/>
                    </a:cubicBezTo>
                    <a:cubicBezTo>
                      <a:pt x="1167" y="5272"/>
                      <a:pt x="1193" y="5463"/>
                      <a:pt x="1422" y="5703"/>
                    </a:cubicBezTo>
                    <a:cubicBezTo>
                      <a:pt x="1589" y="5879"/>
                      <a:pt x="2988" y="6842"/>
                      <a:pt x="3009" y="7308"/>
                    </a:cubicBezTo>
                    <a:cubicBezTo>
                      <a:pt x="3038" y="7952"/>
                      <a:pt x="1896" y="7630"/>
                      <a:pt x="1337" y="7513"/>
                    </a:cubicBezTo>
                    <a:cubicBezTo>
                      <a:pt x="765" y="7393"/>
                      <a:pt x="838" y="6519"/>
                      <a:pt x="447" y="5995"/>
                    </a:cubicBezTo>
                    <a:cubicBezTo>
                      <a:pt x="56" y="5471"/>
                      <a:pt x="0" y="5412"/>
                      <a:pt x="0" y="5090"/>
                    </a:cubicBezTo>
                    <a:cubicBezTo>
                      <a:pt x="1" y="4448"/>
                      <a:pt x="445" y="4389"/>
                      <a:pt x="614" y="3747"/>
                    </a:cubicBezTo>
                    <a:cubicBezTo>
                      <a:pt x="782" y="3105"/>
                      <a:pt x="922" y="2754"/>
                      <a:pt x="1115" y="2169"/>
                    </a:cubicBezTo>
                    <a:cubicBezTo>
                      <a:pt x="1223" y="1850"/>
                      <a:pt x="1787" y="1324"/>
                      <a:pt x="2035" y="856"/>
                    </a:cubicBezTo>
                    <a:cubicBezTo>
                      <a:pt x="2173" y="593"/>
                      <a:pt x="2513" y="0"/>
                      <a:pt x="2675" y="185"/>
                    </a:cubicBezTo>
                    <a:cubicBezTo>
                      <a:pt x="3009" y="564"/>
                      <a:pt x="2390" y="981"/>
                      <a:pt x="2257" y="1353"/>
                    </a:cubicBezTo>
                    <a:cubicBezTo>
                      <a:pt x="2084" y="1841"/>
                      <a:pt x="2081" y="1955"/>
                      <a:pt x="1757" y="275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11240" y="4435920"/>
                <a:ext cx="428400" cy="1243440"/>
              </a:xfrm>
              <a:custGeom>
                <a:avLst/>
                <a:gdLst/>
                <a:ahLst/>
                <a:rect l="l" t="t" r="r" b="b"/>
                <a:pathLst>
                  <a:path w="1226" h="3737">
                    <a:moveTo>
                      <a:pt x="893" y="0"/>
                    </a:moveTo>
                    <a:cubicBezTo>
                      <a:pt x="502" y="203"/>
                      <a:pt x="172" y="1403"/>
                      <a:pt x="84" y="1839"/>
                    </a:cubicBezTo>
                    <a:cubicBezTo>
                      <a:pt x="0" y="2248"/>
                      <a:pt x="56" y="2860"/>
                      <a:pt x="640" y="3239"/>
                    </a:cubicBezTo>
                    <a:cubicBezTo>
                      <a:pt x="1225" y="3618"/>
                      <a:pt x="1198" y="3736"/>
                      <a:pt x="1198" y="37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solidFill>
              <a:srgbClr val="c7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59360" y="2541600"/>
              <a:ext cx="509760" cy="655920"/>
              <a:chOff x="7659360" y="2541600"/>
              <a:chExt cx="509760" cy="65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59360" y="2587320"/>
                <a:ext cx="509760" cy="610200"/>
              </a:xfrm>
              <a:custGeom>
                <a:avLst/>
                <a:gdLst/>
                <a:ahLst/>
                <a:rect l="l" t="t" r="r" b="b"/>
                <a:pathLst>
                  <a:path w="1510" h="1804">
                    <a:moveTo>
                      <a:pt x="698" y="62"/>
                    </a:moveTo>
                    <a:cubicBezTo>
                      <a:pt x="1199" y="150"/>
                      <a:pt x="1374" y="207"/>
                      <a:pt x="1442" y="732"/>
                    </a:cubicBezTo>
                    <a:cubicBezTo>
                      <a:pt x="1509" y="1257"/>
                      <a:pt x="1506" y="1757"/>
                      <a:pt x="864" y="1786"/>
                    </a:cubicBezTo>
                    <a:cubicBezTo>
                      <a:pt x="463" y="1803"/>
                      <a:pt x="0" y="1289"/>
                      <a:pt x="32" y="907"/>
                    </a:cubicBezTo>
                    <a:cubicBezTo>
                      <a:pt x="75" y="437"/>
                      <a:pt x="339" y="0"/>
                      <a:pt x="698" y="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8680" y="2584440"/>
                <a:ext cx="443880" cy="283320"/>
              </a:xfrm>
              <a:custGeom>
                <a:avLst/>
                <a:gdLst/>
                <a:ahLst/>
                <a:rect l="l" t="t" r="r" b="b"/>
                <a:pathLst>
                  <a:path w="1316" h="840">
                    <a:moveTo>
                      <a:pt x="0" y="466"/>
                    </a:moveTo>
                    <a:cubicBezTo>
                      <a:pt x="92" y="152"/>
                      <a:pt x="352" y="0"/>
                      <a:pt x="760" y="73"/>
                    </a:cubicBezTo>
                    <a:cubicBezTo>
                      <a:pt x="1168" y="146"/>
                      <a:pt x="1242" y="334"/>
                      <a:pt x="1315" y="839"/>
                    </a:cubicBezTo>
                    <a:cubicBezTo>
                      <a:pt x="1073" y="442"/>
                      <a:pt x="1005" y="352"/>
                      <a:pt x="683" y="309"/>
                    </a:cubicBezTo>
                    <a:cubicBezTo>
                      <a:pt x="355" y="265"/>
                      <a:pt x="230" y="290"/>
                      <a:pt x="0" y="466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5080" y="2766240"/>
                <a:ext cx="260280" cy="345960"/>
              </a:xfrm>
              <a:custGeom>
                <a:avLst/>
                <a:gdLst/>
                <a:ahLst/>
                <a:rect l="l" t="t" r="r" b="b"/>
                <a:pathLst>
                  <a:path w="773" h="1024">
                    <a:moveTo>
                      <a:pt x="361" y="31"/>
                    </a:moveTo>
                    <a:cubicBezTo>
                      <a:pt x="684" y="86"/>
                      <a:pt x="704" y="74"/>
                      <a:pt x="738" y="453"/>
                    </a:cubicBezTo>
                    <a:cubicBezTo>
                      <a:pt x="772" y="833"/>
                      <a:pt x="616" y="1023"/>
                      <a:pt x="410" y="1023"/>
                    </a:cubicBezTo>
                    <a:cubicBezTo>
                      <a:pt x="204" y="1023"/>
                      <a:pt x="0" y="853"/>
                      <a:pt x="16" y="579"/>
                    </a:cubicBezTo>
                    <a:cubicBezTo>
                      <a:pt x="39" y="240"/>
                      <a:pt x="173" y="0"/>
                      <a:pt x="361" y="31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00560" y="2823120"/>
                <a:ext cx="138240" cy="140040"/>
              </a:xfrm>
              <a:custGeom>
                <a:avLst/>
                <a:gdLst/>
                <a:ahLst/>
                <a:rect l="l" t="t" r="r" b="b"/>
                <a:pathLst>
                  <a:path w="408" h="415">
                    <a:moveTo>
                      <a:pt x="0" y="78"/>
                    </a:moveTo>
                    <a:cubicBezTo>
                      <a:pt x="79" y="0"/>
                      <a:pt x="203" y="9"/>
                      <a:pt x="305" y="96"/>
                    </a:cubicBezTo>
                    <a:cubicBezTo>
                      <a:pt x="407" y="184"/>
                      <a:pt x="370" y="272"/>
                      <a:pt x="329" y="414"/>
                    </a:cubicBezTo>
                    <a:cubicBezTo>
                      <a:pt x="264" y="224"/>
                      <a:pt x="292" y="250"/>
                      <a:pt x="207" y="185"/>
                    </a:cubicBezTo>
                    <a:cubicBezTo>
                      <a:pt x="144" y="138"/>
                      <a:pt x="104" y="93"/>
                      <a:pt x="0" y="78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3800" y="2541600"/>
                <a:ext cx="254520" cy="166680"/>
              </a:xfrm>
              <a:custGeom>
                <a:avLst/>
                <a:gdLst/>
                <a:ahLst/>
                <a:rect l="l" t="t" r="r" b="b"/>
                <a:pathLst>
                  <a:path w="754" h="493">
                    <a:moveTo>
                      <a:pt x="0" y="50"/>
                    </a:moveTo>
                    <a:cubicBezTo>
                      <a:pt x="591" y="0"/>
                      <a:pt x="753" y="492"/>
                      <a:pt x="753" y="4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13240" y="2540520"/>
              <a:ext cx="365760" cy="654480"/>
              <a:chOff x="7113240" y="2540520"/>
              <a:chExt cx="365760" cy="65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113240" y="2616120"/>
                <a:ext cx="361440" cy="578880"/>
              </a:xfrm>
              <a:custGeom>
                <a:avLst/>
                <a:gdLst/>
                <a:ahLst/>
                <a:rect l="l" t="t" r="r" b="b"/>
                <a:pathLst>
                  <a:path w="1054" h="1787">
                    <a:moveTo>
                      <a:pt x="470" y="71"/>
                    </a:moveTo>
                    <a:cubicBezTo>
                      <a:pt x="828" y="168"/>
                      <a:pt x="913" y="376"/>
                      <a:pt x="1001" y="820"/>
                    </a:cubicBezTo>
                    <a:cubicBezTo>
                      <a:pt x="1053" y="1075"/>
                      <a:pt x="983" y="1035"/>
                      <a:pt x="983" y="1264"/>
                    </a:cubicBezTo>
                    <a:cubicBezTo>
                      <a:pt x="857" y="1357"/>
                      <a:pt x="662" y="1556"/>
                      <a:pt x="274" y="1786"/>
                    </a:cubicBezTo>
                    <a:cubicBezTo>
                      <a:pt x="122" y="1556"/>
                      <a:pt x="0" y="1445"/>
                      <a:pt x="26" y="1020"/>
                    </a:cubicBezTo>
                    <a:cubicBezTo>
                      <a:pt x="55" y="494"/>
                      <a:pt x="214" y="0"/>
                      <a:pt x="470" y="7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79480" y="2809080"/>
                <a:ext cx="239040" cy="324360"/>
              </a:xfrm>
              <a:custGeom>
                <a:avLst/>
                <a:gdLst/>
                <a:ahLst/>
                <a:rect l="l" t="t" r="r" b="b"/>
                <a:pathLst>
                  <a:path w="696" h="999">
                    <a:moveTo>
                      <a:pt x="153" y="97"/>
                    </a:moveTo>
                    <a:cubicBezTo>
                      <a:pt x="393" y="15"/>
                      <a:pt x="402" y="0"/>
                      <a:pt x="548" y="306"/>
                    </a:cubicBezTo>
                    <a:cubicBezTo>
                      <a:pt x="695" y="613"/>
                      <a:pt x="644" y="835"/>
                      <a:pt x="503" y="916"/>
                    </a:cubicBezTo>
                    <a:cubicBezTo>
                      <a:pt x="362" y="998"/>
                      <a:pt x="167" y="934"/>
                      <a:pt x="91" y="695"/>
                    </a:cubicBezTo>
                    <a:cubicBezTo>
                      <a:pt x="0" y="400"/>
                      <a:pt x="16" y="140"/>
                      <a:pt x="153" y="9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28000" y="2621880"/>
                <a:ext cx="298080" cy="271080"/>
              </a:xfrm>
              <a:custGeom>
                <a:avLst/>
                <a:gdLst/>
                <a:ahLst/>
                <a:rect l="l" t="t" r="r" b="b"/>
                <a:pathLst>
                  <a:path w="869" h="838">
                    <a:moveTo>
                      <a:pt x="868" y="457"/>
                    </a:moveTo>
                    <a:cubicBezTo>
                      <a:pt x="812" y="144"/>
                      <a:pt x="573" y="0"/>
                      <a:pt x="320" y="69"/>
                    </a:cubicBezTo>
                    <a:cubicBezTo>
                      <a:pt x="66" y="138"/>
                      <a:pt x="64" y="415"/>
                      <a:pt x="0" y="837"/>
                    </a:cubicBezTo>
                    <a:cubicBezTo>
                      <a:pt x="193" y="428"/>
                      <a:pt x="186" y="348"/>
                      <a:pt x="385" y="315"/>
                    </a:cubicBezTo>
                    <a:cubicBezTo>
                      <a:pt x="533" y="293"/>
                      <a:pt x="677" y="341"/>
                      <a:pt x="868" y="457"/>
                    </a:cubicBez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53640" y="2847600"/>
                <a:ext cx="111600" cy="165960"/>
              </a:xfrm>
              <a:custGeom>
                <a:avLst/>
                <a:gdLst/>
                <a:ahLst/>
                <a:rect l="l" t="t" r="r" b="b"/>
                <a:pathLst>
                  <a:path w="326" h="510">
                    <a:moveTo>
                      <a:pt x="303" y="509"/>
                    </a:moveTo>
                    <a:cubicBezTo>
                      <a:pt x="325" y="349"/>
                      <a:pt x="312" y="301"/>
                      <a:pt x="260" y="150"/>
                    </a:cubicBezTo>
                    <a:cubicBezTo>
                      <a:pt x="208" y="0"/>
                      <a:pt x="132" y="48"/>
                      <a:pt x="0" y="93"/>
                    </a:cubicBezTo>
                    <a:cubicBezTo>
                      <a:pt x="140" y="202"/>
                      <a:pt x="89" y="151"/>
                      <a:pt x="166" y="244"/>
                    </a:cubicBezTo>
                    <a:cubicBezTo>
                      <a:pt x="232" y="324"/>
                      <a:pt x="260" y="350"/>
                      <a:pt x="303" y="509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20520" y="2540520"/>
                <a:ext cx="258480" cy="204480"/>
              </a:xfrm>
              <a:custGeom>
                <a:avLst/>
                <a:gdLst/>
                <a:ahLst/>
                <a:rect l="l" t="t" r="r" b="b"/>
                <a:pathLst>
                  <a:path w="753" h="630">
                    <a:moveTo>
                      <a:pt x="0" y="185"/>
                    </a:moveTo>
                    <a:cubicBezTo>
                      <a:pt x="576" y="0"/>
                      <a:pt x="752" y="629"/>
                      <a:pt x="752" y="6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99200" y="2976840"/>
              <a:ext cx="1076400" cy="741240"/>
              <a:chOff x="7099200" y="2976840"/>
              <a:chExt cx="1076400" cy="741240"/>
            </a:xfrm>
          </p:grpSpPr>
          <p:sp>
            <p:nvSpPr>
              <p:cNvPr id="130" name=""/>
              <p:cNvSpPr/>
              <p:nvPr/>
            </p:nvSpPr>
            <p:spPr>
              <a:xfrm>
                <a:off x="7099200" y="2976840"/>
                <a:ext cx="1076400" cy="741240"/>
              </a:xfrm>
              <a:custGeom>
                <a:avLst/>
                <a:gdLst/>
                <a:ahLst/>
                <a:rect l="l" t="t" r="r" b="b"/>
                <a:pathLst>
                  <a:path w="3164" h="2171">
                    <a:moveTo>
                      <a:pt x="1370" y="11"/>
                    </a:moveTo>
                    <a:cubicBezTo>
                      <a:pt x="1754" y="25"/>
                      <a:pt x="1916" y="136"/>
                      <a:pt x="2254" y="331"/>
                    </a:cubicBezTo>
                    <a:cubicBezTo>
                      <a:pt x="2594" y="529"/>
                      <a:pt x="3163" y="451"/>
                      <a:pt x="3095" y="889"/>
                    </a:cubicBezTo>
                    <a:cubicBezTo>
                      <a:pt x="3052" y="1176"/>
                      <a:pt x="3111" y="1296"/>
                      <a:pt x="2844" y="1419"/>
                    </a:cubicBezTo>
                    <a:cubicBezTo>
                      <a:pt x="2583" y="1537"/>
                      <a:pt x="2152" y="1870"/>
                      <a:pt x="1961" y="1946"/>
                    </a:cubicBezTo>
                    <a:cubicBezTo>
                      <a:pt x="1750" y="2028"/>
                      <a:pt x="1635" y="2170"/>
                      <a:pt x="1178" y="2112"/>
                    </a:cubicBezTo>
                    <a:cubicBezTo>
                      <a:pt x="721" y="2055"/>
                      <a:pt x="619" y="1779"/>
                      <a:pt x="573" y="1703"/>
                    </a:cubicBezTo>
                    <a:cubicBezTo>
                      <a:pt x="528" y="1628"/>
                      <a:pt x="43" y="1343"/>
                      <a:pt x="58" y="1176"/>
                    </a:cubicBezTo>
                    <a:cubicBezTo>
                      <a:pt x="72" y="1010"/>
                      <a:pt x="0" y="784"/>
                      <a:pt x="176" y="722"/>
                    </a:cubicBezTo>
                    <a:cubicBezTo>
                      <a:pt x="352" y="661"/>
                      <a:pt x="648" y="279"/>
                      <a:pt x="770" y="195"/>
                    </a:cubicBezTo>
                    <a:cubicBezTo>
                      <a:pt x="941" y="79"/>
                      <a:pt x="1062" y="0"/>
                      <a:pt x="1370" y="11"/>
                    </a:cubicBezTo>
                  </a:path>
                </a:pathLst>
              </a:custGeom>
              <a:solidFill>
                <a:srgbClr val="ffd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08080" y="3018960"/>
                <a:ext cx="73080" cy="64440"/>
              </a:xfrm>
              <a:custGeom>
                <a:avLst/>
                <a:gdLst/>
                <a:ahLst/>
                <a:rect l="l" t="t" r="r" b="b"/>
                <a:pathLst>
                  <a:path w="217" h="191">
                    <a:moveTo>
                      <a:pt x="216" y="0"/>
                    </a:moveTo>
                    <a:cubicBezTo>
                      <a:pt x="94" y="136"/>
                      <a:pt x="67" y="190"/>
                      <a:pt x="67" y="190"/>
                    </a:cubicBezTo>
                    <a:lnTo>
                      <a:pt x="0" y="73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38400" y="301608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308" h="192">
                    <a:moveTo>
                      <a:pt x="0" y="0"/>
                    </a:moveTo>
                    <a:cubicBezTo>
                      <a:pt x="173" y="136"/>
                      <a:pt x="213" y="191"/>
                      <a:pt x="213" y="191"/>
                    </a:cubicBezTo>
                    <a:lnTo>
                      <a:pt x="307" y="7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30520" y="3272040"/>
                <a:ext cx="956160" cy="252720"/>
              </a:xfrm>
              <a:custGeom>
                <a:avLst/>
                <a:gdLst/>
                <a:ahLst/>
                <a:rect l="l" t="t" r="r" b="b"/>
                <a:pathLst>
                  <a:path w="2814" h="742">
                    <a:moveTo>
                      <a:pt x="0" y="355"/>
                    </a:moveTo>
                    <a:cubicBezTo>
                      <a:pt x="278" y="307"/>
                      <a:pt x="384" y="716"/>
                      <a:pt x="868" y="728"/>
                    </a:cubicBezTo>
                    <a:cubicBezTo>
                      <a:pt x="1351" y="741"/>
                      <a:pt x="1612" y="622"/>
                      <a:pt x="1847" y="528"/>
                    </a:cubicBezTo>
                    <a:cubicBezTo>
                      <a:pt x="1993" y="471"/>
                      <a:pt x="2271" y="191"/>
                      <a:pt x="2506" y="99"/>
                    </a:cubicBezTo>
                    <a:cubicBezTo>
                      <a:pt x="2766" y="0"/>
                      <a:pt x="2813" y="22"/>
                      <a:pt x="2813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487640" y="2868480"/>
              <a:ext cx="144720" cy="55800"/>
            </a:xfrm>
            <a:custGeom>
              <a:avLst/>
              <a:gdLst/>
              <a:ahLst/>
              <a:rect l="l" t="t" r="r" b="b"/>
              <a:pathLst>
                <a:path w="411" h="157">
                  <a:moveTo>
                    <a:pt x="410" y="155"/>
                  </a:moveTo>
                  <a:cubicBezTo>
                    <a:pt x="385" y="88"/>
                    <a:pt x="305" y="0"/>
                    <a:pt x="203" y="3"/>
                  </a:cubicBezTo>
                  <a:cubicBezTo>
                    <a:pt x="86" y="0"/>
                    <a:pt x="29" y="62"/>
                    <a:pt x="0" y="156"/>
                  </a:cubicBezTo>
                  <a:cubicBezTo>
                    <a:pt x="129" y="75"/>
                    <a:pt x="100" y="78"/>
                    <a:pt x="185" y="71"/>
                  </a:cubicBezTo>
                  <a:cubicBezTo>
                    <a:pt x="252" y="63"/>
                    <a:pt x="323" y="111"/>
                    <a:pt x="410" y="155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0440" y="2089440"/>
              <a:ext cx="236880" cy="298800"/>
            </a:xfrm>
            <a:custGeom>
              <a:avLst/>
              <a:gdLst/>
              <a:ahLst/>
              <a:rect l="l" t="t" r="r" b="b"/>
              <a:pathLst>
                <a:path w="672" h="853">
                  <a:moveTo>
                    <a:pt x="69" y="852"/>
                  </a:moveTo>
                  <a:cubicBezTo>
                    <a:pt x="112" y="454"/>
                    <a:pt x="0" y="414"/>
                    <a:pt x="10" y="131"/>
                  </a:cubicBezTo>
                  <a:cubicBezTo>
                    <a:pt x="258" y="0"/>
                    <a:pt x="671" y="286"/>
                    <a:pt x="648" y="518"/>
                  </a:cubicBezTo>
                  <a:cubicBezTo>
                    <a:pt x="423" y="632"/>
                    <a:pt x="278" y="670"/>
                    <a:pt x="69" y="852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82960" y="5528520"/>
              <a:ext cx="1516320" cy="1605600"/>
              <a:chOff x="8382960" y="5528520"/>
              <a:chExt cx="1516320" cy="160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2960" y="5528520"/>
                <a:ext cx="1516320" cy="1605600"/>
              </a:xfrm>
              <a:custGeom>
                <a:avLst/>
                <a:gdLst/>
                <a:ahLst/>
                <a:rect l="l" t="t" r="r" b="b"/>
                <a:pathLst>
                  <a:path w="4550" h="4833">
                    <a:moveTo>
                      <a:pt x="3064" y="3544"/>
                    </a:moveTo>
                    <a:cubicBezTo>
                      <a:pt x="2509" y="3891"/>
                      <a:pt x="2254" y="4187"/>
                      <a:pt x="1921" y="4508"/>
                    </a:cubicBezTo>
                    <a:cubicBezTo>
                      <a:pt x="1636" y="4784"/>
                      <a:pt x="718" y="4832"/>
                      <a:pt x="446" y="4566"/>
                    </a:cubicBezTo>
                    <a:cubicBezTo>
                      <a:pt x="0" y="4126"/>
                      <a:pt x="169" y="3401"/>
                      <a:pt x="333" y="2637"/>
                    </a:cubicBezTo>
                    <a:cubicBezTo>
                      <a:pt x="528" y="1732"/>
                      <a:pt x="307" y="768"/>
                      <a:pt x="473" y="419"/>
                    </a:cubicBezTo>
                    <a:cubicBezTo>
                      <a:pt x="672" y="0"/>
                      <a:pt x="1082" y="432"/>
                      <a:pt x="1755" y="246"/>
                    </a:cubicBezTo>
                    <a:cubicBezTo>
                      <a:pt x="2451" y="50"/>
                      <a:pt x="2988" y="251"/>
                      <a:pt x="3203" y="446"/>
                    </a:cubicBezTo>
                    <a:cubicBezTo>
                      <a:pt x="3428" y="652"/>
                      <a:pt x="3194" y="1082"/>
                      <a:pt x="3537" y="1558"/>
                    </a:cubicBezTo>
                    <a:cubicBezTo>
                      <a:pt x="3900" y="2054"/>
                      <a:pt x="4317" y="2025"/>
                      <a:pt x="4430" y="2319"/>
                    </a:cubicBezTo>
                    <a:cubicBezTo>
                      <a:pt x="4549" y="2627"/>
                      <a:pt x="4162" y="2908"/>
                      <a:pt x="3901" y="3017"/>
                    </a:cubicBezTo>
                    <a:lnTo>
                      <a:pt x="3064" y="3544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370720" y="5527080"/>
              <a:ext cx="1515960" cy="1608840"/>
              <a:chOff x="8370720" y="5527080"/>
              <a:chExt cx="1515960" cy="1608840"/>
            </a:xfrm>
          </p:grpSpPr>
          <p:sp>
            <p:nvSpPr>
              <p:cNvPr id="139" name=""/>
              <p:cNvSpPr/>
              <p:nvPr/>
            </p:nvSpPr>
            <p:spPr>
              <a:xfrm>
                <a:off x="8370720" y="5527080"/>
                <a:ext cx="1515960" cy="1608840"/>
              </a:xfrm>
              <a:custGeom>
                <a:avLst/>
                <a:gdLst/>
                <a:ahLst/>
                <a:rect l="l" t="t" r="r" b="b"/>
                <a:pathLst>
                  <a:path w="4549" h="4833">
                    <a:moveTo>
                      <a:pt x="3063" y="3545"/>
                    </a:moveTo>
                    <a:cubicBezTo>
                      <a:pt x="2508" y="3891"/>
                      <a:pt x="2254" y="4188"/>
                      <a:pt x="1920" y="4509"/>
                    </a:cubicBezTo>
                    <a:cubicBezTo>
                      <a:pt x="1636" y="4784"/>
                      <a:pt x="716" y="4832"/>
                      <a:pt x="446" y="4567"/>
                    </a:cubicBezTo>
                    <a:cubicBezTo>
                      <a:pt x="0" y="4126"/>
                      <a:pt x="168" y="3402"/>
                      <a:pt x="333" y="2637"/>
                    </a:cubicBezTo>
                    <a:cubicBezTo>
                      <a:pt x="527" y="1733"/>
                      <a:pt x="307" y="768"/>
                      <a:pt x="472" y="417"/>
                    </a:cubicBezTo>
                    <a:cubicBezTo>
                      <a:pt x="672" y="0"/>
                      <a:pt x="1082" y="431"/>
                      <a:pt x="1755" y="246"/>
                    </a:cubicBezTo>
                    <a:cubicBezTo>
                      <a:pt x="2451" y="51"/>
                      <a:pt x="2988" y="250"/>
                      <a:pt x="3203" y="446"/>
                    </a:cubicBezTo>
                    <a:cubicBezTo>
                      <a:pt x="3427" y="653"/>
                      <a:pt x="3194" y="1083"/>
                      <a:pt x="3537" y="1557"/>
                    </a:cubicBezTo>
                    <a:cubicBezTo>
                      <a:pt x="3900" y="2056"/>
                      <a:pt x="4316" y="2025"/>
                      <a:pt x="4428" y="2318"/>
                    </a:cubicBezTo>
                    <a:cubicBezTo>
                      <a:pt x="4548" y="2627"/>
                      <a:pt x="4162" y="2908"/>
                      <a:pt x="3900" y="3017"/>
                    </a:cubicBezTo>
                    <a:lnTo>
                      <a:pt x="3063" y="3545"/>
                    </a:lnTo>
                  </a:path>
                </a:pathLst>
              </a:custGeom>
              <a:gradFill rotWithShape="0">
                <a:gsLst>
                  <a:gs pos="0">
                    <a:srgbClr val="ffc310"/>
                  </a:gs>
                  <a:gs pos="100000">
                    <a:srgbClr val="c77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54040" y="5580000"/>
                <a:ext cx="725400" cy="518040"/>
              </a:xfrm>
              <a:custGeom>
                <a:avLst/>
                <a:gdLst/>
                <a:ahLst/>
                <a:rect l="l" t="t" r="r" b="b"/>
                <a:pathLst>
                  <a:path w="2177" h="1555">
                    <a:moveTo>
                      <a:pt x="2176" y="79"/>
                    </a:moveTo>
                    <a:cubicBezTo>
                      <a:pt x="2176" y="737"/>
                      <a:pt x="1514" y="1316"/>
                      <a:pt x="919" y="1435"/>
                    </a:cubicBezTo>
                    <a:cubicBezTo>
                      <a:pt x="324" y="1554"/>
                      <a:pt x="0" y="0"/>
                      <a:pt x="0" y="0"/>
                    </a:cubicBezTo>
                    <a:lnTo>
                      <a:pt x="2176" y="79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183520" y="3320640"/>
              <a:ext cx="1264680" cy="2568600"/>
              <a:chOff x="8183520" y="3320640"/>
              <a:chExt cx="1264680" cy="256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183520" y="3320640"/>
                <a:ext cx="1264680" cy="2568600"/>
              </a:xfrm>
              <a:custGeom>
                <a:avLst/>
                <a:gdLst/>
                <a:ahLst/>
                <a:rect l="l" t="t" r="r" b="b"/>
                <a:pathLst>
                  <a:path w="4158" h="7505">
                    <a:moveTo>
                      <a:pt x="3266" y="2889"/>
                    </a:moveTo>
                    <a:cubicBezTo>
                      <a:pt x="3488" y="3299"/>
                      <a:pt x="4157" y="4964"/>
                      <a:pt x="4130" y="5518"/>
                    </a:cubicBezTo>
                    <a:cubicBezTo>
                      <a:pt x="4098" y="6161"/>
                      <a:pt x="4112" y="6247"/>
                      <a:pt x="3962" y="6453"/>
                    </a:cubicBezTo>
                    <a:cubicBezTo>
                      <a:pt x="3629" y="6912"/>
                      <a:pt x="3315" y="7400"/>
                      <a:pt x="2734" y="7443"/>
                    </a:cubicBezTo>
                    <a:cubicBezTo>
                      <a:pt x="1955" y="7504"/>
                      <a:pt x="1808" y="6172"/>
                      <a:pt x="1797" y="6392"/>
                    </a:cubicBezTo>
                    <a:cubicBezTo>
                      <a:pt x="1782" y="6683"/>
                      <a:pt x="2064" y="5269"/>
                      <a:pt x="1983" y="4904"/>
                    </a:cubicBezTo>
                    <a:cubicBezTo>
                      <a:pt x="1874" y="4409"/>
                      <a:pt x="2012" y="4087"/>
                      <a:pt x="1732" y="3472"/>
                    </a:cubicBezTo>
                    <a:cubicBezTo>
                      <a:pt x="1542" y="3056"/>
                      <a:pt x="1170" y="2513"/>
                      <a:pt x="1065" y="1956"/>
                    </a:cubicBezTo>
                    <a:cubicBezTo>
                      <a:pt x="958" y="1391"/>
                      <a:pt x="0" y="368"/>
                      <a:pt x="1009" y="145"/>
                    </a:cubicBezTo>
                    <a:cubicBezTo>
                      <a:pt x="1651" y="0"/>
                      <a:pt x="1731" y="661"/>
                      <a:pt x="2012" y="962"/>
                    </a:cubicBezTo>
                    <a:cubicBezTo>
                      <a:pt x="2181" y="1147"/>
                      <a:pt x="2207" y="1254"/>
                      <a:pt x="2427" y="1631"/>
                    </a:cubicBezTo>
                    <a:cubicBezTo>
                      <a:pt x="2690" y="2078"/>
                      <a:pt x="3044" y="2480"/>
                      <a:pt x="3266" y="2889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6560" y="4331520"/>
                <a:ext cx="341640" cy="1039680"/>
              </a:xfrm>
              <a:custGeom>
                <a:avLst/>
                <a:gdLst/>
                <a:ahLst/>
                <a:rect l="l" t="t" r="r" b="b"/>
                <a:pathLst>
                  <a:path w="1126" h="3037">
                    <a:moveTo>
                      <a:pt x="0" y="0"/>
                    </a:moveTo>
                    <a:cubicBezTo>
                      <a:pt x="669" y="292"/>
                      <a:pt x="947" y="1226"/>
                      <a:pt x="1030" y="1665"/>
                    </a:cubicBezTo>
                    <a:cubicBezTo>
                      <a:pt x="1125" y="2153"/>
                      <a:pt x="864" y="2657"/>
                      <a:pt x="808" y="30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80040" y="5369760"/>
                <a:ext cx="203760" cy="228960"/>
              </a:xfrm>
              <a:custGeom>
                <a:avLst/>
                <a:gdLst/>
                <a:ahLst/>
                <a:rect l="l" t="t" r="r" b="b"/>
                <a:pathLst>
                  <a:path w="671" h="672">
                    <a:moveTo>
                      <a:pt x="670" y="0"/>
                    </a:moveTo>
                    <a:cubicBezTo>
                      <a:pt x="0" y="30"/>
                      <a:pt x="113" y="671"/>
                      <a:pt x="113" y="67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4920" y="5391000"/>
                <a:ext cx="289440" cy="239760"/>
              </a:xfrm>
              <a:custGeom>
                <a:avLst/>
                <a:gdLst/>
                <a:ahLst/>
                <a:rect l="l" t="t" r="r" b="b"/>
                <a:pathLst>
                  <a:path w="951" h="702">
                    <a:moveTo>
                      <a:pt x="0" y="0"/>
                    </a:moveTo>
                    <a:cubicBezTo>
                      <a:pt x="837" y="0"/>
                      <a:pt x="950" y="389"/>
                      <a:pt x="764" y="70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4400" y="3453120"/>
                <a:ext cx="195480" cy="257760"/>
              </a:xfrm>
              <a:custGeom>
                <a:avLst/>
                <a:gdLst/>
                <a:ahLst/>
                <a:rect l="l" t="t" r="r" b="b"/>
                <a:pathLst>
                  <a:path w="643" h="753">
                    <a:moveTo>
                      <a:pt x="84" y="111"/>
                    </a:moveTo>
                    <a:cubicBezTo>
                      <a:pt x="177" y="0"/>
                      <a:pt x="330" y="140"/>
                      <a:pt x="446" y="288"/>
                    </a:cubicBezTo>
                    <a:cubicBezTo>
                      <a:pt x="560" y="430"/>
                      <a:pt x="642" y="498"/>
                      <a:pt x="513" y="595"/>
                    </a:cubicBezTo>
                    <a:cubicBezTo>
                      <a:pt x="308" y="752"/>
                      <a:pt x="312" y="731"/>
                      <a:pt x="195" y="550"/>
                    </a:cubicBezTo>
                    <a:cubicBezTo>
                      <a:pt x="67" y="351"/>
                      <a:pt x="0" y="213"/>
                      <a:pt x="84" y="11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gradFill rotWithShape="0">
              <a:gsLst>
                <a:gs pos="0">
                  <a:srgbClr val="ffc310"/>
                </a:gs>
                <a:gs pos="100000">
                  <a:srgbClr val="c77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0360" y="3780000"/>
            <a:ext cx="2877480" cy="2337840"/>
            <a:chOff x="5940360" y="3780000"/>
            <a:chExt cx="2877480" cy="2337840"/>
          </a:xfrm>
        </p:grpSpPr>
        <p:sp>
          <p:nvSpPr>
            <p:cNvPr id="151" name=""/>
            <p:cNvSpPr/>
            <p:nvPr/>
          </p:nvSpPr>
          <p:spPr>
            <a:xfrm>
              <a:off x="6539040" y="6046920"/>
              <a:ext cx="142920" cy="70920"/>
            </a:xfrm>
            <a:custGeom>
              <a:avLst/>
              <a:gdLst/>
              <a:ahLst/>
              <a:rect l="l" t="t" r="r" b="b"/>
              <a:pathLst>
                <a:path w="398" h="200">
                  <a:moveTo>
                    <a:pt x="0" y="1"/>
                  </a:moveTo>
                  <a:lnTo>
                    <a:pt x="40" y="199"/>
                  </a:lnTo>
                  <a:lnTo>
                    <a:pt x="397" y="169"/>
                  </a:lnTo>
                  <a:lnTo>
                    <a:pt x="33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0160" y="6013440"/>
              <a:ext cx="152640" cy="95040"/>
            </a:xfrm>
            <a:custGeom>
              <a:avLst/>
              <a:gdLst/>
              <a:ahLst/>
              <a:rect l="l" t="t" r="r" b="b"/>
              <a:pathLst>
                <a:path w="422" h="265">
                  <a:moveTo>
                    <a:pt x="0" y="0"/>
                  </a:moveTo>
                  <a:lnTo>
                    <a:pt x="52" y="214"/>
                  </a:lnTo>
                  <a:lnTo>
                    <a:pt x="421" y="264"/>
                  </a:lnTo>
                  <a:lnTo>
                    <a:pt x="4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29040" y="5605560"/>
              <a:ext cx="103320" cy="150480"/>
            </a:xfrm>
            <a:custGeom>
              <a:avLst/>
              <a:gdLst/>
              <a:ahLst/>
              <a:rect l="l" t="t" r="r" b="b"/>
              <a:pathLst>
                <a:path w="288" h="418">
                  <a:moveTo>
                    <a:pt x="125" y="0"/>
                  </a:moveTo>
                  <a:lnTo>
                    <a:pt x="0" y="104"/>
                  </a:lnTo>
                  <a:lnTo>
                    <a:pt x="191" y="417"/>
                  </a:lnTo>
                  <a:lnTo>
                    <a:pt x="287" y="277"/>
                  </a:lnTo>
                  <a:lnTo>
                    <a:pt x="12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095320" y="4938120"/>
              <a:ext cx="722520" cy="1053000"/>
              <a:chOff x="8095320" y="4938120"/>
              <a:chExt cx="722520" cy="105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8694720" y="5888520"/>
                <a:ext cx="123120" cy="102600"/>
              </a:xfrm>
              <a:custGeom>
                <a:avLst/>
                <a:gdLst/>
                <a:ahLst/>
                <a:rect l="l" t="t" r="r" b="b"/>
                <a:pathLst>
                  <a:path w="343" h="285">
                    <a:moveTo>
                      <a:pt x="0" y="0"/>
                    </a:moveTo>
                    <a:lnTo>
                      <a:pt x="18" y="173"/>
                    </a:lnTo>
                    <a:lnTo>
                      <a:pt x="342" y="284"/>
                    </a:lnTo>
                    <a:lnTo>
                      <a:pt x="2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95320" y="4938120"/>
                <a:ext cx="702360" cy="972360"/>
              </a:xfrm>
              <a:custGeom>
                <a:avLst/>
                <a:gdLst/>
                <a:ahLst/>
                <a:rect l="l" t="t" r="r" b="b"/>
                <a:pathLst>
                  <a:path w="1957" h="2710">
                    <a:moveTo>
                      <a:pt x="532" y="0"/>
                    </a:moveTo>
                    <a:lnTo>
                      <a:pt x="962" y="1174"/>
                    </a:lnTo>
                    <a:lnTo>
                      <a:pt x="1667" y="2147"/>
                    </a:lnTo>
                    <a:lnTo>
                      <a:pt x="1870" y="2365"/>
                    </a:lnTo>
                    <a:lnTo>
                      <a:pt x="1956" y="2709"/>
                    </a:lnTo>
                    <a:lnTo>
                      <a:pt x="1655" y="2631"/>
                    </a:lnTo>
                    <a:lnTo>
                      <a:pt x="1583" y="2459"/>
                    </a:lnTo>
                    <a:lnTo>
                      <a:pt x="1395" y="2287"/>
                    </a:lnTo>
                    <a:lnTo>
                      <a:pt x="0" y="407"/>
                    </a:lnTo>
                    <a:lnTo>
                      <a:pt x="532" y="0"/>
                    </a:lnTo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85040" y="5090040"/>
              <a:ext cx="412560" cy="978840"/>
            </a:xfrm>
            <a:custGeom>
              <a:avLst/>
              <a:gdLst/>
              <a:ahLst/>
              <a:rect l="l" t="t" r="r" b="b"/>
              <a:pathLst>
                <a:path w="1148" h="2720">
                  <a:moveTo>
                    <a:pt x="1147" y="637"/>
                  </a:moveTo>
                  <a:cubicBezTo>
                    <a:pt x="1003" y="868"/>
                    <a:pt x="675" y="979"/>
                    <a:pt x="639" y="1109"/>
                  </a:cubicBezTo>
                  <a:cubicBezTo>
                    <a:pt x="555" y="1444"/>
                    <a:pt x="478" y="1906"/>
                    <a:pt x="397" y="2241"/>
                  </a:cubicBezTo>
                  <a:cubicBezTo>
                    <a:pt x="472" y="2374"/>
                    <a:pt x="388" y="2514"/>
                    <a:pt x="466" y="2650"/>
                  </a:cubicBezTo>
                  <a:cubicBezTo>
                    <a:pt x="433" y="2719"/>
                    <a:pt x="278" y="2716"/>
                    <a:pt x="152" y="2647"/>
                  </a:cubicBezTo>
                  <a:cubicBezTo>
                    <a:pt x="0" y="1779"/>
                    <a:pt x="334" y="1379"/>
                    <a:pt x="203" y="666"/>
                  </a:cubicBezTo>
                  <a:cubicBezTo>
                    <a:pt x="367" y="426"/>
                    <a:pt x="549" y="240"/>
                    <a:pt x="714" y="0"/>
                  </a:cubicBezTo>
                  <a:cubicBezTo>
                    <a:pt x="833" y="182"/>
                    <a:pt x="1027" y="455"/>
                    <a:pt x="1147" y="637"/>
                  </a:cubicBezTo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0360" y="4393440"/>
              <a:ext cx="970560" cy="823320"/>
            </a:xfrm>
            <a:custGeom>
              <a:avLst/>
              <a:gdLst/>
              <a:ahLst/>
              <a:rect l="l" t="t" r="r" b="b"/>
              <a:pathLst>
                <a:path w="2695" h="2288">
                  <a:moveTo>
                    <a:pt x="2493" y="563"/>
                  </a:moveTo>
                  <a:cubicBezTo>
                    <a:pt x="2299" y="657"/>
                    <a:pt x="2072" y="560"/>
                    <a:pt x="1881" y="654"/>
                  </a:cubicBezTo>
                  <a:cubicBezTo>
                    <a:pt x="1768" y="957"/>
                    <a:pt x="1690" y="1451"/>
                    <a:pt x="1577" y="1753"/>
                  </a:cubicBezTo>
                  <a:cubicBezTo>
                    <a:pt x="1126" y="2251"/>
                    <a:pt x="1093" y="2108"/>
                    <a:pt x="854" y="2287"/>
                  </a:cubicBezTo>
                  <a:cubicBezTo>
                    <a:pt x="672" y="2277"/>
                    <a:pt x="490" y="2264"/>
                    <a:pt x="308" y="2254"/>
                  </a:cubicBezTo>
                  <a:cubicBezTo>
                    <a:pt x="469" y="2193"/>
                    <a:pt x="633" y="2131"/>
                    <a:pt x="794" y="2066"/>
                  </a:cubicBezTo>
                  <a:cubicBezTo>
                    <a:pt x="699" y="1984"/>
                    <a:pt x="603" y="1900"/>
                    <a:pt x="508" y="1815"/>
                  </a:cubicBezTo>
                  <a:cubicBezTo>
                    <a:pt x="403" y="1763"/>
                    <a:pt x="30" y="1662"/>
                    <a:pt x="0" y="1578"/>
                  </a:cubicBezTo>
                  <a:cubicBezTo>
                    <a:pt x="212" y="1724"/>
                    <a:pt x="526" y="1701"/>
                    <a:pt x="738" y="1848"/>
                  </a:cubicBezTo>
                  <a:cubicBezTo>
                    <a:pt x="538" y="1640"/>
                    <a:pt x="334" y="1428"/>
                    <a:pt x="134" y="1220"/>
                  </a:cubicBezTo>
                  <a:cubicBezTo>
                    <a:pt x="325" y="1334"/>
                    <a:pt x="517" y="1451"/>
                    <a:pt x="708" y="1565"/>
                  </a:cubicBezTo>
                  <a:cubicBezTo>
                    <a:pt x="806" y="1532"/>
                    <a:pt x="902" y="1503"/>
                    <a:pt x="997" y="1470"/>
                  </a:cubicBezTo>
                  <a:cubicBezTo>
                    <a:pt x="1093" y="1243"/>
                    <a:pt x="1189" y="1012"/>
                    <a:pt x="1284" y="781"/>
                  </a:cubicBezTo>
                  <a:cubicBezTo>
                    <a:pt x="1971" y="0"/>
                    <a:pt x="2225" y="322"/>
                    <a:pt x="2694" y="91"/>
                  </a:cubicBezTo>
                  <a:cubicBezTo>
                    <a:pt x="2625" y="248"/>
                    <a:pt x="2559" y="404"/>
                    <a:pt x="2493" y="563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4280" y="3780000"/>
              <a:ext cx="1108440" cy="635760"/>
            </a:xfrm>
            <a:custGeom>
              <a:avLst/>
              <a:gdLst/>
              <a:ahLst/>
              <a:rect l="l" t="t" r="r" b="b"/>
              <a:pathLst>
                <a:path w="3080" h="1767">
                  <a:moveTo>
                    <a:pt x="3079" y="368"/>
                  </a:moveTo>
                  <a:lnTo>
                    <a:pt x="2861" y="234"/>
                  </a:lnTo>
                  <a:lnTo>
                    <a:pt x="2434" y="0"/>
                  </a:lnTo>
                  <a:lnTo>
                    <a:pt x="2753" y="332"/>
                  </a:lnTo>
                  <a:lnTo>
                    <a:pt x="2242" y="59"/>
                  </a:lnTo>
                  <a:lnTo>
                    <a:pt x="2457" y="348"/>
                  </a:lnTo>
                  <a:lnTo>
                    <a:pt x="2254" y="293"/>
                  </a:lnTo>
                  <a:lnTo>
                    <a:pt x="1986" y="143"/>
                  </a:lnTo>
                  <a:lnTo>
                    <a:pt x="1780" y="163"/>
                  </a:lnTo>
                  <a:lnTo>
                    <a:pt x="2236" y="410"/>
                  </a:lnTo>
                  <a:lnTo>
                    <a:pt x="1896" y="332"/>
                  </a:lnTo>
                  <a:lnTo>
                    <a:pt x="1520" y="254"/>
                  </a:lnTo>
                  <a:lnTo>
                    <a:pt x="1681" y="410"/>
                  </a:lnTo>
                  <a:lnTo>
                    <a:pt x="1361" y="397"/>
                  </a:lnTo>
                  <a:lnTo>
                    <a:pt x="1681" y="468"/>
                  </a:lnTo>
                  <a:lnTo>
                    <a:pt x="1078" y="498"/>
                  </a:lnTo>
                  <a:lnTo>
                    <a:pt x="1430" y="566"/>
                  </a:lnTo>
                  <a:lnTo>
                    <a:pt x="1287" y="566"/>
                  </a:lnTo>
                  <a:lnTo>
                    <a:pt x="845" y="638"/>
                  </a:lnTo>
                  <a:lnTo>
                    <a:pt x="1143" y="624"/>
                  </a:lnTo>
                  <a:lnTo>
                    <a:pt x="1251" y="644"/>
                  </a:lnTo>
                  <a:lnTo>
                    <a:pt x="788" y="820"/>
                  </a:lnTo>
                  <a:lnTo>
                    <a:pt x="645" y="878"/>
                  </a:lnTo>
                  <a:lnTo>
                    <a:pt x="946" y="933"/>
                  </a:lnTo>
                  <a:lnTo>
                    <a:pt x="394" y="956"/>
                  </a:lnTo>
                  <a:lnTo>
                    <a:pt x="842" y="1034"/>
                  </a:lnTo>
                  <a:lnTo>
                    <a:pt x="322" y="1093"/>
                  </a:lnTo>
                  <a:lnTo>
                    <a:pt x="125" y="1226"/>
                  </a:lnTo>
                  <a:lnTo>
                    <a:pt x="286" y="1265"/>
                  </a:lnTo>
                  <a:lnTo>
                    <a:pt x="501" y="1285"/>
                  </a:lnTo>
                  <a:lnTo>
                    <a:pt x="143" y="1343"/>
                  </a:lnTo>
                  <a:lnTo>
                    <a:pt x="0" y="1460"/>
                  </a:lnTo>
                  <a:lnTo>
                    <a:pt x="693" y="1369"/>
                  </a:lnTo>
                  <a:lnTo>
                    <a:pt x="254" y="1574"/>
                  </a:lnTo>
                  <a:lnTo>
                    <a:pt x="24" y="1724"/>
                  </a:lnTo>
                  <a:lnTo>
                    <a:pt x="495" y="1766"/>
                  </a:lnTo>
                  <a:lnTo>
                    <a:pt x="1609" y="1054"/>
                  </a:lnTo>
                  <a:lnTo>
                    <a:pt x="3079" y="368"/>
                  </a:ln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440" y="3874680"/>
              <a:ext cx="98280" cy="1504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04" y="417"/>
                  </a:moveTo>
                  <a:cubicBezTo>
                    <a:pt x="158" y="358"/>
                    <a:pt x="173" y="329"/>
                    <a:pt x="227" y="270"/>
                  </a:cubicBezTo>
                  <a:cubicBezTo>
                    <a:pt x="271" y="150"/>
                    <a:pt x="203" y="72"/>
                    <a:pt x="185" y="0"/>
                  </a:cubicBezTo>
                  <a:cubicBezTo>
                    <a:pt x="125" y="72"/>
                    <a:pt x="62" y="144"/>
                    <a:pt x="0" y="218"/>
                  </a:cubicBezTo>
                  <a:cubicBezTo>
                    <a:pt x="24" y="274"/>
                    <a:pt x="77" y="358"/>
                    <a:pt x="104" y="417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8040" y="3911400"/>
              <a:ext cx="2302920" cy="2128680"/>
            </a:xfrm>
            <a:custGeom>
              <a:avLst/>
              <a:gdLst/>
              <a:ahLst/>
              <a:rect l="l" t="t" r="r" b="b"/>
              <a:pathLst>
                <a:path w="6392" h="5918">
                  <a:moveTo>
                    <a:pt x="2112" y="5861"/>
                  </a:moveTo>
                  <a:cubicBezTo>
                    <a:pt x="1786" y="5435"/>
                    <a:pt x="1419" y="4967"/>
                    <a:pt x="1102" y="4482"/>
                  </a:cubicBezTo>
                  <a:cubicBezTo>
                    <a:pt x="1102" y="4089"/>
                    <a:pt x="1001" y="3933"/>
                    <a:pt x="944" y="3637"/>
                  </a:cubicBezTo>
                  <a:cubicBezTo>
                    <a:pt x="0" y="2209"/>
                    <a:pt x="598" y="2101"/>
                    <a:pt x="672" y="1835"/>
                  </a:cubicBezTo>
                  <a:cubicBezTo>
                    <a:pt x="1147" y="1318"/>
                    <a:pt x="1377" y="1301"/>
                    <a:pt x="2772" y="1584"/>
                  </a:cubicBezTo>
                  <a:cubicBezTo>
                    <a:pt x="3578" y="1396"/>
                    <a:pt x="4217" y="846"/>
                    <a:pt x="4387" y="690"/>
                  </a:cubicBezTo>
                  <a:cubicBezTo>
                    <a:pt x="4686" y="670"/>
                    <a:pt x="4838" y="417"/>
                    <a:pt x="5137" y="394"/>
                  </a:cubicBezTo>
                  <a:cubicBezTo>
                    <a:pt x="5355" y="257"/>
                    <a:pt x="5725" y="140"/>
                    <a:pt x="5943" y="0"/>
                  </a:cubicBezTo>
                  <a:cubicBezTo>
                    <a:pt x="6325" y="4"/>
                    <a:pt x="6337" y="251"/>
                    <a:pt x="6376" y="622"/>
                  </a:cubicBezTo>
                  <a:cubicBezTo>
                    <a:pt x="6367" y="1087"/>
                    <a:pt x="6391" y="1402"/>
                    <a:pt x="6382" y="1864"/>
                  </a:cubicBezTo>
                  <a:cubicBezTo>
                    <a:pt x="6295" y="2023"/>
                    <a:pt x="6095" y="2196"/>
                    <a:pt x="5877" y="1991"/>
                  </a:cubicBezTo>
                  <a:cubicBezTo>
                    <a:pt x="5862" y="1614"/>
                    <a:pt x="5835" y="1659"/>
                    <a:pt x="5791" y="1529"/>
                  </a:cubicBezTo>
                  <a:cubicBezTo>
                    <a:pt x="5716" y="1318"/>
                    <a:pt x="5480" y="1435"/>
                    <a:pt x="5486" y="1223"/>
                  </a:cubicBezTo>
                  <a:cubicBezTo>
                    <a:pt x="5313" y="1506"/>
                    <a:pt x="5328" y="1392"/>
                    <a:pt x="5289" y="1718"/>
                  </a:cubicBezTo>
                  <a:cubicBezTo>
                    <a:pt x="5199" y="2111"/>
                    <a:pt x="5274" y="2791"/>
                    <a:pt x="4814" y="3230"/>
                  </a:cubicBezTo>
                  <a:cubicBezTo>
                    <a:pt x="5149" y="3357"/>
                    <a:pt x="5498" y="3246"/>
                    <a:pt x="5832" y="3373"/>
                  </a:cubicBezTo>
                  <a:cubicBezTo>
                    <a:pt x="5889" y="3474"/>
                    <a:pt x="6009" y="3526"/>
                    <a:pt x="6036" y="3731"/>
                  </a:cubicBezTo>
                  <a:cubicBezTo>
                    <a:pt x="6036" y="3936"/>
                    <a:pt x="6036" y="4180"/>
                    <a:pt x="6036" y="4388"/>
                  </a:cubicBezTo>
                  <a:cubicBezTo>
                    <a:pt x="5955" y="4625"/>
                    <a:pt x="5829" y="4795"/>
                    <a:pt x="5749" y="5032"/>
                  </a:cubicBezTo>
                  <a:cubicBezTo>
                    <a:pt x="5713" y="4882"/>
                    <a:pt x="5462" y="4765"/>
                    <a:pt x="5644" y="4557"/>
                  </a:cubicBezTo>
                  <a:cubicBezTo>
                    <a:pt x="5653" y="4294"/>
                    <a:pt x="5806" y="4170"/>
                    <a:pt x="5635" y="3731"/>
                  </a:cubicBezTo>
                  <a:cubicBezTo>
                    <a:pt x="5164" y="3760"/>
                    <a:pt x="4877" y="3825"/>
                    <a:pt x="4405" y="3855"/>
                  </a:cubicBezTo>
                  <a:cubicBezTo>
                    <a:pt x="4390" y="3734"/>
                    <a:pt x="4274" y="3653"/>
                    <a:pt x="4205" y="3494"/>
                  </a:cubicBezTo>
                  <a:cubicBezTo>
                    <a:pt x="3423" y="4180"/>
                    <a:pt x="1965" y="3653"/>
                    <a:pt x="1685" y="3246"/>
                  </a:cubicBezTo>
                  <a:cubicBezTo>
                    <a:pt x="1858" y="3669"/>
                    <a:pt x="1670" y="4193"/>
                    <a:pt x="1622" y="4590"/>
                  </a:cubicBezTo>
                  <a:cubicBezTo>
                    <a:pt x="2031" y="5032"/>
                    <a:pt x="2127" y="5426"/>
                    <a:pt x="2536" y="5871"/>
                  </a:cubicBezTo>
                  <a:cubicBezTo>
                    <a:pt x="2554" y="5917"/>
                    <a:pt x="2357" y="5881"/>
                    <a:pt x="2112" y="5861"/>
                  </a:cubicBezTo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00400" y="4572720"/>
              <a:ext cx="103320" cy="8856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122" y="247"/>
                  </a:moveTo>
                  <a:cubicBezTo>
                    <a:pt x="69" y="247"/>
                    <a:pt x="0" y="205"/>
                    <a:pt x="0" y="143"/>
                  </a:cubicBezTo>
                  <a:cubicBezTo>
                    <a:pt x="0" y="82"/>
                    <a:pt x="86" y="0"/>
                    <a:pt x="143" y="0"/>
                  </a:cubicBezTo>
                  <a:cubicBezTo>
                    <a:pt x="200" y="0"/>
                    <a:pt x="287" y="117"/>
                    <a:pt x="287" y="176"/>
                  </a:cubicBezTo>
                  <a:cubicBezTo>
                    <a:pt x="287" y="234"/>
                    <a:pt x="179" y="247"/>
                    <a:pt x="122" y="2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120" y="4201920"/>
              <a:ext cx="79200" cy="99360"/>
            </a:xfrm>
            <a:custGeom>
              <a:avLst/>
              <a:gdLst/>
              <a:ahLst/>
              <a:rect l="l" t="t" r="r" b="b"/>
              <a:pathLst>
                <a:path w="222" h="278">
                  <a:moveTo>
                    <a:pt x="0" y="4"/>
                  </a:moveTo>
                  <a:cubicBezTo>
                    <a:pt x="21" y="69"/>
                    <a:pt x="12" y="137"/>
                    <a:pt x="59" y="202"/>
                  </a:cubicBezTo>
                  <a:cubicBezTo>
                    <a:pt x="95" y="199"/>
                    <a:pt x="143" y="277"/>
                    <a:pt x="182" y="273"/>
                  </a:cubicBezTo>
                  <a:cubicBezTo>
                    <a:pt x="212" y="179"/>
                    <a:pt x="221" y="108"/>
                    <a:pt x="125" y="33"/>
                  </a:cubicBezTo>
                  <a:cubicBezTo>
                    <a:pt x="80" y="20"/>
                    <a:pt x="12" y="0"/>
                    <a:pt x="0" y="4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7600" y="5615280"/>
              <a:ext cx="108000" cy="167760"/>
            </a:xfrm>
            <a:custGeom>
              <a:avLst/>
              <a:gdLst/>
              <a:ahLst/>
              <a:rect l="l" t="t" r="r" b="b"/>
              <a:pathLst>
                <a:path w="299" h="469">
                  <a:moveTo>
                    <a:pt x="102" y="0"/>
                  </a:moveTo>
                  <a:lnTo>
                    <a:pt x="0" y="129"/>
                  </a:lnTo>
                  <a:lnTo>
                    <a:pt x="154" y="468"/>
                  </a:lnTo>
                  <a:lnTo>
                    <a:pt x="298" y="227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800" y="4852440"/>
              <a:ext cx="131760" cy="232920"/>
            </a:xfrm>
            <a:custGeom>
              <a:avLst/>
              <a:gdLst/>
              <a:ahLst/>
              <a:rect l="l" t="t" r="r" b="b"/>
              <a:pathLst>
                <a:path w="365" h="649">
                  <a:moveTo>
                    <a:pt x="0" y="0"/>
                  </a:moveTo>
                  <a:cubicBezTo>
                    <a:pt x="146" y="33"/>
                    <a:pt x="212" y="186"/>
                    <a:pt x="245" y="251"/>
                  </a:cubicBezTo>
                  <a:cubicBezTo>
                    <a:pt x="311" y="391"/>
                    <a:pt x="358" y="423"/>
                    <a:pt x="364" y="648"/>
                  </a:cubicBezTo>
                  <a:lnTo>
                    <a:pt x="209" y="3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9600" y="4909320"/>
              <a:ext cx="203040" cy="274320"/>
            </a:xfrm>
            <a:custGeom>
              <a:avLst/>
              <a:gdLst/>
              <a:ahLst/>
              <a:rect l="l" t="t" r="r" b="b"/>
              <a:pathLst>
                <a:path w="563" h="762">
                  <a:moveTo>
                    <a:pt x="0" y="0"/>
                  </a:moveTo>
                  <a:cubicBezTo>
                    <a:pt x="120" y="75"/>
                    <a:pt x="275" y="182"/>
                    <a:pt x="371" y="309"/>
                  </a:cubicBezTo>
                  <a:cubicBezTo>
                    <a:pt x="466" y="436"/>
                    <a:pt x="392" y="410"/>
                    <a:pt x="562" y="761"/>
                  </a:cubicBezTo>
                  <a:lnTo>
                    <a:pt x="341" y="3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5920" y="4127040"/>
              <a:ext cx="39600" cy="237960"/>
            </a:xfrm>
            <a:custGeom>
              <a:avLst/>
              <a:gdLst/>
              <a:ahLst/>
              <a:rect l="l" t="t" r="r" b="b"/>
              <a:pathLst>
                <a:path w="112" h="661">
                  <a:moveTo>
                    <a:pt x="81" y="0"/>
                  </a:moveTo>
                  <a:cubicBezTo>
                    <a:pt x="6" y="176"/>
                    <a:pt x="0" y="267"/>
                    <a:pt x="6" y="407"/>
                  </a:cubicBezTo>
                  <a:lnTo>
                    <a:pt x="111" y="660"/>
                  </a:lnTo>
                  <a:cubicBezTo>
                    <a:pt x="96" y="572"/>
                    <a:pt x="51" y="488"/>
                    <a:pt x="27" y="410"/>
                  </a:cubicBezTo>
                  <a:cubicBezTo>
                    <a:pt x="45" y="273"/>
                    <a:pt x="33" y="176"/>
                    <a:pt x="81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6120" y="3903480"/>
              <a:ext cx="179280" cy="185040"/>
            </a:xfrm>
            <a:custGeom>
              <a:avLst/>
              <a:gdLst/>
              <a:ahLst/>
              <a:rect l="l" t="t" r="r" b="b"/>
              <a:pathLst>
                <a:path w="497" h="518">
                  <a:moveTo>
                    <a:pt x="311" y="29"/>
                  </a:moveTo>
                  <a:cubicBezTo>
                    <a:pt x="407" y="107"/>
                    <a:pt x="442" y="244"/>
                    <a:pt x="496" y="328"/>
                  </a:cubicBezTo>
                  <a:lnTo>
                    <a:pt x="407" y="299"/>
                  </a:lnTo>
                  <a:lnTo>
                    <a:pt x="448" y="436"/>
                  </a:lnTo>
                  <a:lnTo>
                    <a:pt x="356" y="322"/>
                  </a:lnTo>
                  <a:lnTo>
                    <a:pt x="335" y="511"/>
                  </a:lnTo>
                  <a:lnTo>
                    <a:pt x="317" y="381"/>
                  </a:lnTo>
                  <a:lnTo>
                    <a:pt x="281" y="517"/>
                  </a:lnTo>
                  <a:lnTo>
                    <a:pt x="239" y="237"/>
                  </a:lnTo>
                  <a:lnTo>
                    <a:pt x="0" y="91"/>
                  </a:lnTo>
                  <a:cubicBezTo>
                    <a:pt x="81" y="0"/>
                    <a:pt x="171" y="6"/>
                    <a:pt x="311" y="29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5960" y="4219200"/>
              <a:ext cx="47520" cy="5508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cubicBezTo>
                    <a:pt x="11" y="36"/>
                    <a:pt x="5" y="75"/>
                    <a:pt x="32" y="111"/>
                  </a:cubicBezTo>
                  <a:cubicBezTo>
                    <a:pt x="56" y="107"/>
                    <a:pt x="86" y="153"/>
                    <a:pt x="107" y="150"/>
                  </a:cubicBezTo>
                  <a:cubicBezTo>
                    <a:pt x="125" y="98"/>
                    <a:pt x="131" y="59"/>
                    <a:pt x="74" y="19"/>
                  </a:cubicBezTo>
                  <a:cubicBezTo>
                    <a:pt x="47" y="10"/>
                    <a:pt x="5" y="0"/>
                    <a:pt x="0" y="0"/>
                  </a:cubicBez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3560" y="3901680"/>
              <a:ext cx="120960" cy="137880"/>
            </a:xfrm>
            <a:custGeom>
              <a:avLst/>
              <a:gdLst/>
              <a:ahLst/>
              <a:rect l="l" t="t" r="r" b="b"/>
              <a:pathLst>
                <a:path w="336" h="385">
                  <a:moveTo>
                    <a:pt x="78" y="0"/>
                  </a:moveTo>
                  <a:cubicBezTo>
                    <a:pt x="54" y="43"/>
                    <a:pt x="0" y="270"/>
                    <a:pt x="200" y="384"/>
                  </a:cubicBezTo>
                  <a:cubicBezTo>
                    <a:pt x="233" y="342"/>
                    <a:pt x="335" y="365"/>
                    <a:pt x="296" y="260"/>
                  </a:cubicBezTo>
                  <a:cubicBezTo>
                    <a:pt x="335" y="176"/>
                    <a:pt x="155" y="91"/>
                    <a:pt x="78" y="0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282320"/>
            <a:ext cx="860904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БЛАГОДАРИМ З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6:40:26Z</dcterms:created>
  <dc:creator>imc</dc:creator>
  <dc:description/>
  <dc:language>en-US</dc:language>
  <cp:lastModifiedBy>imc</cp:lastModifiedBy>
  <dcterms:modified xsi:type="dcterms:W3CDTF">2013-02-13T06:42:08Z</dcterms:modified>
  <cp:revision>1</cp:revision>
  <dc:subject/>
  <dc:title>МБДОУ № 50 « КОЛОКОЛЬЧИК» г. Коврова</dc:title>
</cp:coreProperties>
</file>