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8A0-B8DA-436E-89F1-DE8B546A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F09-8430-4D85-AAB2-826D03D2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F62-93DB-42FA-BF15-7CA44713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A53-7484-443F-9FD7-A96DDC3B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580680"/>
            <a:ext cx="86029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CFE-51BF-419B-9D3E-38039A67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BDE-B773-4E74-BEBE-3AF3F69E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C47-1C54-4190-B637-D1A8C06A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221-34DA-47CC-A610-C1CAEFC4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80680"/>
            <a:ext cx="86029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57E-19A3-4B14-889B-E4FFE49D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1CF-C5DB-4E26-9C3E-B9FB3E52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A42-4C23-4763-BCC7-2ED8DFC9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DCD-C8BA-425E-9A79-2B7883BB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84954-A922-4950-AE98-5FF7C875FF6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1058760"/>
            <a:ext cx="9070920" cy="20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атематические игры как средство развития логического мышл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3280" y="5754600"/>
            <a:ext cx="9036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8080"/>
                </a:solidFill>
                <a:latin typeface="Times New Roman"/>
              </a:rPr>
              <a:t>Щукина Вера Станиславовна</a:t>
            </a: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8080"/>
                </a:solidFill>
                <a:latin typeface="Times New Roman"/>
              </a:rPr>
              <a:t>МБДОУ №50</a:t>
            </a: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8080"/>
                </a:solidFill>
                <a:latin typeface="Times New Roman"/>
              </a:rPr>
              <a:t>Средняя группа</a:t>
            </a: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267760" y="3240000"/>
            <a:ext cx="552240" cy="54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856720" y="4432320"/>
            <a:ext cx="863640" cy="608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199280" y="3959280"/>
            <a:ext cx="808200" cy="90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580000" y="4680000"/>
            <a:ext cx="72072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альние це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2879280"/>
            <a:ext cx="879948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Формировать навыки логического мышления, настойчивость, целенаправленность, способность действовать в уме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67320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лижние це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2879280"/>
            <a:ext cx="843912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Создать каждому ребёнку условия для полного раскрытия его возможностей и способностей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Развивать у детей внимание, память, логическое мышление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76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дагогические методы и зада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Индивидуальная работа с детьми с низким уровнем развития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Объединение в группы детей с высоким, средним и низким уровнем развития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Помочь детям преодолеть отставание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Использовать работу в группах  для привития детям чувства взаимопомощи, взаимовыручки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178920"/>
            <a:ext cx="84391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рудности и реш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1240" y="1260000"/>
            <a:ext cx="4119840" cy="61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9000"/>
          </a:bodyPr>
          <a:p>
            <a:pPr marL="42732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8a8a"/>
                </a:solidFill>
                <a:latin typeface="Times New Roman"/>
              </a:rPr>
              <a:t>Трудности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427320" indent="-31716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Недостаток  игр и по собий по данной теме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7320" indent="-31716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Небольшой опыт пользования компьютером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7320" indent="-31716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Непонимание родителями важности развития логического мышления у детей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1600" y="1260000"/>
            <a:ext cx="4208400" cy="61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8a8a"/>
                </a:solidFill>
                <a:latin typeface="Times New Roman"/>
              </a:rPr>
              <a:t>Решения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Попрошу родителей изготовить и сделаю сама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Попрошу помощи у коллег, обучение на курсах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Подготовлю материал для проведения консудьтаций и бесед с родителями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2400" y="74520"/>
            <a:ext cx="8607600" cy="569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нсультация для родителей.</a:t>
            </a: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Играем дома вместе сдетьми»</a:t>
            </a:r>
            <a:br>
              <a:rPr sz="3600"/>
            </a:b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(Подбор игр на развитие логического мышления)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40880" y="5394240"/>
            <a:ext cx="8618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Воспитатель: Щукина В. С.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8080"/>
                </a:solidFill>
                <a:latin typeface="Times New Roman"/>
              </a:rPr>
              <a:t>МБДОУ №50</a:t>
            </a: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3780000"/>
            <a:ext cx="2700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3247920"/>
            <a:ext cx="86072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Изучение новой методической литературы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Интернет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Помощь и поддержка коллег и родителей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740720" y="539640"/>
            <a:ext cx="1800000" cy="1979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5400720"/>
            <a:ext cx="126072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264960"/>
            <a:ext cx="8604360" cy="13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лан-граф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0880" y="1800360"/>
            <a:ext cx="231948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Месяц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Август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Сентябрь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Ноябрь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Март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Май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800360"/>
            <a:ext cx="64803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Мероприятия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Изучение литературы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Создание развивающей среды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Консультация для родителей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Родительское собрание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Анализ полученного опыта 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06:35:10Z</dcterms:created>
  <dc:creator/>
  <dc:description/>
  <dc:language>en-US</dc:language>
  <cp:lastModifiedBy>imc</cp:lastModifiedBy>
  <dcterms:modified xsi:type="dcterms:W3CDTF">2013-02-13T06:45:52Z</dcterms:modified>
  <cp:revision>1</cp:revision>
  <dc:subject/>
  <dc:title>Математические игры как средство развития логического мышления.</dc:title>
</cp:coreProperties>
</file>