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67C-B848-414E-8CFC-8C11C5B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B2A-7F9D-4531-9DE7-F5A46798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12D-360D-42DB-B7DF-8533F6E4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F76-6C0B-4CCC-B37D-481E0C9E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5E9-0E1F-42D4-A3D7-F086FCF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0182-7C32-43A3-BAB8-DD05CB22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04C-CD71-43D7-9C33-E509E7C5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9192-EF5C-4F23-B263-4C84E8F7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2FBF-5DFE-4B08-A842-B48AE7D5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B77-02AA-4F48-B0A4-7B335772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C184-20DE-41DF-A654-91D0861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1FF-A81A-4B44-A17B-209E9B14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015E-67E9-4896-B221-E3FF590A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69C-2D3F-46DD-904A-B60B280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6023-3EF4-40F9-9328-B505CAC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DD0-B8AE-47A7-918E-D22BF89F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F364-808A-45EF-8036-83F8795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2F88-7077-419F-A57C-DAB07DF9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BC6C-7AB7-4594-B836-2BCFB88E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C7FD-5514-4EEB-8E7F-32BAB4F7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7118-5CAD-4DEE-8C88-A0562957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3432-F0E6-4CE2-8B1F-98F84B2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10D-B4DA-4907-8320-815C797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9765-EFBB-4366-A265-CF50CC00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7880-0B7F-4510-8F07-4C61F50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A591-1E46-4EDA-AFAE-8559278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E2F4-2446-4213-905B-E3A1D07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74B6-1F83-4F56-8407-2A1E388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7320-8626-4AF4-8DD7-B69C3518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3DC4-60DA-4958-998A-FF6F4B19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4456-E4CA-4757-87C0-B1E246C7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8C992-892B-439A-BE74-BDA53BBF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28F64-A77A-4502-84F5-1C5AFC8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6AE-9561-453C-AB7D-B2DD92AA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9428E-D3D3-4486-A01E-DDDC332E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2EB3-EA87-42C5-AC39-3914CFA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16DA-0C50-4146-9C3C-244A4656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9350-CD53-4C6F-85AC-2ABF5D3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17679-9DB5-4E70-B9DB-A525684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C004-F95E-4F91-B100-E98CDC4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1187-9179-4E61-8875-3C485AC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4C12A-F144-486F-B2FE-897CCFAE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895A-D46F-4C8F-9C42-AC2814C7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4D4A-3FF1-4EF2-871E-44D6AE88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DA5-960A-4156-8F04-39077BA6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18DD4-9BEF-400B-AE89-655B1B8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CE0B-B012-4DDC-A1E5-4906B912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567C1-7693-4E24-B4DA-F31D27C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EF0D-A2DA-4D93-A475-D14680B5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D8194-BC2F-4AD0-BF79-4C726F06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6AA6D-939A-4997-AABD-71F4656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0448-E5EB-490F-8F29-CEA2D4E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271B-1F40-4C38-8A3E-88989E1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5DF9-56EC-41C0-BB02-F72B337C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B36B-335E-4D7F-AEC9-8FDADB76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467-73CD-4331-B39F-643BE9EE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151E8-E5AA-4D14-A65E-F33D7906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2B23-1631-4010-A895-E50D2A23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3403-7418-4569-8AFB-2E63EB9A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50F36-D114-45F6-A00B-9DCB740D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EBB8-F5DA-47FB-85F0-34B3E54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8B769-23CA-4D2D-A005-5730BD7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6E50-8E34-4F2F-B41A-7EE2829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2855-33E3-499C-AD78-D3AE69A6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5E7C-7F89-4F28-B64F-1D165D8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DB27-565D-4A12-AFA3-43F3E65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815-2C7C-47A4-B885-A8A619DA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EF022-FB53-45FA-8B56-33873C55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09D0-E32E-407A-9DC0-23EDACAE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CA9C-1C68-40BC-83DB-927E5390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23411-316B-4FAB-BBEA-7CE2C521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0255E-2E4F-45E8-9A87-DE7D590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C59AF-0BFB-44B1-8AA9-310F829F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9A7CD-1D7E-4F57-9853-C506450E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F39EF-D42A-4078-A876-AA334862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3EE338-F9AC-4B1C-9140-3D80FC0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172EE-2BDC-4359-9A3D-A8F84A7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E90-67B4-4371-B553-8C547C4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C0928-1685-48C4-9A83-7866CA3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18C2B-8E02-4872-B72E-EC6FC07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E16E0-645F-4BF8-9144-30CEB2F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4B8C9-4368-40D2-B8FF-66C244E3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73CDC-369D-4978-8359-DA123A0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B4E9-9873-4459-8793-7559473F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DC9A7-D6F5-4E82-B9BA-30D3ADF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4FCA-CC13-4534-BE81-C8176D40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F81EA-19FD-4F1D-9941-1BEA2674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58AE6-9806-4B7F-8E8A-7ADC6797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CFB-7392-4078-AAFE-04760BF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DC66C-C966-4C69-A8AE-547C5EE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AF799-AA29-44E4-98E3-23A54BA5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A618-EB19-4F03-8D9F-8ABD49C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3767-283E-48EE-98ED-DAF1724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68907-9CFD-4D0D-82A8-1D3CF8A4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F613C-2D5F-4E4A-ADF4-C40F31ED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1ABB-F13C-4ACA-A59A-49F54190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4DB8-A51F-48EB-81AE-59ECD8B6FA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2A8-2AF1-4D6F-9C5A-DEBE51B9225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644D-D9D9-4232-AE7B-44CE883C08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4984-9959-48BD-94F1-3FAB4694F6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98F-06E4-4763-806E-034866BDA4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5A3B-3ABB-410E-81E9-5942FDB337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E651-46F7-49CD-B633-5C05D5A8DD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B14E-3220-4BB4-AE74-36E010465F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9880" y="1963800"/>
            <a:ext cx="5334120" cy="48942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790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Техника безопасности в компьютерном классе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307360" y="6129360"/>
            <a:ext cx="836640" cy="728640"/>
          </a:xfrm>
          <a:custGeom>
            <a:avLst/>
            <a:gdLst>
              <a:gd name="textAreaLeft" fmla="*/ 47160 w 836640"/>
              <a:gd name="textAreaRight" fmla="*/ 789480 w 83664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800" h="21600">
                <a:moveTo>
                  <a:pt x="0" y="0"/>
                </a:moveTo>
                <a:lnTo>
                  <a:pt x="24800" y="0"/>
                </a:lnTo>
                <a:lnTo>
                  <a:pt x="24800" y="21600"/>
                </a:lnTo>
                <a:lnTo>
                  <a:pt x="0" y="21600"/>
                </a:lnTo>
                <a:close/>
              </a:path>
              <a:path fill="lightenLess" w="24800" h="21600">
                <a:moveTo>
                  <a:pt x="0" y="0"/>
                </a:moveTo>
                <a:lnTo>
                  <a:pt x="24800" y="0"/>
                </a:lnTo>
                <a:lnTo>
                  <a:pt x="23400" y="1400"/>
                </a:lnTo>
                <a:lnTo>
                  <a:pt x="1400" y="1400"/>
                </a:lnTo>
                <a:close/>
              </a:path>
              <a:path fill="darken" w="24800" h="21600">
                <a:moveTo>
                  <a:pt x="24800" y="0"/>
                </a:moveTo>
                <a:lnTo>
                  <a:pt x="24800" y="21600"/>
                </a:lnTo>
                <a:lnTo>
                  <a:pt x="23400" y="20200"/>
                </a:lnTo>
                <a:lnTo>
                  <a:pt x="23400" y="1400"/>
                </a:lnTo>
                <a:close/>
              </a:path>
              <a:path fill="darkenLess" w="24800" h="21600">
                <a:moveTo>
                  <a:pt x="2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0" y="20200"/>
                </a:lnTo>
                <a:close/>
              </a:path>
              <a:path fill="lighten" w="2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0" h="21600">
                <a:moveTo>
                  <a:pt x="5394" y="3794"/>
                </a:moveTo>
                <a:lnTo>
                  <a:pt x="19406" y="10800"/>
                </a:lnTo>
                <a:lnTo>
                  <a:pt x="539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нештатная ситуация поджидает вас в самом неожиданном месте. В комнате несколько дней пахло чем-то сладковато-карамельным. Оказалось, в настольную лампу с красивым пластмассовым плафоном вкрутили слишком «сильную» лампочку: 75 ватт вместо положенных 40. Жаль, что причина выяснилась, когда плафон, увы, расплави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же знал, что в импортную пластмассу добавляют ароматизаторы, чтобы она приятно пахла при нагреван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172360" y="5985000"/>
            <a:ext cx="971640" cy="873000"/>
          </a:xfrm>
          <a:custGeom>
            <a:avLst/>
            <a:gdLst>
              <a:gd name="textAreaLeft" fmla="*/ 56520 w 971640"/>
              <a:gd name="textAreaRight" fmla="*/ 915120 w 97164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4040" h="21600">
                <a:moveTo>
                  <a:pt x="0" y="0"/>
                </a:moveTo>
                <a:lnTo>
                  <a:pt x="24040" y="0"/>
                </a:lnTo>
                <a:lnTo>
                  <a:pt x="24040" y="21600"/>
                </a:lnTo>
                <a:lnTo>
                  <a:pt x="0" y="21600"/>
                </a:lnTo>
                <a:close/>
              </a:path>
              <a:path fill="lightenLess" w="24040" h="21600">
                <a:moveTo>
                  <a:pt x="0" y="0"/>
                </a:moveTo>
                <a:lnTo>
                  <a:pt x="24040" y="0"/>
                </a:lnTo>
                <a:lnTo>
                  <a:pt x="22640" y="1400"/>
                </a:lnTo>
                <a:lnTo>
                  <a:pt x="1400" y="1400"/>
                </a:lnTo>
                <a:close/>
              </a:path>
              <a:path fill="darken" w="24040" h="21600">
                <a:moveTo>
                  <a:pt x="24040" y="0"/>
                </a:moveTo>
                <a:lnTo>
                  <a:pt x="24040" y="21600"/>
                </a:lnTo>
                <a:lnTo>
                  <a:pt x="22640" y="20200"/>
                </a:lnTo>
                <a:lnTo>
                  <a:pt x="22640" y="1400"/>
                </a:lnTo>
                <a:close/>
              </a:path>
              <a:path fill="darkenLess" w="24040" h="21600">
                <a:moveTo>
                  <a:pt x="24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0" y="20200"/>
                </a:lnTo>
                <a:close/>
              </a:path>
              <a:path fill="lighten" w="24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0" h="21600">
                <a:moveTo>
                  <a:pt x="5013" y="3794"/>
                </a:moveTo>
                <a:lnTo>
                  <a:pt x="19026" y="10800"/>
                </a:lnTo>
                <a:lnTo>
                  <a:pt x="501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8043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учащиеся должны изучить правила ТБ при работе в компьютерном классе и расписаться в специальной графе журнала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Это поможет им сохран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оровь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рогостоящую техн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шелек роди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дальнейшего обучения с использованием компью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217000" y="5985000"/>
            <a:ext cx="927000" cy="873000"/>
          </a:xfrm>
          <a:custGeom>
            <a:avLst/>
            <a:gdLst>
              <a:gd name="textAreaLeft" fmla="*/ 56520 w 927000"/>
              <a:gd name="textAreaRight" fmla="*/ 870480 w 927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3794"/>
                </a:moveTo>
                <a:lnTo>
                  <a:pt x="18474" y="10800"/>
                </a:lnTo>
                <a:lnTo>
                  <a:pt x="446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41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лю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1398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, нарушившие правила ТБ в компьютерном классе, от выполнения практических работ отстраняются. Сведения о нарушении передаются администрации школы, которая принимает соответствующие решения о наказании, возмещении причиненного ущерба и возможности дальнейших занятий в компьютерном классе. Допуск таких учащихся к работе возможен только после повторного инструктажа и сдачи зачета по ТБ с соответствующей записью в журнале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грубое нарушение ТБ учащиеся и их родители несут все виды ответственности, предусмотренные законами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34920" cy="873000"/>
          </a:xfrm>
          <a:custGeom>
            <a:avLst/>
            <a:gdLst>
              <a:gd name="textAreaLeft" fmla="*/ 56520 w 934920"/>
              <a:gd name="textAreaRight" fmla="*/ 878400 w 93492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3131" h="21600">
                <a:moveTo>
                  <a:pt x="0" y="0"/>
                </a:moveTo>
                <a:lnTo>
                  <a:pt x="23131" y="0"/>
                </a:lnTo>
                <a:lnTo>
                  <a:pt x="23131" y="21600"/>
                </a:lnTo>
                <a:lnTo>
                  <a:pt x="0" y="21600"/>
                </a:lnTo>
                <a:close/>
              </a:path>
              <a:path fill="lightenLess" w="23131" h="21600">
                <a:moveTo>
                  <a:pt x="0" y="0"/>
                </a:moveTo>
                <a:lnTo>
                  <a:pt x="23131" y="0"/>
                </a:lnTo>
                <a:lnTo>
                  <a:pt x="21731" y="1400"/>
                </a:lnTo>
                <a:lnTo>
                  <a:pt x="1400" y="1400"/>
                </a:lnTo>
                <a:close/>
              </a:path>
              <a:path fill="darken" w="23131" h="21600">
                <a:moveTo>
                  <a:pt x="23131" y="0"/>
                </a:moveTo>
                <a:lnTo>
                  <a:pt x="23131" y="21600"/>
                </a:lnTo>
                <a:lnTo>
                  <a:pt x="21731" y="20200"/>
                </a:lnTo>
                <a:lnTo>
                  <a:pt x="21731" y="1400"/>
                </a:lnTo>
                <a:close/>
              </a:path>
              <a:path fill="darkenLess" w="23131" h="21600">
                <a:moveTo>
                  <a:pt x="23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1" y="20200"/>
                </a:lnTo>
                <a:close/>
              </a:path>
              <a:path fill="lighten" w="23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1" h="21600">
                <a:moveTo>
                  <a:pt x="4559" y="3794"/>
                </a:moveTo>
                <a:lnTo>
                  <a:pt x="18572" y="10800"/>
                </a:lnTo>
                <a:lnTo>
                  <a:pt x="45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>
            <a:hlinkClick r:id="" action="ppaction://hlinkshowjump?jump=firstslide"/>
          </p:cNvPr>
          <p:cNvSpPr/>
          <p:nvPr/>
        </p:nvSpPr>
        <p:spPr>
          <a:xfrm>
            <a:off x="8101080" y="5877000"/>
            <a:ext cx="952560" cy="898560"/>
          </a:xfrm>
          <a:custGeom>
            <a:avLst/>
            <a:gdLst>
              <a:gd name="textAreaLeft" fmla="*/ 57960 w 952560"/>
              <a:gd name="textAreaRight" fmla="*/ 894600 w 95256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11449" y="3837"/>
                </a:moveTo>
                <a:lnTo>
                  <a:pt x="14025" y="6448"/>
                </a:ln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lnTo>
                  <a:pt x="18412" y="10800"/>
                </a:lnTo>
                <a:lnTo>
                  <a:pt x="16758" y="10800"/>
                </a:lnTo>
                <a:lnTo>
                  <a:pt x="16758" y="17989"/>
                </a:lnTo>
                <a:lnTo>
                  <a:pt x="6140" y="17989"/>
                </a:lnTo>
                <a:lnTo>
                  <a:pt x="6140" y="10800"/>
                </a:lnTo>
                <a:lnTo>
                  <a:pt x="4486" y="10800"/>
                </a:lnTo>
                <a:close/>
              </a:path>
              <a:path fill="darkenLess" w="22898" h="21600">
                <a:moveTo>
                  <a:pt x="14025" y="6448"/>
                </a:move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close/>
              </a:path>
              <a:path fill="darkenLess" w="22898" h="21600">
                <a:moveTo>
                  <a:pt x="10526" y="14299"/>
                </a:moveTo>
                <a:lnTo>
                  <a:pt x="12371" y="14299"/>
                </a:lnTo>
                <a:lnTo>
                  <a:pt x="12371" y="17989"/>
                </a:lnTo>
                <a:lnTo>
                  <a:pt x="16758" y="17989"/>
                </a:lnTo>
                <a:lnTo>
                  <a:pt x="16758" y="10800"/>
                </a:lnTo>
                <a:lnTo>
                  <a:pt x="6140" y="10800"/>
                </a:lnTo>
                <a:lnTo>
                  <a:pt x="6140" y="17989"/>
                </a:lnTo>
                <a:lnTo>
                  <a:pt x="10526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ресс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838080"/>
            <a:ext cx="85345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Comic Sans MS"/>
              </a:rPr>
              <a:t>Выбери один из предложенных вариантов от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При появлении признаков пожара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Воспользоваться огнетушител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Отключить питание се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Сообщить учителю и организованно покинуть поме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311940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у соседа по компьютеру не ладится работа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Оставить свой  компьютер и выполнить задание за 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Помочь сове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Пожаловаться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490212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компьютер в процессе работы «зависает»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Сообщить учителю и сделать запись в регистрационном журнал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Открыть крышку системного блока и «пошевелить» материнскую плат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Проверить системные устан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х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имательно изучи материал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390840" cy="556272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7991640" y="5772240"/>
            <a:ext cx="936360" cy="860400"/>
          </a:xfrm>
          <a:custGeom>
            <a:avLst/>
            <a:gdLst>
              <a:gd name="textAreaLeft" fmla="*/ 55440 w 936360"/>
              <a:gd name="textAreaRight" fmla="*/ 880920 w 936360"/>
              <a:gd name="textAreaTop" fmla="*/ 55440 h 860400"/>
              <a:gd name="textAreaBottom" fmla="*/ 804960 h 860400"/>
            </a:gdLst>
            <a:ahLst/>
            <a:rect l="textAreaLeft" t="textAreaTop" r="textAreaRight" b="textAreaBottom"/>
            <a:pathLst>
              <a:path w="23506" h="21600">
                <a:moveTo>
                  <a:pt x="0" y="0"/>
                </a:moveTo>
                <a:lnTo>
                  <a:pt x="23506" y="0"/>
                </a:lnTo>
                <a:lnTo>
                  <a:pt x="23506" y="21600"/>
                </a:lnTo>
                <a:lnTo>
                  <a:pt x="0" y="21600"/>
                </a:lnTo>
                <a:close/>
              </a:path>
              <a:path fill="lightenLess" w="23506" h="21600">
                <a:moveTo>
                  <a:pt x="0" y="0"/>
                </a:moveTo>
                <a:lnTo>
                  <a:pt x="23506" y="0"/>
                </a:lnTo>
                <a:lnTo>
                  <a:pt x="22106" y="1400"/>
                </a:lnTo>
                <a:lnTo>
                  <a:pt x="1400" y="1400"/>
                </a:lnTo>
                <a:close/>
              </a:path>
              <a:path fill="darken" w="23506" h="21600">
                <a:moveTo>
                  <a:pt x="23506" y="0"/>
                </a:moveTo>
                <a:lnTo>
                  <a:pt x="23506" y="21600"/>
                </a:lnTo>
                <a:lnTo>
                  <a:pt x="22106" y="20200"/>
                </a:lnTo>
                <a:lnTo>
                  <a:pt x="22106" y="1400"/>
                </a:lnTo>
                <a:close/>
              </a:path>
              <a:path fill="darkenLess" w="23506" h="21600">
                <a:moveTo>
                  <a:pt x="2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6" y="20200"/>
                </a:lnTo>
                <a:close/>
              </a:path>
              <a:path fill="lighten" w="2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6" h="21600">
                <a:moveTo>
                  <a:pt x="117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06" h="21600">
                <a:moveTo>
                  <a:pt x="12858" y="14281"/>
                </a:moveTo>
                <a:lnTo>
                  <a:pt x="12858" y="12323"/>
                </a:lnTo>
                <a:cubicBezTo>
                  <a:pt x="12858" y="11496"/>
                  <a:pt x="13189" y="10800"/>
                  <a:pt x="13790" y="10800"/>
                </a:cubicBezTo>
                <a:cubicBezTo>
                  <a:pt x="14921" y="10800"/>
                  <a:pt x="15818" y="9434"/>
                  <a:pt x="15818" y="7849"/>
                </a:cubicBezTo>
                <a:cubicBezTo>
                  <a:pt x="15818" y="5534"/>
                  <a:pt x="13964" y="3794"/>
                  <a:pt x="11753" y="3794"/>
                </a:cubicBezTo>
                <a:cubicBezTo>
                  <a:pt x="9542" y="3794"/>
                  <a:pt x="7871" y="5534"/>
                  <a:pt x="7871" y="7849"/>
                </a:cubicBezTo>
                <a:lnTo>
                  <a:pt x="9725" y="7849"/>
                </a:lnTo>
                <a:cubicBezTo>
                  <a:pt x="9725" y="6709"/>
                  <a:pt x="10648" y="5821"/>
                  <a:pt x="11753" y="5821"/>
                </a:cubicBezTo>
                <a:cubicBezTo>
                  <a:pt x="12858" y="5821"/>
                  <a:pt x="13790" y="6709"/>
                  <a:pt x="13790" y="7849"/>
                </a:cubicBezTo>
                <a:cubicBezTo>
                  <a:pt x="13790" y="8589"/>
                  <a:pt x="13320" y="9320"/>
                  <a:pt x="12858" y="9320"/>
                </a:cubicBezTo>
                <a:cubicBezTo>
                  <a:pt x="11753" y="9320"/>
                  <a:pt x="10648" y="10800"/>
                  <a:pt x="10648" y="12323"/>
                </a:cubicBezTo>
                <a:lnTo>
                  <a:pt x="10648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твет верен!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913200" cy="411336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8029440" y="5823000"/>
            <a:ext cx="971640" cy="882720"/>
          </a:xfrm>
          <a:custGeom>
            <a:avLst/>
            <a:gdLst>
              <a:gd name="textAreaLeft" fmla="*/ 56880 w 971640"/>
              <a:gd name="textAreaRight" fmla="*/ 914760 w 971640"/>
              <a:gd name="textAreaTop" fmla="*/ 56880 h 882720"/>
              <a:gd name="textAreaBottom" fmla="*/ 825840 h 882720"/>
            </a:gdLst>
            <a:ahLst/>
            <a:rect l="textAreaLeft" t="textAreaTop" r="textAreaRight" b="textAreaBottom"/>
            <a:pathLst>
              <a:path w="23775" h="21600">
                <a:moveTo>
                  <a:pt x="0" y="0"/>
                </a:moveTo>
                <a:lnTo>
                  <a:pt x="23775" y="0"/>
                </a:lnTo>
                <a:lnTo>
                  <a:pt x="23775" y="21600"/>
                </a:lnTo>
                <a:lnTo>
                  <a:pt x="0" y="21600"/>
                </a:lnTo>
                <a:close/>
              </a:path>
              <a:path fill="lightenLess" w="23775" h="21600">
                <a:moveTo>
                  <a:pt x="0" y="0"/>
                </a:moveTo>
                <a:lnTo>
                  <a:pt x="23775" y="0"/>
                </a:lnTo>
                <a:lnTo>
                  <a:pt x="22375" y="1400"/>
                </a:lnTo>
                <a:lnTo>
                  <a:pt x="1400" y="1400"/>
                </a:lnTo>
                <a:close/>
              </a:path>
              <a:path fill="darken" w="23775" h="21600">
                <a:moveTo>
                  <a:pt x="23775" y="0"/>
                </a:moveTo>
                <a:lnTo>
                  <a:pt x="23775" y="21600"/>
                </a:lnTo>
                <a:lnTo>
                  <a:pt x="22375" y="20200"/>
                </a:lnTo>
                <a:lnTo>
                  <a:pt x="22375" y="1400"/>
                </a:lnTo>
                <a:close/>
              </a:path>
              <a:path fill="darkenLess" w="23775" h="21600">
                <a:moveTo>
                  <a:pt x="23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5" y="20200"/>
                </a:lnTo>
                <a:close/>
              </a:path>
              <a:path fill="lighten" w="23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5" h="21600">
                <a:moveTo>
                  <a:pt x="118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75" h="21600">
                <a:moveTo>
                  <a:pt x="12993" y="14281"/>
                </a:moveTo>
                <a:lnTo>
                  <a:pt x="12993" y="12323"/>
                </a:lnTo>
                <a:cubicBezTo>
                  <a:pt x="12993" y="11496"/>
                  <a:pt x="13324" y="10800"/>
                  <a:pt x="13924" y="10800"/>
                </a:cubicBezTo>
                <a:cubicBezTo>
                  <a:pt x="15056" y="10800"/>
                  <a:pt x="15952" y="9434"/>
                  <a:pt x="15952" y="7849"/>
                </a:cubicBezTo>
                <a:cubicBezTo>
                  <a:pt x="15952" y="5534"/>
                  <a:pt x="14098" y="3794"/>
                  <a:pt x="11887" y="3794"/>
                </a:cubicBezTo>
                <a:cubicBezTo>
                  <a:pt x="9677" y="3794"/>
                  <a:pt x="8006" y="5534"/>
                  <a:pt x="8006" y="7849"/>
                </a:cubicBezTo>
                <a:lnTo>
                  <a:pt x="9860" y="7849"/>
                </a:lnTo>
                <a:cubicBezTo>
                  <a:pt x="9860" y="6709"/>
                  <a:pt x="10782" y="5821"/>
                  <a:pt x="11887" y="5821"/>
                </a:cubicBezTo>
                <a:cubicBezTo>
                  <a:pt x="12993" y="5821"/>
                  <a:pt x="13924" y="6709"/>
                  <a:pt x="13924" y="7849"/>
                </a:cubicBezTo>
                <a:cubicBezTo>
                  <a:pt x="13924" y="8589"/>
                  <a:pt x="13454" y="9320"/>
                  <a:pt x="12993" y="9320"/>
                </a:cubicBezTo>
                <a:cubicBezTo>
                  <a:pt x="11887" y="9320"/>
                  <a:pt x="10782" y="10800"/>
                  <a:pt x="10782" y="12323"/>
                </a:cubicBezTo>
                <a:lnTo>
                  <a:pt x="1078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693960" cy="22701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вед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чему актуален вопрос о технике безопасности в компьютерном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В кабинете вычислительной техники установлена дорогостоящая, сложная и требующая осторожного и аккуратного обращения аппаратура — компьютеры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ы и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другие технические средства.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Факты нахождения в кабинете большого количества техники, питающейся от электросети, с одновременным присутствием  школьников являются достаточными для выдвижения повышенных требований к безопасности так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352000" y="605808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962760" y="3724200"/>
            <a:ext cx="2181240" cy="3133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емы для обсужд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Правила поведения в компьютерном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Правила электро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576360" y="3681360"/>
            <a:ext cx="3635640" cy="34495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ведения в компьютерном классе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1727280" y="30970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ходите в кабинет спокойно, не торопясь, не толкаясь, не задевая сто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анимайте отведенное вам мест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режно обращайтесь с техни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кладите книги, тетради на монитор и клавиатур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ишитесь в журнал регистр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инайте работу только по указанию препода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лавно нажимайте на клавиши, не допуская резких удар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 вставайте со своих мест, когда в кабинет входят посетител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1600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ем отличаются правила поведения в компьютерном классе от правил поведения в школе?</a:t>
            </a:r>
            <a:br>
              <a:rPr sz="2000"/>
            </a:br>
            <a:r>
              <a:rPr b="1" lang="ru-RU" sz="2000" spc="-1" strike="noStrike">
                <a:solidFill>
                  <a:srgbClr val="ff9966"/>
                </a:solidFill>
                <a:latin typeface="Times New Roman"/>
              </a:rPr>
              <a:t>Правила поведения в компьютерном классе не противоречат общим правилам поведения в школе, но имеют ряд существенных добавл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3889"/>
                </a:moveTo>
                <a:lnTo>
                  <a:pt x="17806" y="10895"/>
                </a:lnTo>
                <a:lnTo>
                  <a:pt x="3794" y="1790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503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бота о здоровь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1042560"/>
            <a:ext cx="885672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ует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работать на расстоянии 60—70 с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 экрана монитора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допустимо не менее 50 см, соблюдая правильную посадку, не сутулясь, не наклоняя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чащимся, имеющим очки для постоянного ношения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работать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в очк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свеще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 должно быть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достаточ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ельзя работа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при плохом самочувств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при работе должно быть таким, чтобы линия взора приходилась в центр экрана. Не следует наклоняться и сутулиться при пользовании клавиатурой и чтении с экрана мони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мя непрерывной работы за компьютером не должно превышать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8209080" y="5950080"/>
            <a:ext cx="900000" cy="873000"/>
          </a:xfrm>
          <a:custGeom>
            <a:avLst/>
            <a:gdLst>
              <a:gd name="textAreaLeft" fmla="*/ 56520 w 900000"/>
              <a:gd name="textAreaRight" fmla="*/ 843480 w 900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268" h="21600">
                <a:moveTo>
                  <a:pt x="0" y="0"/>
                </a:moveTo>
                <a:lnTo>
                  <a:pt x="22268" y="0"/>
                </a:lnTo>
                <a:lnTo>
                  <a:pt x="22268" y="21600"/>
                </a:lnTo>
                <a:lnTo>
                  <a:pt x="0" y="21600"/>
                </a:lnTo>
                <a:close/>
              </a:path>
              <a:path fill="lightenLess" w="22268" h="21600">
                <a:moveTo>
                  <a:pt x="0" y="0"/>
                </a:moveTo>
                <a:lnTo>
                  <a:pt x="22268" y="0"/>
                </a:lnTo>
                <a:lnTo>
                  <a:pt x="20868" y="1400"/>
                </a:lnTo>
                <a:lnTo>
                  <a:pt x="1400" y="1400"/>
                </a:lnTo>
                <a:close/>
              </a:path>
              <a:path fill="darken" w="22268" h="21600">
                <a:moveTo>
                  <a:pt x="22268" y="0"/>
                </a:moveTo>
                <a:lnTo>
                  <a:pt x="22268" y="21600"/>
                </a:lnTo>
                <a:lnTo>
                  <a:pt x="20868" y="20200"/>
                </a:lnTo>
                <a:lnTo>
                  <a:pt x="20868" y="1400"/>
                </a:lnTo>
                <a:close/>
              </a:path>
              <a:path fill="darkenLess" w="22268" h="21600">
                <a:moveTo>
                  <a:pt x="2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68" y="20200"/>
                </a:lnTo>
                <a:close/>
              </a:path>
              <a:path fill="lighten" w="2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5977080"/>
            <a:ext cx="1513080" cy="944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236160 h 944280"/>
              <a:gd name="textAreaBottom" fmla="*/ 708480 h 944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15428" t="13841" r="3156" b="40692"/>
          <a:stretch/>
        </p:blipFill>
        <p:spPr>
          <a:xfrm>
            <a:off x="3311640" y="5938920"/>
            <a:ext cx="2195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aptop"/>
          <p:cNvSpPr/>
          <p:nvPr/>
        </p:nvSpPr>
        <p:spPr>
          <a:xfrm>
            <a:off x="3402000" y="32497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2085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На рабочем мес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 в компьютерном классе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размещены составные части ПЭВМ — системный блок, клавиатура и монитор. Во время работы лучевая трубка монитора работает под высоким напряжением. Неправильное обращение с аппаратурой, кабелями и мониторами может привести к тяжелым поражениям электрическим током, вызвать загорание аппара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ower"/>
          <p:cNvSpPr/>
          <p:nvPr/>
        </p:nvSpPr>
        <p:spPr>
          <a:xfrm>
            <a:off x="297000" y="32400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rinter2"/>
          <p:cNvSpPr/>
          <p:nvPr/>
        </p:nvSpPr>
        <p:spPr>
          <a:xfrm>
            <a:off x="297000" y="572436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электро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scanner1"/>
          <p:cNvSpPr/>
          <p:nvPr/>
        </p:nvSpPr>
        <p:spPr>
          <a:xfrm>
            <a:off x="7047000" y="72864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27000" cy="836640"/>
          </a:xfrm>
          <a:custGeom>
            <a:avLst/>
            <a:gdLst>
              <a:gd name="textAreaLeft" fmla="*/ 54000 w 927000"/>
              <a:gd name="textAreaRight" fmla="*/ 873000 w 927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932" h="21600">
                <a:moveTo>
                  <a:pt x="0" y="0"/>
                </a:moveTo>
                <a:lnTo>
                  <a:pt x="23932" y="0"/>
                </a:lnTo>
                <a:lnTo>
                  <a:pt x="23932" y="21600"/>
                </a:lnTo>
                <a:lnTo>
                  <a:pt x="0" y="21600"/>
                </a:lnTo>
                <a:close/>
              </a:path>
              <a:path fill="lightenLess" w="23932" h="21600">
                <a:moveTo>
                  <a:pt x="0" y="0"/>
                </a:moveTo>
                <a:lnTo>
                  <a:pt x="23932" y="0"/>
                </a:lnTo>
                <a:lnTo>
                  <a:pt x="22532" y="1400"/>
                </a:lnTo>
                <a:lnTo>
                  <a:pt x="1400" y="1400"/>
                </a:lnTo>
                <a:close/>
              </a:path>
              <a:path fill="darken" w="23932" h="21600">
                <a:moveTo>
                  <a:pt x="23932" y="0"/>
                </a:moveTo>
                <a:lnTo>
                  <a:pt x="23932" y="21600"/>
                </a:lnTo>
                <a:lnTo>
                  <a:pt x="22532" y="20200"/>
                </a:lnTo>
                <a:lnTo>
                  <a:pt x="22532" y="1400"/>
                </a:lnTo>
                <a:close/>
              </a:path>
              <a:path fill="darkenLess" w="23932" h="21600">
                <a:moveTo>
                  <a:pt x="2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2" y="20200"/>
                </a:lnTo>
                <a:close/>
              </a:path>
              <a:path fill="lighten" w="2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2" h="21600">
                <a:moveTo>
                  <a:pt x="4959" y="3794"/>
                </a:moveTo>
                <a:lnTo>
                  <a:pt x="18972" y="10800"/>
                </a:lnTo>
                <a:lnTo>
                  <a:pt x="49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4770360"/>
            <a:ext cx="2771640" cy="20876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го запрещается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918684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ть влажными и грязны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ходить в рабочую зону (за компьюте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рогать разъе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питающим проводам и устройствам зазе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экрану и к тыльной стороне монитора, клави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лючать и отключать аппаратуру без указания преподав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самостоятельно устр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ь неисправно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в работе аппарату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8101080" y="587700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жарной 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264960" y="2210760"/>
            <a:ext cx="844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О ИЗБЕЖАНИЕ ПОЖАРА НЕОБХОДИМО СТРОГО СОБЛЮДАТЬ СЛЕДУЮЩИЕ ТРЕБ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оянно поддерживать порядок в рабочих помещениях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держать в чистоте свое рабочее мест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накапливать ненужных материал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загромождать проходы, выход, коридоры и доступ к средствам пожаротуш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ирина минимально допустимых проход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ежду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орудованием должна быть не менее 1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128080" y="5913360"/>
            <a:ext cx="1015920" cy="944640"/>
          </a:xfrm>
          <a:custGeom>
            <a:avLst/>
            <a:gdLst>
              <a:gd name="textAreaLeft" fmla="*/ 61200 w 1015920"/>
              <a:gd name="textAreaRight" fmla="*/ 954720 w 101592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229" h="21600">
                <a:moveTo>
                  <a:pt x="0" y="0"/>
                </a:moveTo>
                <a:lnTo>
                  <a:pt x="23229" y="0"/>
                </a:lnTo>
                <a:lnTo>
                  <a:pt x="23229" y="21600"/>
                </a:lnTo>
                <a:lnTo>
                  <a:pt x="0" y="21600"/>
                </a:lnTo>
                <a:close/>
              </a:path>
              <a:path fill="lightenLess" w="23229" h="21600">
                <a:moveTo>
                  <a:pt x="0" y="0"/>
                </a:moveTo>
                <a:lnTo>
                  <a:pt x="23229" y="0"/>
                </a:lnTo>
                <a:lnTo>
                  <a:pt x="21829" y="1400"/>
                </a:lnTo>
                <a:lnTo>
                  <a:pt x="1400" y="1400"/>
                </a:lnTo>
                <a:close/>
              </a:path>
              <a:path fill="darken" w="23229" h="21600">
                <a:moveTo>
                  <a:pt x="23229" y="0"/>
                </a:moveTo>
                <a:lnTo>
                  <a:pt x="23229" y="21600"/>
                </a:lnTo>
                <a:lnTo>
                  <a:pt x="21829" y="20200"/>
                </a:lnTo>
                <a:lnTo>
                  <a:pt x="21829" y="1400"/>
                </a:lnTo>
                <a:close/>
              </a:path>
              <a:path fill="darkenLess" w="23229" h="21600">
                <a:moveTo>
                  <a:pt x="23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29" y="20200"/>
                </a:lnTo>
                <a:close/>
              </a:path>
              <a:path fill="lighten" w="23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29" h="21600">
                <a:moveTo>
                  <a:pt x="4608" y="3794"/>
                </a:moveTo>
                <a:lnTo>
                  <a:pt x="18621" y="10800"/>
                </a:lnTo>
                <a:lnTo>
                  <a:pt x="460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6335640" y="138240"/>
            <a:ext cx="252900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632720" y="1376280"/>
            <a:ext cx="1052640" cy="1368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6767640" y="2349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4105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урить в помещ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льзоваться зажигалк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шать одежду и класть горючие предметы на электрощиты, электропроводку и другое электрообору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>
            <a:hlinkClick r:id="rId3" action="ppaction://hlinksldjump"/>
          </p:cNvPr>
          <p:cNvSpPr/>
          <p:nvPr/>
        </p:nvSpPr>
        <p:spPr>
          <a:xfrm>
            <a:off x="8101080" y="5877000"/>
            <a:ext cx="1008000" cy="944640"/>
          </a:xfrm>
          <a:custGeom>
            <a:avLst/>
            <a:gdLst>
              <a:gd name="textAreaLeft" fmla="*/ 61200 w 1008000"/>
              <a:gd name="textAreaRight" fmla="*/ 946800 w 100800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048" h="21600">
                <a:moveTo>
                  <a:pt x="0" y="0"/>
                </a:moveTo>
                <a:lnTo>
                  <a:pt x="23048" y="0"/>
                </a:lnTo>
                <a:lnTo>
                  <a:pt x="23048" y="21600"/>
                </a:lnTo>
                <a:lnTo>
                  <a:pt x="0" y="21600"/>
                </a:lnTo>
                <a:close/>
              </a:path>
              <a:path fill="lightenLess" w="23048" h="21600">
                <a:moveTo>
                  <a:pt x="0" y="0"/>
                </a:moveTo>
                <a:lnTo>
                  <a:pt x="23048" y="0"/>
                </a:lnTo>
                <a:lnTo>
                  <a:pt x="21648" y="1400"/>
                </a:lnTo>
                <a:lnTo>
                  <a:pt x="1400" y="1400"/>
                </a:lnTo>
                <a:close/>
              </a:path>
              <a:path fill="darken" w="23048" h="21600">
                <a:moveTo>
                  <a:pt x="23048" y="0"/>
                </a:moveTo>
                <a:lnTo>
                  <a:pt x="23048" y="21600"/>
                </a:lnTo>
                <a:lnTo>
                  <a:pt x="21648" y="20200"/>
                </a:lnTo>
                <a:lnTo>
                  <a:pt x="21648" y="1400"/>
                </a:lnTo>
                <a:close/>
              </a:path>
              <a:path fill="darkenLess" w="23048" h="21600">
                <a:moveTo>
                  <a:pt x="23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8" y="20200"/>
                </a:lnTo>
                <a:close/>
              </a:path>
              <a:path fill="lighten" w="23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66920" y="6093000"/>
            <a:ext cx="2449800" cy="765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Подробн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000" y="36468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 НЕШТАТНЫХ СИТУАЦИ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нештатных ситуациях, при нагревании  устройств, появлении постороннего запаха, звука необходимо немедленно поставить в известность преподавателя и в случае необходимости организованно покинуть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ры по ликвидации ситуации (отключать напряжение, вызывать пожарную команду по телефону 01) должно принимать лицо, ответственное за пожарную безопас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</cp:lastModifiedBy>
  <dcterms:modified xsi:type="dcterms:W3CDTF">2005-09-04T18:47:5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