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gif" ContentType="image/gif"/>
  <Override PartName="/ppt/media/image8.png" ContentType="image/png"/>
  <Override PartName="/ppt/media/image11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B053-B634-4A1E-BD11-E4ACDB9C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06A-1650-4D8F-B0F7-4BA18E46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7E2-8FF9-475C-AB82-1288AA37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2C8-F3E2-4767-AFC1-8A56DC86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C916-C193-48AF-BE3B-EEA7EF9C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71FC-1276-4B96-8B24-F5DC2D92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981F-3A69-4011-B0D5-D86C853F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E5DF-24ED-4430-81DC-42430FF0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C4EB-61CC-4AE6-B450-AE34F638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6BA5-B7A3-4ED2-A08A-1B5762FA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9B20-7160-4245-891C-A7E6BC47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85C-48BB-4F47-93FD-1FFBF53C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8368-E0EB-40CA-8312-A924D84B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74E8-6DDE-4EA0-8A61-5DD8FF59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D291-16B3-425C-A609-FD88A5EA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38E0-4717-48B9-8F1A-918BB208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E38B-89B4-4859-9462-BB972CA7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8A4-7306-4F7B-B03A-B5693F62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87B-A0A0-49FC-975C-B18A754E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3CD-5F5D-48AF-AF22-A5513FD6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2EE-EC37-432D-848F-788427DC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D87-60CF-4227-BBBA-F56C2643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A76-F44F-4C16-9F4F-62001ED5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B0F-C7CD-49C5-A7DF-C6F7FBF7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527D-6545-45B7-BA6D-7DC7A5BC7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A0F0-BA5E-4645-8054-6416CD7C8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2556000" cy="2489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630760" y="1341360"/>
            <a:ext cx="3513240" cy="5516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омпьютер и здоровь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360" y="3962160"/>
            <a:ext cx="7181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ебный комплекс по информатике и информационным технология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172360" y="5877000"/>
            <a:ext cx="827280" cy="836640"/>
          </a:xfrm>
          <a:custGeom>
            <a:avLst/>
            <a:gdLst>
              <a:gd name="textAreaLeft" fmla="*/ 53640 w 827280"/>
              <a:gd name="textAreaRight" fmla="*/ 773640 w 827280"/>
              <a:gd name="textAreaTop" fmla="*/ 53640 h 836640"/>
              <a:gd name="textAreaBottom" fmla="*/ 783000 h 836640"/>
            </a:gdLst>
            <a:ahLst/>
            <a:rect l="textAreaLeft" t="textAreaTop" r="textAreaRight" b="textAreaBottom"/>
            <a:pathLst>
              <a:path w="21600" h="21844">
                <a:moveTo>
                  <a:pt x="0" y="0"/>
                </a:moveTo>
                <a:lnTo>
                  <a:pt x="21600" y="0"/>
                </a:lnTo>
                <a:lnTo>
                  <a:pt x="21600" y="21844"/>
                </a:lnTo>
                <a:lnTo>
                  <a:pt x="0" y="21844"/>
                </a:lnTo>
                <a:close/>
              </a:path>
              <a:path fill="lightenLess" w="21600" h="21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4">
                <a:moveTo>
                  <a:pt x="21600" y="0"/>
                </a:moveTo>
                <a:lnTo>
                  <a:pt x="21600" y="21844"/>
                </a:lnTo>
                <a:lnTo>
                  <a:pt x="20200" y="20444"/>
                </a:lnTo>
                <a:lnTo>
                  <a:pt x="20200" y="1400"/>
                </a:lnTo>
                <a:close/>
              </a:path>
              <a:path fill="darkenLess" w="21600" h="21844">
                <a:moveTo>
                  <a:pt x="21600" y="21844"/>
                </a:moveTo>
                <a:lnTo>
                  <a:pt x="0" y="21844"/>
                </a:lnTo>
                <a:lnTo>
                  <a:pt x="1400" y="20444"/>
                </a:lnTo>
                <a:lnTo>
                  <a:pt x="20200" y="20444"/>
                </a:lnTo>
                <a:close/>
              </a:path>
              <a:path fill="lighten" w="21600" h="21844">
                <a:moveTo>
                  <a:pt x="0" y="21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4"/>
                </a:lnTo>
                <a:close/>
              </a:path>
              <a:path fill="darken" w="21600" h="21844">
                <a:moveTo>
                  <a:pt x="3794" y="3916"/>
                </a:moveTo>
                <a:lnTo>
                  <a:pt x="17806" y="10922"/>
                </a:lnTo>
                <a:lnTo>
                  <a:pt x="3794" y="1792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" y="5805360"/>
            <a:ext cx="827280" cy="836640"/>
          </a:xfrm>
          <a:custGeom>
            <a:avLst/>
            <a:gdLst>
              <a:gd name="textAreaLeft" fmla="*/ 53640 w 827280"/>
              <a:gd name="textAreaRight" fmla="*/ 773640 w 827280"/>
              <a:gd name="textAreaTop" fmla="*/ 53640 h 836640"/>
              <a:gd name="textAreaBottom" fmla="*/ 783000 h 836640"/>
            </a:gdLst>
            <a:ahLst/>
            <a:rect l="textAreaLeft" t="textAreaTop" r="textAreaRight" b="textAreaBottom"/>
            <a:pathLst>
              <a:path w="21600" h="21844">
                <a:moveTo>
                  <a:pt x="0" y="0"/>
                </a:moveTo>
                <a:lnTo>
                  <a:pt x="21600" y="0"/>
                </a:lnTo>
                <a:lnTo>
                  <a:pt x="21600" y="21844"/>
                </a:lnTo>
                <a:lnTo>
                  <a:pt x="0" y="21844"/>
                </a:lnTo>
                <a:close/>
              </a:path>
              <a:path fill="lightenLess" w="21600" h="21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4">
                <a:moveTo>
                  <a:pt x="21600" y="0"/>
                </a:moveTo>
                <a:lnTo>
                  <a:pt x="21600" y="21844"/>
                </a:lnTo>
                <a:lnTo>
                  <a:pt x="20200" y="20444"/>
                </a:lnTo>
                <a:lnTo>
                  <a:pt x="20200" y="1400"/>
                </a:lnTo>
                <a:close/>
              </a:path>
              <a:path fill="darkenLess" w="21600" h="21844">
                <a:moveTo>
                  <a:pt x="21600" y="21844"/>
                </a:moveTo>
                <a:lnTo>
                  <a:pt x="0" y="21844"/>
                </a:lnTo>
                <a:lnTo>
                  <a:pt x="1400" y="20444"/>
                </a:lnTo>
                <a:lnTo>
                  <a:pt x="20200" y="20444"/>
                </a:lnTo>
                <a:close/>
              </a:path>
              <a:path fill="lighten" w="21600" h="21844">
                <a:moveTo>
                  <a:pt x="0" y="21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4"/>
                </a:lnTo>
                <a:close/>
              </a:path>
              <a:path fill="darken" w="21600" h="21844">
                <a:moveTo>
                  <a:pt x="3794" y="7615"/>
                </a:moveTo>
                <a:lnTo>
                  <a:pt x="7301" y="7615"/>
                </a:lnTo>
                <a:lnTo>
                  <a:pt x="7301" y="12950"/>
                </a:lnTo>
                <a:cubicBezTo>
                  <a:pt x="7301" y="13873"/>
                  <a:pt x="8102" y="14604"/>
                  <a:pt x="9138" y="14604"/>
                </a:cubicBezTo>
                <a:lnTo>
                  <a:pt x="10800" y="14604"/>
                </a:lnTo>
                <a:cubicBezTo>
                  <a:pt x="11836" y="14604"/>
                  <a:pt x="12636" y="13873"/>
                  <a:pt x="12636" y="12950"/>
                </a:cubicBezTo>
                <a:lnTo>
                  <a:pt x="12636" y="7615"/>
                </a:lnTo>
                <a:lnTo>
                  <a:pt x="10800" y="7615"/>
                </a:lnTo>
                <a:lnTo>
                  <a:pt x="14308" y="4107"/>
                </a:lnTo>
                <a:lnTo>
                  <a:pt x="17981" y="7615"/>
                </a:lnTo>
                <a:lnTo>
                  <a:pt x="16144" y="7615"/>
                </a:lnTo>
                <a:lnTo>
                  <a:pt x="16144" y="12950"/>
                </a:lnTo>
                <a:cubicBezTo>
                  <a:pt x="16144" y="15718"/>
                  <a:pt x="13568" y="18277"/>
                  <a:pt x="10800" y="18277"/>
                </a:cubicBezTo>
                <a:lnTo>
                  <a:pt x="9138" y="18277"/>
                </a:lnTo>
                <a:cubicBezTo>
                  <a:pt x="6370" y="18277"/>
                  <a:pt x="3794" y="15718"/>
                  <a:pt x="3794" y="1295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озврат 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ызвавшую презент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57340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лено по Санитарным правилам и нормам (СанПи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Рабочий компьютерный сто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716436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317080" y="6093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11988" y="3837"/>
                </a:moveTo>
                <a:lnTo>
                  <a:pt x="14564" y="6448"/>
                </a:ln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lnTo>
                  <a:pt x="18951" y="10800"/>
                </a:lnTo>
                <a:lnTo>
                  <a:pt x="17297" y="10800"/>
                </a:lnTo>
                <a:lnTo>
                  <a:pt x="17297" y="17989"/>
                </a:lnTo>
                <a:lnTo>
                  <a:pt x="6679" y="17989"/>
                </a:lnTo>
                <a:lnTo>
                  <a:pt x="6679" y="10800"/>
                </a:lnTo>
                <a:lnTo>
                  <a:pt x="5025" y="10800"/>
                </a:lnTo>
                <a:close/>
              </a:path>
              <a:path fill="darkenLess" w="23976" h="21600">
                <a:moveTo>
                  <a:pt x="14564" y="6448"/>
                </a:move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close/>
              </a:path>
              <a:path fill="darkenLess" w="23976" h="21600">
                <a:moveTo>
                  <a:pt x="11065" y="14299"/>
                </a:moveTo>
                <a:lnTo>
                  <a:pt x="12911" y="14299"/>
                </a:lnTo>
                <a:lnTo>
                  <a:pt x="12911" y="17989"/>
                </a:lnTo>
                <a:lnTo>
                  <a:pt x="17297" y="17989"/>
                </a:lnTo>
                <a:lnTo>
                  <a:pt x="17297" y="10800"/>
                </a:lnTo>
                <a:lnTo>
                  <a:pt x="6679" y="10800"/>
                </a:lnTo>
                <a:lnTo>
                  <a:pt x="6679" y="17989"/>
                </a:lnTo>
                <a:lnTo>
                  <a:pt x="1106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0920" y="6093000"/>
            <a:ext cx="1728720" cy="62064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930400" cy="4537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88280" y="1297080"/>
            <a:ext cx="24048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Время непрерывной работы за компьюте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Компьютер и утомление школь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Компьютер и з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Освещение рабочего м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Размещение нескольких компьют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Конструктивные особенности рабочего крес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Рабочий компьютерный ст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о время работы за компьютером лучевая трубка видеомонитора является источником электромагнитного излучения, которое при работе вблизи экрана неблагоприятно действует на зрение, вызывает усталость и снижение работоспособ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2673360" cy="2673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Время непрерывной работы за компьютеро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351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прерывная длительность занятий за компьютером не должна превышат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I классов (6 лет) - 10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II - V классов - 15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VI - VII классов - 20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VIII - IX классов -25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X - XI класс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а первом часу учебных занятий  - 30 мину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а втором часу - 20 мин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738600" cy="3286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Компьютер и утомление школьни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нятия общего утомления, улучшения функционального состояния нервной, сердечно-сосудистой, дыхательной систем, а также мышц плечевого пояса, рук, спины, шеи и ног, следует проводить физкультпау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нятия локального утомления индивидуально или организованно должны использоваться упражнения целенаправленного назначения под контролем учите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ы упражнений следует менять через 2 - 3 неде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6093000"/>
            <a:ext cx="1439640" cy="54900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753080" cy="4752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63008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ля уменьшения зрительного напряжения важно следить за тем, чтобы изображение на экране компьютера было четким и контрастным. Необходимо также исключить возможность засветки экрана, поскольку блики снижают контрастность и яркость изобра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кран видеомонитора должен находиться от глаз пользователя на расстоянии 600 - 700 мм, но не ближе 500 мм с учетом размеров алфавитно-цифровых знаков и симво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ровень глаз при вертикально расположенном экране должен приходиться на центр или 2/3 высоты экрана. Линия взора должна быть перпендикулярна центру экрана. Оптимальное ее отклонение от перпендикуляра, проходящего через центр экрана в вертикальной плоскости, не должно превышать ±5 градусов, допустимое ±10 граду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 работе с текстовой информацией предпочтение следует отдавать позитивному контрасту: темные знаки на светлом фо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Компьютер и зрени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6093000"/>
            <a:ext cx="1439640" cy="54900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Освещение рабочего мес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мещение, где эксплуатируются компьютеры, должно иметь искусственное и естественное освещение. Желательно выбирать такие помещения, выходящие окнами на север и северо-восток и оборудованные регулируемыми устройствами типа жалюзи, занавесей, внешних козырьков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 лучше расположить так, чтобы свет на экран падал слева. Несмотря на то, что экран светится, занятия  должны проходить не в темном, а в  хорошо освещенном помещ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050920" y="5186520"/>
            <a:ext cx="6119640" cy="1671480"/>
            <a:chOff x="2050920" y="5186520"/>
            <a:chExt cx="6119640" cy="1671480"/>
          </a:xfrm>
        </p:grpSpPr>
        <p:sp>
          <p:nvSpPr>
            <p:cNvPr id="128" name=""/>
            <p:cNvSpPr/>
            <p:nvPr/>
          </p:nvSpPr>
          <p:spPr>
            <a:xfrm>
              <a:off x="2050920" y="5661000"/>
              <a:ext cx="4103640" cy="1197000"/>
            </a:xfrm>
            <a:prstGeom prst="parallelogram">
              <a:avLst>
                <a:gd name="adj" fmla="val 47472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03960" y="5186520"/>
              <a:ext cx="1866600" cy="609480"/>
            </a:xfr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лощадь не менее 6 кв.м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Размещение нескольких компьютер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080" y="1341360"/>
            <a:ext cx="88455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ждое рабочее место в компьютерном классе создает электромагнитное поле с радиусом 1,5м и более.  Оптимальное расположение оборудования должно исключать влияние излучения от компьютера на учащихся, работающих за другими компьютер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рещается использование одного компьютера для одновременной работы двух и более школьников независимо от их возра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5280" y="3213000"/>
            <a:ext cx="3644640" cy="1440000"/>
            <a:chOff x="395280" y="3213000"/>
            <a:chExt cx="3644640" cy="1440000"/>
          </a:xfrm>
        </p:grpSpPr>
        <p:sp>
          <p:nvSpPr>
            <p:cNvPr id="134" name="computr2"/>
            <p:cNvSpPr/>
            <p:nvPr/>
          </p:nvSpPr>
          <p:spPr>
            <a:xfrm>
              <a:off x="395280" y="3323520"/>
              <a:ext cx="1533240" cy="1329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computr2"/>
            <p:cNvSpPr/>
            <p:nvPr/>
          </p:nvSpPr>
          <p:spPr>
            <a:xfrm>
              <a:off x="2506680" y="3318840"/>
              <a:ext cx="1533240" cy="1329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91920" y="3582360"/>
              <a:ext cx="1220040" cy="317160"/>
            </a:xfrm>
            <a:prstGeom prst="leftRightArrow">
              <a:avLst>
                <a:gd name="adj1" fmla="val 50000"/>
                <a:gd name="adj2" fmla="val 76579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5160" y="3213000"/>
              <a:ext cx="91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&gt;1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2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80000" y="50245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2594160" cy="201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227640" y="299736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Конструктивные особенности рабочего кресл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6165720"/>
            <a:ext cx="1729080" cy="621000"/>
          </a:xfrm>
          <a:prstGeom prst="flowChartMultidocumen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2714760" cy="3816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076720" y="2133720"/>
            <a:ext cx="24782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7:23:08Z</dcterms:created>
  <dc:creator>Admin</dc:creator>
  <dc:description/>
  <dc:language>en-US</dc:language>
  <cp:lastModifiedBy>Николайчук</cp:lastModifiedBy>
  <dcterms:modified xsi:type="dcterms:W3CDTF">2004-11-23T16:15:39Z</dcterms:modified>
  <cp:revision>27</cp:revision>
  <dc:subject/>
  <dc:title>Слайд 1</dc:title>
</cp:coreProperties>
</file>