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A371D1C-4DD8-45CF-8E8F-F3DEB9592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F7F8930-48C1-4BAE-B963-9F1398F56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70976FC-B967-4B38-A545-10624F72B91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B1F3FC5-EB2F-4DC8-B515-9D6464905BA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77E68-5748-41C9-AA65-33E774177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FCD88-B828-4318-97E5-0E26C5200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CBB53-18DD-44DB-9F28-C41D62C75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A6897-5541-4EFC-A89E-DB79A257D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AFD6B-F066-427C-8963-D3F0D668B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26A1A-2319-4563-BAB7-B630270A3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C6BC4-31B1-4FFB-BD3D-4FD823990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D856936-DCEF-4915-8F59-E0E83366C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0A5BD-281B-4E60-9871-B5A944FDC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2711A-2678-4601-84EE-1D0048EB7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66352-D903-44AD-B2A9-0B48025C9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EE3FA-F7E8-4655-9982-69B311F84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8EF37-9132-4561-B86B-6EEB8D8D3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379B20-0A93-4337-9EF1-028DCF577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3500A05-4B15-4284-A5D1-3E1E8D08A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E2AD5BB-BAA2-4203-A906-D251D4F97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F246B37-F0FA-4D23-A5D3-DBB35B97F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DBBF9C7-FCBF-4858-A929-BCE65BB43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7B504CA-D730-43E5-A4F1-70FD12AF1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8260C32-E872-4A00-9D7A-1E76EC48BAA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2CF6-539A-41F3-82C1-B3F41D46BB3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FE7F-68B9-4B75-8CDF-ADEBAF7E3EC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Австрия</a:t>
            </a: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стория Австрии</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География</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селение и язык</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ультура </a:t>
            </a:r>
            <a:endParaRPr b="0" lang="en-US" sz="3200" spc="-1" strike="noStrike">
              <a:solidFill>
                <a:srgbClr val="ffffff"/>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514"/>
                                        </p:tgtEl>
                                        <p:attrNameLst>
                                          <p:attrName>style.visibility</p:attrName>
                                        </p:attrNameLst>
                                      </p:cBhvr>
                                      <p:to>
                                        <p:strVal val="visible"/>
                                      </p:to>
                                    </p:set>
                                    <p:anim calcmode="lin" valueType="num">
                                      <p:cBhvr additive="repl">
                                        <p:cTn id="7" dur="1000" fill="hold"/>
                                        <p:tgtEl>
                                          <p:spTgt spid="514"/>
                                        </p:tgtEl>
                                        <p:attrNameLst>
                                          <p:attrName>ppt_w</p:attrName>
                                        </p:attrNameLst>
                                      </p:cBhvr>
                                      <p:tavLst>
                                        <p:tav tm="0">
                                          <p:val>
                                            <p:strVal val="#ppt_w+.3"/>
                                          </p:val>
                                        </p:tav>
                                        <p:tav tm="100000">
                                          <p:val>
                                            <p:strVal val="#ppt_w"/>
                                          </p:val>
                                        </p:tav>
                                      </p:tavLst>
                                    </p:anim>
                                    <p:anim calcmode="lin" valueType="num">
                                      <p:cBhvr additive="repl">
                                        <p:cTn id="8" dur="1000" fill="hold"/>
                                        <p:tgtEl>
                                          <p:spTgt spid="514"/>
                                        </p:tgtEl>
                                        <p:attrNameLst>
                                          <p:attrName>ppt_h</p:attrName>
                                        </p:attrNameLst>
                                      </p:cBhvr>
                                      <p:tavLst>
                                        <p:tav tm="0">
                                          <p:val>
                                            <p:strVal val="#ppt_h"/>
                                          </p:val>
                                        </p:tav>
                                        <p:tav tm="100000">
                                          <p:val>
                                            <p:strVal val="#ppt_h"/>
                                          </p:val>
                                        </p:tav>
                                      </p:tavLst>
                                    </p:anim>
                                    <p:animEffect filter="fade" transition="in">
                                      <p:cBhvr additive="repl">
                                        <p:cTn id="9" dur="1000"/>
                                        <p:tgtEl>
                                          <p:spTgt spid="5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515">
                                            <p:txEl>
                                              <p:pRg st="0" end="0"/>
                                            </p:txEl>
                                          </p:spTgt>
                                        </p:tgtEl>
                                        <p:attrNameLst>
                                          <p:attrName>style.visibility</p:attrName>
                                        </p:attrNameLst>
                                      </p:cBhvr>
                                      <p:to>
                                        <p:strVal val="visible"/>
                                      </p:to>
                                    </p:set>
                                    <p:anim calcmode="lin" valueType="num">
                                      <p:cBhvr additive="repl">
                                        <p:cTn id="14" dur="1000" fill="hold"/>
                                        <p:tgtEl>
                                          <p:spTgt spid="515">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515">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51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515">
                                            <p:txEl>
                                              <p:pRg st="1" end="1"/>
                                            </p:txEl>
                                          </p:spTgt>
                                        </p:tgtEl>
                                        <p:attrNameLst>
                                          <p:attrName>style.visibility</p:attrName>
                                        </p:attrNameLst>
                                      </p:cBhvr>
                                      <p:to>
                                        <p:strVal val="visible"/>
                                      </p:to>
                                    </p:set>
                                    <p:anim calcmode="lin" valueType="num">
                                      <p:cBhvr additive="repl">
                                        <p:cTn id="21" dur="1000" fill="hold"/>
                                        <p:tgtEl>
                                          <p:spTgt spid="515">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515">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1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dur="1" fill="hold">
                                          <p:stCondLst>
                                            <p:cond delay="0"/>
                                          </p:stCondLst>
                                        </p:cTn>
                                        <p:tgtEl>
                                          <p:spTgt spid="515">
                                            <p:txEl>
                                              <p:pRg st="2" end="2"/>
                                            </p:txEl>
                                          </p:spTgt>
                                        </p:tgtEl>
                                        <p:attrNameLst>
                                          <p:attrName>style.visibility</p:attrName>
                                        </p:attrNameLst>
                                      </p:cBhvr>
                                      <p:to>
                                        <p:strVal val="visible"/>
                                      </p:to>
                                    </p:set>
                                    <p:anim calcmode="lin" valueType="num">
                                      <p:cBhvr additive="repl">
                                        <p:cTn id="28" dur="1000" fill="hold"/>
                                        <p:tgtEl>
                                          <p:spTgt spid="515">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515">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15">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515">
                                            <p:txEl>
                                              <p:pRg st="3" end="3"/>
                                            </p:txEl>
                                          </p:spTgt>
                                        </p:tgtEl>
                                        <p:attrNameLst>
                                          <p:attrName>style.visibility</p:attrName>
                                        </p:attrNameLst>
                                      </p:cBhvr>
                                      <p:to>
                                        <p:strVal val="visible"/>
                                      </p:to>
                                    </p:set>
                                    <p:anim calcmode="lin" valueType="num">
                                      <p:cBhvr additive="repl">
                                        <p:cTn id="35" dur="1000" fill="hold"/>
                                        <p:tgtEl>
                                          <p:spTgt spid="515">
                                            <p:txEl>
                                              <p:pRg st="3" end="3"/>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515">
                                            <p:txEl>
                                              <p:pRg st="3" end="3"/>
                                            </p:txEl>
                                          </p:spTgt>
                                        </p:tgtEl>
                                        <p:attrNameLst>
                                          <p:attrName>ppt_h</p:attrName>
                                        </p:attrNameLst>
                                      </p:cBhvr>
                                      <p:tavLst>
                                        <p:tav tm="0">
                                          <p:val>
                                            <p:strVal val="#ppt_h"/>
                                          </p:val>
                                        </p:tav>
                                        <p:tav tm="100000">
                                          <p:val>
                                            <p:strVal val="#ppt_h"/>
                                          </p:val>
                                        </p:tav>
                                      </p:tavLst>
                                    </p:anim>
                                    <p:animEffect filter="fade" transition="in">
                                      <p:cBhvr additive="repl">
                                        <p:cTn id="37" dur="1000"/>
                                        <p:tgtEl>
                                          <p:spTgt spid="5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subTitle"/>
          </p:nvPr>
        </p:nvSpPr>
        <p:spPr>
          <a:xfrm>
            <a:off x="0" y="1241280"/>
            <a:ext cx="9540720" cy="56167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 первых обитателях Австрии известно крайне мало. Скудные исторические данные свидетельствуют о существовании докельтского населения. Около 400–300 гг. до н.э. появились воинственные кельтские племена со своим наречием, религиозными культами и традициями. Смешавшись с древними жителями, кельты образовали королевство Норик. </a:t>
            </a:r>
            <a:endParaRPr b="0" lang="en-US" sz="14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I в. н.э. Австрию покоряют войска римлян. Однако римляне вынуждены были постоянно бороться с кочевыми германскими варварами, вторгавшимися с севера через Дунай, служивший границей римской цивилизации. С трана долгое время оставалась глухим захолустьем могучей империи – до тех пор, пока в IV в. не началась эпоха Великого переселения народов. В течении последующих четырех столетий здесь успели побывать гунны, авары, аланы и славяне. В конце концов, здесь прочно обосновались германцы. </a:t>
            </a:r>
            <a:endParaRPr b="0" lang="en-US" sz="14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Австрия вступила в пору расцвета в период правления герцога Леопольда VI, который умер в 1230, прославившись как беспощадный борец с еретиками и мусульманами. Щедрыми подарками осыпались монастыри; вновь созданные монашеские ордена, францисканцы и доминиканцы, были сердечно приняты в герцогстве, поощрялись стихотворцы и певцы. Вена, долгое время пребывавшая в упадке, в 1146 стала резиденцией герцога; большая польза была извлечена из развития торговли благодаря крестовым походам. В 1189 она впервые упоминается как город, в 1221 получает городские права и в 1244 их подтверждает, получив формальные городские привилегии, определявшие права и обязанности горожан, регулировавшие деятельность иностранных торговцев и предусматривавшие образование городского совета. В начале XIII в. границы города были расширены, возникли новые укрепления. Династия Бабенбергов угасла в 1246, когда герцог Фридрих II погиб в битве с венграми, не оставив наследников. </a:t>
            </a:r>
            <a:endParaRPr b="0" lang="en-US" sz="14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 1278 году к власти пришли Габсбурги, и эта могущественная династия правила Австрией до Первой мировой войны. Габсбурги старались расширять границы Австрии мирными способами, и территория страны постепенно увеличивалась благодаря покупке земли и заключению политических браков. Результатом одного из таких браков стало рождение двух сыновей, старший из которых стал Карлом I, Королем Испании, а через три года превратился в Карла V, Короля Священной Римской Империи; младший сын Фердинанд был первым из Габсбургов, который жил в Вене и он был помазан на царствование над Австрией, Венгрией и Богемией. В 1556 году Карл отрекся от престола, и Императором стал Фердинанд I. Территории подконтрольные Карлу были унаследованы его сыном Филиппом II, и Габсбургская династия раскололась на две ветви: австрийскую и испанскую. </a:t>
            </a:r>
            <a:endParaRPr b="0" lang="en-US" sz="14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517" name="PlaceHolder 2"/>
          <p:cNvSpPr>
            <a:spLocks noGrp="1"/>
          </p:cNvSpPr>
          <p:nvPr>
            <p:ph type="title"/>
          </p:nvPr>
        </p:nvSpPr>
        <p:spPr>
          <a:xfrm>
            <a:off x="3203640" y="1052280"/>
            <a:ext cx="5184720" cy="476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def6"/>
                </a:solidFill>
                <a:latin typeface="Arial"/>
              </a:rPr>
              <a:t>История Австрии</a:t>
            </a:r>
            <a:endParaRPr b="0" lang="en-US" sz="4800" spc="-1" strike="noStrike">
              <a:solidFill>
                <a:srgbClr val="dfdef6"/>
              </a:solidFill>
              <a:latin typeface="Arial"/>
            </a:endParaRPr>
          </a:p>
        </p:txBody>
      </p:sp>
      <p:pic>
        <p:nvPicPr>
          <p:cNvPr id="518" name="" descr=""/>
          <p:cNvPicPr/>
          <p:nvPr/>
        </p:nvPicPr>
        <p:blipFill>
          <a:blip r:embed="rId1"/>
          <a:stretch/>
        </p:blipFill>
        <p:spPr>
          <a:xfrm>
            <a:off x="0" y="0"/>
            <a:ext cx="2771640" cy="1432080"/>
          </a:xfrm>
          <a:prstGeom prst="rect">
            <a:avLst/>
          </a:prstGeom>
          <a:ln w="0">
            <a:noFill/>
          </a:ln>
        </p:spPr>
      </p:pic>
      <p:sp>
        <p:nvSpPr>
          <p:cNvPr id="519" name="">
            <a:hlinkClick r:id="" action="ppaction://hlinkshowjump?jump=nextslide"/>
          </p:cNvPr>
          <p:cNvSpPr/>
          <p:nvPr/>
        </p:nvSpPr>
        <p:spPr>
          <a:xfrm>
            <a:off x="7812000" y="6165720"/>
            <a:ext cx="1081080" cy="476280"/>
          </a:xfrm>
          <a:custGeom>
            <a:avLst/>
            <a:gdLst>
              <a:gd name="textAreaLeft" fmla="*/ 30600 w 1081080"/>
              <a:gd name="textAreaRight" fmla="*/ 1050480 w 1081080"/>
              <a:gd name="textAreaTop" fmla="*/ 30600 h 476280"/>
              <a:gd name="textAreaBottom" fmla="*/ 445680 h 476280"/>
            </a:gdLst>
            <a:ahLst/>
            <a:rect l="textAreaLeft" t="textAreaTop" r="textAreaRight" b="textAreaBottom"/>
            <a:pathLst>
              <a:path w="49008" h="21600">
                <a:moveTo>
                  <a:pt x="0" y="0"/>
                </a:moveTo>
                <a:lnTo>
                  <a:pt x="49008" y="0"/>
                </a:lnTo>
                <a:lnTo>
                  <a:pt x="49008" y="21600"/>
                </a:lnTo>
                <a:lnTo>
                  <a:pt x="0" y="21600"/>
                </a:lnTo>
                <a:close/>
              </a:path>
              <a:path fill="lightenLess" w="49008" h="21600">
                <a:moveTo>
                  <a:pt x="0" y="0"/>
                </a:moveTo>
                <a:lnTo>
                  <a:pt x="49008" y="0"/>
                </a:lnTo>
                <a:lnTo>
                  <a:pt x="47608" y="1400"/>
                </a:lnTo>
                <a:lnTo>
                  <a:pt x="1400" y="1400"/>
                </a:lnTo>
                <a:close/>
              </a:path>
              <a:path fill="darken" w="49008" h="21600">
                <a:moveTo>
                  <a:pt x="49008" y="0"/>
                </a:moveTo>
                <a:lnTo>
                  <a:pt x="49008" y="21600"/>
                </a:lnTo>
                <a:lnTo>
                  <a:pt x="47608" y="20200"/>
                </a:lnTo>
                <a:lnTo>
                  <a:pt x="47608" y="1400"/>
                </a:lnTo>
                <a:close/>
              </a:path>
              <a:path fill="darkenLess" w="49008" h="21600">
                <a:moveTo>
                  <a:pt x="49008" y="21600"/>
                </a:moveTo>
                <a:lnTo>
                  <a:pt x="0" y="21600"/>
                </a:lnTo>
                <a:lnTo>
                  <a:pt x="1400" y="20200"/>
                </a:lnTo>
                <a:lnTo>
                  <a:pt x="47608" y="20200"/>
                </a:lnTo>
                <a:close/>
              </a:path>
              <a:path fill="lighten" w="49008" h="21600">
                <a:moveTo>
                  <a:pt x="0" y="21600"/>
                </a:moveTo>
                <a:lnTo>
                  <a:pt x="0" y="0"/>
                </a:lnTo>
                <a:lnTo>
                  <a:pt x="1400" y="1400"/>
                </a:lnTo>
                <a:lnTo>
                  <a:pt x="1400" y="20200"/>
                </a:lnTo>
                <a:close/>
              </a:path>
              <a:path fill="darken" w="49008" h="21600">
                <a:moveTo>
                  <a:pt x="17497" y="3794"/>
                </a:moveTo>
                <a:lnTo>
                  <a:pt x="31510" y="10800"/>
                </a:lnTo>
                <a:lnTo>
                  <a:pt x="17497"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a:hlinkClick r:id="" action="ppaction://hlinkshowjump?jump=previousslide"/>
          </p:cNvPr>
          <p:cNvSpPr/>
          <p:nvPr/>
        </p:nvSpPr>
        <p:spPr>
          <a:xfrm>
            <a:off x="6659640" y="6165720"/>
            <a:ext cx="1079280" cy="476280"/>
          </a:xfrm>
          <a:custGeom>
            <a:avLst/>
            <a:gdLst>
              <a:gd name="textAreaLeft" fmla="*/ 30600 w 1079280"/>
              <a:gd name="textAreaRight" fmla="*/ 1048680 w 1079280"/>
              <a:gd name="textAreaTop" fmla="*/ 30600 h 476280"/>
              <a:gd name="textAreaBottom" fmla="*/ 445680 h 476280"/>
            </a:gdLst>
            <a:ahLst/>
            <a:rect l="textAreaLeft" t="textAreaTop" r="textAreaRight" b="textAreaBottom"/>
            <a:pathLst>
              <a:path w="48926" h="21600">
                <a:moveTo>
                  <a:pt x="0" y="0"/>
                </a:moveTo>
                <a:lnTo>
                  <a:pt x="48926" y="0"/>
                </a:lnTo>
                <a:lnTo>
                  <a:pt x="48926" y="21600"/>
                </a:lnTo>
                <a:lnTo>
                  <a:pt x="0" y="21600"/>
                </a:lnTo>
                <a:close/>
              </a:path>
              <a:path fill="lightenLess" w="48926" h="21600">
                <a:moveTo>
                  <a:pt x="0" y="0"/>
                </a:moveTo>
                <a:lnTo>
                  <a:pt x="48926" y="0"/>
                </a:lnTo>
                <a:lnTo>
                  <a:pt x="47526" y="1400"/>
                </a:lnTo>
                <a:lnTo>
                  <a:pt x="1400" y="1400"/>
                </a:lnTo>
                <a:close/>
              </a:path>
              <a:path fill="darken" w="48926" h="21600">
                <a:moveTo>
                  <a:pt x="48926" y="0"/>
                </a:moveTo>
                <a:lnTo>
                  <a:pt x="48926" y="21600"/>
                </a:lnTo>
                <a:lnTo>
                  <a:pt x="47526" y="20200"/>
                </a:lnTo>
                <a:lnTo>
                  <a:pt x="47526" y="1400"/>
                </a:lnTo>
                <a:close/>
              </a:path>
              <a:path fill="darkenLess" w="48926" h="21600">
                <a:moveTo>
                  <a:pt x="48926" y="21600"/>
                </a:moveTo>
                <a:lnTo>
                  <a:pt x="0" y="21600"/>
                </a:lnTo>
                <a:lnTo>
                  <a:pt x="1400" y="20200"/>
                </a:lnTo>
                <a:lnTo>
                  <a:pt x="47526" y="20200"/>
                </a:lnTo>
                <a:close/>
              </a:path>
              <a:path fill="lighten" w="48926" h="21600">
                <a:moveTo>
                  <a:pt x="0" y="21600"/>
                </a:moveTo>
                <a:lnTo>
                  <a:pt x="0" y="0"/>
                </a:lnTo>
                <a:lnTo>
                  <a:pt x="1400" y="1400"/>
                </a:lnTo>
                <a:lnTo>
                  <a:pt x="1400" y="20200"/>
                </a:lnTo>
                <a:close/>
              </a:path>
              <a:path fill="darken" w="48926" h="21600">
                <a:moveTo>
                  <a:pt x="17457" y="10800"/>
                </a:moveTo>
                <a:lnTo>
                  <a:pt x="31470" y="3794"/>
                </a:lnTo>
                <a:lnTo>
                  <a:pt x="31470"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Географическое положение Площадь </a:t>
            </a:r>
            <a:endParaRPr b="0" lang="en-US" sz="4000" spc="-1" strike="noStrike">
              <a:solidFill>
                <a:srgbClr val="dfdef6"/>
              </a:solidFill>
              <a:latin typeface="Arial"/>
            </a:endParaRPr>
          </a:p>
        </p:txBody>
      </p:sp>
      <p:sp>
        <p:nvSpPr>
          <p:cNvPr id="522" name="">
            <a:hlinkClick r:id="" action="ppaction://hlinkshowjump?jump=nextslide"/>
          </p:cNvPr>
          <p:cNvSpPr/>
          <p:nvPr/>
        </p:nvSpPr>
        <p:spPr>
          <a:xfrm>
            <a:off x="7740720" y="6237360"/>
            <a:ext cx="1081080" cy="476280"/>
          </a:xfrm>
          <a:custGeom>
            <a:avLst/>
            <a:gdLst>
              <a:gd name="textAreaLeft" fmla="*/ 30600 w 1081080"/>
              <a:gd name="textAreaRight" fmla="*/ 1050480 w 1081080"/>
              <a:gd name="textAreaTop" fmla="*/ 30600 h 476280"/>
              <a:gd name="textAreaBottom" fmla="*/ 445680 h 476280"/>
            </a:gdLst>
            <a:ahLst/>
            <a:rect l="textAreaLeft" t="textAreaTop" r="textAreaRight" b="textAreaBottom"/>
            <a:pathLst>
              <a:path w="49008" h="21600">
                <a:moveTo>
                  <a:pt x="0" y="0"/>
                </a:moveTo>
                <a:lnTo>
                  <a:pt x="49008" y="0"/>
                </a:lnTo>
                <a:lnTo>
                  <a:pt x="49008" y="21600"/>
                </a:lnTo>
                <a:lnTo>
                  <a:pt x="0" y="21600"/>
                </a:lnTo>
                <a:close/>
              </a:path>
              <a:path fill="lightenLess" w="49008" h="21600">
                <a:moveTo>
                  <a:pt x="0" y="0"/>
                </a:moveTo>
                <a:lnTo>
                  <a:pt x="49008" y="0"/>
                </a:lnTo>
                <a:lnTo>
                  <a:pt x="47608" y="1400"/>
                </a:lnTo>
                <a:lnTo>
                  <a:pt x="1400" y="1400"/>
                </a:lnTo>
                <a:close/>
              </a:path>
              <a:path fill="darken" w="49008" h="21600">
                <a:moveTo>
                  <a:pt x="49008" y="0"/>
                </a:moveTo>
                <a:lnTo>
                  <a:pt x="49008" y="21600"/>
                </a:lnTo>
                <a:lnTo>
                  <a:pt x="47608" y="20200"/>
                </a:lnTo>
                <a:lnTo>
                  <a:pt x="47608" y="1400"/>
                </a:lnTo>
                <a:close/>
              </a:path>
              <a:path fill="darkenLess" w="49008" h="21600">
                <a:moveTo>
                  <a:pt x="49008" y="21600"/>
                </a:moveTo>
                <a:lnTo>
                  <a:pt x="0" y="21600"/>
                </a:lnTo>
                <a:lnTo>
                  <a:pt x="1400" y="20200"/>
                </a:lnTo>
                <a:lnTo>
                  <a:pt x="47608" y="20200"/>
                </a:lnTo>
                <a:close/>
              </a:path>
              <a:path fill="lighten" w="49008" h="21600">
                <a:moveTo>
                  <a:pt x="0" y="21600"/>
                </a:moveTo>
                <a:lnTo>
                  <a:pt x="0" y="0"/>
                </a:lnTo>
                <a:lnTo>
                  <a:pt x="1400" y="1400"/>
                </a:lnTo>
                <a:lnTo>
                  <a:pt x="1400" y="20200"/>
                </a:lnTo>
                <a:close/>
              </a:path>
              <a:path fill="darken" w="49008" h="21600">
                <a:moveTo>
                  <a:pt x="17497" y="3794"/>
                </a:moveTo>
                <a:lnTo>
                  <a:pt x="31510" y="10800"/>
                </a:lnTo>
                <a:lnTo>
                  <a:pt x="17497"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a:hlinkClick r:id="" action="ppaction://hlinkshowjump?jump=previousslide"/>
          </p:cNvPr>
          <p:cNvSpPr/>
          <p:nvPr/>
        </p:nvSpPr>
        <p:spPr>
          <a:xfrm>
            <a:off x="6588000" y="6237360"/>
            <a:ext cx="1079640" cy="476280"/>
          </a:xfrm>
          <a:custGeom>
            <a:avLst/>
            <a:gdLst>
              <a:gd name="textAreaLeft" fmla="*/ 30600 w 1079640"/>
              <a:gd name="textAreaRight" fmla="*/ 1049040 w 1079640"/>
              <a:gd name="textAreaTop" fmla="*/ 30600 h 476280"/>
              <a:gd name="textAreaBottom" fmla="*/ 445680 h 476280"/>
            </a:gdLst>
            <a:ahLst/>
            <a:rect l="textAreaLeft" t="textAreaTop" r="textAreaRight" b="textAreaBottom"/>
            <a:pathLst>
              <a:path w="48943" h="21600">
                <a:moveTo>
                  <a:pt x="0" y="0"/>
                </a:moveTo>
                <a:lnTo>
                  <a:pt x="48943" y="0"/>
                </a:lnTo>
                <a:lnTo>
                  <a:pt x="48943" y="21600"/>
                </a:lnTo>
                <a:lnTo>
                  <a:pt x="0" y="21600"/>
                </a:lnTo>
                <a:close/>
              </a:path>
              <a:path fill="lightenLess" w="48943" h="21600">
                <a:moveTo>
                  <a:pt x="0" y="0"/>
                </a:moveTo>
                <a:lnTo>
                  <a:pt x="48943" y="0"/>
                </a:lnTo>
                <a:lnTo>
                  <a:pt x="47543" y="1400"/>
                </a:lnTo>
                <a:lnTo>
                  <a:pt x="1400" y="1400"/>
                </a:lnTo>
                <a:close/>
              </a:path>
              <a:path fill="darken" w="48943" h="21600">
                <a:moveTo>
                  <a:pt x="48943" y="0"/>
                </a:moveTo>
                <a:lnTo>
                  <a:pt x="48943" y="21600"/>
                </a:lnTo>
                <a:lnTo>
                  <a:pt x="47543" y="20200"/>
                </a:lnTo>
                <a:lnTo>
                  <a:pt x="47543" y="1400"/>
                </a:lnTo>
                <a:close/>
              </a:path>
              <a:path fill="darkenLess" w="48943" h="21600">
                <a:moveTo>
                  <a:pt x="48943" y="21600"/>
                </a:moveTo>
                <a:lnTo>
                  <a:pt x="0" y="21600"/>
                </a:lnTo>
                <a:lnTo>
                  <a:pt x="1400" y="20200"/>
                </a:lnTo>
                <a:lnTo>
                  <a:pt x="47543" y="20200"/>
                </a:lnTo>
                <a:close/>
              </a:path>
              <a:path fill="lighten" w="48943" h="21600">
                <a:moveTo>
                  <a:pt x="0" y="21600"/>
                </a:moveTo>
                <a:lnTo>
                  <a:pt x="0" y="0"/>
                </a:lnTo>
                <a:lnTo>
                  <a:pt x="1400" y="1400"/>
                </a:lnTo>
                <a:lnTo>
                  <a:pt x="1400" y="20200"/>
                </a:lnTo>
                <a:close/>
              </a:path>
              <a:path fill="darken" w="48943" h="21600">
                <a:moveTo>
                  <a:pt x="17465" y="10800"/>
                </a:moveTo>
                <a:lnTo>
                  <a:pt x="31478" y="3794"/>
                </a:lnTo>
                <a:lnTo>
                  <a:pt x="31478"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PlaceHolder 2"/>
          <p:cNvSpPr>
            <a:spLocks noGrp="1"/>
          </p:cNvSpPr>
          <p:nvPr>
            <p:ph/>
          </p:nvPr>
        </p:nvSpPr>
        <p:spPr>
          <a:xfrm>
            <a:off x="0" y="2492280"/>
            <a:ext cx="8229600" cy="4533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встрия — внутриконтинентальное государство, расположенное в южной части Центральной Европы.</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ерритория Австрии занимает 83 859 кв. км.</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осударственный строй</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встрия—республика. Глава государства—президент. Глава федерального правительства — канцлер. Парламент состоит из двух палат: Федерального совета и Национального собрания.</a:t>
            </a:r>
            <a:endParaRPr b="0" lang="en-US" sz="2400" spc="-1" strike="noStrike">
              <a:solidFill>
                <a:srgbClr val="ffffff"/>
              </a:solidFill>
              <a:latin typeface="Arial"/>
            </a:endParaRPr>
          </a:p>
        </p:txBody>
      </p:sp>
      <p:pic>
        <p:nvPicPr>
          <p:cNvPr id="525" name="" descr="карта Австрии туристическая"/>
          <p:cNvPicPr/>
          <p:nvPr/>
        </p:nvPicPr>
        <p:blipFill>
          <a:blip r:embed="rId5"/>
          <a:stretch/>
        </p:blipFill>
        <p:spPr>
          <a:xfrm>
            <a:off x="324000" y="1341360"/>
            <a:ext cx="2857320" cy="15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02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2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ходе Тридцатилетней войны население Габсбургской империи понесло огромные потери. Конец бойне положил Вестфальский мир (1648), согласно которому Священная Римская империя фактически прекращала свое существование, и многие князья, владевшие ее землями, смогли осуществить свою давнюю мечту о независимости от власти императора. Однако Габсбурги все еще сохраняли императорскую корону и влияние на государственные дела Германии.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1740 году взошла на трон Мария-Терезия, которая правила почти 40 лет. Это был период расцвета Австрийского государства. Но ситуация в стране резко изменилась, когда Австрийские войска были разбиты армией Наполеона при Аустерлице в 1805. Австрия находилась под контролем Германской Конфедерации, поэтому сильно пострадала от политического переворота во время революции 1848 года и поражения в Австро-Прусской войне. Это привело к формированию двойной Австро-Венгерской империи в 1867 и отделению от новой Германской империи. Это привело ее к небывалой катастрофе, вызванной разгромом австрийских войск в Первой мировой войне. После этого великая держава распадается на независимые национальные государства, Австрия становится республикой. Новое демократическое правительство, стремясь избежать бурь и потрясений, провозгласило новый курс, направленный на сохранение нейтралитета и постепенное экономическое развитие.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528" name="">
            <a:hlinkClick r:id="" action="ppaction://hlinkshowjump?jump=nextslide"/>
          </p:cNvPr>
          <p:cNvSpPr/>
          <p:nvPr/>
        </p:nvSpPr>
        <p:spPr>
          <a:xfrm>
            <a:off x="8062920" y="6165720"/>
            <a:ext cx="1081080" cy="476280"/>
          </a:xfrm>
          <a:custGeom>
            <a:avLst/>
            <a:gdLst>
              <a:gd name="textAreaLeft" fmla="*/ 30600 w 1081080"/>
              <a:gd name="textAreaRight" fmla="*/ 1050480 w 1081080"/>
              <a:gd name="textAreaTop" fmla="*/ 30600 h 476280"/>
              <a:gd name="textAreaBottom" fmla="*/ 445680 h 476280"/>
            </a:gdLst>
            <a:ahLst/>
            <a:rect l="textAreaLeft" t="textAreaTop" r="textAreaRight" b="textAreaBottom"/>
            <a:pathLst>
              <a:path w="49008" h="21600">
                <a:moveTo>
                  <a:pt x="0" y="0"/>
                </a:moveTo>
                <a:lnTo>
                  <a:pt x="49008" y="0"/>
                </a:lnTo>
                <a:lnTo>
                  <a:pt x="49008" y="21600"/>
                </a:lnTo>
                <a:lnTo>
                  <a:pt x="0" y="21600"/>
                </a:lnTo>
                <a:close/>
              </a:path>
              <a:path fill="lightenLess" w="49008" h="21600">
                <a:moveTo>
                  <a:pt x="0" y="0"/>
                </a:moveTo>
                <a:lnTo>
                  <a:pt x="49008" y="0"/>
                </a:lnTo>
                <a:lnTo>
                  <a:pt x="47608" y="1400"/>
                </a:lnTo>
                <a:lnTo>
                  <a:pt x="1400" y="1400"/>
                </a:lnTo>
                <a:close/>
              </a:path>
              <a:path fill="darken" w="49008" h="21600">
                <a:moveTo>
                  <a:pt x="49008" y="0"/>
                </a:moveTo>
                <a:lnTo>
                  <a:pt x="49008" y="21600"/>
                </a:lnTo>
                <a:lnTo>
                  <a:pt x="47608" y="20200"/>
                </a:lnTo>
                <a:lnTo>
                  <a:pt x="47608" y="1400"/>
                </a:lnTo>
                <a:close/>
              </a:path>
              <a:path fill="darkenLess" w="49008" h="21600">
                <a:moveTo>
                  <a:pt x="49008" y="21600"/>
                </a:moveTo>
                <a:lnTo>
                  <a:pt x="0" y="21600"/>
                </a:lnTo>
                <a:lnTo>
                  <a:pt x="1400" y="20200"/>
                </a:lnTo>
                <a:lnTo>
                  <a:pt x="47608" y="20200"/>
                </a:lnTo>
                <a:close/>
              </a:path>
              <a:path fill="lighten" w="49008" h="21600">
                <a:moveTo>
                  <a:pt x="0" y="21600"/>
                </a:moveTo>
                <a:lnTo>
                  <a:pt x="0" y="0"/>
                </a:lnTo>
                <a:lnTo>
                  <a:pt x="1400" y="1400"/>
                </a:lnTo>
                <a:lnTo>
                  <a:pt x="1400" y="20200"/>
                </a:lnTo>
                <a:close/>
              </a:path>
              <a:path fill="darken" w="49008" h="21600">
                <a:moveTo>
                  <a:pt x="17497" y="3794"/>
                </a:moveTo>
                <a:lnTo>
                  <a:pt x="31510" y="10800"/>
                </a:lnTo>
                <a:lnTo>
                  <a:pt x="17497"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a:hlinkClick r:id="" action="ppaction://hlinkshowjump?jump=previousslide"/>
          </p:cNvPr>
          <p:cNvSpPr/>
          <p:nvPr/>
        </p:nvSpPr>
        <p:spPr>
          <a:xfrm>
            <a:off x="6877080" y="6165720"/>
            <a:ext cx="1079640" cy="476280"/>
          </a:xfrm>
          <a:custGeom>
            <a:avLst/>
            <a:gdLst>
              <a:gd name="textAreaLeft" fmla="*/ 30600 w 1079640"/>
              <a:gd name="textAreaRight" fmla="*/ 1049040 w 1079640"/>
              <a:gd name="textAreaTop" fmla="*/ 30600 h 476280"/>
              <a:gd name="textAreaBottom" fmla="*/ 445680 h 476280"/>
            </a:gdLst>
            <a:ahLst/>
            <a:rect l="textAreaLeft" t="textAreaTop" r="textAreaRight" b="textAreaBottom"/>
            <a:pathLst>
              <a:path w="48943" h="21600">
                <a:moveTo>
                  <a:pt x="0" y="0"/>
                </a:moveTo>
                <a:lnTo>
                  <a:pt x="48943" y="0"/>
                </a:lnTo>
                <a:lnTo>
                  <a:pt x="48943" y="21600"/>
                </a:lnTo>
                <a:lnTo>
                  <a:pt x="0" y="21600"/>
                </a:lnTo>
                <a:close/>
              </a:path>
              <a:path fill="lightenLess" w="48943" h="21600">
                <a:moveTo>
                  <a:pt x="0" y="0"/>
                </a:moveTo>
                <a:lnTo>
                  <a:pt x="48943" y="0"/>
                </a:lnTo>
                <a:lnTo>
                  <a:pt x="47543" y="1400"/>
                </a:lnTo>
                <a:lnTo>
                  <a:pt x="1400" y="1400"/>
                </a:lnTo>
                <a:close/>
              </a:path>
              <a:path fill="darken" w="48943" h="21600">
                <a:moveTo>
                  <a:pt x="48943" y="0"/>
                </a:moveTo>
                <a:lnTo>
                  <a:pt x="48943" y="21600"/>
                </a:lnTo>
                <a:lnTo>
                  <a:pt x="47543" y="20200"/>
                </a:lnTo>
                <a:lnTo>
                  <a:pt x="47543" y="1400"/>
                </a:lnTo>
                <a:close/>
              </a:path>
              <a:path fill="darkenLess" w="48943" h="21600">
                <a:moveTo>
                  <a:pt x="48943" y="21600"/>
                </a:moveTo>
                <a:lnTo>
                  <a:pt x="0" y="21600"/>
                </a:lnTo>
                <a:lnTo>
                  <a:pt x="1400" y="20200"/>
                </a:lnTo>
                <a:lnTo>
                  <a:pt x="47543" y="20200"/>
                </a:lnTo>
                <a:close/>
              </a:path>
              <a:path fill="lighten" w="48943" h="21600">
                <a:moveTo>
                  <a:pt x="0" y="21600"/>
                </a:moveTo>
                <a:lnTo>
                  <a:pt x="0" y="0"/>
                </a:lnTo>
                <a:lnTo>
                  <a:pt x="1400" y="1400"/>
                </a:lnTo>
                <a:lnTo>
                  <a:pt x="1400" y="20200"/>
                </a:lnTo>
                <a:close/>
              </a:path>
              <a:path fill="darken" w="48943" h="21600">
                <a:moveTo>
                  <a:pt x="17465" y="10800"/>
                </a:moveTo>
                <a:lnTo>
                  <a:pt x="31478" y="3794"/>
                </a:lnTo>
                <a:lnTo>
                  <a:pt x="31478"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0" y="475920"/>
            <a:ext cx="9144000" cy="55450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ако эти миролюбивые планы были нарушены нацистской Германии, оккупировавшей Австрию в 1938 г. и ввергшей ее в новые войны и бедствия. После окончания второй мировой войны Австрия была разделена на четыре оккупационные зоны между Францией, США, Великобританией и СССР. Лишь в мае 1955 года Австрия снова становится независимым государством. В настоящий момент Австрия является членом ООН, Европейского Союза, Европейское Экономическое общества и Содружества стран Шенгенского союза. Сегодня это развитое демократическое государство, которое по праву считается одним из важнейших культурных и экономических центров Европы.</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31" name="" descr=""/>
          <p:cNvPicPr/>
          <p:nvPr/>
        </p:nvPicPr>
        <p:blipFill>
          <a:blip r:embed="rId2"/>
          <a:stretch/>
        </p:blipFill>
        <p:spPr>
          <a:xfrm>
            <a:off x="6715080" y="5037120"/>
            <a:ext cx="190440" cy="142920"/>
          </a:xfrm>
          <a:prstGeom prst="rect">
            <a:avLst/>
          </a:prstGeom>
          <a:ln w="0">
            <a:noFill/>
          </a:ln>
        </p:spPr>
      </p:pic>
      <p:pic>
        <p:nvPicPr>
          <p:cNvPr id="532" name="" descr=""/>
          <p:cNvPicPr/>
          <p:nvPr/>
        </p:nvPicPr>
        <p:blipFill>
          <a:blip r:embed="rId3"/>
          <a:stretch/>
        </p:blipFill>
        <p:spPr>
          <a:xfrm>
            <a:off x="2238480" y="1679400"/>
            <a:ext cx="85680" cy="9720"/>
          </a:xfrm>
          <a:prstGeom prst="rect">
            <a:avLst/>
          </a:prstGeom>
          <a:ln w="0">
            <a:noFill/>
          </a:ln>
        </p:spPr>
      </p:pic>
      <p:sp>
        <p:nvSpPr>
          <p:cNvPr id="533" name="">
            <a:hlinkClick r:id="" action="ppaction://hlinkshowjump?jump=nextslide"/>
          </p:cNvPr>
          <p:cNvSpPr/>
          <p:nvPr/>
        </p:nvSpPr>
        <p:spPr>
          <a:xfrm>
            <a:off x="8062920" y="6093000"/>
            <a:ext cx="1081080" cy="475920"/>
          </a:xfrm>
          <a:custGeom>
            <a:avLst/>
            <a:gdLst>
              <a:gd name="textAreaLeft" fmla="*/ 30600 w 1081080"/>
              <a:gd name="textAreaRight" fmla="*/ 1050480 w 1081080"/>
              <a:gd name="textAreaTop" fmla="*/ 30600 h 475920"/>
              <a:gd name="textAreaBottom" fmla="*/ 445320 h 475920"/>
            </a:gdLst>
            <a:ahLst/>
            <a:rect l="textAreaLeft" t="textAreaTop" r="textAreaRight" b="textAreaBottom"/>
            <a:pathLst>
              <a:path w="49045" h="21600">
                <a:moveTo>
                  <a:pt x="0" y="0"/>
                </a:moveTo>
                <a:lnTo>
                  <a:pt x="49045" y="0"/>
                </a:lnTo>
                <a:lnTo>
                  <a:pt x="49045" y="21600"/>
                </a:lnTo>
                <a:lnTo>
                  <a:pt x="0" y="21600"/>
                </a:lnTo>
                <a:close/>
              </a:path>
              <a:path fill="lightenLess" w="49045" h="21600">
                <a:moveTo>
                  <a:pt x="0" y="0"/>
                </a:moveTo>
                <a:lnTo>
                  <a:pt x="49045" y="0"/>
                </a:lnTo>
                <a:lnTo>
                  <a:pt x="47645" y="1400"/>
                </a:lnTo>
                <a:lnTo>
                  <a:pt x="1400" y="1400"/>
                </a:lnTo>
                <a:close/>
              </a:path>
              <a:path fill="darken" w="49045" h="21600">
                <a:moveTo>
                  <a:pt x="49045" y="0"/>
                </a:moveTo>
                <a:lnTo>
                  <a:pt x="49045" y="21600"/>
                </a:lnTo>
                <a:lnTo>
                  <a:pt x="47645" y="20200"/>
                </a:lnTo>
                <a:lnTo>
                  <a:pt x="47645" y="1400"/>
                </a:lnTo>
                <a:close/>
              </a:path>
              <a:path fill="darkenLess" w="49045" h="21600">
                <a:moveTo>
                  <a:pt x="49045" y="21600"/>
                </a:moveTo>
                <a:lnTo>
                  <a:pt x="0" y="21600"/>
                </a:lnTo>
                <a:lnTo>
                  <a:pt x="1400" y="20200"/>
                </a:lnTo>
                <a:lnTo>
                  <a:pt x="47645" y="20200"/>
                </a:lnTo>
                <a:close/>
              </a:path>
              <a:path fill="lighten" w="49045" h="21600">
                <a:moveTo>
                  <a:pt x="0" y="21600"/>
                </a:moveTo>
                <a:lnTo>
                  <a:pt x="0" y="0"/>
                </a:lnTo>
                <a:lnTo>
                  <a:pt x="1400" y="1400"/>
                </a:lnTo>
                <a:lnTo>
                  <a:pt x="1400" y="20200"/>
                </a:lnTo>
                <a:close/>
              </a:path>
              <a:path fill="darken" w="49045" h="21600">
                <a:moveTo>
                  <a:pt x="17516" y="3794"/>
                </a:moveTo>
                <a:lnTo>
                  <a:pt x="31529" y="10800"/>
                </a:lnTo>
                <a:lnTo>
                  <a:pt x="17516"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a:hlinkClick r:id="" action="ppaction://hlinkshowjump?jump=previousslide"/>
          </p:cNvPr>
          <p:cNvSpPr/>
          <p:nvPr/>
        </p:nvSpPr>
        <p:spPr>
          <a:xfrm>
            <a:off x="6948360" y="6093000"/>
            <a:ext cx="1079640" cy="475920"/>
          </a:xfrm>
          <a:custGeom>
            <a:avLst/>
            <a:gdLst>
              <a:gd name="textAreaLeft" fmla="*/ 30600 w 1079640"/>
              <a:gd name="textAreaRight" fmla="*/ 1049040 w 1079640"/>
              <a:gd name="textAreaTop" fmla="*/ 30600 h 475920"/>
              <a:gd name="textAreaBottom" fmla="*/ 445320 h 475920"/>
            </a:gdLst>
            <a:ahLst/>
            <a:rect l="textAreaLeft" t="textAreaTop" r="textAreaRight" b="textAreaBottom"/>
            <a:pathLst>
              <a:path w="48980" h="21600">
                <a:moveTo>
                  <a:pt x="0" y="0"/>
                </a:moveTo>
                <a:lnTo>
                  <a:pt x="48980" y="0"/>
                </a:lnTo>
                <a:lnTo>
                  <a:pt x="48980" y="21600"/>
                </a:lnTo>
                <a:lnTo>
                  <a:pt x="0" y="21600"/>
                </a:lnTo>
                <a:close/>
              </a:path>
              <a:path fill="lightenLess" w="48980" h="21600">
                <a:moveTo>
                  <a:pt x="0" y="0"/>
                </a:moveTo>
                <a:lnTo>
                  <a:pt x="48980" y="0"/>
                </a:lnTo>
                <a:lnTo>
                  <a:pt x="47580" y="1400"/>
                </a:lnTo>
                <a:lnTo>
                  <a:pt x="1400" y="1400"/>
                </a:lnTo>
                <a:close/>
              </a:path>
              <a:path fill="darken" w="48980" h="21600">
                <a:moveTo>
                  <a:pt x="48980" y="0"/>
                </a:moveTo>
                <a:lnTo>
                  <a:pt x="48980" y="21600"/>
                </a:lnTo>
                <a:lnTo>
                  <a:pt x="47580" y="20200"/>
                </a:lnTo>
                <a:lnTo>
                  <a:pt x="47580" y="1400"/>
                </a:lnTo>
                <a:close/>
              </a:path>
              <a:path fill="darkenLess" w="48980" h="21600">
                <a:moveTo>
                  <a:pt x="48980" y="21600"/>
                </a:moveTo>
                <a:lnTo>
                  <a:pt x="0" y="21600"/>
                </a:lnTo>
                <a:lnTo>
                  <a:pt x="1400" y="20200"/>
                </a:lnTo>
                <a:lnTo>
                  <a:pt x="47580" y="20200"/>
                </a:lnTo>
                <a:close/>
              </a:path>
              <a:path fill="lighten" w="48980" h="21600">
                <a:moveTo>
                  <a:pt x="0" y="21600"/>
                </a:moveTo>
                <a:lnTo>
                  <a:pt x="0" y="0"/>
                </a:lnTo>
                <a:lnTo>
                  <a:pt x="1400" y="1400"/>
                </a:lnTo>
                <a:lnTo>
                  <a:pt x="1400" y="20200"/>
                </a:lnTo>
                <a:close/>
              </a:path>
              <a:path fill="darken" w="48980" h="21600">
                <a:moveTo>
                  <a:pt x="17483" y="10800"/>
                </a:moveTo>
                <a:lnTo>
                  <a:pt x="31496" y="3794"/>
                </a:lnTo>
                <a:lnTo>
                  <a:pt x="31496"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Население и язык</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последним подсчетам население Австрии составляет около 8 млн. жителей, в среднем 94 человека на 1 кв. км. Коренные австрийцы в подавляющем большинстве — германцы. В Вене и на юго-востоке страны проживает большая часть неавстрийцев. Иммиграция в Австрию началась с конца XIX в., когда здесь стала бурно развиваться промышленность. События последних десятилетий обусловили приток новых и новых волн иммигрантов с Востока. В мае 1993 г. в Австрии на легальном положении проживало около 600 тысяч иммигрантов. В основном это были югославы, бежавшие от войны (около 65 тысяч). Другие иностранцы происходят из Турции, Польши, Германии, Чехии и Словакии. Негерманцы среди коренного населения—это хорваты, словаки, венгры, словенцы и чехи. Вместе взятые, они составляют около 300 тысяч человек. Государственный язык—немецкий, австрийский диалект которого сильно отличается от классического немецкого. Особенно отличается от других диалект Форарль-берга, близкий алеманскому наречию швейцарцев. В Тироле, в высокогорных районах, в силу географических условий и исторических причин собственным диалектом может похвастаться едва ли не каждая деревушка.</a:t>
            </a:r>
            <a:endParaRPr b="0" lang="en-US" sz="1800" spc="-1" strike="noStrike">
              <a:solidFill>
                <a:srgbClr val="ffffff"/>
              </a:solidFill>
              <a:latin typeface="Arial"/>
            </a:endParaRPr>
          </a:p>
        </p:txBody>
      </p:sp>
      <p:sp>
        <p:nvSpPr>
          <p:cNvPr id="537" name="">
            <a:hlinkClick r:id="" action="ppaction://hlinkshowjump?jump=nextslide"/>
          </p:cNvPr>
          <p:cNvSpPr/>
          <p:nvPr/>
        </p:nvSpPr>
        <p:spPr>
          <a:xfrm>
            <a:off x="7667640" y="6165720"/>
            <a:ext cx="1081080" cy="476280"/>
          </a:xfrm>
          <a:custGeom>
            <a:avLst/>
            <a:gdLst>
              <a:gd name="textAreaLeft" fmla="*/ 30600 w 1081080"/>
              <a:gd name="textAreaRight" fmla="*/ 1050480 w 1081080"/>
              <a:gd name="textAreaTop" fmla="*/ 30600 h 476280"/>
              <a:gd name="textAreaBottom" fmla="*/ 445680 h 476280"/>
            </a:gdLst>
            <a:ahLst/>
            <a:rect l="textAreaLeft" t="textAreaTop" r="textAreaRight" b="textAreaBottom"/>
            <a:pathLst>
              <a:path w="49008" h="21600">
                <a:moveTo>
                  <a:pt x="0" y="0"/>
                </a:moveTo>
                <a:lnTo>
                  <a:pt x="49008" y="0"/>
                </a:lnTo>
                <a:lnTo>
                  <a:pt x="49008" y="21600"/>
                </a:lnTo>
                <a:lnTo>
                  <a:pt x="0" y="21600"/>
                </a:lnTo>
                <a:close/>
              </a:path>
              <a:path fill="lightenLess" w="49008" h="21600">
                <a:moveTo>
                  <a:pt x="0" y="0"/>
                </a:moveTo>
                <a:lnTo>
                  <a:pt x="49008" y="0"/>
                </a:lnTo>
                <a:lnTo>
                  <a:pt x="47608" y="1400"/>
                </a:lnTo>
                <a:lnTo>
                  <a:pt x="1400" y="1400"/>
                </a:lnTo>
                <a:close/>
              </a:path>
              <a:path fill="darken" w="49008" h="21600">
                <a:moveTo>
                  <a:pt x="49008" y="0"/>
                </a:moveTo>
                <a:lnTo>
                  <a:pt x="49008" y="21600"/>
                </a:lnTo>
                <a:lnTo>
                  <a:pt x="47608" y="20200"/>
                </a:lnTo>
                <a:lnTo>
                  <a:pt x="47608" y="1400"/>
                </a:lnTo>
                <a:close/>
              </a:path>
              <a:path fill="darkenLess" w="49008" h="21600">
                <a:moveTo>
                  <a:pt x="49008" y="21600"/>
                </a:moveTo>
                <a:lnTo>
                  <a:pt x="0" y="21600"/>
                </a:lnTo>
                <a:lnTo>
                  <a:pt x="1400" y="20200"/>
                </a:lnTo>
                <a:lnTo>
                  <a:pt x="47608" y="20200"/>
                </a:lnTo>
                <a:close/>
              </a:path>
              <a:path fill="lighten" w="49008" h="21600">
                <a:moveTo>
                  <a:pt x="0" y="21600"/>
                </a:moveTo>
                <a:lnTo>
                  <a:pt x="0" y="0"/>
                </a:lnTo>
                <a:lnTo>
                  <a:pt x="1400" y="1400"/>
                </a:lnTo>
                <a:lnTo>
                  <a:pt x="1400" y="20200"/>
                </a:lnTo>
                <a:close/>
              </a:path>
              <a:path fill="darken" w="49008" h="21600">
                <a:moveTo>
                  <a:pt x="17497" y="3794"/>
                </a:moveTo>
                <a:lnTo>
                  <a:pt x="31510" y="10800"/>
                </a:lnTo>
                <a:lnTo>
                  <a:pt x="17497"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a:hlinkClick r:id="" action="ppaction://hlinkshowjump?jump=previousslide"/>
          </p:cNvPr>
          <p:cNvSpPr/>
          <p:nvPr/>
        </p:nvSpPr>
        <p:spPr>
          <a:xfrm>
            <a:off x="6516720" y="6165720"/>
            <a:ext cx="1079640" cy="476280"/>
          </a:xfrm>
          <a:custGeom>
            <a:avLst/>
            <a:gdLst>
              <a:gd name="textAreaLeft" fmla="*/ 30600 w 1079640"/>
              <a:gd name="textAreaRight" fmla="*/ 1049040 w 1079640"/>
              <a:gd name="textAreaTop" fmla="*/ 30600 h 476280"/>
              <a:gd name="textAreaBottom" fmla="*/ 445680 h 476280"/>
            </a:gdLst>
            <a:ahLst/>
            <a:rect l="textAreaLeft" t="textAreaTop" r="textAreaRight" b="textAreaBottom"/>
            <a:pathLst>
              <a:path w="48943" h="21600">
                <a:moveTo>
                  <a:pt x="0" y="0"/>
                </a:moveTo>
                <a:lnTo>
                  <a:pt x="48943" y="0"/>
                </a:lnTo>
                <a:lnTo>
                  <a:pt x="48943" y="21600"/>
                </a:lnTo>
                <a:lnTo>
                  <a:pt x="0" y="21600"/>
                </a:lnTo>
                <a:close/>
              </a:path>
              <a:path fill="lightenLess" w="48943" h="21600">
                <a:moveTo>
                  <a:pt x="0" y="0"/>
                </a:moveTo>
                <a:lnTo>
                  <a:pt x="48943" y="0"/>
                </a:lnTo>
                <a:lnTo>
                  <a:pt x="47543" y="1400"/>
                </a:lnTo>
                <a:lnTo>
                  <a:pt x="1400" y="1400"/>
                </a:lnTo>
                <a:close/>
              </a:path>
              <a:path fill="darken" w="48943" h="21600">
                <a:moveTo>
                  <a:pt x="48943" y="0"/>
                </a:moveTo>
                <a:lnTo>
                  <a:pt x="48943" y="21600"/>
                </a:lnTo>
                <a:lnTo>
                  <a:pt x="47543" y="20200"/>
                </a:lnTo>
                <a:lnTo>
                  <a:pt x="47543" y="1400"/>
                </a:lnTo>
                <a:close/>
              </a:path>
              <a:path fill="darkenLess" w="48943" h="21600">
                <a:moveTo>
                  <a:pt x="48943" y="21600"/>
                </a:moveTo>
                <a:lnTo>
                  <a:pt x="0" y="21600"/>
                </a:lnTo>
                <a:lnTo>
                  <a:pt x="1400" y="20200"/>
                </a:lnTo>
                <a:lnTo>
                  <a:pt x="47543" y="20200"/>
                </a:lnTo>
                <a:close/>
              </a:path>
              <a:path fill="lighten" w="48943" h="21600">
                <a:moveTo>
                  <a:pt x="0" y="21600"/>
                </a:moveTo>
                <a:lnTo>
                  <a:pt x="0" y="0"/>
                </a:lnTo>
                <a:lnTo>
                  <a:pt x="1400" y="1400"/>
                </a:lnTo>
                <a:lnTo>
                  <a:pt x="1400" y="20200"/>
                </a:lnTo>
                <a:close/>
              </a:path>
              <a:path fill="darken" w="48943" h="21600">
                <a:moveTo>
                  <a:pt x="17465" y="10800"/>
                </a:moveTo>
                <a:lnTo>
                  <a:pt x="31478" y="3794"/>
                </a:lnTo>
                <a:lnTo>
                  <a:pt x="31478"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Язык</a:t>
            </a: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i="1" lang="en-US" sz="2000" spc="-1" strike="noStrike">
                <a:solidFill>
                  <a:srgbClr val="ffffff"/>
                </a:solidFill>
                <a:latin typeface="Arial"/>
              </a:rPr>
              <a:t>Государственный язык Австрии - немецкий.</a:t>
            </a:r>
            <a:r>
              <a:rPr b="0" lang="en-US" sz="2000" spc="-1" strike="noStrike">
                <a:solidFill>
                  <a:srgbClr val="ffffff"/>
                </a:solidFill>
                <a:latin typeface="Arial"/>
              </a:rPr>
              <a:t> </a:t>
            </a:r>
            <a:br>
              <a:rPr sz="2000"/>
            </a:br>
            <a:br>
              <a:rPr sz="2000"/>
            </a:br>
            <a:r>
              <a:rPr b="0" lang="en-US" sz="2000" spc="-1" strike="noStrike">
                <a:solidFill>
                  <a:srgbClr val="ffffff"/>
                </a:solidFill>
                <a:latin typeface="Arial"/>
              </a:rPr>
              <a:t>В больших городах и курортных центрах, в гостиницах не составит труда найти человека, говорящего по-английски, однако знание хотя бы нескольких немецких фраз существенно облегчит контакт с местными жителями. Все объявления в поездах и автобусах делаются только по-немецки.</a:t>
            </a:r>
            <a:br>
              <a:rPr sz="2000"/>
            </a:br>
            <a:br>
              <a:rPr sz="2000"/>
            </a:br>
            <a:r>
              <a:rPr b="0" lang="en-US" sz="2000" spc="-1" strike="noStrike">
                <a:solidFill>
                  <a:srgbClr val="ffffff"/>
                </a:solidFill>
                <a:latin typeface="Arial"/>
              </a:rPr>
              <a:t>Речь австрийца отличается от речи немца, как словарным запасом, так и произношением, ударениями и ритмом. Местные диалекты особенно сильно выражены у сельских жителей альпийских районов, которых немцы понимают с трудом.</a:t>
            </a:r>
            <a:br>
              <a:rPr sz="2000"/>
            </a:br>
            <a:br>
              <a:rPr sz="2000"/>
            </a:br>
            <a:r>
              <a:rPr b="1" i="1" lang="en-US" sz="2000" spc="-1" strike="noStrike">
                <a:solidFill>
                  <a:srgbClr val="ffffff"/>
                </a:solidFill>
                <a:latin typeface="Arial"/>
              </a:rPr>
              <a:t>Основная часть населения Австрии (около98%) говорит на австрийских диалектах немецкого языка.</a:t>
            </a:r>
            <a:br>
              <a:rPr sz="2000"/>
            </a:b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541" name="">
            <a:hlinkClick r:id="" action="ppaction://hlinkshowjump?jump=nextslide"/>
          </p:cNvPr>
          <p:cNvSpPr/>
          <p:nvPr/>
        </p:nvSpPr>
        <p:spPr>
          <a:xfrm>
            <a:off x="8062920" y="6381720"/>
            <a:ext cx="1081080" cy="476280"/>
          </a:xfrm>
          <a:custGeom>
            <a:avLst/>
            <a:gdLst>
              <a:gd name="textAreaLeft" fmla="*/ 30600 w 1081080"/>
              <a:gd name="textAreaRight" fmla="*/ 1050480 w 1081080"/>
              <a:gd name="textAreaTop" fmla="*/ 30600 h 476280"/>
              <a:gd name="textAreaBottom" fmla="*/ 445680 h 476280"/>
            </a:gdLst>
            <a:ahLst/>
            <a:rect l="textAreaLeft" t="textAreaTop" r="textAreaRight" b="textAreaBottom"/>
            <a:pathLst>
              <a:path w="49008" h="21600">
                <a:moveTo>
                  <a:pt x="0" y="0"/>
                </a:moveTo>
                <a:lnTo>
                  <a:pt x="49008" y="0"/>
                </a:lnTo>
                <a:lnTo>
                  <a:pt x="49008" y="21600"/>
                </a:lnTo>
                <a:lnTo>
                  <a:pt x="0" y="21600"/>
                </a:lnTo>
                <a:close/>
              </a:path>
              <a:path fill="lightenLess" w="49008" h="21600">
                <a:moveTo>
                  <a:pt x="0" y="0"/>
                </a:moveTo>
                <a:lnTo>
                  <a:pt x="49008" y="0"/>
                </a:lnTo>
                <a:lnTo>
                  <a:pt x="47608" y="1400"/>
                </a:lnTo>
                <a:lnTo>
                  <a:pt x="1400" y="1400"/>
                </a:lnTo>
                <a:close/>
              </a:path>
              <a:path fill="darken" w="49008" h="21600">
                <a:moveTo>
                  <a:pt x="49008" y="0"/>
                </a:moveTo>
                <a:lnTo>
                  <a:pt x="49008" y="21600"/>
                </a:lnTo>
                <a:lnTo>
                  <a:pt x="47608" y="20200"/>
                </a:lnTo>
                <a:lnTo>
                  <a:pt x="47608" y="1400"/>
                </a:lnTo>
                <a:close/>
              </a:path>
              <a:path fill="darkenLess" w="49008" h="21600">
                <a:moveTo>
                  <a:pt x="49008" y="21600"/>
                </a:moveTo>
                <a:lnTo>
                  <a:pt x="0" y="21600"/>
                </a:lnTo>
                <a:lnTo>
                  <a:pt x="1400" y="20200"/>
                </a:lnTo>
                <a:lnTo>
                  <a:pt x="47608" y="20200"/>
                </a:lnTo>
                <a:close/>
              </a:path>
              <a:path fill="lighten" w="49008" h="21600">
                <a:moveTo>
                  <a:pt x="0" y="21600"/>
                </a:moveTo>
                <a:lnTo>
                  <a:pt x="0" y="0"/>
                </a:lnTo>
                <a:lnTo>
                  <a:pt x="1400" y="1400"/>
                </a:lnTo>
                <a:lnTo>
                  <a:pt x="1400" y="20200"/>
                </a:lnTo>
                <a:close/>
              </a:path>
              <a:path fill="darken" w="49008" h="21600">
                <a:moveTo>
                  <a:pt x="17497" y="3794"/>
                </a:moveTo>
                <a:lnTo>
                  <a:pt x="31510" y="10800"/>
                </a:lnTo>
                <a:lnTo>
                  <a:pt x="17497"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a:hlinkClick r:id="" action="ppaction://hlinkshowjump?jump=previousslide"/>
          </p:cNvPr>
          <p:cNvSpPr/>
          <p:nvPr/>
        </p:nvSpPr>
        <p:spPr>
          <a:xfrm>
            <a:off x="6877080" y="6381720"/>
            <a:ext cx="1079640" cy="476280"/>
          </a:xfrm>
          <a:custGeom>
            <a:avLst/>
            <a:gdLst>
              <a:gd name="textAreaLeft" fmla="*/ 30600 w 1079640"/>
              <a:gd name="textAreaRight" fmla="*/ 1049040 w 1079640"/>
              <a:gd name="textAreaTop" fmla="*/ 30600 h 476280"/>
              <a:gd name="textAreaBottom" fmla="*/ 445680 h 476280"/>
            </a:gdLst>
            <a:ahLst/>
            <a:rect l="textAreaLeft" t="textAreaTop" r="textAreaRight" b="textAreaBottom"/>
            <a:pathLst>
              <a:path w="48943" h="21600">
                <a:moveTo>
                  <a:pt x="0" y="0"/>
                </a:moveTo>
                <a:lnTo>
                  <a:pt x="48943" y="0"/>
                </a:lnTo>
                <a:lnTo>
                  <a:pt x="48943" y="21600"/>
                </a:lnTo>
                <a:lnTo>
                  <a:pt x="0" y="21600"/>
                </a:lnTo>
                <a:close/>
              </a:path>
              <a:path fill="lightenLess" w="48943" h="21600">
                <a:moveTo>
                  <a:pt x="0" y="0"/>
                </a:moveTo>
                <a:lnTo>
                  <a:pt x="48943" y="0"/>
                </a:lnTo>
                <a:lnTo>
                  <a:pt x="47543" y="1400"/>
                </a:lnTo>
                <a:lnTo>
                  <a:pt x="1400" y="1400"/>
                </a:lnTo>
                <a:close/>
              </a:path>
              <a:path fill="darken" w="48943" h="21600">
                <a:moveTo>
                  <a:pt x="48943" y="0"/>
                </a:moveTo>
                <a:lnTo>
                  <a:pt x="48943" y="21600"/>
                </a:lnTo>
                <a:lnTo>
                  <a:pt x="47543" y="20200"/>
                </a:lnTo>
                <a:lnTo>
                  <a:pt x="47543" y="1400"/>
                </a:lnTo>
                <a:close/>
              </a:path>
              <a:path fill="darkenLess" w="48943" h="21600">
                <a:moveTo>
                  <a:pt x="48943" y="21600"/>
                </a:moveTo>
                <a:lnTo>
                  <a:pt x="0" y="21600"/>
                </a:lnTo>
                <a:lnTo>
                  <a:pt x="1400" y="20200"/>
                </a:lnTo>
                <a:lnTo>
                  <a:pt x="47543" y="20200"/>
                </a:lnTo>
                <a:close/>
              </a:path>
              <a:path fill="lighten" w="48943" h="21600">
                <a:moveTo>
                  <a:pt x="0" y="21600"/>
                </a:moveTo>
                <a:lnTo>
                  <a:pt x="0" y="0"/>
                </a:lnTo>
                <a:lnTo>
                  <a:pt x="1400" y="1400"/>
                </a:lnTo>
                <a:lnTo>
                  <a:pt x="1400" y="20200"/>
                </a:lnTo>
                <a:close/>
              </a:path>
              <a:path fill="darken" w="48943" h="21600">
                <a:moveTo>
                  <a:pt x="17465" y="10800"/>
                </a:moveTo>
                <a:lnTo>
                  <a:pt x="31478" y="3794"/>
                </a:lnTo>
                <a:lnTo>
                  <a:pt x="31478"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Культура Австрии</a:t>
            </a:r>
            <a:br>
              <a:rPr sz="4000"/>
            </a:br>
            <a:endParaRPr b="0" lang="en-US" sz="4000" spc="-1" strike="noStrike">
              <a:solidFill>
                <a:srgbClr val="dfdef6"/>
              </a:solidFill>
              <a:latin typeface="Arial"/>
            </a:endParaRPr>
          </a:p>
        </p:txBody>
      </p:sp>
      <p:sp>
        <p:nvSpPr>
          <p:cNvPr id="544" name="PlaceHolder 2"/>
          <p:cNvSpPr>
            <a:spLocks noGrp="1"/>
          </p:cNvSpPr>
          <p:nvPr>
            <p:ph/>
          </p:nvPr>
        </p:nvSpPr>
        <p:spPr>
          <a:xfrm>
            <a:off x="457200" y="1600200"/>
            <a:ext cx="8686800" cy="499752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1" lang="ru-RU" sz="1600" spc="-1" strike="noStrike" u="sng">
                <a:solidFill>
                  <a:srgbClr val="ffffff"/>
                </a:solidFill>
                <a:uFillTx/>
                <a:latin typeface="Arial"/>
              </a:rPr>
              <a:t>Музыкальная столица Европы</a:t>
            </a:r>
            <a:br>
              <a:rPr sz="1600"/>
            </a:br>
            <a:br>
              <a:rPr sz="1600"/>
            </a:br>
            <a:r>
              <a:rPr b="0" lang="ru-RU" sz="1600" spc="-1" strike="noStrike">
                <a:solidFill>
                  <a:srgbClr val="ffffff"/>
                </a:solidFill>
                <a:latin typeface="Arial"/>
              </a:rPr>
              <a:t>В отличие от соседней и родственной по языку и духу Германии, разделенной вплоть до XIX века на множество мелких княжеств, Австрийская Империя, напротив, объединяла множество наций, культур и наречий. Таким образом, она как бы аккумулировала в себе голоса разнообразных традиций: немецкой, венгерской, чешской, итальянской. Именно это на протяжении веков определяло оригинальность и обаяние австрийской культуры. </a:t>
            </a:r>
            <a:br>
              <a:rPr sz="1600"/>
            </a:br>
            <a:br>
              <a:rPr sz="1600"/>
            </a:br>
            <a:r>
              <a:rPr b="1" i="1" lang="ru-RU" sz="1600" spc="-1" strike="noStrike">
                <a:solidFill>
                  <a:srgbClr val="ffffff"/>
                </a:solidFill>
                <a:latin typeface="Arial"/>
              </a:rPr>
              <a:t>Cтилистическое разнообразие культурных традиций </a:t>
            </a:r>
            <a:r>
              <a:rPr b="0" lang="ru-RU" sz="1600" spc="-1" strike="noStrike">
                <a:solidFill>
                  <a:srgbClr val="ffffff"/>
                </a:solidFill>
                <a:latin typeface="Arial"/>
              </a:rPr>
              <a:t>наиболее благотворно проявило себя не столько в живописи, сколько в музыке. Австрийцы по праву соперничают с итальянцами - родоначальниками оперы - считая свою родину "страной музыки". </a:t>
            </a:r>
            <a:r>
              <a:rPr b="1" i="1" lang="ru-RU" sz="1600" spc="-1" strike="noStrike">
                <a:solidFill>
                  <a:srgbClr val="ffffff"/>
                </a:solidFill>
                <a:latin typeface="Arial"/>
              </a:rPr>
              <a:t>Для Австрии Музыка всегда являлась важнейшим из всех искусств.</a:t>
            </a:r>
            <a:r>
              <a:rPr b="0" lang="ru-RU" sz="1600" spc="-1" strike="noStrike">
                <a:solidFill>
                  <a:srgbClr val="ffffff"/>
                </a:solidFill>
                <a:latin typeface="Arial"/>
              </a:rPr>
              <a:t> Уже с XII в. Вена была известна своими трубадурами-миннезингерами и бродячими музыкантами. </a:t>
            </a:r>
            <a:br>
              <a:rPr sz="1600"/>
            </a:br>
            <a:br>
              <a:rPr sz="1600"/>
            </a:br>
            <a:r>
              <a:rPr b="0" lang="ru-RU" sz="1600" spc="-1" strike="noStrike">
                <a:solidFill>
                  <a:srgbClr val="ffffff"/>
                </a:solidFill>
                <a:latin typeface="Arial"/>
              </a:rPr>
              <a:t>На протяжении XVIII-XIX вв. Вена благодаря покровительству рода Габсбургов становится музыкальной столицей Европы. Более того, многие представители императорского рода сами были страстными музыкантами. Самые разнообразные формы классических музыкальных произведений, впервые явились миру слушателей здесь, в придунайских землях. </a:t>
            </a:r>
            <a:br>
              <a:rPr sz="1600"/>
            </a:br>
            <a:br>
              <a:rPr sz="1600"/>
            </a:br>
            <a:r>
              <a:rPr b="0" lang="ru-RU" sz="1600" spc="-1" strike="noStrike">
                <a:solidFill>
                  <a:srgbClr val="ffffff"/>
                </a:solidFill>
                <a:latin typeface="Arial"/>
              </a:rPr>
              <a:t> </a:t>
            </a:r>
            <a:endParaRPr b="0" lang="en-US" sz="1600" spc="-1" strike="noStrike">
              <a:solidFill>
                <a:srgbClr val="ffffff"/>
              </a:solidFill>
              <a:latin typeface="Arial"/>
            </a:endParaRPr>
          </a:p>
        </p:txBody>
      </p:sp>
      <p:sp>
        <p:nvSpPr>
          <p:cNvPr id="545" name="">
            <a:hlinkClick r:id="" action="ppaction://hlinkshowjump?jump=firstslide"/>
          </p:cNvPr>
          <p:cNvSpPr/>
          <p:nvPr/>
        </p:nvSpPr>
        <p:spPr>
          <a:xfrm>
            <a:off x="7524720" y="6093000"/>
            <a:ext cx="792360" cy="765000"/>
          </a:xfrm>
          <a:custGeom>
            <a:avLst/>
            <a:gdLst>
              <a:gd name="textAreaLeft" fmla="*/ 49320 w 792360"/>
              <a:gd name="textAreaRight" fmla="*/ 743040 w 792360"/>
              <a:gd name="textAreaTop" fmla="*/ 49320 h 765000"/>
              <a:gd name="textAreaBottom" fmla="*/ 715680 h 765000"/>
            </a:gdLst>
            <a:ahLst/>
            <a:rect l="textAreaLeft" t="textAreaTop" r="textAreaRight" b="textAreaBottom"/>
            <a:pathLst>
              <a:path w="22372" h="21600">
                <a:moveTo>
                  <a:pt x="0" y="0"/>
                </a:moveTo>
                <a:lnTo>
                  <a:pt x="22372" y="0"/>
                </a:lnTo>
                <a:lnTo>
                  <a:pt x="22372" y="21600"/>
                </a:lnTo>
                <a:lnTo>
                  <a:pt x="0" y="21600"/>
                </a:lnTo>
                <a:close/>
              </a:path>
              <a:path fill="lightenLess" w="22372" h="21600">
                <a:moveTo>
                  <a:pt x="0" y="0"/>
                </a:moveTo>
                <a:lnTo>
                  <a:pt x="22372" y="0"/>
                </a:lnTo>
                <a:lnTo>
                  <a:pt x="20972" y="1400"/>
                </a:lnTo>
                <a:lnTo>
                  <a:pt x="1400" y="1400"/>
                </a:lnTo>
                <a:close/>
              </a:path>
              <a:path fill="darken" w="22372" h="21600">
                <a:moveTo>
                  <a:pt x="22372" y="0"/>
                </a:moveTo>
                <a:lnTo>
                  <a:pt x="22372" y="21600"/>
                </a:lnTo>
                <a:lnTo>
                  <a:pt x="20972" y="20200"/>
                </a:lnTo>
                <a:lnTo>
                  <a:pt x="20972" y="1400"/>
                </a:lnTo>
                <a:close/>
              </a:path>
              <a:path fill="darkenLess" w="22372" h="21600">
                <a:moveTo>
                  <a:pt x="22372" y="21600"/>
                </a:moveTo>
                <a:lnTo>
                  <a:pt x="0" y="21600"/>
                </a:lnTo>
                <a:lnTo>
                  <a:pt x="1400" y="20200"/>
                </a:lnTo>
                <a:lnTo>
                  <a:pt x="20972" y="20200"/>
                </a:lnTo>
                <a:close/>
              </a:path>
              <a:path fill="lighten" w="22372" h="21600">
                <a:moveTo>
                  <a:pt x="0" y="21600"/>
                </a:moveTo>
                <a:lnTo>
                  <a:pt x="0" y="0"/>
                </a:lnTo>
                <a:lnTo>
                  <a:pt x="1400" y="1400"/>
                </a:lnTo>
                <a:lnTo>
                  <a:pt x="1400" y="20200"/>
                </a:lnTo>
                <a:close/>
              </a:path>
              <a:path fill="darken" w="22372" h="21600">
                <a:moveTo>
                  <a:pt x="11186" y="3837"/>
                </a:moveTo>
                <a:lnTo>
                  <a:pt x="13762" y="6448"/>
                </a:lnTo>
                <a:lnTo>
                  <a:pt x="13762" y="4707"/>
                </a:lnTo>
                <a:lnTo>
                  <a:pt x="15538" y="4707"/>
                </a:lnTo>
                <a:lnTo>
                  <a:pt x="15538" y="8224"/>
                </a:lnTo>
                <a:lnTo>
                  <a:pt x="18149" y="10800"/>
                </a:lnTo>
                <a:lnTo>
                  <a:pt x="16495" y="10800"/>
                </a:lnTo>
                <a:lnTo>
                  <a:pt x="16495" y="17989"/>
                </a:lnTo>
                <a:lnTo>
                  <a:pt x="5877" y="17989"/>
                </a:lnTo>
                <a:lnTo>
                  <a:pt x="5877" y="10800"/>
                </a:lnTo>
                <a:lnTo>
                  <a:pt x="4223" y="10800"/>
                </a:lnTo>
                <a:close/>
              </a:path>
              <a:path fill="darkenLess" w="22372" h="21600">
                <a:moveTo>
                  <a:pt x="13762" y="6448"/>
                </a:moveTo>
                <a:lnTo>
                  <a:pt x="13762" y="4707"/>
                </a:lnTo>
                <a:lnTo>
                  <a:pt x="15538" y="4707"/>
                </a:lnTo>
                <a:lnTo>
                  <a:pt x="15538" y="8224"/>
                </a:lnTo>
                <a:close/>
              </a:path>
              <a:path fill="darkenLess" w="22372" h="21600">
                <a:moveTo>
                  <a:pt x="10263" y="14299"/>
                </a:moveTo>
                <a:lnTo>
                  <a:pt x="12109" y="14299"/>
                </a:lnTo>
                <a:lnTo>
                  <a:pt x="12109" y="17989"/>
                </a:lnTo>
                <a:lnTo>
                  <a:pt x="16495" y="17989"/>
                </a:lnTo>
                <a:lnTo>
                  <a:pt x="16495" y="10800"/>
                </a:lnTo>
                <a:lnTo>
                  <a:pt x="5877" y="10800"/>
                </a:lnTo>
                <a:lnTo>
                  <a:pt x="5877" y="17989"/>
                </a:lnTo>
                <a:lnTo>
                  <a:pt x="10263"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2:23:40Z</dcterms:created>
  <dc:creator>aaa</dc:creator>
  <dc:description/>
  <dc:language>en-US</dc:language>
  <cp:lastModifiedBy>aaa</cp:lastModifiedBy>
  <dcterms:modified xsi:type="dcterms:W3CDTF">2006-02-06T14:15:20Z</dcterms:modified>
  <cp:revision>2</cp:revision>
  <dc:subject/>
  <dc:title>История Австрии</dc:title>
</cp:coreProperties>
</file>