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BF18A-80F1-4AC9-90D6-AE77ADED4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4A31C-70EA-4803-8BB8-D99D65CFB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FBA38-D12B-4C37-86FB-34BC86776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C31A6-CDAF-4A51-8255-3891CEDA6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0A59D-3D98-47D3-AA98-E93323E0F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70540-FCAC-4920-82CA-B1E74815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BCACF-91AA-41B4-BFB4-90D8B6100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2C427-F40C-43EB-B87D-E10BEBF55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249F1-01ED-4D85-B0FF-073443B93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AA532-0E63-41D9-9651-BC174F771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960A9-B934-40B3-ADA8-F6356E73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C994C-82E6-41A1-AE94-A6E20F90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E4498-7B67-46E7-8546-175CD191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98EF0-3506-4A39-B440-9EA6230B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4038C-4CCF-4180-9866-BC779B99D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40523-B507-4343-968F-C129AD816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84A42-9DCB-4320-9274-2FB681262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05B25-3763-4221-9989-3C95C873D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5FFD2-CB91-49FC-BF4A-24CE57E9A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457BD-E1CE-40F3-84F4-F98E76FA0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0E198-C9EC-490D-975C-C2F34273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5879E-F825-4C9D-86C3-BFE43887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2B38B-6C52-4A3C-B123-D49D0207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9BA6B-ECDA-41CE-8874-70958BF1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6A376-2B3D-4574-A45E-C49C7BCA84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EDD87-016A-4083-8219-848443D309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14.xml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8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сновы программирования в среде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ISUAL BAS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карова Н.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чурова Е.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колайчук Г.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9640" y="223560"/>
            <a:ext cx="822960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грамма обработки событи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Щелчок на элементе спис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31640" y="1266840"/>
            <a:ext cx="861696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7d"/>
                </a:solidFill>
                <a:latin typeface="Arial"/>
              </a:rPr>
              <a:t>Private Su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List1_Click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1.Visible = Tr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= List1.List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 Case 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se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 = "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доворо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s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 = "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литк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se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= "ед. измерения: 25 фунтов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se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 = "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ервячо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se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 = "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езьяни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вости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se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 = "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точк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se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 = "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обо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о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Sel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1.Caption = 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ture1.Picture = LoadPicture(&lt;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ны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ут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\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айл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ез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№" &amp; CStr(i) &amp;".bmp"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7d"/>
                </a:solidFill>
                <a:latin typeface="Arial"/>
              </a:rPr>
              <a:t>End Su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>
            <a:hlinkClick r:id="rId1" action="ppaction://hlinksldjump"/>
          </p:cNvPr>
          <p:cNvSpPr/>
          <p:nvPr/>
        </p:nvSpPr>
        <p:spPr>
          <a:xfrm>
            <a:off x="8064360" y="5373720"/>
            <a:ext cx="865440" cy="790560"/>
          </a:xfrm>
          <a:custGeom>
            <a:avLst/>
            <a:gdLst>
              <a:gd name="textAreaLeft" fmla="*/ 51120 w 865440"/>
              <a:gd name="textAreaRight" fmla="*/ 814320 w 865440"/>
              <a:gd name="textAreaTop" fmla="*/ 51120 h 790560"/>
              <a:gd name="textAreaBottom" fmla="*/ 739440 h 790560"/>
            </a:gdLst>
            <a:ahLst/>
            <a:rect l="textAreaLeft" t="textAreaTop" r="textAreaRight" b="textAreaBottom"/>
            <a:pathLst>
              <a:path w="23645" h="21600">
                <a:moveTo>
                  <a:pt x="0" y="0"/>
                </a:moveTo>
                <a:lnTo>
                  <a:pt x="23645" y="0"/>
                </a:lnTo>
                <a:lnTo>
                  <a:pt x="23645" y="21600"/>
                </a:lnTo>
                <a:lnTo>
                  <a:pt x="0" y="21600"/>
                </a:lnTo>
                <a:close/>
              </a:path>
              <a:path fill="lightenLess" w="23645" h="21600">
                <a:moveTo>
                  <a:pt x="0" y="0"/>
                </a:moveTo>
                <a:lnTo>
                  <a:pt x="23645" y="0"/>
                </a:lnTo>
                <a:lnTo>
                  <a:pt x="22245" y="1400"/>
                </a:lnTo>
                <a:lnTo>
                  <a:pt x="1400" y="1400"/>
                </a:lnTo>
                <a:close/>
              </a:path>
              <a:path fill="darken" w="23645" h="21600">
                <a:moveTo>
                  <a:pt x="23645" y="0"/>
                </a:moveTo>
                <a:lnTo>
                  <a:pt x="23645" y="21600"/>
                </a:lnTo>
                <a:lnTo>
                  <a:pt x="22245" y="20200"/>
                </a:lnTo>
                <a:lnTo>
                  <a:pt x="22245" y="1400"/>
                </a:lnTo>
                <a:close/>
              </a:path>
              <a:path fill="darkenLess" w="23645" h="21600">
                <a:moveTo>
                  <a:pt x="236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45" y="20200"/>
                </a:lnTo>
                <a:close/>
              </a:path>
              <a:path fill="lighten" w="236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45" h="21600">
                <a:moveTo>
                  <a:pt x="4816" y="7493"/>
                </a:moveTo>
                <a:lnTo>
                  <a:pt x="8324" y="7493"/>
                </a:lnTo>
                <a:lnTo>
                  <a:pt x="8324" y="12828"/>
                </a:lnTo>
                <a:cubicBezTo>
                  <a:pt x="8324" y="13751"/>
                  <a:pt x="9124" y="14482"/>
                  <a:pt x="10160" y="14482"/>
                </a:cubicBezTo>
                <a:lnTo>
                  <a:pt x="11822" y="14482"/>
                </a:lnTo>
                <a:cubicBezTo>
                  <a:pt x="12858" y="14482"/>
                  <a:pt x="13659" y="13751"/>
                  <a:pt x="13659" y="12828"/>
                </a:cubicBezTo>
                <a:lnTo>
                  <a:pt x="13659" y="7493"/>
                </a:lnTo>
                <a:lnTo>
                  <a:pt x="11822" y="7493"/>
                </a:lnTo>
                <a:lnTo>
                  <a:pt x="15330" y="3985"/>
                </a:lnTo>
                <a:lnTo>
                  <a:pt x="19003" y="7493"/>
                </a:lnTo>
                <a:lnTo>
                  <a:pt x="17167" y="7493"/>
                </a:lnTo>
                <a:lnTo>
                  <a:pt x="17167" y="12828"/>
                </a:lnTo>
                <a:cubicBezTo>
                  <a:pt x="17167" y="15596"/>
                  <a:pt x="14590" y="18155"/>
                  <a:pt x="11822" y="18155"/>
                </a:cubicBezTo>
                <a:lnTo>
                  <a:pt x="10160" y="18155"/>
                </a:lnTo>
                <a:cubicBezTo>
                  <a:pt x="7392" y="18155"/>
                  <a:pt x="4816" y="15596"/>
                  <a:pt x="4816" y="12828"/>
                </a:cubicBez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грамма обработки событи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Щелчок на кнопк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26920" y="1881360"/>
            <a:ext cx="730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ivate Su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mand1_Click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End Su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>
            <a:hlinkClick r:id="rId1" action="ppaction://hlinksldjump"/>
          </p:cNvPr>
          <p:cNvSpPr/>
          <p:nvPr/>
        </p:nvSpPr>
        <p:spPr>
          <a:xfrm>
            <a:off x="7956720" y="5589720"/>
            <a:ext cx="865080" cy="790560"/>
          </a:xfrm>
          <a:custGeom>
            <a:avLst/>
            <a:gdLst>
              <a:gd name="textAreaLeft" fmla="*/ 51120 w 865080"/>
              <a:gd name="textAreaRight" fmla="*/ 813960 w 865080"/>
              <a:gd name="textAreaTop" fmla="*/ 51120 h 790560"/>
              <a:gd name="textAreaBottom" fmla="*/ 739440 h 790560"/>
            </a:gdLst>
            <a:ahLst/>
            <a:rect l="textAreaLeft" t="textAreaTop" r="textAreaRight" b="textAreaBottom"/>
            <a:pathLst>
              <a:path w="23635" h="21600">
                <a:moveTo>
                  <a:pt x="0" y="0"/>
                </a:moveTo>
                <a:lnTo>
                  <a:pt x="23635" y="0"/>
                </a:lnTo>
                <a:lnTo>
                  <a:pt x="23635" y="21600"/>
                </a:lnTo>
                <a:lnTo>
                  <a:pt x="0" y="21600"/>
                </a:lnTo>
                <a:close/>
              </a:path>
              <a:path fill="lightenLess" w="23635" h="21600">
                <a:moveTo>
                  <a:pt x="0" y="0"/>
                </a:moveTo>
                <a:lnTo>
                  <a:pt x="23635" y="0"/>
                </a:lnTo>
                <a:lnTo>
                  <a:pt x="22235" y="1400"/>
                </a:lnTo>
                <a:lnTo>
                  <a:pt x="1400" y="1400"/>
                </a:lnTo>
                <a:close/>
              </a:path>
              <a:path fill="darken" w="23635" h="21600">
                <a:moveTo>
                  <a:pt x="23635" y="0"/>
                </a:moveTo>
                <a:lnTo>
                  <a:pt x="23635" y="21600"/>
                </a:lnTo>
                <a:lnTo>
                  <a:pt x="22235" y="20200"/>
                </a:lnTo>
                <a:lnTo>
                  <a:pt x="22235" y="1400"/>
                </a:lnTo>
                <a:close/>
              </a:path>
              <a:path fill="darkenLess" w="23635" h="21600">
                <a:moveTo>
                  <a:pt x="23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35" y="20200"/>
                </a:lnTo>
                <a:close/>
              </a:path>
              <a:path fill="lighten" w="23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35" h="21600">
                <a:moveTo>
                  <a:pt x="4811" y="7493"/>
                </a:moveTo>
                <a:lnTo>
                  <a:pt x="8319" y="7493"/>
                </a:lnTo>
                <a:lnTo>
                  <a:pt x="8319" y="12828"/>
                </a:lnTo>
                <a:cubicBezTo>
                  <a:pt x="8319" y="13751"/>
                  <a:pt x="9119" y="14482"/>
                  <a:pt x="10155" y="14482"/>
                </a:cubicBezTo>
                <a:lnTo>
                  <a:pt x="11818" y="14482"/>
                </a:lnTo>
                <a:cubicBezTo>
                  <a:pt x="12853" y="14482"/>
                  <a:pt x="13654" y="13751"/>
                  <a:pt x="13654" y="12828"/>
                </a:cubicBezTo>
                <a:lnTo>
                  <a:pt x="13654" y="7493"/>
                </a:lnTo>
                <a:lnTo>
                  <a:pt x="11818" y="7493"/>
                </a:lnTo>
                <a:lnTo>
                  <a:pt x="15325" y="3985"/>
                </a:lnTo>
                <a:lnTo>
                  <a:pt x="18998" y="7493"/>
                </a:lnTo>
                <a:lnTo>
                  <a:pt x="17162" y="7493"/>
                </a:lnTo>
                <a:lnTo>
                  <a:pt x="17162" y="12828"/>
                </a:lnTo>
                <a:cubicBezTo>
                  <a:pt x="17162" y="15596"/>
                  <a:pt x="14585" y="18155"/>
                  <a:pt x="11818" y="18155"/>
                </a:cubicBezTo>
                <a:lnTo>
                  <a:pt x="10155" y="18155"/>
                </a:lnTo>
                <a:cubicBezTo>
                  <a:pt x="7387" y="18155"/>
                  <a:pt x="4811" y="15596"/>
                  <a:pt x="4811" y="12828"/>
                </a:cubicBez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31640" y="151920"/>
            <a:ext cx="82296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ддержка темы «Алгоритмизац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3661" t="4407" r="66082" b="57063"/>
          <a:stretch/>
        </p:blipFill>
        <p:spPr>
          <a:xfrm>
            <a:off x="1042920" y="4633920"/>
            <a:ext cx="2075040" cy="22240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42920" y="873000"/>
            <a:ext cx="838980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теме «Алгоритмизация» главное препятствие, которое предстоит пройти учителю – типовые задачи, иллюстрирующие основные алгоритмические конструкции. Эти задачи (нахождение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сортировка массива, НОД и т.д.) уже «набили оскомину» у учащихся. Очень трудно мотивировать, зачем это нужно, если нет реальной прикладной задач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ПРИМЕРЫ РЕШЕНИЯ ПРОБЛЕ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2920" y="2276640"/>
            <a:ext cx="4500360" cy="19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ЗАДАЧА 1. Итоги телео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Описание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:</a:t>
            </a:r>
            <a:r>
              <a:rPr b="1" lang="ru-RU" sz="1800" spc="-1" strike="noStrike">
                <a:solidFill>
                  <a:srgbClr val="9999cc"/>
                </a:solidFill>
                <a:latin typeface="Arial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Многие телезрители участвовали в голосованиях при интерактивных телевизионных опросах. Звонки зрителей принимаются по многоканальным телефонам, и на экране видно, как они накапливаются порциями, через равные промежутки времени. По истечении установленного времени опрос завершается и подводятся итоги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25800" y="4214880"/>
            <a:ext cx="30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Графический интерфей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932360" y="3559320"/>
            <a:ext cx="4068720" cy="29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Arial"/>
              </a:rPr>
              <a:t>Множественный выб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 Case 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se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sgBox "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бедил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", , "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йтинг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se 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sgBox "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бедил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асны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", , "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йтинг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se 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sgBox "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бедил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елты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", , "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йтинг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Sel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21640" y="2770200"/>
            <a:ext cx="3251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Нахождение максимума из 3-х чисе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b &gt; r Then Max = b Else Max = 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y &gt; Max Then Max =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32360" y="2139840"/>
            <a:ext cx="33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Фрагменты программы подведения итог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32360" y="3573360"/>
            <a:ext cx="4068720" cy="29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Множественный выб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 Case 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se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sgBox "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бедил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", , "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йтинг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se 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sgBox "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бедил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асны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", , "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йтинг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se 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sgBox "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бедил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елты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", , "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йтинг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Sel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25160" y="2784600"/>
            <a:ext cx="3445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Нахождение максимума из 3-х чисе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b &gt; r Then Max = b Else Max = 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y &gt; Max Then Max =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79280" y="441360"/>
            <a:ext cx="435636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ЗАДАЧА 2. Иностранцы о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Описа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некоторой «заморской» стране провели опрос: «С чем у Вас ассоциируется Россия». В качестве символов России был предложен следующий список: матрешка, медведь, лапти, нефть, серп и молот, береза, икра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ребуется смоделировать подобный опрос и разместить его результаты по убыванию. Вывести три самых популярных ответа. Построить график результатов опрос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74840" y="3573360"/>
            <a:ext cx="30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Графический интерфей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311720" y="2565360"/>
            <a:ext cx="497376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Сортировка выбор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 = rez.List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i = 0 To n -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ma =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j = i + 1 To n -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1 = Val(rez.List(nma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2 = Val(rez.List(j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r1 &lt; r2 Then nma = 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xt 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= rez.List(nm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z.List(nma) = rez.List(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z.List(i) = 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мостоятельно переставить названия символов Рос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xt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256360" y="1197000"/>
            <a:ext cx="33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Фрагмент программы подведения итогов опрос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58920" y="4076640"/>
            <a:ext cx="3419280" cy="25542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7740720" y="6308640"/>
            <a:ext cx="1260360" cy="29700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Оглавл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970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дведение итогов голосования</a:t>
            </a:r>
            <a:br>
              <a:rPr sz="36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алгоритм нахождения максимум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 3-х чисе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87280" y="2276640"/>
            <a:ext cx="4284360" cy="4284360"/>
            <a:chOff x="287280" y="2276640"/>
            <a:chExt cx="4284360" cy="4284360"/>
          </a:xfrm>
        </p:grpSpPr>
        <p:sp>
          <p:nvSpPr>
            <p:cNvPr id="225" name=""/>
            <p:cNvSpPr/>
            <p:nvPr/>
          </p:nvSpPr>
          <p:spPr>
            <a:xfrm>
              <a:off x="1678320" y="2276640"/>
              <a:ext cx="1445760" cy="430560"/>
            </a:xfrm>
            <a:custGeom>
              <a:avLst/>
              <a:gdLst/>
              <a:ahLst/>
              <a:rect l="l" t="t" r="r" b="b"/>
              <a:pathLst>
                <a:path w="1482" h="502">
                  <a:moveTo>
                    <a:pt x="63" y="0"/>
                  </a:moveTo>
                  <a:lnTo>
                    <a:pt x="58" y="0"/>
                  </a:lnTo>
                  <a:lnTo>
                    <a:pt x="51" y="2"/>
                  </a:lnTo>
                  <a:lnTo>
                    <a:pt x="39" y="4"/>
                  </a:lnTo>
                  <a:lnTo>
                    <a:pt x="29" y="12"/>
                  </a:lnTo>
                  <a:lnTo>
                    <a:pt x="19" y="19"/>
                  </a:lnTo>
                  <a:lnTo>
                    <a:pt x="12" y="28"/>
                  </a:lnTo>
                  <a:lnTo>
                    <a:pt x="5" y="38"/>
                  </a:lnTo>
                  <a:lnTo>
                    <a:pt x="3" y="50"/>
                  </a:lnTo>
                  <a:lnTo>
                    <a:pt x="0" y="57"/>
                  </a:lnTo>
                  <a:lnTo>
                    <a:pt x="0" y="64"/>
                  </a:lnTo>
                  <a:lnTo>
                    <a:pt x="0" y="440"/>
                  </a:lnTo>
                  <a:lnTo>
                    <a:pt x="0" y="447"/>
                  </a:lnTo>
                  <a:lnTo>
                    <a:pt x="3" y="452"/>
                  </a:lnTo>
                  <a:lnTo>
                    <a:pt x="5" y="464"/>
                  </a:lnTo>
                  <a:lnTo>
                    <a:pt x="12" y="476"/>
                  </a:lnTo>
                  <a:lnTo>
                    <a:pt x="19" y="485"/>
                  </a:lnTo>
                  <a:lnTo>
                    <a:pt x="29" y="492"/>
                  </a:lnTo>
                  <a:lnTo>
                    <a:pt x="39" y="497"/>
                  </a:lnTo>
                  <a:lnTo>
                    <a:pt x="51" y="502"/>
                  </a:lnTo>
                  <a:lnTo>
                    <a:pt x="58" y="502"/>
                  </a:lnTo>
                  <a:lnTo>
                    <a:pt x="63" y="502"/>
                  </a:lnTo>
                  <a:lnTo>
                    <a:pt x="1419" y="502"/>
                  </a:lnTo>
                  <a:lnTo>
                    <a:pt x="1427" y="502"/>
                  </a:lnTo>
                  <a:lnTo>
                    <a:pt x="1431" y="502"/>
                  </a:lnTo>
                  <a:lnTo>
                    <a:pt x="1443" y="497"/>
                  </a:lnTo>
                  <a:lnTo>
                    <a:pt x="1455" y="492"/>
                  </a:lnTo>
                  <a:lnTo>
                    <a:pt x="1465" y="485"/>
                  </a:lnTo>
                  <a:lnTo>
                    <a:pt x="1472" y="476"/>
                  </a:lnTo>
                  <a:lnTo>
                    <a:pt x="1477" y="464"/>
                  </a:lnTo>
                  <a:lnTo>
                    <a:pt x="1482" y="452"/>
                  </a:lnTo>
                  <a:lnTo>
                    <a:pt x="1482" y="447"/>
                  </a:lnTo>
                  <a:lnTo>
                    <a:pt x="1482" y="440"/>
                  </a:lnTo>
                  <a:lnTo>
                    <a:pt x="1482" y="64"/>
                  </a:lnTo>
                  <a:lnTo>
                    <a:pt x="1482" y="57"/>
                  </a:lnTo>
                  <a:lnTo>
                    <a:pt x="1482" y="50"/>
                  </a:lnTo>
                  <a:lnTo>
                    <a:pt x="1477" y="38"/>
                  </a:lnTo>
                  <a:lnTo>
                    <a:pt x="1472" y="28"/>
                  </a:lnTo>
                  <a:lnTo>
                    <a:pt x="1465" y="19"/>
                  </a:lnTo>
                  <a:lnTo>
                    <a:pt x="1455" y="12"/>
                  </a:lnTo>
                  <a:lnTo>
                    <a:pt x="1443" y="4"/>
                  </a:lnTo>
                  <a:lnTo>
                    <a:pt x="1431" y="2"/>
                  </a:lnTo>
                  <a:lnTo>
                    <a:pt x="1427" y="0"/>
                  </a:lnTo>
                  <a:lnTo>
                    <a:pt x="1419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678320" y="2276640"/>
              <a:ext cx="1445760" cy="430560"/>
            </a:xfrm>
            <a:custGeom>
              <a:avLst/>
              <a:gdLst/>
              <a:ahLst/>
              <a:rect l="l" t="t" r="r" b="b"/>
              <a:pathLst>
                <a:path w="1482" h="502">
                  <a:moveTo>
                    <a:pt x="63" y="0"/>
                  </a:moveTo>
                  <a:lnTo>
                    <a:pt x="58" y="0"/>
                  </a:lnTo>
                  <a:lnTo>
                    <a:pt x="51" y="2"/>
                  </a:lnTo>
                  <a:lnTo>
                    <a:pt x="39" y="4"/>
                  </a:lnTo>
                  <a:lnTo>
                    <a:pt x="29" y="12"/>
                  </a:lnTo>
                  <a:lnTo>
                    <a:pt x="19" y="19"/>
                  </a:lnTo>
                  <a:lnTo>
                    <a:pt x="12" y="28"/>
                  </a:lnTo>
                  <a:lnTo>
                    <a:pt x="5" y="38"/>
                  </a:lnTo>
                  <a:lnTo>
                    <a:pt x="3" y="50"/>
                  </a:lnTo>
                  <a:lnTo>
                    <a:pt x="0" y="57"/>
                  </a:lnTo>
                  <a:lnTo>
                    <a:pt x="0" y="64"/>
                  </a:lnTo>
                  <a:lnTo>
                    <a:pt x="0" y="440"/>
                  </a:lnTo>
                  <a:lnTo>
                    <a:pt x="0" y="447"/>
                  </a:lnTo>
                  <a:lnTo>
                    <a:pt x="3" y="452"/>
                  </a:lnTo>
                  <a:lnTo>
                    <a:pt x="5" y="464"/>
                  </a:lnTo>
                  <a:lnTo>
                    <a:pt x="12" y="476"/>
                  </a:lnTo>
                  <a:lnTo>
                    <a:pt x="19" y="485"/>
                  </a:lnTo>
                  <a:lnTo>
                    <a:pt x="29" y="492"/>
                  </a:lnTo>
                  <a:lnTo>
                    <a:pt x="39" y="497"/>
                  </a:lnTo>
                  <a:lnTo>
                    <a:pt x="51" y="502"/>
                  </a:lnTo>
                  <a:lnTo>
                    <a:pt x="58" y="502"/>
                  </a:lnTo>
                  <a:lnTo>
                    <a:pt x="63" y="502"/>
                  </a:lnTo>
                  <a:lnTo>
                    <a:pt x="1419" y="502"/>
                  </a:lnTo>
                  <a:lnTo>
                    <a:pt x="1427" y="502"/>
                  </a:lnTo>
                  <a:lnTo>
                    <a:pt x="1431" y="502"/>
                  </a:lnTo>
                  <a:lnTo>
                    <a:pt x="1443" y="497"/>
                  </a:lnTo>
                  <a:lnTo>
                    <a:pt x="1455" y="492"/>
                  </a:lnTo>
                  <a:lnTo>
                    <a:pt x="1465" y="485"/>
                  </a:lnTo>
                  <a:lnTo>
                    <a:pt x="1472" y="476"/>
                  </a:lnTo>
                  <a:lnTo>
                    <a:pt x="1477" y="464"/>
                  </a:lnTo>
                  <a:lnTo>
                    <a:pt x="1482" y="452"/>
                  </a:lnTo>
                  <a:lnTo>
                    <a:pt x="1482" y="447"/>
                  </a:lnTo>
                  <a:lnTo>
                    <a:pt x="1482" y="440"/>
                  </a:lnTo>
                  <a:lnTo>
                    <a:pt x="1482" y="64"/>
                  </a:lnTo>
                  <a:lnTo>
                    <a:pt x="1482" y="57"/>
                  </a:lnTo>
                  <a:lnTo>
                    <a:pt x="1482" y="50"/>
                  </a:lnTo>
                  <a:lnTo>
                    <a:pt x="1477" y="38"/>
                  </a:lnTo>
                  <a:lnTo>
                    <a:pt x="1472" y="28"/>
                  </a:lnTo>
                  <a:lnTo>
                    <a:pt x="1465" y="19"/>
                  </a:lnTo>
                  <a:lnTo>
                    <a:pt x="1455" y="12"/>
                  </a:lnTo>
                  <a:lnTo>
                    <a:pt x="1443" y="4"/>
                  </a:lnTo>
                  <a:lnTo>
                    <a:pt x="1431" y="2"/>
                  </a:lnTo>
                  <a:lnTo>
                    <a:pt x="1427" y="0"/>
                  </a:lnTo>
                  <a:lnTo>
                    <a:pt x="1419" y="0"/>
                  </a:lnTo>
                  <a:lnTo>
                    <a:pt x="63" y="0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037960" y="2362320"/>
              <a:ext cx="53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Начал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766600" y="23623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351440" y="3043080"/>
              <a:ext cx="2099160" cy="621720"/>
            </a:xfrm>
            <a:custGeom>
              <a:avLst/>
              <a:gdLst/>
              <a:ahLst/>
              <a:rect l="l" t="t" r="r" b="b"/>
              <a:pathLst>
                <a:path w="2152" h="725">
                  <a:moveTo>
                    <a:pt x="1076" y="0"/>
                  </a:moveTo>
                  <a:lnTo>
                    <a:pt x="0" y="361"/>
                  </a:lnTo>
                  <a:lnTo>
                    <a:pt x="1076" y="725"/>
                  </a:lnTo>
                  <a:lnTo>
                    <a:pt x="2152" y="361"/>
                  </a:lnTo>
                  <a:lnTo>
                    <a:pt x="107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351440" y="3043080"/>
              <a:ext cx="2099160" cy="621720"/>
            </a:xfrm>
            <a:custGeom>
              <a:avLst/>
              <a:gdLst/>
              <a:ahLst/>
              <a:rect l="l" t="t" r="r" b="b"/>
              <a:pathLst>
                <a:path w="2152" h="725">
                  <a:moveTo>
                    <a:pt x="1076" y="0"/>
                  </a:moveTo>
                  <a:lnTo>
                    <a:pt x="0" y="361"/>
                  </a:lnTo>
                  <a:lnTo>
                    <a:pt x="1076" y="725"/>
                  </a:lnTo>
                  <a:lnTo>
                    <a:pt x="2152" y="361"/>
                  </a:lnTo>
                  <a:lnTo>
                    <a:pt x="1076" y="0"/>
                  </a:lnTo>
                  <a:close/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170080" y="3240360"/>
              <a:ext cx="25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&gt;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521080" y="3240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630160" y="3240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995040" y="3352680"/>
              <a:ext cx="383400" cy="72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3425400" y="3352680"/>
              <a:ext cx="381240" cy="72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995400" y="3352680"/>
              <a:ext cx="1080" cy="28728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07000" y="3352680"/>
              <a:ext cx="720" cy="28728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87280" y="3617640"/>
              <a:ext cx="139104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87280" y="3617640"/>
              <a:ext cx="1391040" cy="381240"/>
            </a:xfrm>
            <a:prstGeom prst="rect">
              <a:avLst/>
            </a:prstGeom>
            <a:noFill/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62760" y="3690720"/>
              <a:ext cx="505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x:=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01400" y="3690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070440" y="3592800"/>
              <a:ext cx="1391040" cy="38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070440" y="3592800"/>
              <a:ext cx="1391040" cy="383040"/>
            </a:xfrm>
            <a:prstGeom prst="rect">
              <a:avLst/>
            </a:prstGeom>
            <a:noFill/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53120" y="3668400"/>
              <a:ext cx="505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x:=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079520" y="3668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936720" y="3990600"/>
              <a:ext cx="117000" cy="344520"/>
            </a:xfrm>
            <a:custGeom>
              <a:avLst/>
              <a:gdLst/>
              <a:ahLst/>
              <a:rect l="l" t="t" r="r" b="b"/>
              <a:pathLst>
                <a:path w="120" h="402">
                  <a:moveTo>
                    <a:pt x="70" y="10"/>
                  </a:moveTo>
                  <a:lnTo>
                    <a:pt x="70" y="301"/>
                  </a:lnTo>
                  <a:lnTo>
                    <a:pt x="70" y="306"/>
                  </a:lnTo>
                  <a:lnTo>
                    <a:pt x="67" y="309"/>
                  </a:lnTo>
                  <a:lnTo>
                    <a:pt x="65" y="311"/>
                  </a:lnTo>
                  <a:lnTo>
                    <a:pt x="60" y="311"/>
                  </a:lnTo>
                  <a:lnTo>
                    <a:pt x="58" y="311"/>
                  </a:lnTo>
                  <a:lnTo>
                    <a:pt x="53" y="309"/>
                  </a:lnTo>
                  <a:lnTo>
                    <a:pt x="51" y="306"/>
                  </a:lnTo>
                  <a:lnTo>
                    <a:pt x="51" y="301"/>
                  </a:lnTo>
                  <a:lnTo>
                    <a:pt x="51" y="10"/>
                  </a:lnTo>
                  <a:lnTo>
                    <a:pt x="51" y="7"/>
                  </a:lnTo>
                  <a:lnTo>
                    <a:pt x="53" y="2"/>
                  </a:lnTo>
                  <a:lnTo>
                    <a:pt x="58" y="0"/>
                  </a:lnTo>
                  <a:lnTo>
                    <a:pt x="60" y="0"/>
                  </a:lnTo>
                  <a:lnTo>
                    <a:pt x="65" y="0"/>
                  </a:lnTo>
                  <a:lnTo>
                    <a:pt x="67" y="2"/>
                  </a:lnTo>
                  <a:lnTo>
                    <a:pt x="70" y="7"/>
                  </a:lnTo>
                  <a:lnTo>
                    <a:pt x="70" y="10"/>
                  </a:lnTo>
                  <a:lnTo>
                    <a:pt x="70" y="10"/>
                  </a:lnTo>
                  <a:close/>
                  <a:moveTo>
                    <a:pt x="120" y="282"/>
                  </a:moveTo>
                  <a:lnTo>
                    <a:pt x="60" y="402"/>
                  </a:lnTo>
                  <a:lnTo>
                    <a:pt x="0" y="282"/>
                  </a:lnTo>
                  <a:lnTo>
                    <a:pt x="120" y="28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776760" y="3990600"/>
              <a:ext cx="115920" cy="344520"/>
            </a:xfrm>
            <a:custGeom>
              <a:avLst/>
              <a:gdLst/>
              <a:ahLst/>
              <a:rect l="l" t="t" r="r" b="b"/>
              <a:pathLst>
                <a:path w="119" h="402">
                  <a:moveTo>
                    <a:pt x="69" y="10"/>
                  </a:moveTo>
                  <a:lnTo>
                    <a:pt x="69" y="301"/>
                  </a:lnTo>
                  <a:lnTo>
                    <a:pt x="67" y="306"/>
                  </a:lnTo>
                  <a:lnTo>
                    <a:pt x="67" y="309"/>
                  </a:lnTo>
                  <a:lnTo>
                    <a:pt x="62" y="311"/>
                  </a:lnTo>
                  <a:lnTo>
                    <a:pt x="60" y="311"/>
                  </a:lnTo>
                  <a:lnTo>
                    <a:pt x="55" y="311"/>
                  </a:lnTo>
                  <a:lnTo>
                    <a:pt x="52" y="309"/>
                  </a:lnTo>
                  <a:lnTo>
                    <a:pt x="50" y="306"/>
                  </a:lnTo>
                  <a:lnTo>
                    <a:pt x="50" y="301"/>
                  </a:lnTo>
                  <a:lnTo>
                    <a:pt x="50" y="10"/>
                  </a:lnTo>
                  <a:lnTo>
                    <a:pt x="50" y="7"/>
                  </a:lnTo>
                  <a:lnTo>
                    <a:pt x="52" y="2"/>
                  </a:lnTo>
                  <a:lnTo>
                    <a:pt x="55" y="0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7" y="2"/>
                  </a:lnTo>
                  <a:lnTo>
                    <a:pt x="67" y="7"/>
                  </a:lnTo>
                  <a:lnTo>
                    <a:pt x="69" y="10"/>
                  </a:lnTo>
                  <a:lnTo>
                    <a:pt x="69" y="10"/>
                  </a:lnTo>
                  <a:close/>
                  <a:moveTo>
                    <a:pt x="119" y="282"/>
                  </a:moveTo>
                  <a:lnTo>
                    <a:pt x="60" y="402"/>
                  </a:lnTo>
                  <a:lnTo>
                    <a:pt x="0" y="282"/>
                  </a:lnTo>
                  <a:lnTo>
                    <a:pt x="119" y="28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970200" y="4310640"/>
              <a:ext cx="2836800" cy="72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460880" y="4573080"/>
              <a:ext cx="2100240" cy="623160"/>
            </a:xfrm>
            <a:custGeom>
              <a:avLst/>
              <a:gdLst/>
              <a:ahLst/>
              <a:rect l="l" t="t" r="r" b="b"/>
              <a:pathLst>
                <a:path w="2153" h="727">
                  <a:moveTo>
                    <a:pt x="1077" y="0"/>
                  </a:moveTo>
                  <a:lnTo>
                    <a:pt x="0" y="364"/>
                  </a:lnTo>
                  <a:lnTo>
                    <a:pt x="1077" y="727"/>
                  </a:lnTo>
                  <a:lnTo>
                    <a:pt x="2153" y="364"/>
                  </a:lnTo>
                  <a:lnTo>
                    <a:pt x="107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460880" y="4573080"/>
              <a:ext cx="2100240" cy="623160"/>
            </a:xfrm>
            <a:custGeom>
              <a:avLst/>
              <a:gdLst/>
              <a:ahLst/>
              <a:rect l="l" t="t" r="r" b="b"/>
              <a:pathLst>
                <a:path w="2153" h="727">
                  <a:moveTo>
                    <a:pt x="1077" y="0"/>
                  </a:moveTo>
                  <a:lnTo>
                    <a:pt x="0" y="364"/>
                  </a:lnTo>
                  <a:lnTo>
                    <a:pt x="1077" y="727"/>
                  </a:lnTo>
                  <a:lnTo>
                    <a:pt x="2153" y="364"/>
                  </a:lnTo>
                  <a:lnTo>
                    <a:pt x="1077" y="0"/>
                  </a:lnTo>
                  <a:close/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142360" y="4770360"/>
              <a:ext cx="453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&gt;Ma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765880" y="4770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877840" y="4770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3532680" y="4885200"/>
              <a:ext cx="383400" cy="72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179880" y="5125320"/>
              <a:ext cx="1391760" cy="38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179880" y="5125320"/>
              <a:ext cx="1391760" cy="380520"/>
            </a:xfrm>
            <a:prstGeom prst="rect">
              <a:avLst/>
            </a:prstGeom>
            <a:noFill/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561840" y="5199120"/>
              <a:ext cx="496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x:=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186080" y="519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884040" y="5523120"/>
              <a:ext cx="117000" cy="342000"/>
            </a:xfrm>
            <a:custGeom>
              <a:avLst/>
              <a:gdLst/>
              <a:ahLst/>
              <a:rect l="l" t="t" r="r" b="b"/>
              <a:pathLst>
                <a:path w="120" h="399">
                  <a:moveTo>
                    <a:pt x="72" y="9"/>
                  </a:moveTo>
                  <a:lnTo>
                    <a:pt x="72" y="301"/>
                  </a:lnTo>
                  <a:lnTo>
                    <a:pt x="69" y="303"/>
                  </a:lnTo>
                  <a:lnTo>
                    <a:pt x="67" y="308"/>
                  </a:lnTo>
                  <a:lnTo>
                    <a:pt x="65" y="308"/>
                  </a:lnTo>
                  <a:lnTo>
                    <a:pt x="60" y="310"/>
                  </a:lnTo>
                  <a:lnTo>
                    <a:pt x="57" y="308"/>
                  </a:lnTo>
                  <a:lnTo>
                    <a:pt x="53" y="308"/>
                  </a:lnTo>
                  <a:lnTo>
                    <a:pt x="50" y="303"/>
                  </a:lnTo>
                  <a:lnTo>
                    <a:pt x="50" y="301"/>
                  </a:lnTo>
                  <a:lnTo>
                    <a:pt x="50" y="9"/>
                  </a:lnTo>
                  <a:lnTo>
                    <a:pt x="50" y="4"/>
                  </a:lnTo>
                  <a:lnTo>
                    <a:pt x="53" y="2"/>
                  </a:lnTo>
                  <a:lnTo>
                    <a:pt x="57" y="0"/>
                  </a:lnTo>
                  <a:lnTo>
                    <a:pt x="60" y="0"/>
                  </a:lnTo>
                  <a:lnTo>
                    <a:pt x="65" y="0"/>
                  </a:lnTo>
                  <a:lnTo>
                    <a:pt x="67" y="2"/>
                  </a:lnTo>
                  <a:lnTo>
                    <a:pt x="69" y="4"/>
                  </a:lnTo>
                  <a:lnTo>
                    <a:pt x="72" y="9"/>
                  </a:lnTo>
                  <a:lnTo>
                    <a:pt x="72" y="9"/>
                  </a:lnTo>
                  <a:close/>
                  <a:moveTo>
                    <a:pt x="120" y="279"/>
                  </a:moveTo>
                  <a:lnTo>
                    <a:pt x="60" y="399"/>
                  </a:lnTo>
                  <a:lnTo>
                    <a:pt x="0" y="279"/>
                  </a:lnTo>
                  <a:lnTo>
                    <a:pt x="120" y="279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496960" y="5843160"/>
              <a:ext cx="1419480" cy="72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356560" y="2698560"/>
              <a:ext cx="117000" cy="366840"/>
            </a:xfrm>
            <a:custGeom>
              <a:avLst/>
              <a:gdLst/>
              <a:ahLst/>
              <a:rect l="l" t="t" r="r" b="b"/>
              <a:pathLst>
                <a:path w="120" h="428">
                  <a:moveTo>
                    <a:pt x="70" y="10"/>
                  </a:moveTo>
                  <a:lnTo>
                    <a:pt x="70" y="330"/>
                  </a:lnTo>
                  <a:lnTo>
                    <a:pt x="70" y="333"/>
                  </a:lnTo>
                  <a:lnTo>
                    <a:pt x="68" y="337"/>
                  </a:lnTo>
                  <a:lnTo>
                    <a:pt x="65" y="337"/>
                  </a:lnTo>
                  <a:lnTo>
                    <a:pt x="60" y="340"/>
                  </a:lnTo>
                  <a:lnTo>
                    <a:pt x="56" y="337"/>
                  </a:lnTo>
                  <a:lnTo>
                    <a:pt x="53" y="337"/>
                  </a:lnTo>
                  <a:lnTo>
                    <a:pt x="51" y="333"/>
                  </a:lnTo>
                  <a:lnTo>
                    <a:pt x="51" y="330"/>
                  </a:lnTo>
                  <a:lnTo>
                    <a:pt x="51" y="10"/>
                  </a:lnTo>
                  <a:lnTo>
                    <a:pt x="51" y="7"/>
                  </a:lnTo>
                  <a:lnTo>
                    <a:pt x="53" y="3"/>
                  </a:lnTo>
                  <a:lnTo>
                    <a:pt x="56" y="0"/>
                  </a:lnTo>
                  <a:lnTo>
                    <a:pt x="60" y="0"/>
                  </a:lnTo>
                  <a:lnTo>
                    <a:pt x="65" y="0"/>
                  </a:lnTo>
                  <a:lnTo>
                    <a:pt x="68" y="3"/>
                  </a:lnTo>
                  <a:lnTo>
                    <a:pt x="70" y="7"/>
                  </a:lnTo>
                  <a:lnTo>
                    <a:pt x="70" y="10"/>
                  </a:lnTo>
                  <a:lnTo>
                    <a:pt x="70" y="10"/>
                  </a:lnTo>
                  <a:close/>
                  <a:moveTo>
                    <a:pt x="120" y="309"/>
                  </a:moveTo>
                  <a:lnTo>
                    <a:pt x="60" y="428"/>
                  </a:lnTo>
                  <a:lnTo>
                    <a:pt x="0" y="309"/>
                  </a:lnTo>
                  <a:lnTo>
                    <a:pt x="120" y="309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438280" y="5164200"/>
              <a:ext cx="117000" cy="988560"/>
            </a:xfrm>
            <a:custGeom>
              <a:avLst/>
              <a:gdLst/>
              <a:ahLst/>
              <a:rect l="l" t="t" r="r" b="b"/>
              <a:pathLst>
                <a:path w="120" h="1153">
                  <a:moveTo>
                    <a:pt x="70" y="10"/>
                  </a:moveTo>
                  <a:lnTo>
                    <a:pt x="70" y="1055"/>
                  </a:lnTo>
                  <a:lnTo>
                    <a:pt x="70" y="1057"/>
                  </a:lnTo>
                  <a:lnTo>
                    <a:pt x="67" y="1062"/>
                  </a:lnTo>
                  <a:lnTo>
                    <a:pt x="65" y="1062"/>
                  </a:lnTo>
                  <a:lnTo>
                    <a:pt x="60" y="1064"/>
                  </a:lnTo>
                  <a:lnTo>
                    <a:pt x="55" y="1062"/>
                  </a:lnTo>
                  <a:lnTo>
                    <a:pt x="53" y="1062"/>
                  </a:lnTo>
                  <a:lnTo>
                    <a:pt x="51" y="1057"/>
                  </a:lnTo>
                  <a:lnTo>
                    <a:pt x="51" y="1055"/>
                  </a:lnTo>
                  <a:lnTo>
                    <a:pt x="51" y="10"/>
                  </a:lnTo>
                  <a:lnTo>
                    <a:pt x="51" y="5"/>
                  </a:lnTo>
                  <a:lnTo>
                    <a:pt x="53" y="2"/>
                  </a:lnTo>
                  <a:lnTo>
                    <a:pt x="55" y="0"/>
                  </a:lnTo>
                  <a:lnTo>
                    <a:pt x="60" y="0"/>
                  </a:lnTo>
                  <a:lnTo>
                    <a:pt x="65" y="0"/>
                  </a:lnTo>
                  <a:lnTo>
                    <a:pt x="67" y="2"/>
                  </a:lnTo>
                  <a:lnTo>
                    <a:pt x="70" y="5"/>
                  </a:lnTo>
                  <a:lnTo>
                    <a:pt x="70" y="10"/>
                  </a:lnTo>
                  <a:lnTo>
                    <a:pt x="70" y="10"/>
                  </a:lnTo>
                  <a:close/>
                  <a:moveTo>
                    <a:pt x="120" y="1033"/>
                  </a:moveTo>
                  <a:lnTo>
                    <a:pt x="60" y="1153"/>
                  </a:lnTo>
                  <a:lnTo>
                    <a:pt x="0" y="1033"/>
                  </a:lnTo>
                  <a:lnTo>
                    <a:pt x="120" y="103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916440" y="4885200"/>
              <a:ext cx="720" cy="21528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466720" y="4303080"/>
              <a:ext cx="117000" cy="294840"/>
            </a:xfrm>
            <a:custGeom>
              <a:avLst/>
              <a:gdLst/>
              <a:ahLst/>
              <a:rect l="l" t="t" r="r" b="b"/>
              <a:pathLst>
                <a:path w="120" h="344">
                  <a:moveTo>
                    <a:pt x="70" y="9"/>
                  </a:moveTo>
                  <a:lnTo>
                    <a:pt x="70" y="243"/>
                  </a:lnTo>
                  <a:lnTo>
                    <a:pt x="67" y="248"/>
                  </a:lnTo>
                  <a:lnTo>
                    <a:pt x="67" y="251"/>
                  </a:lnTo>
                  <a:lnTo>
                    <a:pt x="62" y="253"/>
                  </a:lnTo>
                  <a:lnTo>
                    <a:pt x="60" y="253"/>
                  </a:lnTo>
                  <a:lnTo>
                    <a:pt x="55" y="253"/>
                  </a:lnTo>
                  <a:lnTo>
                    <a:pt x="53" y="251"/>
                  </a:lnTo>
                  <a:lnTo>
                    <a:pt x="50" y="248"/>
                  </a:lnTo>
                  <a:lnTo>
                    <a:pt x="50" y="243"/>
                  </a:lnTo>
                  <a:lnTo>
                    <a:pt x="50" y="9"/>
                  </a:lnTo>
                  <a:lnTo>
                    <a:pt x="50" y="4"/>
                  </a:lnTo>
                  <a:lnTo>
                    <a:pt x="53" y="2"/>
                  </a:lnTo>
                  <a:lnTo>
                    <a:pt x="55" y="0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7" y="2"/>
                  </a:lnTo>
                  <a:lnTo>
                    <a:pt x="67" y="4"/>
                  </a:lnTo>
                  <a:lnTo>
                    <a:pt x="70" y="9"/>
                  </a:lnTo>
                  <a:lnTo>
                    <a:pt x="70" y="9"/>
                  </a:lnTo>
                  <a:close/>
                  <a:moveTo>
                    <a:pt x="120" y="224"/>
                  </a:moveTo>
                  <a:lnTo>
                    <a:pt x="60" y="344"/>
                  </a:lnTo>
                  <a:lnTo>
                    <a:pt x="0" y="224"/>
                  </a:lnTo>
                  <a:lnTo>
                    <a:pt x="120" y="22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31320" y="3057840"/>
              <a:ext cx="26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306080" y="30578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578400" y="3080880"/>
              <a:ext cx="189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842640" y="3080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102400" y="5356080"/>
              <a:ext cx="26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478960" y="535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632400" y="4587480"/>
              <a:ext cx="189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896640" y="4587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760040" y="6129720"/>
              <a:ext cx="1445760" cy="431280"/>
            </a:xfrm>
            <a:custGeom>
              <a:avLst/>
              <a:gdLst/>
              <a:ahLst/>
              <a:rect l="l" t="t" r="r" b="b"/>
              <a:pathLst>
                <a:path w="1482" h="503">
                  <a:moveTo>
                    <a:pt x="62" y="0"/>
                  </a:moveTo>
                  <a:lnTo>
                    <a:pt x="58" y="0"/>
                  </a:lnTo>
                  <a:lnTo>
                    <a:pt x="50" y="0"/>
                  </a:lnTo>
                  <a:lnTo>
                    <a:pt x="43" y="3"/>
                  </a:lnTo>
                  <a:lnTo>
                    <a:pt x="38" y="5"/>
                  </a:lnTo>
                  <a:lnTo>
                    <a:pt x="29" y="10"/>
                  </a:lnTo>
                  <a:lnTo>
                    <a:pt x="19" y="17"/>
                  </a:lnTo>
                  <a:lnTo>
                    <a:pt x="12" y="27"/>
                  </a:lnTo>
                  <a:lnTo>
                    <a:pt x="5" y="39"/>
                  </a:lnTo>
                  <a:lnTo>
                    <a:pt x="3" y="51"/>
                  </a:lnTo>
                  <a:lnTo>
                    <a:pt x="0" y="55"/>
                  </a:lnTo>
                  <a:lnTo>
                    <a:pt x="0" y="63"/>
                  </a:lnTo>
                  <a:lnTo>
                    <a:pt x="0" y="438"/>
                  </a:lnTo>
                  <a:lnTo>
                    <a:pt x="0" y="445"/>
                  </a:lnTo>
                  <a:lnTo>
                    <a:pt x="3" y="452"/>
                  </a:lnTo>
                  <a:lnTo>
                    <a:pt x="5" y="462"/>
                  </a:lnTo>
                  <a:lnTo>
                    <a:pt x="12" y="474"/>
                  </a:lnTo>
                  <a:lnTo>
                    <a:pt x="19" y="484"/>
                  </a:lnTo>
                  <a:lnTo>
                    <a:pt x="29" y="491"/>
                  </a:lnTo>
                  <a:lnTo>
                    <a:pt x="38" y="496"/>
                  </a:lnTo>
                  <a:lnTo>
                    <a:pt x="50" y="500"/>
                  </a:lnTo>
                  <a:lnTo>
                    <a:pt x="58" y="500"/>
                  </a:lnTo>
                  <a:lnTo>
                    <a:pt x="62" y="503"/>
                  </a:lnTo>
                  <a:lnTo>
                    <a:pt x="1419" y="503"/>
                  </a:lnTo>
                  <a:lnTo>
                    <a:pt x="1427" y="500"/>
                  </a:lnTo>
                  <a:lnTo>
                    <a:pt x="1431" y="500"/>
                  </a:lnTo>
                  <a:lnTo>
                    <a:pt x="1443" y="496"/>
                  </a:lnTo>
                  <a:lnTo>
                    <a:pt x="1455" y="491"/>
                  </a:lnTo>
                  <a:lnTo>
                    <a:pt x="1465" y="484"/>
                  </a:lnTo>
                  <a:lnTo>
                    <a:pt x="1472" y="474"/>
                  </a:lnTo>
                  <a:lnTo>
                    <a:pt x="1477" y="462"/>
                  </a:lnTo>
                  <a:lnTo>
                    <a:pt x="1482" y="452"/>
                  </a:lnTo>
                  <a:lnTo>
                    <a:pt x="1482" y="445"/>
                  </a:lnTo>
                  <a:lnTo>
                    <a:pt x="1482" y="438"/>
                  </a:lnTo>
                  <a:lnTo>
                    <a:pt x="1482" y="63"/>
                  </a:lnTo>
                  <a:lnTo>
                    <a:pt x="1482" y="55"/>
                  </a:lnTo>
                  <a:lnTo>
                    <a:pt x="1482" y="51"/>
                  </a:lnTo>
                  <a:lnTo>
                    <a:pt x="1477" y="39"/>
                  </a:lnTo>
                  <a:lnTo>
                    <a:pt x="1472" y="27"/>
                  </a:lnTo>
                  <a:lnTo>
                    <a:pt x="1465" y="17"/>
                  </a:lnTo>
                  <a:lnTo>
                    <a:pt x="1455" y="10"/>
                  </a:lnTo>
                  <a:lnTo>
                    <a:pt x="1443" y="5"/>
                  </a:lnTo>
                  <a:lnTo>
                    <a:pt x="1438" y="3"/>
                  </a:lnTo>
                  <a:lnTo>
                    <a:pt x="1431" y="0"/>
                  </a:lnTo>
                  <a:lnTo>
                    <a:pt x="1427" y="0"/>
                  </a:lnTo>
                  <a:lnTo>
                    <a:pt x="1419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760040" y="6129720"/>
              <a:ext cx="1445760" cy="431280"/>
            </a:xfrm>
            <a:custGeom>
              <a:avLst/>
              <a:gdLst/>
              <a:ahLst/>
              <a:rect l="l" t="t" r="r" b="b"/>
              <a:pathLst>
                <a:path w="1482" h="503">
                  <a:moveTo>
                    <a:pt x="62" y="0"/>
                  </a:moveTo>
                  <a:lnTo>
                    <a:pt x="58" y="0"/>
                  </a:lnTo>
                  <a:lnTo>
                    <a:pt x="50" y="0"/>
                  </a:lnTo>
                  <a:lnTo>
                    <a:pt x="43" y="3"/>
                  </a:lnTo>
                  <a:lnTo>
                    <a:pt x="38" y="5"/>
                  </a:lnTo>
                  <a:lnTo>
                    <a:pt x="29" y="10"/>
                  </a:lnTo>
                  <a:lnTo>
                    <a:pt x="19" y="17"/>
                  </a:lnTo>
                  <a:lnTo>
                    <a:pt x="12" y="27"/>
                  </a:lnTo>
                  <a:lnTo>
                    <a:pt x="5" y="39"/>
                  </a:lnTo>
                  <a:lnTo>
                    <a:pt x="3" y="51"/>
                  </a:lnTo>
                  <a:lnTo>
                    <a:pt x="0" y="55"/>
                  </a:lnTo>
                  <a:lnTo>
                    <a:pt x="0" y="63"/>
                  </a:lnTo>
                  <a:lnTo>
                    <a:pt x="0" y="438"/>
                  </a:lnTo>
                  <a:lnTo>
                    <a:pt x="0" y="445"/>
                  </a:lnTo>
                  <a:lnTo>
                    <a:pt x="3" y="452"/>
                  </a:lnTo>
                  <a:lnTo>
                    <a:pt x="5" y="462"/>
                  </a:lnTo>
                  <a:lnTo>
                    <a:pt x="12" y="474"/>
                  </a:lnTo>
                  <a:lnTo>
                    <a:pt x="19" y="484"/>
                  </a:lnTo>
                  <a:lnTo>
                    <a:pt x="29" y="491"/>
                  </a:lnTo>
                  <a:lnTo>
                    <a:pt x="38" y="496"/>
                  </a:lnTo>
                  <a:lnTo>
                    <a:pt x="50" y="500"/>
                  </a:lnTo>
                  <a:lnTo>
                    <a:pt x="58" y="500"/>
                  </a:lnTo>
                  <a:lnTo>
                    <a:pt x="62" y="503"/>
                  </a:lnTo>
                  <a:lnTo>
                    <a:pt x="1419" y="503"/>
                  </a:lnTo>
                  <a:lnTo>
                    <a:pt x="1427" y="500"/>
                  </a:lnTo>
                  <a:lnTo>
                    <a:pt x="1431" y="500"/>
                  </a:lnTo>
                  <a:lnTo>
                    <a:pt x="1443" y="496"/>
                  </a:lnTo>
                  <a:lnTo>
                    <a:pt x="1455" y="491"/>
                  </a:lnTo>
                  <a:lnTo>
                    <a:pt x="1465" y="484"/>
                  </a:lnTo>
                  <a:lnTo>
                    <a:pt x="1472" y="474"/>
                  </a:lnTo>
                  <a:lnTo>
                    <a:pt x="1477" y="462"/>
                  </a:lnTo>
                  <a:lnTo>
                    <a:pt x="1482" y="452"/>
                  </a:lnTo>
                  <a:lnTo>
                    <a:pt x="1482" y="445"/>
                  </a:lnTo>
                  <a:lnTo>
                    <a:pt x="1482" y="438"/>
                  </a:lnTo>
                  <a:lnTo>
                    <a:pt x="1482" y="63"/>
                  </a:lnTo>
                  <a:lnTo>
                    <a:pt x="1482" y="55"/>
                  </a:lnTo>
                  <a:lnTo>
                    <a:pt x="1482" y="51"/>
                  </a:lnTo>
                  <a:lnTo>
                    <a:pt x="1477" y="39"/>
                  </a:lnTo>
                  <a:lnTo>
                    <a:pt x="1472" y="27"/>
                  </a:lnTo>
                  <a:lnTo>
                    <a:pt x="1465" y="17"/>
                  </a:lnTo>
                  <a:lnTo>
                    <a:pt x="1455" y="10"/>
                  </a:lnTo>
                  <a:lnTo>
                    <a:pt x="1443" y="5"/>
                  </a:lnTo>
                  <a:lnTo>
                    <a:pt x="1438" y="3"/>
                  </a:lnTo>
                  <a:lnTo>
                    <a:pt x="1431" y="0"/>
                  </a:lnTo>
                  <a:lnTo>
                    <a:pt x="1427" y="0"/>
                  </a:lnTo>
                  <a:lnTo>
                    <a:pt x="1419" y="0"/>
                  </a:lnTo>
                  <a:lnTo>
                    <a:pt x="62" y="0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169000" y="6214680"/>
              <a:ext cx="430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Конец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797920" y="62146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5111640" y="2744640"/>
            <a:ext cx="33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Вопросы на развит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31640" y="1449360"/>
            <a:ext cx="33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Блок-схема алгоритма нахождения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Max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3357720"/>
            <a:ext cx="392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Как нужно изменить алгоритм, чтобы рассматривался случай 2-х (3-х) победителе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Какой параметр придется дополнительно ввести для реализации такого алгоритм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991640" y="5842080"/>
            <a:ext cx="865080" cy="790560"/>
          </a:xfrm>
          <a:custGeom>
            <a:avLst/>
            <a:gdLst>
              <a:gd name="textAreaLeft" fmla="*/ 51120 w 865080"/>
              <a:gd name="textAreaRight" fmla="*/ 813960 w 865080"/>
              <a:gd name="textAreaTop" fmla="*/ 51120 h 790560"/>
              <a:gd name="textAreaBottom" fmla="*/ 739440 h 790560"/>
            </a:gdLst>
            <a:ahLst/>
            <a:rect l="textAreaLeft" t="textAreaTop" r="textAreaRight" b="textAreaBottom"/>
            <a:pathLst>
              <a:path w="23635" h="21600">
                <a:moveTo>
                  <a:pt x="0" y="0"/>
                </a:moveTo>
                <a:lnTo>
                  <a:pt x="23635" y="0"/>
                </a:lnTo>
                <a:lnTo>
                  <a:pt x="23635" y="21600"/>
                </a:lnTo>
                <a:lnTo>
                  <a:pt x="0" y="21600"/>
                </a:lnTo>
                <a:close/>
              </a:path>
              <a:path fill="lightenLess" w="23635" h="21600">
                <a:moveTo>
                  <a:pt x="0" y="0"/>
                </a:moveTo>
                <a:lnTo>
                  <a:pt x="23635" y="0"/>
                </a:lnTo>
                <a:lnTo>
                  <a:pt x="22235" y="1400"/>
                </a:lnTo>
                <a:lnTo>
                  <a:pt x="1400" y="1400"/>
                </a:lnTo>
                <a:close/>
              </a:path>
              <a:path fill="darken" w="23635" h="21600">
                <a:moveTo>
                  <a:pt x="23635" y="0"/>
                </a:moveTo>
                <a:lnTo>
                  <a:pt x="23635" y="21600"/>
                </a:lnTo>
                <a:lnTo>
                  <a:pt x="22235" y="20200"/>
                </a:lnTo>
                <a:lnTo>
                  <a:pt x="22235" y="1400"/>
                </a:lnTo>
                <a:close/>
              </a:path>
              <a:path fill="darkenLess" w="23635" h="21600">
                <a:moveTo>
                  <a:pt x="23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35" y="20200"/>
                </a:lnTo>
                <a:close/>
              </a:path>
              <a:path fill="lighten" w="23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35" h="21600">
                <a:moveTo>
                  <a:pt x="4811" y="7493"/>
                </a:moveTo>
                <a:lnTo>
                  <a:pt x="8319" y="7493"/>
                </a:lnTo>
                <a:lnTo>
                  <a:pt x="8319" y="12828"/>
                </a:lnTo>
                <a:cubicBezTo>
                  <a:pt x="8319" y="13751"/>
                  <a:pt x="9119" y="14482"/>
                  <a:pt x="10155" y="14482"/>
                </a:cubicBezTo>
                <a:lnTo>
                  <a:pt x="11818" y="14482"/>
                </a:lnTo>
                <a:cubicBezTo>
                  <a:pt x="12853" y="14482"/>
                  <a:pt x="13654" y="13751"/>
                  <a:pt x="13654" y="12828"/>
                </a:cubicBezTo>
                <a:lnTo>
                  <a:pt x="13654" y="7493"/>
                </a:lnTo>
                <a:lnTo>
                  <a:pt x="11818" y="7493"/>
                </a:lnTo>
                <a:lnTo>
                  <a:pt x="15325" y="3985"/>
                </a:lnTo>
                <a:lnTo>
                  <a:pt x="18998" y="7493"/>
                </a:lnTo>
                <a:lnTo>
                  <a:pt x="17162" y="7493"/>
                </a:lnTo>
                <a:lnTo>
                  <a:pt x="17162" y="12828"/>
                </a:lnTo>
                <a:cubicBezTo>
                  <a:pt x="17162" y="15596"/>
                  <a:pt x="14585" y="18155"/>
                  <a:pt x="11818" y="18155"/>
                </a:cubicBezTo>
                <a:lnTo>
                  <a:pt x="10155" y="18155"/>
                </a:lnTo>
                <a:cubicBezTo>
                  <a:pt x="7387" y="18155"/>
                  <a:pt x="4811" y="15596"/>
                  <a:pt x="4811" y="12828"/>
                </a:cubicBez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2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ывод результатов голосования (алгоритм выбора из 3-х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062920" y="5842080"/>
            <a:ext cx="865080" cy="790560"/>
          </a:xfrm>
          <a:custGeom>
            <a:avLst/>
            <a:gdLst>
              <a:gd name="textAreaLeft" fmla="*/ 51120 w 865080"/>
              <a:gd name="textAreaRight" fmla="*/ 813960 w 865080"/>
              <a:gd name="textAreaTop" fmla="*/ 51120 h 790560"/>
              <a:gd name="textAreaBottom" fmla="*/ 739440 h 790560"/>
            </a:gdLst>
            <a:ahLst/>
            <a:rect l="textAreaLeft" t="textAreaTop" r="textAreaRight" b="textAreaBottom"/>
            <a:pathLst>
              <a:path w="23635" h="21600">
                <a:moveTo>
                  <a:pt x="0" y="0"/>
                </a:moveTo>
                <a:lnTo>
                  <a:pt x="23635" y="0"/>
                </a:lnTo>
                <a:lnTo>
                  <a:pt x="23635" y="21600"/>
                </a:lnTo>
                <a:lnTo>
                  <a:pt x="0" y="21600"/>
                </a:lnTo>
                <a:close/>
              </a:path>
              <a:path fill="lightenLess" w="23635" h="21600">
                <a:moveTo>
                  <a:pt x="0" y="0"/>
                </a:moveTo>
                <a:lnTo>
                  <a:pt x="23635" y="0"/>
                </a:lnTo>
                <a:lnTo>
                  <a:pt x="22235" y="1400"/>
                </a:lnTo>
                <a:lnTo>
                  <a:pt x="1400" y="1400"/>
                </a:lnTo>
                <a:close/>
              </a:path>
              <a:path fill="darken" w="23635" h="21600">
                <a:moveTo>
                  <a:pt x="23635" y="0"/>
                </a:moveTo>
                <a:lnTo>
                  <a:pt x="23635" y="21600"/>
                </a:lnTo>
                <a:lnTo>
                  <a:pt x="22235" y="20200"/>
                </a:lnTo>
                <a:lnTo>
                  <a:pt x="22235" y="1400"/>
                </a:lnTo>
                <a:close/>
              </a:path>
              <a:path fill="darkenLess" w="23635" h="21600">
                <a:moveTo>
                  <a:pt x="23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35" y="20200"/>
                </a:lnTo>
                <a:close/>
              </a:path>
              <a:path fill="lighten" w="23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35" h="21600">
                <a:moveTo>
                  <a:pt x="4811" y="7493"/>
                </a:moveTo>
                <a:lnTo>
                  <a:pt x="8319" y="7493"/>
                </a:lnTo>
                <a:lnTo>
                  <a:pt x="8319" y="12828"/>
                </a:lnTo>
                <a:cubicBezTo>
                  <a:pt x="8319" y="13751"/>
                  <a:pt x="9119" y="14482"/>
                  <a:pt x="10155" y="14482"/>
                </a:cubicBezTo>
                <a:lnTo>
                  <a:pt x="11818" y="14482"/>
                </a:lnTo>
                <a:cubicBezTo>
                  <a:pt x="12853" y="14482"/>
                  <a:pt x="13654" y="13751"/>
                  <a:pt x="13654" y="12828"/>
                </a:cubicBezTo>
                <a:lnTo>
                  <a:pt x="13654" y="7493"/>
                </a:lnTo>
                <a:lnTo>
                  <a:pt x="11818" y="7493"/>
                </a:lnTo>
                <a:lnTo>
                  <a:pt x="15325" y="3985"/>
                </a:lnTo>
                <a:lnTo>
                  <a:pt x="18998" y="7493"/>
                </a:lnTo>
                <a:lnTo>
                  <a:pt x="17162" y="7493"/>
                </a:lnTo>
                <a:lnTo>
                  <a:pt x="17162" y="12828"/>
                </a:lnTo>
                <a:cubicBezTo>
                  <a:pt x="17162" y="15596"/>
                  <a:pt x="14585" y="18155"/>
                  <a:pt x="11818" y="18155"/>
                </a:cubicBezTo>
                <a:lnTo>
                  <a:pt x="10155" y="18155"/>
                </a:lnTo>
                <a:cubicBezTo>
                  <a:pt x="7387" y="18155"/>
                  <a:pt x="4811" y="15596"/>
                  <a:pt x="4811" y="12828"/>
                </a:cubicBez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71280" y="2406600"/>
            <a:ext cx="5148360" cy="35067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971640" y="1635120"/>
            <a:ext cx="33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Блок-схема алгоритма нахождения победител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435640" y="2276640"/>
            <a:ext cx="33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Вопросы на развит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218200" y="2889360"/>
            <a:ext cx="39258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Можно ли использовать Выбор, если победитель не один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Как будет выглядеть алгоритм без Выбор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7" name=""/>
          <p:cNvGraphicFramePr/>
          <p:nvPr/>
        </p:nvGraphicFramePr>
        <p:xfrm>
          <a:off x="971640" y="836640"/>
          <a:ext cx="7161120" cy="5734080"/>
        </p:xfrm>
        <a:graphic>
          <a:graphicData uri="http://schemas.openxmlformats.org/drawingml/2006/table">
            <a:tbl>
              <a:tblPr/>
              <a:tblGrid>
                <a:gridCol w="2797200"/>
                <a:gridCol w="4363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грам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яс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vate Sub Command1_Click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 = rez.ListCou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числение длины спи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 i = 0 To n -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икл с количеством повторений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ma = 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Элемент с номером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ъявляется максимальны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 j = i + 1 To n -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икл со следующего элемента до конца спи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1 = Val(rez.List(nma)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2 = Val(rez.List(j)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образование типов из строки в число для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ma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и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r1 &lt; r2 Then nma = 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сли элемент с №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ma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 элемента с №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то максимальным объявляется элемент с №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xt 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результате выполнения цикла будет найден № максимального элемен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 = rez.List(nma):  rez.List(nma) = rez.List(i):   rez.List(i) = 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естановка в списке результатов: меняются местами текущий максимум и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ый элемен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??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естановка в списке символов: меняются местами символ, соответствующий текущему максимуму и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ый элемент данного спи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xt 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??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вод 3-х  самых популярных символов в массив ме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d Su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31640" y="15228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грамма сортировки с комментари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207280" y="5951520"/>
            <a:ext cx="865440" cy="790560"/>
          </a:xfrm>
          <a:custGeom>
            <a:avLst/>
            <a:gdLst>
              <a:gd name="textAreaLeft" fmla="*/ 51120 w 865440"/>
              <a:gd name="textAreaRight" fmla="*/ 814320 w 865440"/>
              <a:gd name="textAreaTop" fmla="*/ 51120 h 790560"/>
              <a:gd name="textAreaBottom" fmla="*/ 739440 h 790560"/>
            </a:gdLst>
            <a:ahLst/>
            <a:rect l="textAreaLeft" t="textAreaTop" r="textAreaRight" b="textAreaBottom"/>
            <a:pathLst>
              <a:path w="23645" h="21600">
                <a:moveTo>
                  <a:pt x="0" y="0"/>
                </a:moveTo>
                <a:lnTo>
                  <a:pt x="23645" y="0"/>
                </a:lnTo>
                <a:lnTo>
                  <a:pt x="23645" y="21600"/>
                </a:lnTo>
                <a:lnTo>
                  <a:pt x="0" y="21600"/>
                </a:lnTo>
                <a:close/>
              </a:path>
              <a:path fill="lightenLess" w="23645" h="21600">
                <a:moveTo>
                  <a:pt x="0" y="0"/>
                </a:moveTo>
                <a:lnTo>
                  <a:pt x="23645" y="0"/>
                </a:lnTo>
                <a:lnTo>
                  <a:pt x="22245" y="1400"/>
                </a:lnTo>
                <a:lnTo>
                  <a:pt x="1400" y="1400"/>
                </a:lnTo>
                <a:close/>
              </a:path>
              <a:path fill="darken" w="23645" h="21600">
                <a:moveTo>
                  <a:pt x="23645" y="0"/>
                </a:moveTo>
                <a:lnTo>
                  <a:pt x="23645" y="21600"/>
                </a:lnTo>
                <a:lnTo>
                  <a:pt x="22245" y="20200"/>
                </a:lnTo>
                <a:lnTo>
                  <a:pt x="22245" y="1400"/>
                </a:lnTo>
                <a:close/>
              </a:path>
              <a:path fill="darkenLess" w="23645" h="21600">
                <a:moveTo>
                  <a:pt x="236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45" y="20200"/>
                </a:lnTo>
                <a:close/>
              </a:path>
              <a:path fill="lighten" w="236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45" h="21600">
                <a:moveTo>
                  <a:pt x="4816" y="7493"/>
                </a:moveTo>
                <a:lnTo>
                  <a:pt x="8324" y="7493"/>
                </a:lnTo>
                <a:lnTo>
                  <a:pt x="8324" y="12828"/>
                </a:lnTo>
                <a:cubicBezTo>
                  <a:pt x="8324" y="13751"/>
                  <a:pt x="9124" y="14482"/>
                  <a:pt x="10160" y="14482"/>
                </a:cubicBezTo>
                <a:lnTo>
                  <a:pt x="11822" y="14482"/>
                </a:lnTo>
                <a:cubicBezTo>
                  <a:pt x="12858" y="14482"/>
                  <a:pt x="13659" y="13751"/>
                  <a:pt x="13659" y="12828"/>
                </a:cubicBezTo>
                <a:lnTo>
                  <a:pt x="13659" y="7493"/>
                </a:lnTo>
                <a:lnTo>
                  <a:pt x="11822" y="7493"/>
                </a:lnTo>
                <a:lnTo>
                  <a:pt x="15330" y="3985"/>
                </a:lnTo>
                <a:lnTo>
                  <a:pt x="19003" y="7493"/>
                </a:lnTo>
                <a:lnTo>
                  <a:pt x="17167" y="7493"/>
                </a:lnTo>
                <a:lnTo>
                  <a:pt x="17167" y="12828"/>
                </a:lnTo>
                <a:cubicBezTo>
                  <a:pt x="17167" y="15596"/>
                  <a:pt x="14590" y="18155"/>
                  <a:pt x="11822" y="18155"/>
                </a:cubicBezTo>
                <a:lnTo>
                  <a:pt x="10160" y="18155"/>
                </a:lnTo>
                <a:cubicBezTo>
                  <a:pt x="7392" y="18155"/>
                  <a:pt x="4816" y="15596"/>
                  <a:pt x="4816" y="12828"/>
                </a:cubicBez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9640" y="7920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еречень тем задач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50920" y="723960"/>
            <a:ext cx="8677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а 1. Основные понятия язык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 Basi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а 2. Знакомство с основным инструментарием среды разработки проекта Тема 3. Объект форма. Свойства, события и методы фор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а 4. Использование графических методов объект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а 5. Переменная. Оператор присваивания. Ввод и вывод информ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а 6. Управляющий элемент Мет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а 7. Управляющие элементы Текстовое пол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Кноп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а 8. Понятие подпрограммы. Процед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а 9. Понятие функ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а 10. Циклы с известным числом повтор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а 11. Ветв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а 12. Метод последовательной детализ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а 13. Управляющие элементы Переключатель и Таймер. Оператор множественного выб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а 14. Управляющий элемент флажок. Массивы элементов управ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а 15. Разновидности циклов. Циклы с предуслов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а 16. Циклы с постуслов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а 17. Работа со стро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а 18. Работа со спис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а 19. Работа с файл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а 20. Мультимедийные возможности язык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>
            <a:hlinkClick r:id="" action="ppaction://hlinkshowjump?jump=firstslide"/>
          </p:cNvPr>
          <p:cNvSpPr/>
          <p:nvPr/>
        </p:nvSpPr>
        <p:spPr>
          <a:xfrm>
            <a:off x="8388360" y="6165720"/>
            <a:ext cx="396720" cy="503280"/>
          </a:xfrm>
          <a:custGeom>
            <a:avLst/>
            <a:gdLst>
              <a:gd name="textAreaLeft" fmla="*/ 25560 w 396720"/>
              <a:gd name="textAreaRight" fmla="*/ 371160 w 396720"/>
              <a:gd name="textAreaTop" fmla="*/ 25560 h 503280"/>
              <a:gd name="textAreaBottom" fmla="*/ 477720 h 503280"/>
            </a:gdLst>
            <a:ahLst/>
            <a:rect l="textAreaLeft" t="textAreaTop" r="textAreaRight" b="textAreaBottom"/>
            <a:pathLst>
              <a:path w="21600" h="27397">
                <a:moveTo>
                  <a:pt x="0" y="0"/>
                </a:moveTo>
                <a:lnTo>
                  <a:pt x="21600" y="0"/>
                </a:lnTo>
                <a:lnTo>
                  <a:pt x="21600" y="27397"/>
                </a:lnTo>
                <a:lnTo>
                  <a:pt x="0" y="27397"/>
                </a:lnTo>
                <a:close/>
              </a:path>
              <a:path fill="lightenLess" w="21600" h="273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397">
                <a:moveTo>
                  <a:pt x="21600" y="0"/>
                </a:moveTo>
                <a:lnTo>
                  <a:pt x="21600" y="27397"/>
                </a:lnTo>
                <a:lnTo>
                  <a:pt x="20200" y="25997"/>
                </a:lnTo>
                <a:lnTo>
                  <a:pt x="20200" y="1400"/>
                </a:lnTo>
                <a:close/>
              </a:path>
              <a:path fill="darkenLess" w="21600" h="27397">
                <a:moveTo>
                  <a:pt x="21600" y="27397"/>
                </a:moveTo>
                <a:lnTo>
                  <a:pt x="0" y="27397"/>
                </a:lnTo>
                <a:lnTo>
                  <a:pt x="1400" y="25997"/>
                </a:lnTo>
                <a:lnTo>
                  <a:pt x="20200" y="25997"/>
                </a:lnTo>
                <a:close/>
              </a:path>
              <a:path fill="lighten" w="21600" h="27397">
                <a:moveTo>
                  <a:pt x="0" y="273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997"/>
                </a:lnTo>
                <a:close/>
              </a:path>
              <a:path fill="darken" w="21600" h="27397">
                <a:moveTo>
                  <a:pt x="10800" y="6735"/>
                </a:moveTo>
                <a:lnTo>
                  <a:pt x="13376" y="9346"/>
                </a:lnTo>
                <a:lnTo>
                  <a:pt x="13376" y="7606"/>
                </a:lnTo>
                <a:lnTo>
                  <a:pt x="15152" y="7606"/>
                </a:lnTo>
                <a:lnTo>
                  <a:pt x="15152" y="11122"/>
                </a:lnTo>
                <a:lnTo>
                  <a:pt x="17763" y="13698"/>
                </a:lnTo>
                <a:lnTo>
                  <a:pt x="16109" y="13698"/>
                </a:lnTo>
                <a:lnTo>
                  <a:pt x="16109" y="20888"/>
                </a:lnTo>
                <a:lnTo>
                  <a:pt x="5491" y="20888"/>
                </a:lnTo>
                <a:lnTo>
                  <a:pt x="5491" y="13698"/>
                </a:lnTo>
                <a:lnTo>
                  <a:pt x="3837" y="13698"/>
                </a:lnTo>
                <a:close/>
              </a:path>
              <a:path fill="darkenLess" w="21600" h="27397">
                <a:moveTo>
                  <a:pt x="13376" y="9346"/>
                </a:moveTo>
                <a:lnTo>
                  <a:pt x="13376" y="7606"/>
                </a:lnTo>
                <a:lnTo>
                  <a:pt x="15152" y="7606"/>
                </a:lnTo>
                <a:lnTo>
                  <a:pt x="15152" y="11122"/>
                </a:lnTo>
                <a:close/>
              </a:path>
              <a:path fill="darkenLess" w="21600" h="27397">
                <a:moveTo>
                  <a:pt x="9877" y="17197"/>
                </a:moveTo>
                <a:lnTo>
                  <a:pt x="11723" y="17197"/>
                </a:lnTo>
                <a:lnTo>
                  <a:pt x="11723" y="20888"/>
                </a:lnTo>
                <a:lnTo>
                  <a:pt x="16109" y="20888"/>
                </a:lnTo>
                <a:lnTo>
                  <a:pt x="16109" y="13698"/>
                </a:lnTo>
                <a:lnTo>
                  <a:pt x="5491" y="13698"/>
                </a:lnTo>
                <a:lnTo>
                  <a:pt x="5491" y="20888"/>
                </a:lnTo>
                <a:lnTo>
                  <a:pt x="9877" y="20888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877080" y="6273720"/>
            <a:ext cx="1260360" cy="29700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Оглавл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rId1" action="ppaction://hlinksldjump"/>
          </p:cNvPr>
          <p:cNvSpPr/>
          <p:nvPr/>
        </p:nvSpPr>
        <p:spPr>
          <a:xfrm>
            <a:off x="719280" y="2457360"/>
            <a:ext cx="7345080" cy="75564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пользование средств языка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684360" y="1413000"/>
            <a:ext cx="7345080" cy="75564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чему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sual Basic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684360" y="3537000"/>
            <a:ext cx="7345080" cy="75564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мер разработки при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7640" y="5697360"/>
            <a:ext cx="7345440" cy="75600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речень тем задач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4" action="ppaction://hlinksldjump"/>
          </p:cNvPr>
          <p:cNvSpPr/>
          <p:nvPr/>
        </p:nvSpPr>
        <p:spPr>
          <a:xfrm>
            <a:off x="684360" y="4616280"/>
            <a:ext cx="7345080" cy="75600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ддержка темы «Алгоритмизац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чему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 Basic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539640" y="1881360"/>
          <a:ext cx="8229600" cy="247140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840"/>
                <a:gridCol w="1645920"/>
                <a:gridCol w="1646280"/>
              </a:tblGrid>
              <a:tr h="5806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ЪЕК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235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раметры (свойств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35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ъек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й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з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нач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235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звне 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35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ъек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235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ам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35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ъек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ноп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в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ъем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исун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дпис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м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ер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ue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есть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lse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не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Выход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5*1,5с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жима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агировать на нажа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250920" y="112536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Язык поддерживает идеологию ООП и является иллюстрацией объектно-ориентированного подхода, пропагандируемого в комплекте учеб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611280" y="4508640"/>
            <a:ext cx="8135640" cy="1767960"/>
            <a:chOff x="611280" y="4508640"/>
            <a:chExt cx="8135640" cy="1767960"/>
          </a:xfrm>
        </p:grpSpPr>
        <p:sp>
          <p:nvSpPr>
            <p:cNvPr id="118" name=""/>
            <p:cNvSpPr/>
            <p:nvPr/>
          </p:nvSpPr>
          <p:spPr>
            <a:xfrm>
              <a:off x="2706480" y="4508640"/>
              <a:ext cx="206316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ОБЪЕКТ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11280" y="5153400"/>
              <a:ext cx="2624400" cy="37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войства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Propertie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739600" y="5784480"/>
              <a:ext cx="2813760" cy="49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обытия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(Events)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, на которые реагирует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685120" y="5789880"/>
              <a:ext cx="3061800" cy="47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пособы реагирования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Method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2039760" y="4851360"/>
              <a:ext cx="1487160" cy="29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081320" y="5140440"/>
              <a:ext cx="2810880" cy="38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Действ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110480" y="4833360"/>
              <a:ext cx="1458000" cy="31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4139640" y="5518080"/>
              <a:ext cx="107856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30920" y="5518080"/>
              <a:ext cx="1166400" cy="26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95280" y="549360"/>
            <a:ext cx="838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. Среда разработки приложений на 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VB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позволяет максимально облегчить процесс редактирования и отладки программ и создать приложения, имеющие привлекательный интерфей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03280" y="1449360"/>
            <a:ext cx="4068720" cy="302256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932360" y="1376280"/>
            <a:ext cx="3889440" cy="210348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5580000" y="3789360"/>
            <a:ext cx="3419640" cy="255420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358920" y="4638600"/>
            <a:ext cx="5010120" cy="221940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012000" y="1557360"/>
            <a:ext cx="2592360" cy="182556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33" name=""/>
          <p:cNvSpPr/>
          <p:nvPr/>
        </p:nvSpPr>
        <p:spPr>
          <a:xfrm>
            <a:off x="287280" y="657360"/>
            <a:ext cx="86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3. Язык 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VB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включает в себя операторы, описывающие основные алгоритмические структуры, что позволяет проиллюстрировать тему «Алгоритмизация» на наглядных и интересных, с точки зрения учащихся, задач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216000" y="2168640"/>
            <a:ext cx="3636720" cy="320652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35" name=""/>
          <p:cNvGrpSpPr/>
          <p:nvPr/>
        </p:nvGrpSpPr>
        <p:grpSpPr>
          <a:xfrm>
            <a:off x="4067280" y="1916280"/>
            <a:ext cx="2079360" cy="4505040"/>
            <a:chOff x="4067280" y="1916280"/>
            <a:chExt cx="2079360" cy="4505040"/>
          </a:xfrm>
        </p:grpSpPr>
        <p:grpSp>
          <p:nvGrpSpPr>
            <p:cNvPr id="136" name=""/>
            <p:cNvGrpSpPr/>
            <p:nvPr/>
          </p:nvGrpSpPr>
          <p:grpSpPr>
            <a:xfrm>
              <a:off x="4067280" y="1916280"/>
              <a:ext cx="2079360" cy="4142880"/>
              <a:chOff x="4067280" y="1916280"/>
              <a:chExt cx="2079360" cy="4142880"/>
            </a:xfrm>
          </p:grpSpPr>
          <p:sp>
            <p:nvSpPr>
              <p:cNvPr id="137" name=""/>
              <p:cNvSpPr/>
              <p:nvPr/>
            </p:nvSpPr>
            <p:spPr>
              <a:xfrm>
                <a:off x="4493520" y="2147400"/>
                <a:ext cx="1155240" cy="355680"/>
              </a:xfrm>
              <a:prstGeom prst="flowChartInputOutpu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Arial"/>
                  </a:rPr>
                  <a:t>Ввод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062320" y="1916280"/>
                <a:ext cx="0" cy="23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62320" y="2503080"/>
                <a:ext cx="0" cy="23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618080" y="2734200"/>
                <a:ext cx="888480" cy="302040"/>
              </a:xfrm>
              <a:prstGeom prst="flowChartProcess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1=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618080" y="3249720"/>
                <a:ext cx="888480" cy="302040"/>
              </a:xfrm>
              <a:prstGeom prst="flowChartProcess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um=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422600" y="3765240"/>
                <a:ext cx="1297440" cy="533160"/>
              </a:xfrm>
              <a:prstGeom prst="flowChartDecisi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1&lt;&gt;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062320" y="3036240"/>
                <a:ext cx="0" cy="23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062320" y="3552120"/>
                <a:ext cx="0" cy="23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262760" y="4494600"/>
                <a:ext cx="1652760" cy="302040"/>
              </a:xfrm>
              <a:prstGeom prst="flowChartProcess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ifra=n1 Mod 1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262760" y="5027760"/>
                <a:ext cx="1652760" cy="284400"/>
              </a:xfrm>
              <a:prstGeom prst="flowChartProcess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um= sum+ cifr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244760" y="5543640"/>
                <a:ext cx="1652760" cy="284400"/>
              </a:xfrm>
              <a:prstGeom prst="flowChartProcess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1=n1\1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062320" y="4281120"/>
                <a:ext cx="0" cy="23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044680" y="4796640"/>
                <a:ext cx="0" cy="23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044680" y="5312520"/>
                <a:ext cx="0" cy="23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62320" y="5828040"/>
                <a:ext cx="0" cy="23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4067280" y="6059160"/>
                <a:ext cx="995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V="1">
                <a:off x="4067280" y="3658680"/>
                <a:ext cx="0" cy="240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67280" y="3658680"/>
                <a:ext cx="995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720040" y="4032000"/>
                <a:ext cx="248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986800" y="4032000"/>
                <a:ext cx="0" cy="2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702400" y="3783240"/>
                <a:ext cx="444240" cy="28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н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742640" y="4245480"/>
                <a:ext cx="444240" cy="28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да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4067280" y="6116400"/>
              <a:ext cx="20793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Блок-схема суммирования цифр заданного числ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6804000" y="3262320"/>
            <a:ext cx="2170080" cy="359568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50920" y="441360"/>
            <a:ext cx="7850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4. Элементы управления, используемые в 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VB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, знакомы учащимся по работе в среде 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Windows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и в приложения 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MS Office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. Работа с этими элементами позволяет показать учащимся, что реакция на все возможные действия пользователя должна быть заранее запрограммирована. А это, в конечном счете, является иллюстрацией принципа программного управления компьютер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076720" y="3141720"/>
            <a:ext cx="4067280" cy="323352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63" name=""/>
          <p:cNvSpPr/>
          <p:nvPr/>
        </p:nvSpPr>
        <p:spPr>
          <a:xfrm>
            <a:off x="142920" y="2241720"/>
            <a:ext cx="705816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Private Sub</a:t>
            </a:r>
            <a:r>
              <a:rPr b="1" lang="en-US" sz="1400" spc="-1" strike="noStrike">
                <a:solidFill>
                  <a:srgbClr val="9999c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7d"/>
                </a:solidFill>
                <a:latin typeface="Arial"/>
              </a:rPr>
              <a:t>Command1_Click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d"/>
                </a:solidFill>
                <a:latin typeface="Arial"/>
              </a:rPr>
              <a:t>If Option1 Then '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Выбран</a:t>
            </a:r>
            <a:r>
              <a:rPr b="1" lang="en-US" sz="1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Пушк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7d"/>
                </a:solidFill>
                <a:latin typeface="Arial"/>
              </a:rPr>
              <a:t>If Check1(1)= 1 And Check1(9)= 1 And Check1(10) = 1 And n = 3 Th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Label2.Caption = "Молодец! Пушкин был бы рад!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7d"/>
                </a:solidFill>
                <a:latin typeface="Arial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7d"/>
                </a:solidFill>
                <a:latin typeface="Arial"/>
              </a:rPr>
              <a:t>Label2.Caption = " 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Читай</a:t>
            </a:r>
            <a:r>
              <a:rPr b="1" lang="en-US" sz="1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Пушкина</a:t>
            </a:r>
            <a:r>
              <a:rPr b="1" lang="en-US" sz="1400" spc="-1" strike="noStrike">
                <a:solidFill>
                  <a:srgbClr val="00007d"/>
                </a:solidFill>
                <a:latin typeface="Arial"/>
              </a:rPr>
              <a:t>!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7d"/>
                </a:solidFill>
                <a:latin typeface="Arial"/>
              </a:rPr>
              <a:t>End 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d"/>
                </a:solidFill>
                <a:latin typeface="Arial"/>
              </a:rPr>
              <a:t>ElseIf Option2 Then ' 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Выбран</a:t>
            </a:r>
            <a:r>
              <a:rPr b="1" lang="en-US" sz="1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Гого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7d"/>
                </a:solidFill>
                <a:latin typeface="Arial"/>
              </a:rPr>
              <a:t>If Check1(2) = 1 And Check1(5) = 1 And Check1(6) = 1 And n = 3 Th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Label2.Caption = "Молодец! Привет от Гоголя!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7d"/>
                </a:solidFill>
                <a:latin typeface="Arial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d"/>
                </a:solidFill>
                <a:latin typeface="Arial"/>
              </a:rPr>
              <a:t>Label2.Caption = " 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Читай</a:t>
            </a:r>
            <a:r>
              <a:rPr b="1" lang="en-US" sz="1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Гоголя</a:t>
            </a:r>
            <a:r>
              <a:rPr b="1" lang="en-US" sz="1400" spc="-1" strike="noStrike">
                <a:solidFill>
                  <a:srgbClr val="00007d"/>
                </a:solidFill>
                <a:latin typeface="Arial"/>
              </a:rPr>
              <a:t>!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7d"/>
                </a:solidFill>
                <a:latin typeface="Arial"/>
              </a:rPr>
              <a:t>End 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d"/>
                </a:solidFill>
                <a:latin typeface="Arial"/>
              </a:rPr>
              <a:t>Else ' 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Выбран</a:t>
            </a:r>
            <a:r>
              <a:rPr b="1" lang="en-US" sz="1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Толст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??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d"/>
                </a:solidFill>
                <a:latin typeface="Arial"/>
              </a:rPr>
              <a:t>End 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End Su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8101080" y="0"/>
            <a:ext cx="828720" cy="3105000"/>
            <a:chOff x="8101080" y="0"/>
            <a:chExt cx="828720" cy="3105000"/>
          </a:xfrm>
        </p:grpSpPr>
        <p:sp>
          <p:nvSpPr>
            <p:cNvPr id="165" name=""/>
            <p:cNvSpPr/>
            <p:nvPr/>
          </p:nvSpPr>
          <p:spPr>
            <a:xfrm>
              <a:off x="8101080" y="0"/>
              <a:ext cx="828720" cy="3105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" name="" descr=""/>
            <p:cNvPicPr/>
            <p:nvPr/>
          </p:nvPicPr>
          <p:blipFill>
            <a:blip r:embed="rId2"/>
            <a:srcRect l="0" t="17882" r="87168" b="31411"/>
            <a:stretch/>
          </p:blipFill>
          <p:spPr>
            <a:xfrm>
              <a:off x="8139600" y="32040"/>
              <a:ext cx="751680" cy="3040560"/>
            </a:xfrm>
            <a:prstGeom prst="rect">
              <a:avLst/>
            </a:prstGeom>
            <a:ln w="0">
              <a:noFill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</p:pic>
      </p:grpSp>
      <p:sp>
        <p:nvSpPr>
          <p:cNvPr id="167" name="">
            <a:hlinkClick r:id="rId3" action="ppaction://hlinksldjump"/>
          </p:cNvPr>
          <p:cNvSpPr/>
          <p:nvPr/>
        </p:nvSpPr>
        <p:spPr>
          <a:xfrm>
            <a:off x="7775640" y="6445080"/>
            <a:ext cx="1260360" cy="29700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Оглавл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спользование средств языка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0920" y="4721760"/>
            <a:ext cx="27367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B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идеологию объектно-ориентированного программир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ОП программа рассматривается как совокупность связанных между собой объектов и действий над ни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03640" y="4721760"/>
            <a:ext cx="28796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B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является языком визуального проектиров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работчик может создать интерфейс, настроить размеры, местоположение, внешний вид объектов еще до написания программы, т.е. на этапе проектир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227640" y="4722120"/>
            <a:ext cx="273708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B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является языком управления события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выполнения программного кода всегда необходима последовательность событий (щелчок мышью, нажатие клавиши…) и реакция на них со стороны програм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24000" y="1268280"/>
            <a:ext cx="8506800" cy="2775600"/>
            <a:chOff x="324000" y="1268280"/>
            <a:chExt cx="8506800" cy="2775600"/>
          </a:xfrm>
        </p:grpSpPr>
        <p:cxnSp>
          <p:nvCxnSpPr>
            <p:cNvPr id="173" name="_s3129"/>
            <p:cNvCxnSpPr>
              <a:stCxn id="174" idx="0"/>
              <a:endCxn id="175" idx="2"/>
            </p:cNvCxnSpPr>
            <p:nvPr/>
          </p:nvCxnSpPr>
          <p:spPr>
            <a:xfrm flipV="1" rot="16200000">
              <a:off x="5788080" y="1166760"/>
              <a:ext cx="555840" cy="2977920"/>
            </a:xfrm>
            <a:prstGeom prst="bentConnector3">
              <a:avLst>
                <a:gd name="adj1" fmla="val 12572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6" name="_s3128"/>
            <p:cNvCxnSpPr>
              <a:stCxn id="177" idx="0"/>
              <a:endCxn id="175" idx="1"/>
            </p:cNvCxnSpPr>
            <p:nvPr/>
          </p:nvCxnSpPr>
          <p:spPr>
            <a:xfrm flipV="1">
              <a:off x="4577040" y="2378160"/>
              <a:ext cx="3240" cy="555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8" name="_s3127"/>
            <p:cNvCxnSpPr>
              <a:stCxn id="179" idx="0"/>
              <a:endCxn id="175" idx="0"/>
            </p:cNvCxnSpPr>
            <p:nvPr/>
          </p:nvCxnSpPr>
          <p:spPr>
            <a:xfrm flipH="1" flipV="1" rot="5400000">
              <a:off x="2810520" y="1167120"/>
              <a:ext cx="555840" cy="2977920"/>
            </a:xfrm>
            <a:prstGeom prst="bentConnector3">
              <a:avLst>
                <a:gd name="adj1" fmla="val 12572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5" name="_s3123"/>
            <p:cNvSpPr/>
            <p:nvPr/>
          </p:nvSpPr>
          <p:spPr>
            <a:xfrm>
              <a:off x="3301200" y="1268280"/>
              <a:ext cx="2552040" cy="11102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99ff"/>
                </a:gs>
                <a:gs pos="50000">
                  <a:srgbClr val="ffffff"/>
                </a:gs>
                <a:gs pos="100000">
                  <a:srgbClr val="9999ff"/>
                </a:gs>
              </a:gsLst>
              <a:lin ang="8100000"/>
            </a:gradFill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Visual Basic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_s3124"/>
            <p:cNvSpPr/>
            <p:nvPr/>
          </p:nvSpPr>
          <p:spPr>
            <a:xfrm>
              <a:off x="324000" y="2933640"/>
              <a:ext cx="2552040" cy="11102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99cc"/>
                </a:gs>
                <a:gs pos="50000">
                  <a:srgbClr val="ffffff"/>
                </a:gs>
                <a:gs pos="100000">
                  <a:srgbClr val="9999cc"/>
                </a:gs>
              </a:gsLst>
              <a:lin ang="8100000"/>
            </a:gradFill>
            <a:ln w="324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ООП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3125"/>
            <p:cNvSpPr/>
            <p:nvPr/>
          </p:nvSpPr>
          <p:spPr>
            <a:xfrm>
              <a:off x="3301200" y="2933640"/>
              <a:ext cx="2552040" cy="11102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99cc"/>
                </a:gs>
                <a:gs pos="50000">
                  <a:srgbClr val="ffffff"/>
                </a:gs>
                <a:gs pos="100000">
                  <a:srgbClr val="9999cc"/>
                </a:gs>
              </a:gsLst>
              <a:lin ang="8100000"/>
            </a:gradFill>
            <a:ln w="324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Визуальна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составляюща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3126"/>
            <p:cNvSpPr/>
            <p:nvPr/>
          </p:nvSpPr>
          <p:spPr>
            <a:xfrm>
              <a:off x="6278760" y="2933640"/>
              <a:ext cx="2552040" cy="11102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99cc"/>
                </a:gs>
                <a:gs pos="50000">
                  <a:srgbClr val="ffffff"/>
                </a:gs>
                <a:gs pos="100000">
                  <a:srgbClr val="9999cc"/>
                </a:gs>
              </a:gsLst>
              <a:lin ang="8100000"/>
            </a:gradFill>
            <a:ln w="324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Управлени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событиями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1258920" y="4149720"/>
            <a:ext cx="504720" cy="647640"/>
          </a:xfrm>
          <a:prstGeom prst="downArrow">
            <a:avLst>
              <a:gd name="adj1" fmla="val 50000"/>
              <a:gd name="adj2" fmla="val 32079"/>
            </a:avLst>
          </a:prstGeom>
          <a:gradFill rotWithShape="0">
            <a:gsLst>
              <a:gs pos="0">
                <a:srgbClr val="9999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56000" y="4149720"/>
            <a:ext cx="505080" cy="647640"/>
          </a:xfrm>
          <a:prstGeom prst="downArrow">
            <a:avLst>
              <a:gd name="adj1" fmla="val 50000"/>
              <a:gd name="adj2" fmla="val 32056"/>
            </a:avLst>
          </a:prstGeom>
          <a:gradFill rotWithShape="0">
            <a:gsLst>
              <a:gs pos="0">
                <a:srgbClr val="9999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720" y="4149720"/>
            <a:ext cx="505080" cy="647640"/>
          </a:xfrm>
          <a:prstGeom prst="downArrow">
            <a:avLst>
              <a:gd name="adj1" fmla="val 50000"/>
              <a:gd name="adj2" fmla="val 32056"/>
            </a:avLst>
          </a:prstGeom>
          <a:gradFill rotWithShape="0">
            <a:gsLst>
              <a:gs pos="0">
                <a:srgbClr val="9999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>
            <a:hlinkClick r:id="rId1" action="ppaction://hlinksldjump"/>
          </p:cNvPr>
          <p:cNvSpPr/>
          <p:nvPr/>
        </p:nvSpPr>
        <p:spPr>
          <a:xfrm>
            <a:off x="7704000" y="6489720"/>
            <a:ext cx="1260720" cy="29700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Оглавл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имер разработки прило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4680000" y="1413000"/>
          <a:ext cx="4038480" cy="2409840"/>
        </p:xfrm>
        <a:graphic>
          <a:graphicData uri="http://schemas.openxmlformats.org/drawingml/2006/table">
            <a:tbl>
              <a:tblPr/>
              <a:tblGrid>
                <a:gridCol w="1019160"/>
                <a:gridCol w="30193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нач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ка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вод преамбу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бор страны и управление вывод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ка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вод пояснительного текс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рти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вод соответствующего рису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ноп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ончание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>
            <a:off x="287280" y="1015920"/>
            <a:ext cx="399744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Описание 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русских пользователей символ 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@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 называется «собака». Требуется по заданной стране вывести информацию в виде текста и картинки о том, что  обозначает символ 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@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 в этой стра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0" y="1015920"/>
            <a:ext cx="39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Объекты интерфейс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7280" y="4041720"/>
            <a:ext cx="39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Графический интерфей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58920" y="4581360"/>
            <a:ext cx="2885760" cy="169560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90" name=""/>
          <p:cNvSpPr/>
          <p:nvPr/>
        </p:nvSpPr>
        <p:spPr>
          <a:xfrm flipH="1">
            <a:off x="2016000" y="2600280"/>
            <a:ext cx="2735280" cy="2736720"/>
          </a:xfrm>
          <a:prstGeom prst="line">
            <a:avLst/>
          </a:prstGeom>
          <a:ln w="28440">
            <a:solidFill>
              <a:srgbClr val="00007d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900000" y="1916280"/>
            <a:ext cx="3672000" cy="2881080"/>
          </a:xfrm>
          <a:prstGeom prst="line">
            <a:avLst/>
          </a:prstGeom>
          <a:ln w="28440">
            <a:solidFill>
              <a:srgbClr val="00007d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1368000" y="2241720"/>
            <a:ext cx="3382920" cy="3168360"/>
          </a:xfrm>
          <a:prstGeom prst="line">
            <a:avLst/>
          </a:prstGeom>
          <a:ln w="28440">
            <a:solidFill>
              <a:srgbClr val="00007d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2410920" y="3105000"/>
            <a:ext cx="2305080" cy="2592360"/>
          </a:xfrm>
          <a:prstGeom prst="line">
            <a:avLst/>
          </a:prstGeom>
          <a:ln w="28440">
            <a:solidFill>
              <a:srgbClr val="00007d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734920" y="3537000"/>
            <a:ext cx="1981080" cy="2484360"/>
          </a:xfrm>
          <a:prstGeom prst="line">
            <a:avLst/>
          </a:prstGeom>
          <a:ln w="28440">
            <a:solidFill>
              <a:srgbClr val="00007d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788000" y="4076640"/>
            <a:ext cx="39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Собы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643280" y="4545000"/>
          <a:ext cx="4038840" cy="1925640"/>
        </p:xfrm>
        <a:graphic>
          <a:graphicData uri="http://schemas.openxmlformats.org/drawingml/2006/table">
            <a:tbl>
              <a:tblPr/>
              <a:tblGrid>
                <a:gridCol w="2019600"/>
                <a:gridCol w="20192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бы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ак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6666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Загрузка фор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ие списка стр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6666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Выбор из спи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вод текста и картин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6666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Щелчок на кноп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ход из програм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">
            <a:hlinkClick r:id="rId5" action="ppaction://hlinksldjump"/>
          </p:cNvPr>
          <p:cNvSpPr/>
          <p:nvPr/>
        </p:nvSpPr>
        <p:spPr>
          <a:xfrm>
            <a:off x="7775640" y="6445080"/>
            <a:ext cx="1260360" cy="29700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Оглавл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500"/>
                            </p:stCondLst>
                            <p:childTnLst>
                              <p:par>
                                <p:cTn id="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500"/>
                            </p:stCondLst>
                            <p:childTnLst>
                              <p:par>
                                <p:cTn id="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500"/>
                            </p:stCondLst>
                            <p:childTnLst>
                              <p:par>
                                <p:cTn id="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750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8000"/>
                            </p:stCondLst>
                            <p:childTnLst>
                              <p:par>
                                <p:cTn id="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700360" y="1549440"/>
            <a:ext cx="5219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ivate Su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m_Load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Lis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em "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Ш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em "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раил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em "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а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em "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нгр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em "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лланд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em "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ец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em "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2.visible=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nd Su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грамма обработки событи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Загрузка форм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>
            <a:hlinkClick r:id="rId1" action="ppaction://hlinksldjump"/>
          </p:cNvPr>
          <p:cNvSpPr/>
          <p:nvPr/>
        </p:nvSpPr>
        <p:spPr>
          <a:xfrm>
            <a:off x="7920000" y="5734080"/>
            <a:ext cx="865080" cy="790560"/>
          </a:xfrm>
          <a:custGeom>
            <a:avLst/>
            <a:gdLst>
              <a:gd name="textAreaLeft" fmla="*/ 51120 w 865080"/>
              <a:gd name="textAreaRight" fmla="*/ 813960 w 865080"/>
              <a:gd name="textAreaTop" fmla="*/ 51120 h 790560"/>
              <a:gd name="textAreaBottom" fmla="*/ 739440 h 790560"/>
            </a:gdLst>
            <a:ahLst/>
            <a:rect l="textAreaLeft" t="textAreaTop" r="textAreaRight" b="textAreaBottom"/>
            <a:pathLst>
              <a:path w="23635" h="21600">
                <a:moveTo>
                  <a:pt x="0" y="0"/>
                </a:moveTo>
                <a:lnTo>
                  <a:pt x="23635" y="0"/>
                </a:lnTo>
                <a:lnTo>
                  <a:pt x="23635" y="21600"/>
                </a:lnTo>
                <a:lnTo>
                  <a:pt x="0" y="21600"/>
                </a:lnTo>
                <a:close/>
              </a:path>
              <a:path fill="lightenLess" w="23635" h="21600">
                <a:moveTo>
                  <a:pt x="0" y="0"/>
                </a:moveTo>
                <a:lnTo>
                  <a:pt x="23635" y="0"/>
                </a:lnTo>
                <a:lnTo>
                  <a:pt x="22235" y="1400"/>
                </a:lnTo>
                <a:lnTo>
                  <a:pt x="1400" y="1400"/>
                </a:lnTo>
                <a:close/>
              </a:path>
              <a:path fill="darken" w="23635" h="21600">
                <a:moveTo>
                  <a:pt x="23635" y="0"/>
                </a:moveTo>
                <a:lnTo>
                  <a:pt x="23635" y="21600"/>
                </a:lnTo>
                <a:lnTo>
                  <a:pt x="22235" y="20200"/>
                </a:lnTo>
                <a:lnTo>
                  <a:pt x="22235" y="1400"/>
                </a:lnTo>
                <a:close/>
              </a:path>
              <a:path fill="darkenLess" w="23635" h="21600">
                <a:moveTo>
                  <a:pt x="23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35" y="20200"/>
                </a:lnTo>
                <a:close/>
              </a:path>
              <a:path fill="lighten" w="23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35" h="21600">
                <a:moveTo>
                  <a:pt x="4811" y="7493"/>
                </a:moveTo>
                <a:lnTo>
                  <a:pt x="8319" y="7493"/>
                </a:lnTo>
                <a:lnTo>
                  <a:pt x="8319" y="12828"/>
                </a:lnTo>
                <a:cubicBezTo>
                  <a:pt x="8319" y="13751"/>
                  <a:pt x="9119" y="14482"/>
                  <a:pt x="10155" y="14482"/>
                </a:cubicBezTo>
                <a:lnTo>
                  <a:pt x="11818" y="14482"/>
                </a:lnTo>
                <a:cubicBezTo>
                  <a:pt x="12853" y="14482"/>
                  <a:pt x="13654" y="13751"/>
                  <a:pt x="13654" y="12828"/>
                </a:cubicBezTo>
                <a:lnTo>
                  <a:pt x="13654" y="7493"/>
                </a:lnTo>
                <a:lnTo>
                  <a:pt x="11818" y="7493"/>
                </a:lnTo>
                <a:lnTo>
                  <a:pt x="15325" y="3985"/>
                </a:lnTo>
                <a:lnTo>
                  <a:pt x="18998" y="7493"/>
                </a:lnTo>
                <a:lnTo>
                  <a:pt x="17162" y="7493"/>
                </a:lnTo>
                <a:lnTo>
                  <a:pt x="17162" y="12828"/>
                </a:lnTo>
                <a:cubicBezTo>
                  <a:pt x="17162" y="15596"/>
                  <a:pt x="14585" y="18155"/>
                  <a:pt x="11818" y="18155"/>
                </a:cubicBezTo>
                <a:lnTo>
                  <a:pt x="10155" y="18155"/>
                </a:lnTo>
                <a:cubicBezTo>
                  <a:pt x="7387" y="18155"/>
                  <a:pt x="4811" y="15596"/>
                  <a:pt x="4811" y="12828"/>
                </a:cubicBez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4T09:19:44Z</dcterms:created>
  <dc:creator>aaa</dc:creator>
  <dc:description/>
  <dc:language>en-US</dc:language>
  <cp:lastModifiedBy>aaa</cp:lastModifiedBy>
  <dcterms:modified xsi:type="dcterms:W3CDTF">2006-10-31T09:46:25Z</dcterms:modified>
  <cp:revision>27</cp:revision>
  <dc:subject/>
  <dc:title>Слайд 1</dc:title>
</cp:coreProperties>
</file>