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2497-9EFC-47BC-9D21-332CC6C1D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1139-1DF7-43E9-9AA7-7B2DEFB9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5CA-42A3-4B6A-ABD4-522C381AA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8CD7-9E1D-4251-A29C-BE6AB86C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ED23-DDD8-4E46-9E77-1E6F1B6A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341A-C9A4-403C-8AEC-6568433C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B9EE-49C1-497D-A19E-F83C1301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0813-A4AB-4BE2-80C3-A07BCB38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AD0B-37D1-40D3-9D73-8D997B76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9D9B-4F7F-4931-9569-D97B9EBA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C045-9758-4660-B5FE-267D07C4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D1F7-2415-41A2-A540-3DD6F70A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91F0-222C-4CC0-97A4-5A4D25EA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5923-0A1E-4C1A-B749-1F3C031D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0251-7E1C-4A66-AEBA-81488EBC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AA50-07CC-4DE7-BEFC-89F147BC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0F81-00C1-4841-97F8-791DDBB2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D9A7-43D7-4266-A4F5-3BB3D146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958F-ECE6-469A-AAB8-B5BCA4CC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E3B8-813C-4B43-84DD-9BA83A4A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EDFC-A9E0-4945-B206-6E76B0DE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7780-6648-40D1-B51E-A722691B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F7BD-D7A0-4368-BD5B-3ADD5D7E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B40A-4020-42FA-A389-7CEF9744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0D58-45E5-4EC2-B5C9-EFAEB044D2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98BB-8E19-4041-9929-BFD720D934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Comic Sans MS"/>
              </a:rPr>
              <a:t>Воскресный обед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семье Петров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8317080" y="6237360"/>
            <a:ext cx="502920" cy="43164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64" h="21600">
                <a:moveTo>
                  <a:pt x="0" y="0"/>
                </a:moveTo>
                <a:lnTo>
                  <a:pt x="25164" y="0"/>
                </a:lnTo>
                <a:lnTo>
                  <a:pt x="25164" y="21600"/>
                </a:lnTo>
                <a:lnTo>
                  <a:pt x="0" y="21600"/>
                </a:lnTo>
                <a:close/>
              </a:path>
              <a:path fill="lightenLess" w="25164" h="21600">
                <a:moveTo>
                  <a:pt x="0" y="0"/>
                </a:moveTo>
                <a:lnTo>
                  <a:pt x="25164" y="0"/>
                </a:lnTo>
                <a:lnTo>
                  <a:pt x="23764" y="1400"/>
                </a:lnTo>
                <a:lnTo>
                  <a:pt x="1400" y="1400"/>
                </a:lnTo>
                <a:close/>
              </a:path>
              <a:path fill="darken" w="25164" h="21600">
                <a:moveTo>
                  <a:pt x="25164" y="0"/>
                </a:moveTo>
                <a:lnTo>
                  <a:pt x="25164" y="21600"/>
                </a:lnTo>
                <a:lnTo>
                  <a:pt x="23764" y="20200"/>
                </a:lnTo>
                <a:lnTo>
                  <a:pt x="23764" y="1400"/>
                </a:lnTo>
                <a:close/>
              </a:path>
              <a:path fill="darkenLess" w="25164" h="21600">
                <a:moveTo>
                  <a:pt x="25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4" y="20200"/>
                </a:lnTo>
                <a:close/>
              </a:path>
              <a:path fill="lighten" w="25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4" h="21600">
                <a:moveTo>
                  <a:pt x="5576" y="3794"/>
                </a:moveTo>
                <a:lnTo>
                  <a:pt x="19588" y="10800"/>
                </a:lnTo>
                <a:lnTo>
                  <a:pt x="557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еню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755640" y="1989000"/>
            <a:ext cx="1728720" cy="648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-ое блюд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1989000"/>
            <a:ext cx="1728720" cy="648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-ое блюд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48360" y="1989000"/>
            <a:ext cx="1729080" cy="648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есер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4221000"/>
            <a:ext cx="1729080" cy="648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пит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40360" y="4149720"/>
            <a:ext cx="1728720" cy="6476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кус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759636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831708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ервое блюд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59636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1708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48360" y="6237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торое блюд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759636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31708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8360" y="6237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есер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759636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831708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014720" cy="4392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643280" y="1484280"/>
            <a:ext cx="410544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Малиновое желе со сливк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лить желатин водой и дать разбухну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асть малины добавить в горячий кипяток, дать настояться под крышкой. Процедить настой, отжав ягоды. Добавить сахар по вкус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ироп ввести желатин и довести до кипения, помешив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остывшим желе залить оставшиеся ягоды и поставить в холодильник до запусте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отовое желе украсить сливками, взбитыми с саха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48360" y="6237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пит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759636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831708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6237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кус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759636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48360" y="6237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824400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6:37:46Z</dcterms:created>
  <dc:creator>aaa</dc:creator>
  <dc:description/>
  <dc:language>en-US</dc:language>
  <cp:lastModifiedBy>aaa</cp:lastModifiedBy>
  <dcterms:modified xsi:type="dcterms:W3CDTF">2006-01-12T15:39:10Z</dcterms:modified>
  <cp:revision>4</cp:revision>
  <dc:subject/>
  <dc:title>Воскресный обед</dc:title>
</cp:coreProperties>
</file>