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491-72CC-4A9A-B129-5B8311DA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B7D-2BB0-4DE7-97EF-5A547A6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811-698B-4E09-97A4-2C827A70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8AE-5CDB-451F-90FA-C89E0895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ECA-4FB6-4867-9419-C7148E2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C1D-AA4D-473F-B7C3-F2B165CC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2F9-2A78-429B-B26A-F4BEE566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D6E-6A65-44A9-9C3C-89EEE8DC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811-A167-48E5-AE6A-261B140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8B9-DFF4-4B95-A5F1-C28C0CF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D0E-823D-48B1-97F3-15697A9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3F7-58B9-4F5A-8C9E-9F7CD96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EC46-FF14-4ECD-B0BF-33B43772D8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3360" y="6524640"/>
            <a:ext cx="87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cdd7df"/>
                </a:solidFill>
                <a:latin typeface="Tahoma"/>
              </a:rPr>
              <a:t>© Бычков А.В., 200</a:t>
            </a:r>
            <a:r>
              <a:rPr b="0" lang="en-US" sz="600" spc="-1" strike="noStrike">
                <a:solidFill>
                  <a:srgbClr val="cdd7df"/>
                </a:solidFill>
                <a:latin typeface="Tahoma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2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2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2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042640"/>
            <a:ext cx="70866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Системы счисления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ределение. Непозиционные и позиционные системы счисл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звернутая форма записи числа в позиционной системе счисл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вило счета. Таблица эквивалентов чисе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воичная система счисл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еревод чисел между двоичной, восьмеричной, десятичной и шестнадцатеричной системами счисл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ксимальное значение числа при известной длине разрядной сет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воичная арифмети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пражн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Перевод чисел (2)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8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), (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)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16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перевести число из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вои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стемы в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осьмеричну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шестнадцатеричну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его нужно разбить влево и вправо от запятой на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риа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(для восьмеричной) или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тра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(для шестнадцатеричной)  и каждую такую группу заменить соответствующей восьмеричной (шестнадцатеричной) цифр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1010100001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 5   2   0   7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11100000110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  6    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0    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0 1110 0000 1101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ведит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1111101010110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11010100000110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 rot="11109600">
            <a:off x="3512880" y="3859920"/>
            <a:ext cx="32076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5" y="3872"/>
                </a:moveTo>
                <a:arcTo wR="10800" hR="10800" stAng="-8405811" swAng="6576504"/>
                <a:lnTo>
                  <a:pt x="10800" y="10800"/>
                </a:lnTo>
                <a:close/>
              </a:path>
              <a:path fill="none" w="21600" h="21600">
                <a:moveTo>
                  <a:pt x="2515" y="3872"/>
                </a:moveTo>
                <a:arcTo wR="10800" hR="10800" stAng="-8405811" swAng="6576504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11109600">
            <a:off x="3241440" y="3859920"/>
            <a:ext cx="32076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5" y="3872"/>
                </a:moveTo>
                <a:arcTo wR="10800" hR="10800" stAng="-8405811" swAng="6576504"/>
                <a:lnTo>
                  <a:pt x="10800" y="10800"/>
                </a:lnTo>
                <a:close/>
              </a:path>
              <a:path fill="none" w="21600" h="21600">
                <a:moveTo>
                  <a:pt x="2515" y="3872"/>
                </a:moveTo>
                <a:arcTo wR="10800" hR="10800" stAng="-8405811" swAng="6576504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 rot="11109600">
            <a:off x="3816720" y="3859920"/>
            <a:ext cx="3211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5" y="3872"/>
                </a:moveTo>
                <a:arcTo wR="10800" hR="10800" stAng="-8405811" swAng="6576504"/>
                <a:lnTo>
                  <a:pt x="10800" y="10800"/>
                </a:lnTo>
                <a:close/>
              </a:path>
              <a:path fill="none" w="21600" h="21600">
                <a:moveTo>
                  <a:pt x="2515" y="3872"/>
                </a:moveTo>
                <a:arcTo wR="10800" hR="10800" stAng="-8405811" swAng="6576504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 rot="11109600">
            <a:off x="4105080" y="3859920"/>
            <a:ext cx="32076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5" y="3872"/>
                </a:moveTo>
                <a:arcTo wR="10800" hR="10800" stAng="-8405811" swAng="6576504"/>
                <a:lnTo>
                  <a:pt x="10800" y="10800"/>
                </a:lnTo>
                <a:close/>
              </a:path>
              <a:path fill="none" w="21600" h="21600">
                <a:moveTo>
                  <a:pt x="2515" y="3872"/>
                </a:moveTo>
                <a:arcTo wR="10800" hR="10800" stAng="-8405811" swAng="6576504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11109600">
            <a:off x="4392360" y="3859920"/>
            <a:ext cx="32076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5" y="3872"/>
                </a:moveTo>
                <a:arcTo wR="10800" hR="10800" stAng="-8405811" swAng="6576504"/>
                <a:lnTo>
                  <a:pt x="10800" y="10800"/>
                </a:lnTo>
                <a:close/>
              </a:path>
              <a:path fill="none" w="21600" h="21600">
                <a:moveTo>
                  <a:pt x="2515" y="3872"/>
                </a:moveTo>
                <a:arcTo wR="10800" hR="10800" stAng="-8405811" swAng="6576504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657200">
            <a:off x="3982320" y="4720320"/>
            <a:ext cx="406080" cy="4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5" y="4313"/>
                </a:moveTo>
                <a:arcTo wR="10800" hR="10800" stAng="-8585123" swAng="6569963"/>
                <a:lnTo>
                  <a:pt x="10800" y="10800"/>
                </a:lnTo>
                <a:close/>
              </a:path>
              <a:path fill="none" w="21600" h="21600">
                <a:moveTo>
                  <a:pt x="2165" y="4313"/>
                </a:moveTo>
                <a:arcTo wR="10800" hR="10800" stAng="-8585123" swAng="6569963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10657200">
            <a:off x="3606120" y="4723560"/>
            <a:ext cx="40608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5" y="4313"/>
                </a:moveTo>
                <a:arcTo wR="10800" hR="10800" stAng="-8585123" swAng="6569963"/>
                <a:lnTo>
                  <a:pt x="10800" y="10800"/>
                </a:lnTo>
                <a:close/>
              </a:path>
              <a:path fill="none" w="21600" h="21600">
                <a:moveTo>
                  <a:pt x="2165" y="4313"/>
                </a:moveTo>
                <a:arcTo wR="10800" hR="10800" stAng="-8585123" swAng="6569963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657200">
            <a:off x="4350600" y="4723560"/>
            <a:ext cx="40608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5" y="4313"/>
                </a:moveTo>
                <a:arcTo wR="10800" hR="10800" stAng="-8585123" swAng="6569963"/>
                <a:lnTo>
                  <a:pt x="10800" y="10800"/>
                </a:lnTo>
                <a:close/>
              </a:path>
              <a:path fill="none" w="21600" h="21600">
                <a:moveTo>
                  <a:pt x="2165" y="4313"/>
                </a:moveTo>
                <a:arcTo wR="10800" hR="10800" stAng="-8585123" swAng="6569963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657200">
            <a:off x="4734720" y="4723920"/>
            <a:ext cx="405720" cy="42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5" y="4313"/>
                </a:moveTo>
                <a:arcTo wR="10800" hR="10800" stAng="-8585123" swAng="6569963"/>
                <a:lnTo>
                  <a:pt x="10800" y="10800"/>
                </a:lnTo>
                <a:close/>
              </a:path>
              <a:path fill="none" w="21600" h="21600">
                <a:moveTo>
                  <a:pt x="2165" y="4313"/>
                </a:moveTo>
                <a:arcTo wR="10800" hR="10800" stAng="-8585123" swAng="6569963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Перевод чисел (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q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(10)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пись числа в развернутой форме и вычисление полученного выражения в десятичной систе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10110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54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37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128 + 24 + 7 = 159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768 + 240 + 10 = 1018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ведит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100011010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62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23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Перевод чисел (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10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q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довательное целочисленное деление десятичного числа на основание систе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ка последнее частное не станет равным нул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сло в системе счисления с основание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последовательность остатков деления, изображенных одной q-ичной цифрой и записанных в порядке, обратном порядку их пол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ведит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         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3933720"/>
            <a:ext cx="51120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Максимальное значение числ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записи одного и того же значения в различных системах счисления требуется разное число позиций или разряд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6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2 разряда) = 60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2 разряда) = 140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3 разряда) = 1100000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7 разряд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м меньше основание системы, тем больше длина числа (длина разрядной сетк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длина разрядной сетки задана, то это ограничивает максимальное по абсолютному значению число, которое можно запис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q(max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= q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длина разрядной сетки (любо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жительное числ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. Если в двоичной системе счисления длина разрядной сетк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=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(max)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8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1 = 255 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симальное число, которое можно записать в этих восьми разрядах (1111111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Двоичная арифметик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1981080"/>
          <a:ext cx="7543800" cy="4368960"/>
        </p:xfrm>
        <a:graphic>
          <a:graphicData uri="http://schemas.openxmlformats.org/drawingml/2006/table">
            <a:tbl>
              <a:tblPr/>
              <a:tblGrid>
                <a:gridCol w="1508400"/>
                <a:gridCol w="701640"/>
                <a:gridCol w="807840"/>
                <a:gridCol w="1508040"/>
                <a:gridCol w="708120"/>
                <a:gridCol w="801720"/>
                <a:gridCol w="1508040"/>
              </a:tblGrid>
              <a:tr h="151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+ 0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+ 0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+ 1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+ 1 =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чит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– 0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0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1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– 1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бли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мно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0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0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0 0 0 0 </a:t>
                      </a:r>
                      <a:r>
                        <a:rPr b="0" lang="en-US" sz="16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0 0 0 0 </a:t>
                      </a:r>
                      <a:r>
                        <a:rPr b="0" lang="en-US" sz="16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_ 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0 0 0 0 </a:t>
                      </a:r>
                      <a:r>
                        <a:rPr b="0" lang="en-US" sz="16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_ _ 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0 1 </a:t>
                      </a:r>
                      <a:r>
                        <a:rPr b="0" lang="en-US" sz="16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_ _ _ 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1 0 1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1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1 1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1 0 0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1 0 1 0 0 1   1 0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0 1              1 1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1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0 0 0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0 1 0 0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 1 1 0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 0 1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116000" y="4149720"/>
            <a:ext cx="1511280" cy="93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5445000"/>
            <a:ext cx="1511280" cy="93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149720"/>
            <a:ext cx="2880000" cy="2158920"/>
          </a:xfrm>
          <a:prstGeom prst="roundRect">
            <a:avLst>
              <a:gd name="adj" fmla="val 8236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04000" y="3860640"/>
            <a:ext cx="1871640" cy="2376720"/>
          </a:xfrm>
          <a:custGeom>
            <a:avLst/>
            <a:gdLst>
              <a:gd name="textAreaLeft" fmla="*/ 45000 w 1871640"/>
              <a:gd name="textAreaRight" fmla="*/ 1826640 w 1871640"/>
              <a:gd name="textAreaTop" fmla="*/ 45000 h 2376720"/>
              <a:gd name="textAreaBottom" fmla="*/ 2331720 h 2376720"/>
            </a:gdLst>
            <a:ahLst/>
            <a:rect l="textAreaLeft" t="textAreaTop" r="textAreaRight" b="textAreaBottom"/>
            <a:pathLst>
              <a:path w="21600" h="27428">
                <a:moveTo>
                  <a:pt x="1779" y="0"/>
                </a:moveTo>
                <a:arcTo wR="1779" hR="1779" stAng="16200000" swAng="-5400000"/>
                <a:lnTo>
                  <a:pt x="0" y="25649"/>
                </a:lnTo>
                <a:arcTo wR="1779" hR="1779" stAng="10800000" swAng="-5400000"/>
                <a:lnTo>
                  <a:pt x="19821" y="27428"/>
                </a:lnTo>
                <a:arcTo wR="1779" hR="1779" stAng="5400000" swAng="-5400000"/>
                <a:lnTo>
                  <a:pt x="21600" y="1779"/>
                </a:lnTo>
                <a:arcTo wR="1779" hR="1779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4797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60372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77360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537372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595008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508640"/>
            <a:ext cx="9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4221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452840"/>
            <a:ext cx="100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59180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486900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436572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51664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494172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36572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558972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4005360"/>
            <a:ext cx="21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Упражн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сколько раз увеличится число 10,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переносе запятой на один знак вправ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ереносе запятой на два знака вправо число 11,1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величилось в 4 раза. Чему равен x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е минимальное основание может иметь система счисления, если в ней записано число 23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8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9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0111101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7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Упражн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B8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ичное число записано в виде многочлен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Какой вид имеет число в двоичной, десятичной записи?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авните числа: 11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1D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110100100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0000111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F3D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13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ьте таблицу эквивалентов чисел от 0 до 22 для q=10 и q=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Литератур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акин И.Г., Вараксин Г.С. Информатика. Структурированный конспект базового кур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ред. Семакина И.Г. Информатика. Задачник-практикум в 2 т. Том 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уцукова Л.З. Информатика: Учебное пособие для 10-11 классов общеобразовательных учре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ринович Н.Д. Информатика и информационные технологии. Учебник для 10-11 кла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овьёва Л.Ф. Информатика в видеосюжет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flipH="1">
            <a:off x="6948000" y="4508640"/>
            <a:ext cx="10954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Система счисл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истема счисл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это способ представления чисел цифровыми знаками и соответствующие ему правила действий над числ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стемы счисления можно разделить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непозиционные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системы счисл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озиционные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 системы счисл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Непозиционные системы счисл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позиционной системе счисления значение (величина) символа (цифры) не зависит от положения в чис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мер 1. У многих народов использовалась система, алфавит которой состоял из одного символа — палочки. Для изображения какого-то числа в этой системе нужно записать определенное множество палочек, равное данному числу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||||| —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исло пя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мер 2. Самой распространенной непозиционной системой счисления является римская. Алфавит римской системы записи чисел состоит из символов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один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пять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есять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L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пятьдесят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C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сто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пятьсот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тысяч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еличина числа определяется как сумма или разность цифр в числе (например, II — два, III — три, XXX — тридцать, CC — двести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Если же большая цифра стоит перед меньшей цифрой, то они складываются (например, VII — семь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если наоборот — вычитаются (например, IX — девять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16760" y="629748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8" y="14482"/>
                  <a:pt x="25324" y="14482"/>
                </a:cubicBezTo>
                <a:lnTo>
                  <a:pt x="26986" y="14482"/>
                </a:lnTo>
                <a:cubicBezTo>
                  <a:pt x="28022" y="14482"/>
                  <a:pt x="28823" y="13751"/>
                  <a:pt x="28823" y="12828"/>
                </a:cubicBezTo>
                <a:lnTo>
                  <a:pt x="28823" y="7493"/>
                </a:lnTo>
                <a:lnTo>
                  <a:pt x="26986" y="7493"/>
                </a:lnTo>
                <a:lnTo>
                  <a:pt x="30494" y="3985"/>
                </a:lnTo>
                <a:lnTo>
                  <a:pt x="34167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4" y="18155"/>
                  <a:pt x="26986" y="18155"/>
                </a:cubicBezTo>
                <a:lnTo>
                  <a:pt x="25324" y="18155"/>
                </a:lnTo>
                <a:cubicBezTo>
                  <a:pt x="22556" y="18155"/>
                  <a:pt x="19980" y="15596"/>
                  <a:pt x="19980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Позиционные системы счисл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зиционных системах счисления значение (величина) цифры определяется ее положением в чис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юбая позиционная система счисления характеризуется своим основа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ание позиционной системы счисл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количество различных цифр, используемых для изображения чисел в данной системе счис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ние 10 у привычной десятичной системы счисления (десять пальцев на руках). Алфавит: 1, 2, 3, 4, 5, 6, 7, 8, 9, 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ние 60 придумано в Древнем Вавилоне: деление часа на 60 минут, минуты — на 60 секунд, угла — на 360 градус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ние 12 распространили англосаксы: в году 12 месяцев, в сутках два периода по 12 часов, в футе 12 дюйм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снование 5 широко использовалось в Кита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 основание можно принять любое натуральное число — два, три, четыре и т.д., образовав новую позиционную систему: двоичную, троичную, четверичную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Развернутая форма записи числ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иция цифры в числе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ря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-1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 … 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 … 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-m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-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г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 —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нование системы счисления (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оличество используемых циф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исло в системе счисления с основанием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ифры многоразрядного числ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 (m) —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личество целых (дробных) разрядов числ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1  0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-1 -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9,4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2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3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9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4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+ 5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9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en-US" sz="9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en-US" sz="9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, a</a:t>
            </a:r>
            <a:r>
              <a:rPr b="0" lang="en-US" sz="900" spc="-1" strike="noStrike" baseline="-25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en-US" sz="900" spc="-1" strike="noStrike" baseline="-25000">
                <a:solidFill>
                  <a:srgbClr val="ffffff"/>
                </a:solidFill>
                <a:latin typeface="Tahoma"/>
              </a:rPr>
              <a:t>-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Правило счета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движение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цифры называют замену её следующей по велич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движение старшей цифры (например, цифры 9 в десятичной системе) означает замену её на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авило счё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для образования целого числа, следующего за любым данным целым числом, нужно продвинуть самую правую цифру числа; если какая-либо цифра после продвижения стала нулем, то нужно продвинуть цифру, стоящую слева от неё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Таблица эквивалентов чисел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42920" y="1989000"/>
          <a:ext cx="7632720" cy="4095720"/>
        </p:xfrm>
        <a:graphic>
          <a:graphicData uri="http://schemas.openxmlformats.org/drawingml/2006/table">
            <a:tbl>
              <a:tblPr/>
              <a:tblGrid>
                <a:gridCol w="847800"/>
                <a:gridCol w="849240"/>
                <a:gridCol w="847800"/>
                <a:gridCol w="847800"/>
                <a:gridCol w="847800"/>
                <a:gridCol w="847440"/>
                <a:gridCol w="849600"/>
                <a:gridCol w="847440"/>
                <a:gridCol w="847800"/>
              </a:tblGrid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Двоичная система счисления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фициальное «рождение» двоичной системы счисления (в её алфавите два символа: 0 и 1) связывают с именем Готфрида Вильгельма Лейбница. В 1703 г. он опубликовал статью, в которой были рассмотрены все правила выполнения арифметических действий над двоичными числ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имущест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ля её реализации нужны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технические устройства с двумя устойчивыми состояниями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еть ток — нет ток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магничен — не намагниче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едставление информации посредством только двух состояний надежно и помехоустойчиво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озможно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применение аппарата булевой алгебр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для выполнения логических преобразований информ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воичная арифметика намного проще десятич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достат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ыстрый рост числа разрядов, необходимых для записи чисе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45"/>
            </a:gs>
            <a:gs pos="50000">
              <a:srgbClr val="4b0096"/>
            </a:gs>
            <a:gs pos="100000">
              <a:srgbClr val="22004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Перевод чисел (8)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cdd7d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(2), (16) </a:t>
            </a:r>
            <a:r>
              <a:rPr b="1" lang="ru-RU" sz="3200" spc="-1" strike="noStrike">
                <a:solidFill>
                  <a:srgbClr val="cdd7d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cdd7df"/>
                </a:solidFill>
                <a:latin typeface="Tahoma"/>
              </a:rPr>
              <a:t> (2)</a:t>
            </a: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вод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осьмеричн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шестнадцатеричных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исел в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воичну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стему: каждую цифру заменить эквивалентной ей двоичной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риад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тройкой цифр) и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трад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четверкой цифр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371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101 011 111 001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3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7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3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    1 1010 0011 111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      A         3         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ведит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                      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V="1" rot="21549600">
            <a:off x="2387160" y="3141720"/>
            <a:ext cx="3733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21549600">
            <a:off x="2743200" y="3162600"/>
            <a:ext cx="415440" cy="38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 rot="21549600">
            <a:off x="3215880" y="3141720"/>
            <a:ext cx="3733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21549600">
            <a:off x="3576240" y="3141720"/>
            <a:ext cx="3733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21549600">
            <a:off x="2454840" y="4076640"/>
            <a:ext cx="457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21549600">
            <a:off x="2885040" y="4070880"/>
            <a:ext cx="49140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356326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356326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21549600">
            <a:off x="3387600" y="4054680"/>
            <a:ext cx="497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 rot="21549600">
            <a:off x="3892320" y="4054680"/>
            <a:ext cx="497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5" y="5635"/>
                </a:moveTo>
                <a:arcTo wR="10800" hR="10800" stAng="-9085848" swAng="7209367"/>
                <a:lnTo>
                  <a:pt x="10800" y="10800"/>
                </a:lnTo>
                <a:close/>
              </a:path>
              <a:path fill="none" w="21600" h="21600">
                <a:moveTo>
                  <a:pt x="1315" y="5635"/>
                </a:moveTo>
                <a:arcTo wR="10800" hR="10800" stAng="-9085848" swAng="7209367"/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3:03:25Z</dcterms:created>
  <dc:creator>Бычков А.В.</dc:creator>
  <dc:description/>
  <dc:language>en-US</dc:language>
  <cp:lastModifiedBy>Бычков А.В.</cp:lastModifiedBy>
  <dcterms:modified xsi:type="dcterms:W3CDTF">2005-11-21T14:42:14Z</dcterms:modified>
  <cp:revision>86</cp:revision>
  <dc:subject/>
  <dc:title>Системы счисления</dc:title>
</cp:coreProperties>
</file>