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2.wmf" ContentType="image/x-wmf"/>
  <Override PartName="/ppt/media/image13.png" ContentType="image/png"/>
  <Override PartName="/ppt/media/image5.gif" ContentType="image/gif"/>
  <Override PartName="/ppt/media/image9.png" ContentType="image/png"/>
  <Override PartName="/ppt/media/image4.gif" ContentType="image/gif"/>
  <Override PartName="/ppt/media/image1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AA4-98D9-4797-ACFF-E86CF61D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845-739E-43AC-802F-25059411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825-847E-4188-B813-E3729C00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8D3-7192-443F-A3CE-8F8DCC75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A573-E9A3-42E2-9107-DAA764A7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4975-9314-4DED-A319-8470D728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225C-60F0-4967-92D3-F3F506A9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94AA-0579-40B4-8BE2-FCB4010A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16D0-0143-4CB2-A613-29A338C3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6C6A-55F0-40FF-BFC8-D709B99B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7333-75C5-4704-AE27-21A4DF16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022-9BF5-4426-9672-F4E42AF5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0DC7-31E9-41AB-B5BE-30947301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8F2B-85FA-4466-A889-90B231B1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23D7-6740-489F-BCEE-FBB827C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D472-2AA9-4A64-A221-BD99D8DD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8FB2-3AEE-4340-9DD9-D8C951A4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99F-2CBE-4005-8303-593B839E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A8D-7AEA-4905-8372-7352B9C1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A4C-7163-448A-86B9-407D1B41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620-F846-4FF4-A3F6-2672DB3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246-B636-4DEB-ADD3-0ACF66EE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A82-391C-468D-BA4E-CD2DCB2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EC5-CE7E-47EB-9DA1-6E30ACDF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515F-1162-4C0C-81FA-F19FF3B8260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1C2C-5E5B-4DAF-8B7B-212840FA1A65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61048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Monotype Corsiva"/>
              </a:rPr>
              <a:t>Алгоритм и его свойства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62080" cy="2057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249960" y="1066680"/>
            <a:ext cx="231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485-449C-45E0-B912-F87BF12936E6}" type="datetime">
              <a:rPr b="0" lang="ru-RU" sz="4800" spc="-1" strike="noStrike">
                <a:solidFill>
                  <a:srgbClr val="670110"/>
                </a:solidFill>
                <a:latin typeface="Times New Roman"/>
              </a:rPr>
              <a:t>31.07.26</a:t>
            </a:fld>
            <a:endParaRPr b="0" lang="en-US" sz="48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811440" y="4745160"/>
            <a:ext cx="42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Учитель информатики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МОУ Сивохинская СОШ №5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ох Елена Александровна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1200240" cy="1342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роверка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084640"/>
            <a:ext cx="1512720" cy="1041480"/>
          </a:xfrm>
          <a:prstGeom prst="wedgeEllipseCallout">
            <a:avLst>
              <a:gd name="adj1" fmla="val -46222"/>
              <a:gd name="adj2" fmla="val 6173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АД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4365720"/>
            <a:ext cx="1584360" cy="1112760"/>
          </a:xfrm>
          <a:prstGeom prst="wedgeEllipseCallout">
            <a:avLst>
              <a:gd name="adj1" fmla="val -46393"/>
              <a:gd name="adj2" fmla="val 6098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АМ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645000"/>
            <a:ext cx="1511280" cy="1114200"/>
          </a:xfrm>
          <a:prstGeom prst="wedgeEllipseCallout">
            <a:avLst>
              <a:gd name="adj1" fmla="val -46217"/>
              <a:gd name="adj2" fmla="val 609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ОМ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852640"/>
            <a:ext cx="1512720" cy="1185840"/>
          </a:xfrm>
          <a:prstGeom prst="wedgeEllipseCallout">
            <a:avLst>
              <a:gd name="adj1" fmla="val -46222"/>
              <a:gd name="adj2" fmla="val 6031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ОМ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989000"/>
            <a:ext cx="1582560" cy="1185840"/>
          </a:xfrm>
          <a:prstGeom prst="wedgeEllipseCallout">
            <a:avLst>
              <a:gd name="adj1" fmla="val -46388"/>
              <a:gd name="adj2" fmla="val 6031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ОТ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</p:spTree>
  </p:cSld>
  <p:transition spd="med"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90720" y="3809880"/>
            <a:ext cx="7619760" cy="2364840"/>
            <a:chOff x="990720" y="3809880"/>
            <a:chExt cx="7619760" cy="2364840"/>
          </a:xfrm>
        </p:grpSpPr>
        <p:sp>
          <p:nvSpPr>
            <p:cNvPr id="126" name=""/>
            <p:cNvSpPr/>
            <p:nvPr/>
          </p:nvSpPr>
          <p:spPr>
            <a:xfrm>
              <a:off x="990720" y="3809880"/>
              <a:ext cx="2209680" cy="1524240"/>
            </a:xfrm>
            <a:prstGeom prst="flowChartPunchedCard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5320" y="3809880"/>
              <a:ext cx="2743200" cy="1524240"/>
            </a:xfrm>
            <a:prstGeom prst="flowChartProcess">
              <a:avLst/>
            </a:prstGeom>
            <a:solidFill>
              <a:srgbClr val="060f18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7120" y="3809880"/>
              <a:ext cx="2133360" cy="1524240"/>
            </a:xfrm>
            <a:prstGeom prst="flowChartAlternateProcess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cxnSp>
          <p:nvCxnSpPr>
            <p:cNvPr id="129" name=""/>
            <p:cNvCxnSpPr>
              <a:stCxn id="126" idx="3"/>
              <a:endCxn id="127" idx="1"/>
            </p:cNvCxnSpPr>
            <p:nvPr/>
          </p:nvCxnSpPr>
          <p:spPr>
            <a:xfrm>
              <a:off x="3200040" y="4571640"/>
              <a:ext cx="305640" cy="1080"/>
            </a:xfrm>
            <a:prstGeom prst="straightConnector1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7" idx="3"/>
              <a:endCxn id="128" idx="1"/>
            </p:cNvCxnSpPr>
            <p:nvPr/>
          </p:nvCxnSpPr>
          <p:spPr>
            <a:xfrm>
              <a:off x="6248160" y="4571640"/>
              <a:ext cx="229320" cy="1080"/>
            </a:xfrm>
            <a:prstGeom prst="straightConnector1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</p:cxnSp>
        <p:sp>
          <p:nvSpPr>
            <p:cNvPr id="131" name=""/>
            <p:cNvSpPr/>
            <p:nvPr/>
          </p:nvSpPr>
          <p:spPr>
            <a:xfrm>
              <a:off x="990720" y="3962520"/>
              <a:ext cx="2133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  <a:ea typeface="Times New Roman"/>
                </a:rPr>
                <a:t>§</a:t>
              </a:r>
              <a:r>
                <a:rPr b="1" lang="ru-RU" sz="2400" spc="-1" strike="noStrike">
                  <a:solidFill>
                    <a:srgbClr val="0066ff"/>
                  </a:solidFill>
                  <a:latin typeface="Times New Roman"/>
                  <a:ea typeface="Times New Roman"/>
                </a:rPr>
                <a:t> 4.1.1</a:t>
              </a: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038480"/>
              <a:ext cx="281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тветить на вопросы</a:t>
              </a: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038480"/>
              <a:ext cx="2057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ff"/>
                  </a:solidFill>
                  <a:latin typeface="Times New Roman"/>
                </a:rPr>
                <a:t>Задание 4.1.</a:t>
              </a: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57150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</a:rPr>
                <a:t>Доступно ученику</a:t>
              </a:r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514600" y="5333760"/>
              <a:ext cx="990720" cy="53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019920" y="5333760"/>
              <a:ext cx="914400" cy="53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Arial Narrow"/>
              </a:endParaRPr>
            </a:p>
          </p:txBody>
        </p:sp>
      </p:grpSp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614520"/>
            <a:ext cx="8101080" cy="6243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332000" y="1052640"/>
            <a:ext cx="5976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Monotype Corsiva"/>
              </a:rPr>
              <a:t>Появление алгоритмов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553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вязывают с зарождением математики. Более 1000 лет назад (в 825 году) ученый из города Хорезма Абдулла (или Абу Джафар) Мухаммед бен Муса аль-Хорезми создал книгу по математике, в которой описал способы выполнения арифметических действий над многозначными числами. Само слово алгоритм возникло в Европе после перевода на латынь книги этого математик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553080" y="429264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Последовательность действий для телефонного звонка по телефону автомату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920" y="310968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Вставить телефонную карту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Снять трубку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Набрать номе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56360" y="378936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3095640" cy="2781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3284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Monotype Corsiva"/>
              </a:rPr>
              <a:t>Алгоритм</a:t>
            </a:r>
            <a:r>
              <a:rPr b="1" i="1" lang="ru-RU" sz="6000" spc="-1" strike="noStrike">
                <a:solidFill>
                  <a:srgbClr val="0000ff"/>
                </a:solidFill>
                <a:latin typeface="Monotype Corsiva"/>
              </a:rPr>
              <a:t> –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54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это точное предписание последовательности действий, которые должны быть произведены для получения результата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80376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1640" y="1125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Monotype Corsiva"/>
              </a:rPr>
              <a:t>Применение алгоритма:</a:t>
            </a:r>
            <a:endParaRPr b="0" lang="en-US" sz="4800" spc="-1" strike="noStrike">
              <a:solidFill>
                <a:srgbClr val="5b524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916280"/>
            <a:ext cx="76327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а уроке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а дороге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Дома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В столовой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иготовление пищи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осадка огорода;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а рыбалке.</a:t>
            </a:r>
            <a:endParaRPr b="0" lang="en-US" sz="2400" spc="-1" strike="noStrike">
              <a:solidFill>
                <a:srgbClr val="5b5249"/>
              </a:solidFill>
              <a:latin typeface="Arial Narrow"/>
            </a:endParaRPr>
          </a:p>
        </p:txBody>
      </p:sp>
    </p:spTree>
  </p:cSld>
  <p:transition spd="med">
    <p:newsflash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80000" y="3124080"/>
            <a:ext cx="3360960" cy="3733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27628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Исполнитель –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это объект, который выполняет алгоритм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3573000"/>
            <a:ext cx="35856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125360"/>
            <a:ext cx="78343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ff"/>
                </a:solidFill>
                <a:latin typeface="Monotype Corsiva"/>
              </a:rPr>
              <a:t>Система команд исполнителя</a:t>
            </a:r>
            <a:r>
              <a:rPr b="0" i="1" lang="ru-RU" sz="5400" spc="-1" strike="noStrike">
                <a:solidFill>
                  <a:srgbClr val="0000ff"/>
                </a:solidFill>
                <a:latin typeface="Monotype Corsiva"/>
              </a:rPr>
              <a:t> (СКИ) –</a:t>
            </a: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овокупность команд, которые данный исполнитель умеет выполнить.</a:t>
            </a:r>
            <a:endParaRPr b="0" lang="en-US" sz="4400" spc="-1" strike="noStrike">
              <a:solidFill>
                <a:srgbClr val="5b5249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229248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5452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Свойства алгоритма: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438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j0343461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2000160" cy="1743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1989000"/>
            <a:ext cx="750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скретность (разбиение действий на шаги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Точность (пошаговое последствие действий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Понятность (понятен исполнителю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Результативность (обязательно прийти к результату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Массовость (алгоритм должен работать при различных данных)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</p:txBody>
      </p:sp>
    </p:spTree>
  </p:cSld>
  <p:transition spd="med">
    <p:newsflash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3268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11280" y="836640"/>
            <a:ext cx="67816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Задача:</a:t>
            </a:r>
            <a:br>
              <a:rPr sz="4800"/>
            </a:b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Исполнитель умеет заменить в слове одну букву на любую другую. При чем при замене должно получиться осмысленное слово.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Составте алгоритм преобразования слова САД в слово КОТ.</a:t>
            </a:r>
            <a:endParaRPr b="0" lang="en-US" sz="2800" spc="-1" strike="noStrike">
              <a:solidFill>
                <a:srgbClr val="5b5249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1612800" cy="201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4365720"/>
            <a:ext cx="165708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7:52:29Z</dcterms:created>
  <dc:creator>Усольцева Э.</dc:creator>
  <dc:description/>
  <dc:language>en-US</dc:language>
  <cp:lastModifiedBy>user</cp:lastModifiedBy>
  <dcterms:modified xsi:type="dcterms:W3CDTF">2009-11-30T08:29:39Z</dcterms:modified>
  <cp:revision>35</cp:revision>
  <dc:subject/>
  <dc:title>Информационные процессы</dc:title>
</cp:coreProperties>
</file>