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2.wmf" ContentType="image/x-wmf"/>
  <Override PartName="/ppt/media/image13.png" ContentType="image/png"/>
  <Override PartName="/ppt/media/image5.gif" ContentType="image/gif"/>
  <Override PartName="/ppt/media/image9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306-E870-48D5-BEBE-167D2AE2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9D6-0A59-4C3C-84DF-381A1C0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011-0381-4FA5-9447-336F3332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770-A06B-4064-BD4D-81CF55A9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0DA-2DB8-435C-8A40-26224336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7692-A154-47CD-BF41-F6A5276B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AF21-76C1-4F17-A6B5-3324DAC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0EB-B880-46A4-A62C-36C0C3C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F8B2-00EF-4012-A449-E6400A5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2C36-0741-4A04-A684-9E0C3F3A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89F3-F902-41DD-872C-396D94A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C19-86A9-4BE4-8BA9-3B0B352F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ECA-DDB9-4AF7-8B2B-98B39DC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F69-EE75-4F91-880D-EB8E7FF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C07-B2A0-49D8-BFEF-EB5DE7C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19B2-3962-40E5-8BC4-FED5AF98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2530-EC12-4E0B-82DA-FE91EEEB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736-552F-427B-A964-B7D1CCF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B4A-764F-4AFF-998B-1F77E2D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080-2A68-4360-93E7-7AB554EE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DFB-EF5B-4100-934C-229D2013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EB8-84D7-4FE3-9B62-BCBF4CF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7D5-8EF2-431D-880F-B5EDDE4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28E-2DE7-4C22-BB27-5943A61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81E5-36A8-4C8B-819B-6CBAAAF1FE1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183-8560-4AB4-8EA8-9A75735BBE4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61048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Алгоритм и его свойства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62080" cy="205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249960" y="1066680"/>
            <a:ext cx="231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8A5-B63F-4D12-8E1E-3028F1FE4309}" type="datetime">
              <a:rPr b="0" lang="ru-RU" sz="4800" spc="-1" strike="noStrike">
                <a:solidFill>
                  <a:srgbClr val="670110"/>
                </a:solidFill>
                <a:latin typeface="Times New Roman"/>
              </a:rPr>
              <a:t>31.07.26</a:t>
            </a:fld>
            <a:endParaRPr b="0" lang="en-US" sz="48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811440" y="4745160"/>
            <a:ext cx="42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Учитель информатики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МОУ Сивохинская СОШ №5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х Елена Александровна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200240" cy="1342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084640"/>
            <a:ext cx="1512720" cy="1041480"/>
          </a:xfrm>
          <a:prstGeom prst="wedgeEllipseCallout">
            <a:avLst>
              <a:gd name="adj1" fmla="val -46222"/>
              <a:gd name="adj2" fmla="val 6173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АД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4365720"/>
            <a:ext cx="1584360" cy="1112760"/>
          </a:xfrm>
          <a:prstGeom prst="wedgeEllipseCallout">
            <a:avLst>
              <a:gd name="adj1" fmla="val -46393"/>
              <a:gd name="adj2" fmla="val 6098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А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645000"/>
            <a:ext cx="1511280" cy="1114200"/>
          </a:xfrm>
          <a:prstGeom prst="wedgeEllipseCallout">
            <a:avLst>
              <a:gd name="adj1" fmla="val -46217"/>
              <a:gd name="adj2" fmla="val 609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О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852640"/>
            <a:ext cx="1512720" cy="1185840"/>
          </a:xfrm>
          <a:prstGeom prst="wedgeEllipseCallout">
            <a:avLst>
              <a:gd name="adj1" fmla="val -46222"/>
              <a:gd name="adj2" fmla="val 6031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989000"/>
            <a:ext cx="1582560" cy="1185840"/>
          </a:xfrm>
          <a:prstGeom prst="wedgeEllipseCallout">
            <a:avLst>
              <a:gd name="adj1" fmla="val -46388"/>
              <a:gd name="adj2" fmla="val 6031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Т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126" name="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060f18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cxnSp>
          <p:nvCxnSpPr>
            <p:cNvPr id="129" name=""/>
            <p:cNvCxnSpPr>
              <a:stCxn id="126" idx="3"/>
              <a:endCxn id="127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7" idx="3"/>
              <a:endCxn id="128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990720" y="3962520"/>
              <a:ext cx="2133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§</a:t>
              </a:r>
              <a:r>
                <a:rPr b="1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 4.1.1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038480"/>
              <a:ext cx="281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тветить на вопросы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038480"/>
              <a:ext cx="2057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ff"/>
                  </a:solidFill>
                  <a:latin typeface="Times New Roman"/>
                </a:rPr>
                <a:t>Задание 4.1.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Доступно ученику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</p:grpSp>
    </p:spTree>
  </p:cSld>
  <p:transition spd="med"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614520"/>
            <a:ext cx="8101080" cy="624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332000" y="1052640"/>
            <a:ext cx="5976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Появление алгоритмов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55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вязывают с зарождением математики. Более 1000 лет назад (в 825 году) ученый из города Хорезма Абдулла (или Абу Джафар) Мухаммед бен Муса аль-Хорезми создал книгу по математике, в которой описал способы выполнения арифметических действий над многозначными числами. Само слово алгоритм возникло в Европе после перевода на латынь книги этого математи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429264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Последовательность действий для телефонного звонка по телефону автомату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31096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Вставить телефонную карт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Снять трубк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абрать номе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309564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284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Алгоритм</a:t>
            </a: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 –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это точное предписание последовательности действий, которые должны быть произведены для получения результата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80376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1125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Применение алгоритма:</a:t>
            </a:r>
            <a:endParaRPr b="0" lang="en-US" sz="48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16280"/>
            <a:ext cx="76327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уроке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дороге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ома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 столовой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иготовление пищи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осадка огорода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рыбалке.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3124080"/>
            <a:ext cx="336096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Исполнитель –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это объект, который выполняет алгоритм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573000"/>
            <a:ext cx="35856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25360"/>
            <a:ext cx="78343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Monotype Corsiva"/>
              </a:rPr>
              <a:t>Система команд исполнителя</a:t>
            </a:r>
            <a:r>
              <a:rPr b="0" i="1" lang="ru-RU" sz="5400" spc="-1" strike="noStrike">
                <a:solidFill>
                  <a:srgbClr val="0000ff"/>
                </a:solidFill>
                <a:latin typeface="Monotype Corsiva"/>
              </a:rPr>
              <a:t> (СКИ) –</a:t>
            </a: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вокупность команд, которые данный исполнитель умеет выполнить.</a:t>
            </a:r>
            <a:endParaRPr b="0" lang="en-US" sz="44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9248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452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Свойства алгоритма: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j0343461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2000160" cy="1743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1989000"/>
            <a:ext cx="750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скретность (разбиение действий на шаги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Точность (пошаговое последствие действий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нятность (понятен исполнителю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Результативность (обязательно прийти к результату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ассовость (алгоритм должен работать при различных данных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268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836640"/>
            <a:ext cx="67816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Задача:</a:t>
            </a:r>
            <a:br>
              <a:rPr sz="4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сполнитель умеет заменить в слове одну букву на любую другую. При чем при замене должно получиться осмысленное слово.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Составте алгоритм преобразования слова САД в слово КОТ.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161280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165708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7:52:29Z</dcterms:created>
  <dc:creator>Усольцева Э.</dc:creator>
  <dc:description/>
  <dc:language>en-US</dc:language>
  <cp:lastModifiedBy>user</cp:lastModifiedBy>
  <dcterms:modified xsi:type="dcterms:W3CDTF">2009-11-30T08:29:39Z</dcterms:modified>
  <cp:revision>35</cp:revision>
  <dc:subject/>
  <dc:title>Информационные процессы</dc:title>
</cp:coreProperties>
</file>